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658B-43C8-44FA-BFA7-4F658C424E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6EE7-2117-418A-A7C3-4B19AC9C8F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CB13-0495-4DA3-B209-3C1D8A2668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2839-8816-49B1-B9A5-96658C79BE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2B54-C78F-407B-8E5B-0CC0D1F9E1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B195-129C-4E94-B3E9-FADCDF8D97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D291-4094-4983-839B-44FD08C284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E540-4FBE-45D3-AA69-5F9E3952FB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D716-BFB4-41FF-8511-447FBEA954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75E3-BB76-4273-8640-67414C042C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885A-99AB-4F73-92E2-404C3AC797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8BFD-1A3E-4F27-AF58-C520800376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C5A1-21C8-45C9-9566-ABE4B5F44D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DE76-7977-4271-AE08-2A339F606B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89C6-92D0-4FE5-8B9B-CB5EEBD48B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5C8E-37F5-42CA-B640-66BA877117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E053-FFA2-4829-B5C1-2CACF4EAFE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4058-8CAC-4F6A-928C-54778D8D72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3225-32F0-43A7-9B61-951FB424D6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283F-6C5D-4151-A575-59A0B078F6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68AE-7F8E-4045-A325-906A883CB8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0DEC-CFF7-4419-87C2-5D7AE12FE8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0253-7F0D-4435-9EEA-50E9CBCEDE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1B1-490B-4807-A8C1-329BD98A3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6A19-D998-4584-99A9-CC6441E6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7575-88B9-432E-B732-C8C434EB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403-62E8-40DE-83B6-0B8B00B3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EA2-A8A0-4FE3-9BB4-3C465B58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24C-08C2-4239-970A-0666371D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4BA-578F-4726-B70E-74C58018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FD3-2DF2-437F-B4BD-FF6DE3E7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26B-DEC4-40D5-A3DC-9E0B6E38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657-7B94-402A-8DC7-84FB705B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8563-602E-4625-851E-A445D057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2933-3265-428B-B35E-921AAD23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60C7-B17D-4DCA-88B7-55D23C8F1D7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8732-7173-4B89-BCA2-BE969FDB9CB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rcRect l="2744" t="4578" r="3542" b="0"/>
          <a:stretch/>
        </p:blipFill>
        <p:spPr>
          <a:xfrm>
            <a:off x="250920" y="189000"/>
            <a:ext cx="856908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135A-F827-4DAF-92EB-3016622CA2E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B1B7-837E-4695-87EF-132E08AE719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687240"/>
            <a:ext cx="9144000" cy="54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F6ED-C389-4881-B7E9-A5D5610E1C8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623880"/>
            <a:ext cx="9144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A61B-FAB7-45F6-AB2A-9D7213ECCCF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D460-8A63-448A-BAB6-99BC30638CF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1311120"/>
            <a:ext cx="9144000" cy="42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AD74-B110-466F-9BB8-2D9A8C4B1F1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0" y="787320"/>
            <a:ext cx="914400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6FB5-78D9-4A62-A58C-BB62511D14B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2300-8F06-4803-8B55-CD580FAC98F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2EC5-C5E3-49D3-911D-43F800CFD16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6FD4-7305-4806-B13E-0E4070264A2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287280"/>
            <a:ext cx="9144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1DA6-07A2-43EF-9816-6963407E5DD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900000" y="736560"/>
            <a:ext cx="734400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DF3D-D10F-4B1F-B301-D120E23A069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6DCD-A147-4F86-A43B-7835D6BA1BD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5282-D484-4091-9FE9-C48CE2EB7AD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F4C0-DC4C-4ACC-8003-7F8DE87E912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rcRect l="0" t="4859" r="0" b="0"/>
          <a:stretch/>
        </p:blipFill>
        <p:spPr>
          <a:xfrm>
            <a:off x="1204920" y="0"/>
            <a:ext cx="642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800C-2FA0-4E99-841A-57040DC9BFD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577800"/>
            <a:ext cx="91440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D05F-B552-4629-B0CD-493584DA4A1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2422440" y="227160"/>
            <a:ext cx="42372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7506-34FA-4CF7-BB1E-C1B85A60293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1838160" y="189000"/>
            <a:ext cx="54072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F902-6D72-459C-B825-067A53E0F6A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0920" y="731880"/>
            <a:ext cx="856908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4777-8D0D-409A-9624-4159B374616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1271520"/>
            <a:ext cx="91440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6CC8-2E73-4006-99B9-0CCF9192DD1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0" y="608040"/>
            <a:ext cx="914400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21:10:03Z</dcterms:created>
  <dc:creator>E. POUSSIN</dc:creator>
  <dc:description/>
  <dc:language>en-US</dc:language>
  <cp:lastModifiedBy>sconf</cp:lastModifiedBy>
  <dcterms:modified xsi:type="dcterms:W3CDTF">2009-11-12T08:08:37Z</dcterms:modified>
  <cp:revision>11</cp:revision>
  <dc:subject/>
  <dc:title>Diapositive 1</dc:title>
</cp:coreProperties>
</file>