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5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2476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00640" y="152712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4888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2476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00640" y="3676680"/>
            <a:ext cx="2548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68120"/>
            <a:ext cx="6248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3920" y="367668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888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3920" y="1527120"/>
            <a:ext cx="3861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48880" y="3676680"/>
            <a:ext cx="7913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2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image" Target="../media/image2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8458200" cy="1143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75520" y="250920"/>
            <a:ext cx="1674720" cy="8762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79200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848880" y="1527120"/>
            <a:ext cx="791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lnSpc>
                <a:spcPts val="2200"/>
              </a:lnSpc>
              <a:spcBef>
                <a:spcPts val="601"/>
              </a:spcBef>
              <a:buClr>
                <a:srgbClr val="73bd1f"/>
              </a:buClr>
              <a:buSzPct val="13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1" marL="860400" indent="-2937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2" marL="1251000" indent="-2001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3" marL="1617840" indent="-17640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4" marL="1996920" indent="-183960">
              <a:lnSpc>
                <a:spcPts val="22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5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  <a:p>
            <a:pPr lvl="6" marL="1996920" indent="-183960">
              <a:lnSpc>
                <a:spcPts val="22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bd1f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73bd1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1142640" y="6224760"/>
            <a:ext cx="7628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F779-6ABA-4D86-A3B2-8415AC61971C}" type="datetime">
              <a:rPr b="0" lang="fr-FR" sz="1100" spc="-1" strike="noStrike">
                <a:solidFill>
                  <a:srgbClr val="ffffff"/>
                </a:solidFill>
                <a:latin typeface="Verdana"/>
              </a:rPr>
              <a:t>28/07/26</a:t>
            </a:fld>
            <a:r>
              <a:rPr b="0" lang="fr-FR" sz="1100" spc="-1" strike="noStrike">
                <a:solidFill>
                  <a:srgbClr val="ffffff"/>
                </a:solidFill>
                <a:latin typeface="Verdana"/>
              </a:rPr>
              <a:t> – Titre de la présent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66840" y="6421320"/>
            <a:ext cx="533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4D64-8697-4A91-B9BC-8D69F12EAE8F}" type="slidenum">
              <a:rPr b="0" lang="fr-FR" sz="1100" spc="-1" strike="noStrike">
                <a:solidFill>
                  <a:srgbClr val="73bd1f"/>
                </a:solidFill>
                <a:latin typeface="Verdan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2355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83772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4095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0960" y="866520"/>
            <a:ext cx="5678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446200" y="826920"/>
            <a:ext cx="0" cy="248292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3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4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5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0" y="3657600"/>
            <a:ext cx="9144000" cy="1447920"/>
            <a:chOff x="0" y="3657600"/>
            <a:chExt cx="9144000" cy="1447920"/>
          </a:xfrm>
        </p:grpSpPr>
        <p:pic>
          <p:nvPicPr>
            <p:cNvPr id="53" name="" descr=""/>
            <p:cNvPicPr/>
            <p:nvPr/>
          </p:nvPicPr>
          <p:blipFill>
            <a:blip r:embed="rId6"/>
            <a:srcRect l="0" t="8034" r="0" b="15648"/>
            <a:stretch/>
          </p:blipFill>
          <p:spPr>
            <a:xfrm>
              <a:off x="2286000" y="3657600"/>
              <a:ext cx="68580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7"/>
            <a:srcRect l="0" t="8034" r="0" b="15648"/>
            <a:stretch/>
          </p:blipFill>
          <p:spPr>
            <a:xfrm>
              <a:off x="0" y="3657600"/>
              <a:ext cx="2438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8"/>
            <a:srcRect l="0" t="0" r="0" b="9554"/>
            <a:stretch/>
          </p:blipFill>
          <p:spPr>
            <a:xfrm>
              <a:off x="5819760" y="3843360"/>
              <a:ext cx="2664000" cy="12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9"/>
            <a:srcRect l="0" t="15432" r="0" b="0"/>
            <a:stretch/>
          </p:blipFill>
          <p:spPr>
            <a:xfrm>
              <a:off x="2459160" y="3657600"/>
              <a:ext cx="15825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5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bd1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  <a:p>
            <a:pPr lvl="1" marL="382680" indent="0" algn="ctr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765000" indent="28584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147680" indent="2937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521000" indent="291960" algn="ctr">
              <a:lnSpc>
                <a:spcPts val="25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521000" indent="29196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866880"/>
            <a:ext cx="64087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Verdana"/>
              </a:rPr>
              <a:t>EXIGENCES EUROPEENNES DE PERFORMANCES POUR LES TESTS UNITAIRES A LECTURE NON AUTOMATISEE</a:t>
            </a:r>
            <a:br>
              <a:rPr sz="2200"/>
            </a:br>
            <a:br>
              <a:rPr sz="3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61760" y="5181480"/>
            <a:ext cx="6402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Jean-Claude GHISLAIN</a:t>
            </a: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73bd1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0" lang="fr-FR" sz="17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Colloque de Virologie de Versailles, 12 novembre 2009</a:t>
            </a:r>
            <a:endParaRPr b="1" lang="en-US" sz="1700" spc="-1" strike="noStrike">
              <a:solidFill>
                <a:srgbClr val="73bd1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97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Activités de Afssaps sur les TDR :</a:t>
            </a:r>
            <a:br>
              <a:rPr sz="2800"/>
            </a:b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2 – Contrôle du marché et Réactovigilance</a:t>
            </a:r>
            <a:endParaRPr b="1" lang="en-US" sz="20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Verdana"/>
              </a:rPr>
              <a:t>Contrôles du marché :</a:t>
            </a: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anel d’échantillons natifs et panels commerciaux de séroconvers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ritères correspondant à ceux des ST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2005-2009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9 TDR VIH contrôlé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17840" indent="-1764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1 industriel a retiré son produit du marché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2 TDR VH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17840" indent="-17640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1 produit retiré du marché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72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Verdana"/>
              </a:rPr>
              <a:t>Réactovigilance :</a:t>
            </a:r>
            <a:endParaRPr b="1" lang="en-US" sz="2000" spc="-1" strike="noStrike">
              <a:solidFill>
                <a:srgbClr val="73bd1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valuation et traitement des signalemen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1784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97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Activités de Afssaps sur les TDR :</a:t>
            </a:r>
            <a:br>
              <a:rPr sz="2800"/>
            </a:b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3 - Recommandations sur les TDR</a:t>
            </a: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réation d’un groupe de travail suite à la mise en évidence de résultats faussement négatifs lors des opérations de Contrôle National de Qualité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commandations à destination des Biologis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Poster aux Journées Internationales de Biologie 20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Publication sur le site de l’Afssaps fin 20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0">
              <a:lnSpc>
                <a:spcPts val="25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jet de recommandations à destination des industrie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97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Evolutions – perspectives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Consultation publiqu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lancée la Commission Européenne sur la nécessité de réviser les directives DM et DMDI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 l’issue de cette consultation, décision de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modifier la directiv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MDIV 98/79/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Ex. Approche basée sur le risque (classification GHTF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STC 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Intégration de nouveaux marqueurs : ex. vCJ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Propositions de modifications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17840" indent="-17640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mutants de l’AgHBs : description des souches à étudier à minim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17840" indent="-17640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Echantillons VIH 1 groupe O à intégrer dans les évalua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Verdana"/>
              </a:rPr>
              <a:t>Merci pour votre attention</a:t>
            </a: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marL="287280" indent="0" algn="ctr">
              <a:lnSpc>
                <a:spcPts val="22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ffff"/>
                </a:solidFill>
                <a:latin typeface="Verdana"/>
              </a:rPr>
              <a:t>www.afssaps.fr</a:t>
            </a:r>
            <a:endParaRPr b="1" lang="en-US" sz="2700" spc="-1" strike="noStrike">
              <a:solidFill>
                <a:srgbClr val="73bd1f"/>
              </a:solidFill>
              <a:latin typeface="Verdana"/>
            </a:endParaRPr>
          </a:p>
          <a:p>
            <a:pPr lvl="2" marL="1251000" indent="0">
              <a:lnSpc>
                <a:spcPts val="25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041560" y="109368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1371600"/>
            <a:ext cx="2286000" cy="457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3bd1f"/>
                </a:solidFill>
                <a:latin typeface="Verdana"/>
              </a:rPr>
              <a:t>DMD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7840" y="2243160"/>
            <a:ext cx="3886200" cy="1310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DMDIV hors annex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07040" y="2209680"/>
            <a:ext cx="3276720" cy="36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MDIV de l’annex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3200400"/>
            <a:ext cx="1219320" cy="36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Liste</a:t>
            </a:r>
            <a:r>
              <a:rPr b="1" lang="fr-FR" sz="1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3200400"/>
            <a:ext cx="1193760" cy="36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List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440" y="4224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Verdana"/>
              </a:rPr>
              <a:t>autocer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8120"/>
            <a:ext cx="624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Rappel sur la classification des DMD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8" idx="2"/>
            <a:endCxn id="102" idx="0"/>
          </p:cNvCxnSpPr>
          <p:nvPr/>
        </p:nvCxnSpPr>
        <p:spPr>
          <a:xfrm>
            <a:off x="2120400" y="3611520"/>
            <a:ext cx="1080" cy="613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2"/>
            <a:endCxn id="98" idx="0"/>
          </p:cNvCxnSpPr>
          <p:nvPr/>
        </p:nvCxnSpPr>
        <p:spPr>
          <a:xfrm rot="5400000">
            <a:off x="3359880" y="631440"/>
            <a:ext cx="353160" cy="2832840"/>
          </a:xfrm>
          <a:prstGeom prst="bentConnector3">
            <a:avLst>
              <a:gd name="adj1" fmla="val 50408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7" idx="2"/>
            <a:endCxn id="99" idx="0"/>
          </p:cNvCxnSpPr>
          <p:nvPr/>
        </p:nvCxnSpPr>
        <p:spPr>
          <a:xfrm flipH="1" rot="16200000">
            <a:off x="5738760" y="1084680"/>
            <a:ext cx="319680" cy="1893240"/>
          </a:xfrm>
          <a:prstGeom prst="bentConnector3">
            <a:avLst>
              <a:gd name="adj1" fmla="val 50732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9" idx="2"/>
            <a:endCxn id="100" idx="0"/>
          </p:cNvCxnSpPr>
          <p:nvPr/>
        </p:nvCxnSpPr>
        <p:spPr>
          <a:xfrm>
            <a:off x="6845400" y="2633400"/>
            <a:ext cx="1537200" cy="54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9" idx="2"/>
            <a:endCxn id="101" idx="0"/>
          </p:cNvCxnSpPr>
          <p:nvPr/>
        </p:nvCxnSpPr>
        <p:spPr>
          <a:xfrm>
            <a:off x="6845040" y="2633400"/>
            <a:ext cx="1080" cy="54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191120" y="3200400"/>
            <a:ext cx="1523880" cy="36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utot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99" idx="2"/>
            <a:endCxn id="109" idx="0"/>
          </p:cNvCxnSpPr>
          <p:nvPr/>
        </p:nvCxnSpPr>
        <p:spPr>
          <a:xfrm flipH="1">
            <a:off x="4952160" y="2633400"/>
            <a:ext cx="1893240" cy="5482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4390920" y="4179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Verdana"/>
              </a:rPr>
              <a:t>Certification par Organisme not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0" idx="2"/>
            <a:endCxn id="111" idx="0"/>
          </p:cNvCxnSpPr>
          <p:nvPr/>
        </p:nvCxnSpPr>
        <p:spPr>
          <a:xfrm flipH="1">
            <a:off x="6104880" y="3624120"/>
            <a:ext cx="2277000" cy="55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75040" y="5000760"/>
            <a:ext cx="1447920" cy="888840"/>
          </a:xfrm>
          <a:prstGeom prst="rect">
            <a:avLst/>
          </a:prstGeom>
          <a:ln w="0">
            <a:noFill/>
          </a:ln>
        </p:spPr>
      </p:pic>
      <p:cxnSp>
        <p:nvCxnSpPr>
          <p:cNvPr id="114" name=""/>
          <p:cNvCxnSpPr>
            <a:stCxn id="101" idx="2"/>
            <a:endCxn id="111" idx="0"/>
          </p:cNvCxnSpPr>
          <p:nvPr/>
        </p:nvCxnSpPr>
        <p:spPr>
          <a:xfrm flipH="1">
            <a:off x="6104880" y="3624120"/>
            <a:ext cx="740520" cy="55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9" idx="2"/>
            <a:endCxn id="111" idx="0"/>
          </p:cNvCxnSpPr>
          <p:nvPr/>
        </p:nvCxnSpPr>
        <p:spPr>
          <a:xfrm>
            <a:off x="4952880" y="3624120"/>
            <a:ext cx="1153440" cy="55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1625760" cy="998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75240" y="52293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+ N° de l’O.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97" idx="2"/>
            <a:endCxn id="109" idx="0"/>
          </p:cNvCxnSpPr>
          <p:nvPr/>
        </p:nvCxnSpPr>
        <p:spPr>
          <a:xfrm>
            <a:off x="4952520" y="1871640"/>
            <a:ext cx="1080" cy="13104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82720" y="228600"/>
            <a:ext cx="6248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La procédure de marquage CE </a:t>
            </a:r>
            <a:br>
              <a:rPr sz="2400"/>
            </a:b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      </a:t>
            </a: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Dispositifs annexe II</a:t>
            </a: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1413000"/>
            <a:ext cx="8381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60400" indent="-293760" algn="just">
              <a:lnSpc>
                <a:spcPts val="2699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sur marché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après certification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ar un 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Organisme Notifi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choisi par le fabricant (l’O.N. est désigné et contrôlé par l’A.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699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699"/>
              </a:lnSpc>
              <a:spcBef>
                <a:spcPts val="451"/>
              </a:spcBef>
              <a:buClr>
                <a:srgbClr val="ff9900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Action de l’O.N.: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élivrer certificat de conformité après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Evaluation du dossier CE de conception (IIA) ou CE de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Audit du système qualit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Vérification des produits fabriqués (II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Pour liste IIA, étude résultats fournis par industriels selon protocole et critères décrits dans </a:t>
            </a:r>
            <a:r>
              <a:rPr b="1" lang="fr-FR" sz="1600" spc="-1" strike="noStrike">
                <a:solidFill>
                  <a:srgbClr val="ff9900"/>
                </a:solidFill>
                <a:latin typeface="Verdana"/>
              </a:rPr>
              <a:t>spécifications techniques communes</a:t>
            </a: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(S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-20016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+ numéro O.N. (France: G-MED: 045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293760">
              <a:lnSpc>
                <a:spcPts val="25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Verdana"/>
              </a:rPr>
              <a:t>Liste des O.N. : </a:t>
            </a: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http://ec.europa.eu/enterprise/newapproach/nando/index.cf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68360" y="5373720"/>
            <a:ext cx="7621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18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Dispositifs de l’annexe II, liste A   :</a:t>
            </a: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ispositifs permettant la détection, la confirmation et la quantification des marqueurs de l’infection par le VIH et les hépatites B, C et 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ispositifs pour la détermination des groupes sanguins ABO, Rhésus et anti-Ke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18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Spécifications Techniques Communes   :</a:t>
            </a: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ocument technique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opposabl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élaboré par le groupe technique IVD de la Commission Européen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ublication au JOCE (première version publiée en 2002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Version en cours : février 2009 (2009/108/CE) intègre des modifications proposées par les délégations des pays de l’UE. Ex : Tests combinés VIH,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critères pour les échantillons de séroconversion VIH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189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IVD Technical Group   :</a:t>
            </a:r>
            <a:r>
              <a:rPr b="1" lang="fr-FR" sz="2800" spc="-1" strike="noStrike">
                <a:solidFill>
                  <a:srgbClr val="0b4095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Groupe Européen rattaché à la Commission Européen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résentant des Etats Membres de l’UE, des O.N. et des syndicats de fabricants de réactif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Sous présidence Française depuis sa cré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ssiste la Commission sur les questions relatives aux DMDI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hargé de la mise à jour des ST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97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Spécifications Techniques Communes : </a:t>
            </a:r>
            <a:br>
              <a:rPr sz="2400"/>
            </a:b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Exigences applicables aux tests rapides (1)</a:t>
            </a:r>
            <a:endParaRPr b="1" lang="en-US" sz="20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34480" indent="-284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est rapide : test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qualitatif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ou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semi-quantitatif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, utilisé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séparément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u pour une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série limité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faisant appel à des procédures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non-automatisées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et conçus pour donner un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résultat rapide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3448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34480" indent="-284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n plus des exigences essentielles liées au DMDIV : exigences spécifiques des STC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13200" indent="-19404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ensibilité diagnostique, sensibilité analytiqu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13200" indent="-19404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pécificité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13200" indent="-19404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Libération des lo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13200" indent="0">
              <a:lnSpc>
                <a:spcPts val="25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34480" indent="-284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êmes exigences de performances que pour les autres tests (sauf spécificité : ≥99% vs ≥99,5%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34480" indent="0">
              <a:lnSpc>
                <a:spcPts val="25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68120"/>
            <a:ext cx="7047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Spécifications Techniques Communes : </a:t>
            </a:r>
            <a:br>
              <a:rPr sz="2400"/>
            </a:b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Exigences applicables aux tests rapides (2)</a:t>
            </a:r>
            <a:endParaRPr b="1" lang="en-US" sz="2000" spc="-1" strike="noStrike">
              <a:solidFill>
                <a:srgbClr val="0b4095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268280"/>
          <a:ext cx="8294760" cy="4921560"/>
        </p:xfrm>
        <a:graphic>
          <a:graphicData uri="http://schemas.openxmlformats.org/drawingml/2006/table">
            <a:tbl>
              <a:tblPr/>
              <a:tblGrid>
                <a:gridCol w="1511280"/>
                <a:gridCol w="1871640"/>
                <a:gridCol w="1512720"/>
                <a:gridCol w="233640"/>
                <a:gridCol w="1495440"/>
                <a:gridCol w="182520"/>
                <a:gridCol w="1487520"/>
              </a:tblGrid>
              <a:tr h="373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c anti-VI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c anti-VH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Ag H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2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ensibilité diagno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chantillons positi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0 VIH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y compris 40 non-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 VIH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0 avec différents géno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0 avec différents sous-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us les échantillons doivent être identifiés comme posi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chantillons de séroconver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 (+10) panels commerciaux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- Séroconversion précoce (≥40) : </a:t>
                      </a:r>
                      <a:r>
                        <a:rPr b="1" lang="fr-FR" sz="12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ETAT DE L’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200"/>
                        </a:lnSpc>
                        <a:spcBef>
                          <a:spcPts val="300"/>
                        </a:spcBef>
                        <a:buClr>
                          <a:srgbClr val="73bd1f"/>
                        </a:buClr>
                        <a:buSzPct val="135000"/>
                        <a:buFont typeface="Time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éroconversion : identifiés comme positif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2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modification intégrée dans la version STC 2009/108/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ensibilité analy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nda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,130 UI/ml (NIBSC 00/58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Spécific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chantillons négatif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00 donneurs de sang / 200 patients hospitalisés / 100 éch. potentiellement interférents </a:t>
                      </a: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5000 donneurs hors T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≥</a:t>
                      </a:r>
                      <a:r>
                        <a:rPr b="1" lang="fr-F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% (sur les dons de sang) </a:t>
                      </a: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99,5% hors T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2251"/>
            </a:gs>
            <a:gs pos="100000">
              <a:srgbClr val="0b3d9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68120"/>
            <a:ext cx="697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Activités de Afssaps sur les TDR :</a:t>
            </a:r>
            <a:br>
              <a:rPr sz="2400"/>
            </a:br>
            <a:r>
              <a:rPr b="1" lang="fr-FR" sz="2000" spc="-1" strike="noStrike">
                <a:solidFill>
                  <a:srgbClr val="0b4095"/>
                </a:solidFill>
                <a:latin typeface="Verdana"/>
              </a:rPr>
              <a:t>1 – Etudes</a:t>
            </a:r>
            <a:r>
              <a:rPr b="1" lang="fr-FR" sz="2400" spc="-1" strike="noStrike">
                <a:solidFill>
                  <a:srgbClr val="0b4095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b4095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udes réalisées dans le cadre du GT « Stratégies de dépistage du VIH » de la HAS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Etude de la </a:t>
            </a:r>
            <a:r>
              <a:rPr b="1" lang="fr-FR" sz="1600" spc="-1" strike="noStrike">
                <a:solidFill>
                  <a:srgbClr val="ff9900"/>
                </a:solidFill>
                <a:latin typeface="Verdana"/>
              </a:rPr>
              <a:t>sensibilité</a:t>
            </a: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de 8 TDR VIH (publication en cou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Etude de performances « </a:t>
            </a:r>
            <a:r>
              <a:rPr b="1" lang="fr-FR" sz="1600" spc="-1" strike="noStrike">
                <a:solidFill>
                  <a:srgbClr val="ff9900"/>
                </a:solidFill>
                <a:latin typeface="Verdana"/>
              </a:rPr>
              <a:t>hors laboratoire</a:t>
            </a: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 » des TDR VIH : JM Molina – F. Simon, St Louis (rapport en cou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0">
              <a:lnSpc>
                <a:spcPts val="25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60400" indent="-293760">
              <a:lnSpc>
                <a:spcPts val="2500"/>
              </a:lnSpc>
              <a:spcBef>
                <a:spcPts val="451"/>
              </a:spcBef>
              <a:buClr>
                <a:srgbClr val="ffffff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ude Européenne visant à définir </a:t>
            </a:r>
            <a:r>
              <a:rPr b="1" lang="fr-FR" sz="1800" spc="-1" strike="noStrike">
                <a:solidFill>
                  <a:srgbClr val="ff9900"/>
                </a:solidFill>
                <a:latin typeface="Verdana"/>
              </a:rPr>
              <a:t>l’état de l’art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s tests HIV 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Projet Franco-Allemand piloté par S. Laperch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251000" indent="-200160">
              <a:lnSpc>
                <a:spcPts val="2500"/>
              </a:lnSpc>
              <a:spcBef>
                <a:spcPts val="4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Résultats attendus en 2010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09:58:58Z</dcterms:created>
  <dc:creator>cleroy</dc:creator>
  <dc:description/>
  <dc:language>en-US</dc:language>
  <cp:lastModifiedBy>Elaforge</cp:lastModifiedBy>
  <dcterms:modified xsi:type="dcterms:W3CDTF">2009-11-04T15:47:51Z</dcterms:modified>
  <cp:revision>187</cp:revision>
  <dc:subject/>
  <dc:title>Présentation Afssaps  2004</dc:title>
</cp:coreProperties>
</file>