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758F-3F9E-4B6E-B256-B6681A554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334296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6F5E-5977-4804-ACCD-6F36363C6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8A4D-03E7-4C8F-BF21-A862A2376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1577-F7F5-4E56-9751-6397F4C13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47D1-DF37-454F-B577-1EE08476F0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F053-5DDF-40BD-879D-17E0FC411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3D952-315C-4AD5-A43E-FB8D591EE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0DDA-5EF4-4684-98FB-1AEBE230E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76440" y="18432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7D36-7074-4FE3-B925-F48D868F3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FA83-732A-4AA6-978A-40664B2AB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398E-F751-41CF-AC73-430961133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B1D1-1CC9-4236-807C-2BA5EB1AB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665760"/>
            <a:ext cx="3504960" cy="130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855960" y="6746760"/>
            <a:ext cx="4331880" cy="65160"/>
            <a:chOff x="3855960" y="6746760"/>
            <a:chExt cx="4331880" cy="65160"/>
          </a:xfrm>
        </p:grpSpPr>
        <p:sp>
          <p:nvSpPr>
            <p:cNvPr id="2" name=""/>
            <p:cNvSpPr/>
            <p:nvPr/>
          </p:nvSpPr>
          <p:spPr>
            <a:xfrm>
              <a:off x="3855960" y="6746760"/>
              <a:ext cx="666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465440" y="6746760"/>
              <a:ext cx="6624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74920" y="6746760"/>
              <a:ext cx="648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84400" y="6746760"/>
              <a:ext cx="648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94240" y="6746760"/>
              <a:ext cx="6624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03720" y="6746760"/>
              <a:ext cx="6624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13200" y="6746760"/>
              <a:ext cx="666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23040" y="6746760"/>
              <a:ext cx="648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203040" y="117360"/>
            <a:ext cx="68400" cy="522360"/>
            <a:chOff x="203040" y="117360"/>
            <a:chExt cx="68400" cy="522360"/>
          </a:xfrm>
        </p:grpSpPr>
        <p:sp>
          <p:nvSpPr>
            <p:cNvPr id="11" name=""/>
            <p:cNvSpPr/>
            <p:nvPr/>
          </p:nvSpPr>
          <p:spPr>
            <a:xfrm>
              <a:off x="203040" y="117360"/>
              <a:ext cx="68400" cy="669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3040" y="347760"/>
              <a:ext cx="684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3040" y="574560"/>
              <a:ext cx="68400" cy="65160"/>
            </a:xfrm>
            <a:prstGeom prst="ellipse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6440" y="1843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499"/>
              </a:spcBef>
              <a:buClr>
                <a:srgbClr val="0000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499"/>
              </a:spcBef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14400" y="6662160"/>
            <a:ext cx="27050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ffffff"/>
                </a:solidFill>
                <a:latin typeface="Verdana"/>
              </a:rPr>
              <a:t>V.Thibault –nov.-0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D09A-6B77-4E4E-A755-9BFC53B20976}" type="slidenum">
              <a:rPr b="0" lang="fr-F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114480" y="1523880"/>
            <a:ext cx="149040" cy="182880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"/>
          <p:cNvSpPr/>
          <p:nvPr/>
        </p:nvSpPr>
        <p:spPr>
          <a:xfrm>
            <a:off x="114480" y="3505320"/>
            <a:ext cx="149040" cy="30456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"/>
          <p:cNvSpPr/>
          <p:nvPr/>
        </p:nvSpPr>
        <p:spPr>
          <a:xfrm>
            <a:off x="114480" y="4095720"/>
            <a:ext cx="149040" cy="3049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"/>
          <p:cNvSpPr/>
          <p:nvPr/>
        </p:nvSpPr>
        <p:spPr>
          <a:xfrm>
            <a:off x="114480" y="4686480"/>
            <a:ext cx="149040" cy="30456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"/>
          <p:cNvSpPr/>
          <p:nvPr/>
        </p:nvSpPr>
        <p:spPr>
          <a:xfrm>
            <a:off x="114480" y="5276880"/>
            <a:ext cx="149040" cy="3049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"/>
          <p:cNvSpPr/>
          <p:nvPr/>
        </p:nvSpPr>
        <p:spPr>
          <a:xfrm>
            <a:off x="123840" y="5867280"/>
            <a:ext cx="149040" cy="30492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3040" y="1283040"/>
            <a:ext cx="7772400" cy="162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Evaluation de la nouvelle version (v2) du test CAP/CTM HBV Roche : comparaison à la v1 et au test HBV Realtime Abbott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2868480" y="4888080"/>
            <a:ext cx="29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cc"/>
                </a:solidFill>
                <a:latin typeface="Verdana"/>
              </a:rPr>
              <a:t>Vincent THIBAU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9900cc"/>
                </a:solidFill>
                <a:latin typeface="Verdana"/>
              </a:rPr>
              <a:t>Laboratoire de Virolo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1960" y="4416480"/>
            <a:ext cx="1220760" cy="143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7000" y="5862600"/>
            <a:ext cx="20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cc"/>
                </a:solidFill>
                <a:latin typeface="Verdana"/>
              </a:rPr>
              <a:t>Groupe Hospital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900cc"/>
                </a:solidFill>
                <a:latin typeface="Verdana"/>
              </a:rPr>
              <a:t>Pitié-Salpêtriè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1581-AB9D-4154-A57A-A359C1896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Merci !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2214720" y="1577880"/>
            <a:ext cx="4709880" cy="2631960"/>
          </a:xfrm>
          <a:prstGeom prst="bevel">
            <a:avLst>
              <a:gd name="adj" fmla="val 446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Laboratoire de Virologie, La Piti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APHP – UPMC – ER1 DETI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ristel Brun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ydia Ovaguimi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dile Ro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ideh Akhav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2446200" y="4966920"/>
            <a:ext cx="4248360" cy="1002600"/>
          </a:xfrm>
          <a:prstGeom prst="bevel">
            <a:avLst>
              <a:gd name="adj" fmla="val 430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Verdana"/>
              </a:rPr>
              <a:t>Roche Diagnost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éronique Mand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30E36-CFBD-4585-977C-FC323CE20E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Le contexte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50440" y="1211400"/>
            <a:ext cx="8118360" cy="4124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Recommandations de pratiques cliniques de l’EASL. (EASL 2009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oints finaux d’évaluation thérapeut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"Le traitement doit réduire l’ADN du VHB au taux le plus bas possible, </a:t>
            </a:r>
            <a:r>
              <a:rPr b="0" i="1" lang="fr-FR" sz="1800" spc="-1" strike="noStrike" u="sng">
                <a:solidFill>
                  <a:srgbClr val="0000ff"/>
                </a:solidFill>
                <a:uFillTx/>
                <a:latin typeface="Verdana"/>
              </a:rPr>
              <a:t>idéalement sous le seuil de détection par les tests de PCR en temps réel (10—15 UI/mL)</a:t>
            </a:r>
            <a:r>
              <a:rPr b="0" i="1" lang="fr-FR" sz="1800" spc="-1" strike="noStrike">
                <a:solidFill>
                  <a:srgbClr val="000000"/>
                </a:solidFill>
                <a:latin typeface="Verdana"/>
              </a:rPr>
              <a:t>, pour assurer un niveau de viro-suppression suffisant permettant une rémission biochimique, une amélioration histologique et la prévention des complications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.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C30F-2143-49D0-81B4-1E4C7822D3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954080" y="4719600"/>
            <a:ext cx="6324840" cy="180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1954080" y="4262400"/>
            <a:ext cx="6324840" cy="180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1954080" y="3816360"/>
            <a:ext cx="6324840" cy="144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1954080" y="3370320"/>
            <a:ext cx="6324840" cy="144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954080" y="2911320"/>
            <a:ext cx="6324840" cy="180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954080" y="2467080"/>
            <a:ext cx="6324840" cy="144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1954080" y="2008080"/>
            <a:ext cx="6324840" cy="1800"/>
          </a:xfrm>
          <a:prstGeom prst="line">
            <a:avLst/>
          </a:prstGeom>
          <a:ln cap="rnd" w="0">
            <a:solidFill>
              <a:srgbClr val="80808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1954080" y="156204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1954080" y="1562040"/>
            <a:ext cx="1800" cy="3603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1866960" y="516564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471960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1866960" y="426240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866960" y="3816360"/>
            <a:ext cx="8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866960" y="3370320"/>
            <a:ext cx="8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866960" y="291132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1866960" y="2467080"/>
            <a:ext cx="87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1866960" y="200808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866960" y="1562040"/>
            <a:ext cx="8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954080" y="5165640"/>
            <a:ext cx="6324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540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1160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7664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4256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5858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7478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9098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0574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2194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796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5416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6910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512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0132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17348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3228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845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6450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8070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9546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166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2768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388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5879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484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9101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7068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2197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3817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419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7039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515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135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1755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3357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74851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453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8073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967520" y="516564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1169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278920" y="516564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54080" y="516528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747880" y="516528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41680" y="516528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322880" y="516528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116680" y="516528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910120" y="516528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03920" y="5165280"/>
            <a:ext cx="180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485120" y="516528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278920" y="5165280"/>
            <a:ext cx="1440" cy="8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951840" y="49672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979920" y="4522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1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951840" y="406404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951840" y="361800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951840" y="31719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951840" y="27147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51840" y="22683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951840" y="180972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951840" y="1363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.E+0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8846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60712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ff"/>
                </a:solidFill>
                <a:latin typeface="Comic Sans M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328644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42375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0313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578448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577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73591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8152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091400" y="5853240"/>
            <a:ext cx="60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Mo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188280" y="3408480"/>
            <a:ext cx="77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UI/m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5385600" y="2122560"/>
            <a:ext cx="254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ff"/>
                </a:solidFill>
                <a:latin typeface="Comic Sans MS"/>
              </a:rPr>
              <a:t>3- Pharmacologie/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2329920" y="2671920"/>
            <a:ext cx="28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ff"/>
                </a:solidFill>
                <a:latin typeface="Comic Sans MS"/>
              </a:rPr>
              <a:t>1- Contrôle de la réplication vir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73120" y="376884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ff"/>
                </a:solidFill>
                <a:latin typeface="Comic Sans MS"/>
              </a:rPr>
              <a:t>2- Échapp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955880" y="1176480"/>
            <a:ext cx="6307200" cy="365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Analog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6440" y="8568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Traitement par analogues:</a:t>
            </a:r>
            <a:br>
              <a:rPr sz="2400"/>
            </a:b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suivi de la réplication virale</a:t>
            </a:r>
            <a:endParaRPr b="1" i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943280" y="1585800"/>
            <a:ext cx="2815920" cy="3143520"/>
          </a:xfrm>
          <a:custGeom>
            <a:avLst/>
            <a:gdLst/>
            <a:ahLst/>
            <a:rect l="l" t="t" r="r" b="b"/>
            <a:pathLst>
              <a:path w="1774" h="1980">
                <a:moveTo>
                  <a:pt x="0" y="0"/>
                </a:moveTo>
                <a:lnTo>
                  <a:pt x="65" y="984"/>
                </a:lnTo>
                <a:lnTo>
                  <a:pt x="164" y="1168"/>
                </a:lnTo>
                <a:lnTo>
                  <a:pt x="393" y="1600"/>
                </a:lnTo>
                <a:lnTo>
                  <a:pt x="565" y="1971"/>
                </a:lnTo>
                <a:lnTo>
                  <a:pt x="706" y="1974"/>
                </a:lnTo>
                <a:lnTo>
                  <a:pt x="1208" y="1977"/>
                </a:lnTo>
                <a:lnTo>
                  <a:pt x="1474" y="1977"/>
                </a:lnTo>
                <a:lnTo>
                  <a:pt x="1774" y="1980"/>
                </a:lnTo>
                <a:lnTo>
                  <a:pt x="1739" y="1980"/>
                </a:lnTo>
              </a:path>
            </a:pathLst>
          </a:custGeom>
          <a:noFill/>
          <a:ln cap="sq"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743360" y="4729320"/>
            <a:ext cx="1543320" cy="1440"/>
          </a:xfrm>
          <a:custGeom>
            <a:avLst/>
            <a:gdLst/>
            <a:ahLst/>
            <a:rect l="l" t="t" r="r" b="b"/>
            <a:pathLst>
              <a:path w="972" h="1">
                <a:moveTo>
                  <a:pt x="0" y="0"/>
                </a:moveTo>
                <a:lnTo>
                  <a:pt x="333" y="0"/>
                </a:lnTo>
                <a:lnTo>
                  <a:pt x="702" y="0"/>
                </a:lnTo>
                <a:lnTo>
                  <a:pt x="972" y="0"/>
                </a:lnTo>
              </a:path>
            </a:pathLst>
          </a:custGeom>
          <a:noFill/>
          <a:ln cap="sq"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657520"/>
            <a:ext cx="1971720" cy="2085840"/>
          </a:xfrm>
          <a:custGeom>
            <a:avLst/>
            <a:gdLst/>
            <a:ahLst/>
            <a:rect l="l" t="t" r="r" b="b"/>
            <a:pathLst>
              <a:path w="1242" h="1314">
                <a:moveTo>
                  <a:pt x="0" y="1314"/>
                </a:moveTo>
                <a:lnTo>
                  <a:pt x="324" y="747"/>
                </a:lnTo>
                <a:lnTo>
                  <a:pt x="594" y="162"/>
                </a:lnTo>
                <a:lnTo>
                  <a:pt x="918" y="54"/>
                </a:lnTo>
                <a:lnTo>
                  <a:pt x="1242" y="0"/>
                </a:lnTo>
              </a:path>
            </a:pathLst>
          </a:custGeom>
          <a:noFill/>
          <a:ln cap="sq"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543800" y="3086280"/>
            <a:ext cx="1432440" cy="1643040"/>
            <a:chOff x="7543800" y="3086280"/>
            <a:chExt cx="1432440" cy="1643040"/>
          </a:xfrm>
        </p:grpSpPr>
        <p:sp>
          <p:nvSpPr>
            <p:cNvPr id="166" name=""/>
            <p:cNvSpPr/>
            <p:nvPr/>
          </p:nvSpPr>
          <p:spPr>
            <a:xfrm>
              <a:off x="7543800" y="3086280"/>
              <a:ext cx="714240" cy="1643040"/>
            </a:xfrm>
            <a:custGeom>
              <a:avLst/>
              <a:gdLst/>
              <a:ahLst/>
              <a:rect l="l" t="t" r="r" b="b"/>
              <a:pathLst>
                <a:path w="450" h="1035">
                  <a:moveTo>
                    <a:pt x="0" y="1035"/>
                  </a:moveTo>
                  <a:cubicBezTo>
                    <a:pt x="0" y="1035"/>
                    <a:pt x="225" y="517"/>
                    <a:pt x="450" y="0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98680" y="4299120"/>
              <a:ext cx="1177560" cy="3988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ytoly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257880" y="4300560"/>
            <a:ext cx="890280" cy="442800"/>
            <a:chOff x="6257880" y="4300560"/>
            <a:chExt cx="890280" cy="442800"/>
          </a:xfrm>
        </p:grpSpPr>
        <p:sp>
          <p:nvSpPr>
            <p:cNvPr id="169" name=""/>
            <p:cNvSpPr/>
            <p:nvPr/>
          </p:nvSpPr>
          <p:spPr>
            <a:xfrm>
              <a:off x="6257880" y="4300560"/>
              <a:ext cx="117360" cy="442800"/>
            </a:xfrm>
            <a:prstGeom prst="upDownArrow">
              <a:avLst>
                <a:gd name="adj1" fmla="val 50000"/>
                <a:gd name="adj2" fmla="val 75111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10440" y="436068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278320" y="4799160"/>
            <a:ext cx="1025640" cy="1245960"/>
          </a:xfrm>
          <a:prstGeom prst="upArrowCallout">
            <a:avLst>
              <a:gd name="adj1" fmla="val 8982"/>
              <a:gd name="adj2" fmla="val 17491"/>
              <a:gd name="adj3" fmla="val 29858"/>
              <a:gd name="adj4" fmla="val 152871"/>
            </a:avLst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u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851440" y="4822920"/>
            <a:ext cx="1316160" cy="1828800"/>
          </a:xfrm>
          <a:prstGeom prst="upArrowCallout">
            <a:avLst>
              <a:gd name="adj1" fmla="val 6880"/>
              <a:gd name="adj2" fmla="val 13931"/>
              <a:gd name="adj3" fmla="val 22676"/>
              <a:gd name="adj4" fmla="val 134182"/>
            </a:avLst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chapp</a:t>
            </a:r>
            <a:r>
              <a:rPr b="1" lang="fr-FR" sz="16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vir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416720" y="4816440"/>
            <a:ext cx="1316160" cy="1828800"/>
          </a:xfrm>
          <a:prstGeom prst="upArrowCallout">
            <a:avLst>
              <a:gd name="adj1" fmla="val 6880"/>
              <a:gd name="adj2" fmla="val 13931"/>
              <a:gd name="adj3" fmla="val 22676"/>
              <a:gd name="adj4" fmla="val 134182"/>
            </a:avLst>
          </a:prstGeom>
          <a:solidFill>
            <a:srgbClr val="ff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Echapp</a:t>
            </a:r>
            <a:r>
              <a:rPr b="1" lang="fr-FR" sz="16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cliniq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1939680" y="436248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mic Sans MS"/>
              </a:rPr>
              <a:t>LIQ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674800" y="1590840"/>
            <a:ext cx="1041480" cy="3552840"/>
            <a:chOff x="2674800" y="1590840"/>
            <a:chExt cx="1041480" cy="3552840"/>
          </a:xfrm>
        </p:grpSpPr>
        <p:sp>
          <p:nvSpPr>
            <p:cNvPr id="177" name=""/>
            <p:cNvSpPr/>
            <p:nvPr/>
          </p:nvSpPr>
          <p:spPr>
            <a:xfrm>
              <a:off x="2690640" y="1590840"/>
              <a:ext cx="149400" cy="463320"/>
            </a:xfrm>
            <a:prstGeom prst="upDownArrow">
              <a:avLst>
                <a:gd name="adj1" fmla="val 50000"/>
                <a:gd name="adj2" fmla="val 61737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2640" y="1639800"/>
              <a:ext cx="953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&gt; 1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74800" y="1596960"/>
              <a:ext cx="0" cy="3546720"/>
            </a:xfrm>
            <a:prstGeom prst="line">
              <a:avLst/>
            </a:prstGeom>
            <a:ln w="255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4079-B5C2-44CF-A3EE-13011F972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92040" y="2590920"/>
            <a:ext cx="8585280" cy="2819160"/>
            <a:chOff x="392040" y="2590920"/>
            <a:chExt cx="8585280" cy="2819160"/>
          </a:xfrm>
        </p:grpSpPr>
        <p:sp>
          <p:nvSpPr>
            <p:cNvPr id="181" name=""/>
            <p:cNvSpPr/>
            <p:nvPr/>
          </p:nvSpPr>
          <p:spPr>
            <a:xfrm>
              <a:off x="409680" y="3449520"/>
              <a:ext cx="1009440" cy="18892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89240" y="2590920"/>
              <a:ext cx="7588080" cy="8715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50000">
                  <a:srgbClr val="ffffff"/>
                </a:gs>
                <a:gs pos="100000">
                  <a:srgbClr val="cc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19120" y="3451320"/>
              <a:ext cx="1187640" cy="18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00280" y="3451320"/>
              <a:ext cx="1187640" cy="18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81440" y="3451320"/>
              <a:ext cx="1189080" cy="18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62600" y="3451320"/>
              <a:ext cx="2852640" cy="18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7960" y="3451320"/>
              <a:ext cx="1133280" cy="18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92040" y="2691000"/>
              <a:ext cx="8474040" cy="271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Stratégie actuelle au laboratoire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100160"/>
            <a:ext cx="7772400" cy="397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HBV Roche CAP/CTM v1.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69960" y="1982520"/>
            <a:ext cx="777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Evolutions proposées </a:t>
            </a:r>
            <a:r>
              <a:rPr b="0" i="1" lang="fr-FR" sz="1800" spc="-1" strike="noStrike">
                <a:solidFill>
                  <a:srgbClr val="0000ff"/>
                </a:solidFill>
                <a:latin typeface="Verdana"/>
              </a:rPr>
              <a:t>(imposées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1406520" y="4438800"/>
            <a:ext cx="118728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587680" y="4438800"/>
            <a:ext cx="118728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768840" y="4438800"/>
            <a:ext cx="118908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950000" y="4438800"/>
            <a:ext cx="285264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7785000" y="4438800"/>
            <a:ext cx="1160640" cy="9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36800" y="2457360"/>
            <a:ext cx="5715000" cy="4271760"/>
            <a:chOff x="1036800" y="2457360"/>
            <a:chExt cx="5715000" cy="427176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036800" y="2457360"/>
              <a:ext cx="5715000" cy="42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21200" y="2462040"/>
              <a:ext cx="3498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0000ff"/>
                  </a:solidFill>
                  <a:latin typeface="Verdana"/>
                </a:rPr>
                <a:t>..ou la nage à contre courant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48E32-6B66-464A-8C7B-F88094D5D9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6080" y="366480"/>
            <a:ext cx="407484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Evaluation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4240" y="979560"/>
            <a:ext cx="347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Verdana"/>
              </a:rPr>
              <a:t>198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échantillons conservés à -80°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Résultat CAP/CTM v1.0 disponib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815040" y="199872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Verdana"/>
              </a:rPr>
              <a:t>198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analys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CAP/CTM v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1061280" y="3017880"/>
            <a:ext cx="211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ff"/>
                </a:solidFill>
                <a:uFillTx/>
                <a:latin typeface="Verdana"/>
              </a:rPr>
              <a:t>118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analys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CAP/CTM v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Abbott HBV Real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46720" y="0"/>
            <a:ext cx="3749760" cy="3471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03440" y="3395520"/>
            <a:ext cx="3746520" cy="3470400"/>
          </a:xfrm>
          <a:prstGeom prst="rect">
            <a:avLst/>
          </a:prstGeom>
          <a:ln w="0">
            <a:noFill/>
          </a:ln>
        </p:spPr>
      </p:pic>
      <p:cxnSp>
        <p:nvCxnSpPr>
          <p:cNvPr id="206" name=""/>
          <p:cNvCxnSpPr>
            <a:stCxn id="201" idx="1"/>
            <a:endCxn id="202" idx="1"/>
          </p:cNvCxnSpPr>
          <p:nvPr/>
        </p:nvCxnSpPr>
        <p:spPr>
          <a:xfrm flipH="1" flipV="1" rot="10800000">
            <a:off x="454680" y="1269000"/>
            <a:ext cx="229320" cy="1019880"/>
          </a:xfrm>
          <a:prstGeom prst="bentConnector3">
            <a:avLst>
              <a:gd name="adj1" fmla="val -100000"/>
            </a:avLst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202" idx="1"/>
            <a:endCxn id="203" idx="1"/>
          </p:cNvCxnSpPr>
          <p:nvPr/>
        </p:nvCxnSpPr>
        <p:spPr>
          <a:xfrm flipH="1" flipV="1" rot="10800000">
            <a:off x="683280" y="2288880"/>
            <a:ext cx="214920" cy="1141920"/>
          </a:xfrm>
          <a:prstGeom prst="bentConnector3">
            <a:avLst>
              <a:gd name="adj1" fmla="val -106543"/>
            </a:avLst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208" name=""/>
          <p:cNvSpPr/>
          <p:nvPr/>
        </p:nvSpPr>
        <p:spPr>
          <a:xfrm rot="16200000">
            <a:off x="5287680" y="1986840"/>
            <a:ext cx="258840" cy="2633760"/>
          </a:xfrm>
          <a:custGeom>
            <a:avLst/>
            <a:gdLst>
              <a:gd name="textAreaLeft" fmla="*/ 0 w 258840"/>
              <a:gd name="textAreaRight" fmla="*/ 93600 w 258840"/>
              <a:gd name="textAreaTop" fmla="*/ 68400 h 2633760"/>
              <a:gd name="textAreaBottom" fmla="*/ 2565360 h 26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6200"/>
                </a:lnTo>
                <a:cubicBezTo>
                  <a:pt x="10800" y="17100"/>
                  <a:pt x="16200" y="18000"/>
                  <a:pt x="21600" y="18000"/>
                </a:cubicBezTo>
                <a:cubicBezTo>
                  <a:pt x="16200" y="18000"/>
                  <a:pt x="10800" y="18900"/>
                  <a:pt x="10800" y="198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A8B9-AC66-4402-80F5-5469D3323A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Comparaison Roche v1.0 vs. V2.0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5854680" cy="4392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38800" y="2219400"/>
            <a:ext cx="5854680" cy="4327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329560" y="9921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=9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5212800" y="99216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iais : 0.102 [0.062-0.14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994680" y="1400040"/>
            <a:ext cx="361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Dans la gamme de quantification de la v1.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48968-A9C9-4FC2-BC64-7DF9A645145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Comparaison Abbott HBV RT vs. Roche V2.0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1454040"/>
            <a:ext cx="5546880" cy="4160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398840" y="1673280"/>
            <a:ext cx="5545440" cy="4098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337120" y="9921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=11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5655960" y="99216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iais : 0.224 [0.143-0.305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012320" y="1332000"/>
            <a:ext cx="423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Verdana"/>
              </a:rPr>
              <a:t>Dans la gamme de quantification de Abbott HBV 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81080" y="4917960"/>
            <a:ext cx="8642160" cy="1250640"/>
            <a:chOff x="181080" y="4917960"/>
            <a:chExt cx="8642160" cy="1250640"/>
          </a:xfrm>
        </p:grpSpPr>
        <p:sp>
          <p:nvSpPr>
            <p:cNvPr id="222" name=""/>
            <p:cNvSpPr/>
            <p:nvPr/>
          </p:nvSpPr>
          <p:spPr>
            <a:xfrm>
              <a:off x="181080" y="5587920"/>
              <a:ext cx="8642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Verdana"/>
                </a:rPr>
                <a:t>Deux prélèvements</a:t>
              </a:r>
              <a:r>
                <a:rPr b="0" lang="fr-FR" sz="1600" spc="-1" strike="noStrike">
                  <a:solidFill>
                    <a:srgbClr val="000000"/>
                  </a:solidFill>
                  <a:latin typeface="Verdana"/>
                </a:rPr>
                <a:t> indétectables par test Roche v2.0 : prélèvements ultérieurs des même patients positif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36680" y="4944960"/>
              <a:ext cx="258840" cy="246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2920" y="4917960"/>
              <a:ext cx="258840" cy="2462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82520" y="1938240"/>
            <a:ext cx="8642520" cy="4760640"/>
            <a:chOff x="182520" y="1938240"/>
            <a:chExt cx="8642520" cy="4760640"/>
          </a:xfrm>
        </p:grpSpPr>
        <p:sp>
          <p:nvSpPr>
            <p:cNvPr id="226" name=""/>
            <p:cNvSpPr/>
            <p:nvPr/>
          </p:nvSpPr>
          <p:spPr>
            <a:xfrm>
              <a:off x="3832200" y="1938240"/>
              <a:ext cx="258840" cy="246240"/>
            </a:xfrm>
            <a:prstGeom prst="ellipse">
              <a:avLst/>
            </a:prstGeom>
            <a:noFill/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2520" y="6118200"/>
              <a:ext cx="8642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cc33"/>
                  </a:solidFill>
                  <a:latin typeface="Verdana"/>
                </a:rPr>
                <a:t>Deux prélèvements</a:t>
              </a:r>
              <a:r>
                <a:rPr b="0" lang="fr-FR" sz="1600" spc="-1" strike="noStrike">
                  <a:solidFill>
                    <a:srgbClr val="000000"/>
                  </a:solidFill>
                  <a:latin typeface="Verdana"/>
                </a:rPr>
                <a:t> au delà de la gamme de quantification Roche et quantifiés par Abbott HBV R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39F2-E707-4E57-8418-2C22034972FC}" type="slidenum">
              <a:t>7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9400" y="60840"/>
            <a:ext cx="8685000" cy="106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Comparaison Roche v1.0 vs. V2.0</a:t>
            </a:r>
            <a:br>
              <a:rPr sz="2400"/>
            </a:b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Echantillons détectables non quantifiés (&lt;54UI/mL)</a:t>
            </a:r>
            <a:br>
              <a:rPr sz="2000"/>
            </a:br>
            <a:r>
              <a:rPr b="1" i="1" lang="fr-FR" sz="2000" spc="-1" strike="noStrike">
                <a:solidFill>
                  <a:srgbClr val="000000"/>
                </a:solidFill>
                <a:latin typeface="Verdana"/>
              </a:rPr>
              <a:t>n=96</a:t>
            </a:r>
            <a:endParaRPr b="1" i="1" lang="en-US" sz="2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626480" y="6075360"/>
            <a:ext cx="585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19 échantillons &lt;20 UI/mL (v2.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dont 5 analysés en Abbott : détectables (3 sont &lt;10 UI/mL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06400" y="1085760"/>
            <a:ext cx="6164280" cy="4626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257400" y="1463400"/>
            <a:ext cx="5189400" cy="4482360"/>
            <a:chOff x="257400" y="1463400"/>
            <a:chExt cx="5189400" cy="4482360"/>
          </a:xfrm>
        </p:grpSpPr>
        <p:sp>
          <p:nvSpPr>
            <p:cNvPr id="232" name=""/>
            <p:cNvSpPr/>
            <p:nvPr/>
          </p:nvSpPr>
          <p:spPr>
            <a:xfrm>
              <a:off x="1720800" y="4881600"/>
              <a:ext cx="739800" cy="2826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70320" y="4869000"/>
              <a:ext cx="2966760" cy="282600"/>
            </a:xfrm>
            <a:prstGeom prst="rect">
              <a:avLst/>
            </a:prstGeom>
            <a:blipFill rotWithShape="0">
              <a:blip r:embed="rId2">
                <a:alphaModFix amt="40000"/>
              </a:blip>
              <a:srcRect/>
              <a:tile tx="0" ty="0" sx="100000" sy="100000" algn="ctr"/>
            </a:blipFill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1560" y="4859280"/>
              <a:ext cx="4305240" cy="0"/>
            </a:xfrm>
            <a:prstGeom prst="line">
              <a:avLst/>
            </a:prstGeom>
            <a:ln cap="rnd" w="2556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451240" y="1463400"/>
              <a:ext cx="9360" cy="4017960"/>
            </a:xfrm>
            <a:prstGeom prst="line">
              <a:avLst/>
            </a:prstGeom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99080" y="563868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0000"/>
                  </a:solidFill>
                  <a:latin typeface="Verdana"/>
                </a:rPr>
                <a:t>Seuil v1.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7400" y="4705200"/>
              <a:ext cx="92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ff0000"/>
                  </a:solidFill>
                  <a:latin typeface="Verdana"/>
                </a:rPr>
                <a:t>Seuil v2.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651640" y="1835280"/>
            <a:ext cx="3476520" cy="3628440"/>
            <a:chOff x="5651640" y="1835280"/>
            <a:chExt cx="3476520" cy="3628440"/>
          </a:xfrm>
        </p:grpSpPr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5651640" y="1835280"/>
              <a:ext cx="3476520" cy="30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610760" y="197316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Verdana"/>
                </a:rPr>
                <a:t>&gt;110M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3600" y="2517840"/>
              <a:ext cx="105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Verdana"/>
                </a:rPr>
                <a:t>&gt;54-110M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33640" y="2992320"/>
              <a:ext cx="105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</a:t>
              </a:r>
              <a:r>
                <a:rPr b="0" lang="fr-FR" sz="1400" spc="-1" strike="noStrike">
                  <a:solidFill>
                    <a:srgbClr val="0000ff"/>
                  </a:solidFill>
                  <a:latin typeface="Verdana"/>
                </a:rPr>
                <a:t>12 &amp; &lt;5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07720" y="3463920"/>
              <a:ext cx="115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Verdana"/>
                </a:rPr>
                <a:t>&lt;12 détec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64640" y="4051440"/>
              <a:ext cx="7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Verdana"/>
                </a:rPr>
                <a:t>négatif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32760" y="4883040"/>
              <a:ext cx="236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ff"/>
                  </a:solidFill>
                  <a:latin typeface="Verdana"/>
                </a:rPr>
                <a:t>Répartition des résultat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ff"/>
                  </a:solidFill>
                  <a:latin typeface="Verdana"/>
                </a:rPr>
                <a:t>(n=3000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5CCCA-6FAC-4A44-B7D8-C2D271696BED}" type="slidenum">
              <a:t>8</a:t>
            </a:fld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6440" y="36648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ff"/>
                </a:solidFill>
                <a:latin typeface="Verdana"/>
              </a:rPr>
              <a:t>Conclusions</a:t>
            </a:r>
            <a:endParaRPr b="1" i="1" lang="en-US" sz="2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980640"/>
            <a:ext cx="8155080" cy="5472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r notre série (petite) pas de détection d'anomalie particuliè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rès bonne corrélation des tests de quantification ADN du VHB par PCR en temps réel mais tendance à une "</a:t>
            </a:r>
            <a:r>
              <a:rPr b="0" lang="fr-FR" sz="2000" spc="-1" strike="noStrike" u="sng">
                <a:solidFill>
                  <a:srgbClr val="0000ff"/>
                </a:solidFill>
                <a:uFillTx/>
                <a:latin typeface="Verdana"/>
              </a:rPr>
              <a:t>sur-quantificatio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" de la trousse Roche v2.0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iais de </a:t>
            </a:r>
            <a:r>
              <a:rPr b="1" lang="fr-FR" sz="1800" spc="-1" strike="noStrike">
                <a:solidFill>
                  <a:srgbClr val="0000ff"/>
                </a:solidFill>
                <a:latin typeface="Verdana"/>
              </a:rPr>
              <a:t>0.102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Log UI/mL (Roche v1.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Biais de </a:t>
            </a:r>
            <a:r>
              <a:rPr b="1" lang="fr-FR" sz="1800" spc="-1" strike="noStrike">
                <a:solidFill>
                  <a:srgbClr val="0000ff"/>
                </a:solidFill>
                <a:latin typeface="Verdana"/>
              </a:rPr>
              <a:t>0.224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Log UI/mL (Abbot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ensibilité réelle et </a:t>
            </a:r>
            <a:r>
              <a:rPr b="0" lang="fr-FR" sz="2000" spc="-1" strike="noStrike">
                <a:solidFill>
                  <a:srgbClr val="0000ff"/>
                </a:solidFill>
                <a:latin typeface="Verdana"/>
              </a:rPr>
              <a:t>conséquences cliniques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Période d'ajust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 pratiqu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20 UI/mL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v2.0 = 15.8 (v1.0) = 11.9 (Abbot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nalyse probit 95% de Roche sur plasma = 9 UI/mL soit 5.1 (v1.0) = 5.4 (Abbot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C728-63F1-40EB-9B35-49FF568630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2:58:39Z</dcterms:created>
  <dc:creator>Vincent</dc:creator>
  <dc:description/>
  <dc:language>en-US</dc:language>
  <cp:lastModifiedBy>Vincent THIBAULT</cp:lastModifiedBy>
  <cp:lastPrinted>2000-05-11T19:26:38Z</cp:lastPrinted>
  <dcterms:modified xsi:type="dcterms:W3CDTF">2009-11-11T22:20:46Z</dcterms:modified>
  <cp:revision>3664</cp:revision>
  <dc:subject/>
  <dc:title>Les Hépatites de A à ...</dc:title>
</cp:coreProperties>
</file>