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4C0-0AB4-4735-8513-DBCAD2C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4CB-BF16-4431-8713-3F3D7D64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040-FC07-47F1-9ED4-CC281290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569-0CCC-412C-BFB6-9531EA1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1B7-5BC6-4790-987D-F23EF40D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7E-C98B-4A29-B96B-AB6A60C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A37-A5C8-4D19-AC8E-853E91C2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09A-C0C0-4AF6-9BDF-91A260E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771-7777-497C-8A9F-9B3D853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13B-3D62-43E3-A624-1C4F1351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DDC-D098-43AF-B29F-2D10756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236-E9FE-4AC2-9B7C-C450317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DAD-E5DB-44F1-A2AD-6FB1E42E3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pidémiologie de l’hépatite E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ttp://www.cnr.vha-vhe.aph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597120" cy="269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Jaundice"/>
          <p:cNvPicPr/>
          <p:nvPr/>
        </p:nvPicPr>
        <p:blipFill>
          <a:blip r:embed="rId3"/>
          <a:stretch/>
        </p:blipFill>
        <p:spPr>
          <a:xfrm>
            <a:off x="6095880" y="1981080"/>
            <a:ext cx="27226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447920" y="762120"/>
          <a:ext cx="646092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460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36160" y="379440"/>
            <a:ext cx="85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géographique des cas d’hépatites E autocht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cas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62000" y="-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Untitled" descr=""/>
          <p:cNvPicPr/>
          <p:nvPr/>
        </p:nvPicPr>
        <p:blipFill>
          <a:blip r:embed="rId1"/>
          <a:stretch/>
        </p:blipFill>
        <p:spPr>
          <a:xfrm>
            <a:off x="1143000" y="-1143000"/>
            <a:ext cx="9468000" cy="11458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00" y="2286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é génétique d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5240" y="3851280"/>
            <a:ext cx="33300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24560" y="4537080"/>
            <a:ext cx="333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14920" y="4689360"/>
            <a:ext cx="3330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67560" y="3165480"/>
            <a:ext cx="33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épatites E et Évolution  cli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38080" y="593640"/>
          <a:ext cx="647712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93640"/>
                    <a:ext cx="64771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025400" y="61722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ou et al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épatites E et Immunodé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360" y="1523880"/>
            <a:ext cx="9134640" cy="4135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2920" y="3054240"/>
            <a:ext cx="1440" cy="18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6320" y="4913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4645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46320" y="4384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46320" y="41180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46320" y="38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46320" y="3581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46320" y="33210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46320" y="3054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12920" y="4876560"/>
            <a:ext cx="75261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31292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209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5888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8600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8037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3232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03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7684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0540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0408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7960" y="3497400"/>
            <a:ext cx="4065480" cy="1317600"/>
          </a:xfrm>
          <a:custGeom>
            <a:avLst/>
            <a:gdLst/>
            <a:ahLst/>
            <a:rect l="l" t="t" r="r" b="b"/>
            <a:pathLst>
              <a:path w="421" h="187">
                <a:moveTo>
                  <a:pt x="0" y="0"/>
                </a:moveTo>
                <a:lnTo>
                  <a:pt x="7" y="30"/>
                </a:lnTo>
                <a:lnTo>
                  <a:pt x="11" y="54"/>
                </a:lnTo>
                <a:lnTo>
                  <a:pt x="15" y="80"/>
                </a:lnTo>
                <a:lnTo>
                  <a:pt x="22" y="114"/>
                </a:lnTo>
                <a:lnTo>
                  <a:pt x="26" y="123"/>
                </a:lnTo>
                <a:lnTo>
                  <a:pt x="30" y="131"/>
                </a:lnTo>
                <a:lnTo>
                  <a:pt x="36" y="152"/>
                </a:lnTo>
                <a:lnTo>
                  <a:pt x="57" y="165"/>
                </a:lnTo>
                <a:lnTo>
                  <a:pt x="89" y="163"/>
                </a:lnTo>
                <a:lnTo>
                  <a:pt x="281" y="174"/>
                </a:lnTo>
                <a:lnTo>
                  <a:pt x="340" y="180"/>
                </a:lnTo>
                <a:lnTo>
                  <a:pt x="421" y="187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7960" y="4343400"/>
            <a:ext cx="4065480" cy="534960"/>
          </a:xfrm>
          <a:custGeom>
            <a:avLst/>
            <a:gdLst/>
            <a:ahLst/>
            <a:rect l="l" t="t" r="r" b="b"/>
            <a:pathLst>
              <a:path w="421" h="76">
                <a:moveTo>
                  <a:pt x="0" y="39"/>
                </a:moveTo>
                <a:lnTo>
                  <a:pt x="7" y="22"/>
                </a:lnTo>
                <a:lnTo>
                  <a:pt x="11" y="16"/>
                </a:lnTo>
                <a:lnTo>
                  <a:pt x="15" y="3"/>
                </a:lnTo>
                <a:lnTo>
                  <a:pt x="22" y="1"/>
                </a:lnTo>
                <a:lnTo>
                  <a:pt x="26" y="0"/>
                </a:lnTo>
                <a:lnTo>
                  <a:pt x="30" y="8"/>
                </a:lnTo>
                <a:lnTo>
                  <a:pt x="36" y="6"/>
                </a:lnTo>
                <a:lnTo>
                  <a:pt x="57" y="39"/>
                </a:lnTo>
                <a:lnTo>
                  <a:pt x="89" y="65"/>
                </a:lnTo>
                <a:lnTo>
                  <a:pt x="281" y="76"/>
                </a:lnTo>
                <a:lnTo>
                  <a:pt x="340" y="75"/>
                </a:lnTo>
                <a:lnTo>
                  <a:pt x="421" y="71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0440" y="346248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67040" y="367344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6640" y="384336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800" y="402588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1" y="0"/>
                </a:moveTo>
                <a:lnTo>
                  <a:pt x="61" y="22"/>
                </a:lnTo>
                <a:lnTo>
                  <a:pt x="31" y="44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3200" y="426564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1000" y="432900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9160" y="438480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7840" y="453240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0" y="0"/>
                </a:moveTo>
                <a:lnTo>
                  <a:pt x="61" y="23"/>
                </a:lnTo>
                <a:lnTo>
                  <a:pt x="30" y="45"/>
                </a:lnTo>
                <a:lnTo>
                  <a:pt x="0" y="23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1240" y="4624560"/>
            <a:ext cx="95400" cy="71280"/>
          </a:xfrm>
          <a:custGeom>
            <a:avLst/>
            <a:gdLst/>
            <a:ahLst/>
            <a:rect l="l" t="t" r="r" b="b"/>
            <a:pathLst>
              <a:path w="60" h="45">
                <a:moveTo>
                  <a:pt x="30" y="0"/>
                </a:moveTo>
                <a:lnTo>
                  <a:pt x="60" y="22"/>
                </a:lnTo>
                <a:lnTo>
                  <a:pt x="30" y="45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9040" y="461016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13400" y="468792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83280" y="473076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65920" y="4780080"/>
            <a:ext cx="95400" cy="69840"/>
          </a:xfrm>
          <a:custGeom>
            <a:avLst/>
            <a:gdLst/>
            <a:ahLst/>
            <a:rect l="l" t="t" r="r" b="b"/>
            <a:pathLst>
              <a:path w="60" h="44">
                <a:moveTo>
                  <a:pt x="30" y="0"/>
                </a:moveTo>
                <a:lnTo>
                  <a:pt x="60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0440" y="4583160"/>
            <a:ext cx="8712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7040" y="4462560"/>
            <a:ext cx="8712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6640" y="441972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44800" y="432900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13200" y="4314960"/>
            <a:ext cx="856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1000" y="430704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89160" y="436392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7840" y="434988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240" y="4583160"/>
            <a:ext cx="8568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476568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3400" y="484344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83552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5920" y="4808520"/>
            <a:ext cx="8568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8800" y="4800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6280" y="4532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6280" y="42721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6280" y="40053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7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360" y="373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360" y="34686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7360" y="3208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7360" y="2941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7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8000000">
            <a:off x="915480" y="506268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juin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000000">
            <a:off x="1457640" y="518508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mic Sans MS"/>
              </a:rPr>
              <a:t>10-juil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000000">
            <a:off x="2145600" y="505404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août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000000">
            <a:off x="2762640" y="5056200"/>
            <a:ext cx="464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sept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000000">
            <a:off x="3418920" y="50515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oct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000000">
            <a:off x="4024080" y="505764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nov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000000">
            <a:off x="4638960" y="5058360"/>
            <a:ext cx="43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déc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8000000">
            <a:off x="5253840" y="50637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janv.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8000000">
            <a:off x="5881680" y="506196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févr.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000000">
            <a:off x="6476760" y="5056200"/>
            <a:ext cx="47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mars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5562720"/>
            <a:ext cx="1575000" cy="542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638680"/>
            <a:ext cx="28080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56386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30" y="0"/>
                </a:moveTo>
                <a:lnTo>
                  <a:pt x="61" y="23"/>
                </a:lnTo>
                <a:lnTo>
                  <a:pt x="30" y="45"/>
                </a:lnTo>
                <a:lnTo>
                  <a:pt x="0" y="23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83920" y="5562720"/>
            <a:ext cx="35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Comic Sans MS"/>
              </a:rPr>
              <a:t>AL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5867280"/>
            <a:ext cx="28080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586728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5600" y="5791320"/>
            <a:ext cx="6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cc00"/>
                </a:solidFill>
                <a:latin typeface="Comic Sans MS"/>
              </a:rPr>
              <a:t>Bilirub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47920"/>
            <a:ext cx="9134640" cy="4135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343400"/>
            <a:ext cx="71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487080" y="2254320"/>
            <a:ext cx="171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87080" y="1878120"/>
            <a:ext cx="176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487080" y="2614680"/>
            <a:ext cx="210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288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18288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410080"/>
            <a:ext cx="118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sig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cli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1337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19051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9920" y="272736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87080" y="2979720"/>
            <a:ext cx="20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2666880"/>
            <a:ext cx="44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30481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828800"/>
            <a:ext cx="339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22860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59092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547200" y="6202440"/>
            <a:ext cx="175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828800"/>
            <a:ext cx="67057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920" y="17524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IgM anti-V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36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ff"/>
                </a:solidFill>
                <a:latin typeface="Comic Sans MS"/>
              </a:rPr>
              <a:t>IgG anti-V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" y="24382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CR VHE : sé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920" y="2666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PCR VHE : s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5400" y="617220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R = non renseig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7376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800600"/>
            <a:ext cx="19810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15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2286000"/>
            <a:ext cx="5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73760" y="23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324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8960" y="20574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448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644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182880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8625200">
            <a:off x="6815520" y="514800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54000" y="2664000"/>
            <a:ext cx="4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9042800">
            <a:off x="7772760" y="51051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7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9600" y="3306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3116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74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480600">
            <a:off x="8007120" y="2590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060000">
            <a:off x="8339760" y="514764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9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63120" y="20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1064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42320" y="22860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1064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épatite E persistante (ARN &gt; 6 mois (10-24 moi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Kamar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4 transplantés d’org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tavir 1.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épatite E sur hépatopathie ch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gravation- décès 6/9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amachandran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épatite E et femmes ence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gmentation taux létalité (20-54%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ahtia et al. 2008, Bernuau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57200" y="0"/>
          <a:ext cx="7772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épatite E et origine de contamination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219320" y="1066680"/>
          <a:ext cx="7427880" cy="4953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427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maladie ém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évolution cli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origine de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Maladie à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838080" y="1600200"/>
          <a:ext cx="7086600" cy="42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08660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282320" y="52236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eurs d’exposition: 53/90 cas (CNR-200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681800" cy="4554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537960" y="57564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to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épatite et maladie à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1936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9480" cy="5749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05840" y="68580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des cas en F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épatite E et DO en 200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de travail : INVS- cliniciens-Vétérinaires- Microbiologistes- C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505320"/>
            <a:ext cx="106668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rci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ticiens biologis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étérinaires (E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S-Section maladies infecti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quipe du CNR V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4560" y="595440"/>
            <a:ext cx="8569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239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8910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2440" y="1346040"/>
          <a:ext cx="8979120" cy="41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46040"/>
                    <a:ext cx="897912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6400" y="457200"/>
            <a:ext cx="82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Cas d’hépatites E autochtones- en zone d’endé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80880" y="228600"/>
          <a:ext cx="8610840" cy="54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61084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240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52280"/>
          <a:ext cx="840744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074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508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143000"/>
          <a:ext cx="962964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62964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3520" y="1905120"/>
          <a:ext cx="72388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72388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06200" y="97956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épatites E e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27:15Z</dcterms:created>
  <dc:creator>MC Nicand</dc:creator>
  <dc:description/>
  <dc:language>en-US</dc:language>
  <cp:lastModifiedBy>MC Nicand</cp:lastModifiedBy>
  <dcterms:modified xsi:type="dcterms:W3CDTF">2008-11-19T11:48:40Z</dcterms:modified>
  <cp:revision>17</cp:revision>
  <dc:subject/>
  <dc:title>Epidémiologie de l’hépatite E</dc:title>
</cp:coreProperties>
</file>