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89F-0350-41F1-8CAB-9B6E9030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DB7-3783-4D44-B986-54D547F0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9F3-F3CE-446E-ACDB-FEF0420D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0C0-C5F1-4389-BE1D-78B2BFD6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EC7-1BA1-4121-BF27-CD0AFCB6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E07-BADF-4447-B3DF-DE5F73D2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A5C-047B-42CE-9F90-227A05CC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10D-6B64-4C6A-ABDE-B98D4F3B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37B-B032-4500-A6EC-BB02223A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CDA-7D40-40D0-BBA9-DD331FB2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D0F-3DF1-4CCD-99DD-BC719662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D20-CE03-4810-9204-E57A3777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2b61"/>
                </a:solidFill>
                <a:latin typeface="Frutiger 57C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2b61"/>
                </a:solidFill>
                <a:latin typeface="Frutiger 57C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2b61"/>
                </a:solidFill>
                <a:latin typeface="Frutiger 57C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2b61"/>
                </a:solidFill>
                <a:latin typeface="Frutiger 57C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2b61"/>
                </a:solidFill>
                <a:latin typeface="Frutiger 57C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43FC-71EE-4FB1-B41A-127FDF4B54A0}" type="slidenum">
              <a:rPr b="0" lang="en-US" sz="1400" spc="-1" strike="noStrike">
                <a:solidFill>
                  <a:srgbClr val="072b61"/>
                </a:solidFill>
                <a:latin typeface="Frutiger 57C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utiger 57C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2b61"/>
                </a:solidFill>
                <a:latin typeface="Frutiger 57Cn"/>
              </a:rPr>
              <a:t>Click to edit the title text format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2b61"/>
                </a:solidFill>
                <a:latin typeface="Frutiger 57Cn"/>
              </a:rPr>
              <a:t>Click to edit the outline text format</a:t>
            </a: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Second Outline Level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2b61"/>
                </a:solidFill>
                <a:latin typeface="Frutiger 57Cn"/>
              </a:rPr>
              <a:t>Third Outline Level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3" marL="1600200" indent="-228600"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2b61"/>
                </a:solidFill>
                <a:latin typeface="Frutiger 57Cn"/>
              </a:rPr>
              <a:t>Fourth Outline Level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4" marL="2057400" indent="-228600">
              <a:spcBef>
                <a:spcPts val="499"/>
              </a:spcBef>
              <a:buClr>
                <a:srgbClr val="072b61"/>
              </a:buClr>
              <a:buFont typeface="Frutiger 57C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2b61"/>
                </a:solidFill>
                <a:latin typeface="Frutiger 57Cn"/>
              </a:rPr>
              <a:t>Fifth Outline Level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5" marL="2057400" indent="-228600">
              <a:spcBef>
                <a:spcPts val="499"/>
              </a:spcBef>
              <a:buClr>
                <a:srgbClr val="072b61"/>
              </a:buClr>
              <a:buFont typeface="Frutiger 57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2b61"/>
                </a:solidFill>
                <a:latin typeface="Frutiger 57Cn"/>
              </a:rPr>
              <a:t>Sixth Outline Level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6" marL="2057400" indent="-228600">
              <a:spcBef>
                <a:spcPts val="499"/>
              </a:spcBef>
              <a:buClr>
                <a:srgbClr val="072b61"/>
              </a:buClr>
              <a:buFont typeface="Frutiger 57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2b61"/>
                </a:solidFill>
                <a:latin typeface="Frutiger 57Cn"/>
              </a:rPr>
              <a:t>Seventh Outline Level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1700280"/>
            <a:ext cx="7488000" cy="55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ff"/>
                </a:solidFill>
                <a:latin typeface="Frutiger 67BoldCn"/>
              </a:rPr>
              <a:t>Dengue : épidémiologie dans le monde et en France</a:t>
            </a:r>
            <a:endParaRPr b="0" lang="en-US" sz="4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Frutiger 57Cn"/>
              </a:rPr>
              <a:t>D. Dejour Salamanca, M. Ledrans, G. La Ruche, 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Frutiger 57Cn"/>
              </a:rPr>
              <a:t>A. Tarantola, L. Vaillant, M. Gastellu-Etchegorry</a:t>
            </a:r>
            <a:r>
              <a:rPr b="0" lang="fr-FR" sz="3200" spc="-1" strike="noStrike">
                <a:solidFill>
                  <a:srgbClr val="ffffff"/>
                </a:solidFill>
                <a:latin typeface="Frutiger 57Cn"/>
              </a:rPr>
              <a:t>.</a:t>
            </a: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Frutiger 57Cn"/>
              </a:rPr>
              <a:t>XX</a:t>
            </a:r>
            <a:r>
              <a:rPr b="0" lang="fr-FR" sz="2200" spc="-1" strike="noStrike" baseline="30000">
                <a:solidFill>
                  <a:srgbClr val="ffffff"/>
                </a:solidFill>
                <a:latin typeface="Frutiger 57Cn"/>
              </a:rPr>
              <a:t>è </a:t>
            </a:r>
            <a:r>
              <a:rPr b="0" lang="fr-FR" sz="2200" spc="-1" strike="noStrike">
                <a:solidFill>
                  <a:srgbClr val="ffffff"/>
                </a:solidFill>
                <a:latin typeface="Frutiger 57Cn"/>
              </a:rPr>
              <a:t>colloque de Virologie de Versailles, </a:t>
            </a:r>
            <a:endParaRPr b="0" lang="en-US" sz="2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Frutiger 57Cn"/>
              </a:rPr>
              <a:t>Paris, 25 novembre 2008</a:t>
            </a:r>
            <a:endParaRPr b="0" lang="en-US" sz="2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450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Antilles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Guadeloupe: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453 000 h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Martinique : 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398 000 h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Densité population élevé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roximité des autres iles de la Caraïb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ériode de transmission : juin-janvier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Guyane française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op. 200 000 h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Frontières ++Amazoni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Migrations ++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ériode transmission : toute anné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Vecteur : </a:t>
            </a:r>
            <a:r>
              <a:rPr b="0" i="1" lang="fr-FR" sz="2400" spc="-1" strike="noStrike">
                <a:solidFill>
                  <a:srgbClr val="000000"/>
                </a:solidFill>
                <a:latin typeface="Frutiger 57Cn"/>
              </a:rPr>
              <a:t>Aedes aegypti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.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0675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DFA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767560" y="1181160"/>
            <a:ext cx="3450600" cy="4968360"/>
            <a:chOff x="5767560" y="1181160"/>
            <a:chExt cx="3450600" cy="496836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767560" y="1181160"/>
              <a:ext cx="3297960" cy="49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98000" y="3409200"/>
              <a:ext cx="91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Martinique</a:t>
              </a:r>
              <a:endParaRPr b="0" lang="en-US" sz="800" spc="-1" strike="noStrike">
                <a:solidFill>
                  <a:srgbClr val="072b61"/>
                </a:solidFill>
                <a:latin typeface="Frutiger 57C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14480" y="3152160"/>
              <a:ext cx="1003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Guadeloupe</a:t>
              </a:r>
              <a:endParaRPr b="0" lang="en-US" sz="800" spc="-1" strike="noStrike">
                <a:solidFill>
                  <a:srgbClr val="072b61"/>
                </a:solidFill>
                <a:latin typeface="Frutiger 57C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92560" y="4351320"/>
              <a:ext cx="1003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Guyane</a:t>
              </a:r>
              <a:endParaRPr b="0" lang="en-US" sz="800" spc="-1" strike="noStrike">
                <a:solidFill>
                  <a:srgbClr val="072b61"/>
                </a:solidFill>
                <a:latin typeface="Frutiger 57C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221600" cy="8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Circulation en Martiniq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894440" cy="4578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1268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 confirmés de dengue en Martinique, janvier 95-oct 06 (source Cire AG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486900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508464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72428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0" name=""/>
          <p:cNvSpPr/>
          <p:nvPr/>
        </p:nvSpPr>
        <p:spPr>
          <a:xfrm>
            <a:off x="7885080" y="450864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508464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366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2b61"/>
                </a:solidFill>
                <a:latin typeface="Frutiger 57Cn"/>
              </a:rPr>
              <a:t>saisonnières (1998-2001</a:t>
            </a:r>
            <a:r>
              <a:rPr b="0" lang="en-US" sz="1200" spc="-1" strike="noStrike">
                <a:solidFill>
                  <a:srgbClr val="072b61"/>
                </a:solidFill>
                <a:latin typeface="Frutiger 57Cn"/>
              </a:rPr>
              <a:t>)</a:t>
            </a:r>
            <a:endParaRPr b="0" lang="en-US" sz="12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59636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Dengue en Martinique, 2007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325080" cy="5542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65246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b61"/>
                </a:solidFill>
                <a:latin typeface="Frutiger 57Cn"/>
              </a:rPr>
              <a:t>Données Cire Antilles Guyane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28526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Surtout DEN2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18 000 ca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2 % d’hospitalisé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2 décè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Dengue en Guadeloupe 2007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893080" cy="554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65214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b61"/>
                </a:solidFill>
                <a:latin typeface="Frutiger 57Cn"/>
              </a:rPr>
              <a:t>Données Cire Antilles Guyane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28526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Surtout DEN2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9800 ca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2,8 % d’hospitalisé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3 décè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72b61"/>
                </a:solidFill>
                <a:latin typeface="Frutiger 57Cn"/>
              </a:rPr>
              <a:t>Vers une hyperendémicité aux Antilles ?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828720" y="1197000"/>
            <a:ext cx="1069812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753160" cy="3076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2b61"/>
                </a:solidFill>
                <a:latin typeface="Frutiger 57Cn"/>
              </a:rPr>
              <a:t>Dengue en Guyan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pidémie en 2004-2005 : circulation prédominante de DENV-3.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Importante épidémie de décembre 2005 à août 2006 (DEN-2) :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Phénomène majeur : pic en avril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Plus de 16 000 cas et 4 décès directs (dont 3 enfants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).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805360"/>
            <a:ext cx="71992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Depuis 2007, situation d’endémie avec environ 100 par semaine  et la survenue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de foyers de transmission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2b61"/>
                </a:solidFill>
                <a:latin typeface="Frutiger 57Cn"/>
              </a:rPr>
              <a:t>Dans l’Océan Indien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La Réunion 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Vecteur : </a:t>
            </a:r>
            <a:r>
              <a:rPr b="0" i="1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A. Albopictus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pidémie en 1977-1978 (environ 30 % de la population) et DENV-2 suspecté.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n 2004, épidémie à DENV-1 de faible intensité (228 cas cliniques)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Juillet 2004, situation inter-épidémique avec une transmission sporadique observée.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2b61"/>
                </a:solidFill>
                <a:latin typeface="Frutiger 57Cn"/>
              </a:rPr>
              <a:t>Dans le Pacifiq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n Polynésie Française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Cycles épidémiques, tous les 5 à 10 ans.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Dernière épidémie (DENV-1) en 2000-2002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33.000 cas cliniques,  1.400 hospitalisation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633 formes sévères (2%) dont 278 avec choc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8 décès (1,3% létalité formes sévères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n Nouvelle Calédonie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2003 : importante épidémie (DENV-1) avec 5 576 cas cliniques 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2008 : épidémie de DENV-1, depuis février, pic en avril, sur « le déclin » aujourd’hui (environ 1000 cas) – 1 décès (pathologies sous-jacentes);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Depuis mai 2008 :  épidémie DENV-4 dans le Pacifique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Départ iles Nauru (mai), Kiribati et Samoa occidentales et Américaines (juillet), Fidji (août) et Vanuatu (octobre)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Novembre 2008 : 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Frutiger 57Cn"/>
              </a:rPr>
              <a:t>er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 cas autochtone de DENV-4 en Nouvelle Calédonie (pas de circulation depuis 1979)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Dengue en France métropolitain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591240" cy="5502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08000" y="6237360"/>
            <a:ext cx="63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72b61"/>
                </a:solidFill>
                <a:latin typeface="Arial"/>
                <a:ea typeface="ＭＳ Ｐゴシック"/>
              </a:rPr>
              <a:t>EDCD Mission Report Chikungunya in Italy 17-21 sept. 2007</a:t>
            </a:r>
            <a:endParaRPr b="0" lang="en-US" sz="1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123840"/>
            <a:ext cx="67233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72b61"/>
                </a:solidFill>
                <a:latin typeface="Arial"/>
                <a:ea typeface="ＭＳ Ｐゴシック"/>
              </a:rPr>
              <a:t>A. albopictus</a:t>
            </a:r>
            <a:r>
              <a:rPr b="0" lang="fr-FR" sz="2400" spc="-1" strike="noStrike">
                <a:solidFill>
                  <a:srgbClr val="072b61"/>
                </a:solidFill>
                <a:latin typeface="Arial"/>
                <a:ea typeface="ＭＳ Ｐゴシック"/>
              </a:rPr>
              <a:t> en Europe , janvier 2007</a:t>
            </a:r>
            <a:r>
              <a:rPr b="0" lang="fr-FR" sz="1800" spc="-1" strike="noStrike">
                <a:solidFill>
                  <a:srgbClr val="072b61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Virus de la Deng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6048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Virus identifié en  1940-1950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Flavivirus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Transmis à l’homme par la piqûre d’un moustique diurne : </a:t>
            </a:r>
            <a:r>
              <a:rPr b="1" i="1" lang="fr-FR" sz="2400" spc="-1" strike="noStrike">
                <a:solidFill>
                  <a:srgbClr val="000000"/>
                </a:solidFill>
                <a:latin typeface="Frutiger 57Cn"/>
              </a:rPr>
              <a:t>Aedes</a:t>
            </a:r>
            <a:r>
              <a:rPr b="0" i="1" lang="fr-FR" sz="2400" spc="-1" strike="noStrike">
                <a:solidFill>
                  <a:srgbClr val="000000"/>
                </a:solidFill>
                <a:latin typeface="Frutiger 57C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infecté (</a:t>
            </a:r>
            <a:r>
              <a:rPr b="1" i="1" lang="fr-FR" sz="2400" spc="-1" strike="noStrike">
                <a:solidFill>
                  <a:srgbClr val="000000"/>
                </a:solidFill>
                <a:latin typeface="Frutiger 57Cn"/>
              </a:rPr>
              <a:t>aegypti</a:t>
            </a:r>
            <a:r>
              <a:rPr b="0" i="1" lang="fr-FR" sz="2400" spc="-1" strike="noStrike">
                <a:solidFill>
                  <a:srgbClr val="000000"/>
                </a:solidFill>
                <a:latin typeface="Frutiger 57Cn"/>
              </a:rPr>
              <a:t> +++, albopictus, polynesiensis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).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4 sérotypes (DENV 1-4)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Distincts sur le plan antigéniqu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as d’immunité croisé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Augmentation risque de DH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31000" y="1809720"/>
            <a:ext cx="2133720" cy="226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50040" y="662940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72b61"/>
                </a:solidFill>
                <a:latin typeface="Arial"/>
              </a:rPr>
              <a:t>http://dengueinfo.org</a:t>
            </a:r>
            <a:endParaRPr b="0" lang="en-US" sz="9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8" name=""/>
          <p:cNvSpPr/>
          <p:nvPr/>
        </p:nvSpPr>
        <p:spPr>
          <a:xfrm>
            <a:off x="6832440" y="6197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653000"/>
            <a:ext cx="67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2b61"/>
                </a:solidFill>
                <a:latin typeface="Frutiger 57Cn"/>
              </a:rPr>
              <a:t>Quel vecteur en France ?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72b61"/>
                </a:solidFill>
                <a:latin typeface="Frutiger 57Cn"/>
              </a:rPr>
              <a:t>A. Albopictus</a:t>
            </a: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 :  en Italie (1990) et Espagne.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En France, en 1999 la DGS a renforcé la surveillance entomologique :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2004 : 1ere identification </a:t>
            </a:r>
            <a:r>
              <a:rPr b="0" i="1" lang="fr-FR" sz="2000" spc="-1" strike="noStrike">
                <a:solidFill>
                  <a:srgbClr val="072b61"/>
                </a:solidFill>
                <a:latin typeface="Frutiger 57Cn"/>
              </a:rPr>
              <a:t>A. Albopictus</a:t>
            </a: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 dans les Alpes-Maritimes. Etablissement en 2005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En 2006 : </a:t>
            </a:r>
            <a:r>
              <a:rPr b="0" i="1" lang="fr-FR" sz="2000" spc="-1" strike="noStrike">
                <a:solidFill>
                  <a:srgbClr val="072b61"/>
                </a:solidFill>
                <a:latin typeface="Frutiger 57Cn"/>
              </a:rPr>
              <a:t>A. Albopictus</a:t>
            </a: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 dans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Alpes Maritimes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Haute Corse.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En 2007 et 2008 : 4 départements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Alpes Maritimes + Var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Haute Corse + Corse du Sud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Wingdings 2"/>
                <a:ea typeface="Wingdings 2"/>
              </a:rPr>
              <a:t></a:t>
            </a: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 </a:t>
            </a: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Surveillance renforcée : Plan antidissémination 2006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Frutiger 57Cn"/>
              </a:rPr>
              <a:t>Surveillance Métropole</a:t>
            </a:r>
            <a:endParaRPr b="0" lang="en-US" sz="3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Réseau de laboratoires :  février 2006 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Cas diagnostiqués en métropole :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Avec 4 laboratoires (Biomnis, Pasteur Cerba, CNR, IMTSSA) jusqu’en 2007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Puis, en 2008,  3 nouveaux (La Timone,  Avicenne, CHU Bordeaux)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La Dengue : maladie à déclaration obligatoire : juillet 2006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Renforcement surveillance (Plan anti-dissémination) :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Zone d’implantation du vecteur  : 4 départements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ET pendant la période d’activité du moustique (mai à novembre)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Articulation Surveillance entomologique et épidémiologique :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Signalement sans délai des cas </a:t>
            </a:r>
            <a:r>
              <a:rPr b="1" lang="fr-FR" sz="1800" spc="-1" strike="noStrike">
                <a:solidFill>
                  <a:srgbClr val="072b61"/>
                </a:solidFill>
                <a:latin typeface="Frutiger 57Cn"/>
              </a:rPr>
              <a:t>SUSPECTS</a:t>
            </a: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 (syndrome dengue like) à DDAS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Envoi accéléré prélèvements au CNR pour confirmation du diagnostic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Information EID : 2 cas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072b61"/>
              </a:buClr>
              <a:buFont typeface="Frutiger 57C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72b61"/>
                </a:solidFill>
                <a:latin typeface="Frutiger 57Cn"/>
              </a:rPr>
              <a:t>Mesures immédiates de contrôle antivectoriel : cas retour zone d’endémie + communes </a:t>
            </a:r>
            <a:r>
              <a:rPr b="0" i="1" lang="fr-FR" sz="1600" spc="-1" strike="noStrike">
                <a:solidFill>
                  <a:srgbClr val="072b61"/>
                </a:solidFill>
                <a:latin typeface="Frutiger 57Cn"/>
              </a:rPr>
              <a:t>A. albopictus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072b61"/>
              </a:buClr>
              <a:buFont typeface="Frutiger 57C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72b61"/>
                </a:solidFill>
                <a:latin typeface="Frutiger 57Cn"/>
              </a:rPr>
              <a:t>Surveillance : cas autochtones (attente résultats biologiques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Cas </a:t>
            </a: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de dengue</a:t>
            </a: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 importés</a:t>
            </a:r>
            <a:r>
              <a:rPr b="1" i="1" lang="en-US" sz="2800" spc="-1" strike="noStrike">
                <a:solidFill>
                  <a:srgbClr val="072b61"/>
                </a:solidFill>
                <a:latin typeface="Frutiger 57Cn"/>
              </a:rPr>
              <a:t> </a:t>
            </a: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en 2006 et 2007 </a:t>
            </a:r>
            <a:br>
              <a:rPr sz="2800"/>
            </a:b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et épidémies de dengue dans les DFA</a:t>
            </a:r>
            <a:br>
              <a:rPr sz="3200"/>
            </a:br>
            <a:r>
              <a:rPr b="1" lang="en-US" sz="1800" spc="-1" strike="noStrike">
                <a:solidFill>
                  <a:srgbClr val="072b61"/>
                </a:solidFill>
                <a:latin typeface="Frutiger 57Cn"/>
              </a:rPr>
              <a:t>(source : réseau de laboratoires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179360"/>
            <a:ext cx="91440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2b61"/>
                </a:solidFill>
                <a:latin typeface="Arial Black"/>
              </a:rPr>
              <a:t>Cas confirmés de Dengue, </a:t>
            </a:r>
            <a:br>
              <a:rPr sz="2400"/>
            </a:br>
            <a:r>
              <a:rPr b="0" lang="en-GB" sz="2400" spc="-1" strike="noStrike">
                <a:solidFill>
                  <a:srgbClr val="072b61"/>
                </a:solidFill>
                <a:latin typeface="Arial Black"/>
              </a:rPr>
              <a:t>France métropolitaine 2006-2007  </a:t>
            </a:r>
            <a:br>
              <a:rPr sz="2400"/>
            </a:br>
            <a:r>
              <a:rPr b="0" lang="en-GB" sz="1800" spc="-1" strike="noStrike">
                <a:solidFill>
                  <a:srgbClr val="072b61"/>
                </a:solidFill>
                <a:latin typeface="Arial Black"/>
              </a:rPr>
              <a:t>(</a:t>
            </a:r>
            <a:r>
              <a:rPr b="0" lang="en-GB" sz="1800" spc="-1" strike="noStrike">
                <a:solidFill>
                  <a:srgbClr val="0033cc"/>
                </a:solidFill>
                <a:latin typeface="Arial Black"/>
              </a:rPr>
              <a:t>source : réseau laboratoires</a:t>
            </a:r>
            <a:r>
              <a:rPr b="0" lang="en-GB" sz="1800" spc="-1" strike="noStrike">
                <a:solidFill>
                  <a:srgbClr val="072b61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82480" y="1484280"/>
          <a:ext cx="8105760" cy="4781520"/>
        </p:xfrm>
        <a:graphic>
          <a:graphicData uri="http://schemas.openxmlformats.org/drawingml/2006/table">
            <a:tbl>
              <a:tblPr/>
              <a:tblGrid>
                <a:gridCol w="3897720"/>
                <a:gridCol w="1043640"/>
                <a:gridCol w="1088280"/>
                <a:gridCol w="918360"/>
                <a:gridCol w="1157760"/>
              </a:tblGrid>
              <a:tr h="583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Mai Nov.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Mai-Nov</a:t>
                      </a: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.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France métropolitaine 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39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42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85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     </a:t>
                      </a:r>
                      <a:r>
                        <a:rPr b="1" lang="fr-FR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Total Zone </a:t>
                      </a:r>
                      <a:r>
                        <a:rPr b="1" i="1" lang="fr-FR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Aedes  albopictus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1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9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35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22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Alpes Maritimes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9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5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17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Haute Corse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Corse du Sud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-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-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Var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-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-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5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5702400" y="3141720"/>
            <a:ext cx="658800" cy="642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24" name=""/>
          <p:cNvSpPr/>
          <p:nvPr/>
        </p:nvSpPr>
        <p:spPr>
          <a:xfrm>
            <a:off x="7896240" y="3213000"/>
            <a:ext cx="641160" cy="642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2b61"/>
                </a:solidFill>
                <a:latin typeface="Frutiger 57Cn"/>
              </a:rPr>
              <a:t>Conclusion - Perspectives</a:t>
            </a:r>
            <a:endParaRPr b="0" lang="en-US" sz="3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2b61"/>
                </a:solidFill>
                <a:latin typeface="Frutiger 57Cn"/>
              </a:rPr>
              <a:t>Risque d’introduction ?</a:t>
            </a: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Présence vecteur compétent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Population susceptible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Introduction régulière de cas virémiques (voyages)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marL="308520" indent="-308520">
              <a:spcBef>
                <a:spcPts val="799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2b61"/>
                </a:solidFill>
                <a:latin typeface="Frutiger 57Cn"/>
              </a:rPr>
              <a:t>Renforcement surveillance épidémiologique et entomologique : élément décisif</a:t>
            </a: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Détection précoce cas groupés 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Mise en œuvre rapide des mesures LAV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543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2b61"/>
                </a:solidFill>
                <a:latin typeface="Frutiger 57Cn"/>
              </a:rPr>
              <a:t>  </a:t>
            </a:r>
            <a:r>
              <a:rPr b="0" lang="en-US" sz="3600" spc="-1" strike="noStrike">
                <a:solidFill>
                  <a:srgbClr val="072b61"/>
                </a:solidFill>
                <a:latin typeface="Frutiger 57Cn"/>
              </a:rPr>
              <a:t>Je vous remercie.</a:t>
            </a:r>
            <a:endParaRPr b="0" lang="en-US" sz="3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29" name=""/>
          <p:cNvSpPr/>
          <p:nvPr/>
        </p:nvSpPr>
        <p:spPr>
          <a:xfrm>
            <a:off x="1228680" y="3983040"/>
            <a:ext cx="62294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Vecteurs de la deng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3816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Frutiger 57Cn"/>
              </a:rPr>
              <a:t>Aedes (stegomia) aegypti  ++++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Frutiger 57Cn"/>
              </a:rPr>
              <a:t>Autres:  A albopictus, A scutellaris</a:t>
            </a:r>
            <a:endParaRPr b="0" lang="en-US" sz="1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451640" y="1052640"/>
            <a:ext cx="1389240" cy="1001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16000" y="2805120"/>
            <a:ext cx="7853400" cy="399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95640" y="4005360"/>
            <a:ext cx="182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234936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276640"/>
            <a:ext cx="88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72b61"/>
                </a:solidFill>
                <a:latin typeface="Arial"/>
              </a:rPr>
              <a:t>Distribution d’</a:t>
            </a:r>
            <a:r>
              <a:rPr b="1" i="1" lang="fr-FR" sz="1200" spc="-1" strike="noStrike">
                <a:solidFill>
                  <a:srgbClr val="072b61"/>
                </a:solidFill>
                <a:latin typeface="Arial"/>
              </a:rPr>
              <a:t>Aedes aegypti</a:t>
            </a:r>
            <a:r>
              <a:rPr b="1" lang="fr-FR" sz="1200" spc="-1" strike="noStrike">
                <a:solidFill>
                  <a:srgbClr val="072b61"/>
                </a:solidFill>
                <a:latin typeface="Arial"/>
              </a:rPr>
              <a:t> aux Amériques au début, à la fin du programme d’éradication des moustiques et en 2004 (Source: Petersen et Marfin, </a:t>
            </a:r>
            <a:r>
              <a:rPr b="1" i="1" lang="fr-FR" sz="1200" spc="-1" strike="noStrike">
                <a:solidFill>
                  <a:srgbClr val="072b61"/>
                </a:solidFill>
                <a:latin typeface="Arial"/>
              </a:rPr>
              <a:t>J Travel Med</a:t>
            </a:r>
            <a:r>
              <a:rPr b="1" lang="fr-FR" sz="1200" spc="-1" strike="noStrike">
                <a:solidFill>
                  <a:srgbClr val="072b61"/>
                </a:solidFill>
                <a:latin typeface="Arial"/>
              </a:rPr>
              <a:t> 2005; 12:S3–S11</a:t>
            </a:r>
            <a:endParaRPr b="0" lang="en-US" sz="12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348000" y="3429000"/>
            <a:ext cx="792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b61"/>
                </a:solidFill>
                <a:latin typeface="Arial Black"/>
              </a:rPr>
              <a:t>CNR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3429000"/>
            <a:ext cx="1152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72b61"/>
                </a:solidFill>
                <a:latin typeface="Arial Black"/>
              </a:rPr>
              <a:t>M.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72b61"/>
                </a:solidFill>
                <a:latin typeface="Arial Black"/>
              </a:rPr>
              <a:t>Meyrieux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3429000"/>
            <a:ext cx="11872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72b61"/>
                </a:solidFill>
                <a:latin typeface="Arial Black"/>
              </a:rPr>
              <a:t>Pasteur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72b61"/>
                </a:solidFill>
                <a:latin typeface="Arial Black"/>
              </a:rPr>
              <a:t>Cerba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3429000"/>
            <a:ext cx="11876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b61"/>
                </a:solidFill>
                <a:latin typeface="Arial Black"/>
              </a:rPr>
              <a:t>IMTSSA*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076360" y="2781360"/>
            <a:ext cx="151308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140360" y="2781360"/>
            <a:ext cx="792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76360" y="2781360"/>
            <a:ext cx="360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156360" y="2781360"/>
            <a:ext cx="71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2781360"/>
            <a:ext cx="216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5508720" y="4869000"/>
            <a:ext cx="720720" cy="792000"/>
          </a:xfrm>
          <a:custGeom>
            <a:avLst/>
            <a:gdLst>
              <a:gd name="textAreaLeft" fmla="*/ 0 w 720720"/>
              <a:gd name="textAreaRight" fmla="*/ 721080 w 720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14" stAng="10800000" swAng="5400000"/>
                <a:lnTo>
                  <a:pt x="14891" y="3246"/>
                </a:lnTo>
                <a:lnTo>
                  <a:pt x="14891" y="0"/>
                </a:lnTo>
                <a:lnTo>
                  <a:pt x="21600" y="6079"/>
                </a:lnTo>
                <a:lnTo>
                  <a:pt x="14891" y="12158"/>
                </a:lnTo>
                <a:lnTo>
                  <a:pt x="14891" y="8912"/>
                </a:lnTo>
                <a:lnTo>
                  <a:pt x="12427" y="8912"/>
                </a:lnTo>
                <a:arcTo wR="6761" hR="3248" stAng="16200000" swAng="-5400000"/>
                <a:lnTo>
                  <a:pt x="5666" y="21600"/>
                </a:lnTo>
                <a:close/>
              </a:path>
            </a:pathLst>
          </a:custGeom>
          <a:solidFill>
            <a:srgbClr val="072b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5229360"/>
            <a:ext cx="934920" cy="734040"/>
          </a:xfrm>
          <a:prstGeom prst="rect">
            <a:avLst/>
          </a:prstGeom>
          <a:noFill/>
          <a:ln w="255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828400" y="2172240"/>
            <a:ext cx="344520" cy="4873680"/>
          </a:xfrm>
          <a:custGeom>
            <a:avLst/>
            <a:gdLst>
              <a:gd name="textAreaLeft" fmla="*/ 0 w 344520"/>
              <a:gd name="textAreaRight" fmla="*/ 124200 w 344520"/>
              <a:gd name="textAreaTop" fmla="*/ 127080 h 4873680"/>
              <a:gd name="textAreaBottom" fmla="*/ 4746600 h 487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341"/>
                </a:lnTo>
                <a:cubicBezTo>
                  <a:pt x="10800" y="8241"/>
                  <a:pt x="16200" y="9141"/>
                  <a:pt x="21600" y="9141"/>
                </a:cubicBezTo>
                <a:cubicBezTo>
                  <a:pt x="16200" y="9141"/>
                  <a:pt x="10800" y="10041"/>
                  <a:pt x="10800" y="1094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2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2060640"/>
            <a:ext cx="3816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jet ayant bénéficié d’une sérologie ou PCR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4797360"/>
            <a:ext cx="18349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Arial"/>
              </a:rPr>
              <a:t>hebdomadaire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5950080"/>
            <a:ext cx="40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b61"/>
                </a:solidFill>
                <a:latin typeface="Arial"/>
              </a:rPr>
              <a:t>*Institut de Médecine Tropicale du Service de Santé des Armées à Marseille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637000"/>
            <a:ext cx="23763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cripteur / labo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3429000"/>
            <a:ext cx="0" cy="1728720"/>
          </a:xfrm>
          <a:prstGeom prst="line">
            <a:avLst/>
          </a:prstGeom>
          <a:ln w="38160">
            <a:solidFill>
              <a:srgbClr val="072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5229360"/>
            <a:ext cx="14396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2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b61"/>
                </a:solidFill>
                <a:latin typeface="Arial"/>
              </a:rPr>
              <a:t>DDAS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6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rveillance Métropole</a:t>
            </a:r>
            <a:endParaRPr b="0" lang="en-US" sz="3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5445000"/>
            <a:ext cx="2305080" cy="0"/>
          </a:xfrm>
          <a:prstGeom prst="line">
            <a:avLst/>
          </a:prstGeom>
          <a:ln w="38160">
            <a:solidFill>
              <a:srgbClr val="072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3500280"/>
            <a:ext cx="122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b61"/>
                </a:solidFill>
                <a:latin typeface="Arial"/>
              </a:rPr>
              <a:t>Cas confirmé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2b61"/>
                </a:solidFill>
                <a:latin typeface="Arial"/>
              </a:rPr>
              <a:t>D.O</a:t>
            </a:r>
            <a:r>
              <a:rPr b="0" lang="en-US" sz="1800" spc="-1" strike="noStrike">
                <a:solidFill>
                  <a:srgbClr val="072b6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970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1. D.O.(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juillet 2006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1125360"/>
            <a:ext cx="44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2. Surveillance labo (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février 2006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0" name=""/>
          <p:cNvSpPr/>
          <p:nvPr/>
        </p:nvSpPr>
        <p:spPr>
          <a:xfrm>
            <a:off x="7596360" y="2852640"/>
            <a:ext cx="576000" cy="289080"/>
          </a:xfrm>
          <a:prstGeom prst="line">
            <a:avLst/>
          </a:prstGeom>
          <a:ln w="38160">
            <a:solidFill>
              <a:srgbClr val="072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1" name=""/>
          <p:cNvSpPr/>
          <p:nvPr/>
        </p:nvSpPr>
        <p:spPr>
          <a:xfrm>
            <a:off x="7812000" y="3213000"/>
            <a:ext cx="133200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+ 3 LABM**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en 2008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6021360"/>
            <a:ext cx="338472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 Black"/>
              </a:rPr>
              <a:t>** La Timone, Avicenne, Bordeaux</a:t>
            </a:r>
            <a:endParaRPr b="0" lang="en-US" sz="1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2b61"/>
                </a:solidFill>
                <a:latin typeface="Frutiger 57C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Frutiger 57Cn"/>
              </a:rPr>
              <a:t>Evolution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331164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  <a:ea typeface="Arial"/>
              </a:rPr>
              <a:t>Augmentation du nombre d’épidémies dans les zones endémiques.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</a:rPr>
              <a:t>Epidémies urbaines ++  et périurbaines en Asie du Sud-Est, Pacifique, Moyen Orient.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0703" t="-335" r="0" b="0"/>
          <a:stretch/>
        </p:blipFill>
        <p:spPr>
          <a:xfrm>
            <a:off x="3924360" y="1484280"/>
            <a:ext cx="5219640" cy="3657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829040" y="5516640"/>
            <a:ext cx="435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72b61"/>
                </a:solidFill>
                <a:latin typeface="Frutiger 57Cn"/>
              </a:rPr>
              <a:t>http://www.who.int/csr/disease/dengue/impact/en/index.html</a:t>
            </a:r>
            <a:endParaRPr b="0" lang="en-US" sz="12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72b61"/>
                </a:solidFill>
                <a:latin typeface="Frutiger 57Cn"/>
                <a:ea typeface="ＭＳ Ｐゴシック"/>
              </a:rPr>
              <a:t>Répartition du risque de transmission de dengue et pays ayant rapporté des cas à l’OMS</a:t>
            </a:r>
            <a:r>
              <a:rPr b="0" lang="fr-FR" sz="4000" spc="-1" strike="noStrike">
                <a:solidFill>
                  <a:srgbClr val="072b61"/>
                </a:solidFill>
                <a:latin typeface="Frutiger 57Cn"/>
                <a:ea typeface="ＭＳ Ｐゴシック"/>
              </a:rPr>
              <a:t> 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Virus de la Deng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6048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Incubation  : 4-7 jours (2- 15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Début brutal : fièvre, céphalées, douleurs rétro-orbitaires, myalgies, éruption cutanée, asthénie.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Formes pauci – asymptomatiques : 15 – 75%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Evolution le plus souvent favorable  (létalité : 0,5 ‰).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Formes graves et sévères : 1 – 5 %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Formes hémorragiques ou avec syndrome de choc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Autres formes graves : neurologiques ( convulsion, encéphalopathies ..), hépatiques, cardiaques, musculaires (rhabdomyolyse</a:t>
            </a:r>
            <a:r>
              <a:rPr b="0" lang="fr-FR" sz="1400" spc="-1" strike="noStrike">
                <a:solidFill>
                  <a:srgbClr val="000000"/>
                </a:solidFill>
                <a:latin typeface="Frutiger 57Cn"/>
              </a:rPr>
              <a:t>).</a:t>
            </a:r>
            <a:endParaRPr b="0" lang="en-US" sz="1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Létalité 1 - 5% (voire 20%) :  surtout &lt; 1 an et personnes âgées. 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Absence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traitement spécifique antiviral,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immunothérapie,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Vaccin ( horizon 2012 ???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31000" y="1809720"/>
            <a:ext cx="2133720" cy="22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50040" y="662940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72b61"/>
                </a:solidFill>
                <a:latin typeface="Arial"/>
              </a:rPr>
              <a:t>http://dengueinfo.org</a:t>
            </a:r>
            <a:endParaRPr b="0" lang="en-US" sz="9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4" name=""/>
          <p:cNvSpPr/>
          <p:nvPr/>
        </p:nvSpPr>
        <p:spPr>
          <a:xfrm>
            <a:off x="6832440" y="6197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653000"/>
            <a:ext cx="67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66764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Une maladie en extension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7160" y="1052640"/>
            <a:ext cx="389412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Arbovirose la plus répandue dans le Mond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Extension rapide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2,5 Milliards de la pop. mondiale exposée (40% de pop. mondiale)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Endémique dans plus de 100 pays en Afrique, Amérique (dont Caraïbe), Moyen Orient, Asie du Sud Est et Pacifique occidental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haque année: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</a:rPr>
              <a:t>50-100 millions de ca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</a:rPr>
              <a:t>500 000 hospitalisation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</a:rPr>
              <a:t>20 à 25 000 décès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507672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34000" y="5589720"/>
            <a:ext cx="57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72b61"/>
                </a:solidFill>
                <a:latin typeface="Frutiger 57Cn"/>
              </a:rPr>
              <a:t>http://www.who.int/csr/disease/dengue/impact/en/index.html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2b61"/>
                </a:solidFill>
                <a:latin typeface="Frutiger 57C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Frutiger 57Cn"/>
              </a:rPr>
              <a:t>Evolution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367200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Augmentation de la Dengue hémorragique dans les 30 dernières années.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15360" indent="-3153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Co-circulation de plusieurs souches: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4 sérotypes : Asie du Sud Est, Caraïbes, Amérique du Sud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DENV-2 DENV-3 : moyen Orient (Somalie, Arabie Saoudite, Yémen, Soudan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Afrique Ouest :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01880" indent="-153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DENV-1 et DENV-2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2" marL="1001880" indent="-153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Mise en évidence récente DENV-3 (Côte d’Ivoire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55166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72b61"/>
                </a:solidFill>
                <a:latin typeface="Frutiger 57Cn"/>
              </a:rPr>
              <a:t>Torres JR, Cad. Saude Publica, Rio de Janeiro 2007</a:t>
            </a:r>
            <a:endParaRPr b="0" lang="en-US" sz="12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52920" y="1754280"/>
            <a:ext cx="5472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7407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Pourquoi cette extension ?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19408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 57Cn"/>
              </a:rPr>
              <a:t>Plusieurs facteurs: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Accroissement population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Augmentation de la circulation des biens et des personnes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Urbanisation rapide non structurée, sans assainissement correct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Augmentation contact homme-vecteur (prolifération péri-domestique du vecteur)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Défis pour les programmes de lutte antivectorielle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Détérioration de certains systèmes de santé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3348000" cy="2192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69240" cy="8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66"/>
                </a:solidFill>
                <a:latin typeface="Frutiger 57Cn"/>
              </a:rPr>
              <a:t>Dengue et </a:t>
            </a:r>
            <a:r>
              <a:rPr b="1" i="1" lang="fr-FR" sz="4400" spc="-1" strike="noStrike">
                <a:solidFill>
                  <a:srgbClr val="000066"/>
                </a:solidFill>
                <a:latin typeface="Frutiger 57Cn"/>
              </a:rPr>
              <a:t>A. aegypti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72b61"/>
                </a:solidFill>
                <a:latin typeface="Frutiger 57Cn"/>
              </a:rPr>
              <a:t>Distribution dans le Monde de la dengue/dengue hémorragique et de son principal vecteur, </a:t>
            </a:r>
            <a:r>
              <a:rPr b="0" i="1" lang="fr-FR" sz="1600" spc="-1" strike="noStrike">
                <a:solidFill>
                  <a:srgbClr val="072b61"/>
                </a:solidFill>
                <a:latin typeface="Frutiger 57Cn"/>
              </a:rPr>
              <a:t>Aedes aegypti</a:t>
            </a:r>
            <a:r>
              <a:rPr b="0" lang="fr-FR" sz="1600" spc="-1" strike="noStrike">
                <a:solidFill>
                  <a:srgbClr val="072b61"/>
                </a:solidFill>
                <a:latin typeface="Frutiger 57Cn"/>
              </a:rPr>
              <a:t>, 2005 (d’après Gubler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353440" cy="43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35280" y="6237360"/>
            <a:ext cx="4533840" cy="438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608880"/>
            <a:ext cx="42242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72b61"/>
                </a:solidFill>
                <a:latin typeface="Frutiger 57Cn"/>
                <a:ea typeface="宋体"/>
              </a:rPr>
              <a:t>Tropical Infectious Diseases – Second Edition, Elsevier, 2006 </a:t>
            </a:r>
            <a:endParaRPr b="0" lang="en-US" sz="9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66764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66"/>
                </a:solidFill>
                <a:latin typeface="Frutiger 57Cn"/>
              </a:rPr>
              <a:t>A albopictus</a:t>
            </a:r>
            <a:r>
              <a:rPr b="1" lang="fr-FR" sz="4000" spc="-1" strike="noStrike">
                <a:solidFill>
                  <a:srgbClr val="000066"/>
                </a:solidFill>
                <a:latin typeface="Frutiger 57Cn"/>
              </a:rPr>
              <a:t> dans le monde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16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La dengue dans les DOM-COM-POM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5:28:40Z</dcterms:created>
  <dc:creator>v w</dc:creator>
  <dc:description/>
  <dc:language>en-US</dc:language>
  <cp:lastModifiedBy>modele</cp:lastModifiedBy>
  <cp:lastPrinted>2006-10-25T13:05:20Z</cp:lastPrinted>
  <dcterms:modified xsi:type="dcterms:W3CDTF">2008-11-25T10:24:37Z</dcterms:modified>
  <cp:revision>71</cp:revision>
  <dc:subject/>
  <dc:title>Présentation PowerPoint</dc:title>
</cp:coreProperties>
</file>