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2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4008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97600"/>
            <a:ext cx="82292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36560"/>
            <a:ext cx="82292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9760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9760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3656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43656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97600"/>
            <a:ext cx="26496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97600"/>
            <a:ext cx="26496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97600"/>
            <a:ext cx="26496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36560"/>
            <a:ext cx="26496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436560"/>
            <a:ext cx="26496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436560"/>
            <a:ext cx="26496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140A-7E7A-4F75-BD89-A21715D6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97600"/>
            <a:ext cx="82292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95B4-F643-4AF4-B6C0-1A577D18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97600"/>
            <a:ext cx="82292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F456-7992-4855-9B53-CA70DCBA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97600"/>
            <a:ext cx="401580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97600"/>
            <a:ext cx="401580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ECF2-F540-4EB2-8D21-D9846F0A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DFE5-CC49-4C66-8905-0F76CDDF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55240"/>
            <a:ext cx="822924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5C78-D704-4334-AD1F-436861BE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760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7600"/>
            <a:ext cx="401580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43656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867F-930D-4812-8469-C9B28758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97600"/>
            <a:ext cx="82292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7600"/>
            <a:ext cx="401580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760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43656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C72B-07D1-446F-8C94-28B5CF3B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760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9760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436560"/>
            <a:ext cx="82292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69B2-3AA5-4F0C-9E12-2B75DD0A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97600"/>
            <a:ext cx="82292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436560"/>
            <a:ext cx="82292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BBE2-D56A-494C-8072-F2AAD670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9760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9760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43656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43656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B48C-96C8-4B83-8F3D-F4DBAE61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97600"/>
            <a:ext cx="26496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97600"/>
            <a:ext cx="26496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97600"/>
            <a:ext cx="26496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436560"/>
            <a:ext cx="26496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436560"/>
            <a:ext cx="26496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436560"/>
            <a:ext cx="26496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E85F-33DA-4BAA-8823-9A3B6B81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97600"/>
            <a:ext cx="82292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97600"/>
            <a:ext cx="401580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97600"/>
            <a:ext cx="401580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55240"/>
            <a:ext cx="822924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9760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97600"/>
            <a:ext cx="401580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3656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97600"/>
            <a:ext cx="401580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9760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43656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9760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9760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36560"/>
            <a:ext cx="82292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399160" y="11160"/>
            <a:ext cx="17543160" cy="12778920"/>
            <a:chOff x="-8399160" y="11160"/>
            <a:chExt cx="17543160" cy="12778920"/>
          </a:xfrm>
        </p:grpSpPr>
        <p:sp>
          <p:nvSpPr>
            <p:cNvPr id="1" name=""/>
            <p:cNvSpPr/>
            <p:nvPr/>
          </p:nvSpPr>
          <p:spPr>
            <a:xfrm>
              <a:off x="5399280" y="1490040"/>
              <a:ext cx="3744720" cy="491076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399160" y="11160"/>
              <a:ext cx="16820640" cy="1277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Base" hidden="1"/>
          <p:cNvSpPr/>
          <p:nvPr/>
        </p:nvSpPr>
        <p:spPr>
          <a:xfrm>
            <a:off x="1523880" y="11685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42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97600"/>
            <a:ext cx="82292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6120"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9520" indent="-222120">
              <a:spcBef>
                <a:spcPts val="575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4120" indent="-222120"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4" marL="1998720" indent="-222480">
              <a:spcBef>
                <a:spcPts val="476"/>
              </a:spcBef>
              <a:buClr>
                <a:srgbClr val="00ffff"/>
              </a:buClr>
              <a:buFont typeface="Times New Roman"/>
              <a:buChar char="•"/>
              <a:tabLst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5" marL="1998720" indent="-222480"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6" marL="1998720" indent="-222480"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-7761240" y="1363320"/>
            <a:ext cx="16905240" cy="10074600"/>
            <a:chOff x="-7761240" y="1363320"/>
            <a:chExt cx="16905240" cy="10074600"/>
          </a:xfrm>
        </p:grpSpPr>
        <p:sp>
          <p:nvSpPr>
            <p:cNvPr id="43" name=""/>
            <p:cNvSpPr/>
            <p:nvPr/>
          </p:nvSpPr>
          <p:spPr>
            <a:xfrm>
              <a:off x="3271680" y="2528640"/>
              <a:ext cx="5872320" cy="387180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-7761240" y="1363320"/>
              <a:ext cx="13452120" cy="1007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3840" y="7110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42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685800" y="5830560"/>
            <a:ext cx="1905120" cy="4287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lstStyle>
            <a:lvl1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3124080" y="5830560"/>
            <a:ext cx="2895840" cy="4287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lstStyle>
            <a:lvl1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6553080" y="5830560"/>
            <a:ext cx="1905120" cy="4287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lstStyle>
            <a:lvl1pPr indent="0" algn="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fld id="{A0224B36-58EA-49C6-86F1-9E2C1EC224D3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924680" y="5791320"/>
            <a:ext cx="1143000" cy="54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8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733920"/>
            <a:ext cx="3505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Sensitivité analytique:  Limite de détection d’Ag VIH-1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0" y="990720"/>
          <a:ext cx="914400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7391520" y="3657600"/>
            <a:ext cx="838080" cy="12193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51640" y="2479680"/>
            <a:ext cx="649440" cy="936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72360" y="356076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6080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33"/>
                </a:solidFill>
                <a:latin typeface="Times New Roman"/>
              </a:rPr>
              <a:t>(panel d’Ag VIH SFTS : LAI sous-type 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16720" y="3129120"/>
            <a:ext cx="287280" cy="576000"/>
          </a:xfrm>
          <a:custGeom>
            <a:avLst/>
            <a:gdLst>
              <a:gd name="textAreaLeft" fmla="*/ 38520 w 287280"/>
              <a:gd name="textAreaRight" fmla="*/ 248760 w 28728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03280" y="2048040"/>
            <a:ext cx="289080" cy="3313080"/>
          </a:xfrm>
          <a:custGeom>
            <a:avLst/>
            <a:gdLst>
              <a:gd name="textAreaLeft" fmla="*/ 38520 w 289080"/>
              <a:gd name="textAreaRight" fmla="*/ 250560 w 289080"/>
              <a:gd name="textAreaTop" fmla="*/ 579600 h 3313080"/>
              <a:gd name="textAreaBottom" fmla="*/ 240192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nel BBI PRA 8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g</a:t>
            </a:r>
            <a:r>
              <a:rPr b="1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VIH/ml</a:t>
            </a:r>
            <a:r>
              <a:rPr b="1" lang="fr-FR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anel de référence française SFTS ou Afssap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g </a:t>
            </a:r>
            <a:r>
              <a:rPr b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p24/ml</a:t>
            </a:r>
            <a:r>
              <a:rPr b="1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uPon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U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ml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.H.O: Worth Health Organiz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286000" y="5410080"/>
            <a:ext cx="6019920" cy="825480"/>
            <a:chOff x="2286000" y="5410080"/>
            <a:chExt cx="6019920" cy="825480"/>
          </a:xfrm>
        </p:grpSpPr>
        <p:sp>
          <p:nvSpPr>
            <p:cNvPr id="197" name=""/>
            <p:cNvSpPr/>
            <p:nvPr/>
          </p:nvSpPr>
          <p:spPr>
            <a:xfrm>
              <a:off x="3276720" y="5410080"/>
              <a:ext cx="4267080" cy="304920"/>
            </a:xfrm>
            <a:custGeom>
              <a:avLst/>
              <a:gdLst>
                <a:gd name="textAreaLeft" fmla="*/ 746640 w 4267080"/>
                <a:gd name="textAreaRight" fmla="*/ 3093840 w 426708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86000" y="5715000"/>
              <a:ext cx="601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Times New Roman"/>
                </a:rPr>
                <a:t>x 3,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99" name=""/>
          <p:cNvGraphicFramePr/>
          <p:nvPr/>
        </p:nvGraphicFramePr>
        <p:xfrm>
          <a:off x="0" y="2362320"/>
          <a:ext cx="9144000" cy="227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62320"/>
                    <a:ext cx="9144000" cy="22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304920" y="838080"/>
            <a:ext cx="228600" cy="838440"/>
          </a:xfrm>
          <a:custGeom>
            <a:avLst/>
            <a:gdLst>
              <a:gd name="textAreaLeft" fmla="*/ 30600 w 228600"/>
              <a:gd name="textAreaRight" fmla="*/ 198000 w 2286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3726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Times New Roman"/>
              </a:rPr>
              <a:t>Sensitivité clinique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23 VIH-1 Seroconversion Pan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9640" y="1832040"/>
            <a:ext cx="8001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3360" indent="-333360">
              <a:spcBef>
                <a:spcPts val="774"/>
              </a:spcBef>
              <a:buClr>
                <a:srgbClr val="ff6600"/>
              </a:buClr>
              <a:buSzPct val="75000"/>
              <a:buFont typeface="Monotype Sorts" charset="2"/>
              <a:buChar char="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31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ff00"/>
                </a:solidFill>
                <a:latin typeface="Times New Roman"/>
              </a:rPr>
              <a:t>9 panels BBI :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6120">
              <a:spcBef>
                <a:spcPts val="675"/>
              </a:spcBef>
              <a:buClr>
                <a:srgbClr val="ffff00"/>
              </a:buClr>
              <a:buFont typeface="Times New Roman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en-US" sz="2700" spc="-1" strike="noStrike">
                <a:solidFill>
                  <a:srgbClr val="ffff00"/>
                </a:solidFill>
                <a:latin typeface="Times New Roman"/>
              </a:rPr>
              <a:t>923, 932, 941, 944, 952, 953, 954, 957, 958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3129120"/>
            <a:ext cx="876312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11 panels de NABI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SV-0251, 261, 281, 321, 331, 371, 401, 404, 4888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37748, 122399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4856040"/>
            <a:ext cx="76964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3 panels de BCP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9013, 9016, 624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3733920"/>
            <a:ext cx="3505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142560" y="836640"/>
            <a:ext cx="0" cy="4746600"/>
          </a:xfrm>
          <a:prstGeom prst="line">
            <a:avLst/>
          </a:prstGeom>
          <a:ln w="101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1981080"/>
            <a:ext cx="3632040" cy="3565800"/>
          </a:xfrm>
          <a:custGeom>
            <a:avLst/>
            <a:gdLst/>
            <a:ahLst/>
            <a:rect l="l" t="t" r="r" b="b"/>
            <a:pathLst>
              <a:path w="2288" h="2246">
                <a:moveTo>
                  <a:pt x="0" y="2246"/>
                </a:moveTo>
                <a:lnTo>
                  <a:pt x="41" y="2237"/>
                </a:lnTo>
                <a:lnTo>
                  <a:pt x="81" y="2229"/>
                </a:lnTo>
                <a:lnTo>
                  <a:pt x="171" y="2203"/>
                </a:lnTo>
                <a:lnTo>
                  <a:pt x="227" y="2168"/>
                </a:lnTo>
                <a:lnTo>
                  <a:pt x="276" y="2125"/>
                </a:lnTo>
                <a:lnTo>
                  <a:pt x="308" y="2080"/>
                </a:lnTo>
                <a:lnTo>
                  <a:pt x="341" y="2028"/>
                </a:lnTo>
                <a:lnTo>
                  <a:pt x="364" y="1985"/>
                </a:lnTo>
                <a:lnTo>
                  <a:pt x="389" y="1942"/>
                </a:lnTo>
                <a:lnTo>
                  <a:pt x="405" y="1873"/>
                </a:lnTo>
                <a:lnTo>
                  <a:pt x="421" y="1811"/>
                </a:lnTo>
                <a:lnTo>
                  <a:pt x="446" y="1716"/>
                </a:lnTo>
                <a:lnTo>
                  <a:pt x="454" y="1664"/>
                </a:lnTo>
                <a:lnTo>
                  <a:pt x="454" y="1611"/>
                </a:lnTo>
                <a:lnTo>
                  <a:pt x="462" y="1541"/>
                </a:lnTo>
                <a:lnTo>
                  <a:pt x="462" y="1481"/>
                </a:lnTo>
                <a:lnTo>
                  <a:pt x="470" y="1412"/>
                </a:lnTo>
                <a:lnTo>
                  <a:pt x="479" y="1341"/>
                </a:lnTo>
                <a:lnTo>
                  <a:pt x="479" y="1272"/>
                </a:lnTo>
                <a:lnTo>
                  <a:pt x="487" y="1211"/>
                </a:lnTo>
                <a:lnTo>
                  <a:pt x="487" y="1168"/>
                </a:lnTo>
                <a:lnTo>
                  <a:pt x="494" y="1132"/>
                </a:lnTo>
                <a:lnTo>
                  <a:pt x="502" y="1063"/>
                </a:lnTo>
                <a:lnTo>
                  <a:pt x="502" y="1011"/>
                </a:lnTo>
                <a:lnTo>
                  <a:pt x="510" y="959"/>
                </a:lnTo>
                <a:lnTo>
                  <a:pt x="510" y="863"/>
                </a:lnTo>
                <a:lnTo>
                  <a:pt x="510" y="811"/>
                </a:lnTo>
                <a:lnTo>
                  <a:pt x="518" y="759"/>
                </a:lnTo>
                <a:lnTo>
                  <a:pt x="518" y="654"/>
                </a:lnTo>
                <a:lnTo>
                  <a:pt x="526" y="559"/>
                </a:lnTo>
                <a:lnTo>
                  <a:pt x="526" y="515"/>
                </a:lnTo>
                <a:lnTo>
                  <a:pt x="526" y="481"/>
                </a:lnTo>
                <a:lnTo>
                  <a:pt x="535" y="437"/>
                </a:lnTo>
                <a:lnTo>
                  <a:pt x="551" y="237"/>
                </a:lnTo>
                <a:lnTo>
                  <a:pt x="561" y="118"/>
                </a:lnTo>
                <a:lnTo>
                  <a:pt x="542" y="155"/>
                </a:lnTo>
                <a:lnTo>
                  <a:pt x="624" y="0"/>
                </a:lnTo>
                <a:lnTo>
                  <a:pt x="733" y="28"/>
                </a:lnTo>
                <a:lnTo>
                  <a:pt x="788" y="146"/>
                </a:lnTo>
                <a:lnTo>
                  <a:pt x="806" y="255"/>
                </a:lnTo>
                <a:lnTo>
                  <a:pt x="851" y="373"/>
                </a:lnTo>
                <a:lnTo>
                  <a:pt x="870" y="437"/>
                </a:lnTo>
                <a:lnTo>
                  <a:pt x="879" y="519"/>
                </a:lnTo>
                <a:lnTo>
                  <a:pt x="915" y="646"/>
                </a:lnTo>
                <a:lnTo>
                  <a:pt x="942" y="737"/>
                </a:lnTo>
                <a:lnTo>
                  <a:pt x="942" y="800"/>
                </a:lnTo>
                <a:lnTo>
                  <a:pt x="970" y="873"/>
                </a:lnTo>
                <a:lnTo>
                  <a:pt x="1006" y="982"/>
                </a:lnTo>
                <a:lnTo>
                  <a:pt x="1042" y="1064"/>
                </a:lnTo>
                <a:lnTo>
                  <a:pt x="1088" y="1182"/>
                </a:lnTo>
                <a:lnTo>
                  <a:pt x="1097" y="1246"/>
                </a:lnTo>
                <a:lnTo>
                  <a:pt x="1142" y="1309"/>
                </a:lnTo>
                <a:lnTo>
                  <a:pt x="1179" y="1428"/>
                </a:lnTo>
                <a:lnTo>
                  <a:pt x="1206" y="1500"/>
                </a:lnTo>
                <a:lnTo>
                  <a:pt x="1206" y="1537"/>
                </a:lnTo>
                <a:lnTo>
                  <a:pt x="1251" y="1573"/>
                </a:lnTo>
                <a:lnTo>
                  <a:pt x="1260" y="1637"/>
                </a:lnTo>
                <a:lnTo>
                  <a:pt x="1297" y="1700"/>
                </a:lnTo>
                <a:lnTo>
                  <a:pt x="1324" y="1746"/>
                </a:lnTo>
                <a:lnTo>
                  <a:pt x="1360" y="1809"/>
                </a:lnTo>
                <a:lnTo>
                  <a:pt x="1451" y="1919"/>
                </a:lnTo>
                <a:lnTo>
                  <a:pt x="1388" y="1846"/>
                </a:lnTo>
                <a:lnTo>
                  <a:pt x="1397" y="1873"/>
                </a:lnTo>
                <a:lnTo>
                  <a:pt x="1433" y="1937"/>
                </a:lnTo>
                <a:lnTo>
                  <a:pt x="1406" y="1928"/>
                </a:lnTo>
                <a:lnTo>
                  <a:pt x="1442" y="1955"/>
                </a:lnTo>
                <a:lnTo>
                  <a:pt x="1515" y="1982"/>
                </a:lnTo>
                <a:lnTo>
                  <a:pt x="1579" y="2009"/>
                </a:lnTo>
                <a:lnTo>
                  <a:pt x="1706" y="2091"/>
                </a:lnTo>
                <a:lnTo>
                  <a:pt x="1651" y="2055"/>
                </a:lnTo>
                <a:lnTo>
                  <a:pt x="1788" y="2128"/>
                </a:lnTo>
                <a:lnTo>
                  <a:pt x="1851" y="2164"/>
                </a:lnTo>
                <a:lnTo>
                  <a:pt x="2006" y="2191"/>
                </a:lnTo>
                <a:lnTo>
                  <a:pt x="2088" y="2219"/>
                </a:lnTo>
                <a:lnTo>
                  <a:pt x="2288" y="2246"/>
                </a:lnTo>
                <a:lnTo>
                  <a:pt x="0" y="2246"/>
                </a:lnTo>
                <a:close/>
              </a:path>
            </a:pathLst>
          </a:custGeom>
          <a:solidFill>
            <a:srgbClr val="ffcc99"/>
          </a:solidFill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3632040"/>
            <a:ext cx="8380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g  p24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16360" y="2768760"/>
            <a:ext cx="3103560" cy="2776320"/>
          </a:xfrm>
          <a:custGeom>
            <a:avLst/>
            <a:gdLst/>
            <a:ahLst/>
            <a:rect l="l" t="t" r="r" b="b"/>
            <a:pathLst>
              <a:path w="1974" h="1069">
                <a:moveTo>
                  <a:pt x="0" y="1069"/>
                </a:moveTo>
                <a:lnTo>
                  <a:pt x="41" y="1069"/>
                </a:lnTo>
                <a:lnTo>
                  <a:pt x="81" y="1062"/>
                </a:lnTo>
                <a:lnTo>
                  <a:pt x="171" y="1048"/>
                </a:lnTo>
                <a:lnTo>
                  <a:pt x="220" y="1034"/>
                </a:lnTo>
                <a:lnTo>
                  <a:pt x="277" y="1013"/>
                </a:lnTo>
                <a:lnTo>
                  <a:pt x="310" y="985"/>
                </a:lnTo>
                <a:lnTo>
                  <a:pt x="342" y="956"/>
                </a:lnTo>
                <a:lnTo>
                  <a:pt x="383" y="900"/>
                </a:lnTo>
                <a:lnTo>
                  <a:pt x="424" y="844"/>
                </a:lnTo>
                <a:lnTo>
                  <a:pt x="440" y="795"/>
                </a:lnTo>
                <a:lnTo>
                  <a:pt x="457" y="738"/>
                </a:lnTo>
                <a:lnTo>
                  <a:pt x="473" y="668"/>
                </a:lnTo>
                <a:lnTo>
                  <a:pt x="481" y="598"/>
                </a:lnTo>
                <a:lnTo>
                  <a:pt x="489" y="520"/>
                </a:lnTo>
                <a:lnTo>
                  <a:pt x="506" y="450"/>
                </a:lnTo>
                <a:lnTo>
                  <a:pt x="506" y="394"/>
                </a:lnTo>
                <a:lnTo>
                  <a:pt x="514" y="344"/>
                </a:lnTo>
                <a:lnTo>
                  <a:pt x="514" y="288"/>
                </a:lnTo>
                <a:lnTo>
                  <a:pt x="530" y="239"/>
                </a:lnTo>
                <a:lnTo>
                  <a:pt x="538" y="168"/>
                </a:lnTo>
                <a:lnTo>
                  <a:pt x="571" y="105"/>
                </a:lnTo>
                <a:lnTo>
                  <a:pt x="587" y="35"/>
                </a:lnTo>
                <a:lnTo>
                  <a:pt x="603" y="7"/>
                </a:lnTo>
                <a:lnTo>
                  <a:pt x="636" y="0"/>
                </a:lnTo>
                <a:lnTo>
                  <a:pt x="661" y="7"/>
                </a:lnTo>
                <a:lnTo>
                  <a:pt x="677" y="28"/>
                </a:lnTo>
                <a:lnTo>
                  <a:pt x="685" y="56"/>
                </a:lnTo>
                <a:lnTo>
                  <a:pt x="701" y="91"/>
                </a:lnTo>
                <a:lnTo>
                  <a:pt x="709" y="126"/>
                </a:lnTo>
                <a:lnTo>
                  <a:pt x="726" y="161"/>
                </a:lnTo>
                <a:lnTo>
                  <a:pt x="734" y="204"/>
                </a:lnTo>
                <a:lnTo>
                  <a:pt x="758" y="253"/>
                </a:lnTo>
                <a:lnTo>
                  <a:pt x="775" y="295"/>
                </a:lnTo>
                <a:lnTo>
                  <a:pt x="791" y="344"/>
                </a:lnTo>
                <a:lnTo>
                  <a:pt x="816" y="422"/>
                </a:lnTo>
                <a:lnTo>
                  <a:pt x="824" y="457"/>
                </a:lnTo>
                <a:lnTo>
                  <a:pt x="840" y="506"/>
                </a:lnTo>
                <a:lnTo>
                  <a:pt x="881" y="584"/>
                </a:lnTo>
                <a:lnTo>
                  <a:pt x="922" y="661"/>
                </a:lnTo>
                <a:lnTo>
                  <a:pt x="962" y="724"/>
                </a:lnTo>
                <a:lnTo>
                  <a:pt x="1011" y="781"/>
                </a:lnTo>
                <a:lnTo>
                  <a:pt x="1044" y="809"/>
                </a:lnTo>
                <a:lnTo>
                  <a:pt x="1077" y="844"/>
                </a:lnTo>
                <a:lnTo>
                  <a:pt x="1126" y="872"/>
                </a:lnTo>
                <a:lnTo>
                  <a:pt x="1174" y="900"/>
                </a:lnTo>
                <a:lnTo>
                  <a:pt x="1223" y="914"/>
                </a:lnTo>
                <a:lnTo>
                  <a:pt x="1272" y="935"/>
                </a:lnTo>
                <a:lnTo>
                  <a:pt x="1338" y="956"/>
                </a:lnTo>
                <a:lnTo>
                  <a:pt x="1403" y="971"/>
                </a:lnTo>
                <a:lnTo>
                  <a:pt x="1476" y="985"/>
                </a:lnTo>
                <a:lnTo>
                  <a:pt x="1509" y="992"/>
                </a:lnTo>
                <a:lnTo>
                  <a:pt x="1550" y="999"/>
                </a:lnTo>
                <a:lnTo>
                  <a:pt x="1631" y="1013"/>
                </a:lnTo>
                <a:lnTo>
                  <a:pt x="1721" y="1034"/>
                </a:lnTo>
                <a:lnTo>
                  <a:pt x="1843" y="1048"/>
                </a:lnTo>
                <a:lnTo>
                  <a:pt x="1974" y="1069"/>
                </a:lnTo>
                <a:lnTo>
                  <a:pt x="0" y="106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80000" y="4568760"/>
            <a:ext cx="52704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Ig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62520" y="914400"/>
            <a:ext cx="5181480" cy="4724280"/>
          </a:xfrm>
          <a:custGeom>
            <a:avLst/>
            <a:gdLst/>
            <a:ahLst/>
            <a:rect l="l" t="t" r="r" b="b"/>
            <a:pathLst>
              <a:path w="2630" h="2732">
                <a:moveTo>
                  <a:pt x="0" y="2732"/>
                </a:moveTo>
                <a:lnTo>
                  <a:pt x="179" y="2641"/>
                </a:lnTo>
                <a:lnTo>
                  <a:pt x="301" y="2577"/>
                </a:lnTo>
                <a:lnTo>
                  <a:pt x="383" y="2521"/>
                </a:lnTo>
                <a:lnTo>
                  <a:pt x="440" y="2486"/>
                </a:lnTo>
                <a:lnTo>
                  <a:pt x="481" y="2437"/>
                </a:lnTo>
                <a:lnTo>
                  <a:pt x="505" y="2415"/>
                </a:lnTo>
                <a:lnTo>
                  <a:pt x="522" y="2401"/>
                </a:lnTo>
                <a:lnTo>
                  <a:pt x="538" y="2387"/>
                </a:lnTo>
                <a:lnTo>
                  <a:pt x="546" y="2373"/>
                </a:lnTo>
                <a:lnTo>
                  <a:pt x="554" y="2366"/>
                </a:lnTo>
                <a:lnTo>
                  <a:pt x="562" y="2352"/>
                </a:lnTo>
                <a:lnTo>
                  <a:pt x="579" y="2331"/>
                </a:lnTo>
                <a:lnTo>
                  <a:pt x="611" y="2289"/>
                </a:lnTo>
                <a:lnTo>
                  <a:pt x="677" y="2162"/>
                </a:lnTo>
                <a:lnTo>
                  <a:pt x="709" y="2106"/>
                </a:lnTo>
                <a:lnTo>
                  <a:pt x="750" y="2050"/>
                </a:lnTo>
                <a:lnTo>
                  <a:pt x="807" y="1958"/>
                </a:lnTo>
                <a:lnTo>
                  <a:pt x="864" y="1874"/>
                </a:lnTo>
                <a:lnTo>
                  <a:pt x="995" y="1705"/>
                </a:lnTo>
                <a:lnTo>
                  <a:pt x="1044" y="1627"/>
                </a:lnTo>
                <a:lnTo>
                  <a:pt x="1085" y="1564"/>
                </a:lnTo>
                <a:lnTo>
                  <a:pt x="1174" y="1430"/>
                </a:lnTo>
                <a:lnTo>
                  <a:pt x="1207" y="1374"/>
                </a:lnTo>
                <a:lnTo>
                  <a:pt x="1248" y="1325"/>
                </a:lnTo>
                <a:lnTo>
                  <a:pt x="1313" y="1240"/>
                </a:lnTo>
                <a:lnTo>
                  <a:pt x="1386" y="1163"/>
                </a:lnTo>
                <a:lnTo>
                  <a:pt x="1461" y="1075"/>
                </a:lnTo>
                <a:lnTo>
                  <a:pt x="1509" y="1015"/>
                </a:lnTo>
                <a:lnTo>
                  <a:pt x="1550" y="966"/>
                </a:lnTo>
                <a:lnTo>
                  <a:pt x="1623" y="881"/>
                </a:lnTo>
                <a:lnTo>
                  <a:pt x="1697" y="803"/>
                </a:lnTo>
                <a:lnTo>
                  <a:pt x="1794" y="720"/>
                </a:lnTo>
                <a:lnTo>
                  <a:pt x="1908" y="607"/>
                </a:lnTo>
                <a:lnTo>
                  <a:pt x="2006" y="509"/>
                </a:lnTo>
                <a:lnTo>
                  <a:pt x="2104" y="417"/>
                </a:lnTo>
                <a:lnTo>
                  <a:pt x="2161" y="368"/>
                </a:lnTo>
                <a:lnTo>
                  <a:pt x="2227" y="319"/>
                </a:lnTo>
                <a:lnTo>
                  <a:pt x="2406" y="157"/>
                </a:lnTo>
                <a:lnTo>
                  <a:pt x="2496" y="86"/>
                </a:lnTo>
                <a:lnTo>
                  <a:pt x="2545" y="51"/>
                </a:lnTo>
                <a:lnTo>
                  <a:pt x="2593" y="19"/>
                </a:lnTo>
                <a:lnTo>
                  <a:pt x="2618" y="2"/>
                </a:lnTo>
                <a:lnTo>
                  <a:pt x="2625" y="0"/>
                </a:lnTo>
                <a:lnTo>
                  <a:pt x="2630" y="19"/>
                </a:lnTo>
                <a:lnTo>
                  <a:pt x="2628" y="62"/>
                </a:lnTo>
                <a:lnTo>
                  <a:pt x="2628" y="126"/>
                </a:lnTo>
                <a:lnTo>
                  <a:pt x="2628" y="198"/>
                </a:lnTo>
                <a:lnTo>
                  <a:pt x="2628" y="304"/>
                </a:lnTo>
                <a:lnTo>
                  <a:pt x="2625" y="374"/>
                </a:lnTo>
                <a:lnTo>
                  <a:pt x="2625" y="406"/>
                </a:lnTo>
                <a:lnTo>
                  <a:pt x="2628" y="443"/>
                </a:lnTo>
                <a:lnTo>
                  <a:pt x="2628" y="502"/>
                </a:lnTo>
                <a:lnTo>
                  <a:pt x="2625" y="544"/>
                </a:lnTo>
                <a:lnTo>
                  <a:pt x="2625" y="590"/>
                </a:lnTo>
                <a:lnTo>
                  <a:pt x="2625" y="627"/>
                </a:lnTo>
                <a:lnTo>
                  <a:pt x="2625" y="664"/>
                </a:lnTo>
                <a:lnTo>
                  <a:pt x="2625" y="712"/>
                </a:lnTo>
                <a:lnTo>
                  <a:pt x="2625" y="752"/>
                </a:lnTo>
                <a:lnTo>
                  <a:pt x="2625" y="798"/>
                </a:lnTo>
                <a:lnTo>
                  <a:pt x="2625" y="846"/>
                </a:lnTo>
                <a:lnTo>
                  <a:pt x="2625" y="896"/>
                </a:lnTo>
                <a:lnTo>
                  <a:pt x="2625" y="1022"/>
                </a:lnTo>
                <a:lnTo>
                  <a:pt x="2625" y="960"/>
                </a:lnTo>
                <a:lnTo>
                  <a:pt x="2625" y="1062"/>
                </a:lnTo>
                <a:lnTo>
                  <a:pt x="2625" y="1120"/>
                </a:lnTo>
                <a:lnTo>
                  <a:pt x="2625" y="1171"/>
                </a:lnTo>
                <a:lnTo>
                  <a:pt x="2625" y="1219"/>
                </a:lnTo>
                <a:lnTo>
                  <a:pt x="2625" y="1280"/>
                </a:lnTo>
                <a:lnTo>
                  <a:pt x="2625" y="1395"/>
                </a:lnTo>
                <a:lnTo>
                  <a:pt x="2625" y="1504"/>
                </a:lnTo>
                <a:lnTo>
                  <a:pt x="2625" y="1619"/>
                </a:lnTo>
                <a:lnTo>
                  <a:pt x="2625" y="1744"/>
                </a:lnTo>
                <a:lnTo>
                  <a:pt x="2625" y="1846"/>
                </a:lnTo>
                <a:lnTo>
                  <a:pt x="2626" y="1958"/>
                </a:lnTo>
                <a:lnTo>
                  <a:pt x="2626" y="2078"/>
                </a:lnTo>
                <a:lnTo>
                  <a:pt x="2626" y="2352"/>
                </a:lnTo>
                <a:lnTo>
                  <a:pt x="2626" y="2514"/>
                </a:lnTo>
                <a:lnTo>
                  <a:pt x="2626" y="2697"/>
                </a:lnTo>
                <a:lnTo>
                  <a:pt x="2626" y="2711"/>
                </a:lnTo>
                <a:lnTo>
                  <a:pt x="2626" y="2732"/>
                </a:lnTo>
                <a:lnTo>
                  <a:pt x="0" y="2732"/>
                </a:lnTo>
                <a:close/>
              </a:path>
            </a:pathLst>
          </a:custGeom>
          <a:solidFill>
            <a:srgbClr val="ff9999"/>
          </a:solidFill>
          <a:ln w="38160">
            <a:solidFill>
              <a:srgbClr val="d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20000" y="2984400"/>
            <a:ext cx="64908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Ig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35280" y="3632040"/>
            <a:ext cx="2917800" cy="2556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35280" y="3705120"/>
            <a:ext cx="0" cy="152424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3581280"/>
            <a:ext cx="2330280" cy="703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est d’anticor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ou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GB" sz="2000" spc="-1" strike="noStrike" baseline="30000">
                <a:solidFill>
                  <a:srgbClr val="ff0000"/>
                </a:solidFill>
                <a:latin typeface="Times New Roman"/>
              </a:rPr>
              <a:t>è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géné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2057400"/>
            <a:ext cx="4267080" cy="0"/>
          </a:xfrm>
          <a:prstGeom prst="line">
            <a:avLst/>
          </a:prstGeom>
          <a:ln w="57240">
            <a:solidFill>
              <a:srgbClr val="99ff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4840" rIns="114840" tIns="-57240" bIns="-57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38280" y="1981080"/>
            <a:ext cx="0" cy="2743200"/>
          </a:xfrm>
          <a:prstGeom prst="line">
            <a:avLst/>
          </a:prstGeom>
          <a:ln w="57240">
            <a:solidFill>
              <a:srgbClr val="99ff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13720" y="1905120"/>
            <a:ext cx="2330280" cy="7038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est combi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ou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2000" spc="-1" strike="noStrike" baseline="30000">
                <a:solidFill>
                  <a:srgbClr val="ff0000"/>
                </a:solidFill>
                <a:latin typeface="Times New Roman"/>
              </a:rPr>
              <a:t>ème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é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é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1828800"/>
            <a:ext cx="0" cy="3657600"/>
          </a:xfrm>
          <a:prstGeom prst="line">
            <a:avLst/>
          </a:prstGeom>
          <a:ln w="57240">
            <a:solidFill>
              <a:srgbClr val="ffcc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1828800"/>
            <a:ext cx="0" cy="3581280"/>
          </a:xfrm>
          <a:prstGeom prst="line">
            <a:avLst/>
          </a:prstGeom>
          <a:ln w="57240">
            <a:solidFill>
              <a:srgbClr val="ffcc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74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9064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004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1828800"/>
            <a:ext cx="0" cy="3581280"/>
          </a:xfrm>
          <a:prstGeom prst="line">
            <a:avLst/>
          </a:prstGeom>
          <a:ln w="57240">
            <a:solidFill>
              <a:srgbClr val="ffcc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-360" y="5710320"/>
            <a:ext cx="8739720" cy="691200"/>
            <a:chOff x="-360" y="5710320"/>
            <a:chExt cx="8739720" cy="691200"/>
          </a:xfrm>
        </p:grpSpPr>
        <p:sp>
          <p:nvSpPr>
            <p:cNvPr id="229" name=""/>
            <p:cNvSpPr/>
            <p:nvPr/>
          </p:nvSpPr>
          <p:spPr>
            <a:xfrm>
              <a:off x="-360" y="57103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en-GB" sz="2400" spc="-1" strike="noStrike">
                  <a:solidFill>
                    <a:srgbClr val="ffff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76400" y="57103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en-GB" sz="2400" spc="-1" strike="noStrike">
                  <a:solidFill>
                    <a:srgbClr val="ffff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41280" y="57103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en-GB" sz="2400" spc="-1" strike="noStrike">
                  <a:solidFill>
                    <a:srgbClr val="ffff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14800" y="57103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en-GB" sz="2400" spc="-1" strike="noStrike">
                  <a:solidFill>
                    <a:srgbClr val="ffff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97320" y="57103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en-GB" sz="2400" spc="-1" strike="noStrike">
                  <a:solidFill>
                    <a:srgbClr val="ffff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65800" y="57103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en-GB" sz="2400" spc="-1" strike="noStrike">
                  <a:solidFill>
                    <a:srgbClr val="ffff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28520" y="57103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en-GB" sz="2400" spc="-1" strike="noStrike">
                  <a:solidFill>
                    <a:srgbClr val="ffff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16440" y="57103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en-GB" sz="2400" spc="-1" strike="noStrike">
                  <a:solidFill>
                    <a:srgbClr val="ffff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586360" y="57103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en-GB" sz="2400" spc="-1" strike="noStrike">
                  <a:solidFill>
                    <a:srgbClr val="ffff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27080" y="6020280"/>
              <a:ext cx="12686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fr-CA" sz="2500" spc="-1" strike="noStrike">
                  <a:solidFill>
                    <a:srgbClr val="ffff00"/>
                  </a:solidFill>
                  <a:latin typeface="Times New Roman"/>
                </a:rPr>
                <a:t>Semaines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 flipH="1" flipV="1">
            <a:off x="28440" y="5584680"/>
            <a:ext cx="9066240" cy="7920"/>
          </a:xfrm>
          <a:prstGeom prst="line">
            <a:avLst/>
          </a:prstGeom>
          <a:ln w="101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320760"/>
            <a:ext cx="93726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ortance du choix des panels de séroconver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ns l’évaluation des tests Combin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80000" y="1760400"/>
            <a:ext cx="0" cy="2718000"/>
          </a:xfrm>
          <a:prstGeom prst="line">
            <a:avLst/>
          </a:prstGeom>
          <a:ln w="57240">
            <a:solidFill>
              <a:srgbClr val="ff00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03640" y="1687680"/>
            <a:ext cx="0" cy="1225440"/>
          </a:xfrm>
          <a:prstGeom prst="line">
            <a:avLst/>
          </a:prstGeom>
          <a:ln w="57240">
            <a:solidFill>
              <a:srgbClr val="ff00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4360" y="0"/>
            <a:ext cx="8313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etard par jou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 moyenne vis à vis de PC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13320" y="1039680"/>
            <a:ext cx="5530680" cy="467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27280" y="5513400"/>
            <a:ext cx="4730760" cy="13824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27280" y="5197320"/>
            <a:ext cx="4618080" cy="13824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27280" y="4902120"/>
            <a:ext cx="4319640" cy="11916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27280" y="4586400"/>
            <a:ext cx="4040280" cy="13788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27280" y="4272120"/>
            <a:ext cx="3818160" cy="13788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27280" y="3956040"/>
            <a:ext cx="3724560" cy="13824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27280" y="3639960"/>
            <a:ext cx="3575160" cy="13824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27280" y="3344760"/>
            <a:ext cx="3129120" cy="11916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27280" y="3029040"/>
            <a:ext cx="2849760" cy="13788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27280" y="2714760"/>
            <a:ext cx="2662560" cy="13788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27280" y="2398680"/>
            <a:ext cx="2532240" cy="138240"/>
          </a:xfrm>
          <a:prstGeom prst="rect">
            <a:avLst/>
          </a:prstGeom>
          <a:solidFill>
            <a:srgbClr val="6699ff"/>
          </a:solidFill>
          <a:ln w="1908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27280" y="2082960"/>
            <a:ext cx="2382840" cy="13788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27280" y="1787400"/>
            <a:ext cx="2365560" cy="11772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27280" y="1471680"/>
            <a:ext cx="2308320" cy="13788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27280" y="1155600"/>
            <a:ext cx="1862280" cy="13824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27280" y="5730840"/>
            <a:ext cx="553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457880" y="573084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370480" y="573084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6302520" y="573084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7215120" y="573084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8145360" y="573084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9058320" y="573084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44800" y="5494320"/>
            <a:ext cx="36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Small Fonts"/>
              </a:rPr>
              <a:t>10.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240760" y="517860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Small Fonts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38360" y="4883040"/>
            <a:ext cx="28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Small Fonts"/>
              </a:rPr>
              <a:t>9.3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59000" y="4567320"/>
            <a:ext cx="28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Small Fonts"/>
              </a:rPr>
              <a:t>8.7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36880" y="4251240"/>
            <a:ext cx="28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Small Fonts"/>
              </a:rPr>
              <a:t>8.2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43280" y="3936960"/>
            <a:ext cx="28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Small Fonts"/>
              </a:rPr>
              <a:t>8.0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193880" y="3621240"/>
            <a:ext cx="28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Small Fonts"/>
              </a:rPr>
              <a:t>7.7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47840" y="3325680"/>
            <a:ext cx="28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Small Fonts"/>
              </a:rPr>
              <a:t>6.7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68480" y="3009960"/>
            <a:ext cx="28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Small Fonts"/>
              </a:rPr>
              <a:t>6.1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81280" y="2693880"/>
            <a:ext cx="28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Small Fonts"/>
              </a:rPr>
              <a:t>5.7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53840" y="2378160"/>
            <a:ext cx="201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Small Fonts"/>
              </a:rPr>
              <a:t>5.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01560" y="2063880"/>
            <a:ext cx="28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Small Fonts"/>
              </a:rPr>
              <a:t>5.1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84280" y="1766880"/>
            <a:ext cx="28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Small Fonts"/>
              </a:rPr>
              <a:t>5.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35320" y="14526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Small Fonts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481000" y="1136520"/>
            <a:ext cx="28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Small Fonts"/>
              </a:rPr>
              <a:t>4.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27280" y="58690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mall Fonts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40240" y="58690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mall Fonts"/>
              </a:rPr>
              <a:t>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71920" y="58690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mall Fonts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183080" y="58690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mall Fonts"/>
              </a:rPr>
              <a:t>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072280" y="586908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mall Fonts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985240" y="586908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mall Fonts"/>
              </a:rPr>
              <a:t>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29160" y="1143000"/>
            <a:ext cx="0" cy="13716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48680" y="1219320"/>
            <a:ext cx="0" cy="44956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486400" y="838080"/>
            <a:ext cx="2895480" cy="505080"/>
            <a:chOff x="5486400" y="838080"/>
            <a:chExt cx="2895480" cy="505080"/>
          </a:xfrm>
        </p:grpSpPr>
        <p:sp>
          <p:nvSpPr>
            <p:cNvPr id="293" name=""/>
            <p:cNvSpPr/>
            <p:nvPr/>
          </p:nvSpPr>
          <p:spPr>
            <a:xfrm>
              <a:off x="5486400" y="838080"/>
              <a:ext cx="2895480" cy="228600"/>
            </a:xfrm>
            <a:custGeom>
              <a:avLst/>
              <a:gdLst>
                <a:gd name="textAreaLeft" fmla="*/ 506520 w 2895480"/>
                <a:gd name="textAreaRight" fmla="*/ 2099160 w 289548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86600" y="1066680"/>
              <a:ext cx="114300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 – 6  jour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 flipV="1">
            <a:off x="3527280" y="573084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27280" y="1057320"/>
            <a:ext cx="1800" cy="467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97040" y="58690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mall Fonts"/>
              </a:rPr>
              <a:t>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43160" y="838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Times New Roman"/>
              </a:rPr>
              <a:t>PC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33480" y="396252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1360" y="4668840"/>
            <a:ext cx="685800" cy="276480"/>
          </a:xfrm>
          <a:prstGeom prst="rect">
            <a:avLst/>
          </a:prstGeom>
          <a:noFill/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&lt;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90680" y="35812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86280" y="5494320"/>
            <a:ext cx="2161800" cy="167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Small Fonts"/>
              </a:rPr>
              <a:t>Ortho HIV-1/HIV-2 Ab Capture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13480" y="5178600"/>
            <a:ext cx="2365920" cy="16776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ffff"/>
                </a:solidFill>
                <a:latin typeface="Small Fonts"/>
              </a:rPr>
              <a:t>Vironostika HIV Uniform II Ag/Ab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13680" y="4862520"/>
            <a:ext cx="1649520" cy="16776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ffff"/>
                </a:solidFill>
                <a:latin typeface="Small Fonts"/>
              </a:rPr>
              <a:t>Enzygnost HIV Integral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22760" y="4567320"/>
            <a:ext cx="1517040" cy="16776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ffff"/>
                </a:solidFill>
                <a:latin typeface="Small Fonts"/>
              </a:rPr>
              <a:t>Genscreen HIV 1/2 v2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91520" y="4267080"/>
            <a:ext cx="2382840" cy="16776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ffff"/>
                </a:solidFill>
                <a:latin typeface="Small Fonts"/>
              </a:rPr>
              <a:t>Genscreen Plus HIV Ag/Ab Combo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134800" y="3936960"/>
            <a:ext cx="1218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mall Fonts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Small Fonts"/>
              </a:rPr>
              <a:t>VIDAS HIV DU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9000" y="3629160"/>
            <a:ext cx="1509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Small Fonts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Small Fonts"/>
              </a:rPr>
              <a:t>Modular HIV Comb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677960" y="3336840"/>
            <a:ext cx="1676520" cy="335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Small Fonts"/>
              </a:rPr>
              <a:t>Murex HIV Ag/Ab Comb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16120" y="3009960"/>
            <a:ext cx="169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Small Fonts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Small Fonts"/>
              </a:rPr>
              <a:t>Cobas Core HIV Comb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97600" y="2693880"/>
            <a:ext cx="189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Small Fonts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Small Fonts"/>
              </a:rPr>
              <a:t>AxSYM HIV Ag/Ab Comb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49360" y="2362320"/>
            <a:ext cx="1905120" cy="456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Small Fonts"/>
              </a:rPr>
              <a:t>Genscreen HIV Ultr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08840" y="2063880"/>
            <a:ext cx="173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mall Fonts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Small Fonts"/>
              </a:rPr>
              <a:t>ARCHITECT HIV Comb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53520" y="1747800"/>
            <a:ext cx="1229040" cy="167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Small Fonts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Small Fonts"/>
              </a:rPr>
              <a:t>Coulter HIV-1 Ag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86480" y="1452600"/>
            <a:ext cx="1408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Small Fonts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Small Fonts"/>
              </a:rPr>
              <a:t>VIDAS Ultro Quick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54880" y="1136520"/>
            <a:ext cx="1324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mall Fonts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Small Fonts"/>
              </a:rPr>
              <a:t>VIDAS DUO Ultr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76360" y="6232680"/>
            <a:ext cx="1895400" cy="182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Format </a:t>
            </a:r>
            <a:r>
              <a:rPr b="1" lang="en-US" sz="1100" spc="-1" strike="noStrike">
                <a:solidFill>
                  <a:srgbClr val="ffffff"/>
                </a:solidFill>
                <a:latin typeface="Small Fonts"/>
              </a:rPr>
              <a:t>Microplaqu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39000" y="609588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29000" y="6156360"/>
            <a:ext cx="3809880" cy="246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Classic Method: Maximum delay method</a:t>
            </a:r>
            <a:r>
              <a:rPr b="1" lang="fr-FR" sz="1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</a:t>
            </a:r>
            <a:r>
              <a:rPr b="1" lang="fr-FR" sz="10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  <p:grpSp>
        <p:nvGrpSpPr>
          <p:cNvPr id="321" name=""/>
          <p:cNvGrpSpPr/>
          <p:nvPr/>
        </p:nvGrpSpPr>
        <p:grpSpPr>
          <a:xfrm>
            <a:off x="6804000" y="2336760"/>
            <a:ext cx="1225080" cy="437760"/>
            <a:chOff x="6804000" y="2336760"/>
            <a:chExt cx="1225080" cy="437760"/>
          </a:xfrm>
        </p:grpSpPr>
        <p:sp>
          <p:nvSpPr>
            <p:cNvPr id="322" name=""/>
            <p:cNvSpPr/>
            <p:nvPr/>
          </p:nvSpPr>
          <p:spPr>
            <a:xfrm>
              <a:off x="6843960" y="2336760"/>
              <a:ext cx="1185120" cy="27648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Times New Roman"/>
                </a:rPr>
                <a:t>Detect HIV v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04000" y="2399760"/>
              <a:ext cx="39240" cy="374760"/>
            </a:xfrm>
            <a:custGeom>
              <a:avLst/>
              <a:gdLst>
                <a:gd name="textAreaLeft" fmla="*/ 25200 w 39240"/>
                <a:gd name="textAreaRight" fmla="*/ 39600 w 39240"/>
                <a:gd name="textAreaTop" fmla="*/ 9720 h 374760"/>
                <a:gd name="textAreaBottom" fmla="*/ 36504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0" y="1066680"/>
            <a:ext cx="1371600" cy="1524240"/>
            <a:chOff x="0" y="1066680"/>
            <a:chExt cx="1371600" cy="1524240"/>
          </a:xfrm>
        </p:grpSpPr>
        <p:sp>
          <p:nvSpPr>
            <p:cNvPr id="325" name=""/>
            <p:cNvSpPr/>
            <p:nvPr/>
          </p:nvSpPr>
          <p:spPr>
            <a:xfrm>
              <a:off x="1219320" y="114300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480" y="1600200"/>
              <a:ext cx="533520" cy="6415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2004-200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106668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&lt; 20 pg/m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0" y="2514600"/>
            <a:ext cx="1371600" cy="1066680"/>
            <a:chOff x="0" y="2514600"/>
            <a:chExt cx="1371600" cy="1066680"/>
          </a:xfrm>
        </p:grpSpPr>
        <p:sp>
          <p:nvSpPr>
            <p:cNvPr id="329" name=""/>
            <p:cNvSpPr/>
            <p:nvPr/>
          </p:nvSpPr>
          <p:spPr>
            <a:xfrm>
              <a:off x="1295280" y="2819520"/>
              <a:ext cx="76320" cy="76176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5800" y="2895480"/>
              <a:ext cx="533520" cy="64152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ff00"/>
                  </a:solidFill>
                  <a:latin typeface="Times New Roman"/>
                </a:rPr>
                <a:t>2001-20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251460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&lt; 30 pg/m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0"/>
            <a:ext cx="914400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0" y="804960"/>
            <a:ext cx="8962560" cy="5596560"/>
            <a:chOff x="0" y="804960"/>
            <a:chExt cx="8962560" cy="5596560"/>
          </a:xfrm>
        </p:grpSpPr>
        <p:sp>
          <p:nvSpPr>
            <p:cNvPr id="334" name=""/>
            <p:cNvSpPr/>
            <p:nvPr/>
          </p:nvSpPr>
          <p:spPr>
            <a:xfrm>
              <a:off x="3431880" y="1033560"/>
              <a:ext cx="5530680" cy="478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31880" y="5592600"/>
              <a:ext cx="3760560" cy="14292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431880" y="5270400"/>
              <a:ext cx="3649320" cy="14148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431880" y="4967280"/>
              <a:ext cx="3463560" cy="12240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31880" y="4645080"/>
              <a:ext cx="3408120" cy="14112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431880" y="4321080"/>
              <a:ext cx="2866680" cy="14292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31880" y="4000320"/>
              <a:ext cx="2606400" cy="13968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31880" y="3676680"/>
              <a:ext cx="2234880" cy="14112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31880" y="3373560"/>
              <a:ext cx="2252520" cy="12204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31880" y="3051000"/>
              <a:ext cx="2141280" cy="14148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31880" y="2728800"/>
              <a:ext cx="1917360" cy="14148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31880" y="2406600"/>
              <a:ext cx="1842840" cy="139680"/>
            </a:xfrm>
            <a:prstGeom prst="rect">
              <a:avLst/>
            </a:prstGeom>
            <a:solidFill>
              <a:srgbClr val="66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31880" y="2082600"/>
              <a:ext cx="1676160" cy="14148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31880" y="1781280"/>
              <a:ext cx="1563480" cy="11880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431880" y="1457280"/>
              <a:ext cx="1507680" cy="14148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31880" y="1135080"/>
              <a:ext cx="1303200" cy="13968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3431880" y="581508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990600" y="581508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4530600" y="5815080"/>
              <a:ext cx="10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5089320" y="5815080"/>
              <a:ext cx="10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5648040" y="581508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06760" y="581508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6746760" y="5815080"/>
              <a:ext cx="10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7305480" y="5815080"/>
              <a:ext cx="10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7848360" y="5815080"/>
              <a:ext cx="10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31880" y="1033560"/>
              <a:ext cx="1440" cy="478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95400" y="55735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mall Fonts"/>
                </a:rPr>
                <a:t>6.8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63720" y="5249880"/>
              <a:ext cx="21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mall Fonts"/>
                </a:rPr>
                <a:t>6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14520" y="494820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mall Fonts"/>
                </a:rPr>
                <a:t>6.2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838200" y="462600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mall Fonts"/>
                </a:rPr>
                <a:t>6.1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77760" y="430200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mall Fonts"/>
                </a:rPr>
                <a:t>5.1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17480" y="397980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mall Fonts"/>
                </a:rPr>
                <a:t>4.7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744520" y="365616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mall Fonts"/>
                </a:rPr>
                <a:t>4.0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63240" y="33544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mall Fonts"/>
                </a:rPr>
                <a:t>4.0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52360" y="30304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mall Fonts"/>
                </a:rPr>
                <a:t>3.8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28440" y="27082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mall Fonts"/>
                </a:rPr>
                <a:t>3.4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53920" y="23860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mall Fonts"/>
                </a:rPr>
                <a:t>3.3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87240" y="20620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mall Fonts"/>
                </a:rPr>
                <a:t>3.0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74560" y="176040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mall Fonts"/>
                </a:rPr>
                <a:t>2.8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18760" y="143676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mall Fonts"/>
                </a:rPr>
                <a:t>2.7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13920" y="111456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mall Fonts"/>
                </a:rPr>
                <a:t>2.3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98400" y="59562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mall Fonts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74760" y="59562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mall Fonts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496760" y="59562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mall Fonts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55840" y="59562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mall Fonts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614560" y="59562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mall Fonts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73280" y="59562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mall Fonts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712920" y="59562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mall Fonts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72000" y="59562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mall Fonts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830720" y="59562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mall Fonts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24280" y="1174680"/>
              <a:ext cx="0" cy="133200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238880" y="1100160"/>
              <a:ext cx="0" cy="4365720"/>
            </a:xfrm>
            <a:prstGeom prst="line">
              <a:avLst/>
            </a:prstGeom>
            <a:ln w="255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24280" y="804960"/>
              <a:ext cx="2895120" cy="222120"/>
            </a:xfrm>
            <a:custGeom>
              <a:avLst/>
              <a:gdLst>
                <a:gd name="textAreaLeft" fmla="*/ 506520 w 2895120"/>
                <a:gd name="textAreaRight" fmla="*/ 2099160 w 2895120"/>
                <a:gd name="textAreaTop" fmla="*/ 29520 h 222120"/>
                <a:gd name="textAreaBottom" fmla="*/ 192600 h 2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24080" y="804960"/>
              <a:ext cx="68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33"/>
                  </a:solidFill>
                  <a:latin typeface="Times New Roman"/>
                </a:rPr>
                <a:t>P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848360" y="5681520"/>
              <a:ext cx="53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Jou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486040" y="1027080"/>
              <a:ext cx="11426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.5 – 4.5 jour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04960" y="6138720"/>
              <a:ext cx="4495320" cy="2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Paul Erhlich Institut (PEI) calculation method (negative + 1 day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428640" y="583416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1109520"/>
              <a:ext cx="151920" cy="1530360"/>
            </a:xfrm>
            <a:custGeom>
              <a:avLst/>
              <a:gdLst>
                <a:gd name="textAreaLeft" fmla="*/ 97200 w 151920"/>
                <a:gd name="textAreaRight" fmla="*/ 152280 w 151920"/>
                <a:gd name="textAreaTop" fmla="*/ 39600 h 1530360"/>
                <a:gd name="textAreaBottom" fmla="*/ 1490760 h 153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960" y="1550880"/>
              <a:ext cx="533160" cy="6415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2004-200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14040" y="2779560"/>
              <a:ext cx="75960" cy="7686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9800 h 768600"/>
                <a:gd name="textAreaBottom" fmla="*/ 748800 h 76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960" y="2840040"/>
              <a:ext cx="533160" cy="64152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ff00"/>
                  </a:solidFill>
                  <a:latin typeface="Times New Roman"/>
                </a:rPr>
                <a:t>2001-20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38080" y="3624120"/>
              <a:ext cx="151920" cy="2133720"/>
            </a:xfrm>
            <a:custGeom>
              <a:avLst/>
              <a:gdLst>
                <a:gd name="textAreaLeft" fmla="*/ 97200 w 151920"/>
                <a:gd name="textAreaRight" fmla="*/ 152280 w 15192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4549680"/>
              <a:ext cx="685440" cy="276480"/>
            </a:xfrm>
            <a:prstGeom prst="rect">
              <a:avLst/>
            </a:prstGeom>
            <a:noFill/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33"/>
                  </a:solidFill>
                  <a:latin typeface="Times New Roman"/>
                </a:rPr>
                <a:t>&lt; 2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18960" y="3929040"/>
              <a:ext cx="53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200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90520" y="5589720"/>
              <a:ext cx="2161800" cy="167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mall Fonts"/>
                </a:rPr>
                <a:t>Ortho HIV-1/HIV-2 Ab Capture  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17720" y="5275080"/>
              <a:ext cx="2365920" cy="167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ffff"/>
                  </a:solidFill>
                  <a:latin typeface="Small Fonts"/>
                </a:rPr>
                <a:t>Vironostika HIV Uniform II Ag/Ab 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718280" y="4960800"/>
              <a:ext cx="1649520" cy="167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ffff"/>
                  </a:solidFill>
                  <a:latin typeface="Small Fonts"/>
                </a:rPr>
                <a:t>Enzygnost HIV Integral 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27360" y="4646520"/>
              <a:ext cx="1517040" cy="167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ffff"/>
                  </a:solidFill>
                  <a:latin typeface="Small Fonts"/>
                </a:rPr>
                <a:t>Genscreen HIV 1/2 v2 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95760" y="3624120"/>
              <a:ext cx="2382840" cy="167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ffff"/>
                  </a:solidFill>
                  <a:latin typeface="Small Fonts"/>
                </a:rPr>
                <a:t>Genscreen Plus HIV Ag/Ab Combo 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39400" y="4309920"/>
              <a:ext cx="1218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Small Fonts"/>
                </a:rPr>
                <a:t>    </a:t>
              </a:r>
              <a:r>
                <a:rPr b="1" lang="en-US" sz="1100" spc="-1" strike="noStrike">
                  <a:solidFill>
                    <a:srgbClr val="ff0000"/>
                  </a:solidFill>
                  <a:latin typeface="Small Fonts"/>
                </a:rPr>
                <a:t>VIDAS HIV DUO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03240" y="3989520"/>
              <a:ext cx="1509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Small Fonts"/>
                </a:rPr>
                <a:t>    </a:t>
              </a:r>
              <a:r>
                <a:rPr b="1" lang="fr-FR" sz="1100" spc="-1" strike="noStrike">
                  <a:solidFill>
                    <a:srgbClr val="ff0000"/>
                  </a:solidFill>
                  <a:latin typeface="Small Fonts"/>
                </a:rPr>
                <a:t>Modular HIV Combi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82560" y="3014640"/>
              <a:ext cx="1675800" cy="335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mall Fonts"/>
                </a:rPr>
                <a:t>Murex HIV Ag/Ab Combo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620720" y="3319560"/>
              <a:ext cx="169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Small Fonts"/>
                </a:rPr>
                <a:t>    </a:t>
              </a:r>
              <a:r>
                <a:rPr b="1" lang="fr-FR" sz="1100" spc="-1" strike="noStrike">
                  <a:solidFill>
                    <a:srgbClr val="ff0000"/>
                  </a:solidFill>
                  <a:latin typeface="Small Fonts"/>
                </a:rPr>
                <a:t>Cobas Core HIV Combi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01840" y="2709720"/>
              <a:ext cx="189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Small Fonts"/>
                </a:rPr>
                <a:t>    </a:t>
              </a:r>
              <a:r>
                <a:rPr b="1" lang="fr-FR" sz="1100" spc="-1" strike="noStrike">
                  <a:solidFill>
                    <a:srgbClr val="ff0000"/>
                  </a:solidFill>
                  <a:latin typeface="Small Fonts"/>
                </a:rPr>
                <a:t>AxSYM HIV Ag/Ab Combo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53960" y="2405160"/>
              <a:ext cx="1904400" cy="45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Small Fonts"/>
                </a:rPr>
                <a:t>Genscreen HIV Ultr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13080" y="1422360"/>
              <a:ext cx="173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Small Fonts"/>
                </a:rPr>
                <a:t>    </a:t>
              </a:r>
              <a:r>
                <a:rPr b="1" lang="en-US" sz="1100" spc="-1" strike="noStrike">
                  <a:solidFill>
                    <a:srgbClr val="ff0000"/>
                  </a:solidFill>
                  <a:latin typeface="Small Fonts"/>
                </a:rPr>
                <a:t>ARCHITECT HIV Combo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57760" y="2050920"/>
              <a:ext cx="1229040" cy="1677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mall Fonts"/>
                </a:rPr>
                <a:t> </a:t>
              </a:r>
              <a:r>
                <a:rPr b="1" lang="en-US" sz="1100" spc="-1" strike="noStrike">
                  <a:solidFill>
                    <a:srgbClr val="ffffff"/>
                  </a:solidFill>
                  <a:latin typeface="Small Fonts"/>
                </a:rPr>
                <a:t>Coulter HIV-1 Ag 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91800" y="1736640"/>
              <a:ext cx="140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Small Fonts"/>
                </a:rPr>
                <a:t>    </a:t>
              </a:r>
              <a:r>
                <a:rPr b="1" lang="fr-FR" sz="1100" spc="-1" strike="noStrike">
                  <a:solidFill>
                    <a:srgbClr val="ff0000"/>
                  </a:solidFill>
                  <a:latin typeface="Small Fonts"/>
                </a:rPr>
                <a:t>VIDAS Ultro Quick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59840" y="1109520"/>
              <a:ext cx="132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Small Fonts"/>
                </a:rPr>
                <a:t>    </a:t>
              </a:r>
              <a:r>
                <a:rPr b="1" lang="en-US" sz="1100" spc="-1" strike="noStrike">
                  <a:solidFill>
                    <a:srgbClr val="ff0000"/>
                  </a:solidFill>
                  <a:latin typeface="Small Fonts"/>
                </a:rPr>
                <a:t>VIDAS DUO Ultra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563480" y="6122880"/>
              <a:ext cx="1712520" cy="167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ffff"/>
                  </a:solidFill>
                  <a:latin typeface="Small Fonts"/>
                </a:rPr>
                <a:t>Microplate forma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414360" y="0"/>
            <a:ext cx="8313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etard par jou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 moyenne vis à vis de PC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0" y="685800"/>
          <a:ext cx="853452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85345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7848720" y="685800"/>
          <a:ext cx="1295280" cy="5029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85800"/>
                    <a:ext cx="12952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752040" y="0"/>
            <a:ext cx="76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nsibilité de la détection des anticorps:  Panel BCP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0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56360" y="603396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0033"/>
                </a:solidFill>
                <a:latin typeface="Times New Roman"/>
              </a:rPr>
              <a:t>Ratio  (s/co)</a:t>
            </a:r>
            <a:r>
              <a:rPr b="1" i="1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fr-FR" sz="18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1" i="1" lang="fr-FR" sz="1800" spc="-1" strike="noStrike">
                <a:solidFill>
                  <a:srgbClr val="ffff00"/>
                </a:solidFill>
                <a:latin typeface="Times New Roman"/>
              </a:rPr>
              <a:t>  &gt; 1  : Positif  -  </a:t>
            </a: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&lt; 0,9 : Négati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5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228600"/>
            <a:ext cx="914400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ance de la qualité des anticorps monoclonaux utilisés dans les trousses pour la détection d’Ag p24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ersmette et al., </a:t>
            </a:r>
            <a:r>
              <a:rPr b="1" lang="nl-NL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Virology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1989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Detection and subtyping of HIV-1 isolates with a panel of characterized monoclonal antibodies to HIV p24 gag”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: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ème de détection d’Ag p24 avec les anticorps monoclonaux sur certaines souches vir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00"/>
                </a:solidFill>
                <a:latin typeface="Times New Roman"/>
              </a:rPr>
              <a:t>Maniez et al, Spectra biologie, 1997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« Évaluation des trousses de dépistage de l’Ag p24 du VIH »: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7 trousses d’Ag p24 avec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ème de sensibilité vis-à-vis de certaines souches VIH-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250920" y="1273320"/>
            <a:ext cx="8686800" cy="46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66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31 surnageants de culture de sous-types VIH-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A; 8 CRF01_AE (circulating recombinant ); 7 B;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5 C;3 D; 3 F; 1 G; 1 O;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 2 CRF02_A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que surnagent ayant 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 concentrations différentes titrées avec la trousse Innotest HIV Antigen (Innogenetic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lang="en-GB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4 - 24  pg VIH /m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33"/>
                </a:solidFill>
                <a:latin typeface="Times New Roman"/>
                <a:ea typeface="Arial"/>
              </a:rPr>
              <a:t>                             </a:t>
            </a:r>
            <a:r>
              <a:rPr b="1" lang="fr-FR" sz="2800" spc="-1" strike="noStrike">
                <a:solidFill>
                  <a:srgbClr val="ff0033"/>
                </a:solidFill>
                <a:latin typeface="Times New Roman"/>
                <a:ea typeface="Arial"/>
              </a:rPr>
              <a:t>10 - 7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n-GB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22 - 1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n-GB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61 - 35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ersité du VIH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équences pour la détection d’Ag p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-380880" y="-609480"/>
          <a:ext cx="10058400" cy="754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-609480"/>
                    <a:ext cx="1005840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533520" y="4343400"/>
            <a:ext cx="838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rcit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447920" y="4343400"/>
            <a:ext cx="838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xSy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362320" y="4343400"/>
            <a:ext cx="838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ur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76720" y="4343400"/>
            <a:ext cx="10666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idas Ult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257800" y="4343400"/>
            <a:ext cx="838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Modul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5880" y="4343400"/>
            <a:ext cx="8384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b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934320" y="4343400"/>
            <a:ext cx="9903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enscreen Ult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267080" y="4343400"/>
            <a:ext cx="914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idas Du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924680" y="4343400"/>
            <a:ext cx="9907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enscreen Pl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3520" y="46483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6,6-41,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371600" y="4648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5,2-1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438280" y="4648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2-72,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352680" y="4648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6,3-83,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343400" y="4648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9,2-4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4648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86,9-280,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5880" y="4724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9,7-234,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848720" y="48769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42,3-&gt; 5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01028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7,3-180,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120" y="3886200"/>
            <a:ext cx="45720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76520" y="3809880"/>
            <a:ext cx="45720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3733920"/>
            <a:ext cx="45720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05320" y="3886200"/>
            <a:ext cx="45720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19720" y="3276720"/>
            <a:ext cx="45720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334120" y="2514600"/>
            <a:ext cx="45720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5410080"/>
            <a:ext cx="45720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248520" y="3733920"/>
            <a:ext cx="45720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077320" y="2286000"/>
            <a:ext cx="45720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162920" y="3886200"/>
            <a:ext cx="45720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685800" y="5181480"/>
          <a:ext cx="8458200" cy="304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5181480"/>
                    <a:ext cx="84582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"/>
          <p:cNvSpPr/>
          <p:nvPr/>
        </p:nvSpPr>
        <p:spPr>
          <a:xfrm>
            <a:off x="1981080" y="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Limite de détection de l’Ag VIH avec 31 panels d’A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0" y="5029200"/>
          <a:ext cx="666720" cy="228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5029200"/>
                    <a:ext cx="6667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4" name="" descr=""/>
          <p:cNvPicPr/>
          <p:nvPr/>
        </p:nvPicPr>
        <p:blipFill>
          <a:blip r:embed="rId7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733920"/>
            <a:ext cx="3505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848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3848040"/>
            <a:ext cx="9144000" cy="1800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050920" y="5937120"/>
            <a:ext cx="3527640" cy="289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995640" y="4784760"/>
            <a:ext cx="5148360" cy="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6153120"/>
            <a:ext cx="1009440" cy="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216400"/>
            <a:ext cx="2195640" cy="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0" y="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Sensibilité de détection des anticorps anti-VIH-1/2 chez les patients infectés dans différentes régions du monde </a:t>
            </a: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(n=66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1219320"/>
            <a:ext cx="9372600" cy="30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09880" indent="-209880">
              <a:spcBef>
                <a:spcPts val="675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fr-FR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fr-FR" sz="2700" spc="-1" strike="noStrike">
                <a:solidFill>
                  <a:srgbClr val="ffff00"/>
                </a:solidFill>
                <a:latin typeface="Times New Roman"/>
              </a:rPr>
              <a:t>553 échantillons VIH-1-M 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13</a:t>
            </a:r>
            <a:r>
              <a:rPr b="1" i="1" lang="fr-FR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sous-type A:  Cameroun, Ghana, Uganda, Grande Bretagne, Fr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75 sous-type B:  Brésil, Cameroun,Thaïlande, Afrique du Sud, Grande Bretagne, Fr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71 sous-type C:  Afrique du Sud, Uganda, Grande Bretagne, Fr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40 sous-type D:  Cameroun, Afrique du Sud, Uganda, Grande Bretagne, Fr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1 sous-type F:  Argentine, Brésil, Cameroun, Fr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9 sous-type G:   Cameroun, Ghana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83 CRF01-AE:  Thaïla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92</a:t>
            </a:r>
            <a:r>
              <a:rPr b="1" i="1" lang="fr-F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CRF01-AG: Cameroun, Grande Bretag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59 Mosaïques : Argentine, Brésil ,Cameroun, Ghana, Uganda, Grande Bretagne, Fr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fr-FR" sz="2700" spc="-1" strike="noStrike">
                <a:solidFill>
                  <a:srgbClr val="66ff66"/>
                </a:solidFill>
                <a:latin typeface="Times New Roman"/>
              </a:rPr>
              <a:t>6 échantillons VIH-1-O </a:t>
            </a:r>
            <a:r>
              <a:rPr b="1" lang="fr-FR" sz="1800" spc="-1" strike="noStrike">
                <a:solidFill>
                  <a:srgbClr val="66ff66"/>
                </a:solidFill>
                <a:latin typeface="Times New Roman"/>
              </a:rPr>
              <a:t>(France, USA, Espagne, Cameroun: ESP2, 08692A, ABB009/96, ABB141/98, Ess, Ru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675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fr-FR" sz="2700" spc="-1" strike="noStrike">
                <a:solidFill>
                  <a:srgbClr val="ffffff"/>
                </a:solidFill>
                <a:latin typeface="Times New Roman"/>
              </a:rPr>
              <a:t>110 échantillons VIH-2 </a:t>
            </a:r>
            <a:r>
              <a:rPr b="1" lang="fr-FR" sz="2700" spc="-1" strike="noStrike">
                <a:solidFill>
                  <a:srgbClr val="ffffff"/>
                </a:solidFill>
                <a:latin typeface="Times New Roman"/>
              </a:rPr>
              <a:t>(Afrique de l’Ouest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479840"/>
            <a:ext cx="556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8" name=""/>
          <p:cNvGraphicFramePr/>
          <p:nvPr/>
        </p:nvGraphicFramePr>
        <p:xfrm>
          <a:off x="0" y="0"/>
          <a:ext cx="914400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0" y="4719600"/>
            <a:ext cx="9144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VIDAS DUO 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 VIH-1 sous-type F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Genscreen v.2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 VIH-1 groupe O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nzygnost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 VIH-1 sous-type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Genscreen Plus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 VIH-1 sous-type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05320" y="5562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Échantillons pré-séroconver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429000" y="548640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3733920"/>
            <a:ext cx="3505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uveaux tests Combinés apparus après 20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114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pécificité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nette amélioration trouvée dans certains tes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212076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Sensibilité de détection d’Ag: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nette amélior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Presque tous ont un  seuil de détection inférieur à 50 pg VIH/m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fr-FR" sz="2400" spc="-1" strike="noStrike">
                <a:solidFill>
                  <a:srgbClr val="ff0033"/>
                </a:solidFill>
                <a:latin typeface="Times New Roman"/>
              </a:rPr>
              <a:t>Problème de détection d’Ag des différents sous types VIH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8600" y="42670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Sensibilité de détection d’Ac: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peut être moins bonne dans la détection des taux très fai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"/>
          <p:cNvGraphicFramePr/>
          <p:nvPr/>
        </p:nvGraphicFramePr>
        <p:xfrm>
          <a:off x="0" y="1400040"/>
          <a:ext cx="9144000" cy="50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00040"/>
                    <a:ext cx="914400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"/>
          <p:cNvSpPr/>
          <p:nvPr/>
        </p:nvSpPr>
        <p:spPr>
          <a:xfrm>
            <a:off x="468360" y="24768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3360" indent="-333360" algn="ctr">
              <a:spcBef>
                <a:spcPts val="774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Biomnis: Paris et Lyon</a:t>
            </a:r>
            <a:r>
              <a:rPr b="1" lang="fr-FR" sz="31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 algn="ctr">
              <a:spcBef>
                <a:spcPts val="499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Août 2007-juillet 2008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533520" y="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nséquence de Recommandation HAS sur 20 tests de dépistage ELI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0" y="896760"/>
          <a:ext cx="9144000" cy="550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96760"/>
                    <a:ext cx="91440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176040"/>
            <a:ext cx="914400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Seuil de détection de l’Ag VIH-1</a:t>
            </a:r>
            <a:br>
              <a:rPr sz="3400"/>
            </a:br>
            <a:r>
              <a:rPr b="1" lang="en-US" sz="1800" spc="-1" strike="noStrike">
                <a:solidFill>
                  <a:srgbClr val="ff0033"/>
                </a:solidFill>
                <a:latin typeface="Times New Roman"/>
              </a:rPr>
              <a:t>SFTS  (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ouche LAI sous-type B</a:t>
            </a:r>
            <a:r>
              <a:rPr b="1" lang="en-US" sz="1800" spc="-1" strike="noStrike">
                <a:solidFill>
                  <a:srgbClr val="ff0033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824040"/>
            <a:ext cx="93726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s Duo Ultra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11,5 pg VIH/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s Duo Quick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Genscreen Ultra HIV Ag/Ab                     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Architect HIV ½ Combo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                          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Axsym HIV Combo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                                  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Murex HIV Ag/Ab Combo                        2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24000" y="56484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Detect HIV (v.4)                                        </a:t>
            </a:r>
            <a:r>
              <a:rPr b="1" lang="fr-FR" sz="2400" spc="-1" strike="noStrike">
                <a:solidFill>
                  <a:srgbClr val="ff0033"/>
                </a:solidFill>
                <a:latin typeface="Times New Roman"/>
              </a:rPr>
              <a:t> 31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       19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228600" y="3776760"/>
            <a:ext cx="89154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Modular HIV Combi                               126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24000" y="50007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Enzygnost HIV Integral II                  </a:t>
            </a:r>
            <a:r>
              <a:rPr b="1" lang="fr-FR" sz="2400" spc="-1" strike="noStrike">
                <a:solidFill>
                  <a:srgbClr val="ff0033"/>
                </a:solidFill>
                <a:latin typeface="Times New Roman"/>
              </a:rPr>
              <a:t>   &lt; 50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fr-FR" sz="2400" spc="-1" strike="noStrike">
                <a:solidFill>
                  <a:srgbClr val="ff0033"/>
                </a:solidFill>
                <a:latin typeface="Times New Roman"/>
              </a:rPr>
              <a:t>? 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      23 vers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4000" y="442440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Vironostika  Uniform II Ag/Ab              150       50 ?   version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Existence d’une variabilité du seuil de détection d’Ag p24 d’un lot à lot des tests combinés 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152280" y="1600200"/>
            <a:ext cx="3733920" cy="4648320"/>
            <a:chOff x="152280" y="1600200"/>
            <a:chExt cx="3733920" cy="4648320"/>
          </a:xfrm>
        </p:grpSpPr>
        <p:pic>
          <p:nvPicPr>
            <p:cNvPr id="496" name="" descr=""/>
            <p:cNvPicPr/>
            <p:nvPr/>
          </p:nvPicPr>
          <p:blipFill>
            <a:blip r:embed="rId1"/>
            <a:stretch/>
          </p:blipFill>
          <p:spPr>
            <a:xfrm>
              <a:off x="152280" y="1600200"/>
              <a:ext cx="373392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2004840" y="4764960"/>
              <a:ext cx="388080" cy="0"/>
            </a:xfrm>
            <a:prstGeom prst="line">
              <a:avLst/>
            </a:prstGeom>
            <a:ln w="572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4267080" y="16765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Architect Combo :  &lt; 50 pg/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2743200"/>
            <a:ext cx="50292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Rôle de l’Afssaps dans l’application de la recommandation HAS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fr-FR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Liste officielle des tests combin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Contrôle des lots : fabricants ou Afssaps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228600" y="0"/>
            <a:ext cx="8915400" cy="61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33"/>
                </a:solidFill>
                <a:latin typeface="Times New Roman"/>
              </a:rPr>
              <a:t>Remerci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S. Laperche, 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S. Gonzalo, Biomnis Ly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Bianchi, Laboratoire Départemental de Bon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B. Lécolier (CE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J. Lupu (Centre Suchet, Pari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J.Y. Mascart, AJ Morvan (Laboratoire Morvan Mascart, Paimpo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J.P. Tréguier, JJ Lemoine (Laboratoire Tréguier Lemoine, Lann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. Devare, P. Leroux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. Brennan,</a:t>
            </a:r>
            <a:r>
              <a:rPr b="1" lang="en-US" sz="2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bbott Laborator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L. Santucci, J.M. Jego, S. Gadelle, (Bio-Rad Laborator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. Paour, (BioMérieu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T. Vidalenc, B. Studer  (Dade Behr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. Eberle, (Roche Diagnostics Laborator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14440" y="1371600"/>
            <a:ext cx="8629560" cy="4195800"/>
          </a:xfrm>
          <a:custGeom>
            <a:avLst/>
            <a:gdLst/>
            <a:ahLst/>
            <a:rect l="l" t="t" r="r" b="b"/>
            <a:pathLst>
              <a:path w="5436" h="2643">
                <a:moveTo>
                  <a:pt x="0" y="2640"/>
                </a:moveTo>
                <a:lnTo>
                  <a:pt x="93" y="2626"/>
                </a:lnTo>
                <a:lnTo>
                  <a:pt x="175" y="2618"/>
                </a:lnTo>
                <a:lnTo>
                  <a:pt x="279" y="2604"/>
                </a:lnTo>
                <a:lnTo>
                  <a:pt x="391" y="2582"/>
                </a:lnTo>
                <a:lnTo>
                  <a:pt x="515" y="2539"/>
                </a:lnTo>
                <a:lnTo>
                  <a:pt x="628" y="2481"/>
                </a:lnTo>
                <a:lnTo>
                  <a:pt x="700" y="2416"/>
                </a:lnTo>
                <a:lnTo>
                  <a:pt x="772" y="2351"/>
                </a:lnTo>
                <a:lnTo>
                  <a:pt x="804" y="2314"/>
                </a:lnTo>
                <a:lnTo>
                  <a:pt x="834" y="2285"/>
                </a:lnTo>
                <a:lnTo>
                  <a:pt x="886" y="2228"/>
                </a:lnTo>
                <a:lnTo>
                  <a:pt x="927" y="2141"/>
                </a:lnTo>
                <a:lnTo>
                  <a:pt x="968" y="2061"/>
                </a:lnTo>
                <a:lnTo>
                  <a:pt x="988" y="1989"/>
                </a:lnTo>
                <a:lnTo>
                  <a:pt x="1009" y="1923"/>
                </a:lnTo>
                <a:lnTo>
                  <a:pt x="1030" y="1851"/>
                </a:lnTo>
                <a:lnTo>
                  <a:pt x="1040" y="1787"/>
                </a:lnTo>
                <a:lnTo>
                  <a:pt x="1050" y="1692"/>
                </a:lnTo>
                <a:lnTo>
                  <a:pt x="1061" y="1613"/>
                </a:lnTo>
                <a:lnTo>
                  <a:pt x="1061" y="1555"/>
                </a:lnTo>
                <a:lnTo>
                  <a:pt x="1071" y="1511"/>
                </a:lnTo>
                <a:lnTo>
                  <a:pt x="1091" y="1418"/>
                </a:lnTo>
                <a:lnTo>
                  <a:pt x="1101" y="1330"/>
                </a:lnTo>
                <a:lnTo>
                  <a:pt x="1112" y="1237"/>
                </a:lnTo>
                <a:lnTo>
                  <a:pt x="1123" y="1143"/>
                </a:lnTo>
                <a:lnTo>
                  <a:pt x="1143" y="1041"/>
                </a:lnTo>
                <a:lnTo>
                  <a:pt x="1153" y="911"/>
                </a:lnTo>
                <a:lnTo>
                  <a:pt x="1163" y="774"/>
                </a:lnTo>
                <a:lnTo>
                  <a:pt x="1163" y="701"/>
                </a:lnTo>
                <a:lnTo>
                  <a:pt x="1173" y="636"/>
                </a:lnTo>
                <a:lnTo>
                  <a:pt x="1195" y="499"/>
                </a:lnTo>
                <a:lnTo>
                  <a:pt x="1205" y="369"/>
                </a:lnTo>
                <a:lnTo>
                  <a:pt x="1225" y="239"/>
                </a:lnTo>
                <a:lnTo>
                  <a:pt x="1235" y="181"/>
                </a:lnTo>
                <a:lnTo>
                  <a:pt x="1257" y="130"/>
                </a:lnTo>
                <a:lnTo>
                  <a:pt x="1287" y="72"/>
                </a:lnTo>
                <a:lnTo>
                  <a:pt x="1329" y="29"/>
                </a:lnTo>
                <a:lnTo>
                  <a:pt x="1379" y="0"/>
                </a:lnTo>
                <a:lnTo>
                  <a:pt x="1452" y="0"/>
                </a:lnTo>
                <a:lnTo>
                  <a:pt x="1555" y="15"/>
                </a:lnTo>
                <a:lnTo>
                  <a:pt x="1637" y="88"/>
                </a:lnTo>
                <a:lnTo>
                  <a:pt x="1673" y="161"/>
                </a:lnTo>
                <a:lnTo>
                  <a:pt x="1718" y="288"/>
                </a:lnTo>
                <a:lnTo>
                  <a:pt x="1746" y="379"/>
                </a:lnTo>
                <a:lnTo>
                  <a:pt x="1782" y="461"/>
                </a:lnTo>
                <a:lnTo>
                  <a:pt x="1809" y="534"/>
                </a:lnTo>
                <a:lnTo>
                  <a:pt x="1836" y="634"/>
                </a:lnTo>
                <a:lnTo>
                  <a:pt x="1891" y="752"/>
                </a:lnTo>
                <a:lnTo>
                  <a:pt x="1927" y="834"/>
                </a:lnTo>
                <a:lnTo>
                  <a:pt x="1964" y="952"/>
                </a:lnTo>
                <a:lnTo>
                  <a:pt x="2018" y="1079"/>
                </a:lnTo>
                <a:lnTo>
                  <a:pt x="2027" y="1097"/>
                </a:lnTo>
                <a:lnTo>
                  <a:pt x="2046" y="1152"/>
                </a:lnTo>
                <a:lnTo>
                  <a:pt x="2100" y="1252"/>
                </a:lnTo>
                <a:lnTo>
                  <a:pt x="2155" y="1370"/>
                </a:lnTo>
                <a:lnTo>
                  <a:pt x="2227" y="1470"/>
                </a:lnTo>
                <a:lnTo>
                  <a:pt x="2282" y="1543"/>
                </a:lnTo>
                <a:lnTo>
                  <a:pt x="2318" y="1606"/>
                </a:lnTo>
                <a:lnTo>
                  <a:pt x="2373" y="1670"/>
                </a:lnTo>
                <a:lnTo>
                  <a:pt x="2418" y="1761"/>
                </a:lnTo>
                <a:lnTo>
                  <a:pt x="2482" y="1843"/>
                </a:lnTo>
                <a:lnTo>
                  <a:pt x="2509" y="1897"/>
                </a:lnTo>
                <a:lnTo>
                  <a:pt x="2546" y="1952"/>
                </a:lnTo>
                <a:lnTo>
                  <a:pt x="2582" y="1970"/>
                </a:lnTo>
                <a:lnTo>
                  <a:pt x="2636" y="2034"/>
                </a:lnTo>
                <a:lnTo>
                  <a:pt x="2691" y="2079"/>
                </a:lnTo>
                <a:lnTo>
                  <a:pt x="2718" y="2115"/>
                </a:lnTo>
                <a:lnTo>
                  <a:pt x="2773" y="2143"/>
                </a:lnTo>
                <a:lnTo>
                  <a:pt x="2864" y="2188"/>
                </a:lnTo>
                <a:lnTo>
                  <a:pt x="2936" y="2225"/>
                </a:lnTo>
                <a:lnTo>
                  <a:pt x="3055" y="2270"/>
                </a:lnTo>
                <a:lnTo>
                  <a:pt x="3255" y="2352"/>
                </a:lnTo>
                <a:lnTo>
                  <a:pt x="3500" y="2379"/>
                </a:lnTo>
                <a:lnTo>
                  <a:pt x="3609" y="2379"/>
                </a:lnTo>
                <a:lnTo>
                  <a:pt x="3827" y="2397"/>
                </a:lnTo>
                <a:lnTo>
                  <a:pt x="4027" y="2406"/>
                </a:lnTo>
                <a:lnTo>
                  <a:pt x="4136" y="2406"/>
                </a:lnTo>
                <a:lnTo>
                  <a:pt x="4291" y="2415"/>
                </a:lnTo>
                <a:lnTo>
                  <a:pt x="4536" y="2415"/>
                </a:lnTo>
                <a:lnTo>
                  <a:pt x="4745" y="2406"/>
                </a:lnTo>
                <a:lnTo>
                  <a:pt x="4873" y="2397"/>
                </a:lnTo>
                <a:lnTo>
                  <a:pt x="5018" y="2415"/>
                </a:lnTo>
                <a:lnTo>
                  <a:pt x="4991" y="2434"/>
                </a:lnTo>
                <a:lnTo>
                  <a:pt x="5218" y="2425"/>
                </a:lnTo>
                <a:lnTo>
                  <a:pt x="5409" y="2452"/>
                </a:lnTo>
                <a:lnTo>
                  <a:pt x="5363" y="2443"/>
                </a:lnTo>
                <a:lnTo>
                  <a:pt x="5409" y="2461"/>
                </a:lnTo>
                <a:lnTo>
                  <a:pt x="5436" y="2643"/>
                </a:lnTo>
                <a:lnTo>
                  <a:pt x="0" y="264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1143000"/>
            <a:ext cx="1143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imes New Roman"/>
              </a:rPr>
              <a:t>ARN VI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426960"/>
            <a:ext cx="56390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-360" y="836640"/>
            <a:ext cx="9142920" cy="5562720"/>
            <a:chOff x="-360" y="836640"/>
            <a:chExt cx="9142920" cy="5562720"/>
          </a:xfrm>
        </p:grpSpPr>
        <p:grpSp>
          <p:nvGrpSpPr>
            <p:cNvPr id="100" name=""/>
            <p:cNvGrpSpPr/>
            <p:nvPr/>
          </p:nvGrpSpPr>
          <p:grpSpPr>
            <a:xfrm>
              <a:off x="-360" y="5582880"/>
              <a:ext cx="9094680" cy="816480"/>
              <a:chOff x="-360" y="5582880"/>
              <a:chExt cx="9094680" cy="81648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-360" y="5708160"/>
                <a:ext cx="8739360" cy="691200"/>
                <a:chOff x="-360" y="5708160"/>
                <a:chExt cx="8739360" cy="6912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-360" y="570816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887400"/>
                      <a:tab algn="l" pos="1774800"/>
                      <a:tab algn="l" pos="2662200"/>
                      <a:tab algn="l" pos="3549600"/>
                      <a:tab algn="l" pos="4437000"/>
                      <a:tab algn="l" pos="5324400"/>
                      <a:tab algn="l" pos="6211800"/>
                      <a:tab algn="l" pos="7099200"/>
                      <a:tab algn="l" pos="7986600"/>
                      <a:tab algn="l" pos="8874000"/>
                      <a:tab algn="l" pos="9761400"/>
                      <a:tab algn="l" pos="10648800"/>
                    </a:tabLst>
                  </a:pPr>
                  <a:r>
                    <a:rPr b="1" lang="en-GB" sz="2400" spc="-1" strike="noStrike">
                      <a:solidFill>
                        <a:srgbClr val="ffff33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077120" y="570816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887400"/>
                      <a:tab algn="l" pos="1774800"/>
                      <a:tab algn="l" pos="2662200"/>
                      <a:tab algn="l" pos="3549600"/>
                      <a:tab algn="l" pos="4437000"/>
                      <a:tab algn="l" pos="5324400"/>
                      <a:tab algn="l" pos="6211800"/>
                      <a:tab algn="l" pos="7099200"/>
                      <a:tab algn="l" pos="7986600"/>
                      <a:tab algn="l" pos="8874000"/>
                      <a:tab algn="l" pos="9761400"/>
                      <a:tab algn="l" pos="10648800"/>
                    </a:tabLst>
                  </a:pPr>
                  <a:r>
                    <a:rPr b="1" lang="en-GB" sz="2400" spc="-1" strike="noStrike">
                      <a:solidFill>
                        <a:srgbClr val="ffff33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141280" y="570816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887400"/>
                      <a:tab algn="l" pos="1774800"/>
                      <a:tab algn="l" pos="2662200"/>
                      <a:tab algn="l" pos="3549600"/>
                      <a:tab algn="l" pos="4437000"/>
                      <a:tab algn="l" pos="5324400"/>
                      <a:tab algn="l" pos="6211800"/>
                      <a:tab algn="l" pos="7099200"/>
                      <a:tab algn="l" pos="7986600"/>
                      <a:tab algn="l" pos="8874000"/>
                      <a:tab algn="l" pos="9761400"/>
                      <a:tab algn="l" pos="10648800"/>
                    </a:tabLst>
                  </a:pPr>
                  <a:r>
                    <a:rPr b="1" lang="en-GB" sz="2400" spc="-1" strike="noStrike">
                      <a:solidFill>
                        <a:srgbClr val="ffff33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214080" y="570816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887400"/>
                      <a:tab algn="l" pos="1774800"/>
                      <a:tab algn="l" pos="2662200"/>
                      <a:tab algn="l" pos="3549600"/>
                      <a:tab algn="l" pos="4437000"/>
                      <a:tab algn="l" pos="5324400"/>
                      <a:tab algn="l" pos="6211800"/>
                      <a:tab algn="l" pos="7099200"/>
                      <a:tab algn="l" pos="7986600"/>
                      <a:tab algn="l" pos="8874000"/>
                      <a:tab algn="l" pos="9761400"/>
                      <a:tab algn="l" pos="10648800"/>
                    </a:tabLst>
                  </a:pPr>
                  <a:r>
                    <a:rPr b="1" lang="en-GB" sz="2400" spc="-1" strike="noStrike">
                      <a:solidFill>
                        <a:srgbClr val="ffff33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297320" y="570816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887400"/>
                      <a:tab algn="l" pos="1774800"/>
                      <a:tab algn="l" pos="2662200"/>
                      <a:tab algn="l" pos="3549600"/>
                      <a:tab algn="l" pos="4437000"/>
                      <a:tab algn="l" pos="5324400"/>
                      <a:tab algn="l" pos="6211800"/>
                      <a:tab algn="l" pos="7099200"/>
                      <a:tab algn="l" pos="7986600"/>
                      <a:tab algn="l" pos="8874000"/>
                      <a:tab algn="l" pos="9761400"/>
                      <a:tab algn="l" pos="10648800"/>
                    </a:tabLst>
                  </a:pPr>
                  <a:r>
                    <a:rPr b="1" lang="en-GB" sz="2400" spc="-1" strike="noStrike">
                      <a:solidFill>
                        <a:srgbClr val="ffff33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365440" y="570816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887400"/>
                      <a:tab algn="l" pos="1774800"/>
                      <a:tab algn="l" pos="2662200"/>
                      <a:tab algn="l" pos="3549600"/>
                      <a:tab algn="l" pos="4437000"/>
                      <a:tab algn="l" pos="5324400"/>
                      <a:tab algn="l" pos="6211800"/>
                      <a:tab algn="l" pos="7099200"/>
                      <a:tab algn="l" pos="7986600"/>
                      <a:tab algn="l" pos="8874000"/>
                      <a:tab algn="l" pos="9761400"/>
                      <a:tab algn="l" pos="10648800"/>
                    </a:tabLst>
                  </a:pPr>
                  <a:r>
                    <a:rPr b="1" lang="en-GB" sz="2400" spc="-1" strike="noStrike">
                      <a:solidFill>
                        <a:srgbClr val="ffff33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428160" y="570816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887400"/>
                      <a:tab algn="l" pos="1774800"/>
                      <a:tab algn="l" pos="2662200"/>
                      <a:tab algn="l" pos="3549600"/>
                      <a:tab algn="l" pos="4437000"/>
                      <a:tab algn="l" pos="5324400"/>
                      <a:tab algn="l" pos="6211800"/>
                      <a:tab algn="l" pos="7099200"/>
                      <a:tab algn="l" pos="7986600"/>
                      <a:tab algn="l" pos="8874000"/>
                      <a:tab algn="l" pos="9761400"/>
                      <a:tab algn="l" pos="10648800"/>
                    </a:tabLst>
                  </a:pPr>
                  <a:r>
                    <a:rPr b="1" lang="en-GB" sz="2400" spc="-1" strike="noStrike">
                      <a:solidFill>
                        <a:srgbClr val="ffff33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516080" y="570816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887400"/>
                      <a:tab algn="l" pos="1774800"/>
                      <a:tab algn="l" pos="2662200"/>
                      <a:tab algn="l" pos="3549600"/>
                      <a:tab algn="l" pos="4437000"/>
                      <a:tab algn="l" pos="5324400"/>
                      <a:tab algn="l" pos="6211800"/>
                      <a:tab algn="l" pos="7099200"/>
                      <a:tab algn="l" pos="7986600"/>
                      <a:tab algn="l" pos="8874000"/>
                      <a:tab algn="l" pos="9761400"/>
                      <a:tab algn="l" pos="10648800"/>
                    </a:tabLst>
                  </a:pPr>
                  <a:r>
                    <a:rPr b="1" lang="en-GB" sz="2400" spc="-1" strike="noStrike">
                      <a:solidFill>
                        <a:srgbClr val="ffff33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8586000" y="570816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887400"/>
                      <a:tab algn="l" pos="1774800"/>
                      <a:tab algn="l" pos="2662200"/>
                      <a:tab algn="l" pos="3549600"/>
                      <a:tab algn="l" pos="4437000"/>
                      <a:tab algn="l" pos="5324400"/>
                      <a:tab algn="l" pos="6211800"/>
                      <a:tab algn="l" pos="7099200"/>
                      <a:tab algn="l" pos="7986600"/>
                      <a:tab algn="l" pos="8874000"/>
                      <a:tab algn="l" pos="9761400"/>
                      <a:tab algn="l" pos="10648800"/>
                    </a:tabLst>
                  </a:pPr>
                  <a:r>
                    <a:rPr b="1" lang="en-GB" sz="2400" spc="-1" strike="noStrike">
                      <a:solidFill>
                        <a:srgbClr val="ffff33"/>
                      </a:solidFill>
                      <a:latin typeface="Times New Roman"/>
                    </a:rPr>
                    <a:t>8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727440" y="6018120"/>
                  <a:ext cx="126864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887400"/>
                      <a:tab algn="l" pos="1774800"/>
                      <a:tab algn="l" pos="2662200"/>
                      <a:tab algn="l" pos="3549600"/>
                      <a:tab algn="l" pos="4437000"/>
                      <a:tab algn="l" pos="5324400"/>
                      <a:tab algn="l" pos="6211800"/>
                      <a:tab algn="l" pos="7099200"/>
                      <a:tab algn="l" pos="7986600"/>
                      <a:tab algn="l" pos="8874000"/>
                      <a:tab algn="l" pos="9761400"/>
                      <a:tab algn="l" pos="10648800"/>
                    </a:tabLst>
                  </a:pPr>
                  <a:r>
                    <a:rPr b="1" lang="fr-CA" sz="2500" spc="-1" strike="noStrike">
                      <a:solidFill>
                        <a:srgbClr val="ffff00"/>
                      </a:solidFill>
                      <a:latin typeface="Times New Roman"/>
                    </a:rPr>
                    <a:t>Semaines</a:t>
                  </a:r>
                  <a:endParaRPr b="0" lang="en-US" sz="2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" name=""/>
              <p:cNvSpPr/>
              <p:nvPr/>
            </p:nvSpPr>
            <p:spPr>
              <a:xfrm flipH="1" flipV="1">
                <a:off x="28080" y="5582880"/>
                <a:ext cx="9066240" cy="8280"/>
              </a:xfrm>
              <a:prstGeom prst="line">
                <a:avLst/>
              </a:prstGeom>
              <a:ln w="1015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9142560" y="836640"/>
              <a:ext cx="0" cy="4746600"/>
            </a:xfrm>
            <a:prstGeom prst="line">
              <a:avLst/>
            </a:prstGeom>
            <a:ln w="101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981080" y="3048120"/>
            <a:ext cx="3124440" cy="2573280"/>
            <a:chOff x="1981080" y="3048120"/>
            <a:chExt cx="3124440" cy="2573280"/>
          </a:xfrm>
        </p:grpSpPr>
        <p:sp>
          <p:nvSpPr>
            <p:cNvPr id="115" name=""/>
            <p:cNvSpPr/>
            <p:nvPr/>
          </p:nvSpPr>
          <p:spPr>
            <a:xfrm>
              <a:off x="1981080" y="3048120"/>
              <a:ext cx="3124440" cy="2573280"/>
            </a:xfrm>
            <a:custGeom>
              <a:avLst/>
              <a:gdLst/>
              <a:ahLst/>
              <a:rect l="l" t="t" r="r" b="b"/>
              <a:pathLst>
                <a:path w="1982" h="1583">
                  <a:moveTo>
                    <a:pt x="0" y="1583"/>
                  </a:moveTo>
                  <a:lnTo>
                    <a:pt x="41" y="1576"/>
                  </a:lnTo>
                  <a:lnTo>
                    <a:pt x="82" y="1569"/>
                  </a:lnTo>
                  <a:lnTo>
                    <a:pt x="172" y="1548"/>
                  </a:lnTo>
                  <a:lnTo>
                    <a:pt x="229" y="1520"/>
                  </a:lnTo>
                  <a:lnTo>
                    <a:pt x="278" y="1485"/>
                  </a:lnTo>
                  <a:lnTo>
                    <a:pt x="310" y="1449"/>
                  </a:lnTo>
                  <a:lnTo>
                    <a:pt x="343" y="1407"/>
                  </a:lnTo>
                  <a:lnTo>
                    <a:pt x="367" y="1372"/>
                  </a:lnTo>
                  <a:lnTo>
                    <a:pt x="392" y="1337"/>
                  </a:lnTo>
                  <a:lnTo>
                    <a:pt x="408" y="1281"/>
                  </a:lnTo>
                  <a:lnTo>
                    <a:pt x="424" y="1231"/>
                  </a:lnTo>
                  <a:lnTo>
                    <a:pt x="449" y="1154"/>
                  </a:lnTo>
                  <a:lnTo>
                    <a:pt x="457" y="1112"/>
                  </a:lnTo>
                  <a:lnTo>
                    <a:pt x="457" y="1069"/>
                  </a:lnTo>
                  <a:lnTo>
                    <a:pt x="465" y="1013"/>
                  </a:lnTo>
                  <a:lnTo>
                    <a:pt x="465" y="964"/>
                  </a:lnTo>
                  <a:lnTo>
                    <a:pt x="473" y="908"/>
                  </a:lnTo>
                  <a:lnTo>
                    <a:pt x="482" y="851"/>
                  </a:lnTo>
                  <a:lnTo>
                    <a:pt x="482" y="795"/>
                  </a:lnTo>
                  <a:lnTo>
                    <a:pt x="490" y="746"/>
                  </a:lnTo>
                  <a:lnTo>
                    <a:pt x="490" y="711"/>
                  </a:lnTo>
                  <a:lnTo>
                    <a:pt x="498" y="682"/>
                  </a:lnTo>
                  <a:lnTo>
                    <a:pt x="506" y="626"/>
                  </a:lnTo>
                  <a:lnTo>
                    <a:pt x="506" y="584"/>
                  </a:lnTo>
                  <a:lnTo>
                    <a:pt x="514" y="542"/>
                  </a:lnTo>
                  <a:lnTo>
                    <a:pt x="514" y="464"/>
                  </a:lnTo>
                  <a:lnTo>
                    <a:pt x="514" y="422"/>
                  </a:lnTo>
                  <a:lnTo>
                    <a:pt x="522" y="380"/>
                  </a:lnTo>
                  <a:lnTo>
                    <a:pt x="522" y="295"/>
                  </a:lnTo>
                  <a:lnTo>
                    <a:pt x="530" y="218"/>
                  </a:lnTo>
                  <a:lnTo>
                    <a:pt x="530" y="183"/>
                  </a:lnTo>
                  <a:lnTo>
                    <a:pt x="530" y="155"/>
                  </a:lnTo>
                  <a:lnTo>
                    <a:pt x="539" y="120"/>
                  </a:lnTo>
                  <a:lnTo>
                    <a:pt x="555" y="91"/>
                  </a:lnTo>
                  <a:lnTo>
                    <a:pt x="579" y="28"/>
                  </a:lnTo>
                  <a:lnTo>
                    <a:pt x="596" y="0"/>
                  </a:lnTo>
                  <a:lnTo>
                    <a:pt x="637" y="0"/>
                  </a:lnTo>
                  <a:lnTo>
                    <a:pt x="661" y="7"/>
                  </a:lnTo>
                  <a:lnTo>
                    <a:pt x="677" y="28"/>
                  </a:lnTo>
                  <a:lnTo>
                    <a:pt x="702" y="77"/>
                  </a:lnTo>
                  <a:lnTo>
                    <a:pt x="710" y="127"/>
                  </a:lnTo>
                  <a:lnTo>
                    <a:pt x="726" y="183"/>
                  </a:lnTo>
                  <a:lnTo>
                    <a:pt x="734" y="246"/>
                  </a:lnTo>
                  <a:lnTo>
                    <a:pt x="759" y="324"/>
                  </a:lnTo>
                  <a:lnTo>
                    <a:pt x="775" y="387"/>
                  </a:lnTo>
                  <a:lnTo>
                    <a:pt x="792" y="464"/>
                  </a:lnTo>
                  <a:lnTo>
                    <a:pt x="800" y="549"/>
                  </a:lnTo>
                  <a:lnTo>
                    <a:pt x="816" y="633"/>
                  </a:lnTo>
                  <a:lnTo>
                    <a:pt x="849" y="732"/>
                  </a:lnTo>
                  <a:lnTo>
                    <a:pt x="857" y="774"/>
                  </a:lnTo>
                  <a:lnTo>
                    <a:pt x="881" y="830"/>
                  </a:lnTo>
                  <a:lnTo>
                    <a:pt x="914" y="936"/>
                  </a:lnTo>
                  <a:lnTo>
                    <a:pt x="930" y="985"/>
                  </a:lnTo>
                  <a:lnTo>
                    <a:pt x="963" y="1041"/>
                  </a:lnTo>
                  <a:lnTo>
                    <a:pt x="987" y="1084"/>
                  </a:lnTo>
                  <a:lnTo>
                    <a:pt x="1012" y="1133"/>
                  </a:lnTo>
                  <a:lnTo>
                    <a:pt x="1077" y="1231"/>
                  </a:lnTo>
                  <a:lnTo>
                    <a:pt x="1118" y="1274"/>
                  </a:lnTo>
                  <a:lnTo>
                    <a:pt x="1175" y="1316"/>
                  </a:lnTo>
                  <a:lnTo>
                    <a:pt x="1273" y="1372"/>
                  </a:lnTo>
                  <a:lnTo>
                    <a:pt x="1338" y="1400"/>
                  </a:lnTo>
                  <a:lnTo>
                    <a:pt x="1403" y="1428"/>
                  </a:lnTo>
                  <a:lnTo>
                    <a:pt x="1477" y="1449"/>
                  </a:lnTo>
                  <a:lnTo>
                    <a:pt x="1509" y="1456"/>
                  </a:lnTo>
                  <a:lnTo>
                    <a:pt x="1550" y="1471"/>
                  </a:lnTo>
                  <a:lnTo>
                    <a:pt x="1632" y="1499"/>
                  </a:lnTo>
                  <a:lnTo>
                    <a:pt x="1721" y="1520"/>
                  </a:lnTo>
                  <a:lnTo>
                    <a:pt x="1844" y="1548"/>
                  </a:lnTo>
                  <a:lnTo>
                    <a:pt x="1901" y="1555"/>
                  </a:lnTo>
                  <a:lnTo>
                    <a:pt x="1982" y="1569"/>
                  </a:lnTo>
                  <a:lnTo>
                    <a:pt x="0" y="158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66880" y="4114800"/>
              <a:ext cx="586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</a:rPr>
                <a:t>p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</a:rPr>
                <a:t>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666880" y="2819520"/>
            <a:ext cx="3103560" cy="2776320"/>
            <a:chOff x="2666880" y="2819520"/>
            <a:chExt cx="3103560" cy="2776320"/>
          </a:xfrm>
        </p:grpSpPr>
        <p:sp>
          <p:nvSpPr>
            <p:cNvPr id="118" name=""/>
            <p:cNvSpPr/>
            <p:nvPr/>
          </p:nvSpPr>
          <p:spPr>
            <a:xfrm>
              <a:off x="2666880" y="2819520"/>
              <a:ext cx="3103560" cy="2776320"/>
            </a:xfrm>
            <a:custGeom>
              <a:avLst/>
              <a:gdLst/>
              <a:ahLst/>
              <a:rect l="l" t="t" r="r" b="b"/>
              <a:pathLst>
                <a:path w="1974" h="1069">
                  <a:moveTo>
                    <a:pt x="0" y="1069"/>
                  </a:moveTo>
                  <a:lnTo>
                    <a:pt x="41" y="1069"/>
                  </a:lnTo>
                  <a:lnTo>
                    <a:pt x="81" y="1062"/>
                  </a:lnTo>
                  <a:lnTo>
                    <a:pt x="171" y="1048"/>
                  </a:lnTo>
                  <a:lnTo>
                    <a:pt x="220" y="1034"/>
                  </a:lnTo>
                  <a:lnTo>
                    <a:pt x="277" y="1013"/>
                  </a:lnTo>
                  <a:lnTo>
                    <a:pt x="310" y="985"/>
                  </a:lnTo>
                  <a:lnTo>
                    <a:pt x="342" y="956"/>
                  </a:lnTo>
                  <a:lnTo>
                    <a:pt x="383" y="900"/>
                  </a:lnTo>
                  <a:lnTo>
                    <a:pt x="424" y="844"/>
                  </a:lnTo>
                  <a:lnTo>
                    <a:pt x="440" y="795"/>
                  </a:lnTo>
                  <a:lnTo>
                    <a:pt x="457" y="738"/>
                  </a:lnTo>
                  <a:lnTo>
                    <a:pt x="473" y="668"/>
                  </a:lnTo>
                  <a:lnTo>
                    <a:pt x="481" y="598"/>
                  </a:lnTo>
                  <a:lnTo>
                    <a:pt x="489" y="520"/>
                  </a:lnTo>
                  <a:lnTo>
                    <a:pt x="506" y="450"/>
                  </a:lnTo>
                  <a:lnTo>
                    <a:pt x="506" y="394"/>
                  </a:lnTo>
                  <a:lnTo>
                    <a:pt x="514" y="344"/>
                  </a:lnTo>
                  <a:lnTo>
                    <a:pt x="514" y="288"/>
                  </a:lnTo>
                  <a:lnTo>
                    <a:pt x="530" y="239"/>
                  </a:lnTo>
                  <a:lnTo>
                    <a:pt x="538" y="168"/>
                  </a:lnTo>
                  <a:lnTo>
                    <a:pt x="571" y="105"/>
                  </a:lnTo>
                  <a:lnTo>
                    <a:pt x="587" y="35"/>
                  </a:lnTo>
                  <a:lnTo>
                    <a:pt x="603" y="7"/>
                  </a:lnTo>
                  <a:lnTo>
                    <a:pt x="636" y="0"/>
                  </a:lnTo>
                  <a:lnTo>
                    <a:pt x="661" y="7"/>
                  </a:lnTo>
                  <a:lnTo>
                    <a:pt x="677" y="28"/>
                  </a:lnTo>
                  <a:lnTo>
                    <a:pt x="685" y="56"/>
                  </a:lnTo>
                  <a:lnTo>
                    <a:pt x="701" y="91"/>
                  </a:lnTo>
                  <a:lnTo>
                    <a:pt x="709" y="126"/>
                  </a:lnTo>
                  <a:lnTo>
                    <a:pt x="726" y="161"/>
                  </a:lnTo>
                  <a:lnTo>
                    <a:pt x="734" y="204"/>
                  </a:lnTo>
                  <a:lnTo>
                    <a:pt x="758" y="253"/>
                  </a:lnTo>
                  <a:lnTo>
                    <a:pt x="775" y="295"/>
                  </a:lnTo>
                  <a:lnTo>
                    <a:pt x="791" y="344"/>
                  </a:lnTo>
                  <a:lnTo>
                    <a:pt x="816" y="422"/>
                  </a:lnTo>
                  <a:lnTo>
                    <a:pt x="824" y="457"/>
                  </a:lnTo>
                  <a:lnTo>
                    <a:pt x="840" y="506"/>
                  </a:lnTo>
                  <a:lnTo>
                    <a:pt x="881" y="584"/>
                  </a:lnTo>
                  <a:lnTo>
                    <a:pt x="922" y="661"/>
                  </a:lnTo>
                  <a:lnTo>
                    <a:pt x="962" y="724"/>
                  </a:lnTo>
                  <a:lnTo>
                    <a:pt x="1011" y="781"/>
                  </a:lnTo>
                  <a:lnTo>
                    <a:pt x="1044" y="809"/>
                  </a:lnTo>
                  <a:lnTo>
                    <a:pt x="1077" y="844"/>
                  </a:lnTo>
                  <a:lnTo>
                    <a:pt x="1126" y="872"/>
                  </a:lnTo>
                  <a:lnTo>
                    <a:pt x="1174" y="900"/>
                  </a:lnTo>
                  <a:lnTo>
                    <a:pt x="1223" y="914"/>
                  </a:lnTo>
                  <a:lnTo>
                    <a:pt x="1272" y="935"/>
                  </a:lnTo>
                  <a:lnTo>
                    <a:pt x="1338" y="956"/>
                  </a:lnTo>
                  <a:lnTo>
                    <a:pt x="1403" y="971"/>
                  </a:lnTo>
                  <a:lnTo>
                    <a:pt x="1476" y="985"/>
                  </a:lnTo>
                  <a:lnTo>
                    <a:pt x="1509" y="992"/>
                  </a:lnTo>
                  <a:lnTo>
                    <a:pt x="1550" y="999"/>
                  </a:lnTo>
                  <a:lnTo>
                    <a:pt x="1631" y="1013"/>
                  </a:lnTo>
                  <a:lnTo>
                    <a:pt x="1721" y="1034"/>
                  </a:lnTo>
                  <a:lnTo>
                    <a:pt x="1843" y="1048"/>
                  </a:lnTo>
                  <a:lnTo>
                    <a:pt x="1974" y="1069"/>
                  </a:lnTo>
                  <a:lnTo>
                    <a:pt x="0" y="1069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05320" y="4343040"/>
              <a:ext cx="527040" cy="302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</a:rPr>
                <a:t>Ig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971800" y="914400"/>
            <a:ext cx="6172200" cy="4724280"/>
            <a:chOff x="2971800" y="914400"/>
            <a:chExt cx="6172200" cy="4724280"/>
          </a:xfrm>
        </p:grpSpPr>
        <p:sp>
          <p:nvSpPr>
            <p:cNvPr id="121" name=""/>
            <p:cNvSpPr/>
            <p:nvPr/>
          </p:nvSpPr>
          <p:spPr>
            <a:xfrm>
              <a:off x="2971800" y="914400"/>
              <a:ext cx="6172200" cy="4724280"/>
            </a:xfrm>
            <a:custGeom>
              <a:avLst/>
              <a:gdLst/>
              <a:ahLst/>
              <a:rect l="l" t="t" r="r" b="b"/>
              <a:pathLst>
                <a:path w="2630" h="2732">
                  <a:moveTo>
                    <a:pt x="0" y="2732"/>
                  </a:moveTo>
                  <a:lnTo>
                    <a:pt x="179" y="2641"/>
                  </a:lnTo>
                  <a:lnTo>
                    <a:pt x="301" y="2577"/>
                  </a:lnTo>
                  <a:lnTo>
                    <a:pt x="383" y="2521"/>
                  </a:lnTo>
                  <a:lnTo>
                    <a:pt x="440" y="2486"/>
                  </a:lnTo>
                  <a:lnTo>
                    <a:pt x="481" y="2437"/>
                  </a:lnTo>
                  <a:lnTo>
                    <a:pt x="505" y="2415"/>
                  </a:lnTo>
                  <a:lnTo>
                    <a:pt x="522" y="2401"/>
                  </a:lnTo>
                  <a:lnTo>
                    <a:pt x="538" y="2387"/>
                  </a:lnTo>
                  <a:lnTo>
                    <a:pt x="546" y="2373"/>
                  </a:lnTo>
                  <a:lnTo>
                    <a:pt x="554" y="2366"/>
                  </a:lnTo>
                  <a:lnTo>
                    <a:pt x="562" y="2352"/>
                  </a:lnTo>
                  <a:lnTo>
                    <a:pt x="579" y="2331"/>
                  </a:lnTo>
                  <a:lnTo>
                    <a:pt x="611" y="2289"/>
                  </a:lnTo>
                  <a:lnTo>
                    <a:pt x="677" y="2162"/>
                  </a:lnTo>
                  <a:lnTo>
                    <a:pt x="709" y="2106"/>
                  </a:lnTo>
                  <a:lnTo>
                    <a:pt x="750" y="2050"/>
                  </a:lnTo>
                  <a:lnTo>
                    <a:pt x="807" y="1958"/>
                  </a:lnTo>
                  <a:lnTo>
                    <a:pt x="864" y="1874"/>
                  </a:lnTo>
                  <a:lnTo>
                    <a:pt x="995" y="1705"/>
                  </a:lnTo>
                  <a:lnTo>
                    <a:pt x="1044" y="1627"/>
                  </a:lnTo>
                  <a:lnTo>
                    <a:pt x="1085" y="1564"/>
                  </a:lnTo>
                  <a:lnTo>
                    <a:pt x="1174" y="1430"/>
                  </a:lnTo>
                  <a:lnTo>
                    <a:pt x="1207" y="1374"/>
                  </a:lnTo>
                  <a:lnTo>
                    <a:pt x="1248" y="1325"/>
                  </a:lnTo>
                  <a:lnTo>
                    <a:pt x="1313" y="1240"/>
                  </a:lnTo>
                  <a:lnTo>
                    <a:pt x="1386" y="1163"/>
                  </a:lnTo>
                  <a:lnTo>
                    <a:pt x="1461" y="1075"/>
                  </a:lnTo>
                  <a:lnTo>
                    <a:pt x="1509" y="1015"/>
                  </a:lnTo>
                  <a:lnTo>
                    <a:pt x="1550" y="966"/>
                  </a:lnTo>
                  <a:lnTo>
                    <a:pt x="1623" y="881"/>
                  </a:lnTo>
                  <a:lnTo>
                    <a:pt x="1697" y="803"/>
                  </a:lnTo>
                  <a:lnTo>
                    <a:pt x="1794" y="720"/>
                  </a:lnTo>
                  <a:lnTo>
                    <a:pt x="1908" y="607"/>
                  </a:lnTo>
                  <a:lnTo>
                    <a:pt x="2006" y="509"/>
                  </a:lnTo>
                  <a:lnTo>
                    <a:pt x="2104" y="417"/>
                  </a:lnTo>
                  <a:lnTo>
                    <a:pt x="2161" y="368"/>
                  </a:lnTo>
                  <a:lnTo>
                    <a:pt x="2227" y="319"/>
                  </a:lnTo>
                  <a:lnTo>
                    <a:pt x="2406" y="157"/>
                  </a:lnTo>
                  <a:lnTo>
                    <a:pt x="2496" y="86"/>
                  </a:lnTo>
                  <a:lnTo>
                    <a:pt x="2545" y="51"/>
                  </a:lnTo>
                  <a:lnTo>
                    <a:pt x="2593" y="19"/>
                  </a:lnTo>
                  <a:lnTo>
                    <a:pt x="2618" y="2"/>
                  </a:lnTo>
                  <a:lnTo>
                    <a:pt x="2625" y="0"/>
                  </a:lnTo>
                  <a:lnTo>
                    <a:pt x="2630" y="19"/>
                  </a:lnTo>
                  <a:lnTo>
                    <a:pt x="2628" y="62"/>
                  </a:lnTo>
                  <a:lnTo>
                    <a:pt x="2628" y="126"/>
                  </a:lnTo>
                  <a:lnTo>
                    <a:pt x="2628" y="198"/>
                  </a:lnTo>
                  <a:lnTo>
                    <a:pt x="2628" y="304"/>
                  </a:lnTo>
                  <a:lnTo>
                    <a:pt x="2625" y="374"/>
                  </a:lnTo>
                  <a:lnTo>
                    <a:pt x="2625" y="406"/>
                  </a:lnTo>
                  <a:lnTo>
                    <a:pt x="2628" y="443"/>
                  </a:lnTo>
                  <a:lnTo>
                    <a:pt x="2628" y="502"/>
                  </a:lnTo>
                  <a:lnTo>
                    <a:pt x="2625" y="544"/>
                  </a:lnTo>
                  <a:lnTo>
                    <a:pt x="2625" y="590"/>
                  </a:lnTo>
                  <a:lnTo>
                    <a:pt x="2625" y="627"/>
                  </a:lnTo>
                  <a:lnTo>
                    <a:pt x="2625" y="664"/>
                  </a:lnTo>
                  <a:lnTo>
                    <a:pt x="2625" y="712"/>
                  </a:lnTo>
                  <a:lnTo>
                    <a:pt x="2625" y="752"/>
                  </a:lnTo>
                  <a:lnTo>
                    <a:pt x="2625" y="798"/>
                  </a:lnTo>
                  <a:lnTo>
                    <a:pt x="2625" y="846"/>
                  </a:lnTo>
                  <a:lnTo>
                    <a:pt x="2625" y="896"/>
                  </a:lnTo>
                  <a:lnTo>
                    <a:pt x="2625" y="1022"/>
                  </a:lnTo>
                  <a:lnTo>
                    <a:pt x="2625" y="960"/>
                  </a:lnTo>
                  <a:lnTo>
                    <a:pt x="2625" y="1062"/>
                  </a:lnTo>
                  <a:lnTo>
                    <a:pt x="2625" y="1120"/>
                  </a:lnTo>
                  <a:lnTo>
                    <a:pt x="2625" y="1171"/>
                  </a:lnTo>
                  <a:lnTo>
                    <a:pt x="2625" y="1219"/>
                  </a:lnTo>
                  <a:lnTo>
                    <a:pt x="2625" y="1280"/>
                  </a:lnTo>
                  <a:lnTo>
                    <a:pt x="2625" y="1395"/>
                  </a:lnTo>
                  <a:lnTo>
                    <a:pt x="2625" y="1504"/>
                  </a:lnTo>
                  <a:lnTo>
                    <a:pt x="2625" y="1619"/>
                  </a:lnTo>
                  <a:lnTo>
                    <a:pt x="2625" y="1744"/>
                  </a:lnTo>
                  <a:lnTo>
                    <a:pt x="2625" y="1846"/>
                  </a:lnTo>
                  <a:lnTo>
                    <a:pt x="2626" y="1958"/>
                  </a:lnTo>
                  <a:lnTo>
                    <a:pt x="2626" y="2078"/>
                  </a:lnTo>
                  <a:lnTo>
                    <a:pt x="2626" y="2352"/>
                  </a:lnTo>
                  <a:lnTo>
                    <a:pt x="2626" y="2514"/>
                  </a:lnTo>
                  <a:lnTo>
                    <a:pt x="2626" y="2697"/>
                  </a:lnTo>
                  <a:lnTo>
                    <a:pt x="2626" y="2711"/>
                  </a:lnTo>
                  <a:lnTo>
                    <a:pt x="2626" y="2732"/>
                  </a:lnTo>
                  <a:lnTo>
                    <a:pt x="0" y="2732"/>
                  </a:lnTo>
                  <a:close/>
                </a:path>
              </a:pathLst>
            </a:custGeom>
            <a:solidFill>
              <a:srgbClr val="ff9999"/>
            </a:solidFill>
            <a:ln w="38160">
              <a:solidFill>
                <a:srgbClr val="dd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162920" y="2895480"/>
              <a:ext cx="64440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pPr>
                <a:spcBef>
                  <a:spcPts val="1188"/>
                </a:spcBef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fr-FR" sz="1900" spc="-1" strike="noStrike">
                  <a:solidFill>
                    <a:srgbClr val="ff0000"/>
                  </a:solidFill>
                  <a:latin typeface="Times New Roman"/>
                </a:rPr>
                <a:t>IgG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4495680" y="4343400"/>
            <a:ext cx="990720" cy="0"/>
          </a:xfrm>
          <a:prstGeom prst="line">
            <a:avLst/>
          </a:prstGeom>
          <a:ln w="5724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14840" rIns="114840" tIns="-57240" bIns="-57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13320" y="4313160"/>
            <a:ext cx="0" cy="1243080"/>
          </a:xfrm>
          <a:prstGeom prst="line">
            <a:avLst/>
          </a:prstGeom>
          <a:ln w="57240">
            <a:solidFill>
              <a:srgbClr val="ff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3886200"/>
            <a:ext cx="3352680" cy="332280"/>
          </a:xfrm>
          <a:prstGeom prst="rect">
            <a:avLst/>
          </a:prstGeom>
          <a:solidFill>
            <a:srgbClr val="cc66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GB" sz="1600" spc="-1" strike="noStrike" baseline="30000">
                <a:solidFill>
                  <a:srgbClr val="0000ff"/>
                </a:solidFill>
                <a:latin typeface="Times New Roman"/>
              </a:rPr>
              <a:t>ème</a:t>
            </a:r>
            <a:r>
              <a:rPr b="1" lang="en-GB" sz="1600" spc="-1" strike="noStrike">
                <a:solidFill>
                  <a:srgbClr val="0000ff"/>
                </a:solidFill>
                <a:latin typeface="Times New Roman"/>
              </a:rPr>
              <a:t> Géné 1988  (P. recombinantes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3429000"/>
            <a:ext cx="3124440" cy="0"/>
          </a:xfrm>
          <a:prstGeom prst="line">
            <a:avLst/>
          </a:prstGeom>
          <a:ln w="57240">
            <a:solidFill>
              <a:srgbClr val="99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14840" rIns="114840" tIns="-57240" bIns="-57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3048120"/>
            <a:ext cx="1812960" cy="363240"/>
          </a:xfrm>
          <a:prstGeom prst="rect">
            <a:avLst/>
          </a:prstGeom>
          <a:solidFill>
            <a:srgbClr val="99ff99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GB" sz="1800" spc="-1" strike="noStrike" baseline="30000">
                <a:solidFill>
                  <a:srgbClr val="0000ff"/>
                </a:solidFill>
                <a:latin typeface="Times New Roman"/>
              </a:rPr>
              <a:t>ème</a:t>
            </a: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 Géné 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3429000"/>
            <a:ext cx="0" cy="2057400"/>
          </a:xfrm>
          <a:prstGeom prst="line">
            <a:avLst/>
          </a:prstGeom>
          <a:ln w="57240">
            <a:solidFill>
              <a:srgbClr val="99ff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833560"/>
            <a:ext cx="3200400" cy="290520"/>
          </a:xfrm>
          <a:prstGeom prst="leftRightArrow">
            <a:avLst>
              <a:gd name="adj1" fmla="val 32000"/>
              <a:gd name="adj2" fmla="val 222821"/>
            </a:avLst>
          </a:prstGeom>
          <a:gradFill rotWithShape="0">
            <a:gsLst>
              <a:gs pos="0">
                <a:srgbClr val="0000cc"/>
              </a:gs>
              <a:gs pos="100000">
                <a:srgbClr val="ff0000"/>
              </a:gs>
            </a:gsLst>
            <a:lin ang="10800000"/>
          </a:gradFill>
          <a:ln w="28440">
            <a:solidFill>
              <a:srgbClr val="00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529000"/>
            <a:ext cx="2525760" cy="240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0000"/>
              </a:gs>
            </a:gsLst>
            <a:lin ang="10800000"/>
          </a:gradFill>
          <a:ln w="19080">
            <a:solidFill>
              <a:srgbClr val="00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Fenêtre sérologi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-304920"/>
            <a:ext cx="944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62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5334120"/>
            <a:ext cx="106704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14840" rIns="114840" tIns="-57240" bIns="-57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75160" y="5348160"/>
            <a:ext cx="0" cy="49392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77120" y="5029200"/>
            <a:ext cx="2666880" cy="33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GB" sz="1600" spc="-1" strike="noStrike" baseline="30000">
                <a:solidFill>
                  <a:srgbClr val="0000ff"/>
                </a:solidFill>
                <a:latin typeface="Times New Roman"/>
              </a:rPr>
              <a:t>ère</a:t>
            </a:r>
            <a:r>
              <a:rPr b="1" lang="en-GB" sz="1600" spc="-1" strike="noStrike">
                <a:solidFill>
                  <a:srgbClr val="0000ff"/>
                </a:solidFill>
                <a:latin typeface="Times New Roman"/>
              </a:rPr>
              <a:t> Géné 1985 (viral lysa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1828800"/>
            <a:ext cx="2133720" cy="637560"/>
          </a:xfrm>
          <a:prstGeom prst="rect">
            <a:avLst/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GB" sz="1800" spc="-1" strike="noStrike" baseline="30000">
                <a:solidFill>
                  <a:srgbClr val="0000ff"/>
                </a:solidFill>
                <a:latin typeface="Times New Roman"/>
              </a:rPr>
              <a:t>ème</a:t>
            </a: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 Géné  ou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T. combiné 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819520" y="2133720"/>
            <a:ext cx="3047760" cy="252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14840" rIns="114840" tIns="-32040" bIns="-32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2133720"/>
            <a:ext cx="0" cy="34290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1447920"/>
            <a:ext cx="1828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Sensitivité des différentes générations tests de dépist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001000" y="6045120"/>
            <a:ext cx="838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80040" y="70470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111276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99,5  à 99,6 % moins bonne que les tests de détection d’anticor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1976400"/>
            <a:ext cx="46483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ürtler et al.,  J. Virol. Methods. 19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er et al., J. Clin. Microbiol. 19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y et al., J. Clin. Microbiol. 2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76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ème de  Spécificité des premiers tests combin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0" y="3200400"/>
            <a:ext cx="9144000" cy="2921400"/>
            <a:chOff x="0" y="3200400"/>
            <a:chExt cx="9144000" cy="2921400"/>
          </a:xfrm>
        </p:grpSpPr>
        <p:sp>
          <p:nvSpPr>
            <p:cNvPr id="148" name=""/>
            <p:cNvSpPr/>
            <p:nvPr/>
          </p:nvSpPr>
          <p:spPr>
            <a:xfrm>
              <a:off x="228600" y="3921120"/>
              <a:ext cx="891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66"/>
                  </a:solidFill>
                  <a:latin typeface="Times New Roman"/>
                  <a:ea typeface="Times New Roman"/>
                </a:rPr>
                <a:t>Les tests combinés apparus entre 1997 et  2000 présentent un seuil de détection élevé par rapport au test d’antigène p2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47640" y="5043600"/>
              <a:ext cx="49532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01"/>
                </a:spcBef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aperche et al., Transfus Clin Biol. 20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spcBef>
                  <a:spcPts val="1001"/>
                </a:spcBef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y et al., </a:t>
              </a: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ur. J. Clin. Microbiol. Infect. Dis.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spcBef>
                  <a:spcPts val="1001"/>
                </a:spcBef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de-DE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eber, B. 2003. AI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320040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blème de  Sensitivité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des premiers tests combiné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itivité de la détection d’Ag p2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977760"/>
          <a:ext cx="9144000" cy="54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7760"/>
                    <a:ext cx="9144000" cy="54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116000" y="6080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33"/>
                </a:solidFill>
                <a:latin typeface="Times New Roman"/>
              </a:rPr>
              <a:t>(panel d’Ag VIH SFTS : LAI sous-type 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09680" y="1565280"/>
            <a:ext cx="290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2080" y="2514600"/>
            <a:ext cx="7645320" cy="29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ffffff"/>
                </a:solidFill>
                <a:latin typeface="Times New Roman"/>
              </a:rPr>
              <a:t>VIDAS HIV DUO  / 3</a:t>
            </a:r>
            <a:r>
              <a:rPr b="1" i="1" lang="fr-FR" sz="22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1" i="1" lang="fr-FR" sz="2200" spc="-1" strike="noStrike">
                <a:solidFill>
                  <a:srgbClr val="ffffff"/>
                </a:solidFill>
                <a:latin typeface="Times New Roman"/>
              </a:rPr>
              <a:t> Gen EIA</a:t>
            </a:r>
            <a:r>
              <a:rPr b="1" lang="fr-FR" sz="2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fr-FR" sz="2000" spc="-1" strike="noStrike">
                <a:solidFill>
                  <a:srgbClr val="ffff00"/>
                </a:solidFill>
                <a:latin typeface="Times New Roman"/>
              </a:rPr>
              <a:t>pos/pos </a:t>
            </a:r>
            <a:r>
              <a:rPr b="1" i="1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fr-FR" sz="2000" spc="-1" strike="noStrike">
                <a:solidFill>
                  <a:srgbClr val="ffff00"/>
                </a:solidFill>
                <a:latin typeface="Times New Roman"/>
              </a:rPr>
              <a:t>pos/neg</a:t>
            </a:r>
            <a:r>
              <a:rPr b="1" i="1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fr-FR" sz="2000" spc="-1" strike="noStrike">
                <a:solidFill>
                  <a:srgbClr val="ffff00"/>
                </a:solidFill>
                <a:latin typeface="Times New Roman"/>
              </a:rPr>
              <a:t>    neg/p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                                                 </a:t>
            </a: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453             160             4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ff0000"/>
                </a:solidFill>
                <a:latin typeface="Times New Roman"/>
              </a:rPr>
              <a:t>Western blot positif</a:t>
            </a: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                       449</a:t>
            </a: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     0</a:t>
            </a: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          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ff0000"/>
                </a:solidFill>
                <a:latin typeface="Times New Roman"/>
              </a:rPr>
              <a:t>p24Ag positif </a:t>
            </a: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                                                          17</a:t>
            </a: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   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ff0000"/>
                </a:solidFill>
                <a:latin typeface="Times New Roman"/>
              </a:rPr>
              <a:t>Suivi Western blot positif</a:t>
            </a: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          4/4              17/17</a:t>
            </a: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          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29 002 négati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17/470 (3.6%) VIH infection détectée  par VIDAS HIV DU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5689440"/>
            <a:ext cx="53341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5546880"/>
            <a:ext cx="4191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pécificité VIDAS Duo :  99.51% ;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Spécificité  </a:t>
            </a:r>
            <a:r>
              <a:rPr b="1" i="1" lang="fr-FR" sz="20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i="1" lang="fr-FR" sz="2000" spc="-1" strike="noStrike" baseline="30000">
                <a:solidFill>
                  <a:srgbClr val="ffff00"/>
                </a:solidFill>
                <a:latin typeface="Times New Roman"/>
              </a:rPr>
              <a:t>ème</a:t>
            </a:r>
            <a:r>
              <a:rPr b="1" i="1" lang="fr-FR" sz="2000" spc="-1" strike="noStrike">
                <a:solidFill>
                  <a:srgbClr val="ffff00"/>
                </a:solidFill>
                <a:latin typeface="Times New Roman"/>
              </a:rPr>
              <a:t>Gen EIA</a:t>
            </a: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: 99.8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48720" y="6116760"/>
            <a:ext cx="1295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Ly et al, Journal of Clinical Microbiology, 2000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“ Contribution of combined detection assays of p24 antigen and anti-human immunodeficiency virus (HIV) antibodies in diagnosis of primary HIV infection by routine testing. 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295280"/>
            <a:ext cx="914400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5 laborato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29 657 échantillons 3</a:t>
            </a:r>
            <a:r>
              <a:rPr b="1" lang="fr-FR" sz="2000" spc="-1" strike="noStrike" baseline="30000">
                <a:solidFill>
                  <a:srgbClr val="ffffff"/>
                </a:solidFill>
                <a:latin typeface="Times New Roman"/>
              </a:rPr>
              <a:t>ème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 génération et VIDAS HIV DU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10666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éroprévalence élevée Population : 1.6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84720" y="3776760"/>
            <a:ext cx="762120" cy="380880"/>
          </a:xfrm>
          <a:prstGeom prst="ellipse">
            <a:avLst/>
          </a:prstGeom>
          <a:noFill/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3200400"/>
            <a:ext cx="609480" cy="0"/>
          </a:xfrm>
          <a:prstGeom prst="line">
            <a:avLst/>
          </a:prstGeom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0" y="608040"/>
          <a:ext cx="9144000" cy="579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8040"/>
                    <a:ext cx="914400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539640" y="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0 tests de dépistage ELISA disponibles en Europe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2479680"/>
            <a:ext cx="2872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87280" y="896760"/>
            <a:ext cx="67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Ly et al.</a:t>
            </a:r>
            <a:r>
              <a:rPr b="1" i="1" lang="en-GB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J. Virol. Methods 2007</a:t>
            </a: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ould the new HIV combined p24 antigen and antibody (Ag/Ab) assays  replace p24 antigen specific assays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0" y="1450800"/>
            <a:ext cx="9144000" cy="4950000"/>
            <a:chOff x="0" y="1450800"/>
            <a:chExt cx="9144000" cy="4950000"/>
          </a:xfrm>
        </p:grpSpPr>
        <p:graphicFrame>
          <p:nvGraphicFramePr>
            <p:cNvPr id="173" name=""/>
            <p:cNvGraphicFramePr/>
            <p:nvPr/>
          </p:nvGraphicFramePr>
          <p:xfrm>
            <a:off x="0" y="1450800"/>
            <a:ext cx="9144000" cy="4248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450800"/>
                      <a:ext cx="9144000" cy="424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"/>
            <p:cNvGraphicFramePr/>
            <p:nvPr/>
          </p:nvGraphicFramePr>
          <p:xfrm>
            <a:off x="42840" y="5702400"/>
            <a:ext cx="9096480" cy="6984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840" y="5702400"/>
                      <a:ext cx="9096480" cy="6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7" name=""/>
          <p:cNvGrpSpPr/>
          <p:nvPr/>
        </p:nvGrpSpPr>
        <p:grpSpPr>
          <a:xfrm>
            <a:off x="250920" y="1687320"/>
            <a:ext cx="936360" cy="4249440"/>
            <a:chOff x="250920" y="1687320"/>
            <a:chExt cx="936360" cy="4249440"/>
          </a:xfrm>
        </p:grpSpPr>
        <p:sp>
          <p:nvSpPr>
            <p:cNvPr id="178" name=""/>
            <p:cNvSpPr/>
            <p:nvPr/>
          </p:nvSpPr>
          <p:spPr>
            <a:xfrm flipV="1">
              <a:off x="250920" y="1687320"/>
              <a:ext cx="936360" cy="14436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50920" y="2479320"/>
              <a:ext cx="936360" cy="14436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50920" y="3560400"/>
              <a:ext cx="936360" cy="14436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50920" y="5792400"/>
              <a:ext cx="936360" cy="14436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0" y="1112760"/>
          <a:ext cx="9158400" cy="528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12760"/>
                    <a:ext cx="9158400" cy="52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95280" y="0"/>
            <a:ext cx="8153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pécifici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9640" y="608040"/>
            <a:ext cx="860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3360" indent="-333360">
              <a:spcBef>
                <a:spcPts val="400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005 échantillons négatives en VIH provenant de 4 laboratoires privés frança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L. C. L.</dc:creator>
  <dc:description/>
  <dc:language>en-US</dc:language>
  <cp:lastModifiedBy>LY</cp:lastModifiedBy>
  <cp:lastPrinted>2000-02-07T14:07:12Z</cp:lastPrinted>
  <dcterms:modified xsi:type="dcterms:W3CDTF">2008-11-25T06:38:49Z</dcterms:modified>
  <cp:revision>1290</cp:revision>
  <dc:subject/>
  <dc:title>Aucun titre de diaposi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84030873</vt:r8>
  </property>
  <property fmtid="{D5CDD505-2E9C-101B-9397-08002B2CF9AE}" pid="3" name="_AuthorEmail">
    <vt:lpwstr>gaugis@lab-merieux.net</vt:lpwstr>
  </property>
  <property fmtid="{D5CDD505-2E9C-101B-9397-08002B2CF9AE}" pid="4" name="_AuthorEmailDisplayName">
    <vt:lpwstr>AUGIS Graziella</vt:lpwstr>
  </property>
  <property fmtid="{D5CDD505-2E9C-101B-9397-08002B2CF9AE}" pid="5" name="_EmailSubject">
    <vt:lpwstr>Diaporama avec logo LCL en blanc</vt:lpwstr>
  </property>
  <property fmtid="{D5CDD505-2E9C-101B-9397-08002B2CF9AE}" pid="6" name="_ReviewingToolsShownOnce">
    <vt:lpwstr/>
  </property>
</Properties>
</file>