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2B884-7D3C-43C6-AFE7-D489B805D1B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D021A-819F-4093-95CD-FD84D709C064}" type="slidenum">
              <a:rPr b="0" lang="fr-F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78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D2502-F5E4-45B0-9EBD-B19DC58516A8}" type="slidenum">
              <a:rPr b="0" lang="fr-F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78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DA76E-5CAD-4376-8DE2-9BFC34A46977}" type="slidenum">
              <a:rPr b="0" lang="fr-F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78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08958-D1D1-4CB3-97FF-8559E5A24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B4B92-5729-4291-8092-64C0E30E4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97582-B527-4260-B0B7-28F202ED2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DE86A-4134-48D1-A635-CE7279011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32C0C-1ACD-4A53-A919-6E8A90092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2B220-A643-41ED-8C00-470A55498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EFBF4-E5CE-462C-8A9C-0E3130BC4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446ED-CC39-4984-87A5-9DC6295C9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5369F-1038-4A0E-BE22-DAE142A35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B5FC0-B470-4704-A670-7DE8E6342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7E7AD-3E21-4E7A-B6DF-65B36BD55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8AD31-9204-4432-AC46-61111A8F6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1756D-21F4-447B-9113-501B554C0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59872-7061-4B81-AD96-699DBEC62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0DF64-0168-4EF7-AAA0-130486CE8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C6C95-F02D-4695-BAD3-8A4CE5874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F2811-1D9D-4044-AA7C-FE500C5A4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A1C68-BFBE-4E8D-84E4-E42F3C1E6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EB22C-8B20-401B-A2A4-F863C7092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3697C-AF0A-4674-84F7-567785ED8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447F6-4E4C-4E0D-B078-78E5648EA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7A847-7E1C-4481-AEB0-03EE6294B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0BC2A-D514-4754-AA87-4EF5F03D6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F46EF-0D39-47F4-A4EC-3E4F45EC6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AE5E7-67FA-408F-8BBB-544E50636E0E}" type="slidenum">
              <a:rPr b="0" lang="fr-FR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8B4D3-6898-4A3F-A5D1-E19B69FC8D53}" type="slidenum">
              <a:rPr b="0" lang="fr-FR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Bilan de l’utilisation des tests rapides à l’hôpital Saint-Antoine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ffffff"/>
                </a:solidFill>
                <a:uFillTx/>
                <a:latin typeface="Arial"/>
              </a:rPr>
              <a:t>1000 demandes du 1/6/2002 au 29/2/2008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réalisées avec le test Determin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 3" charset="2"/>
              <a:buChar char="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66ccff"/>
                </a:solidFill>
                <a:latin typeface="Arial"/>
              </a:rPr>
              <a:t>971 tests rapides négatif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968 ont été confirmés négatifs par les deux tests de dépistag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3 ont été retrouvés positifs par un des deux tests Elisa mais WB négatif ou indéterminé (pas d’évolution: faux positif de l’Elisa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 3" charset="2"/>
              <a:buChar char="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0000"/>
                </a:solidFill>
                <a:latin typeface="Arial"/>
              </a:rPr>
              <a:t>29  tests rapides positifs ou douteux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(26 positifs et 3 douteux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6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3 tests douteux ont été retrouvés négatifs par les deux tests de dépistage (faux positifs du test rapide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6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Parmi les 26 tests positifs, 3 ont été retrouvés négatifs par les deux tests de dépistage et 23 ont été confirmés positifs par l’Elisa et le Western blot (faux positifs du test rapide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Bilan de l’utilisation des tests rapides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33520" y="1203120"/>
            <a:ext cx="80755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ffffff"/>
                </a:solidFill>
                <a:uFillTx/>
                <a:latin typeface="Arial"/>
              </a:rPr>
              <a:t>Sur 1000 demandes du 1/6/2002 au 29/2/2008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1800"/>
              </a:spcBef>
              <a:buClr>
                <a:srgbClr val="ffffff"/>
              </a:buClr>
              <a:buFont typeface="Wingdings 3" charset="2"/>
              <a:buChar char="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2400" spc="-1" strike="noStrike" u="sng">
                <a:solidFill>
                  <a:srgbClr val="ffffff"/>
                </a:solidFill>
                <a:uFillTx/>
                <a:latin typeface="Arial"/>
              </a:rPr>
              <a:t>Sensibilité 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de 100% du test rapide Determine (référence: Elisa et WB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 3" charset="2"/>
              <a:buChar char="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2400" spc="-1" strike="noStrike" u="sng">
                <a:solidFill>
                  <a:srgbClr val="ffffff"/>
                </a:solidFill>
                <a:uFillTx/>
                <a:latin typeface="Arial"/>
              </a:rPr>
              <a:t>Spécificité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de 99,3% du test rapide (99, 6% du dépistage par Elisa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ffffff"/>
                </a:solidFill>
                <a:uFillTx/>
                <a:latin typeface="Arial"/>
              </a:rPr>
              <a:t>Analyse avec le test rapide INSTI de 20 demandes positives ou douteuses avec le test Determin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611280" y="4365720"/>
          <a:ext cx="8353440" cy="2254320"/>
        </p:xfrm>
        <a:graphic>
          <a:graphicData uri="http://schemas.openxmlformats.org/drawingml/2006/table">
            <a:tbl>
              <a:tblPr/>
              <a:tblGrid>
                <a:gridCol w="2184480"/>
                <a:gridCol w="2568240"/>
                <a:gridCol w="3600720"/>
              </a:tblGrid>
              <a:tr h="42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ELIS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etermine </a:t>
                      </a: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(Inverness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nsti </a:t>
                      </a: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(</a:t>
                      </a: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Nephrotek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Négatifs n=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ositifs n=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outeux n=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ositifs n=2, Négatif n= 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Négatifs n=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ositifs n=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ositifs n=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ositifs n=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8 faux positif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as de faux négatif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 faux positif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as de faux négatif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Bilan de l’utilisation des tests rapides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33520" y="907920"/>
            <a:ext cx="807552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Praticabilité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755640" y="1486080"/>
          <a:ext cx="7704000" cy="4967280"/>
        </p:xfrm>
        <a:graphic>
          <a:graphicData uri="http://schemas.openxmlformats.org/drawingml/2006/table">
            <a:tbl>
              <a:tblPr/>
              <a:tblGrid>
                <a:gridCol w="1871280"/>
                <a:gridCol w="3168720"/>
                <a:gridCol w="2664000"/>
              </a:tblGrid>
              <a:tr h="62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etermine </a:t>
                      </a: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(Inverness)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« Bandelette 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nsti </a:t>
                      </a: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(</a:t>
                      </a: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Nephrotek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« Savonnette 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atériel pour prélèvement sur sang total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N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ui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4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éactifs prêts à l’emploi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as de réactif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ui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4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émoin de réa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ui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ui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emps de réalisa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5 m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&lt;5 m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4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Lectur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++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+++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raçabilité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ui (en collant la bandelette sur une feuille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Non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ui (si réalisation d’une photo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éremp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 mois-1 a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7 moi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rix par test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,75 euros TTC (prix AP-HP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?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9T10:50:35Z</dcterms:created>
  <dc:creator>MORAND</dc:creator>
  <dc:description/>
  <dc:language>en-US</dc:language>
  <cp:lastModifiedBy>stagiaire</cp:lastModifiedBy>
  <dcterms:modified xsi:type="dcterms:W3CDTF">2008-11-25T10:39:28Z</dcterms:modified>
  <cp:revision>55</cp:revision>
  <dc:subject/>
  <dc:title>Diagnostic sérologique du VIH</dc:title>
</cp:coreProperties>
</file>