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037-94E2-424D-9E5B-6189E933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655-5E74-4BF0-8A40-AF42E91A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DFB-03BF-409C-A34E-FB6BB23D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5E3-4F50-43EE-BD96-1795C897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B4A-9C8E-42C4-B88D-3990B0B2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5E0-A816-41F9-9CA9-A577358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9C4-FD74-41AD-98D4-E983731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DD3-1D3E-4333-804A-A9AD617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197-1DAF-4A0C-A6DD-F87D4811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9CA-9DDE-4B30-84B8-1DD88B07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CF6-DB7E-43A7-A8CB-0D0738C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519-87D7-4DA5-BC2B-A38048F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FE88-EFA5-4571-975F-F248C7C2C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3068640"/>
            <a:ext cx="6576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19720" y="685800"/>
            <a:ext cx="4343400" cy="1189080"/>
            <a:chOff x="4419720" y="685800"/>
            <a:chExt cx="4343400" cy="1189080"/>
          </a:xfrm>
        </p:grpSpPr>
        <p:sp>
          <p:nvSpPr>
            <p:cNvPr id="43" name=""/>
            <p:cNvSpPr/>
            <p:nvPr/>
          </p:nvSpPr>
          <p:spPr>
            <a:xfrm>
              <a:off x="4419720" y="762120"/>
              <a:ext cx="3200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Équipe d’accueil EA26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aculté de Médecine-Pharma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niversité de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431120" y="685800"/>
              <a:ext cx="1332000" cy="828720"/>
              <a:chOff x="7431120" y="685800"/>
              <a:chExt cx="1332000" cy="82872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rcRect l="22478" t="21694" r="25143" b="62589"/>
              <a:stretch/>
            </p:blipFill>
            <p:spPr>
              <a:xfrm>
                <a:off x="7431120" y="685800"/>
                <a:ext cx="133200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rcRect l="22478" t="53443" r="25143" b="27515"/>
              <a:stretch/>
            </p:blipFill>
            <p:spPr>
              <a:xfrm>
                <a:off x="7431120" y="1190160"/>
                <a:ext cx="1292760" cy="32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" name=""/>
          <p:cNvGrpSpPr/>
          <p:nvPr/>
        </p:nvGrpSpPr>
        <p:grpSpPr>
          <a:xfrm>
            <a:off x="533520" y="685800"/>
            <a:ext cx="3523680" cy="1195560"/>
            <a:chOff x="533520" y="685800"/>
            <a:chExt cx="3523680" cy="1195560"/>
          </a:xfrm>
        </p:grpSpPr>
        <p:sp>
          <p:nvSpPr>
            <p:cNvPr id="48" name=""/>
            <p:cNvSpPr/>
            <p:nvPr/>
          </p:nvSpPr>
          <p:spPr>
            <a:xfrm>
              <a:off x="1164960" y="790560"/>
              <a:ext cx="2892240" cy="10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ôle Biolog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de Virolog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ôpital C. Nico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HU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533520" y="685800"/>
            <a:ext cx="1294920" cy="77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685800"/>
                      <a:ext cx="129492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1392840" y="2873520"/>
            <a:ext cx="667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ux négatifs VIH-1 groupe O au dépi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lan 200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jean-christophe.plantier@univ-rouen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6760" y="5300640"/>
            <a:ext cx="3067200" cy="988200"/>
            <a:chOff x="626760" y="5300640"/>
            <a:chExt cx="3067200" cy="988200"/>
          </a:xfrm>
        </p:grpSpPr>
        <p:pic>
          <p:nvPicPr>
            <p:cNvPr id="53" name="" descr="Institut de Veille Sanitaire"/>
            <p:cNvPicPr/>
            <p:nvPr/>
          </p:nvPicPr>
          <p:blipFill>
            <a:blip r:embed="rId5"/>
            <a:stretch/>
          </p:blipFill>
          <p:spPr>
            <a:xfrm>
              <a:off x="803160" y="5300640"/>
              <a:ext cx="86868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26760" y="5829840"/>
              <a:ext cx="306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assoc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u Centre National de Référence du VI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900000" y="3357720"/>
            <a:ext cx="7369200" cy="2414160"/>
            <a:chOff x="900000" y="3357720"/>
            <a:chExt cx="7369200" cy="2414160"/>
          </a:xfrm>
        </p:grpSpPr>
        <p:grpSp>
          <p:nvGrpSpPr>
            <p:cNvPr id="56" name=""/>
            <p:cNvGrpSpPr/>
            <p:nvPr/>
          </p:nvGrpSpPr>
          <p:grpSpPr>
            <a:xfrm>
              <a:off x="900000" y="3357720"/>
              <a:ext cx="3824280" cy="2414160"/>
              <a:chOff x="900000" y="3357720"/>
              <a:chExt cx="3824280" cy="241416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8800" y="3606480"/>
                <a:ext cx="3435480" cy="19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1068480" y="335772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64440" y="3606480"/>
                <a:ext cx="134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Verdana"/>
                  </a:rPr>
                  <a:t>Leoz et coll., AIDS, 2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00000" y="5403600"/>
                <a:ext cx="14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Verdana"/>
                  </a:rPr>
                  <a:t>Rouen, CPC &amp; datab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248440" y="3400560"/>
              <a:ext cx="3020760" cy="2199600"/>
              <a:chOff x="5248440" y="3400560"/>
              <a:chExt cx="3020760" cy="21996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48440" y="3448440"/>
                <a:ext cx="207036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779160" y="5384520"/>
                <a:ext cx="1490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rcher et coll., AIDS, 20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06840" y="3400560"/>
                <a:ext cx="104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075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Verdana"/>
              </a:rPr>
              <a:t>VIH-1 groupe O (outli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9400" y="1341360"/>
            <a:ext cx="1759320" cy="1688760"/>
            <a:chOff x="329400" y="1341360"/>
            <a:chExt cx="1759320" cy="1688760"/>
          </a:xfrm>
        </p:grpSpPr>
        <p:grpSp>
          <p:nvGrpSpPr>
            <p:cNvPr id="67" name=""/>
            <p:cNvGrpSpPr/>
            <p:nvPr/>
          </p:nvGrpSpPr>
          <p:grpSpPr>
            <a:xfrm>
              <a:off x="329400" y="1341360"/>
              <a:ext cx="1576800" cy="1615680"/>
              <a:chOff x="329400" y="1341360"/>
              <a:chExt cx="1576800" cy="1615680"/>
            </a:xfrm>
          </p:grpSpPr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9400" y="1341360"/>
                <a:ext cx="1576800" cy="16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9400" y="1341360"/>
                <a:ext cx="1576800" cy="161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"/>
            <p:cNvSpPr/>
            <p:nvPr/>
          </p:nvSpPr>
          <p:spPr>
            <a:xfrm>
              <a:off x="554400" y="1406160"/>
              <a:ext cx="453600" cy="45720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800" y="1927800"/>
              <a:ext cx="280440" cy="7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200" y="1944000"/>
              <a:ext cx="374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NIGE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320" y="1941120"/>
              <a:ext cx="374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NIGE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11000" y="2319120"/>
              <a:ext cx="24516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8960" y="2344320"/>
              <a:ext cx="299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R. C. 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68960" y="2341440"/>
              <a:ext cx="299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R. C. 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18720" y="2335680"/>
              <a:ext cx="26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15480" y="2331720"/>
              <a:ext cx="26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4600" y="2819160"/>
              <a:ext cx="524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640" y="2820960"/>
              <a:ext cx="890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UINEE Equatorial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58400" y="2863080"/>
              <a:ext cx="2440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05200" y="2881440"/>
              <a:ext cx="3268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AB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3400" y="2878200"/>
              <a:ext cx="3268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AB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0680" y="2906640"/>
              <a:ext cx="2494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7840" y="2923200"/>
              <a:ext cx="3330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CONG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7840" y="2920320"/>
              <a:ext cx="3330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CONG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36280" y="1602360"/>
              <a:ext cx="24120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84880" y="1617840"/>
              <a:ext cx="3024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TCH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6320" y="1617840"/>
              <a:ext cx="3024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TCH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07280" y="2536560"/>
              <a:ext cx="3164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040" y="2355120"/>
              <a:ext cx="820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amero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4000" y="549360"/>
            <a:ext cx="1679400" cy="50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 algn="ctr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cc3300"/>
                </a:solidFill>
                <a:latin typeface="Verdana"/>
                <a:ea typeface="Times New Roman"/>
              </a:rPr>
              <a:t>1% PvV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 algn="ctr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cc3300"/>
                </a:solidFill>
                <a:latin typeface="Verdana"/>
                <a:ea typeface="Times New Roman"/>
              </a:rPr>
              <a:t>(10 000 c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641760"/>
            <a:ext cx="1360800" cy="15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8320" y="3848040"/>
            <a:ext cx="1836720" cy="9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021360"/>
            <a:ext cx="710100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1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bre en « 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comè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» :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5% des virus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B, C 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vari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diverge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2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1052640"/>
            <a:ext cx="5761080" cy="2260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H-1 groupe O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0.1%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2 cas de double infection O/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1 cas de surinfection VIH-1 M sur VIH-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1 recombinant M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RES-O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11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pati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puis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197000"/>
            <a:ext cx="7632720" cy="252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) déclarations de réacto-vigilances à l‘Afss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i) investigations publiées par le CNR du VIH (Tours) (Henquell, 2008, Zouhair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ii) collaboration entre le laboratoire associé au CNR (Rouen) et le Centre Pasteur du Cameroun (Yaoundé, Camero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v) évaluation de la sensibilité de tests rapides vis a vis des VIH-O (La Pitié et Rouen) (Gautheret-Dejean, 200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292640"/>
            <a:ext cx="7612200" cy="168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eil des tests utilisés : ELIS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énérations et tests ra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actérisation de la région immunodominante gp41 TM par séquençage nucléot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aison / séquences consensus VIH-M et VIH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57320"/>
            <a:ext cx="6964560" cy="67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89000"/>
            <a:ext cx="1042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7336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60280"/>
            <a:ext cx="576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637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14172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357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581360"/>
            <a:ext cx="43164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581360"/>
            <a:ext cx="43200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5661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5661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4581360"/>
            <a:ext cx="43200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285264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285264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645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3645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260280"/>
            <a:ext cx="36734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2205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0" y="2997360"/>
          <a:ext cx="4238640" cy="32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7360"/>
                    <a:ext cx="423864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657920" cy="17366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447480" y="3046680"/>
            <a:ext cx="3992400" cy="3190680"/>
            <a:chOff x="447480" y="3046680"/>
            <a:chExt cx="3992400" cy="3190680"/>
          </a:xfrm>
        </p:grpSpPr>
        <p:sp>
          <p:nvSpPr>
            <p:cNvPr id="127" name=""/>
            <p:cNvSpPr/>
            <p:nvPr/>
          </p:nvSpPr>
          <p:spPr>
            <a:xfrm>
              <a:off x="447480" y="3046680"/>
              <a:ext cx="3992400" cy="319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7720" y="3589560"/>
              <a:ext cx="3245400" cy="209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7720" y="527220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7720" y="484668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7720" y="4430880"/>
              <a:ext cx="324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07720" y="400536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7720" y="3589560"/>
              <a:ext cx="324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07720" y="3589560"/>
              <a:ext cx="3245400" cy="20984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2280" y="4738680"/>
              <a:ext cx="60480" cy="9493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088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10480" y="3646800"/>
              <a:ext cx="60840" cy="2041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4944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9400" y="3646800"/>
              <a:ext cx="60480" cy="2041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18000" y="4905360"/>
              <a:ext cx="60480" cy="782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58400" y="4638960"/>
              <a:ext cx="51840" cy="1049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88360" y="3689640"/>
              <a:ext cx="60480" cy="1998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26600" y="3713400"/>
              <a:ext cx="52200" cy="1974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692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552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5480" y="4013280"/>
              <a:ext cx="60480" cy="1674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64080" y="3605400"/>
              <a:ext cx="60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2680" y="4272120"/>
              <a:ext cx="51840" cy="1415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34440" y="4380120"/>
              <a:ext cx="60840" cy="1307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3040" y="3589560"/>
              <a:ext cx="5184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0300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41960" y="3605400"/>
              <a:ext cx="6048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0200" y="4354560"/>
              <a:ext cx="52200" cy="133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10160" y="3746520"/>
              <a:ext cx="60480" cy="1941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9120" y="5205600"/>
              <a:ext cx="51840" cy="4824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9080" y="4680000"/>
              <a:ext cx="61920" cy="10080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19480" y="5305680"/>
              <a:ext cx="51840" cy="3823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4944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7720" y="3589560"/>
              <a:ext cx="1440" cy="20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3160" y="568800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527220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3160" y="484668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73160" y="443088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73160" y="400536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73160" y="358956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07720" y="568800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1077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459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3759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5145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484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7830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9216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534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920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3223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4609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5905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295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8681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998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3848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26844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4066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456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67560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1420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441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845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45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531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1200" y="3156120"/>
              <a:ext cx="256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onservation de l'EID parmi 208 seq VIH-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720" y="56214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1720" y="5205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1720" y="47800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7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1720" y="43642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1720" y="39387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720" y="35229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512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7188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1912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980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7320" y="5780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700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5680" y="5780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7900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1724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792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796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326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730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404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344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63680" y="57801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9400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4196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7192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152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048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8952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5400" y="5780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016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42080" y="59724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ésidu majoritai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86560" y="4479120"/>
              <a:ext cx="71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serv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7480" y="3046680"/>
              <a:ext cx="3992400" cy="3190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3860640"/>
            <a:ext cx="1152360" cy="187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3860640"/>
            <a:ext cx="1152360" cy="187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1268280"/>
            <a:ext cx="6697800" cy="97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érences de sensibilité clinique en fonction du stade primo-infection ou chron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ication des différents formats (3è, 4è, rap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781360"/>
            <a:ext cx="7632720" cy="180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erformances inégales des tests (Genscreen v2, Genie II…); vigilance sur tests ra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fficulté du design de antigène des trou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versité particulière propre aux VIH-1 groupe O (test + ou – en fonction de sou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4941720"/>
            <a:ext cx="7612200" cy="114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illeure évaluation des VIH-O : antigène et anticorp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el représentatif de la diversité génétique des VIH-O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ct du changement de modalités de dépi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erci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fssaps : A Reggiani, L Bu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PC : A Vessière, D Rou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teur-Cerba : JD Pov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itié : A Gautheret-Dejean, JM Hur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U de Tours : F B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U de Rouen : V Lemée, M Djemai, M Lé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V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6:49:24Z</dcterms:created>
  <dc:creator>CHU de Rouen</dc:creator>
  <dc:description/>
  <dc:language>en-US</dc:language>
  <cp:lastModifiedBy>JCP</cp:lastModifiedBy>
  <dcterms:modified xsi:type="dcterms:W3CDTF">2008-11-25T07:29:27Z</dcterms:modified>
  <cp:revision>1357</cp:revision>
  <dc:subject/>
  <dc:title>Présentation PowerPoint</dc:title>
</cp:coreProperties>
</file>