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XIXème Colloque de Virologie de Versailles, Nov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00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FD0-6952-419A-9193-0CE78A842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327320"/>
            <a:ext cx="10287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preuve de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Evaluation comparative des systè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automatis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obas s 201</a:t>
            </a:r>
            <a:r>
              <a:rPr b="0" lang="fr-FR" sz="28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Ro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Procleix Tigris</a:t>
            </a:r>
            <a:r>
              <a:rPr b="0" lang="fr-FR" sz="2800" spc="-1" strike="noStrike" baseline="30000">
                <a:solidFill>
                  <a:srgbClr val="ffff00"/>
                </a:solidFill>
                <a:latin typeface="Arial"/>
              </a:rPr>
              <a:t>®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 System (Chir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57400" y="4952880"/>
            <a:ext cx="609588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zzedine Assal, Pierre Gallian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Marie Deschaseaux, Valérie Barl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Etablissement Français du Sang, F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2133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7621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7160" y="8380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Resulta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838080"/>
            <a:ext cx="799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Cadence observée pour les différents scénarii tes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79132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h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4h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5h    16h   17h  18h   19h   20h    21h   2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600200"/>
            <a:ext cx="914400" cy="74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8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6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4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2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40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8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6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64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19810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276720"/>
            <a:ext cx="441972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3429000"/>
            <a:ext cx="57913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9880"/>
            <a:ext cx="5181840" cy="152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5029200"/>
            <a:ext cx="78487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676520"/>
            <a:ext cx="251460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209680"/>
            <a:ext cx="3200400" cy="152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362320"/>
            <a:ext cx="43434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743200"/>
            <a:ext cx="388620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411480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37339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895480"/>
            <a:ext cx="51055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1320" y="15228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Résultats (5) : Tigris </a:t>
            </a:r>
            <a:r>
              <a:rPr b="0" lang="fr-FR" sz="28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1676520"/>
            <a:ext cx="0" cy="3886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29628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343400"/>
            <a:ext cx="609624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3962520"/>
            <a:ext cx="64008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495680"/>
            <a:ext cx="754380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4876920"/>
            <a:ext cx="662940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5410080"/>
            <a:ext cx="7162920" cy="152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5562720"/>
            <a:ext cx="861084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0280" y="1752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880" y="1523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3080" y="2057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2286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77480" y="2819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8160" y="2590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h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360" y="3124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3352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6080" y="3657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9680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4191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15400" y="4419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h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724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h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220320" y="49528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4520" y="5257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610560" y="5257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752480"/>
            <a:ext cx="533520" cy="152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7600" y="16765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urée du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1981080"/>
            <a:ext cx="5335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2560" y="1905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mps de travail technic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7621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4520" y="22860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ésultats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" y="8380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14160" y="838080"/>
            <a:ext cx="80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Etude comparative des cadences (Cobas S201 : 1-2-1 / Tigris :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7520" y="1752480"/>
            <a:ext cx="1220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obas s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7520" y="3352680"/>
            <a:ext cx="1220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obas s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24320" y="182880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16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2 x 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182880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6400" y="12952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1905120"/>
            <a:ext cx="327636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2133720"/>
            <a:ext cx="3581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590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00200"/>
            <a:ext cx="0" cy="4191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1600200"/>
            <a:ext cx="0" cy="4191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16002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67080" y="2285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2285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2590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3505320"/>
            <a:ext cx="419076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29200" y="38858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2895480"/>
            <a:ext cx="63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h3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1320" y="38858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2895480"/>
            <a:ext cx="12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00 (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733920"/>
            <a:ext cx="43434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0120" y="3429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24320" y="3429000"/>
            <a:ext cx="9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24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3 x 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32004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38680" y="32004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114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67080" y="38095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4114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895480"/>
            <a:ext cx="92203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4572000"/>
            <a:ext cx="92203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7520" y="5105520"/>
            <a:ext cx="1220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obas s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181480"/>
            <a:ext cx="4190760" cy="152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29200" y="5562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4572000"/>
            <a:ext cx="6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h3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791320" y="5562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4120" y="4572000"/>
            <a:ext cx="12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00 (2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5410080"/>
            <a:ext cx="51051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40120" y="5105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320" y="5105520"/>
            <a:ext cx="9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432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4 x 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8769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267080" y="5562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5867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5867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15/8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553080" y="5562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848720" y="1752480"/>
            <a:ext cx="1447560" cy="685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3352680"/>
            <a:ext cx="1447560" cy="685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029200"/>
            <a:ext cx="1447560" cy="685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5335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32240" y="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ésultats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7160" y="6858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ésulta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90480" y="685800"/>
            <a:ext cx="79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Etude comparative des cadences (Cobas S201 : 1-2-1 / Tigris :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7520" y="3429000"/>
            <a:ext cx="1220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obas s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762760" y="182880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648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6 x 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600200"/>
            <a:ext cx="0" cy="4191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1600200"/>
            <a:ext cx="0" cy="4191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3581280"/>
            <a:ext cx="5790960" cy="152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3809880"/>
            <a:ext cx="71625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763120" y="3429000"/>
            <a:ext cx="137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756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7 x 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4572000"/>
            <a:ext cx="92203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8229600" y="65527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7520" y="5257800"/>
            <a:ext cx="1220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obas s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5334120"/>
            <a:ext cx="579096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5562720"/>
            <a:ext cx="80010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685720" y="4800600"/>
            <a:ext cx="10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64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8 x 1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104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20080" y="1143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0800" y="1143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7520" y="1752480"/>
            <a:ext cx="1220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Cobas s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17524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1828800"/>
            <a:ext cx="510516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2057400"/>
            <a:ext cx="68580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2514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24280" y="152388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267080" y="22093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029200" y="22093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2819520"/>
            <a:ext cx="92203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30840" y="17524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6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152388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152388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25200" y="1143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791320" y="22093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2514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514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400800" y="22093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8305920" y="220932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01000" y="2514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h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3276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3276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32767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2895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h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02920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79132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26708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00600" y="4267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86400" y="4267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55308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31520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48520" y="42670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10280" y="4267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h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4267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h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2468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8534520" y="3962520"/>
            <a:ext cx="0" cy="3045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2960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h55/12h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19720" y="4648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h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50292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10080" y="50292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7120" y="50292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502920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4648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48520" y="46483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4648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h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10552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79132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26708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6019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h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6019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h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55308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46748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48520" y="6019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h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10280" y="6019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h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6019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h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15328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76312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58200" y="6019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h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6019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h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448920" y="5714640"/>
            <a:ext cx="0" cy="3049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0" y="6019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86800" y="1752480"/>
            <a:ext cx="1447920" cy="685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686800" y="3352680"/>
            <a:ext cx="1447920" cy="685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86800" y="4724280"/>
            <a:ext cx="1447920" cy="685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14560" y="152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83808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066680"/>
            <a:ext cx="937260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isponibilité des premiers résultats (hors temps de maintenance)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igris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4h45 (108 d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Cobas s 201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5h15 / 5h30 (216 d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ythme de libération des résultats suivan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igris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108 dons / 1h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Cobas s 201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216 dons / 1h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urée de maintenance quotidienne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igris :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preparation du Tigris = 0h30 à 1h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fin de journée = 5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Cobas s 201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préparation des instruments = 15 à 30 mi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60948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14560" y="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762120"/>
            <a:ext cx="9982440" cy="64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imulation comparative pour un plateau technique français de grande capaci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ex :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EFS Rhône-Al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280 000 dons/an (1100-1200 dons/j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ébut de la routine du laboratoire à 7h (phase analy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haîne actuelle BioMerieux/Roche :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h30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648 d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5h30 :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16 dons (total : 864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h30 :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16 dons (total : 1080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7h30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16 dons (total : 1296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bas s 201 (configuration 2/4/2) :                   13h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432 d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h30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432 dons (total : 864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h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432 dons (total : 1296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igris (3 automates)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2h30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24 d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4h15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24 dons (total : 648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5h30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24 dons (total : 972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6h45 :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24 dons (total : 1296 d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1447920"/>
            <a:ext cx="647712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60948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14560" y="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762120"/>
            <a:ext cx="99820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ux systèmes évalués de stratégie différente : Tigris unitaire versus Cobas s 201 (mini-pool d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oix arbitraire de la taille des groupes de libération (108 dons) correspondant à un portoir sur l’Hamilton Star (18 po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s de différence significative de cadence entre les deux syst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alidation des cadences annoncées par les fournisseurs Roche et Chi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in de cadence important des deux systèmes vis à vis des chaînes existantes (cf sim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vantage Tigris : libération plus rapide des prélèvements urgents (4h45 contre 5h15 pour le Cobas s 2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60948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4560" y="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066680"/>
            <a:ext cx="99820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vantage Cobas s 201 : meilleure cadence pour les laboratoires de grande activité (gain lié au poo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emps technicien réduit (2 à 3 ETP pour les laboratoires de grande capac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urée de la maintenance quotidienne plus important pour le Tigris : à prévo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ans l’organisation du laboratoire (heure d’arrivée des technicie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venue de pannes automates pendant l’étude de cadence (Cobas et Tigris) : évolutions/améliorations nécessaires des système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ex : versions B+ et C du Software PDM pour le Cobas s 2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90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merciement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7040" y="1447920"/>
            <a:ext cx="9858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zedine Assal, DMS.EFS Paris / EFS Centre-Atl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écile Cornillot, DMS.EFS /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rie Deschazeaux. EFS Bourgogne Franche-Com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sabelle Dupont. EFS Breta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ierre Gallian. EFS Alpes Méditerran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scal Morel. EFS Bourgogne Franche-Com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yria Laperche. 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525780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ohn Saldanha and Magali Fucina. Roche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571500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ico Lelie. Chi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4022640"/>
            <a:ext cx="1028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61920" y="15228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21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7534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1 - Equipement des sites évaluateu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ff66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66ff66"/>
                </a:solidFill>
                <a:latin typeface="Arial"/>
              </a:rPr>
              <a:t>Cobas s 201 </a:t>
            </a:r>
            <a:r>
              <a:rPr b="0" lang="fr-FR" sz="1600" spc="-1" strike="noStrike" baseline="30000">
                <a:solidFill>
                  <a:srgbClr val="66ff66"/>
                </a:solidFill>
                <a:latin typeface="Arial"/>
              </a:rPr>
              <a:t>®</a:t>
            </a:r>
            <a:r>
              <a:rPr b="1" lang="fr-FR" sz="1800" spc="-1" strike="noStrike">
                <a:solidFill>
                  <a:srgbClr val="66ff66"/>
                </a:solidFill>
                <a:latin typeface="Arial"/>
              </a:rPr>
              <a:t> (Roche)  : sites de Dijon et Metz-Te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 Hamilton Star I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 Cobas Ampliprep (CAP)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configuration 1/2/1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(version B, P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 Cobas TaqMan (C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66ff66"/>
                </a:solidFill>
                <a:latin typeface="Arial"/>
              </a:rPr>
              <a:t>Procleix </a:t>
            </a:r>
            <a:r>
              <a:rPr b="1" lang="fr-FR" sz="1800" spc="-1" strike="noStrike">
                <a:solidFill>
                  <a:srgbClr val="99ff99"/>
                </a:solidFill>
                <a:latin typeface="Arial"/>
              </a:rPr>
              <a:t>Tigris</a:t>
            </a:r>
            <a:r>
              <a:rPr b="1" lang="fr-FR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fr-FR" sz="1600" spc="-1" strike="noStrike" baseline="30000">
                <a:solidFill>
                  <a:srgbClr val="66ff66"/>
                </a:solidFill>
                <a:latin typeface="Arial"/>
              </a:rPr>
              <a:t>® </a:t>
            </a:r>
            <a:r>
              <a:rPr b="1" lang="fr-FR" sz="1800" spc="-1" strike="noStrike">
                <a:solidFill>
                  <a:srgbClr val="99ff99"/>
                </a:solidFill>
                <a:latin typeface="Arial"/>
              </a:rPr>
              <a:t>System (Chiron) : sites de Tours et Marse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 automate /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2 - Activités de dépistage selon les laboratoir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bre de dons / a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Nbre de dons /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hône-Alpes (Metz-Tessy)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280 000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900-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ourgogne Franche-Comté (Dijon) :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150 000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550-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entre-Atlantique (Tours) :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190 000                 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00-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lpes-Méditerranée (Marseille) : 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170 000                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600-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19810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61920" y="15228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43000"/>
            <a:ext cx="10058400" cy="62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1 – 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aluer l’impact de ces nouveaux systèmes automatisés s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organisation actuelle des activités de Qualification Biologique des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2 – Méthodologi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ifférents scenarii ont été testés par chacun des 4 sites 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ans des conditions simulant la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ontée en charge progressive en parallèle sur les deux syst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ité de base (série de travail minimale) = 1 batch Hamilton (108 d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imulation de pics d’activité (systèmes fortement éprouv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7 000 à 10 000 dons tes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n parallèle de l’étude de spécifi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 tube EDTA supplémentaire prélevé (optio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preuve de stabilité des échantillons (J1 à J10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42800" y="1522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éthode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88840"/>
            <a:ext cx="94489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Protocole (Cobas s 201 </a:t>
            </a:r>
            <a:r>
              <a:rPr b="0" lang="fr-FR" sz="2400" spc="-1" strike="noStrike" baseline="30000">
                <a:solidFill>
                  <a:srgbClr val="66ff66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étude de cadence réalisée sur les 2 sites évaluateurs en parallèle (Dijon et Metz-Tess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urée de l’étude : 10 j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7 scénarii différents ont été testés avec une montée en charge prog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 à 10 batchs testés par jour (108 à 1080 dons) = total 103 batchs test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 à  2 techniciens selon la charge de travail de la jour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haque scénario a été testé 1 à 5 fois (par 1 ou 2 sites)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Total : 10 302 dons testés (1 717 p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3429000"/>
          <a:ext cx="9880560" cy="28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429000"/>
                    <a:ext cx="988056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66840" y="1522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éthod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120" y="1371600"/>
            <a:ext cx="95580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Protocole (Tigris </a:t>
            </a:r>
            <a:r>
              <a:rPr b="0" lang="fr-FR" sz="2400" spc="-1" strike="noStrike" baseline="30000">
                <a:solidFill>
                  <a:srgbClr val="66ff66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étude réalisée sur les 2 sites évaluateurs en parallèle (Tours et Marsei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urée de l’étude : 7 à 8 j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8 scénarii différents testés avec une montée en charge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08 à 864 dons par jour (1 à 8 groupes de libération de 108 d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 à 3 listes de travail par jour selon le nombre de dons tes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 à 2 techniciens selon la charge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haque configuration a été testée 2 fois (1 fois/site)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en dehors de la configuration (5 x 108 d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Total : 7 236 dons tes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2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ésultat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8380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bas s 201 pools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us Tigris test u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85800"/>
            <a:ext cx="10287000" cy="0"/>
          </a:xfrm>
          <a:prstGeom prst="line">
            <a:avLst/>
          </a:prstGeom>
          <a:ln w="349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2280" y="2286000"/>
            <a:ext cx="9956160" cy="3957120"/>
            <a:chOff x="152280" y="2286000"/>
            <a:chExt cx="9956160" cy="3957120"/>
          </a:xfrm>
        </p:grpSpPr>
        <p:sp>
          <p:nvSpPr>
            <p:cNvPr id="62" name=""/>
            <p:cNvSpPr/>
            <p:nvPr/>
          </p:nvSpPr>
          <p:spPr>
            <a:xfrm>
              <a:off x="8196120" y="2670120"/>
              <a:ext cx="64296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5040" y="541332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échantill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69120" y="243864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00"/>
                  </a:solidFill>
                  <a:latin typeface="Arial"/>
                </a:rPr>
                <a:t>Taq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37520" y="32022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h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92440" y="241164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00"/>
                  </a:solidFill>
                  <a:latin typeface="Arial"/>
                </a:rPr>
                <a:t>Amplipr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5840" y="32022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h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6400" y="2822760"/>
              <a:ext cx="24382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40080" y="2286000"/>
              <a:ext cx="91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Hamilt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t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41680" y="2822760"/>
              <a:ext cx="3394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2822760"/>
              <a:ext cx="2371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43480" y="32022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h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70920" y="27464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h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03640" y="2822760"/>
              <a:ext cx="2714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666880" y="51087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015920" y="4498920"/>
              <a:ext cx="812880" cy="1067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41680" y="4270320"/>
              <a:ext cx="4944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41680" y="2746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27440" y="464976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h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53280" y="4194360"/>
              <a:ext cx="148932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h15 à 6h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3360" y="419436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Tig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65240" y="4270320"/>
              <a:ext cx="6098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5000" y="465156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h30 à 1h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33640" y="32022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h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2280" y="274644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Cobas s 2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2200" y="5641920"/>
              <a:ext cx="141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015920" y="2974680"/>
              <a:ext cx="1152720" cy="2590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1520" y="5565960"/>
              <a:ext cx="1937880" cy="67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onibilité 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miers résulta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6360" y="4270320"/>
              <a:ext cx="0" cy="12193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37640" y="2822760"/>
              <a:ext cx="0" cy="2666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4727520"/>
              <a:ext cx="990360" cy="228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90400" y="5641920"/>
              <a:ext cx="141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8737200" y="4879800"/>
              <a:ext cx="406440" cy="685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5032440"/>
              <a:ext cx="6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h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71520" y="1676520"/>
            <a:ext cx="93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érie minimale de 108 dons (équivalent à 1 rack Hamilton de 18 x 6 po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37160" y="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ésultat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5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14240"/>
            <a:ext cx="944892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Résultats (Cobas s 201 </a:t>
            </a:r>
            <a:r>
              <a:rPr b="0" lang="fr-FR" sz="2400" spc="-1" strike="noStrike" baseline="30000">
                <a:solidFill>
                  <a:srgbClr val="66ff66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mblables sur les deux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mélioration de la cadence au cours de l’étude (expérience des opérate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importance du nombre de techniciens (1 ou 2 technicie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94 / 103 batchs valides (91,3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 444 / 1 717 pools valides (84,1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8 666 / 10 302 échantillons valides (84,1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emps de maintenance quotidienn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5 à 10 min (Star) + 5 à 10 min (Ampliprep) + 5 min (Taq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éparation des S-tubes et des contrôles : 3 min par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otal : 15 à 25 min /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876920"/>
            <a:ext cx="8991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Observations semblables sur les deux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ons invalides et faux-positifs initiaux (N=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emps de maintenance quotidienn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éparation du Tigris (début de journée) : 0h30 to 1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aintenance (fin de journée) : 5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3434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Résultats (Tigris </a:t>
            </a:r>
            <a:r>
              <a:rPr b="0" lang="fr-FR" sz="2400" spc="-1" strike="noStrike" baseline="30000">
                <a:solidFill>
                  <a:srgbClr val="66ff66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66ff66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907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55560" y="22860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Résultats (3) : Cobas s 201 </a:t>
            </a:r>
            <a:r>
              <a:rPr b="0" lang="fr-FR" sz="28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066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Resultats : </a:t>
            </a:r>
            <a:r>
              <a:rPr b="1" lang="fr-FR" sz="2000" spc="-1" strike="noStrike">
                <a:solidFill>
                  <a:srgbClr val="66ff66"/>
                </a:solidFill>
                <a:latin typeface="Arial"/>
              </a:rPr>
              <a:t>Cadence observée pour les différents scénarii tes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2133720"/>
            <a:ext cx="380988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08 dons, 1 distribution, 1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16 dons, 1 distribution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16 dons, 2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24 dons, 1 distribution, 1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24 dons, 1 distribution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24 dons, 2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32 dons, 1 distribution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32 dons, 2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32 dons, 4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648 dons, 2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648 dons, 2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648 dons, 3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6 dons, 3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64 dons, 3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080 dons, 3 distributions, 2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133720"/>
            <a:ext cx="91440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6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1828800"/>
            <a:ext cx="7076880" cy="4269600"/>
            <a:chOff x="609480" y="1828800"/>
            <a:chExt cx="7076880" cy="4269600"/>
          </a:xfrm>
        </p:grpSpPr>
        <p:sp>
          <p:nvSpPr>
            <p:cNvPr id="107" name=""/>
            <p:cNvSpPr/>
            <p:nvPr/>
          </p:nvSpPr>
          <p:spPr>
            <a:xfrm>
              <a:off x="7010280" y="2209680"/>
              <a:ext cx="1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7720" y="2133720"/>
              <a:ext cx="8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h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h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h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2209680"/>
              <a:ext cx="3124440" cy="1368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480" y="2438280"/>
              <a:ext cx="3276720" cy="15264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2666880"/>
              <a:ext cx="3276720" cy="13680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2895480"/>
              <a:ext cx="5105520" cy="13680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4191120" cy="13680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680" y="28195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h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1828800"/>
              <a:ext cx="0" cy="41911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1828800"/>
              <a:ext cx="0" cy="41911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248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048120"/>
              <a:ext cx="57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h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05520" y="35053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h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3657600"/>
              <a:ext cx="4419720" cy="152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3886200"/>
              <a:ext cx="4191120" cy="152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4114800"/>
              <a:ext cx="5181840" cy="152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640" y="40384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h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380988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4419720"/>
              <a:ext cx="5257800" cy="1522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4648320"/>
              <a:ext cx="5181840" cy="1522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960" y="45720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h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3960" y="43434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h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4876920"/>
              <a:ext cx="5486400" cy="152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5105520"/>
              <a:ext cx="5715000" cy="152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6240" y="4800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h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01160" y="5029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h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5334120"/>
              <a:ext cx="5715000" cy="15228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0800" y="5257800"/>
              <a:ext cx="57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h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80" y="5562720"/>
              <a:ext cx="6705720" cy="1522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579132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1h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3352680"/>
              <a:ext cx="4191120" cy="15264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232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9112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1992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1828800"/>
              <a:ext cx="0" cy="4267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2120"/>
            <a:ext cx="1028700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7160" y="8380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Resulta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47080" y="838080"/>
            <a:ext cx="57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Comparaison des scénarii 6A et 6B (648 d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1676520"/>
            <a:ext cx="0" cy="39621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1676520"/>
            <a:ext cx="0" cy="3886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1676520"/>
            <a:ext cx="0" cy="3886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1676520"/>
            <a:ext cx="0" cy="3886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676520"/>
            <a:ext cx="0" cy="3733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676520"/>
            <a:ext cx="0" cy="3809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1676520"/>
            <a:ext cx="0" cy="3886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562720"/>
            <a:ext cx="9067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h   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4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 15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h  </a:t>
            </a: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   17h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752480"/>
            <a:ext cx="91440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2960" y="1981080"/>
            <a:ext cx="265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6 échantillons         648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962520"/>
            <a:ext cx="297180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191120"/>
            <a:ext cx="297180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360" y="388620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h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86760" y="44197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h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h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4495680"/>
            <a:ext cx="4844880" cy="901080"/>
            <a:chOff x="1981080" y="4495680"/>
            <a:chExt cx="4844880" cy="901080"/>
          </a:xfrm>
        </p:grpSpPr>
        <p:sp>
          <p:nvSpPr>
            <p:cNvPr id="168" name=""/>
            <p:cNvSpPr/>
            <p:nvPr/>
          </p:nvSpPr>
          <p:spPr>
            <a:xfrm>
              <a:off x="1981080" y="4495680"/>
              <a:ext cx="3353040" cy="152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4724280"/>
              <a:ext cx="3353040" cy="152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4952880"/>
              <a:ext cx="4191120" cy="152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181480"/>
              <a:ext cx="4191120" cy="152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8880" y="4876560"/>
              <a:ext cx="57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h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h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800" y="144792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cénario 6A (run complet +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5800" y="350532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cénario 6B (2 + run comp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886200"/>
            <a:ext cx="91440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5360" y="1828800"/>
            <a:ext cx="37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760" y="230184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h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h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920960"/>
            <a:ext cx="3200400" cy="152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149560"/>
            <a:ext cx="320040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378160"/>
            <a:ext cx="388620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606760"/>
            <a:ext cx="396252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2895480"/>
            <a:ext cx="4267440" cy="152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2819520"/>
            <a:ext cx="57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h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h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1828800"/>
            <a:ext cx="0" cy="3733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828800"/>
            <a:ext cx="0" cy="3733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828800"/>
            <a:ext cx="0" cy="3733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15400" y="18288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763120" y="1828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6312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2960" y="4114800"/>
            <a:ext cx="265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6 échantillons         648 d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763120" y="3962520"/>
            <a:ext cx="152280" cy="1218960"/>
            <a:chOff x="8763120" y="3962520"/>
            <a:chExt cx="152280" cy="1218960"/>
          </a:xfrm>
        </p:grpSpPr>
        <p:sp>
          <p:nvSpPr>
            <p:cNvPr id="192" name=""/>
            <p:cNvSpPr/>
            <p:nvPr/>
          </p:nvSpPr>
          <p:spPr>
            <a:xfrm>
              <a:off x="8915400" y="3962520"/>
              <a:ext cx="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63120" y="3962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63120" y="51814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264280" y="6095880"/>
            <a:ext cx="35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adence : 648 dons en 8h30 / 8h4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6095880"/>
            <a:ext cx="3581640" cy="38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19051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943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9625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21337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41911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590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3623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3124080"/>
            <a:ext cx="4267440" cy="152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55560" y="15228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Résultats (4) : Cobas s 201 </a:t>
            </a:r>
            <a:r>
              <a:rPr b="0" lang="fr-FR" sz="28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5:00:52Z</dcterms:created>
  <dc:creator>imvrfc</dc:creator>
  <dc:description/>
  <dc:language>en-US</dc:language>
  <cp:lastModifiedBy>Administrateur</cp:lastModifiedBy>
  <cp:lastPrinted>2002-08-21T15:16:59Z</cp:lastPrinted>
  <dcterms:modified xsi:type="dcterms:W3CDTF">2006-11-28T07:17:19Z</dcterms:modified>
  <cp:revision>908</cp:revision>
  <dc:subject/>
  <dc:title>Aucun titre de diapositive</dc:title>
</cp:coreProperties>
</file>