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CC24-80A2-468C-BBB6-AE41FC8D7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A879-A2F1-4EA6-8D3F-872BFEA49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93BB-E8AE-4163-B10B-3FE4BF7E7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784E-0659-4C64-ACBB-1F8A2478C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09A9C-2B7A-476F-8605-CE84ADCEA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70CB8-8611-475B-B83A-7CAE31DEE0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FB229-7D59-453E-A349-B06760F59E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FCE61-5C1D-46BE-9EA8-19830CBFE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063E2-A27A-4EC7-BA7E-9C747BFB5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5882F-EEF5-4751-A813-2E4BE545BF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551C7-E8B6-4C4F-B39B-0BCA892D4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8CEE-98C7-4791-805D-541BDE747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7D79-E322-4CD4-A716-C769FC0F39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FD9A0-9CEF-481F-AE17-A255B71CB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AC200-1F06-45AA-B24E-9DAAC959A7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A864-363B-4685-A545-98F7F4C71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7EEF6-DF6E-4021-8341-13202B542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A3EE-8C62-4CF1-894E-0D385AF9F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275C-77D9-4809-84D9-F0DF57767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8593-FDD0-4A53-A637-5D63DA8C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CA34-C50A-4BCD-BBFC-C8A5EA937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66D1-E4FA-414D-ABA8-97A93458B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E3B0-FD91-4E35-9909-A6C11B7BF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A025-6977-4A58-861A-EAE407BCC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buClr>
                <a:srgbClr val="ff822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buClr>
                <a:srgbClr val="ffcc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buClr>
                <a:srgbClr val="ff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440" y="6448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.V.V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8/11/200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F52D-2B52-49F0-828D-B6D1783DDD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bd14689_" descr=""/>
          <p:cNvPicPr/>
          <p:nvPr/>
        </p:nvPicPr>
        <p:blipFill>
          <a:blip r:embed="rId3"/>
          <a:stretch/>
        </p:blipFill>
        <p:spPr>
          <a:xfrm>
            <a:off x="0" y="592200"/>
            <a:ext cx="9144000" cy="8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98280" y="644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.V.V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8/11/200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93CC-4FD4-4710-B5C9-104E46A204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873000"/>
          </a:xfrm>
          <a:prstGeom prst="rect">
            <a:avLst/>
          </a:prstGeom>
          <a:ln w="0">
            <a:noFill/>
          </a:ln>
        </p:spPr>
      </p:pic>
      <p:pic>
        <p:nvPicPr>
          <p:cNvPr id="45" name="bd14689_" descr=""/>
          <p:cNvPicPr/>
          <p:nvPr/>
        </p:nvPicPr>
        <p:blipFill>
          <a:blip r:embed="rId3"/>
          <a:stretch/>
        </p:blipFill>
        <p:spPr>
          <a:xfrm>
            <a:off x="1182600" y="3649680"/>
            <a:ext cx="6858000" cy="16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buClr>
                <a:srgbClr val="ffcc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buClr>
                <a:srgbClr val="ff33cc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buClr>
                <a:srgbClr val="ffcc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Tahoma"/>
              </a:rPr>
              <a:t>Vrai mutant VHB ou</a:t>
            </a:r>
            <a:br>
              <a:rPr sz="3600"/>
            </a:br>
            <a:r>
              <a:rPr b="1" lang="en-US" sz="3600" spc="-1" strike="noStrike">
                <a:solidFill>
                  <a:srgbClr val="ccff66"/>
                </a:solidFill>
                <a:latin typeface="Tahoma"/>
              </a:rPr>
              <a:t>faux positif de la sérologie ?</a:t>
            </a:r>
            <a:endParaRPr b="1" lang="en-US" sz="36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2960" y="4114800"/>
            <a:ext cx="7699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chèle MANIEZ et Frédérique DESCAMP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.F.S. Nord de Fran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F0570-7E7D-4892-AFBB-2142B89C51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onclusion (1)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814320"/>
            <a:ext cx="8305920" cy="16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yons clairvoyants : il y a plus de non variants que de variants 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urquoi les traquer 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8280" y="2679840"/>
            <a:ext cx="83059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Pour éviter des diagnostics à tort d'infection au VH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Pour éviter la mise en œuvre de tests inutiles à la recherche de mu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18ED-F1E2-446A-BA8D-CA1D43F5F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onclusion (2)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9586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 faux mutants peuvent être sous mauvaise influence : dans cette étude par la présence 4 fois d'Ag HBe (faux signal) et 1 fois d'anticorps anti-HBc (vrai signal accompagné de la présence d'anti-HB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Une arme : la mise en œuvre du test de "neutralisation" de l'Ag HBs, notamment quand le signal observé n'est pas retrouvé par une autre techniqu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51A8-7EA5-4391-92F1-87288045B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as n° 1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ujet dont la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sérologie est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n AXSYM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 positive pour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le VIH et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l'Ag HBs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, négative en anti-HBc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emande d'une recherche d'Ag HBe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854360"/>
          <a:ext cx="4191120" cy="183168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3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XSYM :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2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533520" y="382428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CR VHB : négativ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1781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érologie VIH : négativ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4500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Mise en œuvre d'un test de confirmation de l'Ag HB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chantillon + Ac anti-HB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chantillon +S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i vrai positif : diminution du signal e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par rapport à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i faux positif : pas de différence d'intensité du signal e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par rapport à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6680" y="1857240"/>
          <a:ext cx="4191120" cy="181944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1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I-MAK 4 : néga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lisa Ultra : néga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2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233F-137A-456F-8D24-A4DF2B82E6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718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66"/>
                </a:solidFill>
                <a:latin typeface="Tahoma"/>
              </a:rPr>
              <a:t>Résultat de la confirmation du signal par neutralisation</a:t>
            </a:r>
            <a:endParaRPr b="1" lang="en-US" sz="2500" spc="-1" strike="noStrike">
              <a:solidFill>
                <a:srgbClr val="ccff66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001880"/>
          <a:ext cx="8382240" cy="11826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478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oin Ag 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antill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9440" y="2190600"/>
          <a:ext cx="8381880" cy="144648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200"/>
                <a:gridCol w="209556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48,5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4,7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7,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77E3-F717-4F0A-9838-A2B1721D0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as n° 2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38160"/>
            <a:ext cx="83059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jet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Ag HBs positif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en AXSYM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mande d'une recherche d'Ag HB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76200" y="1908000"/>
          <a:ext cx="4186440" cy="162720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61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XSYM :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11,9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33520" y="3876840"/>
            <a:ext cx="83055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-HBc total : négatif (R = 1,8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-HBc IgM :  négatif (R = 0,0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CR VHB : néga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280" y="523872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Mise en œuvre d'un test de confirmation de l'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H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60840" y="1914480"/>
          <a:ext cx="4184640" cy="1614600"/>
        </p:xfrm>
        <a:graphic>
          <a:graphicData uri="http://schemas.openxmlformats.org/drawingml/2006/table">
            <a:tbl>
              <a:tblPr/>
              <a:tblGrid>
                <a:gridCol w="418464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lisa Ultra : 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21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F806-AA7D-4AFD-94C0-D2E47B9F16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718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66"/>
                </a:solidFill>
                <a:latin typeface="Tahoma"/>
              </a:rPr>
              <a:t>Résultat de la confirmation du signal par neutralisation</a:t>
            </a:r>
            <a:endParaRPr b="1" lang="en-US" sz="2500" spc="-1" strike="noStrike">
              <a:solidFill>
                <a:srgbClr val="ccff66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01880"/>
          <a:ext cx="8382240" cy="11826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478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oin Ag 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antill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80880" y="3618000"/>
          <a:ext cx="8382240" cy="14461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9,0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9,8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79440" y="2190600"/>
          <a:ext cx="8381880" cy="14335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,5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,7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6C20-D374-4017-A4D1-9CE231120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as n° 3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38160"/>
            <a:ext cx="83059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jet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Ag HBs positif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en AXSYM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mande d'une recherche d'Ag HB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6200" y="1908000"/>
          <a:ext cx="4186440" cy="162720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61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XSYM :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3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520" y="3876840"/>
            <a:ext cx="83055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CR VHB : néga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280" y="447516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Mise en œuvre d'un test de confirmation de l'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H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65520" y="1903320"/>
          <a:ext cx="4184640" cy="1627200"/>
        </p:xfrm>
        <a:graphic>
          <a:graphicData uri="http://schemas.openxmlformats.org/drawingml/2006/table">
            <a:tbl>
              <a:tblPr/>
              <a:tblGrid>
                <a:gridCol w="4184640"/>
              </a:tblGrid>
              <a:tr h="61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lisa Ultra : 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9473-E0F2-499F-910B-77624BE34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718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ff66"/>
                </a:solidFill>
                <a:latin typeface="Tahoma"/>
              </a:rPr>
              <a:t>Résultat de la confirmation du signal par neutralisation</a:t>
            </a:r>
            <a:endParaRPr b="1" lang="en-US" sz="2500" spc="-1" strike="noStrike">
              <a:solidFill>
                <a:srgbClr val="ccff66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001880"/>
          <a:ext cx="8382240" cy="11826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478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oin Ag 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antill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Ac anti-H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S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0880" y="3618000"/>
          <a:ext cx="8382240" cy="14335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0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80880" y="5065560"/>
          <a:ext cx="8382240" cy="144648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32,1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5,7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3,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79440" y="2190600"/>
          <a:ext cx="8381880" cy="14335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° 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,5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,7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2BFC-7A29-4058-AC5F-197B42830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as n° 4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669960"/>
            <a:ext cx="83059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jet </a:t>
            </a:r>
            <a:r>
              <a:rPr b="1" lang="en-US" sz="2000" spc="-1" strike="noStrike">
                <a:solidFill>
                  <a:srgbClr val="00ffff"/>
                </a:solidFill>
                <a:latin typeface="Tahoma"/>
              </a:rPr>
              <a:t>Ag HBs positif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en AXSYM (index de 84). Anti-HBs positif et anti-HBc négatif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mande d'une confirmation d'Ag HB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440080" y="1784520"/>
          <a:ext cx="4184640" cy="1931760"/>
        </p:xfrm>
        <a:graphic>
          <a:graphicData uri="http://schemas.openxmlformats.org/drawingml/2006/table">
            <a:tbl>
              <a:tblPr/>
              <a:tblGrid>
                <a:gridCol w="418464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lisa Ultra : néga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21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XSYM :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x = 8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68280" y="371160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Mise en œuvre du test de confirmation de l'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ahoma"/>
              </a:rPr>
              <a:t>HBs sur AXSY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chantillon + Ac anti-HB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index 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chantillon + S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index 4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8280" y="5321160"/>
            <a:ext cx="830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Signal Ag HBs faussement posit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829480"/>
            <a:ext cx="83059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al de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l'Ag HBe positif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: R = 3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test de confirmation non fai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22AE-3BBE-450C-9EFE-87427C550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ahoma"/>
              </a:rPr>
              <a:t>Cas n° 5</a:t>
            </a:r>
            <a:endParaRPr b="1" lang="en-US" sz="2800" spc="-1" strike="noStrike">
              <a:solidFill>
                <a:srgbClr val="ccff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344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Nouveau donneur dépisté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Ag HBs positif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en Monolisa Ultra R = 56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1482840"/>
          <a:ext cx="4191120" cy="211284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i-HB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lisa :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XSYM :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POSI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06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80880" y="353376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Mise en œuvre d'un test de neutralisation de l'Ag HB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chantillon + Ac anti-HBs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66"/>
                </a:solidFill>
                <a:latin typeface="Tahoma"/>
              </a:rPr>
              <a:t>R = 49,96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chantillon +SN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66"/>
                </a:solidFill>
                <a:latin typeface="Tahoma"/>
              </a:rPr>
              <a:t>R = 50,64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ff9933"/>
                </a:solidFill>
                <a:latin typeface="Tahoma"/>
              </a:rPr>
              <a:t>Signal Ag HBs non spécifique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280" y="506880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echerche de l'anticorps </a:t>
            </a:r>
            <a:r>
              <a:rPr b="1" lang="en-US" sz="2200" spc="-1" strike="noStrike">
                <a:solidFill>
                  <a:srgbClr val="ff0066"/>
                </a:solidFill>
                <a:latin typeface="Tahoma"/>
              </a:rPr>
              <a:t>anti-HBs  positive : 233 mUI/ml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ffff"/>
                </a:solidFill>
                <a:latin typeface="Tahoma"/>
              </a:rPr>
              <a:t>Présence confirmée par neutralisation 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6,3 mUI en présence d'Ag HB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ahoma"/>
              </a:rPr>
              <a:t>251 mUI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en présence de S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64080" y="1487520"/>
          <a:ext cx="4191120" cy="211464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HB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822d"/>
                        </a:gs>
                        <a:gs pos="50000">
                          <a:srgbClr val="ccff66"/>
                        </a:gs>
                        <a:gs pos="100000">
                          <a:srgbClr val="ff822d"/>
                        </a:gs>
                      </a:gsLst>
                      <a:lin ang="5400000"/>
                    </a:gra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SM : négati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 = 0,4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 HBe et Anti-HBe négatif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56B3-61FB-4F3D-BD98-EC74093114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8:26:36Z</dcterms:created>
  <dc:creator>ICOVIN</dc:creator>
  <dc:description/>
  <dc:language>en-US</dc:language>
  <cp:lastModifiedBy>ICOVIN</cp:lastModifiedBy>
  <dcterms:modified xsi:type="dcterms:W3CDTF">2006-11-22T09:47:50Z</dcterms:modified>
  <cp:revision>14</cp:revision>
  <dc:subject/>
  <dc:title>Vrai mutant VHB ou faux positif de la sérologie ?</dc:title>
</cp:coreProperties>
</file>