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1DAF-72CB-4A03-93C1-A723DF30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E75F-B438-40F6-8613-4F821D69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D308-2E14-46C5-A6A7-897B5CF5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446E-C9B0-44E4-9860-7F3C0C52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1C13-E01E-44A7-9A94-6A83667E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2C3B-4A63-48DF-B5E5-019D7F1C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9308-55C8-4DF3-97FA-FA36346D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24A2-D58C-40E4-B2E2-54390571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5A09-1BF2-4F6E-9A92-716167D6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1F42-DDE1-4E6E-BCB2-2B7A5FBE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593E-DE8C-4914-BB12-8E468CD2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7C36-62AD-4697-BA1B-D28ECD4C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6BB7-E3A6-43B5-90B9-A90117F3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899F-3EF8-4710-86E2-A2218C18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E7F3-FCCF-4488-B000-D928655C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6E13-417A-45EE-9B7D-9503DD2A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CD2A-5D65-413E-BB7D-075A4AEF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5623-2365-41CD-91D5-02A5520C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1545-41C8-489C-BBDD-525E12EE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451F-733D-43A0-9FFE-2693523C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DB79-3A04-4E90-B5A8-3AC19623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B622-E3A2-4390-9E22-234A8E2B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0CE2-6383-488F-8399-1ED7E04E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EE5B-9521-43CA-BBD8-9806C211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9627-2048-4267-BD42-9CF3E1D40DD1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07F0-B09C-4594-B7DF-162E2FC1DDAA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78483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ffff"/>
                </a:solidFill>
                <a:latin typeface="Times New Roman"/>
              </a:rPr>
              <a:t>Sensibilité d'un nouveau test de dépistage combiné Ag/Ac HIV </a:t>
            </a:r>
            <a:r>
              <a:rPr b="0" i="1" lang="fr-FR" sz="4000" spc="-1" strike="noStrike">
                <a:solidFill>
                  <a:srgbClr val="00ffff"/>
                </a:solidFill>
                <a:latin typeface="Times New Roman"/>
              </a:rPr>
              <a:t>(Detect HIV v4, ADALTIS)</a:t>
            </a: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240" y="525780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yria LAPERCHE, Véronique FAUC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Unité d’expertise en virologie - 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2860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00"/>
                </a:solidFill>
                <a:latin typeface="Times New Roman"/>
              </a:rPr>
              <a:t>XIX ème CVV, Paris 28 novembre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49200" y="1298520"/>
            <a:ext cx="68392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"/>
              <a:tabLst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das Duo (BioMérieux)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"/>
              <a:tabLst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zygnost HIV Integral (Dade-Behring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"/>
              <a:tabLst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zymun test HIV combi (Roche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"/>
              <a:tabLst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ronostika Uni-Form II Ag/Ab (Akzo-Organon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"/>
              <a:tabLst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screen Plus HIV Ag-Ab (Biorad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"/>
              <a:tabLst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rex HIV Ag/Ab combination (Abbott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"/>
              <a:tabLst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xsym HIV Ag-Ab Combo (Abbott)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"/>
              <a:tabLst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bas core HIV Combi (Roche)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"/>
              <a:tabLst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chitect HIV Ag-Ab Combo (Abbott)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"/>
              <a:tabLst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das Duo Ultra/ Quick  (BioMérieux)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"/>
              <a:tabLst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dular HIV Combo (Roche)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"/>
              <a:tabLst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screen Ultra HIV Ag-Ab (Biorad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"/>
              <a:tabLst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Detect HIV v4 (Adaltis)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"/>
              <a:tabLst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Times New Roman"/>
              </a:rPr>
              <a:t>* autom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763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ffff"/>
                </a:solidFill>
                <a:latin typeface="Times New Roman"/>
              </a:rPr>
              <a:t>Réactifs de dépistage combinés Ag/Ac VI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5181480"/>
            <a:ext cx="8382240" cy="304920"/>
          </a:xfrm>
          <a:prstGeom prst="rect">
            <a:avLst/>
          </a:prstGeom>
          <a:gradFill rotWithShape="0">
            <a:gsLst>
              <a:gs pos="0">
                <a:srgbClr val="171775"/>
              </a:gs>
              <a:gs pos="50000">
                <a:srgbClr val="3333ff"/>
              </a:gs>
              <a:gs pos="100000">
                <a:srgbClr val="1717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2440" y="1450800"/>
            <a:ext cx="864864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2575080"/>
                <a:tab algn="l" pos="4384800"/>
                <a:tab algn="l" pos="4572000"/>
                <a:tab algn="l" pos="6195960"/>
                <a:tab algn="l" pos="7808760"/>
                <a:tab algn="l" pos="8191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ouss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rma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ps de réa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denc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ol µ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75080"/>
                <a:tab algn="l" pos="4384800"/>
                <a:tab algn="l" pos="4572000"/>
                <a:tab algn="l" pos="6195960"/>
                <a:tab algn="l" pos="7808760"/>
                <a:tab algn="l" pos="819144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99"/>
              </a:spcBef>
              <a:tabLst>
                <a:tab algn="l" pos="0"/>
                <a:tab algn="l" pos="2575080"/>
                <a:tab algn="l" pos="4384800"/>
                <a:tab algn="l" pos="4572000"/>
                <a:tab algn="l" pos="6195960"/>
                <a:tab algn="l" pos="7808760"/>
                <a:tab algn="l" pos="8191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idas Duo</a:t>
            </a:r>
            <a:r>
              <a:rPr b="0" lang="en-US" sz="1600" spc="-1" strike="noStrike">
                <a:solidFill>
                  <a:srgbClr val="ffff17"/>
                </a:solidFill>
                <a:latin typeface="Times New Roman"/>
              </a:rPr>
              <a:t>*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ffff17"/>
                </a:solidFill>
                <a:latin typeface="Times New Roman"/>
              </a:rPr>
              <a:t>automa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90 m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ariable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99"/>
              </a:spcBef>
              <a:tabLst>
                <a:tab algn="l" pos="0"/>
                <a:tab algn="l" pos="2575080"/>
                <a:tab algn="l" pos="4384800"/>
                <a:tab algn="l" pos="4572000"/>
                <a:tab algn="l" pos="6195960"/>
                <a:tab algn="l" pos="7808760"/>
                <a:tab algn="l" pos="8191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z. HIV Integral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croplaqu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20 m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99"/>
              </a:spcBef>
              <a:tabLst>
                <a:tab algn="l" pos="0"/>
                <a:tab algn="l" pos="2575080"/>
                <a:tab algn="l" pos="4384800"/>
                <a:tab algn="l" pos="4572000"/>
                <a:tab algn="l" pos="6195960"/>
                <a:tab algn="l" pos="7808760"/>
                <a:tab algn="l" pos="8191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zymun HIV combi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croplaqu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20/165 m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99"/>
              </a:spcBef>
              <a:tabLst>
                <a:tab algn="l" pos="0"/>
                <a:tab algn="l" pos="2575080"/>
                <a:tab algn="l" pos="4384800"/>
                <a:tab algn="l" pos="4572000"/>
                <a:tab algn="l" pos="6195960"/>
                <a:tab algn="l" pos="7808760"/>
                <a:tab algn="l" pos="8191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iro. Ag/Ab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croplaqu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90 m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99"/>
              </a:spcBef>
              <a:tabLst>
                <a:tab algn="l" pos="0"/>
                <a:tab algn="l" pos="2575080"/>
                <a:tab algn="l" pos="4384800"/>
                <a:tab algn="l" pos="4572000"/>
                <a:tab algn="l" pos="6195960"/>
                <a:tab algn="l" pos="7808760"/>
                <a:tab algn="l" pos="8191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en.Plus HIV Ag-Ab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croplaque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20 m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99"/>
              </a:spcBef>
              <a:tabLst>
                <a:tab algn="l" pos="0"/>
                <a:tab algn="l" pos="2575080"/>
                <a:tab algn="l" pos="4384800"/>
                <a:tab algn="l" pos="4572000"/>
                <a:tab algn="l" pos="6195960"/>
                <a:tab algn="l" pos="7808760"/>
                <a:tab algn="l" pos="8191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urex HIV Ag/Ab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croplaqu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20 m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99"/>
              </a:spcBef>
              <a:tabLst>
                <a:tab algn="l" pos="0"/>
                <a:tab algn="l" pos="2575080"/>
                <a:tab algn="l" pos="4384800"/>
                <a:tab algn="l" pos="4572000"/>
                <a:tab algn="l" pos="6195960"/>
                <a:tab algn="l" pos="7808760"/>
                <a:tab algn="l" pos="8191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xsym HIV Ag-Ab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ffff17"/>
                </a:solidFill>
                <a:latin typeface="Times New Roman"/>
              </a:rPr>
              <a:t>automa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6 m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00 tests/h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99"/>
              </a:spcBef>
              <a:tabLst>
                <a:tab algn="l" pos="0"/>
                <a:tab algn="l" pos="2575080"/>
                <a:tab algn="l" pos="4384800"/>
                <a:tab algn="l" pos="4572000"/>
                <a:tab algn="l" pos="6195960"/>
                <a:tab algn="l" pos="7808760"/>
                <a:tab algn="l" pos="8191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bas core HIV Combi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ffff17"/>
                </a:solidFill>
                <a:latin typeface="Times New Roman"/>
              </a:rPr>
              <a:t>automa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75 m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70 tests/h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99"/>
              </a:spcBef>
              <a:tabLst>
                <a:tab algn="l" pos="0"/>
                <a:tab algn="l" pos="2575080"/>
                <a:tab algn="l" pos="4384800"/>
                <a:tab algn="l" pos="4572000"/>
                <a:tab algn="l" pos="6195960"/>
                <a:tab algn="l" pos="7808760"/>
                <a:tab algn="l" pos="8191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rchitect HIV Ag-Ab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ffff17"/>
                </a:solidFill>
                <a:latin typeface="Times New Roman"/>
              </a:rPr>
              <a:t>automa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9 m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00 tests/h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99"/>
              </a:spcBef>
              <a:tabLst>
                <a:tab algn="l" pos="0"/>
                <a:tab algn="l" pos="2575080"/>
                <a:tab algn="l" pos="4384800"/>
                <a:tab algn="l" pos="4572000"/>
                <a:tab algn="l" pos="6195960"/>
                <a:tab algn="l" pos="7808760"/>
                <a:tab algn="l" pos="8191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idas Duo Ultra/Quick </a:t>
            </a:r>
            <a:r>
              <a:rPr b="0" lang="en-US" sz="1600" spc="-1" strike="noStrike">
                <a:solidFill>
                  <a:srgbClr val="ffff17"/>
                </a:solidFill>
                <a:latin typeface="Times New Roman"/>
              </a:rPr>
              <a:t>**</a:t>
            </a:r>
            <a:r>
              <a:rPr b="0" i="1" lang="fr-FR" sz="1600" spc="-1" strike="noStrike">
                <a:solidFill>
                  <a:srgbClr val="ffff17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ffff17"/>
                </a:solidFill>
                <a:latin typeface="Times New Roman"/>
              </a:rPr>
              <a:t>automa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20/80 m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variab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99"/>
              </a:spcBef>
              <a:tabLst>
                <a:tab algn="l" pos="0"/>
                <a:tab algn="l" pos="2575080"/>
                <a:tab algn="l" pos="4384800"/>
                <a:tab algn="l" pos="4572000"/>
                <a:tab algn="l" pos="6195960"/>
                <a:tab algn="l" pos="7808760"/>
                <a:tab algn="l" pos="8191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odular HIV Combo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ffff17"/>
                </a:solidFill>
                <a:latin typeface="Times New Roman"/>
              </a:rPr>
              <a:t>automate</a:t>
            </a:r>
            <a:r>
              <a:rPr b="0" i="1" lang="en-US" sz="1600" spc="-1" strike="noStrike">
                <a:solidFill>
                  <a:srgbClr val="ffff17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6 m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00 tests/h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99"/>
              </a:spcBef>
              <a:tabLst>
                <a:tab algn="l" pos="0"/>
                <a:tab algn="l" pos="2575080"/>
                <a:tab algn="l" pos="4384800"/>
                <a:tab algn="l" pos="4572000"/>
                <a:tab algn="l" pos="6195960"/>
                <a:tab algn="l" pos="7808760"/>
                <a:tab algn="l" pos="8191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en. Ultra HIV Ag-Ab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croplaqu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20 mn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99"/>
              </a:spcBef>
              <a:tabLst>
                <a:tab algn="l" pos="0"/>
                <a:tab algn="l" pos="2575080"/>
                <a:tab algn="l" pos="4384800"/>
                <a:tab algn="l" pos="4572000"/>
                <a:tab algn="l" pos="6195960"/>
                <a:tab algn="l" pos="7808760"/>
                <a:tab algn="l" pos="8191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tect HIV v4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croplaqu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50 m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99"/>
              </a:spcBef>
              <a:tabLst>
                <a:tab algn="l" pos="0"/>
                <a:tab algn="l" pos="2575080"/>
                <a:tab algn="l" pos="4384800"/>
                <a:tab algn="l" pos="4572000"/>
                <a:tab algn="l" pos="6195960"/>
                <a:tab algn="l" pos="7808760"/>
                <a:tab algn="l" pos="8191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575080"/>
                <a:tab algn="l" pos="4384800"/>
                <a:tab algn="l" pos="4572000"/>
                <a:tab algn="l" pos="6195960"/>
                <a:tab algn="l" pos="7808760"/>
                <a:tab algn="l" pos="8191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17"/>
                </a:solidFill>
                <a:latin typeface="Times New Roman"/>
              </a:rPr>
              <a:t>*</a:t>
            </a:r>
            <a:r>
              <a:rPr b="0" i="1" lang="en-US" sz="1600" spc="-1" strike="noStrike">
                <a:solidFill>
                  <a:srgbClr val="ffff17"/>
                </a:solidFill>
                <a:latin typeface="Times New Roman"/>
              </a:rPr>
              <a:t> ELISA indirect pour la détection des A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575080"/>
                <a:tab algn="l" pos="4384800"/>
                <a:tab algn="l" pos="4572000"/>
                <a:tab algn="l" pos="6195960"/>
                <a:tab algn="l" pos="7808760"/>
                <a:tab algn="l" pos="8191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17"/>
                </a:solidFill>
                <a:latin typeface="Times New Roman"/>
              </a:rPr>
              <a:t>**</a:t>
            </a:r>
            <a:r>
              <a:rPr b="0" i="1" lang="fr-FR" sz="1600" spc="-1" strike="noStrike">
                <a:solidFill>
                  <a:srgbClr val="ffff17"/>
                </a:solidFill>
                <a:latin typeface="Times New Roman"/>
              </a:rPr>
              <a:t> permet de différencier les résultats de p24 Ag et d’anticorps dans certains c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Times New Roman"/>
              <a:buChar char="•"/>
              <a:tabLst>
                <a:tab algn="l" pos="2575080"/>
                <a:tab algn="l" pos="4384800"/>
                <a:tab algn="l" pos="4572000"/>
                <a:tab algn="l" pos="6195960"/>
                <a:tab algn="l" pos="7808760"/>
                <a:tab algn="l" pos="8191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75080"/>
                <a:tab algn="l" pos="4384800"/>
                <a:tab algn="l" pos="4572000"/>
                <a:tab algn="l" pos="6195960"/>
                <a:tab algn="l" pos="7808760"/>
                <a:tab algn="l" pos="81914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80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ffff"/>
                </a:solidFill>
                <a:latin typeface="Times New Roman"/>
              </a:rPr>
              <a:t>Caractéristiques des tests combinés Ag/Ac VI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962000"/>
            <a:ext cx="838188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562720"/>
            <a:ext cx="838188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352520"/>
            <a:ext cx="838188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Objectif : étude de la sensibilité 193 échantill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838080"/>
            <a:ext cx="7238880" cy="5639040"/>
          </a:xfrm>
          <a:prstGeom prst="rect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5000"/>
              </a:lnSpc>
              <a:tabLst>
                <a:tab algn="l" pos="0"/>
                <a:tab algn="l" pos="476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Panel SFTS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476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pré-séroconversion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476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per-SC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476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476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Ac HIV-1 pos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476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Ac HIV-2 pos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476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HIV neg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476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476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Pré séroconversion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476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476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Per séroconversion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476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476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Echantillons séquentiels de 8 sujets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476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pré-séroconversion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476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per-SC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476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476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476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6 panels commerciaux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4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476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476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urnageants de culture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: panel 1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476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4 souches calibrées à 2 concentrations (30 et 100 pg/ml)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476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3A, 3B, 1C, 1D, 1E, 1F, 1G, 1H, 1 HIV-O, 1 HIV-2, 1 ne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476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476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urnageants de culture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: panel 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4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476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2 souches calibrées de 1 à 4 concentrations (entre 10 et 250 pg/ml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476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3C, 2D, 3F, 1G, 2 CRF-01,1 HIV-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476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476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nti-HIV-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476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476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nti-HIV-1 gpO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5715000"/>
            <a:ext cx="72388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2133720"/>
            <a:ext cx="72388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2590920"/>
            <a:ext cx="72388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2971800"/>
            <a:ext cx="72388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3886200"/>
            <a:ext cx="72388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267080"/>
            <a:ext cx="72388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4952880"/>
            <a:ext cx="72388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533520" y="679320"/>
          <a:ext cx="8153280" cy="5645160"/>
        </p:xfrm>
        <a:graphic>
          <a:graphicData uri="http://schemas.openxmlformats.org/drawingml/2006/table">
            <a:tbl>
              <a:tblPr/>
              <a:tblGrid>
                <a:gridCol w="1523880"/>
                <a:gridCol w="533520"/>
                <a:gridCol w="990360"/>
                <a:gridCol w="838440"/>
                <a:gridCol w="761760"/>
                <a:gridCol w="914400"/>
                <a:gridCol w="914400"/>
                <a:gridCol w="914400"/>
                <a:gridCol w="762120"/>
              </a:tblGrid>
              <a:tr h="50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hantill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positifs attendus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c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V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xsym Comb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rex Ag/A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screen Plu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screen Ult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as Du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Pré séroconvers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24 Ag n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/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/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/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24 Ag p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Per séroconvers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g p24 n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g p24 p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/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/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/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/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Séroconvers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/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/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/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Panels Commerciau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BI 9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BI 9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BI 9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BI 9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BI 26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BI 27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HIV-1 po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(panel SFTS) A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HIV-1 pos (g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(sans éch </a:t>
                      </a:r>
                      <a:r>
                        <a:rPr b="1" lang="fr-FR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/91 (94.5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/6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91,8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/8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95,1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/8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92,9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/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94,2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/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90,4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544680" y="6324480"/>
            <a:ext cx="285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(1)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 moins un ELISA Ag et/ Ag/Ab positi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(2)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 positif prob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763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Résultats (1) : détection de l’infection HIV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066680" y="5335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Résultats (2) : détection des anti-HIV-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24382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10/10</a:t>
            </a:r>
            <a:br>
              <a:rPr sz="3200"/>
            </a:b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= </a:t>
            </a:r>
            <a:br>
              <a:rPr sz="3200"/>
            </a:b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100%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210960" y="1295280"/>
          <a:ext cx="8340840" cy="51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295280"/>
                    <a:ext cx="8340840" cy="51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304920" y="5335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ffff"/>
                </a:solidFill>
                <a:latin typeface="Times New Roman"/>
              </a:rPr>
              <a:t>Résultats (3) : Sensibilité analytique AgVIH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6324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ouche de référence génotype B</a:t>
            </a:r>
            <a:r>
              <a:rPr b="0" i="1" lang="en-US" sz="1800" spc="-1" strike="noStrike">
                <a:solidFill>
                  <a:srgbClr val="ffff17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ffff"/>
                </a:solidFill>
                <a:latin typeface="Times New Roman"/>
              </a:rPr>
              <a:t>Résultats (4) : Sensibilité Ag VIH surnage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914400"/>
            <a:ext cx="4648320" cy="28195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2560"/>
                <a:tab algn="l" pos="2187720"/>
                <a:tab algn="l" pos="3527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urnageants de culture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: panel 1 (N=29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52560"/>
                <a:tab algn="l" pos="2187720"/>
                <a:tab algn="l" pos="3527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4 souches calibrées à 2 concentrations (30 et 100 pg/m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52560"/>
                <a:tab algn="l" pos="2187720"/>
                <a:tab algn="l" pos="3527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52560"/>
                <a:tab algn="l" pos="2187720"/>
                <a:tab algn="l" pos="3527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Négatif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Positi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52560"/>
                <a:tab algn="l" pos="2187720"/>
                <a:tab algn="l" pos="3527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52560"/>
                <a:tab algn="l" pos="2187720"/>
                <a:tab algn="l" pos="3527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ff33cc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52560"/>
                <a:tab algn="l" pos="2187720"/>
                <a:tab algn="l" pos="3527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3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52560"/>
                <a:tab algn="l" pos="2187720"/>
                <a:tab algn="l" pos="3527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52560"/>
                <a:tab algn="l" pos="2187720"/>
                <a:tab algn="l" pos="3527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52560"/>
                <a:tab algn="l" pos="2187720"/>
                <a:tab algn="l" pos="3527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52560"/>
                <a:tab algn="l" pos="2187720"/>
                <a:tab algn="l" pos="3527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ff33cc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52560"/>
                <a:tab algn="l" pos="2187720"/>
                <a:tab algn="l" pos="3527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52560"/>
                <a:tab algn="l" pos="2187720"/>
                <a:tab algn="l" pos="3527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52560"/>
                <a:tab algn="l" pos="2187720"/>
                <a:tab algn="l" pos="3527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 HIV-O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ff33cc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52560"/>
                <a:tab algn="l" pos="2187720"/>
                <a:tab algn="l" pos="3527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 HIV-2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ff33cc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52560"/>
                <a:tab algn="l" pos="2187720"/>
                <a:tab algn="l" pos="35272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3962520"/>
            <a:ext cx="5333760" cy="213336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1330200"/>
                <a:tab algn="l" pos="2575080"/>
                <a:tab algn="l" pos="38098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urnageants de culture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: panel 2 (N=4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1330200"/>
                <a:tab algn="l" pos="2575080"/>
                <a:tab algn="l" pos="38098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2 souches calibrées de 1 à 4 concentrations (entre 10 et 250 pg/m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1330200"/>
                <a:tab algn="l" pos="2575080"/>
                <a:tab algn="l" pos="38098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1330200"/>
                <a:tab algn="l" pos="2575080"/>
                <a:tab algn="l" pos="38098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Négatif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Positi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1330200"/>
                <a:tab algn="l" pos="2575080"/>
                <a:tab algn="l" pos="38098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1330200"/>
                <a:tab algn="l" pos="2575080"/>
                <a:tab algn="l" pos="38098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1330200"/>
                <a:tab algn="l" pos="2575080"/>
                <a:tab algn="l" pos="38098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1330200"/>
                <a:tab algn="l" pos="2575080"/>
                <a:tab algn="l" pos="38098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1330200"/>
                <a:tab algn="l" pos="2575080"/>
                <a:tab algn="l" pos="38098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1330200"/>
                <a:tab algn="l" pos="2575080"/>
                <a:tab algn="l" pos="38098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RF-01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330200"/>
                <a:tab algn="l" pos="2575080"/>
                <a:tab algn="l" pos="3809880"/>
                <a:tab algn="l" pos="6286680"/>
                <a:tab algn="l" pos="6667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 HIV-O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ff33cc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6094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1447920"/>
            <a:ext cx="7391160" cy="47242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378000"/>
                <a:tab algn="l" pos="1141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Détection de l’Ag VI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378000"/>
                <a:tab algn="l" pos="1141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- 19 pg/ml Ag VIH-1 sur le panel SFTS (souche 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378000"/>
                <a:tab algn="l" pos="1141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- 3/7 pré SC négatif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378000"/>
                <a:tab algn="l" pos="1141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(gen B:13 pg/ml, gen CRF-02 :19 pg/ml, gen B :33 pg/m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378000"/>
                <a:tab algn="l" pos="1141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- Détection des surnagenants en rapport avec le seuil de détéction de l’A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239"/>
              </a:spcBef>
              <a:tabLst>
                <a:tab algn="l" pos="0"/>
                <a:tab algn="l" pos="378000"/>
                <a:tab algn="l" pos="1141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33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33cc"/>
                </a:solidFill>
                <a:latin typeface="Times New Roman"/>
              </a:rPr>
              <a:t>sauf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/3 génotype A et 1/4 génotype F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négatif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39"/>
              </a:spcBef>
              <a:tabLst>
                <a:tab algn="l" pos="0"/>
                <a:tab algn="l" pos="378000"/>
                <a:tab algn="l" pos="1141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375"/>
              </a:spcBef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378000"/>
                <a:tab algn="l" pos="1141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Détection des anticorps -VI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378000"/>
                <a:tab algn="l" pos="1141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- aucune défaillance mise en évidence (VIH-1, VIH-1gO, VIH-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378000"/>
                <a:tab algn="l" pos="1141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375"/>
              </a:spcBef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378000"/>
                <a:tab algn="l" pos="1141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Times New Roman"/>
              </a:rPr>
              <a:t>Detect HIV v4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se situe parmi les meilleurs tests combinés pour la détection de l’infection à VIH en terme de sensibilité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78000"/>
                <a:tab algn="l" pos="114156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7:03:36Z</dcterms:created>
  <dc:creator>slape</dc:creator>
  <dc:description/>
  <dc:language>en-US</dc:language>
  <cp:lastModifiedBy>Eric POUSSIN</cp:lastModifiedBy>
  <dcterms:modified xsi:type="dcterms:W3CDTF">2007-01-19T11:50:41Z</dcterms:modified>
  <cp:revision>15</cp:revision>
  <dc:subject/>
  <dc:title>Présentation PowerPoint</dc:title>
</cp:coreProperties>
</file>