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media/image10.png" ContentType="image/png"/>
  <Override PartName="/ppt/media/image1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95040" y="729720"/>
            <a:ext cx="4869000" cy="3651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Click to move the slide</a:t>
            </a:r>
            <a:endParaRPr b="0" lang="en-US" sz="4400" spc="-1" strike="noStrike">
              <a:solidFill>
                <a:srgbClr val="00ffff"/>
              </a:solidFill>
              <a:latin typeface="Arial"/>
            </a:endParaRPr>
          </a:p>
        </p:txBody>
      </p:sp>
      <p:sp>
        <p:nvSpPr>
          <p:cNvPr id="45" name="PlaceHolder 4"/>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48760"/>
            <a:ext cx="297180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9248760"/>
            <a:ext cx="29718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8C8A-A532-4641-8D34-D01C6C249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s/slide54.xml"/><Relationship Id="rId3"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995400" y="730080"/>
            <a:ext cx="4869000" cy="3651480"/>
          </a:xfrm>
          <a:prstGeom prst="rect">
            <a:avLst/>
          </a:prstGeom>
          <a:ln w="0">
            <a:noFill/>
          </a:ln>
        </p:spPr>
      </p:sp>
      <p:sp>
        <p:nvSpPr>
          <p:cNvPr id="248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nombreuses études ont montré que la quantification sanguine du CMV permettait de prédire l’évolution vers une maladie à CMV et que des charges virales élevées dans le sang étaient corrélées à un risque plus élevé de la maladie à CMV</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995400" y="730080"/>
            <a:ext cx="4869000" cy="3651480"/>
          </a:xfrm>
          <a:prstGeom prst="rect">
            <a:avLst/>
          </a:prstGeom>
          <a:ln w="0">
            <a:noFill/>
          </a:ln>
        </p:spPr>
      </p:sp>
      <p:sp>
        <p:nvSpPr>
          <p:cNvPr id="2484"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s marqueurs de réplication sont  prédictifs de l’apparition de la maladie à CMV</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CV élevé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 initiale après transplan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esse de ré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 de CV survient souvent trop tardivement pour fournir une information pronostiq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PlaceHolder 1"/>
          <p:cNvSpPr>
            <a:spLocks noGrp="1"/>
          </p:cNvSpPr>
          <p:nvPr>
            <p:ph type="sldImg"/>
          </p:nvPr>
        </p:nvSpPr>
        <p:spPr>
          <a:xfrm>
            <a:off x="995400" y="730080"/>
            <a:ext cx="4869000" cy="3651480"/>
          </a:xfrm>
          <a:prstGeom prst="rect">
            <a:avLst/>
          </a:prstGeom>
          <a:ln w="0">
            <a:noFill/>
          </a:ln>
        </p:spPr>
      </p:sp>
      <p:sp>
        <p:nvSpPr>
          <p:cNvPr id="2486"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utres facteurs liés à la dynamique de la de réplication du CMV sont impliqués  dans l’évolution vers une maladie à CMV com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CV initiale élevée et surtout la vitesse de réplication du viru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ainsi que L’équipe d’Emery a élaboré un modèle mathématique qui permet de prédire le risque d’apparition de la maladie à CMV en fonction de la CV initiale et de la vitesse d’aug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ythme d’augmentation de la CV :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33 log10 genomes/ml de sang total par jour </a:t>
            </a:r>
            <a:r>
              <a:rPr b="0" lang="fr-FR" sz="1200" spc="-1" strike="noStrike">
                <a:solidFill>
                  <a:srgbClr val="000000"/>
                </a:solidFill>
                <a:latin typeface="Wingdings"/>
                <a:ea typeface="Wingdings"/>
              </a:rPr>
              <a:t></a:t>
            </a:r>
            <a:r>
              <a:rPr b="0" lang="fr-FR" sz="1200" spc="-1" strike="noStrike">
                <a:solidFill>
                  <a:srgbClr val="000000"/>
                </a:solidFill>
                <a:latin typeface="Arial"/>
              </a:rPr>
              <a:t> maladie à CMV</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 19 log10 genomes/ml de sang total par jour </a:t>
            </a:r>
            <a:r>
              <a:rPr b="0" lang="fr-FR" sz="1200" spc="-1" strike="noStrike">
                <a:solidFill>
                  <a:srgbClr val="000000"/>
                </a:solidFill>
                <a:latin typeface="Wingdings"/>
                <a:ea typeface="Wingdings"/>
              </a:rPr>
              <a:t></a:t>
            </a:r>
            <a:r>
              <a:rPr b="0" lang="fr-FR" sz="1200" spc="-1" strike="noStrike">
                <a:solidFill>
                  <a:srgbClr val="000000"/>
                </a:solidFill>
                <a:latin typeface="Arial"/>
              </a:rPr>
              <a:t> indem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995400" y="730080"/>
            <a:ext cx="4869000" cy="3651480"/>
          </a:xfrm>
          <a:prstGeom prst="rect">
            <a:avLst/>
          </a:prstGeom>
          <a:ln w="0">
            <a:noFill/>
          </a:ln>
        </p:spPr>
      </p:sp>
      <p:sp>
        <p:nvSpPr>
          <p:cNvPr id="2488"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cemment, une étude sur la dynamique de la réplication du CMV a été réalisée chez 47 transplantés (foie et cœur). Parmi ces patients 30 (64%)ont développé une maladie à CMV et 17 patients sont restés AS dans les 6 1er mois après la gre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uteurs ont réalisés un suivi virologique hebdomadaire par  une quantification de la CV du CMV pendant les 6 1er mois qui ont suivi la greffe.. Ils ont montré une différence significative de CV entre les 2 groupes de patients à partir de la semain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vec dans le groupe de patients S : une augmentation sup ou = à 1 log /106 leuco entre 1er PCR + et W4 : pour ceux qui développent une M à CM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que dans le groupe de patients AS : cette différence est &lt; 1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antitation of cytomegalovirus DNA by the polymerase chain reaction as a predictor of disease in solid organ transplantation. V. Ghisetti et al. Journal of medical Virology 73-223-229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ladie à CMV : 30 sur 47 = 64% des patients ( 8 PI R-/D+ et 22 reinfection 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MV DNA + = J23 post-gre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4 : 1er point pour lequel ils ont observé une différence significative de CV entre les patients S et non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tre 1er PCR + et W4 : augmentation sup ou = à 1 log /106 leuco pour ceux qui développent une M à CM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 1 log pour les autr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995400" y="730080"/>
            <a:ext cx="4869000" cy="3651480"/>
          </a:xfrm>
          <a:prstGeom prst="rect">
            <a:avLst/>
          </a:prstGeom>
          <a:ln w="0">
            <a:noFill/>
          </a:ln>
        </p:spPr>
      </p:sp>
      <p:sp>
        <p:nvSpPr>
          <p:cNvPr id="2490"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question principale qui se pose est : antigénémie ou PC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ai sélectionné 4 études qui montrent des résultats controversés quant aux performances de ces méthodes dans le diagnostic et la prédiction de la maladie à CMV</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PlaceHolder 1"/>
          <p:cNvSpPr>
            <a:spLocks noGrp="1"/>
          </p:cNvSpPr>
          <p:nvPr>
            <p:ph type="sldImg"/>
          </p:nvPr>
        </p:nvSpPr>
        <p:spPr>
          <a:xfrm>
            <a:off x="995400" y="730080"/>
            <a:ext cx="4869000" cy="3651480"/>
          </a:xfrm>
          <a:prstGeom prst="rect">
            <a:avLst/>
          </a:prstGeom>
          <a:ln w="0">
            <a:noFill/>
          </a:ln>
        </p:spPr>
      </p:sp>
      <p:sp>
        <p:nvSpPr>
          <p:cNvPr id="249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étude réalisée chez 73 TO, l’objectif était de valider l’utilisation  de l’agpp65 dans le diagnostic de la M à C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un premier temps, ils ont quantifier l’agpp65 tous les 15 j pdt les 6 1er mois après la greffe pour calculer les performances techniques du test en terme de sensibilité et de V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un second temps, ils ont déterminé le seuil de l’agpp65 qui permettait de donner la meilleure VPP et VPN au cours du suiv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3 patients R-/ D+ (1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 583 échantillons </a:t>
            </a:r>
            <a:r>
              <a:rPr b="0" lang="fr-FR" sz="1200" spc="-1" strike="noStrike">
                <a:solidFill>
                  <a:srgbClr val="000000"/>
                </a:solidFill>
                <a:latin typeface="Wingdings"/>
                <a:ea typeface="Wingdings"/>
              </a:rPr>
              <a:t></a:t>
            </a:r>
            <a:r>
              <a:rPr b="0" lang="fr-FR" sz="1200" spc="-1" strike="noStrike">
                <a:solidFill>
                  <a:srgbClr val="000000"/>
                </a:solidFill>
                <a:latin typeface="Arial"/>
              </a:rPr>
              <a:t> 109 Agpp65 + (18,7%) chez 37 patients </a:t>
            </a:r>
            <a:r>
              <a:rPr b="0" lang="fr-FR" sz="1200" spc="-1" strike="noStrike">
                <a:solidFill>
                  <a:srgbClr val="000000"/>
                </a:solidFill>
                <a:latin typeface="Wingdings"/>
                <a:ea typeface="Wingdings"/>
              </a:rPr>
              <a:t></a:t>
            </a:r>
            <a:r>
              <a:rPr b="0" lang="fr-FR" sz="1200" spc="-1" strike="noStrike">
                <a:solidFill>
                  <a:srgbClr val="000000"/>
                </a:solidFill>
                <a:latin typeface="Arial"/>
              </a:rPr>
              <a:t>  51% des patients sont antigéném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995400" y="730080"/>
            <a:ext cx="4869000" cy="3651480"/>
          </a:xfrm>
          <a:prstGeom prst="rect">
            <a:avLst/>
          </a:prstGeom>
          <a:ln w="0">
            <a:noFill/>
          </a:ln>
        </p:spPr>
      </p:sp>
      <p:sp>
        <p:nvSpPr>
          <p:cNvPr id="2494"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mi les 73 patients, 22 patients développent un total de 22 épisodes à CMV (0.3 épisodes /pat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mi les 22 patients (19/22 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19 patients / 37(51%) (1 ou plusieurs agpp65 + &gt; 10noyaux )développent une maladie à CMV</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36 (8%)agpp65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établit la S et la VPP de l’agPP65 dans le diagnostic de la M à CMV à 86% et 5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 chiffres sont accord avec d’autres études publié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seuls 10 patients qui ont développé une M à CMV ont une ou plusieurs agpp65 + avant l’apparition des signes cliniques , ce qui établit une S et une VPP à 46 et 42%</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isque relatif de M à CMV si agpp65 : 6,1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0/22 patients (45%) : agpp65 + avant les signes clin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gpp65 : test commercilisé , anticorps monoclonal Bior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re de noyaux pour 100000 leu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t anticipé basé sur l’agpp65</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rrélation avec les étude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nsibilité comprise entre 80-100%</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VPP comprise entre 51 et 6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itement anticipé basé sur PP65 </a:t>
            </a:r>
            <a:r>
              <a:rPr b="0" lang="fr-FR" sz="800" spc="-1" strike="noStrike">
                <a:solidFill>
                  <a:srgbClr val="000000"/>
                </a:solidFill>
                <a:latin typeface="Wingdings"/>
                <a:ea typeface="Wingdings"/>
              </a:rPr>
              <a:t></a:t>
            </a:r>
            <a:r>
              <a:rPr b="0" lang="fr-FR" sz="800" spc="-1" strike="noStrike">
                <a:solidFill>
                  <a:srgbClr val="000000"/>
                </a:solidFill>
                <a:latin typeface="Arial"/>
              </a:rPr>
              <a:t> baisse incidence de la maladie à CMV</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suivi à long terme, l’ag a une s de 86% mais une VPP basse pour le diagnostic de la M à C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prédiction de la M à CMV, la VPP est plus base  d’où la faible capacité de l’ag de détecter précocément une activité biologique CMV</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995400" y="730080"/>
            <a:ext cx="4869000" cy="3651480"/>
          </a:xfrm>
          <a:prstGeom prst="rect">
            <a:avLst/>
          </a:prstGeom>
          <a:ln w="0">
            <a:noFill/>
          </a:ln>
        </p:spPr>
      </p:sp>
      <p:sp>
        <p:nvSpPr>
          <p:cNvPr id="2496"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résultats sont en contradiction avec une étude précédente qui avait montré une senbulité et une VPN élévée des test leucocytaires et notamment de l’agpp65 ( faible effectif et ag + à 1 cell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i une autre étude qui a </a:t>
            </a:r>
            <a:r>
              <a:rPr b="0" lang="en-US" sz="1200" spc="-1" strike="noStrike">
                <a:solidFill>
                  <a:srgbClr val="000000"/>
                </a:solidFill>
                <a:latin typeface="Arial"/>
              </a:rPr>
              <a:t>comparé les performances techniques de l’agpp65 avec les autres test moléculaires </a:t>
            </a:r>
            <a:r>
              <a:rPr b="0" lang="fr-FR" sz="1200" spc="-1" strike="noStrike">
                <a:solidFill>
                  <a:srgbClr val="000000"/>
                </a:solidFill>
                <a:latin typeface="Arial"/>
              </a:rPr>
              <a:t>. Cette étude a été </a:t>
            </a:r>
            <a:r>
              <a:rPr b="0" lang="en-US" sz="1200" spc="-1" strike="noStrike">
                <a:solidFill>
                  <a:srgbClr val="000000"/>
                </a:solidFill>
                <a:latin typeface="Arial"/>
              </a:rPr>
              <a:t>réalisée chez 30 </a:t>
            </a:r>
            <a:r>
              <a:rPr b="0" lang="en-US" sz="1200" spc="-1" strike="noStrike">
                <a:solidFill>
                  <a:srgbClr val="000000"/>
                </a:solidFill>
                <a:latin typeface="Arial"/>
              </a:rPr>
              <a:t>transplantés rénaux sur un suivi longitudinal de 12 semaines. Les auteurs ont conclu qu’avec un seuil de + de l’agpp65, la S et la VPP de ce test était de 100%</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 patients (36.7%) : symptomatiques;; 7 (23.3%) AS et 12 ( 40%) non infecté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er agpp65+ : 30 jour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er symptomes : 37 jour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es plus hautes sensibilités et VPN pour détecter une infection à CMV sont obtenues avec les tests leucocytaires</a:t>
            </a: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aison des méthodes de détection du CMV pour prédire une maladie à CMV chez les transplantés réna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ns cette étude, la meilleure S et VPN pour prédire une M à CMV, et la précocité du test + avant la M sont obtenues avec les tests leucocytaires. La cinétique de agpp65 est corrélée à celle de la CV dans les leuc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ême si la spécificité dans le plasma est plus haute que pour les tests leuco, 3 patients AS avaient une CV plasmatique élevée et 3 patients S avaient un eCV plasma fa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us haute specificté et VPP : plasma et test leucocy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istence de l’AND virale dans les leucocytes sous trt 66&lt; risque de récid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PCR dans les leuco - </a:t>
            </a:r>
            <a:r>
              <a:rPr b="0" lang="en-GB" sz="1200" spc="-1" strike="noStrike">
                <a:solidFill>
                  <a:srgbClr val="000000"/>
                </a:solidFill>
                <a:latin typeface="Wingdings"/>
                <a:ea typeface="Wingdings"/>
              </a:rPr>
              <a:t></a:t>
            </a:r>
            <a:r>
              <a:rPr b="0" lang="en-GB" sz="1200" spc="-1" strike="noStrike">
                <a:solidFill>
                  <a:srgbClr val="000000"/>
                </a:solidFill>
                <a:latin typeface="Arial"/>
              </a:rPr>
              <a:t>pas d’infection active à C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EE0C-EBF1-4133-910C-54794E9D4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6"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7"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58"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59" name="PlaceHolder 1"/>
          <p:cNvSpPr>
            <a:spLocks noGrp="1"/>
          </p:cNvSpPr>
          <p:nvPr>
            <p:ph type="sldImg"/>
          </p:nvPr>
        </p:nvSpPr>
        <p:spPr>
          <a:xfrm>
            <a:off x="1015920" y="749160"/>
            <a:ext cx="4892760" cy="3670560"/>
          </a:xfrm>
          <a:prstGeom prst="rect">
            <a:avLst/>
          </a:prstGeom>
          <a:ln w="0">
            <a:noFill/>
          </a:ln>
        </p:spPr>
      </p:sp>
      <p:sp>
        <p:nvSpPr>
          <p:cNvPr id="2460" name="PlaceHolder 2"/>
          <p:cNvSpPr>
            <a:spLocks noGrp="1"/>
          </p:cNvSpPr>
          <p:nvPr>
            <p:ph type="body"/>
          </p:nvPr>
        </p:nvSpPr>
        <p:spPr>
          <a:xfrm>
            <a:off x="944280" y="4644720"/>
            <a:ext cx="5035320" cy="4344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MV appartient à la famille des H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 un virus ubiqyu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fections à CMV sont la 1ère cause des infections virales congénitales et peuvent mettre en jeu le pronostic fonctionnel ou vital es patients I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PlaceHolder 1"/>
          <p:cNvSpPr>
            <a:spLocks noGrp="1"/>
          </p:cNvSpPr>
          <p:nvPr>
            <p:ph type="sldImg"/>
          </p:nvPr>
        </p:nvSpPr>
        <p:spPr>
          <a:xfrm>
            <a:off x="995400" y="730080"/>
            <a:ext cx="4869000" cy="3651480"/>
          </a:xfrm>
          <a:prstGeom prst="rect">
            <a:avLst/>
          </a:prstGeom>
          <a:ln w="0">
            <a:noFill/>
          </a:ln>
        </p:spPr>
      </p:sp>
      <p:sp>
        <p:nvSpPr>
          <p:cNvPr id="2498"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Je vais maintenant vous présenter 2 études qui ont comparé les résultats de la quantification de la CV CMV par 3 techniques : agpp65, PCR conventionnelle et PCR temps réel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1ère étude a réalisé une quantification du CMV dans les leucocytes  par les 3techniques chez 32 T de foie. 20 patients ont été mis sous trt anticipé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vait pour objectif de valider une technique de PCR temps réel pour la quantification du CMV dans le suivi des transplantés et de comparer cette technique avec l’ag et la détection du CMV dans les leucocytes par la technique Roche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s patients étudiés étaient des transplantés de foie (cohorte de 32) et la quantification du CMV par les 3 méthodes a été réalisée selon un rythme bi-hebdomadair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CR 3 + en cobas (2,2; 2 et 1,7 log copies/ 500000 leucocytes correspondant à agpp65 1; 1 et 2)</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rrélation meilleure entre les deux techniques de PCR si agpp65 &lt; 50 </a:t>
            </a:r>
            <a:r>
              <a:rPr b="0" lang="fr-FR" sz="1000" spc="-1" strike="noStrike">
                <a:solidFill>
                  <a:srgbClr val="000000"/>
                </a:solidFill>
                <a:latin typeface="Wingdings"/>
                <a:ea typeface="Wingdings"/>
              </a:rPr>
              <a:t></a:t>
            </a:r>
            <a:r>
              <a:rPr b="0" lang="fr-FR" sz="1000" spc="-1" strike="noStrike">
                <a:solidFill>
                  <a:srgbClr val="000000"/>
                </a:solidFill>
                <a:latin typeface="Arial"/>
              </a:rPr>
              <a:t> biais de la technique quantitative en point final pour les valeurs hautes de CV</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V à 3,8 et 3,ç log copies/500000 chez les patients trt en premptif</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V à 3,1 et 2,9 si non trt</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V &gt; ou = à 4 log/copies/ 106 leucocytes </a:t>
            </a:r>
            <a:r>
              <a:rPr b="0" lang="fr-FR" sz="1000" spc="-1" strike="noStrike">
                <a:solidFill>
                  <a:srgbClr val="000000"/>
                </a:solidFill>
                <a:latin typeface="Wingdings"/>
                <a:ea typeface="Wingdings"/>
              </a:rPr>
              <a:t></a:t>
            </a:r>
            <a:r>
              <a:rPr b="0" lang="fr-FR" sz="1000" spc="-1" strike="noStrike">
                <a:solidFill>
                  <a:srgbClr val="000000"/>
                </a:solidFill>
                <a:latin typeface="Arial"/>
              </a:rPr>
              <a:t> haut risque de développer une infection à CMV</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ages du temps réel : moins de contamination et pas de biais de quantification comme dans la PCR conventionnel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2 transplantés de foi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rveillance bi-hebdomadaire par PCR conventionnelle amplicor monitor) et AgPP65 (PBL)</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CR temps réel en 2ème intention( PCR multiplex cible viral : UL123 (IE exon 4) et cible cellulaire : B globin ; extraction 1 million de leuco sonde taqman marquée en Fam, contrôle interne en Vic, standard de quantification externe avec un plasmide UL123 100 o 100000 copies/réaction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receveurs séro - : PI</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9 receveurs séro+ : réinfection ou réactivation</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t preemptif pr du GCV IV pdt 21 jours si Agpp65 &gt; 20 pour 200000 (20 patients trt sur les 32)</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cune maladie à CMV développé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sldImg"/>
          </p:nvPr>
        </p:nvSpPr>
        <p:spPr>
          <a:xfrm>
            <a:off x="995400" y="730080"/>
            <a:ext cx="4869000" cy="3651480"/>
          </a:xfrm>
          <a:prstGeom prst="rect">
            <a:avLst/>
          </a:prstGeom>
          <a:ln w="0">
            <a:noFill/>
          </a:ln>
        </p:spPr>
      </p:sp>
      <p:sp>
        <p:nvSpPr>
          <p:cNvPr id="2500"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tableau montre les résultats de la quantification du CMV  par les 3 techniques (ag et PCR ) et des CV  dans les 2 groupes de patients trt et non tr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us pouvez noter que les valeurs de l’agpp65 et des CV sont plus élevées dans le groupe de patioents en trt  par rapport au groupe de patienst AS, cette différence est significative pour les 3 techniques ce qui montre une bonne corrélation des résultats pour les 3 techni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uteurs ont montré une différence significative entre les valeurs de l’ag et de la CV dans les 2 groupes à savoir que les valeurs hautes d l’ag ou des CV sont retrouvées pour les patients en trt anticipé </a:t>
            </a:r>
            <a:r>
              <a:rPr b="0" lang="fr-FR" sz="1200" spc="-1" strike="noStrike">
                <a:solidFill>
                  <a:srgbClr val="000000"/>
                </a:solidFill>
                <a:latin typeface="Wingdings"/>
                <a:ea typeface="Wingdings"/>
              </a:rPr>
              <a:t></a:t>
            </a:r>
            <a:r>
              <a:rPr b="0" lang="fr-FR" sz="1200" spc="-1" strike="noStrike">
                <a:solidFill>
                  <a:srgbClr val="000000"/>
                </a:solidFill>
                <a:latin typeface="Arial"/>
              </a:rPr>
              <a:t> corrélation des résultats entre les deux techni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ntigénémie ou Charge virale initiale </a:t>
            </a:r>
            <a:r>
              <a:rPr b="0" lang="fr-FR" sz="1000" spc="-1" strike="noStrike">
                <a:solidFill>
                  <a:srgbClr val="000000"/>
                </a:solidFill>
                <a:latin typeface="Symbol"/>
                <a:ea typeface="Symbol"/>
              </a:rPr>
              <a:t></a:t>
            </a:r>
            <a:r>
              <a:rPr b="0" lang="fr-FR" sz="1000" spc="-1" strike="noStrike">
                <a:solidFill>
                  <a:srgbClr val="000000"/>
                </a:solidFill>
                <a:latin typeface="Arial"/>
              </a:rPr>
              <a:t> 4 log</a:t>
            </a:r>
            <a:r>
              <a:rPr b="0" lang="fr-FR" sz="1000" spc="-1" strike="noStrike" baseline="-25000">
                <a:solidFill>
                  <a:srgbClr val="000000"/>
                </a:solidFill>
                <a:latin typeface="Arial"/>
              </a:rPr>
              <a:t>10</a:t>
            </a:r>
            <a:r>
              <a:rPr b="0" lang="fr-FR" sz="1000" spc="-1" strike="noStrike">
                <a:solidFill>
                  <a:srgbClr val="000000"/>
                </a:solidFill>
                <a:latin typeface="Arial"/>
              </a:rPr>
              <a:t>/ 10</a:t>
            </a:r>
            <a:r>
              <a:rPr b="0" lang="fr-FR" sz="1000" spc="-1" strike="noStrike" baseline="30000">
                <a:solidFill>
                  <a:srgbClr val="000000"/>
                </a:solidFill>
                <a:latin typeface="Arial"/>
              </a:rPr>
              <a:t>6</a:t>
            </a:r>
            <a:r>
              <a:rPr b="0" lang="fr-FR" sz="1000" spc="-1" strike="noStrike">
                <a:solidFill>
                  <a:srgbClr val="000000"/>
                </a:solidFill>
                <a:latin typeface="Arial"/>
              </a:rPr>
              <a:t> leucocytes corrélée à un risque élevé de maladie à CMV</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PlaceHolder 1"/>
          <p:cNvSpPr>
            <a:spLocks noGrp="1"/>
          </p:cNvSpPr>
          <p:nvPr>
            <p:ph type="sldImg"/>
          </p:nvPr>
        </p:nvSpPr>
        <p:spPr>
          <a:xfrm>
            <a:off x="995400" y="730080"/>
            <a:ext cx="4869000" cy="3651480"/>
          </a:xfrm>
          <a:prstGeom prst="rect">
            <a:avLst/>
          </a:prstGeom>
          <a:ln w="0">
            <a:noFill/>
          </a:ln>
        </p:spPr>
      </p:sp>
      <p:sp>
        <p:nvSpPr>
          <p:cNvPr id="250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diagrammes A et B C montre  que les résultats de la quantification des CV sont corrélées entre les 3 techniques avec cependant un meilleur coefficient corrélation pour les deux techniques de PC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e pp65 et les deux techniques de PCR pour les échantillons avec 1 ou plusieurs cellule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corrélation entre les deux PCR est meilleure mais la corrélation est plus forte pour les échantillons avec &lt; de 50 cellules + en pp65 (r=0,70) que pour ceux qui ont &gt; 50 cellul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101B-77B1-42B6-B834-194BFE938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4"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05"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6"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07" name="PlaceHolder 1"/>
          <p:cNvSpPr>
            <a:spLocks noGrp="1"/>
          </p:cNvSpPr>
          <p:nvPr>
            <p:ph type="sldImg"/>
          </p:nvPr>
        </p:nvSpPr>
        <p:spPr>
          <a:xfrm>
            <a:off x="995400" y="730080"/>
            <a:ext cx="4869000" cy="3651480"/>
          </a:xfrm>
          <a:prstGeom prst="rect">
            <a:avLst/>
          </a:prstGeom>
          <a:ln w="0">
            <a:noFill/>
          </a:ln>
        </p:spPr>
      </p:sp>
      <p:sp>
        <p:nvSpPr>
          <p:cNvPr id="2508" name="PlaceHolder 2"/>
          <p:cNvSpPr>
            <a:spLocks noGrp="1"/>
          </p:cNvSpPr>
          <p:nvPr>
            <p:ph type="body"/>
          </p:nvPr>
        </p:nvSpPr>
        <p:spPr>
          <a:xfrm>
            <a:off x="914400" y="4625640"/>
            <a:ext cx="5029200" cy="438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s ont ensuite divisés les patients en 6 groupes selon les résultats de l’ag. Ils ont comparé les valeurs des charges virales avec la technique Roche et la méthode de PCR temps réel pour chacun des grou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us pouvez noter qu’à partir du seuil de 20 cellules positives en ag, il existe une augmentation significative des valeurs de  CV en temps réel alors qu’en technique cobas, il y a une progression plus lente pour Cob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voir discriminatif plus grand du temps réel / à pCR conventionnelle chez les patients infect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PlaceHolder 1"/>
          <p:cNvSpPr>
            <a:spLocks noGrp="1"/>
          </p:cNvSpPr>
          <p:nvPr>
            <p:ph type="sldImg"/>
          </p:nvPr>
        </p:nvSpPr>
        <p:spPr>
          <a:xfrm>
            <a:off x="995400" y="730080"/>
            <a:ext cx="4869000" cy="3651480"/>
          </a:xfrm>
          <a:prstGeom prst="rect">
            <a:avLst/>
          </a:prstGeom>
          <a:ln w="0">
            <a:noFill/>
          </a:ln>
        </p:spPr>
      </p:sp>
      <p:sp>
        <p:nvSpPr>
          <p:cNvPr id="2510"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s ont ensuite testé la reproduc intra et inter essai des deux techniques de PCR à  partir d’ ADN CMV (AD169) purifié et contenant   de (copies par réaction)10 2 à 10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PCR temps réel, les CV intra et inter sont &lt; à 2% alorsq ue pour la technique coba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PlaceHolder 1"/>
          <p:cNvSpPr>
            <a:spLocks noGrp="1"/>
          </p:cNvSpPr>
          <p:nvPr>
            <p:ph type="sldImg"/>
          </p:nvPr>
        </p:nvSpPr>
        <p:spPr>
          <a:xfrm>
            <a:off x="995400" y="730080"/>
            <a:ext cx="4869000" cy="3651480"/>
          </a:xfrm>
          <a:prstGeom prst="rect">
            <a:avLst/>
          </a:prstGeom>
          <a:ln w="0">
            <a:noFill/>
          </a:ln>
        </p:spPr>
      </p:sp>
      <p:sp>
        <p:nvSpPr>
          <p:cNvPr id="251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ême étude a été réalisée dans le compartiment plasmatique et a montré une bonne corrélation entre l’antigénémie, la PCR cobas amplicor et la PCR temps ré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voici une autre étude qui avait le même objectif : valiser une PCR quantitative en TR dans le management des infections à CM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ude repose sur 27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ifférence avec l’étude précédente : les deux technoques de PCR sont réalisées dans le plas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euil d’agpp était de 1 cellule pour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icorps biotest pour agPP65 (+ si 1 cellule/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CR moni amplic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CR temps réel : extraction magna pure sur 200 µl de plasma; gène cible pp65 , contrôle externe plasmide avec gène pp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 27 patients : 19 ont une ag+ et AD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 19 : 13 développent une M à CMV et sont trt par GCV IV pdt 2 sem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sldImg"/>
          </p:nvPr>
        </p:nvSpPr>
        <p:spPr>
          <a:xfrm>
            <a:off x="995400" y="730080"/>
            <a:ext cx="4869000" cy="3651480"/>
          </a:xfrm>
          <a:prstGeom prst="rect">
            <a:avLst/>
          </a:prstGeom>
          <a:ln w="0">
            <a:noFill/>
          </a:ln>
        </p:spPr>
      </p:sp>
      <p:pic>
        <p:nvPicPr>
          <p:cNvPr id="2514" name="" descr=""/>
          <p:cNvPicPr/>
          <p:nvPr/>
        </p:nvPicPr>
        <p:blipFill>
          <a:blip r:embed="rId1"/>
          <a:stretch/>
        </p:blipFill>
        <p:spPr>
          <a:xfrm>
            <a:off x="836640" y="4724280"/>
            <a:ext cx="5486400" cy="2344680"/>
          </a:xfrm>
          <a:prstGeom prst="rect">
            <a:avLst/>
          </a:prstGeom>
          <a:ln w="0">
            <a:noFill/>
          </a:ln>
        </p:spPr>
      </p:pic>
      <p:sp>
        <p:nvSpPr>
          <p:cNvPr id="2515" name=""/>
          <p:cNvSpPr/>
          <p:nvPr/>
        </p:nvSpPr>
        <p:spPr>
          <a:xfrm>
            <a:off x="907920" y="7101000"/>
            <a:ext cx="50421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6" name=""/>
          <p:cNvSpPr/>
          <p:nvPr/>
        </p:nvSpPr>
        <p:spPr>
          <a:xfrm>
            <a:off x="1034280" y="7202520"/>
            <a:ext cx="566568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1200" spc="-1" strike="noStrike">
                <a:solidFill>
                  <a:srgbClr val="ffffff"/>
                </a:solidFill>
                <a:latin typeface="Arial"/>
              </a:rPr>
              <a:t>omme précédemment, les auteurs mettent en évidence une bonne corrél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tre les 3 techniques</a:t>
            </a: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PlaceHolder 1"/>
          <p:cNvSpPr>
            <a:spLocks noGrp="1"/>
          </p:cNvSpPr>
          <p:nvPr>
            <p:ph type="sldImg"/>
          </p:nvPr>
        </p:nvSpPr>
        <p:spPr>
          <a:xfrm>
            <a:off x="995400" y="730080"/>
            <a:ext cx="4869000" cy="3651480"/>
          </a:xfrm>
          <a:prstGeom prst="rect">
            <a:avLst/>
          </a:prstGeom>
          <a:ln w="0">
            <a:noFill/>
          </a:ln>
        </p:spPr>
      </p:sp>
      <p:sp>
        <p:nvSpPr>
          <p:cNvPr id="2518"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s Cobas donne un résultat + si HHV6 donc cobas n’est pas le test le plus adapté chez les transplantés qui réactivent souvent leur HHV6</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995400" y="730080"/>
            <a:ext cx="4869000" cy="3651480"/>
          </a:xfrm>
          <a:prstGeom prst="rect">
            <a:avLst/>
          </a:prstGeom>
          <a:ln w="0">
            <a:noFill/>
          </a:ln>
        </p:spPr>
      </p:sp>
      <p:sp>
        <p:nvSpPr>
          <p:cNvPr id="246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primoinfection, le virus dissémine par voie sanguine (virémie) pour atteindre ses organes cibles. Au cours de cette phase, les cellules endothéliales et les mono-macro jouent un rôle majeur de la diffusion du virus.  S’installe ensuite une infection latente dans les monocytes macrophages qui vont pouvoir relarguer des particules virales du CMV infectieuses lors d’une ID ou dans un contexte allogé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 l’effet d’une immunodépression, des infections secondaires par réactivation du virus endogène ou par réinfection par une nouvelle souche exogène peuvent survenir. Ces infections secondaires vont provoquer des phases de vir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sldImg"/>
          </p:nvPr>
        </p:nvSpPr>
        <p:spPr>
          <a:xfrm>
            <a:off x="995400" y="730080"/>
            <a:ext cx="4869000" cy="3651480"/>
          </a:xfrm>
          <a:prstGeom prst="rect">
            <a:avLst/>
          </a:prstGeom>
          <a:ln w="0">
            <a:noFill/>
          </a:ln>
        </p:spPr>
      </p:sp>
      <p:sp>
        <p:nvSpPr>
          <p:cNvPr id="2520"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 les populations de patients (type de greffe, statut CMV du couple D/R, type de surveillance virologique, traitement immunosuppress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aleur seuil de l’antigénémie ou de la charge virale </a:t>
            </a:r>
            <a:endParaRPr b="0" lang="en-US" sz="10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prédire une maladie à CMV </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prouver une infection active</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initier un traitement antiviral</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ès variable selon les auteurs  </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PlaceHolder 1"/>
          <p:cNvSpPr>
            <a:spLocks noGrp="1"/>
          </p:cNvSpPr>
          <p:nvPr>
            <p:ph type="sldImg"/>
          </p:nvPr>
        </p:nvSpPr>
        <p:spPr>
          <a:xfrm>
            <a:off x="995400" y="730080"/>
            <a:ext cx="4869000" cy="3651480"/>
          </a:xfrm>
          <a:prstGeom prst="rect">
            <a:avLst/>
          </a:prstGeom>
          <a:ln w="0">
            <a:noFill/>
          </a:ln>
        </p:spPr>
      </p:sp>
      <p:sp>
        <p:nvSpPr>
          <p:cNvPr id="252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Arial"/>
              </a:rPr>
              <a:t>Ce </a:t>
            </a:r>
            <a:r>
              <a:rPr b="0" lang="en-US" sz="1200" spc="-1" strike="noStrike">
                <a:solidFill>
                  <a:srgbClr val="ff6600"/>
                </a:solidFill>
                <a:latin typeface="Arial"/>
              </a:rPr>
              <a:t>tableau montre que en fonction du type greffe et du seuil d’agpp65 choisi, la VPP et VPN de l’antigénémie pp65 pour prédire  la maladie à CMV vont varier</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6600"/>
                </a:solidFill>
                <a:latin typeface="Arial"/>
              </a:rPr>
              <a:t>Seuil de l’antigénémie pp65 pour le diagnostic de la maladie à CMV</a:t>
            </a:r>
            <a:endParaRPr b="0" lang="en-US" sz="9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ès variable selon les auteurs</a:t>
            </a:r>
            <a:endParaRPr b="0" lang="en-US" sz="10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 </a:t>
            </a:r>
            <a:r>
              <a:rPr b="0" lang="fr-FR" sz="700" spc="-1" strike="noStrike">
                <a:solidFill>
                  <a:srgbClr val="000000"/>
                </a:solidFill>
                <a:latin typeface="Arial"/>
              </a:rPr>
              <a:t>(Boeckh et al, Blood 1992, 1994</a:t>
            </a:r>
            <a:endParaRPr b="0" lang="en-US" sz="7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cernant le valeur de l’ag dans la prédiction de la M à CMV ;  les valeurs de la S et la VPP de l’ag pour la prédiction de la M à CMV varient en fonction du seuil de l’ag choisi</a:t>
            </a:r>
            <a:endParaRPr b="0" lang="en-US" sz="10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D6CF-96C2-44E8-95F5-FFBD9247F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4"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25"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6"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27" name="PlaceHolder 1"/>
          <p:cNvSpPr>
            <a:spLocks noGrp="1"/>
          </p:cNvSpPr>
          <p:nvPr>
            <p:ph type="sldImg"/>
          </p:nvPr>
        </p:nvSpPr>
        <p:spPr>
          <a:xfrm>
            <a:off x="995400" y="730080"/>
            <a:ext cx="4869000" cy="3651480"/>
          </a:xfrm>
          <a:prstGeom prst="rect">
            <a:avLst/>
          </a:prstGeom>
          <a:ln w="0">
            <a:noFill/>
          </a:ln>
        </p:spPr>
      </p:sp>
      <p:sp>
        <p:nvSpPr>
          <p:cNvPr id="2528" name="PlaceHolder 2"/>
          <p:cNvSpPr>
            <a:spLocks noGrp="1"/>
          </p:cNvSpPr>
          <p:nvPr>
            <p:ph type="body"/>
          </p:nvPr>
        </p:nvSpPr>
        <p:spPr>
          <a:xfrm>
            <a:off x="914400" y="4625640"/>
            <a:ext cx="5029200" cy="439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B5DF-9F29-4B00-9AFC-6DE45FBC5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0"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31"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32"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3" name="PlaceHolder 1"/>
          <p:cNvSpPr>
            <a:spLocks noGrp="1"/>
          </p:cNvSpPr>
          <p:nvPr>
            <p:ph type="sldImg"/>
          </p:nvPr>
        </p:nvSpPr>
        <p:spPr>
          <a:xfrm>
            <a:off x="995400" y="730080"/>
            <a:ext cx="4869000" cy="3651480"/>
          </a:xfrm>
          <a:prstGeom prst="rect">
            <a:avLst/>
          </a:prstGeom>
          <a:ln w="0">
            <a:noFill/>
          </a:ln>
        </p:spPr>
      </p:sp>
      <p:sp>
        <p:nvSpPr>
          <p:cNvPr id="2534" name="PlaceHolder 2"/>
          <p:cNvSpPr>
            <a:spLocks noGrp="1"/>
          </p:cNvSpPr>
          <p:nvPr>
            <p:ph type="body"/>
          </p:nvPr>
        </p:nvSpPr>
        <p:spPr>
          <a:xfrm>
            <a:off x="914400" y="4625640"/>
            <a:ext cx="5029200" cy="4381560"/>
          </a:xfrm>
          <a:prstGeom prst="rect">
            <a:avLst/>
          </a:prstGeom>
          <a:solidFill>
            <a:srgbClr val="ffffff"/>
          </a:solidFill>
          <a:ln w="9360">
            <a:solidFill>
              <a:srgbClr val="000000"/>
            </a:solidFill>
            <a:miter/>
          </a:ln>
        </p:spPr>
        <p:txBody>
          <a:bodyPr lIns="90000" rIns="90000" tIns="46800" bIns="46800" anchor="t">
            <a:noAutofit/>
          </a:bodyPr>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utres seuils ont été décrits</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fonction du type de greffe </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du statut séro vis à vis du CMV</a:t>
            </a:r>
            <a:endParaRPr b="0" lang="en-US" sz="1400" spc="-1" strike="noStrike">
              <a:solidFill>
                <a:srgbClr val="000000"/>
              </a:solidFill>
              <a:latin typeface="Arial"/>
            </a:endParaRPr>
          </a:p>
          <a:p>
            <a:pPr lvl="2" marL="9144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10 cellules positives / 2 x 10</a:t>
            </a:r>
            <a:r>
              <a:rPr b="0" lang="en-US" sz="1400" spc="-1" strike="noStrike" baseline="30000">
                <a:solidFill>
                  <a:srgbClr val="000000"/>
                </a:solidFill>
                <a:latin typeface="Arial"/>
              </a:rPr>
              <a:t>5 </a:t>
            </a:r>
            <a:r>
              <a:rPr b="0" lang="en-US" sz="1400" spc="-1" strike="noStrike">
                <a:solidFill>
                  <a:srgbClr val="000000"/>
                </a:solidFill>
                <a:latin typeface="Arial"/>
              </a:rPr>
              <a:t>leucocytes chez les transplantés de rein</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cellules positives / 2 x 10</a:t>
            </a:r>
            <a:r>
              <a:rPr b="0" lang="en-US" sz="1400" spc="-1" strike="noStrike" baseline="30000">
                <a:solidFill>
                  <a:srgbClr val="000000"/>
                </a:solidFill>
                <a:latin typeface="Arial"/>
              </a:rPr>
              <a:t>5</a:t>
            </a:r>
            <a:r>
              <a:rPr b="0" lang="en-US" sz="1400" spc="-1" strike="noStrike">
                <a:solidFill>
                  <a:srgbClr val="000000"/>
                </a:solidFill>
                <a:latin typeface="Arial"/>
              </a:rPr>
              <a:t> leucocytes chez les transplantés de foie et de coeur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PlaceHolder 1"/>
          <p:cNvSpPr>
            <a:spLocks noGrp="1"/>
          </p:cNvSpPr>
          <p:nvPr>
            <p:ph type="sldImg"/>
          </p:nvPr>
        </p:nvSpPr>
        <p:spPr>
          <a:xfrm>
            <a:off x="995400" y="730080"/>
            <a:ext cx="4869000" cy="3651480"/>
          </a:xfrm>
          <a:prstGeom prst="rect">
            <a:avLst/>
          </a:prstGeom>
          <a:ln w="0">
            <a:noFill/>
          </a:ln>
        </p:spPr>
      </p:sp>
      <p:sp>
        <p:nvSpPr>
          <p:cNvPr id="2536" name="PlaceHolder 2"/>
          <p:cNvSpPr>
            <a:spLocks noGrp="1"/>
          </p:cNvSpPr>
          <p:nvPr>
            <p:ph type="body"/>
          </p:nvPr>
        </p:nvSpPr>
        <p:spPr>
          <a:xfrm>
            <a:off x="685800" y="4625640"/>
            <a:ext cx="5486400" cy="4381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Arial"/>
              </a:rPr>
              <a:t>Concernant le seuil de virémie associé à risque de maladie à CMV, les études montrent une varaition importante de ces valeurs seuils en fonction du type de greffe, de la méthode de quantification utilisée, du compartiment sanguin dans lequel a été réalisé la quant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Arial"/>
              </a:rPr>
              <a:t>Il est difficile de pouvoir les comparer entre eux </a:t>
            </a:r>
            <a:r>
              <a:rPr b="0" lang="fr-FR" sz="1200" spc="-1" strike="noStrike">
                <a:solidFill>
                  <a:srgbClr val="000000"/>
                </a:solidFill>
                <a:latin typeface="Arial"/>
              </a:rPr>
              <a:t>Très variable selon les auteur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 </a:t>
            </a:r>
            <a:r>
              <a:rPr b="0" lang="fr-FR" sz="800" spc="-1" strike="noStrike">
                <a:solidFill>
                  <a:srgbClr val="000000"/>
                </a:solidFill>
                <a:latin typeface="Arial"/>
              </a:rPr>
              <a:t>(Boeckh et al, Blood 1992, 1994</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sldImg"/>
          </p:nvPr>
        </p:nvSpPr>
        <p:spPr>
          <a:xfrm>
            <a:off x="995400" y="730080"/>
            <a:ext cx="4869000" cy="3651480"/>
          </a:xfrm>
          <a:prstGeom prst="rect">
            <a:avLst/>
          </a:prstGeom>
          <a:ln w="0">
            <a:noFill/>
          </a:ln>
        </p:spPr>
      </p:sp>
      <p:sp>
        <p:nvSpPr>
          <p:cNvPr id="2538"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y a pas encore de consensus sur le compartiment du sang dans lequel est préconisé la quantification du C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nombreuses études ont  montré que les test leuco avaient une meilleure VPN pour prédire une maladie à CMV par rapport aux test plasma , les test leuco permettaient de détecter plus précocément uune infction à CMV par rapport aux autres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résultats sont controversés pour la quantification entre sang total et plasm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PlaceHolder 1"/>
          <p:cNvSpPr>
            <a:spLocks noGrp="1"/>
          </p:cNvSpPr>
          <p:nvPr>
            <p:ph type="sldImg"/>
          </p:nvPr>
        </p:nvSpPr>
        <p:spPr>
          <a:xfrm>
            <a:off x="995400" y="730080"/>
            <a:ext cx="4869000" cy="3651480"/>
          </a:xfrm>
          <a:prstGeom prst="rect">
            <a:avLst/>
          </a:prstGeom>
          <a:ln w="0">
            <a:noFill/>
          </a:ln>
        </p:spPr>
      </p:sp>
      <p:sp>
        <p:nvSpPr>
          <p:cNvPr id="2540"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Concernant les uatres compartiments du san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Une étude réalisée sur 319 échantillons provenant de 17 transplantés d’organe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Quantification du CMV sang total, plasma, leuco, cellules mono Background. The quantitation of cytomegalovirus (CMV) DNA is a cornerstone in the management of CMV disease in transplant recipients. However, a consensus as to what is the optimal blood compartment for the detection and quantitation of CMV DNA in peripheral blood is nonexiste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Methods. With an automated quantitative assay, we have simultaneously quantified the CMV DNA load in whole blood (WB), plasma (PL), peripheral blood leukocytes (PBL), and peripheral blood mononuclear cells (PBMC) in 319 samples from 17 transplant recipients with 19 episodes of CMV disease that were treated with 2 weeks of intravenous ganciclovi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Results. Higher levels of CMV DNA were observed in WB than PL (PL minus WB mean difference, 0.67 log; 95% confidence interval, -1.02 to -0.32;P =0.0009). This observation was most evident before treatment with intravenous ganciclovir (pretreatment geometric mean CMV DNA was 45,412 copies per ml of WB vs. 14,995 copies per ml of PL). In contrast, the CMV DNA levels between PBL and PBMC were highly comparable throughout the course of CMV disease and its treatment. </a:t>
            </a:r>
            <a:r>
              <a:rPr b="0" lang="fr-FR" sz="700" spc="-1" strike="noStrike">
                <a:solidFill>
                  <a:srgbClr val="000000"/>
                </a:solidFill>
                <a:latin typeface="Arial"/>
                <a:ea typeface="Times New Roman"/>
              </a:rPr>
              <a:t>Intravenous ganciclovir exerted a uniform effect on the four blood compartments with no statistically significant difference in the degree and rate of CMV DNA decline between WB and PL and between PBL and PBMC.</a:t>
            </a:r>
            <a:endParaRPr b="0" lang="en-US" sz="7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Times New Roman"/>
              </a:rPr>
              <a:t>Conclusions. Although our study demonstrates the adequacy of all blood compartments for CMV DNA quantification, the higher sensitivity of WB and its yield of higher CMV DNA render it an optimal sample for monitoring CMV DNA load during CMV disease</a:t>
            </a:r>
            <a:r>
              <a:rPr b="0" lang="fr-FR" sz="800" spc="-1" strike="noStrike">
                <a:solidFill>
                  <a:srgbClr val="000000"/>
                </a:solidFill>
                <a:latin typeface="Arial"/>
                <a:ea typeface="Times New Roman"/>
              </a:rPr>
              <a:t> in immunocompromised patient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PlaceHolder 1"/>
          <p:cNvSpPr>
            <a:spLocks noGrp="1"/>
          </p:cNvSpPr>
          <p:nvPr>
            <p:ph type="sldImg"/>
          </p:nvPr>
        </p:nvSpPr>
        <p:spPr>
          <a:xfrm>
            <a:off x="995400" y="730080"/>
            <a:ext cx="4869000" cy="3651480"/>
          </a:xfrm>
          <a:prstGeom prst="rect">
            <a:avLst/>
          </a:prstGeom>
          <a:ln w="0">
            <a:noFill/>
          </a:ln>
        </p:spPr>
      </p:sp>
      <p:sp>
        <p:nvSpPr>
          <p:cNvPr id="254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tilisation de ces outils diagnostiques dépend de la question posée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995400" y="730080"/>
            <a:ext cx="4869000" cy="3651480"/>
          </a:xfrm>
          <a:prstGeom prst="rect">
            <a:avLst/>
          </a:prstGeom>
          <a:ln w="0">
            <a:noFill/>
          </a:ln>
        </p:spPr>
      </p:sp>
      <p:sp>
        <p:nvSpPr>
          <p:cNvPr id="2544"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ins sensible au transport et possibilité de conservation du prélèvement sans modification de la charge viral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995400" y="730080"/>
            <a:ext cx="4869000" cy="3651480"/>
          </a:xfrm>
          <a:prstGeom prst="rect">
            <a:avLst/>
          </a:prstGeom>
          <a:ln w="0">
            <a:noFill/>
          </a:ln>
        </p:spPr>
      </p:sp>
      <p:sp>
        <p:nvSpPr>
          <p:cNvPr id="2464"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éplication du CMV est un processus dynamique avec un tps 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te réplication virale va faire apparaître des marqueurs d’infection active dans plus de 85% des patients à risque de développer une M à CMV</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PlaceHolder 1"/>
          <p:cNvSpPr>
            <a:spLocks noGrp="1"/>
          </p:cNvSpPr>
          <p:nvPr>
            <p:ph type="sldImg"/>
          </p:nvPr>
        </p:nvSpPr>
        <p:spPr>
          <a:xfrm>
            <a:off x="995400" y="730080"/>
            <a:ext cx="4869000" cy="3651480"/>
          </a:xfrm>
          <a:prstGeom prst="rect">
            <a:avLst/>
          </a:prstGeom>
          <a:ln w="0">
            <a:noFill/>
          </a:ln>
        </p:spPr>
      </p:sp>
      <p:sp>
        <p:nvSpPr>
          <p:cNvPr id="2546"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amment pour les CV faibles à modéré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 de rendu plus rapide des résultats (3h pour real time et 6h pour Cob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MV PCR real ti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nsibilité haute 10 copies/ml 1000 copies/ml de plasm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tectable avant pp6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tection plus précoce de l’ADN du CMV par PCR dans les  leucocyt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vantage pour détecter des petites quantités de génome viral précocé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nécessite que peu d’échantillon qui peut être congélé sans diminuer la quantité de virus (pp65 prélever fraichement et pas de congélation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0ECA-B774-487E-9E46-1E60D875F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8"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49"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50"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51" name="PlaceHolder 1"/>
          <p:cNvSpPr>
            <a:spLocks noGrp="1"/>
          </p:cNvSpPr>
          <p:nvPr>
            <p:ph type="sldImg"/>
          </p:nvPr>
        </p:nvSpPr>
        <p:spPr>
          <a:xfrm>
            <a:off x="995400" y="730080"/>
            <a:ext cx="4869000" cy="3651480"/>
          </a:xfrm>
          <a:prstGeom prst="rect">
            <a:avLst/>
          </a:prstGeom>
          <a:ln w="0">
            <a:noFill/>
          </a:ln>
        </p:spPr>
      </p:sp>
      <p:sp>
        <p:nvSpPr>
          <p:cNvPr id="2552" name="PlaceHolder 2"/>
          <p:cNvSpPr>
            <a:spLocks noGrp="1"/>
          </p:cNvSpPr>
          <p:nvPr>
            <p:ph type="body"/>
          </p:nvPr>
        </p:nvSpPr>
        <p:spPr>
          <a:xfrm>
            <a:off x="914400" y="4625640"/>
            <a:ext cx="5029200" cy="439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sldImg"/>
          </p:nvPr>
        </p:nvSpPr>
        <p:spPr>
          <a:xfrm>
            <a:off x="995400" y="730080"/>
            <a:ext cx="4869000" cy="3651480"/>
          </a:xfrm>
          <a:prstGeom prst="rect">
            <a:avLst/>
          </a:prstGeom>
          <a:ln w="0">
            <a:noFill/>
          </a:ln>
        </p:spPr>
      </p:sp>
      <p:sp>
        <p:nvSpPr>
          <p:cNvPr id="2554"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manifestations cliniques de l’infection à CMV qu’il s’agisse d’infections I ou II dépendent étroitement de l’état immunitaire de l’hô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fections a CMVH mettent en jeu le pronostic vital et fonctionnel chez les patients immunodéprimés com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eveurs d’allogref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tients infectés par le VIH à un stade d’immunodépression sévè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aractère ubiquitaire du virus, la fréquence des réactivations virales favorisées par l’immunodepression cellulaire, ses interactions avec le CMH font du CMV un agent infectieux majeur après allogreffe de moelle ou d’orga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 constitue la 1èr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995400" y="730080"/>
            <a:ext cx="4869000" cy="3651480"/>
          </a:xfrm>
          <a:prstGeom prst="rect">
            <a:avLst/>
          </a:prstGeom>
          <a:ln w="0">
            <a:noFill/>
          </a:ln>
        </p:spPr>
      </p:sp>
      <p:sp>
        <p:nvSpPr>
          <p:cNvPr id="2556"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z les receveur d’allogreffe, on distingue 2 tableaux clin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 l’infection à CMV chez le patients AS mais qui présentent des signes biologiques d’infection 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 à CMV : chez les patients symptomatiques avec ou non une atteinte organiqu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PlaceHolder 1"/>
          <p:cNvSpPr>
            <a:spLocks noGrp="1"/>
          </p:cNvSpPr>
          <p:nvPr>
            <p:ph type="sldImg"/>
          </p:nvPr>
        </p:nvSpPr>
        <p:spPr>
          <a:xfrm>
            <a:off x="995400" y="730080"/>
            <a:ext cx="4869000" cy="3651480"/>
          </a:xfrm>
          <a:prstGeom prst="rect">
            <a:avLst/>
          </a:prstGeom>
          <a:ln w="0">
            <a:noFill/>
          </a:ln>
        </p:spPr>
      </p:sp>
      <p:sp>
        <p:nvSpPr>
          <p:cNvPr id="2558"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satut sérologique du couple D/R, les receveurs séroneg qui reçoivent un greffon d’un donneur séropos sont les pls à risque de développer une infection à CMV avec un risque de M à CMV établi à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receveurs séropos ont un risque de développer soit une réactivation de leur souche endogène soit une réinfection avec une souche exogène, mais dans tous les cas le risque de M à CMV est moindr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995400" y="730080"/>
            <a:ext cx="4869000" cy="3651480"/>
          </a:xfrm>
          <a:prstGeom prst="rect">
            <a:avLst/>
          </a:prstGeom>
          <a:ln w="0">
            <a:noFill/>
          </a:ln>
        </p:spPr>
      </p:sp>
      <p:sp>
        <p:nvSpPr>
          <p:cNvPr id="2560"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certain nombre d’études ont montré que le risque de M à CMV surveint entre le 1er et le 4ème mois qui suit la gre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que ce risque varie en fonction du type de l’organe greffé</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995400" y="730080"/>
            <a:ext cx="4869000" cy="3651480"/>
          </a:xfrm>
          <a:prstGeom prst="rect">
            <a:avLst/>
          </a:prstGeom>
          <a:ln w="0">
            <a:noFill/>
          </a:ln>
        </p:spPr>
      </p:sp>
      <p:sp>
        <p:nvSpPr>
          <p:cNvPr id="256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méthodes non moléculaires de quantification du CMV reposent sur la virémie et l’agPP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mi les méthodes moléculaires de quantification du CMV, différentes technologies ont été développé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plification de l’ADN viral avec détection des amplicons en point final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plification de l’ADN viral par des techniques de PCR temps réel (De nombreux protocoles maisons ainsi s=que des trousses commercialisées sont disponib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détection des transcrits ARNm très précoce ou tardif (pp67 (pUL65) par NASB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tection de l’ADN viral par hybridation moléculaire</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PlaceHolder 1"/>
          <p:cNvSpPr>
            <a:spLocks noGrp="1"/>
          </p:cNvSpPr>
          <p:nvPr>
            <p:ph type="sldImg"/>
          </p:nvPr>
        </p:nvSpPr>
        <p:spPr>
          <a:xfrm>
            <a:off x="995400" y="730080"/>
            <a:ext cx="4869000" cy="3651480"/>
          </a:xfrm>
          <a:prstGeom prst="rect">
            <a:avLst/>
          </a:prstGeom>
          <a:ln w="0">
            <a:noFill/>
          </a:ln>
        </p:spPr>
      </p:sp>
      <p:sp>
        <p:nvSpPr>
          <p:cNvPr id="2564"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méthodes non moléculaires de quantification du CMV reposent sur la virémie et l’agPP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mi les méthodes moléculaires de quantification du CMV, différentes technologies ont été développé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plification de l’ADN viral avec détection des amplicons en point final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plification de l’ADN viral par des techniques de PCR temps réel (De nombreux protocoles maisons ainsi s=que des trousses commercialisées sont disponib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détection des transcrits ARNm très précoce ou tardif (pp67 (pUL65) par NASB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tection de l’ADN viral par hybridation moléculaire</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995400" y="730080"/>
            <a:ext cx="4869000" cy="3651480"/>
          </a:xfrm>
          <a:prstGeom prst="rect">
            <a:avLst/>
          </a:prstGeom>
          <a:ln w="0">
            <a:noFill/>
          </a:ln>
        </p:spPr>
      </p:sp>
      <p:sp>
        <p:nvSpPr>
          <p:cNvPr id="2466"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ez les receveurs d’allogreffe, l’apparition des marqueurs a deux conséqu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inique : ils signent le début d’une infection à CMV qui va pouvoir évoluer vers une M à CMV : forme grave de l’infection à CMV avec des localisations viscéral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érapeutique : ces marqueurs vont être à l’initiation d’un trt anticipé pour éviter l’apparition d’une maladie à CMV</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ceveurs d’allogreffe de moelle ou d’organ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fection à CMV :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tient asymptomatique</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gnes biologiques d’infection active à CMV</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ladie à CMV</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tient symptomatique (fièvre…)</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ou  localisation viscéral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995400" y="730080"/>
            <a:ext cx="4869000" cy="3651480"/>
          </a:xfrm>
          <a:prstGeom prst="rect">
            <a:avLst/>
          </a:prstGeom>
          <a:ln w="0">
            <a:noFill/>
          </a:ln>
        </p:spPr>
      </p:sp>
      <p:sp>
        <p:nvSpPr>
          <p:cNvPr id="2566" name="PlaceHolder 2"/>
          <p:cNvSpPr>
            <a:spLocks noGrp="1"/>
          </p:cNvSpPr>
          <p:nvPr>
            <p:ph type="body"/>
          </p:nvPr>
        </p:nvSpPr>
        <p:spPr>
          <a:xfrm>
            <a:off x="685800" y="4625640"/>
            <a:ext cx="5486400" cy="438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tableau qui récapitule les valeurs de S et de Sp pour l’ag et la PCR pour le diagnostic de la M à C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une grande variation dans les %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0564-2E68-455E-A84D-CE5D2A0A8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8"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69"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70"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71" name="PlaceHolder 1"/>
          <p:cNvSpPr>
            <a:spLocks noGrp="1"/>
          </p:cNvSpPr>
          <p:nvPr>
            <p:ph type="sldImg"/>
          </p:nvPr>
        </p:nvSpPr>
        <p:spPr>
          <a:xfrm>
            <a:off x="1003320" y="736560"/>
            <a:ext cx="4851360" cy="3638520"/>
          </a:xfrm>
          <a:prstGeom prst="rect">
            <a:avLst/>
          </a:prstGeom>
          <a:ln w="0">
            <a:noFill/>
          </a:ln>
        </p:spPr>
      </p:sp>
      <p:sp>
        <p:nvSpPr>
          <p:cNvPr id="2572" name="PlaceHolder 2"/>
          <p:cNvSpPr>
            <a:spLocks noGrp="1"/>
          </p:cNvSpPr>
          <p:nvPr>
            <p:ph type="body"/>
          </p:nvPr>
        </p:nvSpPr>
        <p:spPr>
          <a:xfrm>
            <a:off x="998640" y="4625640"/>
            <a:ext cx="486072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protéine UL83 : ppUL83 ou pp65</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5734-8C8A-4D1B-90F5-D15FCA19E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4"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5"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76"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77" name="PlaceHolder 1"/>
          <p:cNvSpPr>
            <a:spLocks noGrp="1"/>
          </p:cNvSpPr>
          <p:nvPr>
            <p:ph type="sldImg"/>
          </p:nvPr>
        </p:nvSpPr>
        <p:spPr>
          <a:xfrm>
            <a:off x="1003320" y="736560"/>
            <a:ext cx="4851360" cy="3638520"/>
          </a:xfrm>
          <a:prstGeom prst="rect">
            <a:avLst/>
          </a:prstGeom>
          <a:ln w="0">
            <a:noFill/>
          </a:ln>
        </p:spPr>
      </p:sp>
      <p:sp>
        <p:nvSpPr>
          <p:cNvPr id="2578" name="PlaceHolder 2"/>
          <p:cNvSpPr>
            <a:spLocks noGrp="1"/>
          </p:cNvSpPr>
          <p:nvPr>
            <p:ph type="body"/>
          </p:nvPr>
        </p:nvSpPr>
        <p:spPr>
          <a:xfrm>
            <a:off x="998640" y="4625640"/>
            <a:ext cx="486072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mi les méthodes non moléculaires de quantification du CMV, la recherche d’un virémie en culture classique ou rapide ne sont pas recommandées pour la quantification du viruus. Elles ont une sensibilité plus faible que  l’agPP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l’agpp65 présente l’avantage d’une méthode rapide, l’existence de trousses commercialisées standardisées mais le prélèvement doit être rapidement acheminé au lab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cessing time &lt; 6 he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périence pour la techniqu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995400" y="730080"/>
            <a:ext cx="4869000" cy="3651480"/>
          </a:xfrm>
          <a:prstGeom prst="rect">
            <a:avLst/>
          </a:prstGeom>
          <a:ln w="0">
            <a:noFill/>
          </a:ln>
        </p:spPr>
      </p:sp>
      <p:sp>
        <p:nvSpPr>
          <p:cNvPr id="2580"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iagramme vous présente les valeurs maximales et médianes des taux d’agpp65 au cours du suivi longitudinal des patients : vous pouvez noter que  le plus fort taux agpp65 a été  obtenu à la 6ème semaine après la greff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sldImg"/>
          </p:nvPr>
        </p:nvSpPr>
        <p:spPr>
          <a:xfrm>
            <a:off x="995400" y="730080"/>
            <a:ext cx="4869000" cy="3651480"/>
          </a:xfrm>
          <a:prstGeom prst="rect">
            <a:avLst/>
          </a:prstGeom>
          <a:ln w="0">
            <a:noFill/>
          </a:ln>
        </p:spPr>
      </p:sp>
      <p:pic>
        <p:nvPicPr>
          <p:cNvPr id="2582" name="" descr=""/>
          <p:cNvPicPr/>
          <p:nvPr/>
        </p:nvPicPr>
        <p:blipFill>
          <a:blip r:embed="rId1"/>
          <a:stretch/>
        </p:blipFill>
        <p:spPr>
          <a:xfrm>
            <a:off x="1828800" y="5029200"/>
            <a:ext cx="4648320" cy="1122480"/>
          </a:xfrm>
          <a:prstGeom prst="rect">
            <a:avLst/>
          </a:prstGeom>
          <a:ln w="0">
            <a:noFill/>
          </a:ln>
        </p:spPr>
      </p:pic>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995400" y="730080"/>
            <a:ext cx="4869000" cy="3651480"/>
          </a:xfrm>
          <a:prstGeom prst="rect">
            <a:avLst/>
          </a:prstGeom>
          <a:ln w="0">
            <a:noFill/>
          </a:ln>
        </p:spPr>
      </p:sp>
      <p:sp>
        <p:nvSpPr>
          <p:cNvPr id="2584"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idation of Clinical Application of Cytomegalovirus Plasma DNA Load Measurement and Definition of Treatment Criteria by Analysis of Correlation to Antigen Detection</a:t>
            </a:r>
            <a:endParaRPr b="0" lang="en-US" sz="14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cessful preemptive cytomegalovirus (CMV) therapy in transplant patients depends on the availability of sensitive, specific, and timely diagnostic tests for CMV infections. The pp65 antigenemia assay has been used for this purpose with considerable success. </a:t>
            </a:r>
            <a:r>
              <a:rPr b="1" lang="en-US" sz="1000" spc="-1" strike="noStrike">
                <a:solidFill>
                  <a:srgbClr val="000000"/>
                </a:solidFill>
                <a:latin typeface="Arial"/>
              </a:rPr>
              <a:t>Quantification of CMV DNA is currently regarded to be an alternative diagnostic approach.</a:t>
            </a:r>
            <a:r>
              <a:rPr b="0" lang="en-US" sz="1000" spc="-1" strike="noStrike">
                <a:solidFill>
                  <a:srgbClr val="000000"/>
                </a:solidFill>
                <a:latin typeface="Arial"/>
              </a:rPr>
              <a:t> The precise relationship between these two methods has still to be defined, but is essential to compare diagnostic results. This study compared the results of both assays with a large series of transplant recipients in different categories. An internally controlled quantitative real-time CMV DNA PCR was used to test 409 plasma samples from solid organ transplant (SOT) and stem cell transplant (SCT) patients. </a:t>
            </a:r>
            <a:r>
              <a:rPr b="1" lang="en-US" sz="1000" spc="-1" strike="noStrike">
                <a:solidFill>
                  <a:srgbClr val="000000"/>
                </a:solidFill>
                <a:latin typeface="Arial"/>
              </a:rPr>
              <a:t>Levels of CMV DNA in plasma correlated well with classified outcomes of the pp65 antigenemia test.</a:t>
            </a:r>
            <a:r>
              <a:rPr b="0" lang="en-US" sz="1000" spc="-1" strike="noStrike">
                <a:solidFill>
                  <a:srgbClr val="000000"/>
                </a:solidFill>
                <a:latin typeface="Arial"/>
              </a:rPr>
              <a:t> Despite this correlation, the quantitative CMV PCR values in a class of antigen test results were within a wide range, and the </a:t>
            </a:r>
            <a:r>
              <a:rPr b="1" lang="en-US" sz="1000" spc="-1" strike="noStrike">
                <a:solidFill>
                  <a:srgbClr val="000000"/>
                </a:solidFill>
                <a:latin typeface="Arial"/>
              </a:rPr>
              <a:t>definition of an optimal cutoff value</a:t>
            </a:r>
            <a:r>
              <a:rPr b="0" lang="en-US" sz="1000" spc="-1" strike="noStrike">
                <a:solidFill>
                  <a:srgbClr val="000000"/>
                </a:solidFill>
                <a:latin typeface="Arial"/>
              </a:rPr>
              <a:t> for initiating treatment required further analysis by a receiver-operating characteristic curve analysis. This is essential for reactivating infections in particular. </a:t>
            </a:r>
            <a:r>
              <a:rPr b="1" lang="en-US" sz="1000" spc="-1" strike="noStrike">
                <a:solidFill>
                  <a:srgbClr val="000000"/>
                </a:solidFill>
                <a:latin typeface="Arial"/>
              </a:rPr>
              <a:t>For the SCT patients the optimal cutoff value of CMV DNA load defining relevant viral reactivation (in this assay, 10,000 copies/ml) was slightly higher than that for the SOT patients (6,300 copies/ml).</a:t>
            </a:r>
            <a:r>
              <a:rPr b="0" lang="en-US" sz="1000" spc="-1" strike="noStrike">
                <a:solidFill>
                  <a:srgbClr val="000000"/>
                </a:solidFill>
                <a:latin typeface="Arial"/>
              </a:rPr>
              <a:t> </a:t>
            </a:r>
            <a:r>
              <a:rPr b="1" lang="en-US" sz="1000" spc="-1" strike="noStrike">
                <a:solidFill>
                  <a:srgbClr val="000000"/>
                </a:solidFill>
                <a:latin typeface="Arial"/>
              </a:rPr>
              <a:t>Based on a comparison with the established pp65 antigenemia assay, quantification of CMV DNA in plasma appeared to be capable of guiding the clinical management of transplant recipients. This approach may have important advantages, which include a superior reproducibility and sensitivity, allowing the inclusion of kinetic criteria in clinical guidel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PlaceHolder 1"/>
          <p:cNvSpPr>
            <a:spLocks noGrp="1"/>
          </p:cNvSpPr>
          <p:nvPr>
            <p:ph type="sldImg"/>
          </p:nvPr>
        </p:nvSpPr>
        <p:spPr>
          <a:xfrm>
            <a:off x="995400" y="730080"/>
            <a:ext cx="4869000" cy="3651480"/>
          </a:xfrm>
          <a:prstGeom prst="rect">
            <a:avLst/>
          </a:prstGeom>
          <a:ln w="0">
            <a:noFill/>
          </a:ln>
        </p:spPr>
      </p:sp>
      <p:sp>
        <p:nvSpPr>
          <p:cNvPr id="2586" name="PlaceHolder 2"/>
          <p:cNvSpPr>
            <a:spLocks noGrp="1"/>
          </p:cNvSpPr>
          <p:nvPr>
            <p:ph type="body"/>
          </p:nvPr>
        </p:nvSpPr>
        <p:spPr>
          <a:xfrm>
            <a:off x="685800" y="4625640"/>
            <a:ext cx="5486400" cy="438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manifestations cliniques de l’infection à CMV qu’il s’agisse d’infections I ou II dépendent étroitement de l’état immunitaire de l’hô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fections a CMVH mettent en jeu le pronostic vital et fonctionnel chez les patients immunodéprimés com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eveurs d’allogref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tients infectés par le VIH à un stade d’immunodépression sévè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aractère ubiquitaire du virus, la fréquence des réactivations virales favorisées par l’immunodepression cellulaire, ses interactions avec le CMH font du CMV un agent infectieux majeur après allogreffe de moelle ou d’orga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 constitue la 1ère</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995400" y="730080"/>
            <a:ext cx="4869000" cy="3651480"/>
          </a:xfrm>
          <a:prstGeom prst="rect">
            <a:avLst/>
          </a:prstGeom>
          <a:ln w="0">
            <a:noFill/>
          </a:ln>
        </p:spPr>
      </p:sp>
      <p:sp>
        <p:nvSpPr>
          <p:cNvPr id="2588" name="PlaceHolder 2"/>
          <p:cNvSpPr>
            <a:spLocks noGrp="1"/>
          </p:cNvSpPr>
          <p:nvPr>
            <p:ph type="body"/>
          </p:nvPr>
        </p:nvSpPr>
        <p:spPr>
          <a:xfrm>
            <a:off x="685800" y="4625640"/>
            <a:ext cx="5486400" cy="438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fections sévères chez les patients ID vont nécessiter l’administration d’un trt antiviral spécifique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itement curatif :</a:t>
            </a:r>
            <a:r>
              <a:rPr b="0" lang="fr-FR"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auré en cas d’infection symptomatique à CMV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phase d’attaque de 2 à 3 semaines suivi d’une phase d’entretien pour prévenir les rech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itement préventif :</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Essentiellement chez le receveur d’allogreff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995400" y="730080"/>
            <a:ext cx="4869000" cy="3651480"/>
          </a:xfrm>
          <a:prstGeom prst="rect">
            <a:avLst/>
          </a:prstGeom>
          <a:ln w="0">
            <a:noFill/>
          </a:ln>
        </p:spPr>
      </p:sp>
      <p:sp>
        <p:nvSpPr>
          <p:cNvPr id="2468"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méthodes de quantification du CMV reposent sur des méthodes non moléculaires comme l’ag qui consiste à mettre en évidence la phosphoprotéine pp65 dans le noyau des leuc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mi les méthodes moléculaires de quantification du CMV, la détection du génome viral est réalisé par différentes techn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mplification de l’ADN viral avec détection des amplicons en point final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plification de l’ADN viral par des techniques de PCR temps réel (De nombreux protocoles maisons ainsi s=que des trousses commercialisées sont disponib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détection des transcrits ARNm très précoce ou tardif (pp67 (pUL65) par NASB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tection de l’ADN viral par hybridation molécul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mi les méthodes non moléculaires de quantification du CMV, la recherche d’un virémie en culture classique ou rapide ne sont pas recommandées pour la quantification du viruus. Elles ont une sensibilité plus faible que  l’agPP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l’agpp65 présente l’avantage d’une méthode rapide, l’existence de trousses commercialisées standardisées mais le prélèvement doit être rapidement acheminé au lab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cessing time &lt; 6 he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périence pour la techniq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E4A7-AAC2-4FC4-BFC6-55FD138DB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0"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91"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92"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3" name="PlaceHolder 1"/>
          <p:cNvSpPr>
            <a:spLocks noGrp="1"/>
          </p:cNvSpPr>
          <p:nvPr>
            <p:ph type="sldImg"/>
          </p:nvPr>
        </p:nvSpPr>
        <p:spPr>
          <a:xfrm>
            <a:off x="1003320" y="736560"/>
            <a:ext cx="4851360" cy="3638520"/>
          </a:xfrm>
          <a:prstGeom prst="rect">
            <a:avLst/>
          </a:prstGeom>
          <a:ln w="0">
            <a:noFill/>
          </a:ln>
        </p:spPr>
      </p:sp>
      <p:sp>
        <p:nvSpPr>
          <p:cNvPr id="2594" name="PlaceHolder 2"/>
          <p:cNvSpPr>
            <a:spLocks noGrp="1"/>
          </p:cNvSpPr>
          <p:nvPr>
            <p:ph type="body"/>
          </p:nvPr>
        </p:nvSpPr>
        <p:spPr>
          <a:xfrm>
            <a:off x="998640" y="4625640"/>
            <a:ext cx="4860720" cy="4368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mi les méthodes non moléculaires de quantification du CMV, la recherche d’un virémie en culture classique ou rapide ne sont pas recommandées pour la quantification du viruus. Elles ont une sensibilité plus faible que  l’agPP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l’agpp65 présente l’avantage d’une méthode rapide, l’existence de trousses commercialisées standardisées mais le prélèvement doit être rapidement acheminé au lab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cessing time &lt; 6 he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périence pour la techniqu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995400" y="730080"/>
            <a:ext cx="4869000" cy="3651480"/>
          </a:xfrm>
          <a:prstGeom prst="rect">
            <a:avLst/>
          </a:prstGeom>
          <a:ln w="0">
            <a:noFill/>
          </a:ln>
        </p:spPr>
      </p:sp>
      <p:sp>
        <p:nvSpPr>
          <p:cNvPr id="2596"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50 agpp65 + corrélé à</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8 log </a:t>
            </a:r>
            <a:r>
              <a:rPr b="0" lang="fr-FR" sz="1000" spc="-1" strike="noStrike" baseline="-25000">
                <a:solidFill>
                  <a:srgbClr val="000000"/>
                </a:solidFill>
                <a:latin typeface="Arial"/>
              </a:rPr>
              <a:t>10</a:t>
            </a:r>
            <a:r>
              <a:rPr b="0" lang="fr-FR" sz="1000" spc="-1" strike="noStrike">
                <a:solidFill>
                  <a:srgbClr val="000000"/>
                </a:solidFill>
                <a:latin typeface="Arial"/>
              </a:rPr>
              <a:t> copies/ml (Guarrigue I et al, JCM, 36(2006) 72-75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 log </a:t>
            </a:r>
            <a:r>
              <a:rPr b="0" lang="fr-FR" sz="1000" spc="-1" strike="noStrike" baseline="-25000">
                <a:solidFill>
                  <a:srgbClr val="000000"/>
                </a:solidFill>
                <a:latin typeface="Arial"/>
              </a:rPr>
              <a:t>10</a:t>
            </a:r>
            <a:r>
              <a:rPr b="0" lang="fr-FR" sz="1000" spc="-1" strike="noStrike">
                <a:solidFill>
                  <a:srgbClr val="000000"/>
                </a:solidFill>
                <a:latin typeface="Arial"/>
              </a:rPr>
              <a:t> copies/ml (Li et al 2003, Mengelle et al, 2003)</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09 log </a:t>
            </a:r>
            <a:r>
              <a:rPr b="0" lang="fr-FR" sz="1000" spc="-1" strike="noStrike" baseline="-25000">
                <a:solidFill>
                  <a:srgbClr val="000000"/>
                </a:solidFill>
                <a:latin typeface="Arial"/>
              </a:rPr>
              <a:t>10</a:t>
            </a:r>
            <a:r>
              <a:rPr b="0" lang="fr-FR" sz="1000" spc="-1" strike="noStrike">
                <a:solidFill>
                  <a:srgbClr val="000000"/>
                </a:solidFill>
                <a:latin typeface="Arial"/>
              </a:rPr>
              <a:t> copies/ml (Gouarin et al, 2004)</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995400" y="730080"/>
            <a:ext cx="4869000" cy="3651480"/>
          </a:xfrm>
          <a:prstGeom prst="rect">
            <a:avLst/>
          </a:prstGeom>
          <a:ln w="0">
            <a:noFill/>
          </a:ln>
        </p:spPr>
      </p:sp>
      <p:sp>
        <p:nvSpPr>
          <p:cNvPr id="2598"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alyse rétrospective de CV chez des patients qui ont initiés un trt anticipé sur la base d’une 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90% des patients trt ont CV &gt; 300000 c:ml sang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 des patients non trt ont CV &lt; 300000 c:ml sang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0000 VPP de 90% chez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DD01-235D-4B62-B2D9-63BC772B1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0"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71"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72"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3" name="PlaceHolder 1"/>
          <p:cNvSpPr>
            <a:spLocks noGrp="1"/>
          </p:cNvSpPr>
          <p:nvPr>
            <p:ph type="sldImg"/>
          </p:nvPr>
        </p:nvSpPr>
        <p:spPr>
          <a:xfrm>
            <a:off x="1003320" y="736560"/>
            <a:ext cx="4851360" cy="3638520"/>
          </a:xfrm>
          <a:prstGeom prst="rect">
            <a:avLst/>
          </a:prstGeom>
          <a:ln w="0">
            <a:noFill/>
          </a:ln>
        </p:spPr>
      </p:sp>
      <p:sp>
        <p:nvSpPr>
          <p:cNvPr id="2474" name="PlaceHolder 2"/>
          <p:cNvSpPr>
            <a:spLocks noGrp="1"/>
          </p:cNvSpPr>
          <p:nvPr>
            <p:ph type="body"/>
          </p:nvPr>
        </p:nvSpPr>
        <p:spPr>
          <a:xfrm>
            <a:off x="998640" y="4625640"/>
            <a:ext cx="486072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mi les méthodes moléculaires, la technique Amplicor monitor permet de détecter l’ADN viral dans le plasma ou dans les leucocytes avec un seuil de S de 400: non recommandé par le F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uclisens : approuv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ybrid : oui en qualitati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5316-55EA-46F2-A94B-1C70AEA33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6"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77"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78"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9" name="PlaceHolder 1"/>
          <p:cNvSpPr>
            <a:spLocks noGrp="1"/>
          </p:cNvSpPr>
          <p:nvPr>
            <p:ph type="sldImg"/>
          </p:nvPr>
        </p:nvSpPr>
        <p:spPr>
          <a:xfrm>
            <a:off x="1003320" y="736560"/>
            <a:ext cx="4851360" cy="3638520"/>
          </a:xfrm>
          <a:prstGeom prst="rect">
            <a:avLst/>
          </a:prstGeom>
          <a:ln w="0">
            <a:noFill/>
          </a:ln>
        </p:spPr>
      </p:sp>
      <p:sp>
        <p:nvSpPr>
          <p:cNvPr id="2480" name="PlaceHolder 2"/>
          <p:cNvSpPr>
            <a:spLocks noGrp="1"/>
          </p:cNvSpPr>
          <p:nvPr>
            <p:ph type="body"/>
          </p:nvPr>
        </p:nvSpPr>
        <p:spPr>
          <a:xfrm>
            <a:off x="998640" y="4625640"/>
            <a:ext cx="486072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echniques   de PCR tps réel actuellement disponibles présentent de nombreux avantages par rapport à la technique de PCR conventionnel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duction du  délai de rendu des résultats  à 3 heures extrac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iminution les risques de contamination post-PC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iminution du  seuil de détection (entre 50 à 100 copies/m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cibles virales utilisées sont la PP65, gène très précoce, g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ermettent de quantifier le CMV sur sang total, plasma oui séru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4065B-365C-4E82-8CD6-86B726FE9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0A5BF-3FE1-4750-B547-EC537AD3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25A1C-C727-4636-9CC4-864BCC60C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6A3AE-18AB-4572-B5D7-909CC39C3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73C5D-E4B7-4A8D-9C0C-EA2FEC257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821FD-99E2-4E35-9A2C-05BE9E727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8C5BC-DB7B-4863-85D8-4F65FEAEC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ED8E2-E4FF-4D53-87FF-ECBA6327D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0B14E-8C57-4124-A80D-66A6E787A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48E1-87DC-4599-BD69-EAB275A5F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DD9FA-C403-4E59-AFE4-94D120931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6BB33-35B2-41BD-ACAC-33F57C989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Click to edit the title text format</a:t>
            </a:r>
            <a:endParaRPr b="0" lang="en-US" sz="4400" spc="-1" strike="noStrike">
              <a:solidFill>
                <a:srgbClr val="00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DD6C-B393-4F38-83EA-92D960BEEB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Quantification sanguine du cytomégalovirus humain </a:t>
            </a:r>
            <a:br>
              <a:rPr sz="4400"/>
            </a:br>
            <a:endParaRPr b="0" lang="en-US" sz="4400" spc="-1" strike="noStrike">
              <a:solidFill>
                <a:srgbClr val="00ffff"/>
              </a:solidFill>
              <a:latin typeface="Arial"/>
            </a:endParaRPr>
          </a:p>
        </p:txBody>
      </p:sp>
      <p:sp>
        <p:nvSpPr>
          <p:cNvPr id="49" name="PlaceHolder 2"/>
          <p:cNvSpPr>
            <a:spLocks noGrp="1"/>
          </p:cNvSpPr>
          <p:nvPr>
            <p:ph type="subTitle"/>
          </p:nvPr>
        </p:nvSpPr>
        <p:spPr>
          <a:xfrm>
            <a:off x="1332000" y="3212640"/>
            <a:ext cx="68212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XIXème Colloque de Virologie de Versaill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Alexandra Ducancel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Département des Agents Infectieux</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CHU Ange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questions se posent</a:t>
            </a:r>
            <a:endParaRPr b="0" lang="en-US" sz="3200" spc="-1" strike="noStrike">
              <a:solidFill>
                <a:srgbClr val="ffffff"/>
              </a:solidFill>
              <a:latin typeface="Arial"/>
            </a:endParaRPr>
          </a:p>
          <a:p>
            <a:pPr lvl="1" marL="743040" indent="-28584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Pourquoi quantifi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 quelles méthod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6"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77880" y="162576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dications de la quantification</a:t>
            </a:r>
            <a:endParaRPr b="0" lang="en-US" sz="4400" spc="-1" strike="noStrike">
              <a:solidFill>
                <a:srgbClr val="00ffff"/>
              </a:solidFill>
              <a:latin typeface="Arial"/>
            </a:endParaRPr>
          </a:p>
        </p:txBody>
      </p:sp>
      <p:sp>
        <p:nvSpPr>
          <p:cNvPr id="109" name="PlaceHolder 2"/>
          <p:cNvSpPr>
            <a:spLocks noGrp="1"/>
          </p:cNvSpPr>
          <p:nvPr>
            <p:ph/>
          </p:nvPr>
        </p:nvSpPr>
        <p:spPr>
          <a:xfrm>
            <a:off x="611280" y="177336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ôle des marqueurs de réplication virale pou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inguer </a:t>
            </a:r>
            <a:r>
              <a:rPr b="0" lang="en-US" sz="2800" spc="-1" strike="noStrike">
                <a:solidFill>
                  <a:srgbClr val="ffff00"/>
                </a:solidFill>
                <a:latin typeface="Arial"/>
              </a:rPr>
              <a:t>infection active</a:t>
            </a:r>
            <a:r>
              <a:rPr b="0" lang="en-US" sz="2800" spc="-1" strike="noStrike">
                <a:solidFill>
                  <a:srgbClr val="ffffff"/>
                </a:solidFill>
                <a:latin typeface="Arial"/>
              </a:rPr>
              <a:t> et </a:t>
            </a:r>
            <a:r>
              <a:rPr b="0" lang="en-US" sz="2800" spc="-1" strike="noStrike">
                <a:solidFill>
                  <a:srgbClr val="ffff00"/>
                </a:solidFill>
                <a:latin typeface="Arial"/>
              </a:rPr>
              <a:t>infection laten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er les </a:t>
            </a:r>
            <a:r>
              <a:rPr b="0" lang="en-US" sz="2800" spc="-1" strike="noStrike">
                <a:solidFill>
                  <a:srgbClr val="ffff00"/>
                </a:solidFill>
                <a:latin typeface="Arial"/>
              </a:rPr>
              <a:t>patients à haut risque de</a:t>
            </a:r>
            <a:r>
              <a:rPr b="0" lang="en-US" sz="2800" spc="-1" strike="noStrike">
                <a:solidFill>
                  <a:srgbClr val="ffffff"/>
                </a:solidFill>
                <a:latin typeface="Arial"/>
              </a:rPr>
              <a:t> développer une maladie à CM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épister une </a:t>
            </a:r>
            <a:r>
              <a:rPr b="0" lang="en-US" sz="2800" spc="-1" strike="noStrike">
                <a:solidFill>
                  <a:srgbClr val="ffff00"/>
                </a:solidFill>
                <a:latin typeface="Arial"/>
              </a:rPr>
              <a:t>infection active</a:t>
            </a:r>
            <a:r>
              <a:rPr b="0" lang="en-US" sz="2800" spc="-1" strike="noStrike">
                <a:solidFill>
                  <a:srgbClr val="ffffff"/>
                </a:solidFill>
                <a:latin typeface="Arial"/>
              </a:rPr>
              <a:t> avant l’apparition de tout symptôme clinique</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agnostiquer</a:t>
            </a:r>
            <a:r>
              <a:rPr b="0" lang="en-US" sz="2800" spc="-1" strike="noStrike">
                <a:solidFill>
                  <a:srgbClr val="ffffff"/>
                </a:solidFill>
                <a:latin typeface="Arial"/>
              </a:rPr>
              <a:t> une maladie à CM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 surveiller </a:t>
            </a:r>
            <a:r>
              <a:rPr b="0" lang="en-US" sz="2800" spc="-1" strike="noStrike">
                <a:solidFill>
                  <a:srgbClr val="ffff00"/>
                </a:solidFill>
                <a:latin typeface="Arial"/>
              </a:rPr>
              <a:t>l’efficacité d’un trait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0" name=""/>
          <p:cNvSpPr/>
          <p:nvPr/>
        </p:nvSpPr>
        <p:spPr>
          <a:xfrm>
            <a:off x="2265480" y="2638440"/>
            <a:ext cx="0" cy="2822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219400" y="5460840"/>
            <a:ext cx="4608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 name=""/>
          <p:cNvSpPr/>
          <p:nvPr/>
        </p:nvSpPr>
        <p:spPr>
          <a:xfrm>
            <a:off x="2219400" y="4896000"/>
            <a:ext cx="46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3" name=""/>
          <p:cNvSpPr/>
          <p:nvPr/>
        </p:nvSpPr>
        <p:spPr>
          <a:xfrm>
            <a:off x="2219400" y="4330800"/>
            <a:ext cx="46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4" name=""/>
          <p:cNvSpPr/>
          <p:nvPr/>
        </p:nvSpPr>
        <p:spPr>
          <a:xfrm>
            <a:off x="2219400" y="3767040"/>
            <a:ext cx="4608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
          <p:cNvSpPr/>
          <p:nvPr/>
        </p:nvSpPr>
        <p:spPr>
          <a:xfrm>
            <a:off x="2219400" y="320364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219400" y="2638440"/>
            <a:ext cx="46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7" name=""/>
          <p:cNvSpPr/>
          <p:nvPr/>
        </p:nvSpPr>
        <p:spPr>
          <a:xfrm>
            <a:off x="2265480" y="5460840"/>
            <a:ext cx="4554360" cy="1800"/>
          </a:xfrm>
          <a:prstGeom prst="line">
            <a:avLst/>
          </a:prstGeom>
          <a:ln w="19080">
            <a:solidFill>
              <a:srgbClr val="000099"/>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
          <p:cNvSpPr/>
          <p:nvPr/>
        </p:nvSpPr>
        <p:spPr>
          <a:xfrm flipV="1">
            <a:off x="2265480" y="5460840"/>
            <a:ext cx="0" cy="43200"/>
          </a:xfrm>
          <a:prstGeom prst="line">
            <a:avLst/>
          </a:prstGeom>
          <a:ln w="190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 name=""/>
          <p:cNvSpPr/>
          <p:nvPr/>
        </p:nvSpPr>
        <p:spPr>
          <a:xfrm flipV="1">
            <a:off x="3402000" y="5460840"/>
            <a:ext cx="1440" cy="43200"/>
          </a:xfrm>
          <a:prstGeom prst="line">
            <a:avLst/>
          </a:prstGeom>
          <a:ln w="190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0" name=""/>
          <p:cNvSpPr/>
          <p:nvPr/>
        </p:nvSpPr>
        <p:spPr>
          <a:xfrm flipV="1">
            <a:off x="4546440" y="5460840"/>
            <a:ext cx="1800" cy="43200"/>
          </a:xfrm>
          <a:prstGeom prst="line">
            <a:avLst/>
          </a:prstGeom>
          <a:ln w="190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1" name=""/>
          <p:cNvSpPr/>
          <p:nvPr/>
        </p:nvSpPr>
        <p:spPr>
          <a:xfrm flipV="1">
            <a:off x="5683320" y="5460840"/>
            <a:ext cx="1440" cy="43200"/>
          </a:xfrm>
          <a:prstGeom prst="line">
            <a:avLst/>
          </a:prstGeom>
          <a:ln w="190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2" name=""/>
          <p:cNvSpPr/>
          <p:nvPr/>
        </p:nvSpPr>
        <p:spPr>
          <a:xfrm flipV="1">
            <a:off x="6819840" y="5460840"/>
            <a:ext cx="1800" cy="43200"/>
          </a:xfrm>
          <a:prstGeom prst="line">
            <a:avLst/>
          </a:prstGeom>
          <a:ln w="190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3" name=""/>
          <p:cNvSpPr/>
          <p:nvPr/>
        </p:nvSpPr>
        <p:spPr>
          <a:xfrm>
            <a:off x="2255760" y="2655720"/>
            <a:ext cx="4554720" cy="2797200"/>
          </a:xfrm>
          <a:custGeom>
            <a:avLst/>
            <a:gdLst/>
            <a:ahLst/>
            <a:rect l="l" t="t" r="r" b="b"/>
            <a:pathLst>
              <a:path w="3193" h="2020">
                <a:moveTo>
                  <a:pt x="0" y="2020"/>
                </a:moveTo>
                <a:lnTo>
                  <a:pt x="81" y="2020"/>
                </a:lnTo>
                <a:lnTo>
                  <a:pt x="156" y="2020"/>
                </a:lnTo>
                <a:lnTo>
                  <a:pt x="238" y="2020"/>
                </a:lnTo>
                <a:lnTo>
                  <a:pt x="320" y="2020"/>
                </a:lnTo>
                <a:lnTo>
                  <a:pt x="401" y="2020"/>
                </a:lnTo>
                <a:lnTo>
                  <a:pt x="476" y="2020"/>
                </a:lnTo>
                <a:lnTo>
                  <a:pt x="558" y="2020"/>
                </a:lnTo>
                <a:lnTo>
                  <a:pt x="640" y="2020"/>
                </a:lnTo>
                <a:lnTo>
                  <a:pt x="721" y="2020"/>
                </a:lnTo>
                <a:lnTo>
                  <a:pt x="796" y="2020"/>
                </a:lnTo>
                <a:lnTo>
                  <a:pt x="878" y="2020"/>
                </a:lnTo>
                <a:lnTo>
                  <a:pt x="960" y="2020"/>
                </a:lnTo>
                <a:lnTo>
                  <a:pt x="1035" y="2013"/>
                </a:lnTo>
                <a:lnTo>
                  <a:pt x="1116" y="2013"/>
                </a:lnTo>
                <a:lnTo>
                  <a:pt x="1198" y="2013"/>
                </a:lnTo>
                <a:lnTo>
                  <a:pt x="1280" y="2007"/>
                </a:lnTo>
                <a:lnTo>
                  <a:pt x="1355" y="2001"/>
                </a:lnTo>
                <a:lnTo>
                  <a:pt x="1436" y="1995"/>
                </a:lnTo>
                <a:lnTo>
                  <a:pt x="1518" y="1976"/>
                </a:lnTo>
                <a:lnTo>
                  <a:pt x="1600" y="1957"/>
                </a:lnTo>
                <a:lnTo>
                  <a:pt x="1675" y="1926"/>
                </a:lnTo>
                <a:lnTo>
                  <a:pt x="1756" y="1888"/>
                </a:lnTo>
                <a:lnTo>
                  <a:pt x="1838" y="1825"/>
                </a:lnTo>
                <a:lnTo>
                  <a:pt x="1913" y="1737"/>
                </a:lnTo>
                <a:lnTo>
                  <a:pt x="1995" y="1624"/>
                </a:lnTo>
                <a:lnTo>
                  <a:pt x="2076" y="1474"/>
                </a:lnTo>
                <a:lnTo>
                  <a:pt x="2158" y="1298"/>
                </a:lnTo>
                <a:lnTo>
                  <a:pt x="2233" y="1097"/>
                </a:lnTo>
                <a:lnTo>
                  <a:pt x="2315" y="884"/>
                </a:lnTo>
                <a:lnTo>
                  <a:pt x="2396" y="690"/>
                </a:lnTo>
                <a:lnTo>
                  <a:pt x="2472" y="508"/>
                </a:lnTo>
                <a:lnTo>
                  <a:pt x="2553" y="363"/>
                </a:lnTo>
                <a:lnTo>
                  <a:pt x="2635" y="257"/>
                </a:lnTo>
                <a:lnTo>
                  <a:pt x="2716" y="169"/>
                </a:lnTo>
                <a:lnTo>
                  <a:pt x="2792" y="113"/>
                </a:lnTo>
                <a:lnTo>
                  <a:pt x="2873" y="69"/>
                </a:lnTo>
                <a:lnTo>
                  <a:pt x="2955" y="37"/>
                </a:lnTo>
                <a:lnTo>
                  <a:pt x="3036" y="18"/>
                </a:lnTo>
                <a:lnTo>
                  <a:pt x="3112" y="6"/>
                </a:lnTo>
                <a:lnTo>
                  <a:pt x="3193" y="0"/>
                </a:lnTo>
              </a:path>
            </a:pathLst>
          </a:custGeom>
          <a:noFill/>
          <a:ln w="38160">
            <a:solidFill>
              <a:srgbClr val="dcd51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1761480" y="5334120"/>
            <a:ext cx="366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fa Rotis Sans Serif"/>
                <a:ea typeface="Arial"/>
              </a:rPr>
              <a:t>0.0</a:t>
            </a:r>
            <a:endParaRPr b="0" lang="en-US" sz="2000" spc="-1" strike="noStrike">
              <a:solidFill>
                <a:srgbClr val="ffffff"/>
              </a:solidFill>
              <a:latin typeface="Arial"/>
            </a:endParaRPr>
          </a:p>
        </p:txBody>
      </p:sp>
      <p:sp>
        <p:nvSpPr>
          <p:cNvPr id="125" name=""/>
          <p:cNvSpPr/>
          <p:nvPr/>
        </p:nvSpPr>
        <p:spPr>
          <a:xfrm>
            <a:off x="1761480" y="4768920"/>
            <a:ext cx="366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fa Rotis Sans Serif"/>
                <a:ea typeface="Arial"/>
              </a:rPr>
              <a:t>0.2</a:t>
            </a:r>
            <a:endParaRPr b="0" lang="en-US" sz="2000" spc="-1" strike="noStrike">
              <a:solidFill>
                <a:srgbClr val="ffffff"/>
              </a:solidFill>
              <a:latin typeface="Arial"/>
            </a:endParaRPr>
          </a:p>
        </p:txBody>
      </p:sp>
      <p:sp>
        <p:nvSpPr>
          <p:cNvPr id="126" name=""/>
          <p:cNvSpPr/>
          <p:nvPr/>
        </p:nvSpPr>
        <p:spPr>
          <a:xfrm>
            <a:off x="1761480" y="4202280"/>
            <a:ext cx="366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fa Rotis Sans Serif"/>
                <a:ea typeface="Arial"/>
              </a:rPr>
              <a:t>0.4</a:t>
            </a:r>
            <a:endParaRPr b="0" lang="en-US" sz="2000" spc="-1" strike="noStrike">
              <a:solidFill>
                <a:srgbClr val="ffffff"/>
              </a:solidFill>
              <a:latin typeface="Arial"/>
            </a:endParaRPr>
          </a:p>
        </p:txBody>
      </p:sp>
      <p:sp>
        <p:nvSpPr>
          <p:cNvPr id="127" name=""/>
          <p:cNvSpPr/>
          <p:nvPr/>
        </p:nvSpPr>
        <p:spPr>
          <a:xfrm>
            <a:off x="1761480" y="3637080"/>
            <a:ext cx="366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fa Rotis Sans Serif"/>
                <a:ea typeface="Arial"/>
              </a:rPr>
              <a:t>0.6</a:t>
            </a:r>
            <a:endParaRPr b="0" lang="en-US" sz="2000" spc="-1" strike="noStrike">
              <a:solidFill>
                <a:srgbClr val="ffffff"/>
              </a:solidFill>
              <a:latin typeface="Arial"/>
            </a:endParaRPr>
          </a:p>
        </p:txBody>
      </p:sp>
      <p:sp>
        <p:nvSpPr>
          <p:cNvPr id="128" name=""/>
          <p:cNvSpPr/>
          <p:nvPr/>
        </p:nvSpPr>
        <p:spPr>
          <a:xfrm>
            <a:off x="1761480" y="3073320"/>
            <a:ext cx="366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fa Rotis Sans Serif"/>
                <a:ea typeface="Arial"/>
              </a:rPr>
              <a:t>0.8</a:t>
            </a:r>
            <a:endParaRPr b="0" lang="en-US" sz="2000" spc="-1" strike="noStrike">
              <a:solidFill>
                <a:srgbClr val="ffffff"/>
              </a:solidFill>
              <a:latin typeface="Arial"/>
            </a:endParaRPr>
          </a:p>
        </p:txBody>
      </p:sp>
      <p:sp>
        <p:nvSpPr>
          <p:cNvPr id="129" name=""/>
          <p:cNvSpPr/>
          <p:nvPr/>
        </p:nvSpPr>
        <p:spPr>
          <a:xfrm>
            <a:off x="1761480" y="2508120"/>
            <a:ext cx="366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fa Rotis Sans Serif"/>
                <a:ea typeface="Arial"/>
              </a:rPr>
              <a:t>1.0</a:t>
            </a:r>
            <a:endParaRPr b="0" lang="en-US" sz="2000" spc="-1" strike="noStrike">
              <a:solidFill>
                <a:srgbClr val="ffffff"/>
              </a:solidFill>
              <a:latin typeface="Arial"/>
            </a:endParaRPr>
          </a:p>
        </p:txBody>
      </p:sp>
      <p:sp>
        <p:nvSpPr>
          <p:cNvPr id="130" name=""/>
          <p:cNvSpPr/>
          <p:nvPr/>
        </p:nvSpPr>
        <p:spPr>
          <a:xfrm>
            <a:off x="2178360" y="5587920"/>
            <a:ext cx="146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fa Rotis Sans Serif"/>
                <a:ea typeface="Arial"/>
              </a:rPr>
              <a:t>3</a:t>
            </a:r>
            <a:endParaRPr b="0" lang="en-US" sz="2000" spc="-1" strike="noStrike">
              <a:solidFill>
                <a:srgbClr val="ffffff"/>
              </a:solidFill>
              <a:latin typeface="Arial"/>
            </a:endParaRPr>
          </a:p>
        </p:txBody>
      </p:sp>
      <p:sp>
        <p:nvSpPr>
          <p:cNvPr id="131" name=""/>
          <p:cNvSpPr/>
          <p:nvPr/>
        </p:nvSpPr>
        <p:spPr>
          <a:xfrm>
            <a:off x="3316680" y="5587920"/>
            <a:ext cx="146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fa Rotis Sans Serif"/>
                <a:ea typeface="Arial"/>
              </a:rPr>
              <a:t>4</a:t>
            </a:r>
            <a:endParaRPr b="0" lang="en-US" sz="2000" spc="-1" strike="noStrike">
              <a:solidFill>
                <a:srgbClr val="ffffff"/>
              </a:solidFill>
              <a:latin typeface="Arial"/>
            </a:endParaRPr>
          </a:p>
        </p:txBody>
      </p:sp>
      <p:sp>
        <p:nvSpPr>
          <p:cNvPr id="132" name=""/>
          <p:cNvSpPr/>
          <p:nvPr/>
        </p:nvSpPr>
        <p:spPr>
          <a:xfrm>
            <a:off x="4461480" y="5587920"/>
            <a:ext cx="146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fa Rotis Sans Serif"/>
                <a:ea typeface="Arial"/>
              </a:rPr>
              <a:t>5</a:t>
            </a:r>
            <a:endParaRPr b="0" lang="en-US" sz="2000" spc="-1" strike="noStrike">
              <a:solidFill>
                <a:srgbClr val="ffffff"/>
              </a:solidFill>
              <a:latin typeface="Arial"/>
            </a:endParaRPr>
          </a:p>
        </p:txBody>
      </p:sp>
      <p:sp>
        <p:nvSpPr>
          <p:cNvPr id="133" name=""/>
          <p:cNvSpPr/>
          <p:nvPr/>
        </p:nvSpPr>
        <p:spPr>
          <a:xfrm>
            <a:off x="5596560" y="5587920"/>
            <a:ext cx="146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fa Rotis Sans Serif"/>
                <a:ea typeface="Arial"/>
              </a:rPr>
              <a:t>6</a:t>
            </a:r>
            <a:endParaRPr b="0" lang="en-US" sz="2000" spc="-1" strike="noStrike">
              <a:solidFill>
                <a:srgbClr val="ffffff"/>
              </a:solidFill>
              <a:latin typeface="Arial"/>
            </a:endParaRPr>
          </a:p>
        </p:txBody>
      </p:sp>
      <p:sp>
        <p:nvSpPr>
          <p:cNvPr id="134" name=""/>
          <p:cNvSpPr/>
          <p:nvPr/>
        </p:nvSpPr>
        <p:spPr>
          <a:xfrm>
            <a:off x="6734520" y="5587920"/>
            <a:ext cx="146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fa Rotis Sans Serif"/>
                <a:ea typeface="Arial"/>
              </a:rPr>
              <a:t>7</a:t>
            </a:r>
            <a:endParaRPr b="0" lang="en-US" sz="2000" spc="-1" strike="noStrike">
              <a:solidFill>
                <a:srgbClr val="ffffff"/>
              </a:solidFill>
              <a:latin typeface="Arial"/>
            </a:endParaRPr>
          </a:p>
        </p:txBody>
      </p:sp>
      <p:sp>
        <p:nvSpPr>
          <p:cNvPr id="135" name=""/>
          <p:cNvSpPr/>
          <p:nvPr/>
        </p:nvSpPr>
        <p:spPr>
          <a:xfrm>
            <a:off x="2068560" y="5973840"/>
            <a:ext cx="48866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fa Rotis Sans Serif"/>
                <a:ea typeface="Arial"/>
              </a:rPr>
              <a:t>Charge Virale (log genomes/ml) </a:t>
            </a:r>
            <a:endParaRPr b="0" lang="en-US" sz="2400" spc="-1" strike="noStrike">
              <a:solidFill>
                <a:srgbClr val="ffffff"/>
              </a:solidFill>
              <a:latin typeface="Arial"/>
            </a:endParaRPr>
          </a:p>
        </p:txBody>
      </p:sp>
      <p:sp>
        <p:nvSpPr>
          <p:cNvPr id="136" name=""/>
          <p:cNvSpPr/>
          <p:nvPr/>
        </p:nvSpPr>
        <p:spPr>
          <a:xfrm rot="16200000">
            <a:off x="-268200" y="3564000"/>
            <a:ext cx="30686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fa Rotis Sans Serif"/>
                <a:ea typeface="Arial"/>
              </a:rPr>
              <a:t>Probabilité maladi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fa Rotis Sans Serif"/>
                <a:ea typeface="Arial"/>
              </a:rPr>
              <a:t>à CMV</a:t>
            </a:r>
            <a:endParaRPr b="0" lang="en-US" sz="2400" spc="-1" strike="noStrike">
              <a:solidFill>
                <a:srgbClr val="ffffff"/>
              </a:solidFill>
              <a:latin typeface="Arial"/>
            </a:endParaRPr>
          </a:p>
        </p:txBody>
      </p:sp>
      <p:sp>
        <p:nvSpPr>
          <p:cNvPr id="137" name=""/>
          <p:cNvSpPr/>
          <p:nvPr/>
        </p:nvSpPr>
        <p:spPr>
          <a:xfrm>
            <a:off x="3733920" y="6476400"/>
            <a:ext cx="5124240" cy="213480"/>
          </a:xfrm>
          <a:prstGeom prst="rect">
            <a:avLst/>
          </a:prstGeom>
          <a:noFill/>
          <a:ln w="0">
            <a:noFill/>
          </a:ln>
        </p:spPr>
        <p:style>
          <a:lnRef idx="0"/>
          <a:fillRef idx="0"/>
          <a:effectRef idx="0"/>
          <a:fontRef idx="minor"/>
        </p:style>
        <p:txBody>
          <a:bodyPr lIns="0" rIns="0" tIns="0" bIns="0" anchor="b">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e et al (1997) J Infect Dis 176: 1484-90</a:t>
            </a:r>
            <a:r>
              <a:rPr b="0" i="1" lang="en-US" sz="1400" spc="-1" strike="noStrike">
                <a:solidFill>
                  <a:srgbClr val="ffffff"/>
                </a:solidFill>
                <a:latin typeface="Arial"/>
                <a:ea typeface="Arial"/>
              </a:rPr>
              <a:t> </a:t>
            </a:r>
            <a:r>
              <a:rPr b="0" lang="en-US" sz="1400" spc="-1" strike="noStrike">
                <a:solidFill>
                  <a:srgbClr val="ffffff"/>
                </a:solidFill>
                <a:latin typeface="Arial"/>
                <a:ea typeface="Arial"/>
              </a:rPr>
              <a:t> </a:t>
            </a:r>
            <a:endParaRPr b="0" lang="en-US" sz="1400" spc="-1" strike="noStrike">
              <a:solidFill>
                <a:srgbClr val="ffffff"/>
              </a:solidFill>
              <a:latin typeface="Arial"/>
            </a:endParaRPr>
          </a:p>
        </p:txBody>
      </p:sp>
      <p:sp>
        <p:nvSpPr>
          <p:cNvPr id="138" name=""/>
          <p:cNvSpPr/>
          <p:nvPr/>
        </p:nvSpPr>
        <p:spPr>
          <a:xfrm>
            <a:off x="358920" y="609480"/>
            <a:ext cx="8427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Cinétique de réplication virale</a:t>
            </a:r>
            <a:endParaRPr b="0" lang="en-US" sz="4400" spc="-1" strike="noStrike">
              <a:solidFill>
                <a:srgbClr val="00ffff"/>
              </a:solidFill>
              <a:latin typeface="Arial"/>
            </a:endParaRPr>
          </a:p>
        </p:txBody>
      </p:sp>
      <p:sp>
        <p:nvSpPr>
          <p:cNvPr id="14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harge virale CM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41" name=""/>
          <p:cNvSpPr/>
          <p:nvPr/>
        </p:nvSpPr>
        <p:spPr>
          <a:xfrm>
            <a:off x="358920" y="609480"/>
            <a:ext cx="8427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358920" y="1981080"/>
            <a:ext cx="84279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304920" y="5613480"/>
            <a:ext cx="7810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4075200" y="5636880"/>
            <a:ext cx="4711680" cy="8528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ery et al</a:t>
            </a:r>
            <a:r>
              <a:rPr b="0" lang="en-GB" sz="1400" spc="-1" strike="noStrike">
                <a:solidFill>
                  <a:srgbClr val="ffffff"/>
                </a:solidFill>
                <a:latin typeface="Arial"/>
              </a:rPr>
              <a:t> </a:t>
            </a:r>
            <a:r>
              <a:rPr b="0" lang="en-US" sz="1400" spc="-1" strike="noStrike">
                <a:solidFill>
                  <a:srgbClr val="ffffff"/>
                </a:solidFill>
                <a:latin typeface="Arial"/>
              </a:rPr>
              <a:t>(2000) Lancet 355</a:t>
            </a:r>
            <a:r>
              <a:rPr b="0" lang="en-GB" sz="1400" spc="-1" strike="noStrike">
                <a:solidFill>
                  <a:srgbClr val="ffffff"/>
                </a:solidFill>
                <a:latin typeface="Arial"/>
              </a:rPr>
              <a:t>:</a:t>
            </a:r>
            <a:r>
              <a:rPr b="0" lang="en-US" sz="1400" spc="-1" strike="noStrike">
                <a:solidFill>
                  <a:srgbClr val="ffffff"/>
                </a:solidFill>
                <a:latin typeface="Arial"/>
              </a:rPr>
              <a:t>2032-36</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rris et al (2002) Transplantation 74: 527-31 </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azonable et al (2003) J Infect Dis 187:1801-8</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5" name="PlaceHolder 1"/>
          <p:cNvSpPr>
            <a:spLocks noGrp="1"/>
          </p:cNvSpPr>
          <p:nvPr>
            <p:ph type="title"/>
          </p:nvPr>
        </p:nvSpPr>
        <p:spPr>
          <a:xfrm>
            <a:off x="6094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Cinétique de réplication virale </a:t>
            </a:r>
            <a:endParaRPr b="0" lang="en-US" sz="4400" spc="-1" strike="noStrike">
              <a:solidFill>
                <a:srgbClr val="00ffff"/>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rqueurs de la réplication virale sont prédictifs d’un risque de maladie à CMV:</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 niveau de la</a:t>
            </a:r>
            <a:r>
              <a:rPr b="0" lang="en-GB" sz="2800" spc="-1" strike="noStrike">
                <a:solidFill>
                  <a:srgbClr val="ffff00"/>
                </a:solidFill>
                <a:latin typeface="Arial"/>
              </a:rPr>
              <a:t> charge virale CMV après la greffe</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la vitesse d’augmentation </a:t>
            </a:r>
            <a:r>
              <a:rPr b="0" lang="en-GB" sz="2800" spc="-1" strike="noStrike">
                <a:solidFill>
                  <a:srgbClr val="ffffff"/>
                </a:solidFill>
                <a:latin typeface="Arial"/>
              </a:rPr>
              <a:t>de la charge virale CMV entre deux prelèvements consécutif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1836720" y="5172120"/>
            <a:ext cx="6036840" cy="377640"/>
            <a:chOff x="1836720" y="5172120"/>
            <a:chExt cx="6036840" cy="377640"/>
          </a:xfrm>
        </p:grpSpPr>
        <p:sp>
          <p:nvSpPr>
            <p:cNvPr id="148" name=""/>
            <p:cNvSpPr/>
            <p:nvPr/>
          </p:nvSpPr>
          <p:spPr>
            <a:xfrm>
              <a:off x="1836720" y="5423760"/>
              <a:ext cx="284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1865160" y="5423760"/>
              <a:ext cx="5760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92312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98072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2038320" y="5423760"/>
              <a:ext cx="590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09772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155320" y="5423760"/>
              <a:ext cx="5760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221328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270880" y="5423760"/>
              <a:ext cx="590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32992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2387520" y="5423760"/>
              <a:ext cx="5760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44548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503080" y="5423760"/>
              <a:ext cx="590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256248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620080" y="5423760"/>
              <a:ext cx="5760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2677680" y="5423760"/>
              <a:ext cx="590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73708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279468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2852280" y="5423760"/>
              <a:ext cx="5760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910240" y="5423760"/>
              <a:ext cx="590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96928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02688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5423760"/>
              <a:ext cx="5760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142440" y="5423760"/>
              <a:ext cx="590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20184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259440" y="5423760"/>
              <a:ext cx="57240" cy="12600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317040" y="5423760"/>
              <a:ext cx="5760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374640" y="5423760"/>
              <a:ext cx="590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434040" y="5423760"/>
              <a:ext cx="572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3491640" y="5423760"/>
              <a:ext cx="572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549240" y="5423760"/>
              <a:ext cx="590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608280" y="5423760"/>
              <a:ext cx="572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665880" y="5423760"/>
              <a:ext cx="5760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723840" y="5423760"/>
              <a:ext cx="572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781440" y="5423760"/>
              <a:ext cx="590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3840840" y="5423760"/>
              <a:ext cx="572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898440" y="5423760"/>
              <a:ext cx="5760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956400" y="5423760"/>
              <a:ext cx="572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014000" y="5423760"/>
              <a:ext cx="590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073040" y="5423760"/>
              <a:ext cx="572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130640" y="5423760"/>
              <a:ext cx="5760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188600" y="5423760"/>
              <a:ext cx="572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246200" y="5423760"/>
              <a:ext cx="59040" cy="1260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305600" y="5423760"/>
              <a:ext cx="57240" cy="1260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362840" y="5423760"/>
              <a:ext cx="57600" cy="1260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420800" y="5423760"/>
              <a:ext cx="59040" cy="1260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80200" y="5423760"/>
              <a:ext cx="57240" cy="1260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537800" y="5423760"/>
              <a:ext cx="57240" cy="1260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595400" y="5423760"/>
              <a:ext cx="57600" cy="1260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4653360" y="5423760"/>
              <a:ext cx="59040" cy="1260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4712400" y="5423760"/>
              <a:ext cx="57240" cy="1260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770000" y="5423760"/>
              <a:ext cx="57240" cy="1260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827600" y="5423760"/>
              <a:ext cx="54720" cy="1260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4882680" y="5423760"/>
              <a:ext cx="59040" cy="1260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941720" y="5423760"/>
              <a:ext cx="57240" cy="1260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999320" y="5423760"/>
              <a:ext cx="57240" cy="1260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056920" y="5423760"/>
              <a:ext cx="59040" cy="1260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116320" y="5423760"/>
              <a:ext cx="57600" cy="1260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174280" y="5423760"/>
              <a:ext cx="57240" cy="1260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231880" y="5423760"/>
              <a:ext cx="57240" cy="1260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289480" y="5423760"/>
              <a:ext cx="59040" cy="1260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348520" y="5423760"/>
              <a:ext cx="57600" cy="1260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5406480" y="5423760"/>
              <a:ext cx="57240" cy="1260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464080" y="5423760"/>
              <a:ext cx="57240" cy="1260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521680" y="5423760"/>
              <a:ext cx="59040" cy="1260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581080" y="5423760"/>
              <a:ext cx="57600" cy="1260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638680" y="5423760"/>
              <a:ext cx="57240" cy="1260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696280" y="5423760"/>
              <a:ext cx="57240" cy="1260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753880" y="5423760"/>
              <a:ext cx="59040" cy="1260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813280" y="5423760"/>
              <a:ext cx="57600" cy="1260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871240" y="5423760"/>
              <a:ext cx="57240" cy="1260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928840" y="5423760"/>
              <a:ext cx="59040" cy="126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987880" y="5423760"/>
              <a:ext cx="57240" cy="126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6045480" y="5423760"/>
              <a:ext cx="57240" cy="126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6103080" y="5423760"/>
              <a:ext cx="57600" cy="126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161040" y="5423760"/>
              <a:ext cx="59040" cy="126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220440" y="5423760"/>
              <a:ext cx="57240" cy="126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278040" y="5423760"/>
              <a:ext cx="57240" cy="126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335640" y="5423760"/>
              <a:ext cx="57600" cy="126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393600" y="5423760"/>
              <a:ext cx="59040" cy="126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452640" y="5423760"/>
              <a:ext cx="57240" cy="1260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510240" y="5423760"/>
              <a:ext cx="57240" cy="1260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567840" y="5423760"/>
              <a:ext cx="57600" cy="1260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625800" y="5423760"/>
              <a:ext cx="59040" cy="1260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684840" y="5423760"/>
              <a:ext cx="57240" cy="1260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742440" y="5423760"/>
              <a:ext cx="57240" cy="1260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6800040" y="5423760"/>
              <a:ext cx="59040" cy="1260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859440" y="5423760"/>
              <a:ext cx="57600" cy="1260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6917400" y="5423760"/>
              <a:ext cx="57240" cy="1260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975000" y="5423760"/>
              <a:ext cx="57240" cy="1260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032600" y="5423760"/>
              <a:ext cx="59040" cy="1260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091640" y="5423760"/>
              <a:ext cx="57600" cy="1260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149600" y="5423760"/>
              <a:ext cx="57240" cy="1260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207200" y="5423760"/>
              <a:ext cx="57240" cy="1260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264800" y="5423760"/>
              <a:ext cx="59040" cy="1260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324200" y="5423760"/>
              <a:ext cx="57600" cy="1260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381800" y="5423760"/>
              <a:ext cx="57240" cy="1260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439400" y="5423760"/>
              <a:ext cx="57240" cy="1260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497000" y="5423760"/>
              <a:ext cx="59040" cy="1260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556400" y="5423760"/>
              <a:ext cx="57240" cy="1260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614000" y="5423760"/>
              <a:ext cx="57600" cy="1260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671960" y="5423760"/>
              <a:ext cx="59040" cy="1260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7731000" y="5423760"/>
              <a:ext cx="57240" cy="1260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7788600" y="5423760"/>
              <a:ext cx="57240" cy="1260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846200" y="5423760"/>
              <a:ext cx="27360" cy="1260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836720" y="5172120"/>
              <a:ext cx="284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1865160" y="5172120"/>
              <a:ext cx="5760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923120" y="5172120"/>
              <a:ext cx="572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980720" y="5172120"/>
              <a:ext cx="572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038320" y="5172120"/>
              <a:ext cx="590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2097720" y="5172120"/>
              <a:ext cx="572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2155320" y="5172120"/>
              <a:ext cx="5760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2213280" y="5172120"/>
              <a:ext cx="572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270880" y="5172120"/>
              <a:ext cx="590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2329920" y="5172120"/>
              <a:ext cx="572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2387520" y="5172120"/>
              <a:ext cx="5760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2445480" y="5172120"/>
              <a:ext cx="572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2503080" y="5172120"/>
              <a:ext cx="590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2562480" y="5172120"/>
              <a:ext cx="572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2620080" y="5172120"/>
              <a:ext cx="5760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2677680" y="5172120"/>
              <a:ext cx="590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2737080" y="5172120"/>
              <a:ext cx="572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2794680" y="5172120"/>
              <a:ext cx="57240" cy="25164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2852280" y="5172120"/>
              <a:ext cx="5760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910240" y="5172120"/>
              <a:ext cx="590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969280" y="5172120"/>
              <a:ext cx="572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026880" y="5172120"/>
              <a:ext cx="572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3084480" y="5172120"/>
              <a:ext cx="5760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3142440" y="5172120"/>
              <a:ext cx="590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201840" y="5172120"/>
              <a:ext cx="572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259440" y="5172120"/>
              <a:ext cx="572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3317040" y="5172120"/>
              <a:ext cx="5760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74640" y="5172120"/>
              <a:ext cx="590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3434040" y="5172120"/>
              <a:ext cx="572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3491640" y="5172120"/>
              <a:ext cx="572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3549240" y="5172120"/>
              <a:ext cx="590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3608280" y="5172120"/>
              <a:ext cx="572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665880" y="5172120"/>
              <a:ext cx="5760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723840" y="5172120"/>
              <a:ext cx="57240" cy="25164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781440" y="5172120"/>
              <a:ext cx="59040" cy="25164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3840840" y="5172120"/>
              <a:ext cx="57240" cy="25164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898440" y="5172120"/>
              <a:ext cx="57600" cy="25164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956400" y="5172120"/>
              <a:ext cx="57240" cy="25164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014000" y="5172120"/>
              <a:ext cx="59040" cy="25164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4073040" y="5172120"/>
              <a:ext cx="57240" cy="25164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4130640" y="5172120"/>
              <a:ext cx="57600" cy="25164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188600" y="5172120"/>
              <a:ext cx="57240" cy="25164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246200" y="5172120"/>
              <a:ext cx="59040" cy="25164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305600" y="5172120"/>
              <a:ext cx="57240" cy="25164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362840" y="5172120"/>
              <a:ext cx="57600" cy="25164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420800" y="5172120"/>
              <a:ext cx="59040" cy="25164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480200" y="5172120"/>
              <a:ext cx="57240" cy="25164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4537800" y="5172120"/>
              <a:ext cx="57240" cy="25164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595400" y="5172120"/>
              <a:ext cx="57600" cy="25164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653360" y="5172120"/>
              <a:ext cx="59040" cy="25164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712400" y="5172120"/>
              <a:ext cx="57240" cy="25164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770000" y="5172120"/>
              <a:ext cx="57240" cy="25164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4827600" y="5172120"/>
              <a:ext cx="54720" cy="25164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882680" y="5172120"/>
              <a:ext cx="59040" cy="25164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941720" y="5172120"/>
              <a:ext cx="5724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4999320" y="5172120"/>
              <a:ext cx="5724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5056920" y="5172120"/>
              <a:ext cx="5904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116320" y="5172120"/>
              <a:ext cx="5760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174280" y="5172120"/>
              <a:ext cx="5724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5231880" y="5172120"/>
              <a:ext cx="5724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5289480" y="5172120"/>
              <a:ext cx="5904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348520" y="5172120"/>
              <a:ext cx="5760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5406480" y="5172120"/>
              <a:ext cx="5724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464080" y="5172120"/>
              <a:ext cx="572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5521680" y="5172120"/>
              <a:ext cx="590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5581080" y="5172120"/>
              <a:ext cx="5760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5638680" y="5172120"/>
              <a:ext cx="572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696280" y="5172120"/>
              <a:ext cx="572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5753880" y="5172120"/>
              <a:ext cx="590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813280" y="5172120"/>
              <a:ext cx="5760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5871240" y="5172120"/>
              <a:ext cx="572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5928840" y="5172120"/>
              <a:ext cx="590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5987880" y="5172120"/>
              <a:ext cx="572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045480" y="5172120"/>
              <a:ext cx="572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6103080" y="5172120"/>
              <a:ext cx="5760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161040" y="5172120"/>
              <a:ext cx="590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6220440" y="5172120"/>
              <a:ext cx="572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6278040" y="5172120"/>
              <a:ext cx="572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6335640" y="5172120"/>
              <a:ext cx="5760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393600" y="5172120"/>
              <a:ext cx="590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452640" y="51721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510240" y="51721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567840" y="5172120"/>
              <a:ext cx="5760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625800" y="5172120"/>
              <a:ext cx="590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684840" y="51721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742440" y="51721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800040" y="5172120"/>
              <a:ext cx="590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6859440" y="5172120"/>
              <a:ext cx="5760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6917400" y="51721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6975000" y="51721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7032600" y="5172120"/>
              <a:ext cx="590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7091640" y="5172120"/>
              <a:ext cx="5760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149600" y="5172120"/>
              <a:ext cx="572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7207200" y="5172120"/>
              <a:ext cx="572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7264800" y="5172120"/>
              <a:ext cx="590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8" name=""/>
          <p:cNvGrpSpPr/>
          <p:nvPr/>
        </p:nvGrpSpPr>
        <p:grpSpPr>
          <a:xfrm>
            <a:off x="1836720" y="4670280"/>
            <a:ext cx="6036840" cy="752400"/>
            <a:chOff x="1836720" y="4670280"/>
            <a:chExt cx="6036840" cy="752400"/>
          </a:xfrm>
        </p:grpSpPr>
        <p:sp>
          <p:nvSpPr>
            <p:cNvPr id="349" name=""/>
            <p:cNvSpPr/>
            <p:nvPr/>
          </p:nvSpPr>
          <p:spPr>
            <a:xfrm>
              <a:off x="7324200" y="5171760"/>
              <a:ext cx="5760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7381800" y="517176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7439400" y="517176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7497000" y="5171760"/>
              <a:ext cx="590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556400" y="517176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614000" y="5171760"/>
              <a:ext cx="5760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7671960" y="5171760"/>
              <a:ext cx="590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731000" y="517176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788600" y="517176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846200" y="5171760"/>
              <a:ext cx="2736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1836720" y="4920480"/>
              <a:ext cx="28440" cy="25128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865160" y="4920480"/>
              <a:ext cx="57600" cy="25128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1923120" y="4920480"/>
              <a:ext cx="57240" cy="25128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1980720" y="4920480"/>
              <a:ext cx="57240" cy="25128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2038320" y="4920480"/>
              <a:ext cx="59040" cy="25128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2097720" y="4920480"/>
              <a:ext cx="57240" cy="25128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2155320" y="4920480"/>
              <a:ext cx="57600" cy="25128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2213280" y="4920480"/>
              <a:ext cx="57240" cy="25128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2270880" y="4920480"/>
              <a:ext cx="59040" cy="251280"/>
            </a:xfrm>
            <a:prstGeom prst="rect">
              <a:avLst/>
            </a:prstGeom>
            <a:solidFill>
              <a:srgbClr val="00ff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2329920" y="492048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2387520" y="4920480"/>
              <a:ext cx="5760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2445480" y="492048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2503080" y="4920480"/>
              <a:ext cx="590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2562480" y="492048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620080" y="4920480"/>
              <a:ext cx="5760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677680" y="4920480"/>
              <a:ext cx="590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2737080" y="492048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794680" y="492048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2852280" y="4920480"/>
              <a:ext cx="5760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2910240" y="4920480"/>
              <a:ext cx="590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2969280" y="492048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026880" y="492048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084480" y="4920480"/>
              <a:ext cx="5760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3142440" y="4920480"/>
              <a:ext cx="590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201840" y="492048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259440" y="492048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317040" y="4920480"/>
              <a:ext cx="5760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374640" y="4920480"/>
              <a:ext cx="590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434040" y="4920480"/>
              <a:ext cx="572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491640" y="4920480"/>
              <a:ext cx="572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549240" y="4920480"/>
              <a:ext cx="590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608280" y="4920480"/>
              <a:ext cx="572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3665880" y="4920480"/>
              <a:ext cx="5760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3723840" y="4920480"/>
              <a:ext cx="572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3781440" y="4920480"/>
              <a:ext cx="590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840840" y="4920480"/>
              <a:ext cx="572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898440" y="4920480"/>
              <a:ext cx="5760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956400" y="492048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4014000" y="4920480"/>
              <a:ext cx="590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4073040" y="492048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130640" y="4920480"/>
              <a:ext cx="5760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4188600" y="492048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246200" y="4920480"/>
              <a:ext cx="590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4305600" y="492048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4362840" y="4920480"/>
              <a:ext cx="5760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420800" y="4920480"/>
              <a:ext cx="590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4480200" y="492048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4537800" y="492048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4595400" y="4920480"/>
              <a:ext cx="5760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653360" y="4920480"/>
              <a:ext cx="590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4712400" y="492048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4770000" y="492048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827600" y="4920480"/>
              <a:ext cx="5472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882680" y="4920480"/>
              <a:ext cx="590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41720" y="492048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999320" y="492048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5056920" y="4920480"/>
              <a:ext cx="590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16320" y="4920480"/>
              <a:ext cx="5760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5174280" y="492048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5231880" y="492048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5289480" y="4920480"/>
              <a:ext cx="590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348520" y="4920480"/>
              <a:ext cx="5760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406480" y="492048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5464080" y="492048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521680" y="4920480"/>
              <a:ext cx="590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5581080" y="4920480"/>
              <a:ext cx="5760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638680" y="492048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696280" y="492048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5753880" y="4920480"/>
              <a:ext cx="590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813280" y="4920480"/>
              <a:ext cx="5760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871240" y="492048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928840" y="4920480"/>
              <a:ext cx="590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987880" y="4920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45480" y="4920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103080" y="492048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61040" y="492048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6220440" y="4920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6278040" y="4920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6335640" y="492048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6393600" y="492048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6452640" y="4920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510240" y="4920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567840" y="492048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625800" y="492048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684840" y="4920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742440" y="4920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800040" y="492048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59440" y="492048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917400" y="4920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975000" y="4920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032600" y="492048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091640" y="492048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7149600" y="4920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7207200" y="4920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264800" y="492048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324200" y="492048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7381800" y="4920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439400" y="4920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497000" y="492048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556400" y="4920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7614000" y="4920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7671960" y="4920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731000" y="4920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788600" y="4920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7846200" y="4920480"/>
              <a:ext cx="2736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836720" y="4670280"/>
              <a:ext cx="284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1865160" y="4670280"/>
              <a:ext cx="5760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1923120" y="4670280"/>
              <a:ext cx="572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980720" y="4670280"/>
              <a:ext cx="572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038320" y="4670280"/>
              <a:ext cx="590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2097720" y="4670280"/>
              <a:ext cx="572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2155320" y="4670280"/>
              <a:ext cx="5760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2213280" y="4670280"/>
              <a:ext cx="572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2270880" y="4670280"/>
              <a:ext cx="590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2329920" y="4670280"/>
              <a:ext cx="572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387520" y="4670280"/>
              <a:ext cx="5760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2445480" y="4670280"/>
              <a:ext cx="572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2503080" y="4670280"/>
              <a:ext cx="590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2562480" y="4670280"/>
              <a:ext cx="572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620080" y="4670280"/>
              <a:ext cx="5760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2677680" y="4670280"/>
              <a:ext cx="590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2737080" y="4670280"/>
              <a:ext cx="57240" cy="25020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2794680" y="4670280"/>
              <a:ext cx="57240" cy="2502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2852280" y="4670280"/>
              <a:ext cx="57600" cy="2502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910240" y="4670280"/>
              <a:ext cx="59040" cy="2502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2969280" y="4670280"/>
              <a:ext cx="57240" cy="2502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026880" y="4670280"/>
              <a:ext cx="57240" cy="2502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084480" y="4670280"/>
              <a:ext cx="57600" cy="2502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142440" y="4670280"/>
              <a:ext cx="59040" cy="2502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3201840" y="4670280"/>
              <a:ext cx="57240" cy="2502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3259440" y="4670280"/>
              <a:ext cx="57240" cy="2502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3317040" y="4670280"/>
              <a:ext cx="57600" cy="2502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3374640" y="4670280"/>
              <a:ext cx="59040" cy="25020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3434040" y="4670280"/>
              <a:ext cx="5724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491640" y="4670280"/>
              <a:ext cx="5724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3549240" y="4670280"/>
              <a:ext cx="5904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3608280" y="4670280"/>
              <a:ext cx="5724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3665880" y="4670280"/>
              <a:ext cx="5760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3723840" y="4670280"/>
              <a:ext cx="5724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3781440" y="4670280"/>
              <a:ext cx="5904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840840" y="4670280"/>
              <a:ext cx="5724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3898440" y="4670280"/>
              <a:ext cx="5760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956400" y="4670280"/>
              <a:ext cx="572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014000" y="4670280"/>
              <a:ext cx="590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4073040" y="4670280"/>
              <a:ext cx="572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4130640" y="4670280"/>
              <a:ext cx="5760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4188600" y="4670280"/>
              <a:ext cx="572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4246200" y="4670280"/>
              <a:ext cx="590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305600" y="4670280"/>
              <a:ext cx="572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362840" y="4670280"/>
              <a:ext cx="5760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420800" y="4670280"/>
              <a:ext cx="590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4480200" y="4670280"/>
              <a:ext cx="572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4537800" y="4670280"/>
              <a:ext cx="572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595400" y="4670280"/>
              <a:ext cx="5760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4653360" y="4670280"/>
              <a:ext cx="590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4712400" y="4670280"/>
              <a:ext cx="572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4770000" y="4670280"/>
              <a:ext cx="572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4827600" y="4670280"/>
              <a:ext cx="5472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4882680" y="4670280"/>
              <a:ext cx="590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4941720" y="4670280"/>
              <a:ext cx="572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4999320" y="4670280"/>
              <a:ext cx="572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056920" y="4670280"/>
              <a:ext cx="590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5116320" y="4670280"/>
              <a:ext cx="5760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5174280" y="4670280"/>
              <a:ext cx="572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5231880" y="4670280"/>
              <a:ext cx="572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289480" y="4670280"/>
              <a:ext cx="590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348520" y="4670280"/>
              <a:ext cx="5760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5406480" y="4670280"/>
              <a:ext cx="572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5464080" y="467028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5521680" y="4670280"/>
              <a:ext cx="590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5581080" y="4670280"/>
              <a:ext cx="5760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638680" y="467028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696280" y="467028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753880" y="4670280"/>
              <a:ext cx="590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813280" y="4670280"/>
              <a:ext cx="5760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871240" y="467028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928840" y="4670280"/>
              <a:ext cx="590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987880" y="467028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045480" y="467028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03080" y="4670280"/>
              <a:ext cx="5760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161040" y="4670280"/>
              <a:ext cx="590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220440" y="467028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6278040" y="467028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6335640" y="4670280"/>
              <a:ext cx="5760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6393600" y="4670280"/>
              <a:ext cx="590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6452640" y="467028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6510240" y="467028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6567840" y="4670280"/>
              <a:ext cx="5760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6625800" y="4670280"/>
              <a:ext cx="590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684840" y="467028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9" name=""/>
          <p:cNvGrpSpPr/>
          <p:nvPr/>
        </p:nvGrpSpPr>
        <p:grpSpPr>
          <a:xfrm>
            <a:off x="1836720" y="4168800"/>
            <a:ext cx="6036840" cy="752040"/>
            <a:chOff x="1836720" y="4168800"/>
            <a:chExt cx="6036840" cy="752040"/>
          </a:xfrm>
        </p:grpSpPr>
        <p:sp>
          <p:nvSpPr>
            <p:cNvPr id="550" name=""/>
            <p:cNvSpPr/>
            <p:nvPr/>
          </p:nvSpPr>
          <p:spPr>
            <a:xfrm>
              <a:off x="6742440" y="4671000"/>
              <a:ext cx="572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6800040" y="4671000"/>
              <a:ext cx="590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859440" y="4671000"/>
              <a:ext cx="5760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917400" y="4671000"/>
              <a:ext cx="572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6975000" y="4671000"/>
              <a:ext cx="572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032600" y="4671000"/>
              <a:ext cx="590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7091640" y="467100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7149600" y="467100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207200" y="467100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264800" y="467100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7324200" y="467100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7381800" y="467100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39400" y="467100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7497000" y="467100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7556400" y="467100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7614000" y="467100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671960" y="467100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731000" y="467100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7788600" y="467100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846200" y="4671000"/>
              <a:ext cx="2736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1836720" y="4419720"/>
              <a:ext cx="284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1865160" y="4419720"/>
              <a:ext cx="5760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923120" y="441972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1980720" y="441972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2038320" y="4419720"/>
              <a:ext cx="590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2097720" y="441972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2155320" y="4419720"/>
              <a:ext cx="5760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213280" y="4419720"/>
              <a:ext cx="57240" cy="2512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70880" y="4419720"/>
              <a:ext cx="590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2329920" y="4419720"/>
              <a:ext cx="572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2387520" y="4419720"/>
              <a:ext cx="5760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2445480" y="4419720"/>
              <a:ext cx="572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503080" y="4419720"/>
              <a:ext cx="590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562480" y="4419720"/>
              <a:ext cx="572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620080" y="4419720"/>
              <a:ext cx="5760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2677680" y="4419720"/>
              <a:ext cx="590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2737080" y="4419720"/>
              <a:ext cx="572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2794680" y="4419720"/>
              <a:ext cx="572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2852280" y="4419720"/>
              <a:ext cx="5760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2910240" y="4419720"/>
              <a:ext cx="590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2969280" y="441972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026880" y="441972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3084480" y="4419720"/>
              <a:ext cx="5760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3142440" y="4419720"/>
              <a:ext cx="590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3201840" y="441972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3259440" y="441972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317040" y="4419720"/>
              <a:ext cx="5760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3374640" y="4419720"/>
              <a:ext cx="590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434040" y="441972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491640" y="441972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549240" y="4419720"/>
              <a:ext cx="590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608280" y="441972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665880" y="4419720"/>
              <a:ext cx="5760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723840" y="441972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781440" y="4419720"/>
              <a:ext cx="590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840840" y="441972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898440" y="4419720"/>
              <a:ext cx="5760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956400" y="441972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014000" y="4419720"/>
              <a:ext cx="590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073040" y="441972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130640" y="4419720"/>
              <a:ext cx="5760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188600" y="441972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246200" y="4419720"/>
              <a:ext cx="590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4305600" y="441972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4362840" y="4419720"/>
              <a:ext cx="5760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4420800" y="4419720"/>
              <a:ext cx="590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480200" y="441972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4537800" y="441972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4595400" y="4419720"/>
              <a:ext cx="5760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4653360" y="4419720"/>
              <a:ext cx="590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4712400" y="441972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770000" y="441972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4827600" y="4419720"/>
              <a:ext cx="5472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4882680" y="4419720"/>
              <a:ext cx="590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941720" y="441972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4999320" y="441972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5056920" y="441972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5116320" y="441972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5174280" y="441972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5231880" y="441972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5289480" y="441972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348520" y="441972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5406480" y="441972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5464080" y="441972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5521680" y="441972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5581080" y="441972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638680" y="441972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5696280" y="441972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5753880" y="441972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5813280" y="441972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5871240" y="441972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5928840" y="441972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5987880" y="441972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6045480" y="441972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6103080" y="441972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161040" y="441972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220440" y="441972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278040" y="441972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335640" y="441972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393600" y="441972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52640" y="441972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510240" y="441972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567840" y="441972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6625800" y="441972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6684840" y="441972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742440" y="441972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6800040" y="441972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6859440" y="441972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6917400" y="441972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975000" y="441972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7032600" y="441972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7091640" y="441972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49600" y="441972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207200" y="441972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7264800" y="441972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324200" y="441972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381800" y="441972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439400" y="441972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7497000" y="441972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556400" y="441972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7614000" y="441972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7671960" y="441972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731000" y="441972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788600" y="441972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846200" y="4419720"/>
              <a:ext cx="2736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836720" y="4168800"/>
              <a:ext cx="28440" cy="25092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865160" y="4168800"/>
              <a:ext cx="57600" cy="25092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923120" y="4168800"/>
              <a:ext cx="57240" cy="25092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980720" y="4168800"/>
              <a:ext cx="57240" cy="25092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2038320" y="4168800"/>
              <a:ext cx="59040" cy="25092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2097720" y="4168800"/>
              <a:ext cx="57240" cy="25092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2155320" y="4168800"/>
              <a:ext cx="57600" cy="25092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2213280" y="4168800"/>
              <a:ext cx="57240" cy="25092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2270880" y="4168800"/>
              <a:ext cx="59040" cy="25092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329920" y="4168800"/>
              <a:ext cx="57240" cy="25092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387520" y="4168800"/>
              <a:ext cx="57600" cy="25092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2445480" y="4168800"/>
              <a:ext cx="57240" cy="25092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2503080" y="4168800"/>
              <a:ext cx="59040" cy="25092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62480" y="4168800"/>
              <a:ext cx="57240" cy="25092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620080" y="4168800"/>
              <a:ext cx="57600" cy="25092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677680" y="4168800"/>
              <a:ext cx="59040" cy="25092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737080" y="4168800"/>
              <a:ext cx="57240" cy="25092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794680" y="4168800"/>
              <a:ext cx="57240" cy="25092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852280" y="4168800"/>
              <a:ext cx="57600" cy="25092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2910240" y="4168800"/>
              <a:ext cx="59040" cy="25092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969280" y="4168800"/>
              <a:ext cx="57240" cy="25092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3026880" y="4168800"/>
              <a:ext cx="57240" cy="25092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3084480" y="4168800"/>
              <a:ext cx="57600" cy="25092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3142440" y="4168800"/>
              <a:ext cx="59040" cy="25092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3201840" y="4168800"/>
              <a:ext cx="57240" cy="25092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3259440" y="4168800"/>
              <a:ext cx="57240" cy="25092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3317040" y="4168800"/>
              <a:ext cx="57600" cy="25092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3374640" y="4168800"/>
              <a:ext cx="59040" cy="25092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434040" y="4168800"/>
              <a:ext cx="57240" cy="250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3491640" y="4168800"/>
              <a:ext cx="57240" cy="250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3549240" y="4168800"/>
              <a:ext cx="59040" cy="250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3608280" y="4168800"/>
              <a:ext cx="57240" cy="250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3665880" y="4168800"/>
              <a:ext cx="57600" cy="250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723840" y="4168800"/>
              <a:ext cx="57240" cy="250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3781440" y="4168800"/>
              <a:ext cx="59040" cy="250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840840" y="4168800"/>
              <a:ext cx="57240" cy="250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3898440" y="4168800"/>
              <a:ext cx="57600" cy="250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3956400" y="4168800"/>
              <a:ext cx="57240" cy="25092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4014000" y="4168800"/>
              <a:ext cx="59040" cy="25092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4073040" y="4168800"/>
              <a:ext cx="57240" cy="25092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4130640" y="4168800"/>
              <a:ext cx="57600" cy="25092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4188600" y="4168800"/>
              <a:ext cx="57240" cy="25092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4246200" y="4168800"/>
              <a:ext cx="59040" cy="25092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4305600" y="4168800"/>
              <a:ext cx="57240" cy="25092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4362840" y="4168800"/>
              <a:ext cx="57600" cy="25092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4420800" y="4168800"/>
              <a:ext cx="59040" cy="25092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4480200" y="4168800"/>
              <a:ext cx="57240" cy="250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537800" y="4168800"/>
              <a:ext cx="57240" cy="250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4595400" y="4168800"/>
              <a:ext cx="57600" cy="250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4653360" y="4168800"/>
              <a:ext cx="59040" cy="250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4712400" y="4168800"/>
              <a:ext cx="57240" cy="250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4770000" y="4168800"/>
              <a:ext cx="57240" cy="250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4827600" y="4168800"/>
              <a:ext cx="54720" cy="250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4882680" y="4168800"/>
              <a:ext cx="59040" cy="250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4941720" y="4168800"/>
              <a:ext cx="57240" cy="250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4999320" y="4168800"/>
              <a:ext cx="57240" cy="250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5056920" y="4168800"/>
              <a:ext cx="59040" cy="250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5116320" y="4168800"/>
              <a:ext cx="5760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174280" y="416880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231880" y="416880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5289480" y="4168800"/>
              <a:ext cx="590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348520" y="4168800"/>
              <a:ext cx="5760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406480" y="416880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5464080" y="416880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521680" y="4168800"/>
              <a:ext cx="590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5581080" y="4168800"/>
              <a:ext cx="5760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5638680" y="416880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5696280" y="416880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5753880" y="4168800"/>
              <a:ext cx="590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5813280" y="4168800"/>
              <a:ext cx="5760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5871240" y="416880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928840" y="4168800"/>
              <a:ext cx="590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987880" y="416880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6045480" y="416880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6103080" y="4168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0" name=""/>
          <p:cNvGrpSpPr/>
          <p:nvPr/>
        </p:nvGrpSpPr>
        <p:grpSpPr>
          <a:xfrm>
            <a:off x="1836720" y="3666960"/>
            <a:ext cx="6036840" cy="752400"/>
            <a:chOff x="1836720" y="3666960"/>
            <a:chExt cx="6036840" cy="752400"/>
          </a:xfrm>
        </p:grpSpPr>
        <p:sp>
          <p:nvSpPr>
            <p:cNvPr id="751" name=""/>
            <p:cNvSpPr/>
            <p:nvPr/>
          </p:nvSpPr>
          <p:spPr>
            <a:xfrm>
              <a:off x="6161040" y="416844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22044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627804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6335640" y="416844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6393600" y="416844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645264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651024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6567840" y="416844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6625800" y="416844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68484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74244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6800040" y="416844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859440" y="416844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691740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697500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7032600" y="416844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7091640" y="416844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714960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0720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7264800" y="416844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7324200" y="416844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38180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743940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7497000" y="416844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755640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614000" y="416844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7671960" y="416844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73100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788600" y="416844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7846200" y="4168440"/>
              <a:ext cx="2736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1836720" y="3917160"/>
              <a:ext cx="2844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1865160" y="3917160"/>
              <a:ext cx="57600" cy="251280"/>
            </a:xfrm>
            <a:prstGeom prst="rect">
              <a:avLst/>
            </a:prstGeom>
            <a:solidFill>
              <a:srgbClr val="66f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1923120" y="391716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1980720" y="391716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2038320" y="3917160"/>
              <a:ext cx="590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2097720" y="391716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2155320" y="3917160"/>
              <a:ext cx="5760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2213280" y="391716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2270880" y="3917160"/>
              <a:ext cx="590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2329920" y="3917160"/>
              <a:ext cx="5724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2387520" y="3917160"/>
              <a:ext cx="57600" cy="25128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2445480" y="391716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2503080" y="3917160"/>
              <a:ext cx="590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562480" y="391716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2620080" y="3917160"/>
              <a:ext cx="5760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2677680" y="3917160"/>
              <a:ext cx="590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2737080" y="391716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2794680" y="3917160"/>
              <a:ext cx="572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2852280" y="3917160"/>
              <a:ext cx="5760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2910240" y="3917160"/>
              <a:ext cx="59040" cy="25128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969280" y="391716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3026880" y="391716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3084480" y="3917160"/>
              <a:ext cx="5760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3142440" y="3917160"/>
              <a:ext cx="590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3201840" y="391716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3259440" y="3917160"/>
              <a:ext cx="572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3317040" y="3917160"/>
              <a:ext cx="5760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3374640" y="3917160"/>
              <a:ext cx="590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3434040" y="391716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3491640" y="391716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549240" y="3917160"/>
              <a:ext cx="590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608280" y="391716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3665880" y="3917160"/>
              <a:ext cx="5760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3723840" y="391716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3781440" y="3917160"/>
              <a:ext cx="590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3840840" y="391716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3898440" y="3917160"/>
              <a:ext cx="5760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956400" y="391716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4014000" y="391716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4073040" y="391716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4130640" y="391716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4188600" y="391716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4246200" y="391716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4305600" y="391716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4362840" y="391716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4420800" y="391716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4480200" y="391716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537800" y="391716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95400" y="391716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653360" y="391716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712400" y="391716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770000" y="391716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827600" y="3917160"/>
              <a:ext cx="5472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4882680" y="391716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4941720" y="391716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4999320" y="391716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056920" y="391716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5116320" y="391716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5174280" y="391716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5231880" y="391716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289480" y="391716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348520" y="391716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406480" y="391716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464080" y="391716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5521680" y="391716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5581080" y="3917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563868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569628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5753880" y="3917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5813280" y="3917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587124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5928840" y="3917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598788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604548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6103080" y="3917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6161040" y="3917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22044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627804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6335640" y="3917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6393600" y="3917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645264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651024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6567840" y="3917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6625800" y="3917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668484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674244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6800040" y="3917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6859440" y="3917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691740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697500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7032600" y="3917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91640" y="3917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14960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720720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7264800" y="3917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7324200" y="3917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38180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43940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7497000" y="3917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755640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7614000" y="3917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671960" y="3917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73100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7788600" y="3917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7846200" y="3917160"/>
              <a:ext cx="2736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1836720" y="3666960"/>
              <a:ext cx="2844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1865160" y="3666960"/>
              <a:ext cx="5760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1923120" y="3666960"/>
              <a:ext cx="57240" cy="250200"/>
            </a:xfrm>
            <a:prstGeom prst="rect">
              <a:avLst/>
            </a:prstGeom>
            <a:solidFill>
              <a:srgbClr val="99f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1980720" y="3666960"/>
              <a:ext cx="572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2038320" y="3666960"/>
              <a:ext cx="590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2097720" y="3666960"/>
              <a:ext cx="572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2155320" y="3666960"/>
              <a:ext cx="5760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2213280" y="3666960"/>
              <a:ext cx="572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2270880" y="3666960"/>
              <a:ext cx="590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2329920" y="3666960"/>
              <a:ext cx="5724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2387520" y="3666960"/>
              <a:ext cx="57600" cy="25020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2445480" y="3666960"/>
              <a:ext cx="572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2503080" y="3666960"/>
              <a:ext cx="590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562480" y="3666960"/>
              <a:ext cx="572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2620080" y="3666960"/>
              <a:ext cx="5760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2677680" y="3666960"/>
              <a:ext cx="590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737080" y="3666960"/>
              <a:ext cx="572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2794680" y="3666960"/>
              <a:ext cx="572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2852280" y="3666960"/>
              <a:ext cx="5760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2910240" y="3666960"/>
              <a:ext cx="59040" cy="250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2969280" y="3666960"/>
              <a:ext cx="572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3026880" y="3666960"/>
              <a:ext cx="572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3084480" y="3666960"/>
              <a:ext cx="5760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3142440" y="3666960"/>
              <a:ext cx="590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3201840" y="3666960"/>
              <a:ext cx="572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3259440" y="3666960"/>
              <a:ext cx="572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3317040" y="3666960"/>
              <a:ext cx="5760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3374640" y="3666960"/>
              <a:ext cx="590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3434040" y="3666960"/>
              <a:ext cx="57240" cy="25020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3491640" y="366696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3549240" y="3666960"/>
              <a:ext cx="590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3608280" y="366696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
            <p:cNvSpPr/>
            <p:nvPr/>
          </p:nvSpPr>
          <p:spPr>
            <a:xfrm>
              <a:off x="3665880" y="3666960"/>
              <a:ext cx="5760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a:off x="3723840" y="366696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3781440" y="3666960"/>
              <a:ext cx="590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840840" y="366696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3898440" y="3666960"/>
              <a:ext cx="5760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3956400" y="366696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4014000" y="3666960"/>
              <a:ext cx="590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4073040" y="3666960"/>
              <a:ext cx="57240" cy="2502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4130640" y="3666960"/>
              <a:ext cx="5760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4188600" y="366696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4246200" y="3666960"/>
              <a:ext cx="590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4305600" y="366696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4362840" y="3666960"/>
              <a:ext cx="5760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4420800" y="3666960"/>
              <a:ext cx="590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4480200" y="366696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4537800" y="366696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4595400" y="3666960"/>
              <a:ext cx="5760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4653360" y="3666960"/>
              <a:ext cx="590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4712400" y="366696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4770000" y="366696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7600" y="3666960"/>
              <a:ext cx="5472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882680" y="3666960"/>
              <a:ext cx="590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4941720" y="366696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4999320" y="3666960"/>
              <a:ext cx="57240" cy="25020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5056920" y="3666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5116320" y="3666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5174280" y="3666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5231880" y="3666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5289480" y="3666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5348520" y="3666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5406480" y="3666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5464080" y="3666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5521680" y="3666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1" name=""/>
          <p:cNvGrpSpPr/>
          <p:nvPr/>
        </p:nvGrpSpPr>
        <p:grpSpPr>
          <a:xfrm>
            <a:off x="1836720" y="3164040"/>
            <a:ext cx="6036840" cy="753840"/>
            <a:chOff x="1836720" y="3164040"/>
            <a:chExt cx="6036840" cy="753840"/>
          </a:xfrm>
        </p:grpSpPr>
        <p:sp>
          <p:nvSpPr>
            <p:cNvPr id="952" name=""/>
            <p:cNvSpPr/>
            <p:nvPr/>
          </p:nvSpPr>
          <p:spPr>
            <a:xfrm>
              <a:off x="5581080" y="36673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563868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569628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5753880" y="36673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5813280" y="36673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587124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5928840" y="36673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598788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604548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6103080" y="36673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6161040" y="36673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22044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627804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6335640" y="36673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6393600" y="36673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645264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651024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6567840" y="36673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6625800" y="36673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668484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674244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6800040" y="36673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6859440" y="36673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691740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697500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7032600" y="36673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7091640" y="36673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714960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720720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7264800" y="36673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7324200" y="36673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738180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743940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7497000" y="36673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755640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7614000" y="36673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671960" y="36673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773100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7788600" y="36673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7846200" y="3667320"/>
              <a:ext cx="2736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1836720" y="3415320"/>
              <a:ext cx="2844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1865160" y="3415320"/>
              <a:ext cx="5760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923120" y="3415320"/>
              <a:ext cx="57240" cy="251640"/>
            </a:xfrm>
            <a:prstGeom prst="rect">
              <a:avLst/>
            </a:prstGeom>
            <a:solidFill>
              <a:srgbClr val="ccff0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1980720" y="3415320"/>
              <a:ext cx="572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2038320" y="3415320"/>
              <a:ext cx="590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2097720" y="3415320"/>
              <a:ext cx="572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2155320" y="3415320"/>
              <a:ext cx="5760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2213280" y="3415320"/>
              <a:ext cx="572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2270880" y="3415320"/>
              <a:ext cx="590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2329920" y="3415320"/>
              <a:ext cx="5724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2387520" y="3415320"/>
              <a:ext cx="57600" cy="251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2445480" y="3415320"/>
              <a:ext cx="572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2503080" y="3415320"/>
              <a:ext cx="590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2562480" y="3415320"/>
              <a:ext cx="572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2620080" y="3415320"/>
              <a:ext cx="5760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677680" y="3415320"/>
              <a:ext cx="590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2737080" y="3415320"/>
              <a:ext cx="572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2794680" y="3415320"/>
              <a:ext cx="572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2852280" y="3415320"/>
              <a:ext cx="5760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2910240" y="3415320"/>
              <a:ext cx="59040" cy="25164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2969280" y="34153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3026880" y="34153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084480" y="3415320"/>
              <a:ext cx="5760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142440" y="3415320"/>
              <a:ext cx="590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3201840" y="34153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3259440" y="34153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3317040" y="3415320"/>
              <a:ext cx="5760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3374640" y="3415320"/>
              <a:ext cx="590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3434040" y="34153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3491640" y="3415320"/>
              <a:ext cx="572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3549240" y="3415320"/>
              <a:ext cx="59040" cy="2516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3608280" y="3415320"/>
              <a:ext cx="572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3665880" y="3415320"/>
              <a:ext cx="5760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3723840" y="3415320"/>
              <a:ext cx="572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3781440" y="3415320"/>
              <a:ext cx="590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3840840" y="3415320"/>
              <a:ext cx="572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3898440" y="3415320"/>
              <a:ext cx="5760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3956400" y="3415320"/>
              <a:ext cx="572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4014000" y="3415320"/>
              <a:ext cx="590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4073040" y="3415320"/>
              <a:ext cx="572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4130640" y="3415320"/>
              <a:ext cx="5760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4188600" y="3415320"/>
              <a:ext cx="572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4246200" y="3415320"/>
              <a:ext cx="590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4305600" y="3415320"/>
              <a:ext cx="572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4362840" y="3415320"/>
              <a:ext cx="5760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4420800" y="3415320"/>
              <a:ext cx="590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4480200" y="3415320"/>
              <a:ext cx="572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4537800" y="3415320"/>
              <a:ext cx="57240" cy="2516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459540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465336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471240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477000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4827600" y="3415320"/>
              <a:ext cx="5472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488268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494172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99932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505692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11632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517428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23188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528948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534852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540648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546408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552168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58108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a:off x="563868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569628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575388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581328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587124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92884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598788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604548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610308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16104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622044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627804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633564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639360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645264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651024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656784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62580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668484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674244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680004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685944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691740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697500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703260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709164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714960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720720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726480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732420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738180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743940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749700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755640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7614000" y="3415320"/>
              <a:ext cx="5760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7671960" y="3415320"/>
              <a:ext cx="590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773100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7788600" y="3415320"/>
              <a:ext cx="5724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7846200" y="3415320"/>
              <a:ext cx="27360" cy="251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1836720" y="3164040"/>
              <a:ext cx="2844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1865160" y="3164040"/>
              <a:ext cx="57600" cy="251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1923120" y="316404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1980720" y="316404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2038320" y="3164040"/>
              <a:ext cx="590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2097720" y="316404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2155320" y="3164040"/>
              <a:ext cx="5760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2213280" y="316404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2270880" y="3164040"/>
              <a:ext cx="590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2329920" y="316404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2387520" y="3164040"/>
              <a:ext cx="5760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2445480" y="316404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2503080" y="316404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2562480" y="316404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2620080" y="316404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2677680" y="316404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2737080" y="316404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2794680" y="316404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2852280" y="316404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2910240" y="316404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2969280" y="316404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3026880" y="316404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3084480" y="316404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3142440" y="316404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3201840" y="316404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3259440" y="316404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3317040" y="316404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3374640" y="316404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3434040" y="316404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3491640" y="316404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3549240" y="316404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3608280" y="316404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3665880" y="316404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3723840" y="316404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3781440" y="316404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3840840" y="316404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3898440" y="316404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3956400" y="316404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4014000" y="316404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4073040" y="31640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4130640" y="31640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4188600" y="31640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4246200" y="31640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4305600" y="31640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4362840" y="31640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4420800" y="31640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4480200" y="31640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4537800" y="31640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4595400" y="31640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4653360" y="31640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4712400" y="31640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4770000" y="31640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4827600" y="3164040"/>
              <a:ext cx="5472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4882680" y="31640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941720" y="31640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52" name=""/>
          <p:cNvGrpSpPr/>
          <p:nvPr/>
        </p:nvGrpSpPr>
        <p:grpSpPr>
          <a:xfrm>
            <a:off x="1836720" y="2662200"/>
            <a:ext cx="6036840" cy="753840"/>
            <a:chOff x="1836720" y="2662200"/>
            <a:chExt cx="6036840" cy="753840"/>
          </a:xfrm>
        </p:grpSpPr>
        <p:sp>
          <p:nvSpPr>
            <p:cNvPr id="1153" name=""/>
            <p:cNvSpPr/>
            <p:nvPr/>
          </p:nvSpPr>
          <p:spPr>
            <a:xfrm>
              <a:off x="499932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05692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116320" y="31651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17428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23188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28948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348520" y="31651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40648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46408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52168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581080" y="31651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63868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569628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575388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5813280" y="31651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587124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592884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598788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604548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6103080" y="31651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616104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622044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627804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6335640" y="31651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639360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645264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651024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6567840" y="31651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662580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668484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74244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680004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6859440" y="31651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a:off x="691740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697500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703260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7091640" y="31651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714960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720720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726480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7324200" y="31651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738180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743940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749700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755640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7614000" y="31651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a:off x="7671960" y="31651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773100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7788600" y="31651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7846200" y="3165120"/>
              <a:ext cx="2736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1836720" y="2913480"/>
              <a:ext cx="284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1865160" y="2913480"/>
              <a:ext cx="5760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1923120" y="2913480"/>
              <a:ext cx="57240" cy="251280"/>
            </a:xfrm>
            <a:prstGeom prst="rect">
              <a:avLst/>
            </a:pr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980720" y="2913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2038320" y="291348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2097720" y="2913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2155320" y="291348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2213280" y="2913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2270880" y="291348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2329920" y="2913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2387520" y="291348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2445480" y="2913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2503080" y="291348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2562480" y="291348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2620080" y="291348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2677680" y="291348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2737080" y="2913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2794680" y="2913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a:off x="2852280" y="291348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a:off x="2910240" y="291348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2969280" y="2913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3026880" y="2913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3084480" y="291348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3142440" y="291348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3201840" y="2913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259440" y="2913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3317040" y="291348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3374640" y="291348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3434040" y="2913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a:off x="3491640" y="291348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3549240" y="291348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p:nvPr/>
          </p:nvSpPr>
          <p:spPr>
            <a:xfrm>
              <a:off x="360828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5" name=""/>
            <p:cNvSpPr/>
            <p:nvPr/>
          </p:nvSpPr>
          <p:spPr>
            <a:xfrm>
              <a:off x="366588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6" name=""/>
            <p:cNvSpPr/>
            <p:nvPr/>
          </p:nvSpPr>
          <p:spPr>
            <a:xfrm>
              <a:off x="372384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7" name=""/>
            <p:cNvSpPr/>
            <p:nvPr/>
          </p:nvSpPr>
          <p:spPr>
            <a:xfrm>
              <a:off x="378144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8" name=""/>
            <p:cNvSpPr/>
            <p:nvPr/>
          </p:nvSpPr>
          <p:spPr>
            <a:xfrm>
              <a:off x="384084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9" name=""/>
            <p:cNvSpPr/>
            <p:nvPr/>
          </p:nvSpPr>
          <p:spPr>
            <a:xfrm>
              <a:off x="389844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
            <p:cNvSpPr/>
            <p:nvPr/>
          </p:nvSpPr>
          <p:spPr>
            <a:xfrm>
              <a:off x="39564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
            <p:cNvSpPr/>
            <p:nvPr/>
          </p:nvSpPr>
          <p:spPr>
            <a:xfrm>
              <a:off x="401400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
            <p:cNvSpPr/>
            <p:nvPr/>
          </p:nvSpPr>
          <p:spPr>
            <a:xfrm>
              <a:off x="407304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a:off x="413064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41886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24620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3056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36284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42080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44802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45378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459540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465336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47124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47700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4827600" y="2913480"/>
              <a:ext cx="5472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488268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494172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499932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505692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511632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517428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523188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528948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534852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540648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546408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552168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558108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563868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569628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575388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581328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587124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592884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598788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604548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610308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616104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622044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27804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633564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639360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645264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651024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656784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662580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668484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674244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680004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685944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69174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69750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703260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709164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71496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72072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726480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732420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73818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74394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749700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75564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7614000" y="291348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7671960" y="291348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77310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7788600" y="291348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7846200" y="2913480"/>
              <a:ext cx="2736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1836720" y="2662200"/>
              <a:ext cx="284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1865160" y="2662200"/>
              <a:ext cx="5760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1923120" y="266220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1980720" y="2662200"/>
              <a:ext cx="572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2038320" y="2662200"/>
              <a:ext cx="59040" cy="251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2097720" y="266220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2155320" y="266220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2213280" y="266220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2270880" y="266220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2329920" y="266220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2387520" y="266220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2445480" y="266220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2503080" y="266220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2562480" y="266220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2620080" y="266220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2677680" y="266220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2737080" y="266220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2794680" y="266220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2852280" y="2662200"/>
              <a:ext cx="5760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2910240" y="2662200"/>
              <a:ext cx="590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2969280" y="266220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a:off x="3026880" y="2662200"/>
              <a:ext cx="57240" cy="25128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p:nvPr/>
          </p:nvSpPr>
          <p:spPr>
            <a:xfrm>
              <a:off x="3084480" y="266220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a:off x="3142440" y="266220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3201840" y="266220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3259440" y="266220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3317040" y="266220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
            <p:cNvSpPr/>
            <p:nvPr/>
          </p:nvSpPr>
          <p:spPr>
            <a:xfrm>
              <a:off x="3374640" y="266220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3434040" y="266220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3491640" y="266220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a:off x="3549240" y="266220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3608280" y="266220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3665880" y="266220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3723840" y="266220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3781440" y="266220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3840840" y="266220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3898440" y="266220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3956400" y="266220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4014000" y="266220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4073040" y="266220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4130640" y="266220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a:off x="4188600" y="266220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4246200" y="266220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p:nvPr/>
          </p:nvSpPr>
          <p:spPr>
            <a:xfrm>
              <a:off x="4305600" y="266220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a:off x="4362840" y="266220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53" name=""/>
          <p:cNvGrpSpPr/>
          <p:nvPr/>
        </p:nvGrpSpPr>
        <p:grpSpPr>
          <a:xfrm>
            <a:off x="1836720" y="2160720"/>
            <a:ext cx="6036840" cy="752400"/>
            <a:chOff x="1836720" y="2160720"/>
            <a:chExt cx="6036840" cy="752400"/>
          </a:xfrm>
        </p:grpSpPr>
        <p:sp>
          <p:nvSpPr>
            <p:cNvPr id="1354" name=""/>
            <p:cNvSpPr/>
            <p:nvPr/>
          </p:nvSpPr>
          <p:spPr>
            <a:xfrm>
              <a:off x="442080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a:off x="44802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45378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459540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a:off x="465336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47124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
            <p:cNvSpPr/>
            <p:nvPr/>
          </p:nvSpPr>
          <p:spPr>
            <a:xfrm>
              <a:off x="47700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4827600" y="2661840"/>
              <a:ext cx="5472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a:off x="488268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494172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
            <p:cNvSpPr/>
            <p:nvPr/>
          </p:nvSpPr>
          <p:spPr>
            <a:xfrm>
              <a:off x="499932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a:off x="505692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6" name=""/>
            <p:cNvSpPr/>
            <p:nvPr/>
          </p:nvSpPr>
          <p:spPr>
            <a:xfrm>
              <a:off x="511632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517428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523188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528948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534852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540648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546408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552168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558108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a:off x="563868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569628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575388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1328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587124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a:off x="592884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a:off x="598788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a:off x="604548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610308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616104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a:off x="622044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a:off x="627804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633564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39360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
            <p:cNvSpPr/>
            <p:nvPr/>
          </p:nvSpPr>
          <p:spPr>
            <a:xfrm>
              <a:off x="645264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0" name=""/>
            <p:cNvSpPr/>
            <p:nvPr/>
          </p:nvSpPr>
          <p:spPr>
            <a:xfrm>
              <a:off x="651024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a:off x="656784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662580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a:off x="668484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4" name=""/>
            <p:cNvSpPr/>
            <p:nvPr/>
          </p:nvSpPr>
          <p:spPr>
            <a:xfrm>
              <a:off x="674244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
            <p:cNvSpPr/>
            <p:nvPr/>
          </p:nvSpPr>
          <p:spPr>
            <a:xfrm>
              <a:off x="680004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
            <p:cNvSpPr/>
            <p:nvPr/>
          </p:nvSpPr>
          <p:spPr>
            <a:xfrm>
              <a:off x="685944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7" name=""/>
            <p:cNvSpPr/>
            <p:nvPr/>
          </p:nvSpPr>
          <p:spPr>
            <a:xfrm>
              <a:off x="69174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a:off x="69750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a:off x="703260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709164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71496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72072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a:off x="726480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732420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a:off x="73818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74394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749700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a:off x="75564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7614000" y="266184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7671960" y="266184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a:off x="77310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7788600" y="266184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7846200" y="2661840"/>
              <a:ext cx="2736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a:off x="1836720" y="2411640"/>
              <a:ext cx="284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1865160" y="2411640"/>
              <a:ext cx="5760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1923120" y="2411640"/>
              <a:ext cx="572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p:nvPr/>
          </p:nvSpPr>
          <p:spPr>
            <a:xfrm>
              <a:off x="1980720" y="2411640"/>
              <a:ext cx="572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8" name=""/>
            <p:cNvSpPr/>
            <p:nvPr/>
          </p:nvSpPr>
          <p:spPr>
            <a:xfrm>
              <a:off x="2038320" y="2411640"/>
              <a:ext cx="590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9" name=""/>
            <p:cNvSpPr/>
            <p:nvPr/>
          </p:nvSpPr>
          <p:spPr>
            <a:xfrm>
              <a:off x="2097720" y="2411640"/>
              <a:ext cx="572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0" name=""/>
            <p:cNvSpPr/>
            <p:nvPr/>
          </p:nvSpPr>
          <p:spPr>
            <a:xfrm>
              <a:off x="2155320" y="2411640"/>
              <a:ext cx="5760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1" name=""/>
            <p:cNvSpPr/>
            <p:nvPr/>
          </p:nvSpPr>
          <p:spPr>
            <a:xfrm>
              <a:off x="2213280" y="2411640"/>
              <a:ext cx="572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2270880" y="2411640"/>
              <a:ext cx="590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2329920" y="2411640"/>
              <a:ext cx="572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2387520" y="2411640"/>
              <a:ext cx="5760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
            <p:cNvSpPr/>
            <p:nvPr/>
          </p:nvSpPr>
          <p:spPr>
            <a:xfrm>
              <a:off x="2445480" y="2411640"/>
              <a:ext cx="572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
            <p:cNvSpPr/>
            <p:nvPr/>
          </p:nvSpPr>
          <p:spPr>
            <a:xfrm>
              <a:off x="2503080" y="2411640"/>
              <a:ext cx="59040" cy="24984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a:off x="25624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262008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267768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27370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a:off x="27946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285228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291024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29692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30268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a:off x="308448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314244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32018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32594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331704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337464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34340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34916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54924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36082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366588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37238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378144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a:off x="38408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389844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39564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401400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40730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a:off x="413064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886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24620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3056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36284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442080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44802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45378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459540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465336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47124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47700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4827600" y="2411640"/>
              <a:ext cx="5472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488268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494172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499932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505692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511632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51742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52318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528948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534852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54064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54640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552168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558108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56386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56962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575388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581328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58712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592884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59878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604548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610308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616104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62204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62780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633564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639360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64526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65102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656784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662580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66848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674244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680004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685944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69174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69750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703260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709164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71496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72072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726480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732420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73818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74394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749700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75564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7614000" y="2411640"/>
              <a:ext cx="5760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7671960" y="2411640"/>
              <a:ext cx="590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77310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7788600" y="2411640"/>
              <a:ext cx="5724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7846200" y="2411640"/>
              <a:ext cx="27360" cy="249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1836720" y="2160720"/>
              <a:ext cx="284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1865160" y="2160720"/>
              <a:ext cx="5760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1923120" y="216072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1980720" y="2160720"/>
              <a:ext cx="572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2038320" y="2160720"/>
              <a:ext cx="59040" cy="250920"/>
            </a:xfrm>
            <a:prstGeom prst="rect">
              <a:avLst/>
            </a:pr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209772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2155320" y="21607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221328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2270880" y="21607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232992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2387520" y="21607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244548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2503080" y="21607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256248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2620080" y="21607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2677680" y="21607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273708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279468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2852280" y="21607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2910240" y="21607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296928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302688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3084480" y="21607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3142440" y="21607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20184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25944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3317040" y="21607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3374640" y="21607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343404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49164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3549240" y="21607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360828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3665880" y="216072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3723840" y="216072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3781440" y="216072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54" name=""/>
          <p:cNvGrpSpPr/>
          <p:nvPr/>
        </p:nvGrpSpPr>
        <p:grpSpPr>
          <a:xfrm>
            <a:off x="1836720" y="1658880"/>
            <a:ext cx="6036840" cy="752400"/>
            <a:chOff x="1836720" y="1658880"/>
            <a:chExt cx="6036840" cy="752400"/>
          </a:xfrm>
        </p:grpSpPr>
        <p:sp>
          <p:nvSpPr>
            <p:cNvPr id="1555" name=""/>
            <p:cNvSpPr/>
            <p:nvPr/>
          </p:nvSpPr>
          <p:spPr>
            <a:xfrm>
              <a:off x="384084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389844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39564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a:off x="401400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407304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413064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41886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p:nvPr/>
          </p:nvSpPr>
          <p:spPr>
            <a:xfrm>
              <a:off x="424620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
            <p:cNvSpPr/>
            <p:nvPr/>
          </p:nvSpPr>
          <p:spPr>
            <a:xfrm>
              <a:off x="43056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
            <p:cNvSpPr/>
            <p:nvPr/>
          </p:nvSpPr>
          <p:spPr>
            <a:xfrm>
              <a:off x="436284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5" name=""/>
            <p:cNvSpPr/>
            <p:nvPr/>
          </p:nvSpPr>
          <p:spPr>
            <a:xfrm>
              <a:off x="442080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44802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45378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459540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465336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0" name=""/>
            <p:cNvSpPr/>
            <p:nvPr/>
          </p:nvSpPr>
          <p:spPr>
            <a:xfrm>
              <a:off x="47124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1" name=""/>
            <p:cNvSpPr/>
            <p:nvPr/>
          </p:nvSpPr>
          <p:spPr>
            <a:xfrm>
              <a:off x="47700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a:off x="4827600" y="2160720"/>
              <a:ext cx="5472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
            <p:cNvSpPr/>
            <p:nvPr/>
          </p:nvSpPr>
          <p:spPr>
            <a:xfrm>
              <a:off x="488268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494172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499932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505692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511632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517428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523188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528948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534852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540648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546408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552168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558108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563868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569628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575388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581328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587124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592884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598788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604548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610308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616104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622044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627804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633564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639360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645264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651024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656784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662580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668484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p:nvPr/>
          </p:nvSpPr>
          <p:spPr>
            <a:xfrm>
              <a:off x="674244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
            <p:cNvSpPr/>
            <p:nvPr/>
          </p:nvSpPr>
          <p:spPr>
            <a:xfrm>
              <a:off x="680004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685944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69174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
            <p:cNvSpPr/>
            <p:nvPr/>
          </p:nvSpPr>
          <p:spPr>
            <a:xfrm>
              <a:off x="69750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
            <p:cNvSpPr/>
            <p:nvPr/>
          </p:nvSpPr>
          <p:spPr>
            <a:xfrm>
              <a:off x="703260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
            <p:cNvSpPr/>
            <p:nvPr/>
          </p:nvSpPr>
          <p:spPr>
            <a:xfrm>
              <a:off x="709164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
            <p:cNvSpPr/>
            <p:nvPr/>
          </p:nvSpPr>
          <p:spPr>
            <a:xfrm>
              <a:off x="71496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a:off x="72072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
            <p:cNvSpPr/>
            <p:nvPr/>
          </p:nvSpPr>
          <p:spPr>
            <a:xfrm>
              <a:off x="726480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
            <p:cNvSpPr/>
            <p:nvPr/>
          </p:nvSpPr>
          <p:spPr>
            <a:xfrm>
              <a:off x="732420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a:off x="73818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
            <p:cNvSpPr/>
            <p:nvPr/>
          </p:nvSpPr>
          <p:spPr>
            <a:xfrm>
              <a:off x="74394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749700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9" name=""/>
            <p:cNvSpPr/>
            <p:nvPr/>
          </p:nvSpPr>
          <p:spPr>
            <a:xfrm>
              <a:off x="75564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7614000" y="2160720"/>
              <a:ext cx="5760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a:off x="7671960" y="2160720"/>
              <a:ext cx="590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77310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3" name=""/>
            <p:cNvSpPr/>
            <p:nvPr/>
          </p:nvSpPr>
          <p:spPr>
            <a:xfrm>
              <a:off x="7788600" y="2160720"/>
              <a:ext cx="5724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7846200" y="2160720"/>
              <a:ext cx="27360" cy="250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1836720" y="1909800"/>
              <a:ext cx="284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186516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192312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198072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203832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09772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215532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22132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227088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232992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238752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a:off x="24454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a:off x="250308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p:nvPr/>
          </p:nvSpPr>
          <p:spPr>
            <a:xfrm>
              <a:off x="25624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262008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
            <p:cNvSpPr/>
            <p:nvPr/>
          </p:nvSpPr>
          <p:spPr>
            <a:xfrm>
              <a:off x="267768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1" name=""/>
            <p:cNvSpPr/>
            <p:nvPr/>
          </p:nvSpPr>
          <p:spPr>
            <a:xfrm>
              <a:off x="27370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a:off x="27946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285228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
            <p:cNvSpPr/>
            <p:nvPr/>
          </p:nvSpPr>
          <p:spPr>
            <a:xfrm>
              <a:off x="291024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
            <p:cNvSpPr/>
            <p:nvPr/>
          </p:nvSpPr>
          <p:spPr>
            <a:xfrm>
              <a:off x="29692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a:off x="30268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
            <p:cNvSpPr/>
            <p:nvPr/>
          </p:nvSpPr>
          <p:spPr>
            <a:xfrm>
              <a:off x="308448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8" name=""/>
            <p:cNvSpPr/>
            <p:nvPr/>
          </p:nvSpPr>
          <p:spPr>
            <a:xfrm>
              <a:off x="314244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
            <p:cNvSpPr/>
            <p:nvPr/>
          </p:nvSpPr>
          <p:spPr>
            <a:xfrm>
              <a:off x="32018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
            <p:cNvSpPr/>
            <p:nvPr/>
          </p:nvSpPr>
          <p:spPr>
            <a:xfrm>
              <a:off x="32594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
            <p:cNvSpPr/>
            <p:nvPr/>
          </p:nvSpPr>
          <p:spPr>
            <a:xfrm>
              <a:off x="331704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a:off x="337464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
            <p:cNvSpPr/>
            <p:nvPr/>
          </p:nvSpPr>
          <p:spPr>
            <a:xfrm>
              <a:off x="34340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34916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
            <p:cNvSpPr/>
            <p:nvPr/>
          </p:nvSpPr>
          <p:spPr>
            <a:xfrm>
              <a:off x="354924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
            <p:cNvSpPr/>
            <p:nvPr/>
          </p:nvSpPr>
          <p:spPr>
            <a:xfrm>
              <a:off x="36082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a:off x="366588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7238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9" name=""/>
            <p:cNvSpPr/>
            <p:nvPr/>
          </p:nvSpPr>
          <p:spPr>
            <a:xfrm>
              <a:off x="378144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a:off x="38408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a:off x="389844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39564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401400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40730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413064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41886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424620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3056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
            <p:cNvSpPr/>
            <p:nvPr/>
          </p:nvSpPr>
          <p:spPr>
            <a:xfrm>
              <a:off x="436284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0" name=""/>
            <p:cNvSpPr/>
            <p:nvPr/>
          </p:nvSpPr>
          <p:spPr>
            <a:xfrm>
              <a:off x="442080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a:off x="44802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45378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
            <p:cNvSpPr/>
            <p:nvPr/>
          </p:nvSpPr>
          <p:spPr>
            <a:xfrm>
              <a:off x="459540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
            <p:cNvSpPr/>
            <p:nvPr/>
          </p:nvSpPr>
          <p:spPr>
            <a:xfrm>
              <a:off x="465336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a:off x="47124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
            <p:cNvSpPr/>
            <p:nvPr/>
          </p:nvSpPr>
          <p:spPr>
            <a:xfrm>
              <a:off x="47700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
            <p:cNvSpPr/>
            <p:nvPr/>
          </p:nvSpPr>
          <p:spPr>
            <a:xfrm>
              <a:off x="4827600" y="1909800"/>
              <a:ext cx="5472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a:off x="488268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494172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499932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505692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2" name=""/>
            <p:cNvSpPr/>
            <p:nvPr/>
          </p:nvSpPr>
          <p:spPr>
            <a:xfrm>
              <a:off x="511632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51742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52318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528948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534852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54064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54640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552168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558108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56386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56962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575388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581328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58712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592884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59878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604548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610308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616104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62204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62780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633564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639360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64526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65102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56784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62580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6848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74244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680004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685944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69174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69750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703260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709164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71496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72072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726480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732420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73818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74394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749700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75564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7614000" y="190980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7671960" y="190980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77310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7788600" y="190980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7846200" y="1909800"/>
              <a:ext cx="2736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1836720" y="1658880"/>
              <a:ext cx="284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1865160" y="165888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192312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198072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2038320" y="165888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209772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155320" y="165888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21328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270880" y="165888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232992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2387520" y="165888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44548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503080" y="165888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56248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2620080" y="165888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2677680" y="165888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273708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279468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2852280" y="165888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2910240" y="165888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296928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302688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084480" y="1658880"/>
              <a:ext cx="5760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3142440" y="1658880"/>
              <a:ext cx="590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3201840" y="1658880"/>
              <a:ext cx="57240" cy="250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55" name=""/>
          <p:cNvGrpSpPr/>
          <p:nvPr/>
        </p:nvGrpSpPr>
        <p:grpSpPr>
          <a:xfrm>
            <a:off x="1836720" y="1282680"/>
            <a:ext cx="6036840" cy="626760"/>
            <a:chOff x="1836720" y="1282680"/>
            <a:chExt cx="6036840" cy="626760"/>
          </a:xfrm>
        </p:grpSpPr>
        <p:sp>
          <p:nvSpPr>
            <p:cNvPr id="1756" name=""/>
            <p:cNvSpPr/>
            <p:nvPr/>
          </p:nvSpPr>
          <p:spPr>
            <a:xfrm>
              <a:off x="32594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331704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337464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34340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34916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54924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60828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366588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37238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378144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38408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389844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39564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01400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0730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3064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886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24620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3056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436284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442080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44802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45378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459540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465336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7124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7700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4827600" y="1658160"/>
              <a:ext cx="5472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488268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494172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499932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505692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511632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517428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523188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
            <p:cNvSpPr/>
            <p:nvPr/>
          </p:nvSpPr>
          <p:spPr>
            <a:xfrm>
              <a:off x="528948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534852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a:off x="540648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a:off x="546408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552168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6" name=""/>
            <p:cNvSpPr/>
            <p:nvPr/>
          </p:nvSpPr>
          <p:spPr>
            <a:xfrm>
              <a:off x="558108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7" name=""/>
            <p:cNvSpPr/>
            <p:nvPr/>
          </p:nvSpPr>
          <p:spPr>
            <a:xfrm>
              <a:off x="563868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8" name=""/>
            <p:cNvSpPr/>
            <p:nvPr/>
          </p:nvSpPr>
          <p:spPr>
            <a:xfrm>
              <a:off x="569628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9" name=""/>
            <p:cNvSpPr/>
            <p:nvPr/>
          </p:nvSpPr>
          <p:spPr>
            <a:xfrm>
              <a:off x="575388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0" name=""/>
            <p:cNvSpPr/>
            <p:nvPr/>
          </p:nvSpPr>
          <p:spPr>
            <a:xfrm>
              <a:off x="581328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1" name=""/>
            <p:cNvSpPr/>
            <p:nvPr/>
          </p:nvSpPr>
          <p:spPr>
            <a:xfrm>
              <a:off x="58712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592884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598788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604548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610308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16104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2204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2780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33564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39360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64526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65102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656784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662580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66848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674244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680004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685944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69174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69750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703260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709164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71496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72072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726480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732420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73818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74394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749700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75564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7614000" y="1658160"/>
              <a:ext cx="5760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7671960" y="1658160"/>
              <a:ext cx="590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77310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7788600" y="1658160"/>
              <a:ext cx="5724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7846200" y="1658160"/>
              <a:ext cx="27360" cy="251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836720" y="1407960"/>
              <a:ext cx="284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86516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92312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98072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203832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209772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215532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22132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227088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232992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8752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4454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50308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5624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62008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267768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27370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27946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85228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91024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9692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30268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308448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314244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32018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32594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331704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337464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34340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34916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354924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36082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366588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37238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378144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38408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389844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39564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01400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0730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413064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41886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424620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43056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436284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42080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4802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45378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459540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65336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7124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7700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827600" y="1407960"/>
              <a:ext cx="5472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88268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94172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99932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505692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11632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1742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2318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28948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34852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4064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54640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552168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58108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6386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56962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575388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581328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58712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592884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59878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604548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610308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616104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2204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2780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33564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a:off x="639360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a:off x="64526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65102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p:nvPr/>
          </p:nvSpPr>
          <p:spPr>
            <a:xfrm>
              <a:off x="656784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9" name=""/>
            <p:cNvSpPr/>
            <p:nvPr/>
          </p:nvSpPr>
          <p:spPr>
            <a:xfrm>
              <a:off x="662580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0" name=""/>
            <p:cNvSpPr/>
            <p:nvPr/>
          </p:nvSpPr>
          <p:spPr>
            <a:xfrm>
              <a:off x="66848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1" name=""/>
            <p:cNvSpPr/>
            <p:nvPr/>
          </p:nvSpPr>
          <p:spPr>
            <a:xfrm>
              <a:off x="674244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680004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685944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69174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69750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703260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709164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71496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72072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726480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732420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73818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74394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749700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75564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7614000" y="1407960"/>
              <a:ext cx="5760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7671960" y="1407960"/>
              <a:ext cx="590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77310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7788600" y="1407960"/>
              <a:ext cx="5724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7846200" y="1407960"/>
              <a:ext cx="27360" cy="25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1836720" y="1282680"/>
              <a:ext cx="284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1865160" y="1282680"/>
              <a:ext cx="5760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192312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198072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2038320" y="1282680"/>
              <a:ext cx="590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209772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2155320" y="1282680"/>
              <a:ext cx="5760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221328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2270880" y="1282680"/>
              <a:ext cx="590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232992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2387520" y="1282680"/>
              <a:ext cx="5760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244548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2503080" y="1282680"/>
              <a:ext cx="590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256248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2620080" y="1282680"/>
              <a:ext cx="5760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6" name=""/>
          <p:cNvSpPr/>
          <p:nvPr/>
        </p:nvSpPr>
        <p:spPr>
          <a:xfrm>
            <a:off x="267804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273672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279396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28526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290988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296856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30272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308448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3141720" y="1282680"/>
            <a:ext cx="6012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32018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325908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331632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337500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343368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349092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354960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360828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366552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372420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378144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384012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389880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39560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013280" y="1282680"/>
            <a:ext cx="6012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407340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41306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418788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424656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43052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436248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442116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44798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453708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459576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465300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71168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77036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827600" y="1282680"/>
            <a:ext cx="554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88304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94172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99896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5057640" y="1282680"/>
            <a:ext cx="590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5116680" y="1282680"/>
            <a:ext cx="568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517356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52322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528948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5348160" y="1282680"/>
            <a:ext cx="590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5407200" y="1282680"/>
            <a:ext cx="568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546408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5521320" y="1282680"/>
            <a:ext cx="604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5581800" y="1282680"/>
            <a:ext cx="568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563868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569592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575460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581328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587052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592920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598788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604512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610380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616104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621972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627840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63356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6392880" y="1282680"/>
            <a:ext cx="604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6453360" y="1282680"/>
            <a:ext cx="568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65102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656748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62616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6848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74208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0076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944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91668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697536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703260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709128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714996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720720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7264440" y="1282680"/>
            <a:ext cx="6012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732456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7" name=""/>
          <p:cNvSpPr/>
          <p:nvPr/>
        </p:nvSpPr>
        <p:spPr>
          <a:xfrm>
            <a:off x="7381800" y="1282680"/>
            <a:ext cx="5724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8" name=""/>
          <p:cNvSpPr/>
          <p:nvPr/>
        </p:nvSpPr>
        <p:spPr>
          <a:xfrm>
            <a:off x="743904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
          <p:cNvSpPr/>
          <p:nvPr/>
        </p:nvSpPr>
        <p:spPr>
          <a:xfrm>
            <a:off x="7497720" y="1282680"/>
            <a:ext cx="58680" cy="12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
          <p:cNvSpPr/>
          <p:nvPr/>
        </p:nvSpPr>
        <p:spPr>
          <a:xfrm>
            <a:off x="7556400" y="1282680"/>
            <a:ext cx="57240" cy="12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1" name=""/>
          <p:cNvSpPr/>
          <p:nvPr/>
        </p:nvSpPr>
        <p:spPr>
          <a:xfrm>
            <a:off x="7613640" y="1282680"/>
            <a:ext cx="58680" cy="12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2" name=""/>
          <p:cNvSpPr/>
          <p:nvPr/>
        </p:nvSpPr>
        <p:spPr>
          <a:xfrm>
            <a:off x="7672320" y="1282680"/>
            <a:ext cx="58680" cy="12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3" name=""/>
          <p:cNvSpPr/>
          <p:nvPr/>
        </p:nvSpPr>
        <p:spPr>
          <a:xfrm>
            <a:off x="7731000" y="1282680"/>
            <a:ext cx="57240" cy="12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4" name=""/>
          <p:cNvSpPr/>
          <p:nvPr/>
        </p:nvSpPr>
        <p:spPr>
          <a:xfrm>
            <a:off x="7788240" y="1282680"/>
            <a:ext cx="58680" cy="12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5" name=""/>
          <p:cNvSpPr/>
          <p:nvPr/>
        </p:nvSpPr>
        <p:spPr>
          <a:xfrm>
            <a:off x="7846920" y="1282680"/>
            <a:ext cx="27000" cy="12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6" name=""/>
          <p:cNvSpPr/>
          <p:nvPr/>
        </p:nvSpPr>
        <p:spPr>
          <a:xfrm>
            <a:off x="1836720" y="1282680"/>
            <a:ext cx="6037200" cy="4267080"/>
          </a:xfrm>
          <a:custGeom>
            <a:avLst/>
            <a:gdLst/>
            <a:ahLst/>
            <a:rect l="l" t="t" r="r" b="b"/>
            <a:pathLst>
              <a:path w="4184" h="3226">
                <a:moveTo>
                  <a:pt x="0" y="3226"/>
                </a:moveTo>
                <a:lnTo>
                  <a:pt x="0" y="3226"/>
                </a:lnTo>
                <a:lnTo>
                  <a:pt x="41" y="3226"/>
                </a:lnTo>
                <a:lnTo>
                  <a:pt x="81" y="3226"/>
                </a:lnTo>
                <a:lnTo>
                  <a:pt x="121" y="3226"/>
                </a:lnTo>
                <a:lnTo>
                  <a:pt x="161" y="3226"/>
                </a:lnTo>
                <a:lnTo>
                  <a:pt x="202" y="3226"/>
                </a:lnTo>
                <a:lnTo>
                  <a:pt x="242" y="3226"/>
                </a:lnTo>
                <a:lnTo>
                  <a:pt x="282" y="3226"/>
                </a:lnTo>
                <a:lnTo>
                  <a:pt x="322" y="3226"/>
                </a:lnTo>
                <a:lnTo>
                  <a:pt x="363" y="3226"/>
                </a:lnTo>
                <a:lnTo>
                  <a:pt x="403" y="3226"/>
                </a:lnTo>
                <a:lnTo>
                  <a:pt x="443" y="3226"/>
                </a:lnTo>
                <a:lnTo>
                  <a:pt x="484" y="3226"/>
                </a:lnTo>
                <a:lnTo>
                  <a:pt x="524" y="3226"/>
                </a:lnTo>
                <a:lnTo>
                  <a:pt x="564" y="3226"/>
                </a:lnTo>
                <a:lnTo>
                  <a:pt x="604" y="3226"/>
                </a:lnTo>
                <a:lnTo>
                  <a:pt x="645" y="3226"/>
                </a:lnTo>
                <a:lnTo>
                  <a:pt x="685" y="3226"/>
                </a:lnTo>
                <a:lnTo>
                  <a:pt x="725" y="3226"/>
                </a:lnTo>
                <a:lnTo>
                  <a:pt x="765" y="3226"/>
                </a:lnTo>
                <a:lnTo>
                  <a:pt x="806" y="3226"/>
                </a:lnTo>
                <a:lnTo>
                  <a:pt x="846" y="3226"/>
                </a:lnTo>
                <a:lnTo>
                  <a:pt x="886" y="3226"/>
                </a:lnTo>
                <a:lnTo>
                  <a:pt x="926" y="3226"/>
                </a:lnTo>
                <a:lnTo>
                  <a:pt x="967" y="3226"/>
                </a:lnTo>
                <a:lnTo>
                  <a:pt x="1007" y="3226"/>
                </a:lnTo>
                <a:lnTo>
                  <a:pt x="1045" y="3226"/>
                </a:lnTo>
                <a:lnTo>
                  <a:pt x="1086" y="3226"/>
                </a:lnTo>
                <a:lnTo>
                  <a:pt x="1126" y="3226"/>
                </a:lnTo>
                <a:lnTo>
                  <a:pt x="1166" y="3226"/>
                </a:lnTo>
                <a:lnTo>
                  <a:pt x="1206" y="3226"/>
                </a:lnTo>
                <a:lnTo>
                  <a:pt x="1247" y="3226"/>
                </a:lnTo>
                <a:lnTo>
                  <a:pt x="1287" y="3226"/>
                </a:lnTo>
                <a:lnTo>
                  <a:pt x="1327" y="3226"/>
                </a:lnTo>
                <a:lnTo>
                  <a:pt x="1367" y="3226"/>
                </a:lnTo>
                <a:lnTo>
                  <a:pt x="1408" y="3226"/>
                </a:lnTo>
                <a:lnTo>
                  <a:pt x="1448" y="3226"/>
                </a:lnTo>
                <a:lnTo>
                  <a:pt x="1488" y="3226"/>
                </a:lnTo>
                <a:lnTo>
                  <a:pt x="1529" y="3226"/>
                </a:lnTo>
                <a:lnTo>
                  <a:pt x="1569" y="3226"/>
                </a:lnTo>
                <a:lnTo>
                  <a:pt x="1609" y="3226"/>
                </a:lnTo>
                <a:lnTo>
                  <a:pt x="1649" y="3226"/>
                </a:lnTo>
                <a:lnTo>
                  <a:pt x="1690" y="3226"/>
                </a:lnTo>
                <a:lnTo>
                  <a:pt x="1730" y="3226"/>
                </a:lnTo>
                <a:lnTo>
                  <a:pt x="1770" y="3226"/>
                </a:lnTo>
                <a:lnTo>
                  <a:pt x="1810" y="3226"/>
                </a:lnTo>
                <a:lnTo>
                  <a:pt x="1851" y="3226"/>
                </a:lnTo>
                <a:lnTo>
                  <a:pt x="1891" y="3226"/>
                </a:lnTo>
                <a:lnTo>
                  <a:pt x="1931" y="3226"/>
                </a:lnTo>
                <a:lnTo>
                  <a:pt x="1971" y="3226"/>
                </a:lnTo>
                <a:lnTo>
                  <a:pt x="2012" y="3226"/>
                </a:lnTo>
                <a:lnTo>
                  <a:pt x="2052" y="3226"/>
                </a:lnTo>
                <a:lnTo>
                  <a:pt x="2092" y="3226"/>
                </a:lnTo>
                <a:lnTo>
                  <a:pt x="2133" y="3226"/>
                </a:lnTo>
                <a:lnTo>
                  <a:pt x="2173" y="3226"/>
                </a:lnTo>
                <a:lnTo>
                  <a:pt x="2213" y="3226"/>
                </a:lnTo>
                <a:lnTo>
                  <a:pt x="2253" y="3226"/>
                </a:lnTo>
                <a:lnTo>
                  <a:pt x="2294" y="3226"/>
                </a:lnTo>
                <a:lnTo>
                  <a:pt x="2334" y="3226"/>
                </a:lnTo>
                <a:lnTo>
                  <a:pt x="2374" y="3226"/>
                </a:lnTo>
                <a:lnTo>
                  <a:pt x="2414" y="3226"/>
                </a:lnTo>
                <a:lnTo>
                  <a:pt x="2455" y="3226"/>
                </a:lnTo>
                <a:lnTo>
                  <a:pt x="2495" y="3226"/>
                </a:lnTo>
                <a:lnTo>
                  <a:pt x="2535" y="3226"/>
                </a:lnTo>
                <a:lnTo>
                  <a:pt x="2575" y="3226"/>
                </a:lnTo>
                <a:lnTo>
                  <a:pt x="2616" y="3226"/>
                </a:lnTo>
                <a:lnTo>
                  <a:pt x="2656" y="3226"/>
                </a:lnTo>
                <a:lnTo>
                  <a:pt x="2696" y="3226"/>
                </a:lnTo>
                <a:lnTo>
                  <a:pt x="2737" y="3226"/>
                </a:lnTo>
                <a:lnTo>
                  <a:pt x="2777" y="3226"/>
                </a:lnTo>
                <a:lnTo>
                  <a:pt x="2817" y="3226"/>
                </a:lnTo>
                <a:lnTo>
                  <a:pt x="2857" y="3226"/>
                </a:lnTo>
                <a:lnTo>
                  <a:pt x="2898" y="3226"/>
                </a:lnTo>
                <a:lnTo>
                  <a:pt x="2938" y="3226"/>
                </a:lnTo>
                <a:lnTo>
                  <a:pt x="2978" y="3226"/>
                </a:lnTo>
                <a:lnTo>
                  <a:pt x="3018" y="3226"/>
                </a:lnTo>
                <a:lnTo>
                  <a:pt x="3059" y="3226"/>
                </a:lnTo>
                <a:lnTo>
                  <a:pt x="3099" y="3226"/>
                </a:lnTo>
                <a:lnTo>
                  <a:pt x="3137" y="3226"/>
                </a:lnTo>
                <a:lnTo>
                  <a:pt x="3178" y="3226"/>
                </a:lnTo>
                <a:lnTo>
                  <a:pt x="3218" y="3226"/>
                </a:lnTo>
                <a:lnTo>
                  <a:pt x="3258" y="3226"/>
                </a:lnTo>
                <a:lnTo>
                  <a:pt x="3298" y="3226"/>
                </a:lnTo>
                <a:lnTo>
                  <a:pt x="3339" y="3226"/>
                </a:lnTo>
                <a:lnTo>
                  <a:pt x="3379" y="3226"/>
                </a:lnTo>
                <a:lnTo>
                  <a:pt x="3419" y="3226"/>
                </a:lnTo>
                <a:lnTo>
                  <a:pt x="3459" y="3226"/>
                </a:lnTo>
                <a:lnTo>
                  <a:pt x="3500" y="3226"/>
                </a:lnTo>
                <a:lnTo>
                  <a:pt x="3540" y="3226"/>
                </a:lnTo>
                <a:lnTo>
                  <a:pt x="3580" y="3226"/>
                </a:lnTo>
                <a:lnTo>
                  <a:pt x="3620" y="3226"/>
                </a:lnTo>
                <a:lnTo>
                  <a:pt x="3661" y="3226"/>
                </a:lnTo>
                <a:lnTo>
                  <a:pt x="3701" y="3226"/>
                </a:lnTo>
                <a:lnTo>
                  <a:pt x="3741" y="3226"/>
                </a:lnTo>
                <a:lnTo>
                  <a:pt x="3782" y="3226"/>
                </a:lnTo>
                <a:lnTo>
                  <a:pt x="3822" y="3226"/>
                </a:lnTo>
                <a:lnTo>
                  <a:pt x="3862" y="3226"/>
                </a:lnTo>
                <a:lnTo>
                  <a:pt x="3902" y="3226"/>
                </a:lnTo>
                <a:lnTo>
                  <a:pt x="3943" y="3226"/>
                </a:lnTo>
                <a:lnTo>
                  <a:pt x="3983" y="3226"/>
                </a:lnTo>
                <a:lnTo>
                  <a:pt x="4023" y="3226"/>
                </a:lnTo>
                <a:lnTo>
                  <a:pt x="4063" y="3226"/>
                </a:lnTo>
                <a:lnTo>
                  <a:pt x="4104" y="3226"/>
                </a:lnTo>
                <a:lnTo>
                  <a:pt x="4144" y="3226"/>
                </a:lnTo>
                <a:lnTo>
                  <a:pt x="4184" y="3226"/>
                </a:lnTo>
                <a:lnTo>
                  <a:pt x="4184" y="3226"/>
                </a:lnTo>
                <a:lnTo>
                  <a:pt x="4184" y="3036"/>
                </a:lnTo>
                <a:lnTo>
                  <a:pt x="4184" y="2846"/>
                </a:lnTo>
                <a:lnTo>
                  <a:pt x="4184" y="2657"/>
                </a:lnTo>
                <a:lnTo>
                  <a:pt x="4184" y="2467"/>
                </a:lnTo>
                <a:lnTo>
                  <a:pt x="4184" y="2277"/>
                </a:lnTo>
                <a:lnTo>
                  <a:pt x="4184" y="2087"/>
                </a:lnTo>
                <a:lnTo>
                  <a:pt x="4184" y="1897"/>
                </a:lnTo>
                <a:lnTo>
                  <a:pt x="4184" y="1708"/>
                </a:lnTo>
                <a:lnTo>
                  <a:pt x="4184" y="1518"/>
                </a:lnTo>
                <a:lnTo>
                  <a:pt x="4184" y="1328"/>
                </a:lnTo>
                <a:lnTo>
                  <a:pt x="4184" y="1138"/>
                </a:lnTo>
                <a:lnTo>
                  <a:pt x="4184" y="949"/>
                </a:lnTo>
                <a:lnTo>
                  <a:pt x="4184" y="759"/>
                </a:lnTo>
                <a:lnTo>
                  <a:pt x="4184" y="569"/>
                </a:lnTo>
                <a:lnTo>
                  <a:pt x="4184" y="379"/>
                </a:lnTo>
                <a:lnTo>
                  <a:pt x="4184" y="189"/>
                </a:lnTo>
                <a:lnTo>
                  <a:pt x="4184" y="0"/>
                </a:lnTo>
                <a:lnTo>
                  <a:pt x="4144" y="0"/>
                </a:lnTo>
                <a:lnTo>
                  <a:pt x="4104" y="0"/>
                </a:lnTo>
                <a:lnTo>
                  <a:pt x="4063" y="0"/>
                </a:lnTo>
                <a:lnTo>
                  <a:pt x="4023" y="0"/>
                </a:lnTo>
                <a:lnTo>
                  <a:pt x="3983" y="0"/>
                </a:lnTo>
                <a:lnTo>
                  <a:pt x="3943" y="0"/>
                </a:lnTo>
                <a:lnTo>
                  <a:pt x="3902" y="0"/>
                </a:lnTo>
                <a:lnTo>
                  <a:pt x="3862" y="0"/>
                </a:lnTo>
                <a:lnTo>
                  <a:pt x="3822" y="0"/>
                </a:lnTo>
                <a:lnTo>
                  <a:pt x="3782" y="0"/>
                </a:lnTo>
                <a:lnTo>
                  <a:pt x="3741" y="0"/>
                </a:lnTo>
                <a:lnTo>
                  <a:pt x="3701" y="0"/>
                </a:lnTo>
                <a:lnTo>
                  <a:pt x="3661" y="0"/>
                </a:lnTo>
                <a:lnTo>
                  <a:pt x="3620" y="0"/>
                </a:lnTo>
                <a:lnTo>
                  <a:pt x="3580" y="0"/>
                </a:lnTo>
                <a:lnTo>
                  <a:pt x="3540" y="0"/>
                </a:lnTo>
                <a:lnTo>
                  <a:pt x="3500" y="0"/>
                </a:lnTo>
                <a:lnTo>
                  <a:pt x="3459" y="0"/>
                </a:lnTo>
                <a:lnTo>
                  <a:pt x="3419" y="0"/>
                </a:lnTo>
                <a:lnTo>
                  <a:pt x="3379" y="0"/>
                </a:lnTo>
                <a:lnTo>
                  <a:pt x="3339" y="0"/>
                </a:lnTo>
                <a:lnTo>
                  <a:pt x="3298" y="0"/>
                </a:lnTo>
                <a:lnTo>
                  <a:pt x="3258" y="0"/>
                </a:lnTo>
                <a:lnTo>
                  <a:pt x="3218" y="0"/>
                </a:lnTo>
                <a:lnTo>
                  <a:pt x="3178" y="0"/>
                </a:lnTo>
                <a:lnTo>
                  <a:pt x="3137" y="0"/>
                </a:lnTo>
                <a:lnTo>
                  <a:pt x="3099" y="0"/>
                </a:lnTo>
                <a:lnTo>
                  <a:pt x="3059" y="0"/>
                </a:lnTo>
                <a:lnTo>
                  <a:pt x="3018" y="0"/>
                </a:lnTo>
                <a:lnTo>
                  <a:pt x="2978" y="0"/>
                </a:lnTo>
                <a:lnTo>
                  <a:pt x="2938" y="0"/>
                </a:lnTo>
                <a:lnTo>
                  <a:pt x="2898" y="0"/>
                </a:lnTo>
                <a:lnTo>
                  <a:pt x="2857" y="0"/>
                </a:lnTo>
                <a:lnTo>
                  <a:pt x="2817" y="0"/>
                </a:lnTo>
                <a:lnTo>
                  <a:pt x="2777" y="0"/>
                </a:lnTo>
                <a:lnTo>
                  <a:pt x="2737" y="0"/>
                </a:lnTo>
                <a:lnTo>
                  <a:pt x="2696" y="0"/>
                </a:lnTo>
                <a:lnTo>
                  <a:pt x="2656" y="0"/>
                </a:lnTo>
                <a:lnTo>
                  <a:pt x="2616" y="0"/>
                </a:lnTo>
                <a:lnTo>
                  <a:pt x="2575" y="0"/>
                </a:lnTo>
                <a:lnTo>
                  <a:pt x="2535" y="0"/>
                </a:lnTo>
                <a:lnTo>
                  <a:pt x="2495" y="0"/>
                </a:lnTo>
                <a:lnTo>
                  <a:pt x="2455" y="0"/>
                </a:lnTo>
                <a:lnTo>
                  <a:pt x="2414" y="0"/>
                </a:lnTo>
                <a:lnTo>
                  <a:pt x="2374" y="0"/>
                </a:lnTo>
                <a:lnTo>
                  <a:pt x="2334" y="0"/>
                </a:lnTo>
                <a:lnTo>
                  <a:pt x="2294" y="0"/>
                </a:lnTo>
                <a:lnTo>
                  <a:pt x="2253" y="0"/>
                </a:lnTo>
                <a:lnTo>
                  <a:pt x="2213" y="0"/>
                </a:lnTo>
                <a:lnTo>
                  <a:pt x="2173" y="0"/>
                </a:lnTo>
                <a:lnTo>
                  <a:pt x="2133" y="0"/>
                </a:lnTo>
                <a:lnTo>
                  <a:pt x="2092" y="0"/>
                </a:lnTo>
                <a:lnTo>
                  <a:pt x="2052" y="0"/>
                </a:lnTo>
                <a:lnTo>
                  <a:pt x="2012" y="0"/>
                </a:lnTo>
                <a:lnTo>
                  <a:pt x="1971" y="0"/>
                </a:lnTo>
                <a:lnTo>
                  <a:pt x="1931" y="0"/>
                </a:lnTo>
                <a:lnTo>
                  <a:pt x="1891" y="0"/>
                </a:lnTo>
                <a:lnTo>
                  <a:pt x="1851" y="0"/>
                </a:lnTo>
                <a:lnTo>
                  <a:pt x="1810" y="0"/>
                </a:lnTo>
                <a:lnTo>
                  <a:pt x="1770" y="0"/>
                </a:lnTo>
                <a:lnTo>
                  <a:pt x="1730" y="0"/>
                </a:lnTo>
                <a:lnTo>
                  <a:pt x="1690" y="0"/>
                </a:lnTo>
                <a:lnTo>
                  <a:pt x="1649" y="0"/>
                </a:lnTo>
                <a:lnTo>
                  <a:pt x="1609" y="0"/>
                </a:lnTo>
                <a:lnTo>
                  <a:pt x="1569" y="0"/>
                </a:lnTo>
                <a:lnTo>
                  <a:pt x="1529" y="0"/>
                </a:lnTo>
                <a:lnTo>
                  <a:pt x="1488" y="0"/>
                </a:lnTo>
                <a:lnTo>
                  <a:pt x="1448" y="0"/>
                </a:lnTo>
                <a:lnTo>
                  <a:pt x="1408" y="0"/>
                </a:lnTo>
                <a:lnTo>
                  <a:pt x="1367" y="0"/>
                </a:lnTo>
                <a:lnTo>
                  <a:pt x="1327" y="0"/>
                </a:lnTo>
                <a:lnTo>
                  <a:pt x="1287" y="0"/>
                </a:lnTo>
                <a:lnTo>
                  <a:pt x="1247" y="0"/>
                </a:lnTo>
                <a:lnTo>
                  <a:pt x="1206" y="0"/>
                </a:lnTo>
                <a:lnTo>
                  <a:pt x="1166" y="0"/>
                </a:lnTo>
                <a:lnTo>
                  <a:pt x="1126" y="0"/>
                </a:lnTo>
                <a:lnTo>
                  <a:pt x="1086" y="0"/>
                </a:lnTo>
                <a:lnTo>
                  <a:pt x="1045" y="0"/>
                </a:lnTo>
                <a:lnTo>
                  <a:pt x="1007" y="0"/>
                </a:lnTo>
                <a:lnTo>
                  <a:pt x="967" y="0"/>
                </a:lnTo>
                <a:lnTo>
                  <a:pt x="926" y="0"/>
                </a:lnTo>
                <a:lnTo>
                  <a:pt x="886" y="0"/>
                </a:lnTo>
                <a:lnTo>
                  <a:pt x="846" y="0"/>
                </a:lnTo>
                <a:lnTo>
                  <a:pt x="806" y="0"/>
                </a:lnTo>
                <a:lnTo>
                  <a:pt x="765" y="0"/>
                </a:lnTo>
                <a:lnTo>
                  <a:pt x="725" y="0"/>
                </a:lnTo>
                <a:lnTo>
                  <a:pt x="685" y="0"/>
                </a:lnTo>
                <a:lnTo>
                  <a:pt x="645" y="0"/>
                </a:lnTo>
                <a:lnTo>
                  <a:pt x="604" y="0"/>
                </a:lnTo>
                <a:lnTo>
                  <a:pt x="564" y="0"/>
                </a:lnTo>
                <a:lnTo>
                  <a:pt x="524" y="0"/>
                </a:lnTo>
                <a:lnTo>
                  <a:pt x="484" y="0"/>
                </a:lnTo>
                <a:lnTo>
                  <a:pt x="443" y="0"/>
                </a:lnTo>
                <a:lnTo>
                  <a:pt x="403" y="0"/>
                </a:lnTo>
                <a:lnTo>
                  <a:pt x="363" y="0"/>
                </a:lnTo>
                <a:lnTo>
                  <a:pt x="322" y="0"/>
                </a:lnTo>
                <a:lnTo>
                  <a:pt x="282" y="0"/>
                </a:lnTo>
                <a:lnTo>
                  <a:pt x="242" y="0"/>
                </a:lnTo>
                <a:lnTo>
                  <a:pt x="202" y="0"/>
                </a:lnTo>
                <a:lnTo>
                  <a:pt x="161" y="0"/>
                </a:lnTo>
                <a:lnTo>
                  <a:pt x="121" y="0"/>
                </a:lnTo>
                <a:lnTo>
                  <a:pt x="81" y="0"/>
                </a:lnTo>
                <a:lnTo>
                  <a:pt x="41" y="0"/>
                </a:lnTo>
                <a:lnTo>
                  <a:pt x="0" y="0"/>
                </a:lnTo>
                <a:lnTo>
                  <a:pt x="0" y="0"/>
                </a:lnTo>
                <a:lnTo>
                  <a:pt x="0" y="189"/>
                </a:lnTo>
                <a:lnTo>
                  <a:pt x="0" y="379"/>
                </a:lnTo>
                <a:lnTo>
                  <a:pt x="0" y="569"/>
                </a:lnTo>
                <a:lnTo>
                  <a:pt x="0" y="759"/>
                </a:lnTo>
                <a:lnTo>
                  <a:pt x="0" y="949"/>
                </a:lnTo>
                <a:lnTo>
                  <a:pt x="0" y="1138"/>
                </a:lnTo>
                <a:lnTo>
                  <a:pt x="0" y="1328"/>
                </a:lnTo>
                <a:lnTo>
                  <a:pt x="0" y="1518"/>
                </a:lnTo>
                <a:lnTo>
                  <a:pt x="0" y="1708"/>
                </a:lnTo>
                <a:lnTo>
                  <a:pt x="0" y="1897"/>
                </a:lnTo>
                <a:lnTo>
                  <a:pt x="0" y="2087"/>
                </a:lnTo>
                <a:lnTo>
                  <a:pt x="0" y="2277"/>
                </a:lnTo>
                <a:lnTo>
                  <a:pt x="0" y="2467"/>
                </a:lnTo>
                <a:lnTo>
                  <a:pt x="0" y="2657"/>
                </a:lnTo>
                <a:lnTo>
                  <a:pt x="0" y="2846"/>
                </a:lnTo>
                <a:lnTo>
                  <a:pt x="0" y="3036"/>
                </a:lnTo>
                <a:lnTo>
                  <a:pt x="0" y="3226"/>
                </a:lnTo>
                <a:lnTo>
                  <a:pt x="0" y="3226"/>
                </a:lnTo>
                <a:close/>
              </a:path>
            </a:pathLst>
          </a:custGeom>
          <a:solidFill>
            <a:srgbClr val="00ff4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7" name=""/>
          <p:cNvSpPr/>
          <p:nvPr/>
        </p:nvSpPr>
        <p:spPr>
          <a:xfrm>
            <a:off x="1836720" y="1282680"/>
            <a:ext cx="6037200" cy="4267080"/>
          </a:xfrm>
          <a:custGeom>
            <a:avLst/>
            <a:gdLst/>
            <a:ahLst/>
            <a:rect l="l" t="t" r="r" b="b"/>
            <a:pathLst>
              <a:path w="4184" h="3226">
                <a:moveTo>
                  <a:pt x="0" y="2658"/>
                </a:moveTo>
                <a:lnTo>
                  <a:pt x="41" y="2687"/>
                </a:lnTo>
                <a:lnTo>
                  <a:pt x="81" y="2710"/>
                </a:lnTo>
                <a:lnTo>
                  <a:pt x="121" y="2732"/>
                </a:lnTo>
                <a:lnTo>
                  <a:pt x="161" y="2755"/>
                </a:lnTo>
                <a:lnTo>
                  <a:pt x="202" y="2776"/>
                </a:lnTo>
                <a:lnTo>
                  <a:pt x="242" y="2797"/>
                </a:lnTo>
                <a:lnTo>
                  <a:pt x="282" y="2818"/>
                </a:lnTo>
                <a:lnTo>
                  <a:pt x="322" y="2837"/>
                </a:lnTo>
                <a:lnTo>
                  <a:pt x="342" y="2846"/>
                </a:lnTo>
                <a:lnTo>
                  <a:pt x="363" y="2860"/>
                </a:lnTo>
                <a:lnTo>
                  <a:pt x="403" y="2886"/>
                </a:lnTo>
                <a:lnTo>
                  <a:pt x="443" y="2909"/>
                </a:lnTo>
                <a:lnTo>
                  <a:pt x="484" y="2932"/>
                </a:lnTo>
                <a:lnTo>
                  <a:pt x="524" y="2954"/>
                </a:lnTo>
                <a:lnTo>
                  <a:pt x="564" y="2975"/>
                </a:lnTo>
                <a:lnTo>
                  <a:pt x="604" y="2996"/>
                </a:lnTo>
                <a:lnTo>
                  <a:pt x="645" y="3017"/>
                </a:lnTo>
                <a:lnTo>
                  <a:pt x="685" y="3034"/>
                </a:lnTo>
                <a:lnTo>
                  <a:pt x="689" y="3036"/>
                </a:lnTo>
                <a:lnTo>
                  <a:pt x="725" y="3061"/>
                </a:lnTo>
                <a:lnTo>
                  <a:pt x="765" y="3084"/>
                </a:lnTo>
                <a:lnTo>
                  <a:pt x="806" y="3108"/>
                </a:lnTo>
                <a:lnTo>
                  <a:pt x="846" y="3131"/>
                </a:lnTo>
                <a:lnTo>
                  <a:pt x="886" y="3154"/>
                </a:lnTo>
                <a:lnTo>
                  <a:pt x="926" y="3175"/>
                </a:lnTo>
                <a:lnTo>
                  <a:pt x="967" y="3194"/>
                </a:lnTo>
                <a:lnTo>
                  <a:pt x="1007" y="3213"/>
                </a:lnTo>
                <a:lnTo>
                  <a:pt x="1034" y="3226"/>
                </a:lnTo>
                <a:lnTo>
                  <a:pt x="1045" y="3226"/>
                </a:lnTo>
                <a:lnTo>
                  <a:pt x="1086" y="3226"/>
                </a:lnTo>
                <a:lnTo>
                  <a:pt x="1126" y="3226"/>
                </a:lnTo>
                <a:lnTo>
                  <a:pt x="1166" y="3226"/>
                </a:lnTo>
                <a:lnTo>
                  <a:pt x="1206" y="3226"/>
                </a:lnTo>
                <a:lnTo>
                  <a:pt x="1247" y="3226"/>
                </a:lnTo>
                <a:lnTo>
                  <a:pt x="1287" y="3226"/>
                </a:lnTo>
                <a:lnTo>
                  <a:pt x="1327" y="3226"/>
                </a:lnTo>
                <a:lnTo>
                  <a:pt x="1367" y="3226"/>
                </a:lnTo>
                <a:lnTo>
                  <a:pt x="1408" y="3226"/>
                </a:lnTo>
                <a:lnTo>
                  <a:pt x="1448" y="3226"/>
                </a:lnTo>
                <a:lnTo>
                  <a:pt x="1488" y="3226"/>
                </a:lnTo>
                <a:lnTo>
                  <a:pt x="1529" y="3226"/>
                </a:lnTo>
                <a:lnTo>
                  <a:pt x="1569" y="3226"/>
                </a:lnTo>
                <a:lnTo>
                  <a:pt x="1609" y="3226"/>
                </a:lnTo>
                <a:lnTo>
                  <a:pt x="1649" y="3226"/>
                </a:lnTo>
                <a:lnTo>
                  <a:pt x="1690" y="3226"/>
                </a:lnTo>
                <a:lnTo>
                  <a:pt x="1730" y="3226"/>
                </a:lnTo>
                <a:lnTo>
                  <a:pt x="1770" y="3226"/>
                </a:lnTo>
                <a:lnTo>
                  <a:pt x="1810" y="3226"/>
                </a:lnTo>
                <a:lnTo>
                  <a:pt x="1851" y="3226"/>
                </a:lnTo>
                <a:lnTo>
                  <a:pt x="1891" y="3226"/>
                </a:lnTo>
                <a:lnTo>
                  <a:pt x="1931" y="3226"/>
                </a:lnTo>
                <a:lnTo>
                  <a:pt x="1971" y="3226"/>
                </a:lnTo>
                <a:lnTo>
                  <a:pt x="2012" y="3226"/>
                </a:lnTo>
                <a:lnTo>
                  <a:pt x="2052" y="3226"/>
                </a:lnTo>
                <a:lnTo>
                  <a:pt x="2092" y="3226"/>
                </a:lnTo>
                <a:lnTo>
                  <a:pt x="2133" y="3226"/>
                </a:lnTo>
                <a:lnTo>
                  <a:pt x="2173" y="3226"/>
                </a:lnTo>
                <a:lnTo>
                  <a:pt x="2213" y="3226"/>
                </a:lnTo>
                <a:lnTo>
                  <a:pt x="2253" y="3226"/>
                </a:lnTo>
                <a:lnTo>
                  <a:pt x="2294" y="3226"/>
                </a:lnTo>
                <a:lnTo>
                  <a:pt x="2334" y="3226"/>
                </a:lnTo>
                <a:lnTo>
                  <a:pt x="2374" y="3226"/>
                </a:lnTo>
                <a:lnTo>
                  <a:pt x="2414" y="3226"/>
                </a:lnTo>
                <a:lnTo>
                  <a:pt x="2455" y="3226"/>
                </a:lnTo>
                <a:lnTo>
                  <a:pt x="2495" y="3226"/>
                </a:lnTo>
                <a:lnTo>
                  <a:pt x="2535" y="3226"/>
                </a:lnTo>
                <a:lnTo>
                  <a:pt x="2575" y="3226"/>
                </a:lnTo>
                <a:lnTo>
                  <a:pt x="2616" y="3226"/>
                </a:lnTo>
                <a:lnTo>
                  <a:pt x="2656" y="3226"/>
                </a:lnTo>
                <a:lnTo>
                  <a:pt x="2696" y="3226"/>
                </a:lnTo>
                <a:lnTo>
                  <a:pt x="2737" y="3226"/>
                </a:lnTo>
                <a:lnTo>
                  <a:pt x="2777" y="3226"/>
                </a:lnTo>
                <a:lnTo>
                  <a:pt x="2817" y="3226"/>
                </a:lnTo>
                <a:lnTo>
                  <a:pt x="2857" y="3226"/>
                </a:lnTo>
                <a:lnTo>
                  <a:pt x="2898" y="3226"/>
                </a:lnTo>
                <a:lnTo>
                  <a:pt x="2938" y="3226"/>
                </a:lnTo>
                <a:lnTo>
                  <a:pt x="2978" y="3226"/>
                </a:lnTo>
                <a:lnTo>
                  <a:pt x="3018" y="3226"/>
                </a:lnTo>
                <a:lnTo>
                  <a:pt x="3059" y="3226"/>
                </a:lnTo>
                <a:lnTo>
                  <a:pt x="3099" y="3226"/>
                </a:lnTo>
                <a:lnTo>
                  <a:pt x="3137" y="3226"/>
                </a:lnTo>
                <a:lnTo>
                  <a:pt x="3178" y="3226"/>
                </a:lnTo>
                <a:lnTo>
                  <a:pt x="3218" y="3226"/>
                </a:lnTo>
                <a:lnTo>
                  <a:pt x="3258" y="3226"/>
                </a:lnTo>
                <a:lnTo>
                  <a:pt x="3298" y="3226"/>
                </a:lnTo>
                <a:lnTo>
                  <a:pt x="3339" y="3226"/>
                </a:lnTo>
                <a:lnTo>
                  <a:pt x="3379" y="3226"/>
                </a:lnTo>
                <a:lnTo>
                  <a:pt x="3419" y="3226"/>
                </a:lnTo>
                <a:lnTo>
                  <a:pt x="3459" y="3226"/>
                </a:lnTo>
                <a:lnTo>
                  <a:pt x="3500" y="3226"/>
                </a:lnTo>
                <a:lnTo>
                  <a:pt x="3540" y="3226"/>
                </a:lnTo>
                <a:lnTo>
                  <a:pt x="3580" y="3226"/>
                </a:lnTo>
                <a:lnTo>
                  <a:pt x="3620" y="3226"/>
                </a:lnTo>
                <a:lnTo>
                  <a:pt x="3661" y="3226"/>
                </a:lnTo>
                <a:lnTo>
                  <a:pt x="3701" y="3226"/>
                </a:lnTo>
                <a:lnTo>
                  <a:pt x="3741" y="3226"/>
                </a:lnTo>
                <a:lnTo>
                  <a:pt x="3782" y="3226"/>
                </a:lnTo>
                <a:lnTo>
                  <a:pt x="3822" y="3226"/>
                </a:lnTo>
                <a:lnTo>
                  <a:pt x="3862" y="3226"/>
                </a:lnTo>
                <a:lnTo>
                  <a:pt x="3902" y="3226"/>
                </a:lnTo>
                <a:lnTo>
                  <a:pt x="3943" y="3226"/>
                </a:lnTo>
                <a:lnTo>
                  <a:pt x="3983" y="3226"/>
                </a:lnTo>
                <a:lnTo>
                  <a:pt x="4023" y="3226"/>
                </a:lnTo>
                <a:lnTo>
                  <a:pt x="4063" y="3226"/>
                </a:lnTo>
                <a:lnTo>
                  <a:pt x="4104" y="3226"/>
                </a:lnTo>
                <a:lnTo>
                  <a:pt x="4144" y="3226"/>
                </a:lnTo>
                <a:lnTo>
                  <a:pt x="4184" y="3226"/>
                </a:lnTo>
                <a:lnTo>
                  <a:pt x="4184" y="3226"/>
                </a:lnTo>
                <a:lnTo>
                  <a:pt x="4184" y="3036"/>
                </a:lnTo>
                <a:lnTo>
                  <a:pt x="4184" y="2846"/>
                </a:lnTo>
                <a:lnTo>
                  <a:pt x="4184" y="2657"/>
                </a:lnTo>
                <a:lnTo>
                  <a:pt x="4184" y="2467"/>
                </a:lnTo>
                <a:lnTo>
                  <a:pt x="4184" y="2277"/>
                </a:lnTo>
                <a:lnTo>
                  <a:pt x="4184" y="2087"/>
                </a:lnTo>
                <a:lnTo>
                  <a:pt x="4184" y="1897"/>
                </a:lnTo>
                <a:lnTo>
                  <a:pt x="4184" y="1708"/>
                </a:lnTo>
                <a:lnTo>
                  <a:pt x="4184" y="1518"/>
                </a:lnTo>
                <a:lnTo>
                  <a:pt x="4184" y="1328"/>
                </a:lnTo>
                <a:lnTo>
                  <a:pt x="4184" y="1138"/>
                </a:lnTo>
                <a:lnTo>
                  <a:pt x="4184" y="949"/>
                </a:lnTo>
                <a:lnTo>
                  <a:pt x="4184" y="759"/>
                </a:lnTo>
                <a:lnTo>
                  <a:pt x="4184" y="569"/>
                </a:lnTo>
                <a:lnTo>
                  <a:pt x="4184" y="379"/>
                </a:lnTo>
                <a:lnTo>
                  <a:pt x="4184" y="189"/>
                </a:lnTo>
                <a:lnTo>
                  <a:pt x="4184" y="0"/>
                </a:lnTo>
                <a:lnTo>
                  <a:pt x="4144" y="0"/>
                </a:lnTo>
                <a:lnTo>
                  <a:pt x="4104" y="0"/>
                </a:lnTo>
                <a:lnTo>
                  <a:pt x="4063" y="0"/>
                </a:lnTo>
                <a:lnTo>
                  <a:pt x="4023" y="0"/>
                </a:lnTo>
                <a:lnTo>
                  <a:pt x="3983" y="0"/>
                </a:lnTo>
                <a:lnTo>
                  <a:pt x="3943" y="0"/>
                </a:lnTo>
                <a:lnTo>
                  <a:pt x="3902" y="0"/>
                </a:lnTo>
                <a:lnTo>
                  <a:pt x="3862" y="0"/>
                </a:lnTo>
                <a:lnTo>
                  <a:pt x="3822" y="0"/>
                </a:lnTo>
                <a:lnTo>
                  <a:pt x="3782" y="0"/>
                </a:lnTo>
                <a:lnTo>
                  <a:pt x="3741" y="0"/>
                </a:lnTo>
                <a:lnTo>
                  <a:pt x="3701" y="0"/>
                </a:lnTo>
                <a:lnTo>
                  <a:pt x="3661" y="0"/>
                </a:lnTo>
                <a:lnTo>
                  <a:pt x="3620" y="0"/>
                </a:lnTo>
                <a:lnTo>
                  <a:pt x="3580" y="0"/>
                </a:lnTo>
                <a:lnTo>
                  <a:pt x="3540" y="0"/>
                </a:lnTo>
                <a:lnTo>
                  <a:pt x="3500" y="0"/>
                </a:lnTo>
                <a:lnTo>
                  <a:pt x="3459" y="0"/>
                </a:lnTo>
                <a:lnTo>
                  <a:pt x="3419" y="0"/>
                </a:lnTo>
                <a:lnTo>
                  <a:pt x="3379" y="0"/>
                </a:lnTo>
                <a:lnTo>
                  <a:pt x="3339" y="0"/>
                </a:lnTo>
                <a:lnTo>
                  <a:pt x="3298" y="0"/>
                </a:lnTo>
                <a:lnTo>
                  <a:pt x="3258" y="0"/>
                </a:lnTo>
                <a:lnTo>
                  <a:pt x="3218" y="0"/>
                </a:lnTo>
                <a:lnTo>
                  <a:pt x="3178" y="0"/>
                </a:lnTo>
                <a:lnTo>
                  <a:pt x="3137" y="0"/>
                </a:lnTo>
                <a:lnTo>
                  <a:pt x="3099" y="0"/>
                </a:lnTo>
                <a:lnTo>
                  <a:pt x="3059" y="0"/>
                </a:lnTo>
                <a:lnTo>
                  <a:pt x="3018" y="0"/>
                </a:lnTo>
                <a:lnTo>
                  <a:pt x="2978" y="0"/>
                </a:lnTo>
                <a:lnTo>
                  <a:pt x="2938" y="0"/>
                </a:lnTo>
                <a:lnTo>
                  <a:pt x="2898" y="0"/>
                </a:lnTo>
                <a:lnTo>
                  <a:pt x="2857" y="0"/>
                </a:lnTo>
                <a:lnTo>
                  <a:pt x="2817" y="0"/>
                </a:lnTo>
                <a:lnTo>
                  <a:pt x="2777" y="0"/>
                </a:lnTo>
                <a:lnTo>
                  <a:pt x="2737" y="0"/>
                </a:lnTo>
                <a:lnTo>
                  <a:pt x="2696" y="0"/>
                </a:lnTo>
                <a:lnTo>
                  <a:pt x="2656" y="0"/>
                </a:lnTo>
                <a:lnTo>
                  <a:pt x="2616" y="0"/>
                </a:lnTo>
                <a:lnTo>
                  <a:pt x="2575" y="0"/>
                </a:lnTo>
                <a:lnTo>
                  <a:pt x="2535" y="0"/>
                </a:lnTo>
                <a:lnTo>
                  <a:pt x="2495" y="0"/>
                </a:lnTo>
                <a:lnTo>
                  <a:pt x="2455" y="0"/>
                </a:lnTo>
                <a:lnTo>
                  <a:pt x="2414" y="0"/>
                </a:lnTo>
                <a:lnTo>
                  <a:pt x="2374" y="0"/>
                </a:lnTo>
                <a:lnTo>
                  <a:pt x="2334" y="0"/>
                </a:lnTo>
                <a:lnTo>
                  <a:pt x="2294" y="0"/>
                </a:lnTo>
                <a:lnTo>
                  <a:pt x="2253" y="0"/>
                </a:lnTo>
                <a:lnTo>
                  <a:pt x="2213" y="0"/>
                </a:lnTo>
                <a:lnTo>
                  <a:pt x="2173" y="0"/>
                </a:lnTo>
                <a:lnTo>
                  <a:pt x="2133" y="0"/>
                </a:lnTo>
                <a:lnTo>
                  <a:pt x="2092" y="0"/>
                </a:lnTo>
                <a:lnTo>
                  <a:pt x="2052" y="0"/>
                </a:lnTo>
                <a:lnTo>
                  <a:pt x="2012" y="0"/>
                </a:lnTo>
                <a:lnTo>
                  <a:pt x="1971" y="0"/>
                </a:lnTo>
                <a:lnTo>
                  <a:pt x="1931" y="0"/>
                </a:lnTo>
                <a:lnTo>
                  <a:pt x="1891" y="0"/>
                </a:lnTo>
                <a:lnTo>
                  <a:pt x="1851" y="0"/>
                </a:lnTo>
                <a:lnTo>
                  <a:pt x="1810" y="0"/>
                </a:lnTo>
                <a:lnTo>
                  <a:pt x="1770" y="0"/>
                </a:lnTo>
                <a:lnTo>
                  <a:pt x="1730" y="0"/>
                </a:lnTo>
                <a:lnTo>
                  <a:pt x="1690" y="0"/>
                </a:lnTo>
                <a:lnTo>
                  <a:pt x="1649" y="0"/>
                </a:lnTo>
                <a:lnTo>
                  <a:pt x="1609" y="0"/>
                </a:lnTo>
                <a:lnTo>
                  <a:pt x="1569" y="0"/>
                </a:lnTo>
                <a:lnTo>
                  <a:pt x="1529" y="0"/>
                </a:lnTo>
                <a:lnTo>
                  <a:pt x="1488" y="0"/>
                </a:lnTo>
                <a:lnTo>
                  <a:pt x="1448" y="0"/>
                </a:lnTo>
                <a:lnTo>
                  <a:pt x="1408" y="0"/>
                </a:lnTo>
                <a:lnTo>
                  <a:pt x="1367" y="0"/>
                </a:lnTo>
                <a:lnTo>
                  <a:pt x="1327" y="0"/>
                </a:lnTo>
                <a:lnTo>
                  <a:pt x="1287" y="0"/>
                </a:lnTo>
                <a:lnTo>
                  <a:pt x="1247" y="0"/>
                </a:lnTo>
                <a:lnTo>
                  <a:pt x="1206" y="0"/>
                </a:lnTo>
                <a:lnTo>
                  <a:pt x="1166" y="0"/>
                </a:lnTo>
                <a:lnTo>
                  <a:pt x="1126" y="0"/>
                </a:lnTo>
                <a:lnTo>
                  <a:pt x="1086" y="0"/>
                </a:lnTo>
                <a:lnTo>
                  <a:pt x="1045" y="0"/>
                </a:lnTo>
                <a:lnTo>
                  <a:pt x="1007" y="0"/>
                </a:lnTo>
                <a:lnTo>
                  <a:pt x="967" y="0"/>
                </a:lnTo>
                <a:lnTo>
                  <a:pt x="926" y="0"/>
                </a:lnTo>
                <a:lnTo>
                  <a:pt x="886" y="0"/>
                </a:lnTo>
                <a:lnTo>
                  <a:pt x="846" y="0"/>
                </a:lnTo>
                <a:lnTo>
                  <a:pt x="806" y="0"/>
                </a:lnTo>
                <a:lnTo>
                  <a:pt x="765" y="0"/>
                </a:lnTo>
                <a:lnTo>
                  <a:pt x="725" y="0"/>
                </a:lnTo>
                <a:lnTo>
                  <a:pt x="685" y="0"/>
                </a:lnTo>
                <a:lnTo>
                  <a:pt x="645" y="0"/>
                </a:lnTo>
                <a:lnTo>
                  <a:pt x="604" y="0"/>
                </a:lnTo>
                <a:lnTo>
                  <a:pt x="564" y="0"/>
                </a:lnTo>
                <a:lnTo>
                  <a:pt x="524" y="0"/>
                </a:lnTo>
                <a:lnTo>
                  <a:pt x="484" y="0"/>
                </a:lnTo>
                <a:lnTo>
                  <a:pt x="443" y="0"/>
                </a:lnTo>
                <a:lnTo>
                  <a:pt x="403" y="0"/>
                </a:lnTo>
                <a:lnTo>
                  <a:pt x="363" y="0"/>
                </a:lnTo>
                <a:lnTo>
                  <a:pt x="322" y="0"/>
                </a:lnTo>
                <a:lnTo>
                  <a:pt x="282" y="0"/>
                </a:lnTo>
                <a:lnTo>
                  <a:pt x="242" y="0"/>
                </a:lnTo>
                <a:lnTo>
                  <a:pt x="202" y="0"/>
                </a:lnTo>
                <a:lnTo>
                  <a:pt x="161" y="0"/>
                </a:lnTo>
                <a:lnTo>
                  <a:pt x="121" y="0"/>
                </a:lnTo>
                <a:lnTo>
                  <a:pt x="81" y="0"/>
                </a:lnTo>
                <a:lnTo>
                  <a:pt x="41" y="0"/>
                </a:lnTo>
                <a:lnTo>
                  <a:pt x="0" y="0"/>
                </a:lnTo>
                <a:lnTo>
                  <a:pt x="0" y="0"/>
                </a:lnTo>
                <a:lnTo>
                  <a:pt x="0" y="189"/>
                </a:lnTo>
                <a:lnTo>
                  <a:pt x="0" y="379"/>
                </a:lnTo>
                <a:lnTo>
                  <a:pt x="0" y="569"/>
                </a:lnTo>
                <a:lnTo>
                  <a:pt x="0" y="759"/>
                </a:lnTo>
                <a:lnTo>
                  <a:pt x="0" y="949"/>
                </a:lnTo>
                <a:lnTo>
                  <a:pt x="0" y="1138"/>
                </a:lnTo>
                <a:lnTo>
                  <a:pt x="0" y="1328"/>
                </a:lnTo>
                <a:lnTo>
                  <a:pt x="0" y="1518"/>
                </a:lnTo>
                <a:lnTo>
                  <a:pt x="0" y="1708"/>
                </a:lnTo>
                <a:lnTo>
                  <a:pt x="0" y="1897"/>
                </a:lnTo>
                <a:lnTo>
                  <a:pt x="0" y="2087"/>
                </a:lnTo>
                <a:lnTo>
                  <a:pt x="0" y="2277"/>
                </a:lnTo>
                <a:lnTo>
                  <a:pt x="0" y="2467"/>
                </a:lnTo>
                <a:lnTo>
                  <a:pt x="0" y="2657"/>
                </a:lnTo>
                <a:lnTo>
                  <a:pt x="0" y="2658"/>
                </a:lnTo>
                <a:close/>
              </a:path>
            </a:pathLst>
          </a:custGeom>
          <a:solidFill>
            <a:srgbClr val="33ff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8" name=""/>
          <p:cNvSpPr/>
          <p:nvPr/>
        </p:nvSpPr>
        <p:spPr>
          <a:xfrm>
            <a:off x="1836720" y="1282680"/>
            <a:ext cx="6037200" cy="4267080"/>
          </a:xfrm>
          <a:custGeom>
            <a:avLst/>
            <a:gdLst/>
            <a:ahLst/>
            <a:rect l="l" t="t" r="r" b="b"/>
            <a:pathLst>
              <a:path w="4184" h="3226">
                <a:moveTo>
                  <a:pt x="0" y="2292"/>
                </a:moveTo>
                <a:lnTo>
                  <a:pt x="41" y="2317"/>
                </a:lnTo>
                <a:lnTo>
                  <a:pt x="81" y="2342"/>
                </a:lnTo>
                <a:lnTo>
                  <a:pt x="121" y="2362"/>
                </a:lnTo>
                <a:lnTo>
                  <a:pt x="161" y="2385"/>
                </a:lnTo>
                <a:lnTo>
                  <a:pt x="202" y="2406"/>
                </a:lnTo>
                <a:lnTo>
                  <a:pt x="242" y="2427"/>
                </a:lnTo>
                <a:lnTo>
                  <a:pt x="282" y="2448"/>
                </a:lnTo>
                <a:lnTo>
                  <a:pt x="321" y="2467"/>
                </a:lnTo>
                <a:lnTo>
                  <a:pt x="322" y="2469"/>
                </a:lnTo>
                <a:lnTo>
                  <a:pt x="363" y="2493"/>
                </a:lnTo>
                <a:lnTo>
                  <a:pt x="403" y="2516"/>
                </a:lnTo>
                <a:lnTo>
                  <a:pt x="443" y="2541"/>
                </a:lnTo>
                <a:lnTo>
                  <a:pt x="484" y="2562"/>
                </a:lnTo>
                <a:lnTo>
                  <a:pt x="524" y="2584"/>
                </a:lnTo>
                <a:lnTo>
                  <a:pt x="564" y="2605"/>
                </a:lnTo>
                <a:lnTo>
                  <a:pt x="604" y="2626"/>
                </a:lnTo>
                <a:lnTo>
                  <a:pt x="645" y="2645"/>
                </a:lnTo>
                <a:lnTo>
                  <a:pt x="666" y="2657"/>
                </a:lnTo>
                <a:lnTo>
                  <a:pt x="685" y="2668"/>
                </a:lnTo>
                <a:lnTo>
                  <a:pt x="725" y="2691"/>
                </a:lnTo>
                <a:lnTo>
                  <a:pt x="765" y="2715"/>
                </a:lnTo>
                <a:lnTo>
                  <a:pt x="806" y="2738"/>
                </a:lnTo>
                <a:lnTo>
                  <a:pt x="846" y="2761"/>
                </a:lnTo>
                <a:lnTo>
                  <a:pt x="886" y="2782"/>
                </a:lnTo>
                <a:lnTo>
                  <a:pt x="926" y="2803"/>
                </a:lnTo>
                <a:lnTo>
                  <a:pt x="967" y="2824"/>
                </a:lnTo>
                <a:lnTo>
                  <a:pt x="1007" y="2843"/>
                </a:lnTo>
                <a:lnTo>
                  <a:pt x="1013" y="2846"/>
                </a:lnTo>
                <a:lnTo>
                  <a:pt x="1045" y="2867"/>
                </a:lnTo>
                <a:lnTo>
                  <a:pt x="1086" y="2892"/>
                </a:lnTo>
                <a:lnTo>
                  <a:pt x="1126" y="2915"/>
                </a:lnTo>
                <a:lnTo>
                  <a:pt x="1166" y="2937"/>
                </a:lnTo>
                <a:lnTo>
                  <a:pt x="1206" y="2960"/>
                </a:lnTo>
                <a:lnTo>
                  <a:pt x="1247" y="2981"/>
                </a:lnTo>
                <a:lnTo>
                  <a:pt x="1287" y="3000"/>
                </a:lnTo>
                <a:lnTo>
                  <a:pt x="1327" y="3021"/>
                </a:lnTo>
                <a:lnTo>
                  <a:pt x="1358" y="3036"/>
                </a:lnTo>
                <a:lnTo>
                  <a:pt x="1367" y="3042"/>
                </a:lnTo>
                <a:lnTo>
                  <a:pt x="1408" y="3066"/>
                </a:lnTo>
                <a:lnTo>
                  <a:pt x="1448" y="3091"/>
                </a:lnTo>
                <a:lnTo>
                  <a:pt x="1488" y="3114"/>
                </a:lnTo>
                <a:lnTo>
                  <a:pt x="1529" y="3137"/>
                </a:lnTo>
                <a:lnTo>
                  <a:pt x="1569" y="3158"/>
                </a:lnTo>
                <a:lnTo>
                  <a:pt x="1609" y="3178"/>
                </a:lnTo>
                <a:lnTo>
                  <a:pt x="1649" y="3199"/>
                </a:lnTo>
                <a:lnTo>
                  <a:pt x="1690" y="3218"/>
                </a:lnTo>
                <a:lnTo>
                  <a:pt x="1703" y="3226"/>
                </a:lnTo>
                <a:lnTo>
                  <a:pt x="1730" y="3226"/>
                </a:lnTo>
                <a:lnTo>
                  <a:pt x="1770" y="3226"/>
                </a:lnTo>
                <a:lnTo>
                  <a:pt x="1810" y="3226"/>
                </a:lnTo>
                <a:lnTo>
                  <a:pt x="1851" y="3226"/>
                </a:lnTo>
                <a:lnTo>
                  <a:pt x="1891" y="3226"/>
                </a:lnTo>
                <a:lnTo>
                  <a:pt x="1931" y="3226"/>
                </a:lnTo>
                <a:lnTo>
                  <a:pt x="1971" y="3226"/>
                </a:lnTo>
                <a:lnTo>
                  <a:pt x="2012" y="3226"/>
                </a:lnTo>
                <a:lnTo>
                  <a:pt x="2052" y="3226"/>
                </a:lnTo>
                <a:lnTo>
                  <a:pt x="2092" y="3226"/>
                </a:lnTo>
                <a:lnTo>
                  <a:pt x="2133" y="3226"/>
                </a:lnTo>
                <a:lnTo>
                  <a:pt x="2173" y="3226"/>
                </a:lnTo>
                <a:lnTo>
                  <a:pt x="2213" y="3226"/>
                </a:lnTo>
                <a:lnTo>
                  <a:pt x="2253" y="3226"/>
                </a:lnTo>
                <a:lnTo>
                  <a:pt x="2294" y="3226"/>
                </a:lnTo>
                <a:lnTo>
                  <a:pt x="2334" y="3226"/>
                </a:lnTo>
                <a:lnTo>
                  <a:pt x="2374" y="3226"/>
                </a:lnTo>
                <a:lnTo>
                  <a:pt x="2414" y="3226"/>
                </a:lnTo>
                <a:lnTo>
                  <a:pt x="2455" y="3226"/>
                </a:lnTo>
                <a:lnTo>
                  <a:pt x="2495" y="3226"/>
                </a:lnTo>
                <a:lnTo>
                  <a:pt x="2535" y="3226"/>
                </a:lnTo>
                <a:lnTo>
                  <a:pt x="2575" y="3226"/>
                </a:lnTo>
                <a:lnTo>
                  <a:pt x="2616" y="3226"/>
                </a:lnTo>
                <a:lnTo>
                  <a:pt x="2656" y="3226"/>
                </a:lnTo>
                <a:lnTo>
                  <a:pt x="2696" y="3226"/>
                </a:lnTo>
                <a:lnTo>
                  <a:pt x="2737" y="3226"/>
                </a:lnTo>
                <a:lnTo>
                  <a:pt x="2777" y="3226"/>
                </a:lnTo>
                <a:lnTo>
                  <a:pt x="2817" y="3226"/>
                </a:lnTo>
                <a:lnTo>
                  <a:pt x="2857" y="3226"/>
                </a:lnTo>
                <a:lnTo>
                  <a:pt x="2898" y="3226"/>
                </a:lnTo>
                <a:lnTo>
                  <a:pt x="2938" y="3226"/>
                </a:lnTo>
                <a:lnTo>
                  <a:pt x="2978" y="3226"/>
                </a:lnTo>
                <a:lnTo>
                  <a:pt x="3018" y="3226"/>
                </a:lnTo>
                <a:lnTo>
                  <a:pt x="3059" y="3226"/>
                </a:lnTo>
                <a:lnTo>
                  <a:pt x="3099" y="3226"/>
                </a:lnTo>
                <a:lnTo>
                  <a:pt x="3137" y="3226"/>
                </a:lnTo>
                <a:lnTo>
                  <a:pt x="3178" y="3226"/>
                </a:lnTo>
                <a:lnTo>
                  <a:pt x="3218" y="3226"/>
                </a:lnTo>
                <a:lnTo>
                  <a:pt x="3258" y="3226"/>
                </a:lnTo>
                <a:lnTo>
                  <a:pt x="3298" y="3226"/>
                </a:lnTo>
                <a:lnTo>
                  <a:pt x="3339" y="3226"/>
                </a:lnTo>
                <a:lnTo>
                  <a:pt x="3379" y="3226"/>
                </a:lnTo>
                <a:lnTo>
                  <a:pt x="3419" y="3226"/>
                </a:lnTo>
                <a:lnTo>
                  <a:pt x="3459" y="3226"/>
                </a:lnTo>
                <a:lnTo>
                  <a:pt x="3500" y="3226"/>
                </a:lnTo>
                <a:lnTo>
                  <a:pt x="3540" y="3226"/>
                </a:lnTo>
                <a:lnTo>
                  <a:pt x="3580" y="3226"/>
                </a:lnTo>
                <a:lnTo>
                  <a:pt x="3620" y="3226"/>
                </a:lnTo>
                <a:lnTo>
                  <a:pt x="3661" y="3226"/>
                </a:lnTo>
                <a:lnTo>
                  <a:pt x="3701" y="3226"/>
                </a:lnTo>
                <a:lnTo>
                  <a:pt x="3741" y="3226"/>
                </a:lnTo>
                <a:lnTo>
                  <a:pt x="3782" y="3226"/>
                </a:lnTo>
                <a:lnTo>
                  <a:pt x="3822" y="3226"/>
                </a:lnTo>
                <a:lnTo>
                  <a:pt x="3862" y="3226"/>
                </a:lnTo>
                <a:lnTo>
                  <a:pt x="3902" y="3226"/>
                </a:lnTo>
                <a:lnTo>
                  <a:pt x="3943" y="3226"/>
                </a:lnTo>
                <a:lnTo>
                  <a:pt x="3983" y="3226"/>
                </a:lnTo>
                <a:lnTo>
                  <a:pt x="4023" y="3226"/>
                </a:lnTo>
                <a:lnTo>
                  <a:pt x="4063" y="3226"/>
                </a:lnTo>
                <a:lnTo>
                  <a:pt x="4104" y="3226"/>
                </a:lnTo>
                <a:lnTo>
                  <a:pt x="4144" y="3226"/>
                </a:lnTo>
                <a:lnTo>
                  <a:pt x="4184" y="3226"/>
                </a:lnTo>
                <a:lnTo>
                  <a:pt x="4184" y="3226"/>
                </a:lnTo>
                <a:lnTo>
                  <a:pt x="4184" y="3036"/>
                </a:lnTo>
                <a:lnTo>
                  <a:pt x="4184" y="2846"/>
                </a:lnTo>
                <a:lnTo>
                  <a:pt x="4184" y="2657"/>
                </a:lnTo>
                <a:lnTo>
                  <a:pt x="4184" y="2467"/>
                </a:lnTo>
                <a:lnTo>
                  <a:pt x="4184" y="2277"/>
                </a:lnTo>
                <a:lnTo>
                  <a:pt x="4184" y="2087"/>
                </a:lnTo>
                <a:lnTo>
                  <a:pt x="4184" y="1897"/>
                </a:lnTo>
                <a:lnTo>
                  <a:pt x="4184" y="1708"/>
                </a:lnTo>
                <a:lnTo>
                  <a:pt x="4184" y="1518"/>
                </a:lnTo>
                <a:lnTo>
                  <a:pt x="4184" y="1328"/>
                </a:lnTo>
                <a:lnTo>
                  <a:pt x="4184" y="1138"/>
                </a:lnTo>
                <a:lnTo>
                  <a:pt x="4184" y="949"/>
                </a:lnTo>
                <a:lnTo>
                  <a:pt x="4184" y="759"/>
                </a:lnTo>
                <a:lnTo>
                  <a:pt x="4184" y="569"/>
                </a:lnTo>
                <a:lnTo>
                  <a:pt x="4184" y="379"/>
                </a:lnTo>
                <a:lnTo>
                  <a:pt x="4184" y="189"/>
                </a:lnTo>
                <a:lnTo>
                  <a:pt x="4184" y="0"/>
                </a:lnTo>
                <a:lnTo>
                  <a:pt x="4144" y="0"/>
                </a:lnTo>
                <a:lnTo>
                  <a:pt x="4104" y="0"/>
                </a:lnTo>
                <a:lnTo>
                  <a:pt x="4063" y="0"/>
                </a:lnTo>
                <a:lnTo>
                  <a:pt x="4023" y="0"/>
                </a:lnTo>
                <a:lnTo>
                  <a:pt x="3983" y="0"/>
                </a:lnTo>
                <a:lnTo>
                  <a:pt x="3943" y="0"/>
                </a:lnTo>
                <a:lnTo>
                  <a:pt x="3902" y="0"/>
                </a:lnTo>
                <a:lnTo>
                  <a:pt x="3862" y="0"/>
                </a:lnTo>
                <a:lnTo>
                  <a:pt x="3822" y="0"/>
                </a:lnTo>
                <a:lnTo>
                  <a:pt x="3782" y="0"/>
                </a:lnTo>
                <a:lnTo>
                  <a:pt x="3741" y="0"/>
                </a:lnTo>
                <a:lnTo>
                  <a:pt x="3701" y="0"/>
                </a:lnTo>
                <a:lnTo>
                  <a:pt x="3661" y="0"/>
                </a:lnTo>
                <a:lnTo>
                  <a:pt x="3620" y="0"/>
                </a:lnTo>
                <a:lnTo>
                  <a:pt x="3580" y="0"/>
                </a:lnTo>
                <a:lnTo>
                  <a:pt x="3540" y="0"/>
                </a:lnTo>
                <a:lnTo>
                  <a:pt x="3500" y="0"/>
                </a:lnTo>
                <a:lnTo>
                  <a:pt x="3459" y="0"/>
                </a:lnTo>
                <a:lnTo>
                  <a:pt x="3419" y="0"/>
                </a:lnTo>
                <a:lnTo>
                  <a:pt x="3379" y="0"/>
                </a:lnTo>
                <a:lnTo>
                  <a:pt x="3339" y="0"/>
                </a:lnTo>
                <a:lnTo>
                  <a:pt x="3298" y="0"/>
                </a:lnTo>
                <a:lnTo>
                  <a:pt x="3258" y="0"/>
                </a:lnTo>
                <a:lnTo>
                  <a:pt x="3218" y="0"/>
                </a:lnTo>
                <a:lnTo>
                  <a:pt x="3178" y="0"/>
                </a:lnTo>
                <a:lnTo>
                  <a:pt x="3137" y="0"/>
                </a:lnTo>
                <a:lnTo>
                  <a:pt x="3099" y="0"/>
                </a:lnTo>
                <a:lnTo>
                  <a:pt x="3059" y="0"/>
                </a:lnTo>
                <a:lnTo>
                  <a:pt x="3018" y="0"/>
                </a:lnTo>
                <a:lnTo>
                  <a:pt x="2978" y="0"/>
                </a:lnTo>
                <a:lnTo>
                  <a:pt x="2938" y="0"/>
                </a:lnTo>
                <a:lnTo>
                  <a:pt x="2898" y="0"/>
                </a:lnTo>
                <a:lnTo>
                  <a:pt x="2857" y="0"/>
                </a:lnTo>
                <a:lnTo>
                  <a:pt x="2817" y="0"/>
                </a:lnTo>
                <a:lnTo>
                  <a:pt x="2777" y="0"/>
                </a:lnTo>
                <a:lnTo>
                  <a:pt x="2737" y="0"/>
                </a:lnTo>
                <a:lnTo>
                  <a:pt x="2696" y="0"/>
                </a:lnTo>
                <a:lnTo>
                  <a:pt x="2656" y="0"/>
                </a:lnTo>
                <a:lnTo>
                  <a:pt x="2616" y="0"/>
                </a:lnTo>
                <a:lnTo>
                  <a:pt x="2575" y="0"/>
                </a:lnTo>
                <a:lnTo>
                  <a:pt x="2535" y="0"/>
                </a:lnTo>
                <a:lnTo>
                  <a:pt x="2495" y="0"/>
                </a:lnTo>
                <a:lnTo>
                  <a:pt x="2455" y="0"/>
                </a:lnTo>
                <a:lnTo>
                  <a:pt x="2414" y="0"/>
                </a:lnTo>
                <a:lnTo>
                  <a:pt x="2374" y="0"/>
                </a:lnTo>
                <a:lnTo>
                  <a:pt x="2334" y="0"/>
                </a:lnTo>
                <a:lnTo>
                  <a:pt x="2294" y="0"/>
                </a:lnTo>
                <a:lnTo>
                  <a:pt x="2253" y="0"/>
                </a:lnTo>
                <a:lnTo>
                  <a:pt x="2213" y="0"/>
                </a:lnTo>
                <a:lnTo>
                  <a:pt x="2173" y="0"/>
                </a:lnTo>
                <a:lnTo>
                  <a:pt x="2133" y="0"/>
                </a:lnTo>
                <a:lnTo>
                  <a:pt x="2092" y="0"/>
                </a:lnTo>
                <a:lnTo>
                  <a:pt x="2052" y="0"/>
                </a:lnTo>
                <a:lnTo>
                  <a:pt x="2012" y="0"/>
                </a:lnTo>
                <a:lnTo>
                  <a:pt x="1971" y="0"/>
                </a:lnTo>
                <a:lnTo>
                  <a:pt x="1931" y="0"/>
                </a:lnTo>
                <a:lnTo>
                  <a:pt x="1891" y="0"/>
                </a:lnTo>
                <a:lnTo>
                  <a:pt x="1851" y="0"/>
                </a:lnTo>
                <a:lnTo>
                  <a:pt x="1810" y="0"/>
                </a:lnTo>
                <a:lnTo>
                  <a:pt x="1770" y="0"/>
                </a:lnTo>
                <a:lnTo>
                  <a:pt x="1730" y="0"/>
                </a:lnTo>
                <a:lnTo>
                  <a:pt x="1690" y="0"/>
                </a:lnTo>
                <a:lnTo>
                  <a:pt x="1649" y="0"/>
                </a:lnTo>
                <a:lnTo>
                  <a:pt x="1609" y="0"/>
                </a:lnTo>
                <a:lnTo>
                  <a:pt x="1569" y="0"/>
                </a:lnTo>
                <a:lnTo>
                  <a:pt x="1529" y="0"/>
                </a:lnTo>
                <a:lnTo>
                  <a:pt x="1488" y="0"/>
                </a:lnTo>
                <a:lnTo>
                  <a:pt x="1448" y="0"/>
                </a:lnTo>
                <a:lnTo>
                  <a:pt x="1408" y="0"/>
                </a:lnTo>
                <a:lnTo>
                  <a:pt x="1367" y="0"/>
                </a:lnTo>
                <a:lnTo>
                  <a:pt x="1327" y="0"/>
                </a:lnTo>
                <a:lnTo>
                  <a:pt x="1287" y="0"/>
                </a:lnTo>
                <a:lnTo>
                  <a:pt x="1247" y="0"/>
                </a:lnTo>
                <a:lnTo>
                  <a:pt x="1206" y="0"/>
                </a:lnTo>
                <a:lnTo>
                  <a:pt x="1166" y="0"/>
                </a:lnTo>
                <a:lnTo>
                  <a:pt x="1126" y="0"/>
                </a:lnTo>
                <a:lnTo>
                  <a:pt x="1086" y="0"/>
                </a:lnTo>
                <a:lnTo>
                  <a:pt x="1045" y="0"/>
                </a:lnTo>
                <a:lnTo>
                  <a:pt x="1007" y="0"/>
                </a:lnTo>
                <a:lnTo>
                  <a:pt x="967" y="0"/>
                </a:lnTo>
                <a:lnTo>
                  <a:pt x="926" y="0"/>
                </a:lnTo>
                <a:lnTo>
                  <a:pt x="886" y="0"/>
                </a:lnTo>
                <a:lnTo>
                  <a:pt x="846" y="0"/>
                </a:lnTo>
                <a:lnTo>
                  <a:pt x="806" y="0"/>
                </a:lnTo>
                <a:lnTo>
                  <a:pt x="765" y="0"/>
                </a:lnTo>
                <a:lnTo>
                  <a:pt x="725" y="0"/>
                </a:lnTo>
                <a:lnTo>
                  <a:pt x="685" y="0"/>
                </a:lnTo>
                <a:lnTo>
                  <a:pt x="645" y="0"/>
                </a:lnTo>
                <a:lnTo>
                  <a:pt x="604" y="0"/>
                </a:lnTo>
                <a:lnTo>
                  <a:pt x="564" y="0"/>
                </a:lnTo>
                <a:lnTo>
                  <a:pt x="524" y="0"/>
                </a:lnTo>
                <a:lnTo>
                  <a:pt x="484" y="0"/>
                </a:lnTo>
                <a:lnTo>
                  <a:pt x="443" y="0"/>
                </a:lnTo>
                <a:lnTo>
                  <a:pt x="403" y="0"/>
                </a:lnTo>
                <a:lnTo>
                  <a:pt x="363" y="0"/>
                </a:lnTo>
                <a:lnTo>
                  <a:pt x="322" y="0"/>
                </a:lnTo>
                <a:lnTo>
                  <a:pt x="282" y="0"/>
                </a:lnTo>
                <a:lnTo>
                  <a:pt x="242" y="0"/>
                </a:lnTo>
                <a:lnTo>
                  <a:pt x="202" y="0"/>
                </a:lnTo>
                <a:lnTo>
                  <a:pt x="161" y="0"/>
                </a:lnTo>
                <a:lnTo>
                  <a:pt x="121" y="0"/>
                </a:lnTo>
                <a:lnTo>
                  <a:pt x="81" y="0"/>
                </a:lnTo>
                <a:lnTo>
                  <a:pt x="41" y="0"/>
                </a:lnTo>
                <a:lnTo>
                  <a:pt x="0" y="0"/>
                </a:lnTo>
                <a:lnTo>
                  <a:pt x="0" y="0"/>
                </a:lnTo>
                <a:lnTo>
                  <a:pt x="0" y="189"/>
                </a:lnTo>
                <a:lnTo>
                  <a:pt x="0" y="379"/>
                </a:lnTo>
                <a:lnTo>
                  <a:pt x="0" y="569"/>
                </a:lnTo>
                <a:lnTo>
                  <a:pt x="0" y="759"/>
                </a:lnTo>
                <a:lnTo>
                  <a:pt x="0" y="949"/>
                </a:lnTo>
                <a:lnTo>
                  <a:pt x="0" y="1138"/>
                </a:lnTo>
                <a:lnTo>
                  <a:pt x="0" y="1328"/>
                </a:lnTo>
                <a:lnTo>
                  <a:pt x="0" y="1518"/>
                </a:lnTo>
                <a:lnTo>
                  <a:pt x="0" y="1708"/>
                </a:lnTo>
                <a:lnTo>
                  <a:pt x="0" y="1897"/>
                </a:lnTo>
                <a:lnTo>
                  <a:pt x="0" y="2087"/>
                </a:lnTo>
                <a:lnTo>
                  <a:pt x="0" y="2277"/>
                </a:lnTo>
                <a:lnTo>
                  <a:pt x="0" y="2292"/>
                </a:lnTo>
                <a:close/>
              </a:path>
            </a:pathLst>
          </a:custGeom>
          <a:solidFill>
            <a:srgbClr val="66ff2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9" name=""/>
          <p:cNvSpPr/>
          <p:nvPr/>
        </p:nvSpPr>
        <p:spPr>
          <a:xfrm>
            <a:off x="1836720" y="1282680"/>
            <a:ext cx="6037200" cy="4267080"/>
          </a:xfrm>
          <a:custGeom>
            <a:avLst/>
            <a:gdLst/>
            <a:ahLst/>
            <a:rect l="l" t="t" r="r" b="b"/>
            <a:pathLst>
              <a:path w="4184" h="3226">
                <a:moveTo>
                  <a:pt x="0" y="2049"/>
                </a:moveTo>
                <a:lnTo>
                  <a:pt x="41" y="2070"/>
                </a:lnTo>
                <a:lnTo>
                  <a:pt x="75" y="2087"/>
                </a:lnTo>
                <a:lnTo>
                  <a:pt x="81" y="2091"/>
                </a:lnTo>
                <a:lnTo>
                  <a:pt x="121" y="2114"/>
                </a:lnTo>
                <a:lnTo>
                  <a:pt x="161" y="2137"/>
                </a:lnTo>
                <a:lnTo>
                  <a:pt x="202" y="2161"/>
                </a:lnTo>
                <a:lnTo>
                  <a:pt x="242" y="2182"/>
                </a:lnTo>
                <a:lnTo>
                  <a:pt x="282" y="2205"/>
                </a:lnTo>
                <a:lnTo>
                  <a:pt x="322" y="2226"/>
                </a:lnTo>
                <a:lnTo>
                  <a:pt x="363" y="2247"/>
                </a:lnTo>
                <a:lnTo>
                  <a:pt x="403" y="2267"/>
                </a:lnTo>
                <a:lnTo>
                  <a:pt x="420" y="2277"/>
                </a:lnTo>
                <a:lnTo>
                  <a:pt x="443" y="2290"/>
                </a:lnTo>
                <a:lnTo>
                  <a:pt x="484" y="2313"/>
                </a:lnTo>
                <a:lnTo>
                  <a:pt x="524" y="2336"/>
                </a:lnTo>
                <a:lnTo>
                  <a:pt x="564" y="2359"/>
                </a:lnTo>
                <a:lnTo>
                  <a:pt x="604" y="2381"/>
                </a:lnTo>
                <a:lnTo>
                  <a:pt x="645" y="2402"/>
                </a:lnTo>
                <a:lnTo>
                  <a:pt x="685" y="2425"/>
                </a:lnTo>
                <a:lnTo>
                  <a:pt x="725" y="2444"/>
                </a:lnTo>
                <a:lnTo>
                  <a:pt x="765" y="2467"/>
                </a:lnTo>
                <a:lnTo>
                  <a:pt x="767" y="2467"/>
                </a:lnTo>
                <a:lnTo>
                  <a:pt x="806" y="2490"/>
                </a:lnTo>
                <a:lnTo>
                  <a:pt x="846" y="2512"/>
                </a:lnTo>
                <a:lnTo>
                  <a:pt x="886" y="2535"/>
                </a:lnTo>
                <a:lnTo>
                  <a:pt x="926" y="2558"/>
                </a:lnTo>
                <a:lnTo>
                  <a:pt x="967" y="2579"/>
                </a:lnTo>
                <a:lnTo>
                  <a:pt x="1007" y="2602"/>
                </a:lnTo>
                <a:lnTo>
                  <a:pt x="1045" y="2622"/>
                </a:lnTo>
                <a:lnTo>
                  <a:pt x="1086" y="2643"/>
                </a:lnTo>
                <a:lnTo>
                  <a:pt x="1112" y="2657"/>
                </a:lnTo>
                <a:lnTo>
                  <a:pt x="1126" y="2664"/>
                </a:lnTo>
                <a:lnTo>
                  <a:pt x="1166" y="2689"/>
                </a:lnTo>
                <a:lnTo>
                  <a:pt x="1206" y="2712"/>
                </a:lnTo>
                <a:lnTo>
                  <a:pt x="1247" y="2734"/>
                </a:lnTo>
                <a:lnTo>
                  <a:pt x="1287" y="2757"/>
                </a:lnTo>
                <a:lnTo>
                  <a:pt x="1327" y="2778"/>
                </a:lnTo>
                <a:lnTo>
                  <a:pt x="1367" y="2799"/>
                </a:lnTo>
                <a:lnTo>
                  <a:pt x="1408" y="2820"/>
                </a:lnTo>
                <a:lnTo>
                  <a:pt x="1448" y="2841"/>
                </a:lnTo>
                <a:lnTo>
                  <a:pt x="1460" y="2846"/>
                </a:lnTo>
                <a:lnTo>
                  <a:pt x="1488" y="2865"/>
                </a:lnTo>
                <a:lnTo>
                  <a:pt x="1529" y="2888"/>
                </a:lnTo>
                <a:lnTo>
                  <a:pt x="1569" y="2911"/>
                </a:lnTo>
                <a:lnTo>
                  <a:pt x="1609" y="2934"/>
                </a:lnTo>
                <a:lnTo>
                  <a:pt x="1649" y="2954"/>
                </a:lnTo>
                <a:lnTo>
                  <a:pt x="1690" y="2977"/>
                </a:lnTo>
                <a:lnTo>
                  <a:pt x="1730" y="2998"/>
                </a:lnTo>
                <a:lnTo>
                  <a:pt x="1770" y="3019"/>
                </a:lnTo>
                <a:lnTo>
                  <a:pt x="1805" y="3036"/>
                </a:lnTo>
                <a:lnTo>
                  <a:pt x="1810" y="3040"/>
                </a:lnTo>
                <a:lnTo>
                  <a:pt x="1851" y="3063"/>
                </a:lnTo>
                <a:lnTo>
                  <a:pt x="1891" y="3087"/>
                </a:lnTo>
                <a:lnTo>
                  <a:pt x="1931" y="3110"/>
                </a:lnTo>
                <a:lnTo>
                  <a:pt x="1971" y="3131"/>
                </a:lnTo>
                <a:lnTo>
                  <a:pt x="2012" y="3154"/>
                </a:lnTo>
                <a:lnTo>
                  <a:pt x="2052" y="3175"/>
                </a:lnTo>
                <a:lnTo>
                  <a:pt x="2092" y="3196"/>
                </a:lnTo>
                <a:lnTo>
                  <a:pt x="2133" y="3216"/>
                </a:lnTo>
                <a:lnTo>
                  <a:pt x="2150" y="3226"/>
                </a:lnTo>
                <a:lnTo>
                  <a:pt x="2173" y="3226"/>
                </a:lnTo>
                <a:lnTo>
                  <a:pt x="2213" y="3226"/>
                </a:lnTo>
                <a:lnTo>
                  <a:pt x="2253" y="3226"/>
                </a:lnTo>
                <a:lnTo>
                  <a:pt x="2294" y="3226"/>
                </a:lnTo>
                <a:lnTo>
                  <a:pt x="2334" y="3226"/>
                </a:lnTo>
                <a:lnTo>
                  <a:pt x="2374" y="3226"/>
                </a:lnTo>
                <a:lnTo>
                  <a:pt x="2414" y="3226"/>
                </a:lnTo>
                <a:lnTo>
                  <a:pt x="2455" y="3226"/>
                </a:lnTo>
                <a:lnTo>
                  <a:pt x="2495" y="3226"/>
                </a:lnTo>
                <a:lnTo>
                  <a:pt x="2535" y="3226"/>
                </a:lnTo>
                <a:lnTo>
                  <a:pt x="2575" y="3226"/>
                </a:lnTo>
                <a:lnTo>
                  <a:pt x="2616" y="3226"/>
                </a:lnTo>
                <a:lnTo>
                  <a:pt x="2656" y="3226"/>
                </a:lnTo>
                <a:lnTo>
                  <a:pt x="2696" y="3226"/>
                </a:lnTo>
                <a:lnTo>
                  <a:pt x="2737" y="3226"/>
                </a:lnTo>
                <a:lnTo>
                  <a:pt x="2777" y="3226"/>
                </a:lnTo>
                <a:lnTo>
                  <a:pt x="2817" y="3226"/>
                </a:lnTo>
                <a:lnTo>
                  <a:pt x="2857" y="3226"/>
                </a:lnTo>
                <a:lnTo>
                  <a:pt x="2898" y="3226"/>
                </a:lnTo>
                <a:lnTo>
                  <a:pt x="2938" y="3226"/>
                </a:lnTo>
                <a:lnTo>
                  <a:pt x="2978" y="3226"/>
                </a:lnTo>
                <a:lnTo>
                  <a:pt x="3018" y="3226"/>
                </a:lnTo>
                <a:lnTo>
                  <a:pt x="3059" y="3226"/>
                </a:lnTo>
                <a:lnTo>
                  <a:pt x="3099" y="3226"/>
                </a:lnTo>
                <a:lnTo>
                  <a:pt x="3137" y="3226"/>
                </a:lnTo>
                <a:lnTo>
                  <a:pt x="3178" y="3226"/>
                </a:lnTo>
                <a:lnTo>
                  <a:pt x="3218" y="3226"/>
                </a:lnTo>
                <a:lnTo>
                  <a:pt x="3258" y="3226"/>
                </a:lnTo>
                <a:lnTo>
                  <a:pt x="3298" y="3226"/>
                </a:lnTo>
                <a:lnTo>
                  <a:pt x="3339" y="3226"/>
                </a:lnTo>
                <a:lnTo>
                  <a:pt x="3379" y="3226"/>
                </a:lnTo>
                <a:lnTo>
                  <a:pt x="3419" y="3226"/>
                </a:lnTo>
                <a:lnTo>
                  <a:pt x="3459" y="3226"/>
                </a:lnTo>
                <a:lnTo>
                  <a:pt x="3500" y="3226"/>
                </a:lnTo>
                <a:lnTo>
                  <a:pt x="3540" y="3226"/>
                </a:lnTo>
                <a:lnTo>
                  <a:pt x="3580" y="3226"/>
                </a:lnTo>
                <a:lnTo>
                  <a:pt x="3620" y="3226"/>
                </a:lnTo>
                <a:lnTo>
                  <a:pt x="3661" y="3226"/>
                </a:lnTo>
                <a:lnTo>
                  <a:pt x="3701" y="3226"/>
                </a:lnTo>
                <a:lnTo>
                  <a:pt x="3741" y="3226"/>
                </a:lnTo>
                <a:lnTo>
                  <a:pt x="3782" y="3226"/>
                </a:lnTo>
                <a:lnTo>
                  <a:pt x="3822" y="3226"/>
                </a:lnTo>
                <a:lnTo>
                  <a:pt x="3862" y="3226"/>
                </a:lnTo>
                <a:lnTo>
                  <a:pt x="3902" y="3226"/>
                </a:lnTo>
                <a:lnTo>
                  <a:pt x="3943" y="3226"/>
                </a:lnTo>
                <a:lnTo>
                  <a:pt x="3983" y="3226"/>
                </a:lnTo>
                <a:lnTo>
                  <a:pt x="4023" y="3226"/>
                </a:lnTo>
                <a:lnTo>
                  <a:pt x="4063" y="3226"/>
                </a:lnTo>
                <a:lnTo>
                  <a:pt x="4104" y="3226"/>
                </a:lnTo>
                <a:lnTo>
                  <a:pt x="4144" y="3226"/>
                </a:lnTo>
                <a:lnTo>
                  <a:pt x="4184" y="3226"/>
                </a:lnTo>
                <a:lnTo>
                  <a:pt x="4184" y="3226"/>
                </a:lnTo>
                <a:lnTo>
                  <a:pt x="4184" y="3036"/>
                </a:lnTo>
                <a:lnTo>
                  <a:pt x="4184" y="2846"/>
                </a:lnTo>
                <a:lnTo>
                  <a:pt x="4184" y="2657"/>
                </a:lnTo>
                <a:lnTo>
                  <a:pt x="4184" y="2467"/>
                </a:lnTo>
                <a:lnTo>
                  <a:pt x="4184" y="2277"/>
                </a:lnTo>
                <a:lnTo>
                  <a:pt x="4184" y="2087"/>
                </a:lnTo>
                <a:lnTo>
                  <a:pt x="4184" y="1897"/>
                </a:lnTo>
                <a:lnTo>
                  <a:pt x="4184" y="1708"/>
                </a:lnTo>
                <a:lnTo>
                  <a:pt x="4184" y="1518"/>
                </a:lnTo>
                <a:lnTo>
                  <a:pt x="4184" y="1328"/>
                </a:lnTo>
                <a:lnTo>
                  <a:pt x="4184" y="1138"/>
                </a:lnTo>
                <a:lnTo>
                  <a:pt x="4184" y="949"/>
                </a:lnTo>
                <a:lnTo>
                  <a:pt x="4184" y="759"/>
                </a:lnTo>
                <a:lnTo>
                  <a:pt x="4184" y="569"/>
                </a:lnTo>
                <a:lnTo>
                  <a:pt x="4184" y="379"/>
                </a:lnTo>
                <a:lnTo>
                  <a:pt x="4184" y="189"/>
                </a:lnTo>
                <a:lnTo>
                  <a:pt x="4184" y="0"/>
                </a:lnTo>
                <a:lnTo>
                  <a:pt x="4144" y="0"/>
                </a:lnTo>
                <a:lnTo>
                  <a:pt x="4104" y="0"/>
                </a:lnTo>
                <a:lnTo>
                  <a:pt x="4063" y="0"/>
                </a:lnTo>
                <a:lnTo>
                  <a:pt x="4023" y="0"/>
                </a:lnTo>
                <a:lnTo>
                  <a:pt x="3983" y="0"/>
                </a:lnTo>
                <a:lnTo>
                  <a:pt x="3943" y="0"/>
                </a:lnTo>
                <a:lnTo>
                  <a:pt x="3902" y="0"/>
                </a:lnTo>
                <a:lnTo>
                  <a:pt x="3862" y="0"/>
                </a:lnTo>
                <a:lnTo>
                  <a:pt x="3822" y="0"/>
                </a:lnTo>
                <a:lnTo>
                  <a:pt x="3782" y="0"/>
                </a:lnTo>
                <a:lnTo>
                  <a:pt x="3741" y="0"/>
                </a:lnTo>
                <a:lnTo>
                  <a:pt x="3701" y="0"/>
                </a:lnTo>
                <a:lnTo>
                  <a:pt x="3661" y="0"/>
                </a:lnTo>
                <a:lnTo>
                  <a:pt x="3620" y="0"/>
                </a:lnTo>
                <a:lnTo>
                  <a:pt x="3580" y="0"/>
                </a:lnTo>
                <a:lnTo>
                  <a:pt x="3540" y="0"/>
                </a:lnTo>
                <a:lnTo>
                  <a:pt x="3500" y="0"/>
                </a:lnTo>
                <a:lnTo>
                  <a:pt x="3459" y="0"/>
                </a:lnTo>
                <a:lnTo>
                  <a:pt x="3419" y="0"/>
                </a:lnTo>
                <a:lnTo>
                  <a:pt x="3379" y="0"/>
                </a:lnTo>
                <a:lnTo>
                  <a:pt x="3339" y="0"/>
                </a:lnTo>
                <a:lnTo>
                  <a:pt x="3298" y="0"/>
                </a:lnTo>
                <a:lnTo>
                  <a:pt x="3258" y="0"/>
                </a:lnTo>
                <a:lnTo>
                  <a:pt x="3218" y="0"/>
                </a:lnTo>
                <a:lnTo>
                  <a:pt x="3178" y="0"/>
                </a:lnTo>
                <a:lnTo>
                  <a:pt x="3137" y="0"/>
                </a:lnTo>
                <a:lnTo>
                  <a:pt x="3099" y="0"/>
                </a:lnTo>
                <a:lnTo>
                  <a:pt x="3059" y="0"/>
                </a:lnTo>
                <a:lnTo>
                  <a:pt x="3018" y="0"/>
                </a:lnTo>
                <a:lnTo>
                  <a:pt x="2978" y="0"/>
                </a:lnTo>
                <a:lnTo>
                  <a:pt x="2938" y="0"/>
                </a:lnTo>
                <a:lnTo>
                  <a:pt x="2898" y="0"/>
                </a:lnTo>
                <a:lnTo>
                  <a:pt x="2857" y="0"/>
                </a:lnTo>
                <a:lnTo>
                  <a:pt x="2817" y="0"/>
                </a:lnTo>
                <a:lnTo>
                  <a:pt x="2777" y="0"/>
                </a:lnTo>
                <a:lnTo>
                  <a:pt x="2737" y="0"/>
                </a:lnTo>
                <a:lnTo>
                  <a:pt x="2696" y="0"/>
                </a:lnTo>
                <a:lnTo>
                  <a:pt x="2656" y="0"/>
                </a:lnTo>
                <a:lnTo>
                  <a:pt x="2616" y="0"/>
                </a:lnTo>
                <a:lnTo>
                  <a:pt x="2575" y="0"/>
                </a:lnTo>
                <a:lnTo>
                  <a:pt x="2535" y="0"/>
                </a:lnTo>
                <a:lnTo>
                  <a:pt x="2495" y="0"/>
                </a:lnTo>
                <a:lnTo>
                  <a:pt x="2455" y="0"/>
                </a:lnTo>
                <a:lnTo>
                  <a:pt x="2414" y="0"/>
                </a:lnTo>
                <a:lnTo>
                  <a:pt x="2374" y="0"/>
                </a:lnTo>
                <a:lnTo>
                  <a:pt x="2334" y="0"/>
                </a:lnTo>
                <a:lnTo>
                  <a:pt x="2294" y="0"/>
                </a:lnTo>
                <a:lnTo>
                  <a:pt x="2253" y="0"/>
                </a:lnTo>
                <a:lnTo>
                  <a:pt x="2213" y="0"/>
                </a:lnTo>
                <a:lnTo>
                  <a:pt x="2173" y="0"/>
                </a:lnTo>
                <a:lnTo>
                  <a:pt x="2133" y="0"/>
                </a:lnTo>
                <a:lnTo>
                  <a:pt x="2092" y="0"/>
                </a:lnTo>
                <a:lnTo>
                  <a:pt x="2052" y="0"/>
                </a:lnTo>
                <a:lnTo>
                  <a:pt x="2012" y="0"/>
                </a:lnTo>
                <a:lnTo>
                  <a:pt x="1971" y="0"/>
                </a:lnTo>
                <a:lnTo>
                  <a:pt x="1931" y="0"/>
                </a:lnTo>
                <a:lnTo>
                  <a:pt x="1891" y="0"/>
                </a:lnTo>
                <a:lnTo>
                  <a:pt x="1851" y="0"/>
                </a:lnTo>
                <a:lnTo>
                  <a:pt x="1810" y="0"/>
                </a:lnTo>
                <a:lnTo>
                  <a:pt x="1770" y="0"/>
                </a:lnTo>
                <a:lnTo>
                  <a:pt x="1730" y="0"/>
                </a:lnTo>
                <a:lnTo>
                  <a:pt x="1690" y="0"/>
                </a:lnTo>
                <a:lnTo>
                  <a:pt x="1649" y="0"/>
                </a:lnTo>
                <a:lnTo>
                  <a:pt x="1609" y="0"/>
                </a:lnTo>
                <a:lnTo>
                  <a:pt x="1569" y="0"/>
                </a:lnTo>
                <a:lnTo>
                  <a:pt x="1529" y="0"/>
                </a:lnTo>
                <a:lnTo>
                  <a:pt x="1488" y="0"/>
                </a:lnTo>
                <a:lnTo>
                  <a:pt x="1448" y="0"/>
                </a:lnTo>
                <a:lnTo>
                  <a:pt x="1408" y="0"/>
                </a:lnTo>
                <a:lnTo>
                  <a:pt x="1367" y="0"/>
                </a:lnTo>
                <a:lnTo>
                  <a:pt x="1327" y="0"/>
                </a:lnTo>
                <a:lnTo>
                  <a:pt x="1287" y="0"/>
                </a:lnTo>
                <a:lnTo>
                  <a:pt x="1247" y="0"/>
                </a:lnTo>
                <a:lnTo>
                  <a:pt x="1206" y="0"/>
                </a:lnTo>
                <a:lnTo>
                  <a:pt x="1166" y="0"/>
                </a:lnTo>
                <a:lnTo>
                  <a:pt x="1126" y="0"/>
                </a:lnTo>
                <a:lnTo>
                  <a:pt x="1086" y="0"/>
                </a:lnTo>
                <a:lnTo>
                  <a:pt x="1045" y="0"/>
                </a:lnTo>
                <a:lnTo>
                  <a:pt x="1007" y="0"/>
                </a:lnTo>
                <a:lnTo>
                  <a:pt x="967" y="0"/>
                </a:lnTo>
                <a:lnTo>
                  <a:pt x="926" y="0"/>
                </a:lnTo>
                <a:lnTo>
                  <a:pt x="886" y="0"/>
                </a:lnTo>
                <a:lnTo>
                  <a:pt x="846" y="0"/>
                </a:lnTo>
                <a:lnTo>
                  <a:pt x="806" y="0"/>
                </a:lnTo>
                <a:lnTo>
                  <a:pt x="765" y="0"/>
                </a:lnTo>
                <a:lnTo>
                  <a:pt x="725" y="0"/>
                </a:lnTo>
                <a:lnTo>
                  <a:pt x="685" y="0"/>
                </a:lnTo>
                <a:lnTo>
                  <a:pt x="645" y="0"/>
                </a:lnTo>
                <a:lnTo>
                  <a:pt x="604" y="0"/>
                </a:lnTo>
                <a:lnTo>
                  <a:pt x="564" y="0"/>
                </a:lnTo>
                <a:lnTo>
                  <a:pt x="524" y="0"/>
                </a:lnTo>
                <a:lnTo>
                  <a:pt x="484" y="0"/>
                </a:lnTo>
                <a:lnTo>
                  <a:pt x="443" y="0"/>
                </a:lnTo>
                <a:lnTo>
                  <a:pt x="403" y="0"/>
                </a:lnTo>
                <a:lnTo>
                  <a:pt x="363" y="0"/>
                </a:lnTo>
                <a:lnTo>
                  <a:pt x="322" y="0"/>
                </a:lnTo>
                <a:lnTo>
                  <a:pt x="282" y="0"/>
                </a:lnTo>
                <a:lnTo>
                  <a:pt x="242" y="0"/>
                </a:lnTo>
                <a:lnTo>
                  <a:pt x="202" y="0"/>
                </a:lnTo>
                <a:lnTo>
                  <a:pt x="161" y="0"/>
                </a:lnTo>
                <a:lnTo>
                  <a:pt x="121" y="0"/>
                </a:lnTo>
                <a:lnTo>
                  <a:pt x="81" y="0"/>
                </a:lnTo>
                <a:lnTo>
                  <a:pt x="41" y="0"/>
                </a:lnTo>
                <a:lnTo>
                  <a:pt x="0" y="0"/>
                </a:lnTo>
                <a:lnTo>
                  <a:pt x="0" y="0"/>
                </a:lnTo>
                <a:lnTo>
                  <a:pt x="0" y="189"/>
                </a:lnTo>
                <a:lnTo>
                  <a:pt x="0" y="379"/>
                </a:lnTo>
                <a:lnTo>
                  <a:pt x="0" y="569"/>
                </a:lnTo>
                <a:lnTo>
                  <a:pt x="0" y="759"/>
                </a:lnTo>
                <a:lnTo>
                  <a:pt x="0" y="949"/>
                </a:lnTo>
                <a:lnTo>
                  <a:pt x="0" y="1138"/>
                </a:lnTo>
                <a:lnTo>
                  <a:pt x="0" y="1328"/>
                </a:lnTo>
                <a:lnTo>
                  <a:pt x="0" y="1518"/>
                </a:lnTo>
                <a:lnTo>
                  <a:pt x="0" y="1708"/>
                </a:lnTo>
                <a:lnTo>
                  <a:pt x="0" y="1897"/>
                </a:lnTo>
                <a:lnTo>
                  <a:pt x="0" y="2049"/>
                </a:lnTo>
                <a:close/>
              </a:path>
            </a:pathLst>
          </a:custGeom>
          <a:solidFill>
            <a:srgbClr val="99ff1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
          <p:cNvSpPr/>
          <p:nvPr/>
        </p:nvSpPr>
        <p:spPr>
          <a:xfrm>
            <a:off x="1836720" y="1282680"/>
            <a:ext cx="6037200" cy="4267080"/>
          </a:xfrm>
          <a:custGeom>
            <a:avLst/>
            <a:gdLst/>
            <a:ahLst/>
            <a:rect l="l" t="t" r="r" b="b"/>
            <a:pathLst>
              <a:path w="4184" h="3226">
                <a:moveTo>
                  <a:pt x="0" y="1846"/>
                </a:moveTo>
                <a:lnTo>
                  <a:pt x="41" y="1869"/>
                </a:lnTo>
                <a:lnTo>
                  <a:pt x="81" y="1890"/>
                </a:lnTo>
                <a:lnTo>
                  <a:pt x="96" y="1897"/>
                </a:lnTo>
                <a:lnTo>
                  <a:pt x="121" y="1913"/>
                </a:lnTo>
                <a:lnTo>
                  <a:pt x="161" y="1935"/>
                </a:lnTo>
                <a:lnTo>
                  <a:pt x="202" y="1958"/>
                </a:lnTo>
                <a:lnTo>
                  <a:pt x="242" y="1979"/>
                </a:lnTo>
                <a:lnTo>
                  <a:pt x="282" y="2002"/>
                </a:lnTo>
                <a:lnTo>
                  <a:pt x="322" y="2023"/>
                </a:lnTo>
                <a:lnTo>
                  <a:pt x="363" y="2045"/>
                </a:lnTo>
                <a:lnTo>
                  <a:pt x="403" y="2066"/>
                </a:lnTo>
                <a:lnTo>
                  <a:pt x="441" y="2087"/>
                </a:lnTo>
                <a:lnTo>
                  <a:pt x="443" y="2087"/>
                </a:lnTo>
                <a:lnTo>
                  <a:pt x="484" y="2112"/>
                </a:lnTo>
                <a:lnTo>
                  <a:pt x="524" y="2135"/>
                </a:lnTo>
                <a:lnTo>
                  <a:pt x="564" y="2157"/>
                </a:lnTo>
                <a:lnTo>
                  <a:pt x="604" y="2178"/>
                </a:lnTo>
                <a:lnTo>
                  <a:pt x="645" y="2199"/>
                </a:lnTo>
                <a:lnTo>
                  <a:pt x="685" y="2222"/>
                </a:lnTo>
                <a:lnTo>
                  <a:pt x="725" y="2243"/>
                </a:lnTo>
                <a:lnTo>
                  <a:pt x="765" y="2266"/>
                </a:lnTo>
                <a:lnTo>
                  <a:pt x="786" y="2277"/>
                </a:lnTo>
                <a:lnTo>
                  <a:pt x="806" y="2286"/>
                </a:lnTo>
                <a:lnTo>
                  <a:pt x="846" y="2309"/>
                </a:lnTo>
                <a:lnTo>
                  <a:pt x="886" y="2332"/>
                </a:lnTo>
                <a:lnTo>
                  <a:pt x="926" y="2355"/>
                </a:lnTo>
                <a:lnTo>
                  <a:pt x="967" y="2378"/>
                </a:lnTo>
                <a:lnTo>
                  <a:pt x="1007" y="2398"/>
                </a:lnTo>
                <a:lnTo>
                  <a:pt x="1045" y="2421"/>
                </a:lnTo>
                <a:lnTo>
                  <a:pt x="1086" y="2442"/>
                </a:lnTo>
                <a:lnTo>
                  <a:pt x="1126" y="2463"/>
                </a:lnTo>
                <a:lnTo>
                  <a:pt x="1134" y="2467"/>
                </a:lnTo>
                <a:lnTo>
                  <a:pt x="1166" y="2486"/>
                </a:lnTo>
                <a:lnTo>
                  <a:pt x="1206" y="2509"/>
                </a:lnTo>
                <a:lnTo>
                  <a:pt x="1247" y="2531"/>
                </a:lnTo>
                <a:lnTo>
                  <a:pt x="1287" y="2554"/>
                </a:lnTo>
                <a:lnTo>
                  <a:pt x="1327" y="2575"/>
                </a:lnTo>
                <a:lnTo>
                  <a:pt x="1367" y="2598"/>
                </a:lnTo>
                <a:lnTo>
                  <a:pt x="1408" y="2619"/>
                </a:lnTo>
                <a:lnTo>
                  <a:pt x="1448" y="2641"/>
                </a:lnTo>
                <a:lnTo>
                  <a:pt x="1479" y="2657"/>
                </a:lnTo>
                <a:lnTo>
                  <a:pt x="1488" y="2662"/>
                </a:lnTo>
                <a:lnTo>
                  <a:pt x="1529" y="2685"/>
                </a:lnTo>
                <a:lnTo>
                  <a:pt x="1569" y="2708"/>
                </a:lnTo>
                <a:lnTo>
                  <a:pt x="1609" y="2731"/>
                </a:lnTo>
                <a:lnTo>
                  <a:pt x="1649" y="2751"/>
                </a:lnTo>
                <a:lnTo>
                  <a:pt x="1690" y="2774"/>
                </a:lnTo>
                <a:lnTo>
                  <a:pt x="1730" y="2797"/>
                </a:lnTo>
                <a:lnTo>
                  <a:pt x="1770" y="2818"/>
                </a:lnTo>
                <a:lnTo>
                  <a:pt x="1810" y="2839"/>
                </a:lnTo>
                <a:lnTo>
                  <a:pt x="1824" y="2846"/>
                </a:lnTo>
                <a:lnTo>
                  <a:pt x="1851" y="2861"/>
                </a:lnTo>
                <a:lnTo>
                  <a:pt x="1891" y="2884"/>
                </a:lnTo>
                <a:lnTo>
                  <a:pt x="1931" y="2907"/>
                </a:lnTo>
                <a:lnTo>
                  <a:pt x="1971" y="2930"/>
                </a:lnTo>
                <a:lnTo>
                  <a:pt x="2012" y="2951"/>
                </a:lnTo>
                <a:lnTo>
                  <a:pt x="2052" y="2973"/>
                </a:lnTo>
                <a:lnTo>
                  <a:pt x="2092" y="2994"/>
                </a:lnTo>
                <a:lnTo>
                  <a:pt x="2133" y="3015"/>
                </a:lnTo>
                <a:lnTo>
                  <a:pt x="2169" y="3036"/>
                </a:lnTo>
                <a:lnTo>
                  <a:pt x="2173" y="3038"/>
                </a:lnTo>
                <a:lnTo>
                  <a:pt x="2213" y="3061"/>
                </a:lnTo>
                <a:lnTo>
                  <a:pt x="2253" y="3084"/>
                </a:lnTo>
                <a:lnTo>
                  <a:pt x="2294" y="3106"/>
                </a:lnTo>
                <a:lnTo>
                  <a:pt x="2334" y="3127"/>
                </a:lnTo>
                <a:lnTo>
                  <a:pt x="2374" y="3150"/>
                </a:lnTo>
                <a:lnTo>
                  <a:pt x="2414" y="3171"/>
                </a:lnTo>
                <a:lnTo>
                  <a:pt x="2455" y="3194"/>
                </a:lnTo>
                <a:lnTo>
                  <a:pt x="2495" y="3214"/>
                </a:lnTo>
                <a:lnTo>
                  <a:pt x="2516" y="3226"/>
                </a:lnTo>
                <a:lnTo>
                  <a:pt x="2535" y="3226"/>
                </a:lnTo>
                <a:lnTo>
                  <a:pt x="2575" y="3226"/>
                </a:lnTo>
                <a:lnTo>
                  <a:pt x="2616" y="3226"/>
                </a:lnTo>
                <a:lnTo>
                  <a:pt x="2656" y="3226"/>
                </a:lnTo>
                <a:lnTo>
                  <a:pt x="2696" y="3226"/>
                </a:lnTo>
                <a:lnTo>
                  <a:pt x="2737" y="3226"/>
                </a:lnTo>
                <a:lnTo>
                  <a:pt x="2777" y="3226"/>
                </a:lnTo>
                <a:lnTo>
                  <a:pt x="2817" y="3226"/>
                </a:lnTo>
                <a:lnTo>
                  <a:pt x="2857" y="3226"/>
                </a:lnTo>
                <a:lnTo>
                  <a:pt x="2898" y="3226"/>
                </a:lnTo>
                <a:lnTo>
                  <a:pt x="2938" y="3226"/>
                </a:lnTo>
                <a:lnTo>
                  <a:pt x="2978" y="3226"/>
                </a:lnTo>
                <a:lnTo>
                  <a:pt x="3018" y="3226"/>
                </a:lnTo>
                <a:lnTo>
                  <a:pt x="3059" y="3226"/>
                </a:lnTo>
                <a:lnTo>
                  <a:pt x="3099" y="3226"/>
                </a:lnTo>
                <a:lnTo>
                  <a:pt x="3137" y="3226"/>
                </a:lnTo>
                <a:lnTo>
                  <a:pt x="3178" y="3226"/>
                </a:lnTo>
                <a:lnTo>
                  <a:pt x="3218" y="3226"/>
                </a:lnTo>
                <a:lnTo>
                  <a:pt x="3258" y="3226"/>
                </a:lnTo>
                <a:lnTo>
                  <a:pt x="3298" y="3226"/>
                </a:lnTo>
                <a:lnTo>
                  <a:pt x="3339" y="3226"/>
                </a:lnTo>
                <a:lnTo>
                  <a:pt x="3379" y="3226"/>
                </a:lnTo>
                <a:lnTo>
                  <a:pt x="3419" y="3226"/>
                </a:lnTo>
                <a:lnTo>
                  <a:pt x="3459" y="3226"/>
                </a:lnTo>
                <a:lnTo>
                  <a:pt x="3500" y="3226"/>
                </a:lnTo>
                <a:lnTo>
                  <a:pt x="3540" y="3226"/>
                </a:lnTo>
                <a:lnTo>
                  <a:pt x="3580" y="3226"/>
                </a:lnTo>
                <a:lnTo>
                  <a:pt x="3620" y="3226"/>
                </a:lnTo>
                <a:lnTo>
                  <a:pt x="3661" y="3226"/>
                </a:lnTo>
                <a:lnTo>
                  <a:pt x="3701" y="3226"/>
                </a:lnTo>
                <a:lnTo>
                  <a:pt x="3741" y="3226"/>
                </a:lnTo>
                <a:lnTo>
                  <a:pt x="3782" y="3226"/>
                </a:lnTo>
                <a:lnTo>
                  <a:pt x="3822" y="3226"/>
                </a:lnTo>
                <a:lnTo>
                  <a:pt x="3862" y="3226"/>
                </a:lnTo>
                <a:lnTo>
                  <a:pt x="3902" y="3226"/>
                </a:lnTo>
                <a:lnTo>
                  <a:pt x="3943" y="3226"/>
                </a:lnTo>
                <a:lnTo>
                  <a:pt x="3983" y="3226"/>
                </a:lnTo>
                <a:lnTo>
                  <a:pt x="4023" y="3226"/>
                </a:lnTo>
                <a:lnTo>
                  <a:pt x="4063" y="3226"/>
                </a:lnTo>
                <a:lnTo>
                  <a:pt x="4104" y="3226"/>
                </a:lnTo>
                <a:lnTo>
                  <a:pt x="4144" y="3226"/>
                </a:lnTo>
                <a:lnTo>
                  <a:pt x="4184" y="3226"/>
                </a:lnTo>
                <a:lnTo>
                  <a:pt x="4184" y="3226"/>
                </a:lnTo>
                <a:lnTo>
                  <a:pt x="4184" y="3036"/>
                </a:lnTo>
                <a:lnTo>
                  <a:pt x="4184" y="2846"/>
                </a:lnTo>
                <a:lnTo>
                  <a:pt x="4184" y="2657"/>
                </a:lnTo>
                <a:lnTo>
                  <a:pt x="4184" y="2467"/>
                </a:lnTo>
                <a:lnTo>
                  <a:pt x="4184" y="2277"/>
                </a:lnTo>
                <a:lnTo>
                  <a:pt x="4184" y="2087"/>
                </a:lnTo>
                <a:lnTo>
                  <a:pt x="4184" y="1897"/>
                </a:lnTo>
                <a:lnTo>
                  <a:pt x="4184" y="1708"/>
                </a:lnTo>
                <a:lnTo>
                  <a:pt x="4184" y="1518"/>
                </a:lnTo>
                <a:lnTo>
                  <a:pt x="4184" y="1328"/>
                </a:lnTo>
                <a:lnTo>
                  <a:pt x="4184" y="1138"/>
                </a:lnTo>
                <a:lnTo>
                  <a:pt x="4184" y="949"/>
                </a:lnTo>
                <a:lnTo>
                  <a:pt x="4184" y="759"/>
                </a:lnTo>
                <a:lnTo>
                  <a:pt x="4184" y="569"/>
                </a:lnTo>
                <a:lnTo>
                  <a:pt x="4184" y="379"/>
                </a:lnTo>
                <a:lnTo>
                  <a:pt x="4184" y="189"/>
                </a:lnTo>
                <a:lnTo>
                  <a:pt x="4184" y="0"/>
                </a:lnTo>
                <a:lnTo>
                  <a:pt x="4144" y="0"/>
                </a:lnTo>
                <a:lnTo>
                  <a:pt x="4104" y="0"/>
                </a:lnTo>
                <a:lnTo>
                  <a:pt x="4063" y="0"/>
                </a:lnTo>
                <a:lnTo>
                  <a:pt x="4023" y="0"/>
                </a:lnTo>
                <a:lnTo>
                  <a:pt x="3983" y="0"/>
                </a:lnTo>
                <a:lnTo>
                  <a:pt x="3943" y="0"/>
                </a:lnTo>
                <a:lnTo>
                  <a:pt x="3902" y="0"/>
                </a:lnTo>
                <a:lnTo>
                  <a:pt x="3862" y="0"/>
                </a:lnTo>
                <a:lnTo>
                  <a:pt x="3822" y="0"/>
                </a:lnTo>
                <a:lnTo>
                  <a:pt x="3782" y="0"/>
                </a:lnTo>
                <a:lnTo>
                  <a:pt x="3741" y="0"/>
                </a:lnTo>
                <a:lnTo>
                  <a:pt x="3701" y="0"/>
                </a:lnTo>
                <a:lnTo>
                  <a:pt x="3661" y="0"/>
                </a:lnTo>
                <a:lnTo>
                  <a:pt x="3620" y="0"/>
                </a:lnTo>
                <a:lnTo>
                  <a:pt x="3580" y="0"/>
                </a:lnTo>
                <a:lnTo>
                  <a:pt x="3540" y="0"/>
                </a:lnTo>
                <a:lnTo>
                  <a:pt x="3500" y="0"/>
                </a:lnTo>
                <a:lnTo>
                  <a:pt x="3459" y="0"/>
                </a:lnTo>
                <a:lnTo>
                  <a:pt x="3419" y="0"/>
                </a:lnTo>
                <a:lnTo>
                  <a:pt x="3379" y="0"/>
                </a:lnTo>
                <a:lnTo>
                  <a:pt x="3339" y="0"/>
                </a:lnTo>
                <a:lnTo>
                  <a:pt x="3298" y="0"/>
                </a:lnTo>
                <a:lnTo>
                  <a:pt x="3258" y="0"/>
                </a:lnTo>
                <a:lnTo>
                  <a:pt x="3218" y="0"/>
                </a:lnTo>
                <a:lnTo>
                  <a:pt x="3178" y="0"/>
                </a:lnTo>
                <a:lnTo>
                  <a:pt x="3137" y="0"/>
                </a:lnTo>
                <a:lnTo>
                  <a:pt x="3099" y="0"/>
                </a:lnTo>
                <a:lnTo>
                  <a:pt x="3059" y="0"/>
                </a:lnTo>
                <a:lnTo>
                  <a:pt x="3018" y="0"/>
                </a:lnTo>
                <a:lnTo>
                  <a:pt x="2978" y="0"/>
                </a:lnTo>
                <a:lnTo>
                  <a:pt x="2938" y="0"/>
                </a:lnTo>
                <a:lnTo>
                  <a:pt x="2898" y="0"/>
                </a:lnTo>
                <a:lnTo>
                  <a:pt x="2857" y="0"/>
                </a:lnTo>
                <a:lnTo>
                  <a:pt x="2817" y="0"/>
                </a:lnTo>
                <a:lnTo>
                  <a:pt x="2777" y="0"/>
                </a:lnTo>
                <a:lnTo>
                  <a:pt x="2737" y="0"/>
                </a:lnTo>
                <a:lnTo>
                  <a:pt x="2696" y="0"/>
                </a:lnTo>
                <a:lnTo>
                  <a:pt x="2656" y="0"/>
                </a:lnTo>
                <a:lnTo>
                  <a:pt x="2616" y="0"/>
                </a:lnTo>
                <a:lnTo>
                  <a:pt x="2575" y="0"/>
                </a:lnTo>
                <a:lnTo>
                  <a:pt x="2535" y="0"/>
                </a:lnTo>
                <a:lnTo>
                  <a:pt x="2495" y="0"/>
                </a:lnTo>
                <a:lnTo>
                  <a:pt x="2455" y="0"/>
                </a:lnTo>
                <a:lnTo>
                  <a:pt x="2414" y="0"/>
                </a:lnTo>
                <a:lnTo>
                  <a:pt x="2374" y="0"/>
                </a:lnTo>
                <a:lnTo>
                  <a:pt x="2334" y="0"/>
                </a:lnTo>
                <a:lnTo>
                  <a:pt x="2294" y="0"/>
                </a:lnTo>
                <a:lnTo>
                  <a:pt x="2253" y="0"/>
                </a:lnTo>
                <a:lnTo>
                  <a:pt x="2213" y="0"/>
                </a:lnTo>
                <a:lnTo>
                  <a:pt x="2173" y="0"/>
                </a:lnTo>
                <a:lnTo>
                  <a:pt x="2133" y="0"/>
                </a:lnTo>
                <a:lnTo>
                  <a:pt x="2092" y="0"/>
                </a:lnTo>
                <a:lnTo>
                  <a:pt x="2052" y="0"/>
                </a:lnTo>
                <a:lnTo>
                  <a:pt x="2012" y="0"/>
                </a:lnTo>
                <a:lnTo>
                  <a:pt x="1971" y="0"/>
                </a:lnTo>
                <a:lnTo>
                  <a:pt x="1931" y="0"/>
                </a:lnTo>
                <a:lnTo>
                  <a:pt x="1891" y="0"/>
                </a:lnTo>
                <a:lnTo>
                  <a:pt x="1851" y="0"/>
                </a:lnTo>
                <a:lnTo>
                  <a:pt x="1810" y="0"/>
                </a:lnTo>
                <a:lnTo>
                  <a:pt x="1770" y="0"/>
                </a:lnTo>
                <a:lnTo>
                  <a:pt x="1730" y="0"/>
                </a:lnTo>
                <a:lnTo>
                  <a:pt x="1690" y="0"/>
                </a:lnTo>
                <a:lnTo>
                  <a:pt x="1649" y="0"/>
                </a:lnTo>
                <a:lnTo>
                  <a:pt x="1609" y="0"/>
                </a:lnTo>
                <a:lnTo>
                  <a:pt x="1569" y="0"/>
                </a:lnTo>
                <a:lnTo>
                  <a:pt x="1529" y="0"/>
                </a:lnTo>
                <a:lnTo>
                  <a:pt x="1488" y="0"/>
                </a:lnTo>
                <a:lnTo>
                  <a:pt x="1448" y="0"/>
                </a:lnTo>
                <a:lnTo>
                  <a:pt x="1408" y="0"/>
                </a:lnTo>
                <a:lnTo>
                  <a:pt x="1367" y="0"/>
                </a:lnTo>
                <a:lnTo>
                  <a:pt x="1327" y="0"/>
                </a:lnTo>
                <a:lnTo>
                  <a:pt x="1287" y="0"/>
                </a:lnTo>
                <a:lnTo>
                  <a:pt x="1247" y="0"/>
                </a:lnTo>
                <a:lnTo>
                  <a:pt x="1206" y="0"/>
                </a:lnTo>
                <a:lnTo>
                  <a:pt x="1166" y="0"/>
                </a:lnTo>
                <a:lnTo>
                  <a:pt x="1126" y="0"/>
                </a:lnTo>
                <a:lnTo>
                  <a:pt x="1086" y="0"/>
                </a:lnTo>
                <a:lnTo>
                  <a:pt x="1045" y="0"/>
                </a:lnTo>
                <a:lnTo>
                  <a:pt x="1007" y="0"/>
                </a:lnTo>
                <a:lnTo>
                  <a:pt x="967" y="0"/>
                </a:lnTo>
                <a:lnTo>
                  <a:pt x="926" y="0"/>
                </a:lnTo>
                <a:lnTo>
                  <a:pt x="886" y="0"/>
                </a:lnTo>
                <a:lnTo>
                  <a:pt x="846" y="0"/>
                </a:lnTo>
                <a:lnTo>
                  <a:pt x="806" y="0"/>
                </a:lnTo>
                <a:lnTo>
                  <a:pt x="765" y="0"/>
                </a:lnTo>
                <a:lnTo>
                  <a:pt x="725" y="0"/>
                </a:lnTo>
                <a:lnTo>
                  <a:pt x="685" y="0"/>
                </a:lnTo>
                <a:lnTo>
                  <a:pt x="645" y="0"/>
                </a:lnTo>
                <a:lnTo>
                  <a:pt x="604" y="0"/>
                </a:lnTo>
                <a:lnTo>
                  <a:pt x="564" y="0"/>
                </a:lnTo>
                <a:lnTo>
                  <a:pt x="524" y="0"/>
                </a:lnTo>
                <a:lnTo>
                  <a:pt x="484" y="0"/>
                </a:lnTo>
                <a:lnTo>
                  <a:pt x="443" y="0"/>
                </a:lnTo>
                <a:lnTo>
                  <a:pt x="403" y="0"/>
                </a:lnTo>
                <a:lnTo>
                  <a:pt x="363" y="0"/>
                </a:lnTo>
                <a:lnTo>
                  <a:pt x="322" y="0"/>
                </a:lnTo>
                <a:lnTo>
                  <a:pt x="282" y="0"/>
                </a:lnTo>
                <a:lnTo>
                  <a:pt x="242" y="0"/>
                </a:lnTo>
                <a:lnTo>
                  <a:pt x="202" y="0"/>
                </a:lnTo>
                <a:lnTo>
                  <a:pt x="161" y="0"/>
                </a:lnTo>
                <a:lnTo>
                  <a:pt x="121" y="0"/>
                </a:lnTo>
                <a:lnTo>
                  <a:pt x="81" y="0"/>
                </a:lnTo>
                <a:lnTo>
                  <a:pt x="41" y="0"/>
                </a:lnTo>
                <a:lnTo>
                  <a:pt x="0" y="0"/>
                </a:lnTo>
                <a:lnTo>
                  <a:pt x="0" y="0"/>
                </a:lnTo>
                <a:lnTo>
                  <a:pt x="0" y="189"/>
                </a:lnTo>
                <a:lnTo>
                  <a:pt x="0" y="379"/>
                </a:lnTo>
                <a:lnTo>
                  <a:pt x="0" y="569"/>
                </a:lnTo>
                <a:lnTo>
                  <a:pt x="0" y="759"/>
                </a:lnTo>
                <a:lnTo>
                  <a:pt x="0" y="949"/>
                </a:lnTo>
                <a:lnTo>
                  <a:pt x="0" y="1138"/>
                </a:lnTo>
                <a:lnTo>
                  <a:pt x="0" y="1328"/>
                </a:lnTo>
                <a:lnTo>
                  <a:pt x="0" y="1518"/>
                </a:lnTo>
                <a:lnTo>
                  <a:pt x="0" y="1708"/>
                </a:lnTo>
                <a:lnTo>
                  <a:pt x="0" y="1846"/>
                </a:lnTo>
                <a:close/>
              </a:path>
            </a:pathLst>
          </a:custGeom>
          <a:solidFill>
            <a:srgbClr val="ccff0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1" name=""/>
          <p:cNvSpPr/>
          <p:nvPr/>
        </p:nvSpPr>
        <p:spPr>
          <a:xfrm>
            <a:off x="1836720" y="1282680"/>
            <a:ext cx="6037200" cy="4267080"/>
          </a:xfrm>
          <a:custGeom>
            <a:avLst/>
            <a:gdLst/>
            <a:ahLst/>
            <a:rect l="l" t="t" r="r" b="b"/>
            <a:pathLst>
              <a:path w="4184" h="3226">
                <a:moveTo>
                  <a:pt x="0" y="1660"/>
                </a:moveTo>
                <a:lnTo>
                  <a:pt x="41" y="1683"/>
                </a:lnTo>
                <a:lnTo>
                  <a:pt x="81" y="1706"/>
                </a:lnTo>
                <a:lnTo>
                  <a:pt x="85" y="1708"/>
                </a:lnTo>
                <a:lnTo>
                  <a:pt x="121" y="1729"/>
                </a:lnTo>
                <a:lnTo>
                  <a:pt x="161" y="1749"/>
                </a:lnTo>
                <a:lnTo>
                  <a:pt x="202" y="1770"/>
                </a:lnTo>
                <a:lnTo>
                  <a:pt x="242" y="1793"/>
                </a:lnTo>
                <a:lnTo>
                  <a:pt x="282" y="1816"/>
                </a:lnTo>
                <a:lnTo>
                  <a:pt x="322" y="1837"/>
                </a:lnTo>
                <a:lnTo>
                  <a:pt x="363" y="1859"/>
                </a:lnTo>
                <a:lnTo>
                  <a:pt x="403" y="1882"/>
                </a:lnTo>
                <a:lnTo>
                  <a:pt x="432" y="1897"/>
                </a:lnTo>
                <a:lnTo>
                  <a:pt x="443" y="1903"/>
                </a:lnTo>
                <a:lnTo>
                  <a:pt x="484" y="1926"/>
                </a:lnTo>
                <a:lnTo>
                  <a:pt x="524" y="1949"/>
                </a:lnTo>
                <a:lnTo>
                  <a:pt x="564" y="1970"/>
                </a:lnTo>
                <a:lnTo>
                  <a:pt x="604" y="1992"/>
                </a:lnTo>
                <a:lnTo>
                  <a:pt x="645" y="2015"/>
                </a:lnTo>
                <a:lnTo>
                  <a:pt x="685" y="2036"/>
                </a:lnTo>
                <a:lnTo>
                  <a:pt x="725" y="2059"/>
                </a:lnTo>
                <a:lnTo>
                  <a:pt x="765" y="2080"/>
                </a:lnTo>
                <a:lnTo>
                  <a:pt x="777" y="2087"/>
                </a:lnTo>
                <a:lnTo>
                  <a:pt x="806" y="2102"/>
                </a:lnTo>
                <a:lnTo>
                  <a:pt x="846" y="2125"/>
                </a:lnTo>
                <a:lnTo>
                  <a:pt x="886" y="2146"/>
                </a:lnTo>
                <a:lnTo>
                  <a:pt x="926" y="2169"/>
                </a:lnTo>
                <a:lnTo>
                  <a:pt x="967" y="2192"/>
                </a:lnTo>
                <a:lnTo>
                  <a:pt x="1007" y="2212"/>
                </a:lnTo>
                <a:lnTo>
                  <a:pt x="1045" y="2235"/>
                </a:lnTo>
                <a:lnTo>
                  <a:pt x="1086" y="2256"/>
                </a:lnTo>
                <a:lnTo>
                  <a:pt x="1122" y="2277"/>
                </a:lnTo>
                <a:lnTo>
                  <a:pt x="1126" y="2279"/>
                </a:lnTo>
                <a:lnTo>
                  <a:pt x="1166" y="2302"/>
                </a:lnTo>
                <a:lnTo>
                  <a:pt x="1206" y="2324"/>
                </a:lnTo>
                <a:lnTo>
                  <a:pt x="1247" y="2345"/>
                </a:lnTo>
                <a:lnTo>
                  <a:pt x="1287" y="2368"/>
                </a:lnTo>
                <a:lnTo>
                  <a:pt x="1327" y="2389"/>
                </a:lnTo>
                <a:lnTo>
                  <a:pt x="1367" y="2412"/>
                </a:lnTo>
                <a:lnTo>
                  <a:pt x="1408" y="2433"/>
                </a:lnTo>
                <a:lnTo>
                  <a:pt x="1448" y="2455"/>
                </a:lnTo>
                <a:lnTo>
                  <a:pt x="1469" y="2467"/>
                </a:lnTo>
                <a:lnTo>
                  <a:pt x="1488" y="2478"/>
                </a:lnTo>
                <a:lnTo>
                  <a:pt x="1529" y="2501"/>
                </a:lnTo>
                <a:lnTo>
                  <a:pt x="1569" y="2522"/>
                </a:lnTo>
                <a:lnTo>
                  <a:pt x="1609" y="2545"/>
                </a:lnTo>
                <a:lnTo>
                  <a:pt x="1649" y="2565"/>
                </a:lnTo>
                <a:lnTo>
                  <a:pt x="1690" y="2588"/>
                </a:lnTo>
                <a:lnTo>
                  <a:pt x="1730" y="2611"/>
                </a:lnTo>
                <a:lnTo>
                  <a:pt x="1770" y="2632"/>
                </a:lnTo>
                <a:lnTo>
                  <a:pt x="1810" y="2655"/>
                </a:lnTo>
                <a:lnTo>
                  <a:pt x="1814" y="2657"/>
                </a:lnTo>
                <a:lnTo>
                  <a:pt x="1851" y="2677"/>
                </a:lnTo>
                <a:lnTo>
                  <a:pt x="1891" y="2698"/>
                </a:lnTo>
                <a:lnTo>
                  <a:pt x="1931" y="2721"/>
                </a:lnTo>
                <a:lnTo>
                  <a:pt x="1971" y="2744"/>
                </a:lnTo>
                <a:lnTo>
                  <a:pt x="2012" y="2765"/>
                </a:lnTo>
                <a:lnTo>
                  <a:pt x="2052" y="2787"/>
                </a:lnTo>
                <a:lnTo>
                  <a:pt x="2092" y="2808"/>
                </a:lnTo>
                <a:lnTo>
                  <a:pt x="2133" y="2831"/>
                </a:lnTo>
                <a:lnTo>
                  <a:pt x="2159" y="2846"/>
                </a:lnTo>
                <a:lnTo>
                  <a:pt x="2173" y="2854"/>
                </a:lnTo>
                <a:lnTo>
                  <a:pt x="2213" y="2877"/>
                </a:lnTo>
                <a:lnTo>
                  <a:pt x="2253" y="2898"/>
                </a:lnTo>
                <a:lnTo>
                  <a:pt x="2294" y="2918"/>
                </a:lnTo>
                <a:lnTo>
                  <a:pt x="2334" y="2941"/>
                </a:lnTo>
                <a:lnTo>
                  <a:pt x="2374" y="2964"/>
                </a:lnTo>
                <a:lnTo>
                  <a:pt x="2414" y="2985"/>
                </a:lnTo>
                <a:lnTo>
                  <a:pt x="2455" y="3008"/>
                </a:lnTo>
                <a:lnTo>
                  <a:pt x="2495" y="3030"/>
                </a:lnTo>
                <a:lnTo>
                  <a:pt x="2506" y="3036"/>
                </a:lnTo>
                <a:lnTo>
                  <a:pt x="2535" y="3051"/>
                </a:lnTo>
                <a:lnTo>
                  <a:pt x="2575" y="3074"/>
                </a:lnTo>
                <a:lnTo>
                  <a:pt x="2616" y="3097"/>
                </a:lnTo>
                <a:lnTo>
                  <a:pt x="2656" y="3118"/>
                </a:lnTo>
                <a:lnTo>
                  <a:pt x="2696" y="3140"/>
                </a:lnTo>
                <a:lnTo>
                  <a:pt x="2737" y="3163"/>
                </a:lnTo>
                <a:lnTo>
                  <a:pt x="2777" y="3184"/>
                </a:lnTo>
                <a:lnTo>
                  <a:pt x="2817" y="3205"/>
                </a:lnTo>
                <a:lnTo>
                  <a:pt x="2852" y="3226"/>
                </a:lnTo>
                <a:lnTo>
                  <a:pt x="2857" y="3226"/>
                </a:lnTo>
                <a:lnTo>
                  <a:pt x="2898" y="3226"/>
                </a:lnTo>
                <a:lnTo>
                  <a:pt x="2938" y="3226"/>
                </a:lnTo>
                <a:lnTo>
                  <a:pt x="2978" y="3226"/>
                </a:lnTo>
                <a:lnTo>
                  <a:pt x="3018" y="3226"/>
                </a:lnTo>
                <a:lnTo>
                  <a:pt x="3059" y="3226"/>
                </a:lnTo>
                <a:lnTo>
                  <a:pt x="3099" y="3226"/>
                </a:lnTo>
                <a:lnTo>
                  <a:pt x="3137" y="3226"/>
                </a:lnTo>
                <a:lnTo>
                  <a:pt x="3178" y="3226"/>
                </a:lnTo>
                <a:lnTo>
                  <a:pt x="3218" y="3226"/>
                </a:lnTo>
                <a:lnTo>
                  <a:pt x="3258" y="3226"/>
                </a:lnTo>
                <a:lnTo>
                  <a:pt x="3298" y="3226"/>
                </a:lnTo>
                <a:lnTo>
                  <a:pt x="3339" y="3226"/>
                </a:lnTo>
                <a:lnTo>
                  <a:pt x="3379" y="3226"/>
                </a:lnTo>
                <a:lnTo>
                  <a:pt x="3419" y="3226"/>
                </a:lnTo>
                <a:lnTo>
                  <a:pt x="3459" y="3226"/>
                </a:lnTo>
                <a:lnTo>
                  <a:pt x="3500" y="3226"/>
                </a:lnTo>
                <a:lnTo>
                  <a:pt x="3540" y="3226"/>
                </a:lnTo>
                <a:lnTo>
                  <a:pt x="3580" y="3226"/>
                </a:lnTo>
                <a:lnTo>
                  <a:pt x="3620" y="3226"/>
                </a:lnTo>
                <a:lnTo>
                  <a:pt x="3661" y="3226"/>
                </a:lnTo>
                <a:lnTo>
                  <a:pt x="3701" y="3226"/>
                </a:lnTo>
                <a:lnTo>
                  <a:pt x="3741" y="3226"/>
                </a:lnTo>
                <a:lnTo>
                  <a:pt x="3782" y="3226"/>
                </a:lnTo>
                <a:lnTo>
                  <a:pt x="3822" y="3226"/>
                </a:lnTo>
                <a:lnTo>
                  <a:pt x="3862" y="3226"/>
                </a:lnTo>
                <a:lnTo>
                  <a:pt x="3902" y="3226"/>
                </a:lnTo>
                <a:lnTo>
                  <a:pt x="3943" y="3226"/>
                </a:lnTo>
                <a:lnTo>
                  <a:pt x="3983" y="3226"/>
                </a:lnTo>
                <a:lnTo>
                  <a:pt x="4023" y="3226"/>
                </a:lnTo>
                <a:lnTo>
                  <a:pt x="4063" y="3226"/>
                </a:lnTo>
                <a:lnTo>
                  <a:pt x="4104" y="3226"/>
                </a:lnTo>
                <a:lnTo>
                  <a:pt x="4144" y="3226"/>
                </a:lnTo>
                <a:lnTo>
                  <a:pt x="4184" y="3226"/>
                </a:lnTo>
                <a:lnTo>
                  <a:pt x="4184" y="3226"/>
                </a:lnTo>
                <a:lnTo>
                  <a:pt x="4184" y="3036"/>
                </a:lnTo>
                <a:lnTo>
                  <a:pt x="4184" y="2846"/>
                </a:lnTo>
                <a:lnTo>
                  <a:pt x="4184" y="2657"/>
                </a:lnTo>
                <a:lnTo>
                  <a:pt x="4184" y="2467"/>
                </a:lnTo>
                <a:lnTo>
                  <a:pt x="4184" y="2277"/>
                </a:lnTo>
                <a:lnTo>
                  <a:pt x="4184" y="2087"/>
                </a:lnTo>
                <a:lnTo>
                  <a:pt x="4184" y="1897"/>
                </a:lnTo>
                <a:lnTo>
                  <a:pt x="4184" y="1708"/>
                </a:lnTo>
                <a:lnTo>
                  <a:pt x="4184" y="1518"/>
                </a:lnTo>
                <a:lnTo>
                  <a:pt x="4184" y="1328"/>
                </a:lnTo>
                <a:lnTo>
                  <a:pt x="4184" y="1138"/>
                </a:lnTo>
                <a:lnTo>
                  <a:pt x="4184" y="949"/>
                </a:lnTo>
                <a:lnTo>
                  <a:pt x="4184" y="759"/>
                </a:lnTo>
                <a:lnTo>
                  <a:pt x="4184" y="569"/>
                </a:lnTo>
                <a:lnTo>
                  <a:pt x="4184" y="379"/>
                </a:lnTo>
                <a:lnTo>
                  <a:pt x="4184" y="189"/>
                </a:lnTo>
                <a:lnTo>
                  <a:pt x="4184" y="0"/>
                </a:lnTo>
                <a:lnTo>
                  <a:pt x="4144" y="0"/>
                </a:lnTo>
                <a:lnTo>
                  <a:pt x="4104" y="0"/>
                </a:lnTo>
                <a:lnTo>
                  <a:pt x="4063" y="0"/>
                </a:lnTo>
                <a:lnTo>
                  <a:pt x="4023" y="0"/>
                </a:lnTo>
                <a:lnTo>
                  <a:pt x="3983" y="0"/>
                </a:lnTo>
                <a:lnTo>
                  <a:pt x="3943" y="0"/>
                </a:lnTo>
                <a:lnTo>
                  <a:pt x="3902" y="0"/>
                </a:lnTo>
                <a:lnTo>
                  <a:pt x="3862" y="0"/>
                </a:lnTo>
                <a:lnTo>
                  <a:pt x="3822" y="0"/>
                </a:lnTo>
                <a:lnTo>
                  <a:pt x="3782" y="0"/>
                </a:lnTo>
                <a:lnTo>
                  <a:pt x="3741" y="0"/>
                </a:lnTo>
                <a:lnTo>
                  <a:pt x="3701" y="0"/>
                </a:lnTo>
                <a:lnTo>
                  <a:pt x="3661" y="0"/>
                </a:lnTo>
                <a:lnTo>
                  <a:pt x="3620" y="0"/>
                </a:lnTo>
                <a:lnTo>
                  <a:pt x="3580" y="0"/>
                </a:lnTo>
                <a:lnTo>
                  <a:pt x="3540" y="0"/>
                </a:lnTo>
                <a:lnTo>
                  <a:pt x="3500" y="0"/>
                </a:lnTo>
                <a:lnTo>
                  <a:pt x="3459" y="0"/>
                </a:lnTo>
                <a:lnTo>
                  <a:pt x="3419" y="0"/>
                </a:lnTo>
                <a:lnTo>
                  <a:pt x="3379" y="0"/>
                </a:lnTo>
                <a:lnTo>
                  <a:pt x="3339" y="0"/>
                </a:lnTo>
                <a:lnTo>
                  <a:pt x="3298" y="0"/>
                </a:lnTo>
                <a:lnTo>
                  <a:pt x="3258" y="0"/>
                </a:lnTo>
                <a:lnTo>
                  <a:pt x="3218" y="0"/>
                </a:lnTo>
                <a:lnTo>
                  <a:pt x="3178" y="0"/>
                </a:lnTo>
                <a:lnTo>
                  <a:pt x="3137" y="0"/>
                </a:lnTo>
                <a:lnTo>
                  <a:pt x="3099" y="0"/>
                </a:lnTo>
                <a:lnTo>
                  <a:pt x="3059" y="0"/>
                </a:lnTo>
                <a:lnTo>
                  <a:pt x="3018" y="0"/>
                </a:lnTo>
                <a:lnTo>
                  <a:pt x="2978" y="0"/>
                </a:lnTo>
                <a:lnTo>
                  <a:pt x="2938" y="0"/>
                </a:lnTo>
                <a:lnTo>
                  <a:pt x="2898" y="0"/>
                </a:lnTo>
                <a:lnTo>
                  <a:pt x="2857" y="0"/>
                </a:lnTo>
                <a:lnTo>
                  <a:pt x="2817" y="0"/>
                </a:lnTo>
                <a:lnTo>
                  <a:pt x="2777" y="0"/>
                </a:lnTo>
                <a:lnTo>
                  <a:pt x="2737" y="0"/>
                </a:lnTo>
                <a:lnTo>
                  <a:pt x="2696" y="0"/>
                </a:lnTo>
                <a:lnTo>
                  <a:pt x="2656" y="0"/>
                </a:lnTo>
                <a:lnTo>
                  <a:pt x="2616" y="0"/>
                </a:lnTo>
                <a:lnTo>
                  <a:pt x="2575" y="0"/>
                </a:lnTo>
                <a:lnTo>
                  <a:pt x="2535" y="0"/>
                </a:lnTo>
                <a:lnTo>
                  <a:pt x="2495" y="0"/>
                </a:lnTo>
                <a:lnTo>
                  <a:pt x="2455" y="0"/>
                </a:lnTo>
                <a:lnTo>
                  <a:pt x="2414" y="0"/>
                </a:lnTo>
                <a:lnTo>
                  <a:pt x="2374" y="0"/>
                </a:lnTo>
                <a:lnTo>
                  <a:pt x="2334" y="0"/>
                </a:lnTo>
                <a:lnTo>
                  <a:pt x="2294" y="0"/>
                </a:lnTo>
                <a:lnTo>
                  <a:pt x="2253" y="0"/>
                </a:lnTo>
                <a:lnTo>
                  <a:pt x="2213" y="0"/>
                </a:lnTo>
                <a:lnTo>
                  <a:pt x="2173" y="0"/>
                </a:lnTo>
                <a:lnTo>
                  <a:pt x="2133" y="0"/>
                </a:lnTo>
                <a:lnTo>
                  <a:pt x="2092" y="0"/>
                </a:lnTo>
                <a:lnTo>
                  <a:pt x="2052" y="0"/>
                </a:lnTo>
                <a:lnTo>
                  <a:pt x="2012" y="0"/>
                </a:lnTo>
                <a:lnTo>
                  <a:pt x="1971" y="0"/>
                </a:lnTo>
                <a:lnTo>
                  <a:pt x="1931" y="0"/>
                </a:lnTo>
                <a:lnTo>
                  <a:pt x="1891" y="0"/>
                </a:lnTo>
                <a:lnTo>
                  <a:pt x="1851" y="0"/>
                </a:lnTo>
                <a:lnTo>
                  <a:pt x="1810" y="0"/>
                </a:lnTo>
                <a:lnTo>
                  <a:pt x="1770" y="0"/>
                </a:lnTo>
                <a:lnTo>
                  <a:pt x="1730" y="0"/>
                </a:lnTo>
                <a:lnTo>
                  <a:pt x="1690" y="0"/>
                </a:lnTo>
                <a:lnTo>
                  <a:pt x="1649" y="0"/>
                </a:lnTo>
                <a:lnTo>
                  <a:pt x="1609" y="0"/>
                </a:lnTo>
                <a:lnTo>
                  <a:pt x="1569" y="0"/>
                </a:lnTo>
                <a:lnTo>
                  <a:pt x="1529" y="0"/>
                </a:lnTo>
                <a:lnTo>
                  <a:pt x="1488" y="0"/>
                </a:lnTo>
                <a:lnTo>
                  <a:pt x="1448" y="0"/>
                </a:lnTo>
                <a:lnTo>
                  <a:pt x="1408" y="0"/>
                </a:lnTo>
                <a:lnTo>
                  <a:pt x="1367" y="0"/>
                </a:lnTo>
                <a:lnTo>
                  <a:pt x="1327" y="0"/>
                </a:lnTo>
                <a:lnTo>
                  <a:pt x="1287" y="0"/>
                </a:lnTo>
                <a:lnTo>
                  <a:pt x="1247" y="0"/>
                </a:lnTo>
                <a:lnTo>
                  <a:pt x="1206" y="0"/>
                </a:lnTo>
                <a:lnTo>
                  <a:pt x="1166" y="0"/>
                </a:lnTo>
                <a:lnTo>
                  <a:pt x="1126" y="0"/>
                </a:lnTo>
                <a:lnTo>
                  <a:pt x="1086" y="0"/>
                </a:lnTo>
                <a:lnTo>
                  <a:pt x="1045" y="0"/>
                </a:lnTo>
                <a:lnTo>
                  <a:pt x="1007" y="0"/>
                </a:lnTo>
                <a:lnTo>
                  <a:pt x="967" y="0"/>
                </a:lnTo>
                <a:lnTo>
                  <a:pt x="926" y="0"/>
                </a:lnTo>
                <a:lnTo>
                  <a:pt x="886" y="0"/>
                </a:lnTo>
                <a:lnTo>
                  <a:pt x="846" y="0"/>
                </a:lnTo>
                <a:lnTo>
                  <a:pt x="806" y="0"/>
                </a:lnTo>
                <a:lnTo>
                  <a:pt x="765" y="0"/>
                </a:lnTo>
                <a:lnTo>
                  <a:pt x="725" y="0"/>
                </a:lnTo>
                <a:lnTo>
                  <a:pt x="685" y="0"/>
                </a:lnTo>
                <a:lnTo>
                  <a:pt x="645" y="0"/>
                </a:lnTo>
                <a:lnTo>
                  <a:pt x="604" y="0"/>
                </a:lnTo>
                <a:lnTo>
                  <a:pt x="564" y="0"/>
                </a:lnTo>
                <a:lnTo>
                  <a:pt x="524" y="0"/>
                </a:lnTo>
                <a:lnTo>
                  <a:pt x="484" y="0"/>
                </a:lnTo>
                <a:lnTo>
                  <a:pt x="443" y="0"/>
                </a:lnTo>
                <a:lnTo>
                  <a:pt x="403" y="0"/>
                </a:lnTo>
                <a:lnTo>
                  <a:pt x="363" y="0"/>
                </a:lnTo>
                <a:lnTo>
                  <a:pt x="322" y="0"/>
                </a:lnTo>
                <a:lnTo>
                  <a:pt x="282" y="0"/>
                </a:lnTo>
                <a:lnTo>
                  <a:pt x="242" y="0"/>
                </a:lnTo>
                <a:lnTo>
                  <a:pt x="202" y="0"/>
                </a:lnTo>
                <a:lnTo>
                  <a:pt x="161" y="0"/>
                </a:lnTo>
                <a:lnTo>
                  <a:pt x="121" y="0"/>
                </a:lnTo>
                <a:lnTo>
                  <a:pt x="81" y="0"/>
                </a:lnTo>
                <a:lnTo>
                  <a:pt x="41" y="0"/>
                </a:lnTo>
                <a:lnTo>
                  <a:pt x="0" y="0"/>
                </a:lnTo>
                <a:lnTo>
                  <a:pt x="0" y="0"/>
                </a:lnTo>
                <a:lnTo>
                  <a:pt x="0" y="189"/>
                </a:lnTo>
                <a:lnTo>
                  <a:pt x="0" y="379"/>
                </a:lnTo>
                <a:lnTo>
                  <a:pt x="0" y="569"/>
                </a:lnTo>
                <a:lnTo>
                  <a:pt x="0" y="759"/>
                </a:lnTo>
                <a:lnTo>
                  <a:pt x="0" y="949"/>
                </a:lnTo>
                <a:lnTo>
                  <a:pt x="0" y="1138"/>
                </a:lnTo>
                <a:lnTo>
                  <a:pt x="0" y="1328"/>
                </a:lnTo>
                <a:lnTo>
                  <a:pt x="0" y="1518"/>
                </a:lnTo>
                <a:lnTo>
                  <a:pt x="0" y="166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2" name=""/>
          <p:cNvSpPr/>
          <p:nvPr/>
        </p:nvSpPr>
        <p:spPr>
          <a:xfrm>
            <a:off x="1836720" y="1282680"/>
            <a:ext cx="6037200" cy="4267080"/>
          </a:xfrm>
          <a:custGeom>
            <a:avLst/>
            <a:gdLst/>
            <a:ahLst/>
            <a:rect l="l" t="t" r="r" b="b"/>
            <a:pathLst>
              <a:path w="4184" h="3226">
                <a:moveTo>
                  <a:pt x="0" y="1476"/>
                </a:moveTo>
                <a:lnTo>
                  <a:pt x="41" y="1499"/>
                </a:lnTo>
                <a:lnTo>
                  <a:pt x="75" y="1518"/>
                </a:lnTo>
                <a:lnTo>
                  <a:pt x="81" y="1522"/>
                </a:lnTo>
                <a:lnTo>
                  <a:pt x="121" y="1543"/>
                </a:lnTo>
                <a:lnTo>
                  <a:pt x="161" y="1563"/>
                </a:lnTo>
                <a:lnTo>
                  <a:pt x="202" y="1586"/>
                </a:lnTo>
                <a:lnTo>
                  <a:pt x="242" y="1607"/>
                </a:lnTo>
                <a:lnTo>
                  <a:pt x="282" y="1630"/>
                </a:lnTo>
                <a:lnTo>
                  <a:pt x="322" y="1651"/>
                </a:lnTo>
                <a:lnTo>
                  <a:pt x="363" y="1673"/>
                </a:lnTo>
                <a:lnTo>
                  <a:pt x="403" y="1698"/>
                </a:lnTo>
                <a:lnTo>
                  <a:pt x="420" y="1708"/>
                </a:lnTo>
                <a:lnTo>
                  <a:pt x="443" y="1719"/>
                </a:lnTo>
                <a:lnTo>
                  <a:pt x="484" y="1740"/>
                </a:lnTo>
                <a:lnTo>
                  <a:pt x="524" y="1763"/>
                </a:lnTo>
                <a:lnTo>
                  <a:pt x="564" y="1784"/>
                </a:lnTo>
                <a:lnTo>
                  <a:pt x="604" y="1806"/>
                </a:lnTo>
                <a:lnTo>
                  <a:pt x="645" y="1827"/>
                </a:lnTo>
                <a:lnTo>
                  <a:pt x="685" y="1850"/>
                </a:lnTo>
                <a:lnTo>
                  <a:pt x="725" y="1873"/>
                </a:lnTo>
                <a:lnTo>
                  <a:pt x="765" y="1896"/>
                </a:lnTo>
                <a:lnTo>
                  <a:pt x="767" y="1897"/>
                </a:lnTo>
                <a:lnTo>
                  <a:pt x="806" y="1918"/>
                </a:lnTo>
                <a:lnTo>
                  <a:pt x="846" y="1939"/>
                </a:lnTo>
                <a:lnTo>
                  <a:pt x="886" y="1960"/>
                </a:lnTo>
                <a:lnTo>
                  <a:pt x="926" y="1983"/>
                </a:lnTo>
                <a:lnTo>
                  <a:pt x="967" y="2006"/>
                </a:lnTo>
                <a:lnTo>
                  <a:pt x="1007" y="2026"/>
                </a:lnTo>
                <a:lnTo>
                  <a:pt x="1045" y="2049"/>
                </a:lnTo>
                <a:lnTo>
                  <a:pt x="1086" y="2072"/>
                </a:lnTo>
                <a:lnTo>
                  <a:pt x="1112" y="2087"/>
                </a:lnTo>
                <a:lnTo>
                  <a:pt x="1126" y="2095"/>
                </a:lnTo>
                <a:lnTo>
                  <a:pt x="1166" y="2116"/>
                </a:lnTo>
                <a:lnTo>
                  <a:pt x="1206" y="2138"/>
                </a:lnTo>
                <a:lnTo>
                  <a:pt x="1247" y="2159"/>
                </a:lnTo>
                <a:lnTo>
                  <a:pt x="1287" y="2182"/>
                </a:lnTo>
                <a:lnTo>
                  <a:pt x="1327" y="2203"/>
                </a:lnTo>
                <a:lnTo>
                  <a:pt x="1367" y="2226"/>
                </a:lnTo>
                <a:lnTo>
                  <a:pt x="1408" y="2249"/>
                </a:lnTo>
                <a:lnTo>
                  <a:pt x="1448" y="2271"/>
                </a:lnTo>
                <a:lnTo>
                  <a:pt x="1460" y="2277"/>
                </a:lnTo>
                <a:lnTo>
                  <a:pt x="1488" y="2292"/>
                </a:lnTo>
                <a:lnTo>
                  <a:pt x="1529" y="2315"/>
                </a:lnTo>
                <a:lnTo>
                  <a:pt x="1569" y="2336"/>
                </a:lnTo>
                <a:lnTo>
                  <a:pt x="1609" y="2359"/>
                </a:lnTo>
                <a:lnTo>
                  <a:pt x="1649" y="2379"/>
                </a:lnTo>
                <a:lnTo>
                  <a:pt x="1690" y="2402"/>
                </a:lnTo>
                <a:lnTo>
                  <a:pt x="1730" y="2425"/>
                </a:lnTo>
                <a:lnTo>
                  <a:pt x="1770" y="2448"/>
                </a:lnTo>
                <a:lnTo>
                  <a:pt x="1805" y="2467"/>
                </a:lnTo>
                <a:lnTo>
                  <a:pt x="1810" y="2471"/>
                </a:lnTo>
                <a:lnTo>
                  <a:pt x="1851" y="2491"/>
                </a:lnTo>
                <a:lnTo>
                  <a:pt x="1891" y="2512"/>
                </a:lnTo>
                <a:lnTo>
                  <a:pt x="1931" y="2535"/>
                </a:lnTo>
                <a:lnTo>
                  <a:pt x="1971" y="2556"/>
                </a:lnTo>
                <a:lnTo>
                  <a:pt x="2012" y="2579"/>
                </a:lnTo>
                <a:lnTo>
                  <a:pt x="2052" y="2602"/>
                </a:lnTo>
                <a:lnTo>
                  <a:pt x="2092" y="2624"/>
                </a:lnTo>
                <a:lnTo>
                  <a:pt x="2133" y="2647"/>
                </a:lnTo>
                <a:lnTo>
                  <a:pt x="2150" y="2657"/>
                </a:lnTo>
                <a:lnTo>
                  <a:pt x="2173" y="2668"/>
                </a:lnTo>
                <a:lnTo>
                  <a:pt x="2213" y="2691"/>
                </a:lnTo>
                <a:lnTo>
                  <a:pt x="2253" y="2712"/>
                </a:lnTo>
                <a:lnTo>
                  <a:pt x="2294" y="2734"/>
                </a:lnTo>
                <a:lnTo>
                  <a:pt x="2334" y="2755"/>
                </a:lnTo>
                <a:lnTo>
                  <a:pt x="2374" y="2776"/>
                </a:lnTo>
                <a:lnTo>
                  <a:pt x="2414" y="2799"/>
                </a:lnTo>
                <a:lnTo>
                  <a:pt x="2455" y="2822"/>
                </a:lnTo>
                <a:lnTo>
                  <a:pt x="2495" y="2846"/>
                </a:lnTo>
                <a:lnTo>
                  <a:pt x="2497" y="2846"/>
                </a:lnTo>
                <a:lnTo>
                  <a:pt x="2535" y="2867"/>
                </a:lnTo>
                <a:lnTo>
                  <a:pt x="2575" y="2888"/>
                </a:lnTo>
                <a:lnTo>
                  <a:pt x="2616" y="2911"/>
                </a:lnTo>
                <a:lnTo>
                  <a:pt x="2656" y="2932"/>
                </a:lnTo>
                <a:lnTo>
                  <a:pt x="2696" y="2954"/>
                </a:lnTo>
                <a:lnTo>
                  <a:pt x="2737" y="2975"/>
                </a:lnTo>
                <a:lnTo>
                  <a:pt x="2777" y="2998"/>
                </a:lnTo>
                <a:lnTo>
                  <a:pt x="2817" y="3021"/>
                </a:lnTo>
                <a:lnTo>
                  <a:pt x="2842" y="3036"/>
                </a:lnTo>
                <a:lnTo>
                  <a:pt x="2857" y="3044"/>
                </a:lnTo>
                <a:lnTo>
                  <a:pt x="2898" y="3065"/>
                </a:lnTo>
                <a:lnTo>
                  <a:pt x="2938" y="3087"/>
                </a:lnTo>
                <a:lnTo>
                  <a:pt x="2978" y="3108"/>
                </a:lnTo>
                <a:lnTo>
                  <a:pt x="3018" y="3131"/>
                </a:lnTo>
                <a:lnTo>
                  <a:pt x="3059" y="3152"/>
                </a:lnTo>
                <a:lnTo>
                  <a:pt x="3099" y="3175"/>
                </a:lnTo>
                <a:lnTo>
                  <a:pt x="3137" y="3197"/>
                </a:lnTo>
                <a:lnTo>
                  <a:pt x="3178" y="3220"/>
                </a:lnTo>
                <a:lnTo>
                  <a:pt x="3187" y="3226"/>
                </a:lnTo>
                <a:lnTo>
                  <a:pt x="3218" y="3226"/>
                </a:lnTo>
                <a:lnTo>
                  <a:pt x="3258" y="3226"/>
                </a:lnTo>
                <a:lnTo>
                  <a:pt x="3298" y="3226"/>
                </a:lnTo>
                <a:lnTo>
                  <a:pt x="3339" y="3226"/>
                </a:lnTo>
                <a:lnTo>
                  <a:pt x="3379" y="3226"/>
                </a:lnTo>
                <a:lnTo>
                  <a:pt x="3419" y="3226"/>
                </a:lnTo>
                <a:lnTo>
                  <a:pt x="3459" y="3226"/>
                </a:lnTo>
                <a:lnTo>
                  <a:pt x="3500" y="3226"/>
                </a:lnTo>
                <a:lnTo>
                  <a:pt x="3540" y="3226"/>
                </a:lnTo>
                <a:lnTo>
                  <a:pt x="3580" y="3226"/>
                </a:lnTo>
                <a:lnTo>
                  <a:pt x="3620" y="3226"/>
                </a:lnTo>
                <a:lnTo>
                  <a:pt x="3661" y="3226"/>
                </a:lnTo>
                <a:lnTo>
                  <a:pt x="3701" y="3226"/>
                </a:lnTo>
                <a:lnTo>
                  <a:pt x="3741" y="3226"/>
                </a:lnTo>
                <a:lnTo>
                  <a:pt x="3782" y="3226"/>
                </a:lnTo>
                <a:lnTo>
                  <a:pt x="3822" y="3226"/>
                </a:lnTo>
                <a:lnTo>
                  <a:pt x="3862" y="3226"/>
                </a:lnTo>
                <a:lnTo>
                  <a:pt x="3902" y="3226"/>
                </a:lnTo>
                <a:lnTo>
                  <a:pt x="3943" y="3226"/>
                </a:lnTo>
                <a:lnTo>
                  <a:pt x="3983" y="3226"/>
                </a:lnTo>
                <a:lnTo>
                  <a:pt x="4023" y="3226"/>
                </a:lnTo>
                <a:lnTo>
                  <a:pt x="4063" y="3226"/>
                </a:lnTo>
                <a:lnTo>
                  <a:pt x="4104" y="3226"/>
                </a:lnTo>
                <a:lnTo>
                  <a:pt x="4144" y="3226"/>
                </a:lnTo>
                <a:lnTo>
                  <a:pt x="4184" y="3226"/>
                </a:lnTo>
                <a:lnTo>
                  <a:pt x="4184" y="3226"/>
                </a:lnTo>
                <a:lnTo>
                  <a:pt x="4184" y="3036"/>
                </a:lnTo>
                <a:lnTo>
                  <a:pt x="4184" y="2846"/>
                </a:lnTo>
                <a:lnTo>
                  <a:pt x="4184" y="2657"/>
                </a:lnTo>
                <a:lnTo>
                  <a:pt x="4184" y="2467"/>
                </a:lnTo>
                <a:lnTo>
                  <a:pt x="4184" y="2277"/>
                </a:lnTo>
                <a:lnTo>
                  <a:pt x="4184" y="2087"/>
                </a:lnTo>
                <a:lnTo>
                  <a:pt x="4184" y="1897"/>
                </a:lnTo>
                <a:lnTo>
                  <a:pt x="4184" y="1708"/>
                </a:lnTo>
                <a:lnTo>
                  <a:pt x="4184" y="1518"/>
                </a:lnTo>
                <a:lnTo>
                  <a:pt x="4184" y="1328"/>
                </a:lnTo>
                <a:lnTo>
                  <a:pt x="4184" y="1138"/>
                </a:lnTo>
                <a:lnTo>
                  <a:pt x="4184" y="949"/>
                </a:lnTo>
                <a:lnTo>
                  <a:pt x="4184" y="759"/>
                </a:lnTo>
                <a:lnTo>
                  <a:pt x="4184" y="569"/>
                </a:lnTo>
                <a:lnTo>
                  <a:pt x="4184" y="379"/>
                </a:lnTo>
                <a:lnTo>
                  <a:pt x="4184" y="189"/>
                </a:lnTo>
                <a:lnTo>
                  <a:pt x="4184" y="0"/>
                </a:lnTo>
                <a:lnTo>
                  <a:pt x="4144" y="0"/>
                </a:lnTo>
                <a:lnTo>
                  <a:pt x="4104" y="0"/>
                </a:lnTo>
                <a:lnTo>
                  <a:pt x="4063" y="0"/>
                </a:lnTo>
                <a:lnTo>
                  <a:pt x="4023" y="0"/>
                </a:lnTo>
                <a:lnTo>
                  <a:pt x="3983" y="0"/>
                </a:lnTo>
                <a:lnTo>
                  <a:pt x="3943" y="0"/>
                </a:lnTo>
                <a:lnTo>
                  <a:pt x="3902" y="0"/>
                </a:lnTo>
                <a:lnTo>
                  <a:pt x="3862" y="0"/>
                </a:lnTo>
                <a:lnTo>
                  <a:pt x="3822" y="0"/>
                </a:lnTo>
                <a:lnTo>
                  <a:pt x="3782" y="0"/>
                </a:lnTo>
                <a:lnTo>
                  <a:pt x="3741" y="0"/>
                </a:lnTo>
                <a:lnTo>
                  <a:pt x="3701" y="0"/>
                </a:lnTo>
                <a:lnTo>
                  <a:pt x="3661" y="0"/>
                </a:lnTo>
                <a:lnTo>
                  <a:pt x="3620" y="0"/>
                </a:lnTo>
                <a:lnTo>
                  <a:pt x="3580" y="0"/>
                </a:lnTo>
                <a:lnTo>
                  <a:pt x="3540" y="0"/>
                </a:lnTo>
                <a:lnTo>
                  <a:pt x="3500" y="0"/>
                </a:lnTo>
                <a:lnTo>
                  <a:pt x="3459" y="0"/>
                </a:lnTo>
                <a:lnTo>
                  <a:pt x="3419" y="0"/>
                </a:lnTo>
                <a:lnTo>
                  <a:pt x="3379" y="0"/>
                </a:lnTo>
                <a:lnTo>
                  <a:pt x="3339" y="0"/>
                </a:lnTo>
                <a:lnTo>
                  <a:pt x="3298" y="0"/>
                </a:lnTo>
                <a:lnTo>
                  <a:pt x="3258" y="0"/>
                </a:lnTo>
                <a:lnTo>
                  <a:pt x="3218" y="0"/>
                </a:lnTo>
                <a:lnTo>
                  <a:pt x="3178" y="0"/>
                </a:lnTo>
                <a:lnTo>
                  <a:pt x="3137" y="0"/>
                </a:lnTo>
                <a:lnTo>
                  <a:pt x="3099" y="0"/>
                </a:lnTo>
                <a:lnTo>
                  <a:pt x="3059" y="0"/>
                </a:lnTo>
                <a:lnTo>
                  <a:pt x="3018" y="0"/>
                </a:lnTo>
                <a:lnTo>
                  <a:pt x="2978" y="0"/>
                </a:lnTo>
                <a:lnTo>
                  <a:pt x="2938" y="0"/>
                </a:lnTo>
                <a:lnTo>
                  <a:pt x="2898" y="0"/>
                </a:lnTo>
                <a:lnTo>
                  <a:pt x="2857" y="0"/>
                </a:lnTo>
                <a:lnTo>
                  <a:pt x="2817" y="0"/>
                </a:lnTo>
                <a:lnTo>
                  <a:pt x="2777" y="0"/>
                </a:lnTo>
                <a:lnTo>
                  <a:pt x="2737" y="0"/>
                </a:lnTo>
                <a:lnTo>
                  <a:pt x="2696" y="0"/>
                </a:lnTo>
                <a:lnTo>
                  <a:pt x="2656" y="0"/>
                </a:lnTo>
                <a:lnTo>
                  <a:pt x="2616" y="0"/>
                </a:lnTo>
                <a:lnTo>
                  <a:pt x="2575" y="0"/>
                </a:lnTo>
                <a:lnTo>
                  <a:pt x="2535" y="0"/>
                </a:lnTo>
                <a:lnTo>
                  <a:pt x="2495" y="0"/>
                </a:lnTo>
                <a:lnTo>
                  <a:pt x="2455" y="0"/>
                </a:lnTo>
                <a:lnTo>
                  <a:pt x="2414" y="0"/>
                </a:lnTo>
                <a:lnTo>
                  <a:pt x="2374" y="0"/>
                </a:lnTo>
                <a:lnTo>
                  <a:pt x="2334" y="0"/>
                </a:lnTo>
                <a:lnTo>
                  <a:pt x="2294" y="0"/>
                </a:lnTo>
                <a:lnTo>
                  <a:pt x="2253" y="0"/>
                </a:lnTo>
                <a:lnTo>
                  <a:pt x="2213" y="0"/>
                </a:lnTo>
                <a:lnTo>
                  <a:pt x="2173" y="0"/>
                </a:lnTo>
                <a:lnTo>
                  <a:pt x="2133" y="0"/>
                </a:lnTo>
                <a:lnTo>
                  <a:pt x="2092" y="0"/>
                </a:lnTo>
                <a:lnTo>
                  <a:pt x="2052" y="0"/>
                </a:lnTo>
                <a:lnTo>
                  <a:pt x="2012" y="0"/>
                </a:lnTo>
                <a:lnTo>
                  <a:pt x="1971" y="0"/>
                </a:lnTo>
                <a:lnTo>
                  <a:pt x="1931" y="0"/>
                </a:lnTo>
                <a:lnTo>
                  <a:pt x="1891" y="0"/>
                </a:lnTo>
                <a:lnTo>
                  <a:pt x="1851" y="0"/>
                </a:lnTo>
                <a:lnTo>
                  <a:pt x="1810" y="0"/>
                </a:lnTo>
                <a:lnTo>
                  <a:pt x="1770" y="0"/>
                </a:lnTo>
                <a:lnTo>
                  <a:pt x="1730" y="0"/>
                </a:lnTo>
                <a:lnTo>
                  <a:pt x="1690" y="0"/>
                </a:lnTo>
                <a:lnTo>
                  <a:pt x="1649" y="0"/>
                </a:lnTo>
                <a:lnTo>
                  <a:pt x="1609" y="0"/>
                </a:lnTo>
                <a:lnTo>
                  <a:pt x="1569" y="0"/>
                </a:lnTo>
                <a:lnTo>
                  <a:pt x="1529" y="0"/>
                </a:lnTo>
                <a:lnTo>
                  <a:pt x="1488" y="0"/>
                </a:lnTo>
                <a:lnTo>
                  <a:pt x="1448" y="0"/>
                </a:lnTo>
                <a:lnTo>
                  <a:pt x="1408" y="0"/>
                </a:lnTo>
                <a:lnTo>
                  <a:pt x="1367" y="0"/>
                </a:lnTo>
                <a:lnTo>
                  <a:pt x="1327" y="0"/>
                </a:lnTo>
                <a:lnTo>
                  <a:pt x="1287" y="0"/>
                </a:lnTo>
                <a:lnTo>
                  <a:pt x="1247" y="0"/>
                </a:lnTo>
                <a:lnTo>
                  <a:pt x="1206" y="0"/>
                </a:lnTo>
                <a:lnTo>
                  <a:pt x="1166" y="0"/>
                </a:lnTo>
                <a:lnTo>
                  <a:pt x="1126" y="0"/>
                </a:lnTo>
                <a:lnTo>
                  <a:pt x="1086" y="0"/>
                </a:lnTo>
                <a:lnTo>
                  <a:pt x="1045" y="0"/>
                </a:lnTo>
                <a:lnTo>
                  <a:pt x="1007" y="0"/>
                </a:lnTo>
                <a:lnTo>
                  <a:pt x="967" y="0"/>
                </a:lnTo>
                <a:lnTo>
                  <a:pt x="926" y="0"/>
                </a:lnTo>
                <a:lnTo>
                  <a:pt x="886" y="0"/>
                </a:lnTo>
                <a:lnTo>
                  <a:pt x="846" y="0"/>
                </a:lnTo>
                <a:lnTo>
                  <a:pt x="806" y="0"/>
                </a:lnTo>
                <a:lnTo>
                  <a:pt x="765" y="0"/>
                </a:lnTo>
                <a:lnTo>
                  <a:pt x="725" y="0"/>
                </a:lnTo>
                <a:lnTo>
                  <a:pt x="685" y="0"/>
                </a:lnTo>
                <a:lnTo>
                  <a:pt x="645" y="0"/>
                </a:lnTo>
                <a:lnTo>
                  <a:pt x="604" y="0"/>
                </a:lnTo>
                <a:lnTo>
                  <a:pt x="564" y="0"/>
                </a:lnTo>
                <a:lnTo>
                  <a:pt x="524" y="0"/>
                </a:lnTo>
                <a:lnTo>
                  <a:pt x="484" y="0"/>
                </a:lnTo>
                <a:lnTo>
                  <a:pt x="443" y="0"/>
                </a:lnTo>
                <a:lnTo>
                  <a:pt x="403" y="0"/>
                </a:lnTo>
                <a:lnTo>
                  <a:pt x="363" y="0"/>
                </a:lnTo>
                <a:lnTo>
                  <a:pt x="322" y="0"/>
                </a:lnTo>
                <a:lnTo>
                  <a:pt x="282" y="0"/>
                </a:lnTo>
                <a:lnTo>
                  <a:pt x="242" y="0"/>
                </a:lnTo>
                <a:lnTo>
                  <a:pt x="202" y="0"/>
                </a:lnTo>
                <a:lnTo>
                  <a:pt x="161" y="0"/>
                </a:lnTo>
                <a:lnTo>
                  <a:pt x="121" y="0"/>
                </a:lnTo>
                <a:lnTo>
                  <a:pt x="81" y="0"/>
                </a:lnTo>
                <a:lnTo>
                  <a:pt x="41" y="0"/>
                </a:lnTo>
                <a:lnTo>
                  <a:pt x="0" y="0"/>
                </a:lnTo>
                <a:lnTo>
                  <a:pt x="0" y="0"/>
                </a:lnTo>
                <a:lnTo>
                  <a:pt x="0" y="189"/>
                </a:lnTo>
                <a:lnTo>
                  <a:pt x="0" y="379"/>
                </a:lnTo>
                <a:lnTo>
                  <a:pt x="0" y="569"/>
                </a:lnTo>
                <a:lnTo>
                  <a:pt x="0" y="759"/>
                </a:lnTo>
                <a:lnTo>
                  <a:pt x="0" y="949"/>
                </a:lnTo>
                <a:lnTo>
                  <a:pt x="0" y="1138"/>
                </a:lnTo>
                <a:lnTo>
                  <a:pt x="0" y="1328"/>
                </a:lnTo>
                <a:lnTo>
                  <a:pt x="0" y="1476"/>
                </a:lnTo>
                <a:close/>
              </a:path>
            </a:pathLst>
          </a:custGeom>
          <a:solidFill>
            <a:srgbClr val="ffb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a:off x="1836720" y="1282680"/>
            <a:ext cx="6037200" cy="4267080"/>
          </a:xfrm>
          <a:custGeom>
            <a:avLst/>
            <a:gdLst/>
            <a:ahLst/>
            <a:rect l="l" t="t" r="r" b="b"/>
            <a:pathLst>
              <a:path w="4184" h="3226">
                <a:moveTo>
                  <a:pt x="0" y="1273"/>
                </a:moveTo>
                <a:lnTo>
                  <a:pt x="41" y="1296"/>
                </a:lnTo>
                <a:lnTo>
                  <a:pt x="81" y="1319"/>
                </a:lnTo>
                <a:lnTo>
                  <a:pt x="96" y="1328"/>
                </a:lnTo>
                <a:lnTo>
                  <a:pt x="121" y="1341"/>
                </a:lnTo>
                <a:lnTo>
                  <a:pt x="161" y="1362"/>
                </a:lnTo>
                <a:lnTo>
                  <a:pt x="202" y="1383"/>
                </a:lnTo>
                <a:lnTo>
                  <a:pt x="242" y="1404"/>
                </a:lnTo>
                <a:lnTo>
                  <a:pt x="282" y="1427"/>
                </a:lnTo>
                <a:lnTo>
                  <a:pt x="322" y="1450"/>
                </a:lnTo>
                <a:lnTo>
                  <a:pt x="363" y="1472"/>
                </a:lnTo>
                <a:lnTo>
                  <a:pt x="403" y="1495"/>
                </a:lnTo>
                <a:lnTo>
                  <a:pt x="441" y="1518"/>
                </a:lnTo>
                <a:lnTo>
                  <a:pt x="443" y="1518"/>
                </a:lnTo>
                <a:lnTo>
                  <a:pt x="484" y="1539"/>
                </a:lnTo>
                <a:lnTo>
                  <a:pt x="524" y="1560"/>
                </a:lnTo>
                <a:lnTo>
                  <a:pt x="564" y="1580"/>
                </a:lnTo>
                <a:lnTo>
                  <a:pt x="604" y="1603"/>
                </a:lnTo>
                <a:lnTo>
                  <a:pt x="645" y="1626"/>
                </a:lnTo>
                <a:lnTo>
                  <a:pt x="685" y="1649"/>
                </a:lnTo>
                <a:lnTo>
                  <a:pt x="725" y="1672"/>
                </a:lnTo>
                <a:lnTo>
                  <a:pt x="765" y="1694"/>
                </a:lnTo>
                <a:lnTo>
                  <a:pt x="786" y="1708"/>
                </a:lnTo>
                <a:lnTo>
                  <a:pt x="806" y="1717"/>
                </a:lnTo>
                <a:lnTo>
                  <a:pt x="846" y="1738"/>
                </a:lnTo>
                <a:lnTo>
                  <a:pt x="886" y="1759"/>
                </a:lnTo>
                <a:lnTo>
                  <a:pt x="926" y="1780"/>
                </a:lnTo>
                <a:lnTo>
                  <a:pt x="967" y="1803"/>
                </a:lnTo>
                <a:lnTo>
                  <a:pt x="1007" y="1823"/>
                </a:lnTo>
                <a:lnTo>
                  <a:pt x="1045" y="1846"/>
                </a:lnTo>
                <a:lnTo>
                  <a:pt x="1086" y="1871"/>
                </a:lnTo>
                <a:lnTo>
                  <a:pt x="1126" y="1894"/>
                </a:lnTo>
                <a:lnTo>
                  <a:pt x="1134" y="1897"/>
                </a:lnTo>
                <a:lnTo>
                  <a:pt x="1166" y="1915"/>
                </a:lnTo>
                <a:lnTo>
                  <a:pt x="1206" y="1935"/>
                </a:lnTo>
                <a:lnTo>
                  <a:pt x="1247" y="1956"/>
                </a:lnTo>
                <a:lnTo>
                  <a:pt x="1287" y="1979"/>
                </a:lnTo>
                <a:lnTo>
                  <a:pt x="1327" y="2000"/>
                </a:lnTo>
                <a:lnTo>
                  <a:pt x="1367" y="2023"/>
                </a:lnTo>
                <a:lnTo>
                  <a:pt x="1408" y="2045"/>
                </a:lnTo>
                <a:lnTo>
                  <a:pt x="1448" y="2068"/>
                </a:lnTo>
                <a:lnTo>
                  <a:pt x="1479" y="2087"/>
                </a:lnTo>
                <a:lnTo>
                  <a:pt x="1488" y="2093"/>
                </a:lnTo>
                <a:lnTo>
                  <a:pt x="1529" y="2114"/>
                </a:lnTo>
                <a:lnTo>
                  <a:pt x="1569" y="2135"/>
                </a:lnTo>
                <a:lnTo>
                  <a:pt x="1609" y="2156"/>
                </a:lnTo>
                <a:lnTo>
                  <a:pt x="1649" y="2176"/>
                </a:lnTo>
                <a:lnTo>
                  <a:pt x="1690" y="2199"/>
                </a:lnTo>
                <a:lnTo>
                  <a:pt x="1730" y="2222"/>
                </a:lnTo>
                <a:lnTo>
                  <a:pt x="1770" y="2245"/>
                </a:lnTo>
                <a:lnTo>
                  <a:pt x="1810" y="2269"/>
                </a:lnTo>
                <a:lnTo>
                  <a:pt x="1824" y="2277"/>
                </a:lnTo>
                <a:lnTo>
                  <a:pt x="1851" y="2290"/>
                </a:lnTo>
                <a:lnTo>
                  <a:pt x="1891" y="2311"/>
                </a:lnTo>
                <a:lnTo>
                  <a:pt x="1931" y="2332"/>
                </a:lnTo>
                <a:lnTo>
                  <a:pt x="1971" y="2355"/>
                </a:lnTo>
                <a:lnTo>
                  <a:pt x="2012" y="2376"/>
                </a:lnTo>
                <a:lnTo>
                  <a:pt x="2052" y="2398"/>
                </a:lnTo>
                <a:lnTo>
                  <a:pt x="2092" y="2421"/>
                </a:lnTo>
                <a:lnTo>
                  <a:pt x="2133" y="2444"/>
                </a:lnTo>
                <a:lnTo>
                  <a:pt x="2171" y="2467"/>
                </a:lnTo>
                <a:lnTo>
                  <a:pt x="2173" y="2467"/>
                </a:lnTo>
                <a:lnTo>
                  <a:pt x="2213" y="2490"/>
                </a:lnTo>
                <a:lnTo>
                  <a:pt x="2253" y="2509"/>
                </a:lnTo>
                <a:lnTo>
                  <a:pt x="2294" y="2531"/>
                </a:lnTo>
                <a:lnTo>
                  <a:pt x="2334" y="2552"/>
                </a:lnTo>
                <a:lnTo>
                  <a:pt x="2374" y="2575"/>
                </a:lnTo>
                <a:lnTo>
                  <a:pt x="2414" y="2598"/>
                </a:lnTo>
                <a:lnTo>
                  <a:pt x="2455" y="2620"/>
                </a:lnTo>
                <a:lnTo>
                  <a:pt x="2495" y="2643"/>
                </a:lnTo>
                <a:lnTo>
                  <a:pt x="2516" y="2657"/>
                </a:lnTo>
                <a:lnTo>
                  <a:pt x="2535" y="2666"/>
                </a:lnTo>
                <a:lnTo>
                  <a:pt x="2575" y="2687"/>
                </a:lnTo>
                <a:lnTo>
                  <a:pt x="2616" y="2708"/>
                </a:lnTo>
                <a:lnTo>
                  <a:pt x="2656" y="2729"/>
                </a:lnTo>
                <a:lnTo>
                  <a:pt x="2696" y="2751"/>
                </a:lnTo>
                <a:lnTo>
                  <a:pt x="2737" y="2772"/>
                </a:lnTo>
                <a:lnTo>
                  <a:pt x="2777" y="2797"/>
                </a:lnTo>
                <a:lnTo>
                  <a:pt x="2817" y="2820"/>
                </a:lnTo>
                <a:lnTo>
                  <a:pt x="2857" y="2843"/>
                </a:lnTo>
                <a:lnTo>
                  <a:pt x="2861" y="2846"/>
                </a:lnTo>
                <a:lnTo>
                  <a:pt x="2898" y="2863"/>
                </a:lnTo>
                <a:lnTo>
                  <a:pt x="2938" y="2884"/>
                </a:lnTo>
                <a:lnTo>
                  <a:pt x="2978" y="2907"/>
                </a:lnTo>
                <a:lnTo>
                  <a:pt x="3018" y="2928"/>
                </a:lnTo>
                <a:lnTo>
                  <a:pt x="3059" y="2949"/>
                </a:lnTo>
                <a:lnTo>
                  <a:pt x="3099" y="2972"/>
                </a:lnTo>
                <a:lnTo>
                  <a:pt x="3137" y="2996"/>
                </a:lnTo>
                <a:lnTo>
                  <a:pt x="3178" y="3019"/>
                </a:lnTo>
                <a:lnTo>
                  <a:pt x="3208" y="3036"/>
                </a:lnTo>
                <a:lnTo>
                  <a:pt x="3218" y="3042"/>
                </a:lnTo>
                <a:lnTo>
                  <a:pt x="3258" y="3063"/>
                </a:lnTo>
                <a:lnTo>
                  <a:pt x="3298" y="3084"/>
                </a:lnTo>
                <a:lnTo>
                  <a:pt x="3339" y="3104"/>
                </a:lnTo>
                <a:lnTo>
                  <a:pt x="3379" y="3127"/>
                </a:lnTo>
                <a:lnTo>
                  <a:pt x="3419" y="3148"/>
                </a:lnTo>
                <a:lnTo>
                  <a:pt x="3459" y="3171"/>
                </a:lnTo>
                <a:lnTo>
                  <a:pt x="3500" y="3196"/>
                </a:lnTo>
                <a:lnTo>
                  <a:pt x="3540" y="3218"/>
                </a:lnTo>
                <a:lnTo>
                  <a:pt x="3553" y="3226"/>
                </a:lnTo>
                <a:lnTo>
                  <a:pt x="3580" y="3226"/>
                </a:lnTo>
                <a:lnTo>
                  <a:pt x="3620" y="3226"/>
                </a:lnTo>
                <a:lnTo>
                  <a:pt x="3661" y="3226"/>
                </a:lnTo>
                <a:lnTo>
                  <a:pt x="3701" y="3226"/>
                </a:lnTo>
                <a:lnTo>
                  <a:pt x="3741" y="3226"/>
                </a:lnTo>
                <a:lnTo>
                  <a:pt x="3782" y="3226"/>
                </a:lnTo>
                <a:lnTo>
                  <a:pt x="3822" y="3226"/>
                </a:lnTo>
                <a:lnTo>
                  <a:pt x="3862" y="3226"/>
                </a:lnTo>
                <a:lnTo>
                  <a:pt x="3902" y="3226"/>
                </a:lnTo>
                <a:lnTo>
                  <a:pt x="3943" y="3226"/>
                </a:lnTo>
                <a:lnTo>
                  <a:pt x="3983" y="3226"/>
                </a:lnTo>
                <a:lnTo>
                  <a:pt x="4023" y="3226"/>
                </a:lnTo>
                <a:lnTo>
                  <a:pt x="4063" y="3226"/>
                </a:lnTo>
                <a:lnTo>
                  <a:pt x="4104" y="3226"/>
                </a:lnTo>
                <a:lnTo>
                  <a:pt x="4144" y="3226"/>
                </a:lnTo>
                <a:lnTo>
                  <a:pt x="4184" y="3226"/>
                </a:lnTo>
                <a:lnTo>
                  <a:pt x="4184" y="3226"/>
                </a:lnTo>
                <a:lnTo>
                  <a:pt x="4184" y="3036"/>
                </a:lnTo>
                <a:lnTo>
                  <a:pt x="4184" y="2846"/>
                </a:lnTo>
                <a:lnTo>
                  <a:pt x="4184" y="2657"/>
                </a:lnTo>
                <a:lnTo>
                  <a:pt x="4184" y="2467"/>
                </a:lnTo>
                <a:lnTo>
                  <a:pt x="4184" y="2277"/>
                </a:lnTo>
                <a:lnTo>
                  <a:pt x="4184" y="2087"/>
                </a:lnTo>
                <a:lnTo>
                  <a:pt x="4184" y="1897"/>
                </a:lnTo>
                <a:lnTo>
                  <a:pt x="4184" y="1708"/>
                </a:lnTo>
                <a:lnTo>
                  <a:pt x="4184" y="1518"/>
                </a:lnTo>
                <a:lnTo>
                  <a:pt x="4184" y="1328"/>
                </a:lnTo>
                <a:lnTo>
                  <a:pt x="4184" y="1138"/>
                </a:lnTo>
                <a:lnTo>
                  <a:pt x="4184" y="949"/>
                </a:lnTo>
                <a:lnTo>
                  <a:pt x="4184" y="759"/>
                </a:lnTo>
                <a:lnTo>
                  <a:pt x="4184" y="569"/>
                </a:lnTo>
                <a:lnTo>
                  <a:pt x="4184" y="379"/>
                </a:lnTo>
                <a:lnTo>
                  <a:pt x="4184" y="189"/>
                </a:lnTo>
                <a:lnTo>
                  <a:pt x="4184" y="0"/>
                </a:lnTo>
                <a:lnTo>
                  <a:pt x="4144" y="0"/>
                </a:lnTo>
                <a:lnTo>
                  <a:pt x="4104" y="0"/>
                </a:lnTo>
                <a:lnTo>
                  <a:pt x="4063" y="0"/>
                </a:lnTo>
                <a:lnTo>
                  <a:pt x="4023" y="0"/>
                </a:lnTo>
                <a:lnTo>
                  <a:pt x="3983" y="0"/>
                </a:lnTo>
                <a:lnTo>
                  <a:pt x="3943" y="0"/>
                </a:lnTo>
                <a:lnTo>
                  <a:pt x="3902" y="0"/>
                </a:lnTo>
                <a:lnTo>
                  <a:pt x="3862" y="0"/>
                </a:lnTo>
                <a:lnTo>
                  <a:pt x="3822" y="0"/>
                </a:lnTo>
                <a:lnTo>
                  <a:pt x="3782" y="0"/>
                </a:lnTo>
                <a:lnTo>
                  <a:pt x="3741" y="0"/>
                </a:lnTo>
                <a:lnTo>
                  <a:pt x="3701" y="0"/>
                </a:lnTo>
                <a:lnTo>
                  <a:pt x="3661" y="0"/>
                </a:lnTo>
                <a:lnTo>
                  <a:pt x="3620" y="0"/>
                </a:lnTo>
                <a:lnTo>
                  <a:pt x="3580" y="0"/>
                </a:lnTo>
                <a:lnTo>
                  <a:pt x="3540" y="0"/>
                </a:lnTo>
                <a:lnTo>
                  <a:pt x="3500" y="0"/>
                </a:lnTo>
                <a:lnTo>
                  <a:pt x="3459" y="0"/>
                </a:lnTo>
                <a:lnTo>
                  <a:pt x="3419" y="0"/>
                </a:lnTo>
                <a:lnTo>
                  <a:pt x="3379" y="0"/>
                </a:lnTo>
                <a:lnTo>
                  <a:pt x="3339" y="0"/>
                </a:lnTo>
                <a:lnTo>
                  <a:pt x="3298" y="0"/>
                </a:lnTo>
                <a:lnTo>
                  <a:pt x="3258" y="0"/>
                </a:lnTo>
                <a:lnTo>
                  <a:pt x="3218" y="0"/>
                </a:lnTo>
                <a:lnTo>
                  <a:pt x="3178" y="0"/>
                </a:lnTo>
                <a:lnTo>
                  <a:pt x="3137" y="0"/>
                </a:lnTo>
                <a:lnTo>
                  <a:pt x="3099" y="0"/>
                </a:lnTo>
                <a:lnTo>
                  <a:pt x="3059" y="0"/>
                </a:lnTo>
                <a:lnTo>
                  <a:pt x="3018" y="0"/>
                </a:lnTo>
                <a:lnTo>
                  <a:pt x="2978" y="0"/>
                </a:lnTo>
                <a:lnTo>
                  <a:pt x="2938" y="0"/>
                </a:lnTo>
                <a:lnTo>
                  <a:pt x="2898" y="0"/>
                </a:lnTo>
                <a:lnTo>
                  <a:pt x="2857" y="0"/>
                </a:lnTo>
                <a:lnTo>
                  <a:pt x="2817" y="0"/>
                </a:lnTo>
                <a:lnTo>
                  <a:pt x="2777" y="0"/>
                </a:lnTo>
                <a:lnTo>
                  <a:pt x="2737" y="0"/>
                </a:lnTo>
                <a:lnTo>
                  <a:pt x="2696" y="0"/>
                </a:lnTo>
                <a:lnTo>
                  <a:pt x="2656" y="0"/>
                </a:lnTo>
                <a:lnTo>
                  <a:pt x="2616" y="0"/>
                </a:lnTo>
                <a:lnTo>
                  <a:pt x="2575" y="0"/>
                </a:lnTo>
                <a:lnTo>
                  <a:pt x="2535" y="0"/>
                </a:lnTo>
                <a:lnTo>
                  <a:pt x="2495" y="0"/>
                </a:lnTo>
                <a:lnTo>
                  <a:pt x="2455" y="0"/>
                </a:lnTo>
                <a:lnTo>
                  <a:pt x="2414" y="0"/>
                </a:lnTo>
                <a:lnTo>
                  <a:pt x="2374" y="0"/>
                </a:lnTo>
                <a:lnTo>
                  <a:pt x="2334" y="0"/>
                </a:lnTo>
                <a:lnTo>
                  <a:pt x="2294" y="0"/>
                </a:lnTo>
                <a:lnTo>
                  <a:pt x="2253" y="0"/>
                </a:lnTo>
                <a:lnTo>
                  <a:pt x="2213" y="0"/>
                </a:lnTo>
                <a:lnTo>
                  <a:pt x="2173" y="0"/>
                </a:lnTo>
                <a:lnTo>
                  <a:pt x="2133" y="0"/>
                </a:lnTo>
                <a:lnTo>
                  <a:pt x="2092" y="0"/>
                </a:lnTo>
                <a:lnTo>
                  <a:pt x="2052" y="0"/>
                </a:lnTo>
                <a:lnTo>
                  <a:pt x="2012" y="0"/>
                </a:lnTo>
                <a:lnTo>
                  <a:pt x="1971" y="0"/>
                </a:lnTo>
                <a:lnTo>
                  <a:pt x="1931" y="0"/>
                </a:lnTo>
                <a:lnTo>
                  <a:pt x="1891" y="0"/>
                </a:lnTo>
                <a:lnTo>
                  <a:pt x="1851" y="0"/>
                </a:lnTo>
                <a:lnTo>
                  <a:pt x="1810" y="0"/>
                </a:lnTo>
                <a:lnTo>
                  <a:pt x="1770" y="0"/>
                </a:lnTo>
                <a:lnTo>
                  <a:pt x="1730" y="0"/>
                </a:lnTo>
                <a:lnTo>
                  <a:pt x="1690" y="0"/>
                </a:lnTo>
                <a:lnTo>
                  <a:pt x="1649" y="0"/>
                </a:lnTo>
                <a:lnTo>
                  <a:pt x="1609" y="0"/>
                </a:lnTo>
                <a:lnTo>
                  <a:pt x="1569" y="0"/>
                </a:lnTo>
                <a:lnTo>
                  <a:pt x="1529" y="0"/>
                </a:lnTo>
                <a:lnTo>
                  <a:pt x="1488" y="0"/>
                </a:lnTo>
                <a:lnTo>
                  <a:pt x="1448" y="0"/>
                </a:lnTo>
                <a:lnTo>
                  <a:pt x="1408" y="0"/>
                </a:lnTo>
                <a:lnTo>
                  <a:pt x="1367" y="0"/>
                </a:lnTo>
                <a:lnTo>
                  <a:pt x="1327" y="0"/>
                </a:lnTo>
                <a:lnTo>
                  <a:pt x="1287" y="0"/>
                </a:lnTo>
                <a:lnTo>
                  <a:pt x="1247" y="0"/>
                </a:lnTo>
                <a:lnTo>
                  <a:pt x="1206" y="0"/>
                </a:lnTo>
                <a:lnTo>
                  <a:pt x="1166" y="0"/>
                </a:lnTo>
                <a:lnTo>
                  <a:pt x="1126" y="0"/>
                </a:lnTo>
                <a:lnTo>
                  <a:pt x="1086" y="0"/>
                </a:lnTo>
                <a:lnTo>
                  <a:pt x="1045" y="0"/>
                </a:lnTo>
                <a:lnTo>
                  <a:pt x="1007" y="0"/>
                </a:lnTo>
                <a:lnTo>
                  <a:pt x="967" y="0"/>
                </a:lnTo>
                <a:lnTo>
                  <a:pt x="926" y="0"/>
                </a:lnTo>
                <a:lnTo>
                  <a:pt x="886" y="0"/>
                </a:lnTo>
                <a:lnTo>
                  <a:pt x="846" y="0"/>
                </a:lnTo>
                <a:lnTo>
                  <a:pt x="806" y="0"/>
                </a:lnTo>
                <a:lnTo>
                  <a:pt x="765" y="0"/>
                </a:lnTo>
                <a:lnTo>
                  <a:pt x="725" y="0"/>
                </a:lnTo>
                <a:lnTo>
                  <a:pt x="685" y="0"/>
                </a:lnTo>
                <a:lnTo>
                  <a:pt x="645" y="0"/>
                </a:lnTo>
                <a:lnTo>
                  <a:pt x="604" y="0"/>
                </a:lnTo>
                <a:lnTo>
                  <a:pt x="564" y="0"/>
                </a:lnTo>
                <a:lnTo>
                  <a:pt x="524" y="0"/>
                </a:lnTo>
                <a:lnTo>
                  <a:pt x="484" y="0"/>
                </a:lnTo>
                <a:lnTo>
                  <a:pt x="443" y="0"/>
                </a:lnTo>
                <a:lnTo>
                  <a:pt x="403" y="0"/>
                </a:lnTo>
                <a:lnTo>
                  <a:pt x="363" y="0"/>
                </a:lnTo>
                <a:lnTo>
                  <a:pt x="322" y="0"/>
                </a:lnTo>
                <a:lnTo>
                  <a:pt x="282" y="0"/>
                </a:lnTo>
                <a:lnTo>
                  <a:pt x="242" y="0"/>
                </a:lnTo>
                <a:lnTo>
                  <a:pt x="202" y="0"/>
                </a:lnTo>
                <a:lnTo>
                  <a:pt x="161" y="0"/>
                </a:lnTo>
                <a:lnTo>
                  <a:pt x="121" y="0"/>
                </a:lnTo>
                <a:lnTo>
                  <a:pt x="81" y="0"/>
                </a:lnTo>
                <a:lnTo>
                  <a:pt x="41" y="0"/>
                </a:lnTo>
                <a:lnTo>
                  <a:pt x="0" y="0"/>
                </a:lnTo>
                <a:lnTo>
                  <a:pt x="0" y="0"/>
                </a:lnTo>
                <a:lnTo>
                  <a:pt x="0" y="189"/>
                </a:lnTo>
                <a:lnTo>
                  <a:pt x="0" y="379"/>
                </a:lnTo>
                <a:lnTo>
                  <a:pt x="0" y="569"/>
                </a:lnTo>
                <a:lnTo>
                  <a:pt x="0" y="759"/>
                </a:lnTo>
                <a:lnTo>
                  <a:pt x="0" y="949"/>
                </a:lnTo>
                <a:lnTo>
                  <a:pt x="0" y="1138"/>
                </a:lnTo>
                <a:lnTo>
                  <a:pt x="0" y="1273"/>
                </a:lnTo>
                <a:close/>
              </a:path>
            </a:pathLst>
          </a:custGeom>
          <a:solidFill>
            <a:srgbClr val="ff7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a:off x="1836720" y="1282680"/>
            <a:ext cx="6037200" cy="4267080"/>
          </a:xfrm>
          <a:custGeom>
            <a:avLst/>
            <a:gdLst/>
            <a:ahLst/>
            <a:rect l="l" t="t" r="r" b="b"/>
            <a:pathLst>
              <a:path w="4184" h="3226">
                <a:moveTo>
                  <a:pt x="0" y="1024"/>
                </a:moveTo>
                <a:lnTo>
                  <a:pt x="41" y="1047"/>
                </a:lnTo>
                <a:lnTo>
                  <a:pt x="81" y="1070"/>
                </a:lnTo>
                <a:lnTo>
                  <a:pt x="121" y="1093"/>
                </a:lnTo>
                <a:lnTo>
                  <a:pt x="161" y="1116"/>
                </a:lnTo>
                <a:lnTo>
                  <a:pt x="198" y="1138"/>
                </a:lnTo>
                <a:lnTo>
                  <a:pt x="202" y="1140"/>
                </a:lnTo>
                <a:lnTo>
                  <a:pt x="242" y="1161"/>
                </a:lnTo>
                <a:lnTo>
                  <a:pt x="282" y="1182"/>
                </a:lnTo>
                <a:lnTo>
                  <a:pt x="322" y="1203"/>
                </a:lnTo>
                <a:lnTo>
                  <a:pt x="363" y="1224"/>
                </a:lnTo>
                <a:lnTo>
                  <a:pt x="403" y="1246"/>
                </a:lnTo>
                <a:lnTo>
                  <a:pt x="443" y="1267"/>
                </a:lnTo>
                <a:lnTo>
                  <a:pt x="484" y="1292"/>
                </a:lnTo>
                <a:lnTo>
                  <a:pt x="524" y="1317"/>
                </a:lnTo>
                <a:lnTo>
                  <a:pt x="541" y="1328"/>
                </a:lnTo>
                <a:lnTo>
                  <a:pt x="564" y="1339"/>
                </a:lnTo>
                <a:lnTo>
                  <a:pt x="604" y="1358"/>
                </a:lnTo>
                <a:lnTo>
                  <a:pt x="645" y="1379"/>
                </a:lnTo>
                <a:lnTo>
                  <a:pt x="685" y="1400"/>
                </a:lnTo>
                <a:lnTo>
                  <a:pt x="725" y="1423"/>
                </a:lnTo>
                <a:lnTo>
                  <a:pt x="765" y="1444"/>
                </a:lnTo>
                <a:lnTo>
                  <a:pt x="806" y="1469"/>
                </a:lnTo>
                <a:lnTo>
                  <a:pt x="846" y="1491"/>
                </a:lnTo>
                <a:lnTo>
                  <a:pt x="886" y="1516"/>
                </a:lnTo>
                <a:lnTo>
                  <a:pt x="888" y="1518"/>
                </a:lnTo>
                <a:lnTo>
                  <a:pt x="926" y="1537"/>
                </a:lnTo>
                <a:lnTo>
                  <a:pt x="967" y="1558"/>
                </a:lnTo>
                <a:lnTo>
                  <a:pt x="1007" y="1577"/>
                </a:lnTo>
                <a:lnTo>
                  <a:pt x="1045" y="1599"/>
                </a:lnTo>
                <a:lnTo>
                  <a:pt x="1086" y="1620"/>
                </a:lnTo>
                <a:lnTo>
                  <a:pt x="1126" y="1643"/>
                </a:lnTo>
                <a:lnTo>
                  <a:pt x="1166" y="1668"/>
                </a:lnTo>
                <a:lnTo>
                  <a:pt x="1206" y="1691"/>
                </a:lnTo>
                <a:lnTo>
                  <a:pt x="1233" y="1708"/>
                </a:lnTo>
                <a:lnTo>
                  <a:pt x="1247" y="1715"/>
                </a:lnTo>
                <a:lnTo>
                  <a:pt x="1287" y="1734"/>
                </a:lnTo>
                <a:lnTo>
                  <a:pt x="1327" y="1755"/>
                </a:lnTo>
                <a:lnTo>
                  <a:pt x="1367" y="1776"/>
                </a:lnTo>
                <a:lnTo>
                  <a:pt x="1408" y="1797"/>
                </a:lnTo>
                <a:lnTo>
                  <a:pt x="1448" y="1820"/>
                </a:lnTo>
                <a:lnTo>
                  <a:pt x="1488" y="1844"/>
                </a:lnTo>
                <a:lnTo>
                  <a:pt x="1529" y="1867"/>
                </a:lnTo>
                <a:lnTo>
                  <a:pt x="1569" y="1892"/>
                </a:lnTo>
                <a:lnTo>
                  <a:pt x="1578" y="1897"/>
                </a:lnTo>
                <a:lnTo>
                  <a:pt x="1609" y="1913"/>
                </a:lnTo>
                <a:lnTo>
                  <a:pt x="1649" y="1933"/>
                </a:lnTo>
                <a:lnTo>
                  <a:pt x="1690" y="1952"/>
                </a:lnTo>
                <a:lnTo>
                  <a:pt x="1730" y="1973"/>
                </a:lnTo>
                <a:lnTo>
                  <a:pt x="1770" y="1996"/>
                </a:lnTo>
                <a:lnTo>
                  <a:pt x="1810" y="2019"/>
                </a:lnTo>
                <a:lnTo>
                  <a:pt x="1851" y="2042"/>
                </a:lnTo>
                <a:lnTo>
                  <a:pt x="1891" y="2066"/>
                </a:lnTo>
                <a:lnTo>
                  <a:pt x="1925" y="2087"/>
                </a:lnTo>
                <a:lnTo>
                  <a:pt x="1931" y="2091"/>
                </a:lnTo>
                <a:lnTo>
                  <a:pt x="1971" y="2110"/>
                </a:lnTo>
                <a:lnTo>
                  <a:pt x="2012" y="2131"/>
                </a:lnTo>
                <a:lnTo>
                  <a:pt x="2052" y="2152"/>
                </a:lnTo>
                <a:lnTo>
                  <a:pt x="2092" y="2173"/>
                </a:lnTo>
                <a:lnTo>
                  <a:pt x="2133" y="2195"/>
                </a:lnTo>
                <a:lnTo>
                  <a:pt x="2173" y="2218"/>
                </a:lnTo>
                <a:lnTo>
                  <a:pt x="2213" y="2243"/>
                </a:lnTo>
                <a:lnTo>
                  <a:pt x="2253" y="2266"/>
                </a:lnTo>
                <a:lnTo>
                  <a:pt x="2271" y="2277"/>
                </a:lnTo>
                <a:lnTo>
                  <a:pt x="2294" y="2288"/>
                </a:lnTo>
                <a:lnTo>
                  <a:pt x="2334" y="2307"/>
                </a:lnTo>
                <a:lnTo>
                  <a:pt x="2374" y="2328"/>
                </a:lnTo>
                <a:lnTo>
                  <a:pt x="2414" y="2349"/>
                </a:lnTo>
                <a:lnTo>
                  <a:pt x="2455" y="2372"/>
                </a:lnTo>
                <a:lnTo>
                  <a:pt x="2495" y="2393"/>
                </a:lnTo>
                <a:lnTo>
                  <a:pt x="2535" y="2417"/>
                </a:lnTo>
                <a:lnTo>
                  <a:pt x="2575" y="2440"/>
                </a:lnTo>
                <a:lnTo>
                  <a:pt x="2616" y="2465"/>
                </a:lnTo>
                <a:lnTo>
                  <a:pt x="2618" y="2467"/>
                </a:lnTo>
                <a:lnTo>
                  <a:pt x="2656" y="2486"/>
                </a:lnTo>
                <a:lnTo>
                  <a:pt x="2696" y="2507"/>
                </a:lnTo>
                <a:lnTo>
                  <a:pt x="2737" y="2527"/>
                </a:lnTo>
                <a:lnTo>
                  <a:pt x="2777" y="2548"/>
                </a:lnTo>
                <a:lnTo>
                  <a:pt x="2817" y="2571"/>
                </a:lnTo>
                <a:lnTo>
                  <a:pt x="2857" y="2592"/>
                </a:lnTo>
                <a:lnTo>
                  <a:pt x="2898" y="2617"/>
                </a:lnTo>
                <a:lnTo>
                  <a:pt x="2938" y="2641"/>
                </a:lnTo>
                <a:lnTo>
                  <a:pt x="2961" y="2657"/>
                </a:lnTo>
                <a:lnTo>
                  <a:pt x="2978" y="2664"/>
                </a:lnTo>
                <a:lnTo>
                  <a:pt x="3018" y="2683"/>
                </a:lnTo>
                <a:lnTo>
                  <a:pt x="3059" y="2704"/>
                </a:lnTo>
                <a:lnTo>
                  <a:pt x="3099" y="2725"/>
                </a:lnTo>
                <a:lnTo>
                  <a:pt x="3137" y="2748"/>
                </a:lnTo>
                <a:lnTo>
                  <a:pt x="3178" y="2770"/>
                </a:lnTo>
                <a:lnTo>
                  <a:pt x="3218" y="2793"/>
                </a:lnTo>
                <a:lnTo>
                  <a:pt x="3258" y="2816"/>
                </a:lnTo>
                <a:lnTo>
                  <a:pt x="3298" y="2841"/>
                </a:lnTo>
                <a:lnTo>
                  <a:pt x="3308" y="2846"/>
                </a:lnTo>
                <a:lnTo>
                  <a:pt x="3339" y="2861"/>
                </a:lnTo>
                <a:lnTo>
                  <a:pt x="3379" y="2882"/>
                </a:lnTo>
                <a:lnTo>
                  <a:pt x="3419" y="2903"/>
                </a:lnTo>
                <a:lnTo>
                  <a:pt x="3459" y="2924"/>
                </a:lnTo>
                <a:lnTo>
                  <a:pt x="3500" y="2945"/>
                </a:lnTo>
                <a:lnTo>
                  <a:pt x="3540" y="2968"/>
                </a:lnTo>
                <a:lnTo>
                  <a:pt x="3580" y="2992"/>
                </a:lnTo>
                <a:lnTo>
                  <a:pt x="3620" y="3015"/>
                </a:lnTo>
                <a:lnTo>
                  <a:pt x="3655" y="3036"/>
                </a:lnTo>
                <a:lnTo>
                  <a:pt x="3661" y="3040"/>
                </a:lnTo>
                <a:lnTo>
                  <a:pt x="3701" y="3061"/>
                </a:lnTo>
                <a:lnTo>
                  <a:pt x="3741" y="3080"/>
                </a:lnTo>
                <a:lnTo>
                  <a:pt x="3782" y="3101"/>
                </a:lnTo>
                <a:lnTo>
                  <a:pt x="3822" y="3121"/>
                </a:lnTo>
                <a:lnTo>
                  <a:pt x="3862" y="3144"/>
                </a:lnTo>
                <a:lnTo>
                  <a:pt x="3902" y="3167"/>
                </a:lnTo>
                <a:lnTo>
                  <a:pt x="3943" y="3192"/>
                </a:lnTo>
                <a:lnTo>
                  <a:pt x="3983" y="3214"/>
                </a:lnTo>
                <a:lnTo>
                  <a:pt x="4000" y="3226"/>
                </a:lnTo>
                <a:lnTo>
                  <a:pt x="4023" y="3226"/>
                </a:lnTo>
                <a:lnTo>
                  <a:pt x="4063" y="3226"/>
                </a:lnTo>
                <a:lnTo>
                  <a:pt x="4104" y="3226"/>
                </a:lnTo>
                <a:lnTo>
                  <a:pt x="4144" y="3226"/>
                </a:lnTo>
                <a:lnTo>
                  <a:pt x="4184" y="3226"/>
                </a:lnTo>
                <a:lnTo>
                  <a:pt x="4184" y="3226"/>
                </a:lnTo>
                <a:lnTo>
                  <a:pt x="4184" y="3036"/>
                </a:lnTo>
                <a:lnTo>
                  <a:pt x="4184" y="2846"/>
                </a:lnTo>
                <a:lnTo>
                  <a:pt x="4184" y="2657"/>
                </a:lnTo>
                <a:lnTo>
                  <a:pt x="4184" y="2467"/>
                </a:lnTo>
                <a:lnTo>
                  <a:pt x="4184" y="2277"/>
                </a:lnTo>
                <a:lnTo>
                  <a:pt x="4184" y="2087"/>
                </a:lnTo>
                <a:lnTo>
                  <a:pt x="4184" y="1897"/>
                </a:lnTo>
                <a:lnTo>
                  <a:pt x="4184" y="1708"/>
                </a:lnTo>
                <a:lnTo>
                  <a:pt x="4184" y="1518"/>
                </a:lnTo>
                <a:lnTo>
                  <a:pt x="4184" y="1328"/>
                </a:lnTo>
                <a:lnTo>
                  <a:pt x="4184" y="1138"/>
                </a:lnTo>
                <a:lnTo>
                  <a:pt x="4184" y="949"/>
                </a:lnTo>
                <a:lnTo>
                  <a:pt x="4184" y="759"/>
                </a:lnTo>
                <a:lnTo>
                  <a:pt x="4184" y="569"/>
                </a:lnTo>
                <a:lnTo>
                  <a:pt x="4184" y="379"/>
                </a:lnTo>
                <a:lnTo>
                  <a:pt x="4184" y="189"/>
                </a:lnTo>
                <a:lnTo>
                  <a:pt x="4184" y="0"/>
                </a:lnTo>
                <a:lnTo>
                  <a:pt x="4144" y="0"/>
                </a:lnTo>
                <a:lnTo>
                  <a:pt x="4104" y="0"/>
                </a:lnTo>
                <a:lnTo>
                  <a:pt x="4063" y="0"/>
                </a:lnTo>
                <a:lnTo>
                  <a:pt x="4023" y="0"/>
                </a:lnTo>
                <a:lnTo>
                  <a:pt x="3983" y="0"/>
                </a:lnTo>
                <a:lnTo>
                  <a:pt x="3943" y="0"/>
                </a:lnTo>
                <a:lnTo>
                  <a:pt x="3902" y="0"/>
                </a:lnTo>
                <a:lnTo>
                  <a:pt x="3862" y="0"/>
                </a:lnTo>
                <a:lnTo>
                  <a:pt x="3822" y="0"/>
                </a:lnTo>
                <a:lnTo>
                  <a:pt x="3782" y="0"/>
                </a:lnTo>
                <a:lnTo>
                  <a:pt x="3741" y="0"/>
                </a:lnTo>
                <a:lnTo>
                  <a:pt x="3701" y="0"/>
                </a:lnTo>
                <a:lnTo>
                  <a:pt x="3661" y="0"/>
                </a:lnTo>
                <a:lnTo>
                  <a:pt x="3620" y="0"/>
                </a:lnTo>
                <a:lnTo>
                  <a:pt x="3580" y="0"/>
                </a:lnTo>
                <a:lnTo>
                  <a:pt x="3540" y="0"/>
                </a:lnTo>
                <a:lnTo>
                  <a:pt x="3500" y="0"/>
                </a:lnTo>
                <a:lnTo>
                  <a:pt x="3459" y="0"/>
                </a:lnTo>
                <a:lnTo>
                  <a:pt x="3419" y="0"/>
                </a:lnTo>
                <a:lnTo>
                  <a:pt x="3379" y="0"/>
                </a:lnTo>
                <a:lnTo>
                  <a:pt x="3339" y="0"/>
                </a:lnTo>
                <a:lnTo>
                  <a:pt x="3298" y="0"/>
                </a:lnTo>
                <a:lnTo>
                  <a:pt x="3258" y="0"/>
                </a:lnTo>
                <a:lnTo>
                  <a:pt x="3218" y="0"/>
                </a:lnTo>
                <a:lnTo>
                  <a:pt x="3178" y="0"/>
                </a:lnTo>
                <a:lnTo>
                  <a:pt x="3137" y="0"/>
                </a:lnTo>
                <a:lnTo>
                  <a:pt x="3099" y="0"/>
                </a:lnTo>
                <a:lnTo>
                  <a:pt x="3059" y="0"/>
                </a:lnTo>
                <a:lnTo>
                  <a:pt x="3018" y="0"/>
                </a:lnTo>
                <a:lnTo>
                  <a:pt x="2978" y="0"/>
                </a:lnTo>
                <a:lnTo>
                  <a:pt x="2938" y="0"/>
                </a:lnTo>
                <a:lnTo>
                  <a:pt x="2898" y="0"/>
                </a:lnTo>
                <a:lnTo>
                  <a:pt x="2857" y="0"/>
                </a:lnTo>
                <a:lnTo>
                  <a:pt x="2817" y="0"/>
                </a:lnTo>
                <a:lnTo>
                  <a:pt x="2777" y="0"/>
                </a:lnTo>
                <a:lnTo>
                  <a:pt x="2737" y="0"/>
                </a:lnTo>
                <a:lnTo>
                  <a:pt x="2696" y="0"/>
                </a:lnTo>
                <a:lnTo>
                  <a:pt x="2656" y="0"/>
                </a:lnTo>
                <a:lnTo>
                  <a:pt x="2616" y="0"/>
                </a:lnTo>
                <a:lnTo>
                  <a:pt x="2575" y="0"/>
                </a:lnTo>
                <a:lnTo>
                  <a:pt x="2535" y="0"/>
                </a:lnTo>
                <a:lnTo>
                  <a:pt x="2495" y="0"/>
                </a:lnTo>
                <a:lnTo>
                  <a:pt x="2455" y="0"/>
                </a:lnTo>
                <a:lnTo>
                  <a:pt x="2414" y="0"/>
                </a:lnTo>
                <a:lnTo>
                  <a:pt x="2374" y="0"/>
                </a:lnTo>
                <a:lnTo>
                  <a:pt x="2334" y="0"/>
                </a:lnTo>
                <a:lnTo>
                  <a:pt x="2294" y="0"/>
                </a:lnTo>
                <a:lnTo>
                  <a:pt x="2253" y="0"/>
                </a:lnTo>
                <a:lnTo>
                  <a:pt x="2213" y="0"/>
                </a:lnTo>
                <a:lnTo>
                  <a:pt x="2173" y="0"/>
                </a:lnTo>
                <a:lnTo>
                  <a:pt x="2133" y="0"/>
                </a:lnTo>
                <a:lnTo>
                  <a:pt x="2092" y="0"/>
                </a:lnTo>
                <a:lnTo>
                  <a:pt x="2052" y="0"/>
                </a:lnTo>
                <a:lnTo>
                  <a:pt x="2012" y="0"/>
                </a:lnTo>
                <a:lnTo>
                  <a:pt x="1971" y="0"/>
                </a:lnTo>
                <a:lnTo>
                  <a:pt x="1931" y="0"/>
                </a:lnTo>
                <a:lnTo>
                  <a:pt x="1891" y="0"/>
                </a:lnTo>
                <a:lnTo>
                  <a:pt x="1851" y="0"/>
                </a:lnTo>
                <a:lnTo>
                  <a:pt x="1810" y="0"/>
                </a:lnTo>
                <a:lnTo>
                  <a:pt x="1770" y="0"/>
                </a:lnTo>
                <a:lnTo>
                  <a:pt x="1730" y="0"/>
                </a:lnTo>
                <a:lnTo>
                  <a:pt x="1690" y="0"/>
                </a:lnTo>
                <a:lnTo>
                  <a:pt x="1649" y="0"/>
                </a:lnTo>
                <a:lnTo>
                  <a:pt x="1609" y="0"/>
                </a:lnTo>
                <a:lnTo>
                  <a:pt x="1569" y="0"/>
                </a:lnTo>
                <a:lnTo>
                  <a:pt x="1529" y="0"/>
                </a:lnTo>
                <a:lnTo>
                  <a:pt x="1488" y="0"/>
                </a:lnTo>
                <a:lnTo>
                  <a:pt x="1448" y="0"/>
                </a:lnTo>
                <a:lnTo>
                  <a:pt x="1408" y="0"/>
                </a:lnTo>
                <a:lnTo>
                  <a:pt x="1367" y="0"/>
                </a:lnTo>
                <a:lnTo>
                  <a:pt x="1327" y="0"/>
                </a:lnTo>
                <a:lnTo>
                  <a:pt x="1287" y="0"/>
                </a:lnTo>
                <a:lnTo>
                  <a:pt x="1247" y="0"/>
                </a:lnTo>
                <a:lnTo>
                  <a:pt x="1206" y="0"/>
                </a:lnTo>
                <a:lnTo>
                  <a:pt x="1166" y="0"/>
                </a:lnTo>
                <a:lnTo>
                  <a:pt x="1126" y="0"/>
                </a:lnTo>
                <a:lnTo>
                  <a:pt x="1086" y="0"/>
                </a:lnTo>
                <a:lnTo>
                  <a:pt x="1045" y="0"/>
                </a:lnTo>
                <a:lnTo>
                  <a:pt x="1007" y="0"/>
                </a:lnTo>
                <a:lnTo>
                  <a:pt x="967" y="0"/>
                </a:lnTo>
                <a:lnTo>
                  <a:pt x="926" y="0"/>
                </a:lnTo>
                <a:lnTo>
                  <a:pt x="886" y="0"/>
                </a:lnTo>
                <a:lnTo>
                  <a:pt x="846" y="0"/>
                </a:lnTo>
                <a:lnTo>
                  <a:pt x="806" y="0"/>
                </a:lnTo>
                <a:lnTo>
                  <a:pt x="765" y="0"/>
                </a:lnTo>
                <a:lnTo>
                  <a:pt x="725" y="0"/>
                </a:lnTo>
                <a:lnTo>
                  <a:pt x="685" y="0"/>
                </a:lnTo>
                <a:lnTo>
                  <a:pt x="645" y="0"/>
                </a:lnTo>
                <a:lnTo>
                  <a:pt x="604" y="0"/>
                </a:lnTo>
                <a:lnTo>
                  <a:pt x="564" y="0"/>
                </a:lnTo>
                <a:lnTo>
                  <a:pt x="524" y="0"/>
                </a:lnTo>
                <a:lnTo>
                  <a:pt x="484" y="0"/>
                </a:lnTo>
                <a:lnTo>
                  <a:pt x="443" y="0"/>
                </a:lnTo>
                <a:lnTo>
                  <a:pt x="403" y="0"/>
                </a:lnTo>
                <a:lnTo>
                  <a:pt x="363" y="0"/>
                </a:lnTo>
                <a:lnTo>
                  <a:pt x="322" y="0"/>
                </a:lnTo>
                <a:lnTo>
                  <a:pt x="282" y="0"/>
                </a:lnTo>
                <a:lnTo>
                  <a:pt x="242" y="0"/>
                </a:lnTo>
                <a:lnTo>
                  <a:pt x="202" y="0"/>
                </a:lnTo>
                <a:lnTo>
                  <a:pt x="161" y="0"/>
                </a:lnTo>
                <a:lnTo>
                  <a:pt x="121" y="0"/>
                </a:lnTo>
                <a:lnTo>
                  <a:pt x="81" y="0"/>
                </a:lnTo>
                <a:lnTo>
                  <a:pt x="41" y="0"/>
                </a:lnTo>
                <a:lnTo>
                  <a:pt x="0" y="0"/>
                </a:lnTo>
                <a:lnTo>
                  <a:pt x="0" y="0"/>
                </a:lnTo>
                <a:lnTo>
                  <a:pt x="0" y="189"/>
                </a:lnTo>
                <a:lnTo>
                  <a:pt x="0" y="379"/>
                </a:lnTo>
                <a:lnTo>
                  <a:pt x="0" y="569"/>
                </a:lnTo>
                <a:lnTo>
                  <a:pt x="0" y="759"/>
                </a:lnTo>
                <a:lnTo>
                  <a:pt x="0" y="949"/>
                </a:lnTo>
                <a:lnTo>
                  <a:pt x="0" y="1024"/>
                </a:lnTo>
                <a:close/>
              </a:path>
            </a:pathLst>
          </a:custGeom>
          <a:solidFill>
            <a:srgbClr val="ff3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
          <p:cNvSpPr/>
          <p:nvPr/>
        </p:nvSpPr>
        <p:spPr>
          <a:xfrm>
            <a:off x="1836720" y="1282680"/>
            <a:ext cx="6037200" cy="3903840"/>
          </a:xfrm>
          <a:custGeom>
            <a:avLst/>
            <a:gdLst/>
            <a:ahLst/>
            <a:rect l="l" t="t" r="r" b="b"/>
            <a:pathLst>
              <a:path w="4184" h="2951">
                <a:moveTo>
                  <a:pt x="0" y="654"/>
                </a:moveTo>
                <a:lnTo>
                  <a:pt x="41" y="677"/>
                </a:lnTo>
                <a:lnTo>
                  <a:pt x="81" y="700"/>
                </a:lnTo>
                <a:lnTo>
                  <a:pt x="121" y="725"/>
                </a:lnTo>
                <a:lnTo>
                  <a:pt x="161" y="749"/>
                </a:lnTo>
                <a:lnTo>
                  <a:pt x="177" y="759"/>
                </a:lnTo>
                <a:lnTo>
                  <a:pt x="202" y="770"/>
                </a:lnTo>
                <a:lnTo>
                  <a:pt x="242" y="791"/>
                </a:lnTo>
                <a:lnTo>
                  <a:pt x="282" y="810"/>
                </a:lnTo>
                <a:lnTo>
                  <a:pt x="322" y="831"/>
                </a:lnTo>
                <a:lnTo>
                  <a:pt x="363" y="854"/>
                </a:lnTo>
                <a:lnTo>
                  <a:pt x="403" y="875"/>
                </a:lnTo>
                <a:lnTo>
                  <a:pt x="443" y="901"/>
                </a:lnTo>
                <a:lnTo>
                  <a:pt x="484" y="924"/>
                </a:lnTo>
                <a:lnTo>
                  <a:pt x="520" y="949"/>
                </a:lnTo>
                <a:lnTo>
                  <a:pt x="524" y="950"/>
                </a:lnTo>
                <a:lnTo>
                  <a:pt x="564" y="968"/>
                </a:lnTo>
                <a:lnTo>
                  <a:pt x="604" y="988"/>
                </a:lnTo>
                <a:lnTo>
                  <a:pt x="645" y="1009"/>
                </a:lnTo>
                <a:lnTo>
                  <a:pt x="685" y="1030"/>
                </a:lnTo>
                <a:lnTo>
                  <a:pt x="725" y="1053"/>
                </a:lnTo>
                <a:lnTo>
                  <a:pt x="765" y="1076"/>
                </a:lnTo>
                <a:lnTo>
                  <a:pt x="806" y="1098"/>
                </a:lnTo>
                <a:lnTo>
                  <a:pt x="846" y="1123"/>
                </a:lnTo>
                <a:lnTo>
                  <a:pt x="869" y="1138"/>
                </a:lnTo>
                <a:lnTo>
                  <a:pt x="886" y="1146"/>
                </a:lnTo>
                <a:lnTo>
                  <a:pt x="926" y="1165"/>
                </a:lnTo>
                <a:lnTo>
                  <a:pt x="967" y="1186"/>
                </a:lnTo>
                <a:lnTo>
                  <a:pt x="1007" y="1207"/>
                </a:lnTo>
                <a:lnTo>
                  <a:pt x="1045" y="1229"/>
                </a:lnTo>
                <a:lnTo>
                  <a:pt x="1086" y="1250"/>
                </a:lnTo>
                <a:lnTo>
                  <a:pt x="1126" y="1273"/>
                </a:lnTo>
                <a:lnTo>
                  <a:pt x="1166" y="1298"/>
                </a:lnTo>
                <a:lnTo>
                  <a:pt x="1206" y="1322"/>
                </a:lnTo>
                <a:lnTo>
                  <a:pt x="1216" y="1328"/>
                </a:lnTo>
                <a:lnTo>
                  <a:pt x="1247" y="1343"/>
                </a:lnTo>
                <a:lnTo>
                  <a:pt x="1287" y="1364"/>
                </a:lnTo>
                <a:lnTo>
                  <a:pt x="1327" y="1383"/>
                </a:lnTo>
                <a:lnTo>
                  <a:pt x="1367" y="1406"/>
                </a:lnTo>
                <a:lnTo>
                  <a:pt x="1408" y="1427"/>
                </a:lnTo>
                <a:lnTo>
                  <a:pt x="1448" y="1450"/>
                </a:lnTo>
                <a:lnTo>
                  <a:pt x="1488" y="1474"/>
                </a:lnTo>
                <a:lnTo>
                  <a:pt x="1529" y="1497"/>
                </a:lnTo>
                <a:lnTo>
                  <a:pt x="1559" y="1518"/>
                </a:lnTo>
                <a:lnTo>
                  <a:pt x="1569" y="1524"/>
                </a:lnTo>
                <a:lnTo>
                  <a:pt x="1609" y="1541"/>
                </a:lnTo>
                <a:lnTo>
                  <a:pt x="1649" y="1562"/>
                </a:lnTo>
                <a:lnTo>
                  <a:pt x="1690" y="1582"/>
                </a:lnTo>
                <a:lnTo>
                  <a:pt x="1730" y="1603"/>
                </a:lnTo>
                <a:lnTo>
                  <a:pt x="1770" y="1626"/>
                </a:lnTo>
                <a:lnTo>
                  <a:pt x="1810" y="1649"/>
                </a:lnTo>
                <a:lnTo>
                  <a:pt x="1851" y="1673"/>
                </a:lnTo>
                <a:lnTo>
                  <a:pt x="1891" y="1700"/>
                </a:lnTo>
                <a:lnTo>
                  <a:pt x="1902" y="1708"/>
                </a:lnTo>
                <a:lnTo>
                  <a:pt x="1931" y="1721"/>
                </a:lnTo>
                <a:lnTo>
                  <a:pt x="1971" y="1740"/>
                </a:lnTo>
                <a:lnTo>
                  <a:pt x="2012" y="1759"/>
                </a:lnTo>
                <a:lnTo>
                  <a:pt x="2052" y="1780"/>
                </a:lnTo>
                <a:lnTo>
                  <a:pt x="2092" y="1803"/>
                </a:lnTo>
                <a:lnTo>
                  <a:pt x="2133" y="1825"/>
                </a:lnTo>
                <a:lnTo>
                  <a:pt x="2173" y="1850"/>
                </a:lnTo>
                <a:lnTo>
                  <a:pt x="2213" y="1873"/>
                </a:lnTo>
                <a:lnTo>
                  <a:pt x="2250" y="1897"/>
                </a:lnTo>
                <a:lnTo>
                  <a:pt x="2253" y="1899"/>
                </a:lnTo>
                <a:lnTo>
                  <a:pt x="2294" y="1916"/>
                </a:lnTo>
                <a:lnTo>
                  <a:pt x="2334" y="1937"/>
                </a:lnTo>
                <a:lnTo>
                  <a:pt x="2374" y="1958"/>
                </a:lnTo>
                <a:lnTo>
                  <a:pt x="2414" y="1979"/>
                </a:lnTo>
                <a:lnTo>
                  <a:pt x="2455" y="2002"/>
                </a:lnTo>
                <a:lnTo>
                  <a:pt x="2495" y="2025"/>
                </a:lnTo>
                <a:lnTo>
                  <a:pt x="2535" y="2047"/>
                </a:lnTo>
                <a:lnTo>
                  <a:pt x="2575" y="2074"/>
                </a:lnTo>
                <a:lnTo>
                  <a:pt x="2595" y="2087"/>
                </a:lnTo>
                <a:lnTo>
                  <a:pt x="2616" y="2097"/>
                </a:lnTo>
                <a:lnTo>
                  <a:pt x="2656" y="2116"/>
                </a:lnTo>
                <a:lnTo>
                  <a:pt x="2696" y="2137"/>
                </a:lnTo>
                <a:lnTo>
                  <a:pt x="2737" y="2157"/>
                </a:lnTo>
                <a:lnTo>
                  <a:pt x="2777" y="2178"/>
                </a:lnTo>
                <a:lnTo>
                  <a:pt x="2817" y="2201"/>
                </a:lnTo>
                <a:lnTo>
                  <a:pt x="2857" y="2224"/>
                </a:lnTo>
                <a:lnTo>
                  <a:pt x="2898" y="2247"/>
                </a:lnTo>
                <a:lnTo>
                  <a:pt x="2938" y="2275"/>
                </a:lnTo>
                <a:lnTo>
                  <a:pt x="2942" y="2277"/>
                </a:lnTo>
                <a:lnTo>
                  <a:pt x="2978" y="2294"/>
                </a:lnTo>
                <a:lnTo>
                  <a:pt x="3018" y="2313"/>
                </a:lnTo>
                <a:lnTo>
                  <a:pt x="3059" y="2334"/>
                </a:lnTo>
                <a:lnTo>
                  <a:pt x="3099" y="2355"/>
                </a:lnTo>
                <a:lnTo>
                  <a:pt x="3137" y="2378"/>
                </a:lnTo>
                <a:lnTo>
                  <a:pt x="3178" y="2400"/>
                </a:lnTo>
                <a:lnTo>
                  <a:pt x="3218" y="2423"/>
                </a:lnTo>
                <a:lnTo>
                  <a:pt x="3258" y="2450"/>
                </a:lnTo>
                <a:lnTo>
                  <a:pt x="3287" y="2467"/>
                </a:lnTo>
                <a:lnTo>
                  <a:pt x="3298" y="2472"/>
                </a:lnTo>
                <a:lnTo>
                  <a:pt x="3339" y="2490"/>
                </a:lnTo>
                <a:lnTo>
                  <a:pt x="3379" y="2510"/>
                </a:lnTo>
                <a:lnTo>
                  <a:pt x="3419" y="2531"/>
                </a:lnTo>
                <a:lnTo>
                  <a:pt x="3459" y="2554"/>
                </a:lnTo>
                <a:lnTo>
                  <a:pt x="3500" y="2575"/>
                </a:lnTo>
                <a:lnTo>
                  <a:pt x="3540" y="2600"/>
                </a:lnTo>
                <a:lnTo>
                  <a:pt x="3580" y="2622"/>
                </a:lnTo>
                <a:lnTo>
                  <a:pt x="3620" y="2649"/>
                </a:lnTo>
                <a:lnTo>
                  <a:pt x="3634" y="2657"/>
                </a:lnTo>
                <a:lnTo>
                  <a:pt x="3661" y="2670"/>
                </a:lnTo>
                <a:lnTo>
                  <a:pt x="3701" y="2689"/>
                </a:lnTo>
                <a:lnTo>
                  <a:pt x="3741" y="2710"/>
                </a:lnTo>
                <a:lnTo>
                  <a:pt x="3782" y="2731"/>
                </a:lnTo>
                <a:lnTo>
                  <a:pt x="3822" y="2751"/>
                </a:lnTo>
                <a:lnTo>
                  <a:pt x="3862" y="2774"/>
                </a:lnTo>
                <a:lnTo>
                  <a:pt x="3902" y="2799"/>
                </a:lnTo>
                <a:lnTo>
                  <a:pt x="3943" y="2824"/>
                </a:lnTo>
                <a:lnTo>
                  <a:pt x="3979" y="2846"/>
                </a:lnTo>
                <a:lnTo>
                  <a:pt x="3983" y="2848"/>
                </a:lnTo>
                <a:lnTo>
                  <a:pt x="4023" y="2867"/>
                </a:lnTo>
                <a:lnTo>
                  <a:pt x="4063" y="2886"/>
                </a:lnTo>
                <a:lnTo>
                  <a:pt x="4104" y="2907"/>
                </a:lnTo>
                <a:lnTo>
                  <a:pt x="4144" y="2928"/>
                </a:lnTo>
                <a:lnTo>
                  <a:pt x="4184" y="2951"/>
                </a:lnTo>
                <a:lnTo>
                  <a:pt x="4184" y="2846"/>
                </a:lnTo>
                <a:lnTo>
                  <a:pt x="4184" y="2657"/>
                </a:lnTo>
                <a:lnTo>
                  <a:pt x="4184" y="2467"/>
                </a:lnTo>
                <a:lnTo>
                  <a:pt x="4184" y="2277"/>
                </a:lnTo>
                <a:lnTo>
                  <a:pt x="4184" y="2087"/>
                </a:lnTo>
                <a:lnTo>
                  <a:pt x="4184" y="1897"/>
                </a:lnTo>
                <a:lnTo>
                  <a:pt x="4184" y="1708"/>
                </a:lnTo>
                <a:lnTo>
                  <a:pt x="4184" y="1518"/>
                </a:lnTo>
                <a:lnTo>
                  <a:pt x="4184" y="1328"/>
                </a:lnTo>
                <a:lnTo>
                  <a:pt x="4184" y="1138"/>
                </a:lnTo>
                <a:lnTo>
                  <a:pt x="4184" y="949"/>
                </a:lnTo>
                <a:lnTo>
                  <a:pt x="4184" y="759"/>
                </a:lnTo>
                <a:lnTo>
                  <a:pt x="4184" y="569"/>
                </a:lnTo>
                <a:lnTo>
                  <a:pt x="4184" y="379"/>
                </a:lnTo>
                <a:lnTo>
                  <a:pt x="4184" y="189"/>
                </a:lnTo>
                <a:lnTo>
                  <a:pt x="4184" y="0"/>
                </a:lnTo>
                <a:lnTo>
                  <a:pt x="4144" y="0"/>
                </a:lnTo>
                <a:lnTo>
                  <a:pt x="4104" y="0"/>
                </a:lnTo>
                <a:lnTo>
                  <a:pt x="4063" y="0"/>
                </a:lnTo>
                <a:lnTo>
                  <a:pt x="4023" y="0"/>
                </a:lnTo>
                <a:lnTo>
                  <a:pt x="3983" y="0"/>
                </a:lnTo>
                <a:lnTo>
                  <a:pt x="3943" y="0"/>
                </a:lnTo>
                <a:lnTo>
                  <a:pt x="3902" y="0"/>
                </a:lnTo>
                <a:lnTo>
                  <a:pt x="3862" y="0"/>
                </a:lnTo>
                <a:lnTo>
                  <a:pt x="3822" y="0"/>
                </a:lnTo>
                <a:lnTo>
                  <a:pt x="3782" y="0"/>
                </a:lnTo>
                <a:lnTo>
                  <a:pt x="3741" y="0"/>
                </a:lnTo>
                <a:lnTo>
                  <a:pt x="3701" y="0"/>
                </a:lnTo>
                <a:lnTo>
                  <a:pt x="3661" y="0"/>
                </a:lnTo>
                <a:lnTo>
                  <a:pt x="3620" y="0"/>
                </a:lnTo>
                <a:lnTo>
                  <a:pt x="3580" y="0"/>
                </a:lnTo>
                <a:lnTo>
                  <a:pt x="3540" y="0"/>
                </a:lnTo>
                <a:lnTo>
                  <a:pt x="3500" y="0"/>
                </a:lnTo>
                <a:lnTo>
                  <a:pt x="3459" y="0"/>
                </a:lnTo>
                <a:lnTo>
                  <a:pt x="3419" y="0"/>
                </a:lnTo>
                <a:lnTo>
                  <a:pt x="3379" y="0"/>
                </a:lnTo>
                <a:lnTo>
                  <a:pt x="3339" y="0"/>
                </a:lnTo>
                <a:lnTo>
                  <a:pt x="3298" y="0"/>
                </a:lnTo>
                <a:lnTo>
                  <a:pt x="3258" y="0"/>
                </a:lnTo>
                <a:lnTo>
                  <a:pt x="3218" y="0"/>
                </a:lnTo>
                <a:lnTo>
                  <a:pt x="3178" y="0"/>
                </a:lnTo>
                <a:lnTo>
                  <a:pt x="3137" y="0"/>
                </a:lnTo>
                <a:lnTo>
                  <a:pt x="3099" y="0"/>
                </a:lnTo>
                <a:lnTo>
                  <a:pt x="3059" y="0"/>
                </a:lnTo>
                <a:lnTo>
                  <a:pt x="3018" y="0"/>
                </a:lnTo>
                <a:lnTo>
                  <a:pt x="2978" y="0"/>
                </a:lnTo>
                <a:lnTo>
                  <a:pt x="2938" y="0"/>
                </a:lnTo>
                <a:lnTo>
                  <a:pt x="2898" y="0"/>
                </a:lnTo>
                <a:lnTo>
                  <a:pt x="2857" y="0"/>
                </a:lnTo>
                <a:lnTo>
                  <a:pt x="2817" y="0"/>
                </a:lnTo>
                <a:lnTo>
                  <a:pt x="2777" y="0"/>
                </a:lnTo>
                <a:lnTo>
                  <a:pt x="2737" y="0"/>
                </a:lnTo>
                <a:lnTo>
                  <a:pt x="2696" y="0"/>
                </a:lnTo>
                <a:lnTo>
                  <a:pt x="2656" y="0"/>
                </a:lnTo>
                <a:lnTo>
                  <a:pt x="2616" y="0"/>
                </a:lnTo>
                <a:lnTo>
                  <a:pt x="2575" y="0"/>
                </a:lnTo>
                <a:lnTo>
                  <a:pt x="2535" y="0"/>
                </a:lnTo>
                <a:lnTo>
                  <a:pt x="2495" y="0"/>
                </a:lnTo>
                <a:lnTo>
                  <a:pt x="2455" y="0"/>
                </a:lnTo>
                <a:lnTo>
                  <a:pt x="2414" y="0"/>
                </a:lnTo>
                <a:lnTo>
                  <a:pt x="2374" y="0"/>
                </a:lnTo>
                <a:lnTo>
                  <a:pt x="2334" y="0"/>
                </a:lnTo>
                <a:lnTo>
                  <a:pt x="2294" y="0"/>
                </a:lnTo>
                <a:lnTo>
                  <a:pt x="2253" y="0"/>
                </a:lnTo>
                <a:lnTo>
                  <a:pt x="2213" y="0"/>
                </a:lnTo>
                <a:lnTo>
                  <a:pt x="2173" y="0"/>
                </a:lnTo>
                <a:lnTo>
                  <a:pt x="2133" y="0"/>
                </a:lnTo>
                <a:lnTo>
                  <a:pt x="2092" y="0"/>
                </a:lnTo>
                <a:lnTo>
                  <a:pt x="2052" y="0"/>
                </a:lnTo>
                <a:lnTo>
                  <a:pt x="2012" y="0"/>
                </a:lnTo>
                <a:lnTo>
                  <a:pt x="1971" y="0"/>
                </a:lnTo>
                <a:lnTo>
                  <a:pt x="1931" y="0"/>
                </a:lnTo>
                <a:lnTo>
                  <a:pt x="1891" y="0"/>
                </a:lnTo>
                <a:lnTo>
                  <a:pt x="1851" y="0"/>
                </a:lnTo>
                <a:lnTo>
                  <a:pt x="1810" y="0"/>
                </a:lnTo>
                <a:lnTo>
                  <a:pt x="1770" y="0"/>
                </a:lnTo>
                <a:lnTo>
                  <a:pt x="1730" y="0"/>
                </a:lnTo>
                <a:lnTo>
                  <a:pt x="1690" y="0"/>
                </a:lnTo>
                <a:lnTo>
                  <a:pt x="1649" y="0"/>
                </a:lnTo>
                <a:lnTo>
                  <a:pt x="1609" y="0"/>
                </a:lnTo>
                <a:lnTo>
                  <a:pt x="1569" y="0"/>
                </a:lnTo>
                <a:lnTo>
                  <a:pt x="1529" y="0"/>
                </a:lnTo>
                <a:lnTo>
                  <a:pt x="1488" y="0"/>
                </a:lnTo>
                <a:lnTo>
                  <a:pt x="1448" y="0"/>
                </a:lnTo>
                <a:lnTo>
                  <a:pt x="1408" y="0"/>
                </a:lnTo>
                <a:lnTo>
                  <a:pt x="1367" y="0"/>
                </a:lnTo>
                <a:lnTo>
                  <a:pt x="1327" y="0"/>
                </a:lnTo>
                <a:lnTo>
                  <a:pt x="1287" y="0"/>
                </a:lnTo>
                <a:lnTo>
                  <a:pt x="1247" y="0"/>
                </a:lnTo>
                <a:lnTo>
                  <a:pt x="1206" y="0"/>
                </a:lnTo>
                <a:lnTo>
                  <a:pt x="1166" y="0"/>
                </a:lnTo>
                <a:lnTo>
                  <a:pt x="1126" y="0"/>
                </a:lnTo>
                <a:lnTo>
                  <a:pt x="1086" y="0"/>
                </a:lnTo>
                <a:lnTo>
                  <a:pt x="1045" y="0"/>
                </a:lnTo>
                <a:lnTo>
                  <a:pt x="1007" y="0"/>
                </a:lnTo>
                <a:lnTo>
                  <a:pt x="967" y="0"/>
                </a:lnTo>
                <a:lnTo>
                  <a:pt x="926" y="0"/>
                </a:lnTo>
                <a:lnTo>
                  <a:pt x="886" y="0"/>
                </a:lnTo>
                <a:lnTo>
                  <a:pt x="846" y="0"/>
                </a:lnTo>
                <a:lnTo>
                  <a:pt x="806" y="0"/>
                </a:lnTo>
                <a:lnTo>
                  <a:pt x="765" y="0"/>
                </a:lnTo>
                <a:lnTo>
                  <a:pt x="725" y="0"/>
                </a:lnTo>
                <a:lnTo>
                  <a:pt x="685" y="0"/>
                </a:lnTo>
                <a:lnTo>
                  <a:pt x="645" y="0"/>
                </a:lnTo>
                <a:lnTo>
                  <a:pt x="604" y="0"/>
                </a:lnTo>
                <a:lnTo>
                  <a:pt x="564" y="0"/>
                </a:lnTo>
                <a:lnTo>
                  <a:pt x="524" y="0"/>
                </a:lnTo>
                <a:lnTo>
                  <a:pt x="484" y="0"/>
                </a:lnTo>
                <a:lnTo>
                  <a:pt x="443" y="0"/>
                </a:lnTo>
                <a:lnTo>
                  <a:pt x="403" y="0"/>
                </a:lnTo>
                <a:lnTo>
                  <a:pt x="363" y="0"/>
                </a:lnTo>
                <a:lnTo>
                  <a:pt x="322" y="0"/>
                </a:lnTo>
                <a:lnTo>
                  <a:pt x="282" y="0"/>
                </a:lnTo>
                <a:lnTo>
                  <a:pt x="242" y="0"/>
                </a:lnTo>
                <a:lnTo>
                  <a:pt x="202" y="0"/>
                </a:lnTo>
                <a:lnTo>
                  <a:pt x="161" y="0"/>
                </a:lnTo>
                <a:lnTo>
                  <a:pt x="121" y="0"/>
                </a:lnTo>
                <a:lnTo>
                  <a:pt x="81" y="0"/>
                </a:lnTo>
                <a:lnTo>
                  <a:pt x="41" y="0"/>
                </a:lnTo>
                <a:lnTo>
                  <a:pt x="0" y="0"/>
                </a:lnTo>
                <a:lnTo>
                  <a:pt x="0" y="0"/>
                </a:lnTo>
                <a:lnTo>
                  <a:pt x="0" y="189"/>
                </a:lnTo>
                <a:lnTo>
                  <a:pt x="0" y="379"/>
                </a:lnTo>
                <a:lnTo>
                  <a:pt x="0" y="569"/>
                </a:lnTo>
                <a:lnTo>
                  <a:pt x="0" y="654"/>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6" name=""/>
          <p:cNvSpPr/>
          <p:nvPr/>
        </p:nvSpPr>
        <p:spPr>
          <a:xfrm>
            <a:off x="1828080" y="480060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1</a:t>
            </a:r>
            <a:endParaRPr b="0" lang="en-US" sz="2000" spc="-1" strike="noStrike">
              <a:solidFill>
                <a:srgbClr val="ffffff"/>
              </a:solidFill>
              <a:latin typeface="Arial"/>
            </a:endParaRPr>
          </a:p>
        </p:txBody>
      </p:sp>
      <p:sp>
        <p:nvSpPr>
          <p:cNvPr id="2057" name=""/>
          <p:cNvSpPr/>
          <p:nvPr/>
        </p:nvSpPr>
        <p:spPr>
          <a:xfrm>
            <a:off x="1904400" y="434340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2</a:t>
            </a:r>
            <a:endParaRPr b="0" lang="en-US" sz="2000" spc="-1" strike="noStrike">
              <a:solidFill>
                <a:srgbClr val="ffffff"/>
              </a:solidFill>
              <a:latin typeface="Arial"/>
            </a:endParaRPr>
          </a:p>
        </p:txBody>
      </p:sp>
      <p:sp>
        <p:nvSpPr>
          <p:cNvPr id="2058" name=""/>
          <p:cNvSpPr/>
          <p:nvPr/>
        </p:nvSpPr>
        <p:spPr>
          <a:xfrm>
            <a:off x="1982160" y="402264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3</a:t>
            </a:r>
            <a:endParaRPr b="0" lang="en-US" sz="2000" spc="-1" strike="noStrike">
              <a:solidFill>
                <a:srgbClr val="ffffff"/>
              </a:solidFill>
              <a:latin typeface="Arial"/>
            </a:endParaRPr>
          </a:p>
        </p:txBody>
      </p:sp>
      <p:sp>
        <p:nvSpPr>
          <p:cNvPr id="2059" name=""/>
          <p:cNvSpPr/>
          <p:nvPr/>
        </p:nvSpPr>
        <p:spPr>
          <a:xfrm>
            <a:off x="1924920" y="372420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4</a:t>
            </a:r>
            <a:endParaRPr b="0" lang="en-US" sz="2000" spc="-1" strike="noStrike">
              <a:solidFill>
                <a:srgbClr val="ffffff"/>
              </a:solidFill>
              <a:latin typeface="Arial"/>
            </a:endParaRPr>
          </a:p>
        </p:txBody>
      </p:sp>
      <p:sp>
        <p:nvSpPr>
          <p:cNvPr id="2060" name=""/>
          <p:cNvSpPr/>
          <p:nvPr/>
        </p:nvSpPr>
        <p:spPr>
          <a:xfrm>
            <a:off x="2331360" y="368136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5</a:t>
            </a:r>
            <a:endParaRPr b="0" lang="en-US" sz="2000" spc="-1" strike="noStrike">
              <a:solidFill>
                <a:srgbClr val="ffffff"/>
              </a:solidFill>
              <a:latin typeface="Arial"/>
            </a:endParaRPr>
          </a:p>
        </p:txBody>
      </p:sp>
      <p:sp>
        <p:nvSpPr>
          <p:cNvPr id="2061" name=""/>
          <p:cNvSpPr/>
          <p:nvPr/>
        </p:nvSpPr>
        <p:spPr>
          <a:xfrm>
            <a:off x="2156760" y="334800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6</a:t>
            </a:r>
            <a:endParaRPr b="0" lang="en-US" sz="2000" spc="-1" strike="noStrike">
              <a:solidFill>
                <a:srgbClr val="ffffff"/>
              </a:solidFill>
              <a:latin typeface="Arial"/>
            </a:endParaRPr>
          </a:p>
        </p:txBody>
      </p:sp>
      <p:sp>
        <p:nvSpPr>
          <p:cNvPr id="2062" name=""/>
          <p:cNvSpPr/>
          <p:nvPr/>
        </p:nvSpPr>
        <p:spPr>
          <a:xfrm>
            <a:off x="2099520" y="305280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7</a:t>
            </a:r>
            <a:endParaRPr b="0" lang="en-US" sz="2000" spc="-1" strike="noStrike">
              <a:solidFill>
                <a:srgbClr val="ffffff"/>
              </a:solidFill>
              <a:latin typeface="Arial"/>
            </a:endParaRPr>
          </a:p>
        </p:txBody>
      </p:sp>
      <p:sp>
        <p:nvSpPr>
          <p:cNvPr id="2063" name=""/>
          <p:cNvSpPr/>
          <p:nvPr/>
        </p:nvSpPr>
        <p:spPr>
          <a:xfrm>
            <a:off x="2156760" y="275580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8</a:t>
            </a:r>
            <a:endParaRPr b="0" lang="en-US" sz="2000" spc="-1" strike="noStrike">
              <a:solidFill>
                <a:srgbClr val="ffffff"/>
              </a:solidFill>
              <a:latin typeface="Arial"/>
            </a:endParaRPr>
          </a:p>
        </p:txBody>
      </p:sp>
      <p:sp>
        <p:nvSpPr>
          <p:cNvPr id="2064" name=""/>
          <p:cNvSpPr/>
          <p:nvPr/>
        </p:nvSpPr>
        <p:spPr>
          <a:xfrm>
            <a:off x="2390760" y="2320920"/>
            <a:ext cx="3524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9</a:t>
            </a:r>
            <a:endParaRPr b="0" lang="en-US" sz="2000" spc="-1" strike="noStrike">
              <a:solidFill>
                <a:srgbClr val="ffffff"/>
              </a:solidFill>
              <a:latin typeface="Arial"/>
            </a:endParaRPr>
          </a:p>
        </p:txBody>
      </p:sp>
      <p:sp>
        <p:nvSpPr>
          <p:cNvPr id="2065" name=""/>
          <p:cNvSpPr/>
          <p:nvPr/>
        </p:nvSpPr>
        <p:spPr>
          <a:xfrm>
            <a:off x="2249640" y="5672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ffffff"/>
              </a:solidFill>
              <a:latin typeface="Arial"/>
            </a:endParaRPr>
          </a:p>
        </p:txBody>
      </p:sp>
      <p:sp>
        <p:nvSpPr>
          <p:cNvPr id="2066" name=""/>
          <p:cNvSpPr/>
          <p:nvPr/>
        </p:nvSpPr>
        <p:spPr>
          <a:xfrm>
            <a:off x="3406680" y="5672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ffffff"/>
              </a:solidFill>
              <a:latin typeface="Arial"/>
            </a:endParaRPr>
          </a:p>
        </p:txBody>
      </p:sp>
      <p:sp>
        <p:nvSpPr>
          <p:cNvPr id="2067" name=""/>
          <p:cNvSpPr/>
          <p:nvPr/>
        </p:nvSpPr>
        <p:spPr>
          <a:xfrm>
            <a:off x="4570560" y="5672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a:t>
            </a:r>
            <a:endParaRPr b="0" lang="en-US" sz="1800" spc="-1" strike="noStrike">
              <a:solidFill>
                <a:srgbClr val="ffffff"/>
              </a:solidFill>
              <a:latin typeface="Arial"/>
            </a:endParaRPr>
          </a:p>
        </p:txBody>
      </p:sp>
      <p:sp>
        <p:nvSpPr>
          <p:cNvPr id="2068" name=""/>
          <p:cNvSpPr/>
          <p:nvPr/>
        </p:nvSpPr>
        <p:spPr>
          <a:xfrm>
            <a:off x="5732640" y="5672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6</a:t>
            </a:r>
            <a:endParaRPr b="0" lang="en-US" sz="1800" spc="-1" strike="noStrike">
              <a:solidFill>
                <a:srgbClr val="ffffff"/>
              </a:solidFill>
              <a:latin typeface="Arial"/>
            </a:endParaRPr>
          </a:p>
        </p:txBody>
      </p:sp>
      <p:sp>
        <p:nvSpPr>
          <p:cNvPr id="2069" name=""/>
          <p:cNvSpPr/>
          <p:nvPr/>
        </p:nvSpPr>
        <p:spPr>
          <a:xfrm>
            <a:off x="6892920" y="5672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a:t>
            </a:r>
            <a:endParaRPr b="0" lang="en-US" sz="1800" spc="-1" strike="noStrike">
              <a:solidFill>
                <a:srgbClr val="ffffff"/>
              </a:solidFill>
              <a:latin typeface="Arial"/>
            </a:endParaRPr>
          </a:p>
        </p:txBody>
      </p:sp>
      <p:sp>
        <p:nvSpPr>
          <p:cNvPr id="2070" name=""/>
          <p:cNvSpPr/>
          <p:nvPr/>
        </p:nvSpPr>
        <p:spPr>
          <a:xfrm>
            <a:off x="1415880" y="5448240"/>
            <a:ext cx="3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r>
              <a:rPr b="0" lang="en-US" sz="1800" spc="-1" strike="noStrike">
                <a:solidFill>
                  <a:srgbClr val="ffffff"/>
                </a:solidFill>
                <a:latin typeface="Arial"/>
              </a:rPr>
              <a:t>,</a:t>
            </a:r>
            <a:r>
              <a:rPr b="0" lang="en-GB" sz="1800" spc="-1" strike="noStrike">
                <a:solidFill>
                  <a:srgbClr val="ffffff"/>
                </a:solidFill>
                <a:latin typeface="Arial"/>
              </a:rPr>
              <a:t>0</a:t>
            </a:r>
            <a:endParaRPr b="0" lang="en-US" sz="1800" spc="-1" strike="noStrike">
              <a:solidFill>
                <a:srgbClr val="ffffff"/>
              </a:solidFill>
              <a:latin typeface="Arial"/>
            </a:endParaRPr>
          </a:p>
        </p:txBody>
      </p:sp>
      <p:sp>
        <p:nvSpPr>
          <p:cNvPr id="2071" name=""/>
          <p:cNvSpPr/>
          <p:nvPr/>
        </p:nvSpPr>
        <p:spPr>
          <a:xfrm>
            <a:off x="1415880" y="4944960"/>
            <a:ext cx="3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r>
              <a:rPr b="0" lang="en-US" sz="1800" spc="-1" strike="noStrike">
                <a:solidFill>
                  <a:srgbClr val="ffffff"/>
                </a:solidFill>
                <a:latin typeface="Arial"/>
              </a:rPr>
              <a:t>,</a:t>
            </a:r>
            <a:r>
              <a:rPr b="0" lang="en-GB" sz="1800" spc="-1" strike="noStrike">
                <a:solidFill>
                  <a:srgbClr val="ffffff"/>
                </a:solidFill>
                <a:latin typeface="Arial"/>
              </a:rPr>
              <a:t>2</a:t>
            </a:r>
            <a:endParaRPr b="0" lang="en-US" sz="1800" spc="-1" strike="noStrike">
              <a:solidFill>
                <a:srgbClr val="ffffff"/>
              </a:solidFill>
              <a:latin typeface="Arial"/>
            </a:endParaRPr>
          </a:p>
        </p:txBody>
      </p:sp>
      <p:sp>
        <p:nvSpPr>
          <p:cNvPr id="2072" name=""/>
          <p:cNvSpPr/>
          <p:nvPr/>
        </p:nvSpPr>
        <p:spPr>
          <a:xfrm>
            <a:off x="1415880" y="4444920"/>
            <a:ext cx="3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r>
              <a:rPr b="0" lang="en-US" sz="1800" spc="-1" strike="noStrike">
                <a:solidFill>
                  <a:srgbClr val="ffffff"/>
                </a:solidFill>
                <a:latin typeface="Arial"/>
              </a:rPr>
              <a:t>,</a:t>
            </a:r>
            <a:r>
              <a:rPr b="0" lang="en-GB" sz="1800" spc="-1" strike="noStrike">
                <a:solidFill>
                  <a:srgbClr val="ffffff"/>
                </a:solidFill>
                <a:latin typeface="Arial"/>
              </a:rPr>
              <a:t>4</a:t>
            </a:r>
            <a:endParaRPr b="0" lang="en-US" sz="1800" spc="-1" strike="noStrike">
              <a:solidFill>
                <a:srgbClr val="ffffff"/>
              </a:solidFill>
              <a:latin typeface="Arial"/>
            </a:endParaRPr>
          </a:p>
        </p:txBody>
      </p:sp>
      <p:sp>
        <p:nvSpPr>
          <p:cNvPr id="2073" name=""/>
          <p:cNvSpPr/>
          <p:nvPr/>
        </p:nvSpPr>
        <p:spPr>
          <a:xfrm>
            <a:off x="1415880" y="3941640"/>
            <a:ext cx="3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r>
              <a:rPr b="0" lang="en-US" sz="1800" spc="-1" strike="noStrike">
                <a:solidFill>
                  <a:srgbClr val="ffffff"/>
                </a:solidFill>
                <a:latin typeface="Arial"/>
              </a:rPr>
              <a:t>,</a:t>
            </a:r>
            <a:r>
              <a:rPr b="0" lang="en-GB" sz="1800" spc="-1" strike="noStrike">
                <a:solidFill>
                  <a:srgbClr val="ffffff"/>
                </a:solidFill>
                <a:latin typeface="Arial"/>
              </a:rPr>
              <a:t>6</a:t>
            </a:r>
            <a:endParaRPr b="0" lang="en-US" sz="1800" spc="-1" strike="noStrike">
              <a:solidFill>
                <a:srgbClr val="ffffff"/>
              </a:solidFill>
              <a:latin typeface="Arial"/>
            </a:endParaRPr>
          </a:p>
        </p:txBody>
      </p:sp>
      <p:sp>
        <p:nvSpPr>
          <p:cNvPr id="2074" name=""/>
          <p:cNvSpPr/>
          <p:nvPr/>
        </p:nvSpPr>
        <p:spPr>
          <a:xfrm>
            <a:off x="1415880" y="3440160"/>
            <a:ext cx="3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r>
              <a:rPr b="0" lang="en-US" sz="1800" spc="-1" strike="noStrike">
                <a:solidFill>
                  <a:srgbClr val="ffffff"/>
                </a:solidFill>
                <a:latin typeface="Arial"/>
              </a:rPr>
              <a:t>,</a:t>
            </a:r>
            <a:r>
              <a:rPr b="0" lang="en-GB" sz="1800" spc="-1" strike="noStrike">
                <a:solidFill>
                  <a:srgbClr val="ffffff"/>
                </a:solidFill>
                <a:latin typeface="Arial"/>
              </a:rPr>
              <a:t>8</a:t>
            </a:r>
            <a:endParaRPr b="0" lang="en-US" sz="1800" spc="-1" strike="noStrike">
              <a:solidFill>
                <a:srgbClr val="ffffff"/>
              </a:solidFill>
              <a:latin typeface="Arial"/>
            </a:endParaRPr>
          </a:p>
        </p:txBody>
      </p:sp>
      <p:sp>
        <p:nvSpPr>
          <p:cNvPr id="2075" name=""/>
          <p:cNvSpPr/>
          <p:nvPr/>
        </p:nvSpPr>
        <p:spPr>
          <a:xfrm>
            <a:off x="1415880" y="2938320"/>
            <a:ext cx="3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r>
              <a:rPr b="0" lang="en-US" sz="1800" spc="-1" strike="noStrike">
                <a:solidFill>
                  <a:srgbClr val="ffffff"/>
                </a:solidFill>
                <a:latin typeface="Arial"/>
              </a:rPr>
              <a:t>,</a:t>
            </a:r>
            <a:r>
              <a:rPr b="0" lang="en-GB" sz="1800" spc="-1" strike="noStrike">
                <a:solidFill>
                  <a:srgbClr val="ffffff"/>
                </a:solidFill>
                <a:latin typeface="Arial"/>
              </a:rPr>
              <a:t>0</a:t>
            </a:r>
            <a:endParaRPr b="0" lang="en-US" sz="1800" spc="-1" strike="noStrike">
              <a:solidFill>
                <a:srgbClr val="ffffff"/>
              </a:solidFill>
              <a:latin typeface="Arial"/>
            </a:endParaRPr>
          </a:p>
        </p:txBody>
      </p:sp>
      <p:sp>
        <p:nvSpPr>
          <p:cNvPr id="2076" name=""/>
          <p:cNvSpPr/>
          <p:nvPr/>
        </p:nvSpPr>
        <p:spPr>
          <a:xfrm>
            <a:off x="1415880" y="2435400"/>
            <a:ext cx="3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r>
              <a:rPr b="0" lang="en-US" sz="1800" spc="-1" strike="noStrike">
                <a:solidFill>
                  <a:srgbClr val="ffffff"/>
                </a:solidFill>
                <a:latin typeface="Arial"/>
              </a:rPr>
              <a:t>,</a:t>
            </a:r>
            <a:r>
              <a:rPr b="0" lang="en-GB" sz="1800" spc="-1" strike="noStrike">
                <a:solidFill>
                  <a:srgbClr val="ffffff"/>
                </a:solidFill>
                <a:latin typeface="Arial"/>
              </a:rPr>
              <a:t>2</a:t>
            </a:r>
            <a:endParaRPr b="0" lang="en-US" sz="1800" spc="-1" strike="noStrike">
              <a:solidFill>
                <a:srgbClr val="ffffff"/>
              </a:solidFill>
              <a:latin typeface="Arial"/>
            </a:endParaRPr>
          </a:p>
        </p:txBody>
      </p:sp>
      <p:sp>
        <p:nvSpPr>
          <p:cNvPr id="2077" name=""/>
          <p:cNvSpPr/>
          <p:nvPr/>
        </p:nvSpPr>
        <p:spPr>
          <a:xfrm>
            <a:off x="1415880" y="1935000"/>
            <a:ext cx="3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r>
              <a:rPr b="0" lang="en-US" sz="1800" spc="-1" strike="noStrike">
                <a:solidFill>
                  <a:srgbClr val="ffffff"/>
                </a:solidFill>
                <a:latin typeface="Arial"/>
              </a:rPr>
              <a:t>,</a:t>
            </a:r>
            <a:r>
              <a:rPr b="0" lang="en-GB" sz="1800" spc="-1" strike="noStrike">
                <a:solidFill>
                  <a:srgbClr val="ffffff"/>
                </a:solidFill>
                <a:latin typeface="Arial"/>
              </a:rPr>
              <a:t>4</a:t>
            </a:r>
            <a:endParaRPr b="0" lang="en-US" sz="1800" spc="-1" strike="noStrike">
              <a:solidFill>
                <a:srgbClr val="ffffff"/>
              </a:solidFill>
              <a:latin typeface="Arial"/>
            </a:endParaRPr>
          </a:p>
        </p:txBody>
      </p:sp>
      <p:sp>
        <p:nvSpPr>
          <p:cNvPr id="2078" name=""/>
          <p:cNvSpPr/>
          <p:nvPr/>
        </p:nvSpPr>
        <p:spPr>
          <a:xfrm>
            <a:off x="1415880" y="1432080"/>
            <a:ext cx="3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r>
              <a:rPr b="0" lang="en-US" sz="1800" spc="-1" strike="noStrike">
                <a:solidFill>
                  <a:srgbClr val="ffffff"/>
                </a:solidFill>
                <a:latin typeface="Arial"/>
              </a:rPr>
              <a:t>,</a:t>
            </a:r>
            <a:r>
              <a:rPr b="0" lang="en-GB" sz="1800" spc="-1" strike="noStrike">
                <a:solidFill>
                  <a:srgbClr val="ffffff"/>
                </a:solidFill>
                <a:latin typeface="Arial"/>
              </a:rPr>
              <a:t>6</a:t>
            </a:r>
            <a:endParaRPr b="0" lang="en-US" sz="1800" spc="-1" strike="noStrike">
              <a:solidFill>
                <a:srgbClr val="ffffff"/>
              </a:solidFill>
              <a:latin typeface="Arial"/>
            </a:endParaRPr>
          </a:p>
        </p:txBody>
      </p:sp>
      <p:sp>
        <p:nvSpPr>
          <p:cNvPr id="2079" name=""/>
          <p:cNvSpPr/>
          <p:nvPr/>
        </p:nvSpPr>
        <p:spPr>
          <a:xfrm flipV="1">
            <a:off x="2300400" y="5549760"/>
            <a:ext cx="1440" cy="84240"/>
          </a:xfrm>
          <a:prstGeom prst="line">
            <a:avLst/>
          </a:prstGeom>
          <a:ln w="20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80" name=""/>
          <p:cNvSpPr/>
          <p:nvPr/>
        </p:nvSpPr>
        <p:spPr>
          <a:xfrm flipV="1">
            <a:off x="2882880" y="5549400"/>
            <a:ext cx="1440" cy="41400"/>
          </a:xfrm>
          <a:prstGeom prst="line">
            <a:avLst/>
          </a:prstGeom>
          <a:ln w="205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81" name=""/>
          <p:cNvSpPr/>
          <p:nvPr/>
        </p:nvSpPr>
        <p:spPr>
          <a:xfrm flipV="1">
            <a:off x="3460680" y="5549760"/>
            <a:ext cx="1800" cy="84240"/>
          </a:xfrm>
          <a:prstGeom prst="line">
            <a:avLst/>
          </a:prstGeom>
          <a:ln w="20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82" name=""/>
          <p:cNvSpPr/>
          <p:nvPr/>
        </p:nvSpPr>
        <p:spPr>
          <a:xfrm flipV="1">
            <a:off x="4043520" y="5549400"/>
            <a:ext cx="0" cy="41400"/>
          </a:xfrm>
          <a:prstGeom prst="line">
            <a:avLst/>
          </a:prstGeom>
          <a:ln w="205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83" name=""/>
          <p:cNvSpPr/>
          <p:nvPr/>
        </p:nvSpPr>
        <p:spPr>
          <a:xfrm flipV="1">
            <a:off x="4622760" y="5549760"/>
            <a:ext cx="1800" cy="84240"/>
          </a:xfrm>
          <a:prstGeom prst="line">
            <a:avLst/>
          </a:prstGeom>
          <a:ln w="20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84" name=""/>
          <p:cNvSpPr/>
          <p:nvPr/>
        </p:nvSpPr>
        <p:spPr>
          <a:xfrm flipV="1">
            <a:off x="5203800" y="5549400"/>
            <a:ext cx="1440" cy="41400"/>
          </a:xfrm>
          <a:prstGeom prst="line">
            <a:avLst/>
          </a:prstGeom>
          <a:ln w="205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85" name=""/>
          <p:cNvSpPr/>
          <p:nvPr/>
        </p:nvSpPr>
        <p:spPr>
          <a:xfrm flipV="1">
            <a:off x="5786280" y="5549760"/>
            <a:ext cx="1800" cy="84240"/>
          </a:xfrm>
          <a:prstGeom prst="line">
            <a:avLst/>
          </a:prstGeom>
          <a:ln w="20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86" name=""/>
          <p:cNvSpPr/>
          <p:nvPr/>
        </p:nvSpPr>
        <p:spPr>
          <a:xfrm flipV="1">
            <a:off x="6365880" y="5549400"/>
            <a:ext cx="1440" cy="41400"/>
          </a:xfrm>
          <a:prstGeom prst="line">
            <a:avLst/>
          </a:prstGeom>
          <a:ln w="205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87" name=""/>
          <p:cNvSpPr/>
          <p:nvPr/>
        </p:nvSpPr>
        <p:spPr>
          <a:xfrm flipV="1">
            <a:off x="6945480" y="5549760"/>
            <a:ext cx="0" cy="84240"/>
          </a:xfrm>
          <a:prstGeom prst="line">
            <a:avLst/>
          </a:prstGeom>
          <a:ln w="20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88" name=""/>
          <p:cNvSpPr/>
          <p:nvPr/>
        </p:nvSpPr>
        <p:spPr>
          <a:xfrm flipV="1">
            <a:off x="7526160" y="5549400"/>
            <a:ext cx="1800" cy="41400"/>
          </a:xfrm>
          <a:prstGeom prst="line">
            <a:avLst/>
          </a:prstGeom>
          <a:ln w="205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89" name=""/>
          <p:cNvSpPr/>
          <p:nvPr/>
        </p:nvSpPr>
        <p:spPr>
          <a:xfrm>
            <a:off x="1836720" y="5549760"/>
            <a:ext cx="603720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0" name=""/>
          <p:cNvSpPr/>
          <p:nvPr/>
        </p:nvSpPr>
        <p:spPr>
          <a:xfrm>
            <a:off x="1741320" y="5549760"/>
            <a:ext cx="9540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p:nvPr/>
        </p:nvSpPr>
        <p:spPr>
          <a:xfrm>
            <a:off x="1789200" y="5297400"/>
            <a:ext cx="475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92" name=""/>
          <p:cNvSpPr/>
          <p:nvPr/>
        </p:nvSpPr>
        <p:spPr>
          <a:xfrm>
            <a:off x="1741320" y="5046840"/>
            <a:ext cx="95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93" name=""/>
          <p:cNvSpPr/>
          <p:nvPr/>
        </p:nvSpPr>
        <p:spPr>
          <a:xfrm>
            <a:off x="1789200" y="4797360"/>
            <a:ext cx="4752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4" name=""/>
          <p:cNvSpPr/>
          <p:nvPr/>
        </p:nvSpPr>
        <p:spPr>
          <a:xfrm>
            <a:off x="1741320" y="4545000"/>
            <a:ext cx="95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95" name=""/>
          <p:cNvSpPr/>
          <p:nvPr/>
        </p:nvSpPr>
        <p:spPr>
          <a:xfrm>
            <a:off x="1789200" y="4294080"/>
            <a:ext cx="475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96" name=""/>
          <p:cNvSpPr/>
          <p:nvPr/>
        </p:nvSpPr>
        <p:spPr>
          <a:xfrm>
            <a:off x="1741320" y="4043520"/>
            <a:ext cx="95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97" name=""/>
          <p:cNvSpPr/>
          <p:nvPr/>
        </p:nvSpPr>
        <p:spPr>
          <a:xfrm>
            <a:off x="1789200" y="3790800"/>
            <a:ext cx="475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98" name=""/>
          <p:cNvSpPr/>
          <p:nvPr/>
        </p:nvSpPr>
        <p:spPr>
          <a:xfrm>
            <a:off x="1741320" y="3541680"/>
            <a:ext cx="954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99" name=""/>
          <p:cNvSpPr/>
          <p:nvPr/>
        </p:nvSpPr>
        <p:spPr>
          <a:xfrm>
            <a:off x="1789200" y="3290760"/>
            <a:ext cx="4752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0" name=""/>
          <p:cNvSpPr/>
          <p:nvPr/>
        </p:nvSpPr>
        <p:spPr>
          <a:xfrm>
            <a:off x="1741320" y="3038400"/>
            <a:ext cx="954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01" name=""/>
          <p:cNvSpPr/>
          <p:nvPr/>
        </p:nvSpPr>
        <p:spPr>
          <a:xfrm>
            <a:off x="1789200" y="2787480"/>
            <a:ext cx="475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02" name=""/>
          <p:cNvSpPr/>
          <p:nvPr/>
        </p:nvSpPr>
        <p:spPr>
          <a:xfrm>
            <a:off x="1741320" y="2538360"/>
            <a:ext cx="9540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3" name=""/>
          <p:cNvSpPr/>
          <p:nvPr/>
        </p:nvSpPr>
        <p:spPr>
          <a:xfrm>
            <a:off x="1789200" y="2286000"/>
            <a:ext cx="475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04" name=""/>
          <p:cNvSpPr/>
          <p:nvPr/>
        </p:nvSpPr>
        <p:spPr>
          <a:xfrm>
            <a:off x="1741320" y="2035080"/>
            <a:ext cx="954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05" name=""/>
          <p:cNvSpPr/>
          <p:nvPr/>
        </p:nvSpPr>
        <p:spPr>
          <a:xfrm>
            <a:off x="1789200" y="1784520"/>
            <a:ext cx="475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06" name=""/>
          <p:cNvSpPr/>
          <p:nvPr/>
        </p:nvSpPr>
        <p:spPr>
          <a:xfrm>
            <a:off x="1741320" y="1531800"/>
            <a:ext cx="954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07" name=""/>
          <p:cNvSpPr/>
          <p:nvPr/>
        </p:nvSpPr>
        <p:spPr>
          <a:xfrm>
            <a:off x="1789200" y="1282680"/>
            <a:ext cx="475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08" name=""/>
          <p:cNvSpPr/>
          <p:nvPr/>
        </p:nvSpPr>
        <p:spPr>
          <a:xfrm flipV="1">
            <a:off x="1836720" y="1282320"/>
            <a:ext cx="0" cy="4267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9" name=""/>
          <p:cNvSpPr/>
          <p:nvPr/>
        </p:nvSpPr>
        <p:spPr>
          <a:xfrm flipV="1">
            <a:off x="4622760" y="557172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10" name=""/>
          <p:cNvSpPr/>
          <p:nvPr/>
        </p:nvSpPr>
        <p:spPr>
          <a:xfrm flipV="1">
            <a:off x="4622760" y="550656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11" name=""/>
          <p:cNvSpPr/>
          <p:nvPr/>
        </p:nvSpPr>
        <p:spPr>
          <a:xfrm flipV="1">
            <a:off x="4622760" y="5440320"/>
            <a:ext cx="180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2" name=""/>
          <p:cNvSpPr/>
          <p:nvPr/>
        </p:nvSpPr>
        <p:spPr>
          <a:xfrm flipV="1">
            <a:off x="4622760" y="5375160"/>
            <a:ext cx="180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13" name=""/>
          <p:cNvSpPr/>
          <p:nvPr/>
        </p:nvSpPr>
        <p:spPr>
          <a:xfrm flipV="1">
            <a:off x="4622760" y="531144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14" name=""/>
          <p:cNvSpPr/>
          <p:nvPr/>
        </p:nvSpPr>
        <p:spPr>
          <a:xfrm flipV="1">
            <a:off x="4622760" y="524484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15" name=""/>
          <p:cNvSpPr/>
          <p:nvPr/>
        </p:nvSpPr>
        <p:spPr>
          <a:xfrm flipV="1">
            <a:off x="4622760" y="517968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16" name=""/>
          <p:cNvSpPr/>
          <p:nvPr/>
        </p:nvSpPr>
        <p:spPr>
          <a:xfrm flipV="1">
            <a:off x="4622760" y="511452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17" name=""/>
          <p:cNvSpPr/>
          <p:nvPr/>
        </p:nvSpPr>
        <p:spPr>
          <a:xfrm flipV="1">
            <a:off x="4622760" y="5049720"/>
            <a:ext cx="180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18" name=""/>
          <p:cNvSpPr/>
          <p:nvPr/>
        </p:nvSpPr>
        <p:spPr>
          <a:xfrm flipV="1">
            <a:off x="4622760" y="4984920"/>
            <a:ext cx="1800" cy="10800"/>
          </a:xfrm>
          <a:prstGeom prst="line">
            <a:avLst/>
          </a:prstGeom>
          <a:ln w="1584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119" name=""/>
          <p:cNvSpPr/>
          <p:nvPr/>
        </p:nvSpPr>
        <p:spPr>
          <a:xfrm flipV="1">
            <a:off x="4622760" y="491940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20" name=""/>
          <p:cNvSpPr/>
          <p:nvPr/>
        </p:nvSpPr>
        <p:spPr>
          <a:xfrm flipV="1">
            <a:off x="4622760" y="4852800"/>
            <a:ext cx="1800" cy="14040"/>
          </a:xfrm>
          <a:prstGeom prst="line">
            <a:avLst/>
          </a:prstGeom>
          <a:ln w="158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121" name=""/>
          <p:cNvSpPr/>
          <p:nvPr/>
        </p:nvSpPr>
        <p:spPr>
          <a:xfrm flipV="1">
            <a:off x="4622760" y="478908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22" name=""/>
          <p:cNvSpPr/>
          <p:nvPr/>
        </p:nvSpPr>
        <p:spPr>
          <a:xfrm flipV="1">
            <a:off x="4622760" y="472392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23" name=""/>
          <p:cNvSpPr/>
          <p:nvPr/>
        </p:nvSpPr>
        <p:spPr>
          <a:xfrm flipV="1">
            <a:off x="4622760" y="465732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24" name=""/>
          <p:cNvSpPr/>
          <p:nvPr/>
        </p:nvSpPr>
        <p:spPr>
          <a:xfrm flipV="1">
            <a:off x="4622760" y="4592520"/>
            <a:ext cx="180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25" name=""/>
          <p:cNvSpPr/>
          <p:nvPr/>
        </p:nvSpPr>
        <p:spPr>
          <a:xfrm flipV="1">
            <a:off x="4622760" y="452736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26" name=""/>
          <p:cNvSpPr/>
          <p:nvPr/>
        </p:nvSpPr>
        <p:spPr>
          <a:xfrm flipV="1">
            <a:off x="4622760" y="446220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27" name=""/>
          <p:cNvSpPr/>
          <p:nvPr/>
        </p:nvSpPr>
        <p:spPr>
          <a:xfrm flipV="1">
            <a:off x="4622760" y="439704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28" name=""/>
          <p:cNvSpPr/>
          <p:nvPr/>
        </p:nvSpPr>
        <p:spPr>
          <a:xfrm flipV="1">
            <a:off x="4622760" y="4330440"/>
            <a:ext cx="1800" cy="14040"/>
          </a:xfrm>
          <a:prstGeom prst="line">
            <a:avLst/>
          </a:prstGeom>
          <a:ln w="158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129" name=""/>
          <p:cNvSpPr/>
          <p:nvPr/>
        </p:nvSpPr>
        <p:spPr>
          <a:xfrm flipV="1">
            <a:off x="4622760" y="4265640"/>
            <a:ext cx="180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0" name=""/>
          <p:cNvSpPr/>
          <p:nvPr/>
        </p:nvSpPr>
        <p:spPr>
          <a:xfrm flipV="1">
            <a:off x="4622760" y="4202280"/>
            <a:ext cx="1800" cy="10800"/>
          </a:xfrm>
          <a:prstGeom prst="line">
            <a:avLst/>
          </a:prstGeom>
          <a:ln w="1584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131" name=""/>
          <p:cNvSpPr/>
          <p:nvPr/>
        </p:nvSpPr>
        <p:spPr>
          <a:xfrm flipV="1">
            <a:off x="4622760" y="4135320"/>
            <a:ext cx="180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32" name=""/>
          <p:cNvSpPr/>
          <p:nvPr/>
        </p:nvSpPr>
        <p:spPr>
          <a:xfrm flipV="1">
            <a:off x="4622760" y="4070160"/>
            <a:ext cx="1800" cy="14040"/>
          </a:xfrm>
          <a:prstGeom prst="line">
            <a:avLst/>
          </a:prstGeom>
          <a:ln w="158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133" name=""/>
          <p:cNvSpPr/>
          <p:nvPr/>
        </p:nvSpPr>
        <p:spPr>
          <a:xfrm flipV="1">
            <a:off x="4622760" y="400500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34" name=""/>
          <p:cNvSpPr/>
          <p:nvPr/>
        </p:nvSpPr>
        <p:spPr>
          <a:xfrm flipV="1">
            <a:off x="4622760" y="393984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35" name=""/>
          <p:cNvSpPr/>
          <p:nvPr/>
        </p:nvSpPr>
        <p:spPr>
          <a:xfrm flipV="1">
            <a:off x="4622760" y="387468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36" name=""/>
          <p:cNvSpPr/>
          <p:nvPr/>
        </p:nvSpPr>
        <p:spPr>
          <a:xfrm flipV="1">
            <a:off x="4622760" y="3809880"/>
            <a:ext cx="180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37" name=""/>
          <p:cNvSpPr/>
          <p:nvPr/>
        </p:nvSpPr>
        <p:spPr>
          <a:xfrm flipV="1">
            <a:off x="4622760" y="3743280"/>
            <a:ext cx="180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8" name=""/>
          <p:cNvSpPr/>
          <p:nvPr/>
        </p:nvSpPr>
        <p:spPr>
          <a:xfrm flipV="1">
            <a:off x="4622760" y="367956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39" name=""/>
          <p:cNvSpPr/>
          <p:nvPr/>
        </p:nvSpPr>
        <p:spPr>
          <a:xfrm flipV="1">
            <a:off x="4622760" y="361440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40" name=""/>
          <p:cNvSpPr/>
          <p:nvPr/>
        </p:nvSpPr>
        <p:spPr>
          <a:xfrm flipV="1">
            <a:off x="4622760" y="354780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41" name=""/>
          <p:cNvSpPr/>
          <p:nvPr/>
        </p:nvSpPr>
        <p:spPr>
          <a:xfrm flipV="1">
            <a:off x="4622760" y="348264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42" name=""/>
          <p:cNvSpPr/>
          <p:nvPr/>
        </p:nvSpPr>
        <p:spPr>
          <a:xfrm flipV="1">
            <a:off x="4622760" y="341748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43" name=""/>
          <p:cNvSpPr/>
          <p:nvPr/>
        </p:nvSpPr>
        <p:spPr>
          <a:xfrm flipV="1">
            <a:off x="4622760" y="3352680"/>
            <a:ext cx="180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44" name=""/>
          <p:cNvSpPr/>
          <p:nvPr/>
        </p:nvSpPr>
        <p:spPr>
          <a:xfrm flipV="1">
            <a:off x="4622760" y="3287880"/>
            <a:ext cx="1800" cy="10800"/>
          </a:xfrm>
          <a:prstGeom prst="line">
            <a:avLst/>
          </a:prstGeom>
          <a:ln w="1584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145" name=""/>
          <p:cNvSpPr/>
          <p:nvPr/>
        </p:nvSpPr>
        <p:spPr>
          <a:xfrm flipV="1">
            <a:off x="4622760" y="322236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46" name=""/>
          <p:cNvSpPr/>
          <p:nvPr/>
        </p:nvSpPr>
        <p:spPr>
          <a:xfrm flipV="1">
            <a:off x="4622760" y="3155760"/>
            <a:ext cx="1800" cy="14040"/>
          </a:xfrm>
          <a:prstGeom prst="line">
            <a:avLst/>
          </a:prstGeom>
          <a:ln w="158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147" name=""/>
          <p:cNvSpPr/>
          <p:nvPr/>
        </p:nvSpPr>
        <p:spPr>
          <a:xfrm flipV="1">
            <a:off x="4622760" y="309204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48" name=""/>
          <p:cNvSpPr/>
          <p:nvPr/>
        </p:nvSpPr>
        <p:spPr>
          <a:xfrm flipV="1">
            <a:off x="4622760" y="302688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49" name=""/>
          <p:cNvSpPr/>
          <p:nvPr/>
        </p:nvSpPr>
        <p:spPr>
          <a:xfrm flipV="1">
            <a:off x="4622760" y="2960640"/>
            <a:ext cx="180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50" name=""/>
          <p:cNvSpPr/>
          <p:nvPr/>
        </p:nvSpPr>
        <p:spPr>
          <a:xfrm flipV="1">
            <a:off x="4622760" y="2895480"/>
            <a:ext cx="180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51" name=""/>
          <p:cNvSpPr/>
          <p:nvPr/>
        </p:nvSpPr>
        <p:spPr>
          <a:xfrm flipV="1">
            <a:off x="4622760" y="283176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52" name=""/>
          <p:cNvSpPr/>
          <p:nvPr/>
        </p:nvSpPr>
        <p:spPr>
          <a:xfrm flipV="1">
            <a:off x="4622760" y="276516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53" name=""/>
          <p:cNvSpPr/>
          <p:nvPr/>
        </p:nvSpPr>
        <p:spPr>
          <a:xfrm flipV="1">
            <a:off x="4622760" y="270000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54" name=""/>
          <p:cNvSpPr/>
          <p:nvPr/>
        </p:nvSpPr>
        <p:spPr>
          <a:xfrm flipV="1">
            <a:off x="4622760" y="263484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55" name=""/>
          <p:cNvSpPr/>
          <p:nvPr/>
        </p:nvSpPr>
        <p:spPr>
          <a:xfrm flipV="1">
            <a:off x="4622760" y="2570040"/>
            <a:ext cx="180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56" name=""/>
          <p:cNvSpPr/>
          <p:nvPr/>
        </p:nvSpPr>
        <p:spPr>
          <a:xfrm flipV="1">
            <a:off x="4622760" y="2505240"/>
            <a:ext cx="1800" cy="10800"/>
          </a:xfrm>
          <a:prstGeom prst="line">
            <a:avLst/>
          </a:prstGeom>
          <a:ln w="1584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157" name=""/>
          <p:cNvSpPr/>
          <p:nvPr/>
        </p:nvSpPr>
        <p:spPr>
          <a:xfrm flipV="1">
            <a:off x="4622760" y="243972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58" name=""/>
          <p:cNvSpPr/>
          <p:nvPr/>
        </p:nvSpPr>
        <p:spPr>
          <a:xfrm flipV="1">
            <a:off x="4622760" y="2373120"/>
            <a:ext cx="1800" cy="14040"/>
          </a:xfrm>
          <a:prstGeom prst="line">
            <a:avLst/>
          </a:prstGeom>
          <a:ln w="158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159" name=""/>
          <p:cNvSpPr/>
          <p:nvPr/>
        </p:nvSpPr>
        <p:spPr>
          <a:xfrm flipV="1">
            <a:off x="4622760" y="230796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60" name=""/>
          <p:cNvSpPr/>
          <p:nvPr/>
        </p:nvSpPr>
        <p:spPr>
          <a:xfrm flipV="1">
            <a:off x="4622760" y="224280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61" name=""/>
          <p:cNvSpPr/>
          <p:nvPr/>
        </p:nvSpPr>
        <p:spPr>
          <a:xfrm flipV="1">
            <a:off x="4622760" y="217764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62" name=""/>
          <p:cNvSpPr/>
          <p:nvPr/>
        </p:nvSpPr>
        <p:spPr>
          <a:xfrm flipV="1">
            <a:off x="4622760" y="2112840"/>
            <a:ext cx="180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63" name=""/>
          <p:cNvSpPr/>
          <p:nvPr/>
        </p:nvSpPr>
        <p:spPr>
          <a:xfrm flipV="1">
            <a:off x="4622760" y="2046240"/>
            <a:ext cx="180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64" name=""/>
          <p:cNvSpPr/>
          <p:nvPr/>
        </p:nvSpPr>
        <p:spPr>
          <a:xfrm flipV="1">
            <a:off x="4622760" y="198252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65" name=""/>
          <p:cNvSpPr/>
          <p:nvPr/>
        </p:nvSpPr>
        <p:spPr>
          <a:xfrm flipV="1">
            <a:off x="4622760" y="191736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66" name=""/>
          <p:cNvSpPr/>
          <p:nvPr/>
        </p:nvSpPr>
        <p:spPr>
          <a:xfrm flipV="1">
            <a:off x="4622760" y="1850760"/>
            <a:ext cx="1800" cy="14040"/>
          </a:xfrm>
          <a:prstGeom prst="line">
            <a:avLst/>
          </a:prstGeom>
          <a:ln w="158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167" name=""/>
          <p:cNvSpPr/>
          <p:nvPr/>
        </p:nvSpPr>
        <p:spPr>
          <a:xfrm flipV="1">
            <a:off x="4622760" y="1785960"/>
            <a:ext cx="180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68" name=""/>
          <p:cNvSpPr/>
          <p:nvPr/>
        </p:nvSpPr>
        <p:spPr>
          <a:xfrm flipV="1">
            <a:off x="4622760" y="1722600"/>
            <a:ext cx="1800" cy="10800"/>
          </a:xfrm>
          <a:prstGeom prst="line">
            <a:avLst/>
          </a:prstGeom>
          <a:ln w="1584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169" name=""/>
          <p:cNvSpPr/>
          <p:nvPr/>
        </p:nvSpPr>
        <p:spPr>
          <a:xfrm flipV="1">
            <a:off x="4622760" y="1655640"/>
            <a:ext cx="180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70" name=""/>
          <p:cNvSpPr/>
          <p:nvPr/>
        </p:nvSpPr>
        <p:spPr>
          <a:xfrm flipV="1">
            <a:off x="4622760" y="159048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71" name=""/>
          <p:cNvSpPr/>
          <p:nvPr/>
        </p:nvSpPr>
        <p:spPr>
          <a:xfrm flipV="1">
            <a:off x="4622760" y="152532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72" name=""/>
          <p:cNvSpPr/>
          <p:nvPr/>
        </p:nvSpPr>
        <p:spPr>
          <a:xfrm flipV="1">
            <a:off x="4622760" y="146016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73" name=""/>
          <p:cNvSpPr/>
          <p:nvPr/>
        </p:nvSpPr>
        <p:spPr>
          <a:xfrm flipV="1">
            <a:off x="4622760" y="1395000"/>
            <a:ext cx="180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74" name=""/>
          <p:cNvSpPr/>
          <p:nvPr/>
        </p:nvSpPr>
        <p:spPr>
          <a:xfrm flipV="1">
            <a:off x="4622760" y="1329840"/>
            <a:ext cx="180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75" name=""/>
          <p:cNvSpPr/>
          <p:nvPr/>
        </p:nvSpPr>
        <p:spPr>
          <a:xfrm flipV="1">
            <a:off x="3463920" y="555732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76" name=""/>
          <p:cNvSpPr/>
          <p:nvPr/>
        </p:nvSpPr>
        <p:spPr>
          <a:xfrm flipV="1">
            <a:off x="3463920" y="549108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77" name=""/>
          <p:cNvSpPr/>
          <p:nvPr/>
        </p:nvSpPr>
        <p:spPr>
          <a:xfrm flipV="1">
            <a:off x="3463920" y="542592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78" name=""/>
          <p:cNvSpPr/>
          <p:nvPr/>
        </p:nvSpPr>
        <p:spPr>
          <a:xfrm flipV="1">
            <a:off x="3463920" y="536076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79" name=""/>
          <p:cNvSpPr/>
          <p:nvPr/>
        </p:nvSpPr>
        <p:spPr>
          <a:xfrm flipV="1">
            <a:off x="3463920" y="529560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80" name=""/>
          <p:cNvSpPr/>
          <p:nvPr/>
        </p:nvSpPr>
        <p:spPr>
          <a:xfrm flipV="1">
            <a:off x="3463920" y="523044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81" name=""/>
          <p:cNvSpPr/>
          <p:nvPr/>
        </p:nvSpPr>
        <p:spPr>
          <a:xfrm flipV="1">
            <a:off x="3463920" y="516564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82" name=""/>
          <p:cNvSpPr/>
          <p:nvPr/>
        </p:nvSpPr>
        <p:spPr>
          <a:xfrm flipV="1">
            <a:off x="3463920" y="5099040"/>
            <a:ext cx="144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83" name=""/>
          <p:cNvSpPr/>
          <p:nvPr/>
        </p:nvSpPr>
        <p:spPr>
          <a:xfrm flipV="1">
            <a:off x="3463920" y="503532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84" name=""/>
          <p:cNvSpPr/>
          <p:nvPr/>
        </p:nvSpPr>
        <p:spPr>
          <a:xfrm flipV="1">
            <a:off x="3463920" y="496872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85" name=""/>
          <p:cNvSpPr/>
          <p:nvPr/>
        </p:nvSpPr>
        <p:spPr>
          <a:xfrm flipV="1">
            <a:off x="3463920" y="490356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86" name=""/>
          <p:cNvSpPr/>
          <p:nvPr/>
        </p:nvSpPr>
        <p:spPr>
          <a:xfrm flipV="1">
            <a:off x="3463920" y="483840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87" name=""/>
          <p:cNvSpPr/>
          <p:nvPr/>
        </p:nvSpPr>
        <p:spPr>
          <a:xfrm flipV="1">
            <a:off x="3463920" y="477324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88" name=""/>
          <p:cNvSpPr/>
          <p:nvPr/>
        </p:nvSpPr>
        <p:spPr>
          <a:xfrm flipV="1">
            <a:off x="3463920" y="470844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89" name=""/>
          <p:cNvSpPr/>
          <p:nvPr/>
        </p:nvSpPr>
        <p:spPr>
          <a:xfrm flipV="1">
            <a:off x="3463920" y="464292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90" name=""/>
          <p:cNvSpPr/>
          <p:nvPr/>
        </p:nvSpPr>
        <p:spPr>
          <a:xfrm flipV="1">
            <a:off x="3463920" y="4576680"/>
            <a:ext cx="144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91" name=""/>
          <p:cNvSpPr/>
          <p:nvPr/>
        </p:nvSpPr>
        <p:spPr>
          <a:xfrm flipV="1">
            <a:off x="3463920" y="4511520"/>
            <a:ext cx="144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92" name=""/>
          <p:cNvSpPr/>
          <p:nvPr/>
        </p:nvSpPr>
        <p:spPr>
          <a:xfrm flipV="1">
            <a:off x="3463920" y="444780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93" name=""/>
          <p:cNvSpPr/>
          <p:nvPr/>
        </p:nvSpPr>
        <p:spPr>
          <a:xfrm flipV="1">
            <a:off x="3463920" y="438120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94" name=""/>
          <p:cNvSpPr/>
          <p:nvPr/>
        </p:nvSpPr>
        <p:spPr>
          <a:xfrm flipV="1">
            <a:off x="3463920" y="431604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95" name=""/>
          <p:cNvSpPr/>
          <p:nvPr/>
        </p:nvSpPr>
        <p:spPr>
          <a:xfrm flipV="1">
            <a:off x="3463920" y="425124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96" name=""/>
          <p:cNvSpPr/>
          <p:nvPr/>
        </p:nvSpPr>
        <p:spPr>
          <a:xfrm flipV="1">
            <a:off x="3463920" y="418608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97" name=""/>
          <p:cNvSpPr/>
          <p:nvPr/>
        </p:nvSpPr>
        <p:spPr>
          <a:xfrm flipV="1">
            <a:off x="3463920" y="412092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98" name=""/>
          <p:cNvSpPr/>
          <p:nvPr/>
        </p:nvSpPr>
        <p:spPr>
          <a:xfrm flipV="1">
            <a:off x="3463920" y="405576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99" name=""/>
          <p:cNvSpPr/>
          <p:nvPr/>
        </p:nvSpPr>
        <p:spPr>
          <a:xfrm flipV="1">
            <a:off x="3463920" y="3989160"/>
            <a:ext cx="1440" cy="14040"/>
          </a:xfrm>
          <a:prstGeom prst="line">
            <a:avLst/>
          </a:prstGeom>
          <a:ln w="158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200" name=""/>
          <p:cNvSpPr/>
          <p:nvPr/>
        </p:nvSpPr>
        <p:spPr>
          <a:xfrm flipV="1">
            <a:off x="3463920" y="392544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01" name=""/>
          <p:cNvSpPr/>
          <p:nvPr/>
        </p:nvSpPr>
        <p:spPr>
          <a:xfrm flipV="1">
            <a:off x="3463920" y="386028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02" name=""/>
          <p:cNvSpPr/>
          <p:nvPr/>
        </p:nvSpPr>
        <p:spPr>
          <a:xfrm flipV="1">
            <a:off x="3463920" y="379404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03" name=""/>
          <p:cNvSpPr/>
          <p:nvPr/>
        </p:nvSpPr>
        <p:spPr>
          <a:xfrm flipV="1">
            <a:off x="3463920" y="372888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04" name=""/>
          <p:cNvSpPr/>
          <p:nvPr/>
        </p:nvSpPr>
        <p:spPr>
          <a:xfrm flipV="1">
            <a:off x="3463920" y="366372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05" name=""/>
          <p:cNvSpPr/>
          <p:nvPr/>
        </p:nvSpPr>
        <p:spPr>
          <a:xfrm flipV="1">
            <a:off x="3463920" y="359856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06" name=""/>
          <p:cNvSpPr/>
          <p:nvPr/>
        </p:nvSpPr>
        <p:spPr>
          <a:xfrm flipV="1">
            <a:off x="3463920" y="353340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07" name=""/>
          <p:cNvSpPr/>
          <p:nvPr/>
        </p:nvSpPr>
        <p:spPr>
          <a:xfrm flipV="1">
            <a:off x="3463920" y="346860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08" name=""/>
          <p:cNvSpPr/>
          <p:nvPr/>
        </p:nvSpPr>
        <p:spPr>
          <a:xfrm flipV="1">
            <a:off x="3463920" y="3402000"/>
            <a:ext cx="144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209" name=""/>
          <p:cNvSpPr/>
          <p:nvPr/>
        </p:nvSpPr>
        <p:spPr>
          <a:xfrm flipV="1">
            <a:off x="3463920" y="333828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10" name=""/>
          <p:cNvSpPr/>
          <p:nvPr/>
        </p:nvSpPr>
        <p:spPr>
          <a:xfrm flipV="1">
            <a:off x="3463920" y="327312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11" name=""/>
          <p:cNvSpPr/>
          <p:nvPr/>
        </p:nvSpPr>
        <p:spPr>
          <a:xfrm flipV="1">
            <a:off x="3463920" y="320652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12" name=""/>
          <p:cNvSpPr/>
          <p:nvPr/>
        </p:nvSpPr>
        <p:spPr>
          <a:xfrm flipV="1">
            <a:off x="3463920" y="314136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13" name=""/>
          <p:cNvSpPr/>
          <p:nvPr/>
        </p:nvSpPr>
        <p:spPr>
          <a:xfrm flipV="1">
            <a:off x="3463920" y="307764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14" name=""/>
          <p:cNvSpPr/>
          <p:nvPr/>
        </p:nvSpPr>
        <p:spPr>
          <a:xfrm flipV="1">
            <a:off x="3463920" y="301140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15" name=""/>
          <p:cNvSpPr/>
          <p:nvPr/>
        </p:nvSpPr>
        <p:spPr>
          <a:xfrm flipV="1">
            <a:off x="3463920" y="294624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16" name=""/>
          <p:cNvSpPr/>
          <p:nvPr/>
        </p:nvSpPr>
        <p:spPr>
          <a:xfrm flipV="1">
            <a:off x="3463920" y="288108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17" name=""/>
          <p:cNvSpPr/>
          <p:nvPr/>
        </p:nvSpPr>
        <p:spPr>
          <a:xfrm flipV="1">
            <a:off x="3463920" y="281592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18" name=""/>
          <p:cNvSpPr/>
          <p:nvPr/>
        </p:nvSpPr>
        <p:spPr>
          <a:xfrm flipV="1">
            <a:off x="3463920" y="275076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19" name=""/>
          <p:cNvSpPr/>
          <p:nvPr/>
        </p:nvSpPr>
        <p:spPr>
          <a:xfrm flipV="1">
            <a:off x="3463920" y="268560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20" name=""/>
          <p:cNvSpPr/>
          <p:nvPr/>
        </p:nvSpPr>
        <p:spPr>
          <a:xfrm flipV="1">
            <a:off x="3463920" y="2619360"/>
            <a:ext cx="144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221" name=""/>
          <p:cNvSpPr/>
          <p:nvPr/>
        </p:nvSpPr>
        <p:spPr>
          <a:xfrm flipV="1">
            <a:off x="3463920" y="255420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22" name=""/>
          <p:cNvSpPr/>
          <p:nvPr/>
        </p:nvSpPr>
        <p:spPr>
          <a:xfrm flipV="1">
            <a:off x="3463920" y="248904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23" name=""/>
          <p:cNvSpPr/>
          <p:nvPr/>
        </p:nvSpPr>
        <p:spPr>
          <a:xfrm flipV="1">
            <a:off x="3463920" y="242388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24" name=""/>
          <p:cNvSpPr/>
          <p:nvPr/>
        </p:nvSpPr>
        <p:spPr>
          <a:xfrm flipV="1">
            <a:off x="3463920" y="235872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25" name=""/>
          <p:cNvSpPr/>
          <p:nvPr/>
        </p:nvSpPr>
        <p:spPr>
          <a:xfrm flipV="1">
            <a:off x="3463920" y="2292120"/>
            <a:ext cx="1440" cy="14040"/>
          </a:xfrm>
          <a:prstGeom prst="line">
            <a:avLst/>
          </a:prstGeom>
          <a:ln w="158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226" name=""/>
          <p:cNvSpPr/>
          <p:nvPr/>
        </p:nvSpPr>
        <p:spPr>
          <a:xfrm flipV="1">
            <a:off x="3463920" y="222876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27" name=""/>
          <p:cNvSpPr/>
          <p:nvPr/>
        </p:nvSpPr>
        <p:spPr>
          <a:xfrm flipV="1">
            <a:off x="3463920" y="216324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28" name=""/>
          <p:cNvSpPr/>
          <p:nvPr/>
        </p:nvSpPr>
        <p:spPr>
          <a:xfrm flipV="1">
            <a:off x="3463920" y="209700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29" name=""/>
          <p:cNvSpPr/>
          <p:nvPr/>
        </p:nvSpPr>
        <p:spPr>
          <a:xfrm flipV="1">
            <a:off x="3463920" y="2031840"/>
            <a:ext cx="1440" cy="144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230" name=""/>
          <p:cNvSpPr/>
          <p:nvPr/>
        </p:nvSpPr>
        <p:spPr>
          <a:xfrm flipV="1">
            <a:off x="3463920" y="196812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31" name=""/>
          <p:cNvSpPr/>
          <p:nvPr/>
        </p:nvSpPr>
        <p:spPr>
          <a:xfrm flipV="1">
            <a:off x="3463920" y="190152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32" name=""/>
          <p:cNvSpPr/>
          <p:nvPr/>
        </p:nvSpPr>
        <p:spPr>
          <a:xfrm flipV="1">
            <a:off x="3463920" y="183636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33" name=""/>
          <p:cNvSpPr/>
          <p:nvPr/>
        </p:nvSpPr>
        <p:spPr>
          <a:xfrm flipV="1">
            <a:off x="3463920" y="177156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34" name=""/>
          <p:cNvSpPr/>
          <p:nvPr/>
        </p:nvSpPr>
        <p:spPr>
          <a:xfrm flipV="1">
            <a:off x="3463920" y="170640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35" name=""/>
          <p:cNvSpPr/>
          <p:nvPr/>
        </p:nvSpPr>
        <p:spPr>
          <a:xfrm flipV="1">
            <a:off x="3463920" y="164124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36" name=""/>
          <p:cNvSpPr/>
          <p:nvPr/>
        </p:nvSpPr>
        <p:spPr>
          <a:xfrm flipV="1">
            <a:off x="3463920" y="157608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37" name=""/>
          <p:cNvSpPr/>
          <p:nvPr/>
        </p:nvSpPr>
        <p:spPr>
          <a:xfrm flipV="1">
            <a:off x="3463920" y="1509480"/>
            <a:ext cx="1440" cy="14040"/>
          </a:xfrm>
          <a:prstGeom prst="line">
            <a:avLst/>
          </a:prstGeom>
          <a:ln w="158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238" name=""/>
          <p:cNvSpPr/>
          <p:nvPr/>
        </p:nvSpPr>
        <p:spPr>
          <a:xfrm flipV="1">
            <a:off x="3463920" y="1444320"/>
            <a:ext cx="1440" cy="12600"/>
          </a:xfrm>
          <a:prstGeom prst="line">
            <a:avLst/>
          </a:prstGeom>
          <a:ln w="15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39" name=""/>
          <p:cNvSpPr/>
          <p:nvPr/>
        </p:nvSpPr>
        <p:spPr>
          <a:xfrm flipV="1">
            <a:off x="3463920" y="138060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40" name=""/>
          <p:cNvSpPr/>
          <p:nvPr/>
        </p:nvSpPr>
        <p:spPr>
          <a:xfrm flipV="1">
            <a:off x="3463920" y="1314360"/>
            <a:ext cx="1440" cy="1296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41" name=""/>
          <p:cNvSpPr/>
          <p:nvPr/>
        </p:nvSpPr>
        <p:spPr>
          <a:xfrm rot="16200000">
            <a:off x="-1540800" y="2886840"/>
            <a:ext cx="459108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itesse d’augmentation de la charge virale (log genomes/ml sang)</a:t>
            </a:r>
            <a:endParaRPr b="0" lang="en-US" sz="2000" spc="-1" strike="noStrike">
              <a:solidFill>
                <a:srgbClr val="ffffff"/>
              </a:solidFill>
              <a:latin typeface="Arial"/>
            </a:endParaRPr>
          </a:p>
        </p:txBody>
      </p:sp>
      <p:sp>
        <p:nvSpPr>
          <p:cNvPr id="2242" name=""/>
          <p:cNvSpPr/>
          <p:nvPr/>
        </p:nvSpPr>
        <p:spPr>
          <a:xfrm>
            <a:off x="1600200" y="5943600"/>
            <a:ext cx="7105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harge virale Initiale CMV (log</a:t>
            </a:r>
            <a:r>
              <a:rPr b="0" lang="en-US" sz="2400" spc="-1" strike="noStrike">
                <a:solidFill>
                  <a:srgbClr val="ffff00"/>
                </a:solidFill>
                <a:latin typeface="Arial"/>
              </a:rPr>
              <a:t> </a:t>
            </a:r>
            <a:r>
              <a:rPr b="0" lang="en-GB" sz="2400" spc="-1" strike="noStrike">
                <a:solidFill>
                  <a:srgbClr val="ffff00"/>
                </a:solidFill>
                <a:latin typeface="Arial"/>
              </a:rPr>
              <a:t>genomes/ml </a:t>
            </a:r>
            <a:r>
              <a:rPr b="0" lang="en-US" sz="2400" spc="-1" strike="noStrike">
                <a:solidFill>
                  <a:srgbClr val="ffff00"/>
                </a:solidFill>
                <a:latin typeface="Arial"/>
              </a:rPr>
              <a:t>sang</a:t>
            </a:r>
            <a:r>
              <a:rPr b="0" lang="en-GB" sz="2400" spc="-1" strike="noStrike">
                <a:solidFill>
                  <a:srgbClr val="ffff00"/>
                </a:solidFill>
                <a:latin typeface="Arial"/>
              </a:rPr>
              <a:t>)</a:t>
            </a:r>
            <a:endParaRPr b="0" lang="en-US" sz="2400" spc="-1" strike="noStrike">
              <a:solidFill>
                <a:srgbClr val="ffffff"/>
              </a:solidFill>
              <a:latin typeface="Arial"/>
            </a:endParaRPr>
          </a:p>
        </p:txBody>
      </p:sp>
      <p:sp>
        <p:nvSpPr>
          <p:cNvPr id="2243" name=""/>
          <p:cNvSpPr/>
          <p:nvPr/>
        </p:nvSpPr>
        <p:spPr>
          <a:xfrm flipV="1">
            <a:off x="3505320" y="457200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4" name=""/>
          <p:cNvSpPr/>
          <p:nvPr/>
        </p:nvSpPr>
        <p:spPr>
          <a:xfrm>
            <a:off x="1828800" y="4572000"/>
            <a:ext cx="1676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Cinétique de réplication virale </a:t>
            </a:r>
            <a:endParaRPr b="0" lang="en-US" sz="4400" spc="-1" strike="noStrike">
              <a:solidFill>
                <a:srgbClr val="00ffff"/>
              </a:solidFill>
              <a:latin typeface="Arial"/>
            </a:endParaRPr>
          </a:p>
        </p:txBody>
      </p:sp>
      <p:sp>
        <p:nvSpPr>
          <p:cNvPr id="2246" name=""/>
          <p:cNvSpPr/>
          <p:nvPr/>
        </p:nvSpPr>
        <p:spPr>
          <a:xfrm>
            <a:off x="5497560" y="6381720"/>
            <a:ext cx="32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ery et al</a:t>
            </a:r>
            <a:r>
              <a:rPr b="0" lang="en-GB" sz="1400" spc="-1" strike="noStrike">
                <a:solidFill>
                  <a:srgbClr val="ffffff"/>
                </a:solidFill>
                <a:latin typeface="Arial"/>
              </a:rPr>
              <a:t> </a:t>
            </a:r>
            <a:r>
              <a:rPr b="0" lang="en-US" sz="1400" spc="-1" strike="noStrike">
                <a:solidFill>
                  <a:srgbClr val="ffffff"/>
                </a:solidFill>
                <a:latin typeface="Arial"/>
              </a:rPr>
              <a:t>(2000) Lancet 355</a:t>
            </a:r>
            <a:r>
              <a:rPr b="0" lang="en-GB" sz="1400" spc="-1" strike="noStrike">
                <a:solidFill>
                  <a:srgbClr val="ffffff"/>
                </a:solidFill>
                <a:latin typeface="Arial"/>
              </a:rPr>
              <a:t>:</a:t>
            </a:r>
            <a:r>
              <a:rPr b="0" lang="en-US" sz="1400" spc="-1" strike="noStrike">
                <a:solidFill>
                  <a:srgbClr val="ffffff"/>
                </a:solidFill>
                <a:latin typeface="Arial"/>
              </a:rPr>
              <a:t>2032-36</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Cinétique de réplication virale </a:t>
            </a:r>
            <a:endParaRPr b="0" lang="en-US" sz="4400" spc="-1" strike="noStrike">
              <a:solidFill>
                <a:srgbClr val="00ffff"/>
              </a:solidFill>
              <a:latin typeface="Arial"/>
            </a:endParaRPr>
          </a:p>
        </p:txBody>
      </p:sp>
      <p:sp>
        <p:nvSpPr>
          <p:cNvPr id="2248"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Quantification de la charge virale CMV dans les leucocytes (PBL) chez 47 transplantés de cœur et foie par technique Cobas Amplicor Monitor</a:t>
            </a:r>
            <a:endParaRPr b="0" lang="en-US" sz="2400" spc="-1" strike="noStrike">
              <a:solidFill>
                <a:srgbClr val="ffffff"/>
              </a:solidFill>
              <a:latin typeface="Arial"/>
            </a:endParaRPr>
          </a:p>
        </p:txBody>
      </p:sp>
      <p:graphicFrame>
        <p:nvGraphicFramePr>
          <p:cNvPr id="2249" name=""/>
          <p:cNvGraphicFramePr/>
          <p:nvPr/>
        </p:nvGraphicFramePr>
        <p:xfrm>
          <a:off x="762120" y="2819520"/>
          <a:ext cx="7711560" cy="3396960"/>
        </p:xfrm>
        <a:graphic>
          <a:graphicData uri="http://schemas.openxmlformats.org/drawingml/2006/table">
            <a:tbl>
              <a:tblPr/>
              <a:tblGrid>
                <a:gridCol w="2161800"/>
                <a:gridCol w="1384920"/>
                <a:gridCol w="1361880"/>
                <a:gridCol w="1361880"/>
                <a:gridCol w="1441080"/>
              </a:tblGrid>
              <a:tr h="73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Charge virale CMV log</a:t>
                      </a:r>
                      <a:r>
                        <a:rPr b="1" lang="fr-FR" sz="1800" spc="-1" strike="noStrike" baseline="-25000">
                          <a:solidFill>
                            <a:srgbClr val="ff6600"/>
                          </a:solidFill>
                          <a:latin typeface="Arial"/>
                        </a:rPr>
                        <a:t>10</a:t>
                      </a:r>
                      <a:r>
                        <a:rPr b="1" lang="fr-FR" sz="1800" spc="-1" strike="noStrike">
                          <a:solidFill>
                            <a:srgbClr val="ff6600"/>
                          </a:solidFill>
                          <a:latin typeface="Arial"/>
                        </a:rPr>
                        <a:t> copies/10</a:t>
                      </a:r>
                      <a:r>
                        <a:rPr b="1" lang="fr-FR" sz="1800" spc="-1" strike="noStrike" baseline="30000">
                          <a:solidFill>
                            <a:srgbClr val="ff6600"/>
                          </a:solidFill>
                          <a:latin typeface="Arial"/>
                        </a:rPr>
                        <a:t>6 </a:t>
                      </a:r>
                      <a:r>
                        <a:rPr b="1" lang="fr-FR" sz="1800" spc="-1" strike="noStrike">
                          <a:solidFill>
                            <a:srgbClr val="ff6600"/>
                          </a:solidFill>
                          <a:latin typeface="Arial"/>
                        </a:rPr>
                        <a:t>PBL</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oy</a:t>
                      </a:r>
                      <a:r>
                        <a:rPr b="1" lang="fr-FR" sz="1800" spc="-1" strike="noStrike">
                          <a:solidFill>
                            <a:srgbClr val="ffffff"/>
                          </a:solidFill>
                          <a:latin typeface="Arial"/>
                          <a:ea typeface="Arial"/>
                        </a:rPr>
                        <a:t>±</a:t>
                      </a:r>
                      <a:r>
                        <a:rPr b="1" lang="fr-FR" sz="1800" spc="-1" strike="noStrike">
                          <a:solidFill>
                            <a:srgbClr val="ffffff"/>
                          </a:solidFill>
                          <a:latin typeface="Arial"/>
                        </a:rPr>
                        <a:t>S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ère PCR positi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Semaine 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maine 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maine 6</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tients symptomatiques (n=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en-US" sz="1800" spc="-1" strike="noStrike">
                          <a:solidFill>
                            <a:srgbClr val="ffffff"/>
                          </a:solidFill>
                          <a:latin typeface="Arial"/>
                          <a:ea typeface="Arial"/>
                        </a:rPr>
                        <a:t>±0,6) </a:t>
                      </a:r>
                      <a:r>
                        <a:rPr b="1" lang="en-US" sz="1800" spc="-1" strike="noStrike" baseline="30000">
                          <a:solidFill>
                            <a:srgbClr val="ffffff"/>
                          </a:solidFill>
                          <a:latin typeface="Arial"/>
                        </a:rPr>
                        <a:t>a</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7 </a:t>
                      </a:r>
                      <a:r>
                        <a:rPr b="1" lang="en-US" sz="1800" spc="-1" strike="noStrike">
                          <a:solidFill>
                            <a:srgbClr val="ffff00"/>
                          </a:solidFill>
                          <a:latin typeface="Arial"/>
                          <a:ea typeface="Arial"/>
                        </a:rPr>
                        <a:t>±</a:t>
                      </a:r>
                      <a:r>
                        <a:rPr b="1" lang="en-US" sz="1800" spc="-1" strike="noStrike">
                          <a:solidFill>
                            <a:srgbClr val="ffff00"/>
                          </a:solidFill>
                          <a:latin typeface="Arial"/>
                        </a:rPr>
                        <a:t>0,6)</a:t>
                      </a:r>
                      <a:r>
                        <a:rPr b="1" lang="en-US" sz="1800" spc="-1" strike="noStrike" baseline="30000">
                          <a:solidFill>
                            <a:srgbClr val="ffff00"/>
                          </a:solidFill>
                          <a:latin typeface="Arial"/>
                        </a:rPr>
                        <a:t>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3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2 </a:t>
                      </a:r>
                      <a:r>
                        <a:rPr b="1" lang="en-US" sz="1800" spc="-1" strike="noStrike">
                          <a:solidFill>
                            <a:srgbClr val="ffff00"/>
                          </a:solidFill>
                          <a:latin typeface="Arial"/>
                          <a:ea typeface="Arial"/>
                        </a:rPr>
                        <a:t>±</a:t>
                      </a:r>
                      <a:r>
                        <a:rPr b="1" lang="en-US" sz="1800" spc="-1" strike="noStrike">
                          <a:solidFill>
                            <a:srgbClr val="ffff00"/>
                          </a:solidFill>
                          <a:latin typeface="Arial"/>
                        </a:rPr>
                        <a:t>0,4) </a:t>
                      </a:r>
                      <a:r>
                        <a:rPr b="1" lang="en-US" sz="1800" spc="-1" strike="noStrike" baseline="30000">
                          <a:solidFill>
                            <a:srgbClr val="ffff00"/>
                          </a:solidFill>
                          <a:latin typeface="Arial"/>
                        </a:rPr>
                        <a:t>c</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4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4 </a:t>
                      </a:r>
                      <a:r>
                        <a:rPr b="1" lang="en-US" sz="1800" spc="-1" strike="noStrike">
                          <a:solidFill>
                            <a:srgbClr val="ffff00"/>
                          </a:solidFill>
                          <a:latin typeface="Arial"/>
                          <a:ea typeface="Arial"/>
                        </a:rPr>
                        <a:t>±</a:t>
                      </a:r>
                      <a:r>
                        <a:rPr b="1" lang="en-US" sz="1800" spc="-1" strike="noStrike">
                          <a:solidFill>
                            <a:srgbClr val="ffff00"/>
                          </a:solidFill>
                          <a:latin typeface="Arial"/>
                        </a:rPr>
                        <a:t>O,3) </a:t>
                      </a:r>
                      <a:r>
                        <a:rPr b="1" lang="en-US" sz="1800" spc="-1" strike="noStrike" baseline="30000">
                          <a:solidFill>
                            <a:srgbClr val="ffff00"/>
                          </a:solidFill>
                          <a:latin typeface="Arial"/>
                        </a:rPr>
                        <a:t>d</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s asymptomatiques (n=1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7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7 </a:t>
                      </a:r>
                      <a:r>
                        <a:rPr b="1" lang="en-US" sz="1800" spc="-1" strike="noStrike">
                          <a:solidFill>
                            <a:srgbClr val="ffffff"/>
                          </a:solidFill>
                          <a:latin typeface="Arial"/>
                          <a:ea typeface="Arial"/>
                        </a:rPr>
                        <a:t>±</a:t>
                      </a:r>
                      <a:r>
                        <a:rPr b="1" lang="en-US" sz="1800" spc="-1" strike="noStrike">
                          <a:solidFill>
                            <a:srgbClr val="ffffff"/>
                          </a:solidFill>
                          <a:latin typeface="Arial"/>
                        </a:rPr>
                        <a:t>0,4) </a:t>
                      </a:r>
                      <a:r>
                        <a:rPr b="1" lang="en-US" sz="1800" spc="-1" strike="noStrike" baseline="30000">
                          <a:solidFill>
                            <a:srgbClr val="ffffff"/>
                          </a:solidFill>
                          <a:latin typeface="Arial"/>
                        </a:rPr>
                        <a: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 </a:t>
                      </a:r>
                      <a:r>
                        <a:rPr b="1" lang="en-US" sz="1800" spc="-1" strike="noStrike">
                          <a:solidFill>
                            <a:srgbClr val="ffffff"/>
                          </a:solidFill>
                          <a:latin typeface="Arial"/>
                          <a:ea typeface="Arial"/>
                        </a:rPr>
                        <a:t>±</a:t>
                      </a:r>
                      <a:r>
                        <a:rPr b="1" lang="en-US" sz="1800" spc="-1" strike="noStrike">
                          <a:solidFill>
                            <a:srgbClr val="ffffff"/>
                          </a:solidFill>
                          <a:latin typeface="Arial"/>
                        </a:rPr>
                        <a:t>0,5) </a:t>
                      </a:r>
                      <a:r>
                        <a:rPr b="1" lang="en-US" sz="1800" spc="-1" strike="noStrike" baseline="30000">
                          <a:solidFill>
                            <a:srgbClr val="ffffff"/>
                          </a:solidFill>
                          <a:latin typeface="Arial"/>
                        </a:rPr>
                        <a:t>b</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4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 </a:t>
                      </a:r>
                      <a:r>
                        <a:rPr b="1" lang="en-US" sz="1800" spc="-1" strike="noStrike">
                          <a:solidFill>
                            <a:srgbClr val="ffffff"/>
                          </a:solidFill>
                          <a:latin typeface="Arial"/>
                          <a:ea typeface="Arial"/>
                        </a:rPr>
                        <a:t>±</a:t>
                      </a:r>
                      <a:r>
                        <a:rPr b="1" lang="en-US" sz="1800" spc="-1" strike="noStrike">
                          <a:solidFill>
                            <a:srgbClr val="ffffff"/>
                          </a:solidFill>
                          <a:latin typeface="Arial"/>
                        </a:rPr>
                        <a:t>0,6) </a:t>
                      </a:r>
                      <a:r>
                        <a:rPr b="1" lang="en-US" sz="1800" spc="-1" strike="noStrike" baseline="30000">
                          <a:solidFill>
                            <a:srgbClr val="ffffff"/>
                          </a:solidFill>
                          <a:latin typeface="Arial"/>
                        </a:rPr>
                        <a:t>c</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 </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7</a:t>
                      </a:r>
                      <a:r>
                        <a:rPr b="1" lang="en-US" sz="1800" spc="-1" strike="noStrike">
                          <a:solidFill>
                            <a:srgbClr val="ffffff"/>
                          </a:solidFill>
                          <a:latin typeface="Arial"/>
                          <a:ea typeface="Arial"/>
                        </a:rPr>
                        <a:t>±</a:t>
                      </a:r>
                      <a:r>
                        <a:rPr b="1" lang="en-US" sz="1800" spc="-1" strike="noStrike">
                          <a:solidFill>
                            <a:srgbClr val="ffffff"/>
                          </a:solidFill>
                          <a:latin typeface="Arial"/>
                        </a:rPr>
                        <a:t> 0,3) </a:t>
                      </a:r>
                      <a:r>
                        <a:rPr b="1" lang="en-US" sz="1800" spc="-1" strike="noStrike" baseline="30000">
                          <a:solidFill>
                            <a:srgbClr val="ffffff"/>
                          </a:solidFill>
                          <a:latin typeface="Arial"/>
                        </a:rPr>
                        <a:t>d</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50" name=""/>
          <p:cNvSpPr/>
          <p:nvPr/>
        </p:nvSpPr>
        <p:spPr>
          <a:xfrm>
            <a:off x="923040" y="6172200"/>
            <a:ext cx="559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 non significatif  b : p&lt; 0,0001; c : p = 0, 006; d : p&lt;0,0001</a:t>
            </a:r>
            <a:endParaRPr b="0" lang="en-US" sz="1600" spc="-1" strike="noStrike">
              <a:solidFill>
                <a:srgbClr val="ffffff"/>
              </a:solidFill>
              <a:latin typeface="Arial"/>
            </a:endParaRPr>
          </a:p>
        </p:txBody>
      </p:sp>
      <p:sp>
        <p:nvSpPr>
          <p:cNvPr id="2251" name=""/>
          <p:cNvSpPr/>
          <p:nvPr/>
        </p:nvSpPr>
        <p:spPr>
          <a:xfrm>
            <a:off x="3544560" y="6453360"/>
            <a:ext cx="543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V. Ghisetti et al. Journal of medical Virology 73-223-229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2 questions se pos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quantifier?</a:t>
            </a:r>
            <a:endParaRPr b="0" lang="en-US" sz="2800" spc="-1" strike="noStrike">
              <a:solidFill>
                <a:srgbClr val="ffffff"/>
              </a:solidFill>
              <a:latin typeface="Arial"/>
            </a:endParaRPr>
          </a:p>
          <a:p>
            <a:pPr lvl="1" marL="743040" indent="-28584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Par quelles méthodes ?</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Valeur de l’agpp65 dans le diagnostic et la prédiction de la maladie à CMV</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rrélation entre l’agpp65, la technique Cobas Amplicor et la PCR temps ré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horte de 73 transplantés d’organe (35 foie, 26 rein, 12 cœu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termination de l’agpp65 pendant les 6 premiers mois après la greffe (2, 4, 6, 8, 10, 11, 12, 14 et 16)</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Objectifs :</a:t>
            </a:r>
            <a:endParaRPr b="0" lang="en-US" sz="2800" spc="-1" strike="noStrike">
              <a:solidFill>
                <a:srgbClr val="ffffff"/>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Sensibilité de l’antigénémie dans le diagnostic de la maladie à CMV et dans la prédiction de la maladie à CMV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6" name=""/>
          <p:cNvSpPr/>
          <p:nvPr/>
        </p:nvSpPr>
        <p:spPr>
          <a:xfrm>
            <a:off x="5107320" y="6172200"/>
            <a:ext cx="3507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Bernabeu-Wittel et al, JID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258" name="PlaceHolder 2"/>
          <p:cNvSpPr>
            <a:spLocks noGrp="1"/>
          </p:cNvSpPr>
          <p:nvPr>
            <p:ph/>
          </p:nvPr>
        </p:nvSpPr>
        <p:spPr>
          <a:xfrm>
            <a:off x="457200" y="1600200"/>
            <a:ext cx="8686800" cy="4781520"/>
          </a:xfrm>
          <a:prstGeom prst="rect">
            <a:avLst/>
          </a:prstGeom>
          <a:noFill/>
          <a:ln w="0">
            <a:noFill/>
          </a:ln>
        </p:spPr>
        <p:txBody>
          <a:bodyPr lIns="90000" rIns="90000" tIns="46800" bIns="46800" anchor="t">
            <a:normAutofit/>
          </a:bodyPr>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eur de l’agpp65 dans le diagnostic de la maladie à CMV</a:t>
            </a: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eur de l’agpp65 dans la prédiction de la maladie à CMV</a:t>
            </a: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259" name=""/>
          <p:cNvGraphicFramePr/>
          <p:nvPr/>
        </p:nvGraphicFramePr>
        <p:xfrm>
          <a:off x="838080" y="2209680"/>
          <a:ext cx="7848720" cy="1389240"/>
        </p:xfrm>
        <a:graphic>
          <a:graphicData uri="http://schemas.openxmlformats.org/drawingml/2006/table">
            <a:tbl>
              <a:tblPr/>
              <a:tblGrid>
                <a:gridCol w="2907000"/>
                <a:gridCol w="1380960"/>
                <a:gridCol w="1471680"/>
                <a:gridCol w="1008000"/>
                <a:gridCol w="10810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sibilit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écificit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P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P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gpp65</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Symbol"/>
                          <a:ea typeface="Symbol"/>
                        </a:rPr>
                        <a:t></a:t>
                      </a:r>
                      <a:r>
                        <a:rPr b="0" lang="fr-FR" sz="2000" spc="-1" strike="noStrike">
                          <a:solidFill>
                            <a:srgbClr val="ffffff"/>
                          </a:solidFill>
                          <a:latin typeface="Arial"/>
                        </a:rPr>
                        <a:t> </a:t>
                      </a:r>
                      <a:r>
                        <a:rPr b="0" lang="fr-FR" sz="2000" spc="-1" strike="noStrike">
                          <a:solidFill>
                            <a:srgbClr val="ffffff"/>
                          </a:solidFill>
                          <a:latin typeface="Arial"/>
                        </a:rPr>
                        <a:t>10 pos/10</a:t>
                      </a:r>
                      <a:r>
                        <a:rPr b="0" lang="fr-FR" sz="2000" spc="-1" strike="noStrike" baseline="30000">
                          <a:solidFill>
                            <a:srgbClr val="ffffff"/>
                          </a:solidFill>
                          <a:latin typeface="Arial"/>
                        </a:rPr>
                        <a:t>5</a:t>
                      </a:r>
                      <a:r>
                        <a:rPr b="0" lang="fr-FR" sz="2000" spc="-1" strike="noStrike">
                          <a:solidFill>
                            <a:srgbClr val="ffffff"/>
                          </a:solidFill>
                          <a:latin typeface="Arial"/>
                        </a:rPr>
                        <a:t> leucocyt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60" name=""/>
          <p:cNvSpPr/>
          <p:nvPr/>
        </p:nvSpPr>
        <p:spPr>
          <a:xfrm>
            <a:off x="746280" y="1792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1" name=""/>
          <p:cNvSpPr/>
          <p:nvPr/>
        </p:nvSpPr>
        <p:spPr>
          <a:xfrm>
            <a:off x="5412240" y="6248520"/>
            <a:ext cx="3507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Bernabeu-Wittel et al, JID 2005</a:t>
            </a:r>
            <a:endParaRPr b="0" lang="en-US" sz="1800" spc="-1" strike="noStrike">
              <a:solidFill>
                <a:srgbClr val="ffffff"/>
              </a:solidFill>
              <a:latin typeface="Arial"/>
            </a:endParaRPr>
          </a:p>
        </p:txBody>
      </p:sp>
      <p:sp>
        <p:nvSpPr>
          <p:cNvPr id="2262" name=""/>
          <p:cNvSpPr/>
          <p:nvPr/>
        </p:nvSpPr>
        <p:spPr>
          <a:xfrm>
            <a:off x="754920" y="3573360"/>
            <a:ext cx="59306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VPP: valeur prédictive positive  VPN : valeur prédictive négative</a:t>
            </a:r>
            <a:endParaRPr b="0" lang="en-US" sz="1600" spc="-1" strike="noStrike">
              <a:solidFill>
                <a:srgbClr val="ffffff"/>
              </a:solidFill>
              <a:latin typeface="Arial"/>
            </a:endParaRPr>
          </a:p>
        </p:txBody>
      </p:sp>
      <p:graphicFrame>
        <p:nvGraphicFramePr>
          <p:cNvPr id="2263" name=""/>
          <p:cNvGraphicFramePr/>
          <p:nvPr/>
        </p:nvGraphicFramePr>
        <p:xfrm>
          <a:off x="762120" y="4572000"/>
          <a:ext cx="7848360" cy="1388880"/>
        </p:xfrm>
        <a:graphic>
          <a:graphicData uri="http://schemas.openxmlformats.org/drawingml/2006/table">
            <a:tbl>
              <a:tblPr/>
              <a:tblGrid>
                <a:gridCol w="2906280"/>
                <a:gridCol w="1381320"/>
                <a:gridCol w="1471680"/>
                <a:gridCol w="1008000"/>
                <a:gridCol w="10810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sibilit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écificit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VP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P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gpp65</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Symbol"/>
                          <a:ea typeface="Symbol"/>
                        </a:rPr>
                        <a:t></a:t>
                      </a:r>
                      <a:r>
                        <a:rPr b="0" lang="fr-FR" sz="2000" spc="-1" strike="noStrike">
                          <a:solidFill>
                            <a:srgbClr val="ffffff"/>
                          </a:solidFill>
                          <a:latin typeface="Arial"/>
                        </a:rPr>
                        <a:t> </a:t>
                      </a:r>
                      <a:r>
                        <a:rPr b="0" lang="fr-FR" sz="2000" spc="-1" strike="noStrike">
                          <a:solidFill>
                            <a:srgbClr val="ffffff"/>
                          </a:solidFill>
                          <a:latin typeface="Arial"/>
                        </a:rPr>
                        <a:t>10 pos/10</a:t>
                      </a:r>
                      <a:r>
                        <a:rPr b="0" lang="fr-FR" sz="2000" spc="-1" strike="noStrike" baseline="30000">
                          <a:solidFill>
                            <a:srgbClr val="ffffff"/>
                          </a:solidFill>
                          <a:latin typeface="Arial"/>
                        </a:rPr>
                        <a:t>5</a:t>
                      </a:r>
                      <a:r>
                        <a:rPr b="0" lang="fr-FR" sz="2000" spc="-1" strike="noStrike">
                          <a:solidFill>
                            <a:srgbClr val="ffffff"/>
                          </a:solidFill>
                          <a:latin typeface="Arial"/>
                        </a:rPr>
                        <a:t> leucocyt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4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aleur de l’agpp65 dans la prédiction de la maladie à CMV</a:t>
            </a:r>
            <a:r>
              <a:rPr b="0" lang="en-US" sz="2400" spc="-1" strike="noStrike">
                <a:solidFill>
                  <a:srgbClr val="ffffff"/>
                </a:solidFill>
                <a:latin typeface="Arial"/>
              </a:rPr>
              <a:t> dans une cohorte de 30 transplantés rénaux</a:t>
            </a:r>
            <a:endParaRPr b="0" lang="en-US" sz="2400" spc="-1" strike="noStrike">
              <a:solidFill>
                <a:srgbClr val="ffffff"/>
              </a:solidFill>
              <a:latin typeface="Arial"/>
            </a:endParaRPr>
          </a:p>
        </p:txBody>
      </p:sp>
      <p:graphicFrame>
        <p:nvGraphicFramePr>
          <p:cNvPr id="2266" name=""/>
          <p:cNvGraphicFramePr/>
          <p:nvPr/>
        </p:nvGraphicFramePr>
        <p:xfrm>
          <a:off x="1295280" y="2666880"/>
          <a:ext cx="6769080" cy="3492360"/>
        </p:xfrm>
        <a:graphic>
          <a:graphicData uri="http://schemas.openxmlformats.org/drawingml/2006/table">
            <a:tbl>
              <a:tblPr/>
              <a:tblGrid>
                <a:gridCol w="2255760"/>
                <a:gridCol w="1403280"/>
                <a:gridCol w="1093680"/>
                <a:gridCol w="20163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sts leucocytair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gpp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DN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y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onitor Amplicor</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obas Roch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sibilité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écificité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PP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6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PN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67" name=""/>
          <p:cNvSpPr/>
          <p:nvPr/>
        </p:nvSpPr>
        <p:spPr>
          <a:xfrm>
            <a:off x="5868720" y="6400800"/>
            <a:ext cx="272124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ellegrin et al., JID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Le cytomégalovirus</a:t>
            </a:r>
            <a:endParaRPr b="0" lang="en-US" sz="4400" spc="-1" strike="noStrike">
              <a:solidFill>
                <a:srgbClr val="00ffff"/>
              </a:solidFill>
              <a:latin typeface="Arial"/>
            </a:endParaRPr>
          </a:p>
        </p:txBody>
      </p:sp>
      <p:pic>
        <p:nvPicPr>
          <p:cNvPr id="51" name="" descr=""/>
          <p:cNvPicPr/>
          <p:nvPr/>
        </p:nvPicPr>
        <p:blipFill>
          <a:blip r:embed="rId1">
            <a:lum contrast="24000"/>
          </a:blip>
          <a:stretch/>
        </p:blipFill>
        <p:spPr>
          <a:xfrm>
            <a:off x="324000" y="2349360"/>
            <a:ext cx="3827160" cy="2562480"/>
          </a:xfrm>
          <a:prstGeom prst="rect">
            <a:avLst/>
          </a:prstGeom>
          <a:ln w="0">
            <a:noFill/>
          </a:ln>
        </p:spPr>
      </p:pic>
      <p:sp>
        <p:nvSpPr>
          <p:cNvPr id="52" name="PlaceHolder 2"/>
          <p:cNvSpPr>
            <a:spLocks noGrp="1"/>
          </p:cNvSpPr>
          <p:nvPr>
            <p:ph/>
          </p:nvPr>
        </p:nvSpPr>
        <p:spPr>
          <a:xfrm>
            <a:off x="4211280" y="1600200"/>
            <a:ext cx="493236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amille des </a:t>
            </a:r>
            <a:r>
              <a:rPr b="0" i="1" lang="fr-FR" sz="2800" spc="-1" strike="noStrike">
                <a:solidFill>
                  <a:srgbClr val="ffff00"/>
                </a:solidFill>
                <a:latin typeface="Arial"/>
              </a:rPr>
              <a:t>Herpesviridae</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Virus ubiquitai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1ère cause des infections virales congénita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fections </a:t>
            </a:r>
            <a:r>
              <a:rPr b="0" lang="fr-FR" sz="2800" spc="-1" strike="noStrike">
                <a:solidFill>
                  <a:srgbClr val="ffff00"/>
                </a:solidFill>
                <a:latin typeface="Arial"/>
              </a:rPr>
              <a:t>sévères chez les patients immunodéprimés</a:t>
            </a:r>
            <a:endParaRPr b="0" lang="en-US" sz="2800" spc="-1" strike="noStrike">
              <a:solidFill>
                <a:srgbClr val="ffffff"/>
              </a:solidFill>
              <a:latin typeface="Arial"/>
            </a:endParaRPr>
          </a:p>
          <a:p>
            <a:pPr lvl="1" marL="743040" indent="-285840">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8f8f8"/>
                </a:solidFill>
                <a:latin typeface="Arial"/>
              </a:rPr>
              <a:t>Receveur d’allogreffe</a:t>
            </a:r>
            <a:endParaRPr b="0" lang="en-US" sz="2800" spc="-1" strike="noStrike">
              <a:solidFill>
                <a:srgbClr val="ffffff"/>
              </a:solidFill>
              <a:latin typeface="Arial"/>
            </a:endParaRPr>
          </a:p>
          <a:p>
            <a:pPr lvl="1" marL="743040" indent="-285840">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8f8f8"/>
                </a:solidFill>
                <a:latin typeface="Arial"/>
              </a:rPr>
              <a:t>Patient infecté par le VIH</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
          <p:cNvSpPr/>
          <p:nvPr/>
        </p:nvSpPr>
        <p:spPr>
          <a:xfrm>
            <a:off x="179280" y="1844640"/>
            <a:ext cx="432000" cy="4105440"/>
          </a:xfrm>
          <a:prstGeom prst="rect">
            <a:avLst/>
          </a:prstGeom>
          <a:gradFill rotWithShape="0">
            <a:gsLst>
              <a:gs pos="0">
                <a:srgbClr val="00004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1114560" y="5013360"/>
            <a:ext cx="2808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ticule virale en ME</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essage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tigénémie pp65</a:t>
            </a:r>
            <a:endParaRPr b="0" lang="en-US" sz="2800" spc="-1" strike="noStrike">
              <a:solidFill>
                <a:srgbClr val="ffffff"/>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Méthode sensible</a:t>
            </a:r>
            <a:r>
              <a:rPr b="0" lang="fr-FR" sz="2800" spc="-1" strike="noStrike">
                <a:solidFill>
                  <a:srgbClr val="ffffff"/>
                </a:solidFill>
                <a:latin typeface="Arial"/>
              </a:rPr>
              <a:t> pour le </a:t>
            </a:r>
            <a:r>
              <a:rPr b="0" lang="fr-FR" sz="2800" spc="-1" strike="noStrike">
                <a:solidFill>
                  <a:srgbClr val="ffff00"/>
                </a:solidFill>
                <a:latin typeface="Arial"/>
              </a:rPr>
              <a:t>diagnostic</a:t>
            </a:r>
            <a:r>
              <a:rPr b="0" lang="fr-FR" sz="2800" spc="-1" strike="noStrike">
                <a:solidFill>
                  <a:srgbClr val="ffffff"/>
                </a:solidFill>
                <a:latin typeface="Arial"/>
              </a:rPr>
              <a:t> de l’infection à CMV</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Valeur de l’antigénémie dans la détection précoce de la maladie à CMV (technique utilisée, seuil de positivité de l’antigéném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32 transplantés de foi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urveillance bi-hebdomadaire pendant les 3 premiers après la greffe, puis tous les 15 jours jusqu’au 6ème moi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itement anticipé si Agpp65 &gt; 20 cellules positives / 200000 leucocytes</a:t>
            </a:r>
            <a:r>
              <a:rPr b="0" lang="fr-FR" sz="2400" spc="-1" strike="noStrike">
                <a:solidFill>
                  <a:srgbClr val="ffffff"/>
                </a:solidFill>
                <a:latin typeface="Wingdings"/>
                <a:ea typeface="Wingdings"/>
              </a:rPr>
              <a:t></a:t>
            </a:r>
            <a:r>
              <a:rPr b="0" lang="fr-FR" sz="2400" spc="-1" strike="noStrike">
                <a:solidFill>
                  <a:srgbClr val="ffffff"/>
                </a:solidFill>
                <a:latin typeface="Arial"/>
              </a:rPr>
              <a:t> 20 pati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bjectif : </a:t>
            </a:r>
            <a:r>
              <a:rPr b="0" lang="fr-FR" sz="2400" spc="-1" strike="noStrike">
                <a:solidFill>
                  <a:srgbClr val="ffff00"/>
                </a:solidFill>
                <a:latin typeface="Arial"/>
              </a:rPr>
              <a:t>comparer les résultats de la quantification du CMV dans les leucocytes par trois méthodes : </a:t>
            </a:r>
            <a:r>
              <a:rPr b="0" lang="fr-FR" sz="2400" spc="-1" strike="noStrike">
                <a:solidFill>
                  <a:srgbClr val="ffffff"/>
                </a:solidFill>
                <a:latin typeface="Arial"/>
              </a:rPr>
              <a:t>l’antigénémie, PCR conventionnelle (Amplicor Monitor), PCR temps réel (technologie TaqMan) </a:t>
            </a:r>
            <a:endParaRPr b="0" lang="en-US" sz="2400" spc="-1" strike="noStrike">
              <a:solidFill>
                <a:srgbClr val="ffffff"/>
              </a:solidFill>
              <a:latin typeface="Arial"/>
            </a:endParaRPr>
          </a:p>
        </p:txBody>
      </p:sp>
      <p:sp>
        <p:nvSpPr>
          <p:cNvPr id="2272" name=""/>
          <p:cNvSpPr/>
          <p:nvPr/>
        </p:nvSpPr>
        <p:spPr>
          <a:xfrm>
            <a:off x="5554080" y="6165720"/>
            <a:ext cx="28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Allice T, J Med virol 200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274" name="PlaceHolder 2"/>
          <p:cNvSpPr>
            <a:spLocks noGrp="1"/>
          </p:cNvSpPr>
          <p:nvPr>
            <p:ph/>
          </p:nvPr>
        </p:nvSpPr>
        <p:spPr>
          <a:xfrm>
            <a:off x="468360" y="1268280"/>
            <a:ext cx="8229600" cy="82080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Résultats de la quantification du CMV</a:t>
            </a:r>
            <a:endParaRPr b="0" lang="en-US" sz="2800" spc="-1" strike="noStrike">
              <a:solidFill>
                <a:srgbClr val="ffffff"/>
              </a:solidFill>
              <a:latin typeface="Arial"/>
            </a:endParaRPr>
          </a:p>
        </p:txBody>
      </p:sp>
      <p:sp>
        <p:nvSpPr>
          <p:cNvPr id="2275" name=""/>
          <p:cNvSpPr/>
          <p:nvPr/>
        </p:nvSpPr>
        <p:spPr>
          <a:xfrm>
            <a:off x="4495680" y="6324480"/>
            <a:ext cx="435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Allice T et al (2006) J Med Virol, 78:915-922</a:t>
            </a:r>
            <a:endParaRPr b="0" lang="en-US" sz="1600" spc="-1" strike="noStrike">
              <a:solidFill>
                <a:srgbClr val="ffffff"/>
              </a:solidFill>
              <a:latin typeface="Arial"/>
            </a:endParaRPr>
          </a:p>
        </p:txBody>
      </p:sp>
      <p:graphicFrame>
        <p:nvGraphicFramePr>
          <p:cNvPr id="2276" name=""/>
          <p:cNvGraphicFramePr/>
          <p:nvPr/>
        </p:nvGraphicFramePr>
        <p:xfrm>
          <a:off x="826920" y="2205000"/>
          <a:ext cx="7921800" cy="3513240"/>
        </p:xfrm>
        <a:graphic>
          <a:graphicData uri="http://schemas.openxmlformats.org/drawingml/2006/table">
            <a:tbl>
              <a:tblPr/>
              <a:tblGrid>
                <a:gridCol w="1979640"/>
                <a:gridCol w="1981440"/>
                <a:gridCol w="1981080"/>
                <a:gridCol w="1979640"/>
              </a:tblGrid>
              <a:tr h="152280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pp65 (nombre de cellules/2.10</a:t>
                      </a:r>
                      <a:r>
                        <a:rPr b="1" lang="en-US" sz="1800" spc="-1" strike="noStrike" baseline="30000">
                          <a:solidFill>
                            <a:srgbClr val="ffffff"/>
                          </a:solidFill>
                          <a:latin typeface="Arial"/>
                        </a:rPr>
                        <a:t>5</a:t>
                      </a:r>
                      <a:r>
                        <a:rPr b="1" lang="en-US" sz="1800" spc="-1" strike="noStrike">
                          <a:solidFill>
                            <a:srgbClr val="ffffff"/>
                          </a:solidFill>
                          <a:latin typeface="Arial"/>
                        </a:rPr>
                        <a:t> PBL)</a:t>
                      </a:r>
                      <a:r>
                        <a:rPr b="1"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bas Amplicor</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 copies/ 500000 PB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l time PCR (log copies/ 500000 PB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5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eurs médianes (moyenne</a:t>
                      </a:r>
                      <a:r>
                        <a:rPr b="1" lang="en-US" sz="1800" spc="-1" strike="noStrike">
                          <a:solidFill>
                            <a:srgbClr val="ffffff"/>
                          </a:solidFill>
                          <a:latin typeface="Arial"/>
                          <a:ea typeface="Arial"/>
                        </a:rPr>
                        <a:t>± écart-typ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27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tients en</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raitement</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ticipé (n=2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98*(277 </a:t>
                      </a:r>
                      <a:r>
                        <a:rPr b="1" lang="en-US" sz="1800" spc="-1" strike="noStrike">
                          <a:solidFill>
                            <a:srgbClr val="ffff00"/>
                          </a:solidFill>
                          <a:latin typeface="Arial"/>
                          <a:ea typeface="Arial"/>
                        </a:rPr>
                        <a:t>±</a:t>
                      </a:r>
                      <a:r>
                        <a:rPr b="1" lang="en-US" sz="1800" spc="-1" strike="noStrike">
                          <a:solidFill>
                            <a:srgbClr val="ffff00"/>
                          </a:solidFill>
                          <a:latin typeface="Arial"/>
                        </a:rPr>
                        <a:t>3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9** (3,9 </a:t>
                      </a:r>
                      <a:r>
                        <a:rPr b="1" lang="en-US" sz="1800" spc="-1" strike="noStrike">
                          <a:solidFill>
                            <a:srgbClr val="ffff00"/>
                          </a:solidFill>
                          <a:latin typeface="Arial"/>
                          <a:ea typeface="Arial"/>
                        </a:rPr>
                        <a:t>±</a:t>
                      </a:r>
                      <a:r>
                        <a:rPr b="1" lang="en-US" sz="1800" spc="-1" strike="noStrike">
                          <a:solidFill>
                            <a:srgbClr val="ffff00"/>
                          </a:solidFill>
                          <a:latin typeface="Arial"/>
                        </a:rPr>
                        <a:t>0,2)</a:t>
                      </a:r>
                      <a:r>
                        <a:rPr b="1" lang="en-US" sz="1800" spc="-1" strike="noStrike">
                          <a:solidFill>
                            <a:srgbClr val="ffff00"/>
                          </a:solidFill>
                          <a:latin typeface="Arial"/>
                        </a:rPr>
                        <a:t>	</a:t>
                      </a:r>
                      <a:r>
                        <a:rPr b="1" lang="en-US" sz="1800" spc="-1" strike="noStrike">
                          <a:solidFill>
                            <a:srgbClr val="ffff00"/>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8*** (3,5 </a:t>
                      </a:r>
                      <a:r>
                        <a:rPr b="1" lang="en-US" sz="1800" spc="-1" strike="noStrike">
                          <a:solidFill>
                            <a:srgbClr val="ffff00"/>
                          </a:solidFill>
                          <a:latin typeface="Arial"/>
                          <a:ea typeface="Arial"/>
                        </a:rPr>
                        <a:t>±</a:t>
                      </a:r>
                      <a:r>
                        <a:rPr b="1" lang="en-US" sz="1800" spc="-1" strike="noStrike">
                          <a:solidFill>
                            <a:srgbClr val="ffff00"/>
                          </a:solidFill>
                          <a:latin typeface="Arial"/>
                        </a:rPr>
                        <a:t>1)</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27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s non </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ités</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1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5 </a:t>
                      </a:r>
                      <a:r>
                        <a:rPr b="1" lang="en-US" sz="1800" spc="-1" strike="noStrike">
                          <a:solidFill>
                            <a:srgbClr val="ffffff"/>
                          </a:solidFill>
                          <a:latin typeface="Arial"/>
                          <a:ea typeface="Arial"/>
                        </a:rPr>
                        <a:t>±</a:t>
                      </a:r>
                      <a:r>
                        <a:rPr b="1" lang="en-US"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3,1 </a:t>
                      </a:r>
                      <a:r>
                        <a:rPr b="1" lang="en-US" sz="1800" spc="-1" strike="noStrike">
                          <a:solidFill>
                            <a:srgbClr val="ffffff"/>
                          </a:solidFill>
                          <a:latin typeface="Arial"/>
                          <a:ea typeface="Arial"/>
                        </a:rPr>
                        <a:t>±</a:t>
                      </a:r>
                      <a:r>
                        <a:rPr b="1" lang="en-US" sz="1800" spc="-1" strike="noStrike">
                          <a:solidFill>
                            <a:srgbClr val="ffffff"/>
                          </a:solidFill>
                          <a:latin typeface="Arial"/>
                        </a:rPr>
                        <a:t>0,3)</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2,8 </a:t>
                      </a:r>
                      <a:r>
                        <a:rPr b="1" lang="en-US" sz="1800" spc="-1" strike="noStrike">
                          <a:solidFill>
                            <a:srgbClr val="ffffff"/>
                          </a:solidFill>
                          <a:latin typeface="Arial"/>
                          <a:ea typeface="Arial"/>
                        </a:rPr>
                        <a:t>±</a:t>
                      </a:r>
                      <a:r>
                        <a:rPr b="1" lang="en-US" sz="1800" spc="-1" strike="noStrike">
                          <a:solidFill>
                            <a:srgbClr val="ffffff"/>
                          </a:solidFill>
                          <a:latin typeface="Arial"/>
                        </a:rPr>
                        <a:t>0,8)</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77" name=""/>
          <p:cNvSpPr/>
          <p:nvPr/>
        </p:nvSpPr>
        <p:spPr>
          <a:xfrm>
            <a:off x="826200" y="571500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p= 0,01, ** p&lt; 0,0001, *** p&lt; 0,0001</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pic>
        <p:nvPicPr>
          <p:cNvPr id="2278" name="" descr=""/>
          <p:cNvPicPr/>
          <p:nvPr/>
        </p:nvPicPr>
        <p:blipFill>
          <a:blip r:embed="rId1"/>
          <a:stretch/>
        </p:blipFill>
        <p:spPr>
          <a:xfrm>
            <a:off x="395280" y="1628640"/>
            <a:ext cx="3889440" cy="2478240"/>
          </a:xfrm>
          <a:prstGeom prst="rect">
            <a:avLst/>
          </a:prstGeom>
          <a:ln w="0">
            <a:noFill/>
          </a:ln>
        </p:spPr>
      </p:pic>
      <p:pic>
        <p:nvPicPr>
          <p:cNvPr id="2279" name="" descr=""/>
          <p:cNvPicPr/>
          <p:nvPr/>
        </p:nvPicPr>
        <p:blipFill>
          <a:blip r:embed="rId2"/>
          <a:stretch/>
        </p:blipFill>
        <p:spPr>
          <a:xfrm>
            <a:off x="4932360" y="1628640"/>
            <a:ext cx="3816360" cy="2559240"/>
          </a:xfrm>
          <a:prstGeom prst="rect">
            <a:avLst/>
          </a:prstGeom>
          <a:ln w="0">
            <a:noFill/>
          </a:ln>
        </p:spPr>
      </p:pic>
      <p:pic>
        <p:nvPicPr>
          <p:cNvPr id="2280" name="" descr=""/>
          <p:cNvPicPr/>
          <p:nvPr/>
        </p:nvPicPr>
        <p:blipFill>
          <a:blip r:embed="rId3"/>
          <a:stretch/>
        </p:blipFill>
        <p:spPr>
          <a:xfrm>
            <a:off x="2771640" y="4292640"/>
            <a:ext cx="3961080" cy="2519280"/>
          </a:xfrm>
          <a:prstGeom prst="rect">
            <a:avLst/>
          </a:prstGeom>
          <a:ln w="0">
            <a:noFill/>
          </a:ln>
        </p:spPr>
      </p:pic>
      <p:sp>
        <p:nvSpPr>
          <p:cNvPr id="2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282" name=""/>
          <p:cNvSpPr/>
          <p:nvPr/>
        </p:nvSpPr>
        <p:spPr>
          <a:xfrm>
            <a:off x="1585080" y="1563840"/>
            <a:ext cx="139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r</a:t>
            </a:r>
            <a:r>
              <a:rPr b="0" lang="en-US" sz="2400" spc="-1" strike="noStrike">
                <a:solidFill>
                  <a:srgbClr val="000099"/>
                </a:solidFill>
                <a:latin typeface="Arial"/>
              </a:rPr>
              <a:t> = 0,691</a:t>
            </a:r>
            <a:endParaRPr b="0" lang="en-US" sz="2400" spc="-1" strike="noStrike">
              <a:solidFill>
                <a:srgbClr val="ffffff"/>
              </a:solidFill>
              <a:latin typeface="Arial"/>
            </a:endParaRPr>
          </a:p>
        </p:txBody>
      </p:sp>
      <p:sp>
        <p:nvSpPr>
          <p:cNvPr id="2283" name=""/>
          <p:cNvSpPr/>
          <p:nvPr/>
        </p:nvSpPr>
        <p:spPr>
          <a:xfrm>
            <a:off x="3886920" y="4267080"/>
            <a:ext cx="139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r</a:t>
            </a:r>
            <a:r>
              <a:rPr b="0" lang="en-US" sz="2400" spc="-1" strike="noStrike">
                <a:solidFill>
                  <a:srgbClr val="000099"/>
                </a:solidFill>
                <a:latin typeface="Arial"/>
              </a:rPr>
              <a:t> = 0,761</a:t>
            </a:r>
            <a:endParaRPr b="0" lang="en-US" sz="2400" spc="-1" strike="noStrike">
              <a:solidFill>
                <a:srgbClr val="ffffff"/>
              </a:solidFill>
              <a:latin typeface="Arial"/>
            </a:endParaRPr>
          </a:p>
        </p:txBody>
      </p:sp>
      <p:sp>
        <p:nvSpPr>
          <p:cNvPr id="2284" name=""/>
          <p:cNvSpPr/>
          <p:nvPr/>
        </p:nvSpPr>
        <p:spPr>
          <a:xfrm>
            <a:off x="6249240" y="1600200"/>
            <a:ext cx="139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r</a:t>
            </a:r>
            <a:r>
              <a:rPr b="0" lang="en-US" sz="2400" spc="-1" strike="noStrike">
                <a:solidFill>
                  <a:srgbClr val="000099"/>
                </a:solidFill>
                <a:latin typeface="Arial"/>
              </a:rPr>
              <a:t> = 0,722</a:t>
            </a:r>
            <a:endParaRPr b="0" lang="en-US" sz="2400" spc="-1" strike="noStrike">
              <a:solidFill>
                <a:srgbClr val="ffffff"/>
              </a:solidFill>
              <a:latin typeface="Arial"/>
            </a:endParaRPr>
          </a:p>
        </p:txBody>
      </p:sp>
      <p:sp>
        <p:nvSpPr>
          <p:cNvPr id="2285" name=""/>
          <p:cNvSpPr/>
          <p:nvPr/>
        </p:nvSpPr>
        <p:spPr>
          <a:xfrm>
            <a:off x="7072920" y="6019920"/>
            <a:ext cx="214524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Allice T et al (2006)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J Med Virol, 78:915-92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685800" y="533520"/>
            <a:ext cx="7772400" cy="838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 </a:t>
            </a:r>
            <a:endParaRPr b="0" lang="en-US" sz="4400" spc="-1" strike="noStrike">
              <a:solidFill>
                <a:srgbClr val="00ffff"/>
              </a:solidFill>
              <a:latin typeface="Arial"/>
            </a:endParaRPr>
          </a:p>
        </p:txBody>
      </p:sp>
      <p:sp>
        <p:nvSpPr>
          <p:cNvPr id="2287" name="PlaceHolder 2"/>
          <p:cNvSpPr>
            <a:spLocks noGrp="1"/>
          </p:cNvSpPr>
          <p:nvPr>
            <p:ph/>
          </p:nvPr>
        </p:nvSpPr>
        <p:spPr>
          <a:xfrm>
            <a:off x="452520" y="1267920"/>
            <a:ext cx="8007120" cy="3745080"/>
          </a:xfrm>
          <a:prstGeom prst="rect">
            <a:avLst/>
          </a:prstGeom>
          <a:noFill/>
          <a:ln w="0">
            <a:noFill/>
          </a:ln>
        </p:spPr>
        <p:txBody>
          <a:bodyPr lIns="90000" rIns="90000" tIns="46800" bIns="46800" anchor="t">
            <a:normAutofit fontScale="99000"/>
          </a:bodyPr>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r>
              <a:rPr b="0" lang="en-US" sz="2000" spc="-1" strike="noStrike">
                <a:solidFill>
                  <a:srgbClr val="ffffff"/>
                </a:solidFill>
                <a:latin typeface="Arial"/>
              </a:rPr>
              <a:t>Agpp65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6600"/>
                </a:solidFill>
                <a:latin typeface="Arial"/>
              </a:rPr>
              <a:t>Real time PC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Cobas Amplicor</a:t>
            </a: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r>
              <a:rPr b="0" lang="en-US" sz="2000" spc="-1" strike="noStrike">
                <a:solidFill>
                  <a:srgbClr val="ffffff"/>
                </a:solidFill>
                <a:latin typeface="Arial"/>
              </a:rPr>
              <a:t>(nombre d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og copies/ 500000 PBL)</a:t>
            </a: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r>
              <a:rPr b="0" lang="en-US" sz="2000" spc="-1" strike="noStrike">
                <a:solidFill>
                  <a:srgbClr val="ffffff"/>
                </a:solidFill>
                <a:latin typeface="Arial"/>
              </a:rPr>
              <a:t>cellules/210</a:t>
            </a:r>
            <a:r>
              <a:rPr b="0" lang="en-US" sz="2000" spc="-1" strike="noStrike" baseline="30000">
                <a:solidFill>
                  <a:srgbClr val="ffffff"/>
                </a:solidFill>
                <a:latin typeface="Arial"/>
              </a:rPr>
              <a:t>5</a:t>
            </a:r>
            <a:r>
              <a:rPr b="0" lang="en-US" sz="2000" spc="-1" strike="noStrike">
                <a:solidFill>
                  <a:srgbClr val="ffffff"/>
                </a:solidFill>
                <a:latin typeface="Arial"/>
              </a:rPr>
              <a:t> PB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valeurs médianes </a:t>
            </a:r>
            <a:r>
              <a:rPr b="0" lang="en-US" sz="2000" spc="-1" strike="noStrike">
                <a:solidFill>
                  <a:srgbClr val="ffffff"/>
                </a:solidFill>
                <a:latin typeface="Arial"/>
              </a:rPr>
              <a:t>	</a:t>
            </a:r>
            <a:r>
              <a:rPr b="0" lang="en-US" sz="2000" spc="-1" strike="noStrike">
                <a:solidFill>
                  <a:srgbClr val="ffffff"/>
                </a:solidFill>
                <a:latin typeface="Arial"/>
              </a:rPr>
              <a:t>(moyenne</a:t>
            </a:r>
            <a:r>
              <a:rPr b="0" lang="en-US" sz="2000" spc="-1" strike="noStrike">
                <a:solidFill>
                  <a:srgbClr val="ffffff"/>
                </a:solidFill>
                <a:latin typeface="Arial"/>
                <a:ea typeface="Arial"/>
              </a:rPr>
              <a:t>± écart-type)</a:t>
            </a: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r>
              <a:rPr b="0" lang="en-US" sz="2000" spc="-1" strike="noStrike">
                <a:solidFill>
                  <a:srgbClr val="ffffff"/>
                </a:solidFill>
                <a:latin typeface="Arial"/>
              </a:rPr>
              <a:t>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6</a:t>
            </a:r>
            <a:r>
              <a:rPr b="0" lang="en-US" sz="2000" spc="-1" strike="noStrike">
                <a:solidFill>
                  <a:srgbClr val="ffffff"/>
                </a:solidFill>
                <a:latin typeface="Arial"/>
              </a:rPr>
              <a:t>	</a:t>
            </a:r>
            <a:r>
              <a:rPr b="0" lang="en-US" sz="2000" spc="-1" strike="noStrike">
                <a:solidFill>
                  <a:srgbClr val="ffffff"/>
                </a:solidFill>
                <a:latin typeface="Arial"/>
              </a:rPr>
              <a:t>  (2,8 </a:t>
            </a:r>
            <a:r>
              <a:rPr b="0" lang="en-US" sz="2000" spc="-1" strike="noStrike">
                <a:solidFill>
                  <a:srgbClr val="ffffff"/>
                </a:solidFill>
                <a:latin typeface="Symbol"/>
                <a:ea typeface="Symbol"/>
              </a:rPr>
              <a:t></a:t>
            </a:r>
            <a:r>
              <a:rPr b="0" lang="en-US" sz="2000" spc="-1" strike="noStrike">
                <a:solidFill>
                  <a:srgbClr val="ffffff"/>
                </a:solidFill>
                <a:latin typeface="Arial"/>
              </a:rPr>
              <a:t>0,8)</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8  (2,8 </a:t>
            </a:r>
            <a:r>
              <a:rPr b="0" lang="en-US" sz="2000" spc="-1" strike="noStrike">
                <a:solidFill>
                  <a:srgbClr val="ffffff"/>
                </a:solidFill>
                <a:latin typeface="Symbol"/>
                <a:ea typeface="Symbol"/>
              </a:rPr>
              <a:t></a:t>
            </a:r>
            <a:r>
              <a:rPr b="0" lang="en-US" sz="2000" spc="-1" strike="noStrike">
                <a:solidFill>
                  <a:srgbClr val="ffffff"/>
                </a:solidFill>
                <a:latin typeface="Arial"/>
              </a:rPr>
              <a:t> O,5)</a:t>
            </a: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r>
              <a:rPr b="0" lang="en-US" sz="2000" spc="-1" strike="noStrike">
                <a:solidFill>
                  <a:srgbClr val="ffffff"/>
                </a:solidFill>
                <a:latin typeface="Arial"/>
              </a:rPr>
              <a:t>1-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0   (2,9</a:t>
            </a:r>
            <a:r>
              <a:rPr b="0" lang="en-US" sz="2000" spc="-1" strike="noStrike">
                <a:solidFill>
                  <a:srgbClr val="ffffff"/>
                </a:solidFill>
                <a:latin typeface="Symbol"/>
                <a:ea typeface="Symbol"/>
              </a:rPr>
              <a:t></a:t>
            </a:r>
            <a:r>
              <a:rPr b="0" lang="en-US" sz="2000" spc="-1" strike="noStrike">
                <a:solidFill>
                  <a:srgbClr val="ffffff"/>
                </a:solidFill>
                <a:latin typeface="Arial"/>
              </a:rPr>
              <a:t> 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9  (2,9 </a:t>
            </a:r>
            <a:r>
              <a:rPr b="0" lang="en-US" sz="2000" spc="-1" strike="noStrike">
                <a:solidFill>
                  <a:srgbClr val="ffffff"/>
                </a:solidFill>
                <a:latin typeface="Symbol"/>
                <a:ea typeface="Symbol"/>
              </a:rPr>
              <a:t></a:t>
            </a:r>
            <a:r>
              <a:rPr b="0" lang="en-US" sz="2000" spc="-1" strike="noStrike">
                <a:solidFill>
                  <a:srgbClr val="ffffff"/>
                </a:solidFill>
                <a:latin typeface="Arial"/>
              </a:rPr>
              <a:t> 0,5)</a:t>
            </a: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r>
              <a:rPr b="0" lang="en-US" sz="2000" spc="-1" strike="noStrike">
                <a:solidFill>
                  <a:srgbClr val="ff6600"/>
                </a:solidFill>
                <a:latin typeface="Arial"/>
              </a:rPr>
              <a:t>11-2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6600"/>
                </a:solidFill>
                <a:latin typeface="Arial"/>
              </a:rPr>
              <a:t>3,6*</a:t>
            </a:r>
            <a:r>
              <a:rPr b="0" lang="en-US" sz="2000" spc="-1" strike="noStrike">
                <a:solidFill>
                  <a:srgbClr val="ffffff"/>
                </a:solidFill>
                <a:latin typeface="Arial"/>
              </a:rPr>
              <a:t> (3, </a:t>
            </a:r>
            <a:r>
              <a:rPr b="0" lang="en-US" sz="2000" spc="-1" strike="noStrike">
                <a:solidFill>
                  <a:srgbClr val="ffffff"/>
                </a:solidFill>
                <a:latin typeface="Symbol"/>
                <a:ea typeface="Symbol"/>
              </a:rPr>
              <a:t></a:t>
            </a:r>
            <a:r>
              <a:rPr b="0" lang="en-US" sz="2000" spc="-1" strike="noStrike">
                <a:solidFill>
                  <a:srgbClr val="ffffff"/>
                </a:solidFill>
                <a:latin typeface="Arial"/>
              </a:rPr>
              <a:t> 0,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3,8**</a:t>
            </a:r>
            <a:r>
              <a:rPr b="0" lang="en-US" sz="2000" spc="-1" strike="noStrike">
                <a:solidFill>
                  <a:srgbClr val="ffffff"/>
                </a:solidFill>
                <a:latin typeface="Arial"/>
              </a:rPr>
              <a:t>  (3,7 </a:t>
            </a:r>
            <a:r>
              <a:rPr b="0" lang="en-US" sz="2000" spc="-1" strike="noStrike">
                <a:solidFill>
                  <a:srgbClr val="ffffff"/>
                </a:solidFill>
                <a:latin typeface="Symbol"/>
                <a:ea typeface="Symbol"/>
              </a:rPr>
              <a:t></a:t>
            </a:r>
            <a:r>
              <a:rPr b="0" lang="en-US" sz="2000" spc="-1" strike="noStrike">
                <a:solidFill>
                  <a:srgbClr val="ffffff"/>
                </a:solidFill>
                <a:latin typeface="Arial"/>
              </a:rPr>
              <a:t> 0,3)</a:t>
            </a: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r>
              <a:rPr b="0" lang="en-US" sz="2000" spc="-1" strike="noStrike">
                <a:solidFill>
                  <a:srgbClr val="ffffff"/>
                </a:solidFill>
                <a:latin typeface="Arial"/>
              </a:rPr>
              <a:t>21-5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6600"/>
                </a:solidFill>
                <a:latin typeface="Arial"/>
              </a:rPr>
              <a:t>4,0*</a:t>
            </a:r>
            <a:r>
              <a:rPr b="0" lang="en-US" sz="2000" spc="-1" strike="noStrike">
                <a:solidFill>
                  <a:srgbClr val="ffffff"/>
                </a:solidFill>
                <a:latin typeface="Arial"/>
              </a:rPr>
              <a:t>  (4,2 </a:t>
            </a:r>
            <a:r>
              <a:rPr b="0" lang="en-US" sz="2000" spc="-1" strike="noStrike">
                <a:solidFill>
                  <a:srgbClr val="ffffff"/>
                </a:solidFill>
                <a:latin typeface="Symbol"/>
                <a:ea typeface="Symbol"/>
              </a:rPr>
              <a:t></a:t>
            </a:r>
            <a:r>
              <a:rPr b="0" lang="en-US" sz="2000" spc="-1" strike="noStrike">
                <a:solidFill>
                  <a:srgbClr val="ffffff"/>
                </a:solidFill>
                <a:latin typeface="Arial"/>
              </a:rPr>
              <a:t> 0,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3,7**</a:t>
            </a:r>
            <a:r>
              <a:rPr b="0" lang="en-US" sz="2000" spc="-1" strike="noStrike">
                <a:solidFill>
                  <a:srgbClr val="ffffff"/>
                </a:solidFill>
                <a:latin typeface="Arial"/>
              </a:rPr>
              <a:t>  (3,6 </a:t>
            </a:r>
            <a:r>
              <a:rPr b="0" lang="en-US" sz="2000" spc="-1" strike="noStrike">
                <a:solidFill>
                  <a:srgbClr val="ffffff"/>
                </a:solidFill>
                <a:latin typeface="Symbol"/>
                <a:ea typeface="Symbol"/>
              </a:rPr>
              <a:t></a:t>
            </a:r>
            <a:r>
              <a:rPr b="0" lang="en-US" sz="2000" spc="-1" strike="noStrike">
                <a:solidFill>
                  <a:srgbClr val="ffffff"/>
                </a:solidFill>
                <a:latin typeface="Arial"/>
              </a:rPr>
              <a:t> 0,3)</a:t>
            </a: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r>
              <a:rPr b="0" lang="en-US" sz="2000" spc="-1" strike="noStrike">
                <a:solidFill>
                  <a:srgbClr val="ffffff"/>
                </a:solidFill>
                <a:latin typeface="Arial"/>
              </a:rPr>
              <a:t>51-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2  (4,1 </a:t>
            </a:r>
            <a:r>
              <a:rPr b="0" lang="en-US" sz="2000" spc="-1" strike="noStrike">
                <a:solidFill>
                  <a:srgbClr val="ffffff"/>
                </a:solidFill>
                <a:latin typeface="Symbol"/>
                <a:ea typeface="Symbol"/>
              </a:rPr>
              <a:t></a:t>
            </a:r>
            <a:r>
              <a:rPr b="0" lang="en-US" sz="2000" spc="-1" strike="noStrike">
                <a:solidFill>
                  <a:srgbClr val="ffffff"/>
                </a:solidFill>
                <a:latin typeface="Arial"/>
              </a:rPr>
              <a:t> 0,6)</a:t>
            </a:r>
            <a:r>
              <a:rPr b="0" lang="en-US" sz="2000" spc="-1" strike="noStrike">
                <a:solidFill>
                  <a:srgbClr val="ffffff"/>
                </a:solidFill>
                <a:latin typeface="Arial"/>
              </a:rPr>
              <a:t>	</a:t>
            </a:r>
            <a:r>
              <a:rPr b="0" lang="en-US" sz="2000" spc="-1" strike="noStrike">
                <a:solidFill>
                  <a:srgbClr val="ffffff"/>
                </a:solidFill>
                <a:latin typeface="Arial"/>
              </a:rPr>
              <a:t>       3,9  (3, </a:t>
            </a:r>
            <a:r>
              <a:rPr b="0" lang="en-US" sz="2000" spc="-1" strike="noStrike">
                <a:solidFill>
                  <a:srgbClr val="ffffff"/>
                </a:solidFill>
                <a:latin typeface="Symbol"/>
                <a:ea typeface="Symbol"/>
              </a:rPr>
              <a:t></a:t>
            </a:r>
            <a:r>
              <a:rPr b="0" lang="en-US" sz="2000" spc="-1" strike="noStrike">
                <a:solidFill>
                  <a:srgbClr val="ffffff"/>
                </a:solidFill>
                <a:latin typeface="Arial"/>
              </a:rPr>
              <a:t> 0,2)</a:t>
            </a: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r>
              <a:rPr b="0" lang="en-US" sz="2000" spc="-1" strike="noStrike">
                <a:solidFill>
                  <a:srgbClr val="ffffff"/>
                </a:solidFill>
                <a:latin typeface="Arial"/>
              </a:rPr>
              <a:t>&gt;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8  (4,7 </a:t>
            </a:r>
            <a:r>
              <a:rPr b="0" lang="en-US" sz="2000" spc="-1" strike="noStrike">
                <a:solidFill>
                  <a:srgbClr val="ffffff"/>
                </a:solidFill>
                <a:latin typeface="Symbol"/>
                <a:ea typeface="Symbol"/>
              </a:rPr>
              <a:t></a:t>
            </a:r>
            <a:r>
              <a:rPr b="0" lang="en-US" sz="2000" spc="-1" strike="noStrike">
                <a:solidFill>
                  <a:srgbClr val="ffffff"/>
                </a:solidFill>
                <a:latin typeface="Arial"/>
              </a:rPr>
              <a:t> 0,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0 (3,9 </a:t>
            </a:r>
            <a:r>
              <a:rPr b="0" lang="en-US" sz="2000" spc="-1" strike="noStrike">
                <a:solidFill>
                  <a:srgbClr val="ffffff"/>
                </a:solidFill>
                <a:latin typeface="Symbol"/>
                <a:ea typeface="Symbol"/>
              </a:rPr>
              <a:t></a:t>
            </a:r>
            <a:r>
              <a:rPr b="0" lang="en-US" sz="2000" spc="-1" strike="noStrike">
                <a:solidFill>
                  <a:srgbClr val="ffffff"/>
                </a:solidFill>
                <a:latin typeface="Arial"/>
              </a:rPr>
              <a:t> 0,5)</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5000"/>
              </a:lnSpc>
              <a:buNone/>
              <a:tabLst>
                <a:tab algn="l" pos="0"/>
                <a:tab algn="ctr" pos="1828800"/>
                <a:tab algn="ctr" pos="2971800"/>
                <a:tab algn="ctr" pos="4114800"/>
                <a:tab algn="ctr" pos="5257800"/>
                <a:tab algn="ctr" pos="6400800"/>
                <a:tab algn="ctr" pos="75438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288" name=""/>
          <p:cNvSpPr/>
          <p:nvPr/>
        </p:nvSpPr>
        <p:spPr>
          <a:xfrm>
            <a:off x="395280" y="2852640"/>
            <a:ext cx="81532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9" name=""/>
          <p:cNvSpPr/>
          <p:nvPr/>
        </p:nvSpPr>
        <p:spPr>
          <a:xfrm>
            <a:off x="395280" y="4869000"/>
            <a:ext cx="81532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0" name=""/>
          <p:cNvSpPr/>
          <p:nvPr/>
        </p:nvSpPr>
        <p:spPr>
          <a:xfrm>
            <a:off x="396360" y="4941720"/>
            <a:ext cx="175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p= 0,01, ** ns</a:t>
            </a:r>
            <a:endParaRPr b="0" lang="en-US" sz="1800" spc="-1" strike="noStrike">
              <a:solidFill>
                <a:srgbClr val="ffffff"/>
              </a:solidFill>
              <a:latin typeface="Arial"/>
            </a:endParaRPr>
          </a:p>
        </p:txBody>
      </p:sp>
      <p:sp>
        <p:nvSpPr>
          <p:cNvPr id="2291" name=""/>
          <p:cNvSpPr/>
          <p:nvPr/>
        </p:nvSpPr>
        <p:spPr>
          <a:xfrm>
            <a:off x="517680" y="6059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2" name=""/>
          <p:cNvSpPr/>
          <p:nvPr/>
        </p:nvSpPr>
        <p:spPr>
          <a:xfrm>
            <a:off x="517680" y="5526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3" name=""/>
          <p:cNvSpPr/>
          <p:nvPr/>
        </p:nvSpPr>
        <p:spPr>
          <a:xfrm>
            <a:off x="1178280" y="260280"/>
            <a:ext cx="6868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ffffff"/>
              </a:solidFill>
              <a:latin typeface="Arial"/>
            </a:endParaRPr>
          </a:p>
        </p:txBody>
      </p:sp>
      <p:sp>
        <p:nvSpPr>
          <p:cNvPr id="2294" name=""/>
          <p:cNvSpPr/>
          <p:nvPr/>
        </p:nvSpPr>
        <p:spPr>
          <a:xfrm>
            <a:off x="3851280" y="2060640"/>
            <a:ext cx="410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5" name=""/>
          <p:cNvSpPr/>
          <p:nvPr/>
        </p:nvSpPr>
        <p:spPr>
          <a:xfrm>
            <a:off x="468360" y="2060640"/>
            <a:ext cx="215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6" name=""/>
          <p:cNvSpPr/>
          <p:nvPr/>
        </p:nvSpPr>
        <p:spPr>
          <a:xfrm>
            <a:off x="841320" y="5334120"/>
            <a:ext cx="7157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biais de quantification pour les valeurs hautes 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ge virale en PCR conventionnelle</a:t>
            </a:r>
            <a:endParaRPr b="0" lang="en-US" sz="2400" spc="-1" strike="noStrike">
              <a:solidFill>
                <a:srgbClr val="ffffff"/>
              </a:solidFill>
              <a:latin typeface="Arial"/>
            </a:endParaRPr>
          </a:p>
        </p:txBody>
      </p:sp>
      <p:sp>
        <p:nvSpPr>
          <p:cNvPr id="2297" name=""/>
          <p:cNvSpPr/>
          <p:nvPr/>
        </p:nvSpPr>
        <p:spPr>
          <a:xfrm>
            <a:off x="5320080" y="6400800"/>
            <a:ext cx="38048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Allice T et al (2006) J Med Virol, 78:915-92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bilité intra et inter-essai</a:t>
            </a:r>
            <a:endParaRPr b="0" lang="en-US" sz="2800" spc="-1" strike="noStrike">
              <a:solidFill>
                <a:srgbClr val="ffffff"/>
              </a:solidFill>
              <a:latin typeface="Arial"/>
            </a:endParaRPr>
          </a:p>
        </p:txBody>
      </p:sp>
      <p:graphicFrame>
        <p:nvGraphicFramePr>
          <p:cNvPr id="2300" name=""/>
          <p:cNvGraphicFramePr/>
          <p:nvPr/>
        </p:nvGraphicFramePr>
        <p:xfrm>
          <a:off x="1981080" y="2286000"/>
          <a:ext cx="6096240" cy="3663720"/>
        </p:xfrm>
        <a:graphic>
          <a:graphicData uri="http://schemas.openxmlformats.org/drawingml/2006/table">
            <a:tbl>
              <a:tblPr/>
              <a:tblGrid>
                <a:gridCol w="762120"/>
                <a:gridCol w="762120"/>
                <a:gridCol w="761760"/>
                <a:gridCol w="762120"/>
                <a:gridCol w="762120"/>
                <a:gridCol w="761760"/>
                <a:gridCol w="762120"/>
                <a:gridCol w="762120"/>
              </a:tblGrid>
              <a:tr h="524880">
                <a:tc gridSpan="8">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N CMV copies/réaction</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gridSpan="4">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CV intra essai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V inter essai</a:t>
                      </a:r>
                      <a:r>
                        <a:rPr b="1"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1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en-US" sz="2000" spc="-1" strike="noStrike" baseline="30000">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en-US" sz="2000" spc="-1" strike="noStrike" baseline="30000">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en-US" sz="2000" spc="-1" strike="noStrike" baseline="30000">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en-US" sz="2000" spc="-1" strike="noStrike" baseline="30000">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en-US" sz="2000" spc="-1" strike="noStrike" baseline="30000">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en-US" sz="2000" spc="-1" strike="noStrike" baseline="30000">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en-US" sz="2000" spc="-1" strike="noStrike" baseline="30000">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en-US" sz="2000" spc="-1" strike="noStrike" baseline="30000">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1,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15,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4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2,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301" name=""/>
          <p:cNvGraphicFramePr/>
          <p:nvPr/>
        </p:nvGraphicFramePr>
        <p:xfrm>
          <a:off x="685800" y="4114800"/>
          <a:ext cx="1295280" cy="1828800"/>
        </p:xfrm>
        <a:graphic>
          <a:graphicData uri="http://schemas.openxmlformats.org/drawingml/2006/table">
            <a:tbl>
              <a:tblPr/>
              <a:tblGrid>
                <a:gridCol w="1295280"/>
              </a:tblGrid>
              <a:tr h="18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ffffff"/>
                    </a:solidFill>
                  </a:tcPr>
                </a:tc>
              </a:tr>
            </a:tbl>
          </a:graphicData>
        </a:graphic>
      </p:graphicFrame>
      <p:sp>
        <p:nvSpPr>
          <p:cNvPr id="2302" name=""/>
          <p:cNvSpPr/>
          <p:nvPr/>
        </p:nvSpPr>
        <p:spPr>
          <a:xfrm>
            <a:off x="686880" y="4038480"/>
            <a:ext cx="1255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al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CR</a:t>
            </a:r>
            <a:endParaRPr b="0" lang="en-US" sz="2000" spc="-1" strike="noStrike">
              <a:solidFill>
                <a:srgbClr val="ffffff"/>
              </a:solidFill>
              <a:latin typeface="Arial"/>
            </a:endParaRPr>
          </a:p>
        </p:txBody>
      </p:sp>
      <p:sp>
        <p:nvSpPr>
          <p:cNvPr id="2303" name=""/>
          <p:cNvSpPr/>
          <p:nvPr/>
        </p:nvSpPr>
        <p:spPr>
          <a:xfrm>
            <a:off x="684360" y="4869000"/>
            <a:ext cx="1295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ob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Amplicor</a:t>
            </a:r>
            <a:endParaRPr b="0" lang="en-US" sz="2000" spc="-1" strike="noStrike">
              <a:solidFill>
                <a:srgbClr val="ffffff"/>
              </a:solidFill>
              <a:latin typeface="Arial"/>
            </a:endParaRPr>
          </a:p>
        </p:txBody>
      </p:sp>
      <p:sp>
        <p:nvSpPr>
          <p:cNvPr id="2304" name=""/>
          <p:cNvSpPr/>
          <p:nvPr/>
        </p:nvSpPr>
        <p:spPr>
          <a:xfrm flipH="1">
            <a:off x="685800" y="4876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5" name=""/>
          <p:cNvSpPr/>
          <p:nvPr/>
        </p:nvSpPr>
        <p:spPr>
          <a:xfrm>
            <a:off x="4839840" y="6248520"/>
            <a:ext cx="3705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Allice T et al (2006) JMV (78):915-92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23 transplantés de foie et 4 de re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urveillance hebdomadaire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bjectif : valider une PCR temps réel (TaqMan) pour la </a:t>
            </a:r>
            <a:r>
              <a:rPr b="0" lang="fr-FR" sz="2800" spc="-1" strike="noStrike">
                <a:solidFill>
                  <a:srgbClr val="ffff00"/>
                </a:solidFill>
                <a:latin typeface="Arial"/>
              </a:rPr>
              <a:t>quantification du CMV dans le plasma</a:t>
            </a:r>
            <a:r>
              <a:rPr b="0" lang="fr-FR" sz="2800" spc="-1" strike="noStrike">
                <a:solidFill>
                  <a:srgbClr val="ffffff"/>
                </a:solidFill>
                <a:latin typeface="Arial"/>
              </a:rPr>
              <a:t> et corréler les résultats avec  l’antigénémie et la PCR plasmatique (Amplicor Monitor)</a:t>
            </a:r>
            <a:endParaRPr b="0" lang="en-US" sz="2800" spc="-1" strike="noStrike">
              <a:solidFill>
                <a:srgbClr val="ffffff"/>
              </a:solidFill>
              <a:latin typeface="Arial"/>
            </a:endParaRPr>
          </a:p>
        </p:txBody>
      </p:sp>
      <p:sp>
        <p:nvSpPr>
          <p:cNvPr id="2308" name=""/>
          <p:cNvSpPr/>
          <p:nvPr/>
        </p:nvSpPr>
        <p:spPr>
          <a:xfrm>
            <a:off x="4346280" y="6095880"/>
            <a:ext cx="435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Piiparinen et al, JCM 30 (2004) 258-26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pic>
        <p:nvPicPr>
          <p:cNvPr id="2309" name="" descr=""/>
          <p:cNvPicPr/>
          <p:nvPr/>
        </p:nvPicPr>
        <p:blipFill>
          <a:blip r:embed="rId1"/>
          <a:stretch/>
        </p:blipFill>
        <p:spPr>
          <a:xfrm>
            <a:off x="1066680" y="0"/>
            <a:ext cx="3375000" cy="6858000"/>
          </a:xfrm>
          <a:prstGeom prst="rect">
            <a:avLst/>
          </a:prstGeom>
          <a:ln w="0">
            <a:noFill/>
          </a:ln>
        </p:spPr>
      </p:pic>
      <p:sp>
        <p:nvSpPr>
          <p:cNvPr id="2310" name=""/>
          <p:cNvSpPr/>
          <p:nvPr/>
        </p:nvSpPr>
        <p:spPr>
          <a:xfrm>
            <a:off x="5243760" y="954000"/>
            <a:ext cx="27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0,84 P&lt; 0,0001</a:t>
            </a:r>
            <a:endParaRPr b="0" lang="en-US" sz="2400" spc="-1" strike="noStrike">
              <a:solidFill>
                <a:srgbClr val="ffffff"/>
              </a:solidFill>
              <a:latin typeface="Arial"/>
            </a:endParaRPr>
          </a:p>
        </p:txBody>
      </p:sp>
      <p:sp>
        <p:nvSpPr>
          <p:cNvPr id="2311" name=""/>
          <p:cNvSpPr/>
          <p:nvPr/>
        </p:nvSpPr>
        <p:spPr>
          <a:xfrm>
            <a:off x="5335920" y="3048120"/>
            <a:ext cx="27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0,80 P&lt; 0,0001</a:t>
            </a:r>
            <a:endParaRPr b="0" lang="en-US" sz="2400" spc="-1" strike="noStrike">
              <a:solidFill>
                <a:srgbClr val="ffffff"/>
              </a:solidFill>
              <a:latin typeface="Arial"/>
            </a:endParaRPr>
          </a:p>
        </p:txBody>
      </p:sp>
      <p:sp>
        <p:nvSpPr>
          <p:cNvPr id="2312" name=""/>
          <p:cNvSpPr/>
          <p:nvPr/>
        </p:nvSpPr>
        <p:spPr>
          <a:xfrm>
            <a:off x="5335920" y="5181480"/>
            <a:ext cx="27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0,71 P&lt; 0,0001</a:t>
            </a:r>
            <a:endParaRPr b="0" lang="en-US" sz="2400" spc="-1" strike="noStrike">
              <a:solidFill>
                <a:srgbClr val="ffffff"/>
              </a:solidFill>
              <a:latin typeface="Arial"/>
            </a:endParaRPr>
          </a:p>
        </p:txBody>
      </p:sp>
      <p:sp>
        <p:nvSpPr>
          <p:cNvPr id="2313" name=""/>
          <p:cNvSpPr/>
          <p:nvPr/>
        </p:nvSpPr>
        <p:spPr>
          <a:xfrm>
            <a:off x="4784400" y="6248520"/>
            <a:ext cx="435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Piiparinen et al, JCM 30 (2004) 258-26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essag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CR quantitative en temps réel </a:t>
            </a:r>
            <a:endParaRPr b="0" lang="en-US" sz="2800" spc="-1" strike="noStrike">
              <a:solidFill>
                <a:srgbClr val="ffffff"/>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adaptée pour la quantification</a:t>
            </a:r>
            <a:r>
              <a:rPr b="0" lang="fr-FR" sz="2800" spc="-1" strike="noStrike">
                <a:solidFill>
                  <a:srgbClr val="ffffff"/>
                </a:solidFill>
                <a:latin typeface="Arial"/>
              </a:rPr>
              <a:t> du CMV</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onne </a:t>
            </a:r>
            <a:r>
              <a:rPr b="0" lang="fr-FR" sz="2800" spc="-1" strike="noStrike">
                <a:solidFill>
                  <a:srgbClr val="ffff00"/>
                </a:solidFill>
                <a:latin typeface="Arial"/>
              </a:rPr>
              <a:t>corrélation</a:t>
            </a:r>
            <a:r>
              <a:rPr b="0" lang="fr-FR" sz="2800" spc="-1" strike="noStrike">
                <a:solidFill>
                  <a:srgbClr val="ffffff"/>
                </a:solidFill>
                <a:latin typeface="Arial"/>
              </a:rPr>
              <a:t> avec l’antigénémie et la PCR conventionnelle</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illeure </a:t>
            </a:r>
            <a:r>
              <a:rPr b="0" lang="fr-FR" sz="2800" spc="-1" strike="noStrike">
                <a:solidFill>
                  <a:srgbClr val="ffff00"/>
                </a:solidFill>
                <a:latin typeface="Arial"/>
              </a:rPr>
              <a:t>performance technique</a:t>
            </a:r>
            <a:r>
              <a:rPr b="0" lang="fr-FR" sz="2800" spc="-1" strike="noStrike">
                <a:solidFill>
                  <a:srgbClr val="ffffff"/>
                </a:solidFill>
                <a:latin typeface="Arial"/>
              </a:rPr>
              <a:t> : linéarité, seuil de détection et reproductibilité</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LIMITES DE LA QUANTIFICATION</a:t>
            </a:r>
            <a:endParaRPr b="0" lang="en-US" sz="4400" spc="-1" strike="noStrike">
              <a:solidFill>
                <a:srgbClr val="00ffff"/>
              </a:solidFill>
              <a:latin typeface="Arial"/>
            </a:endParaRPr>
          </a:p>
        </p:txBody>
      </p:sp>
      <p:sp>
        <p:nvSpPr>
          <p:cNvPr id="23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Physiopathologie</a:t>
            </a:r>
            <a:endParaRPr b="0" lang="en-US" sz="4400" spc="-1" strike="noStrike">
              <a:solidFill>
                <a:srgbClr val="00ffff"/>
              </a:solidFill>
              <a:latin typeface="Arial"/>
            </a:endParaRPr>
          </a:p>
        </p:txBody>
      </p:sp>
      <p:sp>
        <p:nvSpPr>
          <p:cNvPr id="56" name=""/>
          <p:cNvSpPr/>
          <p:nvPr/>
        </p:nvSpPr>
        <p:spPr>
          <a:xfrm>
            <a:off x="770400" y="2362320"/>
            <a:ext cx="22122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o-infection</a:t>
            </a:r>
            <a:endParaRPr b="0" lang="en-US" sz="2400" spc="-1" strike="noStrike">
              <a:solidFill>
                <a:srgbClr val="ffffff"/>
              </a:solidFill>
              <a:latin typeface="Arial"/>
            </a:endParaRPr>
          </a:p>
        </p:txBody>
      </p:sp>
      <p:sp>
        <p:nvSpPr>
          <p:cNvPr id="57" name=""/>
          <p:cNvSpPr/>
          <p:nvPr/>
        </p:nvSpPr>
        <p:spPr>
          <a:xfrm>
            <a:off x="4046400" y="2362320"/>
            <a:ext cx="12124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irémie</a:t>
            </a:r>
            <a:endParaRPr b="0" lang="en-US" sz="2400" spc="-1" strike="noStrike">
              <a:solidFill>
                <a:srgbClr val="ffffff"/>
              </a:solidFill>
              <a:latin typeface="Arial"/>
            </a:endParaRPr>
          </a:p>
        </p:txBody>
      </p:sp>
      <p:sp>
        <p:nvSpPr>
          <p:cNvPr id="58" name=""/>
          <p:cNvSpPr/>
          <p:nvPr/>
        </p:nvSpPr>
        <p:spPr>
          <a:xfrm>
            <a:off x="6741000" y="2349360"/>
            <a:ext cx="221220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u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es cibles</a:t>
            </a:r>
            <a:endParaRPr b="0" lang="en-US" sz="2400" spc="-1" strike="noStrike">
              <a:solidFill>
                <a:srgbClr val="ffffff"/>
              </a:solidFill>
              <a:latin typeface="Arial"/>
            </a:endParaRPr>
          </a:p>
        </p:txBody>
      </p:sp>
      <p:sp>
        <p:nvSpPr>
          <p:cNvPr id="59" name=""/>
          <p:cNvSpPr/>
          <p:nvPr/>
        </p:nvSpPr>
        <p:spPr>
          <a:xfrm>
            <a:off x="6935400" y="3951360"/>
            <a:ext cx="126432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tence</a:t>
            </a:r>
            <a:endParaRPr b="0" lang="en-US" sz="2400" spc="-1" strike="noStrike">
              <a:solidFill>
                <a:srgbClr val="ffffff"/>
              </a:solidFill>
              <a:latin typeface="Arial"/>
            </a:endParaRPr>
          </a:p>
        </p:txBody>
      </p:sp>
      <p:sp>
        <p:nvSpPr>
          <p:cNvPr id="60" name=""/>
          <p:cNvSpPr/>
          <p:nvPr/>
        </p:nvSpPr>
        <p:spPr>
          <a:xfrm>
            <a:off x="3357000" y="5445000"/>
            <a:ext cx="1855440" cy="119124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éinfec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dogène</a:t>
            </a:r>
            <a:r>
              <a:rPr b="0" lang="en-US"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activation</a:t>
            </a:r>
            <a:endParaRPr b="0" lang="en-US" sz="2400" spc="-1" strike="noStrike">
              <a:solidFill>
                <a:srgbClr val="ffffff"/>
              </a:solidFill>
              <a:latin typeface="Arial"/>
            </a:endParaRPr>
          </a:p>
        </p:txBody>
      </p:sp>
      <p:sp>
        <p:nvSpPr>
          <p:cNvPr id="61" name=""/>
          <p:cNvSpPr/>
          <p:nvPr/>
        </p:nvSpPr>
        <p:spPr>
          <a:xfrm>
            <a:off x="3048120" y="259092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257800" y="2590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7667640" y="3141720"/>
            <a:ext cx="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7596360" y="4437000"/>
            <a:ext cx="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H="1">
            <a:off x="529236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4191120" y="2819160"/>
            <a:ext cx="0" cy="2663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655600" y="5877000"/>
            <a:ext cx="3047400" cy="703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mmunodépres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timulation allogénique</a:t>
            </a:r>
            <a:endParaRPr b="0" lang="en-US" sz="2000" spc="-1" strike="noStrike">
              <a:solidFill>
                <a:srgbClr val="ffffff"/>
              </a:solidFill>
              <a:latin typeface="Arial"/>
            </a:endParaRPr>
          </a:p>
        </p:txBody>
      </p:sp>
      <p:sp>
        <p:nvSpPr>
          <p:cNvPr id="68" name=""/>
          <p:cNvSpPr/>
          <p:nvPr/>
        </p:nvSpPr>
        <p:spPr>
          <a:xfrm>
            <a:off x="476640" y="5589720"/>
            <a:ext cx="1788480" cy="825480"/>
          </a:xfrm>
          <a:prstGeom prst="rect">
            <a:avLst/>
          </a:prstGeom>
          <a:noFill/>
          <a:ln w="9360">
            <a:solidFill>
              <a:srgbClr val="cc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infec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ogène</a:t>
            </a:r>
            <a:endParaRPr b="0" lang="en-US" sz="2400" spc="-1" strike="noStrike">
              <a:solidFill>
                <a:srgbClr val="ffffff"/>
              </a:solidFill>
              <a:latin typeface="Arial"/>
            </a:endParaRPr>
          </a:p>
        </p:txBody>
      </p:sp>
      <p:sp>
        <p:nvSpPr>
          <p:cNvPr id="69" name=""/>
          <p:cNvSpPr/>
          <p:nvPr/>
        </p:nvSpPr>
        <p:spPr>
          <a:xfrm flipV="1">
            <a:off x="1066680" y="2819160"/>
            <a:ext cx="2971800" cy="2663640"/>
          </a:xfrm>
          <a:prstGeom prst="line">
            <a:avLst/>
          </a:prstGeom>
          <a:ln w="9360">
            <a:solidFill>
              <a:srgbClr val="cc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651920" y="3886200"/>
            <a:ext cx="1922760" cy="703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rétion vira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mittente</a:t>
            </a:r>
            <a:endParaRPr b="0" lang="en-US" sz="2000" spc="-1" strike="noStrike">
              <a:solidFill>
                <a:srgbClr val="ffffff"/>
              </a:solidFill>
              <a:latin typeface="Arial"/>
            </a:endParaRPr>
          </a:p>
        </p:txBody>
      </p:sp>
      <p:sp>
        <p:nvSpPr>
          <p:cNvPr id="71" name=""/>
          <p:cNvSpPr/>
          <p:nvPr/>
        </p:nvSpPr>
        <p:spPr>
          <a:xfrm flipH="1">
            <a:off x="6552720" y="4191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5029200" y="4572000"/>
            <a:ext cx="0" cy="9144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flipV="1">
            <a:off x="1066680" y="4266720"/>
            <a:ext cx="3581640" cy="1219320"/>
          </a:xfrm>
          <a:prstGeom prst="line">
            <a:avLst/>
          </a:prstGeom>
          <a:ln w="9360">
            <a:solidFill>
              <a:srgbClr val="cc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Limites de la quantification</a:t>
            </a:r>
            <a:endParaRPr b="0" lang="en-US" sz="4400" spc="-1" strike="noStrike">
              <a:solidFill>
                <a:srgbClr val="00ffff"/>
              </a:solidFill>
              <a:latin typeface="Arial"/>
            </a:endParaRPr>
          </a:p>
        </p:txBody>
      </p:sp>
      <p:sp>
        <p:nvSpPr>
          <p:cNvPr id="2319" name="PlaceHolder 2"/>
          <p:cNvSpPr>
            <a:spLocks noGrp="1"/>
          </p:cNvSpPr>
          <p:nvPr>
            <p:ph/>
          </p:nvPr>
        </p:nvSpPr>
        <p:spPr>
          <a:xfrm>
            <a:off x="380880" y="1371240"/>
            <a:ext cx="8229600" cy="5257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Absence de standardisation</a:t>
            </a:r>
            <a:r>
              <a:rPr b="0" lang="fr-FR" sz="2800" spc="-1" strike="noStrike">
                <a:solidFill>
                  <a:srgbClr val="ffffff"/>
                </a:solidFill>
                <a:latin typeface="Arial"/>
              </a:rPr>
              <a:t> des méthodes de quantification du CMV rend difficile l’adoption d’une valeur seuil de l’antigénémie ou de la charge virale</a:t>
            </a:r>
            <a:endParaRPr b="0" lang="en-US" sz="2800" spc="-1" strike="noStrike">
              <a:solidFill>
                <a:srgbClr val="ffffff"/>
              </a:solidFill>
              <a:latin typeface="Arial"/>
            </a:endParaRPr>
          </a:p>
          <a:p>
            <a:pPr lvl="1" marL="713160" indent="-2743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 le diagnostic de la maladie à CMV</a:t>
            </a:r>
            <a:endParaRPr b="0" lang="en-US" sz="2800" spc="-1" strike="noStrike">
              <a:solidFill>
                <a:srgbClr val="ffffff"/>
              </a:solidFill>
              <a:latin typeface="Arial"/>
            </a:endParaRPr>
          </a:p>
          <a:p>
            <a:pPr lvl="1" marL="713160" indent="-2743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 prédire le risque de maladie à CMV</a:t>
            </a:r>
            <a:endParaRPr b="0" lang="en-US" sz="2800" spc="-1" strike="noStrike">
              <a:solidFill>
                <a:srgbClr val="ffffff"/>
              </a:solidFill>
              <a:latin typeface="Arial"/>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Hétérogénéité</a:t>
            </a:r>
            <a:r>
              <a:rPr b="0" lang="fr-FR" sz="2800" spc="-1" strike="noStrike">
                <a:solidFill>
                  <a:srgbClr val="ffffff"/>
                </a:solidFill>
                <a:latin typeface="Arial"/>
              </a:rPr>
              <a:t> des </a:t>
            </a:r>
            <a:r>
              <a:rPr b="0" lang="fr-FR" sz="2800" spc="-1" strike="noStrike">
                <a:solidFill>
                  <a:srgbClr val="ffff00"/>
                </a:solidFill>
                <a:latin typeface="Arial"/>
              </a:rPr>
              <a:t>populations</a:t>
            </a:r>
            <a:r>
              <a:rPr b="0" lang="fr-FR" sz="2800" spc="-1" strike="noStrike">
                <a:solidFill>
                  <a:srgbClr val="ffffff"/>
                </a:solidFill>
                <a:latin typeface="Arial"/>
              </a:rPr>
              <a:t> de patients (type de greffe, statut CMV du couple D/R, effectif variable …)</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rigine du </a:t>
            </a:r>
            <a:r>
              <a:rPr b="0" lang="fr-FR" sz="2800" spc="-1" strike="noStrike">
                <a:solidFill>
                  <a:srgbClr val="ffff00"/>
                </a:solidFill>
                <a:latin typeface="Arial"/>
              </a:rPr>
              <a:t>prélèvement</a:t>
            </a:r>
            <a:r>
              <a:rPr b="0" lang="fr-FR" sz="2800" spc="-1" strike="noStrike">
                <a:solidFill>
                  <a:srgbClr val="ffffff"/>
                </a:solidFill>
                <a:latin typeface="Arial"/>
              </a:rPr>
              <a:t> (sang total, leucocyte, plasma)</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Quel seuil de l’antigénémie pp65 ?</a:t>
            </a:r>
            <a:endParaRPr b="0" lang="en-US" sz="3600" spc="-1" strike="noStrike">
              <a:solidFill>
                <a:srgbClr val="00ffff"/>
              </a:solidFill>
              <a:latin typeface="Arial"/>
            </a:endParaRPr>
          </a:p>
        </p:txBody>
      </p:sp>
      <p:sp>
        <p:nvSpPr>
          <p:cNvPr id="2321" name="PlaceHolder 2"/>
          <p:cNvSpPr>
            <a:spLocks noGrp="1"/>
          </p:cNvSpPr>
          <p:nvPr>
            <p:ph/>
          </p:nvPr>
        </p:nvSpPr>
        <p:spPr>
          <a:xfrm>
            <a:off x="395280" y="1125000"/>
            <a:ext cx="8748720" cy="574920"/>
          </a:xfrm>
          <a:prstGeom prst="rect">
            <a:avLst/>
          </a:prstGeom>
          <a:noFill/>
          <a:ln w="0">
            <a:noFill/>
          </a:ln>
        </p:spPr>
        <p:txBody>
          <a:bodyPr lIns="90000" rIns="90000" tIns="46800" bIns="46800" anchor="t">
            <a:normAutofit fontScale="81000"/>
          </a:bodyPr>
          <a:p>
            <a:pPr marL="277560" indent="-27756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Seuil de l’antigénémie pp65 pour prédire le risque de maladie à CMV</a:t>
            </a:r>
            <a:endParaRPr b="0" lang="en-US" sz="2400" spc="-1" strike="noStrike">
              <a:solidFill>
                <a:srgbClr val="ffffff"/>
              </a:solidFill>
              <a:latin typeface="Arial"/>
            </a:endParaRPr>
          </a:p>
        </p:txBody>
      </p:sp>
      <p:graphicFrame>
        <p:nvGraphicFramePr>
          <p:cNvPr id="2322" name=""/>
          <p:cNvGraphicFramePr/>
          <p:nvPr/>
        </p:nvGraphicFramePr>
        <p:xfrm>
          <a:off x="324000" y="1916280"/>
          <a:ext cx="8537400" cy="4883040"/>
        </p:xfrm>
        <a:graphic>
          <a:graphicData uri="http://schemas.openxmlformats.org/drawingml/2006/table">
            <a:tbl>
              <a:tblPr/>
              <a:tblGrid>
                <a:gridCol w="1679400"/>
                <a:gridCol w="1905120"/>
                <a:gridCol w="990360"/>
                <a:gridCol w="1295640"/>
                <a:gridCol w="761760"/>
                <a:gridCol w="685800"/>
                <a:gridCol w="1219320"/>
              </a:tblGrid>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de greff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uil Agpp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mbr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évalence maladie à CMV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VPP</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VPN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in, coeur, foi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ymbol"/>
                          <a:ea typeface="Symbol"/>
                        </a:rPr>
                        <a:t></a:t>
                      </a:r>
                      <a:r>
                        <a:rPr b="1" lang="en-US" sz="1600" spc="-1" strike="noStrike">
                          <a:solidFill>
                            <a:srgbClr val="ffff00"/>
                          </a:solidFill>
                          <a:latin typeface="Arial"/>
                        </a:rPr>
                        <a:t> </a:t>
                      </a:r>
                      <a:r>
                        <a:rPr b="1" lang="en-US" sz="1600" spc="-1" strike="noStrike">
                          <a:solidFill>
                            <a:srgbClr val="ffff00"/>
                          </a:solidFill>
                          <a:latin typeface="Arial"/>
                        </a:rPr>
                        <a:t>10 positive /10</a:t>
                      </a:r>
                      <a:r>
                        <a:rPr b="1" lang="en-US" sz="1600" spc="-1" strike="noStrike" baseline="30000">
                          <a:solidFill>
                            <a:srgbClr val="ffff00"/>
                          </a:solidFill>
                          <a:latin typeface="Arial"/>
                        </a:rPr>
                        <a:t>5</a:t>
                      </a:r>
                      <a:r>
                        <a:rPr b="1" lang="en-US" sz="1600" spc="-1" strike="noStrike">
                          <a:solidFill>
                            <a:srgbClr val="ffff00"/>
                          </a:solidFill>
                          <a:latin typeface="Arial"/>
                        </a:rPr>
                        <a:t>leucocyt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4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Bernabeu-Wittel et al, JID 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elle osseus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ès la positivit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5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Boeckh et al, Blood, 199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 cellule + par lam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i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ès la positivit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4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n der Berg et al, Transplantation,198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t;1 cellule + pour 50000 leuc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5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t; 10 cellules + pour 50000 leuc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t;100 cellules + pour 50000 leuc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23" name=""/>
          <p:cNvSpPr/>
          <p:nvPr/>
        </p:nvSpPr>
        <p:spPr>
          <a:xfrm>
            <a:off x="2997360" y="1484280"/>
            <a:ext cx="467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Boeckh et al, Clin Microbiol Rev, 533-534, 199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Quel seuil de l’antigénémie pp65 ?</a:t>
            </a:r>
            <a:endParaRPr b="0" lang="en-US" sz="3600" spc="-1" strike="noStrike">
              <a:solidFill>
                <a:srgbClr val="00ffff"/>
              </a:solidFill>
              <a:latin typeface="Arial"/>
            </a:endParaRPr>
          </a:p>
        </p:txBody>
      </p:sp>
      <p:sp>
        <p:nvSpPr>
          <p:cNvPr id="2325" name="PlaceHolder 2"/>
          <p:cNvSpPr>
            <a:spLocks noGrp="1"/>
          </p:cNvSpPr>
          <p:nvPr>
            <p:ph/>
          </p:nvPr>
        </p:nvSpPr>
        <p:spPr>
          <a:xfrm>
            <a:off x="380880" y="1828440"/>
            <a:ext cx="8229600" cy="39625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Seuil de l’antigénémie pp65 pour initier un traitement anticipé</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z les transplantés d’organe solide : </a:t>
            </a:r>
            <a:endParaRPr b="0" lang="en-US" sz="2800" spc="-1" strike="noStrike">
              <a:solidFill>
                <a:srgbClr val="ffffff"/>
              </a:solidFill>
              <a:latin typeface="Arial"/>
            </a:endParaRPr>
          </a:p>
          <a:p>
            <a:pPr lvl="2" marL="1143000" indent="-228600">
              <a:lnSpc>
                <a:spcPct val="80000"/>
              </a:lnSpc>
              <a:spcBef>
                <a:spcPts val="700"/>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Symbol"/>
                <a:ea typeface="Symbol"/>
              </a:rPr>
              <a:t></a:t>
            </a:r>
            <a:r>
              <a:rPr b="0" lang="en-US" sz="2800" spc="-1" strike="noStrike">
                <a:solidFill>
                  <a:srgbClr val="ffff00"/>
                </a:solidFill>
                <a:latin typeface="Arial"/>
              </a:rPr>
              <a:t> </a:t>
            </a:r>
            <a:r>
              <a:rPr b="0" lang="en-US" sz="2800" spc="-1" strike="noStrike">
                <a:solidFill>
                  <a:srgbClr val="ffff00"/>
                </a:solidFill>
                <a:latin typeface="Arial"/>
              </a:rPr>
              <a:t>10 cellules positives / 2 x 10</a:t>
            </a:r>
            <a:r>
              <a:rPr b="0" lang="en-US" sz="2800" spc="-1" strike="noStrike" baseline="30000">
                <a:solidFill>
                  <a:srgbClr val="ffff00"/>
                </a:solidFill>
                <a:latin typeface="Arial"/>
              </a:rPr>
              <a:t>5</a:t>
            </a:r>
            <a:r>
              <a:rPr b="0" lang="en-US" sz="2800" spc="-1" strike="noStrike">
                <a:solidFill>
                  <a:srgbClr val="ffff00"/>
                </a:solidFill>
                <a:latin typeface="Arial"/>
              </a:rPr>
              <a:t> leucocyte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80000"/>
              </a:lnSpc>
              <a:spcBef>
                <a:spcPts val="15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z les transplantés de moelle osseuse</a:t>
            </a:r>
            <a:endParaRPr b="0" lang="en-US" sz="2800" spc="-1" strike="noStrike">
              <a:solidFill>
                <a:srgbClr val="ffffff"/>
              </a:solidFill>
              <a:latin typeface="Arial"/>
            </a:endParaRPr>
          </a:p>
          <a:p>
            <a:pPr lvl="2" marL="1143000" indent="-228600">
              <a:lnSpc>
                <a:spcPct val="80000"/>
              </a:lnSpc>
              <a:spcBef>
                <a:spcPts val="700"/>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Symbol"/>
                <a:ea typeface="Symbol"/>
              </a:rPr>
              <a:t></a:t>
            </a:r>
            <a:r>
              <a:rPr b="0" lang="en-US" sz="2800" spc="-1" strike="noStrike">
                <a:solidFill>
                  <a:srgbClr val="ffff00"/>
                </a:solidFill>
                <a:latin typeface="Arial"/>
              </a:rPr>
              <a:t> </a:t>
            </a:r>
            <a:r>
              <a:rPr b="0" lang="en-US" sz="2800" spc="-1" strike="noStrike">
                <a:solidFill>
                  <a:srgbClr val="ffff00"/>
                </a:solidFill>
                <a:latin typeface="Arial"/>
              </a:rPr>
              <a:t>1 - 2 cellules positives / 2 x 10</a:t>
            </a:r>
            <a:r>
              <a:rPr b="0" lang="en-US" sz="2800" spc="-1" strike="noStrike" baseline="30000">
                <a:solidFill>
                  <a:srgbClr val="ffff00"/>
                </a:solidFill>
                <a:latin typeface="Arial"/>
              </a:rPr>
              <a:t>5</a:t>
            </a:r>
            <a:r>
              <a:rPr b="0" lang="en-US" sz="2800" spc="-1" strike="noStrike">
                <a:solidFill>
                  <a:srgbClr val="ffff00"/>
                </a:solidFill>
                <a:latin typeface="Arial"/>
              </a:rPr>
              <a:t> leucocyte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6" name=""/>
          <p:cNvSpPr/>
          <p:nvPr/>
        </p:nvSpPr>
        <p:spPr>
          <a:xfrm>
            <a:off x="4268880" y="5943600"/>
            <a:ext cx="4676400" cy="587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PMingLiU"/>
              </a:rPr>
              <a:t>Hallwachs et al. 1993; Locatelli et al. 1994</a:t>
            </a:r>
            <a:br>
              <a:rPr sz="1800"/>
            </a:br>
            <a:endParaRPr b="0" lang="en-US" sz="1800" spc="-1" strike="noStrike">
              <a:solidFill>
                <a:srgbClr val="ffffff"/>
              </a:solidFill>
              <a:latin typeface="Arial"/>
            </a:endParaRPr>
          </a:p>
        </p:txBody>
      </p:sp>
      <p:sp>
        <p:nvSpPr>
          <p:cNvPr id="2327" name=""/>
          <p:cNvSpPr/>
          <p:nvPr/>
        </p:nvSpPr>
        <p:spPr>
          <a:xfrm>
            <a:off x="1203480" y="6516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Quel seuil de l’antigénémie pp65 ?</a:t>
            </a:r>
            <a:r>
              <a:rPr b="0" lang="en-US" sz="4400" spc="-1" strike="noStrike">
                <a:solidFill>
                  <a:srgbClr val="00ffff"/>
                </a:solidFill>
                <a:latin typeface="Arial"/>
              </a:rPr>
              <a:t> </a:t>
            </a:r>
            <a:endParaRPr b="0" lang="en-US" sz="4400" spc="-1" strike="noStrike">
              <a:solidFill>
                <a:srgbClr val="00ffff"/>
              </a:solidFill>
              <a:latin typeface="Arial"/>
            </a:endParaRPr>
          </a:p>
        </p:txBody>
      </p:sp>
      <p:sp>
        <p:nvSpPr>
          <p:cNvPr id="2329" name="PlaceHolder 2"/>
          <p:cNvSpPr>
            <a:spLocks noGrp="1"/>
          </p:cNvSpPr>
          <p:nvPr>
            <p:ph/>
          </p:nvPr>
        </p:nvSpPr>
        <p:spPr>
          <a:xfrm>
            <a:off x="395280" y="1413000"/>
            <a:ext cx="8229600" cy="44193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Seuil de l’antigénémie pp65 pour initier un traitement anticipé</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z les transplantés d’organe solide</a:t>
            </a:r>
            <a:endParaRPr b="0" lang="en-US" sz="2400" spc="-1" strike="noStrike">
              <a:solidFill>
                <a:srgbClr val="ffffff"/>
              </a:solidFill>
              <a:latin typeface="Arial"/>
            </a:endParaRPr>
          </a:p>
          <a:p>
            <a:pPr lvl="2" marL="1051560" indent="-210240">
              <a:lnSpc>
                <a:spcPct val="90000"/>
              </a:lnSpc>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10 cellules positives / 2 x 10</a:t>
            </a:r>
            <a:r>
              <a:rPr b="0" lang="en-US" sz="2400" spc="-1" strike="noStrike" baseline="30000">
                <a:solidFill>
                  <a:srgbClr val="ffff00"/>
                </a:solidFill>
                <a:latin typeface="Arial"/>
              </a:rPr>
              <a:t>5</a:t>
            </a:r>
            <a:r>
              <a:rPr b="0" lang="en-US" sz="2400" spc="-1" strike="noStrike">
                <a:solidFill>
                  <a:srgbClr val="ffff00"/>
                </a:solidFill>
                <a:latin typeface="Arial"/>
              </a:rPr>
              <a:t> leucocytes </a:t>
            </a:r>
            <a:r>
              <a:rPr b="0" lang="en-US" sz="2400" spc="-1" strike="noStrike">
                <a:solidFill>
                  <a:srgbClr val="ffffff"/>
                </a:solidFill>
                <a:latin typeface="Arial"/>
              </a:rPr>
              <a:t>(rein)</a:t>
            </a:r>
            <a:endParaRPr b="0" lang="en-US" sz="2400" spc="-1" strike="noStrike">
              <a:solidFill>
                <a:srgbClr val="ffffff"/>
              </a:solidFill>
              <a:latin typeface="Arial"/>
            </a:endParaRPr>
          </a:p>
          <a:p>
            <a:pPr lvl="2" marL="1051560" indent="-210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00 cellules positives / 2 x 10</a:t>
            </a:r>
            <a:r>
              <a:rPr b="0" lang="en-US" sz="2400" spc="-1" strike="noStrike" baseline="30000">
                <a:solidFill>
                  <a:srgbClr val="ffff00"/>
                </a:solidFill>
                <a:latin typeface="Arial"/>
              </a:rPr>
              <a:t>5</a:t>
            </a:r>
            <a:r>
              <a:rPr b="0" lang="en-US" sz="2400" spc="-1" strike="noStrike">
                <a:solidFill>
                  <a:srgbClr val="ffff00"/>
                </a:solidFill>
                <a:latin typeface="Arial"/>
              </a:rPr>
              <a:t> leucocytes</a:t>
            </a:r>
            <a:r>
              <a:rPr b="0" lang="en-US" sz="2400" spc="-1" strike="noStrike">
                <a:solidFill>
                  <a:srgbClr val="ffffff"/>
                </a:solidFill>
                <a:latin typeface="Arial"/>
              </a:rPr>
              <a:t> (foie et coeur) </a:t>
            </a:r>
            <a:endParaRPr b="0" lang="en-US" sz="2400" spc="-1" strike="noStrike">
              <a:solidFill>
                <a:srgbClr val="ffffff"/>
              </a:solidFill>
              <a:latin typeface="Arial"/>
            </a:endParaRPr>
          </a:p>
          <a:p>
            <a:pPr lvl="2" marL="10515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z les transplantés d’organe solide séronégatifs pour le CMV et de moelle osseuse</a:t>
            </a:r>
            <a:endParaRPr b="0" lang="en-US" sz="2400" spc="-1" strike="noStrike">
              <a:solidFill>
                <a:srgbClr val="ffffff"/>
              </a:solidFill>
              <a:latin typeface="Arial"/>
            </a:endParaRPr>
          </a:p>
          <a:p>
            <a:pPr lvl="2" marL="1051560" indent="-210240">
              <a:lnSpc>
                <a:spcPct val="90000"/>
              </a:lnSpc>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1 - 2 cellules positives / 2 x 10</a:t>
            </a:r>
            <a:r>
              <a:rPr b="0" lang="en-US" sz="2400" spc="-1" strike="noStrike" baseline="30000">
                <a:solidFill>
                  <a:srgbClr val="ffff00"/>
                </a:solidFill>
                <a:latin typeface="Arial"/>
              </a:rPr>
              <a:t>5</a:t>
            </a:r>
            <a:r>
              <a:rPr b="0" lang="en-US" sz="2400" spc="-1" strike="noStrike">
                <a:solidFill>
                  <a:srgbClr val="ffff00"/>
                </a:solidFill>
                <a:latin typeface="Arial"/>
              </a:rPr>
              <a:t> leucocytes</a:t>
            </a:r>
            <a:br>
              <a:rPr sz="2400"/>
            </a:br>
            <a:r>
              <a:rPr b="0" lang="en-US" sz="2400" spc="-1" strike="noStrike">
                <a:solidFill>
                  <a:srgbClr val="ffff00"/>
                </a:solidFill>
                <a:latin typeface="Arial"/>
              </a:rPr>
              <a:t> </a:t>
            </a:r>
            <a:endParaRPr b="0" lang="en-US" sz="2400" spc="-1" strike="noStrike">
              <a:solidFill>
                <a:srgbClr val="ffffff"/>
              </a:solidFill>
              <a:latin typeface="Arial"/>
            </a:endParaRPr>
          </a:p>
        </p:txBody>
      </p:sp>
      <p:sp>
        <p:nvSpPr>
          <p:cNvPr id="2330" name=""/>
          <p:cNvSpPr/>
          <p:nvPr/>
        </p:nvSpPr>
        <p:spPr>
          <a:xfrm>
            <a:off x="4998240" y="6019920"/>
            <a:ext cx="4144680" cy="589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oeckh et al., Blood 1996, </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oeckh et al, ClinMicrobiol rev, 1998</a:t>
            </a:r>
            <a:endParaRPr b="0" lang="en-US" sz="1800" spc="-1" strike="noStrike">
              <a:solidFill>
                <a:srgbClr val="ffffff"/>
              </a:solidFill>
              <a:latin typeface="Arial"/>
            </a:endParaRPr>
          </a:p>
        </p:txBody>
      </p:sp>
      <p:sp>
        <p:nvSpPr>
          <p:cNvPr id="2331" name=""/>
          <p:cNvSpPr/>
          <p:nvPr/>
        </p:nvSpPr>
        <p:spPr>
          <a:xfrm>
            <a:off x="1203480" y="6516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Quel seuil de virémie ?</a:t>
            </a:r>
            <a:endParaRPr b="0" lang="en-US" sz="3600" spc="-1" strike="noStrike">
              <a:solidFill>
                <a:srgbClr val="00ffff"/>
              </a:solidFill>
              <a:latin typeface="Arial"/>
            </a:endParaRPr>
          </a:p>
        </p:txBody>
      </p:sp>
      <p:sp>
        <p:nvSpPr>
          <p:cNvPr id="2333" name="PlaceHolder 2"/>
          <p:cNvSpPr>
            <a:spLocks noGrp="1"/>
          </p:cNvSpPr>
          <p:nvPr>
            <p:ph/>
          </p:nvPr>
        </p:nvSpPr>
        <p:spPr>
          <a:xfrm>
            <a:off x="380880" y="1143000"/>
            <a:ext cx="8229600" cy="838080"/>
          </a:xfrm>
          <a:prstGeom prst="rect">
            <a:avLst/>
          </a:prstGeom>
          <a:noFill/>
          <a:ln w="0">
            <a:noFill/>
          </a:ln>
        </p:spPr>
        <p:txBody>
          <a:bodyPr lIns="90000" rIns="90000" tIns="46800" bIns="46800" anchor="t">
            <a:normAutofit fontScale="14000"/>
          </a:bodyPr>
          <a:p>
            <a:pPr marL="47880" indent="-478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Seuil de virémie pour prédire le risque de  maladie à CMV</a:t>
            </a:r>
            <a:endParaRPr b="0" lang="en-US" sz="2400" spc="-1" strike="noStrike">
              <a:solidFill>
                <a:srgbClr val="ffffff"/>
              </a:solidFill>
              <a:latin typeface="Arial"/>
            </a:endParaRPr>
          </a:p>
          <a:p>
            <a:pPr marL="47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880" indent="-478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Arial"/>
              </a:rPr>
              <a:t>Seuil de virémie pour initier un traitement anticipé</a:t>
            </a:r>
            <a:endParaRPr b="0" lang="en-US" sz="2400" spc="-1" strike="noStrike">
              <a:solidFill>
                <a:srgbClr val="ffffff"/>
              </a:solidFill>
              <a:latin typeface="Arial"/>
            </a:endParaRPr>
          </a:p>
          <a:p>
            <a:pPr marL="47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Arial"/>
              </a:rPr>
              <a:t>	</a:t>
            </a:r>
            <a:r>
              <a:rPr b="0" lang="fr-FR" sz="2400" spc="-1" strike="noStrike">
                <a:solidFill>
                  <a:srgbClr val="ffffff"/>
                </a:solidFill>
                <a:latin typeface="Wingdings"/>
                <a:ea typeface="Wingdings"/>
              </a:rPr>
              <a:t></a:t>
            </a:r>
            <a:r>
              <a:rPr b="0" lang="fr-FR" sz="2400" spc="-1" strike="noStrike">
                <a:solidFill>
                  <a:srgbClr val="ffffff"/>
                </a:solidFill>
                <a:latin typeface="Arial"/>
              </a:rPr>
              <a:t> </a:t>
            </a:r>
            <a:r>
              <a:rPr b="0" lang="fr-FR" sz="2400" spc="-1" strike="noStrike">
                <a:solidFill>
                  <a:srgbClr val="ffffff"/>
                </a:solidFill>
                <a:latin typeface="Arial"/>
              </a:rPr>
              <a:t>Pas de consensus</a:t>
            </a:r>
            <a:endParaRPr b="0" lang="en-US" sz="2400" spc="-1" strike="noStrike">
              <a:solidFill>
                <a:srgbClr val="ffffff"/>
              </a:solidFill>
              <a:latin typeface="Arial"/>
            </a:endParaRPr>
          </a:p>
          <a:p>
            <a:pPr marL="47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334" name=""/>
          <p:cNvGraphicFramePr/>
          <p:nvPr/>
        </p:nvGraphicFramePr>
        <p:xfrm>
          <a:off x="304920" y="1981080"/>
          <a:ext cx="8610480" cy="3435120"/>
        </p:xfrm>
        <a:graphic>
          <a:graphicData uri="http://schemas.openxmlformats.org/drawingml/2006/table">
            <a:tbl>
              <a:tblPr/>
              <a:tblGrid>
                <a:gridCol w="1752480"/>
                <a:gridCol w="1905120"/>
                <a:gridCol w="990360"/>
                <a:gridCol w="2438640"/>
                <a:gridCol w="152388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de greff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uil virémi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mbr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i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0</a:t>
                      </a:r>
                      <a:r>
                        <a:rPr b="1" lang="en-US" sz="1600" spc="-1" strike="noStrike" baseline="30000">
                          <a:solidFill>
                            <a:srgbClr val="ffff00"/>
                          </a:solidFill>
                          <a:latin typeface="Arial"/>
                        </a:rPr>
                        <a:t>5</a:t>
                      </a:r>
                      <a:r>
                        <a:rPr b="1" lang="en-US" sz="1600" spc="-1" strike="noStrike">
                          <a:solidFill>
                            <a:srgbClr val="ffff00"/>
                          </a:solidFill>
                          <a:latin typeface="Arial"/>
                        </a:rPr>
                        <a:t> copies ADN /ml de sang tot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Symbol"/>
                          <a:ea typeface="Symbol"/>
                        </a:rPr>
                        <a:t></a:t>
                      </a:r>
                      <a:r>
                        <a:rPr b="1" lang="en-US" sz="1600" spc="-1" strike="noStrike">
                          <a:solidFill>
                            <a:srgbClr val="ff6600"/>
                          </a:solidFill>
                          <a:latin typeface="Arial"/>
                        </a:rPr>
                        <a:t> </a:t>
                      </a:r>
                      <a:r>
                        <a:rPr b="1" lang="en-US" sz="1600" spc="-1" strike="noStrike">
                          <a:solidFill>
                            <a:srgbClr val="ff6600"/>
                          </a:solidFill>
                          <a:latin typeface="Arial"/>
                        </a:rPr>
                        <a:t>Risque de maladie à CMV</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162 Cope et al, JID 199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œur</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i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 log </a:t>
                      </a:r>
                      <a:r>
                        <a:rPr b="1" lang="en-US" sz="1600" spc="-1" strike="noStrike" baseline="-25000">
                          <a:solidFill>
                            <a:srgbClr val="ffff00"/>
                          </a:solidFill>
                          <a:latin typeface="Arial"/>
                        </a:rPr>
                        <a:t>10</a:t>
                      </a:r>
                      <a:r>
                        <a:rPr b="1" lang="en-US" sz="1600" spc="-1" strike="noStrike">
                          <a:solidFill>
                            <a:srgbClr val="ffff00"/>
                          </a:solidFill>
                          <a:latin typeface="Arial"/>
                        </a:rPr>
                        <a:t> copies/ 10</a:t>
                      </a:r>
                      <a:r>
                        <a:rPr b="1" lang="en-US" sz="1600" spc="-1" strike="noStrike" baseline="30000">
                          <a:solidFill>
                            <a:srgbClr val="ffff00"/>
                          </a:solidFill>
                          <a:latin typeface="Arial"/>
                        </a:rPr>
                        <a:t>6</a:t>
                      </a:r>
                      <a:r>
                        <a:rPr b="1" lang="en-US" sz="1600" spc="-1" strike="noStrike">
                          <a:solidFill>
                            <a:srgbClr val="ffff00"/>
                          </a:solidFill>
                          <a:latin typeface="Arial"/>
                        </a:rPr>
                        <a:t> leucocyt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Symbol"/>
                          <a:ea typeface="Symbol"/>
                        </a:rPr>
                        <a:t></a:t>
                      </a:r>
                      <a:r>
                        <a:rPr b="1" lang="en-US" sz="1600" spc="-1" strike="noStrike">
                          <a:solidFill>
                            <a:srgbClr val="ff6600"/>
                          </a:solidFill>
                          <a:latin typeface="Arial"/>
                        </a:rPr>
                        <a:t> </a:t>
                      </a:r>
                      <a:r>
                        <a:rPr b="1" lang="en-US" sz="1600" spc="-1" strike="noStrike">
                          <a:solidFill>
                            <a:srgbClr val="ff6600"/>
                          </a:solidFill>
                          <a:latin typeface="Arial"/>
                        </a:rPr>
                        <a:t>Risque de maladie à CMV</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73 V. Ghisetti et al. JMV  (200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elle osseus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t;10</a:t>
                      </a:r>
                      <a:r>
                        <a:rPr b="1" lang="en-US" sz="1600" spc="-1" strike="noStrike" baseline="30000">
                          <a:solidFill>
                            <a:srgbClr val="ffff00"/>
                          </a:solidFill>
                          <a:latin typeface="Arial"/>
                        </a:rPr>
                        <a:t>4</a:t>
                      </a:r>
                      <a:r>
                        <a:rPr b="1" lang="en-US" sz="1600" spc="-1" strike="noStrike">
                          <a:solidFill>
                            <a:srgbClr val="ffff00"/>
                          </a:solidFill>
                          <a:latin typeface="Arial"/>
                        </a:rPr>
                        <a:t> copies ADN/ml plasm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Symbol"/>
                          <a:ea typeface="Symbol"/>
                        </a:rPr>
                        <a:t></a:t>
                      </a:r>
                      <a:r>
                        <a:rPr b="1" lang="en-US" sz="1600" spc="-1" strike="noStrike">
                          <a:solidFill>
                            <a:srgbClr val="ff6600"/>
                          </a:solidFill>
                          <a:latin typeface="Arial"/>
                        </a:rPr>
                        <a:t> </a:t>
                      </a:r>
                      <a:r>
                        <a:rPr b="1" lang="en-US" sz="1600" spc="-1" strike="noStrike">
                          <a:solidFill>
                            <a:srgbClr val="ff6600"/>
                          </a:solidFill>
                          <a:latin typeface="Arial"/>
                        </a:rPr>
                        <a:t>Risque de maladie à CMV</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Zaia et al, JID, 199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elle osseus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t;10</a:t>
                      </a:r>
                      <a:r>
                        <a:rPr b="1" lang="en-US" sz="1600" spc="-1" strike="noStrike" baseline="30000">
                          <a:solidFill>
                            <a:srgbClr val="ffff00"/>
                          </a:solidFill>
                          <a:latin typeface="Arial"/>
                        </a:rPr>
                        <a:t>4</a:t>
                      </a:r>
                      <a:r>
                        <a:rPr b="1" lang="en-US" sz="1600" spc="-1" strike="noStrike">
                          <a:solidFill>
                            <a:srgbClr val="ffff00"/>
                          </a:solidFill>
                          <a:latin typeface="Arial"/>
                        </a:rPr>
                        <a:t> copies ADN/ml sang tot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RR = 6,46 (95% IC1,5-27,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Gor et al, BMT 199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35" name=""/>
          <p:cNvSpPr/>
          <p:nvPr/>
        </p:nvSpPr>
        <p:spPr>
          <a:xfrm>
            <a:off x="4505400" y="6521400"/>
            <a:ext cx="467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Boeckh et al, Clin Microbiol Rev, 533-534, 199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Quel compartiment du sang ?</a:t>
            </a:r>
            <a:endParaRPr b="0" lang="en-US" sz="3600" spc="-1" strike="noStrike">
              <a:solidFill>
                <a:srgbClr val="00ffff"/>
              </a:solidFill>
              <a:latin typeface="Arial"/>
            </a:endParaRPr>
          </a:p>
        </p:txBody>
      </p:sp>
      <p:sp>
        <p:nvSpPr>
          <p:cNvPr id="2337"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étection du CMV plus précoce dans les PBL par rapport au plasma</a:t>
            </a:r>
            <a:endParaRPr b="0" lang="en-US" sz="2400" spc="-1" strike="noStrike">
              <a:solidFill>
                <a:srgbClr val="ffffff"/>
              </a:solidFill>
              <a:latin typeface="Arial"/>
            </a:endParaRPr>
          </a:p>
        </p:txBody>
      </p:sp>
      <p:graphicFrame>
        <p:nvGraphicFramePr>
          <p:cNvPr id="2338" name=""/>
          <p:cNvGraphicFramePr/>
          <p:nvPr/>
        </p:nvGraphicFramePr>
        <p:xfrm>
          <a:off x="1295280" y="2590920"/>
          <a:ext cx="6934320" cy="3257280"/>
        </p:xfrm>
        <a:graphic>
          <a:graphicData uri="http://schemas.openxmlformats.org/presentationml/2006/ole">
            <p:oleObj r:id="rId1" spid="">
              <p:embed/>
              <p:pic>
                <p:nvPicPr>
                  <p:cNvPr id="2339" name="" descr=""/>
                  <p:cNvPicPr/>
                  <p:nvPr/>
                </p:nvPicPr>
                <p:blipFill>
                  <a:blip r:embed="rId2"/>
                  <a:stretch/>
                </p:blipFill>
                <p:spPr>
                  <a:xfrm>
                    <a:off x="1295280" y="2590920"/>
                    <a:ext cx="6934320" cy="3257280"/>
                  </a:xfrm>
                  <a:prstGeom prst="rect">
                    <a:avLst/>
                  </a:prstGeom>
                  <a:ln w="0">
                    <a:noFill/>
                  </a:ln>
                </p:spPr>
              </p:pic>
            </p:oleObj>
          </a:graphicData>
        </a:graphic>
      </p:graphicFrame>
      <p:sp>
        <p:nvSpPr>
          <p:cNvPr id="2340" name=""/>
          <p:cNvSpPr/>
          <p:nvPr/>
        </p:nvSpPr>
        <p:spPr>
          <a:xfrm>
            <a:off x="4798440" y="6324480"/>
            <a:ext cx="3827520" cy="352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ellegrin et al., J Infect Dis 20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41" name=""/>
          <p:cNvSpPr/>
          <p:nvPr/>
        </p:nvSpPr>
        <p:spPr>
          <a:xfrm>
            <a:off x="324000" y="333360"/>
            <a:ext cx="8427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ffff"/>
                </a:solidFill>
                <a:latin typeface="Arial"/>
              </a:rPr>
              <a:t>Quel compartiment du sang ?</a:t>
            </a:r>
            <a:endParaRPr b="0" lang="en-US" sz="3600" spc="-1" strike="noStrike">
              <a:solidFill>
                <a:srgbClr val="ffffff"/>
              </a:solidFill>
              <a:latin typeface="Arial"/>
            </a:endParaRPr>
          </a:p>
        </p:txBody>
      </p:sp>
      <p:sp>
        <p:nvSpPr>
          <p:cNvPr id="2342" name=""/>
          <p:cNvSpPr/>
          <p:nvPr/>
        </p:nvSpPr>
        <p:spPr>
          <a:xfrm>
            <a:off x="304920" y="1752480"/>
            <a:ext cx="8839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arge virale CMV sur </a:t>
            </a:r>
            <a:r>
              <a:rPr b="0" lang="en-GB" sz="2800" spc="-1" strike="noStrike">
                <a:solidFill>
                  <a:srgbClr val="ffff00"/>
                </a:solidFill>
                <a:latin typeface="Arial"/>
              </a:rPr>
              <a:t>sang total plus élevée</a:t>
            </a:r>
            <a:r>
              <a:rPr b="0" lang="en-GB" sz="2800" spc="-1" strike="noStrike">
                <a:solidFill>
                  <a:srgbClr val="ffffff"/>
                </a:solidFill>
                <a:latin typeface="Arial"/>
              </a:rPr>
              <a:t> (0,67 log) que </a:t>
            </a:r>
            <a:r>
              <a:rPr b="0" lang="en-GB" sz="2800" spc="-1" strike="noStrike">
                <a:solidFill>
                  <a:srgbClr val="ffff00"/>
                </a:solidFill>
                <a:latin typeface="Arial"/>
              </a:rPr>
              <a:t>sur plasma</a:t>
            </a:r>
            <a:r>
              <a:rPr b="0" lang="en-GB" sz="2800" spc="-1" strike="noStrike">
                <a:solidFill>
                  <a:srgbClr val="ffffff"/>
                </a:solidFill>
                <a:latin typeface="Arial"/>
              </a:rPr>
              <a:t> (p=0.0009)</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arge virale CMV </a:t>
            </a:r>
            <a:r>
              <a:rPr b="0" lang="en-GB" sz="2800" spc="-1" strike="noStrike">
                <a:solidFill>
                  <a:srgbClr val="ffff00"/>
                </a:solidFill>
                <a:latin typeface="Arial"/>
              </a:rPr>
              <a:t>comparable dans les PBL et les PBM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s de différence significative de la baisse de la CV après traitement par du GCV parentéral entre SangTotal/plasma ou PBL/PBM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ang total = compartiment de choix</a:t>
            </a:r>
            <a:endParaRPr b="0" lang="en-US" sz="2800" spc="-1" strike="noStrike">
              <a:solidFill>
                <a:srgbClr val="ffffff"/>
              </a:solidFill>
              <a:latin typeface="Arial"/>
            </a:endParaRPr>
          </a:p>
        </p:txBody>
      </p:sp>
      <p:sp>
        <p:nvSpPr>
          <p:cNvPr id="2343" name=""/>
          <p:cNvSpPr/>
          <p:nvPr/>
        </p:nvSpPr>
        <p:spPr>
          <a:xfrm>
            <a:off x="4495680" y="5715000"/>
            <a:ext cx="4496040" cy="968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Razonable et al, Transplant (2002) 73:968-73</a:t>
            </a:r>
            <a:endParaRPr b="0" lang="en-US" sz="1600" spc="-1" strike="noStrike">
              <a:solidFill>
                <a:srgbClr val="ffffff"/>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Gerna et al, Herpes (2006)13:1 </a:t>
            </a:r>
            <a:endParaRPr b="0" lang="en-US" sz="1600" spc="-1" strike="noStrike">
              <a:solidFill>
                <a:srgbClr val="ffffff"/>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Guarrigue et al, JCM (2006) 36: 72-7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Conclusion</a:t>
            </a:r>
            <a:endParaRPr b="0" lang="en-US" sz="4400" spc="-1" strike="noStrike">
              <a:solidFill>
                <a:srgbClr val="00ffff"/>
              </a:solidFill>
              <a:latin typeface="Arial"/>
            </a:endParaRPr>
          </a:p>
        </p:txBody>
      </p:sp>
      <p:sp>
        <p:nvSpPr>
          <p:cNvPr id="2345" name="PlaceHolder 2"/>
          <p:cNvSpPr>
            <a:spLocks noGrp="1"/>
          </p:cNvSpPr>
          <p:nvPr>
            <p:ph/>
          </p:nvPr>
        </p:nvSpPr>
        <p:spPr>
          <a:xfrm>
            <a:off x="457200" y="1599840"/>
            <a:ext cx="8229600" cy="3505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éthodes de quantification du CMV : outils diagnostiques multiple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choix de la méthode dépend de la question posée</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z le </a:t>
            </a:r>
            <a:r>
              <a:rPr b="0" lang="en-US" sz="2800" spc="-1" strike="noStrike">
                <a:solidFill>
                  <a:srgbClr val="ffff00"/>
                </a:solidFill>
                <a:latin typeface="Arial"/>
              </a:rPr>
              <a:t>patient immunodéprimé</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épister une </a:t>
            </a:r>
            <a:r>
              <a:rPr b="0" lang="en-US" sz="2800" spc="-1" strike="noStrike">
                <a:solidFill>
                  <a:srgbClr val="ffff00"/>
                </a:solidFill>
                <a:latin typeface="Arial"/>
              </a:rPr>
              <a:t>infection active avant l’apparition de tout signe clinique</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orter la </a:t>
            </a:r>
            <a:r>
              <a:rPr b="0" lang="en-US" sz="2800" spc="-1" strike="noStrike">
                <a:solidFill>
                  <a:srgbClr val="ffff00"/>
                </a:solidFill>
                <a:latin typeface="Arial"/>
              </a:rPr>
              <a:t>preuve d’une maladie à CMV</a:t>
            </a:r>
            <a:endParaRPr b="0" lang="en-US" sz="28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46" name=""/>
          <p:cNvSpPr/>
          <p:nvPr/>
        </p:nvSpPr>
        <p:spPr>
          <a:xfrm>
            <a:off x="395280" y="189000"/>
            <a:ext cx="8427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7" name=""/>
          <p:cNvSpPr/>
          <p:nvPr/>
        </p:nvSpPr>
        <p:spPr>
          <a:xfrm>
            <a:off x="358920" y="1981080"/>
            <a:ext cx="8427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8"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Conclusions</a:t>
            </a:r>
            <a:endParaRPr b="0" lang="en-US" sz="4400" spc="-1" strike="noStrike">
              <a:solidFill>
                <a:srgbClr val="00ffff"/>
              </a:solidFill>
              <a:latin typeface="Arial"/>
            </a:endParaRPr>
          </a:p>
        </p:txBody>
      </p:sp>
      <p:sp>
        <p:nvSpPr>
          <p:cNvPr id="234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ntigénémie pp65 :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éthode </a:t>
            </a:r>
            <a:r>
              <a:rPr b="0" lang="en-US" sz="2800" spc="-1" strike="noStrike">
                <a:solidFill>
                  <a:srgbClr val="ffff00"/>
                </a:solidFill>
                <a:latin typeface="Arial"/>
              </a:rPr>
              <a:t>sensible</a:t>
            </a:r>
            <a:r>
              <a:rPr b="0" lang="en-US" sz="2800" spc="-1" strike="noStrike">
                <a:solidFill>
                  <a:srgbClr val="ffffff"/>
                </a:solidFill>
                <a:latin typeface="Arial"/>
              </a:rPr>
              <a:t> pour évaluer la charge virale du CMV dans le sa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é pour les laboratoires de </a:t>
            </a:r>
            <a:r>
              <a:rPr b="0" lang="en-US" sz="2800" spc="-1" strike="noStrike">
                <a:solidFill>
                  <a:srgbClr val="ffff00"/>
                </a:solidFill>
                <a:latin typeface="Arial"/>
              </a:rPr>
              <a:t>petite taille</a:t>
            </a:r>
            <a:r>
              <a:rPr b="0" lang="en-US" sz="2800" spc="-1" strike="noStrike">
                <a:solidFill>
                  <a:srgbClr val="ffffff"/>
                </a:solidFill>
                <a:latin typeface="Arial"/>
              </a:rPr>
              <a:t> et/ou pour un faible nombre d’antigéném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nvénients</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lai de </a:t>
            </a:r>
            <a:r>
              <a:rPr b="0" lang="fr-FR" sz="2800" spc="-1" strike="noStrike">
                <a:solidFill>
                  <a:srgbClr val="ffff00"/>
                </a:solidFill>
                <a:latin typeface="Arial"/>
              </a:rPr>
              <a:t>traitement rapide</a:t>
            </a:r>
            <a:r>
              <a:rPr b="0" lang="fr-FR" sz="2800" spc="-1" strike="noStrike">
                <a:solidFill>
                  <a:srgbClr val="ffffff"/>
                </a:solidFill>
                <a:latin typeface="Arial"/>
              </a:rPr>
              <a:t> de l’échantillon</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chnique manuelle, lecture subjective</a:t>
            </a:r>
            <a:endParaRPr b="0" lang="en-US" sz="2800" spc="-1" strike="noStrike">
              <a:solidFill>
                <a:srgbClr val="ffffff"/>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ux négatif</a:t>
            </a:r>
            <a:r>
              <a:rPr b="0" lang="en-US" sz="2800" spc="-1" strike="noStrike">
                <a:solidFill>
                  <a:srgbClr val="ffffff"/>
                </a:solidFill>
                <a:latin typeface="Arial"/>
              </a:rPr>
              <a:t> en cas de neutropén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Conclusions</a:t>
            </a:r>
            <a:endParaRPr b="0" lang="en-US" sz="4400" spc="-1" strike="noStrike">
              <a:solidFill>
                <a:srgbClr val="00ffff"/>
              </a:solidFill>
              <a:latin typeface="Arial"/>
            </a:endParaRPr>
          </a:p>
        </p:txBody>
      </p:sp>
      <p:sp>
        <p:nvSpPr>
          <p:cNvPr id="2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ADN viral du CMV par PCR</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illeure </a:t>
            </a:r>
            <a:r>
              <a:rPr b="0" lang="en-US" sz="2800" spc="-1" strike="noStrike">
                <a:solidFill>
                  <a:srgbClr val="ffff00"/>
                </a:solidFill>
                <a:latin typeface="Arial"/>
              </a:rPr>
              <a:t>stabilité</a:t>
            </a:r>
            <a:r>
              <a:rPr b="0" lang="en-US" sz="2800" spc="-1" strike="noStrike">
                <a:solidFill>
                  <a:srgbClr val="ffffff"/>
                </a:solidFill>
                <a:latin typeface="Arial"/>
              </a:rPr>
              <a:t> du génome viral par rapport à l’agpp65 </a:t>
            </a:r>
            <a:r>
              <a:rPr b="0" lang="en-US" sz="2800" spc="-1" strike="noStrike">
                <a:solidFill>
                  <a:srgbClr val="ffffff"/>
                </a:solidFill>
                <a:latin typeface="Wingdings"/>
                <a:ea typeface="Wingdings"/>
              </a:rPr>
              <a:t></a:t>
            </a:r>
            <a:r>
              <a:rPr b="0" lang="en-US" sz="2800" spc="-1" strike="noStrike">
                <a:solidFill>
                  <a:srgbClr val="ffffff"/>
                </a:solidFill>
                <a:latin typeface="Arial"/>
              </a:rPr>
              <a:t> prélèvement moins sensible au transport et possibilité de </a:t>
            </a:r>
            <a:r>
              <a:rPr b="0" lang="en-US" sz="2800" spc="-1" strike="noStrike">
                <a:solidFill>
                  <a:srgbClr val="ffff00"/>
                </a:solidFill>
                <a:latin typeface="Arial"/>
              </a:rPr>
              <a:t>conservation</a:t>
            </a:r>
            <a:r>
              <a:rPr b="0" lang="en-US" sz="2800" spc="-1" strike="noStrike">
                <a:solidFill>
                  <a:srgbClr val="ffffff"/>
                </a:solidFill>
                <a:latin typeface="Arial"/>
              </a:rPr>
              <a:t> du prélèvement </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é pour les </a:t>
            </a:r>
            <a:r>
              <a:rPr b="0" lang="en-US" sz="2800" spc="-1" strike="noStrike">
                <a:solidFill>
                  <a:srgbClr val="ffff00"/>
                </a:solidFill>
                <a:latin typeface="Arial"/>
              </a:rPr>
              <a:t>grandes séries</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illeure sensibilité des </a:t>
            </a:r>
            <a:r>
              <a:rPr b="0" lang="fr-FR" sz="2800" spc="-1" strike="noStrike">
                <a:solidFill>
                  <a:srgbClr val="ffff00"/>
                </a:solidFill>
                <a:latin typeface="Arial"/>
              </a:rPr>
              <a:t>tests leucocytaires</a:t>
            </a:r>
            <a:r>
              <a:rPr b="0" lang="fr-FR" sz="2800" spc="-1" strike="noStrike">
                <a:solidFill>
                  <a:srgbClr val="ffffff"/>
                </a:solidFill>
                <a:latin typeface="Arial"/>
              </a:rPr>
              <a:t> pour le diagnostic et la prédiction de la maladie à CMV</a:t>
            </a:r>
            <a:endParaRPr b="0" lang="en-US" sz="2800" spc="-1" strike="noStrike">
              <a:solidFill>
                <a:srgbClr val="ffffff"/>
              </a:solidFill>
              <a:latin typeface="Arial"/>
            </a:endParaRPr>
          </a:p>
          <a:p>
            <a:pPr lvl="1" marL="720720" indent="-27720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Sang total</a:t>
            </a:r>
            <a:r>
              <a:rPr b="0" lang="fr-FR" sz="2800" spc="-1" strike="noStrike">
                <a:solidFill>
                  <a:srgbClr val="ffffff"/>
                </a:solidFill>
                <a:latin typeface="Arial"/>
              </a:rPr>
              <a:t> adapté au diagnostic de routine et dans le suivi thérapeutiq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4" name=""/>
          <p:cNvSpPr/>
          <p:nvPr/>
        </p:nvSpPr>
        <p:spPr>
          <a:xfrm>
            <a:off x="304920" y="380880"/>
            <a:ext cx="8427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Physiopathologie</a:t>
            </a:r>
            <a:endParaRPr b="0" lang="en-US" sz="4400" spc="-1" strike="noStrike">
              <a:solidFill>
                <a:srgbClr val="ffffff"/>
              </a:solidFill>
              <a:latin typeface="Arial"/>
            </a:endParaRPr>
          </a:p>
        </p:txBody>
      </p:sp>
      <p:sp>
        <p:nvSpPr>
          <p:cNvPr id="75" name=""/>
          <p:cNvSpPr/>
          <p:nvPr/>
        </p:nvSpPr>
        <p:spPr>
          <a:xfrm>
            <a:off x="380880" y="1676520"/>
            <a:ext cx="8428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spcAft>
                <a:spcPts val="349"/>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Réplication virale du CMV </a:t>
            </a:r>
            <a:endParaRPr b="0" lang="en-US" sz="2800" spc="-1" strike="noStrike">
              <a:solidFill>
                <a:srgbClr val="ffffff"/>
              </a:solidFill>
              <a:latin typeface="Arial"/>
            </a:endParaRPr>
          </a:p>
          <a:p>
            <a:pPr lvl="1" marL="743040" indent="-285840">
              <a:spcBef>
                <a:spcPts val="700"/>
              </a:spcBef>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ssus dynamique </a:t>
            </a:r>
            <a:r>
              <a:rPr b="0" i="1" lang="en-US" sz="2800" spc="-1" strike="noStrike">
                <a:solidFill>
                  <a:srgbClr val="ffff00"/>
                </a:solidFill>
                <a:latin typeface="Arial"/>
              </a:rPr>
              <a:t>in vivo </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s de doublement de la population virale </a:t>
            </a:r>
            <a:r>
              <a:rPr b="0" i="1" lang="en-US" sz="2800" spc="-1" strike="noStrike">
                <a:solidFill>
                  <a:srgbClr val="ffffff"/>
                </a:solidFill>
                <a:latin typeface="Arial"/>
              </a:rPr>
              <a:t>in vivo</a:t>
            </a:r>
            <a:r>
              <a:rPr b="0" lang="en-US" sz="2800" spc="-1" strike="noStrike">
                <a:solidFill>
                  <a:srgbClr val="ffffff"/>
                </a:solidFill>
                <a:latin typeface="Arial"/>
              </a:rPr>
              <a:t> = 1 jour</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arition des </a:t>
            </a:r>
            <a:r>
              <a:rPr b="0" lang="en-GB" sz="2800" spc="-1" strike="noStrike">
                <a:solidFill>
                  <a:srgbClr val="ffff00"/>
                </a:solidFill>
                <a:latin typeface="Arial"/>
              </a:rPr>
              <a:t>marqueurs d’infection active  : antigénémie, virémie, ADNémie, ARNémie</a:t>
            </a:r>
            <a:endParaRPr b="0" lang="en-US" sz="2800" spc="-1" strike="noStrike">
              <a:solidFill>
                <a:srgbClr val="ffffff"/>
              </a:solidFill>
              <a:latin typeface="Arial"/>
            </a:endParaRPr>
          </a:p>
        </p:txBody>
      </p:sp>
      <p:sp>
        <p:nvSpPr>
          <p:cNvPr id="76" name=""/>
          <p:cNvSpPr/>
          <p:nvPr/>
        </p:nvSpPr>
        <p:spPr>
          <a:xfrm>
            <a:off x="2068560" y="5636880"/>
            <a:ext cx="6718320" cy="852840"/>
          </a:xfrm>
          <a:prstGeom prst="rect">
            <a:avLst/>
          </a:prstGeom>
          <a:noFill/>
          <a:ln w="0">
            <a:noFill/>
          </a:ln>
        </p:spPr>
        <p:style>
          <a:lnRef idx="0"/>
          <a:fillRef idx="0"/>
          <a:effectRef idx="0"/>
          <a:fontRef idx="minor"/>
        </p:style>
        <p:txBody>
          <a:bodyPr lIns="0" rIns="0" tIns="0" bIns="0" anchor="b">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Emery et al (1999) </a:t>
            </a:r>
            <a:r>
              <a:rPr b="0" i="1" lang="en-GB" sz="1400" spc="-1" strike="noStrike">
                <a:solidFill>
                  <a:srgbClr val="ffffff"/>
                </a:solidFill>
                <a:latin typeface="Arial"/>
                <a:ea typeface="Arial"/>
              </a:rPr>
              <a:t>J Exp Med</a:t>
            </a:r>
            <a:r>
              <a:rPr b="0" lang="en-GB" sz="1400" spc="-1" strike="noStrike">
                <a:solidFill>
                  <a:srgbClr val="ffffff"/>
                </a:solidFill>
                <a:latin typeface="Arial"/>
                <a:ea typeface="Arial"/>
              </a:rPr>
              <a:t>  190:177-82 </a:t>
            </a:r>
            <a:br>
              <a:rPr sz="1400"/>
            </a:br>
            <a:r>
              <a:rPr b="0" lang="en-GB" sz="1400" spc="-1" strike="noStrike">
                <a:solidFill>
                  <a:srgbClr val="ffffff"/>
                </a:solidFill>
                <a:latin typeface="Arial"/>
                <a:ea typeface="Arial"/>
              </a:rPr>
              <a:t>Sia et al (2000) </a:t>
            </a:r>
            <a:r>
              <a:rPr b="0" i="1" lang="en-GB" sz="1400" spc="-1" strike="noStrike">
                <a:solidFill>
                  <a:srgbClr val="ffffff"/>
                </a:solidFill>
                <a:latin typeface="Arial"/>
                <a:ea typeface="Arial"/>
              </a:rPr>
              <a:t>J Infect Dis</a:t>
            </a:r>
            <a:r>
              <a:rPr b="0" lang="en-GB" sz="1400" spc="-1" strike="noStrike">
                <a:solidFill>
                  <a:srgbClr val="ffffff"/>
                </a:solidFill>
                <a:latin typeface="Arial"/>
                <a:ea typeface="Arial"/>
              </a:rPr>
              <a:t>  181:717-20 </a:t>
            </a:r>
            <a:br>
              <a:rPr sz="1400"/>
            </a:br>
            <a:r>
              <a:rPr b="0" lang="en-GB" sz="1400" spc="-1" strike="noStrike">
                <a:solidFill>
                  <a:srgbClr val="ffffff"/>
                </a:solidFill>
                <a:latin typeface="Arial"/>
                <a:ea typeface="Arial"/>
              </a:rPr>
              <a:t>Humar et al (2002) </a:t>
            </a:r>
            <a:r>
              <a:rPr b="0" i="1" lang="en-GB" sz="1400" spc="-1" strike="noStrike">
                <a:solidFill>
                  <a:srgbClr val="ffffff"/>
                </a:solidFill>
                <a:latin typeface="Arial"/>
                <a:ea typeface="Arial"/>
              </a:rPr>
              <a:t>J Infect Dis</a:t>
            </a:r>
            <a:r>
              <a:rPr b="0" lang="en-GB" sz="1400" spc="-1" strike="noStrike">
                <a:solidFill>
                  <a:srgbClr val="ffffff"/>
                </a:solidFill>
                <a:latin typeface="Arial"/>
                <a:ea typeface="Arial"/>
              </a:rPr>
              <a:t> 186:829-33                                                     Razonable et al (2003) </a:t>
            </a:r>
            <a:r>
              <a:rPr b="0" i="1" lang="en-GB" sz="1400" spc="-1" strike="noStrike">
                <a:solidFill>
                  <a:srgbClr val="ffffff"/>
                </a:solidFill>
                <a:latin typeface="Arial"/>
                <a:ea typeface="Arial"/>
              </a:rPr>
              <a:t>J Infect Dis</a:t>
            </a:r>
            <a:r>
              <a:rPr b="0" lang="en-GB" sz="1400" spc="-1" strike="noStrike">
                <a:solidFill>
                  <a:srgbClr val="ffffff"/>
                </a:solidFill>
                <a:latin typeface="Arial"/>
                <a:ea typeface="Arial"/>
              </a:rPr>
              <a:t> 187:1801-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Conclusions</a:t>
            </a:r>
            <a:endParaRPr b="0" lang="en-US" sz="4400" spc="-1" strike="noStrike">
              <a:solidFill>
                <a:srgbClr val="00ffff"/>
              </a:solidFill>
              <a:latin typeface="Arial"/>
            </a:endParaRPr>
          </a:p>
        </p:txBody>
      </p:sp>
      <p:sp>
        <p:nvSpPr>
          <p:cNvPr id="2353"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Apport incontestable de la PCR quantitative en temps réel/ PCR conventionnel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valuation plus précise de la</a:t>
            </a:r>
            <a:r>
              <a:rPr b="0" lang="en-US" sz="2800" spc="-1" strike="noStrike">
                <a:solidFill>
                  <a:srgbClr val="ffff00"/>
                </a:solidFill>
                <a:latin typeface="Arial"/>
              </a:rPr>
              <a:t> cinétique </a:t>
            </a:r>
            <a:r>
              <a:rPr b="0" lang="en-US" sz="2800" spc="-1" strike="noStrike">
                <a:solidFill>
                  <a:srgbClr val="ffffff"/>
                </a:solidFill>
                <a:latin typeface="Arial"/>
              </a:rPr>
              <a:t>de la réplication virale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élioration des </a:t>
            </a:r>
            <a:r>
              <a:rPr b="0" lang="en-US" sz="2800" spc="-1" strike="noStrike">
                <a:solidFill>
                  <a:srgbClr val="ffff00"/>
                </a:solidFill>
                <a:latin typeface="Arial"/>
              </a:rPr>
              <a:t>performances techniques</a:t>
            </a:r>
            <a:r>
              <a:rPr b="0" lang="en-US" sz="2800" spc="-1" strike="noStrike">
                <a:solidFill>
                  <a:srgbClr val="ffffff"/>
                </a:solidFill>
                <a:latin typeface="Arial"/>
              </a:rPr>
              <a:t> des tests utilisés  </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utomatisation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ilité de </a:t>
            </a:r>
            <a:r>
              <a:rPr b="0" lang="en-US" sz="2800" spc="-1" strike="noStrike">
                <a:solidFill>
                  <a:srgbClr val="ffff00"/>
                </a:solidFill>
                <a:latin typeface="Arial"/>
              </a:rPr>
              <a:t>standardiser</a:t>
            </a:r>
            <a:r>
              <a:rPr b="0" lang="en-US" sz="2800" spc="-1" strike="noStrike">
                <a:solidFill>
                  <a:srgbClr val="ffffff"/>
                </a:solidFill>
                <a:latin typeface="Arial"/>
              </a:rPr>
              <a:t> des protocoles de PC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ffff"/>
                </a:solidFill>
                <a:latin typeface="Arial"/>
              </a:rPr>
              <a:t>Perspectives</a:t>
            </a:r>
            <a:endParaRPr b="0" lang="en-US" sz="6000" spc="-1" strike="noStrike">
              <a:solidFill>
                <a:srgbClr val="00ffff"/>
              </a:solidFill>
              <a:latin typeface="Arial"/>
            </a:endParaRPr>
          </a:p>
        </p:txBody>
      </p:sp>
      <p:sp>
        <p:nvSpPr>
          <p:cNvPr id="2355" name="PlaceHolder 2"/>
          <p:cNvSpPr>
            <a:spLocks noGrp="1"/>
          </p:cNvSpPr>
          <p:nvPr>
            <p:ph/>
          </p:nvPr>
        </p:nvSpPr>
        <p:spPr>
          <a:xfrm>
            <a:off x="677880" y="163836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écessité de </a:t>
            </a:r>
            <a:r>
              <a:rPr b="0" lang="en-US" sz="2800" spc="-1" strike="noStrike">
                <a:solidFill>
                  <a:srgbClr val="ffff00"/>
                </a:solidFill>
                <a:latin typeface="Arial"/>
              </a:rPr>
              <a:t>standardiser les méthodes moléculaires de quantification sanguine</a:t>
            </a:r>
            <a:r>
              <a:rPr b="0" lang="en-US" sz="2800" spc="-1" strike="noStrike">
                <a:solidFill>
                  <a:srgbClr val="ffffff"/>
                </a:solidFill>
                <a:latin typeface="Arial"/>
              </a:rPr>
              <a:t> du CMV</a:t>
            </a:r>
            <a:endParaRPr b="0" lang="en-US" sz="28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écessité de </a:t>
            </a:r>
            <a:r>
              <a:rPr b="0" lang="en-US" sz="2800" spc="-1" strike="noStrike">
                <a:solidFill>
                  <a:srgbClr val="ffff00"/>
                </a:solidFill>
                <a:latin typeface="Arial"/>
              </a:rPr>
              <a:t>valider un seuil </a:t>
            </a:r>
            <a:r>
              <a:rPr b="0" lang="en-US" sz="2800" spc="-1" strike="noStrike">
                <a:solidFill>
                  <a:srgbClr val="ffffff"/>
                </a:solidFill>
                <a:latin typeface="Arial"/>
              </a:rPr>
              <a:t>pour chaque méthode quantitative et pour chaque indication (diagnostic et instauration d’un traitement anticipé)</a:t>
            </a:r>
            <a:endParaRPr b="0" lang="en-US" sz="28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écessité de mettre en place d’un standard</a:t>
            </a:r>
            <a:r>
              <a:rPr b="0" lang="en-GB" sz="2800" spc="-1" strike="noStrike">
                <a:solidFill>
                  <a:srgbClr val="ffff00"/>
                </a:solidFill>
                <a:latin typeface="Arial"/>
              </a:rPr>
              <a:t> international</a:t>
            </a:r>
            <a:r>
              <a:rPr b="0" lang="en-GB" sz="2800" spc="-1" strike="noStrike">
                <a:solidFill>
                  <a:srgbClr val="ffffff"/>
                </a:solidFill>
                <a:latin typeface="Arial"/>
              </a:rPr>
              <a:t> de quantification du CMV </a:t>
            </a:r>
            <a:r>
              <a:rPr b="0" lang="en-GB" sz="2800" spc="-1" strike="noStrike">
                <a:solidFill>
                  <a:srgbClr val="ffffff"/>
                </a:solidFill>
                <a:latin typeface="Wingdings"/>
                <a:ea typeface="Wingdings"/>
              </a:rPr>
              <a:t></a:t>
            </a:r>
            <a:r>
              <a:rPr b="0" lang="en-GB" sz="2800" spc="-1" strike="noStrike">
                <a:solidFill>
                  <a:srgbClr val="ffffff"/>
                </a:solidFill>
                <a:latin typeface="Arial"/>
              </a:rPr>
              <a:t> comparer les études utilisant des méthodes moléculaires très différe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Démarche diagnostique</a:t>
            </a:r>
            <a:endParaRPr b="0" lang="en-US" sz="4400" spc="-1" strike="noStrike">
              <a:solidFill>
                <a:srgbClr val="00ffff"/>
              </a:solidFill>
              <a:latin typeface="Arial"/>
            </a:endParaRPr>
          </a:p>
        </p:txBody>
      </p:sp>
      <p:sp>
        <p:nvSpPr>
          <p:cNvPr id="2357" name=""/>
          <p:cNvSpPr/>
          <p:nvPr/>
        </p:nvSpPr>
        <p:spPr>
          <a:xfrm>
            <a:off x="3130200" y="1268280"/>
            <a:ext cx="214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lan pré-greffe</a:t>
            </a:r>
            <a:endParaRPr b="0" lang="en-US" sz="2400" spc="-1" strike="noStrike">
              <a:solidFill>
                <a:srgbClr val="ffffff"/>
              </a:solidFill>
              <a:latin typeface="Arial"/>
            </a:endParaRPr>
          </a:p>
        </p:txBody>
      </p:sp>
      <p:sp>
        <p:nvSpPr>
          <p:cNvPr id="2358" name=""/>
          <p:cNvSpPr/>
          <p:nvPr/>
        </p:nvSpPr>
        <p:spPr>
          <a:xfrm>
            <a:off x="2120040" y="1844640"/>
            <a:ext cx="429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ut sérologique du donneur et du receveur</a:t>
            </a:r>
            <a:endParaRPr b="0" lang="en-US" sz="1800" spc="-1" strike="noStrike">
              <a:solidFill>
                <a:srgbClr val="ffffff"/>
              </a:solidFill>
              <a:latin typeface="Arial"/>
            </a:endParaRPr>
          </a:p>
        </p:txBody>
      </p:sp>
      <p:sp>
        <p:nvSpPr>
          <p:cNvPr id="2359" name=""/>
          <p:cNvSpPr/>
          <p:nvPr/>
        </p:nvSpPr>
        <p:spPr>
          <a:xfrm>
            <a:off x="3708360" y="2276640"/>
            <a:ext cx="914400" cy="574560"/>
          </a:xfrm>
          <a:prstGeom prst="ellipse">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ffe</a:t>
            </a:r>
            <a:endParaRPr b="0" lang="en-US" sz="2400" spc="-1" strike="noStrike">
              <a:solidFill>
                <a:srgbClr val="ffffff"/>
              </a:solidFill>
              <a:latin typeface="Arial"/>
            </a:endParaRPr>
          </a:p>
        </p:txBody>
      </p:sp>
      <p:sp>
        <p:nvSpPr>
          <p:cNvPr id="2360" name=""/>
          <p:cNvSpPr/>
          <p:nvPr/>
        </p:nvSpPr>
        <p:spPr>
          <a:xfrm>
            <a:off x="2623320" y="2924280"/>
            <a:ext cx="351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veillance hebdomadaire</a:t>
            </a:r>
            <a:endParaRPr b="0" lang="en-US" sz="2400" spc="-1" strike="noStrike">
              <a:solidFill>
                <a:srgbClr val="ffffff"/>
              </a:solidFill>
              <a:latin typeface="Arial"/>
            </a:endParaRPr>
          </a:p>
        </p:txBody>
      </p:sp>
      <p:sp>
        <p:nvSpPr>
          <p:cNvPr id="2361" name=""/>
          <p:cNvSpPr/>
          <p:nvPr/>
        </p:nvSpPr>
        <p:spPr>
          <a:xfrm>
            <a:off x="3564000" y="3573360"/>
            <a:ext cx="1364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ntigénémi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DNémi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RNémie</a:t>
            </a:r>
            <a:endParaRPr b="0" lang="en-US" sz="1800" spc="-1" strike="noStrike">
              <a:solidFill>
                <a:srgbClr val="ffffff"/>
              </a:solidFill>
              <a:latin typeface="Arial"/>
            </a:endParaRPr>
          </a:p>
        </p:txBody>
      </p:sp>
      <p:sp>
        <p:nvSpPr>
          <p:cNvPr id="2362" name=""/>
          <p:cNvSpPr/>
          <p:nvPr/>
        </p:nvSpPr>
        <p:spPr>
          <a:xfrm>
            <a:off x="610920" y="386064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égatif</a:t>
            </a:r>
            <a:endParaRPr b="0" lang="en-US" sz="2400" spc="-1" strike="noStrike">
              <a:solidFill>
                <a:srgbClr val="ffffff"/>
              </a:solidFill>
              <a:latin typeface="Arial"/>
            </a:endParaRPr>
          </a:p>
        </p:txBody>
      </p:sp>
      <p:sp>
        <p:nvSpPr>
          <p:cNvPr id="2363" name=""/>
          <p:cNvSpPr/>
          <p:nvPr/>
        </p:nvSpPr>
        <p:spPr>
          <a:xfrm>
            <a:off x="6424560" y="373680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itif</a:t>
            </a:r>
            <a:endParaRPr b="0" lang="en-US" sz="2400" spc="-1" strike="noStrike">
              <a:solidFill>
                <a:srgbClr val="ffffff"/>
              </a:solidFill>
              <a:latin typeface="Arial"/>
            </a:endParaRPr>
          </a:p>
        </p:txBody>
      </p:sp>
      <p:sp>
        <p:nvSpPr>
          <p:cNvPr id="2364" name=""/>
          <p:cNvSpPr/>
          <p:nvPr/>
        </p:nvSpPr>
        <p:spPr>
          <a:xfrm>
            <a:off x="6009840" y="4797360"/>
            <a:ext cx="197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itement anticipé</a:t>
            </a:r>
            <a:endParaRPr b="0" lang="en-US" sz="1800" spc="-1" strike="noStrike">
              <a:solidFill>
                <a:srgbClr val="ffffff"/>
              </a:solidFill>
              <a:latin typeface="Arial"/>
            </a:endParaRPr>
          </a:p>
        </p:txBody>
      </p:sp>
      <p:sp>
        <p:nvSpPr>
          <p:cNvPr id="2365" name=""/>
          <p:cNvSpPr/>
          <p:nvPr/>
        </p:nvSpPr>
        <p:spPr>
          <a:xfrm>
            <a:off x="592200" y="5249880"/>
            <a:ext cx="232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isque de maladi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À CMV faible ou nul</a:t>
            </a:r>
            <a:endParaRPr b="0" lang="en-US" sz="1800" spc="-1" strike="noStrike">
              <a:solidFill>
                <a:srgbClr val="ffffff"/>
              </a:solidFill>
              <a:latin typeface="Arial"/>
            </a:endParaRPr>
          </a:p>
        </p:txBody>
      </p:sp>
      <p:sp>
        <p:nvSpPr>
          <p:cNvPr id="2366" name=""/>
          <p:cNvSpPr/>
          <p:nvPr/>
        </p:nvSpPr>
        <p:spPr>
          <a:xfrm>
            <a:off x="5362920" y="5589720"/>
            <a:ext cx="271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rveillance des marqueur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nfection active sou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itement</a:t>
            </a:r>
            <a:endParaRPr b="0" lang="en-US" sz="1800" spc="-1" strike="noStrike">
              <a:solidFill>
                <a:srgbClr val="ffffff"/>
              </a:solidFill>
              <a:latin typeface="Arial"/>
            </a:endParaRPr>
          </a:p>
        </p:txBody>
      </p:sp>
      <p:sp>
        <p:nvSpPr>
          <p:cNvPr id="2367" name=""/>
          <p:cNvSpPr/>
          <p:nvPr/>
        </p:nvSpPr>
        <p:spPr>
          <a:xfrm>
            <a:off x="5435640" y="5661000"/>
            <a:ext cx="266544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8" name=""/>
          <p:cNvSpPr/>
          <p:nvPr/>
        </p:nvSpPr>
        <p:spPr>
          <a:xfrm>
            <a:off x="611280" y="5229360"/>
            <a:ext cx="2016000" cy="72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9" name=""/>
          <p:cNvSpPr/>
          <p:nvPr/>
        </p:nvSpPr>
        <p:spPr>
          <a:xfrm flipH="1">
            <a:off x="1835280" y="3860640"/>
            <a:ext cx="1728720" cy="216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0" name=""/>
          <p:cNvSpPr/>
          <p:nvPr/>
        </p:nvSpPr>
        <p:spPr>
          <a:xfrm>
            <a:off x="5003640" y="3789360"/>
            <a:ext cx="1440000" cy="287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1" name=""/>
          <p:cNvSpPr/>
          <p:nvPr/>
        </p:nvSpPr>
        <p:spPr>
          <a:xfrm>
            <a:off x="1116000" y="4292640"/>
            <a:ext cx="0" cy="936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2" name=""/>
          <p:cNvSpPr/>
          <p:nvPr/>
        </p:nvSpPr>
        <p:spPr>
          <a:xfrm>
            <a:off x="6877080" y="4221000"/>
            <a:ext cx="0" cy="57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3" name=""/>
          <p:cNvSpPr/>
          <p:nvPr/>
        </p:nvSpPr>
        <p:spPr>
          <a:xfrm>
            <a:off x="6948360" y="5157720"/>
            <a:ext cx="0" cy="432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4" name=""/>
          <p:cNvSpPr/>
          <p:nvPr/>
        </p:nvSpPr>
        <p:spPr>
          <a:xfrm>
            <a:off x="4140360" y="1773360"/>
            <a:ext cx="0" cy="14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5" name=""/>
          <p:cNvSpPr/>
          <p:nvPr/>
        </p:nvSpPr>
        <p:spPr>
          <a:xfrm>
            <a:off x="4140360" y="2924280"/>
            <a:ext cx="0" cy="73080"/>
          </a:xfrm>
          <a:prstGeom prst="line">
            <a:avLst/>
          </a:prstGeom>
          <a:ln w="12600">
            <a:solidFill>
              <a:srgbClr val="ffff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IN</a:t>
            </a:r>
            <a:endParaRPr b="0" lang="en-US" sz="4400" spc="-1" strike="noStrike">
              <a:solidFill>
                <a:srgbClr val="00ffff"/>
              </a:solidFill>
              <a:latin typeface="Arial"/>
            </a:endParaRPr>
          </a:p>
        </p:txBody>
      </p:sp>
      <p:sp>
        <p:nvSpPr>
          <p:cNvPr id="23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ffff"/>
                </a:solidFill>
                <a:latin typeface="Arial"/>
              </a:rPr>
              <a:t>Pathogénicité</a:t>
            </a:r>
            <a:endParaRPr b="0" lang="en-US" sz="4400" spc="-1" strike="noStrike">
              <a:solidFill>
                <a:srgbClr val="00ffff"/>
              </a:solidFill>
              <a:latin typeface="Arial"/>
            </a:endParaRPr>
          </a:p>
        </p:txBody>
      </p:sp>
      <p:sp>
        <p:nvSpPr>
          <p:cNvPr id="2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onction du statut immunitair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s peu ou pas symptomatiques chez le sujet sai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s </a:t>
            </a:r>
            <a:r>
              <a:rPr b="0" lang="en-US" sz="2800" spc="-1" strike="noStrike">
                <a:solidFill>
                  <a:srgbClr val="ffff00"/>
                </a:solidFill>
                <a:latin typeface="Arial"/>
              </a:rPr>
              <a:t>sévères chez les patients immunodéprimés</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veurs d’allogreffe de moelle ou d’organe</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infectés par le VIH</a:t>
            </a:r>
            <a:endParaRPr b="0" lang="en-US" sz="2800" spc="-1" strike="noStrike">
              <a:solidFill>
                <a:srgbClr val="ffffff"/>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ffff"/>
                </a:solidFill>
                <a:latin typeface="Arial"/>
              </a:rPr>
              <a:t>Pathogénicité</a:t>
            </a:r>
            <a:endParaRPr b="0" lang="en-US" sz="4400" spc="-1" strike="noStrike">
              <a:solidFill>
                <a:srgbClr val="00ffff"/>
              </a:solidFill>
              <a:latin typeface="Arial"/>
            </a:endParaRPr>
          </a:p>
        </p:txBody>
      </p:sp>
      <p:sp>
        <p:nvSpPr>
          <p:cNvPr id="2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Infection à CMV</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asymptomatiqu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es biologiques d’infection active à CMV</a:t>
            </a:r>
            <a:endParaRPr b="0" lang="en-US" sz="2400" spc="-1" strike="noStrike">
              <a:solidFill>
                <a:srgbClr val="ffffff"/>
              </a:solidFill>
              <a:latin typeface="Arial"/>
            </a:endParaRPr>
          </a:p>
          <a:p>
            <a:pPr marL="343080" indent="-343080">
              <a:lnSpc>
                <a:spcPct val="9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Maladie à CMV</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drome CMV : </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èvre </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 leucopénie et/ou thrombopénie et/ou lymphocytose atypique et/ou élévation des transaminas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V invasif</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sfonction d’un organe </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 localisation viscérale</a:t>
            </a:r>
            <a:endParaRPr b="0" lang="en-US" sz="2000" spc="-1" strike="noStrike">
              <a:solidFill>
                <a:srgbClr val="ffffff"/>
              </a:solidFill>
              <a:latin typeface="Arial"/>
            </a:endParaRPr>
          </a:p>
        </p:txBody>
      </p:sp>
      <p:sp>
        <p:nvSpPr>
          <p:cNvPr id="2382" name=""/>
          <p:cNvSpPr/>
          <p:nvPr/>
        </p:nvSpPr>
        <p:spPr>
          <a:xfrm>
            <a:off x="5635080" y="6256440"/>
            <a:ext cx="236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ya et al, AJT 200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Facteurs de risque et maladie à CMV</a:t>
            </a:r>
            <a:endParaRPr b="0" lang="en-US" sz="3600" spc="-1" strike="noStrike">
              <a:solidFill>
                <a:srgbClr val="00ffff"/>
              </a:solidFill>
              <a:latin typeface="Arial"/>
            </a:endParaRPr>
          </a:p>
        </p:txBody>
      </p:sp>
      <p:sp>
        <p:nvSpPr>
          <p:cNvPr id="2384" name="PlaceHolder 2"/>
          <p:cNvSpPr>
            <a:spLocks noGrp="1"/>
          </p:cNvSpPr>
          <p:nvPr>
            <p:ph/>
          </p:nvPr>
        </p:nvSpPr>
        <p:spPr>
          <a:xfrm>
            <a:off x="457200" y="1599840"/>
            <a:ext cx="8291520" cy="434988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Statut sérologique Donneur/Receveur (D/R)</a:t>
            </a:r>
            <a:endParaRPr b="0" lang="en-US" sz="2800" spc="-1" strike="noStrike">
              <a:solidFill>
                <a:srgbClr val="ffffff"/>
              </a:solidFill>
              <a:latin typeface="Arial"/>
            </a:endParaRPr>
          </a:p>
          <a:p>
            <a:pPr lvl="1" marL="743040" indent="-28584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D+/R- : primoinfection</a:t>
            </a:r>
            <a:endParaRPr b="0" lang="en-US" sz="2800" spc="-1" strike="noStrike">
              <a:solidFill>
                <a:srgbClr val="ffffff"/>
              </a:solidFill>
              <a:latin typeface="Arial"/>
            </a:endParaRPr>
          </a:p>
          <a:p>
            <a:pPr lvl="2" marL="1143000" indent="-2286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isque </a:t>
            </a:r>
            <a:r>
              <a:rPr b="0" lang="fr-FR" sz="2800" spc="-1" strike="noStrike">
                <a:solidFill>
                  <a:srgbClr val="ffff00"/>
                </a:solidFill>
                <a:latin typeface="Arial"/>
              </a:rPr>
              <a:t>d’infection : 100%</a:t>
            </a:r>
            <a:endParaRPr b="0" lang="en-US" sz="2800" spc="-1" strike="noStrike">
              <a:solidFill>
                <a:srgbClr val="ffffff"/>
              </a:solidFill>
              <a:latin typeface="Arial"/>
            </a:endParaRPr>
          </a:p>
          <a:p>
            <a:pPr lvl="2" marL="1143000" indent="-2286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isque de </a:t>
            </a:r>
            <a:r>
              <a:rPr b="0" lang="fr-FR" sz="2800" spc="-1" strike="noStrike">
                <a:solidFill>
                  <a:srgbClr val="ffff00"/>
                </a:solidFill>
                <a:latin typeface="Arial"/>
              </a:rPr>
              <a:t>maladie : 85%</a:t>
            </a:r>
            <a:r>
              <a:rPr b="0" lang="fr-FR" sz="2800" spc="-1" strike="noStrike">
                <a:solidFill>
                  <a:srgbClr val="ffe701"/>
                </a:solidFill>
                <a:latin typeface="Arial"/>
              </a:rPr>
              <a:t> </a:t>
            </a:r>
            <a:r>
              <a:rPr b="0" lang="fr-FR" sz="2800" spc="-1" strike="noStrike">
                <a:solidFill>
                  <a:srgbClr val="ffffff"/>
                </a:solidFill>
                <a:latin typeface="Arial"/>
              </a:rPr>
              <a:t>(sans traitement)</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R+ : réactivation</a:t>
            </a:r>
            <a:endParaRPr b="0" lang="en-US" sz="2800" spc="-1" strike="noStrike">
              <a:solidFill>
                <a:srgbClr val="ffffff"/>
              </a:solidFill>
              <a:latin typeface="Arial"/>
            </a:endParaRPr>
          </a:p>
          <a:p>
            <a:pPr lvl="2" marL="1143000" indent="-2286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isque d’infection : 60-100%</a:t>
            </a:r>
            <a:endParaRPr b="0" lang="en-US" sz="2800" spc="-1" strike="noStrike">
              <a:solidFill>
                <a:srgbClr val="ffffff"/>
              </a:solidFill>
              <a:latin typeface="Arial"/>
            </a:endParaRPr>
          </a:p>
          <a:p>
            <a:pPr lvl="2" marL="1143000" indent="-2286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isque de maladie : 20%</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R+ : réinfection</a:t>
            </a:r>
            <a:endParaRPr b="0" lang="en-US" sz="2800" spc="-1" strike="noStrike">
              <a:solidFill>
                <a:srgbClr val="ffffff"/>
              </a:solidFill>
              <a:latin typeface="Arial"/>
            </a:endParaRPr>
          </a:p>
          <a:p>
            <a:pPr lvl="2" marL="1143000" indent="-2286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isque d’infection : 60-100%</a:t>
            </a:r>
            <a:endParaRPr b="0" lang="en-US" sz="2800" spc="-1" strike="noStrike">
              <a:solidFill>
                <a:srgbClr val="ffffff"/>
              </a:solidFill>
              <a:latin typeface="Arial"/>
            </a:endParaRPr>
          </a:p>
          <a:p>
            <a:pPr lvl="2" marL="1143000" indent="-2286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isque de maladie : 20-4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85"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Facteurs de risque et maladie à CMV</a:t>
            </a:r>
            <a:endParaRPr b="0" lang="en-US" sz="3600" spc="-1" strike="noStrike">
              <a:solidFill>
                <a:srgbClr val="00ffff"/>
              </a:solidFill>
              <a:latin typeface="Arial"/>
            </a:endParaRPr>
          </a:p>
        </p:txBody>
      </p:sp>
      <p:sp>
        <p:nvSpPr>
          <p:cNvPr id="2386" name="PlaceHolder 2"/>
          <p:cNvSpPr>
            <a:spLocks noGrp="1"/>
          </p:cNvSpPr>
          <p:nvPr>
            <p:ph/>
          </p:nvPr>
        </p:nvSpPr>
        <p:spPr>
          <a:xfrm>
            <a:off x="539640" y="1628280"/>
            <a:ext cx="8229600" cy="240516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mmunodépression</a:t>
            </a:r>
            <a:r>
              <a:rPr b="0" lang="en-US" sz="3200" spc="-1" strike="noStrike">
                <a:solidFill>
                  <a:srgbClr val="ffff00"/>
                </a:solidFill>
                <a:latin typeface="Arial"/>
              </a:rPr>
              <a: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adie à CMV entre le 1er et le 4ème mois après la greffe au moment où l’immunodépression est la plus forte</a:t>
            </a:r>
            <a:endParaRPr b="0" lang="en-US" sz="2400" spc="-1" strike="noStrike">
              <a:solidFill>
                <a:srgbClr val="ffffff"/>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ype de greff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7" name=""/>
          <p:cNvGraphicFramePr/>
          <p:nvPr/>
        </p:nvGraphicFramePr>
        <p:xfrm>
          <a:off x="1187280" y="4149720"/>
          <a:ext cx="5689800" cy="2376360"/>
        </p:xfrm>
        <a:graphic>
          <a:graphicData uri="http://schemas.openxmlformats.org/drawingml/2006/table">
            <a:tbl>
              <a:tblPr/>
              <a:tblGrid>
                <a:gridCol w="3024360"/>
                <a:gridCol w="2665440"/>
              </a:tblGrid>
              <a:tr h="839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e transplant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que de maladie sans traite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in, cœur, foi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3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ncréas, rein-pancré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3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umon, cœur-poum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70-8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éthodes de quantification du CMV</a:t>
            </a:r>
            <a:endParaRPr b="0" lang="en-US" sz="3600" spc="-1" strike="noStrike">
              <a:solidFill>
                <a:srgbClr val="00ffff"/>
              </a:solidFill>
              <a:latin typeface="Arial"/>
            </a:endParaRPr>
          </a:p>
        </p:txBody>
      </p:sp>
      <p:sp>
        <p:nvSpPr>
          <p:cNvPr id="2389" name="PlaceHolder 2"/>
          <p:cNvSpPr>
            <a:spLocks noGrp="1"/>
          </p:cNvSpPr>
          <p:nvPr>
            <p:ph/>
          </p:nvPr>
        </p:nvSpPr>
        <p:spPr>
          <a:xfrm>
            <a:off x="0" y="1523520"/>
            <a:ext cx="3581280" cy="2971800"/>
          </a:xfrm>
          <a:prstGeom prst="rect">
            <a:avLst/>
          </a:prstGeom>
          <a:noFill/>
          <a:ln w="9360">
            <a:solidFill>
              <a:srgbClr val="ffff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00"/>
                </a:solidFill>
                <a:latin typeface="Arial"/>
              </a:rPr>
              <a:t>Antigénémie pp65</a:t>
            </a:r>
            <a:endParaRPr b="0" lang="en-US" sz="2000" spc="-1" strike="noStrike">
              <a:solidFill>
                <a:srgbClr val="ffffff"/>
              </a:solidFill>
              <a:latin typeface="Arial"/>
            </a:endParaRPr>
          </a:p>
        </p:txBody>
      </p:sp>
      <p:sp>
        <p:nvSpPr>
          <p:cNvPr id="2390" name="PlaceHolder 3"/>
          <p:cNvSpPr>
            <a:spLocks noGrp="1"/>
          </p:cNvSpPr>
          <p:nvPr>
            <p:ph/>
          </p:nvPr>
        </p:nvSpPr>
        <p:spPr>
          <a:xfrm>
            <a:off x="3580920" y="1523880"/>
            <a:ext cx="5334120" cy="5029200"/>
          </a:xfrm>
          <a:prstGeom prst="rect">
            <a:avLst/>
          </a:prstGeom>
          <a:noFill/>
          <a:ln w="9360">
            <a:solidFill>
              <a:srgbClr val="ffff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Moléculair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PCR conventionnelle</a:t>
            </a:r>
            <a:r>
              <a:rPr b="1" lang="en-US" sz="1800" spc="-1" strike="noStrike">
                <a:solidFill>
                  <a:srgbClr val="ffffff"/>
                </a:solidFill>
                <a:latin typeface="Arial"/>
              </a:rPr>
              <a:t> : Amplicor Monitor (COBAS, Roche) </a:t>
            </a:r>
            <a:endParaRPr b="0" lang="en-US" sz="1800" spc="-1" strike="noStrike">
              <a:solidFill>
                <a:srgbClr val="ffffff"/>
              </a:solidFill>
              <a:latin typeface="Arial"/>
            </a:endParaRPr>
          </a:p>
          <a:p>
            <a:pPr lvl="1" marL="743040" indent="-28584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PCR temps réel</a:t>
            </a:r>
            <a:r>
              <a:rPr b="1" lang="en-US" sz="2000" spc="-1" strike="noStrike">
                <a:solidFill>
                  <a:srgbClr val="ffffff"/>
                </a:solidFill>
                <a:latin typeface="Arial"/>
              </a:rPr>
              <a:t>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iques maison +++</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ousses commercialisées (Argène Biosoft, Qiagen, Abbott….)</a:t>
            </a:r>
            <a:endParaRPr b="0" lang="en-US" sz="1800" spc="-1" strike="noStrike">
              <a:solidFill>
                <a:srgbClr val="ffffff"/>
              </a:solidFill>
              <a:latin typeface="Arial"/>
            </a:endParaRPr>
          </a:p>
          <a:p>
            <a:pPr lvl="1" marL="743040" indent="-28584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NASBA</a:t>
            </a:r>
            <a:r>
              <a:rPr b="1" lang="en-US" sz="2000" spc="-1" strike="noStrike">
                <a:solidFill>
                  <a:srgbClr val="ffffff"/>
                </a:solidFill>
                <a:latin typeface="Arial"/>
              </a:rPr>
              <a:t> :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ousse Nuclisens pp67 test (Organon tecknika)</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mérieux</a:t>
            </a:r>
            <a:endParaRPr b="0" lang="en-US" sz="1800" spc="-1" strike="noStrike">
              <a:solidFill>
                <a:srgbClr val="ffffff"/>
              </a:solidFill>
              <a:latin typeface="Arial"/>
            </a:endParaRPr>
          </a:p>
          <a:p>
            <a:pPr lvl="1" marL="743040" indent="-28584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Hybridation moléculaire</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brid Capture DNA Assay (Digene)</a:t>
            </a:r>
            <a:endParaRPr b="0" lang="en-US" sz="1800" spc="-1" strike="noStrike">
              <a:solidFill>
                <a:srgbClr val="ffffff"/>
              </a:solidFill>
              <a:latin typeface="Arial"/>
            </a:endParaRPr>
          </a:p>
        </p:txBody>
      </p:sp>
      <p:sp>
        <p:nvSpPr>
          <p:cNvPr id="2391" name=""/>
          <p:cNvSpPr/>
          <p:nvPr/>
        </p:nvSpPr>
        <p:spPr>
          <a:xfrm>
            <a:off x="1371600" y="6553080"/>
            <a:ext cx="72388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2" name=""/>
          <p:cNvSpPr/>
          <p:nvPr/>
        </p:nvSpPr>
        <p:spPr>
          <a:xfrm>
            <a:off x="3581280" y="198108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3" name=""/>
          <p:cNvSpPr/>
          <p:nvPr/>
        </p:nvSpPr>
        <p:spPr>
          <a:xfrm>
            <a:off x="3581280" y="1523880"/>
            <a:ext cx="5334120" cy="533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oléculaires</a:t>
            </a:r>
            <a:endParaRPr b="0" lang="en-US" sz="2400" spc="-1" strike="noStrike">
              <a:solidFill>
                <a:srgbClr val="ffffff"/>
              </a:solidFill>
              <a:latin typeface="Arial"/>
            </a:endParaRPr>
          </a:p>
        </p:txBody>
      </p:sp>
      <p:sp>
        <p:nvSpPr>
          <p:cNvPr id="2394" name=""/>
          <p:cNvSpPr/>
          <p:nvPr/>
        </p:nvSpPr>
        <p:spPr>
          <a:xfrm>
            <a:off x="0" y="1523880"/>
            <a:ext cx="3581280" cy="53352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 moléculaires</a:t>
            </a:r>
            <a:endParaRPr b="0" lang="en-US" sz="2800" spc="-1" strike="noStrike">
              <a:solidFill>
                <a:srgbClr val="ffffff"/>
              </a:solidFill>
              <a:latin typeface="Arial"/>
            </a:endParaRPr>
          </a:p>
        </p:txBody>
      </p:sp>
      <p:sp>
        <p:nvSpPr>
          <p:cNvPr id="2395" name=""/>
          <p:cNvSpPr/>
          <p:nvPr/>
        </p:nvSpPr>
        <p:spPr>
          <a:xfrm>
            <a:off x="1523880" y="6553080"/>
            <a:ext cx="72392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6" name=""/>
          <p:cNvSpPr/>
          <p:nvPr/>
        </p:nvSpPr>
        <p:spPr>
          <a:xfrm>
            <a:off x="669960" y="5983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7" name=""/>
          <p:cNvSpPr/>
          <p:nvPr/>
        </p:nvSpPr>
        <p:spPr>
          <a:xfrm>
            <a:off x="1523880" y="6553080"/>
            <a:ext cx="72392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éthodes de quantification du CMV</a:t>
            </a:r>
            <a:endParaRPr b="0" lang="en-US" sz="3600" spc="-1" strike="noStrike">
              <a:solidFill>
                <a:srgbClr val="00ffff"/>
              </a:solidFill>
              <a:latin typeface="Arial"/>
            </a:endParaRPr>
          </a:p>
        </p:txBody>
      </p:sp>
      <p:sp>
        <p:nvSpPr>
          <p:cNvPr id="23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Méthodes moléculaires</a:t>
            </a:r>
            <a:endParaRPr b="0" lang="en-US" sz="2800" spc="-1" strike="noStrike">
              <a:solidFill>
                <a:srgbClr val="ffffff"/>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R conventionnelle</a:t>
            </a:r>
            <a:r>
              <a:rPr b="1" lang="en-US" sz="2000" spc="-1" strike="noStrike">
                <a:solidFill>
                  <a:srgbClr val="ffffff"/>
                </a:solidFill>
                <a:latin typeface="Arial"/>
              </a:rPr>
              <a:t> : Amplicor Monitor (COBAS, Roche) </a:t>
            </a:r>
            <a:endParaRPr b="0" lang="en-US" sz="2000" spc="-1" strike="noStrike">
              <a:solidFill>
                <a:srgbClr val="ffffff"/>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R temps réel :</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iques maison +++</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ousses commercialisées (Argène Biosoft, Qiagen, Abbott….)</a:t>
            </a:r>
            <a:endParaRPr b="0" lang="en-US" sz="2000" spc="-1" strike="noStrike">
              <a:solidFill>
                <a:srgbClr val="ffffff"/>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ASBA :</a:t>
            </a:r>
            <a:r>
              <a:rPr b="1"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ousse Nuclisens pp67 test (Organon tecknika)</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ybridation moléculaire</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ybrid Capture DNA Assay (Digen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
          <p:cNvSpPr/>
          <p:nvPr/>
        </p:nvSpPr>
        <p:spPr>
          <a:xfrm>
            <a:off x="2395080" y="6383160"/>
            <a:ext cx="6101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CR = Polymerase chain reaction NASBA = Nucleic acid sequence-based amplific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Physiopathologie</a:t>
            </a:r>
            <a:endParaRPr b="0" lang="en-US" sz="4400" spc="-1" strike="noStrike">
              <a:solidFill>
                <a:srgbClr val="00ffff"/>
              </a:solidFill>
              <a:latin typeface="Arial"/>
            </a:endParaRPr>
          </a:p>
        </p:txBody>
      </p:sp>
      <p:sp>
        <p:nvSpPr>
          <p:cNvPr id="78"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hez les receveurs d’allogreffe</a:t>
            </a:r>
            <a:endParaRPr b="0" lang="en-US" sz="3200" spc="-1" strike="noStrike">
              <a:solidFill>
                <a:srgbClr val="ffffff"/>
              </a:solidFill>
              <a:latin typeface="Arial"/>
            </a:endParaRPr>
          </a:p>
        </p:txBody>
      </p:sp>
      <p:sp>
        <p:nvSpPr>
          <p:cNvPr id="79" name=""/>
          <p:cNvSpPr/>
          <p:nvPr/>
        </p:nvSpPr>
        <p:spPr>
          <a:xfrm>
            <a:off x="2438280" y="2514600"/>
            <a:ext cx="3276720" cy="9907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Marqueurs </a:t>
            </a:r>
            <a:endParaRPr b="0" lang="en-US" sz="2200" spc="-1" strike="noStrike">
              <a:solidFill>
                <a:srgbClr val="ffffff"/>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d’infection activ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0" name=""/>
          <p:cNvSpPr/>
          <p:nvPr/>
        </p:nvSpPr>
        <p:spPr>
          <a:xfrm>
            <a:off x="380880" y="4343400"/>
            <a:ext cx="3657600" cy="155700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lvl="1" marL="190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Conséquence cliniq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fection à CMV</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ladie à CMV</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81" name=""/>
          <p:cNvSpPr/>
          <p:nvPr/>
        </p:nvSpPr>
        <p:spPr>
          <a:xfrm>
            <a:off x="4419720" y="4343400"/>
            <a:ext cx="4572000" cy="163332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lvl="1" marL="190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Conséquence thérapeutique </a:t>
            </a:r>
            <a:endParaRPr b="0" lang="en-US" sz="2400" spc="-1" strike="noStrike">
              <a:solidFill>
                <a:srgbClr val="ffffff"/>
              </a:solidFill>
              <a:latin typeface="Arial"/>
            </a:endParaRPr>
          </a:p>
          <a:p>
            <a:pPr lvl="1" marL="190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tion d’un traitement anticipé (dit </a:t>
            </a:r>
            <a:r>
              <a:rPr b="1" i="1" lang="en-US" sz="2400" spc="-1" strike="noStrike">
                <a:solidFill>
                  <a:srgbClr val="ffffff"/>
                </a:solidFill>
                <a:latin typeface="Arial"/>
              </a:rPr>
              <a:t>préemptif</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flipH="1">
            <a:off x="3047760" y="3505320"/>
            <a:ext cx="6094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4648320" y="358128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Limites de la quantification</a:t>
            </a:r>
            <a:endParaRPr b="0" lang="en-US" sz="4400" spc="-1" strike="noStrike">
              <a:solidFill>
                <a:srgbClr val="00ffff"/>
              </a:solidFill>
              <a:latin typeface="Arial"/>
            </a:endParaRPr>
          </a:p>
        </p:txBody>
      </p:sp>
      <p:sp>
        <p:nvSpPr>
          <p:cNvPr id="2402"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eurs des tests par rapport au diagnostic de la maladie à CMV : grandes variations</a:t>
            </a:r>
            <a:endParaRPr b="0" lang="en-US" sz="2800" spc="-1" strike="noStrike">
              <a:solidFill>
                <a:srgbClr val="ffffff"/>
              </a:solidFill>
              <a:latin typeface="Arial"/>
            </a:endParaRPr>
          </a:p>
        </p:txBody>
      </p:sp>
      <p:graphicFrame>
        <p:nvGraphicFramePr>
          <p:cNvPr id="2403" name=""/>
          <p:cNvGraphicFramePr/>
          <p:nvPr/>
        </p:nvGraphicFramePr>
        <p:xfrm>
          <a:off x="1143000" y="2743200"/>
          <a:ext cx="6934320" cy="3133800"/>
        </p:xfrm>
        <a:graphic>
          <a:graphicData uri="http://schemas.openxmlformats.org/presentationml/2006/ole">
            <p:oleObj r:id="rId1" spid="">
              <p:embed/>
              <p:pic>
                <p:nvPicPr>
                  <p:cNvPr id="2404" name="" descr=""/>
                  <p:cNvPicPr/>
                  <p:nvPr/>
                </p:nvPicPr>
                <p:blipFill>
                  <a:blip r:embed="rId2"/>
                  <a:stretch/>
                </p:blipFill>
                <p:spPr>
                  <a:xfrm>
                    <a:off x="1143000" y="2743200"/>
                    <a:ext cx="6934320" cy="31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0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06" name=""/>
          <p:cNvGraphicFramePr/>
          <p:nvPr/>
        </p:nvGraphicFramePr>
        <p:xfrm>
          <a:off x="228600" y="1447920"/>
          <a:ext cx="8915400" cy="5048280"/>
        </p:xfrm>
        <a:graphic>
          <a:graphicData uri="http://schemas.openxmlformats.org/drawingml/2006/table">
            <a:tbl>
              <a:tblPr/>
              <a:tblGrid>
                <a:gridCol w="1600200"/>
                <a:gridCol w="1600200"/>
                <a:gridCol w="1371600"/>
                <a:gridCol w="2171880"/>
                <a:gridCol w="21715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rqueu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élèvement</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rac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éthod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xpression d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résultat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ffff"/>
                    </a:solid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irémi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ang hépariné (10m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ucocyt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lture classique ou rapid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b de cellules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nfectées/ 10</a:t>
                      </a:r>
                      <a:r>
                        <a:rPr b="1" lang="fr-FR" sz="1800" spc="-1" strike="noStrike" baseline="30000">
                          <a:solidFill>
                            <a:srgbClr val="ffffff"/>
                          </a:solidFill>
                          <a:latin typeface="Arial"/>
                        </a:rPr>
                        <a:t>6 </a:t>
                      </a:r>
                      <a:r>
                        <a:rPr b="1" lang="fr-FR" sz="1800" spc="-1" strike="noStrike">
                          <a:solidFill>
                            <a:srgbClr val="ffffff"/>
                          </a:solidFill>
                          <a:latin typeface="Arial"/>
                        </a:rPr>
                        <a:t>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ea typeface="Arial"/>
                        </a:rPr>
                        <a:t>Antigénémi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ea typeface="Arial"/>
                        </a:rPr>
                        <a:t>(Agpp65)</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ang hépariné ou EDTA (5m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ucocyt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mmunofluores-ce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b noyaux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x10</a:t>
                      </a:r>
                      <a:r>
                        <a:rPr b="1" lang="fr-FR" sz="1800" spc="-1" strike="noStrike" baseline="30000">
                          <a:solidFill>
                            <a:srgbClr val="ffffff"/>
                          </a:solidFill>
                          <a:latin typeface="Arial"/>
                        </a:rPr>
                        <a:t>5</a:t>
                      </a:r>
                      <a:r>
                        <a:rPr b="1" lang="fr-FR" sz="1800" spc="-1" strike="noStrike">
                          <a:solidFill>
                            <a:srgbClr val="ffffff"/>
                          </a:solidFill>
                          <a:latin typeface="Arial"/>
                        </a:rPr>
                        <a:t> 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ADNémi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leucocytair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 EDTA ou citrate (5m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ucocyt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b copies /m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ADNémi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Plasmatique ou sériqu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 EDTA ou sec (5m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sm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érum</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b copies /ml</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ARNémi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fférent (0,2m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 tot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SB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07" name=""/>
          <p:cNvSpPr/>
          <p:nvPr/>
        </p:nvSpPr>
        <p:spPr>
          <a:xfrm>
            <a:off x="468360" y="907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8"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arqueurs sanguin d’infection active</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0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10" name=""/>
          <p:cNvGraphicFramePr/>
          <p:nvPr/>
        </p:nvGraphicFramePr>
        <p:xfrm>
          <a:off x="468360" y="2060640"/>
          <a:ext cx="8458200" cy="4201920"/>
        </p:xfrm>
        <a:graphic>
          <a:graphicData uri="http://schemas.openxmlformats.org/drawingml/2006/table">
            <a:tbl>
              <a:tblPr/>
              <a:tblGrid>
                <a:gridCol w="1849680"/>
                <a:gridCol w="2530440"/>
                <a:gridCol w="4078080"/>
              </a:tblGrid>
              <a:tr h="565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éthod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vantag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nconvénie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ffff"/>
                    </a:solidFill>
                  </a:tcPr>
                </a:tc>
              </a:tr>
              <a:tr h="147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irémie par Cultur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solement viral</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tude de la résistan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ong (1 à 6 semaines) , fastidieux, Equipement spécifique, faible sensibilité, risque de contamination bactérienne ou fungique, acheminement rapide au laboratoi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Culture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rapid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e (48 heur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quipement spécifique, faible sensibilité, toxicité cellulaire, acheminement rapide au laboratoi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48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Antigénémi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pp65</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e (5 à 6 heures), standardisé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heminement rapide au laboratoir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x négatif si neutropéni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11" name=""/>
          <p:cNvSpPr/>
          <p:nvPr/>
        </p:nvSpPr>
        <p:spPr>
          <a:xfrm>
            <a:off x="468360" y="907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éthodes de quantification du CMV</a:t>
            </a:r>
            <a:endParaRPr b="0" lang="en-US" sz="3600" spc="-1" strike="noStrike">
              <a:solidFill>
                <a:srgbClr val="00ffff"/>
              </a:solidFill>
              <a:latin typeface="Arial"/>
            </a:endParaRPr>
          </a:p>
        </p:txBody>
      </p:sp>
      <p:sp>
        <p:nvSpPr>
          <p:cNvPr id="2413" name="PlaceHolder 2"/>
          <p:cNvSpPr>
            <a:spLocks noGrp="1"/>
          </p:cNvSpPr>
          <p:nvPr>
            <p:ph/>
          </p:nvPr>
        </p:nvSpPr>
        <p:spPr>
          <a:xfrm>
            <a:off x="25092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éthodes non moléculai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pic>
        <p:nvPicPr>
          <p:cNvPr id="2414" name="" descr=""/>
          <p:cNvPicPr/>
          <p:nvPr/>
        </p:nvPicPr>
        <p:blipFill>
          <a:blip r:embed="rId1"/>
          <a:stretch/>
        </p:blipFill>
        <p:spPr>
          <a:xfrm>
            <a:off x="1403280" y="2205000"/>
            <a:ext cx="6302520" cy="3265560"/>
          </a:xfrm>
          <a:prstGeom prst="rect">
            <a:avLst/>
          </a:prstGeom>
          <a:ln w="0">
            <a:noFill/>
          </a:ln>
        </p:spPr>
      </p:pic>
      <p:sp>
        <p:nvSpPr>
          <p:cNvPr id="2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416" name=""/>
          <p:cNvSpPr/>
          <p:nvPr/>
        </p:nvSpPr>
        <p:spPr>
          <a:xfrm>
            <a:off x="5335920" y="6248520"/>
            <a:ext cx="3507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Bernabeu-Wittel et al, JID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érêts de la quantification</a:t>
            </a:r>
            <a:endParaRPr b="0" lang="en-US" sz="4400" spc="-1" strike="noStrike">
              <a:solidFill>
                <a:srgbClr val="00ffff"/>
              </a:solidFill>
              <a:latin typeface="Arial"/>
            </a:endParaRPr>
          </a:p>
        </p:txBody>
      </p:sp>
      <p:sp>
        <p:nvSpPr>
          <p:cNvPr id="2418"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ssages</a:t>
            </a:r>
            <a:endParaRPr b="0" lang="en-US" sz="2800" spc="-1" strike="noStrike">
              <a:solidFill>
                <a:srgbClr val="ffffff"/>
              </a:solidFill>
              <a:latin typeface="Arial"/>
            </a:endParaRPr>
          </a:p>
          <a:p>
            <a:pPr lvl="1" marL="713160" indent="-2743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P65, Cobas et TaqMan : équivalentes pour la quantification du CMV </a:t>
            </a:r>
            <a:endParaRPr b="0" lang="en-US" sz="2800" spc="-1" strike="noStrike">
              <a:solidFill>
                <a:srgbClr val="ffffff"/>
              </a:solidFill>
              <a:latin typeface="Arial"/>
            </a:endParaRPr>
          </a:p>
          <a:p>
            <a:pPr lvl="1" marL="713160" indent="-2743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age de la PCR temps réel :</a:t>
            </a:r>
            <a:endParaRPr b="0" lang="en-US" sz="2800" spc="-1" strike="noStrike">
              <a:solidFill>
                <a:srgbClr val="ffffff"/>
              </a:solidFill>
              <a:latin typeface="Arial"/>
            </a:endParaRPr>
          </a:p>
          <a:p>
            <a:pPr lvl="2" marL="1097280" indent="-21924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illeure </a:t>
            </a:r>
            <a:r>
              <a:rPr b="0" lang="fr-FR" sz="2800" spc="-1" strike="noStrike">
                <a:solidFill>
                  <a:srgbClr val="ffff00"/>
                </a:solidFill>
                <a:latin typeface="Arial"/>
              </a:rPr>
              <a:t>sensibilité</a:t>
            </a:r>
            <a:r>
              <a:rPr b="0" lang="fr-FR" sz="2800" spc="-1" strike="noStrike">
                <a:solidFill>
                  <a:srgbClr val="ffffff"/>
                </a:solidFill>
                <a:latin typeface="Arial"/>
              </a:rPr>
              <a:t> (250 contre 400 copies/ml)</a:t>
            </a:r>
            <a:endParaRPr b="0" lang="en-US" sz="2800" spc="-1" strike="noStrike">
              <a:solidFill>
                <a:srgbClr val="ffffff"/>
              </a:solidFill>
              <a:latin typeface="Arial"/>
            </a:endParaRPr>
          </a:p>
          <a:p>
            <a:pPr lvl="2" marL="1097280" indent="-21924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illeure </a:t>
            </a:r>
            <a:r>
              <a:rPr b="0" lang="fr-FR" sz="2800" spc="-1" strike="noStrike">
                <a:solidFill>
                  <a:srgbClr val="ffff00"/>
                </a:solidFill>
                <a:latin typeface="Arial"/>
              </a:rPr>
              <a:t>reproductibilité  intra-essai</a:t>
            </a:r>
            <a:r>
              <a:rPr b="0" lang="fr-FR" sz="2800" spc="-1" strike="noStrike">
                <a:solidFill>
                  <a:srgbClr val="ffffff"/>
                </a:solidFill>
                <a:latin typeface="Arial"/>
              </a:rPr>
              <a:t> (1% contre 12% pour cobas) et inter-essai (2% contre 30%)</a:t>
            </a:r>
            <a:endParaRPr b="0" lang="en-US" sz="2800" spc="-1" strike="noStrike">
              <a:solidFill>
                <a:srgbClr val="ffffff"/>
              </a:solidFill>
              <a:latin typeface="Arial"/>
            </a:endParaRPr>
          </a:p>
          <a:p>
            <a:pPr lvl="2" marL="1097280" indent="-21924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amme de </a:t>
            </a:r>
            <a:r>
              <a:rPr b="0" lang="fr-FR" sz="2800" spc="-1" strike="noStrike">
                <a:solidFill>
                  <a:srgbClr val="ffff00"/>
                </a:solidFill>
                <a:latin typeface="Arial"/>
              </a:rPr>
              <a:t>linéarité étendue</a:t>
            </a:r>
            <a:r>
              <a:rPr b="0" lang="fr-FR" sz="2800" spc="-1" strike="noStrike">
                <a:solidFill>
                  <a:srgbClr val="ffffff"/>
                </a:solidFill>
                <a:latin typeface="Arial"/>
              </a:rPr>
              <a:t> (250 à 25 millions de copies/ml)</a:t>
            </a:r>
            <a:endParaRPr b="0" lang="en-US" sz="2800" spc="-1" strike="noStrike">
              <a:solidFill>
                <a:srgbClr val="ffffff"/>
              </a:solidFill>
              <a:latin typeface="Arial"/>
            </a:endParaRPr>
          </a:p>
          <a:p>
            <a:pPr lvl="2" marL="1097280" indent="-21924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dapté pour les </a:t>
            </a:r>
            <a:r>
              <a:rPr b="0" lang="fr-FR" sz="2800" spc="-1" strike="noStrike">
                <a:solidFill>
                  <a:srgbClr val="ffff00"/>
                </a:solidFill>
                <a:latin typeface="Arial"/>
              </a:rPr>
              <a:t>grandes séries</a:t>
            </a:r>
            <a:r>
              <a:rPr b="0" lang="fr-FR" sz="2800" spc="-1" strike="noStrike">
                <a:solidFill>
                  <a:srgbClr val="ffffff"/>
                </a:solidFill>
                <a:latin typeface="Arial"/>
              </a:rPr>
              <a:t> </a:t>
            </a:r>
            <a:endParaRPr b="0" lang="en-US" sz="2800" spc="-1" strike="noStrike">
              <a:solidFill>
                <a:srgbClr val="ffffff"/>
              </a:solidFill>
              <a:latin typeface="Arial"/>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19" name=""/>
          <p:cNvSpPr/>
          <p:nvPr/>
        </p:nvSpPr>
        <p:spPr>
          <a:xfrm>
            <a:off x="441360" y="404640"/>
            <a:ext cx="8248680" cy="5860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20" name="" descr=""/>
          <p:cNvPicPr/>
          <p:nvPr/>
        </p:nvPicPr>
        <p:blipFill>
          <a:blip r:embed="rId1"/>
          <a:stretch/>
        </p:blipFill>
        <p:spPr>
          <a:xfrm>
            <a:off x="533520" y="1447920"/>
            <a:ext cx="4356000" cy="4419360"/>
          </a:xfrm>
          <a:prstGeom prst="rect">
            <a:avLst/>
          </a:prstGeom>
          <a:ln w="0">
            <a:noFill/>
          </a:ln>
        </p:spPr>
      </p:pic>
      <p:sp>
        <p:nvSpPr>
          <p:cNvPr id="2421" name=""/>
          <p:cNvSpPr/>
          <p:nvPr/>
        </p:nvSpPr>
        <p:spPr>
          <a:xfrm>
            <a:off x="3809880" y="6248520"/>
            <a:ext cx="502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S. Kalpoe, </a:t>
            </a:r>
            <a:r>
              <a:rPr b="0" lang="en-US" sz="1600" spc="-1" strike="noStrike">
                <a:solidFill>
                  <a:srgbClr val="ffffff"/>
                </a:solidFill>
                <a:latin typeface="Arial"/>
                <a:ea typeface="PMingLiU"/>
              </a:rPr>
              <a:t>J. Clin Microbiol 2004 42(4):1498-1504</a:t>
            </a:r>
            <a:endParaRPr b="0" lang="en-US" sz="1600" spc="-1" strike="noStrike">
              <a:solidFill>
                <a:srgbClr val="ffffff"/>
              </a:solidFill>
              <a:latin typeface="Arial"/>
            </a:endParaRPr>
          </a:p>
        </p:txBody>
      </p:sp>
      <p:sp>
        <p:nvSpPr>
          <p:cNvPr id="2422" name="PlaceHolder 1"/>
          <p:cNvSpPr>
            <a:spLocks noGrp="1"/>
          </p:cNvSpPr>
          <p:nvPr>
            <p:ph type="title"/>
          </p:nvPr>
        </p:nvSpPr>
        <p:spPr>
          <a:xfrm>
            <a:off x="3049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ffff"/>
                </a:solidFill>
                <a:latin typeface="Arial"/>
              </a:rPr>
              <a:t>Quel compartiment  du sang ?</a:t>
            </a:r>
            <a:endParaRPr b="0" lang="en-US" sz="3600" spc="-1" strike="noStrike">
              <a:solidFill>
                <a:srgbClr val="00ffff"/>
              </a:solidFill>
              <a:latin typeface="Arial"/>
            </a:endParaRPr>
          </a:p>
        </p:txBody>
      </p:sp>
      <p:pic>
        <p:nvPicPr>
          <p:cNvPr id="2423" name="" descr=""/>
          <p:cNvPicPr/>
          <p:nvPr/>
        </p:nvPicPr>
        <p:blipFill>
          <a:blip r:embed="rId2"/>
          <a:stretch/>
        </p:blipFill>
        <p:spPr>
          <a:xfrm>
            <a:off x="457200" y="1600200"/>
            <a:ext cx="4038480" cy="4525920"/>
          </a:xfrm>
          <a:prstGeom prst="rect">
            <a:avLst/>
          </a:prstGeom>
          <a:ln w="0">
            <a:noFill/>
          </a:ln>
        </p:spPr>
      </p:pic>
      <p:sp>
        <p:nvSpPr>
          <p:cNvPr id="2424" name="PlaceHolder 2"/>
          <p:cNvSpPr>
            <a:spLocks noGrp="1"/>
          </p:cNvSpPr>
          <p:nvPr>
            <p:ph/>
          </p:nvPr>
        </p:nvSpPr>
        <p:spPr>
          <a:xfrm>
            <a:off x="5105520" y="152388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9 échantillons (transplantés d’organe et de moelle osseu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ma : nombreux avantages (facilité de prélèvement, de conserv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ffff"/>
                </a:solidFill>
                <a:latin typeface="Arial"/>
              </a:rPr>
              <a:t>Pathogénicité</a:t>
            </a:r>
            <a:endParaRPr b="0" lang="en-US" sz="4400" spc="-1" strike="noStrike">
              <a:solidFill>
                <a:srgbClr val="00ffff"/>
              </a:solidFill>
              <a:latin typeface="Arial"/>
            </a:endParaRPr>
          </a:p>
        </p:txBody>
      </p:sp>
      <p:sp>
        <p:nvSpPr>
          <p:cNvPr id="2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nction du statut immunitaire de l’hôte</a:t>
            </a:r>
            <a:endParaRPr b="0" lang="en-US" sz="2800" spc="-1" strike="noStrike">
              <a:solidFill>
                <a:srgbClr val="ffffff"/>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eveurs d’allogreffe</a:t>
            </a:r>
            <a:r>
              <a:rPr b="0" lang="en-US" sz="2800" spc="-1" strike="noStrike">
                <a:solidFill>
                  <a:srgbClr val="ffffff"/>
                </a:solidFill>
                <a:latin typeface="Arial"/>
              </a:rPr>
              <a:t> de moelle ou d’organ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 à CMV : </a:t>
            </a:r>
            <a:endParaRPr b="0" lang="en-US" sz="2800" spc="-1" strike="noStrike">
              <a:solidFill>
                <a:srgbClr val="ffffff"/>
              </a:solidFill>
              <a:latin typeface="Arial"/>
            </a:endParaRPr>
          </a:p>
          <a:p>
            <a:pPr lvl="2" marL="1143000" indent="-2286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asymptomatique</a:t>
            </a:r>
            <a:endParaRPr b="0" lang="en-US" sz="2800" spc="-1" strike="noStrike">
              <a:solidFill>
                <a:srgbClr val="ffffff"/>
              </a:solidFill>
              <a:latin typeface="Arial"/>
            </a:endParaRPr>
          </a:p>
          <a:p>
            <a:pPr lvl="2" marL="1143000" indent="-2286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s biologiques d’infection active à CMV</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adie à CMV</a:t>
            </a:r>
            <a:endParaRPr b="0" lang="en-US" sz="2800" spc="-1" strike="noStrike">
              <a:solidFill>
                <a:srgbClr val="ffffff"/>
              </a:solidFill>
              <a:latin typeface="Arial"/>
            </a:endParaRPr>
          </a:p>
          <a:p>
            <a:pPr lvl="2" marL="1143000" indent="-2286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ymptomatique (fièvre…)</a:t>
            </a:r>
            <a:endParaRPr b="0" lang="en-US" sz="2800" spc="-1" strike="noStrike">
              <a:solidFill>
                <a:srgbClr val="ffffff"/>
              </a:solidFill>
              <a:latin typeface="Arial"/>
            </a:endParaRPr>
          </a:p>
          <a:p>
            <a:pPr lvl="2" marL="1143000" indent="-2286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ou  localisation viscérale</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7" name=""/>
          <p:cNvSpPr/>
          <p:nvPr/>
        </p:nvSpPr>
        <p:spPr>
          <a:xfrm>
            <a:off x="5582520" y="6310440"/>
            <a:ext cx="236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ya et al, AJT 200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Facteurs de risque et maladie à CMV</a:t>
            </a:r>
            <a:endParaRPr b="0" lang="en-US" sz="3600" spc="-1" strike="noStrike">
              <a:solidFill>
                <a:srgbClr val="00ffff"/>
              </a:solidFill>
              <a:latin typeface="Arial"/>
            </a:endParaRPr>
          </a:p>
        </p:txBody>
      </p:sp>
      <p:sp>
        <p:nvSpPr>
          <p:cNvPr id="2429"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Facteurs de risque de survenue d’une maladie à CMV</a:t>
            </a:r>
            <a:r>
              <a:rPr b="0" lang="fr-FR" sz="3200" spc="-1" strike="noStrike">
                <a:solidFill>
                  <a:srgbClr val="ffffff"/>
                </a:solidFill>
                <a:latin typeface="Arial"/>
              </a:rPr>
              <a:t> après greffe d’organ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tatut </a:t>
            </a:r>
            <a:r>
              <a:rPr b="0" lang="fr-FR" sz="2800" spc="-1" strike="noStrike">
                <a:solidFill>
                  <a:srgbClr val="ffff00"/>
                </a:solidFill>
                <a:latin typeface="Arial"/>
              </a:rPr>
              <a:t>sérologique CMV du couple Donneur/Receveur</a:t>
            </a:r>
            <a:endParaRPr b="0" lang="en-US" sz="2800" spc="-1" strike="noStrike">
              <a:solidFill>
                <a:srgbClr val="ffffff"/>
              </a:solidFill>
              <a:latin typeface="Arial"/>
            </a:endParaRPr>
          </a:p>
          <a:p>
            <a:pPr lvl="1" marL="743040" indent="-285840">
              <a:lnSpc>
                <a:spcPct val="90000"/>
              </a:lnSpc>
              <a:spcBef>
                <a:spcPts val="700"/>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ésence des </a:t>
            </a:r>
            <a:r>
              <a:rPr b="0" lang="en-GB" sz="2800" spc="-1" strike="noStrike">
                <a:solidFill>
                  <a:srgbClr val="ffff00"/>
                </a:solidFill>
                <a:latin typeface="Arial"/>
              </a:rPr>
              <a:t>marqueurs d’infection active dans 85%</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raitement </a:t>
            </a:r>
            <a:r>
              <a:rPr b="0" lang="fr-FR" sz="2800" spc="-1" strike="noStrike">
                <a:solidFill>
                  <a:srgbClr val="ffff00"/>
                </a:solidFill>
                <a:latin typeface="Arial"/>
              </a:rPr>
              <a:t>immunosuppresseur</a:t>
            </a:r>
            <a:endParaRPr b="0" lang="en-US" sz="2800" spc="-1" strike="noStrike">
              <a:solidFill>
                <a:srgbClr val="ffffff"/>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Organe greffé</a:t>
            </a:r>
            <a:endParaRPr b="0" lang="en-US" sz="2800" spc="-1" strike="noStrike">
              <a:solidFill>
                <a:srgbClr val="ffffff"/>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Stratégies thérapeutiques</a:t>
            </a:r>
            <a:endParaRPr b="0" lang="en-US" sz="4400" spc="-1" strike="noStrike">
              <a:solidFill>
                <a:srgbClr val="00ffff"/>
              </a:solidFill>
              <a:latin typeface="Arial"/>
            </a:endParaRPr>
          </a:p>
        </p:txBody>
      </p:sp>
      <p:sp>
        <p:nvSpPr>
          <p:cNvPr id="2431" name=""/>
          <p:cNvSpPr/>
          <p:nvPr/>
        </p:nvSpPr>
        <p:spPr>
          <a:xfrm>
            <a:off x="228600" y="1447920"/>
            <a:ext cx="4343400" cy="23619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TRAITEMENT CURATIF</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nciclovi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alganciclovi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dofovi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scarnet</a:t>
            </a:r>
            <a:endParaRPr b="0" lang="en-US" sz="2400" spc="-1" strike="noStrike">
              <a:solidFill>
                <a:srgbClr val="ffffff"/>
              </a:solidFill>
              <a:latin typeface="Arial"/>
            </a:endParaRPr>
          </a:p>
        </p:txBody>
      </p:sp>
      <p:sp>
        <p:nvSpPr>
          <p:cNvPr id="2432" name=""/>
          <p:cNvSpPr/>
          <p:nvPr/>
        </p:nvSpPr>
        <p:spPr>
          <a:xfrm>
            <a:off x="4572000" y="1447920"/>
            <a:ext cx="4343400" cy="23619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TRAITEMENT PRÉVENTIF</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Ganciclovi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Valganciclovi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valaciclovir</a:t>
            </a:r>
            <a:endParaRPr b="0" lang="en-US" sz="2400" spc="-1" strike="noStrike">
              <a:solidFill>
                <a:srgbClr val="ffffff"/>
              </a:solidFill>
              <a:latin typeface="Arial"/>
            </a:endParaRPr>
          </a:p>
        </p:txBody>
      </p:sp>
      <p:sp>
        <p:nvSpPr>
          <p:cNvPr id="2433" name=""/>
          <p:cNvSpPr/>
          <p:nvPr/>
        </p:nvSpPr>
        <p:spPr>
          <a:xfrm>
            <a:off x="0" y="5334120"/>
            <a:ext cx="373392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ection symptomatique à CMVH</a:t>
            </a:r>
            <a:endParaRPr b="0" lang="en-US" sz="2400" spc="-1" strike="noStrike">
              <a:solidFill>
                <a:srgbClr val="ffffff"/>
              </a:solidFill>
              <a:latin typeface="Arial"/>
            </a:endParaRPr>
          </a:p>
        </p:txBody>
      </p:sp>
      <p:sp>
        <p:nvSpPr>
          <p:cNvPr id="2434" name=""/>
          <p:cNvSpPr/>
          <p:nvPr/>
        </p:nvSpPr>
        <p:spPr>
          <a:xfrm>
            <a:off x="4497120" y="5337000"/>
            <a:ext cx="363708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eveur d’allogreffe</a:t>
            </a:r>
            <a:endParaRPr b="0" lang="en-US" sz="2400" spc="-1" strike="noStrike">
              <a:solidFill>
                <a:srgbClr val="ffffff"/>
              </a:solidFill>
              <a:latin typeface="Arial"/>
            </a:endParaRPr>
          </a:p>
        </p:txBody>
      </p:sp>
      <p:sp>
        <p:nvSpPr>
          <p:cNvPr id="2435" name=""/>
          <p:cNvSpPr/>
          <p:nvPr/>
        </p:nvSpPr>
        <p:spPr>
          <a:xfrm>
            <a:off x="1981080" y="4191120"/>
            <a:ext cx="486000" cy="976320"/>
          </a:xfrm>
          <a:prstGeom prst="downArrow">
            <a:avLst>
              <a:gd name="adj1" fmla="val 50000"/>
              <a:gd name="adj2" fmla="val 50222"/>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6" name=""/>
          <p:cNvSpPr/>
          <p:nvPr/>
        </p:nvSpPr>
        <p:spPr>
          <a:xfrm>
            <a:off x="6019920" y="4267080"/>
            <a:ext cx="485640" cy="976320"/>
          </a:xfrm>
          <a:prstGeom prst="downArrow">
            <a:avLst>
              <a:gd name="adj1" fmla="val 50000"/>
              <a:gd name="adj2" fmla="val 50259"/>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Stratégies thérapeutiques</a:t>
            </a:r>
            <a:endParaRPr b="0" lang="en-US" sz="4400" spc="-1" strike="noStrike">
              <a:solidFill>
                <a:srgbClr val="00ffff"/>
              </a:solidFill>
              <a:latin typeface="Arial"/>
            </a:endParaRPr>
          </a:p>
        </p:txBody>
      </p:sp>
      <p:sp>
        <p:nvSpPr>
          <p:cNvPr id="2438" name="PlaceHolder 2"/>
          <p:cNvSpPr>
            <a:spLocks noGrp="1"/>
          </p:cNvSpPr>
          <p:nvPr>
            <p:ph/>
          </p:nvPr>
        </p:nvSpPr>
        <p:spPr>
          <a:xfrm>
            <a:off x="4876920" y="2666880"/>
            <a:ext cx="4038480" cy="3276720"/>
          </a:xfrm>
          <a:prstGeom prst="rect">
            <a:avLst/>
          </a:prstGeom>
          <a:noFill/>
          <a:ln w="9360">
            <a:solidFill>
              <a:srgbClr val="ff6600"/>
            </a:solidFill>
            <a:miter/>
          </a:ln>
        </p:spPr>
        <p:txBody>
          <a:bodyPr lIns="90000" rIns="90000" tIns="46800" bIns="46800" anchor="t">
            <a:normAutofit/>
          </a:bodyPr>
          <a:p>
            <a:pPr marL="343080" indent="-3430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rPr>
              <a:t>traitement anticipé ou </a:t>
            </a:r>
            <a:r>
              <a:rPr b="0" i="1" lang="fr-FR" sz="2600" spc="-1" strike="noStrike">
                <a:solidFill>
                  <a:srgbClr val="ffff00"/>
                </a:solidFill>
                <a:latin typeface="Arial"/>
              </a:rPr>
              <a:t>preemptive</a:t>
            </a:r>
            <a:r>
              <a:rPr b="0" lang="fr-FR" sz="2600" spc="-1" strike="noStrike">
                <a:solidFill>
                  <a:srgbClr val="ffff00"/>
                </a:solidFill>
                <a:latin typeface="Arial"/>
              </a:rPr>
              <a:t> :</a:t>
            </a:r>
            <a:r>
              <a:rPr b="0" lang="fr-FR" sz="2600" spc="-1" strike="noStrike">
                <a:solidFill>
                  <a:srgbClr val="00ffff"/>
                </a:solidFill>
                <a:latin typeface="Arial"/>
              </a:rPr>
              <a:t>  </a:t>
            </a:r>
            <a:endParaRPr b="0" lang="en-US" sz="2600" spc="-1" strike="noStrike">
              <a:solidFill>
                <a:srgbClr val="ffffff"/>
              </a:solidFill>
              <a:latin typeface="Arial"/>
            </a:endParaRPr>
          </a:p>
          <a:p>
            <a:pPr lvl="1" marL="743040" indent="-2858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Arial"/>
              </a:rPr>
              <a:t>initié lors de la détection d’un marqueur biologique d’infection active en l’absence de symptômes cliniques</a:t>
            </a:r>
            <a:endParaRPr b="0" lang="en-US" sz="2100" spc="-1" strike="noStrike">
              <a:solidFill>
                <a:srgbClr val="ffffff"/>
              </a:solidFill>
              <a:latin typeface="Arial"/>
            </a:endParaRPr>
          </a:p>
          <a:p>
            <a:pPr lvl="1" marL="743040" indent="-2858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Arial"/>
              </a:rPr>
              <a:t>Europe</a:t>
            </a:r>
            <a:endParaRPr b="0" lang="en-US" sz="2100" spc="-1" strike="noStrike">
              <a:solidFill>
                <a:srgbClr val="ffffff"/>
              </a:solidFill>
              <a:latin typeface="Arial"/>
            </a:endParaRPr>
          </a:p>
        </p:txBody>
      </p:sp>
      <p:sp>
        <p:nvSpPr>
          <p:cNvPr id="2439" name="PlaceHolder 3"/>
          <p:cNvSpPr>
            <a:spLocks noGrp="1"/>
          </p:cNvSpPr>
          <p:nvPr>
            <p:ph/>
          </p:nvPr>
        </p:nvSpPr>
        <p:spPr>
          <a:xfrm>
            <a:off x="380880" y="2666520"/>
            <a:ext cx="4191120" cy="3273480"/>
          </a:xfrm>
          <a:prstGeom prst="rect">
            <a:avLst/>
          </a:prstGeom>
          <a:noFill/>
          <a:ln w="9360">
            <a:solidFill>
              <a:srgbClr val="ff6600"/>
            </a:solidFill>
            <a:miter/>
          </a:ln>
        </p:spPr>
        <p:txBody>
          <a:bodyPr lIns="90000" rIns="90000" tIns="46800" bIns="46800" anchor="t">
            <a:normAutofit fontScale="97000"/>
          </a:bodyPr>
          <a:p>
            <a:pPr marL="332640" indent="-332640">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rPr>
              <a:t>traitement prophylactique</a:t>
            </a:r>
            <a:endParaRPr b="0" lang="en-US" sz="2600" spc="-1" strike="noStrike">
              <a:solidFill>
                <a:srgbClr val="ffffff"/>
              </a:solidFill>
              <a:latin typeface="Arial"/>
            </a:endParaRPr>
          </a:p>
          <a:p>
            <a:pPr lvl="1" marL="720720" indent="-2772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hez tout receveur profondément immunodéprimé à haut risque de développer une infection grave à CMVH</a:t>
            </a:r>
            <a:endParaRPr b="0" lang="en-US" sz="2200" spc="-1" strike="noStrike">
              <a:solidFill>
                <a:srgbClr val="ffffff"/>
              </a:solidFill>
              <a:latin typeface="Arial"/>
            </a:endParaRPr>
          </a:p>
          <a:p>
            <a:pPr lvl="1" marL="720720" indent="-2772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3 mois</a:t>
            </a:r>
            <a:endParaRPr b="0" lang="en-US" sz="2200" spc="-1" strike="noStrike">
              <a:solidFill>
                <a:srgbClr val="ffffff"/>
              </a:solidFill>
              <a:latin typeface="Arial"/>
            </a:endParaRPr>
          </a:p>
          <a:p>
            <a:pPr lvl="1" marL="720720" indent="-2772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SA</a:t>
            </a:r>
            <a:endParaRPr b="0" lang="en-US" sz="2200" spc="-1" strike="noStrike">
              <a:solidFill>
                <a:srgbClr val="ffffff"/>
              </a:solidFill>
              <a:latin typeface="Arial"/>
            </a:endParaRPr>
          </a:p>
          <a:p>
            <a:pPr marL="33264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 </a:t>
            </a:r>
            <a:endParaRPr b="0" lang="en-US" sz="1400" spc="-1" strike="noStrike">
              <a:solidFill>
                <a:srgbClr val="ffffff"/>
              </a:solidFill>
              <a:latin typeface="Arial"/>
            </a:endParaRPr>
          </a:p>
        </p:txBody>
      </p:sp>
      <p:sp>
        <p:nvSpPr>
          <p:cNvPr id="2440" name=""/>
          <p:cNvSpPr/>
          <p:nvPr/>
        </p:nvSpPr>
        <p:spPr>
          <a:xfrm>
            <a:off x="3125880" y="1523880"/>
            <a:ext cx="2891880" cy="45972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raitement préventif</a:t>
            </a:r>
            <a:endParaRPr b="0" lang="en-US" sz="2400" spc="-1" strike="noStrike">
              <a:solidFill>
                <a:srgbClr val="ffffff"/>
              </a:solidFill>
              <a:latin typeface="Arial"/>
            </a:endParaRPr>
          </a:p>
        </p:txBody>
      </p:sp>
      <p:sp>
        <p:nvSpPr>
          <p:cNvPr id="2441" name=""/>
          <p:cNvSpPr/>
          <p:nvPr/>
        </p:nvSpPr>
        <p:spPr>
          <a:xfrm flipH="1">
            <a:off x="3123720" y="2057400"/>
            <a:ext cx="3812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2" name=""/>
          <p:cNvSpPr/>
          <p:nvPr/>
        </p:nvSpPr>
        <p:spPr>
          <a:xfrm>
            <a:off x="5029200" y="1981080"/>
            <a:ext cx="4572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éthodes de quantification du CMV</a:t>
            </a:r>
            <a:endParaRPr b="0" lang="en-US" sz="3600" spc="-1" strike="noStrike">
              <a:solidFill>
                <a:srgbClr val="00ffff"/>
              </a:solidFill>
              <a:latin typeface="Arial"/>
            </a:endParaRPr>
          </a:p>
        </p:txBody>
      </p:sp>
      <p:sp>
        <p:nvSpPr>
          <p:cNvPr id="85" name="PlaceHolder 2"/>
          <p:cNvSpPr>
            <a:spLocks noGrp="1"/>
          </p:cNvSpPr>
          <p:nvPr>
            <p:ph/>
          </p:nvPr>
        </p:nvSpPr>
        <p:spPr>
          <a:xfrm>
            <a:off x="0" y="1523520"/>
            <a:ext cx="3581280" cy="1752840"/>
          </a:xfrm>
          <a:prstGeom prst="rect">
            <a:avLst/>
          </a:prstGeom>
          <a:noFill/>
          <a:ln w="9360">
            <a:solidFill>
              <a:srgbClr val="ffff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00"/>
                </a:solidFill>
                <a:latin typeface="Arial"/>
              </a:rPr>
              <a:t>Antigénémie pp65</a:t>
            </a:r>
            <a:endParaRPr b="0" lang="en-US" sz="2000" spc="-1" strike="noStrike">
              <a:solidFill>
                <a:srgbClr val="ffffff"/>
              </a:solidFill>
              <a:latin typeface="Arial"/>
            </a:endParaRPr>
          </a:p>
        </p:txBody>
      </p:sp>
      <p:sp>
        <p:nvSpPr>
          <p:cNvPr id="86" name="PlaceHolder 3"/>
          <p:cNvSpPr>
            <a:spLocks noGrp="1"/>
          </p:cNvSpPr>
          <p:nvPr>
            <p:ph/>
          </p:nvPr>
        </p:nvSpPr>
        <p:spPr>
          <a:xfrm>
            <a:off x="3580920" y="1523880"/>
            <a:ext cx="5334120" cy="502920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Moléculair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PCR conventionnelle</a:t>
            </a:r>
            <a:r>
              <a:rPr b="1" lang="en-US" sz="1800" spc="-1" strike="noStrike">
                <a:solidFill>
                  <a:srgbClr val="ffffff"/>
                </a:solidFill>
                <a:latin typeface="Arial"/>
              </a:rPr>
              <a:t> : </a:t>
            </a:r>
            <a:endParaRPr b="0" lang="en-US" sz="1800" spc="-1" strike="noStrike">
              <a:solidFill>
                <a:srgbClr val="ffffff"/>
              </a:solidFill>
              <a:latin typeface="Arial"/>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licor Monitor</a:t>
            </a:r>
            <a:r>
              <a:rPr b="1" lang="en-US" sz="1800" spc="-1" strike="noStrike" baseline="30000">
                <a:solidFill>
                  <a:srgbClr val="ffffff"/>
                </a:solidFill>
                <a:latin typeface="Arial"/>
                <a:ea typeface="Arial"/>
              </a:rPr>
              <a:t>®</a:t>
            </a:r>
            <a:r>
              <a:rPr b="1" lang="en-US" sz="1800" spc="-1" strike="noStrike">
                <a:solidFill>
                  <a:srgbClr val="ffffff"/>
                </a:solidFill>
                <a:latin typeface="Arial"/>
              </a:rPr>
              <a:t> (COBAS, Roche)</a:t>
            </a:r>
            <a:r>
              <a:rPr b="1"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PCR temps réel</a:t>
            </a:r>
            <a:r>
              <a:rPr b="1" lang="en-US" sz="2000" spc="-1" strike="noStrike">
                <a:solidFill>
                  <a:srgbClr val="ffffff"/>
                </a:solidFill>
                <a:latin typeface="Arial"/>
              </a:rPr>
              <a:t> :</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iques maison </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ousses commercialisées (Argène Biosoft, Qiagen, Abbott….)</a:t>
            </a:r>
            <a:endParaRPr b="0" lang="en-US" sz="1800" spc="-1" strike="noStrike">
              <a:solidFill>
                <a:srgbClr val="ffffff"/>
              </a:solidFill>
              <a:latin typeface="Arial"/>
            </a:endParaRPr>
          </a:p>
          <a:p>
            <a:pPr lvl="1" marL="743040" indent="-285840">
              <a:lnSpc>
                <a:spcPct val="9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NASBA</a:t>
            </a:r>
            <a:r>
              <a:rPr b="1" lang="en-US" sz="2000" spc="-1" strike="noStrike">
                <a:solidFill>
                  <a:srgbClr val="ffffff"/>
                </a:solidFill>
                <a:latin typeface="Arial"/>
              </a:rPr>
              <a:t> : </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ousse Nuclisens pp67</a:t>
            </a:r>
            <a:r>
              <a:rPr b="1" lang="en-US" sz="1800" spc="-1" strike="noStrike" baseline="30000">
                <a:solidFill>
                  <a:srgbClr val="ffffff"/>
                </a:solidFill>
                <a:latin typeface="Arial"/>
                <a:ea typeface="Arial"/>
              </a:rPr>
              <a:t>®</a:t>
            </a:r>
            <a:r>
              <a:rPr b="1" lang="en-US" sz="1800" spc="-1" strike="noStrike">
                <a:solidFill>
                  <a:srgbClr val="ffffff"/>
                </a:solidFill>
                <a:latin typeface="Arial"/>
              </a:rPr>
              <a:t> test (Organon tecknika)</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mérieux</a:t>
            </a:r>
            <a:endParaRPr b="0" lang="en-US" sz="1800" spc="-1" strike="noStrike">
              <a:solidFill>
                <a:srgbClr val="ffffff"/>
              </a:solidFill>
              <a:latin typeface="Arial"/>
            </a:endParaRPr>
          </a:p>
          <a:p>
            <a:pPr lvl="1" marL="743040" indent="-285840">
              <a:lnSpc>
                <a:spcPct val="9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Hybridation moléculaire</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brid Capture DNA Assay </a:t>
            </a:r>
            <a:r>
              <a:rPr b="1" lang="en-US" sz="1800" spc="-1" strike="noStrike" baseline="30000">
                <a:solidFill>
                  <a:srgbClr val="ffffff"/>
                </a:solidFill>
                <a:latin typeface="Arial"/>
                <a:ea typeface="Arial"/>
              </a:rPr>
              <a:t>® </a:t>
            </a:r>
            <a:r>
              <a:rPr b="1" lang="en-US" sz="1800" spc="-1" strike="noStrike">
                <a:solidFill>
                  <a:srgbClr val="ffffff"/>
                </a:solidFill>
                <a:latin typeface="Arial"/>
              </a:rPr>
              <a:t>(Digene)</a:t>
            </a:r>
            <a:endParaRPr b="0" lang="en-US" sz="1800" spc="-1" strike="noStrike">
              <a:solidFill>
                <a:srgbClr val="ffffff"/>
              </a:solidFill>
              <a:latin typeface="Arial"/>
            </a:endParaRPr>
          </a:p>
        </p:txBody>
      </p:sp>
      <p:sp>
        <p:nvSpPr>
          <p:cNvPr id="87" name=""/>
          <p:cNvSpPr/>
          <p:nvPr/>
        </p:nvSpPr>
        <p:spPr>
          <a:xfrm>
            <a:off x="1371600" y="6553080"/>
            <a:ext cx="72388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3581280" y="198108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3581280" y="1523880"/>
            <a:ext cx="5334120" cy="533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oléculaires</a:t>
            </a:r>
            <a:endParaRPr b="0" lang="en-US" sz="2800" spc="-1" strike="noStrike">
              <a:solidFill>
                <a:srgbClr val="ffffff"/>
              </a:solidFill>
              <a:latin typeface="Arial"/>
            </a:endParaRPr>
          </a:p>
        </p:txBody>
      </p:sp>
      <p:sp>
        <p:nvSpPr>
          <p:cNvPr id="90" name=""/>
          <p:cNvSpPr/>
          <p:nvPr/>
        </p:nvSpPr>
        <p:spPr>
          <a:xfrm>
            <a:off x="0" y="1523880"/>
            <a:ext cx="3581280" cy="53352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 moléculaires</a:t>
            </a:r>
            <a:endParaRPr b="0" lang="en-US" sz="2800" spc="-1" strike="noStrike">
              <a:solidFill>
                <a:srgbClr val="ffffff"/>
              </a:solidFill>
              <a:latin typeface="Arial"/>
            </a:endParaRPr>
          </a:p>
        </p:txBody>
      </p:sp>
      <p:sp>
        <p:nvSpPr>
          <p:cNvPr id="91" name=""/>
          <p:cNvSpPr/>
          <p:nvPr/>
        </p:nvSpPr>
        <p:spPr>
          <a:xfrm>
            <a:off x="3058920" y="6583320"/>
            <a:ext cx="610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CR = Polymerase chain reaction NASBA = Nucleic acid sequence-based amplific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4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44" name=""/>
          <p:cNvGraphicFramePr/>
          <p:nvPr/>
        </p:nvGraphicFramePr>
        <p:xfrm>
          <a:off x="468360" y="2060640"/>
          <a:ext cx="8458200" cy="4201920"/>
        </p:xfrm>
        <a:graphic>
          <a:graphicData uri="http://schemas.openxmlformats.org/drawingml/2006/table">
            <a:tbl>
              <a:tblPr/>
              <a:tblGrid>
                <a:gridCol w="1849680"/>
                <a:gridCol w="2530440"/>
                <a:gridCol w="4078080"/>
              </a:tblGrid>
              <a:tr h="565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éthod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vantag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nconvénie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ffff"/>
                    </a:solidFill>
                  </a:tcPr>
                </a:tc>
              </a:tr>
              <a:tr h="147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irémie par Cultur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solement viral</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tude de la résistan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ong (1 à 6 semaines) , fastidieux, Equipement spécifique, faible sensibilité, risque de contamination bactérienne ou fungique, acheminement rapide au laboratoi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Culture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rapid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e (48 heur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quipement spécifique, faible sensibilité, toxicité cellulaire, acheminement rapide au laboratoi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48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Antigénémi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pp65</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e (5 à 6 heures), standardisé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heminement rapide au laboratoir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x négatif si neutropéni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45" name=""/>
          <p:cNvSpPr/>
          <p:nvPr/>
        </p:nvSpPr>
        <p:spPr>
          <a:xfrm>
            <a:off x="468360" y="907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éthodes de quantification du CMV</a:t>
            </a:r>
            <a:endParaRPr b="0" lang="en-US" sz="3600" spc="-1" strike="noStrike">
              <a:solidFill>
                <a:srgbClr val="00ffff"/>
              </a:solidFill>
              <a:latin typeface="Arial"/>
            </a:endParaRPr>
          </a:p>
        </p:txBody>
      </p:sp>
      <p:sp>
        <p:nvSpPr>
          <p:cNvPr id="2447" name="PlaceHolder 2"/>
          <p:cNvSpPr>
            <a:spLocks noGrp="1"/>
          </p:cNvSpPr>
          <p:nvPr>
            <p:ph/>
          </p:nvPr>
        </p:nvSpPr>
        <p:spPr>
          <a:xfrm>
            <a:off x="25092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éthodes non moléculai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ffff"/>
                </a:solidFill>
                <a:latin typeface="Arial"/>
              </a:rPr>
              <a:t>Quel compartiment  du sang ?</a:t>
            </a:r>
            <a:endParaRPr b="0" lang="en-US" sz="3600" spc="-1" strike="noStrike">
              <a:solidFill>
                <a:srgbClr val="00ffff"/>
              </a:solidFill>
              <a:latin typeface="Arial"/>
            </a:endParaRPr>
          </a:p>
        </p:txBody>
      </p:sp>
      <p:sp>
        <p:nvSpPr>
          <p:cNvPr id="2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erna et al Herpes 13:1 2006</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ang total : compartiment de choix</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uarrigue et al JCM 36 (2006) 72-75</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ang total et fraction leucocytaire  : compartiments de choi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gpp65 + à 50 cellules </a:t>
            </a:r>
            <a:r>
              <a:rPr b="0" lang="fr-FR" sz="2400" spc="-1" strike="noStrike">
                <a:solidFill>
                  <a:srgbClr val="ffffff"/>
                </a:solidFill>
                <a:latin typeface="Symbol"/>
                <a:ea typeface="Symbol"/>
              </a:rPr>
              <a:t></a:t>
            </a:r>
            <a:r>
              <a:rPr b="0" lang="fr-FR" sz="2400" spc="-1" strike="noStrike">
                <a:solidFill>
                  <a:srgbClr val="ffffff"/>
                </a:solidFill>
                <a:latin typeface="Arial"/>
              </a:rPr>
              <a:t> 3,8 log </a:t>
            </a:r>
            <a:r>
              <a:rPr b="0" lang="fr-FR" sz="2400" spc="-1" strike="noStrike" baseline="-25000">
                <a:solidFill>
                  <a:srgbClr val="ffffff"/>
                </a:solidFill>
                <a:latin typeface="Arial"/>
              </a:rPr>
              <a:t>10</a:t>
            </a:r>
            <a:r>
              <a:rPr b="0" lang="fr-FR" sz="2400" spc="-1" strike="noStrike">
                <a:solidFill>
                  <a:srgbClr val="ffffff"/>
                </a:solidFill>
                <a:latin typeface="Arial"/>
              </a:rPr>
              <a:t> copies/ml de sang total</a:t>
            </a:r>
            <a:endParaRPr b="0" lang="en-US" sz="2400" spc="-1" strike="noStrike">
              <a:solidFill>
                <a:srgbClr val="ffffff"/>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Arial"/>
              </a:rPr>
              <a:t>3,6 log </a:t>
            </a:r>
            <a:r>
              <a:rPr b="0" lang="fr-FR" sz="2400" spc="-1" strike="noStrike" baseline="-25000">
                <a:solidFill>
                  <a:srgbClr val="ff6600"/>
                </a:solidFill>
                <a:latin typeface="Arial"/>
              </a:rPr>
              <a:t>10</a:t>
            </a:r>
            <a:r>
              <a:rPr b="0" lang="fr-FR" sz="2400" spc="-1" strike="noStrike">
                <a:solidFill>
                  <a:srgbClr val="ff6600"/>
                </a:solidFill>
                <a:latin typeface="Arial"/>
              </a:rPr>
              <a:t> copies/ml sur sang total</a:t>
            </a:r>
            <a:r>
              <a:rPr b="0" lang="fr-FR" sz="2400" spc="-1" strike="noStrike">
                <a:solidFill>
                  <a:srgbClr val="ffffff"/>
                </a:solidFill>
                <a:latin typeface="Arial"/>
              </a:rPr>
              <a:t> = seuil pour déterminer une infection activ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Quel seuil de virémie?</a:t>
            </a:r>
            <a:endParaRPr b="0" lang="en-US" sz="4400" spc="-1" strike="noStrike">
              <a:solidFill>
                <a:srgbClr val="00ffff"/>
              </a:solidFill>
              <a:latin typeface="Arial"/>
            </a:endParaRPr>
          </a:p>
        </p:txBody>
      </p:sp>
      <p:sp>
        <p:nvSpPr>
          <p:cNvPr id="2451" name="PlaceHolder 2"/>
          <p:cNvSpPr>
            <a:spLocks noGrp="1"/>
          </p:cNvSpPr>
          <p:nvPr>
            <p:ph/>
          </p:nvPr>
        </p:nvSpPr>
        <p:spPr>
          <a:xfrm>
            <a:off x="456840" y="1905120"/>
            <a:ext cx="84582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Seuil de virémie pour initier un traitement anticipé</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z les transplantés d’organe solide : </a:t>
            </a:r>
            <a:endParaRPr b="0" lang="en-US" sz="2800" spc="-1" strike="noStrike">
              <a:solidFill>
                <a:srgbClr val="ffffff"/>
              </a:solidFill>
              <a:latin typeface="Arial"/>
            </a:endParaRPr>
          </a:p>
          <a:p>
            <a:pPr lvl="2" marL="1143000" indent="-228600">
              <a:lnSpc>
                <a:spcPct val="8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000 à 5000 copies /ml de plasma</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bas Amplicor) </a:t>
            </a:r>
            <a:endParaRPr b="0" lang="en-US" sz="2800" spc="-1" strike="noStrike">
              <a:solidFill>
                <a:srgbClr val="ffffff"/>
              </a:solidFill>
              <a:latin typeface="Arial"/>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15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z les transplantés de moelle osseuse</a:t>
            </a:r>
            <a:endParaRPr b="0" lang="en-US" sz="2800" spc="-1" strike="noStrike">
              <a:solidFill>
                <a:srgbClr val="ffffff"/>
              </a:solidFill>
              <a:latin typeface="Arial"/>
            </a:endParaRPr>
          </a:p>
          <a:p>
            <a:pPr lvl="2" marL="1143000" indent="-228600">
              <a:lnSpc>
                <a:spcPct val="8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ès la détection de l’ADN plasmatiqu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Quel seuil de virémie?</a:t>
            </a:r>
            <a:endParaRPr b="0" lang="en-US" sz="4400" spc="-1" strike="noStrike">
              <a:solidFill>
                <a:srgbClr val="00ffff"/>
              </a:solidFill>
              <a:latin typeface="Arial"/>
            </a:endParaRPr>
          </a:p>
        </p:txBody>
      </p:sp>
      <p:sp>
        <p:nvSpPr>
          <p:cNvPr id="2453" name="PlaceHolder 2"/>
          <p:cNvSpPr>
            <a:spLocks noGrp="1"/>
          </p:cNvSpPr>
          <p:nvPr>
            <p:ph/>
          </p:nvPr>
        </p:nvSpPr>
        <p:spPr>
          <a:xfrm>
            <a:off x="456840" y="1600200"/>
            <a:ext cx="84582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Seuil de virémie pour initier un traitement anticipé</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 </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z les transplantés d’organe solide : </a:t>
            </a:r>
            <a:endParaRPr b="0" lang="en-US" sz="2800" spc="-1" strike="noStrike">
              <a:solidFill>
                <a:srgbClr val="ffffff"/>
              </a:solidFill>
              <a:latin typeface="Arial"/>
            </a:endParaRPr>
          </a:p>
          <a:p>
            <a:pPr lvl="2" marL="1143000" indent="-228600">
              <a:lnSpc>
                <a:spcPct val="8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00 000 copies /ml de sang total</a:t>
            </a:r>
            <a:endParaRPr b="0" lang="en-US" sz="2800" spc="-1" strike="noStrike">
              <a:solidFill>
                <a:srgbClr val="ffffff"/>
              </a:solidFill>
              <a:latin typeface="Arial"/>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15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z les transplantés de moelle osseuse</a:t>
            </a:r>
            <a:endParaRPr b="0" lang="en-US" sz="2800" spc="-1" strike="noStrike">
              <a:solidFill>
                <a:srgbClr val="ffffff"/>
              </a:solidFill>
              <a:latin typeface="Arial"/>
            </a:endParaRPr>
          </a:p>
          <a:p>
            <a:pPr lvl="2" marL="1143000" indent="-228600">
              <a:lnSpc>
                <a:spcPct val="8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0 000 copies /ml de sang total</a:t>
            </a:r>
            <a:endParaRPr b="0" lang="en-US" sz="2800" spc="-1" strike="noStrike">
              <a:solidFill>
                <a:srgbClr val="ffffff"/>
              </a:solidFill>
              <a:latin typeface="Arial"/>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54" name=""/>
          <p:cNvSpPr/>
          <p:nvPr/>
        </p:nvSpPr>
        <p:spPr>
          <a:xfrm>
            <a:off x="5413680" y="6019920"/>
            <a:ext cx="3288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Gerna et al Herpes 13:1 200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2"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éthodes de quantification du CMV</a:t>
            </a:r>
            <a:endParaRPr b="0" lang="en-US" sz="3600" spc="-1" strike="noStrike">
              <a:solidFill>
                <a:srgbClr val="00ffff"/>
              </a:solidFill>
              <a:latin typeface="Arial"/>
            </a:endParaRPr>
          </a:p>
        </p:txBody>
      </p:sp>
      <p:sp>
        <p:nvSpPr>
          <p:cNvPr id="9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Méthodes moléculaires</a:t>
            </a:r>
            <a:endParaRPr b="0" lang="en-US" sz="2800" spc="-1" strike="noStrike">
              <a:solidFill>
                <a:srgbClr val="ffffff"/>
              </a:solidFill>
              <a:latin typeface="Arial"/>
            </a:endParaRPr>
          </a:p>
        </p:txBody>
      </p:sp>
      <p:graphicFrame>
        <p:nvGraphicFramePr>
          <p:cNvPr id="95" name=""/>
          <p:cNvGraphicFramePr/>
          <p:nvPr/>
        </p:nvGraphicFramePr>
        <p:xfrm>
          <a:off x="457200" y="1981080"/>
          <a:ext cx="8496360" cy="4640040"/>
        </p:xfrm>
        <a:graphic>
          <a:graphicData uri="http://schemas.openxmlformats.org/drawingml/2006/table">
            <a:tbl>
              <a:tblPr/>
              <a:tblGrid>
                <a:gridCol w="1368360"/>
                <a:gridCol w="1366920"/>
                <a:gridCol w="2449440"/>
                <a:gridCol w="1447920"/>
                <a:gridCol w="18637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éthod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élai de résult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uil/ Cible viral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vantag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nconvénie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ffff"/>
                    </a:solidFill>
                  </a:tcPr>
                </a:tc>
              </a:tr>
              <a:tr h="1949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ea typeface="Arial"/>
                        </a:rPr>
                        <a:t>Amplicor CMV Moni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4- 48 heure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ble : gène ADN polymérase viral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uil de détection : </a:t>
                      </a:r>
                      <a:r>
                        <a:rPr b="1" lang="en-US" sz="1600" spc="-1" strike="noStrike">
                          <a:solidFill>
                            <a:srgbClr val="ffff00"/>
                          </a:solidFill>
                          <a:latin typeface="Arial"/>
                        </a:rPr>
                        <a:t>400 copies/ml de plasma</a:t>
                      </a:r>
                      <a:r>
                        <a:rPr b="1" lang="en-US" sz="1600" spc="-1" strike="noStrike">
                          <a:solidFill>
                            <a:srgbClr val="ffffff"/>
                          </a:solidFill>
                          <a:latin typeface="Arial"/>
                        </a:rPr>
                        <a:t> ou 5x10</a:t>
                      </a:r>
                      <a:r>
                        <a:rPr b="1" lang="en-US" sz="1600" spc="-1" strike="noStrike" baseline="30000">
                          <a:solidFill>
                            <a:srgbClr val="ffffff"/>
                          </a:solidFill>
                          <a:latin typeface="Arial"/>
                        </a:rPr>
                        <a:t>5</a:t>
                      </a:r>
                      <a:r>
                        <a:rPr b="1" lang="en-US" sz="1600" spc="-1" strike="noStrike">
                          <a:solidFill>
                            <a:srgbClr val="ffffff"/>
                          </a:solidFill>
                          <a:latin typeface="Arial"/>
                        </a:rPr>
                        <a:t> leucocyte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nde sensibilité</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que de contamination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néarité de 400 à 1x10</a:t>
                      </a:r>
                      <a:r>
                        <a:rPr b="1" lang="en-US" sz="1600" spc="-1" strike="noStrike" baseline="30000">
                          <a:solidFill>
                            <a:srgbClr val="ffffff"/>
                          </a:solidFill>
                          <a:latin typeface="Arial"/>
                        </a:rPr>
                        <a:t>5</a:t>
                      </a:r>
                      <a:r>
                        <a:rPr b="1" lang="en-US" sz="1600" spc="-1" strike="noStrike">
                          <a:solidFill>
                            <a:srgbClr val="ffffff"/>
                          </a:solidFill>
                          <a:latin typeface="Arial"/>
                        </a:rPr>
                        <a:t> copi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Hybrid Capture DNA assay</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heure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rPr>
                        <a:t>700 copies/ml de sang</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rPr>
                        <a:t>2,1 pg d’ADN</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inéarité : 700 à 2x10</a:t>
                      </a:r>
                      <a:r>
                        <a:rPr b="0" lang="fr-FR" sz="1600" spc="-1" strike="noStrike" baseline="30000">
                          <a:solidFill>
                            <a:srgbClr val="ffffff"/>
                          </a:solidFill>
                          <a:latin typeface="Arial"/>
                        </a:rPr>
                        <a:t>6</a:t>
                      </a:r>
                      <a:r>
                        <a:rPr b="0" lang="fr-FR" sz="1600" spc="-1" strike="noStrike">
                          <a:solidFill>
                            <a:srgbClr val="ffffff"/>
                          </a:solidFill>
                          <a:latin typeface="Arial"/>
                        </a:rPr>
                        <a:t> copies/ml de sang ou 830 pg d’AD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 de contamination Facilité d’utilis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nsibilité par rapport à l’agpp65 et PCR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Nuclisens CMV pp6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0 molécules d’AR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 quantitatif</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6" name=""/>
          <p:cNvSpPr/>
          <p:nvPr/>
        </p:nvSpPr>
        <p:spPr>
          <a:xfrm>
            <a:off x="468360" y="907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éthodes de quantification du CMV</a:t>
            </a:r>
            <a:endParaRPr b="0" lang="en-US" sz="3600" spc="-1" strike="noStrike">
              <a:solidFill>
                <a:srgbClr val="00ffff"/>
              </a:solidFill>
              <a:latin typeface="Arial"/>
            </a:endParaRPr>
          </a:p>
        </p:txBody>
      </p:sp>
      <p:sp>
        <p:nvSpPr>
          <p:cNvPr id="99" name="PlaceHolder 2"/>
          <p:cNvSpPr>
            <a:spLocks noGrp="1"/>
          </p:cNvSpPr>
          <p:nvPr>
            <p:ph/>
          </p:nvPr>
        </p:nvSpPr>
        <p:spPr>
          <a:xfrm>
            <a:off x="468360" y="1412640"/>
            <a:ext cx="8229600" cy="492120"/>
          </a:xfrm>
          <a:prstGeom prst="rect">
            <a:avLst/>
          </a:prstGeom>
          <a:noFill/>
          <a:ln w="0">
            <a:noFill/>
          </a:ln>
        </p:spPr>
        <p:txBody>
          <a:bodyPr lIns="90000" rIns="90000" tIns="46800" bIns="46800" anchor="t">
            <a:normAutofit/>
          </a:bodyPr>
          <a:p>
            <a:pPr marL="343080" indent="-343080">
              <a:lnSpc>
                <a:spcPct val="9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Méthodes moléculaires</a:t>
            </a:r>
            <a:endParaRPr b="0" lang="en-US" sz="2800" spc="-1" strike="noStrike">
              <a:solidFill>
                <a:srgbClr val="ffffff"/>
              </a:solidFill>
              <a:latin typeface="Arial"/>
            </a:endParaRPr>
          </a:p>
        </p:txBody>
      </p:sp>
      <p:graphicFrame>
        <p:nvGraphicFramePr>
          <p:cNvPr id="100" name=""/>
          <p:cNvGraphicFramePr/>
          <p:nvPr/>
        </p:nvGraphicFramePr>
        <p:xfrm>
          <a:off x="228600" y="2125800"/>
          <a:ext cx="8664480" cy="4681440"/>
        </p:xfrm>
        <a:graphic>
          <a:graphicData uri="http://schemas.openxmlformats.org/drawingml/2006/table">
            <a:tbl>
              <a:tblPr/>
              <a:tblGrid>
                <a:gridCol w="1295280"/>
                <a:gridCol w="1600200"/>
                <a:gridCol w="2590920"/>
                <a:gridCol w="1535040"/>
                <a:gridCol w="164304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éthod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élèvement/ci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uil et amplitude de détec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xtrac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mplific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ffff"/>
                    </a:solidFill>
                  </a:tcPr>
                </a:tc>
              </a:tr>
              <a:tr h="14061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ea typeface="Arial"/>
                        </a:rPr>
                        <a:t>CMV R-gene kit </a:t>
                      </a:r>
                      <a:r>
                        <a:rPr b="1" i="1" lang="de-DE" sz="1300" spc="-1" strike="noStrike">
                          <a:solidFill>
                            <a:srgbClr val="ffff00"/>
                          </a:solidFill>
                          <a:latin typeface="Arial"/>
                        </a:rPr>
                        <a:t>™</a:t>
                      </a:r>
                      <a:r>
                        <a:rPr b="1" lang="fr-FR" sz="1300" spc="-1" strike="noStrike">
                          <a:solidFill>
                            <a:srgbClr val="ffff00"/>
                          </a:solidFill>
                          <a:latin typeface="Arial"/>
                          <a:ea typeface="Arial"/>
                        </a:rPr>
                        <a:t> (argene)</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ea typeface="Arial"/>
                        </a:rPr>
                        <a:t> </a:t>
                      </a:r>
                      <a:r>
                        <a:rPr b="1" lang="fr-FR" sz="1300" spc="-1" strike="noStrike">
                          <a:solidFill>
                            <a:srgbClr val="ffffff"/>
                          </a:solidFill>
                          <a:latin typeface="Arial"/>
                        </a:rPr>
                        <a:t>Kit 50 réactions</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Sang total</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ible : gène </a:t>
                      </a:r>
                      <a:r>
                        <a:rPr b="1" i="1" lang="en-US" sz="1300" spc="-1" strike="noStrike">
                          <a:solidFill>
                            <a:srgbClr val="ffffff"/>
                          </a:solidFill>
                          <a:latin typeface="Arial"/>
                        </a:rPr>
                        <a:t>UL83</a:t>
                      </a:r>
                      <a:r>
                        <a:rPr b="1" lang="en-US" sz="1300" spc="-1" strike="noStrike">
                          <a:solidFill>
                            <a:srgbClr val="ffffff"/>
                          </a:solidFill>
                          <a:latin typeface="Arial"/>
                        </a:rPr>
                        <a:t> codant la pp65 </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uil de détection : </a:t>
                      </a:r>
                      <a:r>
                        <a:rPr b="1" lang="en-US" sz="1300" spc="-1" strike="noStrike">
                          <a:solidFill>
                            <a:srgbClr val="ffff00"/>
                          </a:solidFill>
                          <a:latin typeface="Arial"/>
                        </a:rPr>
                        <a:t>1 copie/µl</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 2500 à 2,5 millions de copies</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Automatisée </a:t>
                      </a:r>
                      <a:r>
                        <a:rPr b="1" lang="fr-FR" sz="1200" spc="-1" strike="noStrike">
                          <a:solidFill>
                            <a:srgbClr val="ffffff"/>
                          </a:solidFill>
                          <a:latin typeface="Arial"/>
                        </a:rPr>
                        <a:t>(biorobot, MagNAPure, Easy Mag)</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Manuell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mart cycler </a:t>
                      </a:r>
                      <a:r>
                        <a:rPr b="1" lang="de-DE" sz="1200" spc="-1" strike="noStrike" baseline="30000">
                          <a:solidFill>
                            <a:srgbClr val="ffffff"/>
                          </a:solidFill>
                          <a:latin typeface="Arial"/>
                          <a:ea typeface="Arial"/>
                        </a:rPr>
                        <a: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LightCycler </a:t>
                      </a:r>
                      <a:r>
                        <a:rPr b="1" lang="de-DE" sz="1200" spc="-1" strike="noStrike" baseline="30000">
                          <a:solidFill>
                            <a:srgbClr val="ffffff"/>
                          </a:solidFill>
                          <a:latin typeface="Arial"/>
                          <a:ea typeface="Arial"/>
                        </a:rPr>
                        <a: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ABI PRISM</a:t>
                      </a:r>
                      <a:r>
                        <a:rPr b="1" lang="de-DE" sz="1200" spc="-1" strike="noStrike" baseline="30000">
                          <a:solidFill>
                            <a:srgbClr val="ffffff"/>
                          </a:solidFill>
                          <a:latin typeface="Arial"/>
                          <a:ea typeface="Arial"/>
                        </a:rPr>
                        <a: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RotorGene </a:t>
                      </a:r>
                      <a:r>
                        <a:rPr b="1" lang="de-DE" sz="1200" spc="-1" strike="noStrike" baseline="30000">
                          <a:solidFill>
                            <a:srgbClr val="ffffff"/>
                          </a:solidFill>
                          <a:latin typeface="Arial"/>
                          <a:ea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475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00"/>
                          </a:solidFill>
                          <a:latin typeface="Arial"/>
                        </a:rPr>
                        <a:t>CMV RUO PCR Kit</a:t>
                      </a:r>
                      <a:r>
                        <a:rPr b="1" i="1" lang="de-DE" sz="1300" spc="-1" strike="noStrike">
                          <a:solidFill>
                            <a:srgbClr val="ffff00"/>
                          </a:solidFill>
                          <a:latin typeface="Arial"/>
                        </a:rPr>
                        <a:t>™ (</a:t>
                      </a:r>
                      <a:r>
                        <a:rPr b="1" lang="de-DE" sz="1300" spc="-1" strike="noStrike">
                          <a:solidFill>
                            <a:srgbClr val="ffff00"/>
                          </a:solidFill>
                          <a:latin typeface="Arial"/>
                        </a:rPr>
                        <a:t>Abbott )</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00"/>
                          </a:solidFill>
                          <a:latin typeface="Arial"/>
                        </a:rPr>
                        <a:t>Plasma Sérum</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Cible : </a:t>
                      </a:r>
                      <a:r>
                        <a:rPr b="1" lang="fr-FR" sz="1300" spc="-1" strike="noStrike">
                          <a:solidFill>
                            <a:srgbClr val="ffffff"/>
                          </a:solidFill>
                          <a:latin typeface="Arial"/>
                        </a:rPr>
                        <a:t>gène </a:t>
                      </a:r>
                      <a:r>
                        <a:rPr b="1" i="1" lang="fr-FR" sz="1300" spc="-1" strike="noStrike">
                          <a:solidFill>
                            <a:srgbClr val="ffffff"/>
                          </a:solidFill>
                          <a:latin typeface="Arial"/>
                        </a:rPr>
                        <a:t>UL83</a:t>
                      </a:r>
                      <a:r>
                        <a:rPr b="1" lang="fr-FR" sz="1300" spc="-1" strike="noStrike">
                          <a:solidFill>
                            <a:srgbClr val="ffffff"/>
                          </a:solidFill>
                          <a:latin typeface="Arial"/>
                        </a:rPr>
                        <a:t> </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Seuil de détection : </a:t>
                      </a:r>
                      <a:r>
                        <a:rPr b="1" lang="fr-FR" sz="1300" spc="-1" strike="noStrike">
                          <a:solidFill>
                            <a:srgbClr val="ffff00"/>
                          </a:solidFill>
                          <a:latin typeface="Arial"/>
                        </a:rPr>
                        <a:t>0,2 copies/µl (50 copies/ml)</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Standard : </a:t>
                      </a:r>
                      <a:r>
                        <a:rPr b="1" lang="de-DE" sz="1300" spc="-1" strike="noStrike">
                          <a:solidFill>
                            <a:srgbClr val="ffffff"/>
                          </a:solidFill>
                          <a:latin typeface="Arial"/>
                        </a:rPr>
                        <a:t>10</a:t>
                      </a:r>
                      <a:r>
                        <a:rPr b="1" lang="de-DE" sz="1300" spc="-1" strike="noStrike" baseline="30000">
                          <a:solidFill>
                            <a:srgbClr val="ffffff"/>
                          </a:solidFill>
                          <a:latin typeface="Arial"/>
                        </a:rPr>
                        <a:t>1</a:t>
                      </a:r>
                      <a:r>
                        <a:rPr b="1" lang="de-DE" sz="1300" spc="-1" strike="noStrike">
                          <a:solidFill>
                            <a:srgbClr val="ffffff"/>
                          </a:solidFill>
                          <a:latin typeface="Arial"/>
                        </a:rPr>
                        <a:t> - 10</a:t>
                      </a:r>
                      <a:r>
                        <a:rPr b="1" lang="de-DE" sz="1300" spc="-1" strike="noStrike" baseline="30000">
                          <a:solidFill>
                            <a:srgbClr val="ffffff"/>
                          </a:solidFill>
                          <a:latin typeface="Arial"/>
                        </a:rPr>
                        <a:t>4</a:t>
                      </a:r>
                      <a:r>
                        <a:rPr b="1" lang="de-DE" sz="1300" spc="-1" strike="noStrike">
                          <a:solidFill>
                            <a:srgbClr val="ffffff"/>
                          </a:solidFill>
                          <a:latin typeface="Arial"/>
                        </a:rPr>
                        <a:t> copies/µl</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00"/>
                          </a:solidFill>
                          <a:latin typeface="Arial"/>
                        </a:rPr>
                        <a:t>Automatisée :</a:t>
                      </a:r>
                      <a:r>
                        <a:rPr b="1" lang="de-DE" sz="1200" spc="-1" strike="noStrike">
                          <a:solidFill>
                            <a:srgbClr val="ffffff"/>
                          </a:solidFill>
                          <a:latin typeface="Arial"/>
                        </a:rPr>
                        <a:t> m1000 (Abbot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00"/>
                          </a:solidFill>
                          <a:latin typeface="Arial"/>
                        </a:rPr>
                        <a:t>Manuelle </a:t>
                      </a:r>
                      <a:r>
                        <a:rPr b="1" lang="de-DE" sz="1200" spc="-1" strike="noStrike">
                          <a:solidFill>
                            <a:srgbClr val="ffffff"/>
                          </a:solidFill>
                          <a:latin typeface="Arial"/>
                        </a:rPr>
                        <a:t>:QIAamp</a:t>
                      </a:r>
                      <a:r>
                        <a:rPr b="1" lang="de-DE" sz="1200" spc="-1" strike="noStrike">
                          <a:solidFill>
                            <a:srgbClr val="ffffff"/>
                          </a:solidFill>
                          <a:latin typeface="Arial"/>
                          <a:ea typeface="Arial"/>
                        </a:rPr>
                        <a:t>™</a:t>
                      </a:r>
                      <a:r>
                        <a:rPr b="1" lang="de-DE" sz="1200" spc="-1" strike="noStrike">
                          <a:solidFill>
                            <a:srgbClr val="ffffff"/>
                          </a:solidFill>
                          <a:latin typeface="Arial"/>
                        </a:rPr>
                        <a:t> DNA Mini Kit (Qiagen), PureArt</a:t>
                      </a:r>
                      <a:r>
                        <a:rPr b="1" lang="de-DE" sz="1200" spc="-1" strike="noStrike">
                          <a:solidFill>
                            <a:srgbClr val="ffffff"/>
                          </a:solidFill>
                          <a:latin typeface="Arial"/>
                          <a:ea typeface="Arial"/>
                        </a:rPr>
                        <a:t>™</a:t>
                      </a:r>
                      <a:r>
                        <a:rPr b="1" lang="de-DE" sz="1200" spc="-1" strike="noStrike">
                          <a:solidFill>
                            <a:srgbClr val="ffffff"/>
                          </a:solidFill>
                          <a:latin typeface="Arial"/>
                        </a:rPr>
                        <a:t> DNA Mini Kit (artu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90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ABI PRISM</a:t>
                      </a:r>
                      <a:r>
                        <a:rPr b="1" lang="de-DE" sz="1200" spc="-1" strike="noStrike" baseline="30000">
                          <a:solidFill>
                            <a:srgbClr val="ffffff"/>
                          </a:solidFill>
                          <a:latin typeface="Arial"/>
                          <a:ea typeface="Arial"/>
                        </a:rPr>
                        <a:t>®</a:t>
                      </a:r>
                      <a:r>
                        <a:rPr b="1" lang="de-DE" sz="1200" spc="-1" strike="noStrike">
                          <a:solidFill>
                            <a:srgbClr val="ffffff"/>
                          </a:solidFill>
                          <a:latin typeface="Arial"/>
                          <a:ea typeface="Arial"/>
                        </a:rPr>
                        <a:t> 7000,</a:t>
                      </a:r>
                      <a:endParaRPr b="0" lang="en-US" sz="1200" spc="-1" strike="noStrike">
                        <a:solidFill>
                          <a:srgbClr val="ffffff"/>
                        </a:solidFill>
                        <a:latin typeface="Arial"/>
                      </a:endParaRPr>
                    </a:p>
                    <a:p>
                      <a:pPr lvl="1" marL="190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Arial"/>
                        </a:rPr>
                        <a:t> </a:t>
                      </a:r>
                      <a:r>
                        <a:rPr b="1" lang="de-DE" sz="1200" spc="-1" strike="noStrike">
                          <a:solidFill>
                            <a:srgbClr val="ffffff"/>
                          </a:solidFill>
                          <a:latin typeface="Arial"/>
                          <a:ea typeface="Arial"/>
                        </a:rPr>
                        <a:t>m1000 </a:t>
                      </a:r>
                      <a:r>
                        <a:rPr b="1" lang="de-DE" sz="1000" spc="-1" strike="noStrike" baseline="30000">
                          <a:solidFill>
                            <a:srgbClr val="ffffff"/>
                          </a:solidFill>
                          <a:latin typeface="Arial"/>
                          <a:ea typeface="Arial"/>
                        </a:rPr>
                        <a:t>®</a:t>
                      </a:r>
                      <a:r>
                        <a:rPr b="1" lang="fr-FR" sz="1000" spc="-1" strike="noStrike">
                          <a:solidFill>
                            <a:srgbClr val="ffffff"/>
                          </a:solidFill>
                          <a:latin typeface="Arial"/>
                        </a:rPr>
                        <a:t>,</a:t>
                      </a:r>
                      <a:r>
                        <a:rPr b="1" lang="de-DE" sz="1200" spc="-1" strike="noStrike">
                          <a:solidFill>
                            <a:srgbClr val="ffffff"/>
                          </a:solidFill>
                          <a:latin typeface="Arial"/>
                          <a:ea typeface="Arial"/>
                        </a:rPr>
                        <a:t> Abbot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81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ffff00"/>
                          </a:solidFill>
                          <a:latin typeface="Arial"/>
                        </a:rPr>
                        <a:t>artus™</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ffff00"/>
                          </a:solidFill>
                          <a:latin typeface="Arial"/>
                        </a:rPr>
                        <a:t>(Qiagen)</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Kit 24 -96 réactions</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Sang total</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Cible : région 105pb</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Seuil de détection : </a:t>
                      </a:r>
                      <a:r>
                        <a:rPr b="1" lang="fr-FR" sz="1300" spc="-1" strike="noStrike">
                          <a:solidFill>
                            <a:srgbClr val="ffff00"/>
                          </a:solidFill>
                          <a:latin typeface="Arial"/>
                        </a:rPr>
                        <a:t>0,2 à 0,4 copies/µl</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Standard : </a:t>
                      </a:r>
                      <a:r>
                        <a:rPr b="1" lang="de-DE" sz="1300" spc="-1" strike="noStrike">
                          <a:solidFill>
                            <a:srgbClr val="ffffff"/>
                          </a:solidFill>
                          <a:latin typeface="Arial"/>
                        </a:rPr>
                        <a:t>10</a:t>
                      </a:r>
                      <a:r>
                        <a:rPr b="1" lang="de-DE" sz="1300" spc="-1" strike="noStrike" baseline="30000">
                          <a:solidFill>
                            <a:srgbClr val="ffffff"/>
                          </a:solidFill>
                          <a:latin typeface="Arial"/>
                        </a:rPr>
                        <a:t>1</a:t>
                      </a:r>
                      <a:r>
                        <a:rPr b="1" lang="de-DE" sz="1300" spc="-1" strike="noStrike">
                          <a:solidFill>
                            <a:srgbClr val="ffffff"/>
                          </a:solidFill>
                          <a:latin typeface="Arial"/>
                        </a:rPr>
                        <a:t> - 10</a:t>
                      </a:r>
                      <a:r>
                        <a:rPr b="1" lang="de-DE" sz="1300" spc="-1" strike="noStrike" baseline="30000">
                          <a:solidFill>
                            <a:srgbClr val="ffffff"/>
                          </a:solidFill>
                          <a:latin typeface="Arial"/>
                        </a:rPr>
                        <a:t>4</a:t>
                      </a:r>
                      <a:r>
                        <a:rPr b="1" lang="de-DE" sz="1300" spc="-1" strike="noStrike">
                          <a:solidFill>
                            <a:srgbClr val="ffffff"/>
                          </a:solidFill>
                          <a:latin typeface="Arial"/>
                        </a:rPr>
                        <a:t> copies/µl</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Automatisée </a:t>
                      </a:r>
                      <a:r>
                        <a:rPr b="1" lang="fr-FR" sz="1200" spc="-1" strike="noStrike">
                          <a:solidFill>
                            <a:srgbClr val="ffffff"/>
                          </a:solidFill>
                          <a:latin typeface="Arial"/>
                        </a:rPr>
                        <a:t>(biorobot) </a:t>
                      </a:r>
                      <a:r>
                        <a:rPr b="1" lang="de-DE" sz="1200" spc="-1" strike="noStrike">
                          <a:solidFill>
                            <a:srgbClr val="ffff00"/>
                          </a:solidFill>
                          <a:latin typeface="Arial"/>
                        </a:rPr>
                        <a:t>Manuelle</a:t>
                      </a:r>
                      <a:r>
                        <a:rPr b="1" lang="de-DE" sz="1200" spc="-1" strike="noStrike">
                          <a:solidFill>
                            <a:srgbClr val="ffffff"/>
                          </a:solidFill>
                          <a:latin typeface="Arial"/>
                        </a:rPr>
                        <a:t>:QIAamp</a:t>
                      </a:r>
                      <a:r>
                        <a:rPr b="1" lang="de-DE" sz="1200" spc="-1" strike="noStrike">
                          <a:solidFill>
                            <a:srgbClr val="ffffff"/>
                          </a:solidFill>
                          <a:latin typeface="Arial"/>
                          <a:ea typeface="Arial"/>
                        </a:rPr>
                        <a:t>™</a:t>
                      </a:r>
                      <a:r>
                        <a:rPr b="1" lang="de-DE" sz="1200" spc="-1" strike="noStrike">
                          <a:solidFill>
                            <a:srgbClr val="ffffff"/>
                          </a:solidFill>
                          <a:latin typeface="Arial"/>
                        </a:rPr>
                        <a:t> DNA Mini Kit (Qiagen),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lvl="1" marL="179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LightCycler</a:t>
                      </a:r>
                      <a:r>
                        <a:rPr b="1" lang="de-DE" sz="1200" spc="-1" strike="noStrike" baseline="30000">
                          <a:solidFill>
                            <a:srgbClr val="ffffff"/>
                          </a:solidFill>
                          <a:latin typeface="Arial"/>
                          <a:ea typeface="Times New Roman"/>
                        </a:rPr>
                        <a:t>®</a:t>
                      </a:r>
                      <a:endParaRPr b="0" lang="en-US" sz="1200" spc="-1" strike="noStrike">
                        <a:solidFill>
                          <a:srgbClr val="ffffff"/>
                        </a:solidFill>
                        <a:latin typeface="Arial"/>
                      </a:endParaRPr>
                    </a:p>
                    <a:p>
                      <a:pPr lvl="1" marL="179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ABI PRISM</a:t>
                      </a:r>
                      <a:r>
                        <a:rPr b="1" lang="de-DE" sz="1200" spc="-1" strike="noStrike" baseline="30000">
                          <a:solidFill>
                            <a:srgbClr val="ffffff"/>
                          </a:solidFill>
                          <a:latin typeface="Arial"/>
                          <a:ea typeface="Arial"/>
                        </a:rPr>
                        <a:t>®</a:t>
                      </a:r>
                      <a:endParaRPr b="0" lang="en-US" sz="1200" spc="-1" strike="noStrike">
                        <a:solidFill>
                          <a:srgbClr val="ffffff"/>
                        </a:solidFill>
                        <a:latin typeface="Arial"/>
                      </a:endParaRPr>
                    </a:p>
                    <a:p>
                      <a:pPr lvl="1" marL="179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rtus 3000</a:t>
                      </a:r>
                      <a:r>
                        <a:rPr b="1" i="1" lang="en-GB" sz="1200" spc="-1" strike="noStrike">
                          <a:solidFill>
                            <a:srgbClr val="ffffff"/>
                          </a:solidFill>
                          <a:latin typeface="Arial"/>
                          <a:ea typeface="Arial"/>
                        </a:rPr>
                        <a:t>™</a:t>
                      </a:r>
                      <a:r>
                        <a:rPr b="1" lang="en-GB" sz="1200" spc="-1" strike="noStrike">
                          <a:solidFill>
                            <a:srgbClr val="ffffff"/>
                          </a:solidFill>
                          <a:latin typeface="Arial"/>
                        </a:rPr>
                        <a:t> </a:t>
                      </a:r>
                      <a:r>
                        <a:rPr b="1" lang="de-DE" sz="1200" spc="-1" strike="noStrike">
                          <a:solidFill>
                            <a:srgbClr val="ffffff"/>
                          </a:solidFill>
                          <a:latin typeface="Arial"/>
                        </a:rPr>
                        <a:t>/ Rotor-Gene</a:t>
                      </a:r>
                      <a:r>
                        <a:rPr b="1" lang="de-DE" sz="1200" spc="-1" strike="noStrike">
                          <a:solidFill>
                            <a:srgbClr val="ffffff"/>
                          </a:solidFill>
                          <a:latin typeface="Arial"/>
                          <a:ea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1" name=""/>
          <p:cNvSpPr/>
          <p:nvPr/>
        </p:nvSpPr>
        <p:spPr>
          <a:xfrm>
            <a:off x="468360" y="907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TERETS DE LA QUANTIFICATION</a:t>
            </a:r>
            <a:endParaRPr b="0" lang="en-US" sz="4400" spc="-1" strike="noStrike">
              <a:solidFill>
                <a:srgbClr val="00ffff"/>
              </a:solidFill>
              <a:latin typeface="Arial"/>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14:51:49Z</dcterms:created>
  <dc:creator>alexandra</dc:creator>
  <dc:description/>
  <dc:language>en-US</dc:language>
  <cp:lastModifiedBy>Alexandra</cp:lastModifiedBy>
  <dcterms:modified xsi:type="dcterms:W3CDTF">2006-11-28T10:36:32Z</dcterms:modified>
  <cp:revision>219</cp:revision>
  <dc:subject/>
  <dc:title>Mécanismes moléculaires de la résistance du CMV aux antiviraux</dc:title>
</cp:coreProperties>
</file>