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20.png" ContentType="image/png"/>
  <Override PartName="/ppt/media/image17.png" ContentType="image/png"/>
  <Override PartName="/ppt/media/image15.wmf" ContentType="image/x-wmf"/>
  <Override PartName="/ppt/media/image24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13.wmf" ContentType="image/x-wmf"/>
  <Override PartName="/ppt/media/image30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34.wmf" ContentType="image/x-wmf"/>
  <Override PartName="/ppt/media/image36.wmf" ContentType="image/x-wmf"/>
  <Override PartName="/ppt/media/image37.png" ContentType="image/png"/>
  <Override PartName="/ppt/media/image38.wmf" ContentType="image/x-wmf"/>
  <Override PartName="/ppt/media/image28.png" ContentType="image/png"/>
  <Override PartName="/ppt/media/image7.jpeg" ContentType="image/jpeg"/>
  <Override PartName="/ppt/media/image39.jpeg" ContentType="image/jpeg"/>
  <Override PartName="/ppt/media/image8.png" ContentType="image/png"/>
  <Override PartName="/ppt/media/image16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CP" initials="J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06-11-26T16:54:13.031000000" idx="1">
    <p:pos x="10" y="10"/>
    <p:text>en france a quoi sommes nous confrontes, on le sait maintenant qq annees, toutes les donnees vont dans le meme sens et la surveillance viro, confirme les etudes precedentes a une plus large echell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5132-46FB-4181-8E5E-F81ABDBD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753-1D1C-4CE6-9239-95567F0F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98FF-7C22-4DB7-B2EF-8048D549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9C3D-A3F1-4761-9993-C2A565A1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38E-E120-4D79-A83E-506E4380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CF9-9535-4156-B4A3-A83B8D21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8B9D-0BE0-44B4-A609-6229E518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ED5-B3D3-470C-A31E-2A8419F1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389-A881-4086-AA66-6E0682B0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CC1F-272F-4A0F-870A-31F77870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424-4559-41F1-AEC5-AA5EB70D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B57-D50B-4BAF-ACA4-6D85793D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5667-6897-48F2-8519-F1D1A6209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4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4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2276640"/>
            <a:ext cx="73152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Verdana"/>
              </a:rPr>
              <a:t>Diversité des VIH et impact sur le diagnos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Verdana"/>
              </a:rPr>
              <a:t>JC PLANTIER</a:t>
            </a:r>
            <a:r>
              <a:rPr b="0" lang="fr-FR" sz="32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Verdana"/>
              </a:rPr>
              <a:t>jean-christophe.plantier@univ-rouen.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50920" y="333360"/>
            <a:ext cx="3502080" cy="1243080"/>
            <a:chOff x="250920" y="333360"/>
            <a:chExt cx="3502080" cy="1243080"/>
          </a:xfrm>
        </p:grpSpPr>
        <p:sp>
          <p:nvSpPr>
            <p:cNvPr id="43" name=""/>
            <p:cNvSpPr/>
            <p:nvPr/>
          </p:nvSpPr>
          <p:spPr>
            <a:xfrm>
              <a:off x="860400" y="486000"/>
              <a:ext cx="289260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Unité de Virologi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Hôpital C. Nico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HU Rou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250920" y="333360"/>
              <a:ext cx="790560" cy="93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" name=""/>
          <p:cNvGrpSpPr/>
          <p:nvPr/>
        </p:nvGrpSpPr>
        <p:grpSpPr>
          <a:xfrm>
            <a:off x="626760" y="5300640"/>
            <a:ext cx="3067200" cy="988200"/>
            <a:chOff x="626760" y="5300640"/>
            <a:chExt cx="3067200" cy="988200"/>
          </a:xfrm>
        </p:grpSpPr>
        <p:pic>
          <p:nvPicPr>
            <p:cNvPr id="46" name="" descr="Institut de Veille Sanitaire"/>
            <p:cNvPicPr/>
            <p:nvPr/>
          </p:nvPicPr>
          <p:blipFill>
            <a:blip r:embed="rId2"/>
            <a:stretch/>
          </p:blipFill>
          <p:spPr>
            <a:xfrm>
              <a:off x="803160" y="5300640"/>
              <a:ext cx="868680" cy="65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26760" y="5829840"/>
              <a:ext cx="306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boratoire associ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u Centre National de Référence du VI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4800600" y="333360"/>
            <a:ext cx="4343400" cy="1189080"/>
            <a:chOff x="4800600" y="333360"/>
            <a:chExt cx="4343400" cy="1189080"/>
          </a:xfrm>
        </p:grpSpPr>
        <p:sp>
          <p:nvSpPr>
            <p:cNvPr id="49" name=""/>
            <p:cNvSpPr/>
            <p:nvPr/>
          </p:nvSpPr>
          <p:spPr>
            <a:xfrm>
              <a:off x="4800600" y="409680"/>
              <a:ext cx="32004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Équipe d’accueil EA26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aculté de Médecine-Pharmaci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Université de Rou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7812000" y="333360"/>
              <a:ext cx="1332000" cy="828720"/>
              <a:chOff x="7812000" y="333360"/>
              <a:chExt cx="1332000" cy="828720"/>
            </a:xfrm>
          </p:grpSpPr>
          <p:pic>
            <p:nvPicPr>
              <p:cNvPr id="51" name="" descr=""/>
              <p:cNvPicPr/>
              <p:nvPr/>
            </p:nvPicPr>
            <p:blipFill>
              <a:blip r:embed="rId3"/>
              <a:srcRect l="22478" t="21694" r="25143" b="62589"/>
              <a:stretch/>
            </p:blipFill>
            <p:spPr>
              <a:xfrm>
                <a:off x="7812000" y="333360"/>
                <a:ext cx="1332000" cy="46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rcRect l="22478" t="53443" r="25143" b="27515"/>
              <a:stretch/>
            </p:blipFill>
            <p:spPr>
              <a:xfrm>
                <a:off x="7812000" y="837720"/>
                <a:ext cx="1292760" cy="32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26920" y="83664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Verdana"/>
              </a:rPr>
              <a:t>Evaluation Cobas Taqman Roche – M2000 RT Abbott – Cobas amplicor monitor 1.5 </a:t>
            </a:r>
            <a:r>
              <a:rPr b="0" lang="fr-FR" sz="1200" spc="-1" strike="noStrike">
                <a:solidFill>
                  <a:srgbClr val="cc3300"/>
                </a:solidFill>
                <a:latin typeface="Verdana"/>
              </a:rPr>
              <a:t>(Gueudin et coll., J AIDS soumis)</a:t>
            </a:r>
            <a:r>
              <a:rPr b="0" lang="fr-FR" sz="20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4508640"/>
            <a:ext cx="4033800" cy="916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Homogénéité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de quantification parmi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, plus large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dispersion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parmi non-B en particulier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RF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348000" y="1916280"/>
            <a:ext cx="3384720" cy="194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7020000" y="2205000"/>
          <a:ext cx="1944720" cy="1336680"/>
        </p:xfrm>
        <a:graphic>
          <a:graphicData uri="http://schemas.openxmlformats.org/drawingml/2006/table">
            <a:tbl>
              <a:tblPr/>
              <a:tblGrid>
                <a:gridCol w="1247760"/>
                <a:gridCol w="6969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corda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1 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che Taqman / Abbott Real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che Amplicor / Abbott Real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79280" y="2154960"/>
            <a:ext cx="3059280" cy="1554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88 plasmas Observatoire (diversité circulant sur le territoi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 (n=7), A-CRF01 (n= 16), </a:t>
            </a: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CRF02 (n=49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et autres non-B ou CRF (n=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89000"/>
            <a:ext cx="7772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VIH-1 groupe M molécul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4292640"/>
            <a:ext cx="3887640" cy="131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3 CRF02 et 1 A sous-quantification Cobas Taqman &gt;1 log, mais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46 correctement quantifi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certains mieux quantifiés en Amplicor moni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68360" y="6021360"/>
            <a:ext cx="3429000" cy="383040"/>
            <a:chOff x="468360" y="6021360"/>
            <a:chExt cx="3429000" cy="38304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468360" y="6021360"/>
              <a:ext cx="294012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982960" y="6203880"/>
              <a:ext cx="914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RF02_A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98100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Verdana"/>
              </a:rPr>
              <a:t>Evaluation Cobas Taqman Roche – M2000 RT Abbott – Cobas amplicor monitor 1.5 </a:t>
            </a:r>
            <a:r>
              <a:rPr b="0" lang="fr-FR" sz="1200" spc="-1" strike="noStrike">
                <a:solidFill>
                  <a:srgbClr val="cc3300"/>
                </a:solidFill>
                <a:latin typeface="Verdana"/>
              </a:rPr>
              <a:t>(Gueudin et coll., J AIDS soumis)</a:t>
            </a:r>
            <a:r>
              <a:rPr b="0" lang="fr-FR" sz="20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189000"/>
            <a:ext cx="7772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VIH-1 groupe M molécul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1989000"/>
            <a:ext cx="7417080" cy="2314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29 Surnageants VIH-1 groupe M  B &amp; non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9/29 surnageants quantifiés par Abbo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che Taqman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sous-type G non détecté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à 4,9 Log en Abbott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à 3 Log en Cobas Amplic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sous-type H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à 4,3 Log en Abbo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à 2,5 Log en Cobas Amplicor/ sous-quantifié en Taq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4941720"/>
            <a:ext cx="7993080" cy="13262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non sous-type dépenda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-CRF02, G,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autre surnageant G « correctement » quantif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sma 46/49 CRF02  « correctement » quantifi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8208720" cy="316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Von Truchsess et coll., J Med Virol. 2006 78:311-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Verdana"/>
              </a:rPr>
              <a:t>Recombinant inter B/G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« allemand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non détecté par NucliSens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HIV-1 QT assay (bioMerie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significativement sous-quantifié (&gt;1 log) par Monitor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v1.5 (Ro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Comparativement au LCx HIV RNA Quantitative assay (Abbot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combinant impliquant </a:t>
            </a:r>
            <a:r>
              <a:rPr b="0" lang="fr-FR" sz="2000" spc="-1" strike="noStrike">
                <a:solidFill>
                  <a:srgbClr val="3333cc"/>
                </a:solidFill>
                <a:latin typeface="Verdana"/>
              </a:rPr>
              <a:t>virus parentaux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connus pour poser difficultés dans certaines techniques : G dans g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VIH-1 groupe M molécul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4797360"/>
            <a:ext cx="7705440" cy="1313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Difficulté si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forme épidé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Problème: profil de recombinaisons tous différents sans compter les formes uniques non circul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346480" y="3110040"/>
            <a:ext cx="73152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46480" y="3110040"/>
            <a:ext cx="73152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59080" y="3110040"/>
            <a:ext cx="73152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0480" y="3110040"/>
            <a:ext cx="73152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59080" y="3110040"/>
            <a:ext cx="73152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67080" y="3110040"/>
            <a:ext cx="73152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5160" y="3110040"/>
            <a:ext cx="73152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5160" y="3110040"/>
            <a:ext cx="73152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1066680"/>
            <a:ext cx="3906720" cy="5464440"/>
            <a:chOff x="609480" y="1066680"/>
            <a:chExt cx="3906720" cy="5464440"/>
          </a:xfrm>
        </p:grpSpPr>
        <p:pic>
          <p:nvPicPr>
            <p:cNvPr id="164" name="CRF01mosaic" descr=""/>
            <p:cNvPicPr/>
            <p:nvPr/>
          </p:nvPicPr>
          <p:blipFill>
            <a:blip r:embed="rId1"/>
            <a:stretch/>
          </p:blipFill>
          <p:spPr>
            <a:xfrm>
              <a:off x="609480" y="1066680"/>
              <a:ext cx="3560760" cy="5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CRF02mosaic" descr=""/>
            <p:cNvPicPr/>
            <p:nvPr/>
          </p:nvPicPr>
          <p:blipFill>
            <a:blip r:embed="rId2"/>
            <a:stretch/>
          </p:blipFill>
          <p:spPr>
            <a:xfrm>
              <a:off x="609480" y="1752480"/>
              <a:ext cx="3540240" cy="5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CRF03mosaic" descr=""/>
            <p:cNvPicPr/>
            <p:nvPr/>
          </p:nvPicPr>
          <p:blipFill>
            <a:blip r:embed="rId3"/>
            <a:stretch/>
          </p:blipFill>
          <p:spPr>
            <a:xfrm>
              <a:off x="609480" y="2438280"/>
              <a:ext cx="3906720" cy="5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CRF04mosaic" descr=""/>
            <p:cNvPicPr/>
            <p:nvPr/>
          </p:nvPicPr>
          <p:blipFill>
            <a:blip r:embed="rId4"/>
            <a:stretch/>
          </p:blipFill>
          <p:spPr>
            <a:xfrm>
              <a:off x="609480" y="3173400"/>
              <a:ext cx="3540240" cy="5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CRF05mosaic" descr=""/>
            <p:cNvPicPr/>
            <p:nvPr/>
          </p:nvPicPr>
          <p:blipFill>
            <a:blip r:embed="rId5"/>
            <a:stretch/>
          </p:blipFill>
          <p:spPr>
            <a:xfrm>
              <a:off x="609480" y="3886200"/>
              <a:ext cx="3368520" cy="5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CRF06mosaic" descr=""/>
            <p:cNvPicPr/>
            <p:nvPr/>
          </p:nvPicPr>
          <p:blipFill>
            <a:blip r:embed="rId6"/>
            <a:stretch/>
          </p:blipFill>
          <p:spPr>
            <a:xfrm>
              <a:off x="609480" y="4572000"/>
              <a:ext cx="3637080" cy="5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CRF07mosaic" descr=""/>
            <p:cNvPicPr/>
            <p:nvPr/>
          </p:nvPicPr>
          <p:blipFill>
            <a:blip r:embed="rId7"/>
            <a:stretch/>
          </p:blipFill>
          <p:spPr>
            <a:xfrm>
              <a:off x="609480" y="5257800"/>
              <a:ext cx="3898800" cy="5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CRF08mosaic" descr=""/>
            <p:cNvPicPr/>
            <p:nvPr/>
          </p:nvPicPr>
          <p:blipFill>
            <a:blip r:embed="rId8"/>
            <a:stretch/>
          </p:blipFill>
          <p:spPr>
            <a:xfrm>
              <a:off x="609480" y="6019920"/>
              <a:ext cx="3898800" cy="51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/>
          <p:cNvSpPr/>
          <p:nvPr/>
        </p:nvSpPr>
        <p:spPr>
          <a:xfrm>
            <a:off x="2139840" y="3110040"/>
            <a:ext cx="73152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16240" y="3102120"/>
            <a:ext cx="73152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7040" y="3110040"/>
            <a:ext cx="73152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38560" y="3097080"/>
            <a:ext cx="73152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02080" y="3110040"/>
            <a:ext cx="73152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57440" y="3144960"/>
            <a:ext cx="73152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38520" y="3127320"/>
            <a:ext cx="73152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029200" y="1143000"/>
            <a:ext cx="3892680" cy="5054760"/>
            <a:chOff x="5029200" y="1143000"/>
            <a:chExt cx="3892680" cy="5054760"/>
          </a:xfrm>
        </p:grpSpPr>
        <p:pic>
          <p:nvPicPr>
            <p:cNvPr id="180" name="CRF10mosaic" descr=""/>
            <p:cNvPicPr/>
            <p:nvPr/>
          </p:nvPicPr>
          <p:blipFill>
            <a:blip r:embed="rId9"/>
            <a:stretch/>
          </p:blipFill>
          <p:spPr>
            <a:xfrm>
              <a:off x="5029200" y="1143000"/>
              <a:ext cx="3892680" cy="5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CRF11mosaic" descr=""/>
            <p:cNvPicPr/>
            <p:nvPr/>
          </p:nvPicPr>
          <p:blipFill>
            <a:blip r:embed="rId10"/>
            <a:stretch/>
          </p:blipFill>
          <p:spPr>
            <a:xfrm>
              <a:off x="5029200" y="1905120"/>
              <a:ext cx="36100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CRF12mosaic" descr=""/>
            <p:cNvPicPr/>
            <p:nvPr/>
          </p:nvPicPr>
          <p:blipFill>
            <a:blip r:embed="rId11"/>
            <a:stretch/>
          </p:blipFill>
          <p:spPr>
            <a:xfrm>
              <a:off x="5029200" y="2666880"/>
              <a:ext cx="3160800" cy="5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CRF13mosaic" descr="map of CRF13"/>
            <p:cNvPicPr/>
            <p:nvPr/>
          </p:nvPicPr>
          <p:blipFill>
            <a:blip r:embed="rId12"/>
            <a:stretch/>
          </p:blipFill>
          <p:spPr>
            <a:xfrm>
              <a:off x="5029200" y="3429000"/>
              <a:ext cx="357516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CRF14mosaic" descr="map of CRF14"/>
            <p:cNvPicPr/>
            <p:nvPr/>
          </p:nvPicPr>
          <p:blipFill>
            <a:blip r:embed="rId13"/>
            <a:stretch/>
          </p:blipFill>
          <p:spPr>
            <a:xfrm>
              <a:off x="5029200" y="4267080"/>
              <a:ext cx="3152880" cy="5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CRF15mosaic" descr="map of CRF15"/>
            <p:cNvPicPr/>
            <p:nvPr/>
          </p:nvPicPr>
          <p:blipFill>
            <a:blip r:embed="rId14"/>
            <a:stretch/>
          </p:blipFill>
          <p:spPr>
            <a:xfrm>
              <a:off x="5029200" y="5029200"/>
              <a:ext cx="327672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CRF16mosaic" descr="map of CRF15"/>
            <p:cNvPicPr/>
            <p:nvPr/>
          </p:nvPicPr>
          <p:blipFill>
            <a:blip r:embed="rId15"/>
            <a:stretch/>
          </p:blipFill>
          <p:spPr>
            <a:xfrm>
              <a:off x="5029200" y="5715000"/>
              <a:ext cx="3124440" cy="48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/>
          <p:nvPr/>
        </p:nvSpPr>
        <p:spPr>
          <a:xfrm>
            <a:off x="1447920" y="22860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entury Gothic"/>
              </a:rPr>
              <a:t>Groupe M = formes recombinantes circul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entury Gothic"/>
              </a:rPr>
              <a:t>16 à 32 en 2- 3 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50920" y="1628640"/>
            <a:ext cx="8712000" cy="2806920"/>
            <a:chOff x="250920" y="1628640"/>
            <a:chExt cx="8712000" cy="2806920"/>
          </a:xfrm>
        </p:grpSpPr>
        <p:grpSp>
          <p:nvGrpSpPr>
            <p:cNvPr id="189" name=""/>
            <p:cNvGrpSpPr/>
            <p:nvPr/>
          </p:nvGrpSpPr>
          <p:grpSpPr>
            <a:xfrm>
              <a:off x="3564000" y="1628640"/>
              <a:ext cx="5398920" cy="2806920"/>
              <a:chOff x="3564000" y="1628640"/>
              <a:chExt cx="5398920" cy="2806920"/>
            </a:xfrm>
          </p:grpSpPr>
          <p:graphicFrame>
            <p:nvGraphicFramePr>
              <p:cNvPr id="190" name=""/>
              <p:cNvGraphicFramePr/>
              <p:nvPr/>
            </p:nvGraphicFramePr>
            <p:xfrm>
              <a:off x="3564000" y="1628640"/>
              <a:ext cx="5398920" cy="28069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9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564000" y="1628640"/>
                        <a:ext cx="5398920" cy="2806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2" name=""/>
              <p:cNvSpPr/>
              <p:nvPr/>
            </p:nvSpPr>
            <p:spPr>
              <a:xfrm>
                <a:off x="5292720" y="1844640"/>
                <a:ext cx="1511280" cy="237636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324000" y="2349360"/>
              <a:ext cx="2881080" cy="17431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= 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ous identifiés avec </a:t>
              </a: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étendue des indices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dispersion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très différente des VIH-1 </a:t>
              </a: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groupe 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0920" y="1773360"/>
              <a:ext cx="324144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Essai Architect HIV Abbott, Rou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900000" y="189000"/>
            <a:ext cx="7772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VIH-1 groupe O sér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907920"/>
            <a:ext cx="8316720" cy="3376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nts O moins conservés entre eux &gt; diversité intra-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4437000"/>
            <a:ext cx="8940960" cy="2254320"/>
            <a:chOff x="0" y="4437000"/>
            <a:chExt cx="8940960" cy="2254320"/>
          </a:xfrm>
        </p:grpSpPr>
        <p:pic>
          <p:nvPicPr>
            <p:cNvPr id="198" name="" descr=""/>
            <p:cNvPicPr/>
            <p:nvPr/>
          </p:nvPicPr>
          <p:blipFill>
            <a:blip r:embed="rId3"/>
            <a:stretch/>
          </p:blipFill>
          <p:spPr>
            <a:xfrm>
              <a:off x="0" y="4630680"/>
              <a:ext cx="3564000" cy="19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3564000" y="4437000"/>
              <a:ext cx="5376960" cy="22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956720" y="6237360"/>
              <a:ext cx="287280" cy="2160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276720" y="3284640"/>
            <a:ext cx="5678280" cy="27669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2762280" cy="2532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82692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VIH-1 groupe O sér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27280" y="4869000"/>
            <a:ext cx="287280" cy="6476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63640" y="4869000"/>
            <a:ext cx="287280" cy="6476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68360" y="4869000"/>
            <a:ext cx="287640" cy="2156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064720" cy="720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vité CNR : 4 sérologies discordantes impliquant virus O, dont 1 négative avec les 2 tests utilisés en 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5076720" y="2205000"/>
          <a:ext cx="3784680" cy="28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2205000"/>
                    <a:ext cx="378468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324000" y="2636640"/>
            <a:ext cx="4537080" cy="210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N = 257  échantillons; </a:t>
            </a:r>
            <a:r>
              <a:rPr b="0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48 pat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Très </a:t>
            </a:r>
            <a:r>
              <a:rPr b="0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grande dispers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des points 11 échantillons (9 patients) discordance &gt; 1 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2 patien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= toujours sous-quantifiés en LC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1 patie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= toujours sous-quantifié par  technique mai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1 patient non détecté en LC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692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VIH-1 groupe O molécul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1484280"/>
            <a:ext cx="2952720" cy="785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Cx, Abbott intég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C O, Rouen, L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5516640"/>
            <a:ext cx="7199280" cy="916920"/>
          </a:xfrm>
          <a:prstGeom prst="rect">
            <a:avLst/>
          </a:prstGeom>
          <a:solidFill>
            <a:srgbClr val="cc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s un problème variant O mai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rus/patient dépend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quivalence des techniques = autant de difficulté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900000" y="1844640"/>
          <a:ext cx="7702560" cy="3504960"/>
        </p:xfrm>
        <a:graphic>
          <a:graphicData uri="http://schemas.openxmlformats.org/drawingml/2006/table">
            <a:tbl>
              <a:tblPr/>
              <a:tblGrid>
                <a:gridCol w="1552680"/>
                <a:gridCol w="833400"/>
                <a:gridCol w="1746360"/>
                <a:gridCol w="1699920"/>
                <a:gridCol w="1870200"/>
              </a:tblGrid>
              <a:tr h="75744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nage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 VIH-1 groupe 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bott M2000 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érence LC - Abbo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434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434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434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434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434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1116000" y="83664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Century Gothic"/>
              </a:rPr>
              <a:t>Evaluation Cobas Taqman Roche – M2000 RT Abbott – Cobas amplicor monitor 1.5 </a:t>
            </a:r>
            <a:r>
              <a:rPr b="0" lang="fr-FR" sz="1200" spc="-1" strike="noStrike">
                <a:solidFill>
                  <a:srgbClr val="cc3300"/>
                </a:solidFill>
                <a:latin typeface="Century Gothic"/>
              </a:rPr>
              <a:t>(Gueudin et coll., J AIDS soumis)</a:t>
            </a:r>
            <a:r>
              <a:rPr b="0" lang="fr-FR" sz="2000" spc="-1" strike="noStrike">
                <a:solidFill>
                  <a:srgbClr val="cc33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189000"/>
            <a:ext cx="7772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VIH-1 groupe O molécul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5661000"/>
            <a:ext cx="7561080" cy="703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Évaluation continue avec LTR O pour les découvertes O : déterminer quelle technique en fonction du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20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62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79280" y="3284640"/>
            <a:ext cx="8496360" cy="3166920"/>
            <a:chOff x="179280" y="3284640"/>
            <a:chExt cx="8496360" cy="3166920"/>
          </a:xfrm>
        </p:grpSpPr>
        <p:grpSp>
          <p:nvGrpSpPr>
            <p:cNvPr id="221" name=""/>
            <p:cNvGrpSpPr/>
            <p:nvPr/>
          </p:nvGrpSpPr>
          <p:grpSpPr>
            <a:xfrm>
              <a:off x="179280" y="3284640"/>
              <a:ext cx="8496360" cy="3166920"/>
              <a:chOff x="179280" y="3284640"/>
              <a:chExt cx="8496360" cy="3166920"/>
            </a:xfrm>
          </p:grpSpPr>
          <p:graphicFrame>
            <p:nvGraphicFramePr>
              <p:cNvPr id="222" name=""/>
              <p:cNvGraphicFramePr/>
              <p:nvPr/>
            </p:nvGraphicFramePr>
            <p:xfrm>
              <a:off x="3276720" y="3645000"/>
              <a:ext cx="5398920" cy="28065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22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276720" y="3645000"/>
                        <a:ext cx="5398920" cy="280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4" name=""/>
              <p:cNvSpPr/>
              <p:nvPr/>
            </p:nvSpPr>
            <p:spPr>
              <a:xfrm>
                <a:off x="395280" y="4292640"/>
                <a:ext cx="2376360" cy="86256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VIH-1+2  N= 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VIH-2 N=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79280" y="5805360"/>
                <a:ext cx="3024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Verdana"/>
                  </a:rPr>
                  <a:t>VIH-2 moins variab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26160" y="3284640"/>
                <a:ext cx="3370320" cy="337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Verdana"/>
                  </a:rPr>
                  <a:t>Essai Architect HIV Abbott, Rou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6156360" y="3860640"/>
              <a:ext cx="1295280" cy="2376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26920" y="189000"/>
            <a:ext cx="7772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VIH-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0" y="765000"/>
            <a:ext cx="8940960" cy="2470320"/>
            <a:chOff x="0" y="765000"/>
            <a:chExt cx="8940960" cy="2470320"/>
          </a:xfrm>
        </p:grpSpPr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0" y="907920"/>
              <a:ext cx="3252960" cy="18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4"/>
            <a:stretch/>
          </p:blipFill>
          <p:spPr>
            <a:xfrm>
              <a:off x="3564000" y="765000"/>
              <a:ext cx="5376960" cy="24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3492360" y="2852640"/>
              <a:ext cx="1008360" cy="28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000" y="907560"/>
            <a:ext cx="8281800" cy="108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ouble infection à identifier : prise en charge VIH-2 ou VIH-1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rtes réactivités croisées VIH-2 sous-type B sur les WB VIH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Damond et coll., 2001, Virolog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24000" y="1628640"/>
            <a:ext cx="6573240" cy="4001760"/>
            <a:chOff x="324000" y="1628640"/>
            <a:chExt cx="6573240" cy="4001760"/>
          </a:xfrm>
        </p:grpSpPr>
        <p:grpSp>
          <p:nvGrpSpPr>
            <p:cNvPr id="235" name=""/>
            <p:cNvGrpSpPr/>
            <p:nvPr/>
          </p:nvGrpSpPr>
          <p:grpSpPr>
            <a:xfrm>
              <a:off x="324000" y="1628640"/>
              <a:ext cx="6573240" cy="4001760"/>
              <a:chOff x="324000" y="1628640"/>
              <a:chExt cx="6573240" cy="4001760"/>
            </a:xfrm>
          </p:grpSpPr>
          <p:graphicFrame>
            <p:nvGraphicFramePr>
              <p:cNvPr id="236" name=""/>
              <p:cNvGraphicFramePr/>
              <p:nvPr/>
            </p:nvGraphicFramePr>
            <p:xfrm>
              <a:off x="1160280" y="2258280"/>
              <a:ext cx="2868480" cy="2519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60280" y="2258280"/>
                        <a:ext cx="2868480" cy="251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23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92320" y="2258280"/>
                <a:ext cx="3004920" cy="25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3400560" y="2123280"/>
                <a:ext cx="546120" cy="2744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41680" y="2258280"/>
                <a:ext cx="655560" cy="2609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673800" y="2213280"/>
                <a:ext cx="0" cy="2564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07000" y="2079360"/>
                <a:ext cx="234900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1    2   3    4   5     6   7    8  9   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056120" y="2079360"/>
                <a:ext cx="234936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1    2   3    4   5    6   7    8   9    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13920" y="4866840"/>
                <a:ext cx="207612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WB VIH-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01760" y="4866840"/>
                <a:ext cx="218664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WB VIH-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161360" y="1628640"/>
                <a:ext cx="502668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24000" y="5383080"/>
                <a:ext cx="161280" cy="24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3673800" y="2123280"/>
              <a:ext cx="0" cy="2744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300720" y="4076640"/>
            <a:ext cx="2519280" cy="676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auvaises identification de VIH-2  en VIH-1 ou co-infection 1+2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89000"/>
            <a:ext cx="7772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VIH-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5516640"/>
            <a:ext cx="8137440" cy="10080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étection/quantification moléculaire essentiellement techniques mai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u d’ARN circula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antification correcte des VIH-2 groupe A et difficile pour le groupe B (plus variable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932360" y="4221000"/>
            <a:ext cx="324000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2 typ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VIH-1 et VIH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analyse phylogéné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52280"/>
            <a:ext cx="8351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Verdana"/>
              </a:rPr>
              <a:t>Origine, variabilité &amp; diversité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4419720" cy="291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5237280" y="3535200"/>
            <a:ext cx="75960" cy="6098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76920" y="4229280"/>
            <a:ext cx="750600" cy="79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543800" y="4267080"/>
            <a:ext cx="860400" cy="1095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458200" y="3886200"/>
            <a:ext cx="330120" cy="762120"/>
          </a:xfrm>
          <a:custGeom>
            <a:avLst/>
            <a:gdLst/>
            <a:ahLst/>
            <a:rect l="l" t="t" r="r" b="b"/>
            <a:pathLst>
              <a:path w="208" h="480">
                <a:moveTo>
                  <a:pt x="0" y="480"/>
                </a:moveTo>
                <a:cubicBezTo>
                  <a:pt x="88" y="472"/>
                  <a:pt x="176" y="464"/>
                  <a:pt x="192" y="384"/>
                </a:cubicBezTo>
                <a:cubicBezTo>
                  <a:pt x="208" y="304"/>
                  <a:pt x="152" y="152"/>
                  <a:pt x="96" y="0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948360" y="5445000"/>
            <a:ext cx="1865520" cy="1224000"/>
            <a:chOff x="6948360" y="5445000"/>
            <a:chExt cx="1865520" cy="12240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948360" y="5445000"/>
              <a:ext cx="1811520" cy="11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956360" y="5445000"/>
              <a:ext cx="8575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7956720" y="5805360"/>
            <a:ext cx="1187280" cy="33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IH-1 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413000"/>
            <a:ext cx="4643280" cy="2305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fr-FR" sz="1600" spc="-1" strike="noStrike">
                <a:solidFill>
                  <a:srgbClr val="3333cc"/>
                </a:solidFill>
                <a:latin typeface="Verdana"/>
              </a:rPr>
              <a:t>origine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des VIH : SIV chimpanzé &amp; mangabé (gorille 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- importante </a:t>
            </a:r>
            <a:r>
              <a:rPr b="1" lang="fr-FR" sz="1600" spc="-1" strike="noStrike">
                <a:solidFill>
                  <a:srgbClr val="3333cc"/>
                </a:solidFill>
                <a:latin typeface="Verdana"/>
              </a:rPr>
              <a:t>variabilité géné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faible fidélité RT nécessaire à la réplication, sans capacité de ré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forte réplication (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Verdana"/>
              </a:rPr>
              <a:t>9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virions / jou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- fort pouvoir de </a:t>
            </a:r>
            <a:r>
              <a:rPr b="1" lang="fr-FR" sz="1600" spc="-1" strike="noStrike">
                <a:solidFill>
                  <a:srgbClr val="3333cc"/>
                </a:solidFill>
                <a:latin typeface="Verdana"/>
              </a:rPr>
              <a:t>recombinai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50920" y="5157720"/>
            <a:ext cx="4825800" cy="1191240"/>
            <a:chOff x="250920" y="5157720"/>
            <a:chExt cx="4825800" cy="1191240"/>
          </a:xfrm>
        </p:grpSpPr>
        <p:sp>
          <p:nvSpPr>
            <p:cNvPr id="66" name=""/>
            <p:cNvSpPr/>
            <p:nvPr/>
          </p:nvSpPr>
          <p:spPr>
            <a:xfrm>
              <a:off x="250920" y="5374800"/>
              <a:ext cx="5032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6920" y="5157720"/>
              <a:ext cx="424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Verdana"/>
                </a:rPr>
                <a:t>Multitude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de souches virales différentes</a:t>
              </a:r>
              <a:r>
                <a:rPr b="1" lang="en-US" sz="1800" spc="-1" strike="noStrike">
                  <a:solidFill>
                    <a:srgbClr val="ff0000"/>
                  </a:solidFill>
                  <a:latin typeface="Verdana"/>
                </a:rPr>
                <a:t> (variabilité)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qui</a:t>
              </a:r>
              <a:r>
                <a:rPr b="1" lang="en-US" sz="1800" spc="-1" strike="noStrike">
                  <a:solidFill>
                    <a:srgbClr val="ff0000"/>
                  </a:solidFill>
                  <a:latin typeface="Verdana"/>
                </a:rPr>
                <a:t> divergent ou se recombinent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au cours du temps</a:t>
              </a:r>
              <a:r>
                <a:rPr b="1" lang="en-US" sz="1800" spc="-1" strike="noStrike">
                  <a:solidFill>
                    <a:srgbClr val="ff0000"/>
                  </a:solidFill>
                  <a:latin typeface="Verdana"/>
                </a:rPr>
                <a:t> (diversité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4360" y="189000"/>
            <a:ext cx="7772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ils: difficultés limitées, rarement les mêmes trousses, souvent des virus différents en cau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00000" y="1844640"/>
            <a:ext cx="763272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erdana"/>
              </a:rPr>
              <a:t>Bien connaître les limites/défau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e certains techniques sérologiques &amp; moléculaires (ex. </a:t>
            </a:r>
            <a:r>
              <a:rPr b="1" lang="en-US" sz="1800" spc="-1" strike="noStrike">
                <a:solidFill>
                  <a:srgbClr val="3333cc"/>
                </a:solidFill>
                <a:latin typeface="Verdana"/>
              </a:rPr>
              <a:t>région cible choisi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4221000"/>
            <a:ext cx="8066160" cy="228852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Impact diversité : paradoxe Groupe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tion de </a:t>
            </a:r>
            <a:r>
              <a:rPr b="0" lang="fr-FR" sz="1800" spc="-1" strike="noStrike">
                <a:solidFill>
                  <a:srgbClr val="3333cc"/>
                </a:solidFill>
                <a:latin typeface="Verdana"/>
              </a:rPr>
              <a:t>variabilité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3333cc"/>
                </a:solidFill>
                <a:latin typeface="Verdana"/>
              </a:rPr>
              <a:t>intrinsèqu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des 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. </a:t>
            </a:r>
            <a:r>
              <a:rPr b="0" lang="fr-FR" sz="1800" spc="-1" strike="noStrike">
                <a:solidFill>
                  <a:srgbClr val="3333cc"/>
                </a:solidFill>
                <a:latin typeface="Verdana"/>
              </a:rPr>
              <a:t>sous-type A &amp; G très variabl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associé à une région cible </a:t>
            </a:r>
            <a:r>
              <a:rPr b="0" lang="fr-FR" sz="1800" spc="-1" strike="noStrike">
                <a:solidFill>
                  <a:srgbClr val="3333cc"/>
                </a:solidFill>
                <a:latin typeface="Verdana"/>
              </a:rPr>
              <a:t>Gag plus variable que Pol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: risque plus important de sous-quantification ou de non détection, mais </a:t>
            </a:r>
            <a:r>
              <a:rPr b="0" lang="fr-FR" sz="1800" spc="-1" strike="noStrike">
                <a:solidFill>
                  <a:srgbClr val="3333cc"/>
                </a:solidFill>
                <a:latin typeface="Verdana"/>
              </a:rPr>
              <a:t>pas systém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Vigilance à </a:t>
            </a:r>
            <a:r>
              <a:rPr b="0" lang="fr-FR" sz="1800" spc="-1" strike="noStrike">
                <a:solidFill>
                  <a:srgbClr val="3333cc"/>
                </a:solidFill>
                <a:latin typeface="Verdana"/>
              </a:rPr>
              <a:t>variabilité chimio-induit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= impact des anti-intégras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71640" y="2781360"/>
            <a:ext cx="7921440" cy="1223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  <a:ea typeface="Times New Roman"/>
              </a:rPr>
              <a:t>Attention aux </a:t>
            </a:r>
            <a:r>
              <a:rPr b="1" lang="en-US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formes recombinantes</a:t>
            </a:r>
            <a:r>
              <a:rPr b="1" lang="en-US" sz="1800" spc="-1" strike="noStrike">
                <a:solidFill>
                  <a:srgbClr val="993300"/>
                </a:solidFill>
                <a:latin typeface="Verdana"/>
                <a:ea typeface="Times New Roman"/>
              </a:rPr>
              <a:t> impliquant des virus parentaux connus pour poser des difficul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  <a:ea typeface="Times New Roman"/>
              </a:rPr>
              <a:t>Possibles problèmes d’appariements moléculaires avec nouvelles formes créées ou nouvelles versions technique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68360" y="5805360"/>
            <a:ext cx="8297640" cy="58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Variants 2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mauvaise identification des monoinfections VIH-2 et d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oubles infections 1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1268280"/>
            <a:ext cx="8424720" cy="210276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ariants 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variabilité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ponctuelle difficilement appréc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igilance sur le phénomène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recombinants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 + non-B purs + CRFs (CRF02) = évolution vers diversité croissante possible par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recombinais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Asie, Afrique de l’Ouest, Chine, Espagne, Russie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Et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importa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 nouvelles formes recombinan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99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igilance</a:t>
            </a:r>
            <a:r>
              <a:rPr b="0" lang="en-US" sz="1600" spc="-1" strike="noStrike">
                <a:solidFill>
                  <a:srgbClr val="993300"/>
                </a:solidFill>
                <a:latin typeface="Verdana"/>
              </a:rPr>
              <a:t> sur les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virus sous-représentés</a:t>
            </a:r>
            <a:r>
              <a:rPr b="0" lang="en-US" sz="1600" spc="-1" strike="noStrike">
                <a:solidFill>
                  <a:srgbClr val="993300"/>
                </a:solidFill>
                <a:latin typeface="Verdana"/>
              </a:rPr>
              <a:t> (CRF02 bien connue </a:t>
            </a:r>
            <a:r>
              <a:rPr b="0" lang="en-US" sz="1600" spc="-1" strike="noStrike">
                <a:solidFill>
                  <a:srgbClr val="99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99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99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993300"/>
                </a:solidFill>
                <a:latin typeface="Verdana"/>
              </a:rPr>
              <a:t>en France mais pas CRF14-B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3860640"/>
            <a:ext cx="8437680" cy="165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37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ariants O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très variabl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voire divergents, importants problème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sérologiqu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ésiduels, outils 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moléculair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à optimi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tention outils de diagnostic ou quantification comm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chnique Abbott : 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mauvaise identifica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variant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28520" y="260280"/>
            <a:ext cx="73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Bien connaître &amp; bien identifier les 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Remerci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352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ganisateurs CV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HU Rou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 Gueud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V Lem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HU Saint-Lou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 Si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NR VIH - T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 Bar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807840" y="5661000"/>
            <a:ext cx="3067200" cy="988200"/>
            <a:chOff x="807840" y="5661000"/>
            <a:chExt cx="3067200" cy="988200"/>
          </a:xfrm>
        </p:grpSpPr>
        <p:pic>
          <p:nvPicPr>
            <p:cNvPr id="264" name="" descr="Institut de Veille Sanitaire"/>
            <p:cNvPicPr/>
            <p:nvPr/>
          </p:nvPicPr>
          <p:blipFill>
            <a:blip r:embed="rId1"/>
            <a:stretch/>
          </p:blipFill>
          <p:spPr>
            <a:xfrm>
              <a:off x="984240" y="5661000"/>
              <a:ext cx="868680" cy="65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807840" y="6190200"/>
              <a:ext cx="306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boratoire associ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u Centre National de Référence du VI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649920" y="5394240"/>
            <a:ext cx="1306800" cy="728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500720" y="1700280"/>
            <a:ext cx="4174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aboratoires hospitaliers ou privés « partenaires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JD Poveda (Cer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3809880" y="1447920"/>
            <a:ext cx="5105520" cy="3057480"/>
            <a:chOff x="3809880" y="1447920"/>
            <a:chExt cx="5105520" cy="305748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3886200" y="1447920"/>
              <a:ext cx="5029200" cy="30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809880" y="1523880"/>
              <a:ext cx="5105520" cy="297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198108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Verdana"/>
                  <a:ea typeface="Times New Roman"/>
                </a:rPr>
                <a:t>VIH-1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09480" y="3276720"/>
            <a:ext cx="5553360" cy="3047760"/>
            <a:chOff x="609480" y="3276720"/>
            <a:chExt cx="5553360" cy="3047760"/>
          </a:xfrm>
        </p:grpSpPr>
        <p:grpSp>
          <p:nvGrpSpPr>
            <p:cNvPr id="73" name=""/>
            <p:cNvGrpSpPr/>
            <p:nvPr/>
          </p:nvGrpSpPr>
          <p:grpSpPr>
            <a:xfrm>
              <a:off x="609480" y="4876920"/>
              <a:ext cx="2666880" cy="1447560"/>
              <a:chOff x="609480" y="4876920"/>
              <a:chExt cx="2666880" cy="1447560"/>
            </a:xfrm>
          </p:grpSpPr>
          <p:sp>
            <p:nvSpPr>
              <p:cNvPr id="74" name=""/>
              <p:cNvSpPr/>
              <p:nvPr/>
            </p:nvSpPr>
            <p:spPr>
              <a:xfrm>
                <a:off x="761760" y="5334120"/>
                <a:ext cx="2438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451"/>
                  </a:spcBef>
                  <a:buClr>
                    <a:srgbClr val="000000"/>
                  </a:buClr>
                  <a:buFont typeface="Verdan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09480" y="4876920"/>
                <a:ext cx="2666880" cy="1447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Verdana"/>
                    <a:ea typeface="Times New Roman"/>
                  </a:rPr>
                  <a:t>VIH-2 : 8 groupes A-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flipV="1">
              <a:off x="3352680" y="3276720"/>
              <a:ext cx="281016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019920" y="3149640"/>
            <a:ext cx="377640" cy="2984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3048120"/>
            <a:ext cx="838440" cy="487080"/>
          </a:xfrm>
          <a:prstGeom prst="ellipse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Verdana"/>
                <a:ea typeface="Times New Roman"/>
              </a:rPr>
              <a:t>CRF01_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476760" y="3505320"/>
            <a:ext cx="5331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81" idx="0"/>
          </p:cNvCxnSpPr>
          <p:nvPr/>
        </p:nvCxnSpPr>
        <p:spPr>
          <a:xfrm flipV="1" rot="16200000">
            <a:off x="6517800" y="3050280"/>
            <a:ext cx="610200" cy="1061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2" name=""/>
          <p:cNvGrpSpPr/>
          <p:nvPr/>
        </p:nvGrpSpPr>
        <p:grpSpPr>
          <a:xfrm>
            <a:off x="228600" y="3504960"/>
            <a:ext cx="6172200" cy="990360"/>
            <a:chOff x="228600" y="3504960"/>
            <a:chExt cx="6172200" cy="990360"/>
          </a:xfrm>
        </p:grpSpPr>
        <p:sp>
          <p:nvSpPr>
            <p:cNvPr id="83" name=""/>
            <p:cNvSpPr/>
            <p:nvPr/>
          </p:nvSpPr>
          <p:spPr>
            <a:xfrm>
              <a:off x="228600" y="3809880"/>
              <a:ext cx="3429000" cy="68544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6840" indent="-96840">
                <a:lnSpc>
                  <a:spcPct val="100000"/>
                </a:lnSpc>
                <a:spcBef>
                  <a:spcPts val="300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cc3300"/>
                  </a:solidFill>
                  <a:latin typeface="Verdana"/>
                  <a:ea typeface="Times New Roman"/>
                </a:rPr>
                <a:t>groupes  O </a:t>
              </a:r>
              <a:r>
                <a:rPr b="1" i="1" lang="fr-FR" sz="1200" spc="-1" strike="noStrike">
                  <a:solidFill>
                    <a:srgbClr val="cc3300"/>
                  </a:solidFill>
                  <a:latin typeface="Verdana"/>
                  <a:ea typeface="Times New Roman"/>
                </a:rPr>
                <a:t>(outli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6840" indent="-96840">
                <a:lnSpc>
                  <a:spcPct val="100000"/>
                </a:lnSpc>
                <a:spcBef>
                  <a:spcPts val="300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200" spc="-1" strike="noStrike">
                  <a:solidFill>
                    <a:srgbClr val="cc3300"/>
                  </a:solidFill>
                  <a:latin typeface="Verdana"/>
                  <a:ea typeface="Times New Roman"/>
                </a:rPr>
                <a:t>	</a:t>
              </a:r>
              <a:r>
                <a:rPr b="1" i="1" lang="fr-FR" sz="1200" spc="-1" strike="noStrike">
                  <a:solidFill>
                    <a:srgbClr val="cc3300"/>
                  </a:solidFill>
                  <a:latin typeface="Verdana"/>
                  <a:ea typeface="Times New Roman"/>
                </a:rPr>
                <a:t>	</a:t>
              </a:r>
              <a:r>
                <a:rPr b="1" i="1" lang="fr-FR" sz="1200" spc="-1" strike="noStrike">
                  <a:solidFill>
                    <a:srgbClr val="cc3300"/>
                  </a:solidFill>
                  <a:latin typeface="Verdana"/>
                  <a:ea typeface="Times New Roman"/>
                </a:rPr>
                <a:t>   </a:t>
              </a:r>
              <a:r>
                <a:rPr b="1" lang="fr-FR" sz="1600" spc="-1" strike="noStrike">
                  <a:solidFill>
                    <a:srgbClr val="cc3300"/>
                  </a:solidFill>
                  <a:latin typeface="Verdana"/>
                  <a:ea typeface="Times New Roman"/>
                </a:rPr>
                <a:t>N </a:t>
              </a:r>
              <a:r>
                <a:rPr b="1" i="1" lang="fr-FR" sz="1200" spc="-1" strike="noStrike">
                  <a:solidFill>
                    <a:srgbClr val="cc3300"/>
                  </a:solidFill>
                  <a:latin typeface="Verdana"/>
                  <a:ea typeface="Times New Roman"/>
                </a:rPr>
                <a:t>(non-M/non-O)</a:t>
              </a:r>
              <a:r>
                <a:rPr b="1" lang="fr-FR" sz="1600" spc="-1" strike="noStrike">
                  <a:solidFill>
                    <a:srgbClr val="cc3300"/>
                  </a:solidFill>
                  <a:latin typeface="Verdana"/>
                  <a:ea typeface="Times New Roman"/>
                </a:rPr>
                <a:t> </a:t>
              </a:r>
              <a:r>
                <a:rPr b="1" lang="fr-FR" sz="1200" spc="-1" strike="noStrike">
                  <a:solidFill>
                    <a:srgbClr val="cc3300"/>
                  </a:solidFill>
                  <a:latin typeface="Verdana"/>
                  <a:ea typeface="Times New Roman"/>
                </a:rPr>
                <a:t>7 c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362320" y="3504960"/>
              <a:ext cx="40384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934320" y="3886200"/>
            <a:ext cx="838080" cy="45720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Verdana"/>
                <a:ea typeface="Times New Roman"/>
              </a:rPr>
              <a:t>CRF02_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28600" y="838080"/>
            <a:ext cx="3605040" cy="1862280"/>
            <a:chOff x="228600" y="838080"/>
            <a:chExt cx="3605040" cy="1862280"/>
          </a:xfrm>
        </p:grpSpPr>
        <p:sp>
          <p:nvSpPr>
            <p:cNvPr id="86" name=""/>
            <p:cNvSpPr/>
            <p:nvPr/>
          </p:nvSpPr>
          <p:spPr>
            <a:xfrm>
              <a:off x="228600" y="838080"/>
              <a:ext cx="3429000" cy="80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Verdana"/>
                  <a:ea typeface="Times New Roman"/>
                </a:rPr>
                <a:t>groupe M </a:t>
              </a:r>
              <a:r>
                <a:rPr b="1" i="1" lang="en-US" sz="1200" spc="-1" strike="noStrike">
                  <a:solidFill>
                    <a:srgbClr val="cc3300"/>
                  </a:solidFill>
                  <a:latin typeface="Verdana"/>
                  <a:ea typeface="Times New Roman"/>
                </a:rPr>
                <a:t>(major) </a:t>
              </a:r>
              <a:r>
                <a:rPr b="1" lang="en-US" sz="1600" spc="-1" strike="noStrike">
                  <a:solidFill>
                    <a:srgbClr val="cc3300"/>
                  </a:solidFill>
                  <a:latin typeface="Verdana"/>
                  <a:ea typeface="Times New Roman"/>
                </a:rPr>
                <a:t>&gt; 40 Mi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9 sous-types pur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-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D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-C-F-G-H-J-K</a:t>
              </a:r>
              <a:r>
                <a:rPr b="1" lang="en-US" sz="1200" spc="-1" strike="noStrike">
                  <a:solidFill>
                    <a:srgbClr val="0000ff"/>
                  </a:solidFill>
                  <a:latin typeface="Verdana"/>
                  <a:ea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004840" y="1447560"/>
              <a:ext cx="1828800" cy="125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457200" y="3048120"/>
            <a:ext cx="3429000" cy="383040"/>
            <a:chOff x="457200" y="3048120"/>
            <a:chExt cx="3429000" cy="38304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457200" y="3048120"/>
              <a:ext cx="294012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971800" y="3230640"/>
              <a:ext cx="914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RF02_A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" name=""/>
          <p:cNvCxnSpPr>
            <a:stCxn id="81" idx="7"/>
          </p:cNvCxnSpPr>
          <p:nvPr/>
        </p:nvCxnSpPr>
        <p:spPr>
          <a:xfrm flipV="1" rot="16200000">
            <a:off x="6487560" y="2790360"/>
            <a:ext cx="1086480" cy="12387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4419720" y="4952880"/>
            <a:ext cx="41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équences directes, établies sur le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  <a:ea typeface="Times New Roman"/>
              </a:rPr>
              <a:t>diagnostic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le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  <a:ea typeface="Times New Roman"/>
              </a:rPr>
              <a:t>suivi thérapeutique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le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  <a:ea typeface="Times New Roman"/>
              </a:rPr>
              <a:t>traitement antirétroviral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l’élaboration d’un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  <a:ea typeface="Times New Roman"/>
              </a:rPr>
              <a:t>vaccin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la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  <a:ea typeface="Times New Roman"/>
              </a:rPr>
              <a:t>transmissibilité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&amp; la </a:t>
            </a:r>
            <a:r>
              <a:rPr b="1" i="1" lang="en-US" sz="1600" spc="-1" strike="noStrike">
                <a:solidFill>
                  <a:srgbClr val="3333cc"/>
                </a:solidFill>
                <a:latin typeface="Verdana"/>
                <a:ea typeface="Times New Roman"/>
              </a:rPr>
              <a:t>pathogénicité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362320"/>
            <a:ext cx="4572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32 CRF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(Circulating Recombinant Form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52280"/>
            <a:ext cx="81788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Diversité géné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6407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Diversité des VIH en France</a:t>
            </a:r>
            <a:br>
              <a:rPr sz="2800"/>
            </a:b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(ANRS - AC11, InVS - CN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907920"/>
            <a:ext cx="8064360" cy="1159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groupe Observato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révalence non-B en France : 25-35% (Observatoire, Couturier et coll., AIDS, 2000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 polymorphisme non-B naïfs aux ARV (Fleury et coll., ARHR, 200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2133720"/>
            <a:ext cx="0" cy="533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564000" y="2924280"/>
            <a:ext cx="2598480" cy="1587240"/>
            <a:chOff x="3564000" y="2924280"/>
            <a:chExt cx="2598480" cy="158724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3564000" y="2924280"/>
              <a:ext cx="1584360" cy="15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H="1">
              <a:off x="5240160" y="3762360"/>
              <a:ext cx="92232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50920" y="2492280"/>
            <a:ext cx="2819160" cy="1829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groupe Ré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résistance des virus de patients en primo-infection ou naïfs infectés chroniques </a:t>
            </a:r>
            <a:r>
              <a:rPr b="1" lang="en-US" sz="1200" spc="-1" strike="noStrike">
                <a:solidFill>
                  <a:srgbClr val="0000ff"/>
                </a:solidFill>
                <a:latin typeface="Verdana"/>
                <a:ea typeface="Times New Roman"/>
              </a:rPr>
              <a:t>(Descamps et coll., J AIDS, 2005; Chaix et coll., AIDS, 20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2000" y="3645000"/>
            <a:ext cx="5335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16000" y="5373720"/>
            <a:ext cx="6934320" cy="905400"/>
            <a:chOff x="1116000" y="5373720"/>
            <a:chExt cx="6934320" cy="905400"/>
          </a:xfrm>
        </p:grpSpPr>
        <p:sp>
          <p:nvSpPr>
            <p:cNvPr id="104" name=""/>
            <p:cNvSpPr/>
            <p:nvPr/>
          </p:nvSpPr>
          <p:spPr>
            <a:xfrm>
              <a:off x="1954080" y="5373720"/>
              <a:ext cx="6096240" cy="9054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= </a:t>
              </a:r>
              <a:r>
                <a:rPr b="0" lang="en-US" sz="1600" spc="-1" strike="noStrike">
                  <a:solidFill>
                    <a:srgbClr val="993300"/>
                  </a:solidFill>
                  <a:latin typeface="Verdana"/>
                  <a:ea typeface="Times New Roman"/>
                </a:rPr>
                <a:t>présence de nombreuses formes non-B et de formes recombina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993300"/>
                  </a:solidFill>
                  <a:uFillTx/>
                  <a:latin typeface="Verdana"/>
                  <a:ea typeface="Times New Roman"/>
                </a:rPr>
                <a:t>prédominance de la forme CRF02_AG parmi les non-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16000" y="5907240"/>
              <a:ext cx="571680" cy="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940360" y="2421000"/>
            <a:ext cx="3203640" cy="19148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84120" indent="-38412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O VIH - CNR VIH, F Bar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mars 2003 - mars 2005 6000 buv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48% de non-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,6%  VIH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0,3% VIH-1+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0,6% VIH-1 O (double infection – surinfection M/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3213000"/>
            <a:ext cx="8713440" cy="925560"/>
            <a:chOff x="0" y="3213000"/>
            <a:chExt cx="8713440" cy="925560"/>
          </a:xfrm>
        </p:grpSpPr>
        <p:sp>
          <p:nvSpPr>
            <p:cNvPr id="108" name=""/>
            <p:cNvSpPr/>
            <p:nvPr/>
          </p:nvSpPr>
          <p:spPr>
            <a:xfrm>
              <a:off x="0" y="3670200"/>
              <a:ext cx="1244520" cy="0"/>
            </a:xfrm>
            <a:prstGeom prst="line">
              <a:avLst/>
            </a:prstGeom>
            <a:ln w="136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27680" y="3213000"/>
              <a:ext cx="7385760" cy="925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3" marL="5716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- meilleure détection / quantification des non-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571680">
                <a:lnSpc>
                  <a:spcPct val="100000"/>
                </a:lnSpc>
                <a:spcBef>
                  <a:spcPts val="400"/>
                </a:spcBef>
                <a:buClr>
                  <a:srgbClr val="0000ff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quantification non spécifique des groupes M &amp; O (LCx, Abbot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571680">
                <a:lnSpc>
                  <a:spcPct val="100000"/>
                </a:lnSpc>
                <a:spcBef>
                  <a:spcPts val="400"/>
                </a:spcBef>
                <a:buClr>
                  <a:srgbClr val="0000ff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absence de trousse moléculaire VIH-2 (technique mais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Diversité des VI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268280"/>
            <a:ext cx="8367840" cy="129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trousses sérologiques : retard détection précoce des anticorps  sous-types non-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èr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versions moléculaires : sous-quantification ou absence de détection de sous-type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n-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oupe 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&amp; de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H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4724280"/>
            <a:ext cx="6815160" cy="1612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  <a:ea typeface="Times New Roman"/>
              </a:rPr>
              <a:t>diversité bien connue : amélioration des trousses sérologiques &amp; molécu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  <a:ea typeface="Times New Roman"/>
              </a:rPr>
              <a:t>Nouvelles trousses sérologiques combinées et moléculaires en temps ré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Verdana"/>
                <a:ea typeface="Times New Roman"/>
              </a:rPr>
              <a:t>Difficultés liée à diversité ? Notion de variabilité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VIH-1 groupe M sér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2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348000" y="2565360"/>
            <a:ext cx="5399280" cy="2806560"/>
            <a:chOff x="3348000" y="2565360"/>
            <a:chExt cx="5399280" cy="2806560"/>
          </a:xfrm>
        </p:grpSpPr>
        <p:graphicFrame>
          <p:nvGraphicFramePr>
            <p:cNvPr id="116" name=""/>
            <p:cNvGraphicFramePr/>
            <p:nvPr/>
          </p:nvGraphicFramePr>
          <p:xfrm>
            <a:off x="3348000" y="2565360"/>
            <a:ext cx="5399280" cy="28065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48000" y="2565360"/>
                      <a:ext cx="5399280" cy="280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5076720" y="2781000"/>
              <a:ext cx="2303640" cy="2376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68360" y="2924280"/>
            <a:ext cx="2303280" cy="224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H-1 groupe M n=2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us-type B n=1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us-type non-B n=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8200" y="1488960"/>
            <a:ext cx="3775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ssai Architect HIV Abbott, Rou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4360" y="5157360"/>
            <a:ext cx="777240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64000" y="1052640"/>
            <a:ext cx="5376960" cy="2903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419640" cy="1728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11280" y="4508640"/>
            <a:ext cx="8064360" cy="1631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valuation 6 trousses 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Verdana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génération + 2 de 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Verdana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géné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 = 553 groupe M, large divers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rès bonne efficacité </a:t>
            </a:r>
            <a:r>
              <a:rPr b="0" lang="fr-FR" sz="2000" spc="-1" strike="noStrike">
                <a:solidFill>
                  <a:srgbClr val="3333cc"/>
                </a:solidFill>
                <a:latin typeface="Verdana"/>
              </a:rPr>
              <a:t>mais 3 éch. non détectés = 1 F, 1C, 1B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ni sous-type ni technique dépend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189000"/>
            <a:ext cx="7772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VIH-1 groupe M sér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7640" y="2565360"/>
            <a:ext cx="216000" cy="3589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80360" y="2276640"/>
            <a:ext cx="216000" cy="35856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56720" y="2205000"/>
            <a:ext cx="215640" cy="3589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71640" y="1197000"/>
            <a:ext cx="6000840" cy="2590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356000" y="4292640"/>
            <a:ext cx="2906640" cy="107964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197080" cy="5381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2692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VIH-1 groupe M sér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40360" y="5877000"/>
            <a:ext cx="47527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s uniquement problème de divers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6093000"/>
            <a:ext cx="57636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4000" y="1267920"/>
            <a:ext cx="8064360" cy="2305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érience activité CNR : suspicion de sous-quantification ou de non dé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0 patients CV faible ou indétectable en l’absence de 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ique routine du laboratoire demandeur &amp; LCx (Abbott) à Rou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VIH-1 groupe M molécul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3933720"/>
            <a:ext cx="7993080" cy="25333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3333cc"/>
                </a:solidFill>
                <a:latin typeface="Verdana"/>
              </a:rPr>
              <a:t>Confirmation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Ech indétectable ou faible quelle que soit la  technique, </a:t>
            </a:r>
            <a:r>
              <a:rPr b="0" lang="fr-FR" sz="2000" spc="-1" strike="noStrike">
                <a:solidFill>
                  <a:srgbClr val="3333cc"/>
                </a:solidFill>
                <a:latin typeface="Verdana"/>
              </a:rPr>
              <a:t>sérotype B &amp; non-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2 discordances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 1F sous quantifié &gt; 1 log (virus mari sous-quantifié et pas celui de la femme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 1 CRF02 non détec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6:49:24Z</dcterms:created>
  <dc:creator>CHU de Rouen</dc:creator>
  <dc:description/>
  <dc:language>en-US</dc:language>
  <cp:lastModifiedBy>FORMATION</cp:lastModifiedBy>
  <dcterms:modified xsi:type="dcterms:W3CDTF">2006-11-28T12:16:02Z</dcterms:modified>
  <cp:revision>609</cp:revision>
  <dc:subject/>
  <dc:title>Présentation PowerPoint</dc:title>
</cp:coreProperties>
</file>