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34F-D438-4FFD-B495-BAC7248DE1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ff66"/>
                </a:solidFill>
                <a:latin typeface="Arial"/>
              </a:rPr>
              <a:t>Jean François Cantaloube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 (EFS Alpes Méditerranée) </a:t>
            </a: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pour le séquençage</a:t>
            </a: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Stéphane Chevallier (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boratoire de Virologie Hôpital Henri Mondor)</a:t>
            </a: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pour la fourniture des échantillons de génotyp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Christine Portal (Unité d’expertise en Virologie – INTS) </a:t>
            </a: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pour la réalisation technique de la méthode INNO-LiPA version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Syria Laperche responsable de l’unité d’expertise en Vir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méthode INNO-LiPA 2.0 comport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é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remière étape est une étap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’extraction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ée avec le ki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QIAmp VIRAL RNA Qiage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à partir de 140µl d’échantill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ARN extrait est soumis à un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T-PC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vec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paires d’amorces biotinyl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située dans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gion 5’NC,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morces identiques à celle de la précédente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ire d’amorces située dans la région Core a été ajouté dans la nouvelle ver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fin l’étap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’hybrida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dentique à celle de la version 1.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Les produits d’amplification dénaturés et biotinylés sont hybridés sur des sondes spécifiques de la région 5’NC et de la région Core et révélés par une réaction coloré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Il n’est pas possible d’utiliser comme avec la version 1 des amplicons issus d’une autre méthode d’amplifica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configuration des bandelettes est la suivan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tie supérieu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 bleu comprend 2 bandes de contrôle et 19 bandes correspondan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x sondes spécifiques de la région 5’N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our les génotypes de 1 à 6.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lle est identique à la bandelette de la version 1.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tie inférieu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 jaune correspo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x sondes spécifiques de la région Co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ban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orrespond a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rôle d’amplification de la région Co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ban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st spécifique d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6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ban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st spécifique d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1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t la band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26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st spécifique d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1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Interprét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ules les bandes de la région 5’NC suffisent à l’identification et l’interprétation des génotypes 2, 3, 4, 5 et 6a ou 6b même si certaines bandes de la région Core sont positi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i la bande 2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u contrôle d’amplificatio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st positiv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est déterminé avec les bandes 25 et 26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e la région Co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résence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ande 24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e la région Core permet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ifférencier un génotype 6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avons étudié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36 échantillons de donneurs de sang positif en ARN HCV provenant des EF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us disposions de 2 résultats de génotypage pour c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résultat obtenu avec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’INNOLiPA 1.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à partir des produits d’amplification Amplicor (Roche) réalisé dans notre labor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résultat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équençage dans la région NS5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réalisé à l’EFS Alpes Méditerra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résultats sont présentés en fonction des 3 métho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ns la colonne 1 figurent les génotypes obtenus par séquençage de la région NS5b qui est la méthode de réfé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ns la dernière colonne figurent les résultats obtenus par la nouvelle version du test INNOLi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tre les 2, les résultats de la précédente version INNOLi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s échantillons de génotyp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seul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/41 (23.8%) étaient identifiés 1a par la version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La nouvelle versio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dentifie correctement tous les génotypes 1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et en particulier l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8 échantillons génotypés 1b par la vers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s échantillons de génotyp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17 (81%) sont correctement identifiés par les 2 versions. 2 échantillons dont le sous type n’avait pas été différencié par la version1 ont été classés 1b par la version 2. Au total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0.5% des génotypes 1b sont correctement identifiés par la version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 échantillon présentait une divergence de sous type : 1b par séquençage, 1a par LiPA 2. La détermination du génotype par LiPA 2 n’a pu être faite que sur la région 5’NC puisqu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gion Core n’a pas été amplifié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L’étude de la séquence de la région 5’NC montre la présence d’un A en position -99, mutation qui génère une détermination erronée du sous type par LiP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ici 2 exemples pour illustrer l’apport de la région Cor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bande correspondant au LiPA version 1 est à gauche et la bande LiPA 2 à dro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gion 5’N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résente des bandes positiv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dentiques pour les 2 version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En tenant compte uniquement de cette région, le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échantillon est génotypé 1b et le second est génotypé 1 sans différenciation de sous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’amplification de la région Co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vec une positivité sur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ande 25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ermet de génotyper ces échantillons 1a, génotype e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cord avec le résultat du séquenç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2,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la version 2 permet d’obtenir un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onne identification du sous type 2b*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Cependant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ouvelle version est mise en défaut dans 50% des ca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our une identification des sous types du génotype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*A noter que le LiPA version 1 avait été réalisé sur des amplicons issus de la méthode Amplico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’hétérogénéité des résultats pour le génotype 4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ue à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ariabilit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e ce génotype ne perme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s de comparaison informative des 2 version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pendant une classification erronée était observé dan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6.3%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as avec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le LiP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Elle n’est plus que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2.7%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ec l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LiPA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ou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échantillons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s 3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nt été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rrectement classé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r la version 2 excepté 1 qui n’a pu être amplifi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ou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les échantillons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5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étaien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rrectement classé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r la vers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r l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génotypes 6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1 échantillon avait été identifié 1b par LiPA 1.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2 sont identifiés 6 par LiPA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l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 plus grand nomb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’échantillon serait à étud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 même pour l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otype 6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mais il y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eu d’échantillons disponibl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ultat dans article soumis à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C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mprovement of HCV genotype determination with the new version of INNO-LiPA HCV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D84-3A48-45B8-8575-2FCB6F83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82B-8031-4B7A-8612-958EAF2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685-EDCF-4DB2-B31A-B035FC84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D43-83B6-48B9-91C9-9C6B3281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BC3-10B7-45DA-B620-388DD65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727-B46B-4848-8407-6290C89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6C2-921A-4127-A64F-0BBC3FC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7F6-4A14-41A6-8E01-8B78EB71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0B2-CC66-4AA7-B47B-03FF7FAE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64A-C7B7-4597-A130-3D83C9E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91F-A302-4699-AE65-FFE6D9F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B27-1837-48E0-AEB4-24DC29D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3FA-BF82-473D-B89A-5961C018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62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549360"/>
            <a:ext cx="77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MELIORATION DE LA CLASS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DES GENOTYPES DU VH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NOUVELLE VERSION INNO-Li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6237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49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Unité d’expertise en Virologie - 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. BOUCHAR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303640" y="15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MERCI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00000" y="33336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2457360"/>
            <a:ext cx="82072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Jean François Cantalou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EFS Alpes Méditerrané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téphane Chevali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Laboratoire de Virologie – Henri Mon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hristin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yria Laper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Unité d’expertise en Virologie – 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51264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1916280"/>
            <a:ext cx="7489800" cy="459720"/>
            <a:chOff x="250920" y="1916280"/>
            <a:chExt cx="7489800" cy="459720"/>
          </a:xfrm>
        </p:grpSpPr>
        <p:sp>
          <p:nvSpPr>
            <p:cNvPr id="55" name=""/>
            <p:cNvSpPr/>
            <p:nvPr/>
          </p:nvSpPr>
          <p:spPr>
            <a:xfrm>
              <a:off x="826920" y="1916280"/>
              <a:ext cx="69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Extraction QIAamp Viral RNA (QIAge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202572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0920" y="2565360"/>
            <a:ext cx="6985080" cy="1572120"/>
            <a:chOff x="250920" y="2565360"/>
            <a:chExt cx="6985080" cy="1572120"/>
          </a:xfrm>
        </p:grpSpPr>
        <p:sp>
          <p:nvSpPr>
            <p:cNvPr id="58" name=""/>
            <p:cNvSpPr/>
            <p:nvPr/>
          </p:nvSpPr>
          <p:spPr>
            <a:xfrm>
              <a:off x="826920" y="2565360"/>
              <a:ext cx="64090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RT-PCR  nichée avec 2 paires d’amor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ff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région  5’N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66ff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66ff66"/>
                  </a:solidFill>
                  <a:latin typeface="Times New Roman"/>
                </a:rPr>
                <a:t>région</a:t>
              </a: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fr-FR" sz="2400" spc="-1" strike="noStrike">
                  <a:solidFill>
                    <a:srgbClr val="66ff33"/>
                  </a:solidFill>
                  <a:latin typeface="Times New Roman"/>
                </a:rPr>
                <a:t>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267336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4365720"/>
            <a:ext cx="37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ybr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 produits d’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280" y="44388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81800" y="4262400"/>
            <a:ext cx="3309480" cy="1831320"/>
            <a:chOff x="4681800" y="4262400"/>
            <a:chExt cx="3309480" cy="1831320"/>
          </a:xfrm>
        </p:grpSpPr>
        <p:grpSp>
          <p:nvGrpSpPr>
            <p:cNvPr id="64" name=""/>
            <p:cNvGrpSpPr/>
            <p:nvPr/>
          </p:nvGrpSpPr>
          <p:grpSpPr>
            <a:xfrm>
              <a:off x="5816160" y="4405680"/>
              <a:ext cx="2144160" cy="1688040"/>
              <a:chOff x="5816160" y="4405680"/>
              <a:chExt cx="2144160" cy="1688040"/>
            </a:xfrm>
          </p:grpSpPr>
          <p:sp>
            <p:nvSpPr>
              <p:cNvPr id="65" name=""/>
              <p:cNvSpPr/>
              <p:nvPr/>
            </p:nvSpPr>
            <p:spPr>
              <a:xfrm>
                <a:off x="6825600" y="5456160"/>
                <a:ext cx="65160" cy="54360"/>
              </a:xfrm>
              <a:custGeom>
                <a:avLst/>
                <a:gdLst/>
                <a:ahLst/>
                <a:rect l="l" t="t" r="r" b="b"/>
                <a:pathLst>
                  <a:path w="557" h="505">
                    <a:moveTo>
                      <a:pt x="32" y="35"/>
                    </a:moveTo>
                    <a:lnTo>
                      <a:pt x="0" y="72"/>
                    </a:lnTo>
                    <a:lnTo>
                      <a:pt x="493" y="505"/>
                    </a:lnTo>
                    <a:lnTo>
                      <a:pt x="557" y="432"/>
                    </a:lnTo>
                    <a:lnTo>
                      <a:pt x="64" y="0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2b6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68440" y="5413680"/>
                <a:ext cx="61560" cy="53640"/>
              </a:xfrm>
              <a:custGeom>
                <a:avLst/>
                <a:gdLst/>
                <a:ahLst/>
                <a:rect l="l" t="t" r="r" b="b"/>
                <a:pathLst>
                  <a:path w="530" h="501">
                    <a:moveTo>
                      <a:pt x="32" y="35"/>
                    </a:moveTo>
                    <a:lnTo>
                      <a:pt x="0" y="71"/>
                    </a:lnTo>
                    <a:lnTo>
                      <a:pt x="465" y="501"/>
                    </a:lnTo>
                    <a:lnTo>
                      <a:pt x="530" y="430"/>
                    </a:lnTo>
                    <a:lnTo>
                      <a:pt x="65" y="0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9e9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07680" y="5370480"/>
                <a:ext cx="62280" cy="53640"/>
              </a:xfrm>
              <a:custGeom>
                <a:avLst/>
                <a:gdLst/>
                <a:ahLst/>
                <a:rect l="l" t="t" r="r" b="b"/>
                <a:pathLst>
                  <a:path w="532" h="497">
                    <a:moveTo>
                      <a:pt x="32" y="36"/>
                    </a:moveTo>
                    <a:lnTo>
                      <a:pt x="0" y="71"/>
                    </a:lnTo>
                    <a:lnTo>
                      <a:pt x="467" y="497"/>
                    </a:lnTo>
                    <a:lnTo>
                      <a:pt x="532" y="426"/>
                    </a:lnTo>
                    <a:lnTo>
                      <a:pt x="64" y="0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9e9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819480" y="5460480"/>
                <a:ext cx="65160" cy="54360"/>
              </a:xfrm>
              <a:custGeom>
                <a:avLst/>
                <a:gdLst/>
                <a:ahLst/>
                <a:rect l="l" t="t" r="r" b="b"/>
                <a:pathLst>
                  <a:path w="557" h="505">
                    <a:moveTo>
                      <a:pt x="32" y="36"/>
                    </a:moveTo>
                    <a:lnTo>
                      <a:pt x="0" y="73"/>
                    </a:lnTo>
                    <a:lnTo>
                      <a:pt x="493" y="505"/>
                    </a:lnTo>
                    <a:lnTo>
                      <a:pt x="557" y="433"/>
                    </a:lnTo>
                    <a:lnTo>
                      <a:pt x="63" y="0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6f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62320" y="5418360"/>
                <a:ext cx="61560" cy="53640"/>
              </a:xfrm>
              <a:custGeom>
                <a:avLst/>
                <a:gdLst/>
                <a:ahLst/>
                <a:rect l="l" t="t" r="r" b="b"/>
                <a:pathLst>
                  <a:path w="530" h="501">
                    <a:moveTo>
                      <a:pt x="32" y="36"/>
                    </a:moveTo>
                    <a:lnTo>
                      <a:pt x="0" y="70"/>
                    </a:lnTo>
                    <a:lnTo>
                      <a:pt x="465" y="501"/>
                    </a:lnTo>
                    <a:lnTo>
                      <a:pt x="530" y="431"/>
                    </a:lnTo>
                    <a:lnTo>
                      <a:pt x="66" y="0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e1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01560" y="5374800"/>
                <a:ext cx="62280" cy="53640"/>
              </a:xfrm>
              <a:custGeom>
                <a:avLst/>
                <a:gdLst/>
                <a:ahLst/>
                <a:rect l="l" t="t" r="r" b="b"/>
                <a:pathLst>
                  <a:path w="531" h="498">
                    <a:moveTo>
                      <a:pt x="32" y="35"/>
                    </a:moveTo>
                    <a:lnTo>
                      <a:pt x="0" y="72"/>
                    </a:lnTo>
                    <a:lnTo>
                      <a:pt x="467" y="498"/>
                    </a:lnTo>
                    <a:lnTo>
                      <a:pt x="531" y="427"/>
                    </a:lnTo>
                    <a:lnTo>
                      <a:pt x="64" y="0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e1e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17920" y="556020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0f5b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17920" y="55598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e0d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217920" y="55591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d9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217920" y="555840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5">
                    <a:moveTo>
                      <a:pt x="9755" y="4935"/>
                    </a:moveTo>
                    <a:lnTo>
                      <a:pt x="10603" y="4552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5"/>
                    </a:lnTo>
                    <a:close/>
                  </a:path>
                </a:pathLst>
              </a:custGeom>
              <a:solidFill>
                <a:srgbClr val="d3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217920" y="555768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5">
                    <a:moveTo>
                      <a:pt x="9755" y="4935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5"/>
                    </a:lnTo>
                    <a:close/>
                  </a:path>
                </a:pathLst>
              </a:custGeom>
              <a:solidFill>
                <a:srgbClr val="cc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217920" y="555696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c5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17920" y="55558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bf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217920" y="555516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b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17920" y="55544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b1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17920" y="55537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aba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217920" y="555336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4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a3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217920" y="55526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9da3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217920" y="555192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969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7920" y="555120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8f9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217920" y="555048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898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217920" y="554940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828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17920" y="55486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17920" y="554796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757e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17920" y="55472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4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6e7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17920" y="55468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697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17920" y="554616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646b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17920" y="55447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5e6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17920" y="554400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59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17920" y="55436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555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17920" y="55429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4f5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17920" y="554220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484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17920" y="55591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0f5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17920" y="555840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0f55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17920" y="555696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0f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17920" y="55558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4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0f5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17920" y="55544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0f4d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17920" y="555336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5">
                    <a:moveTo>
                      <a:pt x="9755" y="4935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5"/>
                    </a:lnTo>
                    <a:close/>
                  </a:path>
                </a:pathLst>
              </a:custGeom>
              <a:solidFill>
                <a:srgbClr val="0f4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217920" y="55519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1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17920" y="555120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3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124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217920" y="55501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4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343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17920" y="55486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44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17920" y="554724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5">
                    <a:moveTo>
                      <a:pt x="9755" y="4935"/>
                    </a:moveTo>
                    <a:lnTo>
                      <a:pt x="10603" y="4552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5"/>
                    </a:lnTo>
                    <a:close/>
                  </a:path>
                </a:pathLst>
              </a:custGeom>
              <a:solidFill>
                <a:srgbClr val="163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17920" y="554616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83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7920" y="554472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a39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17920" y="554400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1d3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17920" y="554292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7">
                    <a:moveTo>
                      <a:pt x="9755" y="4937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7"/>
                    </a:lnTo>
                    <a:close/>
                  </a:path>
                </a:pathLst>
              </a:custGeom>
              <a:solidFill>
                <a:srgbClr val="1f3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17920" y="5541480"/>
                <a:ext cx="1239840" cy="533520"/>
              </a:xfrm>
              <a:custGeom>
                <a:avLst/>
                <a:gdLst/>
                <a:ahLst/>
                <a:rect l="l" t="t" r="r" b="b"/>
                <a:pathLst>
                  <a:path w="10603" h="4935">
                    <a:moveTo>
                      <a:pt x="9755" y="4935"/>
                    </a:moveTo>
                    <a:lnTo>
                      <a:pt x="10603" y="4552"/>
                    </a:lnTo>
                    <a:lnTo>
                      <a:pt x="850" y="0"/>
                    </a:lnTo>
                    <a:lnTo>
                      <a:pt x="0" y="382"/>
                    </a:lnTo>
                    <a:lnTo>
                      <a:pt x="9755" y="4935"/>
                    </a:lnTo>
                    <a:close/>
                  </a:path>
                </a:pathLst>
              </a:custGeom>
              <a:solidFill>
                <a:srgbClr val="1f2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17920" y="5537160"/>
                <a:ext cx="1239840" cy="532800"/>
              </a:xfrm>
              <a:custGeom>
                <a:avLst/>
                <a:gdLst/>
                <a:ahLst/>
                <a:rect l="l" t="t" r="r" b="b"/>
                <a:pathLst>
                  <a:path w="10603" h="4936">
                    <a:moveTo>
                      <a:pt x="9755" y="4936"/>
                    </a:moveTo>
                    <a:lnTo>
                      <a:pt x="10603" y="4554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9755" y="4936"/>
                    </a:lnTo>
                    <a:close/>
                  </a:path>
                </a:pathLst>
              </a:custGeom>
              <a:solidFill>
                <a:srgbClr val="f7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18720" y="5580360"/>
                <a:ext cx="128880" cy="53640"/>
              </a:xfrm>
              <a:custGeom>
                <a:avLst/>
                <a:gdLst/>
                <a:ahLst/>
                <a:rect l="l" t="t" r="r" b="b"/>
                <a:pathLst>
                  <a:path w="1101" h="500">
                    <a:moveTo>
                      <a:pt x="251" y="500"/>
                    </a:moveTo>
                    <a:lnTo>
                      <a:pt x="1101" y="117"/>
                    </a:lnTo>
                    <a:lnTo>
                      <a:pt x="849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f2e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23120" y="5625000"/>
                <a:ext cx="128160" cy="54360"/>
              </a:xfrm>
              <a:custGeom>
                <a:avLst/>
                <a:gdLst/>
                <a:ahLst/>
                <a:rect l="l" t="t" r="r" b="b"/>
                <a:pathLst>
                  <a:path w="1101" h="500">
                    <a:moveTo>
                      <a:pt x="251" y="500"/>
                    </a:moveTo>
                    <a:lnTo>
                      <a:pt x="1101" y="117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27880" y="5670000"/>
                <a:ext cx="128160" cy="5436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1" y="500"/>
                    </a:moveTo>
                    <a:lnTo>
                      <a:pt x="1100" y="118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31560" y="5715360"/>
                <a:ext cx="128880" cy="5364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1" y="500"/>
                    </a:moveTo>
                    <a:lnTo>
                      <a:pt x="1100" y="117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35960" y="5760000"/>
                <a:ext cx="128160" cy="5436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2" y="500"/>
                    </a:moveTo>
                    <a:lnTo>
                      <a:pt x="1100" y="117"/>
                    </a:lnTo>
                    <a:lnTo>
                      <a:pt x="850" y="0"/>
                    </a:lnTo>
                    <a:lnTo>
                      <a:pt x="0" y="383"/>
                    </a:lnTo>
                    <a:lnTo>
                      <a:pt x="252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0360" y="5805360"/>
                <a:ext cx="128160" cy="53640"/>
              </a:xfrm>
              <a:custGeom>
                <a:avLst/>
                <a:gdLst/>
                <a:ahLst/>
                <a:rect l="l" t="t" r="r" b="b"/>
                <a:pathLst>
                  <a:path w="1099" h="500">
                    <a:moveTo>
                      <a:pt x="251" y="500"/>
                    </a:moveTo>
                    <a:lnTo>
                      <a:pt x="1099" y="117"/>
                    </a:lnTo>
                    <a:lnTo>
                      <a:pt x="848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44400" y="5850360"/>
                <a:ext cx="128880" cy="53640"/>
              </a:xfrm>
              <a:custGeom>
                <a:avLst/>
                <a:gdLst/>
                <a:ahLst/>
                <a:rect l="l" t="t" r="r" b="b"/>
                <a:pathLst>
                  <a:path w="1100" h="499">
                    <a:moveTo>
                      <a:pt x="251" y="499"/>
                    </a:moveTo>
                    <a:lnTo>
                      <a:pt x="1100" y="117"/>
                    </a:lnTo>
                    <a:lnTo>
                      <a:pt x="848" y="0"/>
                    </a:lnTo>
                    <a:lnTo>
                      <a:pt x="0" y="382"/>
                    </a:lnTo>
                    <a:lnTo>
                      <a:pt x="251" y="499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48800" y="5895000"/>
                <a:ext cx="128160" cy="5436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1" y="500"/>
                    </a:moveTo>
                    <a:lnTo>
                      <a:pt x="1100" y="117"/>
                    </a:lnTo>
                    <a:lnTo>
                      <a:pt x="849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53200" y="5940360"/>
                <a:ext cx="128160" cy="5364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1" y="500"/>
                    </a:moveTo>
                    <a:lnTo>
                      <a:pt x="1100" y="117"/>
                    </a:lnTo>
                    <a:lnTo>
                      <a:pt x="849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57960" y="5985000"/>
                <a:ext cx="128160" cy="53640"/>
              </a:xfrm>
              <a:custGeom>
                <a:avLst/>
                <a:gdLst/>
                <a:ahLst/>
                <a:rect l="l" t="t" r="r" b="b"/>
                <a:pathLst>
                  <a:path w="1100" h="500">
                    <a:moveTo>
                      <a:pt x="251" y="500"/>
                    </a:moveTo>
                    <a:lnTo>
                      <a:pt x="1100" y="117"/>
                    </a:lnTo>
                    <a:lnTo>
                      <a:pt x="849" y="0"/>
                    </a:lnTo>
                    <a:lnTo>
                      <a:pt x="0" y="383"/>
                    </a:lnTo>
                    <a:lnTo>
                      <a:pt x="251" y="500"/>
                    </a:lnTo>
                    <a:close/>
                  </a:path>
                </a:pathLst>
              </a:custGeom>
              <a:solidFill>
                <a:srgbClr val="7e5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995440" y="4808160"/>
                <a:ext cx="287280" cy="358920"/>
              </a:xfrm>
              <a:custGeom>
                <a:avLst/>
                <a:gdLst/>
                <a:ahLst/>
                <a:rect l="l" t="t" r="r" b="b"/>
                <a:pathLst>
                  <a:path w="2459" h="3319">
                    <a:moveTo>
                      <a:pt x="2206" y="65"/>
                    </a:moveTo>
                    <a:lnTo>
                      <a:pt x="1776" y="985"/>
                    </a:lnTo>
                    <a:lnTo>
                      <a:pt x="1813" y="1005"/>
                    </a:lnTo>
                    <a:lnTo>
                      <a:pt x="1850" y="1025"/>
                    </a:lnTo>
                    <a:lnTo>
                      <a:pt x="1886" y="1047"/>
                    </a:lnTo>
                    <a:lnTo>
                      <a:pt x="1922" y="1070"/>
                    </a:lnTo>
                    <a:lnTo>
                      <a:pt x="1956" y="1095"/>
                    </a:lnTo>
                    <a:lnTo>
                      <a:pt x="1989" y="1121"/>
                    </a:lnTo>
                    <a:lnTo>
                      <a:pt x="2021" y="1147"/>
                    </a:lnTo>
                    <a:lnTo>
                      <a:pt x="2053" y="1175"/>
                    </a:lnTo>
                    <a:lnTo>
                      <a:pt x="2084" y="1203"/>
                    </a:lnTo>
                    <a:lnTo>
                      <a:pt x="2114" y="1233"/>
                    </a:lnTo>
                    <a:lnTo>
                      <a:pt x="2143" y="1264"/>
                    </a:lnTo>
                    <a:lnTo>
                      <a:pt x="2170" y="1295"/>
                    </a:lnTo>
                    <a:lnTo>
                      <a:pt x="2197" y="1328"/>
                    </a:lnTo>
                    <a:lnTo>
                      <a:pt x="2222" y="1361"/>
                    </a:lnTo>
                    <a:lnTo>
                      <a:pt x="2246" y="1396"/>
                    </a:lnTo>
                    <a:lnTo>
                      <a:pt x="2270" y="1430"/>
                    </a:lnTo>
                    <a:lnTo>
                      <a:pt x="2292" y="1467"/>
                    </a:lnTo>
                    <a:lnTo>
                      <a:pt x="2313" y="1504"/>
                    </a:lnTo>
                    <a:lnTo>
                      <a:pt x="2332" y="1542"/>
                    </a:lnTo>
                    <a:lnTo>
                      <a:pt x="2350" y="1579"/>
                    </a:lnTo>
                    <a:lnTo>
                      <a:pt x="2368" y="1618"/>
                    </a:lnTo>
                    <a:lnTo>
                      <a:pt x="2383" y="1659"/>
                    </a:lnTo>
                    <a:lnTo>
                      <a:pt x="2397" y="1699"/>
                    </a:lnTo>
                    <a:lnTo>
                      <a:pt x="2410" y="1740"/>
                    </a:lnTo>
                    <a:lnTo>
                      <a:pt x="2422" y="1782"/>
                    </a:lnTo>
                    <a:lnTo>
                      <a:pt x="2432" y="1824"/>
                    </a:lnTo>
                    <a:lnTo>
                      <a:pt x="2440" y="1867"/>
                    </a:lnTo>
                    <a:lnTo>
                      <a:pt x="2447" y="1910"/>
                    </a:lnTo>
                    <a:lnTo>
                      <a:pt x="2453" y="1954"/>
                    </a:lnTo>
                    <a:lnTo>
                      <a:pt x="2457" y="1998"/>
                    </a:lnTo>
                    <a:lnTo>
                      <a:pt x="2459" y="2043"/>
                    </a:lnTo>
                    <a:lnTo>
                      <a:pt x="2459" y="2089"/>
                    </a:lnTo>
                    <a:lnTo>
                      <a:pt x="2458" y="2152"/>
                    </a:lnTo>
                    <a:lnTo>
                      <a:pt x="2454" y="2214"/>
                    </a:lnTo>
                    <a:lnTo>
                      <a:pt x="2446" y="2276"/>
                    </a:lnTo>
                    <a:lnTo>
                      <a:pt x="2435" y="2336"/>
                    </a:lnTo>
                    <a:lnTo>
                      <a:pt x="2422" y="2396"/>
                    </a:lnTo>
                    <a:lnTo>
                      <a:pt x="2404" y="2455"/>
                    </a:lnTo>
                    <a:lnTo>
                      <a:pt x="2385" y="2512"/>
                    </a:lnTo>
                    <a:lnTo>
                      <a:pt x="2363" y="2567"/>
                    </a:lnTo>
                    <a:lnTo>
                      <a:pt x="2339" y="2622"/>
                    </a:lnTo>
                    <a:lnTo>
                      <a:pt x="2311" y="2675"/>
                    </a:lnTo>
                    <a:lnTo>
                      <a:pt x="2282" y="2726"/>
                    </a:lnTo>
                    <a:lnTo>
                      <a:pt x="2250" y="2777"/>
                    </a:lnTo>
                    <a:lnTo>
                      <a:pt x="2215" y="2825"/>
                    </a:lnTo>
                    <a:lnTo>
                      <a:pt x="2178" y="2871"/>
                    </a:lnTo>
                    <a:lnTo>
                      <a:pt x="2141" y="2916"/>
                    </a:lnTo>
                    <a:lnTo>
                      <a:pt x="2099" y="2958"/>
                    </a:lnTo>
                    <a:lnTo>
                      <a:pt x="2057" y="2999"/>
                    </a:lnTo>
                    <a:lnTo>
                      <a:pt x="2012" y="3038"/>
                    </a:lnTo>
                    <a:lnTo>
                      <a:pt x="1965" y="3074"/>
                    </a:lnTo>
                    <a:lnTo>
                      <a:pt x="1917" y="3108"/>
                    </a:lnTo>
                    <a:lnTo>
                      <a:pt x="1868" y="3141"/>
                    </a:lnTo>
                    <a:lnTo>
                      <a:pt x="1816" y="3170"/>
                    </a:lnTo>
                    <a:lnTo>
                      <a:pt x="1763" y="3198"/>
                    </a:lnTo>
                    <a:lnTo>
                      <a:pt x="1708" y="3222"/>
                    </a:lnTo>
                    <a:lnTo>
                      <a:pt x="1652" y="3244"/>
                    </a:lnTo>
                    <a:lnTo>
                      <a:pt x="1595" y="3263"/>
                    </a:lnTo>
                    <a:lnTo>
                      <a:pt x="1537" y="3280"/>
                    </a:lnTo>
                    <a:lnTo>
                      <a:pt x="1478" y="3294"/>
                    </a:lnTo>
                    <a:lnTo>
                      <a:pt x="1417" y="3305"/>
                    </a:lnTo>
                    <a:lnTo>
                      <a:pt x="1355" y="3313"/>
                    </a:lnTo>
                    <a:lnTo>
                      <a:pt x="1293" y="3317"/>
                    </a:lnTo>
                    <a:lnTo>
                      <a:pt x="1229" y="3319"/>
                    </a:lnTo>
                    <a:lnTo>
                      <a:pt x="1166" y="3317"/>
                    </a:lnTo>
                    <a:lnTo>
                      <a:pt x="1104" y="3313"/>
                    </a:lnTo>
                    <a:lnTo>
                      <a:pt x="1042" y="3305"/>
                    </a:lnTo>
                    <a:lnTo>
                      <a:pt x="981" y="3294"/>
                    </a:lnTo>
                    <a:lnTo>
                      <a:pt x="922" y="3280"/>
                    </a:lnTo>
                    <a:lnTo>
                      <a:pt x="863" y="3263"/>
                    </a:lnTo>
                    <a:lnTo>
                      <a:pt x="807" y="3244"/>
                    </a:lnTo>
                    <a:lnTo>
                      <a:pt x="751" y="3222"/>
                    </a:lnTo>
                    <a:lnTo>
                      <a:pt x="696" y="3198"/>
                    </a:lnTo>
                    <a:lnTo>
                      <a:pt x="643" y="3170"/>
                    </a:lnTo>
                    <a:lnTo>
                      <a:pt x="591" y="3141"/>
                    </a:lnTo>
                    <a:lnTo>
                      <a:pt x="542" y="3108"/>
                    </a:lnTo>
                    <a:lnTo>
                      <a:pt x="493" y="3074"/>
                    </a:lnTo>
                    <a:lnTo>
                      <a:pt x="447" y="3038"/>
                    </a:lnTo>
                    <a:lnTo>
                      <a:pt x="402" y="2999"/>
                    </a:lnTo>
                    <a:lnTo>
                      <a:pt x="360" y="2958"/>
                    </a:lnTo>
                    <a:lnTo>
                      <a:pt x="318" y="2916"/>
                    </a:lnTo>
                    <a:lnTo>
                      <a:pt x="281" y="2871"/>
                    </a:lnTo>
                    <a:lnTo>
                      <a:pt x="244" y="2825"/>
                    </a:lnTo>
                    <a:lnTo>
                      <a:pt x="210" y="2777"/>
                    </a:lnTo>
                    <a:lnTo>
                      <a:pt x="177" y="2726"/>
                    </a:lnTo>
                    <a:lnTo>
                      <a:pt x="148" y="2675"/>
                    </a:lnTo>
                    <a:lnTo>
                      <a:pt x="120" y="2622"/>
                    </a:lnTo>
                    <a:lnTo>
                      <a:pt x="96" y="2567"/>
                    </a:lnTo>
                    <a:lnTo>
                      <a:pt x="74" y="2512"/>
                    </a:lnTo>
                    <a:lnTo>
                      <a:pt x="55" y="2455"/>
                    </a:lnTo>
                    <a:lnTo>
                      <a:pt x="37" y="2396"/>
                    </a:lnTo>
                    <a:lnTo>
                      <a:pt x="24" y="2336"/>
                    </a:lnTo>
                    <a:lnTo>
                      <a:pt x="13" y="2276"/>
                    </a:lnTo>
                    <a:lnTo>
                      <a:pt x="5" y="2214"/>
                    </a:lnTo>
                    <a:lnTo>
                      <a:pt x="1" y="2152"/>
                    </a:lnTo>
                    <a:lnTo>
                      <a:pt x="0" y="2089"/>
                    </a:lnTo>
                    <a:lnTo>
                      <a:pt x="1" y="2024"/>
                    </a:lnTo>
                    <a:lnTo>
                      <a:pt x="5" y="1963"/>
                    </a:lnTo>
                    <a:lnTo>
                      <a:pt x="13" y="1901"/>
                    </a:lnTo>
                    <a:lnTo>
                      <a:pt x="24" y="1840"/>
                    </a:lnTo>
                    <a:lnTo>
                      <a:pt x="37" y="1781"/>
                    </a:lnTo>
                    <a:lnTo>
                      <a:pt x="55" y="1723"/>
                    </a:lnTo>
                    <a:lnTo>
                      <a:pt x="74" y="1665"/>
                    </a:lnTo>
                    <a:lnTo>
                      <a:pt x="96" y="1609"/>
                    </a:lnTo>
                    <a:lnTo>
                      <a:pt x="120" y="1555"/>
                    </a:lnTo>
                    <a:lnTo>
                      <a:pt x="148" y="1501"/>
                    </a:lnTo>
                    <a:lnTo>
                      <a:pt x="177" y="1450"/>
                    </a:lnTo>
                    <a:lnTo>
                      <a:pt x="210" y="1400"/>
                    </a:lnTo>
                    <a:lnTo>
                      <a:pt x="244" y="1352"/>
                    </a:lnTo>
                    <a:lnTo>
                      <a:pt x="281" y="1305"/>
                    </a:lnTo>
                    <a:lnTo>
                      <a:pt x="318" y="1261"/>
                    </a:lnTo>
                    <a:lnTo>
                      <a:pt x="360" y="1218"/>
                    </a:lnTo>
                    <a:lnTo>
                      <a:pt x="402" y="1177"/>
                    </a:lnTo>
                    <a:lnTo>
                      <a:pt x="447" y="1139"/>
                    </a:lnTo>
                    <a:lnTo>
                      <a:pt x="493" y="1102"/>
                    </a:lnTo>
                    <a:lnTo>
                      <a:pt x="542" y="1068"/>
                    </a:lnTo>
                    <a:lnTo>
                      <a:pt x="591" y="1036"/>
                    </a:lnTo>
                    <a:lnTo>
                      <a:pt x="643" y="1006"/>
                    </a:lnTo>
                    <a:lnTo>
                      <a:pt x="696" y="980"/>
                    </a:lnTo>
                    <a:lnTo>
                      <a:pt x="751" y="954"/>
                    </a:lnTo>
                    <a:lnTo>
                      <a:pt x="807" y="932"/>
                    </a:lnTo>
                    <a:lnTo>
                      <a:pt x="863" y="913"/>
                    </a:lnTo>
                    <a:lnTo>
                      <a:pt x="922" y="897"/>
                    </a:lnTo>
                    <a:lnTo>
                      <a:pt x="981" y="883"/>
                    </a:lnTo>
                    <a:lnTo>
                      <a:pt x="1042" y="872"/>
                    </a:lnTo>
                    <a:lnTo>
                      <a:pt x="1104" y="864"/>
                    </a:lnTo>
                    <a:lnTo>
                      <a:pt x="1166" y="859"/>
                    </a:lnTo>
                    <a:lnTo>
                      <a:pt x="1229" y="858"/>
                    </a:lnTo>
                    <a:lnTo>
                      <a:pt x="1283" y="859"/>
                    </a:lnTo>
                    <a:lnTo>
                      <a:pt x="1334" y="863"/>
                    </a:lnTo>
                    <a:lnTo>
                      <a:pt x="1387" y="867"/>
                    </a:lnTo>
                    <a:lnTo>
                      <a:pt x="1438" y="875"/>
                    </a:lnTo>
                    <a:lnTo>
                      <a:pt x="1488" y="885"/>
                    </a:lnTo>
                    <a:lnTo>
                      <a:pt x="1537" y="897"/>
                    </a:lnTo>
                    <a:lnTo>
                      <a:pt x="1587" y="911"/>
                    </a:lnTo>
                    <a:lnTo>
                      <a:pt x="1635" y="926"/>
                    </a:lnTo>
                    <a:lnTo>
                      <a:pt x="2074" y="0"/>
                    </a:lnTo>
                    <a:lnTo>
                      <a:pt x="2206" y="65"/>
                    </a:lnTo>
                    <a:close/>
                    <a:moveTo>
                      <a:pt x="1509" y="3185"/>
                    </a:moveTo>
                    <a:lnTo>
                      <a:pt x="1551" y="3184"/>
                    </a:lnTo>
                    <a:lnTo>
                      <a:pt x="1591" y="3182"/>
                    </a:lnTo>
                    <a:lnTo>
                      <a:pt x="1633" y="3176"/>
                    </a:lnTo>
                    <a:lnTo>
                      <a:pt x="1673" y="3169"/>
                    </a:lnTo>
                    <a:lnTo>
                      <a:pt x="1712" y="3160"/>
                    </a:lnTo>
                    <a:lnTo>
                      <a:pt x="1751" y="3149"/>
                    </a:lnTo>
                    <a:lnTo>
                      <a:pt x="1789" y="3136"/>
                    </a:lnTo>
                    <a:lnTo>
                      <a:pt x="1825" y="3122"/>
                    </a:lnTo>
                    <a:lnTo>
                      <a:pt x="1861" y="3105"/>
                    </a:lnTo>
                    <a:lnTo>
                      <a:pt x="1896" y="3088"/>
                    </a:lnTo>
                    <a:lnTo>
                      <a:pt x="1930" y="3068"/>
                    </a:lnTo>
                    <a:lnTo>
                      <a:pt x="1963" y="3046"/>
                    </a:lnTo>
                    <a:lnTo>
                      <a:pt x="1995" y="3025"/>
                    </a:lnTo>
                    <a:lnTo>
                      <a:pt x="2026" y="2999"/>
                    </a:lnTo>
                    <a:lnTo>
                      <a:pt x="2055" y="2974"/>
                    </a:lnTo>
                    <a:lnTo>
                      <a:pt x="2083" y="2948"/>
                    </a:lnTo>
                    <a:lnTo>
                      <a:pt x="2110" y="2919"/>
                    </a:lnTo>
                    <a:lnTo>
                      <a:pt x="2136" y="2889"/>
                    </a:lnTo>
                    <a:lnTo>
                      <a:pt x="2160" y="2860"/>
                    </a:lnTo>
                    <a:lnTo>
                      <a:pt x="2182" y="2827"/>
                    </a:lnTo>
                    <a:lnTo>
                      <a:pt x="2204" y="2794"/>
                    </a:lnTo>
                    <a:lnTo>
                      <a:pt x="2223" y="2761"/>
                    </a:lnTo>
                    <a:lnTo>
                      <a:pt x="2240" y="2725"/>
                    </a:lnTo>
                    <a:lnTo>
                      <a:pt x="2258" y="2690"/>
                    </a:lnTo>
                    <a:lnTo>
                      <a:pt x="2271" y="2653"/>
                    </a:lnTo>
                    <a:lnTo>
                      <a:pt x="2284" y="2615"/>
                    </a:lnTo>
                    <a:lnTo>
                      <a:pt x="2295" y="2576"/>
                    </a:lnTo>
                    <a:lnTo>
                      <a:pt x="2305" y="2537"/>
                    </a:lnTo>
                    <a:lnTo>
                      <a:pt x="2311" y="2497"/>
                    </a:lnTo>
                    <a:lnTo>
                      <a:pt x="2317" y="2456"/>
                    </a:lnTo>
                    <a:lnTo>
                      <a:pt x="2320" y="2414"/>
                    </a:lnTo>
                    <a:lnTo>
                      <a:pt x="2321" y="2373"/>
                    </a:lnTo>
                    <a:lnTo>
                      <a:pt x="2320" y="2332"/>
                    </a:lnTo>
                    <a:lnTo>
                      <a:pt x="2317" y="2291"/>
                    </a:lnTo>
                    <a:lnTo>
                      <a:pt x="2311" y="2249"/>
                    </a:lnTo>
                    <a:lnTo>
                      <a:pt x="2305" y="2209"/>
                    </a:lnTo>
                    <a:lnTo>
                      <a:pt x="2295" y="2170"/>
                    </a:lnTo>
                    <a:lnTo>
                      <a:pt x="2284" y="2131"/>
                    </a:lnTo>
                    <a:lnTo>
                      <a:pt x="2271" y="2094"/>
                    </a:lnTo>
                    <a:lnTo>
                      <a:pt x="2258" y="2057"/>
                    </a:lnTo>
                    <a:lnTo>
                      <a:pt x="2240" y="2021"/>
                    </a:lnTo>
                    <a:lnTo>
                      <a:pt x="2223" y="1987"/>
                    </a:lnTo>
                    <a:lnTo>
                      <a:pt x="2204" y="1952"/>
                    </a:lnTo>
                    <a:lnTo>
                      <a:pt x="2182" y="1919"/>
                    </a:lnTo>
                    <a:lnTo>
                      <a:pt x="2160" y="1887"/>
                    </a:lnTo>
                    <a:lnTo>
                      <a:pt x="2136" y="1857"/>
                    </a:lnTo>
                    <a:lnTo>
                      <a:pt x="2110" y="1827"/>
                    </a:lnTo>
                    <a:lnTo>
                      <a:pt x="2083" y="1798"/>
                    </a:lnTo>
                    <a:lnTo>
                      <a:pt x="2055" y="1772"/>
                    </a:lnTo>
                    <a:lnTo>
                      <a:pt x="2026" y="1747"/>
                    </a:lnTo>
                    <a:lnTo>
                      <a:pt x="1995" y="1723"/>
                    </a:lnTo>
                    <a:lnTo>
                      <a:pt x="1963" y="1700"/>
                    </a:lnTo>
                    <a:lnTo>
                      <a:pt x="1930" y="1678"/>
                    </a:lnTo>
                    <a:lnTo>
                      <a:pt x="1896" y="1659"/>
                    </a:lnTo>
                    <a:lnTo>
                      <a:pt x="1861" y="1641"/>
                    </a:lnTo>
                    <a:lnTo>
                      <a:pt x="1825" y="1625"/>
                    </a:lnTo>
                    <a:lnTo>
                      <a:pt x="1789" y="1610"/>
                    </a:lnTo>
                    <a:lnTo>
                      <a:pt x="1751" y="1598"/>
                    </a:lnTo>
                    <a:lnTo>
                      <a:pt x="1712" y="1586"/>
                    </a:lnTo>
                    <a:lnTo>
                      <a:pt x="1673" y="1577"/>
                    </a:lnTo>
                    <a:lnTo>
                      <a:pt x="1633" y="1570"/>
                    </a:lnTo>
                    <a:lnTo>
                      <a:pt x="1591" y="1566"/>
                    </a:lnTo>
                    <a:lnTo>
                      <a:pt x="1551" y="1562"/>
                    </a:lnTo>
                    <a:lnTo>
                      <a:pt x="1509" y="1561"/>
                    </a:lnTo>
                    <a:lnTo>
                      <a:pt x="1467" y="1562"/>
                    </a:lnTo>
                    <a:lnTo>
                      <a:pt x="1426" y="1566"/>
                    </a:lnTo>
                    <a:lnTo>
                      <a:pt x="1385" y="1570"/>
                    </a:lnTo>
                    <a:lnTo>
                      <a:pt x="1345" y="1577"/>
                    </a:lnTo>
                    <a:lnTo>
                      <a:pt x="1306" y="1586"/>
                    </a:lnTo>
                    <a:lnTo>
                      <a:pt x="1268" y="1598"/>
                    </a:lnTo>
                    <a:lnTo>
                      <a:pt x="1230" y="1610"/>
                    </a:lnTo>
                    <a:lnTo>
                      <a:pt x="1192" y="1625"/>
                    </a:lnTo>
                    <a:lnTo>
                      <a:pt x="1157" y="1641"/>
                    </a:lnTo>
                    <a:lnTo>
                      <a:pt x="1122" y="1659"/>
                    </a:lnTo>
                    <a:lnTo>
                      <a:pt x="1088" y="1678"/>
                    </a:lnTo>
                    <a:lnTo>
                      <a:pt x="1055" y="1700"/>
                    </a:lnTo>
                    <a:lnTo>
                      <a:pt x="1023" y="1723"/>
                    </a:lnTo>
                    <a:lnTo>
                      <a:pt x="993" y="1747"/>
                    </a:lnTo>
                    <a:lnTo>
                      <a:pt x="963" y="1772"/>
                    </a:lnTo>
                    <a:lnTo>
                      <a:pt x="934" y="1798"/>
                    </a:lnTo>
                    <a:lnTo>
                      <a:pt x="908" y="1827"/>
                    </a:lnTo>
                    <a:lnTo>
                      <a:pt x="883" y="1857"/>
                    </a:lnTo>
                    <a:lnTo>
                      <a:pt x="859" y="1887"/>
                    </a:lnTo>
                    <a:lnTo>
                      <a:pt x="836" y="1919"/>
                    </a:lnTo>
                    <a:lnTo>
                      <a:pt x="814" y="1952"/>
                    </a:lnTo>
                    <a:lnTo>
                      <a:pt x="794" y="1987"/>
                    </a:lnTo>
                    <a:lnTo>
                      <a:pt x="777" y="2021"/>
                    </a:lnTo>
                    <a:lnTo>
                      <a:pt x="761" y="2057"/>
                    </a:lnTo>
                    <a:lnTo>
                      <a:pt x="746" y="2094"/>
                    </a:lnTo>
                    <a:lnTo>
                      <a:pt x="734" y="2131"/>
                    </a:lnTo>
                    <a:lnTo>
                      <a:pt x="722" y="2170"/>
                    </a:lnTo>
                    <a:lnTo>
                      <a:pt x="713" y="2209"/>
                    </a:lnTo>
                    <a:lnTo>
                      <a:pt x="706" y="2249"/>
                    </a:lnTo>
                    <a:lnTo>
                      <a:pt x="701" y="2291"/>
                    </a:lnTo>
                    <a:lnTo>
                      <a:pt x="698" y="2332"/>
                    </a:lnTo>
                    <a:lnTo>
                      <a:pt x="697" y="2373"/>
                    </a:lnTo>
                    <a:lnTo>
                      <a:pt x="698" y="2414"/>
                    </a:lnTo>
                    <a:lnTo>
                      <a:pt x="701" y="2456"/>
                    </a:lnTo>
                    <a:lnTo>
                      <a:pt x="706" y="2497"/>
                    </a:lnTo>
                    <a:lnTo>
                      <a:pt x="713" y="2537"/>
                    </a:lnTo>
                    <a:lnTo>
                      <a:pt x="722" y="2576"/>
                    </a:lnTo>
                    <a:lnTo>
                      <a:pt x="734" y="2615"/>
                    </a:lnTo>
                    <a:lnTo>
                      <a:pt x="746" y="2653"/>
                    </a:lnTo>
                    <a:lnTo>
                      <a:pt x="761" y="2690"/>
                    </a:lnTo>
                    <a:lnTo>
                      <a:pt x="777" y="2725"/>
                    </a:lnTo>
                    <a:lnTo>
                      <a:pt x="794" y="2761"/>
                    </a:lnTo>
                    <a:lnTo>
                      <a:pt x="814" y="2794"/>
                    </a:lnTo>
                    <a:lnTo>
                      <a:pt x="836" y="2827"/>
                    </a:lnTo>
                    <a:lnTo>
                      <a:pt x="859" y="2860"/>
                    </a:lnTo>
                    <a:lnTo>
                      <a:pt x="883" y="2889"/>
                    </a:lnTo>
                    <a:lnTo>
                      <a:pt x="908" y="2919"/>
                    </a:lnTo>
                    <a:lnTo>
                      <a:pt x="934" y="2948"/>
                    </a:lnTo>
                    <a:lnTo>
                      <a:pt x="963" y="2974"/>
                    </a:lnTo>
                    <a:lnTo>
                      <a:pt x="993" y="2999"/>
                    </a:lnTo>
                    <a:lnTo>
                      <a:pt x="1023" y="3025"/>
                    </a:lnTo>
                    <a:lnTo>
                      <a:pt x="1055" y="3046"/>
                    </a:lnTo>
                    <a:lnTo>
                      <a:pt x="1088" y="3068"/>
                    </a:lnTo>
                    <a:lnTo>
                      <a:pt x="1122" y="3088"/>
                    </a:lnTo>
                    <a:lnTo>
                      <a:pt x="1157" y="3105"/>
                    </a:lnTo>
                    <a:lnTo>
                      <a:pt x="1192" y="3122"/>
                    </a:lnTo>
                    <a:lnTo>
                      <a:pt x="1230" y="3136"/>
                    </a:lnTo>
                    <a:lnTo>
                      <a:pt x="1268" y="3149"/>
                    </a:lnTo>
                    <a:lnTo>
                      <a:pt x="1306" y="3160"/>
                    </a:lnTo>
                    <a:lnTo>
                      <a:pt x="1345" y="3169"/>
                    </a:lnTo>
                    <a:lnTo>
                      <a:pt x="1385" y="3176"/>
                    </a:lnTo>
                    <a:lnTo>
                      <a:pt x="1426" y="3182"/>
                    </a:lnTo>
                    <a:lnTo>
                      <a:pt x="1467" y="3184"/>
                    </a:lnTo>
                    <a:lnTo>
                      <a:pt x="1509" y="3185"/>
                    </a:lnTo>
                    <a:close/>
                  </a:path>
                </a:pathLst>
              </a:custGeom>
              <a:solidFill>
                <a:srgbClr val="117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01720" y="474264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743" h="743">
                    <a:moveTo>
                      <a:pt x="215" y="708"/>
                    </a:moveTo>
                    <a:lnTo>
                      <a:pt x="232" y="716"/>
                    </a:lnTo>
                    <a:lnTo>
                      <a:pt x="250" y="722"/>
                    </a:lnTo>
                    <a:lnTo>
                      <a:pt x="268" y="728"/>
                    </a:lnTo>
                    <a:lnTo>
                      <a:pt x="286" y="733"/>
                    </a:lnTo>
                    <a:lnTo>
                      <a:pt x="304" y="736"/>
                    </a:lnTo>
                    <a:lnTo>
                      <a:pt x="323" y="740"/>
                    </a:lnTo>
                    <a:lnTo>
                      <a:pt x="340" y="741"/>
                    </a:lnTo>
                    <a:lnTo>
                      <a:pt x="358" y="742"/>
                    </a:lnTo>
                    <a:lnTo>
                      <a:pt x="376" y="743"/>
                    </a:lnTo>
                    <a:lnTo>
                      <a:pt x="395" y="742"/>
                    </a:lnTo>
                    <a:lnTo>
                      <a:pt x="412" y="741"/>
                    </a:lnTo>
                    <a:lnTo>
                      <a:pt x="430" y="739"/>
                    </a:lnTo>
                    <a:lnTo>
                      <a:pt x="448" y="735"/>
                    </a:lnTo>
                    <a:lnTo>
                      <a:pt x="465" y="731"/>
                    </a:lnTo>
                    <a:lnTo>
                      <a:pt x="482" y="726"/>
                    </a:lnTo>
                    <a:lnTo>
                      <a:pt x="499" y="720"/>
                    </a:lnTo>
                    <a:lnTo>
                      <a:pt x="515" y="713"/>
                    </a:lnTo>
                    <a:lnTo>
                      <a:pt x="531" y="706"/>
                    </a:lnTo>
                    <a:lnTo>
                      <a:pt x="547" y="698"/>
                    </a:lnTo>
                    <a:lnTo>
                      <a:pt x="563" y="689"/>
                    </a:lnTo>
                    <a:lnTo>
                      <a:pt x="578" y="680"/>
                    </a:lnTo>
                    <a:lnTo>
                      <a:pt x="593" y="670"/>
                    </a:lnTo>
                    <a:lnTo>
                      <a:pt x="607" y="658"/>
                    </a:lnTo>
                    <a:lnTo>
                      <a:pt x="621" y="647"/>
                    </a:lnTo>
                    <a:lnTo>
                      <a:pt x="634" y="634"/>
                    </a:lnTo>
                    <a:lnTo>
                      <a:pt x="647" y="622"/>
                    </a:lnTo>
                    <a:lnTo>
                      <a:pt x="659" y="608"/>
                    </a:lnTo>
                    <a:lnTo>
                      <a:pt x="670" y="593"/>
                    </a:lnTo>
                    <a:lnTo>
                      <a:pt x="680" y="578"/>
                    </a:lnTo>
                    <a:lnTo>
                      <a:pt x="691" y="562"/>
                    </a:lnTo>
                    <a:lnTo>
                      <a:pt x="700" y="545"/>
                    </a:lnTo>
                    <a:lnTo>
                      <a:pt x="709" y="529"/>
                    </a:lnTo>
                    <a:lnTo>
                      <a:pt x="716" y="510"/>
                    </a:lnTo>
                    <a:lnTo>
                      <a:pt x="723" y="493"/>
                    </a:lnTo>
                    <a:lnTo>
                      <a:pt x="729" y="475"/>
                    </a:lnTo>
                    <a:lnTo>
                      <a:pt x="733" y="458"/>
                    </a:lnTo>
                    <a:lnTo>
                      <a:pt x="737" y="439"/>
                    </a:lnTo>
                    <a:lnTo>
                      <a:pt x="740" y="421"/>
                    </a:lnTo>
                    <a:lnTo>
                      <a:pt x="742" y="402"/>
                    </a:lnTo>
                    <a:lnTo>
                      <a:pt x="743" y="385"/>
                    </a:lnTo>
                    <a:lnTo>
                      <a:pt x="743" y="367"/>
                    </a:lnTo>
                    <a:lnTo>
                      <a:pt x="742" y="349"/>
                    </a:lnTo>
                    <a:lnTo>
                      <a:pt x="741" y="331"/>
                    </a:lnTo>
                    <a:lnTo>
                      <a:pt x="739" y="313"/>
                    </a:lnTo>
                    <a:lnTo>
                      <a:pt x="735" y="296"/>
                    </a:lnTo>
                    <a:lnTo>
                      <a:pt x="732" y="279"/>
                    </a:lnTo>
                    <a:lnTo>
                      <a:pt x="726" y="261"/>
                    </a:lnTo>
                    <a:lnTo>
                      <a:pt x="721" y="244"/>
                    </a:lnTo>
                    <a:lnTo>
                      <a:pt x="715" y="227"/>
                    </a:lnTo>
                    <a:lnTo>
                      <a:pt x="707" y="211"/>
                    </a:lnTo>
                    <a:lnTo>
                      <a:pt x="699" y="195"/>
                    </a:lnTo>
                    <a:lnTo>
                      <a:pt x="691" y="180"/>
                    </a:lnTo>
                    <a:lnTo>
                      <a:pt x="680" y="165"/>
                    </a:lnTo>
                    <a:lnTo>
                      <a:pt x="670" y="150"/>
                    </a:lnTo>
                    <a:lnTo>
                      <a:pt x="660" y="135"/>
                    </a:lnTo>
                    <a:lnTo>
                      <a:pt x="647" y="123"/>
                    </a:lnTo>
                    <a:lnTo>
                      <a:pt x="634" y="109"/>
                    </a:lnTo>
                    <a:lnTo>
                      <a:pt x="622" y="96"/>
                    </a:lnTo>
                    <a:lnTo>
                      <a:pt x="608" y="85"/>
                    </a:lnTo>
                    <a:lnTo>
                      <a:pt x="593" y="73"/>
                    </a:lnTo>
                    <a:lnTo>
                      <a:pt x="578" y="62"/>
                    </a:lnTo>
                    <a:lnTo>
                      <a:pt x="562" y="53"/>
                    </a:lnTo>
                    <a:lnTo>
                      <a:pt x="546" y="43"/>
                    </a:lnTo>
                    <a:lnTo>
                      <a:pt x="529" y="34"/>
                    </a:lnTo>
                    <a:lnTo>
                      <a:pt x="512" y="27"/>
                    </a:lnTo>
                    <a:lnTo>
                      <a:pt x="493" y="20"/>
                    </a:lnTo>
                    <a:lnTo>
                      <a:pt x="476" y="15"/>
                    </a:lnTo>
                    <a:lnTo>
                      <a:pt x="458" y="10"/>
                    </a:lnTo>
                    <a:lnTo>
                      <a:pt x="440" y="6"/>
                    </a:lnTo>
                    <a:lnTo>
                      <a:pt x="421" y="3"/>
                    </a:lnTo>
                    <a:lnTo>
                      <a:pt x="404" y="1"/>
                    </a:lnTo>
                    <a:lnTo>
                      <a:pt x="386" y="0"/>
                    </a:lnTo>
                    <a:lnTo>
                      <a:pt x="367" y="0"/>
                    </a:lnTo>
                    <a:lnTo>
                      <a:pt x="349" y="0"/>
                    </a:lnTo>
                    <a:lnTo>
                      <a:pt x="332" y="2"/>
                    </a:lnTo>
                    <a:lnTo>
                      <a:pt x="313" y="4"/>
                    </a:lnTo>
                    <a:lnTo>
                      <a:pt x="296" y="8"/>
                    </a:lnTo>
                    <a:lnTo>
                      <a:pt x="279" y="11"/>
                    </a:lnTo>
                    <a:lnTo>
                      <a:pt x="262" y="16"/>
                    </a:lnTo>
                    <a:lnTo>
                      <a:pt x="245" y="22"/>
                    </a:lnTo>
                    <a:lnTo>
                      <a:pt x="229" y="29"/>
                    </a:lnTo>
                    <a:lnTo>
                      <a:pt x="212" y="35"/>
                    </a:lnTo>
                    <a:lnTo>
                      <a:pt x="196" y="43"/>
                    </a:lnTo>
                    <a:lnTo>
                      <a:pt x="180" y="53"/>
                    </a:lnTo>
                    <a:lnTo>
                      <a:pt x="165" y="62"/>
                    </a:lnTo>
                    <a:lnTo>
                      <a:pt x="151" y="72"/>
                    </a:lnTo>
                    <a:lnTo>
                      <a:pt x="137" y="84"/>
                    </a:lnTo>
                    <a:lnTo>
                      <a:pt x="123" y="95"/>
                    </a:lnTo>
                    <a:lnTo>
                      <a:pt x="109" y="108"/>
                    </a:lnTo>
                    <a:lnTo>
                      <a:pt x="97" y="121"/>
                    </a:lnTo>
                    <a:lnTo>
                      <a:pt x="85" y="135"/>
                    </a:lnTo>
                    <a:lnTo>
                      <a:pt x="74" y="149"/>
                    </a:lnTo>
                    <a:lnTo>
                      <a:pt x="63" y="165"/>
                    </a:lnTo>
                    <a:lnTo>
                      <a:pt x="53" y="181"/>
                    </a:lnTo>
                    <a:lnTo>
                      <a:pt x="44" y="197"/>
                    </a:lnTo>
                    <a:lnTo>
                      <a:pt x="36" y="214"/>
                    </a:lnTo>
                    <a:lnTo>
                      <a:pt x="28" y="232"/>
                    </a:lnTo>
                    <a:lnTo>
                      <a:pt x="21" y="250"/>
                    </a:lnTo>
                    <a:lnTo>
                      <a:pt x="15" y="267"/>
                    </a:lnTo>
                    <a:lnTo>
                      <a:pt x="11" y="285"/>
                    </a:lnTo>
                    <a:lnTo>
                      <a:pt x="7" y="303"/>
                    </a:lnTo>
                    <a:lnTo>
                      <a:pt x="4" y="321"/>
                    </a:lnTo>
                    <a:lnTo>
                      <a:pt x="1" y="339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1" y="393"/>
                    </a:lnTo>
                    <a:lnTo>
                      <a:pt x="3" y="412"/>
                    </a:lnTo>
                    <a:lnTo>
                      <a:pt x="5" y="429"/>
                    </a:lnTo>
                    <a:lnTo>
                      <a:pt x="8" y="447"/>
                    </a:lnTo>
                    <a:lnTo>
                      <a:pt x="13" y="464"/>
                    </a:lnTo>
                    <a:lnTo>
                      <a:pt x="18" y="482"/>
                    </a:lnTo>
                    <a:lnTo>
                      <a:pt x="23" y="498"/>
                    </a:lnTo>
                    <a:lnTo>
                      <a:pt x="29" y="515"/>
                    </a:lnTo>
                    <a:lnTo>
                      <a:pt x="37" y="531"/>
                    </a:lnTo>
                    <a:lnTo>
                      <a:pt x="45" y="547"/>
                    </a:lnTo>
                    <a:lnTo>
                      <a:pt x="53" y="563"/>
                    </a:lnTo>
                    <a:lnTo>
                      <a:pt x="63" y="578"/>
                    </a:lnTo>
                    <a:lnTo>
                      <a:pt x="74" y="593"/>
                    </a:lnTo>
                    <a:lnTo>
                      <a:pt x="84" y="607"/>
                    </a:lnTo>
                    <a:lnTo>
                      <a:pt x="97" y="620"/>
                    </a:lnTo>
                    <a:lnTo>
                      <a:pt x="109" y="633"/>
                    </a:lnTo>
                    <a:lnTo>
                      <a:pt x="122" y="646"/>
                    </a:lnTo>
                    <a:lnTo>
                      <a:pt x="136" y="658"/>
                    </a:lnTo>
                    <a:lnTo>
                      <a:pt x="151" y="670"/>
                    </a:lnTo>
                    <a:lnTo>
                      <a:pt x="165" y="680"/>
                    </a:lnTo>
                    <a:lnTo>
                      <a:pt x="182" y="690"/>
                    </a:lnTo>
                    <a:lnTo>
                      <a:pt x="198" y="700"/>
                    </a:lnTo>
                    <a:lnTo>
                      <a:pt x="215" y="708"/>
                    </a:lnTo>
                    <a:close/>
                  </a:path>
                </a:pathLst>
              </a:custGeom>
              <a:solidFill>
                <a:srgbClr val="117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29080" y="4754880"/>
                <a:ext cx="86040" cy="79560"/>
              </a:xfrm>
              <a:custGeom>
                <a:avLst/>
                <a:gdLst/>
                <a:ahLst/>
                <a:rect l="l" t="t" r="r" b="b"/>
                <a:pathLst>
                  <a:path w="742" h="743">
                    <a:moveTo>
                      <a:pt x="214" y="708"/>
                    </a:moveTo>
                    <a:lnTo>
                      <a:pt x="232" y="716"/>
                    </a:lnTo>
                    <a:lnTo>
                      <a:pt x="249" y="722"/>
                    </a:lnTo>
                    <a:lnTo>
                      <a:pt x="267" y="728"/>
                    </a:lnTo>
                    <a:lnTo>
                      <a:pt x="286" y="732"/>
                    </a:lnTo>
                    <a:lnTo>
                      <a:pt x="303" y="737"/>
                    </a:lnTo>
                    <a:lnTo>
                      <a:pt x="321" y="739"/>
                    </a:lnTo>
                    <a:lnTo>
                      <a:pt x="339" y="741"/>
                    </a:lnTo>
                    <a:lnTo>
                      <a:pt x="358" y="743"/>
                    </a:lnTo>
                    <a:lnTo>
                      <a:pt x="375" y="743"/>
                    </a:lnTo>
                    <a:lnTo>
                      <a:pt x="393" y="743"/>
                    </a:lnTo>
                    <a:lnTo>
                      <a:pt x="412" y="740"/>
                    </a:lnTo>
                    <a:lnTo>
                      <a:pt x="429" y="738"/>
                    </a:lnTo>
                    <a:lnTo>
                      <a:pt x="446" y="735"/>
                    </a:lnTo>
                    <a:lnTo>
                      <a:pt x="464" y="731"/>
                    </a:lnTo>
                    <a:lnTo>
                      <a:pt x="482" y="726"/>
                    </a:lnTo>
                    <a:lnTo>
                      <a:pt x="498" y="721"/>
                    </a:lnTo>
                    <a:lnTo>
                      <a:pt x="515" y="714"/>
                    </a:lnTo>
                    <a:lnTo>
                      <a:pt x="531" y="707"/>
                    </a:lnTo>
                    <a:lnTo>
                      <a:pt x="547" y="699"/>
                    </a:lnTo>
                    <a:lnTo>
                      <a:pt x="562" y="690"/>
                    </a:lnTo>
                    <a:lnTo>
                      <a:pt x="578" y="681"/>
                    </a:lnTo>
                    <a:lnTo>
                      <a:pt x="592" y="670"/>
                    </a:lnTo>
                    <a:lnTo>
                      <a:pt x="607" y="659"/>
                    </a:lnTo>
                    <a:lnTo>
                      <a:pt x="620" y="647"/>
                    </a:lnTo>
                    <a:lnTo>
                      <a:pt x="633" y="635"/>
                    </a:lnTo>
                    <a:lnTo>
                      <a:pt x="646" y="621"/>
                    </a:lnTo>
                    <a:lnTo>
                      <a:pt x="658" y="607"/>
                    </a:lnTo>
                    <a:lnTo>
                      <a:pt x="670" y="593"/>
                    </a:lnTo>
                    <a:lnTo>
                      <a:pt x="680" y="577"/>
                    </a:lnTo>
                    <a:lnTo>
                      <a:pt x="690" y="562"/>
                    </a:lnTo>
                    <a:lnTo>
                      <a:pt x="700" y="545"/>
                    </a:lnTo>
                    <a:lnTo>
                      <a:pt x="708" y="528"/>
                    </a:lnTo>
                    <a:lnTo>
                      <a:pt x="716" y="511"/>
                    </a:lnTo>
                    <a:lnTo>
                      <a:pt x="722" y="494"/>
                    </a:lnTo>
                    <a:lnTo>
                      <a:pt x="727" y="475"/>
                    </a:lnTo>
                    <a:lnTo>
                      <a:pt x="733" y="457"/>
                    </a:lnTo>
                    <a:lnTo>
                      <a:pt x="736" y="440"/>
                    </a:lnTo>
                    <a:lnTo>
                      <a:pt x="740" y="421"/>
                    </a:lnTo>
                    <a:lnTo>
                      <a:pt x="741" y="403"/>
                    </a:lnTo>
                    <a:lnTo>
                      <a:pt x="742" y="385"/>
                    </a:lnTo>
                    <a:lnTo>
                      <a:pt x="742" y="367"/>
                    </a:lnTo>
                    <a:lnTo>
                      <a:pt x="742" y="349"/>
                    </a:lnTo>
                    <a:lnTo>
                      <a:pt x="741" y="331"/>
                    </a:lnTo>
                    <a:lnTo>
                      <a:pt x="737" y="314"/>
                    </a:lnTo>
                    <a:lnTo>
                      <a:pt x="735" y="295"/>
                    </a:lnTo>
                    <a:lnTo>
                      <a:pt x="730" y="278"/>
                    </a:lnTo>
                    <a:lnTo>
                      <a:pt x="726" y="261"/>
                    </a:lnTo>
                    <a:lnTo>
                      <a:pt x="720" y="245"/>
                    </a:lnTo>
                    <a:lnTo>
                      <a:pt x="713" y="228"/>
                    </a:lnTo>
                    <a:lnTo>
                      <a:pt x="706" y="211"/>
                    </a:lnTo>
                    <a:lnTo>
                      <a:pt x="698" y="195"/>
                    </a:lnTo>
                    <a:lnTo>
                      <a:pt x="689" y="180"/>
                    </a:lnTo>
                    <a:lnTo>
                      <a:pt x="680" y="164"/>
                    </a:lnTo>
                    <a:lnTo>
                      <a:pt x="670" y="151"/>
                    </a:lnTo>
                    <a:lnTo>
                      <a:pt x="658" y="136"/>
                    </a:lnTo>
                    <a:lnTo>
                      <a:pt x="647" y="122"/>
                    </a:lnTo>
                    <a:lnTo>
                      <a:pt x="634" y="109"/>
                    </a:lnTo>
                    <a:lnTo>
                      <a:pt x="622" y="97"/>
                    </a:lnTo>
                    <a:lnTo>
                      <a:pt x="607" y="84"/>
                    </a:lnTo>
                    <a:lnTo>
                      <a:pt x="593" y="73"/>
                    </a:lnTo>
                    <a:lnTo>
                      <a:pt x="578" y="62"/>
                    </a:lnTo>
                    <a:lnTo>
                      <a:pt x="562" y="52"/>
                    </a:lnTo>
                    <a:lnTo>
                      <a:pt x="545" y="43"/>
                    </a:lnTo>
                    <a:lnTo>
                      <a:pt x="527" y="35"/>
                    </a:lnTo>
                    <a:lnTo>
                      <a:pt x="510" y="27"/>
                    </a:lnTo>
                    <a:lnTo>
                      <a:pt x="493" y="20"/>
                    </a:lnTo>
                    <a:lnTo>
                      <a:pt x="475" y="14"/>
                    </a:lnTo>
                    <a:lnTo>
                      <a:pt x="456" y="10"/>
                    </a:lnTo>
                    <a:lnTo>
                      <a:pt x="439" y="6"/>
                    </a:lnTo>
                    <a:lnTo>
                      <a:pt x="421" y="3"/>
                    </a:lnTo>
                    <a:lnTo>
                      <a:pt x="402" y="2"/>
                    </a:lnTo>
                    <a:lnTo>
                      <a:pt x="384" y="0"/>
                    </a:lnTo>
                    <a:lnTo>
                      <a:pt x="367" y="0"/>
                    </a:lnTo>
                    <a:lnTo>
                      <a:pt x="349" y="0"/>
                    </a:lnTo>
                    <a:lnTo>
                      <a:pt x="330" y="2"/>
                    </a:lnTo>
                    <a:lnTo>
                      <a:pt x="313" y="5"/>
                    </a:lnTo>
                    <a:lnTo>
                      <a:pt x="296" y="7"/>
                    </a:lnTo>
                    <a:lnTo>
                      <a:pt x="278" y="12"/>
                    </a:lnTo>
                    <a:lnTo>
                      <a:pt x="261" y="16"/>
                    </a:lnTo>
                    <a:lnTo>
                      <a:pt x="244" y="22"/>
                    </a:lnTo>
                    <a:lnTo>
                      <a:pt x="227" y="29"/>
                    </a:lnTo>
                    <a:lnTo>
                      <a:pt x="211" y="36"/>
                    </a:lnTo>
                    <a:lnTo>
                      <a:pt x="195" y="44"/>
                    </a:lnTo>
                    <a:lnTo>
                      <a:pt x="180" y="53"/>
                    </a:lnTo>
                    <a:lnTo>
                      <a:pt x="165" y="62"/>
                    </a:lnTo>
                    <a:lnTo>
                      <a:pt x="150" y="73"/>
                    </a:lnTo>
                    <a:lnTo>
                      <a:pt x="135" y="84"/>
                    </a:lnTo>
                    <a:lnTo>
                      <a:pt x="122" y="96"/>
                    </a:lnTo>
                    <a:lnTo>
                      <a:pt x="109" y="108"/>
                    </a:lnTo>
                    <a:lnTo>
                      <a:pt x="96" y="121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2" y="164"/>
                    </a:lnTo>
                    <a:lnTo>
                      <a:pt x="53" y="180"/>
                    </a:lnTo>
                    <a:lnTo>
                      <a:pt x="44" y="198"/>
                    </a:lnTo>
                    <a:lnTo>
                      <a:pt x="34" y="215"/>
                    </a:lnTo>
                    <a:lnTo>
                      <a:pt x="26" y="232"/>
                    </a:lnTo>
                    <a:lnTo>
                      <a:pt x="21" y="249"/>
                    </a:lnTo>
                    <a:lnTo>
                      <a:pt x="15" y="268"/>
                    </a:lnTo>
                    <a:lnTo>
                      <a:pt x="9" y="285"/>
                    </a:lnTo>
                    <a:lnTo>
                      <a:pt x="6" y="303"/>
                    </a:lnTo>
                    <a:lnTo>
                      <a:pt x="3" y="322"/>
                    </a:lnTo>
                    <a:lnTo>
                      <a:pt x="1" y="340"/>
                    </a:lnTo>
                    <a:lnTo>
                      <a:pt x="0" y="358"/>
                    </a:lnTo>
                    <a:lnTo>
                      <a:pt x="0" y="375"/>
                    </a:lnTo>
                    <a:lnTo>
                      <a:pt x="0" y="394"/>
                    </a:lnTo>
                    <a:lnTo>
                      <a:pt x="2" y="412"/>
                    </a:lnTo>
                    <a:lnTo>
                      <a:pt x="5" y="429"/>
                    </a:lnTo>
                    <a:lnTo>
                      <a:pt x="8" y="447"/>
                    </a:lnTo>
                    <a:lnTo>
                      <a:pt x="11" y="464"/>
                    </a:lnTo>
                    <a:lnTo>
                      <a:pt x="16" y="481"/>
                    </a:lnTo>
                    <a:lnTo>
                      <a:pt x="22" y="498"/>
                    </a:lnTo>
                    <a:lnTo>
                      <a:pt x="29" y="515"/>
                    </a:lnTo>
                    <a:lnTo>
                      <a:pt x="36" y="531"/>
                    </a:lnTo>
                    <a:lnTo>
                      <a:pt x="44" y="548"/>
                    </a:lnTo>
                    <a:lnTo>
                      <a:pt x="53" y="562"/>
                    </a:lnTo>
                    <a:lnTo>
                      <a:pt x="62" y="577"/>
                    </a:lnTo>
                    <a:lnTo>
                      <a:pt x="72" y="592"/>
                    </a:lnTo>
                    <a:lnTo>
                      <a:pt x="84" y="607"/>
                    </a:lnTo>
                    <a:lnTo>
                      <a:pt x="95" y="621"/>
                    </a:lnTo>
                    <a:lnTo>
                      <a:pt x="108" y="634"/>
                    </a:lnTo>
                    <a:lnTo>
                      <a:pt x="122" y="646"/>
                    </a:lnTo>
                    <a:lnTo>
                      <a:pt x="135" y="658"/>
                    </a:lnTo>
                    <a:lnTo>
                      <a:pt x="149" y="669"/>
                    </a:lnTo>
                    <a:lnTo>
                      <a:pt x="165" y="681"/>
                    </a:lnTo>
                    <a:lnTo>
                      <a:pt x="180" y="690"/>
                    </a:lnTo>
                    <a:lnTo>
                      <a:pt x="197" y="699"/>
                    </a:lnTo>
                    <a:lnTo>
                      <a:pt x="214" y="708"/>
                    </a:lnTo>
                    <a:close/>
                  </a:path>
                </a:pathLst>
              </a:custGeom>
              <a:solidFill>
                <a:srgbClr val="117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06960" y="480168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460" h="3318">
                    <a:moveTo>
                      <a:pt x="2206" y="64"/>
                    </a:moveTo>
                    <a:lnTo>
                      <a:pt x="1776" y="985"/>
                    </a:lnTo>
                    <a:lnTo>
                      <a:pt x="1814" y="1005"/>
                    </a:lnTo>
                    <a:lnTo>
                      <a:pt x="1851" y="1025"/>
                    </a:lnTo>
                    <a:lnTo>
                      <a:pt x="1886" y="1047"/>
                    </a:lnTo>
                    <a:lnTo>
                      <a:pt x="1922" y="1070"/>
                    </a:lnTo>
                    <a:lnTo>
                      <a:pt x="1956" y="1094"/>
                    </a:lnTo>
                    <a:lnTo>
                      <a:pt x="1990" y="1120"/>
                    </a:lnTo>
                    <a:lnTo>
                      <a:pt x="2023" y="1147"/>
                    </a:lnTo>
                    <a:lnTo>
                      <a:pt x="2054" y="1174"/>
                    </a:lnTo>
                    <a:lnTo>
                      <a:pt x="2085" y="1203"/>
                    </a:lnTo>
                    <a:lnTo>
                      <a:pt x="2115" y="1233"/>
                    </a:lnTo>
                    <a:lnTo>
                      <a:pt x="2143" y="1263"/>
                    </a:lnTo>
                    <a:lnTo>
                      <a:pt x="2171" y="1295"/>
                    </a:lnTo>
                    <a:lnTo>
                      <a:pt x="2197" y="1328"/>
                    </a:lnTo>
                    <a:lnTo>
                      <a:pt x="2222" y="1361"/>
                    </a:lnTo>
                    <a:lnTo>
                      <a:pt x="2248" y="1396"/>
                    </a:lnTo>
                    <a:lnTo>
                      <a:pt x="2271" y="1430"/>
                    </a:lnTo>
                    <a:lnTo>
                      <a:pt x="2292" y="1467"/>
                    </a:lnTo>
                    <a:lnTo>
                      <a:pt x="2313" y="1503"/>
                    </a:lnTo>
                    <a:lnTo>
                      <a:pt x="2332" y="1541"/>
                    </a:lnTo>
                    <a:lnTo>
                      <a:pt x="2351" y="1579"/>
                    </a:lnTo>
                    <a:lnTo>
                      <a:pt x="2368" y="1618"/>
                    </a:lnTo>
                    <a:lnTo>
                      <a:pt x="2383" y="1658"/>
                    </a:lnTo>
                    <a:lnTo>
                      <a:pt x="2398" y="1698"/>
                    </a:lnTo>
                    <a:lnTo>
                      <a:pt x="2410" y="1740"/>
                    </a:lnTo>
                    <a:lnTo>
                      <a:pt x="2422" y="1781"/>
                    </a:lnTo>
                    <a:lnTo>
                      <a:pt x="2432" y="1823"/>
                    </a:lnTo>
                    <a:lnTo>
                      <a:pt x="2440" y="1867"/>
                    </a:lnTo>
                    <a:lnTo>
                      <a:pt x="2447" y="1910"/>
                    </a:lnTo>
                    <a:lnTo>
                      <a:pt x="2453" y="1954"/>
                    </a:lnTo>
                    <a:lnTo>
                      <a:pt x="2457" y="1998"/>
                    </a:lnTo>
                    <a:lnTo>
                      <a:pt x="2460" y="2043"/>
                    </a:lnTo>
                    <a:lnTo>
                      <a:pt x="2460" y="2088"/>
                    </a:lnTo>
                    <a:lnTo>
                      <a:pt x="2459" y="2152"/>
                    </a:lnTo>
                    <a:lnTo>
                      <a:pt x="2454" y="2213"/>
                    </a:lnTo>
                    <a:lnTo>
                      <a:pt x="2446" y="2275"/>
                    </a:lnTo>
                    <a:lnTo>
                      <a:pt x="2436" y="2336"/>
                    </a:lnTo>
                    <a:lnTo>
                      <a:pt x="2422" y="2396"/>
                    </a:lnTo>
                    <a:lnTo>
                      <a:pt x="2405" y="2454"/>
                    </a:lnTo>
                    <a:lnTo>
                      <a:pt x="2385" y="2511"/>
                    </a:lnTo>
                    <a:lnTo>
                      <a:pt x="2363" y="2567"/>
                    </a:lnTo>
                    <a:lnTo>
                      <a:pt x="2339" y="2622"/>
                    </a:lnTo>
                    <a:lnTo>
                      <a:pt x="2312" y="2675"/>
                    </a:lnTo>
                    <a:lnTo>
                      <a:pt x="2282" y="2726"/>
                    </a:lnTo>
                    <a:lnTo>
                      <a:pt x="2250" y="2776"/>
                    </a:lnTo>
                    <a:lnTo>
                      <a:pt x="2215" y="2825"/>
                    </a:lnTo>
                    <a:lnTo>
                      <a:pt x="2179" y="2871"/>
                    </a:lnTo>
                    <a:lnTo>
                      <a:pt x="2141" y="2915"/>
                    </a:lnTo>
                    <a:lnTo>
                      <a:pt x="2100" y="2958"/>
                    </a:lnTo>
                    <a:lnTo>
                      <a:pt x="2057" y="2999"/>
                    </a:lnTo>
                    <a:lnTo>
                      <a:pt x="2013" y="3038"/>
                    </a:lnTo>
                    <a:lnTo>
                      <a:pt x="1966" y="3074"/>
                    </a:lnTo>
                    <a:lnTo>
                      <a:pt x="1917" y="3108"/>
                    </a:lnTo>
                    <a:lnTo>
                      <a:pt x="1868" y="3140"/>
                    </a:lnTo>
                    <a:lnTo>
                      <a:pt x="1816" y="3170"/>
                    </a:lnTo>
                    <a:lnTo>
                      <a:pt x="1764" y="3198"/>
                    </a:lnTo>
                    <a:lnTo>
                      <a:pt x="1709" y="3222"/>
                    </a:lnTo>
                    <a:lnTo>
                      <a:pt x="1652" y="3244"/>
                    </a:lnTo>
                    <a:lnTo>
                      <a:pt x="1596" y="3263"/>
                    </a:lnTo>
                    <a:lnTo>
                      <a:pt x="1538" y="3280"/>
                    </a:lnTo>
                    <a:lnTo>
                      <a:pt x="1478" y="3294"/>
                    </a:lnTo>
                    <a:lnTo>
                      <a:pt x="1417" y="3304"/>
                    </a:lnTo>
                    <a:lnTo>
                      <a:pt x="1355" y="3312"/>
                    </a:lnTo>
                    <a:lnTo>
                      <a:pt x="1294" y="3317"/>
                    </a:lnTo>
                    <a:lnTo>
                      <a:pt x="1230" y="3318"/>
                    </a:lnTo>
                    <a:lnTo>
                      <a:pt x="1166" y="3317"/>
                    </a:lnTo>
                    <a:lnTo>
                      <a:pt x="1104" y="3312"/>
                    </a:lnTo>
                    <a:lnTo>
                      <a:pt x="1042" y="3304"/>
                    </a:lnTo>
                    <a:lnTo>
                      <a:pt x="982" y="3294"/>
                    </a:lnTo>
                    <a:lnTo>
                      <a:pt x="922" y="3280"/>
                    </a:lnTo>
                    <a:lnTo>
                      <a:pt x="863" y="3263"/>
                    </a:lnTo>
                    <a:lnTo>
                      <a:pt x="807" y="3244"/>
                    </a:lnTo>
                    <a:lnTo>
                      <a:pt x="751" y="3222"/>
                    </a:lnTo>
                    <a:lnTo>
                      <a:pt x="696" y="3198"/>
                    </a:lnTo>
                    <a:lnTo>
                      <a:pt x="643" y="3170"/>
                    </a:lnTo>
                    <a:lnTo>
                      <a:pt x="592" y="3140"/>
                    </a:lnTo>
                    <a:lnTo>
                      <a:pt x="542" y="3108"/>
                    </a:lnTo>
                    <a:lnTo>
                      <a:pt x="494" y="3074"/>
                    </a:lnTo>
                    <a:lnTo>
                      <a:pt x="447" y="3038"/>
                    </a:lnTo>
                    <a:lnTo>
                      <a:pt x="402" y="2999"/>
                    </a:lnTo>
                    <a:lnTo>
                      <a:pt x="360" y="2958"/>
                    </a:lnTo>
                    <a:lnTo>
                      <a:pt x="319" y="2915"/>
                    </a:lnTo>
                    <a:lnTo>
                      <a:pt x="281" y="2871"/>
                    </a:lnTo>
                    <a:lnTo>
                      <a:pt x="244" y="2825"/>
                    </a:lnTo>
                    <a:lnTo>
                      <a:pt x="210" y="2776"/>
                    </a:lnTo>
                    <a:lnTo>
                      <a:pt x="178" y="2726"/>
                    </a:lnTo>
                    <a:lnTo>
                      <a:pt x="148" y="2675"/>
                    </a:lnTo>
                    <a:lnTo>
                      <a:pt x="120" y="2622"/>
                    </a:lnTo>
                    <a:lnTo>
                      <a:pt x="96" y="2567"/>
                    </a:lnTo>
                    <a:lnTo>
                      <a:pt x="75" y="2511"/>
                    </a:lnTo>
                    <a:lnTo>
                      <a:pt x="55" y="2454"/>
                    </a:lnTo>
                    <a:lnTo>
                      <a:pt x="38" y="2396"/>
                    </a:lnTo>
                    <a:lnTo>
                      <a:pt x="24" y="2336"/>
                    </a:lnTo>
                    <a:lnTo>
                      <a:pt x="14" y="2275"/>
                    </a:lnTo>
                    <a:lnTo>
                      <a:pt x="6" y="2213"/>
                    </a:lnTo>
                    <a:lnTo>
                      <a:pt x="1" y="2152"/>
                    </a:lnTo>
                    <a:lnTo>
                      <a:pt x="0" y="2088"/>
                    </a:lnTo>
                    <a:lnTo>
                      <a:pt x="1" y="2024"/>
                    </a:lnTo>
                    <a:lnTo>
                      <a:pt x="6" y="1962"/>
                    </a:lnTo>
                    <a:lnTo>
                      <a:pt x="14" y="1900"/>
                    </a:lnTo>
                    <a:lnTo>
                      <a:pt x="24" y="1840"/>
                    </a:lnTo>
                    <a:lnTo>
                      <a:pt x="38" y="1780"/>
                    </a:lnTo>
                    <a:lnTo>
                      <a:pt x="55" y="1723"/>
                    </a:lnTo>
                    <a:lnTo>
                      <a:pt x="75" y="1665"/>
                    </a:lnTo>
                    <a:lnTo>
                      <a:pt x="96" y="1609"/>
                    </a:lnTo>
                    <a:lnTo>
                      <a:pt x="120" y="1554"/>
                    </a:lnTo>
                    <a:lnTo>
                      <a:pt x="148" y="1501"/>
                    </a:lnTo>
                    <a:lnTo>
                      <a:pt x="178" y="1450"/>
                    </a:lnTo>
                    <a:lnTo>
                      <a:pt x="210" y="1400"/>
                    </a:lnTo>
                    <a:lnTo>
                      <a:pt x="244" y="1352"/>
                    </a:lnTo>
                    <a:lnTo>
                      <a:pt x="281" y="1305"/>
                    </a:lnTo>
                    <a:lnTo>
                      <a:pt x="319" y="1260"/>
                    </a:lnTo>
                    <a:lnTo>
                      <a:pt x="360" y="1218"/>
                    </a:lnTo>
                    <a:lnTo>
                      <a:pt x="402" y="1177"/>
                    </a:lnTo>
                    <a:lnTo>
                      <a:pt x="447" y="1139"/>
                    </a:lnTo>
                    <a:lnTo>
                      <a:pt x="494" y="1102"/>
                    </a:lnTo>
                    <a:lnTo>
                      <a:pt x="542" y="1068"/>
                    </a:lnTo>
                    <a:lnTo>
                      <a:pt x="592" y="1035"/>
                    </a:lnTo>
                    <a:lnTo>
                      <a:pt x="643" y="1006"/>
                    </a:lnTo>
                    <a:lnTo>
                      <a:pt x="696" y="978"/>
                    </a:lnTo>
                    <a:lnTo>
                      <a:pt x="751" y="954"/>
                    </a:lnTo>
                    <a:lnTo>
                      <a:pt x="807" y="932"/>
                    </a:lnTo>
                    <a:lnTo>
                      <a:pt x="863" y="913"/>
                    </a:lnTo>
                    <a:lnTo>
                      <a:pt x="922" y="896"/>
                    </a:lnTo>
                    <a:lnTo>
                      <a:pt x="982" y="882"/>
                    </a:lnTo>
                    <a:lnTo>
                      <a:pt x="1042" y="871"/>
                    </a:lnTo>
                    <a:lnTo>
                      <a:pt x="1104" y="863"/>
                    </a:lnTo>
                    <a:lnTo>
                      <a:pt x="1166" y="859"/>
                    </a:lnTo>
                    <a:lnTo>
                      <a:pt x="1230" y="858"/>
                    </a:lnTo>
                    <a:lnTo>
                      <a:pt x="1283" y="859"/>
                    </a:lnTo>
                    <a:lnTo>
                      <a:pt x="1335" y="862"/>
                    </a:lnTo>
                    <a:lnTo>
                      <a:pt x="1388" y="867"/>
                    </a:lnTo>
                    <a:lnTo>
                      <a:pt x="1438" y="875"/>
                    </a:lnTo>
                    <a:lnTo>
                      <a:pt x="1488" y="884"/>
                    </a:lnTo>
                    <a:lnTo>
                      <a:pt x="1539" y="897"/>
                    </a:lnTo>
                    <a:lnTo>
                      <a:pt x="1587" y="910"/>
                    </a:lnTo>
                    <a:lnTo>
                      <a:pt x="1635" y="925"/>
                    </a:lnTo>
                    <a:lnTo>
                      <a:pt x="2074" y="0"/>
                    </a:lnTo>
                    <a:lnTo>
                      <a:pt x="2206" y="64"/>
                    </a:lnTo>
                    <a:close/>
                    <a:moveTo>
                      <a:pt x="1509" y="3185"/>
                    </a:moveTo>
                    <a:lnTo>
                      <a:pt x="1552" y="3184"/>
                    </a:lnTo>
                    <a:lnTo>
                      <a:pt x="1593" y="3180"/>
                    </a:lnTo>
                    <a:lnTo>
                      <a:pt x="1633" y="3176"/>
                    </a:lnTo>
                    <a:lnTo>
                      <a:pt x="1673" y="3169"/>
                    </a:lnTo>
                    <a:lnTo>
                      <a:pt x="1712" y="3160"/>
                    </a:lnTo>
                    <a:lnTo>
                      <a:pt x="1751" y="3148"/>
                    </a:lnTo>
                    <a:lnTo>
                      <a:pt x="1789" y="3136"/>
                    </a:lnTo>
                    <a:lnTo>
                      <a:pt x="1826" y="3121"/>
                    </a:lnTo>
                    <a:lnTo>
                      <a:pt x="1861" y="3105"/>
                    </a:lnTo>
                    <a:lnTo>
                      <a:pt x="1897" y="3088"/>
                    </a:lnTo>
                    <a:lnTo>
                      <a:pt x="1930" y="3068"/>
                    </a:lnTo>
                    <a:lnTo>
                      <a:pt x="1963" y="3046"/>
                    </a:lnTo>
                    <a:lnTo>
                      <a:pt x="1995" y="3023"/>
                    </a:lnTo>
                    <a:lnTo>
                      <a:pt x="2026" y="2999"/>
                    </a:lnTo>
                    <a:lnTo>
                      <a:pt x="2055" y="2974"/>
                    </a:lnTo>
                    <a:lnTo>
                      <a:pt x="2084" y="2948"/>
                    </a:lnTo>
                    <a:lnTo>
                      <a:pt x="2110" y="2919"/>
                    </a:lnTo>
                    <a:lnTo>
                      <a:pt x="2136" y="2889"/>
                    </a:lnTo>
                    <a:lnTo>
                      <a:pt x="2160" y="2859"/>
                    </a:lnTo>
                    <a:lnTo>
                      <a:pt x="2182" y="2827"/>
                    </a:lnTo>
                    <a:lnTo>
                      <a:pt x="2204" y="2794"/>
                    </a:lnTo>
                    <a:lnTo>
                      <a:pt x="2224" y="2761"/>
                    </a:lnTo>
                    <a:lnTo>
                      <a:pt x="2242" y="2725"/>
                    </a:lnTo>
                    <a:lnTo>
                      <a:pt x="2258" y="2690"/>
                    </a:lnTo>
                    <a:lnTo>
                      <a:pt x="2272" y="2652"/>
                    </a:lnTo>
                    <a:lnTo>
                      <a:pt x="2285" y="2615"/>
                    </a:lnTo>
                    <a:lnTo>
                      <a:pt x="2296" y="2576"/>
                    </a:lnTo>
                    <a:lnTo>
                      <a:pt x="2305" y="2537"/>
                    </a:lnTo>
                    <a:lnTo>
                      <a:pt x="2312" y="2497"/>
                    </a:lnTo>
                    <a:lnTo>
                      <a:pt x="2318" y="2456"/>
                    </a:lnTo>
                    <a:lnTo>
                      <a:pt x="2320" y="2414"/>
                    </a:lnTo>
                    <a:lnTo>
                      <a:pt x="2321" y="2373"/>
                    </a:lnTo>
                    <a:lnTo>
                      <a:pt x="2320" y="2332"/>
                    </a:lnTo>
                    <a:lnTo>
                      <a:pt x="2318" y="2290"/>
                    </a:lnTo>
                    <a:lnTo>
                      <a:pt x="2312" y="2249"/>
                    </a:lnTo>
                    <a:lnTo>
                      <a:pt x="2305" y="2209"/>
                    </a:lnTo>
                    <a:lnTo>
                      <a:pt x="2296" y="2170"/>
                    </a:lnTo>
                    <a:lnTo>
                      <a:pt x="2285" y="2131"/>
                    </a:lnTo>
                    <a:lnTo>
                      <a:pt x="2272" y="2094"/>
                    </a:lnTo>
                    <a:lnTo>
                      <a:pt x="2258" y="2056"/>
                    </a:lnTo>
                    <a:lnTo>
                      <a:pt x="2242" y="2021"/>
                    </a:lnTo>
                    <a:lnTo>
                      <a:pt x="2224" y="1985"/>
                    </a:lnTo>
                    <a:lnTo>
                      <a:pt x="2204" y="1952"/>
                    </a:lnTo>
                    <a:lnTo>
                      <a:pt x="2182" y="1919"/>
                    </a:lnTo>
                    <a:lnTo>
                      <a:pt x="2160" y="1887"/>
                    </a:lnTo>
                    <a:lnTo>
                      <a:pt x="2136" y="1857"/>
                    </a:lnTo>
                    <a:lnTo>
                      <a:pt x="2110" y="1827"/>
                    </a:lnTo>
                    <a:lnTo>
                      <a:pt x="2084" y="1798"/>
                    </a:lnTo>
                    <a:lnTo>
                      <a:pt x="2055" y="1772"/>
                    </a:lnTo>
                    <a:lnTo>
                      <a:pt x="2026" y="1747"/>
                    </a:lnTo>
                    <a:lnTo>
                      <a:pt x="1995" y="1723"/>
                    </a:lnTo>
                    <a:lnTo>
                      <a:pt x="1963" y="1700"/>
                    </a:lnTo>
                    <a:lnTo>
                      <a:pt x="1930" y="1678"/>
                    </a:lnTo>
                    <a:lnTo>
                      <a:pt x="1897" y="1658"/>
                    </a:lnTo>
                    <a:lnTo>
                      <a:pt x="1861" y="1641"/>
                    </a:lnTo>
                    <a:lnTo>
                      <a:pt x="1826" y="1624"/>
                    </a:lnTo>
                    <a:lnTo>
                      <a:pt x="1789" y="1610"/>
                    </a:lnTo>
                    <a:lnTo>
                      <a:pt x="1751" y="1598"/>
                    </a:lnTo>
                    <a:lnTo>
                      <a:pt x="1712" y="1586"/>
                    </a:lnTo>
                    <a:lnTo>
                      <a:pt x="1673" y="1577"/>
                    </a:lnTo>
                    <a:lnTo>
                      <a:pt x="1633" y="1570"/>
                    </a:lnTo>
                    <a:lnTo>
                      <a:pt x="1593" y="1564"/>
                    </a:lnTo>
                    <a:lnTo>
                      <a:pt x="1552" y="1562"/>
                    </a:lnTo>
                    <a:lnTo>
                      <a:pt x="1509" y="1561"/>
                    </a:lnTo>
                    <a:lnTo>
                      <a:pt x="1468" y="1562"/>
                    </a:lnTo>
                    <a:lnTo>
                      <a:pt x="1427" y="1564"/>
                    </a:lnTo>
                    <a:lnTo>
                      <a:pt x="1385" y="1570"/>
                    </a:lnTo>
                    <a:lnTo>
                      <a:pt x="1345" y="1577"/>
                    </a:lnTo>
                    <a:lnTo>
                      <a:pt x="1306" y="1586"/>
                    </a:lnTo>
                    <a:lnTo>
                      <a:pt x="1268" y="1598"/>
                    </a:lnTo>
                    <a:lnTo>
                      <a:pt x="1230" y="1610"/>
                    </a:lnTo>
                    <a:lnTo>
                      <a:pt x="1194" y="1624"/>
                    </a:lnTo>
                    <a:lnTo>
                      <a:pt x="1157" y="1641"/>
                    </a:lnTo>
                    <a:lnTo>
                      <a:pt x="1123" y="1658"/>
                    </a:lnTo>
                    <a:lnTo>
                      <a:pt x="1088" y="1678"/>
                    </a:lnTo>
                    <a:lnTo>
                      <a:pt x="1055" y="1700"/>
                    </a:lnTo>
                    <a:lnTo>
                      <a:pt x="1024" y="1723"/>
                    </a:lnTo>
                    <a:lnTo>
                      <a:pt x="993" y="1747"/>
                    </a:lnTo>
                    <a:lnTo>
                      <a:pt x="963" y="1772"/>
                    </a:lnTo>
                    <a:lnTo>
                      <a:pt x="935" y="1798"/>
                    </a:lnTo>
                    <a:lnTo>
                      <a:pt x="908" y="1827"/>
                    </a:lnTo>
                    <a:lnTo>
                      <a:pt x="883" y="1857"/>
                    </a:lnTo>
                    <a:lnTo>
                      <a:pt x="859" y="1887"/>
                    </a:lnTo>
                    <a:lnTo>
                      <a:pt x="836" y="1919"/>
                    </a:lnTo>
                    <a:lnTo>
                      <a:pt x="815" y="1952"/>
                    </a:lnTo>
                    <a:lnTo>
                      <a:pt x="796" y="1985"/>
                    </a:lnTo>
                    <a:lnTo>
                      <a:pt x="777" y="2021"/>
                    </a:lnTo>
                    <a:lnTo>
                      <a:pt x="761" y="2056"/>
                    </a:lnTo>
                    <a:lnTo>
                      <a:pt x="747" y="2094"/>
                    </a:lnTo>
                    <a:lnTo>
                      <a:pt x="734" y="2131"/>
                    </a:lnTo>
                    <a:lnTo>
                      <a:pt x="722" y="2170"/>
                    </a:lnTo>
                    <a:lnTo>
                      <a:pt x="713" y="2209"/>
                    </a:lnTo>
                    <a:lnTo>
                      <a:pt x="706" y="2249"/>
                    </a:lnTo>
                    <a:lnTo>
                      <a:pt x="702" y="2290"/>
                    </a:lnTo>
                    <a:lnTo>
                      <a:pt x="698" y="2332"/>
                    </a:lnTo>
                    <a:lnTo>
                      <a:pt x="697" y="2373"/>
                    </a:lnTo>
                    <a:lnTo>
                      <a:pt x="698" y="2414"/>
                    </a:lnTo>
                    <a:lnTo>
                      <a:pt x="702" y="2456"/>
                    </a:lnTo>
                    <a:lnTo>
                      <a:pt x="706" y="2497"/>
                    </a:lnTo>
                    <a:lnTo>
                      <a:pt x="713" y="2537"/>
                    </a:lnTo>
                    <a:lnTo>
                      <a:pt x="722" y="2576"/>
                    </a:lnTo>
                    <a:lnTo>
                      <a:pt x="734" y="2615"/>
                    </a:lnTo>
                    <a:lnTo>
                      <a:pt x="747" y="2652"/>
                    </a:lnTo>
                    <a:lnTo>
                      <a:pt x="761" y="2690"/>
                    </a:lnTo>
                    <a:lnTo>
                      <a:pt x="777" y="2725"/>
                    </a:lnTo>
                    <a:lnTo>
                      <a:pt x="796" y="2761"/>
                    </a:lnTo>
                    <a:lnTo>
                      <a:pt x="815" y="2794"/>
                    </a:lnTo>
                    <a:lnTo>
                      <a:pt x="836" y="2827"/>
                    </a:lnTo>
                    <a:lnTo>
                      <a:pt x="859" y="2859"/>
                    </a:lnTo>
                    <a:lnTo>
                      <a:pt x="883" y="2889"/>
                    </a:lnTo>
                    <a:lnTo>
                      <a:pt x="908" y="2919"/>
                    </a:lnTo>
                    <a:lnTo>
                      <a:pt x="935" y="2948"/>
                    </a:lnTo>
                    <a:lnTo>
                      <a:pt x="963" y="2974"/>
                    </a:lnTo>
                    <a:lnTo>
                      <a:pt x="993" y="2999"/>
                    </a:lnTo>
                    <a:lnTo>
                      <a:pt x="1024" y="3023"/>
                    </a:lnTo>
                    <a:lnTo>
                      <a:pt x="1055" y="3046"/>
                    </a:lnTo>
                    <a:lnTo>
                      <a:pt x="1088" y="3068"/>
                    </a:lnTo>
                    <a:lnTo>
                      <a:pt x="1123" y="3088"/>
                    </a:lnTo>
                    <a:lnTo>
                      <a:pt x="1157" y="3105"/>
                    </a:lnTo>
                    <a:lnTo>
                      <a:pt x="1194" y="3121"/>
                    </a:lnTo>
                    <a:lnTo>
                      <a:pt x="1230" y="3136"/>
                    </a:lnTo>
                    <a:lnTo>
                      <a:pt x="1268" y="3148"/>
                    </a:lnTo>
                    <a:lnTo>
                      <a:pt x="1306" y="3160"/>
                    </a:lnTo>
                    <a:lnTo>
                      <a:pt x="1345" y="3169"/>
                    </a:lnTo>
                    <a:lnTo>
                      <a:pt x="1385" y="3176"/>
                    </a:lnTo>
                    <a:lnTo>
                      <a:pt x="1427" y="3180"/>
                    </a:lnTo>
                    <a:lnTo>
                      <a:pt x="1468" y="3184"/>
                    </a:lnTo>
                    <a:lnTo>
                      <a:pt x="1509" y="3185"/>
                    </a:lnTo>
                    <a:close/>
                  </a:path>
                </a:pathLst>
              </a:custGeom>
              <a:solidFill>
                <a:srgbClr val="29a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34400" y="502020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083" h="1082">
                    <a:moveTo>
                      <a:pt x="542" y="1082"/>
                    </a:moveTo>
                    <a:lnTo>
                      <a:pt x="570" y="1081"/>
                    </a:lnTo>
                    <a:lnTo>
                      <a:pt x="598" y="1079"/>
                    </a:lnTo>
                    <a:lnTo>
                      <a:pt x="624" y="1075"/>
                    </a:lnTo>
                    <a:lnTo>
                      <a:pt x="651" y="1071"/>
                    </a:lnTo>
                    <a:lnTo>
                      <a:pt x="677" y="1065"/>
                    </a:lnTo>
                    <a:lnTo>
                      <a:pt x="703" y="1058"/>
                    </a:lnTo>
                    <a:lnTo>
                      <a:pt x="729" y="1049"/>
                    </a:lnTo>
                    <a:lnTo>
                      <a:pt x="753" y="1040"/>
                    </a:lnTo>
                    <a:lnTo>
                      <a:pt x="777" y="1028"/>
                    </a:lnTo>
                    <a:lnTo>
                      <a:pt x="800" y="1017"/>
                    </a:lnTo>
                    <a:lnTo>
                      <a:pt x="823" y="1004"/>
                    </a:lnTo>
                    <a:lnTo>
                      <a:pt x="844" y="989"/>
                    </a:lnTo>
                    <a:lnTo>
                      <a:pt x="866" y="975"/>
                    </a:lnTo>
                    <a:lnTo>
                      <a:pt x="887" y="958"/>
                    </a:lnTo>
                    <a:lnTo>
                      <a:pt x="906" y="941"/>
                    </a:lnTo>
                    <a:lnTo>
                      <a:pt x="925" y="924"/>
                    </a:lnTo>
                    <a:lnTo>
                      <a:pt x="943" y="905"/>
                    </a:lnTo>
                    <a:lnTo>
                      <a:pt x="960" y="885"/>
                    </a:lnTo>
                    <a:lnTo>
                      <a:pt x="976" y="864"/>
                    </a:lnTo>
                    <a:lnTo>
                      <a:pt x="991" y="844"/>
                    </a:lnTo>
                    <a:lnTo>
                      <a:pt x="1005" y="822"/>
                    </a:lnTo>
                    <a:lnTo>
                      <a:pt x="1018" y="799"/>
                    </a:lnTo>
                    <a:lnTo>
                      <a:pt x="1030" y="775"/>
                    </a:lnTo>
                    <a:lnTo>
                      <a:pt x="1040" y="752"/>
                    </a:lnTo>
                    <a:lnTo>
                      <a:pt x="1051" y="727"/>
                    </a:lnTo>
                    <a:lnTo>
                      <a:pt x="1059" y="702"/>
                    </a:lnTo>
                    <a:lnTo>
                      <a:pt x="1067" y="676"/>
                    </a:lnTo>
                    <a:lnTo>
                      <a:pt x="1073" y="650"/>
                    </a:lnTo>
                    <a:lnTo>
                      <a:pt x="1077" y="624"/>
                    </a:lnTo>
                    <a:lnTo>
                      <a:pt x="1081" y="596"/>
                    </a:lnTo>
                    <a:lnTo>
                      <a:pt x="1083" y="568"/>
                    </a:lnTo>
                    <a:lnTo>
                      <a:pt x="1083" y="541"/>
                    </a:lnTo>
                    <a:lnTo>
                      <a:pt x="1083" y="512"/>
                    </a:lnTo>
                    <a:lnTo>
                      <a:pt x="1081" y="486"/>
                    </a:lnTo>
                    <a:lnTo>
                      <a:pt x="1077" y="458"/>
                    </a:lnTo>
                    <a:lnTo>
                      <a:pt x="1073" y="432"/>
                    </a:lnTo>
                    <a:lnTo>
                      <a:pt x="1067" y="406"/>
                    </a:lnTo>
                    <a:lnTo>
                      <a:pt x="1059" y="379"/>
                    </a:lnTo>
                    <a:lnTo>
                      <a:pt x="1051" y="354"/>
                    </a:lnTo>
                    <a:lnTo>
                      <a:pt x="1040" y="330"/>
                    </a:lnTo>
                    <a:lnTo>
                      <a:pt x="1030" y="306"/>
                    </a:lnTo>
                    <a:lnTo>
                      <a:pt x="1018" y="283"/>
                    </a:lnTo>
                    <a:lnTo>
                      <a:pt x="1005" y="260"/>
                    </a:lnTo>
                    <a:lnTo>
                      <a:pt x="991" y="238"/>
                    </a:lnTo>
                    <a:lnTo>
                      <a:pt x="976" y="216"/>
                    </a:lnTo>
                    <a:lnTo>
                      <a:pt x="960" y="196"/>
                    </a:lnTo>
                    <a:lnTo>
                      <a:pt x="943" y="176"/>
                    </a:lnTo>
                    <a:lnTo>
                      <a:pt x="925" y="158"/>
                    </a:lnTo>
                    <a:lnTo>
                      <a:pt x="906" y="139"/>
                    </a:lnTo>
                    <a:lnTo>
                      <a:pt x="887" y="122"/>
                    </a:lnTo>
                    <a:lnTo>
                      <a:pt x="866" y="106"/>
                    </a:lnTo>
                    <a:lnTo>
                      <a:pt x="844" y="91"/>
                    </a:lnTo>
                    <a:lnTo>
                      <a:pt x="823" y="78"/>
                    </a:lnTo>
                    <a:lnTo>
                      <a:pt x="800" y="65"/>
                    </a:lnTo>
                    <a:lnTo>
                      <a:pt x="777" y="52"/>
                    </a:lnTo>
                    <a:lnTo>
                      <a:pt x="753" y="42"/>
                    </a:lnTo>
                    <a:lnTo>
                      <a:pt x="729" y="32"/>
                    </a:lnTo>
                    <a:lnTo>
                      <a:pt x="703" y="24"/>
                    </a:lnTo>
                    <a:lnTo>
                      <a:pt x="677" y="17"/>
                    </a:lnTo>
                    <a:lnTo>
                      <a:pt x="651" y="10"/>
                    </a:lnTo>
                    <a:lnTo>
                      <a:pt x="624" y="5"/>
                    </a:lnTo>
                    <a:lnTo>
                      <a:pt x="598" y="2"/>
                    </a:lnTo>
                    <a:lnTo>
                      <a:pt x="570" y="0"/>
                    </a:lnTo>
                    <a:lnTo>
                      <a:pt x="542" y="0"/>
                    </a:lnTo>
                    <a:lnTo>
                      <a:pt x="514" y="0"/>
                    </a:lnTo>
                    <a:lnTo>
                      <a:pt x="487" y="2"/>
                    </a:lnTo>
                    <a:lnTo>
                      <a:pt x="459" y="5"/>
                    </a:lnTo>
                    <a:lnTo>
                      <a:pt x="433" y="10"/>
                    </a:lnTo>
                    <a:lnTo>
                      <a:pt x="406" y="17"/>
                    </a:lnTo>
                    <a:lnTo>
                      <a:pt x="381" y="24"/>
                    </a:lnTo>
                    <a:lnTo>
                      <a:pt x="356" y="32"/>
                    </a:lnTo>
                    <a:lnTo>
                      <a:pt x="332" y="42"/>
                    </a:lnTo>
                    <a:lnTo>
                      <a:pt x="308" y="52"/>
                    </a:lnTo>
                    <a:lnTo>
                      <a:pt x="284" y="65"/>
                    </a:lnTo>
                    <a:lnTo>
                      <a:pt x="262" y="78"/>
                    </a:lnTo>
                    <a:lnTo>
                      <a:pt x="239" y="91"/>
                    </a:lnTo>
                    <a:lnTo>
                      <a:pt x="218" y="106"/>
                    </a:lnTo>
                    <a:lnTo>
                      <a:pt x="198" y="122"/>
                    </a:lnTo>
                    <a:lnTo>
                      <a:pt x="178" y="139"/>
                    </a:lnTo>
                    <a:lnTo>
                      <a:pt x="160" y="158"/>
                    </a:lnTo>
                    <a:lnTo>
                      <a:pt x="141" y="176"/>
                    </a:lnTo>
                    <a:lnTo>
                      <a:pt x="124" y="196"/>
                    </a:lnTo>
                    <a:lnTo>
                      <a:pt x="108" y="216"/>
                    </a:lnTo>
                    <a:lnTo>
                      <a:pt x="93" y="238"/>
                    </a:lnTo>
                    <a:lnTo>
                      <a:pt x="80" y="260"/>
                    </a:lnTo>
                    <a:lnTo>
                      <a:pt x="66" y="283"/>
                    </a:lnTo>
                    <a:lnTo>
                      <a:pt x="54" y="306"/>
                    </a:lnTo>
                    <a:lnTo>
                      <a:pt x="43" y="330"/>
                    </a:lnTo>
                    <a:lnTo>
                      <a:pt x="34" y="354"/>
                    </a:lnTo>
                    <a:lnTo>
                      <a:pt x="24" y="379"/>
                    </a:lnTo>
                    <a:lnTo>
                      <a:pt x="18" y="406"/>
                    </a:lnTo>
                    <a:lnTo>
                      <a:pt x="12" y="432"/>
                    </a:lnTo>
                    <a:lnTo>
                      <a:pt x="7" y="458"/>
                    </a:lnTo>
                    <a:lnTo>
                      <a:pt x="4" y="486"/>
                    </a:lnTo>
                    <a:lnTo>
                      <a:pt x="2" y="512"/>
                    </a:lnTo>
                    <a:lnTo>
                      <a:pt x="0" y="541"/>
                    </a:lnTo>
                    <a:lnTo>
                      <a:pt x="2" y="568"/>
                    </a:lnTo>
                    <a:lnTo>
                      <a:pt x="4" y="596"/>
                    </a:lnTo>
                    <a:lnTo>
                      <a:pt x="7" y="624"/>
                    </a:lnTo>
                    <a:lnTo>
                      <a:pt x="12" y="650"/>
                    </a:lnTo>
                    <a:lnTo>
                      <a:pt x="18" y="676"/>
                    </a:lnTo>
                    <a:lnTo>
                      <a:pt x="24" y="702"/>
                    </a:lnTo>
                    <a:lnTo>
                      <a:pt x="34" y="727"/>
                    </a:lnTo>
                    <a:lnTo>
                      <a:pt x="43" y="752"/>
                    </a:lnTo>
                    <a:lnTo>
                      <a:pt x="54" y="775"/>
                    </a:lnTo>
                    <a:lnTo>
                      <a:pt x="66" y="799"/>
                    </a:lnTo>
                    <a:lnTo>
                      <a:pt x="80" y="822"/>
                    </a:lnTo>
                    <a:lnTo>
                      <a:pt x="93" y="844"/>
                    </a:lnTo>
                    <a:lnTo>
                      <a:pt x="108" y="864"/>
                    </a:lnTo>
                    <a:lnTo>
                      <a:pt x="124" y="885"/>
                    </a:lnTo>
                    <a:lnTo>
                      <a:pt x="141" y="905"/>
                    </a:lnTo>
                    <a:lnTo>
                      <a:pt x="160" y="924"/>
                    </a:lnTo>
                    <a:lnTo>
                      <a:pt x="178" y="941"/>
                    </a:lnTo>
                    <a:lnTo>
                      <a:pt x="198" y="958"/>
                    </a:lnTo>
                    <a:lnTo>
                      <a:pt x="218" y="975"/>
                    </a:lnTo>
                    <a:lnTo>
                      <a:pt x="239" y="989"/>
                    </a:lnTo>
                    <a:lnTo>
                      <a:pt x="262" y="1004"/>
                    </a:lnTo>
                    <a:lnTo>
                      <a:pt x="284" y="1017"/>
                    </a:lnTo>
                    <a:lnTo>
                      <a:pt x="308" y="1028"/>
                    </a:lnTo>
                    <a:lnTo>
                      <a:pt x="332" y="1040"/>
                    </a:lnTo>
                    <a:lnTo>
                      <a:pt x="356" y="1049"/>
                    </a:lnTo>
                    <a:lnTo>
                      <a:pt x="381" y="1058"/>
                    </a:lnTo>
                    <a:lnTo>
                      <a:pt x="406" y="1065"/>
                    </a:lnTo>
                    <a:lnTo>
                      <a:pt x="433" y="1071"/>
                    </a:lnTo>
                    <a:lnTo>
                      <a:pt x="459" y="1075"/>
                    </a:lnTo>
                    <a:lnTo>
                      <a:pt x="487" y="1079"/>
                    </a:lnTo>
                    <a:lnTo>
                      <a:pt x="514" y="1081"/>
                    </a:lnTo>
                    <a:lnTo>
                      <a:pt x="542" y="1082"/>
                    </a:lnTo>
                    <a:close/>
                  </a:path>
                </a:pathLst>
              </a:custGeom>
              <a:solidFill>
                <a:srgbClr val="1f4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27640" y="5184360"/>
                <a:ext cx="28440" cy="41760"/>
              </a:xfrm>
              <a:custGeom>
                <a:avLst/>
                <a:gdLst/>
                <a:ahLst/>
                <a:rect l="l" t="t" r="r" b="b"/>
                <a:pathLst>
                  <a:path w="249" h="390">
                    <a:moveTo>
                      <a:pt x="110" y="66"/>
                    </a:moveTo>
                    <a:lnTo>
                      <a:pt x="62" y="68"/>
                    </a:lnTo>
                    <a:lnTo>
                      <a:pt x="59" y="158"/>
                    </a:lnTo>
                    <a:lnTo>
                      <a:pt x="68" y="153"/>
                    </a:lnTo>
                    <a:lnTo>
                      <a:pt x="78" y="150"/>
                    </a:lnTo>
                    <a:lnTo>
                      <a:pt x="87" y="146"/>
                    </a:lnTo>
                    <a:lnTo>
                      <a:pt x="96" y="143"/>
                    </a:lnTo>
                    <a:lnTo>
                      <a:pt x="105" y="141"/>
                    </a:lnTo>
                    <a:lnTo>
                      <a:pt x="114" y="140"/>
                    </a:lnTo>
                    <a:lnTo>
                      <a:pt x="124" y="138"/>
                    </a:lnTo>
                    <a:lnTo>
                      <a:pt x="134" y="138"/>
                    </a:lnTo>
                    <a:lnTo>
                      <a:pt x="146" y="138"/>
                    </a:lnTo>
                    <a:lnTo>
                      <a:pt x="157" y="140"/>
                    </a:lnTo>
                    <a:lnTo>
                      <a:pt x="168" y="142"/>
                    </a:lnTo>
                    <a:lnTo>
                      <a:pt x="179" y="144"/>
                    </a:lnTo>
                    <a:lnTo>
                      <a:pt x="189" y="149"/>
                    </a:lnTo>
                    <a:lnTo>
                      <a:pt x="198" y="153"/>
                    </a:lnTo>
                    <a:lnTo>
                      <a:pt x="207" y="158"/>
                    </a:lnTo>
                    <a:lnTo>
                      <a:pt x="215" y="164"/>
                    </a:lnTo>
                    <a:lnTo>
                      <a:pt x="222" y="171"/>
                    </a:lnTo>
                    <a:lnTo>
                      <a:pt x="229" y="179"/>
                    </a:lnTo>
                    <a:lnTo>
                      <a:pt x="235" y="187"/>
                    </a:lnTo>
                    <a:lnTo>
                      <a:pt x="239" y="196"/>
                    </a:lnTo>
                    <a:lnTo>
                      <a:pt x="243" y="206"/>
                    </a:lnTo>
                    <a:lnTo>
                      <a:pt x="246" y="216"/>
                    </a:lnTo>
                    <a:lnTo>
                      <a:pt x="247" y="228"/>
                    </a:lnTo>
                    <a:lnTo>
                      <a:pt x="249" y="241"/>
                    </a:lnTo>
                    <a:lnTo>
                      <a:pt x="247" y="257"/>
                    </a:lnTo>
                    <a:lnTo>
                      <a:pt x="245" y="273"/>
                    </a:lnTo>
                    <a:lnTo>
                      <a:pt x="242" y="286"/>
                    </a:lnTo>
                    <a:lnTo>
                      <a:pt x="236" y="300"/>
                    </a:lnTo>
                    <a:lnTo>
                      <a:pt x="229" y="314"/>
                    </a:lnTo>
                    <a:lnTo>
                      <a:pt x="220" y="327"/>
                    </a:lnTo>
                    <a:lnTo>
                      <a:pt x="210" y="338"/>
                    </a:lnTo>
                    <a:lnTo>
                      <a:pt x="198" y="348"/>
                    </a:lnTo>
                    <a:lnTo>
                      <a:pt x="185" y="359"/>
                    </a:lnTo>
                    <a:lnTo>
                      <a:pt x="173" y="367"/>
                    </a:lnTo>
                    <a:lnTo>
                      <a:pt x="159" y="374"/>
                    </a:lnTo>
                    <a:lnTo>
                      <a:pt x="145" y="379"/>
                    </a:lnTo>
                    <a:lnTo>
                      <a:pt x="130" y="384"/>
                    </a:lnTo>
                    <a:lnTo>
                      <a:pt x="115" y="387"/>
                    </a:lnTo>
                    <a:lnTo>
                      <a:pt x="101" y="390"/>
                    </a:lnTo>
                    <a:lnTo>
                      <a:pt x="86" y="390"/>
                    </a:lnTo>
                    <a:lnTo>
                      <a:pt x="74" y="390"/>
                    </a:lnTo>
                    <a:lnTo>
                      <a:pt x="64" y="388"/>
                    </a:lnTo>
                    <a:lnTo>
                      <a:pt x="55" y="387"/>
                    </a:lnTo>
                    <a:lnTo>
                      <a:pt x="46" y="385"/>
                    </a:lnTo>
                    <a:lnTo>
                      <a:pt x="38" y="384"/>
                    </a:lnTo>
                    <a:lnTo>
                      <a:pt x="29" y="382"/>
                    </a:lnTo>
                    <a:lnTo>
                      <a:pt x="24" y="379"/>
                    </a:lnTo>
                    <a:lnTo>
                      <a:pt x="17" y="377"/>
                    </a:lnTo>
                    <a:lnTo>
                      <a:pt x="16" y="369"/>
                    </a:lnTo>
                    <a:lnTo>
                      <a:pt x="13" y="360"/>
                    </a:lnTo>
                    <a:lnTo>
                      <a:pt x="12" y="351"/>
                    </a:lnTo>
                    <a:lnTo>
                      <a:pt x="10" y="341"/>
                    </a:lnTo>
                    <a:lnTo>
                      <a:pt x="7" y="331"/>
                    </a:lnTo>
                    <a:lnTo>
                      <a:pt x="4" y="321"/>
                    </a:lnTo>
                    <a:lnTo>
                      <a:pt x="2" y="310"/>
                    </a:lnTo>
                    <a:lnTo>
                      <a:pt x="0" y="300"/>
                    </a:lnTo>
                    <a:lnTo>
                      <a:pt x="17" y="289"/>
                    </a:lnTo>
                    <a:lnTo>
                      <a:pt x="23" y="302"/>
                    </a:lnTo>
                    <a:lnTo>
                      <a:pt x="31" y="315"/>
                    </a:lnTo>
                    <a:lnTo>
                      <a:pt x="40" y="327"/>
                    </a:lnTo>
                    <a:lnTo>
                      <a:pt x="50" y="336"/>
                    </a:lnTo>
                    <a:lnTo>
                      <a:pt x="63" y="345"/>
                    </a:lnTo>
                    <a:lnTo>
                      <a:pt x="75" y="351"/>
                    </a:lnTo>
                    <a:lnTo>
                      <a:pt x="82" y="353"/>
                    </a:lnTo>
                    <a:lnTo>
                      <a:pt x="89" y="355"/>
                    </a:lnTo>
                    <a:lnTo>
                      <a:pt x="96" y="356"/>
                    </a:lnTo>
                    <a:lnTo>
                      <a:pt x="104" y="356"/>
                    </a:lnTo>
                    <a:lnTo>
                      <a:pt x="112" y="356"/>
                    </a:lnTo>
                    <a:lnTo>
                      <a:pt x="121" y="355"/>
                    </a:lnTo>
                    <a:lnTo>
                      <a:pt x="128" y="353"/>
                    </a:lnTo>
                    <a:lnTo>
                      <a:pt x="136" y="351"/>
                    </a:lnTo>
                    <a:lnTo>
                      <a:pt x="143" y="348"/>
                    </a:lnTo>
                    <a:lnTo>
                      <a:pt x="149" y="345"/>
                    </a:lnTo>
                    <a:lnTo>
                      <a:pt x="154" y="340"/>
                    </a:lnTo>
                    <a:lnTo>
                      <a:pt x="160" y="336"/>
                    </a:lnTo>
                    <a:lnTo>
                      <a:pt x="165" y="330"/>
                    </a:lnTo>
                    <a:lnTo>
                      <a:pt x="168" y="324"/>
                    </a:lnTo>
                    <a:lnTo>
                      <a:pt x="172" y="317"/>
                    </a:lnTo>
                    <a:lnTo>
                      <a:pt x="175" y="310"/>
                    </a:lnTo>
                    <a:lnTo>
                      <a:pt x="177" y="304"/>
                    </a:lnTo>
                    <a:lnTo>
                      <a:pt x="179" y="296"/>
                    </a:lnTo>
                    <a:lnTo>
                      <a:pt x="180" y="288"/>
                    </a:lnTo>
                    <a:lnTo>
                      <a:pt x="180" y="278"/>
                    </a:lnTo>
                    <a:lnTo>
                      <a:pt x="180" y="270"/>
                    </a:lnTo>
                    <a:lnTo>
                      <a:pt x="179" y="262"/>
                    </a:lnTo>
                    <a:lnTo>
                      <a:pt x="177" y="254"/>
                    </a:lnTo>
                    <a:lnTo>
                      <a:pt x="175" y="246"/>
                    </a:lnTo>
                    <a:lnTo>
                      <a:pt x="173" y="239"/>
                    </a:lnTo>
                    <a:lnTo>
                      <a:pt x="169" y="232"/>
                    </a:lnTo>
                    <a:lnTo>
                      <a:pt x="165" y="227"/>
                    </a:lnTo>
                    <a:lnTo>
                      <a:pt x="160" y="221"/>
                    </a:lnTo>
                    <a:lnTo>
                      <a:pt x="156" y="215"/>
                    </a:lnTo>
                    <a:lnTo>
                      <a:pt x="150" y="211"/>
                    </a:lnTo>
                    <a:lnTo>
                      <a:pt x="143" y="207"/>
                    </a:lnTo>
                    <a:lnTo>
                      <a:pt x="136" y="204"/>
                    </a:lnTo>
                    <a:lnTo>
                      <a:pt x="129" y="202"/>
                    </a:lnTo>
                    <a:lnTo>
                      <a:pt x="121" y="199"/>
                    </a:lnTo>
                    <a:lnTo>
                      <a:pt x="113" y="198"/>
                    </a:lnTo>
                    <a:lnTo>
                      <a:pt x="104" y="198"/>
                    </a:lnTo>
                    <a:lnTo>
                      <a:pt x="94" y="198"/>
                    </a:lnTo>
                    <a:lnTo>
                      <a:pt x="85" y="199"/>
                    </a:lnTo>
                    <a:lnTo>
                      <a:pt x="75" y="202"/>
                    </a:lnTo>
                    <a:lnTo>
                      <a:pt x="67" y="204"/>
                    </a:lnTo>
                    <a:lnTo>
                      <a:pt x="59" y="207"/>
                    </a:lnTo>
                    <a:lnTo>
                      <a:pt x="51" y="211"/>
                    </a:lnTo>
                    <a:lnTo>
                      <a:pt x="44" y="215"/>
                    </a:lnTo>
                    <a:lnTo>
                      <a:pt x="39" y="221"/>
                    </a:lnTo>
                    <a:lnTo>
                      <a:pt x="27" y="214"/>
                    </a:lnTo>
                    <a:lnTo>
                      <a:pt x="28" y="189"/>
                    </a:lnTo>
                    <a:lnTo>
                      <a:pt x="28" y="161"/>
                    </a:lnTo>
                    <a:lnTo>
                      <a:pt x="28" y="133"/>
                    </a:lnTo>
                    <a:lnTo>
                      <a:pt x="28" y="103"/>
                    </a:lnTo>
                    <a:lnTo>
                      <a:pt x="28" y="74"/>
                    </a:lnTo>
                    <a:lnTo>
                      <a:pt x="28" y="47"/>
                    </a:lnTo>
                    <a:lnTo>
                      <a:pt x="27" y="21"/>
                    </a:lnTo>
                    <a:lnTo>
                      <a:pt x="27" y="1"/>
                    </a:lnTo>
                    <a:lnTo>
                      <a:pt x="126" y="3"/>
                    </a:lnTo>
                    <a:lnTo>
                      <a:pt x="177" y="2"/>
                    </a:lnTo>
                    <a:lnTo>
                      <a:pt x="231" y="0"/>
                    </a:lnTo>
                    <a:lnTo>
                      <a:pt x="234" y="7"/>
                    </a:lnTo>
                    <a:lnTo>
                      <a:pt x="232" y="13"/>
                    </a:lnTo>
                    <a:lnTo>
                      <a:pt x="231" y="20"/>
                    </a:lnTo>
                    <a:lnTo>
                      <a:pt x="231" y="27"/>
                    </a:lnTo>
                    <a:lnTo>
                      <a:pt x="231" y="34"/>
                    </a:lnTo>
                    <a:lnTo>
                      <a:pt x="230" y="41"/>
                    </a:lnTo>
                    <a:lnTo>
                      <a:pt x="231" y="49"/>
                    </a:lnTo>
                    <a:lnTo>
                      <a:pt x="231" y="56"/>
                    </a:lnTo>
                    <a:lnTo>
                      <a:pt x="231" y="64"/>
                    </a:lnTo>
                    <a:lnTo>
                      <a:pt x="229" y="67"/>
                    </a:lnTo>
                    <a:lnTo>
                      <a:pt x="110" y="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61480" y="5181480"/>
                <a:ext cx="9000" cy="19800"/>
              </a:xfrm>
              <a:custGeom>
                <a:avLst/>
                <a:gdLst/>
                <a:ahLst/>
                <a:rect l="l" t="t" r="r" b="b"/>
                <a:pathLst>
                  <a:path w="78" h="185">
                    <a:moveTo>
                      <a:pt x="25" y="185"/>
                    </a:moveTo>
                    <a:lnTo>
                      <a:pt x="0" y="46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5" y="23"/>
                    </a:lnTo>
                    <a:lnTo>
                      <a:pt x="9" y="15"/>
                    </a:lnTo>
                    <a:lnTo>
                      <a:pt x="15" y="9"/>
                    </a:lnTo>
                    <a:lnTo>
                      <a:pt x="23" y="4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47" y="1"/>
                    </a:lnTo>
                    <a:lnTo>
                      <a:pt x="55" y="4"/>
                    </a:lnTo>
                    <a:lnTo>
                      <a:pt x="62" y="9"/>
                    </a:lnTo>
                    <a:lnTo>
                      <a:pt x="69" y="15"/>
                    </a:lnTo>
                    <a:lnTo>
                      <a:pt x="73" y="23"/>
                    </a:lnTo>
                    <a:lnTo>
                      <a:pt x="77" y="30"/>
                    </a:lnTo>
                    <a:lnTo>
                      <a:pt x="78" y="38"/>
                    </a:lnTo>
                    <a:lnTo>
                      <a:pt x="78" y="46"/>
                    </a:lnTo>
                    <a:lnTo>
                      <a:pt x="53" y="185"/>
                    </a:lnTo>
                    <a:lnTo>
                      <a:pt x="25" y="1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68520" y="4753080"/>
                <a:ext cx="29160" cy="42120"/>
              </a:xfrm>
              <a:custGeom>
                <a:avLst/>
                <a:gdLst/>
                <a:ahLst/>
                <a:rect l="l" t="t" r="r" b="b"/>
                <a:pathLst>
                  <a:path w="252" h="392">
                    <a:moveTo>
                      <a:pt x="20" y="287"/>
                    </a:moveTo>
                    <a:lnTo>
                      <a:pt x="27" y="302"/>
                    </a:lnTo>
                    <a:lnTo>
                      <a:pt x="35" y="317"/>
                    </a:lnTo>
                    <a:lnTo>
                      <a:pt x="44" y="328"/>
                    </a:lnTo>
                    <a:lnTo>
                      <a:pt x="54" y="340"/>
                    </a:lnTo>
                    <a:lnTo>
                      <a:pt x="60" y="344"/>
                    </a:lnTo>
                    <a:lnTo>
                      <a:pt x="66" y="348"/>
                    </a:lnTo>
                    <a:lnTo>
                      <a:pt x="72" y="351"/>
                    </a:lnTo>
                    <a:lnTo>
                      <a:pt x="79" y="355"/>
                    </a:lnTo>
                    <a:lnTo>
                      <a:pt x="87" y="357"/>
                    </a:lnTo>
                    <a:lnTo>
                      <a:pt x="95" y="358"/>
                    </a:lnTo>
                    <a:lnTo>
                      <a:pt x="103" y="359"/>
                    </a:lnTo>
                    <a:lnTo>
                      <a:pt x="113" y="359"/>
                    </a:lnTo>
                    <a:lnTo>
                      <a:pt x="121" y="359"/>
                    </a:lnTo>
                    <a:lnTo>
                      <a:pt x="129" y="358"/>
                    </a:lnTo>
                    <a:lnTo>
                      <a:pt x="135" y="356"/>
                    </a:lnTo>
                    <a:lnTo>
                      <a:pt x="141" y="353"/>
                    </a:lnTo>
                    <a:lnTo>
                      <a:pt x="148" y="349"/>
                    </a:lnTo>
                    <a:lnTo>
                      <a:pt x="154" y="345"/>
                    </a:lnTo>
                    <a:lnTo>
                      <a:pt x="158" y="341"/>
                    </a:lnTo>
                    <a:lnTo>
                      <a:pt x="163" y="335"/>
                    </a:lnTo>
                    <a:lnTo>
                      <a:pt x="168" y="329"/>
                    </a:lnTo>
                    <a:lnTo>
                      <a:pt x="171" y="324"/>
                    </a:lnTo>
                    <a:lnTo>
                      <a:pt x="173" y="317"/>
                    </a:lnTo>
                    <a:lnTo>
                      <a:pt x="177" y="311"/>
                    </a:lnTo>
                    <a:lnTo>
                      <a:pt x="180" y="297"/>
                    </a:lnTo>
                    <a:lnTo>
                      <a:pt x="181" y="284"/>
                    </a:lnTo>
                    <a:lnTo>
                      <a:pt x="180" y="275"/>
                    </a:lnTo>
                    <a:lnTo>
                      <a:pt x="179" y="267"/>
                    </a:lnTo>
                    <a:lnTo>
                      <a:pt x="178" y="261"/>
                    </a:lnTo>
                    <a:lnTo>
                      <a:pt x="176" y="254"/>
                    </a:lnTo>
                    <a:lnTo>
                      <a:pt x="173" y="247"/>
                    </a:lnTo>
                    <a:lnTo>
                      <a:pt x="170" y="241"/>
                    </a:lnTo>
                    <a:lnTo>
                      <a:pt x="165" y="235"/>
                    </a:lnTo>
                    <a:lnTo>
                      <a:pt x="161" y="231"/>
                    </a:lnTo>
                    <a:lnTo>
                      <a:pt x="156" y="226"/>
                    </a:lnTo>
                    <a:lnTo>
                      <a:pt x="150" y="223"/>
                    </a:lnTo>
                    <a:lnTo>
                      <a:pt x="145" y="219"/>
                    </a:lnTo>
                    <a:lnTo>
                      <a:pt x="138" y="216"/>
                    </a:lnTo>
                    <a:lnTo>
                      <a:pt x="131" y="214"/>
                    </a:lnTo>
                    <a:lnTo>
                      <a:pt x="124" y="212"/>
                    </a:lnTo>
                    <a:lnTo>
                      <a:pt x="116" y="211"/>
                    </a:lnTo>
                    <a:lnTo>
                      <a:pt x="108" y="211"/>
                    </a:lnTo>
                    <a:lnTo>
                      <a:pt x="103" y="211"/>
                    </a:lnTo>
                    <a:lnTo>
                      <a:pt x="99" y="211"/>
                    </a:lnTo>
                    <a:lnTo>
                      <a:pt x="95" y="211"/>
                    </a:lnTo>
                    <a:lnTo>
                      <a:pt x="91" y="212"/>
                    </a:lnTo>
                    <a:lnTo>
                      <a:pt x="86" y="212"/>
                    </a:lnTo>
                    <a:lnTo>
                      <a:pt x="82" y="214"/>
                    </a:lnTo>
                    <a:lnTo>
                      <a:pt x="77" y="215"/>
                    </a:lnTo>
                    <a:lnTo>
                      <a:pt x="72" y="216"/>
                    </a:lnTo>
                    <a:lnTo>
                      <a:pt x="69" y="212"/>
                    </a:lnTo>
                    <a:lnTo>
                      <a:pt x="70" y="207"/>
                    </a:lnTo>
                    <a:lnTo>
                      <a:pt x="71" y="202"/>
                    </a:lnTo>
                    <a:lnTo>
                      <a:pt x="74" y="196"/>
                    </a:lnTo>
                    <a:lnTo>
                      <a:pt x="75" y="191"/>
                    </a:lnTo>
                    <a:lnTo>
                      <a:pt x="76" y="185"/>
                    </a:lnTo>
                    <a:lnTo>
                      <a:pt x="77" y="179"/>
                    </a:lnTo>
                    <a:lnTo>
                      <a:pt x="78" y="175"/>
                    </a:lnTo>
                    <a:lnTo>
                      <a:pt x="79" y="170"/>
                    </a:lnTo>
                    <a:lnTo>
                      <a:pt x="87" y="170"/>
                    </a:lnTo>
                    <a:lnTo>
                      <a:pt x="95" y="170"/>
                    </a:lnTo>
                    <a:lnTo>
                      <a:pt x="105" y="170"/>
                    </a:lnTo>
                    <a:lnTo>
                      <a:pt x="113" y="169"/>
                    </a:lnTo>
                    <a:lnTo>
                      <a:pt x="121" y="167"/>
                    </a:lnTo>
                    <a:lnTo>
                      <a:pt x="127" y="164"/>
                    </a:lnTo>
                    <a:lnTo>
                      <a:pt x="135" y="161"/>
                    </a:lnTo>
                    <a:lnTo>
                      <a:pt x="142" y="156"/>
                    </a:lnTo>
                    <a:lnTo>
                      <a:pt x="147" y="152"/>
                    </a:lnTo>
                    <a:lnTo>
                      <a:pt x="152" y="146"/>
                    </a:lnTo>
                    <a:lnTo>
                      <a:pt x="156" y="140"/>
                    </a:lnTo>
                    <a:lnTo>
                      <a:pt x="160" y="134"/>
                    </a:lnTo>
                    <a:lnTo>
                      <a:pt x="162" y="128"/>
                    </a:lnTo>
                    <a:lnTo>
                      <a:pt x="164" y="121"/>
                    </a:lnTo>
                    <a:lnTo>
                      <a:pt x="165" y="114"/>
                    </a:lnTo>
                    <a:lnTo>
                      <a:pt x="165" y="107"/>
                    </a:lnTo>
                    <a:lnTo>
                      <a:pt x="164" y="97"/>
                    </a:lnTo>
                    <a:lnTo>
                      <a:pt x="161" y="87"/>
                    </a:lnTo>
                    <a:lnTo>
                      <a:pt x="156" y="78"/>
                    </a:lnTo>
                    <a:lnTo>
                      <a:pt x="149" y="71"/>
                    </a:lnTo>
                    <a:lnTo>
                      <a:pt x="141" y="66"/>
                    </a:lnTo>
                    <a:lnTo>
                      <a:pt x="131" y="61"/>
                    </a:lnTo>
                    <a:lnTo>
                      <a:pt x="119" y="58"/>
                    </a:lnTo>
                    <a:lnTo>
                      <a:pt x="106" y="56"/>
                    </a:lnTo>
                    <a:lnTo>
                      <a:pt x="98" y="58"/>
                    </a:lnTo>
                    <a:lnTo>
                      <a:pt x="91" y="59"/>
                    </a:lnTo>
                    <a:lnTo>
                      <a:pt x="84" y="60"/>
                    </a:lnTo>
                    <a:lnTo>
                      <a:pt x="78" y="62"/>
                    </a:lnTo>
                    <a:lnTo>
                      <a:pt x="72" y="66"/>
                    </a:lnTo>
                    <a:lnTo>
                      <a:pt x="67" y="69"/>
                    </a:lnTo>
                    <a:lnTo>
                      <a:pt x="62" y="72"/>
                    </a:lnTo>
                    <a:lnTo>
                      <a:pt x="58" y="76"/>
                    </a:lnTo>
                    <a:lnTo>
                      <a:pt x="51" y="85"/>
                    </a:lnTo>
                    <a:lnTo>
                      <a:pt x="45" y="95"/>
                    </a:lnTo>
                    <a:lnTo>
                      <a:pt x="41" y="106"/>
                    </a:lnTo>
                    <a:lnTo>
                      <a:pt x="38" y="115"/>
                    </a:lnTo>
                    <a:lnTo>
                      <a:pt x="19" y="114"/>
                    </a:lnTo>
                    <a:lnTo>
                      <a:pt x="21" y="103"/>
                    </a:lnTo>
                    <a:lnTo>
                      <a:pt x="24" y="91"/>
                    </a:lnTo>
                    <a:lnTo>
                      <a:pt x="27" y="79"/>
                    </a:lnTo>
                    <a:lnTo>
                      <a:pt x="29" y="67"/>
                    </a:lnTo>
                    <a:lnTo>
                      <a:pt x="31" y="55"/>
                    </a:lnTo>
                    <a:lnTo>
                      <a:pt x="33" y="44"/>
                    </a:lnTo>
                    <a:lnTo>
                      <a:pt x="35" y="35"/>
                    </a:lnTo>
                    <a:lnTo>
                      <a:pt x="36" y="27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8" y="11"/>
                    </a:lnTo>
                    <a:lnTo>
                      <a:pt x="79" y="7"/>
                    </a:lnTo>
                    <a:lnTo>
                      <a:pt x="90" y="4"/>
                    </a:lnTo>
                    <a:lnTo>
                      <a:pt x="101" y="1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46" y="1"/>
                    </a:lnTo>
                    <a:lnTo>
                      <a:pt x="156" y="4"/>
                    </a:lnTo>
                    <a:lnTo>
                      <a:pt x="166" y="7"/>
                    </a:lnTo>
                    <a:lnTo>
                      <a:pt x="176" y="11"/>
                    </a:lnTo>
                    <a:lnTo>
                      <a:pt x="185" y="15"/>
                    </a:lnTo>
                    <a:lnTo>
                      <a:pt x="193" y="20"/>
                    </a:lnTo>
                    <a:lnTo>
                      <a:pt x="200" y="24"/>
                    </a:lnTo>
                    <a:lnTo>
                      <a:pt x="207" y="31"/>
                    </a:lnTo>
                    <a:lnTo>
                      <a:pt x="212" y="37"/>
                    </a:lnTo>
                    <a:lnTo>
                      <a:pt x="217" y="44"/>
                    </a:lnTo>
                    <a:lnTo>
                      <a:pt x="222" y="51"/>
                    </a:lnTo>
                    <a:lnTo>
                      <a:pt x="225" y="58"/>
                    </a:lnTo>
                    <a:lnTo>
                      <a:pt x="227" y="66"/>
                    </a:lnTo>
                    <a:lnTo>
                      <a:pt x="230" y="74"/>
                    </a:lnTo>
                    <a:lnTo>
                      <a:pt x="230" y="82"/>
                    </a:lnTo>
                    <a:lnTo>
                      <a:pt x="230" y="89"/>
                    </a:lnTo>
                    <a:lnTo>
                      <a:pt x="228" y="95"/>
                    </a:lnTo>
                    <a:lnTo>
                      <a:pt x="226" y="102"/>
                    </a:lnTo>
                    <a:lnTo>
                      <a:pt x="224" y="109"/>
                    </a:lnTo>
                    <a:lnTo>
                      <a:pt x="218" y="122"/>
                    </a:lnTo>
                    <a:lnTo>
                      <a:pt x="210" y="132"/>
                    </a:lnTo>
                    <a:lnTo>
                      <a:pt x="201" y="142"/>
                    </a:lnTo>
                    <a:lnTo>
                      <a:pt x="191" y="152"/>
                    </a:lnTo>
                    <a:lnTo>
                      <a:pt x="179" y="160"/>
                    </a:lnTo>
                    <a:lnTo>
                      <a:pt x="166" y="165"/>
                    </a:lnTo>
                    <a:lnTo>
                      <a:pt x="176" y="167"/>
                    </a:lnTo>
                    <a:lnTo>
                      <a:pt x="185" y="169"/>
                    </a:lnTo>
                    <a:lnTo>
                      <a:pt x="193" y="171"/>
                    </a:lnTo>
                    <a:lnTo>
                      <a:pt x="201" y="173"/>
                    </a:lnTo>
                    <a:lnTo>
                      <a:pt x="209" y="177"/>
                    </a:lnTo>
                    <a:lnTo>
                      <a:pt x="216" y="181"/>
                    </a:lnTo>
                    <a:lnTo>
                      <a:pt x="223" y="186"/>
                    </a:lnTo>
                    <a:lnTo>
                      <a:pt x="228" y="191"/>
                    </a:lnTo>
                    <a:lnTo>
                      <a:pt x="234" y="196"/>
                    </a:lnTo>
                    <a:lnTo>
                      <a:pt x="239" y="202"/>
                    </a:lnTo>
                    <a:lnTo>
                      <a:pt x="242" y="209"/>
                    </a:lnTo>
                    <a:lnTo>
                      <a:pt x="246" y="217"/>
                    </a:lnTo>
                    <a:lnTo>
                      <a:pt x="249" y="225"/>
                    </a:lnTo>
                    <a:lnTo>
                      <a:pt x="251" y="233"/>
                    </a:lnTo>
                    <a:lnTo>
                      <a:pt x="252" y="242"/>
                    </a:lnTo>
                    <a:lnTo>
                      <a:pt x="252" y="251"/>
                    </a:lnTo>
                    <a:lnTo>
                      <a:pt x="251" y="267"/>
                    </a:lnTo>
                    <a:lnTo>
                      <a:pt x="249" y="282"/>
                    </a:lnTo>
                    <a:lnTo>
                      <a:pt x="244" y="296"/>
                    </a:lnTo>
                    <a:lnTo>
                      <a:pt x="239" y="309"/>
                    </a:lnTo>
                    <a:lnTo>
                      <a:pt x="232" y="321"/>
                    </a:lnTo>
                    <a:lnTo>
                      <a:pt x="223" y="333"/>
                    </a:lnTo>
                    <a:lnTo>
                      <a:pt x="212" y="343"/>
                    </a:lnTo>
                    <a:lnTo>
                      <a:pt x="200" y="353"/>
                    </a:lnTo>
                    <a:lnTo>
                      <a:pt x="188" y="363"/>
                    </a:lnTo>
                    <a:lnTo>
                      <a:pt x="176" y="371"/>
                    </a:lnTo>
                    <a:lnTo>
                      <a:pt x="162" y="376"/>
                    </a:lnTo>
                    <a:lnTo>
                      <a:pt x="148" y="382"/>
                    </a:lnTo>
                    <a:lnTo>
                      <a:pt x="134" y="387"/>
                    </a:lnTo>
                    <a:lnTo>
                      <a:pt x="119" y="389"/>
                    </a:lnTo>
                    <a:lnTo>
                      <a:pt x="106" y="391"/>
                    </a:lnTo>
                    <a:lnTo>
                      <a:pt x="91" y="392"/>
                    </a:lnTo>
                    <a:lnTo>
                      <a:pt x="80" y="392"/>
                    </a:lnTo>
                    <a:lnTo>
                      <a:pt x="71" y="391"/>
                    </a:lnTo>
                    <a:lnTo>
                      <a:pt x="61" y="390"/>
                    </a:lnTo>
                    <a:lnTo>
                      <a:pt x="52" y="389"/>
                    </a:lnTo>
                    <a:lnTo>
                      <a:pt x="43" y="388"/>
                    </a:lnTo>
                    <a:lnTo>
                      <a:pt x="33" y="386"/>
                    </a:lnTo>
                    <a:lnTo>
                      <a:pt x="24" y="382"/>
                    </a:lnTo>
                    <a:lnTo>
                      <a:pt x="15" y="379"/>
                    </a:lnTo>
                    <a:lnTo>
                      <a:pt x="14" y="367"/>
                    </a:lnTo>
                    <a:lnTo>
                      <a:pt x="12" y="357"/>
                    </a:lnTo>
                    <a:lnTo>
                      <a:pt x="11" y="345"/>
                    </a:lnTo>
                    <a:lnTo>
                      <a:pt x="8" y="334"/>
                    </a:lnTo>
                    <a:lnTo>
                      <a:pt x="6" y="324"/>
                    </a:lnTo>
                    <a:lnTo>
                      <a:pt x="4" y="31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20" y="28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03440" y="4750560"/>
                <a:ext cx="9000" cy="19800"/>
              </a:xfrm>
              <a:custGeom>
                <a:avLst/>
                <a:gdLst/>
                <a:ahLst/>
                <a:rect l="l" t="t" r="r" b="b"/>
                <a:pathLst>
                  <a:path w="79" h="184">
                    <a:moveTo>
                      <a:pt x="26" y="184"/>
                    </a:moveTo>
                    <a:lnTo>
                      <a:pt x="0" y="47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5" y="22"/>
                    </a:lnTo>
                    <a:lnTo>
                      <a:pt x="10" y="16"/>
                    </a:lnTo>
                    <a:lnTo>
                      <a:pt x="16" y="9"/>
                    </a:lnTo>
                    <a:lnTo>
                      <a:pt x="23" y="4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48" y="1"/>
                    </a:lnTo>
                    <a:lnTo>
                      <a:pt x="56" y="4"/>
                    </a:lnTo>
                    <a:lnTo>
                      <a:pt x="63" y="9"/>
                    </a:lnTo>
                    <a:lnTo>
                      <a:pt x="69" y="16"/>
                    </a:lnTo>
                    <a:lnTo>
                      <a:pt x="73" y="22"/>
                    </a:lnTo>
                    <a:lnTo>
                      <a:pt x="77" y="31"/>
                    </a:lnTo>
                    <a:lnTo>
                      <a:pt x="79" y="39"/>
                    </a:lnTo>
                    <a:lnTo>
                      <a:pt x="78" y="47"/>
                    </a:lnTo>
                    <a:lnTo>
                      <a:pt x="53" y="184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12880" y="473544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743" h="742">
                    <a:moveTo>
                      <a:pt x="214" y="707"/>
                    </a:moveTo>
                    <a:lnTo>
                      <a:pt x="232" y="715"/>
                    </a:lnTo>
                    <a:lnTo>
                      <a:pt x="250" y="722"/>
                    </a:lnTo>
                    <a:lnTo>
                      <a:pt x="268" y="728"/>
                    </a:lnTo>
                    <a:lnTo>
                      <a:pt x="285" y="733"/>
                    </a:lnTo>
                    <a:lnTo>
                      <a:pt x="304" y="736"/>
                    </a:lnTo>
                    <a:lnTo>
                      <a:pt x="322" y="739"/>
                    </a:lnTo>
                    <a:lnTo>
                      <a:pt x="340" y="741"/>
                    </a:lnTo>
                    <a:lnTo>
                      <a:pt x="357" y="742"/>
                    </a:lnTo>
                    <a:lnTo>
                      <a:pt x="376" y="742"/>
                    </a:lnTo>
                    <a:lnTo>
                      <a:pt x="394" y="742"/>
                    </a:lnTo>
                    <a:lnTo>
                      <a:pt x="411" y="741"/>
                    </a:lnTo>
                    <a:lnTo>
                      <a:pt x="430" y="737"/>
                    </a:lnTo>
                    <a:lnTo>
                      <a:pt x="447" y="735"/>
                    </a:lnTo>
                    <a:lnTo>
                      <a:pt x="464" y="730"/>
                    </a:lnTo>
                    <a:lnTo>
                      <a:pt x="481" y="726"/>
                    </a:lnTo>
                    <a:lnTo>
                      <a:pt x="499" y="720"/>
                    </a:lnTo>
                    <a:lnTo>
                      <a:pt x="515" y="713"/>
                    </a:lnTo>
                    <a:lnTo>
                      <a:pt x="532" y="706"/>
                    </a:lnTo>
                    <a:lnTo>
                      <a:pt x="547" y="698"/>
                    </a:lnTo>
                    <a:lnTo>
                      <a:pt x="563" y="689"/>
                    </a:lnTo>
                    <a:lnTo>
                      <a:pt x="578" y="680"/>
                    </a:lnTo>
                    <a:lnTo>
                      <a:pt x="593" y="669"/>
                    </a:lnTo>
                    <a:lnTo>
                      <a:pt x="606" y="658"/>
                    </a:lnTo>
                    <a:lnTo>
                      <a:pt x="620" y="647"/>
                    </a:lnTo>
                    <a:lnTo>
                      <a:pt x="634" y="634"/>
                    </a:lnTo>
                    <a:lnTo>
                      <a:pt x="646" y="621"/>
                    </a:lnTo>
                    <a:lnTo>
                      <a:pt x="658" y="608"/>
                    </a:lnTo>
                    <a:lnTo>
                      <a:pt x="669" y="593"/>
                    </a:lnTo>
                    <a:lnTo>
                      <a:pt x="680" y="578"/>
                    </a:lnTo>
                    <a:lnTo>
                      <a:pt x="690" y="562"/>
                    </a:lnTo>
                    <a:lnTo>
                      <a:pt x="699" y="544"/>
                    </a:lnTo>
                    <a:lnTo>
                      <a:pt x="708" y="527"/>
                    </a:lnTo>
                    <a:lnTo>
                      <a:pt x="715" y="510"/>
                    </a:lnTo>
                    <a:lnTo>
                      <a:pt x="722" y="493"/>
                    </a:lnTo>
                    <a:lnTo>
                      <a:pt x="728" y="474"/>
                    </a:lnTo>
                    <a:lnTo>
                      <a:pt x="732" y="457"/>
                    </a:lnTo>
                    <a:lnTo>
                      <a:pt x="737" y="439"/>
                    </a:lnTo>
                    <a:lnTo>
                      <a:pt x="739" y="421"/>
                    </a:lnTo>
                    <a:lnTo>
                      <a:pt x="742" y="402"/>
                    </a:lnTo>
                    <a:lnTo>
                      <a:pt x="743" y="384"/>
                    </a:lnTo>
                    <a:lnTo>
                      <a:pt x="743" y="367"/>
                    </a:lnTo>
                    <a:lnTo>
                      <a:pt x="742" y="348"/>
                    </a:lnTo>
                    <a:lnTo>
                      <a:pt x="740" y="330"/>
                    </a:lnTo>
                    <a:lnTo>
                      <a:pt x="738" y="313"/>
                    </a:lnTo>
                    <a:lnTo>
                      <a:pt x="735" y="296"/>
                    </a:lnTo>
                    <a:lnTo>
                      <a:pt x="731" y="278"/>
                    </a:lnTo>
                    <a:lnTo>
                      <a:pt x="726" y="261"/>
                    </a:lnTo>
                    <a:lnTo>
                      <a:pt x="720" y="244"/>
                    </a:lnTo>
                    <a:lnTo>
                      <a:pt x="714" y="227"/>
                    </a:lnTo>
                    <a:lnTo>
                      <a:pt x="706" y="211"/>
                    </a:lnTo>
                    <a:lnTo>
                      <a:pt x="698" y="195"/>
                    </a:lnTo>
                    <a:lnTo>
                      <a:pt x="690" y="180"/>
                    </a:lnTo>
                    <a:lnTo>
                      <a:pt x="680" y="165"/>
                    </a:lnTo>
                    <a:lnTo>
                      <a:pt x="669" y="150"/>
                    </a:lnTo>
                    <a:lnTo>
                      <a:pt x="659" y="135"/>
                    </a:lnTo>
                    <a:lnTo>
                      <a:pt x="646" y="121"/>
                    </a:lnTo>
                    <a:lnTo>
                      <a:pt x="635" y="109"/>
                    </a:lnTo>
                    <a:lnTo>
                      <a:pt x="621" y="96"/>
                    </a:lnTo>
                    <a:lnTo>
                      <a:pt x="607" y="84"/>
                    </a:lnTo>
                    <a:lnTo>
                      <a:pt x="593" y="73"/>
                    </a:lnTo>
                    <a:lnTo>
                      <a:pt x="578" y="62"/>
                    </a:lnTo>
                    <a:lnTo>
                      <a:pt x="562" y="52"/>
                    </a:lnTo>
                    <a:lnTo>
                      <a:pt x="546" y="43"/>
                    </a:lnTo>
                    <a:lnTo>
                      <a:pt x="528" y="34"/>
                    </a:lnTo>
                    <a:lnTo>
                      <a:pt x="511" y="26"/>
                    </a:lnTo>
                    <a:lnTo>
                      <a:pt x="493" y="20"/>
                    </a:lnTo>
                    <a:lnTo>
                      <a:pt x="476" y="15"/>
                    </a:lnTo>
                    <a:lnTo>
                      <a:pt x="457" y="10"/>
                    </a:lnTo>
                    <a:lnTo>
                      <a:pt x="439" y="5"/>
                    </a:lnTo>
                    <a:lnTo>
                      <a:pt x="422" y="3"/>
                    </a:lnTo>
                    <a:lnTo>
                      <a:pt x="403" y="1"/>
                    </a:lnTo>
                    <a:lnTo>
                      <a:pt x="385" y="0"/>
                    </a:lnTo>
                    <a:lnTo>
                      <a:pt x="367" y="0"/>
                    </a:lnTo>
                    <a:lnTo>
                      <a:pt x="349" y="0"/>
                    </a:lnTo>
                    <a:lnTo>
                      <a:pt x="331" y="2"/>
                    </a:lnTo>
                    <a:lnTo>
                      <a:pt x="314" y="4"/>
                    </a:lnTo>
                    <a:lnTo>
                      <a:pt x="296" y="8"/>
                    </a:lnTo>
                    <a:lnTo>
                      <a:pt x="278" y="11"/>
                    </a:lnTo>
                    <a:lnTo>
                      <a:pt x="261" y="16"/>
                    </a:lnTo>
                    <a:lnTo>
                      <a:pt x="244" y="21"/>
                    </a:lnTo>
                    <a:lnTo>
                      <a:pt x="228" y="28"/>
                    </a:lnTo>
                    <a:lnTo>
                      <a:pt x="212" y="35"/>
                    </a:lnTo>
                    <a:lnTo>
                      <a:pt x="196" y="43"/>
                    </a:lnTo>
                    <a:lnTo>
                      <a:pt x="180" y="52"/>
                    </a:lnTo>
                    <a:lnTo>
                      <a:pt x="165" y="62"/>
                    </a:lnTo>
                    <a:lnTo>
                      <a:pt x="150" y="72"/>
                    </a:lnTo>
                    <a:lnTo>
                      <a:pt x="136" y="83"/>
                    </a:lnTo>
                    <a:lnTo>
                      <a:pt x="122" y="95"/>
                    </a:lnTo>
                    <a:lnTo>
                      <a:pt x="110" y="107"/>
                    </a:lnTo>
                    <a:lnTo>
                      <a:pt x="97" y="121"/>
                    </a:lnTo>
                    <a:lnTo>
                      <a:pt x="85" y="135"/>
                    </a:lnTo>
                    <a:lnTo>
                      <a:pt x="73" y="149"/>
                    </a:lnTo>
                    <a:lnTo>
                      <a:pt x="63" y="165"/>
                    </a:lnTo>
                    <a:lnTo>
                      <a:pt x="52" y="180"/>
                    </a:lnTo>
                    <a:lnTo>
                      <a:pt x="43" y="197"/>
                    </a:lnTo>
                    <a:lnTo>
                      <a:pt x="35" y="214"/>
                    </a:lnTo>
                    <a:lnTo>
                      <a:pt x="27" y="231"/>
                    </a:lnTo>
                    <a:lnTo>
                      <a:pt x="20" y="249"/>
                    </a:lnTo>
                    <a:lnTo>
                      <a:pt x="15" y="267"/>
                    </a:lnTo>
                    <a:lnTo>
                      <a:pt x="10" y="285"/>
                    </a:lnTo>
                    <a:lnTo>
                      <a:pt x="7" y="302"/>
                    </a:lnTo>
                    <a:lnTo>
                      <a:pt x="3" y="321"/>
                    </a:lnTo>
                    <a:lnTo>
                      <a:pt x="1" y="339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1" y="393"/>
                    </a:lnTo>
                    <a:lnTo>
                      <a:pt x="2" y="411"/>
                    </a:lnTo>
                    <a:lnTo>
                      <a:pt x="4" y="429"/>
                    </a:lnTo>
                    <a:lnTo>
                      <a:pt x="8" y="447"/>
                    </a:lnTo>
                    <a:lnTo>
                      <a:pt x="12" y="464"/>
                    </a:lnTo>
                    <a:lnTo>
                      <a:pt x="17" y="481"/>
                    </a:lnTo>
                    <a:lnTo>
                      <a:pt x="23" y="497"/>
                    </a:lnTo>
                    <a:lnTo>
                      <a:pt x="29" y="515"/>
                    </a:lnTo>
                    <a:lnTo>
                      <a:pt x="36" y="531"/>
                    </a:lnTo>
                    <a:lnTo>
                      <a:pt x="44" y="547"/>
                    </a:lnTo>
                    <a:lnTo>
                      <a:pt x="54" y="562"/>
                    </a:lnTo>
                    <a:lnTo>
                      <a:pt x="63" y="578"/>
                    </a:lnTo>
                    <a:lnTo>
                      <a:pt x="73" y="591"/>
                    </a:lnTo>
                    <a:lnTo>
                      <a:pt x="85" y="606"/>
                    </a:lnTo>
                    <a:lnTo>
                      <a:pt x="96" y="620"/>
                    </a:lnTo>
                    <a:lnTo>
                      <a:pt x="109" y="633"/>
                    </a:lnTo>
                    <a:lnTo>
                      <a:pt x="121" y="645"/>
                    </a:lnTo>
                    <a:lnTo>
                      <a:pt x="135" y="658"/>
                    </a:lnTo>
                    <a:lnTo>
                      <a:pt x="150" y="669"/>
                    </a:lnTo>
                    <a:lnTo>
                      <a:pt x="165" y="680"/>
                    </a:lnTo>
                    <a:lnTo>
                      <a:pt x="181" y="690"/>
                    </a:lnTo>
                    <a:lnTo>
                      <a:pt x="197" y="699"/>
                    </a:lnTo>
                    <a:lnTo>
                      <a:pt x="214" y="707"/>
                    </a:lnTo>
                    <a:close/>
                  </a:path>
                </a:pathLst>
              </a:custGeom>
              <a:solidFill>
                <a:srgbClr val="29a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0240" y="474768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743" h="743">
                    <a:moveTo>
                      <a:pt x="215" y="709"/>
                    </a:moveTo>
                    <a:lnTo>
                      <a:pt x="232" y="716"/>
                    </a:lnTo>
                    <a:lnTo>
                      <a:pt x="250" y="723"/>
                    </a:lnTo>
                    <a:lnTo>
                      <a:pt x="268" y="728"/>
                    </a:lnTo>
                    <a:lnTo>
                      <a:pt x="286" y="733"/>
                    </a:lnTo>
                    <a:lnTo>
                      <a:pt x="303" y="738"/>
                    </a:lnTo>
                    <a:lnTo>
                      <a:pt x="321" y="740"/>
                    </a:lnTo>
                    <a:lnTo>
                      <a:pt x="340" y="742"/>
                    </a:lnTo>
                    <a:lnTo>
                      <a:pt x="358" y="743"/>
                    </a:lnTo>
                    <a:lnTo>
                      <a:pt x="376" y="743"/>
                    </a:lnTo>
                    <a:lnTo>
                      <a:pt x="394" y="743"/>
                    </a:lnTo>
                    <a:lnTo>
                      <a:pt x="412" y="741"/>
                    </a:lnTo>
                    <a:lnTo>
                      <a:pt x="429" y="739"/>
                    </a:lnTo>
                    <a:lnTo>
                      <a:pt x="448" y="735"/>
                    </a:lnTo>
                    <a:lnTo>
                      <a:pt x="465" y="732"/>
                    </a:lnTo>
                    <a:lnTo>
                      <a:pt x="482" y="727"/>
                    </a:lnTo>
                    <a:lnTo>
                      <a:pt x="498" y="722"/>
                    </a:lnTo>
                    <a:lnTo>
                      <a:pt x="515" y="715"/>
                    </a:lnTo>
                    <a:lnTo>
                      <a:pt x="531" y="708"/>
                    </a:lnTo>
                    <a:lnTo>
                      <a:pt x="547" y="700"/>
                    </a:lnTo>
                    <a:lnTo>
                      <a:pt x="563" y="691"/>
                    </a:lnTo>
                    <a:lnTo>
                      <a:pt x="578" y="681"/>
                    </a:lnTo>
                    <a:lnTo>
                      <a:pt x="592" y="671"/>
                    </a:lnTo>
                    <a:lnTo>
                      <a:pt x="607" y="660"/>
                    </a:lnTo>
                    <a:lnTo>
                      <a:pt x="621" y="648"/>
                    </a:lnTo>
                    <a:lnTo>
                      <a:pt x="633" y="635"/>
                    </a:lnTo>
                    <a:lnTo>
                      <a:pt x="646" y="622"/>
                    </a:lnTo>
                    <a:lnTo>
                      <a:pt x="659" y="608"/>
                    </a:lnTo>
                    <a:lnTo>
                      <a:pt x="670" y="594"/>
                    </a:lnTo>
                    <a:lnTo>
                      <a:pt x="680" y="578"/>
                    </a:lnTo>
                    <a:lnTo>
                      <a:pt x="691" y="562"/>
                    </a:lnTo>
                    <a:lnTo>
                      <a:pt x="700" y="546"/>
                    </a:lnTo>
                    <a:lnTo>
                      <a:pt x="708" y="529"/>
                    </a:lnTo>
                    <a:lnTo>
                      <a:pt x="716" y="512"/>
                    </a:lnTo>
                    <a:lnTo>
                      <a:pt x="723" y="493"/>
                    </a:lnTo>
                    <a:lnTo>
                      <a:pt x="729" y="476"/>
                    </a:lnTo>
                    <a:lnTo>
                      <a:pt x="733" y="458"/>
                    </a:lnTo>
                    <a:lnTo>
                      <a:pt x="737" y="440"/>
                    </a:lnTo>
                    <a:lnTo>
                      <a:pt x="740" y="422"/>
                    </a:lnTo>
                    <a:lnTo>
                      <a:pt x="741" y="404"/>
                    </a:lnTo>
                    <a:lnTo>
                      <a:pt x="742" y="385"/>
                    </a:lnTo>
                    <a:lnTo>
                      <a:pt x="743" y="367"/>
                    </a:lnTo>
                    <a:lnTo>
                      <a:pt x="742" y="350"/>
                    </a:lnTo>
                    <a:lnTo>
                      <a:pt x="741" y="332"/>
                    </a:lnTo>
                    <a:lnTo>
                      <a:pt x="739" y="314"/>
                    </a:lnTo>
                    <a:lnTo>
                      <a:pt x="735" y="296"/>
                    </a:lnTo>
                    <a:lnTo>
                      <a:pt x="731" y="279"/>
                    </a:lnTo>
                    <a:lnTo>
                      <a:pt x="726" y="262"/>
                    </a:lnTo>
                    <a:lnTo>
                      <a:pt x="720" y="245"/>
                    </a:lnTo>
                    <a:lnTo>
                      <a:pt x="714" y="228"/>
                    </a:lnTo>
                    <a:lnTo>
                      <a:pt x="707" y="212"/>
                    </a:lnTo>
                    <a:lnTo>
                      <a:pt x="699" y="196"/>
                    </a:lnTo>
                    <a:lnTo>
                      <a:pt x="690" y="181"/>
                    </a:lnTo>
                    <a:lnTo>
                      <a:pt x="680" y="165"/>
                    </a:lnTo>
                    <a:lnTo>
                      <a:pt x="670" y="151"/>
                    </a:lnTo>
                    <a:lnTo>
                      <a:pt x="659" y="137"/>
                    </a:lnTo>
                    <a:lnTo>
                      <a:pt x="647" y="123"/>
                    </a:lnTo>
                    <a:lnTo>
                      <a:pt x="634" y="110"/>
                    </a:lnTo>
                    <a:lnTo>
                      <a:pt x="622" y="98"/>
                    </a:lnTo>
                    <a:lnTo>
                      <a:pt x="608" y="85"/>
                    </a:lnTo>
                    <a:lnTo>
                      <a:pt x="593" y="73"/>
                    </a:lnTo>
                    <a:lnTo>
                      <a:pt x="578" y="63"/>
                    </a:lnTo>
                    <a:lnTo>
                      <a:pt x="562" y="53"/>
                    </a:lnTo>
                    <a:lnTo>
                      <a:pt x="545" y="44"/>
                    </a:lnTo>
                    <a:lnTo>
                      <a:pt x="529" y="36"/>
                    </a:lnTo>
                    <a:lnTo>
                      <a:pt x="511" y="28"/>
                    </a:lnTo>
                    <a:lnTo>
                      <a:pt x="493" y="21"/>
                    </a:lnTo>
                    <a:lnTo>
                      <a:pt x="475" y="15"/>
                    </a:lnTo>
                    <a:lnTo>
                      <a:pt x="458" y="10"/>
                    </a:lnTo>
                    <a:lnTo>
                      <a:pt x="440" y="7"/>
                    </a:lnTo>
                    <a:lnTo>
                      <a:pt x="421" y="3"/>
                    </a:lnTo>
                    <a:lnTo>
                      <a:pt x="403" y="2"/>
                    </a:lnTo>
                    <a:lnTo>
                      <a:pt x="386" y="1"/>
                    </a:lnTo>
                    <a:lnTo>
                      <a:pt x="367" y="0"/>
                    </a:lnTo>
                    <a:lnTo>
                      <a:pt x="349" y="1"/>
                    </a:lnTo>
                    <a:lnTo>
                      <a:pt x="332" y="2"/>
                    </a:lnTo>
                    <a:lnTo>
                      <a:pt x="313" y="5"/>
                    </a:lnTo>
                    <a:lnTo>
                      <a:pt x="296" y="8"/>
                    </a:lnTo>
                    <a:lnTo>
                      <a:pt x="279" y="13"/>
                    </a:lnTo>
                    <a:lnTo>
                      <a:pt x="262" y="17"/>
                    </a:lnTo>
                    <a:lnTo>
                      <a:pt x="245" y="23"/>
                    </a:lnTo>
                    <a:lnTo>
                      <a:pt x="227" y="30"/>
                    </a:lnTo>
                    <a:lnTo>
                      <a:pt x="211" y="37"/>
                    </a:lnTo>
                    <a:lnTo>
                      <a:pt x="195" y="45"/>
                    </a:lnTo>
                    <a:lnTo>
                      <a:pt x="180" y="54"/>
                    </a:lnTo>
                    <a:lnTo>
                      <a:pt x="165" y="63"/>
                    </a:lnTo>
                    <a:lnTo>
                      <a:pt x="151" y="73"/>
                    </a:lnTo>
                    <a:lnTo>
                      <a:pt x="136" y="85"/>
                    </a:lnTo>
                    <a:lnTo>
                      <a:pt x="123" y="96"/>
                    </a:lnTo>
                    <a:lnTo>
                      <a:pt x="109" y="109"/>
                    </a:lnTo>
                    <a:lnTo>
                      <a:pt x="97" y="122"/>
                    </a:lnTo>
                    <a:lnTo>
                      <a:pt x="85" y="135"/>
                    </a:lnTo>
                    <a:lnTo>
                      <a:pt x="74" y="150"/>
                    </a:lnTo>
                    <a:lnTo>
                      <a:pt x="62" y="165"/>
                    </a:lnTo>
                    <a:lnTo>
                      <a:pt x="53" y="181"/>
                    </a:lnTo>
                    <a:lnTo>
                      <a:pt x="44" y="198"/>
                    </a:lnTo>
                    <a:lnTo>
                      <a:pt x="35" y="215"/>
                    </a:lnTo>
                    <a:lnTo>
                      <a:pt x="28" y="233"/>
                    </a:lnTo>
                    <a:lnTo>
                      <a:pt x="21" y="250"/>
                    </a:lnTo>
                    <a:lnTo>
                      <a:pt x="15" y="268"/>
                    </a:lnTo>
                    <a:lnTo>
                      <a:pt x="11" y="286"/>
                    </a:lnTo>
                    <a:lnTo>
                      <a:pt x="6" y="304"/>
                    </a:lnTo>
                    <a:lnTo>
                      <a:pt x="4" y="322"/>
                    </a:lnTo>
                    <a:lnTo>
                      <a:pt x="1" y="341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0" y="395"/>
                    </a:lnTo>
                    <a:lnTo>
                      <a:pt x="3" y="412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2" y="465"/>
                    </a:lnTo>
                    <a:lnTo>
                      <a:pt x="16" y="482"/>
                    </a:lnTo>
                    <a:lnTo>
                      <a:pt x="22" y="499"/>
                    </a:lnTo>
                    <a:lnTo>
                      <a:pt x="29" y="516"/>
                    </a:lnTo>
                    <a:lnTo>
                      <a:pt x="36" y="532"/>
                    </a:lnTo>
                    <a:lnTo>
                      <a:pt x="44" y="548"/>
                    </a:lnTo>
                    <a:lnTo>
                      <a:pt x="53" y="563"/>
                    </a:lnTo>
                    <a:lnTo>
                      <a:pt x="62" y="578"/>
                    </a:lnTo>
                    <a:lnTo>
                      <a:pt x="73" y="593"/>
                    </a:lnTo>
                    <a:lnTo>
                      <a:pt x="84" y="608"/>
                    </a:lnTo>
                    <a:lnTo>
                      <a:pt x="95" y="621"/>
                    </a:lnTo>
                    <a:lnTo>
                      <a:pt x="108" y="634"/>
                    </a:lnTo>
                    <a:lnTo>
                      <a:pt x="122" y="647"/>
                    </a:lnTo>
                    <a:lnTo>
                      <a:pt x="136" y="658"/>
                    </a:lnTo>
                    <a:lnTo>
                      <a:pt x="149" y="670"/>
                    </a:lnTo>
                    <a:lnTo>
                      <a:pt x="165" y="681"/>
                    </a:lnTo>
                    <a:lnTo>
                      <a:pt x="182" y="691"/>
                    </a:lnTo>
                    <a:lnTo>
                      <a:pt x="198" y="700"/>
                    </a:lnTo>
                    <a:lnTo>
                      <a:pt x="215" y="709"/>
                    </a:lnTo>
                    <a:close/>
                  </a:path>
                </a:pathLst>
              </a:custGeom>
              <a:solidFill>
                <a:srgbClr val="29a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51400" y="5114880"/>
                <a:ext cx="410040" cy="421200"/>
              </a:xfrm>
              <a:custGeom>
                <a:avLst/>
                <a:gdLst/>
                <a:ahLst/>
                <a:rect l="l" t="t" r="r" b="b"/>
                <a:pathLst>
                  <a:path w="3510" h="3901">
                    <a:moveTo>
                      <a:pt x="3510" y="3836"/>
                    </a:moveTo>
                    <a:lnTo>
                      <a:pt x="3461" y="3836"/>
                    </a:lnTo>
                    <a:lnTo>
                      <a:pt x="3413" y="3835"/>
                    </a:lnTo>
                    <a:lnTo>
                      <a:pt x="3366" y="3833"/>
                    </a:lnTo>
                    <a:lnTo>
                      <a:pt x="3320" y="3830"/>
                    </a:lnTo>
                    <a:lnTo>
                      <a:pt x="3275" y="3826"/>
                    </a:lnTo>
                    <a:lnTo>
                      <a:pt x="3232" y="3820"/>
                    </a:lnTo>
                    <a:lnTo>
                      <a:pt x="3190" y="3815"/>
                    </a:lnTo>
                    <a:lnTo>
                      <a:pt x="3150" y="3809"/>
                    </a:lnTo>
                    <a:lnTo>
                      <a:pt x="3111" y="3801"/>
                    </a:lnTo>
                    <a:lnTo>
                      <a:pt x="3072" y="3793"/>
                    </a:lnTo>
                    <a:lnTo>
                      <a:pt x="3035" y="3784"/>
                    </a:lnTo>
                    <a:lnTo>
                      <a:pt x="2999" y="3775"/>
                    </a:lnTo>
                    <a:lnTo>
                      <a:pt x="2964" y="3764"/>
                    </a:lnTo>
                    <a:lnTo>
                      <a:pt x="2930" y="3753"/>
                    </a:lnTo>
                    <a:lnTo>
                      <a:pt x="2898" y="3740"/>
                    </a:lnTo>
                    <a:lnTo>
                      <a:pt x="2866" y="3728"/>
                    </a:lnTo>
                    <a:lnTo>
                      <a:pt x="2835" y="3714"/>
                    </a:lnTo>
                    <a:lnTo>
                      <a:pt x="2805" y="3700"/>
                    </a:lnTo>
                    <a:lnTo>
                      <a:pt x="2776" y="3685"/>
                    </a:lnTo>
                    <a:lnTo>
                      <a:pt x="2747" y="3670"/>
                    </a:lnTo>
                    <a:lnTo>
                      <a:pt x="2720" y="3653"/>
                    </a:lnTo>
                    <a:lnTo>
                      <a:pt x="2694" y="3637"/>
                    </a:lnTo>
                    <a:lnTo>
                      <a:pt x="2668" y="3619"/>
                    </a:lnTo>
                    <a:lnTo>
                      <a:pt x="2644" y="3600"/>
                    </a:lnTo>
                    <a:lnTo>
                      <a:pt x="2620" y="3582"/>
                    </a:lnTo>
                    <a:lnTo>
                      <a:pt x="2596" y="3562"/>
                    </a:lnTo>
                    <a:lnTo>
                      <a:pt x="2574" y="3542"/>
                    </a:lnTo>
                    <a:lnTo>
                      <a:pt x="2552" y="3521"/>
                    </a:lnTo>
                    <a:lnTo>
                      <a:pt x="2531" y="3500"/>
                    </a:lnTo>
                    <a:lnTo>
                      <a:pt x="2510" y="3477"/>
                    </a:lnTo>
                    <a:lnTo>
                      <a:pt x="2491" y="3456"/>
                    </a:lnTo>
                    <a:lnTo>
                      <a:pt x="2471" y="3432"/>
                    </a:lnTo>
                    <a:lnTo>
                      <a:pt x="2453" y="3409"/>
                    </a:lnTo>
                    <a:lnTo>
                      <a:pt x="2434" y="3383"/>
                    </a:lnTo>
                    <a:lnTo>
                      <a:pt x="2417" y="3359"/>
                    </a:lnTo>
                    <a:lnTo>
                      <a:pt x="2400" y="3333"/>
                    </a:lnTo>
                    <a:lnTo>
                      <a:pt x="2383" y="3307"/>
                    </a:lnTo>
                    <a:lnTo>
                      <a:pt x="2367" y="3280"/>
                    </a:lnTo>
                    <a:lnTo>
                      <a:pt x="2352" y="3254"/>
                    </a:lnTo>
                    <a:lnTo>
                      <a:pt x="2337" y="3226"/>
                    </a:lnTo>
                    <a:lnTo>
                      <a:pt x="2307" y="3169"/>
                    </a:lnTo>
                    <a:lnTo>
                      <a:pt x="2278" y="3109"/>
                    </a:lnTo>
                    <a:lnTo>
                      <a:pt x="2252" y="3048"/>
                    </a:lnTo>
                    <a:lnTo>
                      <a:pt x="2227" y="2985"/>
                    </a:lnTo>
                    <a:lnTo>
                      <a:pt x="2202" y="2921"/>
                    </a:lnTo>
                    <a:lnTo>
                      <a:pt x="2179" y="2855"/>
                    </a:lnTo>
                    <a:lnTo>
                      <a:pt x="2155" y="2787"/>
                    </a:lnTo>
                    <a:lnTo>
                      <a:pt x="2132" y="2718"/>
                    </a:lnTo>
                    <a:lnTo>
                      <a:pt x="2087" y="2575"/>
                    </a:lnTo>
                    <a:lnTo>
                      <a:pt x="2041" y="2428"/>
                    </a:lnTo>
                    <a:lnTo>
                      <a:pt x="1993" y="2276"/>
                    </a:lnTo>
                    <a:lnTo>
                      <a:pt x="1941" y="2122"/>
                    </a:lnTo>
                    <a:lnTo>
                      <a:pt x="1914" y="2042"/>
                    </a:lnTo>
                    <a:lnTo>
                      <a:pt x="1885" y="1963"/>
                    </a:lnTo>
                    <a:lnTo>
                      <a:pt x="1854" y="1884"/>
                    </a:lnTo>
                    <a:lnTo>
                      <a:pt x="1822" y="1804"/>
                    </a:lnTo>
                    <a:lnTo>
                      <a:pt x="1788" y="1724"/>
                    </a:lnTo>
                    <a:lnTo>
                      <a:pt x="1751" y="1643"/>
                    </a:lnTo>
                    <a:lnTo>
                      <a:pt x="1712" y="1562"/>
                    </a:lnTo>
                    <a:lnTo>
                      <a:pt x="1671" y="1482"/>
                    </a:lnTo>
                    <a:lnTo>
                      <a:pt x="1649" y="1441"/>
                    </a:lnTo>
                    <a:lnTo>
                      <a:pt x="1626" y="1400"/>
                    </a:lnTo>
                    <a:lnTo>
                      <a:pt x="1603" y="1360"/>
                    </a:lnTo>
                    <a:lnTo>
                      <a:pt x="1579" y="1320"/>
                    </a:lnTo>
                    <a:lnTo>
                      <a:pt x="1555" y="1280"/>
                    </a:lnTo>
                    <a:lnTo>
                      <a:pt x="1530" y="1240"/>
                    </a:lnTo>
                    <a:lnTo>
                      <a:pt x="1503" y="1199"/>
                    </a:lnTo>
                    <a:lnTo>
                      <a:pt x="1476" y="1159"/>
                    </a:lnTo>
                    <a:lnTo>
                      <a:pt x="1448" y="1120"/>
                    </a:lnTo>
                    <a:lnTo>
                      <a:pt x="1418" y="1080"/>
                    </a:lnTo>
                    <a:lnTo>
                      <a:pt x="1389" y="1041"/>
                    </a:lnTo>
                    <a:lnTo>
                      <a:pt x="1358" y="1001"/>
                    </a:lnTo>
                    <a:lnTo>
                      <a:pt x="1327" y="962"/>
                    </a:lnTo>
                    <a:lnTo>
                      <a:pt x="1293" y="923"/>
                    </a:lnTo>
                    <a:lnTo>
                      <a:pt x="1260" y="884"/>
                    </a:lnTo>
                    <a:lnTo>
                      <a:pt x="1226" y="845"/>
                    </a:lnTo>
                    <a:lnTo>
                      <a:pt x="1190" y="806"/>
                    </a:lnTo>
                    <a:lnTo>
                      <a:pt x="1152" y="768"/>
                    </a:lnTo>
                    <a:lnTo>
                      <a:pt x="1114" y="730"/>
                    </a:lnTo>
                    <a:lnTo>
                      <a:pt x="1075" y="692"/>
                    </a:lnTo>
                    <a:lnTo>
                      <a:pt x="1035" y="655"/>
                    </a:lnTo>
                    <a:lnTo>
                      <a:pt x="994" y="617"/>
                    </a:lnTo>
                    <a:lnTo>
                      <a:pt x="952" y="580"/>
                    </a:lnTo>
                    <a:lnTo>
                      <a:pt x="908" y="542"/>
                    </a:lnTo>
                    <a:lnTo>
                      <a:pt x="863" y="507"/>
                    </a:lnTo>
                    <a:lnTo>
                      <a:pt x="817" y="470"/>
                    </a:lnTo>
                    <a:lnTo>
                      <a:pt x="769" y="434"/>
                    </a:lnTo>
                    <a:lnTo>
                      <a:pt x="721" y="399"/>
                    </a:lnTo>
                    <a:lnTo>
                      <a:pt x="671" y="363"/>
                    </a:lnTo>
                    <a:lnTo>
                      <a:pt x="619" y="328"/>
                    </a:lnTo>
                    <a:lnTo>
                      <a:pt x="566" y="293"/>
                    </a:lnTo>
                    <a:lnTo>
                      <a:pt x="512" y="259"/>
                    </a:lnTo>
                    <a:lnTo>
                      <a:pt x="456" y="226"/>
                    </a:lnTo>
                    <a:lnTo>
                      <a:pt x="400" y="191"/>
                    </a:lnTo>
                    <a:lnTo>
                      <a:pt x="342" y="159"/>
                    </a:lnTo>
                    <a:lnTo>
                      <a:pt x="281" y="126"/>
                    </a:lnTo>
                    <a:lnTo>
                      <a:pt x="220" y="94"/>
                    </a:lnTo>
                    <a:lnTo>
                      <a:pt x="157" y="62"/>
                    </a:lnTo>
                    <a:lnTo>
                      <a:pt x="93" y="31"/>
                    </a:lnTo>
                    <a:lnTo>
                      <a:pt x="26" y="0"/>
                    </a:lnTo>
                    <a:lnTo>
                      <a:pt x="0" y="58"/>
                    </a:lnTo>
                    <a:lnTo>
                      <a:pt x="65" y="88"/>
                    </a:lnTo>
                    <a:lnTo>
                      <a:pt x="128" y="119"/>
                    </a:lnTo>
                    <a:lnTo>
                      <a:pt x="190" y="151"/>
                    </a:lnTo>
                    <a:lnTo>
                      <a:pt x="251" y="182"/>
                    </a:lnTo>
                    <a:lnTo>
                      <a:pt x="311" y="214"/>
                    </a:lnTo>
                    <a:lnTo>
                      <a:pt x="368" y="247"/>
                    </a:lnTo>
                    <a:lnTo>
                      <a:pt x="424" y="281"/>
                    </a:lnTo>
                    <a:lnTo>
                      <a:pt x="478" y="314"/>
                    </a:lnTo>
                    <a:lnTo>
                      <a:pt x="532" y="347"/>
                    </a:lnTo>
                    <a:lnTo>
                      <a:pt x="583" y="382"/>
                    </a:lnTo>
                    <a:lnTo>
                      <a:pt x="634" y="416"/>
                    </a:lnTo>
                    <a:lnTo>
                      <a:pt x="683" y="450"/>
                    </a:lnTo>
                    <a:lnTo>
                      <a:pt x="731" y="485"/>
                    </a:lnTo>
                    <a:lnTo>
                      <a:pt x="777" y="520"/>
                    </a:lnTo>
                    <a:lnTo>
                      <a:pt x="823" y="556"/>
                    </a:lnTo>
                    <a:lnTo>
                      <a:pt x="867" y="593"/>
                    </a:lnTo>
                    <a:lnTo>
                      <a:pt x="910" y="628"/>
                    </a:lnTo>
                    <a:lnTo>
                      <a:pt x="952" y="665"/>
                    </a:lnTo>
                    <a:lnTo>
                      <a:pt x="992" y="702"/>
                    </a:lnTo>
                    <a:lnTo>
                      <a:pt x="1032" y="738"/>
                    </a:lnTo>
                    <a:lnTo>
                      <a:pt x="1070" y="775"/>
                    </a:lnTo>
                    <a:lnTo>
                      <a:pt x="1106" y="813"/>
                    </a:lnTo>
                    <a:lnTo>
                      <a:pt x="1143" y="851"/>
                    </a:lnTo>
                    <a:lnTo>
                      <a:pt x="1178" y="889"/>
                    </a:lnTo>
                    <a:lnTo>
                      <a:pt x="1212" y="926"/>
                    </a:lnTo>
                    <a:lnTo>
                      <a:pt x="1245" y="964"/>
                    </a:lnTo>
                    <a:lnTo>
                      <a:pt x="1277" y="1002"/>
                    </a:lnTo>
                    <a:lnTo>
                      <a:pt x="1308" y="1041"/>
                    </a:lnTo>
                    <a:lnTo>
                      <a:pt x="1338" y="1080"/>
                    </a:lnTo>
                    <a:lnTo>
                      <a:pt x="1367" y="1118"/>
                    </a:lnTo>
                    <a:lnTo>
                      <a:pt x="1395" y="1157"/>
                    </a:lnTo>
                    <a:lnTo>
                      <a:pt x="1423" y="1196"/>
                    </a:lnTo>
                    <a:lnTo>
                      <a:pt x="1449" y="1235"/>
                    </a:lnTo>
                    <a:lnTo>
                      <a:pt x="1476" y="1274"/>
                    </a:lnTo>
                    <a:lnTo>
                      <a:pt x="1500" y="1314"/>
                    </a:lnTo>
                    <a:lnTo>
                      <a:pt x="1524" y="1353"/>
                    </a:lnTo>
                    <a:lnTo>
                      <a:pt x="1548" y="1393"/>
                    </a:lnTo>
                    <a:lnTo>
                      <a:pt x="1571" y="1432"/>
                    </a:lnTo>
                    <a:lnTo>
                      <a:pt x="1593" y="1471"/>
                    </a:lnTo>
                    <a:lnTo>
                      <a:pt x="1613" y="1511"/>
                    </a:lnTo>
                    <a:lnTo>
                      <a:pt x="1655" y="1591"/>
                    </a:lnTo>
                    <a:lnTo>
                      <a:pt x="1692" y="1670"/>
                    </a:lnTo>
                    <a:lnTo>
                      <a:pt x="1729" y="1749"/>
                    </a:lnTo>
                    <a:lnTo>
                      <a:pt x="1762" y="1828"/>
                    </a:lnTo>
                    <a:lnTo>
                      <a:pt x="1794" y="1907"/>
                    </a:lnTo>
                    <a:lnTo>
                      <a:pt x="1824" y="1986"/>
                    </a:lnTo>
                    <a:lnTo>
                      <a:pt x="1853" y="2064"/>
                    </a:lnTo>
                    <a:lnTo>
                      <a:pt x="1880" y="2142"/>
                    </a:lnTo>
                    <a:lnTo>
                      <a:pt x="1932" y="2296"/>
                    </a:lnTo>
                    <a:lnTo>
                      <a:pt x="1979" y="2446"/>
                    </a:lnTo>
                    <a:lnTo>
                      <a:pt x="2025" y="2594"/>
                    </a:lnTo>
                    <a:lnTo>
                      <a:pt x="2071" y="2738"/>
                    </a:lnTo>
                    <a:lnTo>
                      <a:pt x="2094" y="2808"/>
                    </a:lnTo>
                    <a:lnTo>
                      <a:pt x="2118" y="2876"/>
                    </a:lnTo>
                    <a:lnTo>
                      <a:pt x="2142" y="2943"/>
                    </a:lnTo>
                    <a:lnTo>
                      <a:pt x="2167" y="3009"/>
                    </a:lnTo>
                    <a:lnTo>
                      <a:pt x="2194" y="3074"/>
                    </a:lnTo>
                    <a:lnTo>
                      <a:pt x="2220" y="3136"/>
                    </a:lnTo>
                    <a:lnTo>
                      <a:pt x="2250" y="3196"/>
                    </a:lnTo>
                    <a:lnTo>
                      <a:pt x="2280" y="3256"/>
                    </a:lnTo>
                    <a:lnTo>
                      <a:pt x="2296" y="3285"/>
                    </a:lnTo>
                    <a:lnTo>
                      <a:pt x="2312" y="3313"/>
                    </a:lnTo>
                    <a:lnTo>
                      <a:pt x="2329" y="3341"/>
                    </a:lnTo>
                    <a:lnTo>
                      <a:pt x="2346" y="3368"/>
                    </a:lnTo>
                    <a:lnTo>
                      <a:pt x="2364" y="3395"/>
                    </a:lnTo>
                    <a:lnTo>
                      <a:pt x="2383" y="3421"/>
                    </a:lnTo>
                    <a:lnTo>
                      <a:pt x="2402" y="3448"/>
                    </a:lnTo>
                    <a:lnTo>
                      <a:pt x="2422" y="3472"/>
                    </a:lnTo>
                    <a:lnTo>
                      <a:pt x="2442" y="3497"/>
                    </a:lnTo>
                    <a:lnTo>
                      <a:pt x="2463" y="3521"/>
                    </a:lnTo>
                    <a:lnTo>
                      <a:pt x="2485" y="3544"/>
                    </a:lnTo>
                    <a:lnTo>
                      <a:pt x="2508" y="3567"/>
                    </a:lnTo>
                    <a:lnTo>
                      <a:pt x="2531" y="3589"/>
                    </a:lnTo>
                    <a:lnTo>
                      <a:pt x="2555" y="3611"/>
                    </a:lnTo>
                    <a:lnTo>
                      <a:pt x="2579" y="3631"/>
                    </a:lnTo>
                    <a:lnTo>
                      <a:pt x="2605" y="3652"/>
                    </a:lnTo>
                    <a:lnTo>
                      <a:pt x="2632" y="3671"/>
                    </a:lnTo>
                    <a:lnTo>
                      <a:pt x="2659" y="3690"/>
                    </a:lnTo>
                    <a:lnTo>
                      <a:pt x="2687" y="3708"/>
                    </a:lnTo>
                    <a:lnTo>
                      <a:pt x="2715" y="3725"/>
                    </a:lnTo>
                    <a:lnTo>
                      <a:pt x="2745" y="3742"/>
                    </a:lnTo>
                    <a:lnTo>
                      <a:pt x="2776" y="3757"/>
                    </a:lnTo>
                    <a:lnTo>
                      <a:pt x="2808" y="3773"/>
                    </a:lnTo>
                    <a:lnTo>
                      <a:pt x="2840" y="3787"/>
                    </a:lnTo>
                    <a:lnTo>
                      <a:pt x="2875" y="3801"/>
                    </a:lnTo>
                    <a:lnTo>
                      <a:pt x="2909" y="3814"/>
                    </a:lnTo>
                    <a:lnTo>
                      <a:pt x="2945" y="3825"/>
                    </a:lnTo>
                    <a:lnTo>
                      <a:pt x="2981" y="3836"/>
                    </a:lnTo>
                    <a:lnTo>
                      <a:pt x="3019" y="3847"/>
                    </a:lnTo>
                    <a:lnTo>
                      <a:pt x="3058" y="3856"/>
                    </a:lnTo>
                    <a:lnTo>
                      <a:pt x="3098" y="3864"/>
                    </a:lnTo>
                    <a:lnTo>
                      <a:pt x="3140" y="3872"/>
                    </a:lnTo>
                    <a:lnTo>
                      <a:pt x="3181" y="3879"/>
                    </a:lnTo>
                    <a:lnTo>
                      <a:pt x="3224" y="3885"/>
                    </a:lnTo>
                    <a:lnTo>
                      <a:pt x="3269" y="3889"/>
                    </a:lnTo>
                    <a:lnTo>
                      <a:pt x="3315" y="3894"/>
                    </a:lnTo>
                    <a:lnTo>
                      <a:pt x="3362" y="3897"/>
                    </a:lnTo>
                    <a:lnTo>
                      <a:pt x="3410" y="3900"/>
                    </a:lnTo>
                    <a:lnTo>
                      <a:pt x="3460" y="3901"/>
                    </a:lnTo>
                    <a:lnTo>
                      <a:pt x="3510" y="3901"/>
                    </a:lnTo>
                    <a:lnTo>
                      <a:pt x="3510" y="3836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61800" y="5232240"/>
                <a:ext cx="703800" cy="303840"/>
              </a:xfrm>
              <a:custGeom>
                <a:avLst/>
                <a:gdLst/>
                <a:ahLst/>
                <a:rect l="l" t="t" r="r" b="b"/>
                <a:pathLst>
                  <a:path w="6023" h="2814">
                    <a:moveTo>
                      <a:pt x="6023" y="0"/>
                    </a:moveTo>
                    <a:lnTo>
                      <a:pt x="5913" y="1"/>
                    </a:lnTo>
                    <a:lnTo>
                      <a:pt x="5804" y="2"/>
                    </a:lnTo>
                    <a:lnTo>
                      <a:pt x="5697" y="5"/>
                    </a:lnTo>
                    <a:lnTo>
                      <a:pt x="5593" y="8"/>
                    </a:lnTo>
                    <a:lnTo>
                      <a:pt x="5491" y="13"/>
                    </a:lnTo>
                    <a:lnTo>
                      <a:pt x="5390" y="18"/>
                    </a:lnTo>
                    <a:lnTo>
                      <a:pt x="5291" y="24"/>
                    </a:lnTo>
                    <a:lnTo>
                      <a:pt x="5194" y="31"/>
                    </a:lnTo>
                    <a:lnTo>
                      <a:pt x="5100" y="39"/>
                    </a:lnTo>
                    <a:lnTo>
                      <a:pt x="5006" y="48"/>
                    </a:lnTo>
                    <a:lnTo>
                      <a:pt x="4915" y="57"/>
                    </a:lnTo>
                    <a:lnTo>
                      <a:pt x="4826" y="69"/>
                    </a:lnTo>
                    <a:lnTo>
                      <a:pt x="4737" y="80"/>
                    </a:lnTo>
                    <a:lnTo>
                      <a:pt x="4651" y="92"/>
                    </a:lnTo>
                    <a:lnTo>
                      <a:pt x="4567" y="106"/>
                    </a:lnTo>
                    <a:lnTo>
                      <a:pt x="4485" y="119"/>
                    </a:lnTo>
                    <a:lnTo>
                      <a:pt x="4404" y="133"/>
                    </a:lnTo>
                    <a:lnTo>
                      <a:pt x="4324" y="149"/>
                    </a:lnTo>
                    <a:lnTo>
                      <a:pt x="4246" y="165"/>
                    </a:lnTo>
                    <a:lnTo>
                      <a:pt x="4171" y="181"/>
                    </a:lnTo>
                    <a:lnTo>
                      <a:pt x="4096" y="198"/>
                    </a:lnTo>
                    <a:lnTo>
                      <a:pt x="4023" y="217"/>
                    </a:lnTo>
                    <a:lnTo>
                      <a:pt x="3952" y="236"/>
                    </a:lnTo>
                    <a:lnTo>
                      <a:pt x="3882" y="256"/>
                    </a:lnTo>
                    <a:lnTo>
                      <a:pt x="3813" y="275"/>
                    </a:lnTo>
                    <a:lnTo>
                      <a:pt x="3745" y="296"/>
                    </a:lnTo>
                    <a:lnTo>
                      <a:pt x="3680" y="318"/>
                    </a:lnTo>
                    <a:lnTo>
                      <a:pt x="3616" y="340"/>
                    </a:lnTo>
                    <a:lnTo>
                      <a:pt x="3553" y="361"/>
                    </a:lnTo>
                    <a:lnTo>
                      <a:pt x="3491" y="384"/>
                    </a:lnTo>
                    <a:lnTo>
                      <a:pt x="3431" y="408"/>
                    </a:lnTo>
                    <a:lnTo>
                      <a:pt x="3371" y="432"/>
                    </a:lnTo>
                    <a:lnTo>
                      <a:pt x="3314" y="457"/>
                    </a:lnTo>
                    <a:lnTo>
                      <a:pt x="3258" y="482"/>
                    </a:lnTo>
                    <a:lnTo>
                      <a:pt x="3202" y="508"/>
                    </a:lnTo>
                    <a:lnTo>
                      <a:pt x="3148" y="533"/>
                    </a:lnTo>
                    <a:lnTo>
                      <a:pt x="3095" y="560"/>
                    </a:lnTo>
                    <a:lnTo>
                      <a:pt x="3043" y="587"/>
                    </a:lnTo>
                    <a:lnTo>
                      <a:pt x="2993" y="615"/>
                    </a:lnTo>
                    <a:lnTo>
                      <a:pt x="2944" y="642"/>
                    </a:lnTo>
                    <a:lnTo>
                      <a:pt x="2896" y="670"/>
                    </a:lnTo>
                    <a:lnTo>
                      <a:pt x="2847" y="699"/>
                    </a:lnTo>
                    <a:lnTo>
                      <a:pt x="2802" y="727"/>
                    </a:lnTo>
                    <a:lnTo>
                      <a:pt x="2756" y="757"/>
                    </a:lnTo>
                    <a:lnTo>
                      <a:pt x="2712" y="787"/>
                    </a:lnTo>
                    <a:lnTo>
                      <a:pt x="2668" y="817"/>
                    </a:lnTo>
                    <a:lnTo>
                      <a:pt x="2626" y="847"/>
                    </a:lnTo>
                    <a:lnTo>
                      <a:pt x="2584" y="876"/>
                    </a:lnTo>
                    <a:lnTo>
                      <a:pt x="2543" y="907"/>
                    </a:lnTo>
                    <a:lnTo>
                      <a:pt x="2503" y="938"/>
                    </a:lnTo>
                    <a:lnTo>
                      <a:pt x="2464" y="969"/>
                    </a:lnTo>
                    <a:lnTo>
                      <a:pt x="2427" y="1000"/>
                    </a:lnTo>
                    <a:lnTo>
                      <a:pt x="2389" y="1032"/>
                    </a:lnTo>
                    <a:lnTo>
                      <a:pt x="2352" y="1063"/>
                    </a:lnTo>
                    <a:lnTo>
                      <a:pt x="2316" y="1095"/>
                    </a:lnTo>
                    <a:lnTo>
                      <a:pt x="2281" y="1128"/>
                    </a:lnTo>
                    <a:lnTo>
                      <a:pt x="2212" y="1192"/>
                    </a:lnTo>
                    <a:lnTo>
                      <a:pt x="2147" y="1256"/>
                    </a:lnTo>
                    <a:lnTo>
                      <a:pt x="2082" y="1320"/>
                    </a:lnTo>
                    <a:lnTo>
                      <a:pt x="2022" y="1386"/>
                    </a:lnTo>
                    <a:lnTo>
                      <a:pt x="1962" y="1450"/>
                    </a:lnTo>
                    <a:lnTo>
                      <a:pt x="1905" y="1515"/>
                    </a:lnTo>
                    <a:lnTo>
                      <a:pt x="1849" y="1579"/>
                    </a:lnTo>
                    <a:lnTo>
                      <a:pt x="1794" y="1643"/>
                    </a:lnTo>
                    <a:lnTo>
                      <a:pt x="1687" y="1769"/>
                    </a:lnTo>
                    <a:lnTo>
                      <a:pt x="1584" y="1891"/>
                    </a:lnTo>
                    <a:lnTo>
                      <a:pt x="1532" y="1951"/>
                    </a:lnTo>
                    <a:lnTo>
                      <a:pt x="1482" y="2010"/>
                    </a:lnTo>
                    <a:lnTo>
                      <a:pt x="1430" y="2067"/>
                    </a:lnTo>
                    <a:lnTo>
                      <a:pt x="1380" y="2122"/>
                    </a:lnTo>
                    <a:lnTo>
                      <a:pt x="1328" y="2177"/>
                    </a:lnTo>
                    <a:lnTo>
                      <a:pt x="1275" y="2229"/>
                    </a:lnTo>
                    <a:lnTo>
                      <a:pt x="1222" y="2279"/>
                    </a:lnTo>
                    <a:lnTo>
                      <a:pt x="1169" y="2329"/>
                    </a:lnTo>
                    <a:lnTo>
                      <a:pt x="1141" y="2351"/>
                    </a:lnTo>
                    <a:lnTo>
                      <a:pt x="1113" y="2374"/>
                    </a:lnTo>
                    <a:lnTo>
                      <a:pt x="1085" y="2397"/>
                    </a:lnTo>
                    <a:lnTo>
                      <a:pt x="1056" y="2419"/>
                    </a:lnTo>
                    <a:lnTo>
                      <a:pt x="1027" y="2441"/>
                    </a:lnTo>
                    <a:lnTo>
                      <a:pt x="998" y="2462"/>
                    </a:lnTo>
                    <a:lnTo>
                      <a:pt x="968" y="2481"/>
                    </a:lnTo>
                    <a:lnTo>
                      <a:pt x="938" y="2502"/>
                    </a:lnTo>
                    <a:lnTo>
                      <a:pt x="907" y="2520"/>
                    </a:lnTo>
                    <a:lnTo>
                      <a:pt x="876" y="2538"/>
                    </a:lnTo>
                    <a:lnTo>
                      <a:pt x="844" y="2556"/>
                    </a:lnTo>
                    <a:lnTo>
                      <a:pt x="812" y="2573"/>
                    </a:lnTo>
                    <a:lnTo>
                      <a:pt x="779" y="2589"/>
                    </a:lnTo>
                    <a:lnTo>
                      <a:pt x="745" y="2605"/>
                    </a:lnTo>
                    <a:lnTo>
                      <a:pt x="711" y="2620"/>
                    </a:lnTo>
                    <a:lnTo>
                      <a:pt x="675" y="2634"/>
                    </a:lnTo>
                    <a:lnTo>
                      <a:pt x="640" y="2647"/>
                    </a:lnTo>
                    <a:lnTo>
                      <a:pt x="603" y="2660"/>
                    </a:lnTo>
                    <a:lnTo>
                      <a:pt x="566" y="2673"/>
                    </a:lnTo>
                    <a:lnTo>
                      <a:pt x="529" y="2683"/>
                    </a:lnTo>
                    <a:lnTo>
                      <a:pt x="490" y="2693"/>
                    </a:lnTo>
                    <a:lnTo>
                      <a:pt x="450" y="2704"/>
                    </a:lnTo>
                    <a:lnTo>
                      <a:pt x="409" y="2712"/>
                    </a:lnTo>
                    <a:lnTo>
                      <a:pt x="368" y="2720"/>
                    </a:lnTo>
                    <a:lnTo>
                      <a:pt x="326" y="2727"/>
                    </a:lnTo>
                    <a:lnTo>
                      <a:pt x="282" y="2732"/>
                    </a:lnTo>
                    <a:lnTo>
                      <a:pt x="237" y="2738"/>
                    </a:lnTo>
                    <a:lnTo>
                      <a:pt x="193" y="2743"/>
                    </a:lnTo>
                    <a:lnTo>
                      <a:pt x="146" y="2746"/>
                    </a:lnTo>
                    <a:lnTo>
                      <a:pt x="99" y="2748"/>
                    </a:lnTo>
                    <a:lnTo>
                      <a:pt x="50" y="2749"/>
                    </a:lnTo>
                    <a:lnTo>
                      <a:pt x="0" y="2749"/>
                    </a:lnTo>
                    <a:lnTo>
                      <a:pt x="0" y="2814"/>
                    </a:lnTo>
                    <a:lnTo>
                      <a:pt x="52" y="2814"/>
                    </a:lnTo>
                    <a:lnTo>
                      <a:pt x="101" y="2813"/>
                    </a:lnTo>
                    <a:lnTo>
                      <a:pt x="150" y="2809"/>
                    </a:lnTo>
                    <a:lnTo>
                      <a:pt x="197" y="2806"/>
                    </a:lnTo>
                    <a:lnTo>
                      <a:pt x="244" y="2802"/>
                    </a:lnTo>
                    <a:lnTo>
                      <a:pt x="290" y="2796"/>
                    </a:lnTo>
                    <a:lnTo>
                      <a:pt x="335" y="2790"/>
                    </a:lnTo>
                    <a:lnTo>
                      <a:pt x="378" y="2783"/>
                    </a:lnTo>
                    <a:lnTo>
                      <a:pt x="422" y="2775"/>
                    </a:lnTo>
                    <a:lnTo>
                      <a:pt x="464" y="2766"/>
                    </a:lnTo>
                    <a:lnTo>
                      <a:pt x="506" y="2756"/>
                    </a:lnTo>
                    <a:lnTo>
                      <a:pt x="546" y="2745"/>
                    </a:lnTo>
                    <a:lnTo>
                      <a:pt x="585" y="2733"/>
                    </a:lnTo>
                    <a:lnTo>
                      <a:pt x="624" y="2721"/>
                    </a:lnTo>
                    <a:lnTo>
                      <a:pt x="662" y="2708"/>
                    </a:lnTo>
                    <a:lnTo>
                      <a:pt x="700" y="2693"/>
                    </a:lnTo>
                    <a:lnTo>
                      <a:pt x="735" y="2680"/>
                    </a:lnTo>
                    <a:lnTo>
                      <a:pt x="772" y="2663"/>
                    </a:lnTo>
                    <a:lnTo>
                      <a:pt x="806" y="2647"/>
                    </a:lnTo>
                    <a:lnTo>
                      <a:pt x="841" y="2630"/>
                    </a:lnTo>
                    <a:lnTo>
                      <a:pt x="875" y="2613"/>
                    </a:lnTo>
                    <a:lnTo>
                      <a:pt x="907" y="2595"/>
                    </a:lnTo>
                    <a:lnTo>
                      <a:pt x="940" y="2575"/>
                    </a:lnTo>
                    <a:lnTo>
                      <a:pt x="972" y="2556"/>
                    </a:lnTo>
                    <a:lnTo>
                      <a:pt x="1003" y="2535"/>
                    </a:lnTo>
                    <a:lnTo>
                      <a:pt x="1034" y="2514"/>
                    </a:lnTo>
                    <a:lnTo>
                      <a:pt x="1065" y="2493"/>
                    </a:lnTo>
                    <a:lnTo>
                      <a:pt x="1095" y="2471"/>
                    </a:lnTo>
                    <a:lnTo>
                      <a:pt x="1124" y="2448"/>
                    </a:lnTo>
                    <a:lnTo>
                      <a:pt x="1154" y="2425"/>
                    </a:lnTo>
                    <a:lnTo>
                      <a:pt x="1182" y="2401"/>
                    </a:lnTo>
                    <a:lnTo>
                      <a:pt x="1211" y="2377"/>
                    </a:lnTo>
                    <a:lnTo>
                      <a:pt x="1266" y="2326"/>
                    </a:lnTo>
                    <a:lnTo>
                      <a:pt x="1320" y="2275"/>
                    </a:lnTo>
                    <a:lnTo>
                      <a:pt x="1374" y="2222"/>
                    </a:lnTo>
                    <a:lnTo>
                      <a:pt x="1425" y="2166"/>
                    </a:lnTo>
                    <a:lnTo>
                      <a:pt x="1478" y="2109"/>
                    </a:lnTo>
                    <a:lnTo>
                      <a:pt x="1530" y="2052"/>
                    </a:lnTo>
                    <a:lnTo>
                      <a:pt x="1580" y="1992"/>
                    </a:lnTo>
                    <a:lnTo>
                      <a:pt x="1632" y="1933"/>
                    </a:lnTo>
                    <a:lnTo>
                      <a:pt x="1736" y="1810"/>
                    </a:lnTo>
                    <a:lnTo>
                      <a:pt x="1842" y="1684"/>
                    </a:lnTo>
                    <a:lnTo>
                      <a:pt x="1897" y="1621"/>
                    </a:lnTo>
                    <a:lnTo>
                      <a:pt x="1953" y="1558"/>
                    </a:lnTo>
                    <a:lnTo>
                      <a:pt x="2009" y="1493"/>
                    </a:lnTo>
                    <a:lnTo>
                      <a:pt x="2069" y="1429"/>
                    </a:lnTo>
                    <a:lnTo>
                      <a:pt x="2130" y="1365"/>
                    </a:lnTo>
                    <a:lnTo>
                      <a:pt x="2191" y="1301"/>
                    </a:lnTo>
                    <a:lnTo>
                      <a:pt x="2257" y="1238"/>
                    </a:lnTo>
                    <a:lnTo>
                      <a:pt x="2324" y="1175"/>
                    </a:lnTo>
                    <a:lnTo>
                      <a:pt x="2359" y="1142"/>
                    </a:lnTo>
                    <a:lnTo>
                      <a:pt x="2394" y="1111"/>
                    </a:lnTo>
                    <a:lnTo>
                      <a:pt x="2430" y="1081"/>
                    </a:lnTo>
                    <a:lnTo>
                      <a:pt x="2467" y="1050"/>
                    </a:lnTo>
                    <a:lnTo>
                      <a:pt x="2504" y="1019"/>
                    </a:lnTo>
                    <a:lnTo>
                      <a:pt x="2543" y="989"/>
                    </a:lnTo>
                    <a:lnTo>
                      <a:pt x="2582" y="958"/>
                    </a:lnTo>
                    <a:lnTo>
                      <a:pt x="2623" y="928"/>
                    </a:lnTo>
                    <a:lnTo>
                      <a:pt x="2663" y="898"/>
                    </a:lnTo>
                    <a:lnTo>
                      <a:pt x="2705" y="869"/>
                    </a:lnTo>
                    <a:lnTo>
                      <a:pt x="2748" y="840"/>
                    </a:lnTo>
                    <a:lnTo>
                      <a:pt x="2791" y="811"/>
                    </a:lnTo>
                    <a:lnTo>
                      <a:pt x="2836" y="782"/>
                    </a:lnTo>
                    <a:lnTo>
                      <a:pt x="2881" y="754"/>
                    </a:lnTo>
                    <a:lnTo>
                      <a:pt x="2928" y="726"/>
                    </a:lnTo>
                    <a:lnTo>
                      <a:pt x="2975" y="699"/>
                    </a:lnTo>
                    <a:lnTo>
                      <a:pt x="3024" y="671"/>
                    </a:lnTo>
                    <a:lnTo>
                      <a:pt x="3073" y="643"/>
                    </a:lnTo>
                    <a:lnTo>
                      <a:pt x="3125" y="617"/>
                    </a:lnTo>
                    <a:lnTo>
                      <a:pt x="3176" y="592"/>
                    </a:lnTo>
                    <a:lnTo>
                      <a:pt x="3229" y="565"/>
                    </a:lnTo>
                    <a:lnTo>
                      <a:pt x="3284" y="540"/>
                    </a:lnTo>
                    <a:lnTo>
                      <a:pt x="3339" y="516"/>
                    </a:lnTo>
                    <a:lnTo>
                      <a:pt x="3397" y="492"/>
                    </a:lnTo>
                    <a:lnTo>
                      <a:pt x="3454" y="468"/>
                    </a:lnTo>
                    <a:lnTo>
                      <a:pt x="3514" y="445"/>
                    </a:lnTo>
                    <a:lnTo>
                      <a:pt x="3574" y="422"/>
                    </a:lnTo>
                    <a:lnTo>
                      <a:pt x="3636" y="400"/>
                    </a:lnTo>
                    <a:lnTo>
                      <a:pt x="3699" y="379"/>
                    </a:lnTo>
                    <a:lnTo>
                      <a:pt x="3765" y="357"/>
                    </a:lnTo>
                    <a:lnTo>
                      <a:pt x="3831" y="337"/>
                    </a:lnTo>
                    <a:lnTo>
                      <a:pt x="3899" y="317"/>
                    </a:lnTo>
                    <a:lnTo>
                      <a:pt x="3968" y="298"/>
                    </a:lnTo>
                    <a:lnTo>
                      <a:pt x="4039" y="279"/>
                    </a:lnTo>
                    <a:lnTo>
                      <a:pt x="4111" y="262"/>
                    </a:lnTo>
                    <a:lnTo>
                      <a:pt x="4184" y="244"/>
                    </a:lnTo>
                    <a:lnTo>
                      <a:pt x="4260" y="227"/>
                    </a:lnTo>
                    <a:lnTo>
                      <a:pt x="4337" y="212"/>
                    </a:lnTo>
                    <a:lnTo>
                      <a:pt x="4415" y="196"/>
                    </a:lnTo>
                    <a:lnTo>
                      <a:pt x="4495" y="182"/>
                    </a:lnTo>
                    <a:lnTo>
                      <a:pt x="4577" y="169"/>
                    </a:lnTo>
                    <a:lnTo>
                      <a:pt x="4660" y="156"/>
                    </a:lnTo>
                    <a:lnTo>
                      <a:pt x="4746" y="143"/>
                    </a:lnTo>
                    <a:lnTo>
                      <a:pt x="4834" y="132"/>
                    </a:lnTo>
                    <a:lnTo>
                      <a:pt x="4922" y="122"/>
                    </a:lnTo>
                    <a:lnTo>
                      <a:pt x="5012" y="112"/>
                    </a:lnTo>
                    <a:lnTo>
                      <a:pt x="5104" y="103"/>
                    </a:lnTo>
                    <a:lnTo>
                      <a:pt x="5199" y="95"/>
                    </a:lnTo>
                    <a:lnTo>
                      <a:pt x="5296" y="88"/>
                    </a:lnTo>
                    <a:lnTo>
                      <a:pt x="5393" y="81"/>
                    </a:lnTo>
                    <a:lnTo>
                      <a:pt x="5493" y="77"/>
                    </a:lnTo>
                    <a:lnTo>
                      <a:pt x="5595" y="72"/>
                    </a:lnTo>
                    <a:lnTo>
                      <a:pt x="5699" y="69"/>
                    </a:lnTo>
                    <a:lnTo>
                      <a:pt x="5805" y="67"/>
                    </a:lnTo>
                    <a:lnTo>
                      <a:pt x="5913" y="65"/>
                    </a:lnTo>
                    <a:lnTo>
                      <a:pt x="6023" y="64"/>
                    </a:lnTo>
                    <a:lnTo>
                      <a:pt x="6023" y="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65600" y="4956480"/>
                <a:ext cx="576720" cy="282600"/>
              </a:xfrm>
              <a:custGeom>
                <a:avLst/>
                <a:gdLst/>
                <a:ahLst/>
                <a:rect l="l" t="t" r="r" b="b"/>
                <a:pathLst>
                  <a:path w="4939" h="2614">
                    <a:moveTo>
                      <a:pt x="4879" y="0"/>
                    </a:moveTo>
                    <a:lnTo>
                      <a:pt x="4878" y="2"/>
                    </a:lnTo>
                    <a:lnTo>
                      <a:pt x="4815" y="185"/>
                    </a:lnTo>
                    <a:lnTo>
                      <a:pt x="4755" y="358"/>
                    </a:lnTo>
                    <a:lnTo>
                      <a:pt x="4699" y="523"/>
                    </a:lnTo>
                    <a:lnTo>
                      <a:pt x="4646" y="680"/>
                    </a:lnTo>
                    <a:lnTo>
                      <a:pt x="4594" y="831"/>
                    </a:lnTo>
                    <a:lnTo>
                      <a:pt x="4542" y="973"/>
                    </a:lnTo>
                    <a:lnTo>
                      <a:pt x="4517" y="1042"/>
                    </a:lnTo>
                    <a:lnTo>
                      <a:pt x="4490" y="1108"/>
                    </a:lnTo>
                    <a:lnTo>
                      <a:pt x="4464" y="1172"/>
                    </a:lnTo>
                    <a:lnTo>
                      <a:pt x="4436" y="1235"/>
                    </a:lnTo>
                    <a:lnTo>
                      <a:pt x="4409" y="1296"/>
                    </a:lnTo>
                    <a:lnTo>
                      <a:pt x="4380" y="1356"/>
                    </a:lnTo>
                    <a:lnTo>
                      <a:pt x="4350" y="1413"/>
                    </a:lnTo>
                    <a:lnTo>
                      <a:pt x="4321" y="1469"/>
                    </a:lnTo>
                    <a:lnTo>
                      <a:pt x="4289" y="1523"/>
                    </a:lnTo>
                    <a:lnTo>
                      <a:pt x="4255" y="1575"/>
                    </a:lnTo>
                    <a:lnTo>
                      <a:pt x="4221" y="1625"/>
                    </a:lnTo>
                    <a:lnTo>
                      <a:pt x="4185" y="1676"/>
                    </a:lnTo>
                    <a:lnTo>
                      <a:pt x="4167" y="1699"/>
                    </a:lnTo>
                    <a:lnTo>
                      <a:pt x="4149" y="1723"/>
                    </a:lnTo>
                    <a:lnTo>
                      <a:pt x="4129" y="1746"/>
                    </a:lnTo>
                    <a:lnTo>
                      <a:pt x="4110" y="1769"/>
                    </a:lnTo>
                    <a:lnTo>
                      <a:pt x="4089" y="1791"/>
                    </a:lnTo>
                    <a:lnTo>
                      <a:pt x="4068" y="1812"/>
                    </a:lnTo>
                    <a:lnTo>
                      <a:pt x="4047" y="1834"/>
                    </a:lnTo>
                    <a:lnTo>
                      <a:pt x="4025" y="1856"/>
                    </a:lnTo>
                    <a:lnTo>
                      <a:pt x="4003" y="1877"/>
                    </a:lnTo>
                    <a:lnTo>
                      <a:pt x="3980" y="1897"/>
                    </a:lnTo>
                    <a:lnTo>
                      <a:pt x="3956" y="1917"/>
                    </a:lnTo>
                    <a:lnTo>
                      <a:pt x="3932" y="1936"/>
                    </a:lnTo>
                    <a:lnTo>
                      <a:pt x="3908" y="1956"/>
                    </a:lnTo>
                    <a:lnTo>
                      <a:pt x="3883" y="1975"/>
                    </a:lnTo>
                    <a:lnTo>
                      <a:pt x="3856" y="1994"/>
                    </a:lnTo>
                    <a:lnTo>
                      <a:pt x="3830" y="2012"/>
                    </a:lnTo>
                    <a:lnTo>
                      <a:pt x="3802" y="2030"/>
                    </a:lnTo>
                    <a:lnTo>
                      <a:pt x="3775" y="2048"/>
                    </a:lnTo>
                    <a:lnTo>
                      <a:pt x="3746" y="2065"/>
                    </a:lnTo>
                    <a:lnTo>
                      <a:pt x="3716" y="2082"/>
                    </a:lnTo>
                    <a:lnTo>
                      <a:pt x="3687" y="2099"/>
                    </a:lnTo>
                    <a:lnTo>
                      <a:pt x="3656" y="2115"/>
                    </a:lnTo>
                    <a:lnTo>
                      <a:pt x="3623" y="2131"/>
                    </a:lnTo>
                    <a:lnTo>
                      <a:pt x="3591" y="2146"/>
                    </a:lnTo>
                    <a:lnTo>
                      <a:pt x="3558" y="2162"/>
                    </a:lnTo>
                    <a:lnTo>
                      <a:pt x="3524" y="2177"/>
                    </a:lnTo>
                    <a:lnTo>
                      <a:pt x="3489" y="2191"/>
                    </a:lnTo>
                    <a:lnTo>
                      <a:pt x="3453" y="2206"/>
                    </a:lnTo>
                    <a:lnTo>
                      <a:pt x="3416" y="2220"/>
                    </a:lnTo>
                    <a:lnTo>
                      <a:pt x="3378" y="2233"/>
                    </a:lnTo>
                    <a:lnTo>
                      <a:pt x="3340" y="2247"/>
                    </a:lnTo>
                    <a:lnTo>
                      <a:pt x="3300" y="2260"/>
                    </a:lnTo>
                    <a:lnTo>
                      <a:pt x="3260" y="2272"/>
                    </a:lnTo>
                    <a:lnTo>
                      <a:pt x="3219" y="2285"/>
                    </a:lnTo>
                    <a:lnTo>
                      <a:pt x="3176" y="2298"/>
                    </a:lnTo>
                    <a:lnTo>
                      <a:pt x="3133" y="2309"/>
                    </a:lnTo>
                    <a:lnTo>
                      <a:pt x="3043" y="2332"/>
                    </a:lnTo>
                    <a:lnTo>
                      <a:pt x="2949" y="2353"/>
                    </a:lnTo>
                    <a:lnTo>
                      <a:pt x="2851" y="2373"/>
                    </a:lnTo>
                    <a:lnTo>
                      <a:pt x="2747" y="2393"/>
                    </a:lnTo>
                    <a:lnTo>
                      <a:pt x="2641" y="2410"/>
                    </a:lnTo>
                    <a:lnTo>
                      <a:pt x="2528" y="2427"/>
                    </a:lnTo>
                    <a:lnTo>
                      <a:pt x="2411" y="2442"/>
                    </a:lnTo>
                    <a:lnTo>
                      <a:pt x="2290" y="2457"/>
                    </a:lnTo>
                    <a:lnTo>
                      <a:pt x="2164" y="2471"/>
                    </a:lnTo>
                    <a:lnTo>
                      <a:pt x="2032" y="2482"/>
                    </a:lnTo>
                    <a:lnTo>
                      <a:pt x="1894" y="2494"/>
                    </a:lnTo>
                    <a:lnTo>
                      <a:pt x="1752" y="2504"/>
                    </a:lnTo>
                    <a:lnTo>
                      <a:pt x="1604" y="2513"/>
                    </a:lnTo>
                    <a:lnTo>
                      <a:pt x="1449" y="2521"/>
                    </a:lnTo>
                    <a:lnTo>
                      <a:pt x="1290" y="2528"/>
                    </a:lnTo>
                    <a:lnTo>
                      <a:pt x="1125" y="2534"/>
                    </a:lnTo>
                    <a:lnTo>
                      <a:pt x="953" y="2539"/>
                    </a:lnTo>
                    <a:lnTo>
                      <a:pt x="775" y="2543"/>
                    </a:lnTo>
                    <a:lnTo>
                      <a:pt x="591" y="2547"/>
                    </a:lnTo>
                    <a:lnTo>
                      <a:pt x="401" y="2549"/>
                    </a:lnTo>
                    <a:lnTo>
                      <a:pt x="204" y="2550"/>
                    </a:lnTo>
                    <a:lnTo>
                      <a:pt x="0" y="2550"/>
                    </a:lnTo>
                    <a:lnTo>
                      <a:pt x="0" y="2614"/>
                    </a:lnTo>
                    <a:lnTo>
                      <a:pt x="204" y="2614"/>
                    </a:lnTo>
                    <a:lnTo>
                      <a:pt x="401" y="2613"/>
                    </a:lnTo>
                    <a:lnTo>
                      <a:pt x="591" y="2611"/>
                    </a:lnTo>
                    <a:lnTo>
                      <a:pt x="776" y="2607"/>
                    </a:lnTo>
                    <a:lnTo>
                      <a:pt x="955" y="2603"/>
                    </a:lnTo>
                    <a:lnTo>
                      <a:pt x="1127" y="2598"/>
                    </a:lnTo>
                    <a:lnTo>
                      <a:pt x="1292" y="2592"/>
                    </a:lnTo>
                    <a:lnTo>
                      <a:pt x="1453" y="2586"/>
                    </a:lnTo>
                    <a:lnTo>
                      <a:pt x="1607" y="2578"/>
                    </a:lnTo>
                    <a:lnTo>
                      <a:pt x="1755" y="2568"/>
                    </a:lnTo>
                    <a:lnTo>
                      <a:pt x="1899" y="2558"/>
                    </a:lnTo>
                    <a:lnTo>
                      <a:pt x="2037" y="2547"/>
                    </a:lnTo>
                    <a:lnTo>
                      <a:pt x="2169" y="2534"/>
                    </a:lnTo>
                    <a:lnTo>
                      <a:pt x="2297" y="2521"/>
                    </a:lnTo>
                    <a:lnTo>
                      <a:pt x="2419" y="2506"/>
                    </a:lnTo>
                    <a:lnTo>
                      <a:pt x="2537" y="2490"/>
                    </a:lnTo>
                    <a:lnTo>
                      <a:pt x="2650" y="2473"/>
                    </a:lnTo>
                    <a:lnTo>
                      <a:pt x="2759" y="2456"/>
                    </a:lnTo>
                    <a:lnTo>
                      <a:pt x="2863" y="2436"/>
                    </a:lnTo>
                    <a:lnTo>
                      <a:pt x="2962" y="2416"/>
                    </a:lnTo>
                    <a:lnTo>
                      <a:pt x="3058" y="2394"/>
                    </a:lnTo>
                    <a:lnTo>
                      <a:pt x="3149" y="2371"/>
                    </a:lnTo>
                    <a:lnTo>
                      <a:pt x="3193" y="2358"/>
                    </a:lnTo>
                    <a:lnTo>
                      <a:pt x="3236" y="2347"/>
                    </a:lnTo>
                    <a:lnTo>
                      <a:pt x="3278" y="2334"/>
                    </a:lnTo>
                    <a:lnTo>
                      <a:pt x="3320" y="2321"/>
                    </a:lnTo>
                    <a:lnTo>
                      <a:pt x="3361" y="2308"/>
                    </a:lnTo>
                    <a:lnTo>
                      <a:pt x="3400" y="2294"/>
                    </a:lnTo>
                    <a:lnTo>
                      <a:pt x="3439" y="2280"/>
                    </a:lnTo>
                    <a:lnTo>
                      <a:pt x="3477" y="2266"/>
                    </a:lnTo>
                    <a:lnTo>
                      <a:pt x="3513" y="2251"/>
                    </a:lnTo>
                    <a:lnTo>
                      <a:pt x="3549" y="2236"/>
                    </a:lnTo>
                    <a:lnTo>
                      <a:pt x="3584" y="2221"/>
                    </a:lnTo>
                    <a:lnTo>
                      <a:pt x="3619" y="2205"/>
                    </a:lnTo>
                    <a:lnTo>
                      <a:pt x="3652" y="2189"/>
                    </a:lnTo>
                    <a:lnTo>
                      <a:pt x="3684" y="2171"/>
                    </a:lnTo>
                    <a:lnTo>
                      <a:pt x="3716" y="2155"/>
                    </a:lnTo>
                    <a:lnTo>
                      <a:pt x="3748" y="2138"/>
                    </a:lnTo>
                    <a:lnTo>
                      <a:pt x="3778" y="2120"/>
                    </a:lnTo>
                    <a:lnTo>
                      <a:pt x="3808" y="2103"/>
                    </a:lnTo>
                    <a:lnTo>
                      <a:pt x="3837" y="2084"/>
                    </a:lnTo>
                    <a:lnTo>
                      <a:pt x="3865" y="2066"/>
                    </a:lnTo>
                    <a:lnTo>
                      <a:pt x="3893" y="2046"/>
                    </a:lnTo>
                    <a:lnTo>
                      <a:pt x="3920" y="2027"/>
                    </a:lnTo>
                    <a:lnTo>
                      <a:pt x="3947" y="2007"/>
                    </a:lnTo>
                    <a:lnTo>
                      <a:pt x="3972" y="1987"/>
                    </a:lnTo>
                    <a:lnTo>
                      <a:pt x="3997" y="1966"/>
                    </a:lnTo>
                    <a:lnTo>
                      <a:pt x="4023" y="1945"/>
                    </a:lnTo>
                    <a:lnTo>
                      <a:pt x="4045" y="1924"/>
                    </a:lnTo>
                    <a:lnTo>
                      <a:pt x="4070" y="1902"/>
                    </a:lnTo>
                    <a:lnTo>
                      <a:pt x="4092" y="1880"/>
                    </a:lnTo>
                    <a:lnTo>
                      <a:pt x="4114" y="1857"/>
                    </a:lnTo>
                    <a:lnTo>
                      <a:pt x="4136" y="1834"/>
                    </a:lnTo>
                    <a:lnTo>
                      <a:pt x="4157" y="1811"/>
                    </a:lnTo>
                    <a:lnTo>
                      <a:pt x="4177" y="1787"/>
                    </a:lnTo>
                    <a:lnTo>
                      <a:pt x="4198" y="1763"/>
                    </a:lnTo>
                    <a:lnTo>
                      <a:pt x="4217" y="1739"/>
                    </a:lnTo>
                    <a:lnTo>
                      <a:pt x="4237" y="1714"/>
                    </a:lnTo>
                    <a:lnTo>
                      <a:pt x="4274" y="1663"/>
                    </a:lnTo>
                    <a:lnTo>
                      <a:pt x="4309" y="1611"/>
                    </a:lnTo>
                    <a:lnTo>
                      <a:pt x="4344" y="1557"/>
                    </a:lnTo>
                    <a:lnTo>
                      <a:pt x="4376" y="1500"/>
                    </a:lnTo>
                    <a:lnTo>
                      <a:pt x="4408" y="1443"/>
                    </a:lnTo>
                    <a:lnTo>
                      <a:pt x="4438" y="1385"/>
                    </a:lnTo>
                    <a:lnTo>
                      <a:pt x="4466" y="1324"/>
                    </a:lnTo>
                    <a:lnTo>
                      <a:pt x="4495" y="1261"/>
                    </a:lnTo>
                    <a:lnTo>
                      <a:pt x="4523" y="1198"/>
                    </a:lnTo>
                    <a:lnTo>
                      <a:pt x="4550" y="1132"/>
                    </a:lnTo>
                    <a:lnTo>
                      <a:pt x="4576" y="1065"/>
                    </a:lnTo>
                    <a:lnTo>
                      <a:pt x="4603" y="996"/>
                    </a:lnTo>
                    <a:lnTo>
                      <a:pt x="4654" y="852"/>
                    </a:lnTo>
                    <a:lnTo>
                      <a:pt x="4707" y="702"/>
                    </a:lnTo>
                    <a:lnTo>
                      <a:pt x="4760" y="544"/>
                    </a:lnTo>
                    <a:lnTo>
                      <a:pt x="4816" y="379"/>
                    </a:lnTo>
                    <a:lnTo>
                      <a:pt x="4875" y="205"/>
                    </a:lnTo>
                    <a:lnTo>
                      <a:pt x="4939" y="24"/>
                    </a:lnTo>
                    <a:lnTo>
                      <a:pt x="4938" y="26"/>
                    </a:lnTo>
                    <a:lnTo>
                      <a:pt x="4879" y="0"/>
                    </a:lnTo>
                    <a:lnTo>
                      <a:pt x="4879" y="1"/>
                    </a:lnTo>
                    <a:lnTo>
                      <a:pt x="4878" y="2"/>
                    </a:lnTo>
                    <a:lnTo>
                      <a:pt x="4879" y="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4784760"/>
                <a:ext cx="35640" cy="174960"/>
              </a:xfrm>
              <a:custGeom>
                <a:avLst/>
                <a:gdLst/>
                <a:ahLst/>
                <a:rect l="l" t="t" r="r" b="b"/>
                <a:pathLst>
                  <a:path w="308" h="1616">
                    <a:moveTo>
                      <a:pt x="0" y="37"/>
                    </a:moveTo>
                    <a:lnTo>
                      <a:pt x="21" y="70"/>
                    </a:lnTo>
                    <a:lnTo>
                      <a:pt x="43" y="104"/>
                    </a:lnTo>
                    <a:lnTo>
                      <a:pt x="63" y="137"/>
                    </a:lnTo>
                    <a:lnTo>
                      <a:pt x="81" y="170"/>
                    </a:lnTo>
                    <a:lnTo>
                      <a:pt x="98" y="203"/>
                    </a:lnTo>
                    <a:lnTo>
                      <a:pt x="114" y="238"/>
                    </a:lnTo>
                    <a:lnTo>
                      <a:pt x="129" y="271"/>
                    </a:lnTo>
                    <a:lnTo>
                      <a:pt x="143" y="305"/>
                    </a:lnTo>
                    <a:lnTo>
                      <a:pt x="155" y="339"/>
                    </a:lnTo>
                    <a:lnTo>
                      <a:pt x="168" y="373"/>
                    </a:lnTo>
                    <a:lnTo>
                      <a:pt x="178" y="406"/>
                    </a:lnTo>
                    <a:lnTo>
                      <a:pt x="189" y="441"/>
                    </a:lnTo>
                    <a:lnTo>
                      <a:pt x="198" y="474"/>
                    </a:lnTo>
                    <a:lnTo>
                      <a:pt x="206" y="508"/>
                    </a:lnTo>
                    <a:lnTo>
                      <a:pt x="213" y="542"/>
                    </a:lnTo>
                    <a:lnTo>
                      <a:pt x="220" y="575"/>
                    </a:lnTo>
                    <a:lnTo>
                      <a:pt x="225" y="608"/>
                    </a:lnTo>
                    <a:lnTo>
                      <a:pt x="230" y="641"/>
                    </a:lnTo>
                    <a:lnTo>
                      <a:pt x="233" y="675"/>
                    </a:lnTo>
                    <a:lnTo>
                      <a:pt x="237" y="708"/>
                    </a:lnTo>
                    <a:lnTo>
                      <a:pt x="240" y="740"/>
                    </a:lnTo>
                    <a:lnTo>
                      <a:pt x="241" y="772"/>
                    </a:lnTo>
                    <a:lnTo>
                      <a:pt x="244" y="804"/>
                    </a:lnTo>
                    <a:lnTo>
                      <a:pt x="244" y="835"/>
                    </a:lnTo>
                    <a:lnTo>
                      <a:pt x="244" y="898"/>
                    </a:lnTo>
                    <a:lnTo>
                      <a:pt x="241" y="960"/>
                    </a:lnTo>
                    <a:lnTo>
                      <a:pt x="237" y="1019"/>
                    </a:lnTo>
                    <a:lnTo>
                      <a:pt x="231" y="1076"/>
                    </a:lnTo>
                    <a:lnTo>
                      <a:pt x="223" y="1132"/>
                    </a:lnTo>
                    <a:lnTo>
                      <a:pt x="215" y="1185"/>
                    </a:lnTo>
                    <a:lnTo>
                      <a:pt x="205" y="1237"/>
                    </a:lnTo>
                    <a:lnTo>
                      <a:pt x="194" y="1285"/>
                    </a:lnTo>
                    <a:lnTo>
                      <a:pt x="184" y="1330"/>
                    </a:lnTo>
                    <a:lnTo>
                      <a:pt x="173" y="1372"/>
                    </a:lnTo>
                    <a:lnTo>
                      <a:pt x="161" y="1411"/>
                    </a:lnTo>
                    <a:lnTo>
                      <a:pt x="151" y="1447"/>
                    </a:lnTo>
                    <a:lnTo>
                      <a:pt x="130" y="1509"/>
                    </a:lnTo>
                    <a:lnTo>
                      <a:pt x="113" y="1553"/>
                    </a:lnTo>
                    <a:lnTo>
                      <a:pt x="102" y="1581"/>
                    </a:lnTo>
                    <a:lnTo>
                      <a:pt x="98" y="1590"/>
                    </a:lnTo>
                    <a:lnTo>
                      <a:pt x="157" y="1616"/>
                    </a:lnTo>
                    <a:lnTo>
                      <a:pt x="161" y="1606"/>
                    </a:lnTo>
                    <a:lnTo>
                      <a:pt x="174" y="1576"/>
                    </a:lnTo>
                    <a:lnTo>
                      <a:pt x="191" y="1529"/>
                    </a:lnTo>
                    <a:lnTo>
                      <a:pt x="212" y="1466"/>
                    </a:lnTo>
                    <a:lnTo>
                      <a:pt x="223" y="1430"/>
                    </a:lnTo>
                    <a:lnTo>
                      <a:pt x="235" y="1389"/>
                    </a:lnTo>
                    <a:lnTo>
                      <a:pt x="246" y="1346"/>
                    </a:lnTo>
                    <a:lnTo>
                      <a:pt x="258" y="1299"/>
                    </a:lnTo>
                    <a:lnTo>
                      <a:pt x="268" y="1248"/>
                    </a:lnTo>
                    <a:lnTo>
                      <a:pt x="278" y="1197"/>
                    </a:lnTo>
                    <a:lnTo>
                      <a:pt x="287" y="1142"/>
                    </a:lnTo>
                    <a:lnTo>
                      <a:pt x="294" y="1084"/>
                    </a:lnTo>
                    <a:lnTo>
                      <a:pt x="301" y="1025"/>
                    </a:lnTo>
                    <a:lnTo>
                      <a:pt x="306" y="964"/>
                    </a:lnTo>
                    <a:lnTo>
                      <a:pt x="308" y="900"/>
                    </a:lnTo>
                    <a:lnTo>
                      <a:pt x="308" y="835"/>
                    </a:lnTo>
                    <a:lnTo>
                      <a:pt x="307" y="802"/>
                    </a:lnTo>
                    <a:lnTo>
                      <a:pt x="306" y="769"/>
                    </a:lnTo>
                    <a:lnTo>
                      <a:pt x="303" y="736"/>
                    </a:lnTo>
                    <a:lnTo>
                      <a:pt x="301" y="702"/>
                    </a:lnTo>
                    <a:lnTo>
                      <a:pt x="298" y="668"/>
                    </a:lnTo>
                    <a:lnTo>
                      <a:pt x="293" y="633"/>
                    </a:lnTo>
                    <a:lnTo>
                      <a:pt x="289" y="599"/>
                    </a:lnTo>
                    <a:lnTo>
                      <a:pt x="283" y="563"/>
                    </a:lnTo>
                    <a:lnTo>
                      <a:pt x="276" y="529"/>
                    </a:lnTo>
                    <a:lnTo>
                      <a:pt x="268" y="494"/>
                    </a:lnTo>
                    <a:lnTo>
                      <a:pt x="260" y="458"/>
                    </a:lnTo>
                    <a:lnTo>
                      <a:pt x="251" y="424"/>
                    </a:lnTo>
                    <a:lnTo>
                      <a:pt x="240" y="388"/>
                    </a:lnTo>
                    <a:lnTo>
                      <a:pt x="229" y="352"/>
                    </a:lnTo>
                    <a:lnTo>
                      <a:pt x="216" y="317"/>
                    </a:lnTo>
                    <a:lnTo>
                      <a:pt x="202" y="281"/>
                    </a:lnTo>
                    <a:lnTo>
                      <a:pt x="188" y="246"/>
                    </a:lnTo>
                    <a:lnTo>
                      <a:pt x="173" y="210"/>
                    </a:lnTo>
                    <a:lnTo>
                      <a:pt x="155" y="176"/>
                    </a:lnTo>
                    <a:lnTo>
                      <a:pt x="137" y="140"/>
                    </a:lnTo>
                    <a:lnTo>
                      <a:pt x="118" y="105"/>
                    </a:lnTo>
                    <a:lnTo>
                      <a:pt x="97" y="70"/>
                    </a:lnTo>
                    <a:lnTo>
                      <a:pt x="75" y="35"/>
                    </a:lnTo>
                    <a:lnTo>
                      <a:pt x="52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14440" y="5297760"/>
                <a:ext cx="588960" cy="273960"/>
              </a:xfrm>
              <a:custGeom>
                <a:avLst/>
                <a:gdLst/>
                <a:ahLst/>
                <a:rect l="l" t="t" r="r" b="b"/>
                <a:pathLst>
                  <a:path w="5040" h="2536">
                    <a:moveTo>
                      <a:pt x="5040" y="2"/>
                    </a:moveTo>
                    <a:lnTo>
                      <a:pt x="4951" y="1"/>
                    </a:lnTo>
                    <a:lnTo>
                      <a:pt x="4862" y="0"/>
                    </a:lnTo>
                    <a:lnTo>
                      <a:pt x="4774" y="0"/>
                    </a:lnTo>
                    <a:lnTo>
                      <a:pt x="4688" y="0"/>
                    </a:lnTo>
                    <a:lnTo>
                      <a:pt x="4603" y="1"/>
                    </a:lnTo>
                    <a:lnTo>
                      <a:pt x="4521" y="3"/>
                    </a:lnTo>
                    <a:lnTo>
                      <a:pt x="4438" y="5"/>
                    </a:lnTo>
                    <a:lnTo>
                      <a:pt x="4357" y="9"/>
                    </a:lnTo>
                    <a:lnTo>
                      <a:pt x="4278" y="12"/>
                    </a:lnTo>
                    <a:lnTo>
                      <a:pt x="4200" y="17"/>
                    </a:lnTo>
                    <a:lnTo>
                      <a:pt x="4123" y="21"/>
                    </a:lnTo>
                    <a:lnTo>
                      <a:pt x="4046" y="27"/>
                    </a:lnTo>
                    <a:lnTo>
                      <a:pt x="3972" y="34"/>
                    </a:lnTo>
                    <a:lnTo>
                      <a:pt x="3898" y="41"/>
                    </a:lnTo>
                    <a:lnTo>
                      <a:pt x="3826" y="48"/>
                    </a:lnTo>
                    <a:lnTo>
                      <a:pt x="3756" y="56"/>
                    </a:lnTo>
                    <a:lnTo>
                      <a:pt x="3686" y="65"/>
                    </a:lnTo>
                    <a:lnTo>
                      <a:pt x="3617" y="74"/>
                    </a:lnTo>
                    <a:lnTo>
                      <a:pt x="3550" y="83"/>
                    </a:lnTo>
                    <a:lnTo>
                      <a:pt x="3483" y="94"/>
                    </a:lnTo>
                    <a:lnTo>
                      <a:pt x="3418" y="104"/>
                    </a:lnTo>
                    <a:lnTo>
                      <a:pt x="3354" y="115"/>
                    </a:lnTo>
                    <a:lnTo>
                      <a:pt x="3289" y="127"/>
                    </a:lnTo>
                    <a:lnTo>
                      <a:pt x="3227" y="140"/>
                    </a:lnTo>
                    <a:lnTo>
                      <a:pt x="3167" y="152"/>
                    </a:lnTo>
                    <a:lnTo>
                      <a:pt x="3107" y="166"/>
                    </a:lnTo>
                    <a:lnTo>
                      <a:pt x="3047" y="180"/>
                    </a:lnTo>
                    <a:lnTo>
                      <a:pt x="2990" y="193"/>
                    </a:lnTo>
                    <a:lnTo>
                      <a:pt x="2933" y="208"/>
                    </a:lnTo>
                    <a:lnTo>
                      <a:pt x="2876" y="223"/>
                    </a:lnTo>
                    <a:lnTo>
                      <a:pt x="2821" y="239"/>
                    </a:lnTo>
                    <a:lnTo>
                      <a:pt x="2768" y="255"/>
                    </a:lnTo>
                    <a:lnTo>
                      <a:pt x="2715" y="271"/>
                    </a:lnTo>
                    <a:lnTo>
                      <a:pt x="2662" y="289"/>
                    </a:lnTo>
                    <a:lnTo>
                      <a:pt x="2610" y="306"/>
                    </a:lnTo>
                    <a:lnTo>
                      <a:pt x="2560" y="324"/>
                    </a:lnTo>
                    <a:lnTo>
                      <a:pt x="2511" y="343"/>
                    </a:lnTo>
                    <a:lnTo>
                      <a:pt x="2463" y="361"/>
                    </a:lnTo>
                    <a:lnTo>
                      <a:pt x="2414" y="379"/>
                    </a:lnTo>
                    <a:lnTo>
                      <a:pt x="2367" y="399"/>
                    </a:lnTo>
                    <a:lnTo>
                      <a:pt x="2321" y="418"/>
                    </a:lnTo>
                    <a:lnTo>
                      <a:pt x="2277" y="439"/>
                    </a:lnTo>
                    <a:lnTo>
                      <a:pt x="2232" y="458"/>
                    </a:lnTo>
                    <a:lnTo>
                      <a:pt x="2188" y="479"/>
                    </a:lnTo>
                    <a:lnTo>
                      <a:pt x="2145" y="501"/>
                    </a:lnTo>
                    <a:lnTo>
                      <a:pt x="2104" y="522"/>
                    </a:lnTo>
                    <a:lnTo>
                      <a:pt x="2062" y="543"/>
                    </a:lnTo>
                    <a:lnTo>
                      <a:pt x="2021" y="565"/>
                    </a:lnTo>
                    <a:lnTo>
                      <a:pt x="1982" y="588"/>
                    </a:lnTo>
                    <a:lnTo>
                      <a:pt x="1942" y="610"/>
                    </a:lnTo>
                    <a:lnTo>
                      <a:pt x="1904" y="633"/>
                    </a:lnTo>
                    <a:lnTo>
                      <a:pt x="1866" y="656"/>
                    </a:lnTo>
                    <a:lnTo>
                      <a:pt x="1793" y="703"/>
                    </a:lnTo>
                    <a:lnTo>
                      <a:pt x="1722" y="751"/>
                    </a:lnTo>
                    <a:lnTo>
                      <a:pt x="1654" y="799"/>
                    </a:lnTo>
                    <a:lnTo>
                      <a:pt x="1588" y="848"/>
                    </a:lnTo>
                    <a:lnTo>
                      <a:pt x="1524" y="899"/>
                    </a:lnTo>
                    <a:lnTo>
                      <a:pt x="1463" y="949"/>
                    </a:lnTo>
                    <a:lnTo>
                      <a:pt x="1404" y="1001"/>
                    </a:lnTo>
                    <a:lnTo>
                      <a:pt x="1347" y="1053"/>
                    </a:lnTo>
                    <a:lnTo>
                      <a:pt x="1291" y="1105"/>
                    </a:lnTo>
                    <a:lnTo>
                      <a:pt x="1237" y="1157"/>
                    </a:lnTo>
                    <a:lnTo>
                      <a:pt x="1185" y="1211"/>
                    </a:lnTo>
                    <a:lnTo>
                      <a:pt x="1135" y="1264"/>
                    </a:lnTo>
                    <a:lnTo>
                      <a:pt x="1085" y="1316"/>
                    </a:lnTo>
                    <a:lnTo>
                      <a:pt x="1037" y="1370"/>
                    </a:lnTo>
                    <a:lnTo>
                      <a:pt x="991" y="1423"/>
                    </a:lnTo>
                    <a:lnTo>
                      <a:pt x="945" y="1477"/>
                    </a:lnTo>
                    <a:lnTo>
                      <a:pt x="901" y="1530"/>
                    </a:lnTo>
                    <a:lnTo>
                      <a:pt x="857" y="1583"/>
                    </a:lnTo>
                    <a:lnTo>
                      <a:pt x="772" y="1687"/>
                    </a:lnTo>
                    <a:lnTo>
                      <a:pt x="688" y="1790"/>
                    </a:lnTo>
                    <a:lnTo>
                      <a:pt x="607" y="1891"/>
                    </a:lnTo>
                    <a:lnTo>
                      <a:pt x="526" y="1989"/>
                    </a:lnTo>
                    <a:lnTo>
                      <a:pt x="486" y="2036"/>
                    </a:lnTo>
                    <a:lnTo>
                      <a:pt x="444" y="2083"/>
                    </a:lnTo>
                    <a:lnTo>
                      <a:pt x="403" y="2129"/>
                    </a:lnTo>
                    <a:lnTo>
                      <a:pt x="362" y="2173"/>
                    </a:lnTo>
                    <a:lnTo>
                      <a:pt x="319" y="2216"/>
                    </a:lnTo>
                    <a:lnTo>
                      <a:pt x="277" y="2258"/>
                    </a:lnTo>
                    <a:lnTo>
                      <a:pt x="233" y="2299"/>
                    </a:lnTo>
                    <a:lnTo>
                      <a:pt x="189" y="2338"/>
                    </a:lnTo>
                    <a:lnTo>
                      <a:pt x="144" y="2377"/>
                    </a:lnTo>
                    <a:lnTo>
                      <a:pt x="97" y="2414"/>
                    </a:lnTo>
                    <a:lnTo>
                      <a:pt x="50" y="2449"/>
                    </a:lnTo>
                    <a:lnTo>
                      <a:pt x="0" y="2482"/>
                    </a:lnTo>
                    <a:lnTo>
                      <a:pt x="36" y="2536"/>
                    </a:lnTo>
                    <a:lnTo>
                      <a:pt x="86" y="2501"/>
                    </a:lnTo>
                    <a:lnTo>
                      <a:pt x="136" y="2465"/>
                    </a:lnTo>
                    <a:lnTo>
                      <a:pt x="184" y="2427"/>
                    </a:lnTo>
                    <a:lnTo>
                      <a:pt x="231" y="2388"/>
                    </a:lnTo>
                    <a:lnTo>
                      <a:pt x="277" y="2346"/>
                    </a:lnTo>
                    <a:lnTo>
                      <a:pt x="322" y="2304"/>
                    </a:lnTo>
                    <a:lnTo>
                      <a:pt x="365" y="2262"/>
                    </a:lnTo>
                    <a:lnTo>
                      <a:pt x="408" y="2217"/>
                    </a:lnTo>
                    <a:lnTo>
                      <a:pt x="450" y="2172"/>
                    </a:lnTo>
                    <a:lnTo>
                      <a:pt x="492" y="2125"/>
                    </a:lnTo>
                    <a:lnTo>
                      <a:pt x="534" y="2078"/>
                    </a:lnTo>
                    <a:lnTo>
                      <a:pt x="575" y="2030"/>
                    </a:lnTo>
                    <a:lnTo>
                      <a:pt x="656" y="1931"/>
                    </a:lnTo>
                    <a:lnTo>
                      <a:pt x="739" y="1830"/>
                    </a:lnTo>
                    <a:lnTo>
                      <a:pt x="822" y="1728"/>
                    </a:lnTo>
                    <a:lnTo>
                      <a:pt x="906" y="1624"/>
                    </a:lnTo>
                    <a:lnTo>
                      <a:pt x="950" y="1571"/>
                    </a:lnTo>
                    <a:lnTo>
                      <a:pt x="994" y="1518"/>
                    </a:lnTo>
                    <a:lnTo>
                      <a:pt x="1039" y="1466"/>
                    </a:lnTo>
                    <a:lnTo>
                      <a:pt x="1085" y="1413"/>
                    </a:lnTo>
                    <a:lnTo>
                      <a:pt x="1132" y="1360"/>
                    </a:lnTo>
                    <a:lnTo>
                      <a:pt x="1182" y="1307"/>
                    </a:lnTo>
                    <a:lnTo>
                      <a:pt x="1231" y="1256"/>
                    </a:lnTo>
                    <a:lnTo>
                      <a:pt x="1283" y="1203"/>
                    </a:lnTo>
                    <a:lnTo>
                      <a:pt x="1335" y="1151"/>
                    </a:lnTo>
                    <a:lnTo>
                      <a:pt x="1390" y="1100"/>
                    </a:lnTo>
                    <a:lnTo>
                      <a:pt x="1446" y="1049"/>
                    </a:lnTo>
                    <a:lnTo>
                      <a:pt x="1505" y="999"/>
                    </a:lnTo>
                    <a:lnTo>
                      <a:pt x="1565" y="948"/>
                    </a:lnTo>
                    <a:lnTo>
                      <a:pt x="1628" y="899"/>
                    </a:lnTo>
                    <a:lnTo>
                      <a:pt x="1692" y="851"/>
                    </a:lnTo>
                    <a:lnTo>
                      <a:pt x="1758" y="804"/>
                    </a:lnTo>
                    <a:lnTo>
                      <a:pt x="1828" y="757"/>
                    </a:lnTo>
                    <a:lnTo>
                      <a:pt x="1901" y="711"/>
                    </a:lnTo>
                    <a:lnTo>
                      <a:pt x="1937" y="688"/>
                    </a:lnTo>
                    <a:lnTo>
                      <a:pt x="1975" y="666"/>
                    </a:lnTo>
                    <a:lnTo>
                      <a:pt x="2013" y="643"/>
                    </a:lnTo>
                    <a:lnTo>
                      <a:pt x="2052" y="621"/>
                    </a:lnTo>
                    <a:lnTo>
                      <a:pt x="2092" y="601"/>
                    </a:lnTo>
                    <a:lnTo>
                      <a:pt x="2132" y="579"/>
                    </a:lnTo>
                    <a:lnTo>
                      <a:pt x="2174" y="558"/>
                    </a:lnTo>
                    <a:lnTo>
                      <a:pt x="2216" y="538"/>
                    </a:lnTo>
                    <a:lnTo>
                      <a:pt x="2258" y="517"/>
                    </a:lnTo>
                    <a:lnTo>
                      <a:pt x="2303" y="497"/>
                    </a:lnTo>
                    <a:lnTo>
                      <a:pt x="2347" y="478"/>
                    </a:lnTo>
                    <a:lnTo>
                      <a:pt x="2393" y="458"/>
                    </a:lnTo>
                    <a:lnTo>
                      <a:pt x="2438" y="439"/>
                    </a:lnTo>
                    <a:lnTo>
                      <a:pt x="2485" y="421"/>
                    </a:lnTo>
                    <a:lnTo>
                      <a:pt x="2534" y="402"/>
                    </a:lnTo>
                    <a:lnTo>
                      <a:pt x="2582" y="384"/>
                    </a:lnTo>
                    <a:lnTo>
                      <a:pt x="2631" y="367"/>
                    </a:lnTo>
                    <a:lnTo>
                      <a:pt x="2683" y="349"/>
                    </a:lnTo>
                    <a:lnTo>
                      <a:pt x="2733" y="333"/>
                    </a:lnTo>
                    <a:lnTo>
                      <a:pt x="2786" y="317"/>
                    </a:lnTo>
                    <a:lnTo>
                      <a:pt x="2840" y="301"/>
                    </a:lnTo>
                    <a:lnTo>
                      <a:pt x="2894" y="285"/>
                    </a:lnTo>
                    <a:lnTo>
                      <a:pt x="2949" y="270"/>
                    </a:lnTo>
                    <a:lnTo>
                      <a:pt x="3005" y="257"/>
                    </a:lnTo>
                    <a:lnTo>
                      <a:pt x="3062" y="242"/>
                    </a:lnTo>
                    <a:lnTo>
                      <a:pt x="3121" y="228"/>
                    </a:lnTo>
                    <a:lnTo>
                      <a:pt x="3180" y="215"/>
                    </a:lnTo>
                    <a:lnTo>
                      <a:pt x="3240" y="203"/>
                    </a:lnTo>
                    <a:lnTo>
                      <a:pt x="3302" y="190"/>
                    </a:lnTo>
                    <a:lnTo>
                      <a:pt x="3364" y="179"/>
                    </a:lnTo>
                    <a:lnTo>
                      <a:pt x="3428" y="167"/>
                    </a:lnTo>
                    <a:lnTo>
                      <a:pt x="3492" y="157"/>
                    </a:lnTo>
                    <a:lnTo>
                      <a:pt x="3559" y="146"/>
                    </a:lnTo>
                    <a:lnTo>
                      <a:pt x="3625" y="137"/>
                    </a:lnTo>
                    <a:lnTo>
                      <a:pt x="3694" y="128"/>
                    </a:lnTo>
                    <a:lnTo>
                      <a:pt x="3763" y="120"/>
                    </a:lnTo>
                    <a:lnTo>
                      <a:pt x="3833" y="112"/>
                    </a:lnTo>
                    <a:lnTo>
                      <a:pt x="3905" y="104"/>
                    </a:lnTo>
                    <a:lnTo>
                      <a:pt x="3977" y="97"/>
                    </a:lnTo>
                    <a:lnTo>
                      <a:pt x="4052" y="91"/>
                    </a:lnTo>
                    <a:lnTo>
                      <a:pt x="4126" y="86"/>
                    </a:lnTo>
                    <a:lnTo>
                      <a:pt x="4203" y="81"/>
                    </a:lnTo>
                    <a:lnTo>
                      <a:pt x="4281" y="76"/>
                    </a:lnTo>
                    <a:lnTo>
                      <a:pt x="4360" y="73"/>
                    </a:lnTo>
                    <a:lnTo>
                      <a:pt x="4441" y="70"/>
                    </a:lnTo>
                    <a:lnTo>
                      <a:pt x="4522" y="67"/>
                    </a:lnTo>
                    <a:lnTo>
                      <a:pt x="4605" y="65"/>
                    </a:lnTo>
                    <a:lnTo>
                      <a:pt x="4689" y="64"/>
                    </a:lnTo>
                    <a:lnTo>
                      <a:pt x="4774" y="64"/>
                    </a:lnTo>
                    <a:lnTo>
                      <a:pt x="4862" y="64"/>
                    </a:lnTo>
                    <a:lnTo>
                      <a:pt x="4950" y="65"/>
                    </a:lnTo>
                    <a:lnTo>
                      <a:pt x="5039" y="66"/>
                    </a:lnTo>
                    <a:lnTo>
                      <a:pt x="5040" y="2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03760" y="5290560"/>
                <a:ext cx="284400" cy="15480"/>
              </a:xfrm>
              <a:custGeom>
                <a:avLst/>
                <a:gdLst/>
                <a:ahLst/>
                <a:rect l="l" t="t" r="r" b="b"/>
                <a:pathLst>
                  <a:path w="2437" h="145">
                    <a:moveTo>
                      <a:pt x="2430" y="0"/>
                    </a:moveTo>
                    <a:lnTo>
                      <a:pt x="2306" y="13"/>
                    </a:lnTo>
                    <a:lnTo>
                      <a:pt x="2180" y="26"/>
                    </a:lnTo>
                    <a:lnTo>
                      <a:pt x="2051" y="38"/>
                    </a:lnTo>
                    <a:lnTo>
                      <a:pt x="1919" y="47"/>
                    </a:lnTo>
                    <a:lnTo>
                      <a:pt x="1782" y="55"/>
                    </a:lnTo>
                    <a:lnTo>
                      <a:pt x="1644" y="63"/>
                    </a:lnTo>
                    <a:lnTo>
                      <a:pt x="1500" y="68"/>
                    </a:lnTo>
                    <a:lnTo>
                      <a:pt x="1353" y="73"/>
                    </a:lnTo>
                    <a:lnTo>
                      <a:pt x="1202" y="77"/>
                    </a:lnTo>
                    <a:lnTo>
                      <a:pt x="1046" y="79"/>
                    </a:lnTo>
                    <a:lnTo>
                      <a:pt x="886" y="80"/>
                    </a:lnTo>
                    <a:lnTo>
                      <a:pt x="720" y="81"/>
                    </a:lnTo>
                    <a:lnTo>
                      <a:pt x="550" y="80"/>
                    </a:lnTo>
                    <a:lnTo>
                      <a:pt x="373" y="79"/>
                    </a:lnTo>
                    <a:lnTo>
                      <a:pt x="191" y="75"/>
                    </a:lnTo>
                    <a:lnTo>
                      <a:pt x="1" y="72"/>
                    </a:lnTo>
                    <a:lnTo>
                      <a:pt x="0" y="136"/>
                    </a:lnTo>
                    <a:lnTo>
                      <a:pt x="189" y="140"/>
                    </a:lnTo>
                    <a:lnTo>
                      <a:pt x="372" y="143"/>
                    </a:lnTo>
                    <a:lnTo>
                      <a:pt x="548" y="144"/>
                    </a:lnTo>
                    <a:lnTo>
                      <a:pt x="720" y="145"/>
                    </a:lnTo>
                    <a:lnTo>
                      <a:pt x="886" y="144"/>
                    </a:lnTo>
                    <a:lnTo>
                      <a:pt x="1047" y="143"/>
                    </a:lnTo>
                    <a:lnTo>
                      <a:pt x="1203" y="141"/>
                    </a:lnTo>
                    <a:lnTo>
                      <a:pt x="1356" y="137"/>
                    </a:lnTo>
                    <a:lnTo>
                      <a:pt x="1502" y="133"/>
                    </a:lnTo>
                    <a:lnTo>
                      <a:pt x="1647" y="126"/>
                    </a:lnTo>
                    <a:lnTo>
                      <a:pt x="1787" y="119"/>
                    </a:lnTo>
                    <a:lnTo>
                      <a:pt x="1922" y="111"/>
                    </a:lnTo>
                    <a:lnTo>
                      <a:pt x="2055" y="101"/>
                    </a:lnTo>
                    <a:lnTo>
                      <a:pt x="2186" y="90"/>
                    </a:lnTo>
                    <a:lnTo>
                      <a:pt x="2313" y="78"/>
                    </a:lnTo>
                    <a:lnTo>
                      <a:pt x="2437" y="64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53400" y="5336640"/>
                <a:ext cx="59400" cy="52920"/>
              </a:xfrm>
              <a:custGeom>
                <a:avLst/>
                <a:gdLst/>
                <a:ahLst/>
                <a:rect l="l" t="t" r="r" b="b"/>
                <a:pathLst>
                  <a:path w="513" h="492">
                    <a:moveTo>
                      <a:pt x="34" y="34"/>
                    </a:moveTo>
                    <a:lnTo>
                      <a:pt x="0" y="70"/>
                    </a:lnTo>
                    <a:lnTo>
                      <a:pt x="448" y="492"/>
                    </a:lnTo>
                    <a:lnTo>
                      <a:pt x="513" y="422"/>
                    </a:lnTo>
                    <a:lnTo>
                      <a:pt x="67" y="0"/>
                    </a:lnTo>
                    <a:lnTo>
                      <a:pt x="34" y="34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03080" y="5300280"/>
                <a:ext cx="56520" cy="62280"/>
              </a:xfrm>
              <a:custGeom>
                <a:avLst/>
                <a:gdLst/>
                <a:ahLst/>
                <a:rect l="l" t="t" r="r" b="b"/>
                <a:pathLst>
                  <a:path w="490" h="581">
                    <a:moveTo>
                      <a:pt x="37" y="30"/>
                    </a:moveTo>
                    <a:lnTo>
                      <a:pt x="0" y="60"/>
                    </a:lnTo>
                    <a:lnTo>
                      <a:pt x="416" y="581"/>
                    </a:lnTo>
                    <a:lnTo>
                      <a:pt x="490" y="521"/>
                    </a:lnTo>
                    <a:lnTo>
                      <a:pt x="75" y="0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67880" y="5275800"/>
                <a:ext cx="43920" cy="64080"/>
              </a:xfrm>
              <a:custGeom>
                <a:avLst/>
                <a:gdLst/>
                <a:ahLst/>
                <a:rect l="l" t="t" r="r" b="b"/>
                <a:pathLst>
                  <a:path w="374" h="596">
                    <a:moveTo>
                      <a:pt x="42" y="23"/>
                    </a:moveTo>
                    <a:lnTo>
                      <a:pt x="0" y="45"/>
                    </a:lnTo>
                    <a:lnTo>
                      <a:pt x="289" y="596"/>
                    </a:lnTo>
                    <a:lnTo>
                      <a:pt x="374" y="551"/>
                    </a:lnTo>
                    <a:lnTo>
                      <a:pt x="85" y="0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31600" y="5258880"/>
                <a:ext cx="39240" cy="63360"/>
              </a:xfrm>
              <a:custGeom>
                <a:avLst/>
                <a:gdLst/>
                <a:ahLst/>
                <a:rect l="l" t="t" r="r" b="b"/>
                <a:pathLst>
                  <a:path w="341" h="591">
                    <a:moveTo>
                      <a:pt x="44" y="21"/>
                    </a:moveTo>
                    <a:lnTo>
                      <a:pt x="0" y="41"/>
                    </a:lnTo>
                    <a:lnTo>
                      <a:pt x="253" y="591"/>
                    </a:lnTo>
                    <a:lnTo>
                      <a:pt x="341" y="551"/>
                    </a:lnTo>
                    <a:lnTo>
                      <a:pt x="87" y="0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92440" y="524664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325" h="616">
                    <a:moveTo>
                      <a:pt x="45" y="18"/>
                    </a:moveTo>
                    <a:lnTo>
                      <a:pt x="0" y="36"/>
                    </a:lnTo>
                    <a:lnTo>
                      <a:pt x="235" y="616"/>
                    </a:lnTo>
                    <a:lnTo>
                      <a:pt x="325" y="579"/>
                    </a:lnTo>
                    <a:lnTo>
                      <a:pt x="89" y="0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59760" y="5239440"/>
                <a:ext cx="31320" cy="65160"/>
              </a:xfrm>
              <a:custGeom>
                <a:avLst/>
                <a:gdLst/>
                <a:ahLst/>
                <a:rect l="l" t="t" r="r" b="b"/>
                <a:pathLst>
                  <a:path w="273" h="607">
                    <a:moveTo>
                      <a:pt x="46" y="14"/>
                    </a:moveTo>
                    <a:lnTo>
                      <a:pt x="0" y="29"/>
                    </a:lnTo>
                    <a:lnTo>
                      <a:pt x="181" y="607"/>
                    </a:lnTo>
                    <a:lnTo>
                      <a:pt x="273" y="578"/>
                    </a:lnTo>
                    <a:lnTo>
                      <a:pt x="92" y="0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33560" y="5236920"/>
                <a:ext cx="21600" cy="65160"/>
              </a:xfrm>
              <a:custGeom>
                <a:avLst/>
                <a:gdLst/>
                <a:ahLst/>
                <a:rect l="l" t="t" r="r" b="b"/>
                <a:pathLst>
                  <a:path w="185" h="607">
                    <a:moveTo>
                      <a:pt x="48" y="7"/>
                    </a:moveTo>
                    <a:lnTo>
                      <a:pt x="0" y="14"/>
                    </a:lnTo>
                    <a:lnTo>
                      <a:pt x="90" y="607"/>
                    </a:lnTo>
                    <a:lnTo>
                      <a:pt x="185" y="593"/>
                    </a:lnTo>
                    <a:lnTo>
                      <a:pt x="95" y="0"/>
                    </a:lnTo>
                    <a:lnTo>
                      <a:pt x="48" y="7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01600" y="523692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150" h="588">
                    <a:moveTo>
                      <a:pt x="48" y="5"/>
                    </a:moveTo>
                    <a:lnTo>
                      <a:pt x="0" y="10"/>
                    </a:lnTo>
                    <a:lnTo>
                      <a:pt x="54" y="588"/>
                    </a:lnTo>
                    <a:lnTo>
                      <a:pt x="150" y="580"/>
                    </a:lnTo>
                    <a:lnTo>
                      <a:pt x="95" y="0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73240" y="5234040"/>
                <a:ext cx="12960" cy="67320"/>
              </a:xfrm>
              <a:custGeom>
                <a:avLst/>
                <a:gdLst/>
                <a:ahLst/>
                <a:rect l="l" t="t" r="r" b="b"/>
                <a:pathLst>
                  <a:path w="115" h="625">
                    <a:moveTo>
                      <a:pt x="49" y="2"/>
                    </a:moveTo>
                    <a:lnTo>
                      <a:pt x="0" y="3"/>
                    </a:lnTo>
                    <a:lnTo>
                      <a:pt x="18" y="625"/>
                    </a:lnTo>
                    <a:lnTo>
                      <a:pt x="115" y="623"/>
                    </a:lnTo>
                    <a:lnTo>
                      <a:pt x="97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39120" y="5232960"/>
                <a:ext cx="15120" cy="67320"/>
              </a:xfrm>
              <a:custGeom>
                <a:avLst/>
                <a:gdLst/>
                <a:ahLst/>
                <a:rect l="l" t="t" r="r" b="b"/>
                <a:pathLst>
                  <a:path w="132" h="628">
                    <a:moveTo>
                      <a:pt x="84" y="2"/>
                    </a:moveTo>
                    <a:lnTo>
                      <a:pt x="36" y="0"/>
                    </a:lnTo>
                    <a:lnTo>
                      <a:pt x="0" y="622"/>
                    </a:lnTo>
                    <a:lnTo>
                      <a:pt x="97" y="628"/>
                    </a:lnTo>
                    <a:lnTo>
                      <a:pt x="132" y="5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608600" y="5227560"/>
                <a:ext cx="12960" cy="70560"/>
              </a:xfrm>
              <a:custGeom>
                <a:avLst/>
                <a:gdLst/>
                <a:ahLst/>
                <a:rect l="l" t="t" r="r" b="b"/>
                <a:pathLst>
                  <a:path w="115" h="654">
                    <a:moveTo>
                      <a:pt x="67" y="1"/>
                    </a:moveTo>
                    <a:lnTo>
                      <a:pt x="19" y="0"/>
                    </a:lnTo>
                    <a:lnTo>
                      <a:pt x="0" y="651"/>
                    </a:lnTo>
                    <a:lnTo>
                      <a:pt x="97" y="654"/>
                    </a:lnTo>
                    <a:lnTo>
                      <a:pt x="115" y="2"/>
                    </a:lnTo>
                    <a:lnTo>
                      <a:pt x="67" y="1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79880" y="5221800"/>
                <a:ext cx="13320" cy="80280"/>
              </a:xfrm>
              <a:custGeom>
                <a:avLst/>
                <a:gdLst/>
                <a:ahLst/>
                <a:rect l="l" t="t" r="r" b="b"/>
                <a:pathLst>
                  <a:path w="115" h="746">
                    <a:moveTo>
                      <a:pt x="48" y="1"/>
                    </a:moveTo>
                    <a:lnTo>
                      <a:pt x="0" y="3"/>
                    </a:lnTo>
                    <a:lnTo>
                      <a:pt x="18" y="746"/>
                    </a:lnTo>
                    <a:lnTo>
                      <a:pt x="115" y="744"/>
                    </a:lnTo>
                    <a:lnTo>
                      <a:pt x="96" y="0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08320" y="5302800"/>
                <a:ext cx="588960" cy="273600"/>
              </a:xfrm>
              <a:custGeom>
                <a:avLst/>
                <a:gdLst/>
                <a:ahLst/>
                <a:rect l="l" t="t" r="r" b="b"/>
                <a:pathLst>
                  <a:path w="5040" h="2536">
                    <a:moveTo>
                      <a:pt x="5040" y="3"/>
                    </a:moveTo>
                    <a:lnTo>
                      <a:pt x="4950" y="1"/>
                    </a:lnTo>
                    <a:lnTo>
                      <a:pt x="4861" y="0"/>
                    </a:lnTo>
                    <a:lnTo>
                      <a:pt x="4773" y="0"/>
                    </a:lnTo>
                    <a:lnTo>
                      <a:pt x="4687" y="0"/>
                    </a:lnTo>
                    <a:lnTo>
                      <a:pt x="4603" y="1"/>
                    </a:lnTo>
                    <a:lnTo>
                      <a:pt x="4519" y="4"/>
                    </a:lnTo>
                    <a:lnTo>
                      <a:pt x="4437" y="6"/>
                    </a:lnTo>
                    <a:lnTo>
                      <a:pt x="4356" y="9"/>
                    </a:lnTo>
                    <a:lnTo>
                      <a:pt x="4277" y="13"/>
                    </a:lnTo>
                    <a:lnTo>
                      <a:pt x="4199" y="17"/>
                    </a:lnTo>
                    <a:lnTo>
                      <a:pt x="4121" y="22"/>
                    </a:lnTo>
                    <a:lnTo>
                      <a:pt x="4045" y="28"/>
                    </a:lnTo>
                    <a:lnTo>
                      <a:pt x="3971" y="33"/>
                    </a:lnTo>
                    <a:lnTo>
                      <a:pt x="3897" y="42"/>
                    </a:lnTo>
                    <a:lnTo>
                      <a:pt x="3825" y="48"/>
                    </a:lnTo>
                    <a:lnTo>
                      <a:pt x="3754" y="56"/>
                    </a:lnTo>
                    <a:lnTo>
                      <a:pt x="3684" y="64"/>
                    </a:lnTo>
                    <a:lnTo>
                      <a:pt x="3615" y="74"/>
                    </a:lnTo>
                    <a:lnTo>
                      <a:pt x="3548" y="84"/>
                    </a:lnTo>
                    <a:lnTo>
                      <a:pt x="3481" y="94"/>
                    </a:lnTo>
                    <a:lnTo>
                      <a:pt x="3416" y="105"/>
                    </a:lnTo>
                    <a:lnTo>
                      <a:pt x="3351" y="116"/>
                    </a:lnTo>
                    <a:lnTo>
                      <a:pt x="3288" y="128"/>
                    </a:lnTo>
                    <a:lnTo>
                      <a:pt x="3226" y="140"/>
                    </a:lnTo>
                    <a:lnTo>
                      <a:pt x="3166" y="153"/>
                    </a:lnTo>
                    <a:lnTo>
                      <a:pt x="3105" y="167"/>
                    </a:lnTo>
                    <a:lnTo>
                      <a:pt x="3046" y="180"/>
                    </a:lnTo>
                    <a:lnTo>
                      <a:pt x="2988" y="194"/>
                    </a:lnTo>
                    <a:lnTo>
                      <a:pt x="2932" y="209"/>
                    </a:lnTo>
                    <a:lnTo>
                      <a:pt x="2876" y="224"/>
                    </a:lnTo>
                    <a:lnTo>
                      <a:pt x="2821" y="240"/>
                    </a:lnTo>
                    <a:lnTo>
                      <a:pt x="2767" y="256"/>
                    </a:lnTo>
                    <a:lnTo>
                      <a:pt x="2713" y="272"/>
                    </a:lnTo>
                    <a:lnTo>
                      <a:pt x="2661" y="289"/>
                    </a:lnTo>
                    <a:lnTo>
                      <a:pt x="2610" y="306"/>
                    </a:lnTo>
                    <a:lnTo>
                      <a:pt x="2559" y="325"/>
                    </a:lnTo>
                    <a:lnTo>
                      <a:pt x="2510" y="343"/>
                    </a:lnTo>
                    <a:lnTo>
                      <a:pt x="2460" y="362"/>
                    </a:lnTo>
                    <a:lnTo>
                      <a:pt x="2413" y="380"/>
                    </a:lnTo>
                    <a:lnTo>
                      <a:pt x="2366" y="399"/>
                    </a:lnTo>
                    <a:lnTo>
                      <a:pt x="2321" y="419"/>
                    </a:lnTo>
                    <a:lnTo>
                      <a:pt x="2275" y="438"/>
                    </a:lnTo>
                    <a:lnTo>
                      <a:pt x="2230" y="459"/>
                    </a:lnTo>
                    <a:lnTo>
                      <a:pt x="2186" y="480"/>
                    </a:lnTo>
                    <a:lnTo>
                      <a:pt x="2144" y="501"/>
                    </a:lnTo>
                    <a:lnTo>
                      <a:pt x="2102" y="522"/>
                    </a:lnTo>
                    <a:lnTo>
                      <a:pt x="2060" y="544"/>
                    </a:lnTo>
                    <a:lnTo>
                      <a:pt x="2020" y="566"/>
                    </a:lnTo>
                    <a:lnTo>
                      <a:pt x="1980" y="588"/>
                    </a:lnTo>
                    <a:lnTo>
                      <a:pt x="1941" y="610"/>
                    </a:lnTo>
                    <a:lnTo>
                      <a:pt x="1903" y="633"/>
                    </a:lnTo>
                    <a:lnTo>
                      <a:pt x="1865" y="656"/>
                    </a:lnTo>
                    <a:lnTo>
                      <a:pt x="1792" y="703"/>
                    </a:lnTo>
                    <a:lnTo>
                      <a:pt x="1721" y="750"/>
                    </a:lnTo>
                    <a:lnTo>
                      <a:pt x="1653" y="800"/>
                    </a:lnTo>
                    <a:lnTo>
                      <a:pt x="1587" y="849"/>
                    </a:lnTo>
                    <a:lnTo>
                      <a:pt x="1524" y="900"/>
                    </a:lnTo>
                    <a:lnTo>
                      <a:pt x="1462" y="950"/>
                    </a:lnTo>
                    <a:lnTo>
                      <a:pt x="1402" y="1002"/>
                    </a:lnTo>
                    <a:lnTo>
                      <a:pt x="1345" y="1053"/>
                    </a:lnTo>
                    <a:lnTo>
                      <a:pt x="1290" y="1105"/>
                    </a:lnTo>
                    <a:lnTo>
                      <a:pt x="1236" y="1158"/>
                    </a:lnTo>
                    <a:lnTo>
                      <a:pt x="1184" y="1210"/>
                    </a:lnTo>
                    <a:lnTo>
                      <a:pt x="1134" y="1264"/>
                    </a:lnTo>
                    <a:lnTo>
                      <a:pt x="1084" y="1317"/>
                    </a:lnTo>
                    <a:lnTo>
                      <a:pt x="1036" y="1371"/>
                    </a:lnTo>
                    <a:lnTo>
                      <a:pt x="989" y="1424"/>
                    </a:lnTo>
                    <a:lnTo>
                      <a:pt x="943" y="1478"/>
                    </a:lnTo>
                    <a:lnTo>
                      <a:pt x="900" y="1530"/>
                    </a:lnTo>
                    <a:lnTo>
                      <a:pt x="855" y="1583"/>
                    </a:lnTo>
                    <a:lnTo>
                      <a:pt x="770" y="1688"/>
                    </a:lnTo>
                    <a:lnTo>
                      <a:pt x="688" y="1791"/>
                    </a:lnTo>
                    <a:lnTo>
                      <a:pt x="606" y="1892"/>
                    </a:lnTo>
                    <a:lnTo>
                      <a:pt x="525" y="1989"/>
                    </a:lnTo>
                    <a:lnTo>
                      <a:pt x="483" y="2036"/>
                    </a:lnTo>
                    <a:lnTo>
                      <a:pt x="443" y="2083"/>
                    </a:lnTo>
                    <a:lnTo>
                      <a:pt x="402" y="2129"/>
                    </a:lnTo>
                    <a:lnTo>
                      <a:pt x="361" y="2173"/>
                    </a:lnTo>
                    <a:lnTo>
                      <a:pt x="318" y="2216"/>
                    </a:lnTo>
                    <a:lnTo>
                      <a:pt x="276" y="2259"/>
                    </a:lnTo>
                    <a:lnTo>
                      <a:pt x="232" y="2300"/>
                    </a:lnTo>
                    <a:lnTo>
                      <a:pt x="188" y="2339"/>
                    </a:lnTo>
                    <a:lnTo>
                      <a:pt x="143" y="2377"/>
                    </a:lnTo>
                    <a:lnTo>
                      <a:pt x="96" y="2414"/>
                    </a:lnTo>
                    <a:lnTo>
                      <a:pt x="49" y="2449"/>
                    </a:lnTo>
                    <a:lnTo>
                      <a:pt x="0" y="2482"/>
                    </a:lnTo>
                    <a:lnTo>
                      <a:pt x="35" y="2536"/>
                    </a:lnTo>
                    <a:lnTo>
                      <a:pt x="86" y="2502"/>
                    </a:lnTo>
                    <a:lnTo>
                      <a:pt x="135" y="2465"/>
                    </a:lnTo>
                    <a:lnTo>
                      <a:pt x="183" y="2427"/>
                    </a:lnTo>
                    <a:lnTo>
                      <a:pt x="230" y="2387"/>
                    </a:lnTo>
                    <a:lnTo>
                      <a:pt x="275" y="2347"/>
                    </a:lnTo>
                    <a:lnTo>
                      <a:pt x="319" y="2305"/>
                    </a:lnTo>
                    <a:lnTo>
                      <a:pt x="364" y="2262"/>
                    </a:lnTo>
                    <a:lnTo>
                      <a:pt x="407" y="2217"/>
                    </a:lnTo>
                    <a:lnTo>
                      <a:pt x="449" y="2173"/>
                    </a:lnTo>
                    <a:lnTo>
                      <a:pt x="491" y="2126"/>
                    </a:lnTo>
                    <a:lnTo>
                      <a:pt x="533" y="2079"/>
                    </a:lnTo>
                    <a:lnTo>
                      <a:pt x="574" y="2031"/>
                    </a:lnTo>
                    <a:lnTo>
                      <a:pt x="655" y="1932"/>
                    </a:lnTo>
                    <a:lnTo>
                      <a:pt x="737" y="1831"/>
                    </a:lnTo>
                    <a:lnTo>
                      <a:pt x="821" y="1728"/>
                    </a:lnTo>
                    <a:lnTo>
                      <a:pt x="905" y="1623"/>
                    </a:lnTo>
                    <a:lnTo>
                      <a:pt x="949" y="1572"/>
                    </a:lnTo>
                    <a:lnTo>
                      <a:pt x="993" y="1519"/>
                    </a:lnTo>
                    <a:lnTo>
                      <a:pt x="1037" y="1466"/>
                    </a:lnTo>
                    <a:lnTo>
                      <a:pt x="1084" y="1413"/>
                    </a:lnTo>
                    <a:lnTo>
                      <a:pt x="1131" y="1361"/>
                    </a:lnTo>
                    <a:lnTo>
                      <a:pt x="1180" y="1308"/>
                    </a:lnTo>
                    <a:lnTo>
                      <a:pt x="1230" y="1255"/>
                    </a:lnTo>
                    <a:lnTo>
                      <a:pt x="1280" y="1203"/>
                    </a:lnTo>
                    <a:lnTo>
                      <a:pt x="1334" y="1152"/>
                    </a:lnTo>
                    <a:lnTo>
                      <a:pt x="1388" y="1100"/>
                    </a:lnTo>
                    <a:lnTo>
                      <a:pt x="1444" y="1050"/>
                    </a:lnTo>
                    <a:lnTo>
                      <a:pt x="1503" y="999"/>
                    </a:lnTo>
                    <a:lnTo>
                      <a:pt x="1564" y="949"/>
                    </a:lnTo>
                    <a:lnTo>
                      <a:pt x="1626" y="900"/>
                    </a:lnTo>
                    <a:lnTo>
                      <a:pt x="1691" y="851"/>
                    </a:lnTo>
                    <a:lnTo>
                      <a:pt x="1758" y="803"/>
                    </a:lnTo>
                    <a:lnTo>
                      <a:pt x="1826" y="757"/>
                    </a:lnTo>
                    <a:lnTo>
                      <a:pt x="1899" y="710"/>
                    </a:lnTo>
                    <a:lnTo>
                      <a:pt x="1935" y="688"/>
                    </a:lnTo>
                    <a:lnTo>
                      <a:pt x="1973" y="666"/>
                    </a:lnTo>
                    <a:lnTo>
                      <a:pt x="2012" y="644"/>
                    </a:lnTo>
                    <a:lnTo>
                      <a:pt x="2051" y="622"/>
                    </a:lnTo>
                    <a:lnTo>
                      <a:pt x="2091" y="600"/>
                    </a:lnTo>
                    <a:lnTo>
                      <a:pt x="2131" y="579"/>
                    </a:lnTo>
                    <a:lnTo>
                      <a:pt x="2173" y="559"/>
                    </a:lnTo>
                    <a:lnTo>
                      <a:pt x="2215" y="538"/>
                    </a:lnTo>
                    <a:lnTo>
                      <a:pt x="2257" y="518"/>
                    </a:lnTo>
                    <a:lnTo>
                      <a:pt x="2301" y="498"/>
                    </a:lnTo>
                    <a:lnTo>
                      <a:pt x="2346" y="477"/>
                    </a:lnTo>
                    <a:lnTo>
                      <a:pt x="2391" y="459"/>
                    </a:lnTo>
                    <a:lnTo>
                      <a:pt x="2438" y="440"/>
                    </a:lnTo>
                    <a:lnTo>
                      <a:pt x="2485" y="421"/>
                    </a:lnTo>
                    <a:lnTo>
                      <a:pt x="2532" y="403"/>
                    </a:lnTo>
                    <a:lnTo>
                      <a:pt x="2581" y="384"/>
                    </a:lnTo>
                    <a:lnTo>
                      <a:pt x="2630" y="367"/>
                    </a:lnTo>
                    <a:lnTo>
                      <a:pt x="2681" y="350"/>
                    </a:lnTo>
                    <a:lnTo>
                      <a:pt x="2732" y="334"/>
                    </a:lnTo>
                    <a:lnTo>
                      <a:pt x="2785" y="317"/>
                    </a:lnTo>
                    <a:lnTo>
                      <a:pt x="2838" y="302"/>
                    </a:lnTo>
                    <a:lnTo>
                      <a:pt x="2893" y="286"/>
                    </a:lnTo>
                    <a:lnTo>
                      <a:pt x="2948" y="271"/>
                    </a:lnTo>
                    <a:lnTo>
                      <a:pt x="3004" y="256"/>
                    </a:lnTo>
                    <a:lnTo>
                      <a:pt x="3061" y="242"/>
                    </a:lnTo>
                    <a:lnTo>
                      <a:pt x="3120" y="228"/>
                    </a:lnTo>
                    <a:lnTo>
                      <a:pt x="3178" y="216"/>
                    </a:lnTo>
                    <a:lnTo>
                      <a:pt x="3239" y="203"/>
                    </a:lnTo>
                    <a:lnTo>
                      <a:pt x="3301" y="191"/>
                    </a:lnTo>
                    <a:lnTo>
                      <a:pt x="3363" y="179"/>
                    </a:lnTo>
                    <a:lnTo>
                      <a:pt x="3427" y="168"/>
                    </a:lnTo>
                    <a:lnTo>
                      <a:pt x="3491" y="157"/>
                    </a:lnTo>
                    <a:lnTo>
                      <a:pt x="3557" y="147"/>
                    </a:lnTo>
                    <a:lnTo>
                      <a:pt x="3624" y="138"/>
                    </a:lnTo>
                    <a:lnTo>
                      <a:pt x="3692" y="129"/>
                    </a:lnTo>
                    <a:lnTo>
                      <a:pt x="3762" y="121"/>
                    </a:lnTo>
                    <a:lnTo>
                      <a:pt x="3832" y="113"/>
                    </a:lnTo>
                    <a:lnTo>
                      <a:pt x="3903" y="105"/>
                    </a:lnTo>
                    <a:lnTo>
                      <a:pt x="3976" y="98"/>
                    </a:lnTo>
                    <a:lnTo>
                      <a:pt x="4051" y="92"/>
                    </a:lnTo>
                    <a:lnTo>
                      <a:pt x="4126" y="86"/>
                    </a:lnTo>
                    <a:lnTo>
                      <a:pt x="4202" y="82"/>
                    </a:lnTo>
                    <a:lnTo>
                      <a:pt x="4280" y="77"/>
                    </a:lnTo>
                    <a:lnTo>
                      <a:pt x="4359" y="74"/>
                    </a:lnTo>
                    <a:lnTo>
                      <a:pt x="4440" y="70"/>
                    </a:lnTo>
                    <a:lnTo>
                      <a:pt x="4521" y="68"/>
                    </a:lnTo>
                    <a:lnTo>
                      <a:pt x="4604" y="66"/>
                    </a:lnTo>
                    <a:lnTo>
                      <a:pt x="4687" y="64"/>
                    </a:lnTo>
                    <a:lnTo>
                      <a:pt x="4773" y="64"/>
                    </a:lnTo>
                    <a:lnTo>
                      <a:pt x="4861" y="64"/>
                    </a:lnTo>
                    <a:lnTo>
                      <a:pt x="4949" y="66"/>
                    </a:lnTo>
                    <a:lnTo>
                      <a:pt x="5038" y="67"/>
                    </a:lnTo>
                    <a:lnTo>
                      <a:pt x="5040" y="3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7280" y="5295240"/>
                <a:ext cx="284760" cy="15480"/>
              </a:xfrm>
              <a:custGeom>
                <a:avLst/>
                <a:gdLst/>
                <a:ahLst/>
                <a:rect l="l" t="t" r="r" b="b"/>
                <a:pathLst>
                  <a:path w="2437" h="146">
                    <a:moveTo>
                      <a:pt x="2430" y="0"/>
                    </a:moveTo>
                    <a:lnTo>
                      <a:pt x="2306" y="14"/>
                    </a:lnTo>
                    <a:lnTo>
                      <a:pt x="2179" y="27"/>
                    </a:lnTo>
                    <a:lnTo>
                      <a:pt x="2051" y="37"/>
                    </a:lnTo>
                    <a:lnTo>
                      <a:pt x="1918" y="47"/>
                    </a:lnTo>
                    <a:lnTo>
                      <a:pt x="1782" y="55"/>
                    </a:lnTo>
                    <a:lnTo>
                      <a:pt x="1644" y="62"/>
                    </a:lnTo>
                    <a:lnTo>
                      <a:pt x="1500" y="69"/>
                    </a:lnTo>
                    <a:lnTo>
                      <a:pt x="1354" y="74"/>
                    </a:lnTo>
                    <a:lnTo>
                      <a:pt x="1202" y="77"/>
                    </a:lnTo>
                    <a:lnTo>
                      <a:pt x="1046" y="79"/>
                    </a:lnTo>
                    <a:lnTo>
                      <a:pt x="886" y="81"/>
                    </a:lnTo>
                    <a:lnTo>
                      <a:pt x="719" y="81"/>
                    </a:lnTo>
                    <a:lnTo>
                      <a:pt x="549" y="81"/>
                    </a:lnTo>
                    <a:lnTo>
                      <a:pt x="372" y="78"/>
                    </a:lnTo>
                    <a:lnTo>
                      <a:pt x="190" y="76"/>
                    </a:lnTo>
                    <a:lnTo>
                      <a:pt x="2" y="73"/>
                    </a:lnTo>
                    <a:lnTo>
                      <a:pt x="0" y="137"/>
                    </a:lnTo>
                    <a:lnTo>
                      <a:pt x="188" y="140"/>
                    </a:lnTo>
                    <a:lnTo>
                      <a:pt x="372" y="142"/>
                    </a:lnTo>
                    <a:lnTo>
                      <a:pt x="549" y="145"/>
                    </a:lnTo>
                    <a:lnTo>
                      <a:pt x="719" y="146"/>
                    </a:lnTo>
                    <a:lnTo>
                      <a:pt x="886" y="145"/>
                    </a:lnTo>
                    <a:lnTo>
                      <a:pt x="1047" y="144"/>
                    </a:lnTo>
                    <a:lnTo>
                      <a:pt x="1203" y="141"/>
                    </a:lnTo>
                    <a:lnTo>
                      <a:pt x="1355" y="138"/>
                    </a:lnTo>
                    <a:lnTo>
                      <a:pt x="1503" y="132"/>
                    </a:lnTo>
                    <a:lnTo>
                      <a:pt x="1646" y="126"/>
                    </a:lnTo>
                    <a:lnTo>
                      <a:pt x="1786" y="120"/>
                    </a:lnTo>
                    <a:lnTo>
                      <a:pt x="1922" y="112"/>
                    </a:lnTo>
                    <a:lnTo>
                      <a:pt x="2055" y="101"/>
                    </a:lnTo>
                    <a:lnTo>
                      <a:pt x="2185" y="90"/>
                    </a:lnTo>
                    <a:lnTo>
                      <a:pt x="2312" y="78"/>
                    </a:lnTo>
                    <a:lnTo>
                      <a:pt x="2437" y="64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45120" y="5340600"/>
                <a:ext cx="60120" cy="52920"/>
              </a:xfrm>
              <a:custGeom>
                <a:avLst/>
                <a:gdLst/>
                <a:ahLst/>
                <a:rect l="l" t="t" r="r" b="b"/>
                <a:pathLst>
                  <a:path w="513" h="493">
                    <a:moveTo>
                      <a:pt x="34" y="36"/>
                    </a:moveTo>
                    <a:lnTo>
                      <a:pt x="0" y="71"/>
                    </a:lnTo>
                    <a:lnTo>
                      <a:pt x="446" y="493"/>
                    </a:lnTo>
                    <a:lnTo>
                      <a:pt x="513" y="423"/>
                    </a:lnTo>
                    <a:lnTo>
                      <a:pt x="67" y="0"/>
                    </a:lnTo>
                    <a:lnTo>
                      <a:pt x="34" y="3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96960" y="5304960"/>
                <a:ext cx="56880" cy="62640"/>
              </a:xfrm>
              <a:custGeom>
                <a:avLst/>
                <a:gdLst/>
                <a:ahLst/>
                <a:rect l="l" t="t" r="r" b="b"/>
                <a:pathLst>
                  <a:path w="491" h="581">
                    <a:moveTo>
                      <a:pt x="36" y="31"/>
                    </a:moveTo>
                    <a:lnTo>
                      <a:pt x="0" y="60"/>
                    </a:lnTo>
                    <a:lnTo>
                      <a:pt x="415" y="581"/>
                    </a:lnTo>
                    <a:lnTo>
                      <a:pt x="491" y="521"/>
                    </a:lnTo>
                    <a:lnTo>
                      <a:pt x="74" y="0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61400" y="5280120"/>
                <a:ext cx="43920" cy="64800"/>
              </a:xfrm>
              <a:custGeom>
                <a:avLst/>
                <a:gdLst/>
                <a:ahLst/>
                <a:rect l="l" t="t" r="r" b="b"/>
                <a:pathLst>
                  <a:path w="375" h="595">
                    <a:moveTo>
                      <a:pt x="42" y="23"/>
                    </a:moveTo>
                    <a:lnTo>
                      <a:pt x="0" y="45"/>
                    </a:lnTo>
                    <a:lnTo>
                      <a:pt x="290" y="595"/>
                    </a:lnTo>
                    <a:lnTo>
                      <a:pt x="375" y="550"/>
                    </a:lnTo>
                    <a:lnTo>
                      <a:pt x="86" y="0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24400" y="5263560"/>
                <a:ext cx="39600" cy="64080"/>
              </a:xfrm>
              <a:custGeom>
                <a:avLst/>
                <a:gdLst/>
                <a:ahLst/>
                <a:rect l="l" t="t" r="r" b="b"/>
                <a:pathLst>
                  <a:path w="341" h="590">
                    <a:moveTo>
                      <a:pt x="45" y="20"/>
                    </a:moveTo>
                    <a:lnTo>
                      <a:pt x="0" y="41"/>
                    </a:lnTo>
                    <a:lnTo>
                      <a:pt x="253" y="590"/>
                    </a:lnTo>
                    <a:lnTo>
                      <a:pt x="341" y="550"/>
                    </a:lnTo>
                    <a:lnTo>
                      <a:pt x="88" y="0"/>
                    </a:lnTo>
                    <a:lnTo>
                      <a:pt x="45" y="2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86320" y="525096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325" h="615">
                    <a:moveTo>
                      <a:pt x="45" y="19"/>
                    </a:moveTo>
                    <a:lnTo>
                      <a:pt x="0" y="37"/>
                    </a:lnTo>
                    <a:lnTo>
                      <a:pt x="235" y="615"/>
                    </a:lnTo>
                    <a:lnTo>
                      <a:pt x="325" y="579"/>
                    </a:lnTo>
                    <a:lnTo>
                      <a:pt x="90" y="0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53640" y="5244120"/>
                <a:ext cx="31320" cy="65160"/>
              </a:xfrm>
              <a:custGeom>
                <a:avLst/>
                <a:gdLst/>
                <a:ahLst/>
                <a:rect l="l" t="t" r="r" b="b"/>
                <a:pathLst>
                  <a:path w="273" h="608">
                    <a:moveTo>
                      <a:pt x="47" y="15"/>
                    </a:moveTo>
                    <a:lnTo>
                      <a:pt x="0" y="29"/>
                    </a:lnTo>
                    <a:lnTo>
                      <a:pt x="181" y="608"/>
                    </a:lnTo>
                    <a:lnTo>
                      <a:pt x="273" y="580"/>
                    </a:lnTo>
                    <a:lnTo>
                      <a:pt x="93" y="0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27080" y="5241240"/>
                <a:ext cx="21600" cy="65160"/>
              </a:xfrm>
              <a:custGeom>
                <a:avLst/>
                <a:gdLst/>
                <a:ahLst/>
                <a:rect l="l" t="t" r="r" b="b"/>
                <a:pathLst>
                  <a:path w="186" h="608">
                    <a:moveTo>
                      <a:pt x="48" y="8"/>
                    </a:moveTo>
                    <a:lnTo>
                      <a:pt x="0" y="14"/>
                    </a:lnTo>
                    <a:lnTo>
                      <a:pt x="90" y="608"/>
                    </a:lnTo>
                    <a:lnTo>
                      <a:pt x="186" y="594"/>
                    </a:lnTo>
                    <a:lnTo>
                      <a:pt x="95" y="0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95120" y="5241960"/>
                <a:ext cx="16560" cy="63360"/>
              </a:xfrm>
              <a:custGeom>
                <a:avLst/>
                <a:gdLst/>
                <a:ahLst/>
                <a:rect l="l" t="t" r="r" b="b"/>
                <a:pathLst>
                  <a:path w="149" h="587">
                    <a:moveTo>
                      <a:pt x="47" y="5"/>
                    </a:moveTo>
                    <a:lnTo>
                      <a:pt x="0" y="8"/>
                    </a:lnTo>
                    <a:lnTo>
                      <a:pt x="54" y="587"/>
                    </a:lnTo>
                    <a:lnTo>
                      <a:pt x="149" y="579"/>
                    </a:lnTo>
                    <a:lnTo>
                      <a:pt x="95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6760" y="5238720"/>
                <a:ext cx="13320" cy="67320"/>
              </a:xfrm>
              <a:custGeom>
                <a:avLst/>
                <a:gdLst/>
                <a:ahLst/>
                <a:rect l="l" t="t" r="r" b="b"/>
                <a:pathLst>
                  <a:path w="115" h="625">
                    <a:moveTo>
                      <a:pt x="49" y="1"/>
                    </a:moveTo>
                    <a:lnTo>
                      <a:pt x="0" y="3"/>
                    </a:lnTo>
                    <a:lnTo>
                      <a:pt x="19" y="625"/>
                    </a:lnTo>
                    <a:lnTo>
                      <a:pt x="115" y="622"/>
                    </a:lnTo>
                    <a:lnTo>
                      <a:pt x="98" y="0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31920" y="5237280"/>
                <a:ext cx="15840" cy="67320"/>
              </a:xfrm>
              <a:custGeom>
                <a:avLst/>
                <a:gdLst/>
                <a:ahLst/>
                <a:rect l="l" t="t" r="r" b="b"/>
                <a:pathLst>
                  <a:path w="133" h="627">
                    <a:moveTo>
                      <a:pt x="85" y="2"/>
                    </a:moveTo>
                    <a:lnTo>
                      <a:pt x="37" y="0"/>
                    </a:lnTo>
                    <a:lnTo>
                      <a:pt x="0" y="621"/>
                    </a:lnTo>
                    <a:lnTo>
                      <a:pt x="96" y="627"/>
                    </a:lnTo>
                    <a:lnTo>
                      <a:pt x="133" y="4"/>
                    </a:lnTo>
                    <a:lnTo>
                      <a:pt x="85" y="2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02120" y="5232960"/>
                <a:ext cx="13320" cy="70560"/>
              </a:xfrm>
              <a:custGeom>
                <a:avLst/>
                <a:gdLst/>
                <a:ahLst/>
                <a:rect l="l" t="t" r="r" b="b"/>
                <a:pathLst>
                  <a:path w="114" h="654">
                    <a:moveTo>
                      <a:pt x="66" y="1"/>
                    </a:moveTo>
                    <a:lnTo>
                      <a:pt x="18" y="0"/>
                    </a:lnTo>
                    <a:lnTo>
                      <a:pt x="0" y="652"/>
                    </a:lnTo>
                    <a:lnTo>
                      <a:pt x="96" y="654"/>
                    </a:lnTo>
                    <a:lnTo>
                      <a:pt x="114" y="3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73760" y="52264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110" h="707">
                    <a:moveTo>
                      <a:pt x="48" y="1"/>
                    </a:moveTo>
                    <a:lnTo>
                      <a:pt x="0" y="1"/>
                    </a:lnTo>
                    <a:lnTo>
                      <a:pt x="14" y="707"/>
                    </a:lnTo>
                    <a:lnTo>
                      <a:pt x="110" y="705"/>
                    </a:lnTo>
                    <a:lnTo>
                      <a:pt x="97" y="0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25000" y="567000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7" h="174">
                    <a:moveTo>
                      <a:pt x="92" y="174"/>
                    </a:moveTo>
                    <a:lnTo>
                      <a:pt x="377" y="42"/>
                    </a:lnTo>
                    <a:lnTo>
                      <a:pt x="285" y="0"/>
                    </a:lnTo>
                    <a:lnTo>
                      <a:pt x="0" y="132"/>
                    </a:lnTo>
                    <a:lnTo>
                      <a:pt x="92" y="174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25000" y="56844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92" y="128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2" y="42"/>
                    </a:lnTo>
                    <a:lnTo>
                      <a:pt x="92" y="128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38320" y="569268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2" h="256">
                    <a:moveTo>
                      <a:pt x="0" y="213"/>
                    </a:moveTo>
                    <a:lnTo>
                      <a:pt x="92" y="256"/>
                    </a:lnTo>
                    <a:lnTo>
                      <a:pt x="92" y="0"/>
                    </a:lnTo>
                    <a:lnTo>
                      <a:pt x="0" y="38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48760" y="5688000"/>
                <a:ext cx="10800" cy="32400"/>
              </a:xfrm>
              <a:custGeom>
                <a:avLst/>
                <a:gdLst/>
                <a:ahLst/>
                <a:rect l="l" t="t" r="r" b="b"/>
                <a:pathLst>
                  <a:path w="91" h="300">
                    <a:moveTo>
                      <a:pt x="0" y="300"/>
                    </a:moveTo>
                    <a:lnTo>
                      <a:pt x="91" y="257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36160" y="567468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285" h="218">
                    <a:moveTo>
                      <a:pt x="285" y="86"/>
                    </a:moveTo>
                    <a:lnTo>
                      <a:pt x="0" y="218"/>
                    </a:lnTo>
                    <a:lnTo>
                      <a:pt x="0" y="132"/>
                    </a:lnTo>
                    <a:lnTo>
                      <a:pt x="285" y="0"/>
                    </a:lnTo>
                    <a:lnTo>
                      <a:pt x="285" y="8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68560" y="5652360"/>
                <a:ext cx="43200" cy="18720"/>
              </a:xfrm>
              <a:custGeom>
                <a:avLst/>
                <a:gdLst/>
                <a:ahLst/>
                <a:rect l="l" t="t" r="r" b="b"/>
                <a:pathLst>
                  <a:path w="376" h="174">
                    <a:moveTo>
                      <a:pt x="91" y="174"/>
                    </a:moveTo>
                    <a:lnTo>
                      <a:pt x="376" y="42"/>
                    </a:lnTo>
                    <a:lnTo>
                      <a:pt x="284" y="0"/>
                    </a:lnTo>
                    <a:lnTo>
                      <a:pt x="0" y="132"/>
                    </a:lnTo>
                    <a:lnTo>
                      <a:pt x="91" y="174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68560" y="56667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1" h="128">
                    <a:moveTo>
                      <a:pt x="91" y="128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1" y="42"/>
                    </a:lnTo>
                    <a:lnTo>
                      <a:pt x="91" y="128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81880" y="567504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2" h="256">
                    <a:moveTo>
                      <a:pt x="0" y="213"/>
                    </a:moveTo>
                    <a:lnTo>
                      <a:pt x="92" y="256"/>
                    </a:lnTo>
                    <a:lnTo>
                      <a:pt x="92" y="0"/>
                    </a:lnTo>
                    <a:lnTo>
                      <a:pt x="0" y="38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92320" y="5670720"/>
                <a:ext cx="10440" cy="32400"/>
              </a:xfrm>
              <a:custGeom>
                <a:avLst/>
                <a:gdLst/>
                <a:ahLst/>
                <a:rect l="l" t="t" r="r" b="b"/>
                <a:pathLst>
                  <a:path w="92" h="299">
                    <a:moveTo>
                      <a:pt x="0" y="299"/>
                    </a:moveTo>
                    <a:lnTo>
                      <a:pt x="92" y="256"/>
                    </a:lnTo>
                    <a:lnTo>
                      <a:pt x="92" y="0"/>
                    </a:lnTo>
                    <a:lnTo>
                      <a:pt x="0" y="37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79000" y="565704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285" h="218">
                    <a:moveTo>
                      <a:pt x="285" y="87"/>
                    </a:moveTo>
                    <a:lnTo>
                      <a:pt x="0" y="218"/>
                    </a:lnTo>
                    <a:lnTo>
                      <a:pt x="0" y="132"/>
                    </a:lnTo>
                    <a:lnTo>
                      <a:pt x="285" y="0"/>
                    </a:lnTo>
                    <a:lnTo>
                      <a:pt x="285" y="87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11760" y="563364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6" h="173">
                    <a:moveTo>
                      <a:pt x="90" y="173"/>
                    </a:moveTo>
                    <a:lnTo>
                      <a:pt x="376" y="43"/>
                    </a:lnTo>
                    <a:lnTo>
                      <a:pt x="284" y="0"/>
                    </a:lnTo>
                    <a:lnTo>
                      <a:pt x="0" y="131"/>
                    </a:lnTo>
                    <a:lnTo>
                      <a:pt x="90" y="173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11760" y="564804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90" y="130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0" y="42"/>
                    </a:lnTo>
                    <a:lnTo>
                      <a:pt x="90" y="13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25080" y="565632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1" h="257">
                    <a:moveTo>
                      <a:pt x="0" y="215"/>
                    </a:moveTo>
                    <a:lnTo>
                      <a:pt x="91" y="257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35880" y="565164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93" h="299">
                    <a:moveTo>
                      <a:pt x="0" y="299"/>
                    </a:moveTo>
                    <a:lnTo>
                      <a:pt x="93" y="255"/>
                    </a:lnTo>
                    <a:lnTo>
                      <a:pt x="93" y="0"/>
                    </a:lnTo>
                    <a:lnTo>
                      <a:pt x="0" y="37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22560" y="56383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286" h="218">
                    <a:moveTo>
                      <a:pt x="286" y="86"/>
                    </a:moveTo>
                    <a:lnTo>
                      <a:pt x="0" y="218"/>
                    </a:lnTo>
                    <a:lnTo>
                      <a:pt x="0" y="130"/>
                    </a:lnTo>
                    <a:lnTo>
                      <a:pt x="286" y="0"/>
                    </a:lnTo>
                    <a:lnTo>
                      <a:pt x="286" y="8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59640" y="561024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6" h="174">
                    <a:moveTo>
                      <a:pt x="90" y="174"/>
                    </a:moveTo>
                    <a:lnTo>
                      <a:pt x="376" y="43"/>
                    </a:lnTo>
                    <a:lnTo>
                      <a:pt x="284" y="0"/>
                    </a:lnTo>
                    <a:lnTo>
                      <a:pt x="0" y="132"/>
                    </a:lnTo>
                    <a:lnTo>
                      <a:pt x="90" y="174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59640" y="56246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0" h="128">
                    <a:moveTo>
                      <a:pt x="90" y="128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0" y="42"/>
                    </a:lnTo>
                    <a:lnTo>
                      <a:pt x="90" y="128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72960" y="563292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1" h="257">
                    <a:moveTo>
                      <a:pt x="0" y="214"/>
                    </a:moveTo>
                    <a:lnTo>
                      <a:pt x="91" y="257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83400" y="562824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93" h="299">
                    <a:moveTo>
                      <a:pt x="0" y="299"/>
                    </a:moveTo>
                    <a:lnTo>
                      <a:pt x="93" y="255"/>
                    </a:lnTo>
                    <a:lnTo>
                      <a:pt x="93" y="0"/>
                    </a:lnTo>
                    <a:lnTo>
                      <a:pt x="0" y="36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70080" y="5614920"/>
                <a:ext cx="33480" cy="23040"/>
              </a:xfrm>
              <a:custGeom>
                <a:avLst/>
                <a:gdLst/>
                <a:ahLst/>
                <a:rect l="l" t="t" r="r" b="b"/>
                <a:pathLst>
                  <a:path w="286" h="217">
                    <a:moveTo>
                      <a:pt x="286" y="87"/>
                    </a:moveTo>
                    <a:lnTo>
                      <a:pt x="0" y="217"/>
                    </a:lnTo>
                    <a:lnTo>
                      <a:pt x="0" y="131"/>
                    </a:lnTo>
                    <a:lnTo>
                      <a:pt x="286" y="0"/>
                    </a:lnTo>
                    <a:lnTo>
                      <a:pt x="286" y="87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05360" y="558828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6" h="174">
                    <a:moveTo>
                      <a:pt x="91" y="174"/>
                    </a:moveTo>
                    <a:lnTo>
                      <a:pt x="376" y="42"/>
                    </a:lnTo>
                    <a:lnTo>
                      <a:pt x="285" y="0"/>
                    </a:lnTo>
                    <a:lnTo>
                      <a:pt x="0" y="131"/>
                    </a:lnTo>
                    <a:lnTo>
                      <a:pt x="91" y="174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05360" y="56026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1" h="129">
                    <a:moveTo>
                      <a:pt x="91" y="129"/>
                    </a:moveTo>
                    <a:lnTo>
                      <a:pt x="0" y="87"/>
                    </a:lnTo>
                    <a:lnTo>
                      <a:pt x="0" y="0"/>
                    </a:lnTo>
                    <a:lnTo>
                      <a:pt x="91" y="43"/>
                    </a:lnTo>
                    <a:lnTo>
                      <a:pt x="91" y="129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18680" y="561096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2" h="256">
                    <a:moveTo>
                      <a:pt x="0" y="213"/>
                    </a:moveTo>
                    <a:lnTo>
                      <a:pt x="92" y="256"/>
                    </a:lnTo>
                    <a:lnTo>
                      <a:pt x="92" y="0"/>
                    </a:lnTo>
                    <a:lnTo>
                      <a:pt x="0" y="38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29120" y="560664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92" h="300">
                    <a:moveTo>
                      <a:pt x="0" y="300"/>
                    </a:moveTo>
                    <a:lnTo>
                      <a:pt x="92" y="257"/>
                    </a:lnTo>
                    <a:lnTo>
                      <a:pt x="92" y="0"/>
                    </a:lnTo>
                    <a:lnTo>
                      <a:pt x="0" y="3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15800" y="5592960"/>
                <a:ext cx="33480" cy="23040"/>
              </a:xfrm>
              <a:custGeom>
                <a:avLst/>
                <a:gdLst/>
                <a:ahLst/>
                <a:rect l="l" t="t" r="r" b="b"/>
                <a:pathLst>
                  <a:path w="285" h="218">
                    <a:moveTo>
                      <a:pt x="285" y="86"/>
                    </a:moveTo>
                    <a:lnTo>
                      <a:pt x="0" y="218"/>
                    </a:lnTo>
                    <a:lnTo>
                      <a:pt x="0" y="132"/>
                    </a:lnTo>
                    <a:lnTo>
                      <a:pt x="285" y="0"/>
                    </a:lnTo>
                    <a:lnTo>
                      <a:pt x="285" y="8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50720" y="556632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6" h="173">
                    <a:moveTo>
                      <a:pt x="92" y="173"/>
                    </a:moveTo>
                    <a:lnTo>
                      <a:pt x="376" y="42"/>
                    </a:lnTo>
                    <a:lnTo>
                      <a:pt x="284" y="0"/>
                    </a:lnTo>
                    <a:lnTo>
                      <a:pt x="0" y="131"/>
                    </a:lnTo>
                    <a:lnTo>
                      <a:pt x="92" y="173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50720" y="55803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92" y="128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2" y="42"/>
                    </a:lnTo>
                    <a:lnTo>
                      <a:pt x="92" y="128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64040" y="5589000"/>
                <a:ext cx="11160" cy="27720"/>
              </a:xfrm>
              <a:custGeom>
                <a:avLst/>
                <a:gdLst/>
                <a:ahLst/>
                <a:rect l="l" t="t" r="r" b="b"/>
                <a:pathLst>
                  <a:path w="92" h="257">
                    <a:moveTo>
                      <a:pt x="0" y="214"/>
                    </a:moveTo>
                    <a:lnTo>
                      <a:pt x="92" y="257"/>
                    </a:lnTo>
                    <a:lnTo>
                      <a:pt x="92" y="0"/>
                    </a:lnTo>
                    <a:lnTo>
                      <a:pt x="0" y="38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5584320"/>
                <a:ext cx="10440" cy="32040"/>
              </a:xfrm>
              <a:custGeom>
                <a:avLst/>
                <a:gdLst/>
                <a:ahLst/>
                <a:rect l="l" t="t" r="r" b="b"/>
                <a:pathLst>
                  <a:path w="92" h="300">
                    <a:moveTo>
                      <a:pt x="0" y="300"/>
                    </a:moveTo>
                    <a:lnTo>
                      <a:pt x="92" y="256"/>
                    </a:lnTo>
                    <a:lnTo>
                      <a:pt x="92" y="0"/>
                    </a:lnTo>
                    <a:lnTo>
                      <a:pt x="0" y="37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61880" y="557064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284" h="217">
                    <a:moveTo>
                      <a:pt x="284" y="86"/>
                    </a:moveTo>
                    <a:lnTo>
                      <a:pt x="0" y="217"/>
                    </a:lnTo>
                    <a:lnTo>
                      <a:pt x="0" y="131"/>
                    </a:lnTo>
                    <a:lnTo>
                      <a:pt x="284" y="0"/>
                    </a:lnTo>
                    <a:lnTo>
                      <a:pt x="284" y="8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96440" y="554220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376" h="174">
                    <a:moveTo>
                      <a:pt x="90" y="174"/>
                    </a:moveTo>
                    <a:lnTo>
                      <a:pt x="376" y="43"/>
                    </a:lnTo>
                    <a:lnTo>
                      <a:pt x="284" y="0"/>
                    </a:lnTo>
                    <a:lnTo>
                      <a:pt x="0" y="131"/>
                    </a:lnTo>
                    <a:lnTo>
                      <a:pt x="90" y="174"/>
                    </a:lnTo>
                    <a:close/>
                  </a:path>
                </a:pathLst>
              </a:custGeom>
              <a:solidFill>
                <a:srgbClr val="dd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96440" y="555660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90" y="130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0" y="43"/>
                    </a:lnTo>
                    <a:lnTo>
                      <a:pt x="90" y="130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09760" y="5564880"/>
                <a:ext cx="10440" cy="27720"/>
              </a:xfrm>
              <a:custGeom>
                <a:avLst/>
                <a:gdLst/>
                <a:ahLst/>
                <a:rect l="l" t="t" r="r" b="b"/>
                <a:pathLst>
                  <a:path w="91" h="257">
                    <a:moveTo>
                      <a:pt x="0" y="215"/>
                    </a:moveTo>
                    <a:lnTo>
                      <a:pt x="91" y="257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9e33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20200" y="556020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93" h="299">
                    <a:moveTo>
                      <a:pt x="0" y="299"/>
                    </a:moveTo>
                    <a:lnTo>
                      <a:pt x="93" y="256"/>
                    </a:lnTo>
                    <a:lnTo>
                      <a:pt x="93" y="0"/>
                    </a:lnTo>
                    <a:lnTo>
                      <a:pt x="0" y="36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07600" y="5546880"/>
                <a:ext cx="32760" cy="23040"/>
              </a:xfrm>
              <a:custGeom>
                <a:avLst/>
                <a:gdLst/>
                <a:ahLst/>
                <a:rect l="l" t="t" r="r" b="b"/>
                <a:pathLst>
                  <a:path w="286" h="218">
                    <a:moveTo>
                      <a:pt x="286" y="86"/>
                    </a:moveTo>
                    <a:lnTo>
                      <a:pt x="0" y="218"/>
                    </a:lnTo>
                    <a:lnTo>
                      <a:pt x="0" y="131"/>
                    </a:lnTo>
                    <a:lnTo>
                      <a:pt x="286" y="0"/>
                    </a:lnTo>
                    <a:lnTo>
                      <a:pt x="286" y="86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45280" y="5119560"/>
                <a:ext cx="410040" cy="421920"/>
              </a:xfrm>
              <a:custGeom>
                <a:avLst/>
                <a:gdLst/>
                <a:ahLst/>
                <a:rect l="l" t="t" r="r" b="b"/>
                <a:pathLst>
                  <a:path w="3511" h="3901">
                    <a:moveTo>
                      <a:pt x="3511" y="3837"/>
                    </a:moveTo>
                    <a:lnTo>
                      <a:pt x="3462" y="3837"/>
                    </a:lnTo>
                    <a:lnTo>
                      <a:pt x="3414" y="3836"/>
                    </a:lnTo>
                    <a:lnTo>
                      <a:pt x="3367" y="3834"/>
                    </a:lnTo>
                    <a:lnTo>
                      <a:pt x="3321" y="3830"/>
                    </a:lnTo>
                    <a:lnTo>
                      <a:pt x="3276" y="3827"/>
                    </a:lnTo>
                    <a:lnTo>
                      <a:pt x="3234" y="3822"/>
                    </a:lnTo>
                    <a:lnTo>
                      <a:pt x="3191" y="3816"/>
                    </a:lnTo>
                    <a:lnTo>
                      <a:pt x="3151" y="3810"/>
                    </a:lnTo>
                    <a:lnTo>
                      <a:pt x="3112" y="3803"/>
                    </a:lnTo>
                    <a:lnTo>
                      <a:pt x="3074" y="3795"/>
                    </a:lnTo>
                    <a:lnTo>
                      <a:pt x="3036" y="3787"/>
                    </a:lnTo>
                    <a:lnTo>
                      <a:pt x="3001" y="3776"/>
                    </a:lnTo>
                    <a:lnTo>
                      <a:pt x="2966" y="3767"/>
                    </a:lnTo>
                    <a:lnTo>
                      <a:pt x="2932" y="3756"/>
                    </a:lnTo>
                    <a:lnTo>
                      <a:pt x="2900" y="3744"/>
                    </a:lnTo>
                    <a:lnTo>
                      <a:pt x="2868" y="3732"/>
                    </a:lnTo>
                    <a:lnTo>
                      <a:pt x="2838" y="3719"/>
                    </a:lnTo>
                    <a:lnTo>
                      <a:pt x="2808" y="3705"/>
                    </a:lnTo>
                    <a:lnTo>
                      <a:pt x="2779" y="3690"/>
                    </a:lnTo>
                    <a:lnTo>
                      <a:pt x="2752" y="3675"/>
                    </a:lnTo>
                    <a:lnTo>
                      <a:pt x="2724" y="3659"/>
                    </a:lnTo>
                    <a:lnTo>
                      <a:pt x="2698" y="3643"/>
                    </a:lnTo>
                    <a:lnTo>
                      <a:pt x="2673" y="3626"/>
                    </a:lnTo>
                    <a:lnTo>
                      <a:pt x="2649" y="3608"/>
                    </a:lnTo>
                    <a:lnTo>
                      <a:pt x="2626" y="3589"/>
                    </a:lnTo>
                    <a:lnTo>
                      <a:pt x="2603" y="3571"/>
                    </a:lnTo>
                    <a:lnTo>
                      <a:pt x="2580" y="3551"/>
                    </a:lnTo>
                    <a:lnTo>
                      <a:pt x="2559" y="3531"/>
                    </a:lnTo>
                    <a:lnTo>
                      <a:pt x="2539" y="3510"/>
                    </a:lnTo>
                    <a:lnTo>
                      <a:pt x="2518" y="3488"/>
                    </a:lnTo>
                    <a:lnTo>
                      <a:pt x="2499" y="3467"/>
                    </a:lnTo>
                    <a:lnTo>
                      <a:pt x="2480" y="3444"/>
                    </a:lnTo>
                    <a:lnTo>
                      <a:pt x="2462" y="3421"/>
                    </a:lnTo>
                    <a:lnTo>
                      <a:pt x="2443" y="3397"/>
                    </a:lnTo>
                    <a:lnTo>
                      <a:pt x="2426" y="3373"/>
                    </a:lnTo>
                    <a:lnTo>
                      <a:pt x="2410" y="3347"/>
                    </a:lnTo>
                    <a:lnTo>
                      <a:pt x="2394" y="3322"/>
                    </a:lnTo>
                    <a:lnTo>
                      <a:pt x="2378" y="3296"/>
                    </a:lnTo>
                    <a:lnTo>
                      <a:pt x="2363" y="3269"/>
                    </a:lnTo>
                    <a:lnTo>
                      <a:pt x="2348" y="3243"/>
                    </a:lnTo>
                    <a:lnTo>
                      <a:pt x="2320" y="3187"/>
                    </a:lnTo>
                    <a:lnTo>
                      <a:pt x="2292" y="3129"/>
                    </a:lnTo>
                    <a:lnTo>
                      <a:pt x="2267" y="3070"/>
                    </a:lnTo>
                    <a:lnTo>
                      <a:pt x="2242" y="3008"/>
                    </a:lnTo>
                    <a:lnTo>
                      <a:pt x="2218" y="2945"/>
                    </a:lnTo>
                    <a:lnTo>
                      <a:pt x="2195" y="2879"/>
                    </a:lnTo>
                    <a:lnTo>
                      <a:pt x="2172" y="2813"/>
                    </a:lnTo>
                    <a:lnTo>
                      <a:pt x="2150" y="2745"/>
                    </a:lnTo>
                    <a:lnTo>
                      <a:pt x="2106" y="2604"/>
                    </a:lnTo>
                    <a:lnTo>
                      <a:pt x="2062" y="2458"/>
                    </a:lnTo>
                    <a:lnTo>
                      <a:pt x="2039" y="2385"/>
                    </a:lnTo>
                    <a:lnTo>
                      <a:pt x="2015" y="2309"/>
                    </a:lnTo>
                    <a:lnTo>
                      <a:pt x="1991" y="2232"/>
                    </a:lnTo>
                    <a:lnTo>
                      <a:pt x="1964" y="2155"/>
                    </a:lnTo>
                    <a:lnTo>
                      <a:pt x="1938" y="2077"/>
                    </a:lnTo>
                    <a:lnTo>
                      <a:pt x="1909" y="1999"/>
                    </a:lnTo>
                    <a:lnTo>
                      <a:pt x="1878" y="1919"/>
                    </a:lnTo>
                    <a:lnTo>
                      <a:pt x="1846" y="1840"/>
                    </a:lnTo>
                    <a:lnTo>
                      <a:pt x="1812" y="1760"/>
                    </a:lnTo>
                    <a:lnTo>
                      <a:pt x="1776" y="1679"/>
                    </a:lnTo>
                    <a:lnTo>
                      <a:pt x="1737" y="1599"/>
                    </a:lnTo>
                    <a:lnTo>
                      <a:pt x="1696" y="1518"/>
                    </a:lnTo>
                    <a:lnTo>
                      <a:pt x="1673" y="1478"/>
                    </a:lnTo>
                    <a:lnTo>
                      <a:pt x="1651" y="1437"/>
                    </a:lnTo>
                    <a:lnTo>
                      <a:pt x="1628" y="1396"/>
                    </a:lnTo>
                    <a:lnTo>
                      <a:pt x="1604" y="1356"/>
                    </a:lnTo>
                    <a:lnTo>
                      <a:pt x="1579" y="1316"/>
                    </a:lnTo>
                    <a:lnTo>
                      <a:pt x="1554" y="1276"/>
                    </a:lnTo>
                    <a:lnTo>
                      <a:pt x="1526" y="1234"/>
                    </a:lnTo>
                    <a:lnTo>
                      <a:pt x="1500" y="1194"/>
                    </a:lnTo>
                    <a:lnTo>
                      <a:pt x="1471" y="1154"/>
                    </a:lnTo>
                    <a:lnTo>
                      <a:pt x="1441" y="1114"/>
                    </a:lnTo>
                    <a:lnTo>
                      <a:pt x="1411" y="1074"/>
                    </a:lnTo>
                    <a:lnTo>
                      <a:pt x="1380" y="1035"/>
                    </a:lnTo>
                    <a:lnTo>
                      <a:pt x="1348" y="995"/>
                    </a:lnTo>
                    <a:lnTo>
                      <a:pt x="1315" y="955"/>
                    </a:lnTo>
                    <a:lnTo>
                      <a:pt x="1282" y="916"/>
                    </a:lnTo>
                    <a:lnTo>
                      <a:pt x="1246" y="875"/>
                    </a:lnTo>
                    <a:lnTo>
                      <a:pt x="1210" y="836"/>
                    </a:lnTo>
                    <a:lnTo>
                      <a:pt x="1173" y="797"/>
                    </a:lnTo>
                    <a:lnTo>
                      <a:pt x="1134" y="758"/>
                    </a:lnTo>
                    <a:lnTo>
                      <a:pt x="1095" y="719"/>
                    </a:lnTo>
                    <a:lnTo>
                      <a:pt x="1054" y="682"/>
                    </a:lnTo>
                    <a:lnTo>
                      <a:pt x="1012" y="643"/>
                    </a:lnTo>
                    <a:lnTo>
                      <a:pt x="969" y="605"/>
                    </a:lnTo>
                    <a:lnTo>
                      <a:pt x="924" y="567"/>
                    </a:lnTo>
                    <a:lnTo>
                      <a:pt x="879" y="529"/>
                    </a:lnTo>
                    <a:lnTo>
                      <a:pt x="832" y="491"/>
                    </a:lnTo>
                    <a:lnTo>
                      <a:pt x="784" y="454"/>
                    </a:lnTo>
                    <a:lnTo>
                      <a:pt x="734" y="418"/>
                    </a:lnTo>
                    <a:lnTo>
                      <a:pt x="683" y="381"/>
                    </a:lnTo>
                    <a:lnTo>
                      <a:pt x="630" y="344"/>
                    </a:lnTo>
                    <a:lnTo>
                      <a:pt x="578" y="309"/>
                    </a:lnTo>
                    <a:lnTo>
                      <a:pt x="523" y="273"/>
                    </a:lnTo>
                    <a:lnTo>
                      <a:pt x="465" y="238"/>
                    </a:lnTo>
                    <a:lnTo>
                      <a:pt x="408" y="202"/>
                    </a:lnTo>
                    <a:lnTo>
                      <a:pt x="348" y="168"/>
                    </a:lnTo>
                    <a:lnTo>
                      <a:pt x="288" y="133"/>
                    </a:lnTo>
                    <a:lnTo>
                      <a:pt x="225" y="100"/>
                    </a:lnTo>
                    <a:lnTo>
                      <a:pt x="160" y="66"/>
                    </a:lnTo>
                    <a:lnTo>
                      <a:pt x="95" y="32"/>
                    </a:lnTo>
                    <a:lnTo>
                      <a:pt x="27" y="0"/>
                    </a:lnTo>
                    <a:lnTo>
                      <a:pt x="0" y="58"/>
                    </a:lnTo>
                    <a:lnTo>
                      <a:pt x="66" y="91"/>
                    </a:lnTo>
                    <a:lnTo>
                      <a:pt x="132" y="123"/>
                    </a:lnTo>
                    <a:lnTo>
                      <a:pt x="195" y="156"/>
                    </a:lnTo>
                    <a:lnTo>
                      <a:pt x="257" y="189"/>
                    </a:lnTo>
                    <a:lnTo>
                      <a:pt x="316" y="224"/>
                    </a:lnTo>
                    <a:lnTo>
                      <a:pt x="375" y="258"/>
                    </a:lnTo>
                    <a:lnTo>
                      <a:pt x="432" y="293"/>
                    </a:lnTo>
                    <a:lnTo>
                      <a:pt x="488" y="327"/>
                    </a:lnTo>
                    <a:lnTo>
                      <a:pt x="542" y="363"/>
                    </a:lnTo>
                    <a:lnTo>
                      <a:pt x="595" y="398"/>
                    </a:lnTo>
                    <a:lnTo>
                      <a:pt x="647" y="434"/>
                    </a:lnTo>
                    <a:lnTo>
                      <a:pt x="696" y="469"/>
                    </a:lnTo>
                    <a:lnTo>
                      <a:pt x="745" y="506"/>
                    </a:lnTo>
                    <a:lnTo>
                      <a:pt x="792" y="542"/>
                    </a:lnTo>
                    <a:lnTo>
                      <a:pt x="838" y="578"/>
                    </a:lnTo>
                    <a:lnTo>
                      <a:pt x="883" y="616"/>
                    </a:lnTo>
                    <a:lnTo>
                      <a:pt x="926" y="653"/>
                    </a:lnTo>
                    <a:lnTo>
                      <a:pt x="969" y="691"/>
                    </a:lnTo>
                    <a:lnTo>
                      <a:pt x="1010" y="729"/>
                    </a:lnTo>
                    <a:lnTo>
                      <a:pt x="1050" y="766"/>
                    </a:lnTo>
                    <a:lnTo>
                      <a:pt x="1089" y="804"/>
                    </a:lnTo>
                    <a:lnTo>
                      <a:pt x="1127" y="842"/>
                    </a:lnTo>
                    <a:lnTo>
                      <a:pt x="1164" y="880"/>
                    </a:lnTo>
                    <a:lnTo>
                      <a:pt x="1199" y="919"/>
                    </a:lnTo>
                    <a:lnTo>
                      <a:pt x="1234" y="957"/>
                    </a:lnTo>
                    <a:lnTo>
                      <a:pt x="1267" y="996"/>
                    </a:lnTo>
                    <a:lnTo>
                      <a:pt x="1299" y="1035"/>
                    </a:lnTo>
                    <a:lnTo>
                      <a:pt x="1330" y="1074"/>
                    </a:lnTo>
                    <a:lnTo>
                      <a:pt x="1361" y="1113"/>
                    </a:lnTo>
                    <a:lnTo>
                      <a:pt x="1391" y="1153"/>
                    </a:lnTo>
                    <a:lnTo>
                      <a:pt x="1418" y="1192"/>
                    </a:lnTo>
                    <a:lnTo>
                      <a:pt x="1447" y="1231"/>
                    </a:lnTo>
                    <a:lnTo>
                      <a:pt x="1473" y="1271"/>
                    </a:lnTo>
                    <a:lnTo>
                      <a:pt x="1500" y="1310"/>
                    </a:lnTo>
                    <a:lnTo>
                      <a:pt x="1524" y="1349"/>
                    </a:lnTo>
                    <a:lnTo>
                      <a:pt x="1549" y="1389"/>
                    </a:lnTo>
                    <a:lnTo>
                      <a:pt x="1572" y="1429"/>
                    </a:lnTo>
                    <a:lnTo>
                      <a:pt x="1595" y="1468"/>
                    </a:lnTo>
                    <a:lnTo>
                      <a:pt x="1617" y="1509"/>
                    </a:lnTo>
                    <a:lnTo>
                      <a:pt x="1638" y="1548"/>
                    </a:lnTo>
                    <a:lnTo>
                      <a:pt x="1680" y="1628"/>
                    </a:lnTo>
                    <a:lnTo>
                      <a:pt x="1718" y="1707"/>
                    </a:lnTo>
                    <a:lnTo>
                      <a:pt x="1753" y="1786"/>
                    </a:lnTo>
                    <a:lnTo>
                      <a:pt x="1788" y="1864"/>
                    </a:lnTo>
                    <a:lnTo>
                      <a:pt x="1818" y="1943"/>
                    </a:lnTo>
                    <a:lnTo>
                      <a:pt x="1848" y="2021"/>
                    </a:lnTo>
                    <a:lnTo>
                      <a:pt x="1877" y="2099"/>
                    </a:lnTo>
                    <a:lnTo>
                      <a:pt x="1903" y="2176"/>
                    </a:lnTo>
                    <a:lnTo>
                      <a:pt x="1930" y="2253"/>
                    </a:lnTo>
                    <a:lnTo>
                      <a:pt x="1954" y="2329"/>
                    </a:lnTo>
                    <a:lnTo>
                      <a:pt x="1978" y="2403"/>
                    </a:lnTo>
                    <a:lnTo>
                      <a:pt x="2001" y="2478"/>
                    </a:lnTo>
                    <a:lnTo>
                      <a:pt x="2044" y="2623"/>
                    </a:lnTo>
                    <a:lnTo>
                      <a:pt x="2089" y="2765"/>
                    </a:lnTo>
                    <a:lnTo>
                      <a:pt x="2111" y="2833"/>
                    </a:lnTo>
                    <a:lnTo>
                      <a:pt x="2134" y="2900"/>
                    </a:lnTo>
                    <a:lnTo>
                      <a:pt x="2158" y="2966"/>
                    </a:lnTo>
                    <a:lnTo>
                      <a:pt x="2182" y="3031"/>
                    </a:lnTo>
                    <a:lnTo>
                      <a:pt x="2207" y="3094"/>
                    </a:lnTo>
                    <a:lnTo>
                      <a:pt x="2234" y="3156"/>
                    </a:lnTo>
                    <a:lnTo>
                      <a:pt x="2262" y="3214"/>
                    </a:lnTo>
                    <a:lnTo>
                      <a:pt x="2291" y="3273"/>
                    </a:lnTo>
                    <a:lnTo>
                      <a:pt x="2307" y="3301"/>
                    </a:lnTo>
                    <a:lnTo>
                      <a:pt x="2323" y="3329"/>
                    </a:lnTo>
                    <a:lnTo>
                      <a:pt x="2339" y="3355"/>
                    </a:lnTo>
                    <a:lnTo>
                      <a:pt x="2356" y="3383"/>
                    </a:lnTo>
                    <a:lnTo>
                      <a:pt x="2374" y="3409"/>
                    </a:lnTo>
                    <a:lnTo>
                      <a:pt x="2392" y="3434"/>
                    </a:lnTo>
                    <a:lnTo>
                      <a:pt x="2410" y="3460"/>
                    </a:lnTo>
                    <a:lnTo>
                      <a:pt x="2430" y="3484"/>
                    </a:lnTo>
                    <a:lnTo>
                      <a:pt x="2450" y="3508"/>
                    </a:lnTo>
                    <a:lnTo>
                      <a:pt x="2471" y="3532"/>
                    </a:lnTo>
                    <a:lnTo>
                      <a:pt x="2492" y="3555"/>
                    </a:lnTo>
                    <a:lnTo>
                      <a:pt x="2515" y="3577"/>
                    </a:lnTo>
                    <a:lnTo>
                      <a:pt x="2538" y="3598"/>
                    </a:lnTo>
                    <a:lnTo>
                      <a:pt x="2560" y="3619"/>
                    </a:lnTo>
                    <a:lnTo>
                      <a:pt x="2586" y="3640"/>
                    </a:lnTo>
                    <a:lnTo>
                      <a:pt x="2611" y="3659"/>
                    </a:lnTo>
                    <a:lnTo>
                      <a:pt x="2636" y="3679"/>
                    </a:lnTo>
                    <a:lnTo>
                      <a:pt x="2664" y="3697"/>
                    </a:lnTo>
                    <a:lnTo>
                      <a:pt x="2691" y="3714"/>
                    </a:lnTo>
                    <a:lnTo>
                      <a:pt x="2720" y="3730"/>
                    </a:lnTo>
                    <a:lnTo>
                      <a:pt x="2750" y="3748"/>
                    </a:lnTo>
                    <a:lnTo>
                      <a:pt x="2779" y="3763"/>
                    </a:lnTo>
                    <a:lnTo>
                      <a:pt x="2812" y="3777"/>
                    </a:lnTo>
                    <a:lnTo>
                      <a:pt x="2844" y="3791"/>
                    </a:lnTo>
                    <a:lnTo>
                      <a:pt x="2877" y="3804"/>
                    </a:lnTo>
                    <a:lnTo>
                      <a:pt x="2911" y="3816"/>
                    </a:lnTo>
                    <a:lnTo>
                      <a:pt x="2947" y="3828"/>
                    </a:lnTo>
                    <a:lnTo>
                      <a:pt x="2984" y="3838"/>
                    </a:lnTo>
                    <a:lnTo>
                      <a:pt x="3021" y="3849"/>
                    </a:lnTo>
                    <a:lnTo>
                      <a:pt x="3059" y="3858"/>
                    </a:lnTo>
                    <a:lnTo>
                      <a:pt x="3099" y="3866"/>
                    </a:lnTo>
                    <a:lnTo>
                      <a:pt x="3141" y="3874"/>
                    </a:lnTo>
                    <a:lnTo>
                      <a:pt x="3182" y="3879"/>
                    </a:lnTo>
                    <a:lnTo>
                      <a:pt x="3226" y="3885"/>
                    </a:lnTo>
                    <a:lnTo>
                      <a:pt x="3270" y="3890"/>
                    </a:lnTo>
                    <a:lnTo>
                      <a:pt x="3316" y="3894"/>
                    </a:lnTo>
                    <a:lnTo>
                      <a:pt x="3363" y="3898"/>
                    </a:lnTo>
                    <a:lnTo>
                      <a:pt x="3411" y="3900"/>
                    </a:lnTo>
                    <a:lnTo>
                      <a:pt x="3461" y="3901"/>
                    </a:lnTo>
                    <a:lnTo>
                      <a:pt x="3511" y="3901"/>
                    </a:lnTo>
                    <a:lnTo>
                      <a:pt x="3511" y="3837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55320" y="5237280"/>
                <a:ext cx="703800" cy="304200"/>
              </a:xfrm>
              <a:custGeom>
                <a:avLst/>
                <a:gdLst/>
                <a:ahLst/>
                <a:rect l="l" t="t" r="r" b="b"/>
                <a:pathLst>
                  <a:path w="6023" h="2813">
                    <a:moveTo>
                      <a:pt x="6023" y="0"/>
                    </a:moveTo>
                    <a:lnTo>
                      <a:pt x="5912" y="1"/>
                    </a:lnTo>
                    <a:lnTo>
                      <a:pt x="5804" y="2"/>
                    </a:lnTo>
                    <a:lnTo>
                      <a:pt x="5697" y="4"/>
                    </a:lnTo>
                    <a:lnTo>
                      <a:pt x="5593" y="8"/>
                    </a:lnTo>
                    <a:lnTo>
                      <a:pt x="5490" y="12"/>
                    </a:lnTo>
                    <a:lnTo>
                      <a:pt x="5390" y="17"/>
                    </a:lnTo>
                    <a:lnTo>
                      <a:pt x="5291" y="24"/>
                    </a:lnTo>
                    <a:lnTo>
                      <a:pt x="5194" y="31"/>
                    </a:lnTo>
                    <a:lnTo>
                      <a:pt x="5099" y="39"/>
                    </a:lnTo>
                    <a:lnTo>
                      <a:pt x="5006" y="48"/>
                    </a:lnTo>
                    <a:lnTo>
                      <a:pt x="4914" y="57"/>
                    </a:lnTo>
                    <a:lnTo>
                      <a:pt x="4824" y="68"/>
                    </a:lnTo>
                    <a:lnTo>
                      <a:pt x="4737" y="80"/>
                    </a:lnTo>
                    <a:lnTo>
                      <a:pt x="4651" y="91"/>
                    </a:lnTo>
                    <a:lnTo>
                      <a:pt x="4566" y="105"/>
                    </a:lnTo>
                    <a:lnTo>
                      <a:pt x="4484" y="118"/>
                    </a:lnTo>
                    <a:lnTo>
                      <a:pt x="4404" y="133"/>
                    </a:lnTo>
                    <a:lnTo>
                      <a:pt x="4323" y="148"/>
                    </a:lnTo>
                    <a:lnTo>
                      <a:pt x="4247" y="164"/>
                    </a:lnTo>
                    <a:lnTo>
                      <a:pt x="4170" y="181"/>
                    </a:lnTo>
                    <a:lnTo>
                      <a:pt x="4095" y="198"/>
                    </a:lnTo>
                    <a:lnTo>
                      <a:pt x="4023" y="216"/>
                    </a:lnTo>
                    <a:lnTo>
                      <a:pt x="3951" y="235"/>
                    </a:lnTo>
                    <a:lnTo>
                      <a:pt x="3881" y="254"/>
                    </a:lnTo>
                    <a:lnTo>
                      <a:pt x="3812" y="275"/>
                    </a:lnTo>
                    <a:lnTo>
                      <a:pt x="3745" y="296"/>
                    </a:lnTo>
                    <a:lnTo>
                      <a:pt x="3680" y="317"/>
                    </a:lnTo>
                    <a:lnTo>
                      <a:pt x="3616" y="339"/>
                    </a:lnTo>
                    <a:lnTo>
                      <a:pt x="3553" y="361"/>
                    </a:lnTo>
                    <a:lnTo>
                      <a:pt x="3491" y="384"/>
                    </a:lnTo>
                    <a:lnTo>
                      <a:pt x="3430" y="408"/>
                    </a:lnTo>
                    <a:lnTo>
                      <a:pt x="3372" y="432"/>
                    </a:lnTo>
                    <a:lnTo>
                      <a:pt x="3314" y="456"/>
                    </a:lnTo>
                    <a:lnTo>
                      <a:pt x="3257" y="481"/>
                    </a:lnTo>
                    <a:lnTo>
                      <a:pt x="3202" y="507"/>
                    </a:lnTo>
                    <a:lnTo>
                      <a:pt x="3148" y="533"/>
                    </a:lnTo>
                    <a:lnTo>
                      <a:pt x="3095" y="559"/>
                    </a:lnTo>
                    <a:lnTo>
                      <a:pt x="3044" y="587"/>
                    </a:lnTo>
                    <a:lnTo>
                      <a:pt x="2993" y="614"/>
                    </a:lnTo>
                    <a:lnTo>
                      <a:pt x="2944" y="642"/>
                    </a:lnTo>
                    <a:lnTo>
                      <a:pt x="2894" y="669"/>
                    </a:lnTo>
                    <a:lnTo>
                      <a:pt x="2847" y="698"/>
                    </a:lnTo>
                    <a:lnTo>
                      <a:pt x="2802" y="727"/>
                    </a:lnTo>
                    <a:lnTo>
                      <a:pt x="2756" y="757"/>
                    </a:lnTo>
                    <a:lnTo>
                      <a:pt x="2711" y="785"/>
                    </a:lnTo>
                    <a:lnTo>
                      <a:pt x="2667" y="815"/>
                    </a:lnTo>
                    <a:lnTo>
                      <a:pt x="2625" y="846"/>
                    </a:lnTo>
                    <a:lnTo>
                      <a:pt x="2584" y="876"/>
                    </a:lnTo>
                    <a:lnTo>
                      <a:pt x="2544" y="907"/>
                    </a:lnTo>
                    <a:lnTo>
                      <a:pt x="2503" y="938"/>
                    </a:lnTo>
                    <a:lnTo>
                      <a:pt x="2464" y="969"/>
                    </a:lnTo>
                    <a:lnTo>
                      <a:pt x="2425" y="1000"/>
                    </a:lnTo>
                    <a:lnTo>
                      <a:pt x="2389" y="1031"/>
                    </a:lnTo>
                    <a:lnTo>
                      <a:pt x="2352" y="1063"/>
                    </a:lnTo>
                    <a:lnTo>
                      <a:pt x="2315" y="1095"/>
                    </a:lnTo>
                    <a:lnTo>
                      <a:pt x="2281" y="1127"/>
                    </a:lnTo>
                    <a:lnTo>
                      <a:pt x="2212" y="1190"/>
                    </a:lnTo>
                    <a:lnTo>
                      <a:pt x="2147" y="1256"/>
                    </a:lnTo>
                    <a:lnTo>
                      <a:pt x="2083" y="1320"/>
                    </a:lnTo>
                    <a:lnTo>
                      <a:pt x="2022" y="1385"/>
                    </a:lnTo>
                    <a:lnTo>
                      <a:pt x="1962" y="1449"/>
                    </a:lnTo>
                    <a:lnTo>
                      <a:pt x="1904" y="1514"/>
                    </a:lnTo>
                    <a:lnTo>
                      <a:pt x="1848" y="1578"/>
                    </a:lnTo>
                    <a:lnTo>
                      <a:pt x="1792" y="1642"/>
                    </a:lnTo>
                    <a:lnTo>
                      <a:pt x="1687" y="1768"/>
                    </a:lnTo>
                    <a:lnTo>
                      <a:pt x="1583" y="1891"/>
                    </a:lnTo>
                    <a:lnTo>
                      <a:pt x="1532" y="1951"/>
                    </a:lnTo>
                    <a:lnTo>
                      <a:pt x="1481" y="2009"/>
                    </a:lnTo>
                    <a:lnTo>
                      <a:pt x="1430" y="2067"/>
                    </a:lnTo>
                    <a:lnTo>
                      <a:pt x="1378" y="2122"/>
                    </a:lnTo>
                    <a:lnTo>
                      <a:pt x="1327" y="2176"/>
                    </a:lnTo>
                    <a:lnTo>
                      <a:pt x="1275" y="2228"/>
                    </a:lnTo>
                    <a:lnTo>
                      <a:pt x="1221" y="2279"/>
                    </a:lnTo>
                    <a:lnTo>
                      <a:pt x="1167" y="2328"/>
                    </a:lnTo>
                    <a:lnTo>
                      <a:pt x="1140" y="2351"/>
                    </a:lnTo>
                    <a:lnTo>
                      <a:pt x="1112" y="2374"/>
                    </a:lnTo>
                    <a:lnTo>
                      <a:pt x="1085" y="2397"/>
                    </a:lnTo>
                    <a:lnTo>
                      <a:pt x="1056" y="2419"/>
                    </a:lnTo>
                    <a:lnTo>
                      <a:pt x="1028" y="2441"/>
                    </a:lnTo>
                    <a:lnTo>
                      <a:pt x="998" y="2461"/>
                    </a:lnTo>
                    <a:lnTo>
                      <a:pt x="968" y="2481"/>
                    </a:lnTo>
                    <a:lnTo>
                      <a:pt x="938" y="2500"/>
                    </a:lnTo>
                    <a:lnTo>
                      <a:pt x="907" y="2520"/>
                    </a:lnTo>
                    <a:lnTo>
                      <a:pt x="876" y="2538"/>
                    </a:lnTo>
                    <a:lnTo>
                      <a:pt x="844" y="2555"/>
                    </a:lnTo>
                    <a:lnTo>
                      <a:pt x="812" y="2572"/>
                    </a:lnTo>
                    <a:lnTo>
                      <a:pt x="779" y="2588"/>
                    </a:lnTo>
                    <a:lnTo>
                      <a:pt x="744" y="2605"/>
                    </a:lnTo>
                    <a:lnTo>
                      <a:pt x="711" y="2619"/>
                    </a:lnTo>
                    <a:lnTo>
                      <a:pt x="676" y="2633"/>
                    </a:lnTo>
                    <a:lnTo>
                      <a:pt x="640" y="2647"/>
                    </a:lnTo>
                    <a:lnTo>
                      <a:pt x="603" y="2660"/>
                    </a:lnTo>
                    <a:lnTo>
                      <a:pt x="567" y="2671"/>
                    </a:lnTo>
                    <a:lnTo>
                      <a:pt x="529" y="2683"/>
                    </a:lnTo>
                    <a:lnTo>
                      <a:pt x="490" y="2693"/>
                    </a:lnTo>
                    <a:lnTo>
                      <a:pt x="450" y="2702"/>
                    </a:lnTo>
                    <a:lnTo>
                      <a:pt x="409" y="2711"/>
                    </a:lnTo>
                    <a:lnTo>
                      <a:pt x="367" y="2719"/>
                    </a:lnTo>
                    <a:lnTo>
                      <a:pt x="325" y="2726"/>
                    </a:lnTo>
                    <a:lnTo>
                      <a:pt x="282" y="2732"/>
                    </a:lnTo>
                    <a:lnTo>
                      <a:pt x="237" y="2738"/>
                    </a:lnTo>
                    <a:lnTo>
                      <a:pt x="192" y="2741"/>
                    </a:lnTo>
                    <a:lnTo>
                      <a:pt x="146" y="2744"/>
                    </a:lnTo>
                    <a:lnTo>
                      <a:pt x="99" y="2748"/>
                    </a:lnTo>
                    <a:lnTo>
                      <a:pt x="49" y="2749"/>
                    </a:lnTo>
                    <a:lnTo>
                      <a:pt x="0" y="2749"/>
                    </a:lnTo>
                    <a:lnTo>
                      <a:pt x="0" y="2813"/>
                    </a:lnTo>
                    <a:lnTo>
                      <a:pt x="51" y="2813"/>
                    </a:lnTo>
                    <a:lnTo>
                      <a:pt x="101" y="2811"/>
                    </a:lnTo>
                    <a:lnTo>
                      <a:pt x="149" y="2809"/>
                    </a:lnTo>
                    <a:lnTo>
                      <a:pt x="197" y="2805"/>
                    </a:lnTo>
                    <a:lnTo>
                      <a:pt x="244" y="2801"/>
                    </a:lnTo>
                    <a:lnTo>
                      <a:pt x="290" y="2796"/>
                    </a:lnTo>
                    <a:lnTo>
                      <a:pt x="335" y="2789"/>
                    </a:lnTo>
                    <a:lnTo>
                      <a:pt x="379" y="2782"/>
                    </a:lnTo>
                    <a:lnTo>
                      <a:pt x="422" y="2774"/>
                    </a:lnTo>
                    <a:lnTo>
                      <a:pt x="463" y="2765"/>
                    </a:lnTo>
                    <a:lnTo>
                      <a:pt x="505" y="2755"/>
                    </a:lnTo>
                    <a:lnTo>
                      <a:pt x="545" y="2744"/>
                    </a:lnTo>
                    <a:lnTo>
                      <a:pt x="585" y="2733"/>
                    </a:lnTo>
                    <a:lnTo>
                      <a:pt x="624" y="2720"/>
                    </a:lnTo>
                    <a:lnTo>
                      <a:pt x="662" y="2708"/>
                    </a:lnTo>
                    <a:lnTo>
                      <a:pt x="698" y="2693"/>
                    </a:lnTo>
                    <a:lnTo>
                      <a:pt x="735" y="2678"/>
                    </a:lnTo>
                    <a:lnTo>
                      <a:pt x="771" y="2663"/>
                    </a:lnTo>
                    <a:lnTo>
                      <a:pt x="806" y="2647"/>
                    </a:lnTo>
                    <a:lnTo>
                      <a:pt x="841" y="2630"/>
                    </a:lnTo>
                    <a:lnTo>
                      <a:pt x="874" y="2613"/>
                    </a:lnTo>
                    <a:lnTo>
                      <a:pt x="907" y="2593"/>
                    </a:lnTo>
                    <a:lnTo>
                      <a:pt x="940" y="2575"/>
                    </a:lnTo>
                    <a:lnTo>
                      <a:pt x="971" y="2555"/>
                    </a:lnTo>
                    <a:lnTo>
                      <a:pt x="1004" y="2535"/>
                    </a:lnTo>
                    <a:lnTo>
                      <a:pt x="1034" y="2514"/>
                    </a:lnTo>
                    <a:lnTo>
                      <a:pt x="1064" y="2492"/>
                    </a:lnTo>
                    <a:lnTo>
                      <a:pt x="1094" y="2470"/>
                    </a:lnTo>
                    <a:lnTo>
                      <a:pt x="1124" y="2447"/>
                    </a:lnTo>
                    <a:lnTo>
                      <a:pt x="1153" y="2424"/>
                    </a:lnTo>
                    <a:lnTo>
                      <a:pt x="1182" y="2400"/>
                    </a:lnTo>
                    <a:lnTo>
                      <a:pt x="1210" y="2376"/>
                    </a:lnTo>
                    <a:lnTo>
                      <a:pt x="1266" y="2326"/>
                    </a:lnTo>
                    <a:lnTo>
                      <a:pt x="1320" y="2274"/>
                    </a:lnTo>
                    <a:lnTo>
                      <a:pt x="1373" y="2220"/>
                    </a:lnTo>
                    <a:lnTo>
                      <a:pt x="1426" y="2165"/>
                    </a:lnTo>
                    <a:lnTo>
                      <a:pt x="1477" y="2109"/>
                    </a:lnTo>
                    <a:lnTo>
                      <a:pt x="1529" y="2052"/>
                    </a:lnTo>
                    <a:lnTo>
                      <a:pt x="1580" y="1992"/>
                    </a:lnTo>
                    <a:lnTo>
                      <a:pt x="1632" y="1932"/>
                    </a:lnTo>
                    <a:lnTo>
                      <a:pt x="1735" y="1810"/>
                    </a:lnTo>
                    <a:lnTo>
                      <a:pt x="1842" y="1683"/>
                    </a:lnTo>
                    <a:lnTo>
                      <a:pt x="1897" y="1620"/>
                    </a:lnTo>
                    <a:lnTo>
                      <a:pt x="1952" y="1556"/>
                    </a:lnTo>
                    <a:lnTo>
                      <a:pt x="2009" y="1493"/>
                    </a:lnTo>
                    <a:lnTo>
                      <a:pt x="2069" y="1429"/>
                    </a:lnTo>
                    <a:lnTo>
                      <a:pt x="2128" y="1365"/>
                    </a:lnTo>
                    <a:lnTo>
                      <a:pt x="2192" y="1300"/>
                    </a:lnTo>
                    <a:lnTo>
                      <a:pt x="2257" y="1237"/>
                    </a:lnTo>
                    <a:lnTo>
                      <a:pt x="2325" y="1174"/>
                    </a:lnTo>
                    <a:lnTo>
                      <a:pt x="2359" y="1142"/>
                    </a:lnTo>
                    <a:lnTo>
                      <a:pt x="2395" y="1111"/>
                    </a:lnTo>
                    <a:lnTo>
                      <a:pt x="2430" y="1080"/>
                    </a:lnTo>
                    <a:lnTo>
                      <a:pt x="2467" y="1049"/>
                    </a:lnTo>
                    <a:lnTo>
                      <a:pt x="2505" y="1018"/>
                    </a:lnTo>
                    <a:lnTo>
                      <a:pt x="2542" y="988"/>
                    </a:lnTo>
                    <a:lnTo>
                      <a:pt x="2581" y="957"/>
                    </a:lnTo>
                    <a:lnTo>
                      <a:pt x="2622" y="928"/>
                    </a:lnTo>
                    <a:lnTo>
                      <a:pt x="2663" y="898"/>
                    </a:lnTo>
                    <a:lnTo>
                      <a:pt x="2704" y="868"/>
                    </a:lnTo>
                    <a:lnTo>
                      <a:pt x="2748" y="839"/>
                    </a:lnTo>
                    <a:lnTo>
                      <a:pt x="2791" y="811"/>
                    </a:lnTo>
                    <a:lnTo>
                      <a:pt x="2835" y="782"/>
                    </a:lnTo>
                    <a:lnTo>
                      <a:pt x="2881" y="753"/>
                    </a:lnTo>
                    <a:lnTo>
                      <a:pt x="2928" y="725"/>
                    </a:lnTo>
                    <a:lnTo>
                      <a:pt x="2975" y="697"/>
                    </a:lnTo>
                    <a:lnTo>
                      <a:pt x="3024" y="671"/>
                    </a:lnTo>
                    <a:lnTo>
                      <a:pt x="3073" y="643"/>
                    </a:lnTo>
                    <a:lnTo>
                      <a:pt x="3124" y="617"/>
                    </a:lnTo>
                    <a:lnTo>
                      <a:pt x="3177" y="590"/>
                    </a:lnTo>
                    <a:lnTo>
                      <a:pt x="3229" y="565"/>
                    </a:lnTo>
                    <a:lnTo>
                      <a:pt x="3283" y="540"/>
                    </a:lnTo>
                    <a:lnTo>
                      <a:pt x="3339" y="516"/>
                    </a:lnTo>
                    <a:lnTo>
                      <a:pt x="3396" y="491"/>
                    </a:lnTo>
                    <a:lnTo>
                      <a:pt x="3454" y="468"/>
                    </a:lnTo>
                    <a:lnTo>
                      <a:pt x="3514" y="445"/>
                    </a:lnTo>
                    <a:lnTo>
                      <a:pt x="3575" y="422"/>
                    </a:lnTo>
                    <a:lnTo>
                      <a:pt x="3636" y="399"/>
                    </a:lnTo>
                    <a:lnTo>
                      <a:pt x="3700" y="378"/>
                    </a:lnTo>
                    <a:lnTo>
                      <a:pt x="3765" y="356"/>
                    </a:lnTo>
                    <a:lnTo>
                      <a:pt x="3830" y="337"/>
                    </a:lnTo>
                    <a:lnTo>
                      <a:pt x="3899" y="316"/>
                    </a:lnTo>
                    <a:lnTo>
                      <a:pt x="3968" y="298"/>
                    </a:lnTo>
                    <a:lnTo>
                      <a:pt x="4038" y="278"/>
                    </a:lnTo>
                    <a:lnTo>
                      <a:pt x="4110" y="261"/>
                    </a:lnTo>
                    <a:lnTo>
                      <a:pt x="4185" y="244"/>
                    </a:lnTo>
                    <a:lnTo>
                      <a:pt x="4259" y="227"/>
                    </a:lnTo>
                    <a:lnTo>
                      <a:pt x="4336" y="211"/>
                    </a:lnTo>
                    <a:lnTo>
                      <a:pt x="4415" y="196"/>
                    </a:lnTo>
                    <a:lnTo>
                      <a:pt x="4495" y="182"/>
                    </a:lnTo>
                    <a:lnTo>
                      <a:pt x="4577" y="168"/>
                    </a:lnTo>
                    <a:lnTo>
                      <a:pt x="4660" y="156"/>
                    </a:lnTo>
                    <a:lnTo>
                      <a:pt x="4745" y="143"/>
                    </a:lnTo>
                    <a:lnTo>
                      <a:pt x="4832" y="131"/>
                    </a:lnTo>
                    <a:lnTo>
                      <a:pt x="4922" y="121"/>
                    </a:lnTo>
                    <a:lnTo>
                      <a:pt x="5013" y="111"/>
                    </a:lnTo>
                    <a:lnTo>
                      <a:pt x="5104" y="103"/>
                    </a:lnTo>
                    <a:lnTo>
                      <a:pt x="5198" y="95"/>
                    </a:lnTo>
                    <a:lnTo>
                      <a:pt x="5295" y="88"/>
                    </a:lnTo>
                    <a:lnTo>
                      <a:pt x="5393" y="81"/>
                    </a:lnTo>
                    <a:lnTo>
                      <a:pt x="5493" y="76"/>
                    </a:lnTo>
                    <a:lnTo>
                      <a:pt x="5595" y="72"/>
                    </a:lnTo>
                    <a:lnTo>
                      <a:pt x="5698" y="68"/>
                    </a:lnTo>
                    <a:lnTo>
                      <a:pt x="5805" y="66"/>
                    </a:lnTo>
                    <a:lnTo>
                      <a:pt x="5913" y="64"/>
                    </a:lnTo>
                    <a:lnTo>
                      <a:pt x="6023" y="64"/>
                    </a:lnTo>
                    <a:lnTo>
                      <a:pt x="6023" y="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59480" y="4961880"/>
                <a:ext cx="576720" cy="281880"/>
              </a:xfrm>
              <a:custGeom>
                <a:avLst/>
                <a:gdLst/>
                <a:ahLst/>
                <a:rect l="l" t="t" r="r" b="b"/>
                <a:pathLst>
                  <a:path w="4939" h="2614">
                    <a:moveTo>
                      <a:pt x="4879" y="0"/>
                    </a:moveTo>
                    <a:lnTo>
                      <a:pt x="4878" y="2"/>
                    </a:lnTo>
                    <a:lnTo>
                      <a:pt x="4814" y="183"/>
                    </a:lnTo>
                    <a:lnTo>
                      <a:pt x="4755" y="358"/>
                    </a:lnTo>
                    <a:lnTo>
                      <a:pt x="4699" y="523"/>
                    </a:lnTo>
                    <a:lnTo>
                      <a:pt x="4645" y="680"/>
                    </a:lnTo>
                    <a:lnTo>
                      <a:pt x="4594" y="830"/>
                    </a:lnTo>
                    <a:lnTo>
                      <a:pt x="4542" y="972"/>
                    </a:lnTo>
                    <a:lnTo>
                      <a:pt x="4516" y="1041"/>
                    </a:lnTo>
                    <a:lnTo>
                      <a:pt x="4489" y="1108"/>
                    </a:lnTo>
                    <a:lnTo>
                      <a:pt x="4463" y="1172"/>
                    </a:lnTo>
                    <a:lnTo>
                      <a:pt x="4437" y="1235"/>
                    </a:lnTo>
                    <a:lnTo>
                      <a:pt x="4408" y="1296"/>
                    </a:lnTo>
                    <a:lnTo>
                      <a:pt x="4379" y="1355"/>
                    </a:lnTo>
                    <a:lnTo>
                      <a:pt x="4351" y="1413"/>
                    </a:lnTo>
                    <a:lnTo>
                      <a:pt x="4320" y="1468"/>
                    </a:lnTo>
                    <a:lnTo>
                      <a:pt x="4289" y="1523"/>
                    </a:lnTo>
                    <a:lnTo>
                      <a:pt x="4255" y="1575"/>
                    </a:lnTo>
                    <a:lnTo>
                      <a:pt x="4221" y="1625"/>
                    </a:lnTo>
                    <a:lnTo>
                      <a:pt x="4185" y="1674"/>
                    </a:lnTo>
                    <a:lnTo>
                      <a:pt x="4167" y="1698"/>
                    </a:lnTo>
                    <a:lnTo>
                      <a:pt x="4148" y="1721"/>
                    </a:lnTo>
                    <a:lnTo>
                      <a:pt x="4129" y="1745"/>
                    </a:lnTo>
                    <a:lnTo>
                      <a:pt x="4109" y="1767"/>
                    </a:lnTo>
                    <a:lnTo>
                      <a:pt x="4089" y="1790"/>
                    </a:lnTo>
                    <a:lnTo>
                      <a:pt x="4067" y="1812"/>
                    </a:lnTo>
                    <a:lnTo>
                      <a:pt x="4047" y="1834"/>
                    </a:lnTo>
                    <a:lnTo>
                      <a:pt x="4025" y="1854"/>
                    </a:lnTo>
                    <a:lnTo>
                      <a:pt x="4002" y="1876"/>
                    </a:lnTo>
                    <a:lnTo>
                      <a:pt x="3980" y="1896"/>
                    </a:lnTo>
                    <a:lnTo>
                      <a:pt x="3956" y="1916"/>
                    </a:lnTo>
                    <a:lnTo>
                      <a:pt x="3932" y="1936"/>
                    </a:lnTo>
                    <a:lnTo>
                      <a:pt x="3908" y="1955"/>
                    </a:lnTo>
                    <a:lnTo>
                      <a:pt x="3883" y="1975"/>
                    </a:lnTo>
                    <a:lnTo>
                      <a:pt x="3856" y="1993"/>
                    </a:lnTo>
                    <a:lnTo>
                      <a:pt x="3830" y="2012"/>
                    </a:lnTo>
                    <a:lnTo>
                      <a:pt x="3802" y="2030"/>
                    </a:lnTo>
                    <a:lnTo>
                      <a:pt x="3775" y="2047"/>
                    </a:lnTo>
                    <a:lnTo>
                      <a:pt x="3745" y="2064"/>
                    </a:lnTo>
                    <a:lnTo>
                      <a:pt x="3716" y="2082"/>
                    </a:lnTo>
                    <a:lnTo>
                      <a:pt x="3687" y="2098"/>
                    </a:lnTo>
                    <a:lnTo>
                      <a:pt x="3656" y="2115"/>
                    </a:lnTo>
                    <a:lnTo>
                      <a:pt x="3624" y="2131"/>
                    </a:lnTo>
                    <a:lnTo>
                      <a:pt x="3591" y="2146"/>
                    </a:lnTo>
                    <a:lnTo>
                      <a:pt x="3558" y="2161"/>
                    </a:lnTo>
                    <a:lnTo>
                      <a:pt x="3524" y="2177"/>
                    </a:lnTo>
                    <a:lnTo>
                      <a:pt x="3488" y="2191"/>
                    </a:lnTo>
                    <a:lnTo>
                      <a:pt x="3453" y="2205"/>
                    </a:lnTo>
                    <a:lnTo>
                      <a:pt x="3416" y="2219"/>
                    </a:lnTo>
                    <a:lnTo>
                      <a:pt x="3378" y="2233"/>
                    </a:lnTo>
                    <a:lnTo>
                      <a:pt x="3339" y="2247"/>
                    </a:lnTo>
                    <a:lnTo>
                      <a:pt x="3300" y="2259"/>
                    </a:lnTo>
                    <a:lnTo>
                      <a:pt x="3260" y="2272"/>
                    </a:lnTo>
                    <a:lnTo>
                      <a:pt x="3219" y="2285"/>
                    </a:lnTo>
                    <a:lnTo>
                      <a:pt x="3176" y="2296"/>
                    </a:lnTo>
                    <a:lnTo>
                      <a:pt x="3133" y="2309"/>
                    </a:lnTo>
                    <a:lnTo>
                      <a:pt x="3042" y="2332"/>
                    </a:lnTo>
                    <a:lnTo>
                      <a:pt x="2948" y="2352"/>
                    </a:lnTo>
                    <a:lnTo>
                      <a:pt x="2851" y="2373"/>
                    </a:lnTo>
                    <a:lnTo>
                      <a:pt x="2747" y="2391"/>
                    </a:lnTo>
                    <a:lnTo>
                      <a:pt x="2641" y="2410"/>
                    </a:lnTo>
                    <a:lnTo>
                      <a:pt x="2528" y="2427"/>
                    </a:lnTo>
                    <a:lnTo>
                      <a:pt x="2411" y="2442"/>
                    </a:lnTo>
                    <a:lnTo>
                      <a:pt x="2290" y="2457"/>
                    </a:lnTo>
                    <a:lnTo>
                      <a:pt x="2163" y="2469"/>
                    </a:lnTo>
                    <a:lnTo>
                      <a:pt x="2031" y="2482"/>
                    </a:lnTo>
                    <a:lnTo>
                      <a:pt x="1894" y="2493"/>
                    </a:lnTo>
                    <a:lnTo>
                      <a:pt x="1752" y="2504"/>
                    </a:lnTo>
                    <a:lnTo>
                      <a:pt x="1603" y="2513"/>
                    </a:lnTo>
                    <a:lnTo>
                      <a:pt x="1449" y="2521"/>
                    </a:lnTo>
                    <a:lnTo>
                      <a:pt x="1290" y="2528"/>
                    </a:lnTo>
                    <a:lnTo>
                      <a:pt x="1125" y="2534"/>
                    </a:lnTo>
                    <a:lnTo>
                      <a:pt x="953" y="2538"/>
                    </a:lnTo>
                    <a:lnTo>
                      <a:pt x="775" y="2543"/>
                    </a:lnTo>
                    <a:lnTo>
                      <a:pt x="590" y="2546"/>
                    </a:lnTo>
                    <a:lnTo>
                      <a:pt x="400" y="2548"/>
                    </a:lnTo>
                    <a:lnTo>
                      <a:pt x="203" y="2550"/>
                    </a:lnTo>
                    <a:lnTo>
                      <a:pt x="0" y="2550"/>
                    </a:lnTo>
                    <a:lnTo>
                      <a:pt x="0" y="2614"/>
                    </a:lnTo>
                    <a:lnTo>
                      <a:pt x="204" y="2614"/>
                    </a:lnTo>
                    <a:lnTo>
                      <a:pt x="401" y="2612"/>
                    </a:lnTo>
                    <a:lnTo>
                      <a:pt x="592" y="2610"/>
                    </a:lnTo>
                    <a:lnTo>
                      <a:pt x="776" y="2607"/>
                    </a:lnTo>
                    <a:lnTo>
                      <a:pt x="954" y="2602"/>
                    </a:lnTo>
                    <a:lnTo>
                      <a:pt x="1126" y="2598"/>
                    </a:lnTo>
                    <a:lnTo>
                      <a:pt x="1292" y="2592"/>
                    </a:lnTo>
                    <a:lnTo>
                      <a:pt x="1453" y="2584"/>
                    </a:lnTo>
                    <a:lnTo>
                      <a:pt x="1606" y="2576"/>
                    </a:lnTo>
                    <a:lnTo>
                      <a:pt x="1756" y="2567"/>
                    </a:lnTo>
                    <a:lnTo>
                      <a:pt x="1899" y="2558"/>
                    </a:lnTo>
                    <a:lnTo>
                      <a:pt x="2036" y="2546"/>
                    </a:lnTo>
                    <a:lnTo>
                      <a:pt x="2169" y="2534"/>
                    </a:lnTo>
                    <a:lnTo>
                      <a:pt x="2297" y="2520"/>
                    </a:lnTo>
                    <a:lnTo>
                      <a:pt x="2419" y="2506"/>
                    </a:lnTo>
                    <a:lnTo>
                      <a:pt x="2538" y="2490"/>
                    </a:lnTo>
                    <a:lnTo>
                      <a:pt x="2650" y="2473"/>
                    </a:lnTo>
                    <a:lnTo>
                      <a:pt x="2759" y="2456"/>
                    </a:lnTo>
                    <a:lnTo>
                      <a:pt x="2862" y="2436"/>
                    </a:lnTo>
                    <a:lnTo>
                      <a:pt x="2962" y="2415"/>
                    </a:lnTo>
                    <a:lnTo>
                      <a:pt x="3057" y="2394"/>
                    </a:lnTo>
                    <a:lnTo>
                      <a:pt x="3149" y="2371"/>
                    </a:lnTo>
                    <a:lnTo>
                      <a:pt x="3192" y="2358"/>
                    </a:lnTo>
                    <a:lnTo>
                      <a:pt x="3236" y="2347"/>
                    </a:lnTo>
                    <a:lnTo>
                      <a:pt x="3278" y="2334"/>
                    </a:lnTo>
                    <a:lnTo>
                      <a:pt x="3320" y="2320"/>
                    </a:lnTo>
                    <a:lnTo>
                      <a:pt x="3360" y="2308"/>
                    </a:lnTo>
                    <a:lnTo>
                      <a:pt x="3400" y="2294"/>
                    </a:lnTo>
                    <a:lnTo>
                      <a:pt x="3438" y="2279"/>
                    </a:lnTo>
                    <a:lnTo>
                      <a:pt x="3476" y="2265"/>
                    </a:lnTo>
                    <a:lnTo>
                      <a:pt x="3512" y="2250"/>
                    </a:lnTo>
                    <a:lnTo>
                      <a:pt x="3549" y="2235"/>
                    </a:lnTo>
                    <a:lnTo>
                      <a:pt x="3583" y="2220"/>
                    </a:lnTo>
                    <a:lnTo>
                      <a:pt x="3618" y="2204"/>
                    </a:lnTo>
                    <a:lnTo>
                      <a:pt x="3651" y="2188"/>
                    </a:lnTo>
                    <a:lnTo>
                      <a:pt x="3684" y="2171"/>
                    </a:lnTo>
                    <a:lnTo>
                      <a:pt x="3716" y="2155"/>
                    </a:lnTo>
                    <a:lnTo>
                      <a:pt x="3747" y="2138"/>
                    </a:lnTo>
                    <a:lnTo>
                      <a:pt x="3778" y="2119"/>
                    </a:lnTo>
                    <a:lnTo>
                      <a:pt x="3808" y="2102"/>
                    </a:lnTo>
                    <a:lnTo>
                      <a:pt x="3837" y="2084"/>
                    </a:lnTo>
                    <a:lnTo>
                      <a:pt x="3866" y="2064"/>
                    </a:lnTo>
                    <a:lnTo>
                      <a:pt x="3893" y="2046"/>
                    </a:lnTo>
                    <a:lnTo>
                      <a:pt x="3921" y="2027"/>
                    </a:lnTo>
                    <a:lnTo>
                      <a:pt x="3947" y="2006"/>
                    </a:lnTo>
                    <a:lnTo>
                      <a:pt x="3972" y="1986"/>
                    </a:lnTo>
                    <a:lnTo>
                      <a:pt x="3997" y="1966"/>
                    </a:lnTo>
                    <a:lnTo>
                      <a:pt x="4021" y="1945"/>
                    </a:lnTo>
                    <a:lnTo>
                      <a:pt x="4046" y="1923"/>
                    </a:lnTo>
                    <a:lnTo>
                      <a:pt x="4070" y="1901"/>
                    </a:lnTo>
                    <a:lnTo>
                      <a:pt x="4091" y="1880"/>
                    </a:lnTo>
                    <a:lnTo>
                      <a:pt x="4114" y="1857"/>
                    </a:lnTo>
                    <a:lnTo>
                      <a:pt x="4136" y="1834"/>
                    </a:lnTo>
                    <a:lnTo>
                      <a:pt x="4157" y="1811"/>
                    </a:lnTo>
                    <a:lnTo>
                      <a:pt x="4177" y="1787"/>
                    </a:lnTo>
                    <a:lnTo>
                      <a:pt x="4198" y="1763"/>
                    </a:lnTo>
                    <a:lnTo>
                      <a:pt x="4218" y="1739"/>
                    </a:lnTo>
                    <a:lnTo>
                      <a:pt x="4237" y="1713"/>
                    </a:lnTo>
                    <a:lnTo>
                      <a:pt x="4274" y="1663"/>
                    </a:lnTo>
                    <a:lnTo>
                      <a:pt x="4309" y="1610"/>
                    </a:lnTo>
                    <a:lnTo>
                      <a:pt x="4343" y="1555"/>
                    </a:lnTo>
                    <a:lnTo>
                      <a:pt x="4376" y="1500"/>
                    </a:lnTo>
                    <a:lnTo>
                      <a:pt x="4407" y="1443"/>
                    </a:lnTo>
                    <a:lnTo>
                      <a:pt x="4438" y="1383"/>
                    </a:lnTo>
                    <a:lnTo>
                      <a:pt x="4466" y="1323"/>
                    </a:lnTo>
                    <a:lnTo>
                      <a:pt x="4495" y="1260"/>
                    </a:lnTo>
                    <a:lnTo>
                      <a:pt x="4523" y="1197"/>
                    </a:lnTo>
                    <a:lnTo>
                      <a:pt x="4549" y="1131"/>
                    </a:lnTo>
                    <a:lnTo>
                      <a:pt x="4577" y="1064"/>
                    </a:lnTo>
                    <a:lnTo>
                      <a:pt x="4603" y="994"/>
                    </a:lnTo>
                    <a:lnTo>
                      <a:pt x="4654" y="852"/>
                    </a:lnTo>
                    <a:lnTo>
                      <a:pt x="4706" y="701"/>
                    </a:lnTo>
                    <a:lnTo>
                      <a:pt x="4760" y="543"/>
                    </a:lnTo>
                    <a:lnTo>
                      <a:pt x="4816" y="378"/>
                    </a:lnTo>
                    <a:lnTo>
                      <a:pt x="4875" y="205"/>
                    </a:lnTo>
                    <a:lnTo>
                      <a:pt x="4939" y="24"/>
                    </a:lnTo>
                    <a:lnTo>
                      <a:pt x="4938" y="27"/>
                    </a:lnTo>
                    <a:lnTo>
                      <a:pt x="4879" y="0"/>
                    </a:lnTo>
                    <a:lnTo>
                      <a:pt x="4878" y="1"/>
                    </a:lnTo>
                    <a:lnTo>
                      <a:pt x="4878" y="2"/>
                    </a:lnTo>
                    <a:lnTo>
                      <a:pt x="4879" y="0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18200" y="4784760"/>
                <a:ext cx="37800" cy="179640"/>
              </a:xfrm>
              <a:custGeom>
                <a:avLst/>
                <a:gdLst/>
                <a:ahLst/>
                <a:rect l="l" t="t" r="r" b="b"/>
                <a:pathLst>
                  <a:path w="325" h="1662">
                    <a:moveTo>
                      <a:pt x="0" y="39"/>
                    </a:moveTo>
                    <a:lnTo>
                      <a:pt x="24" y="72"/>
                    </a:lnTo>
                    <a:lnTo>
                      <a:pt x="47" y="106"/>
                    </a:lnTo>
                    <a:lnTo>
                      <a:pt x="67" y="139"/>
                    </a:lnTo>
                    <a:lnTo>
                      <a:pt x="88" y="172"/>
                    </a:lnTo>
                    <a:lnTo>
                      <a:pt x="106" y="207"/>
                    </a:lnTo>
                    <a:lnTo>
                      <a:pt x="123" y="240"/>
                    </a:lnTo>
                    <a:lnTo>
                      <a:pt x="140" y="274"/>
                    </a:lnTo>
                    <a:lnTo>
                      <a:pt x="154" y="309"/>
                    </a:lnTo>
                    <a:lnTo>
                      <a:pt x="168" y="343"/>
                    </a:lnTo>
                    <a:lnTo>
                      <a:pt x="181" y="378"/>
                    </a:lnTo>
                    <a:lnTo>
                      <a:pt x="192" y="412"/>
                    </a:lnTo>
                    <a:lnTo>
                      <a:pt x="204" y="446"/>
                    </a:lnTo>
                    <a:lnTo>
                      <a:pt x="213" y="480"/>
                    </a:lnTo>
                    <a:lnTo>
                      <a:pt x="221" y="514"/>
                    </a:lnTo>
                    <a:lnTo>
                      <a:pt x="229" y="548"/>
                    </a:lnTo>
                    <a:lnTo>
                      <a:pt x="236" y="583"/>
                    </a:lnTo>
                    <a:lnTo>
                      <a:pt x="242" y="617"/>
                    </a:lnTo>
                    <a:lnTo>
                      <a:pt x="247" y="651"/>
                    </a:lnTo>
                    <a:lnTo>
                      <a:pt x="251" y="685"/>
                    </a:lnTo>
                    <a:lnTo>
                      <a:pt x="254" y="718"/>
                    </a:lnTo>
                    <a:lnTo>
                      <a:pt x="258" y="751"/>
                    </a:lnTo>
                    <a:lnTo>
                      <a:pt x="259" y="785"/>
                    </a:lnTo>
                    <a:lnTo>
                      <a:pt x="261" y="818"/>
                    </a:lnTo>
                    <a:lnTo>
                      <a:pt x="261" y="851"/>
                    </a:lnTo>
                    <a:lnTo>
                      <a:pt x="261" y="883"/>
                    </a:lnTo>
                    <a:lnTo>
                      <a:pt x="260" y="915"/>
                    </a:lnTo>
                    <a:lnTo>
                      <a:pt x="259" y="946"/>
                    </a:lnTo>
                    <a:lnTo>
                      <a:pt x="258" y="979"/>
                    </a:lnTo>
                    <a:lnTo>
                      <a:pt x="252" y="1039"/>
                    </a:lnTo>
                    <a:lnTo>
                      <a:pt x="245" y="1099"/>
                    </a:lnTo>
                    <a:lnTo>
                      <a:pt x="237" y="1156"/>
                    </a:lnTo>
                    <a:lnTo>
                      <a:pt x="228" y="1211"/>
                    </a:lnTo>
                    <a:lnTo>
                      <a:pt x="216" y="1264"/>
                    </a:lnTo>
                    <a:lnTo>
                      <a:pt x="205" y="1315"/>
                    </a:lnTo>
                    <a:lnTo>
                      <a:pt x="193" y="1362"/>
                    </a:lnTo>
                    <a:lnTo>
                      <a:pt x="181" y="1406"/>
                    </a:lnTo>
                    <a:lnTo>
                      <a:pt x="168" y="1447"/>
                    </a:lnTo>
                    <a:lnTo>
                      <a:pt x="157" y="1484"/>
                    </a:lnTo>
                    <a:lnTo>
                      <a:pt x="134" y="1549"/>
                    </a:lnTo>
                    <a:lnTo>
                      <a:pt x="115" y="1596"/>
                    </a:lnTo>
                    <a:lnTo>
                      <a:pt x="103" y="1624"/>
                    </a:lnTo>
                    <a:lnTo>
                      <a:pt x="98" y="1635"/>
                    </a:lnTo>
                    <a:lnTo>
                      <a:pt x="157" y="1662"/>
                    </a:lnTo>
                    <a:lnTo>
                      <a:pt x="161" y="1651"/>
                    </a:lnTo>
                    <a:lnTo>
                      <a:pt x="175" y="1620"/>
                    </a:lnTo>
                    <a:lnTo>
                      <a:pt x="193" y="1570"/>
                    </a:lnTo>
                    <a:lnTo>
                      <a:pt x="218" y="1505"/>
                    </a:lnTo>
                    <a:lnTo>
                      <a:pt x="230" y="1466"/>
                    </a:lnTo>
                    <a:lnTo>
                      <a:pt x="243" y="1424"/>
                    </a:lnTo>
                    <a:lnTo>
                      <a:pt x="255" y="1379"/>
                    </a:lnTo>
                    <a:lnTo>
                      <a:pt x="268" y="1330"/>
                    </a:lnTo>
                    <a:lnTo>
                      <a:pt x="279" y="1278"/>
                    </a:lnTo>
                    <a:lnTo>
                      <a:pt x="291" y="1224"/>
                    </a:lnTo>
                    <a:lnTo>
                      <a:pt x="300" y="1167"/>
                    </a:lnTo>
                    <a:lnTo>
                      <a:pt x="309" y="1107"/>
                    </a:lnTo>
                    <a:lnTo>
                      <a:pt x="316" y="1046"/>
                    </a:lnTo>
                    <a:lnTo>
                      <a:pt x="322" y="982"/>
                    </a:lnTo>
                    <a:lnTo>
                      <a:pt x="323" y="950"/>
                    </a:lnTo>
                    <a:lnTo>
                      <a:pt x="324" y="917"/>
                    </a:lnTo>
                    <a:lnTo>
                      <a:pt x="325" y="883"/>
                    </a:lnTo>
                    <a:lnTo>
                      <a:pt x="325" y="850"/>
                    </a:lnTo>
                    <a:lnTo>
                      <a:pt x="324" y="817"/>
                    </a:lnTo>
                    <a:lnTo>
                      <a:pt x="323" y="782"/>
                    </a:lnTo>
                    <a:lnTo>
                      <a:pt x="322" y="748"/>
                    </a:lnTo>
                    <a:lnTo>
                      <a:pt x="318" y="712"/>
                    </a:lnTo>
                    <a:lnTo>
                      <a:pt x="315" y="678"/>
                    </a:lnTo>
                    <a:lnTo>
                      <a:pt x="310" y="642"/>
                    </a:lnTo>
                    <a:lnTo>
                      <a:pt x="306" y="607"/>
                    </a:lnTo>
                    <a:lnTo>
                      <a:pt x="299" y="571"/>
                    </a:lnTo>
                    <a:lnTo>
                      <a:pt x="292" y="536"/>
                    </a:lnTo>
                    <a:lnTo>
                      <a:pt x="284" y="500"/>
                    </a:lnTo>
                    <a:lnTo>
                      <a:pt x="275" y="464"/>
                    </a:lnTo>
                    <a:lnTo>
                      <a:pt x="265" y="428"/>
                    </a:lnTo>
                    <a:lnTo>
                      <a:pt x="254" y="391"/>
                    </a:lnTo>
                    <a:lnTo>
                      <a:pt x="242" y="356"/>
                    </a:lnTo>
                    <a:lnTo>
                      <a:pt x="228" y="319"/>
                    </a:lnTo>
                    <a:lnTo>
                      <a:pt x="213" y="283"/>
                    </a:lnTo>
                    <a:lnTo>
                      <a:pt x="198" y="248"/>
                    </a:lnTo>
                    <a:lnTo>
                      <a:pt x="181" y="212"/>
                    </a:lnTo>
                    <a:lnTo>
                      <a:pt x="162" y="177"/>
                    </a:lnTo>
                    <a:lnTo>
                      <a:pt x="143" y="141"/>
                    </a:lnTo>
                    <a:lnTo>
                      <a:pt x="122" y="106"/>
                    </a:lnTo>
                    <a:lnTo>
                      <a:pt x="101" y="70"/>
                    </a:lnTo>
                    <a:lnTo>
                      <a:pt x="76" y="36"/>
                    </a:lnTo>
                    <a:lnTo>
                      <a:pt x="51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d73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6160" y="4405680"/>
                <a:ext cx="100800" cy="160560"/>
              </a:xfrm>
              <a:custGeom>
                <a:avLst/>
                <a:gdLst/>
                <a:ahLst/>
                <a:rect l="l" t="t" r="r" b="b"/>
                <a:pathLst>
                  <a:path w="866" h="1487">
                    <a:moveTo>
                      <a:pt x="866" y="197"/>
                    </a:moveTo>
                    <a:lnTo>
                      <a:pt x="123" y="1487"/>
                    </a:lnTo>
                    <a:lnTo>
                      <a:pt x="94" y="1466"/>
                    </a:lnTo>
                    <a:lnTo>
                      <a:pt x="70" y="1449"/>
                    </a:lnTo>
                    <a:lnTo>
                      <a:pt x="48" y="1434"/>
                    </a:lnTo>
                    <a:lnTo>
                      <a:pt x="31" y="1421"/>
                    </a:lnTo>
                    <a:lnTo>
                      <a:pt x="17" y="1411"/>
                    </a:lnTo>
                    <a:lnTo>
                      <a:pt x="8" y="1403"/>
                    </a:lnTo>
                    <a:lnTo>
                      <a:pt x="2" y="1398"/>
                    </a:lnTo>
                    <a:lnTo>
                      <a:pt x="0" y="1397"/>
                    </a:lnTo>
                    <a:lnTo>
                      <a:pt x="674" y="0"/>
                    </a:lnTo>
                    <a:lnTo>
                      <a:pt x="698" y="25"/>
                    </a:lnTo>
                    <a:lnTo>
                      <a:pt x="722" y="50"/>
                    </a:lnTo>
                    <a:lnTo>
                      <a:pt x="747" y="76"/>
                    </a:lnTo>
                    <a:lnTo>
                      <a:pt x="771" y="101"/>
                    </a:lnTo>
                    <a:lnTo>
                      <a:pt x="795" y="125"/>
                    </a:lnTo>
                    <a:lnTo>
                      <a:pt x="818" y="149"/>
                    </a:lnTo>
                    <a:lnTo>
                      <a:pt x="842" y="173"/>
                    </a:lnTo>
                    <a:lnTo>
                      <a:pt x="866" y="197"/>
                    </a:lnTo>
                    <a:close/>
                  </a:path>
                </a:pathLst>
              </a:custGeom>
              <a:solidFill>
                <a:srgbClr val="ddde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16160" y="4414320"/>
                <a:ext cx="114120" cy="160560"/>
              </a:xfrm>
              <a:custGeom>
                <a:avLst/>
                <a:gdLst/>
                <a:ahLst/>
                <a:rect l="l" t="t" r="r" b="b"/>
                <a:pathLst>
                  <a:path w="978" h="1484">
                    <a:moveTo>
                      <a:pt x="1" y="1308"/>
                    </a:moveTo>
                    <a:lnTo>
                      <a:pt x="757" y="0"/>
                    </a:lnTo>
                    <a:lnTo>
                      <a:pt x="784" y="29"/>
                    </a:lnTo>
                    <a:lnTo>
                      <a:pt x="812" y="56"/>
                    </a:lnTo>
                    <a:lnTo>
                      <a:pt x="839" y="85"/>
                    </a:lnTo>
                    <a:lnTo>
                      <a:pt x="867" y="112"/>
                    </a:lnTo>
                    <a:lnTo>
                      <a:pt x="894" y="139"/>
                    </a:lnTo>
                    <a:lnTo>
                      <a:pt x="923" y="166"/>
                    </a:lnTo>
                    <a:lnTo>
                      <a:pt x="951" y="193"/>
                    </a:lnTo>
                    <a:lnTo>
                      <a:pt x="978" y="219"/>
                    </a:lnTo>
                    <a:lnTo>
                      <a:pt x="248" y="1484"/>
                    </a:lnTo>
                    <a:lnTo>
                      <a:pt x="192" y="1446"/>
                    </a:lnTo>
                    <a:lnTo>
                      <a:pt x="141" y="1413"/>
                    </a:lnTo>
                    <a:lnTo>
                      <a:pt x="99" y="1383"/>
                    </a:lnTo>
                    <a:lnTo>
                      <a:pt x="64" y="1359"/>
                    </a:lnTo>
                    <a:lnTo>
                      <a:pt x="36" y="1339"/>
                    </a:lnTo>
                    <a:lnTo>
                      <a:pt x="16" y="1324"/>
                    </a:lnTo>
                    <a:lnTo>
                      <a:pt x="5" y="1315"/>
                    </a:lnTo>
                    <a:lnTo>
                      <a:pt x="0" y="1311"/>
                    </a:lnTo>
                    <a:lnTo>
                      <a:pt x="1" y="1308"/>
                    </a:lnTo>
                    <a:close/>
                  </a:path>
                </a:pathLst>
              </a:custGeom>
              <a:solidFill>
                <a:srgbClr val="d4d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0200" y="4426920"/>
                <a:ext cx="113400" cy="156600"/>
              </a:xfrm>
              <a:custGeom>
                <a:avLst/>
                <a:gdLst/>
                <a:ahLst/>
                <a:rect l="l" t="t" r="r" b="b"/>
                <a:pathLst>
                  <a:path w="970" h="1452">
                    <a:moveTo>
                      <a:pt x="0" y="1290"/>
                    </a:moveTo>
                    <a:lnTo>
                      <a:pt x="743" y="0"/>
                    </a:lnTo>
                    <a:lnTo>
                      <a:pt x="771" y="28"/>
                    </a:lnTo>
                    <a:lnTo>
                      <a:pt x="800" y="55"/>
                    </a:lnTo>
                    <a:lnTo>
                      <a:pt x="828" y="82"/>
                    </a:lnTo>
                    <a:lnTo>
                      <a:pt x="856" y="108"/>
                    </a:lnTo>
                    <a:lnTo>
                      <a:pt x="885" y="134"/>
                    </a:lnTo>
                    <a:lnTo>
                      <a:pt x="913" y="161"/>
                    </a:lnTo>
                    <a:lnTo>
                      <a:pt x="941" y="186"/>
                    </a:lnTo>
                    <a:lnTo>
                      <a:pt x="970" y="211"/>
                    </a:lnTo>
                    <a:lnTo>
                      <a:pt x="253" y="1452"/>
                    </a:lnTo>
                    <a:lnTo>
                      <a:pt x="214" y="1428"/>
                    </a:lnTo>
                    <a:lnTo>
                      <a:pt x="177" y="1405"/>
                    </a:lnTo>
                    <a:lnTo>
                      <a:pt x="143" y="1384"/>
                    </a:lnTo>
                    <a:lnTo>
                      <a:pt x="110" y="1363"/>
                    </a:lnTo>
                    <a:lnTo>
                      <a:pt x="79" y="1342"/>
                    </a:lnTo>
                    <a:lnTo>
                      <a:pt x="50" y="1324"/>
                    </a:lnTo>
                    <a:lnTo>
                      <a:pt x="24" y="1306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ccd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44600" y="4438440"/>
                <a:ext cx="111960" cy="153360"/>
              </a:xfrm>
              <a:custGeom>
                <a:avLst/>
                <a:gdLst/>
                <a:ahLst/>
                <a:rect l="l" t="t" r="r" b="b"/>
                <a:pathLst>
                  <a:path w="961" h="1420">
                    <a:moveTo>
                      <a:pt x="0" y="1265"/>
                    </a:moveTo>
                    <a:lnTo>
                      <a:pt x="730" y="0"/>
                    </a:lnTo>
                    <a:lnTo>
                      <a:pt x="759" y="26"/>
                    </a:lnTo>
                    <a:lnTo>
                      <a:pt x="788" y="53"/>
                    </a:lnTo>
                    <a:lnTo>
                      <a:pt x="816" y="79"/>
                    </a:lnTo>
                    <a:lnTo>
                      <a:pt x="845" y="104"/>
                    </a:lnTo>
                    <a:lnTo>
                      <a:pt x="875" y="130"/>
                    </a:lnTo>
                    <a:lnTo>
                      <a:pt x="903" y="155"/>
                    </a:lnTo>
                    <a:lnTo>
                      <a:pt x="932" y="179"/>
                    </a:lnTo>
                    <a:lnTo>
                      <a:pt x="961" y="204"/>
                    </a:lnTo>
                    <a:lnTo>
                      <a:pt x="259" y="1420"/>
                    </a:lnTo>
                    <a:lnTo>
                      <a:pt x="222" y="1400"/>
                    </a:lnTo>
                    <a:lnTo>
                      <a:pt x="187" y="1379"/>
                    </a:lnTo>
                    <a:lnTo>
                      <a:pt x="152" y="1358"/>
                    </a:lnTo>
                    <a:lnTo>
                      <a:pt x="119" y="1339"/>
                    </a:lnTo>
                    <a:lnTo>
                      <a:pt x="87" y="1319"/>
                    </a:lnTo>
                    <a:lnTo>
                      <a:pt x="57" y="1301"/>
                    </a:lnTo>
                    <a:lnTo>
                      <a:pt x="28" y="128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c3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0080" y="4449600"/>
                <a:ext cx="110520" cy="150120"/>
              </a:xfrm>
              <a:custGeom>
                <a:avLst/>
                <a:gdLst/>
                <a:ahLst/>
                <a:rect l="l" t="t" r="r" b="b"/>
                <a:pathLst>
                  <a:path w="951" h="1389">
                    <a:moveTo>
                      <a:pt x="0" y="1241"/>
                    </a:moveTo>
                    <a:lnTo>
                      <a:pt x="717" y="0"/>
                    </a:lnTo>
                    <a:lnTo>
                      <a:pt x="746" y="27"/>
                    </a:lnTo>
                    <a:lnTo>
                      <a:pt x="775" y="52"/>
                    </a:lnTo>
                    <a:lnTo>
                      <a:pt x="804" y="77"/>
                    </a:lnTo>
                    <a:lnTo>
                      <a:pt x="834" y="101"/>
                    </a:lnTo>
                    <a:lnTo>
                      <a:pt x="862" y="127"/>
                    </a:lnTo>
                    <a:lnTo>
                      <a:pt x="892" y="151"/>
                    </a:lnTo>
                    <a:lnTo>
                      <a:pt x="922" y="175"/>
                    </a:lnTo>
                    <a:lnTo>
                      <a:pt x="951" y="198"/>
                    </a:lnTo>
                    <a:lnTo>
                      <a:pt x="263" y="1389"/>
                    </a:lnTo>
                    <a:lnTo>
                      <a:pt x="227" y="1370"/>
                    </a:lnTo>
                    <a:lnTo>
                      <a:pt x="192" y="1350"/>
                    </a:lnTo>
                    <a:lnTo>
                      <a:pt x="157" y="1332"/>
                    </a:lnTo>
                    <a:lnTo>
                      <a:pt x="124" y="1313"/>
                    </a:lnTo>
                    <a:lnTo>
                      <a:pt x="92" y="1294"/>
                    </a:lnTo>
                    <a:lnTo>
                      <a:pt x="60" y="1277"/>
                    </a:lnTo>
                    <a:lnTo>
                      <a:pt x="30" y="1259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bfc6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74840" y="4460760"/>
                <a:ext cx="109800" cy="146160"/>
              </a:xfrm>
              <a:custGeom>
                <a:avLst/>
                <a:gdLst/>
                <a:ahLst/>
                <a:rect l="l" t="t" r="r" b="b"/>
                <a:pathLst>
                  <a:path w="940" h="1357">
                    <a:moveTo>
                      <a:pt x="0" y="1216"/>
                    </a:moveTo>
                    <a:lnTo>
                      <a:pt x="702" y="0"/>
                    </a:lnTo>
                    <a:lnTo>
                      <a:pt x="731" y="24"/>
                    </a:lnTo>
                    <a:lnTo>
                      <a:pt x="761" y="50"/>
                    </a:lnTo>
                    <a:lnTo>
                      <a:pt x="791" y="74"/>
                    </a:lnTo>
                    <a:lnTo>
                      <a:pt x="821" y="98"/>
                    </a:lnTo>
                    <a:lnTo>
                      <a:pt x="851" y="121"/>
                    </a:lnTo>
                    <a:lnTo>
                      <a:pt x="881" y="144"/>
                    </a:lnTo>
                    <a:lnTo>
                      <a:pt x="910" y="167"/>
                    </a:lnTo>
                    <a:lnTo>
                      <a:pt x="940" y="190"/>
                    </a:lnTo>
                    <a:lnTo>
                      <a:pt x="266" y="1357"/>
                    </a:lnTo>
                    <a:lnTo>
                      <a:pt x="230" y="1339"/>
                    </a:lnTo>
                    <a:lnTo>
                      <a:pt x="195" y="1321"/>
                    </a:lnTo>
                    <a:lnTo>
                      <a:pt x="160" y="1303"/>
                    </a:lnTo>
                    <a:lnTo>
                      <a:pt x="127" y="1285"/>
                    </a:lnTo>
                    <a:lnTo>
                      <a:pt x="94" y="1268"/>
                    </a:lnTo>
                    <a:lnTo>
                      <a:pt x="62" y="1251"/>
                    </a:lnTo>
                    <a:lnTo>
                      <a:pt x="31" y="1233"/>
                    </a:lnTo>
                    <a:lnTo>
                      <a:pt x="0" y="1216"/>
                    </a:lnTo>
                    <a:close/>
                  </a:path>
                </a:pathLst>
              </a:custGeom>
              <a:solidFill>
                <a:srgbClr val="bac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90320" y="4470840"/>
                <a:ext cx="109080" cy="143280"/>
              </a:xfrm>
              <a:custGeom>
                <a:avLst/>
                <a:gdLst/>
                <a:ahLst/>
                <a:rect l="l" t="t" r="r" b="b"/>
                <a:pathLst>
                  <a:path w="931" h="1326">
                    <a:moveTo>
                      <a:pt x="0" y="1191"/>
                    </a:moveTo>
                    <a:lnTo>
                      <a:pt x="688" y="0"/>
                    </a:lnTo>
                    <a:lnTo>
                      <a:pt x="719" y="24"/>
                    </a:lnTo>
                    <a:lnTo>
                      <a:pt x="749" y="47"/>
                    </a:lnTo>
                    <a:lnTo>
                      <a:pt x="780" y="71"/>
                    </a:lnTo>
                    <a:lnTo>
                      <a:pt x="809" y="94"/>
                    </a:lnTo>
                    <a:lnTo>
                      <a:pt x="840" y="115"/>
                    </a:lnTo>
                    <a:lnTo>
                      <a:pt x="870" y="138"/>
                    </a:lnTo>
                    <a:lnTo>
                      <a:pt x="901" y="160"/>
                    </a:lnTo>
                    <a:lnTo>
                      <a:pt x="931" y="182"/>
                    </a:lnTo>
                    <a:lnTo>
                      <a:pt x="270" y="1326"/>
                    </a:lnTo>
                    <a:lnTo>
                      <a:pt x="235" y="1308"/>
                    </a:lnTo>
                    <a:lnTo>
                      <a:pt x="199" y="1291"/>
                    </a:lnTo>
                    <a:lnTo>
                      <a:pt x="164" y="1275"/>
                    </a:lnTo>
                    <a:lnTo>
                      <a:pt x="130" y="1258"/>
                    </a:lnTo>
                    <a:lnTo>
                      <a:pt x="96" y="1241"/>
                    </a:lnTo>
                    <a:lnTo>
                      <a:pt x="64" y="1225"/>
                    </a:lnTo>
                    <a:lnTo>
                      <a:pt x="32" y="1207"/>
                    </a:lnTo>
                    <a:lnTo>
                      <a:pt x="0" y="1191"/>
                    </a:lnTo>
                    <a:close/>
                  </a:path>
                </a:pathLst>
              </a:custGeom>
              <a:solidFill>
                <a:srgbClr val="b4b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6520" y="4480560"/>
                <a:ext cx="107280" cy="140040"/>
              </a:xfrm>
              <a:custGeom>
                <a:avLst/>
                <a:gdLst/>
                <a:ahLst/>
                <a:rect l="l" t="t" r="r" b="b"/>
                <a:pathLst>
                  <a:path w="922" h="1295">
                    <a:moveTo>
                      <a:pt x="0" y="1167"/>
                    </a:moveTo>
                    <a:lnTo>
                      <a:pt x="674" y="0"/>
                    </a:lnTo>
                    <a:lnTo>
                      <a:pt x="705" y="22"/>
                    </a:lnTo>
                    <a:lnTo>
                      <a:pt x="736" y="45"/>
                    </a:lnTo>
                    <a:lnTo>
                      <a:pt x="767" y="67"/>
                    </a:lnTo>
                    <a:lnTo>
                      <a:pt x="798" y="89"/>
                    </a:lnTo>
                    <a:lnTo>
                      <a:pt x="829" y="111"/>
                    </a:lnTo>
                    <a:lnTo>
                      <a:pt x="860" y="133"/>
                    </a:lnTo>
                    <a:lnTo>
                      <a:pt x="891" y="153"/>
                    </a:lnTo>
                    <a:lnTo>
                      <a:pt x="922" y="174"/>
                    </a:lnTo>
                    <a:lnTo>
                      <a:pt x="275" y="1295"/>
                    </a:lnTo>
                    <a:lnTo>
                      <a:pt x="238" y="1279"/>
                    </a:lnTo>
                    <a:lnTo>
                      <a:pt x="203" y="1262"/>
                    </a:lnTo>
                    <a:lnTo>
                      <a:pt x="167" y="1246"/>
                    </a:lnTo>
                    <a:lnTo>
                      <a:pt x="133" y="1231"/>
                    </a:lnTo>
                    <a:lnTo>
                      <a:pt x="99" y="1215"/>
                    </a:lnTo>
                    <a:lnTo>
                      <a:pt x="65" y="1199"/>
                    </a:lnTo>
                    <a:lnTo>
                      <a:pt x="33" y="1183"/>
                    </a:lnTo>
                    <a:lnTo>
                      <a:pt x="0" y="1167"/>
                    </a:lnTo>
                    <a:close/>
                  </a:path>
                </a:pathLst>
              </a:custGeom>
              <a:solidFill>
                <a:srgbClr val="b0b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22720" y="4490280"/>
                <a:ext cx="106200" cy="136800"/>
              </a:xfrm>
              <a:custGeom>
                <a:avLst/>
                <a:gdLst/>
                <a:ahLst/>
                <a:rect l="l" t="t" r="r" b="b"/>
                <a:pathLst>
                  <a:path w="913" h="1265">
                    <a:moveTo>
                      <a:pt x="0" y="1144"/>
                    </a:moveTo>
                    <a:lnTo>
                      <a:pt x="661" y="0"/>
                    </a:lnTo>
                    <a:lnTo>
                      <a:pt x="693" y="22"/>
                    </a:lnTo>
                    <a:lnTo>
                      <a:pt x="724" y="44"/>
                    </a:lnTo>
                    <a:lnTo>
                      <a:pt x="756" y="65"/>
                    </a:lnTo>
                    <a:lnTo>
                      <a:pt x="787" y="86"/>
                    </a:lnTo>
                    <a:lnTo>
                      <a:pt x="818" y="107"/>
                    </a:lnTo>
                    <a:lnTo>
                      <a:pt x="850" y="127"/>
                    </a:lnTo>
                    <a:lnTo>
                      <a:pt x="881" y="147"/>
                    </a:lnTo>
                    <a:lnTo>
                      <a:pt x="913" y="166"/>
                    </a:lnTo>
                    <a:lnTo>
                      <a:pt x="279" y="1265"/>
                    </a:lnTo>
                    <a:lnTo>
                      <a:pt x="242" y="1250"/>
                    </a:lnTo>
                    <a:lnTo>
                      <a:pt x="207" y="1235"/>
                    </a:lnTo>
                    <a:lnTo>
                      <a:pt x="171" y="1219"/>
                    </a:lnTo>
                    <a:lnTo>
                      <a:pt x="136" y="1204"/>
                    </a:lnTo>
                    <a:lnTo>
                      <a:pt x="101" y="1190"/>
                    </a:lnTo>
                    <a:lnTo>
                      <a:pt x="67" y="1175"/>
                    </a:lnTo>
                    <a:lnTo>
                      <a:pt x="34" y="1159"/>
                    </a:lnTo>
                    <a:lnTo>
                      <a:pt x="0" y="1144"/>
                    </a:lnTo>
                    <a:close/>
                  </a:path>
                </a:pathLst>
              </a:custGeom>
              <a:solidFill>
                <a:srgbClr val="acb4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38920" y="4499640"/>
                <a:ext cx="105120" cy="133560"/>
              </a:xfrm>
              <a:custGeom>
                <a:avLst/>
                <a:gdLst/>
                <a:ahLst/>
                <a:rect l="l" t="t" r="r" b="b"/>
                <a:pathLst>
                  <a:path w="903" h="1235">
                    <a:moveTo>
                      <a:pt x="0" y="1121"/>
                    </a:moveTo>
                    <a:lnTo>
                      <a:pt x="647" y="0"/>
                    </a:lnTo>
                    <a:lnTo>
                      <a:pt x="679" y="22"/>
                    </a:lnTo>
                    <a:lnTo>
                      <a:pt x="711" y="42"/>
                    </a:lnTo>
                    <a:lnTo>
                      <a:pt x="743" y="63"/>
                    </a:lnTo>
                    <a:lnTo>
                      <a:pt x="775" y="82"/>
                    </a:lnTo>
                    <a:lnTo>
                      <a:pt x="807" y="102"/>
                    </a:lnTo>
                    <a:lnTo>
                      <a:pt x="838" y="121"/>
                    </a:lnTo>
                    <a:lnTo>
                      <a:pt x="871" y="141"/>
                    </a:lnTo>
                    <a:lnTo>
                      <a:pt x="903" y="159"/>
                    </a:lnTo>
                    <a:lnTo>
                      <a:pt x="282" y="1235"/>
                    </a:lnTo>
                    <a:lnTo>
                      <a:pt x="246" y="1222"/>
                    </a:lnTo>
                    <a:lnTo>
                      <a:pt x="209" y="1208"/>
                    </a:lnTo>
                    <a:lnTo>
                      <a:pt x="172" y="1193"/>
                    </a:lnTo>
                    <a:lnTo>
                      <a:pt x="138" y="1179"/>
                    </a:lnTo>
                    <a:lnTo>
                      <a:pt x="102" y="1164"/>
                    </a:lnTo>
                    <a:lnTo>
                      <a:pt x="68" y="1150"/>
                    </a:lnTo>
                    <a:lnTo>
                      <a:pt x="33" y="1135"/>
                    </a:lnTo>
                    <a:lnTo>
                      <a:pt x="0" y="1121"/>
                    </a:lnTo>
                    <a:close/>
                  </a:path>
                </a:pathLst>
              </a:custGeom>
              <a:solidFill>
                <a:srgbClr val="a6a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55120" y="4508640"/>
                <a:ext cx="104400" cy="129960"/>
              </a:xfrm>
              <a:custGeom>
                <a:avLst/>
                <a:gdLst/>
                <a:ahLst/>
                <a:rect l="l" t="t" r="r" b="b"/>
                <a:pathLst>
                  <a:path w="893" h="1207">
                    <a:moveTo>
                      <a:pt x="0" y="1099"/>
                    </a:moveTo>
                    <a:lnTo>
                      <a:pt x="634" y="0"/>
                    </a:lnTo>
                    <a:lnTo>
                      <a:pt x="666" y="21"/>
                    </a:lnTo>
                    <a:lnTo>
                      <a:pt x="698" y="40"/>
                    </a:lnTo>
                    <a:lnTo>
                      <a:pt x="732" y="61"/>
                    </a:lnTo>
                    <a:lnTo>
                      <a:pt x="764" y="79"/>
                    </a:lnTo>
                    <a:lnTo>
                      <a:pt x="797" y="99"/>
                    </a:lnTo>
                    <a:lnTo>
                      <a:pt x="829" y="117"/>
                    </a:lnTo>
                    <a:lnTo>
                      <a:pt x="861" y="136"/>
                    </a:lnTo>
                    <a:lnTo>
                      <a:pt x="893" y="153"/>
                    </a:lnTo>
                    <a:lnTo>
                      <a:pt x="286" y="1207"/>
                    </a:lnTo>
                    <a:lnTo>
                      <a:pt x="249" y="1193"/>
                    </a:lnTo>
                    <a:lnTo>
                      <a:pt x="212" y="1181"/>
                    </a:lnTo>
                    <a:lnTo>
                      <a:pt x="175" y="1167"/>
                    </a:lnTo>
                    <a:lnTo>
                      <a:pt x="140" y="1153"/>
                    </a:lnTo>
                    <a:lnTo>
                      <a:pt x="104" y="1141"/>
                    </a:lnTo>
                    <a:lnTo>
                      <a:pt x="69" y="1127"/>
                    </a:lnTo>
                    <a:lnTo>
                      <a:pt x="34" y="1113"/>
                    </a:lnTo>
                    <a:lnTo>
                      <a:pt x="0" y="1099"/>
                    </a:lnTo>
                    <a:close/>
                  </a:path>
                </a:pathLst>
              </a:custGeom>
              <a:solidFill>
                <a:srgbClr val="a1a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71680" y="4516920"/>
                <a:ext cx="102960" cy="127080"/>
              </a:xfrm>
              <a:custGeom>
                <a:avLst/>
                <a:gdLst/>
                <a:ahLst/>
                <a:rect l="l" t="t" r="r" b="b"/>
                <a:pathLst>
                  <a:path w="886" h="1177">
                    <a:moveTo>
                      <a:pt x="0" y="1076"/>
                    </a:moveTo>
                    <a:lnTo>
                      <a:pt x="621" y="0"/>
                    </a:lnTo>
                    <a:lnTo>
                      <a:pt x="654" y="20"/>
                    </a:lnTo>
                    <a:lnTo>
                      <a:pt x="687" y="39"/>
                    </a:lnTo>
                    <a:lnTo>
                      <a:pt x="720" y="58"/>
                    </a:lnTo>
                    <a:lnTo>
                      <a:pt x="754" y="76"/>
                    </a:lnTo>
                    <a:lnTo>
                      <a:pt x="787" y="93"/>
                    </a:lnTo>
                    <a:lnTo>
                      <a:pt x="820" y="112"/>
                    </a:lnTo>
                    <a:lnTo>
                      <a:pt x="852" y="129"/>
                    </a:lnTo>
                    <a:lnTo>
                      <a:pt x="886" y="145"/>
                    </a:lnTo>
                    <a:lnTo>
                      <a:pt x="290" y="1177"/>
                    </a:lnTo>
                    <a:lnTo>
                      <a:pt x="253" y="1166"/>
                    </a:lnTo>
                    <a:lnTo>
                      <a:pt x="215" y="1153"/>
                    </a:lnTo>
                    <a:lnTo>
                      <a:pt x="178" y="1141"/>
                    </a:lnTo>
                    <a:lnTo>
                      <a:pt x="141" y="1128"/>
                    </a:lnTo>
                    <a:lnTo>
                      <a:pt x="106" y="1115"/>
                    </a:lnTo>
                    <a:lnTo>
                      <a:pt x="70" y="1103"/>
                    </a:lnTo>
                    <a:lnTo>
                      <a:pt x="35" y="1090"/>
                    </a:lnTo>
                    <a:lnTo>
                      <a:pt x="0" y="1076"/>
                    </a:lnTo>
                    <a:close/>
                  </a:path>
                </a:pathLst>
              </a:custGeom>
              <a:solidFill>
                <a:srgbClr val="9ba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88600" y="4524840"/>
                <a:ext cx="102240" cy="124200"/>
              </a:xfrm>
              <a:custGeom>
                <a:avLst/>
                <a:gdLst/>
                <a:ahLst/>
                <a:rect l="l" t="t" r="r" b="b"/>
                <a:pathLst>
                  <a:path w="877" h="1148">
                    <a:moveTo>
                      <a:pt x="0" y="1054"/>
                    </a:moveTo>
                    <a:lnTo>
                      <a:pt x="607" y="0"/>
                    </a:lnTo>
                    <a:lnTo>
                      <a:pt x="642" y="18"/>
                    </a:lnTo>
                    <a:lnTo>
                      <a:pt x="676" y="37"/>
                    </a:lnTo>
                    <a:lnTo>
                      <a:pt x="709" y="54"/>
                    </a:lnTo>
                    <a:lnTo>
                      <a:pt x="743" y="71"/>
                    </a:lnTo>
                    <a:lnTo>
                      <a:pt x="777" y="88"/>
                    </a:lnTo>
                    <a:lnTo>
                      <a:pt x="810" y="104"/>
                    </a:lnTo>
                    <a:lnTo>
                      <a:pt x="844" y="121"/>
                    </a:lnTo>
                    <a:lnTo>
                      <a:pt x="877" y="136"/>
                    </a:lnTo>
                    <a:lnTo>
                      <a:pt x="294" y="1148"/>
                    </a:lnTo>
                    <a:lnTo>
                      <a:pt x="255" y="1137"/>
                    </a:lnTo>
                    <a:lnTo>
                      <a:pt x="219" y="1125"/>
                    </a:lnTo>
                    <a:lnTo>
                      <a:pt x="181" y="1114"/>
                    </a:lnTo>
                    <a:lnTo>
                      <a:pt x="144" y="1102"/>
                    </a:lnTo>
                    <a:lnTo>
                      <a:pt x="107" y="1090"/>
                    </a:lnTo>
                    <a:lnTo>
                      <a:pt x="71" y="1078"/>
                    </a:lnTo>
                    <a:lnTo>
                      <a:pt x="35" y="1066"/>
                    </a:lnTo>
                    <a:lnTo>
                      <a:pt x="0" y="1054"/>
                    </a:lnTo>
                    <a:close/>
                  </a:path>
                </a:pathLst>
              </a:custGeom>
              <a:solidFill>
                <a:srgbClr val="97a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05520" y="4532400"/>
                <a:ext cx="101520" cy="120960"/>
              </a:xfrm>
              <a:custGeom>
                <a:avLst/>
                <a:gdLst/>
                <a:ahLst/>
                <a:rect l="l" t="t" r="r" b="b"/>
                <a:pathLst>
                  <a:path w="870" h="1119">
                    <a:moveTo>
                      <a:pt x="0" y="1032"/>
                    </a:moveTo>
                    <a:lnTo>
                      <a:pt x="596" y="0"/>
                    </a:lnTo>
                    <a:lnTo>
                      <a:pt x="630" y="17"/>
                    </a:lnTo>
                    <a:lnTo>
                      <a:pt x="664" y="34"/>
                    </a:lnTo>
                    <a:lnTo>
                      <a:pt x="699" y="51"/>
                    </a:lnTo>
                    <a:lnTo>
                      <a:pt x="733" y="68"/>
                    </a:lnTo>
                    <a:lnTo>
                      <a:pt x="768" y="84"/>
                    </a:lnTo>
                    <a:lnTo>
                      <a:pt x="802" y="99"/>
                    </a:lnTo>
                    <a:lnTo>
                      <a:pt x="835" y="115"/>
                    </a:lnTo>
                    <a:lnTo>
                      <a:pt x="870" y="129"/>
                    </a:lnTo>
                    <a:lnTo>
                      <a:pt x="297" y="1119"/>
                    </a:lnTo>
                    <a:lnTo>
                      <a:pt x="260" y="1109"/>
                    </a:lnTo>
                    <a:lnTo>
                      <a:pt x="222" y="1099"/>
                    </a:lnTo>
                    <a:lnTo>
                      <a:pt x="184" y="1088"/>
                    </a:lnTo>
                    <a:lnTo>
                      <a:pt x="146" y="1077"/>
                    </a:lnTo>
                    <a:lnTo>
                      <a:pt x="109" y="1067"/>
                    </a:lnTo>
                    <a:lnTo>
                      <a:pt x="73" y="1055"/>
                    </a:lnTo>
                    <a:lnTo>
                      <a:pt x="36" y="1044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93a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22800" y="4539600"/>
                <a:ext cx="100080" cy="117720"/>
              </a:xfrm>
              <a:custGeom>
                <a:avLst/>
                <a:gdLst/>
                <a:ahLst/>
                <a:rect l="l" t="t" r="r" b="b"/>
                <a:pathLst>
                  <a:path w="861" h="1090">
                    <a:moveTo>
                      <a:pt x="0" y="1012"/>
                    </a:moveTo>
                    <a:lnTo>
                      <a:pt x="583" y="0"/>
                    </a:lnTo>
                    <a:lnTo>
                      <a:pt x="618" y="18"/>
                    </a:lnTo>
                    <a:lnTo>
                      <a:pt x="654" y="34"/>
                    </a:lnTo>
                    <a:lnTo>
                      <a:pt x="688" y="49"/>
                    </a:lnTo>
                    <a:lnTo>
                      <a:pt x="723" y="65"/>
                    </a:lnTo>
                    <a:lnTo>
                      <a:pt x="758" y="80"/>
                    </a:lnTo>
                    <a:lnTo>
                      <a:pt x="793" y="93"/>
                    </a:lnTo>
                    <a:lnTo>
                      <a:pt x="827" y="108"/>
                    </a:lnTo>
                    <a:lnTo>
                      <a:pt x="861" y="122"/>
                    </a:lnTo>
                    <a:lnTo>
                      <a:pt x="302" y="1090"/>
                    </a:lnTo>
                    <a:lnTo>
                      <a:pt x="263" y="1081"/>
                    </a:lnTo>
                    <a:lnTo>
                      <a:pt x="225" y="1072"/>
                    </a:lnTo>
                    <a:lnTo>
                      <a:pt x="186" y="1063"/>
                    </a:lnTo>
                    <a:lnTo>
                      <a:pt x="148" y="1052"/>
                    </a:lnTo>
                    <a:lnTo>
                      <a:pt x="110" y="1043"/>
                    </a:lnTo>
                    <a:lnTo>
                      <a:pt x="74" y="1033"/>
                    </a:lnTo>
                    <a:lnTo>
                      <a:pt x="37" y="1022"/>
                    </a:lnTo>
                    <a:lnTo>
                      <a:pt x="0" y="1012"/>
                    </a:lnTo>
                    <a:close/>
                  </a:path>
                </a:pathLst>
              </a:custGeom>
              <a:solidFill>
                <a:srgbClr val="909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40440" y="4546800"/>
                <a:ext cx="99360" cy="114840"/>
              </a:xfrm>
              <a:custGeom>
                <a:avLst/>
                <a:gdLst/>
                <a:ahLst/>
                <a:rect l="l" t="t" r="r" b="b"/>
                <a:pathLst>
                  <a:path w="856" h="1062">
                    <a:moveTo>
                      <a:pt x="0" y="990"/>
                    </a:moveTo>
                    <a:lnTo>
                      <a:pt x="573" y="0"/>
                    </a:lnTo>
                    <a:lnTo>
                      <a:pt x="608" y="15"/>
                    </a:lnTo>
                    <a:lnTo>
                      <a:pt x="644" y="30"/>
                    </a:lnTo>
                    <a:lnTo>
                      <a:pt x="679" y="45"/>
                    </a:lnTo>
                    <a:lnTo>
                      <a:pt x="715" y="59"/>
                    </a:lnTo>
                    <a:lnTo>
                      <a:pt x="750" y="73"/>
                    </a:lnTo>
                    <a:lnTo>
                      <a:pt x="786" y="87"/>
                    </a:lnTo>
                    <a:lnTo>
                      <a:pt x="820" y="100"/>
                    </a:lnTo>
                    <a:lnTo>
                      <a:pt x="856" y="113"/>
                    </a:lnTo>
                    <a:lnTo>
                      <a:pt x="308" y="1062"/>
                    </a:lnTo>
                    <a:lnTo>
                      <a:pt x="269" y="1053"/>
                    </a:lnTo>
                    <a:lnTo>
                      <a:pt x="230" y="1045"/>
                    </a:lnTo>
                    <a:lnTo>
                      <a:pt x="191" y="1036"/>
                    </a:lnTo>
                    <a:lnTo>
                      <a:pt x="152" y="1027"/>
                    </a:lnTo>
                    <a:lnTo>
                      <a:pt x="114" y="1018"/>
                    </a:lnTo>
                    <a:lnTo>
                      <a:pt x="76" y="1009"/>
                    </a:lnTo>
                    <a:lnTo>
                      <a:pt x="38" y="1000"/>
                    </a:lnTo>
                    <a:lnTo>
                      <a:pt x="0" y="990"/>
                    </a:lnTo>
                    <a:close/>
                  </a:path>
                </a:pathLst>
              </a:custGeom>
              <a:solidFill>
                <a:srgbClr val="8c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58080" y="4552560"/>
                <a:ext cx="98640" cy="111960"/>
              </a:xfrm>
              <a:custGeom>
                <a:avLst/>
                <a:gdLst/>
                <a:ahLst/>
                <a:rect l="l" t="t" r="r" b="b"/>
                <a:pathLst>
                  <a:path w="847" h="1032">
                    <a:moveTo>
                      <a:pt x="0" y="968"/>
                    </a:moveTo>
                    <a:lnTo>
                      <a:pt x="559" y="0"/>
                    </a:lnTo>
                    <a:lnTo>
                      <a:pt x="596" y="14"/>
                    </a:lnTo>
                    <a:lnTo>
                      <a:pt x="633" y="28"/>
                    </a:lnTo>
                    <a:lnTo>
                      <a:pt x="668" y="41"/>
                    </a:lnTo>
                    <a:lnTo>
                      <a:pt x="705" y="55"/>
                    </a:lnTo>
                    <a:lnTo>
                      <a:pt x="741" y="68"/>
                    </a:lnTo>
                    <a:lnTo>
                      <a:pt x="776" y="80"/>
                    </a:lnTo>
                    <a:lnTo>
                      <a:pt x="812" y="92"/>
                    </a:lnTo>
                    <a:lnTo>
                      <a:pt x="847" y="104"/>
                    </a:lnTo>
                    <a:lnTo>
                      <a:pt x="312" y="1032"/>
                    </a:lnTo>
                    <a:lnTo>
                      <a:pt x="272" y="1025"/>
                    </a:lnTo>
                    <a:lnTo>
                      <a:pt x="233" y="1017"/>
                    </a:lnTo>
                    <a:lnTo>
                      <a:pt x="193" y="1011"/>
                    </a:lnTo>
                    <a:lnTo>
                      <a:pt x="154" y="1003"/>
                    </a:lnTo>
                    <a:lnTo>
                      <a:pt x="115" y="994"/>
                    </a:lnTo>
                    <a:lnTo>
                      <a:pt x="77" y="986"/>
                    </a:lnTo>
                    <a:lnTo>
                      <a:pt x="38" y="977"/>
                    </a:lnTo>
                    <a:lnTo>
                      <a:pt x="0" y="968"/>
                    </a:lnTo>
                    <a:close/>
                  </a:path>
                </a:pathLst>
              </a:custGeom>
              <a:solidFill>
                <a:srgbClr val="899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76080" y="4558320"/>
                <a:ext cx="97920" cy="108720"/>
              </a:xfrm>
              <a:custGeom>
                <a:avLst/>
                <a:gdLst/>
                <a:ahLst/>
                <a:rect l="l" t="t" r="r" b="b"/>
                <a:pathLst>
                  <a:path w="840" h="1004">
                    <a:moveTo>
                      <a:pt x="0" y="949"/>
                    </a:moveTo>
                    <a:lnTo>
                      <a:pt x="548" y="0"/>
                    </a:lnTo>
                    <a:lnTo>
                      <a:pt x="585" y="13"/>
                    </a:lnTo>
                    <a:lnTo>
                      <a:pt x="621" y="26"/>
                    </a:lnTo>
                    <a:lnTo>
                      <a:pt x="658" y="39"/>
                    </a:lnTo>
                    <a:lnTo>
                      <a:pt x="695" y="50"/>
                    </a:lnTo>
                    <a:lnTo>
                      <a:pt x="731" y="63"/>
                    </a:lnTo>
                    <a:lnTo>
                      <a:pt x="768" y="74"/>
                    </a:lnTo>
                    <a:lnTo>
                      <a:pt x="804" y="85"/>
                    </a:lnTo>
                    <a:lnTo>
                      <a:pt x="840" y="96"/>
                    </a:lnTo>
                    <a:lnTo>
                      <a:pt x="316" y="1004"/>
                    </a:lnTo>
                    <a:lnTo>
                      <a:pt x="276" y="998"/>
                    </a:lnTo>
                    <a:lnTo>
                      <a:pt x="236" y="991"/>
                    </a:lnTo>
                    <a:lnTo>
                      <a:pt x="196" y="985"/>
                    </a:lnTo>
                    <a:lnTo>
                      <a:pt x="156" y="978"/>
                    </a:lnTo>
                    <a:lnTo>
                      <a:pt x="117" y="971"/>
                    </a:lnTo>
                    <a:lnTo>
                      <a:pt x="78" y="963"/>
                    </a:lnTo>
                    <a:lnTo>
                      <a:pt x="39" y="957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849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440" y="4564440"/>
                <a:ext cx="97200" cy="105120"/>
              </a:xfrm>
              <a:custGeom>
                <a:avLst/>
                <a:gdLst/>
                <a:ahLst/>
                <a:rect l="l" t="t" r="r" b="b"/>
                <a:pathLst>
                  <a:path w="833" h="974">
                    <a:moveTo>
                      <a:pt x="0" y="928"/>
                    </a:moveTo>
                    <a:lnTo>
                      <a:pt x="535" y="0"/>
                    </a:lnTo>
                    <a:lnTo>
                      <a:pt x="573" y="12"/>
                    </a:lnTo>
                    <a:lnTo>
                      <a:pt x="611" y="24"/>
                    </a:lnTo>
                    <a:lnTo>
                      <a:pt x="649" y="36"/>
                    </a:lnTo>
                    <a:lnTo>
                      <a:pt x="686" y="46"/>
                    </a:lnTo>
                    <a:lnTo>
                      <a:pt x="723" y="58"/>
                    </a:lnTo>
                    <a:lnTo>
                      <a:pt x="760" y="68"/>
                    </a:lnTo>
                    <a:lnTo>
                      <a:pt x="797" y="77"/>
                    </a:lnTo>
                    <a:lnTo>
                      <a:pt x="833" y="88"/>
                    </a:lnTo>
                    <a:lnTo>
                      <a:pt x="321" y="974"/>
                    </a:lnTo>
                    <a:lnTo>
                      <a:pt x="280" y="970"/>
                    </a:lnTo>
                    <a:lnTo>
                      <a:pt x="239" y="965"/>
                    </a:lnTo>
                    <a:lnTo>
                      <a:pt x="199" y="959"/>
                    </a:lnTo>
                    <a:lnTo>
                      <a:pt x="158" y="954"/>
                    </a:lnTo>
                    <a:lnTo>
                      <a:pt x="119" y="948"/>
                    </a:lnTo>
                    <a:lnTo>
                      <a:pt x="79" y="941"/>
                    </a:lnTo>
                    <a:lnTo>
                      <a:pt x="39" y="935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808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13520" y="4569480"/>
                <a:ext cx="95760" cy="101880"/>
              </a:xfrm>
              <a:custGeom>
                <a:avLst/>
                <a:gdLst/>
                <a:ahLst/>
                <a:rect l="l" t="t" r="r" b="b"/>
                <a:pathLst>
                  <a:path w="827" h="945">
                    <a:moveTo>
                      <a:pt x="0" y="908"/>
                    </a:moveTo>
                    <a:lnTo>
                      <a:pt x="524" y="0"/>
                    </a:lnTo>
                    <a:lnTo>
                      <a:pt x="563" y="11"/>
                    </a:lnTo>
                    <a:lnTo>
                      <a:pt x="601" y="22"/>
                    </a:lnTo>
                    <a:lnTo>
                      <a:pt x="639" y="32"/>
                    </a:lnTo>
                    <a:lnTo>
                      <a:pt x="678" y="43"/>
                    </a:lnTo>
                    <a:lnTo>
                      <a:pt x="716" y="52"/>
                    </a:lnTo>
                    <a:lnTo>
                      <a:pt x="752" y="61"/>
                    </a:lnTo>
                    <a:lnTo>
                      <a:pt x="790" y="70"/>
                    </a:lnTo>
                    <a:lnTo>
                      <a:pt x="827" y="78"/>
                    </a:lnTo>
                    <a:lnTo>
                      <a:pt x="327" y="945"/>
                    </a:lnTo>
                    <a:lnTo>
                      <a:pt x="285" y="941"/>
                    </a:lnTo>
                    <a:lnTo>
                      <a:pt x="243" y="937"/>
                    </a:lnTo>
                    <a:lnTo>
                      <a:pt x="202" y="933"/>
                    </a:lnTo>
                    <a:lnTo>
                      <a:pt x="162" y="928"/>
                    </a:lnTo>
                    <a:lnTo>
                      <a:pt x="121" y="924"/>
                    </a:lnTo>
                    <a:lnTo>
                      <a:pt x="80" y="919"/>
                    </a:lnTo>
                    <a:lnTo>
                      <a:pt x="40" y="913"/>
                    </a:lnTo>
                    <a:lnTo>
                      <a:pt x="0" y="908"/>
                    </a:lnTo>
                    <a:close/>
                  </a:path>
                </a:pathLst>
              </a:custGeom>
              <a:solidFill>
                <a:srgbClr val="7c8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31520" y="4573440"/>
                <a:ext cx="95760" cy="99000"/>
              </a:xfrm>
              <a:custGeom>
                <a:avLst/>
                <a:gdLst/>
                <a:ahLst/>
                <a:rect l="l" t="t" r="r" b="b"/>
                <a:pathLst>
                  <a:path w="820" h="914">
                    <a:moveTo>
                      <a:pt x="0" y="886"/>
                    </a:moveTo>
                    <a:lnTo>
                      <a:pt x="512" y="0"/>
                    </a:lnTo>
                    <a:lnTo>
                      <a:pt x="551" y="10"/>
                    </a:lnTo>
                    <a:lnTo>
                      <a:pt x="592" y="19"/>
                    </a:lnTo>
                    <a:lnTo>
                      <a:pt x="629" y="28"/>
                    </a:lnTo>
                    <a:lnTo>
                      <a:pt x="668" y="37"/>
                    </a:lnTo>
                    <a:lnTo>
                      <a:pt x="707" y="45"/>
                    </a:lnTo>
                    <a:lnTo>
                      <a:pt x="745" y="53"/>
                    </a:lnTo>
                    <a:lnTo>
                      <a:pt x="783" y="61"/>
                    </a:lnTo>
                    <a:lnTo>
                      <a:pt x="820" y="68"/>
                    </a:lnTo>
                    <a:lnTo>
                      <a:pt x="332" y="914"/>
                    </a:lnTo>
                    <a:lnTo>
                      <a:pt x="290" y="911"/>
                    </a:lnTo>
                    <a:lnTo>
                      <a:pt x="248" y="909"/>
                    </a:lnTo>
                    <a:lnTo>
                      <a:pt x="206" y="906"/>
                    </a:lnTo>
                    <a:lnTo>
                      <a:pt x="165" y="902"/>
                    </a:lnTo>
                    <a:lnTo>
                      <a:pt x="123" y="899"/>
                    </a:lnTo>
                    <a:lnTo>
                      <a:pt x="81" y="895"/>
                    </a:lnTo>
                    <a:lnTo>
                      <a:pt x="41" y="891"/>
                    </a:lnTo>
                    <a:lnTo>
                      <a:pt x="0" y="886"/>
                    </a:lnTo>
                    <a:close/>
                  </a:path>
                </a:pathLst>
              </a:custGeom>
              <a:solidFill>
                <a:srgbClr val="7a87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51320" y="4578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813" h="885">
                    <a:moveTo>
                      <a:pt x="0" y="867"/>
                    </a:moveTo>
                    <a:lnTo>
                      <a:pt x="500" y="0"/>
                    </a:lnTo>
                    <a:lnTo>
                      <a:pt x="540" y="9"/>
                    </a:lnTo>
                    <a:lnTo>
                      <a:pt x="580" y="17"/>
                    </a:lnTo>
                    <a:lnTo>
                      <a:pt x="620" y="25"/>
                    </a:lnTo>
                    <a:lnTo>
                      <a:pt x="659" y="34"/>
                    </a:lnTo>
                    <a:lnTo>
                      <a:pt x="698" y="40"/>
                    </a:lnTo>
                    <a:lnTo>
                      <a:pt x="737" y="47"/>
                    </a:lnTo>
                    <a:lnTo>
                      <a:pt x="775" y="54"/>
                    </a:lnTo>
                    <a:lnTo>
                      <a:pt x="813" y="60"/>
                    </a:lnTo>
                    <a:lnTo>
                      <a:pt x="337" y="885"/>
                    </a:lnTo>
                    <a:lnTo>
                      <a:pt x="295" y="883"/>
                    </a:lnTo>
                    <a:lnTo>
                      <a:pt x="252" y="882"/>
                    </a:lnTo>
                    <a:lnTo>
                      <a:pt x="210" y="880"/>
                    </a:lnTo>
                    <a:lnTo>
                      <a:pt x="167" y="879"/>
                    </a:lnTo>
                    <a:lnTo>
                      <a:pt x="125" y="875"/>
                    </a:lnTo>
                    <a:lnTo>
                      <a:pt x="83" y="873"/>
                    </a:lnTo>
                    <a:lnTo>
                      <a:pt x="41" y="871"/>
                    </a:lnTo>
                    <a:lnTo>
                      <a:pt x="0" y="867"/>
                    </a:lnTo>
                    <a:close/>
                  </a:path>
                </a:pathLst>
              </a:custGeom>
              <a:solidFill>
                <a:srgbClr val="748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70760" y="4581360"/>
                <a:ext cx="93960" cy="91800"/>
              </a:xfrm>
              <a:custGeom>
                <a:avLst/>
                <a:gdLst/>
                <a:ahLst/>
                <a:rect l="l" t="t" r="r" b="b"/>
                <a:pathLst>
                  <a:path w="808" h="854">
                    <a:moveTo>
                      <a:pt x="0" y="846"/>
                    </a:moveTo>
                    <a:lnTo>
                      <a:pt x="488" y="0"/>
                    </a:lnTo>
                    <a:lnTo>
                      <a:pt x="530" y="8"/>
                    </a:lnTo>
                    <a:lnTo>
                      <a:pt x="570" y="15"/>
                    </a:lnTo>
                    <a:lnTo>
                      <a:pt x="612" y="22"/>
                    </a:lnTo>
                    <a:lnTo>
                      <a:pt x="652" y="29"/>
                    </a:lnTo>
                    <a:lnTo>
                      <a:pt x="691" y="35"/>
                    </a:lnTo>
                    <a:lnTo>
                      <a:pt x="730" y="41"/>
                    </a:lnTo>
                    <a:lnTo>
                      <a:pt x="769" y="46"/>
                    </a:lnTo>
                    <a:lnTo>
                      <a:pt x="808" y="51"/>
                    </a:lnTo>
                    <a:lnTo>
                      <a:pt x="344" y="854"/>
                    </a:lnTo>
                    <a:lnTo>
                      <a:pt x="301" y="854"/>
                    </a:lnTo>
                    <a:lnTo>
                      <a:pt x="257" y="854"/>
                    </a:lnTo>
                    <a:lnTo>
                      <a:pt x="214" y="853"/>
                    </a:lnTo>
                    <a:lnTo>
                      <a:pt x="171" y="853"/>
                    </a:lnTo>
                    <a:lnTo>
                      <a:pt x="128" y="851"/>
                    </a:lnTo>
                    <a:lnTo>
                      <a:pt x="85" y="850"/>
                    </a:lnTo>
                    <a:lnTo>
                      <a:pt x="43" y="848"/>
                    </a:lnTo>
                    <a:lnTo>
                      <a:pt x="0" y="846"/>
                    </a:lnTo>
                    <a:close/>
                  </a:path>
                </a:pathLst>
              </a:custGeom>
              <a:solidFill>
                <a:srgbClr val="728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90560" y="4583880"/>
                <a:ext cx="93960" cy="89280"/>
              </a:xfrm>
              <a:custGeom>
                <a:avLst/>
                <a:gdLst/>
                <a:ahLst/>
                <a:rect l="l" t="t" r="r" b="b"/>
                <a:pathLst>
                  <a:path w="802" h="826">
                    <a:moveTo>
                      <a:pt x="0" y="825"/>
                    </a:moveTo>
                    <a:lnTo>
                      <a:pt x="476" y="0"/>
                    </a:lnTo>
                    <a:lnTo>
                      <a:pt x="518" y="7"/>
                    </a:lnTo>
                    <a:lnTo>
                      <a:pt x="561" y="13"/>
                    </a:lnTo>
                    <a:lnTo>
                      <a:pt x="602" y="18"/>
                    </a:lnTo>
                    <a:lnTo>
                      <a:pt x="643" y="24"/>
                    </a:lnTo>
                    <a:lnTo>
                      <a:pt x="684" y="29"/>
                    </a:lnTo>
                    <a:lnTo>
                      <a:pt x="724" y="33"/>
                    </a:lnTo>
                    <a:lnTo>
                      <a:pt x="763" y="37"/>
                    </a:lnTo>
                    <a:lnTo>
                      <a:pt x="802" y="40"/>
                    </a:lnTo>
                    <a:lnTo>
                      <a:pt x="351" y="820"/>
                    </a:lnTo>
                    <a:lnTo>
                      <a:pt x="306" y="822"/>
                    </a:lnTo>
                    <a:lnTo>
                      <a:pt x="263" y="823"/>
                    </a:lnTo>
                    <a:lnTo>
                      <a:pt x="218" y="825"/>
                    </a:lnTo>
                    <a:lnTo>
                      <a:pt x="174" y="826"/>
                    </a:lnTo>
                    <a:lnTo>
                      <a:pt x="131" y="826"/>
                    </a:lnTo>
                    <a:lnTo>
                      <a:pt x="87" y="826"/>
                    </a:lnTo>
                    <a:lnTo>
                      <a:pt x="44" y="826"/>
                    </a:lnTo>
                    <a:lnTo>
                      <a:pt x="0" y="825"/>
                    </a:lnTo>
                    <a:close/>
                  </a:path>
                </a:pathLst>
              </a:custGeom>
              <a:solidFill>
                <a:srgbClr val="6f8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10720" y="4501440"/>
                <a:ext cx="147960" cy="171720"/>
              </a:xfrm>
              <a:custGeom>
                <a:avLst/>
                <a:gdLst/>
                <a:ahLst/>
                <a:rect l="l" t="t" r="r" b="b"/>
                <a:pathLst>
                  <a:path w="1264" h="1590">
                    <a:moveTo>
                      <a:pt x="0" y="1590"/>
                    </a:moveTo>
                    <a:lnTo>
                      <a:pt x="464" y="787"/>
                    </a:lnTo>
                    <a:lnTo>
                      <a:pt x="507" y="793"/>
                    </a:lnTo>
                    <a:lnTo>
                      <a:pt x="551" y="797"/>
                    </a:lnTo>
                    <a:lnTo>
                      <a:pt x="593" y="802"/>
                    </a:lnTo>
                    <a:lnTo>
                      <a:pt x="635" y="805"/>
                    </a:lnTo>
                    <a:lnTo>
                      <a:pt x="676" y="809"/>
                    </a:lnTo>
                    <a:lnTo>
                      <a:pt x="716" y="811"/>
                    </a:lnTo>
                    <a:lnTo>
                      <a:pt x="756" y="814"/>
                    </a:lnTo>
                    <a:lnTo>
                      <a:pt x="795" y="817"/>
                    </a:lnTo>
                    <a:lnTo>
                      <a:pt x="358" y="1573"/>
                    </a:lnTo>
                    <a:lnTo>
                      <a:pt x="312" y="1576"/>
                    </a:lnTo>
                    <a:lnTo>
                      <a:pt x="268" y="1579"/>
                    </a:lnTo>
                    <a:lnTo>
                      <a:pt x="223" y="1582"/>
                    </a:lnTo>
                    <a:lnTo>
                      <a:pt x="178" y="1584"/>
                    </a:lnTo>
                    <a:lnTo>
                      <a:pt x="133" y="1586"/>
                    </a:lnTo>
                    <a:lnTo>
                      <a:pt x="89" y="1587"/>
                    </a:lnTo>
                    <a:lnTo>
                      <a:pt x="44" y="1589"/>
                    </a:lnTo>
                    <a:lnTo>
                      <a:pt x="0" y="1590"/>
                    </a:lnTo>
                    <a:close/>
                    <a:moveTo>
                      <a:pt x="1264" y="2"/>
                    </a:moveTo>
                    <a:lnTo>
                      <a:pt x="1257" y="16"/>
                    </a:lnTo>
                    <a:lnTo>
                      <a:pt x="1250" y="0"/>
                    </a:lnTo>
                    <a:lnTo>
                      <a:pt x="1264" y="2"/>
                    </a:lnTo>
                    <a:close/>
                  </a:path>
                </a:pathLst>
              </a:custGeom>
              <a:solidFill>
                <a:srgbClr val="6d7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31960" y="4501440"/>
                <a:ext cx="145080" cy="171000"/>
              </a:xfrm>
              <a:custGeom>
                <a:avLst/>
                <a:gdLst/>
                <a:ahLst/>
                <a:rect l="l" t="t" r="r" b="b"/>
                <a:pathLst>
                  <a:path w="1243" h="1584">
                    <a:moveTo>
                      <a:pt x="0" y="1584"/>
                    </a:moveTo>
                    <a:lnTo>
                      <a:pt x="451" y="804"/>
                    </a:lnTo>
                    <a:lnTo>
                      <a:pt x="495" y="809"/>
                    </a:lnTo>
                    <a:lnTo>
                      <a:pt x="540" y="812"/>
                    </a:lnTo>
                    <a:lnTo>
                      <a:pt x="584" y="814"/>
                    </a:lnTo>
                    <a:lnTo>
                      <a:pt x="627" y="817"/>
                    </a:lnTo>
                    <a:lnTo>
                      <a:pt x="669" y="819"/>
                    </a:lnTo>
                    <a:lnTo>
                      <a:pt x="710" y="820"/>
                    </a:lnTo>
                    <a:lnTo>
                      <a:pt x="750" y="821"/>
                    </a:lnTo>
                    <a:lnTo>
                      <a:pt x="789" y="822"/>
                    </a:lnTo>
                    <a:lnTo>
                      <a:pt x="366" y="1555"/>
                    </a:lnTo>
                    <a:lnTo>
                      <a:pt x="319" y="1560"/>
                    </a:lnTo>
                    <a:lnTo>
                      <a:pt x="273" y="1565"/>
                    </a:lnTo>
                    <a:lnTo>
                      <a:pt x="227" y="1569"/>
                    </a:lnTo>
                    <a:lnTo>
                      <a:pt x="181" y="1573"/>
                    </a:lnTo>
                    <a:lnTo>
                      <a:pt x="135" y="1576"/>
                    </a:lnTo>
                    <a:lnTo>
                      <a:pt x="91" y="1579"/>
                    </a:lnTo>
                    <a:lnTo>
                      <a:pt x="45" y="1582"/>
                    </a:lnTo>
                    <a:lnTo>
                      <a:pt x="0" y="1584"/>
                    </a:lnTo>
                    <a:close/>
                    <a:moveTo>
                      <a:pt x="1243" y="34"/>
                    </a:moveTo>
                    <a:lnTo>
                      <a:pt x="1153" y="190"/>
                    </a:lnTo>
                    <a:lnTo>
                      <a:pt x="1073" y="0"/>
                    </a:lnTo>
                    <a:lnTo>
                      <a:pt x="1243" y="34"/>
                    </a:lnTo>
                    <a:close/>
                  </a:path>
                </a:pathLst>
              </a:custGeom>
              <a:solidFill>
                <a:srgbClr val="6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52840" y="4502160"/>
                <a:ext cx="142200" cy="169200"/>
              </a:xfrm>
              <a:custGeom>
                <a:avLst/>
                <a:gdLst/>
                <a:ahLst/>
                <a:rect l="l" t="t" r="r" b="b"/>
                <a:pathLst>
                  <a:path w="1218" h="1571">
                    <a:moveTo>
                      <a:pt x="0" y="1571"/>
                    </a:moveTo>
                    <a:lnTo>
                      <a:pt x="437" y="815"/>
                    </a:lnTo>
                    <a:lnTo>
                      <a:pt x="484" y="817"/>
                    </a:lnTo>
                    <a:lnTo>
                      <a:pt x="531" y="818"/>
                    </a:lnTo>
                    <a:lnTo>
                      <a:pt x="576" y="819"/>
                    </a:lnTo>
                    <a:lnTo>
                      <a:pt x="620" y="820"/>
                    </a:lnTo>
                    <a:lnTo>
                      <a:pt x="662" y="820"/>
                    </a:lnTo>
                    <a:lnTo>
                      <a:pt x="703" y="820"/>
                    </a:lnTo>
                    <a:lnTo>
                      <a:pt x="743" y="820"/>
                    </a:lnTo>
                    <a:lnTo>
                      <a:pt x="782" y="819"/>
                    </a:lnTo>
                    <a:lnTo>
                      <a:pt x="373" y="1528"/>
                    </a:lnTo>
                    <a:lnTo>
                      <a:pt x="326" y="1535"/>
                    </a:lnTo>
                    <a:lnTo>
                      <a:pt x="279" y="1541"/>
                    </a:lnTo>
                    <a:lnTo>
                      <a:pt x="232" y="1548"/>
                    </a:lnTo>
                    <a:lnTo>
                      <a:pt x="185" y="1553"/>
                    </a:lnTo>
                    <a:lnTo>
                      <a:pt x="139" y="1558"/>
                    </a:lnTo>
                    <a:lnTo>
                      <a:pt x="92" y="1563"/>
                    </a:lnTo>
                    <a:lnTo>
                      <a:pt x="46" y="1567"/>
                    </a:lnTo>
                    <a:lnTo>
                      <a:pt x="0" y="1571"/>
                    </a:lnTo>
                    <a:close/>
                    <a:moveTo>
                      <a:pt x="899" y="14"/>
                    </a:moveTo>
                    <a:lnTo>
                      <a:pt x="906" y="0"/>
                    </a:lnTo>
                    <a:lnTo>
                      <a:pt x="1218" y="63"/>
                    </a:lnTo>
                    <a:lnTo>
                      <a:pt x="1045" y="364"/>
                    </a:lnTo>
                    <a:lnTo>
                      <a:pt x="899" y="14"/>
                    </a:lnTo>
                    <a:close/>
                  </a:path>
                </a:pathLst>
              </a:custGeom>
              <a:solidFill>
                <a:srgbClr val="67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74440" y="4505400"/>
                <a:ext cx="138600" cy="163800"/>
              </a:xfrm>
              <a:custGeom>
                <a:avLst/>
                <a:gdLst/>
                <a:ahLst/>
                <a:rect l="l" t="t" r="r" b="b"/>
                <a:pathLst>
                  <a:path w="1189" h="1521">
                    <a:moveTo>
                      <a:pt x="0" y="1521"/>
                    </a:moveTo>
                    <a:lnTo>
                      <a:pt x="423" y="788"/>
                    </a:lnTo>
                    <a:lnTo>
                      <a:pt x="473" y="788"/>
                    </a:lnTo>
                    <a:lnTo>
                      <a:pt x="523" y="788"/>
                    </a:lnTo>
                    <a:lnTo>
                      <a:pt x="571" y="787"/>
                    </a:lnTo>
                    <a:lnTo>
                      <a:pt x="616" y="786"/>
                    </a:lnTo>
                    <a:lnTo>
                      <a:pt x="659" y="785"/>
                    </a:lnTo>
                    <a:lnTo>
                      <a:pt x="701" y="783"/>
                    </a:lnTo>
                    <a:lnTo>
                      <a:pt x="740" y="780"/>
                    </a:lnTo>
                    <a:lnTo>
                      <a:pt x="776" y="778"/>
                    </a:lnTo>
                    <a:lnTo>
                      <a:pt x="381" y="1463"/>
                    </a:lnTo>
                    <a:lnTo>
                      <a:pt x="332" y="1472"/>
                    </a:lnTo>
                    <a:lnTo>
                      <a:pt x="284" y="1480"/>
                    </a:lnTo>
                    <a:lnTo>
                      <a:pt x="236" y="1488"/>
                    </a:lnTo>
                    <a:lnTo>
                      <a:pt x="189" y="1496"/>
                    </a:lnTo>
                    <a:lnTo>
                      <a:pt x="141" y="1503"/>
                    </a:lnTo>
                    <a:lnTo>
                      <a:pt x="94" y="1509"/>
                    </a:lnTo>
                    <a:lnTo>
                      <a:pt x="47" y="1516"/>
                    </a:lnTo>
                    <a:lnTo>
                      <a:pt x="0" y="1521"/>
                    </a:lnTo>
                    <a:close/>
                    <a:moveTo>
                      <a:pt x="787" y="156"/>
                    </a:moveTo>
                    <a:lnTo>
                      <a:pt x="877" y="0"/>
                    </a:lnTo>
                    <a:lnTo>
                      <a:pt x="1189" y="62"/>
                    </a:lnTo>
                    <a:lnTo>
                      <a:pt x="933" y="507"/>
                    </a:lnTo>
                    <a:lnTo>
                      <a:pt x="787" y="156"/>
                    </a:lnTo>
                    <a:close/>
                  </a:path>
                </a:pathLst>
              </a:custGeom>
              <a:solidFill>
                <a:srgbClr val="647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296400" y="4508640"/>
                <a:ext cx="135000" cy="158040"/>
              </a:xfrm>
              <a:custGeom>
                <a:avLst/>
                <a:gdLst/>
                <a:ahLst/>
                <a:rect l="l" t="t" r="r" b="b"/>
                <a:pathLst>
                  <a:path w="1157" h="1465">
                    <a:moveTo>
                      <a:pt x="0" y="1465"/>
                    </a:moveTo>
                    <a:lnTo>
                      <a:pt x="409" y="756"/>
                    </a:lnTo>
                    <a:lnTo>
                      <a:pt x="470" y="754"/>
                    </a:lnTo>
                    <a:lnTo>
                      <a:pt x="526" y="752"/>
                    </a:lnTo>
                    <a:lnTo>
                      <a:pt x="578" y="748"/>
                    </a:lnTo>
                    <a:lnTo>
                      <a:pt x="626" y="745"/>
                    </a:lnTo>
                    <a:lnTo>
                      <a:pt x="670" y="740"/>
                    </a:lnTo>
                    <a:lnTo>
                      <a:pt x="709" y="737"/>
                    </a:lnTo>
                    <a:lnTo>
                      <a:pt x="743" y="732"/>
                    </a:lnTo>
                    <a:lnTo>
                      <a:pt x="773" y="729"/>
                    </a:lnTo>
                    <a:lnTo>
                      <a:pt x="391" y="1391"/>
                    </a:lnTo>
                    <a:lnTo>
                      <a:pt x="342" y="1402"/>
                    </a:lnTo>
                    <a:lnTo>
                      <a:pt x="292" y="1412"/>
                    </a:lnTo>
                    <a:lnTo>
                      <a:pt x="243" y="1423"/>
                    </a:lnTo>
                    <a:lnTo>
                      <a:pt x="194" y="1432"/>
                    </a:lnTo>
                    <a:lnTo>
                      <a:pt x="146" y="1441"/>
                    </a:lnTo>
                    <a:lnTo>
                      <a:pt x="96" y="1449"/>
                    </a:lnTo>
                    <a:lnTo>
                      <a:pt x="48" y="1457"/>
                    </a:lnTo>
                    <a:lnTo>
                      <a:pt x="0" y="1465"/>
                    </a:lnTo>
                    <a:close/>
                    <a:moveTo>
                      <a:pt x="672" y="301"/>
                    </a:moveTo>
                    <a:lnTo>
                      <a:pt x="845" y="0"/>
                    </a:lnTo>
                    <a:lnTo>
                      <a:pt x="1157" y="63"/>
                    </a:lnTo>
                    <a:lnTo>
                      <a:pt x="818" y="651"/>
                    </a:lnTo>
                    <a:lnTo>
                      <a:pt x="672" y="301"/>
                    </a:lnTo>
                    <a:close/>
                  </a:path>
                </a:pathLst>
              </a:custGeom>
              <a:solidFill>
                <a:srgbClr val="617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18720" y="4511880"/>
                <a:ext cx="131040" cy="151560"/>
              </a:xfrm>
              <a:custGeom>
                <a:avLst/>
                <a:gdLst/>
                <a:ahLst/>
                <a:rect l="l" t="t" r="r" b="b"/>
                <a:pathLst>
                  <a:path w="1120" h="1401">
                    <a:moveTo>
                      <a:pt x="0" y="1401"/>
                    </a:moveTo>
                    <a:lnTo>
                      <a:pt x="395" y="716"/>
                    </a:lnTo>
                    <a:lnTo>
                      <a:pt x="454" y="711"/>
                    </a:lnTo>
                    <a:lnTo>
                      <a:pt x="504" y="707"/>
                    </a:lnTo>
                    <a:lnTo>
                      <a:pt x="549" y="701"/>
                    </a:lnTo>
                    <a:lnTo>
                      <a:pt x="586" y="697"/>
                    </a:lnTo>
                    <a:lnTo>
                      <a:pt x="614" y="693"/>
                    </a:lnTo>
                    <a:lnTo>
                      <a:pt x="635" y="690"/>
                    </a:lnTo>
                    <a:lnTo>
                      <a:pt x="648" y="687"/>
                    </a:lnTo>
                    <a:lnTo>
                      <a:pt x="652" y="686"/>
                    </a:lnTo>
                    <a:lnTo>
                      <a:pt x="552" y="445"/>
                    </a:lnTo>
                    <a:lnTo>
                      <a:pt x="808" y="0"/>
                    </a:lnTo>
                    <a:lnTo>
                      <a:pt x="1120" y="63"/>
                    </a:lnTo>
                    <a:lnTo>
                      <a:pt x="401" y="1309"/>
                    </a:lnTo>
                    <a:lnTo>
                      <a:pt x="351" y="1323"/>
                    </a:lnTo>
                    <a:lnTo>
                      <a:pt x="300" y="1335"/>
                    </a:lnTo>
                    <a:lnTo>
                      <a:pt x="250" y="1348"/>
                    </a:lnTo>
                    <a:lnTo>
                      <a:pt x="199" y="1360"/>
                    </a:lnTo>
                    <a:lnTo>
                      <a:pt x="149" y="1371"/>
                    </a:lnTo>
                    <a:lnTo>
                      <a:pt x="99" y="1381"/>
                    </a:lnTo>
                    <a:lnTo>
                      <a:pt x="50" y="1392"/>
                    </a:lnTo>
                    <a:lnTo>
                      <a:pt x="0" y="1401"/>
                    </a:lnTo>
                    <a:close/>
                  </a:path>
                </a:pathLst>
              </a:custGeom>
              <a:solidFill>
                <a:srgbClr val="5f7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42120" y="4515480"/>
                <a:ext cx="126000" cy="143280"/>
              </a:xfrm>
              <a:custGeom>
                <a:avLst/>
                <a:gdLst/>
                <a:ahLst/>
                <a:rect l="l" t="t" r="r" b="b"/>
                <a:pathLst>
                  <a:path w="1078" h="1328">
                    <a:moveTo>
                      <a:pt x="0" y="1328"/>
                    </a:moveTo>
                    <a:lnTo>
                      <a:pt x="382" y="666"/>
                    </a:lnTo>
                    <a:lnTo>
                      <a:pt x="399" y="663"/>
                    </a:lnTo>
                    <a:lnTo>
                      <a:pt x="413" y="661"/>
                    </a:lnTo>
                    <a:lnTo>
                      <a:pt x="425" y="659"/>
                    </a:lnTo>
                    <a:lnTo>
                      <a:pt x="436" y="658"/>
                    </a:lnTo>
                    <a:lnTo>
                      <a:pt x="444" y="657"/>
                    </a:lnTo>
                    <a:lnTo>
                      <a:pt x="450" y="655"/>
                    </a:lnTo>
                    <a:lnTo>
                      <a:pt x="453" y="654"/>
                    </a:lnTo>
                    <a:lnTo>
                      <a:pt x="454" y="654"/>
                    </a:lnTo>
                    <a:lnTo>
                      <a:pt x="427" y="588"/>
                    </a:lnTo>
                    <a:lnTo>
                      <a:pt x="766" y="0"/>
                    </a:lnTo>
                    <a:lnTo>
                      <a:pt x="1078" y="64"/>
                    </a:lnTo>
                    <a:lnTo>
                      <a:pt x="412" y="1216"/>
                    </a:lnTo>
                    <a:lnTo>
                      <a:pt x="360" y="1232"/>
                    </a:lnTo>
                    <a:lnTo>
                      <a:pt x="308" y="1247"/>
                    </a:lnTo>
                    <a:lnTo>
                      <a:pt x="257" y="1262"/>
                    </a:lnTo>
                    <a:lnTo>
                      <a:pt x="205" y="1277"/>
                    </a:lnTo>
                    <a:lnTo>
                      <a:pt x="154" y="1290"/>
                    </a:lnTo>
                    <a:lnTo>
                      <a:pt x="102" y="1303"/>
                    </a:lnTo>
                    <a:lnTo>
                      <a:pt x="50" y="1316"/>
                    </a:lnTo>
                    <a:lnTo>
                      <a:pt x="0" y="1328"/>
                    </a:lnTo>
                    <a:close/>
                  </a:path>
                </a:pathLst>
              </a:custGeom>
              <a:solidFill>
                <a:srgbClr val="5b6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65880" y="4518720"/>
                <a:ext cx="120240" cy="133920"/>
              </a:xfrm>
              <a:custGeom>
                <a:avLst/>
                <a:gdLst/>
                <a:ahLst/>
                <a:rect l="l" t="t" r="r" b="b"/>
                <a:pathLst>
                  <a:path w="1031" h="1246">
                    <a:moveTo>
                      <a:pt x="0" y="1246"/>
                    </a:moveTo>
                    <a:lnTo>
                      <a:pt x="719" y="0"/>
                    </a:lnTo>
                    <a:lnTo>
                      <a:pt x="1031" y="63"/>
                    </a:lnTo>
                    <a:lnTo>
                      <a:pt x="420" y="1122"/>
                    </a:lnTo>
                    <a:lnTo>
                      <a:pt x="417" y="1116"/>
                    </a:lnTo>
                    <a:lnTo>
                      <a:pt x="365" y="1135"/>
                    </a:lnTo>
                    <a:lnTo>
                      <a:pt x="312" y="1153"/>
                    </a:lnTo>
                    <a:lnTo>
                      <a:pt x="260" y="1170"/>
                    </a:lnTo>
                    <a:lnTo>
                      <a:pt x="208" y="1186"/>
                    </a:lnTo>
                    <a:lnTo>
                      <a:pt x="156" y="1203"/>
                    </a:lnTo>
                    <a:lnTo>
                      <a:pt x="103" y="1217"/>
                    </a:lnTo>
                    <a:lnTo>
                      <a:pt x="52" y="1232"/>
                    </a:lnTo>
                    <a:lnTo>
                      <a:pt x="0" y="1246"/>
                    </a:lnTo>
                    <a:close/>
                  </a:path>
                </a:pathLst>
              </a:custGeom>
              <a:solidFill>
                <a:srgbClr val="596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90360" y="4522320"/>
                <a:ext cx="114120" cy="136440"/>
              </a:xfrm>
              <a:custGeom>
                <a:avLst/>
                <a:gdLst/>
                <a:ahLst/>
                <a:rect l="l" t="t" r="r" b="b"/>
                <a:pathLst>
                  <a:path w="978" h="1265">
                    <a:moveTo>
                      <a:pt x="0" y="1152"/>
                    </a:moveTo>
                    <a:lnTo>
                      <a:pt x="666" y="0"/>
                    </a:lnTo>
                    <a:lnTo>
                      <a:pt x="978" y="63"/>
                    </a:lnTo>
                    <a:lnTo>
                      <a:pt x="284" y="1265"/>
                    </a:lnTo>
                    <a:lnTo>
                      <a:pt x="208" y="1083"/>
                    </a:lnTo>
                    <a:lnTo>
                      <a:pt x="182" y="1093"/>
                    </a:lnTo>
                    <a:lnTo>
                      <a:pt x="157" y="1102"/>
                    </a:lnTo>
                    <a:lnTo>
                      <a:pt x="130" y="1111"/>
                    </a:lnTo>
                    <a:lnTo>
                      <a:pt x="104" y="1119"/>
                    </a:lnTo>
                    <a:lnTo>
                      <a:pt x="78" y="1128"/>
                    </a:lnTo>
                    <a:lnTo>
                      <a:pt x="52" y="1136"/>
                    </a:lnTo>
                    <a:lnTo>
                      <a:pt x="26" y="1144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576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4840" y="4525560"/>
                <a:ext cx="107640" cy="152280"/>
              </a:xfrm>
              <a:custGeom>
                <a:avLst/>
                <a:gdLst/>
                <a:ahLst/>
                <a:rect l="l" t="t" r="r" b="b"/>
                <a:pathLst>
                  <a:path w="923" h="1409">
                    <a:moveTo>
                      <a:pt x="0" y="1059"/>
                    </a:moveTo>
                    <a:lnTo>
                      <a:pt x="611" y="0"/>
                    </a:lnTo>
                    <a:lnTo>
                      <a:pt x="923" y="64"/>
                    </a:lnTo>
                    <a:lnTo>
                      <a:pt x="146" y="1409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546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23120" y="4529160"/>
                <a:ext cx="117720" cy="167040"/>
              </a:xfrm>
              <a:custGeom>
                <a:avLst/>
                <a:gdLst/>
                <a:ahLst/>
                <a:rect l="l" t="t" r="r" b="b"/>
                <a:pathLst>
                  <a:path w="1006" h="1552">
                    <a:moveTo>
                      <a:pt x="0" y="1202"/>
                    </a:moveTo>
                    <a:lnTo>
                      <a:pt x="694" y="0"/>
                    </a:lnTo>
                    <a:lnTo>
                      <a:pt x="1006" y="62"/>
                    </a:lnTo>
                    <a:lnTo>
                      <a:pt x="146" y="1552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506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31760" y="4532400"/>
                <a:ext cx="127440" cy="180000"/>
              </a:xfrm>
              <a:custGeom>
                <a:avLst/>
                <a:gdLst/>
                <a:ahLst/>
                <a:rect l="l" t="t" r="r" b="b"/>
                <a:pathLst>
                  <a:path w="1089" h="1666">
                    <a:moveTo>
                      <a:pt x="0" y="1345"/>
                    </a:moveTo>
                    <a:lnTo>
                      <a:pt x="777" y="0"/>
                    </a:lnTo>
                    <a:lnTo>
                      <a:pt x="1089" y="63"/>
                    </a:lnTo>
                    <a:lnTo>
                      <a:pt x="218" y="1570"/>
                    </a:lnTo>
                    <a:lnTo>
                      <a:pt x="135" y="1666"/>
                    </a:lnTo>
                    <a:lnTo>
                      <a:pt x="0" y="1345"/>
                    </a:lnTo>
                    <a:close/>
                  </a:path>
                </a:pathLst>
              </a:custGeom>
              <a:solidFill>
                <a:srgbClr val="4c6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40040" y="4535640"/>
                <a:ext cx="137160" cy="176760"/>
              </a:xfrm>
              <a:custGeom>
                <a:avLst/>
                <a:gdLst/>
                <a:ahLst/>
                <a:rect l="l" t="t" r="r" b="b"/>
                <a:pathLst>
                  <a:path w="1172" h="1635">
                    <a:moveTo>
                      <a:pt x="0" y="1490"/>
                    </a:moveTo>
                    <a:lnTo>
                      <a:pt x="860" y="0"/>
                    </a:lnTo>
                    <a:lnTo>
                      <a:pt x="1172" y="63"/>
                    </a:lnTo>
                    <a:lnTo>
                      <a:pt x="659" y="950"/>
                    </a:lnTo>
                    <a:lnTo>
                      <a:pt x="62" y="1635"/>
                    </a:lnTo>
                    <a:lnTo>
                      <a:pt x="0" y="1490"/>
                    </a:lnTo>
                    <a:close/>
                  </a:path>
                </a:pathLst>
              </a:custGeom>
              <a:solidFill>
                <a:srgbClr val="48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57680" y="4538880"/>
                <a:ext cx="137880" cy="162720"/>
              </a:xfrm>
              <a:custGeom>
                <a:avLst/>
                <a:gdLst/>
                <a:ahLst/>
                <a:rect l="l" t="t" r="r" b="b"/>
                <a:pathLst>
                  <a:path w="1183" h="1507">
                    <a:moveTo>
                      <a:pt x="0" y="1507"/>
                    </a:moveTo>
                    <a:lnTo>
                      <a:pt x="871" y="0"/>
                    </a:lnTo>
                    <a:lnTo>
                      <a:pt x="1183" y="63"/>
                    </a:lnTo>
                    <a:lnTo>
                      <a:pt x="1028" y="330"/>
                    </a:lnTo>
                    <a:lnTo>
                      <a:pt x="0" y="1507"/>
                    </a:lnTo>
                    <a:close/>
                  </a:path>
                </a:pathLst>
              </a:custGeom>
              <a:solidFill>
                <a:srgbClr val="445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7080" y="4542120"/>
                <a:ext cx="86040" cy="95760"/>
              </a:xfrm>
              <a:custGeom>
                <a:avLst/>
                <a:gdLst/>
                <a:ahLst/>
                <a:rect l="l" t="t" r="r" b="b"/>
                <a:pathLst>
                  <a:path w="735" h="887">
                    <a:moveTo>
                      <a:pt x="0" y="887"/>
                    </a:moveTo>
                    <a:lnTo>
                      <a:pt x="513" y="0"/>
                    </a:lnTo>
                    <a:lnTo>
                      <a:pt x="735" y="46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425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77560" y="4546080"/>
                <a:ext cx="25920" cy="28440"/>
              </a:xfrm>
              <a:custGeom>
                <a:avLst/>
                <a:gdLst/>
                <a:ahLst/>
                <a:rect l="l" t="t" r="r" b="b"/>
                <a:pathLst>
                  <a:path w="221" h="267">
                    <a:moveTo>
                      <a:pt x="0" y="267"/>
                    </a:moveTo>
                    <a:lnTo>
                      <a:pt x="155" y="0"/>
                    </a:lnTo>
                    <a:lnTo>
                      <a:pt x="221" y="14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3f57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681800" y="4262400"/>
              <a:ext cx="96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hromogè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NBT/BCI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24720" y="4313520"/>
              <a:ext cx="136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ff"/>
                  </a:solidFill>
                  <a:latin typeface="Times New Roman"/>
                </a:rPr>
                <a:t>Précipité Vio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705800" y="1082520"/>
            <a:ext cx="1438200" cy="1465200"/>
            <a:chOff x="7705800" y="1082520"/>
            <a:chExt cx="1438200" cy="1465200"/>
          </a:xfrm>
        </p:grpSpPr>
        <p:sp>
          <p:nvSpPr>
            <p:cNvPr id="249" name=""/>
            <p:cNvSpPr/>
            <p:nvPr/>
          </p:nvSpPr>
          <p:spPr>
            <a:xfrm>
              <a:off x="7705800" y="1082520"/>
              <a:ext cx="12304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5520" y="2301840"/>
              <a:ext cx="14284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971640" y="189000"/>
            <a:ext cx="705780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3640" y="1084320"/>
            <a:ext cx="42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figuration</a:t>
            </a:r>
            <a:r>
              <a:rPr b="1" lang="en-US" sz="2000" spc="-1" strike="noStrike">
                <a:solidFill>
                  <a:srgbClr val="ffff00"/>
                </a:solidFill>
                <a:latin typeface="Swis721 BT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s bandel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79640" y="1521000"/>
            <a:ext cx="7090920" cy="5045040"/>
            <a:chOff x="1079640" y="1521000"/>
            <a:chExt cx="7090920" cy="5045040"/>
          </a:xfrm>
        </p:grpSpPr>
        <p:grpSp>
          <p:nvGrpSpPr>
            <p:cNvPr id="254" name=""/>
            <p:cNvGrpSpPr/>
            <p:nvPr/>
          </p:nvGrpSpPr>
          <p:grpSpPr>
            <a:xfrm>
              <a:off x="5398920" y="2781720"/>
              <a:ext cx="2771640" cy="1116000"/>
              <a:chOff x="5398920" y="2781720"/>
              <a:chExt cx="2771640" cy="1116000"/>
            </a:xfrm>
          </p:grpSpPr>
          <p:sp>
            <p:nvSpPr>
              <p:cNvPr id="255" name=""/>
              <p:cNvSpPr/>
              <p:nvPr/>
            </p:nvSpPr>
            <p:spPr>
              <a:xfrm>
                <a:off x="5398920" y="3249720"/>
                <a:ext cx="755640" cy="216000"/>
              </a:xfrm>
              <a:prstGeom prst="leftArrow">
                <a:avLst>
                  <a:gd name="adj1" fmla="val 50000"/>
                  <a:gd name="adj2" fmla="val 87458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18200" y="2781720"/>
                <a:ext cx="2052360" cy="111600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égion 5’N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êmes band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PA HCV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435640" y="4113360"/>
              <a:ext cx="2630520" cy="1692360"/>
              <a:chOff x="5435640" y="4113360"/>
              <a:chExt cx="2630520" cy="1692360"/>
            </a:xfrm>
          </p:grpSpPr>
          <p:sp>
            <p:nvSpPr>
              <p:cNvPr id="258" name=""/>
              <p:cNvSpPr/>
              <p:nvPr/>
            </p:nvSpPr>
            <p:spPr>
              <a:xfrm>
                <a:off x="5435640" y="4903920"/>
                <a:ext cx="938160" cy="182520"/>
              </a:xfrm>
              <a:prstGeom prst="leftArrow">
                <a:avLst>
                  <a:gd name="adj1" fmla="val 50000"/>
                  <a:gd name="adj2" fmla="val 12850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4640" bIns="44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73800" y="4113360"/>
                <a:ext cx="1692360" cy="16923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égion Co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3  Cont. a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  6 c-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  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6  1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175280" y="1521000"/>
              <a:ext cx="676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Positions ban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6000" y="2217960"/>
              <a:ext cx="3862440" cy="2411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16000" y="4761360"/>
              <a:ext cx="3854520" cy="43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95960" y="1902240"/>
              <a:ext cx="174600" cy="464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95960" y="2094120"/>
              <a:ext cx="174600" cy="50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95960" y="22100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5960" y="23324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5960" y="24562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5960" y="32626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95960" y="337680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5960" y="34927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5960" y="36086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5960" y="37310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5960" y="257040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5960" y="26863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280080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5960" y="2916360"/>
              <a:ext cx="174600" cy="5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5960" y="30322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95960" y="314676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95960" y="44150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95960" y="452952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5960" y="476136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95960" y="488340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5960" y="37231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95960" y="3838680"/>
              <a:ext cx="174600" cy="5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5960" y="395316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5960" y="40690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95960" y="418500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95960" y="42991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95960" y="48754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95960" y="49993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960" y="514224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41480" y="3059280"/>
              <a:ext cx="2320200" cy="2214000"/>
              <a:chOff x="1941480" y="3059280"/>
              <a:chExt cx="2320200" cy="2214000"/>
            </a:xfrm>
          </p:grpSpPr>
          <p:sp>
            <p:nvSpPr>
              <p:cNvPr id="293" name=""/>
              <p:cNvSpPr/>
              <p:nvPr/>
            </p:nvSpPr>
            <p:spPr>
              <a:xfrm>
                <a:off x="1941480" y="3059280"/>
                <a:ext cx="1985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56960" y="5027400"/>
                <a:ext cx="23047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2087640" y="1913040"/>
              <a:ext cx="174600" cy="464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75040" y="2103840"/>
              <a:ext cx="174600" cy="50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75040" y="221976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75040" y="234180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75040" y="32720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75040" y="35024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75040" y="315612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58880" y="1919520"/>
              <a:ext cx="174960" cy="464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8880" y="2111760"/>
              <a:ext cx="174960" cy="50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56000" y="22276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58880" y="2349720"/>
              <a:ext cx="1749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58880" y="3626280"/>
              <a:ext cx="1749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58880" y="3856320"/>
              <a:ext cx="1749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39760" y="1567800"/>
              <a:ext cx="24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2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23960" y="1576080"/>
              <a:ext cx="24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51000" y="1919520"/>
              <a:ext cx="174960" cy="464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51000" y="2111760"/>
              <a:ext cx="174960" cy="50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59280" y="222768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51000" y="2349720"/>
              <a:ext cx="1749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51000" y="3970440"/>
              <a:ext cx="174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51000" y="4086360"/>
              <a:ext cx="174960" cy="5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92360" y="1911600"/>
              <a:ext cx="173160" cy="464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92360" y="2103840"/>
              <a:ext cx="173160" cy="50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360" y="221976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92360" y="234180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92360" y="440244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17800" y="1564920"/>
              <a:ext cx="43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76520" y="1557000"/>
              <a:ext cx="24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5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6680" y="1908360"/>
              <a:ext cx="174600" cy="464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6680" y="2100600"/>
              <a:ext cx="174600" cy="52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06680" y="22165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06680" y="233856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06680" y="28087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6680" y="25801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63960" y="1916280"/>
              <a:ext cx="173160" cy="464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3960" y="2108520"/>
              <a:ext cx="173160" cy="52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63960" y="222444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63960" y="2346480"/>
              <a:ext cx="1731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3960" y="258480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3960" y="304668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60600" y="1561680"/>
              <a:ext cx="2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40120" y="1569600"/>
              <a:ext cx="43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14560" y="1916280"/>
              <a:ext cx="174600" cy="464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14560" y="2108520"/>
              <a:ext cx="174600" cy="52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14560" y="22244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4560" y="234648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14560" y="258480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14560" y="27007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79640" y="1569600"/>
              <a:ext cx="2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1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14560" y="476136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14560" y="503424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06680" y="4764240"/>
              <a:ext cx="17460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06680" y="5142240"/>
              <a:ext cx="1746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3960" y="476136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3960" y="490104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3960" y="488808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4560" y="247032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3960" y="2470320"/>
              <a:ext cx="17316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57440" y="3743640"/>
              <a:ext cx="174600" cy="5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57600" y="2399040"/>
              <a:ext cx="561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0" y="4135680"/>
              <a:ext cx="768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0" y="4035600"/>
              <a:ext cx="466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0" y="3789720"/>
              <a:ext cx="366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0" y="4357800"/>
              <a:ext cx="646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0" y="4473720"/>
              <a:ext cx="72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0" y="4704120"/>
              <a:ext cx="633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3.  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7600" y="2022840"/>
              <a:ext cx="698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00"/>
                  </a:solidFill>
                  <a:latin typeface="Times New Roman"/>
                </a:rPr>
                <a:t>Marqueu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57600" y="2163960"/>
              <a:ext cx="452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37080" y="2275200"/>
              <a:ext cx="576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57600" y="2521080"/>
              <a:ext cx="422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57600" y="2637000"/>
              <a:ext cx="438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7600" y="2751480"/>
              <a:ext cx="773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520" y="308952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2000" y="3200760"/>
              <a:ext cx="60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0" y="3435480"/>
              <a:ext cx="579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2000" y="3551400"/>
              <a:ext cx="787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4937400"/>
              <a:ext cx="768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5.  1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4829400"/>
              <a:ext cx="573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4.  6 c-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8480" y="3905640"/>
              <a:ext cx="463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5520" y="295776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0" y="331812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0" y="3645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5520" y="425304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5050080"/>
              <a:ext cx="46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6  1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67200" y="452952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90920" y="280080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54360" y="2854440"/>
              <a:ext cx="341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92360" y="4766040"/>
              <a:ext cx="1731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6000" y="4874040"/>
              <a:ext cx="1728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56000" y="4766040"/>
              <a:ext cx="17280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42920" y="16970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000" y="2725560"/>
            <a:ext cx="8064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136 échantillons de donneurs de sang positif en ARN-HCV génotyp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ar INNOLiPA 1.0 à partir des produits  d’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mplicor HCV v2.0 (Ro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ar séquençage dans la région NS5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[Cantaloube. Transfusion, 2000, 40 : 712-71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51264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15228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1800" y="5651640"/>
            <a:ext cx="216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0" lang="fr-FR" sz="1000" spc="-1" strike="noStrike">
                <a:solidFill>
                  <a:srgbClr val="ffff00"/>
                </a:solidFill>
                <a:latin typeface="Times New Roman"/>
              </a:rPr>
              <a:t>Pas d’amplification de la région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Times New Roman"/>
              </a:rPr>
              <a:t>** Charge virale  = 400UI/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Times New Roman"/>
              </a:rPr>
              <a:t>NA = Non Ampl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58920" y="2349360"/>
          <a:ext cx="6480000" cy="3351240"/>
        </p:xfrm>
        <a:graphic>
          <a:graphicData uri="http://schemas.openxmlformats.org/drawingml/2006/table">
            <a:tbl>
              <a:tblPr/>
              <a:tblGrid>
                <a:gridCol w="1260360"/>
                <a:gridCol w="1224000"/>
                <a:gridCol w="684360"/>
                <a:gridCol w="826920"/>
                <a:gridCol w="830160"/>
                <a:gridCol w="503280"/>
                <a:gridCol w="1150920"/>
              </a:tblGrid>
              <a:tr h="387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équence NS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éno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échantill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a/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23.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ccff"/>
                        </a:gs>
                        <a:gs pos="50000">
                          <a:srgbClr val="005e75"/>
                        </a:gs>
                        <a:gs pos="100000">
                          <a:srgbClr val="00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8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1042920" y="14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ULTAT  :  Génotyp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31640" y="981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mple d’échantillons de séquence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3640" y="7452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076720" y="1549440"/>
            <a:ext cx="1079640" cy="4689360"/>
            <a:chOff x="5076720" y="1549440"/>
            <a:chExt cx="1079640" cy="468936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45344" t="8230" r="27827" b="3529"/>
            <a:stretch/>
          </p:blipFill>
          <p:spPr>
            <a:xfrm>
              <a:off x="5661000" y="1933560"/>
              <a:ext cx="14436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148360" y="154944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20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154480" y="1933560"/>
              <a:ext cx="150840" cy="3328560"/>
              <a:chOff x="5154480" y="1933560"/>
              <a:chExt cx="150840" cy="3328560"/>
            </a:xfrm>
          </p:grpSpPr>
          <p:pic>
            <p:nvPicPr>
              <p:cNvPr id="400" name="" descr=""/>
              <p:cNvPicPr/>
              <p:nvPr/>
            </p:nvPicPr>
            <p:blipFill>
              <a:blip r:embed="rId2"/>
              <a:srcRect l="36810" t="12200" r="38241" b="4482"/>
              <a:stretch/>
            </p:blipFill>
            <p:spPr>
              <a:xfrm>
                <a:off x="5154480" y="1933560"/>
                <a:ext cx="150840" cy="33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5154480" y="1933560"/>
                <a:ext cx="150840" cy="3328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661000" y="1938240"/>
              <a:ext cx="136440" cy="393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310000" y="2034720"/>
              <a:ext cx="352440" cy="1908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303880" y="2122200"/>
              <a:ext cx="345960" cy="8100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310000" y="2220480"/>
              <a:ext cx="360360" cy="13356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307120" y="2331720"/>
              <a:ext cx="352440" cy="16668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308560" y="2409480"/>
              <a:ext cx="357120" cy="21924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310000" y="2516040"/>
              <a:ext cx="347760" cy="26208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6720" y="53229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8720" y="5870520"/>
              <a:ext cx="4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832360" y="4041720"/>
              <a:ext cx="324000" cy="425520"/>
              <a:chOff x="5832360" y="4041720"/>
              <a:chExt cx="324000" cy="425520"/>
            </a:xfrm>
          </p:grpSpPr>
          <p:sp>
            <p:nvSpPr>
              <p:cNvPr id="412" name=""/>
              <p:cNvSpPr/>
              <p:nvPr/>
            </p:nvSpPr>
            <p:spPr>
              <a:xfrm>
                <a:off x="5832360" y="404172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Times New Roman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32360" y="422100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2268360" y="1549440"/>
            <a:ext cx="1187640" cy="4689360"/>
            <a:chOff x="2268360" y="1549440"/>
            <a:chExt cx="1187640" cy="4689360"/>
          </a:xfrm>
        </p:grpSpPr>
        <p:grpSp>
          <p:nvGrpSpPr>
            <p:cNvPr id="415" name=""/>
            <p:cNvGrpSpPr/>
            <p:nvPr/>
          </p:nvGrpSpPr>
          <p:grpSpPr>
            <a:xfrm>
              <a:off x="2427120" y="1957320"/>
              <a:ext cx="131760" cy="3328560"/>
              <a:chOff x="2427120" y="1957320"/>
              <a:chExt cx="131760" cy="332856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"/>
              <a:srcRect l="29177" t="14112" r="41889" b="4003"/>
              <a:stretch/>
            </p:blipFill>
            <p:spPr>
              <a:xfrm>
                <a:off x="2427120" y="1957320"/>
                <a:ext cx="131760" cy="33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2427120" y="1957320"/>
                <a:ext cx="131760" cy="3328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971800" y="1946160"/>
              <a:ext cx="141120" cy="3895560"/>
              <a:chOff x="2971800" y="1946160"/>
              <a:chExt cx="141120" cy="3895560"/>
            </a:xfrm>
          </p:grpSpPr>
          <p:pic>
            <p:nvPicPr>
              <p:cNvPr id="419" name="" descr=""/>
              <p:cNvPicPr/>
              <p:nvPr/>
            </p:nvPicPr>
            <p:blipFill>
              <a:blip r:embed="rId4"/>
              <a:srcRect l="30675" t="10671" r="49489" b="0"/>
              <a:stretch/>
            </p:blipFill>
            <p:spPr>
              <a:xfrm>
                <a:off x="2971800" y="1946160"/>
                <a:ext cx="141120" cy="389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2971800" y="1946160"/>
                <a:ext cx="141120" cy="389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112920" y="1962000"/>
              <a:ext cx="169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554200" y="2576520"/>
              <a:ext cx="414360" cy="34272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548080" y="2368440"/>
              <a:ext cx="430200" cy="26208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560680" y="2292480"/>
              <a:ext cx="409680" cy="18072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560680" y="2192040"/>
              <a:ext cx="412560" cy="11916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560680" y="2106360"/>
              <a:ext cx="399960" cy="7596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560680" y="2020680"/>
              <a:ext cx="409680" cy="1404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68360" y="54021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08360" y="587052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132000" y="3970440"/>
              <a:ext cx="324000" cy="425160"/>
              <a:chOff x="3132000" y="3970440"/>
              <a:chExt cx="324000" cy="425160"/>
            </a:xfrm>
          </p:grpSpPr>
          <p:sp>
            <p:nvSpPr>
              <p:cNvPr id="431" name=""/>
              <p:cNvSpPr/>
              <p:nvPr/>
            </p:nvSpPr>
            <p:spPr>
              <a:xfrm>
                <a:off x="3132000" y="397044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Times New Roman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32000" y="4149360"/>
                <a:ext cx="3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2411280" y="154944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20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912000" y="1952640"/>
            <a:ext cx="1081080" cy="2762280"/>
            <a:chOff x="6912000" y="1952640"/>
            <a:chExt cx="1081080" cy="2762280"/>
          </a:xfrm>
        </p:grpSpPr>
        <p:grpSp>
          <p:nvGrpSpPr>
            <p:cNvPr id="435" name=""/>
            <p:cNvGrpSpPr/>
            <p:nvPr/>
          </p:nvGrpSpPr>
          <p:grpSpPr>
            <a:xfrm>
              <a:off x="6948360" y="1952640"/>
              <a:ext cx="1044720" cy="2160720"/>
              <a:chOff x="6948360" y="1952640"/>
              <a:chExt cx="1044720" cy="2160720"/>
            </a:xfrm>
          </p:grpSpPr>
          <p:sp>
            <p:nvSpPr>
              <p:cNvPr id="436" name=""/>
              <p:cNvSpPr/>
              <p:nvPr/>
            </p:nvSpPr>
            <p:spPr>
              <a:xfrm>
                <a:off x="6948360" y="1952640"/>
                <a:ext cx="179640" cy="2160720"/>
              </a:xfrm>
              <a:custGeom>
                <a:avLst/>
                <a:gdLst>
                  <a:gd name="textAreaLeft" fmla="*/ 0 w 179640"/>
                  <a:gd name="textAreaRight" fmla="*/ 64800 w 179640"/>
                  <a:gd name="textAreaTop" fmla="*/ 56160 h 2160720"/>
                  <a:gd name="textAreaBottom" fmla="*/ 2104560 h 216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1080" y="28512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5’N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912000" y="4149720"/>
              <a:ext cx="1008000" cy="565200"/>
              <a:chOff x="6912000" y="4149720"/>
              <a:chExt cx="1008000" cy="565200"/>
            </a:xfrm>
          </p:grpSpPr>
          <p:sp>
            <p:nvSpPr>
              <p:cNvPr id="439" name=""/>
              <p:cNvSpPr/>
              <p:nvPr/>
            </p:nvSpPr>
            <p:spPr>
              <a:xfrm>
                <a:off x="6912000" y="4149720"/>
                <a:ext cx="264960" cy="565200"/>
              </a:xfrm>
              <a:custGeom>
                <a:avLst/>
                <a:gdLst>
                  <a:gd name="textAreaLeft" fmla="*/ 0 w 264960"/>
                  <a:gd name="textAreaRight" fmla="*/ 95760 w 264960"/>
                  <a:gd name="textAreaTop" fmla="*/ 14400 h 565200"/>
                  <a:gd name="textAreaBottom" fmla="*/ 55080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8760" y="4221000"/>
                <a:ext cx="74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66ff33"/>
                    </a:solidFill>
                    <a:latin typeface="Times New Roman"/>
                  </a:rPr>
                  <a:t>Co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516720" y="6416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503280" y="1376280"/>
          <a:ext cx="7632720" cy="5050080"/>
        </p:xfrm>
        <a:graphic>
          <a:graphicData uri="http://schemas.openxmlformats.org/drawingml/2006/table">
            <a:tbl>
              <a:tblPr/>
              <a:tblGrid>
                <a:gridCol w="1468440"/>
                <a:gridCol w="770040"/>
                <a:gridCol w="747720"/>
                <a:gridCol w="453960"/>
                <a:gridCol w="650880"/>
                <a:gridCol w="630000"/>
                <a:gridCol w="939960"/>
                <a:gridCol w="453960"/>
                <a:gridCol w="1517760"/>
              </a:tblGrid>
              <a:tr h="31572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équence NS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éno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gridSpan="6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a/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c/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a ou 2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a ou 2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a ou 2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 ou 4a/4c/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a/4c/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a/4c/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971640" y="0"/>
            <a:ext cx="7057800" cy="52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08000" y="657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ULTAT  :  Génotypes  2 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516720" y="6416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55440"/>
            <a:ext cx="7057800" cy="52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9280" y="1125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ULTAT  :  Génotypes  3, 5 e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00000" y="2133720"/>
          <a:ext cx="7236000" cy="2989080"/>
        </p:xfrm>
        <a:graphic>
          <a:graphicData uri="http://schemas.openxmlformats.org/drawingml/2006/table">
            <a:tbl>
              <a:tblPr/>
              <a:tblGrid>
                <a:gridCol w="1752840"/>
                <a:gridCol w="919080"/>
                <a:gridCol w="842760"/>
                <a:gridCol w="733680"/>
                <a:gridCol w="633240"/>
                <a:gridCol w="627120"/>
                <a:gridCol w="1727280"/>
              </a:tblGrid>
              <a:tr h="3466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é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S5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PA 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a ou 6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934920" y="5192640"/>
            <a:ext cx="24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NA =  Non  Amplifié dans la  région 5’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303640" y="151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16720" y="630864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XIXème colloque de Virologie de Versa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8 Novembr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333360"/>
            <a:ext cx="7058160" cy="825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ERSANT HCV Genotype Assay LiPA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(B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84360" y="2352600"/>
            <a:ext cx="7813440" cy="3591360"/>
            <a:chOff x="684360" y="2352600"/>
            <a:chExt cx="7813440" cy="3591360"/>
          </a:xfrm>
        </p:grpSpPr>
        <p:sp>
          <p:nvSpPr>
            <p:cNvPr id="454" name=""/>
            <p:cNvSpPr/>
            <p:nvPr/>
          </p:nvSpPr>
          <p:spPr>
            <a:xfrm>
              <a:off x="1333440" y="2352600"/>
              <a:ext cx="7164360" cy="35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Amélioration de la caractérisation des sous-types du génotype 1 du fait d’une meilleure reconnaissance du sous type 1a grâce à la région Co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Classification sans faute pour les génotypes 3a et 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Classification correcte des 2 génotypes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La grande diversité des génotypes 2 et 4 ne permet pas sur un test de ce type d’identifier correctement les sous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4360" y="246060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4360" y="375588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4360" y="4295520"/>
              <a:ext cx="504720" cy="287280"/>
            </a:xfrm>
            <a:prstGeom prst="rightArrow">
              <a:avLst>
                <a:gd name="adj1" fmla="val 50000"/>
                <a:gd name="adj2" fmla="val 439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9280" y="4835160"/>
              <a:ext cx="504720" cy="287640"/>
            </a:xfrm>
            <a:prstGeom prst="rightArrow">
              <a:avLst>
                <a:gd name="adj1" fmla="val 50000"/>
                <a:gd name="adj2" fmla="val 438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6:02:28Z</dcterms:created>
  <dc:creator>fbouc</dc:creator>
  <dc:description/>
  <dc:language>en-US</dc:language>
  <cp:lastModifiedBy>fbouc</cp:lastModifiedBy>
  <dcterms:modified xsi:type="dcterms:W3CDTF">2006-11-28T16:23:30Z</dcterms:modified>
  <cp:revision>106</cp:revision>
  <dc:subject/>
  <dc:title>Diapositive 1</dc:title>
</cp:coreProperties>
</file>