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0.wmf" ContentType="image/x-wmf"/>
  <Override PartName="/ppt/media/image9.png" ContentType="image/png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D26C-8DA1-45BE-99F6-051046974B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EF7A-779D-4A36-8D84-84A6816C75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3240" y="4703400"/>
            <a:ext cx="4965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e 3 = programme de prolifération cellul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233D-87F3-4BAA-82C6-09B37F252F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3240" y="4703400"/>
            <a:ext cx="4965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e 3 = programme de prolifération cellul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8AE-7603-4786-BD33-C3075C03B0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3240" y="4703400"/>
            <a:ext cx="4965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rus pénètre au niveau des cellules épithelialles de la cavité buc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rès multiplication loc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pénètre dans l ’organis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fecte les lymphocytes B  les lymphocytes B qui se mettent à prolifé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’est la prim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réponse immune se met progressivement en place et on entre dans un cycle de latence réacti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’ est l ’infection persist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tence  mise en évidence  par la présence du génome viral dans les lymphocytes B circu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activation mise en évidence par l ’excrétion virale salivair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7F9E-B5D5-47F2-AF3E-56BC7E775B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3240" y="4703400"/>
            <a:ext cx="4965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rus pénètre au niveau des cellules épithelialles de la cavité buc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rès multiplication loc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pénètre dans l ’organis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fecte les lymphocytes B  les lymphocytes B qui se mettent à prolifé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’est la prim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réponse immune se met progressivement en place et on entre dans un cycle de latence réacti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’ est l ’infection persist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tence  mise en évidence  par la présence du génome viral dans les lymphocytes B circu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activation mise en évidence par l ’excrétion virale salivair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E82-C54A-4002-B708-9EFB7E14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66E-0760-4BC6-8C17-1504BC7C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9E1-DB5F-49F8-BFB0-309A247B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BBB-FAA4-404A-A09E-F877B5DE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397-E9A2-40FA-8A0B-83785C14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1A4-9C73-4958-B1FA-D946E2D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619-B421-4161-8909-4205215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15D-8A98-495A-A081-D3D44DA9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2D2-19B3-4635-8609-3491307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E17-B50E-4829-ADFF-A5EC3955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A5A-E615-4763-ADEE-D2D82E59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67C-6784-44F8-8093-32F33A5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306C-04DA-4DF2-AD65-1A9EB3C297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16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2560" y="663480"/>
            <a:ext cx="8020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99ff"/>
                </a:solidFill>
                <a:latin typeface="Arial"/>
              </a:rPr>
              <a:t>Quantification de l’ADN de l’EBV (QEB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XIXème Colloque de Virologie de Versai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rdi 28 Novembre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Dr Corinne Ami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7360" y="1374840"/>
            <a:ext cx="8470800" cy="52142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grave mais symptomatologie très varié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cc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ièvre; AEG; patho s/s jacente; dysfct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t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gane; effet masse (adp)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Pb diagnostic différenti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avec infection, GVHD, rejet greff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Intérêt traiter le plus tôt possible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99ccff"/>
                </a:solidFill>
                <a:latin typeface="Symbol"/>
                <a:ea typeface="Symbol"/>
              </a:rPr>
              <a:t></a:t>
            </a:r>
            <a:r>
              <a:rPr b="1" lang="fr-FR" sz="2400" spc="-1" strike="noStrike">
                <a:solidFill>
                  <a:srgbClr val="99ccff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99ccff"/>
                </a:solidFill>
                <a:latin typeface="Arial"/>
              </a:rPr>
              <a:t>recherche marqueur biolog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9cc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99ccff"/>
                </a:solidFill>
                <a:latin typeface="Arial"/>
              </a:rPr>
              <a:t>sérologie EBV</a:t>
            </a: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titre Ac anti VCA et EBNA;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c anti E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9cc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99ccff"/>
                </a:solidFill>
                <a:latin typeface="Arial"/>
              </a:rPr>
              <a:t>quantification ADN de l’E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9cc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040" y="399960"/>
            <a:ext cx="84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Arial"/>
              </a:rPr>
              <a:t>Le problème des PTLD ou autres lymphoprolifé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19040" y="146988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 Yor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76480" y="2171880"/>
            <a:ext cx="4876920" cy="1068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térêt QE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ans les PT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41680" y="3897360"/>
            <a:ext cx="613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surtout depuis 19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Etudes comparatives avec marqueurs sérolog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19040" y="146988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 Yor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1160" y="343080"/>
            <a:ext cx="7181640" cy="520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Wingdings 2"/>
                <a:ea typeface="Wingdings 2"/>
              </a:rPr>
              <a:t>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Wingdings 3"/>
                <a:ea typeface="Wingdings 3"/>
              </a:rPr>
              <a:t>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EBV prédictive d’évolution vers P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0080" y="1411200"/>
            <a:ext cx="759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ide au diagnostic de PTLD (aide au diagnostic différenti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eut précéder signes cli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erait liée à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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fréquence des cellules infectées 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n à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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u  nb de copies de virus /cellule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Yang; Blood 20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9040" y="5915160"/>
            <a:ext cx="8915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0e500"/>
                </a:solidFill>
                <a:latin typeface="Arial"/>
              </a:rPr>
              <a:t>Weinstock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Bone Marrow Transplantation 2006; 37: 539-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Riddler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Blood 1994;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Savoie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Blood 1994;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Rooney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 Br J Haematol 1995;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Kenagy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Transplant 1995;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Rowe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JCM 1997;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Grenn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Transplant 1998;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Lucas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Blood 1998;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Gallagher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Int J Cancer 1999;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Yang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 Blood 2000; Baldanti JCM 2000;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 Stenvens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 Blood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891040" y="3040200"/>
            <a:ext cx="3252960" cy="30272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022800" y="2838600"/>
            <a:ext cx="31212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Yang, J. et al. Blood 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2120" y="3598920"/>
            <a:ext cx="4007880" cy="1191240"/>
          </a:xfrm>
          <a:prstGeom prst="rect">
            <a:avLst/>
          </a:prstGeom>
          <a:noFill/>
          <a:ln w="93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tevens Blood 200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greffe poumon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C-PCR (seuil risque 2000 cop/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141 éch (6 PTLD) : 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78%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&gt; seu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117 éch (8 non PTLD) : </a:t>
            </a:r>
            <a:r>
              <a:rPr b="0" lang="fr-FR" sz="1800" spc="-1" strike="noStrike">
                <a:solidFill>
                  <a:srgbClr val="ffcc00"/>
                </a:solidFill>
                <a:latin typeface="Arial"/>
              </a:rPr>
              <a:t>3,4%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&gt; seu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0280" y="1523880"/>
            <a:ext cx="0" cy="1123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00280" y="3216240"/>
            <a:ext cx="7867440" cy="2014200"/>
          </a:xfrm>
          <a:prstGeom prst="rect">
            <a:avLst/>
          </a:prstGeom>
          <a:noFill/>
          <a:ln cap="rnd" w="93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Van Esser Blood 2002; 99; 4364-69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7 allogreffes moelle avec CV élevée (&gt; 1000 gEq/ml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raitement préemptif par rituxim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minution incidence des PTLD de 49% (cohorte historique) à </a:t>
            </a: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18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mais risque réapparition PTLD car immunité T anti EBCV non restaur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22760" y="568440"/>
            <a:ext cx="559692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Wingdings 2"/>
                <a:ea typeface="Wingdings 2"/>
              </a:rPr>
              <a:t>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Wingdings 3"/>
                <a:ea typeface="Wingdings 3"/>
              </a:rPr>
              <a:t>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EBV </a:t>
            </a: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traitement préemptif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440" y="6216480"/>
            <a:ext cx="859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Van Esser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Blood 2002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Tsai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Am J Transplant 2002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Gruhn,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Bone Marrow Transplant 2003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Greenfield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Pediatr Blood Cancer 2006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Annels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CID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7680" y="1401840"/>
            <a:ext cx="862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ter avant signes cliniques pour éviter PTLD ? (si poss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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IS en 1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térêt du suivi longitudinal des patients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1 x/sem </a:t>
            </a: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1x/mo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euils à défin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542960"/>
            <a:ext cx="0" cy="819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859040" y="3987720"/>
            <a:ext cx="5570640" cy="28702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908000" y="6583320"/>
            <a:ext cx="20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Yang, Blood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92000" y="1219320"/>
            <a:ext cx="810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EBV permet surveiller réponse au trait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ymphocytes EBV+ sang périph CD20+ sensibles au rituxi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pas forcément les cellules tumorales responsables de PT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continuer à surveille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Oertel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 An Hematol 2006; </a:t>
            </a: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Yang</a:t>
            </a: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 Blood 2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47240" y="341280"/>
            <a:ext cx="716544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Wingdings 2"/>
                <a:ea typeface="Wingdings 2"/>
              </a:rPr>
              <a:t>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Wingdings 3"/>
                <a:ea typeface="Wingdings 3"/>
              </a:rPr>
              <a:t>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BV lors du traitement préemptif ou cura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1219320"/>
            <a:ext cx="0" cy="15238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84880" y="3078000"/>
            <a:ext cx="692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ssible réascension QEBV sans PT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ssible QEBV indétectable et PTLD (rechute ou évol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3143160"/>
            <a:ext cx="666720" cy="5144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19040" y="146988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 Yor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76480" y="2171880"/>
            <a:ext cx="4876920" cy="1068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térêt QE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n dehors des PT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17680" y="1116000"/>
            <a:ext cx="839304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QEBV dans plasma ou sér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cycle lytique; sécrétion virus à partir cellules épith différentié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rqueur de progression de la mala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édictive d’échec au traitement (radiother; chim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EBV quand rémission &lt; &lt; QEBV quand rech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6560" y="228600"/>
            <a:ext cx="7899480" cy="520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Wingdings 2"/>
                <a:ea typeface="Wingdings 2"/>
              </a:rPr>
              <a:t>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Intérêt QEBV dans le carcinome nasopharyng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5840" y="6311880"/>
            <a:ext cx="88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Leung,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Cancer 2003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Fan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, Int J Cancer 2004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Twu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Int J Radiat 2006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Tan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, Sing Med J 2006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Tan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BMC Canc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000" y="4387680"/>
            <a:ext cx="8901000" cy="11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Wang H, Deng L; Chen SH; Wang SQ, Cao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Arial"/>
              </a:rPr>
              <a:t>Real-time quantitative PCR assay of Epstein-Barr virus in whole blood cells of nasopharyngeal carcinoma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Arial"/>
              </a:rPr>
              <a:t>Shi Yan Sheng Wu Xue Bao. 2003 Feb;36(1):32-6. Chine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6640" y="3954600"/>
            <a:ext cx="57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À priori pas d’intérêt dans sang total … ??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962000"/>
            <a:ext cx="0" cy="1009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381400" y="1333440"/>
            <a:ext cx="476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736560" y="228600"/>
            <a:ext cx="7899480" cy="764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00"/>
              </a:buClr>
              <a:buFont typeface="Wingdings 2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Intérêt QEBV dans la</a:t>
            </a: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M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et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l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’infection EBV chronique active (CAE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248440" y="1800360"/>
            <a:ext cx="3619440" cy="4429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474160" y="6300720"/>
            <a:ext cx="267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Nested PCR sur BamH1-L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quantif par dilution lim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6971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8784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85840" y="2352600"/>
            <a:ext cx="4032000" cy="38102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521160" y="4175280"/>
            <a:ext cx="682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ct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70520" y="23652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M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19200" y="4138560"/>
            <a:ext cx="8222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 M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fa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12800" y="2666880"/>
            <a:ext cx="0" cy="362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32120" y="3123720"/>
            <a:ext cx="0" cy="876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21600" y="2386080"/>
            <a:ext cx="891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AEB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37040" y="2705040"/>
            <a:ext cx="0" cy="247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1800" y="2003400"/>
            <a:ext cx="31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Yamamoto; J Clin Microbiol 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892840" y="1508040"/>
            <a:ext cx="25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Maaeda; J Infect Dis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9600" y="139860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Plasma (réplication vira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26400" y="1189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Arial"/>
              </a:rPr>
              <a:t>P</a:t>
            </a: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3880" y="6205680"/>
            <a:ext cx="26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PCR sur BamH1-L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quantif par gamme plasm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17480" y="152280"/>
            <a:ext cx="7899480" cy="520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Wingdings 2"/>
                <a:ea typeface="Wingdings 2"/>
              </a:rPr>
              <a:t>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Intérêt QEBV dans l’infection HIV ? Que sait-o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819000"/>
            <a:ext cx="8877600" cy="24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EBV + svt détectable chez HIV+ avec valeur absolue plus élev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s de corrélation avec CD4, charge virale HI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QEBV souvent plus élevée dans groupes à CD4 b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rrélation inverse avec réponse immune spécifique :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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QEBV //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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T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aisse QEBV sous HA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258920" y="3394080"/>
          <a:ext cx="3865680" cy="260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394080"/>
                    <a:ext cx="38656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162400" y="3341520"/>
          <a:ext cx="3267360" cy="2621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2400" y="3341520"/>
                    <a:ext cx="326736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285840" y="6267600"/>
            <a:ext cx="88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Dehee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J Med Virol 2001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Brengel-Pesce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J Med Virol 2002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O’Sullivan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, J Med Virol 2002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Stevens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AIDS 2002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Righetti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, AIDS 2002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Van Baarle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JID 2002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Ling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CID 2003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Pollock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, Jama, 2003;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 Piriou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J Immunol 2004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Legoff 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J.Clin.Immunol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6280" y="1009800"/>
            <a:ext cx="0" cy="2095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0720" y="228600"/>
            <a:ext cx="8426520" cy="520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Wingdings 2"/>
                <a:ea typeface="Wingdings 2"/>
              </a:rPr>
              <a:t>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QEBV dans l’infection HIV  : prédictive lymphom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1143000"/>
            <a:ext cx="883908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EBV en valeur ponctuelle : peu d’études 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 de valeur prédictive d’évolution vers un lymphome ? 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ention si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valeur très élevé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en cas </a:t>
            </a:r>
            <a:r>
              <a:rPr b="0" lang="en-US" sz="1600" spc="-1" strike="noStrike">
                <a:solidFill>
                  <a:srgbClr val="ffffff"/>
                </a:solidFill>
                <a:latin typeface="New York"/>
              </a:rPr>
              <a:t>de lymphome l’ADN EBV est généralement plus élevé en périphé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ut-être intérêt du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uivi longitudi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 patients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ut-être valeur seuil prédictive de lymphome systémique dans le sang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ut-être valeur seuil prédictive de lymphome cérébral dans l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C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ir compte d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ocalisation lymphome et type de prélève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9040" y="6130800"/>
            <a:ext cx="82677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Laroche J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.Med.Virol 1995; 46:66-74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Van Baarle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JID 2002; 186 : 405-9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Stevens,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Middeldorp;  AIDS 2002; 16: 993-1001; 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Fan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, J Med Virol 2005;75:59-6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9040" y="2971800"/>
            <a:ext cx="0" cy="2647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85760" y="1447920"/>
            <a:ext cx="7048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57240"/>
            <a:ext cx="2815920" cy="3773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36840" y="620640"/>
            <a:ext cx="5415120" cy="131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PSTEIN MA, BARR Y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ultivation in vitro of human lymphoblasts from Burkitt’malignant lymph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Lancet 1964, Feb 1; 41 : 252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3320" y="2494080"/>
            <a:ext cx="5414760" cy="131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PSTEIN MA, BARR Y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irus particles in cultures lymphoblasts from Burkitt’ lymph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Lancet 1964, Mar 28; 15:702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9800" y="4443480"/>
            <a:ext cx="5414760" cy="1618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PSTEIN MA, WOODAL JP, THOMSON 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ymphoblastic lymphoma in bone-marrow of African green monkeys inoculated with material from a child withBurkitt’ lymph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Arial"/>
              </a:rPr>
              <a:t>Lancet 1964, Aug 8; 13:288-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809720" y="304920"/>
            <a:ext cx="62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ntification ADN EBV : quelques exe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79080" y="9889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 copies/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5200" y="1895400"/>
            <a:ext cx="11160" cy="192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72120" y="1895400"/>
            <a:ext cx="12600" cy="192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05200" y="4133880"/>
            <a:ext cx="11160" cy="38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72120" y="4133880"/>
            <a:ext cx="12600" cy="38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11160" y="3040200"/>
            <a:ext cx="7270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11160" y="3232080"/>
            <a:ext cx="7270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11160" y="3425760"/>
            <a:ext cx="72709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11160" y="4506840"/>
            <a:ext cx="7270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303200" y="1311120"/>
            <a:ext cx="6935760" cy="5021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800760" y="3257640"/>
            <a:ext cx="1505160" cy="12002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079720" y="2049480"/>
            <a:ext cx="4892760" cy="25934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Quantification ADN E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Quelle techniqu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Quel prélèvement ?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895320" y="1355760"/>
            <a:ext cx="760104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New York"/>
              </a:rPr>
              <a:t>PCR semi-quatitative</a:t>
            </a: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New York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New York"/>
              </a:rPr>
              <a:t>(</a:t>
            </a:r>
            <a:r>
              <a:rPr b="0" i="1" lang="fr-FR" sz="1800" spc="-1" strike="noStrike">
                <a:solidFill>
                  <a:srgbClr val="ccecff"/>
                </a:solidFill>
                <a:latin typeface="New York"/>
              </a:rPr>
              <a:t>Savoie</a:t>
            </a:r>
            <a:r>
              <a:rPr b="0" i="1" lang="fr-FR" sz="1800" spc="-1" strike="noStrike">
                <a:solidFill>
                  <a:srgbClr val="ffffff"/>
                </a:solidFill>
                <a:latin typeface="New York"/>
              </a:rPr>
              <a:t> Blood 1994; </a:t>
            </a:r>
            <a:r>
              <a:rPr b="0" i="1" lang="fr-FR" sz="1800" spc="-1" strike="noStrike">
                <a:solidFill>
                  <a:srgbClr val="ccecff"/>
                </a:solidFill>
                <a:latin typeface="New York"/>
              </a:rPr>
              <a:t>Riddler </a:t>
            </a:r>
            <a:r>
              <a:rPr b="0" i="1" lang="fr-FR" sz="1800" spc="-1" strike="noStrike">
                <a:solidFill>
                  <a:srgbClr val="ffffff"/>
                </a:solidFill>
                <a:latin typeface="New York"/>
              </a:rPr>
              <a:t>Blood 1994; </a:t>
            </a:r>
            <a:r>
              <a:rPr b="0" i="1" lang="fr-FR" sz="1800" spc="-1" strike="noStrike">
                <a:solidFill>
                  <a:srgbClr val="ccecff"/>
                </a:solidFill>
                <a:latin typeface="New York"/>
              </a:rPr>
              <a:t>Lucas </a:t>
            </a:r>
            <a:r>
              <a:rPr b="0" i="1" lang="fr-FR" sz="1800" spc="-1" strike="noStrike">
                <a:solidFill>
                  <a:srgbClr val="ffffff"/>
                </a:solidFill>
                <a:latin typeface="New York"/>
              </a:rPr>
              <a:t>Blood 1998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ecff"/>
                </a:solidFill>
                <a:latin typeface="New York"/>
              </a:rPr>
              <a:t>	</a:t>
            </a:r>
            <a:r>
              <a:rPr b="0" i="1" lang="fr-FR" sz="1800" spc="-1" strike="noStrike">
                <a:solidFill>
                  <a:srgbClr val="ccecff"/>
                </a:solidFill>
                <a:latin typeface="New York"/>
              </a:rPr>
              <a:t>Gustafsson</a:t>
            </a:r>
            <a:r>
              <a:rPr b="0" i="1" lang="fr-FR" sz="1800" spc="-1" strike="noStrike">
                <a:solidFill>
                  <a:srgbClr val="ffffff"/>
                </a:solidFill>
                <a:latin typeface="New York"/>
              </a:rPr>
              <a:t> Blood 2000)</a:t>
            </a:r>
            <a:r>
              <a:rPr b="0" lang="fr-FR" sz="2000" spc="-1" strike="noStrike">
                <a:solidFill>
                  <a:srgbClr val="ffffff"/>
                </a:solidFill>
                <a:latin typeface="New Yor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New York"/>
              </a:rPr>
              <a:t>PCR en dilution limite</a:t>
            </a:r>
            <a:r>
              <a:rPr b="1" lang="fr-FR" sz="2400" spc="-1" strike="noStrike">
                <a:solidFill>
                  <a:srgbClr val="ffff66"/>
                </a:solidFill>
                <a:latin typeface="New York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(</a:t>
            </a: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Kenagy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 Transpl 199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New York"/>
              </a:rPr>
              <a:t>PCR quantitative compétitive  (QPC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	</a:t>
            </a: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Bai 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Clin Chem 1997; </a:t>
            </a: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Baldanti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 JCM 200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	</a:t>
            </a: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Rowe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 JCM 1997; </a:t>
            </a: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Stevens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 Blood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New York"/>
              </a:rPr>
              <a:t>PCR en temps ré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(</a:t>
            </a: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Kimura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 JCM 1999; </a:t>
            </a: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Lo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 Cancer Res 1999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	</a:t>
            </a: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Niesters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 JCM 2000;</a:t>
            </a:r>
            <a:r>
              <a:rPr b="0" i="1" lang="fr-FR" sz="2000" spc="-1" strike="noStrike">
                <a:solidFill>
                  <a:srgbClr val="ccecff"/>
                </a:solidFill>
                <a:latin typeface="New York"/>
              </a:rPr>
              <a:t>Dehee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 J Med Virol 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37840" y="266760"/>
            <a:ext cx="6567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Les différentes techniques de qua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47680" y="1025640"/>
            <a:ext cx="8896320" cy="57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cc00"/>
                </a:solidFill>
                <a:uFillTx/>
                <a:latin typeface="New York"/>
              </a:rPr>
              <a:t>Variabilité des techniques ++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New Yor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techniques maisons 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  </a:t>
            </a: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trousses commercialisées  </a:t>
            </a:r>
            <a:r>
              <a:rPr b="1" lang="fr-FR" sz="1600" spc="-1" strike="noStrike">
                <a:solidFill>
                  <a:srgbClr val="ffffff"/>
                </a:solidFill>
                <a:latin typeface="New York"/>
              </a:rPr>
              <a:t>(Argène, Artus, Roche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cible amplifiée : </a:t>
            </a:r>
            <a:r>
              <a:rPr b="1" lang="fr-FR" sz="1800" spc="-1" strike="noStrike">
                <a:solidFill>
                  <a:srgbClr val="ffffff"/>
                </a:solidFill>
                <a:latin typeface="New York"/>
              </a:rPr>
              <a:t>BNRF1 (p143); BamH1, BXLF1 (TK), 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chimie et appareillage utilisés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New York"/>
              </a:rPr>
              <a:t>sonde hydrolyse (taqman; abi prism), sonde d’hybridation (lightcycl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gamme de quantification : cellulaire, plasmid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contrôles : contrôle interne, témoin inhibi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New York"/>
              </a:rPr>
              <a:t> </a:t>
            </a:r>
            <a:r>
              <a:rPr b="1" lang="fr-FR" sz="2000" spc="-1" strike="noStrike">
                <a:solidFill>
                  <a:srgbClr val="ffcc66"/>
                </a:solidFill>
                <a:latin typeface="New York"/>
              </a:rPr>
              <a:t>CQ 12 labos en France : différence de 1 log entre lab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New York"/>
              </a:rPr>
              <a:t> </a:t>
            </a:r>
            <a:r>
              <a:rPr b="1" lang="fr-FR" sz="2000" spc="-1" strike="noStrike">
                <a:solidFill>
                  <a:srgbClr val="ffcc66"/>
                </a:solidFill>
                <a:latin typeface="New York"/>
              </a:rPr>
              <a:t>seuils variables selon prélèvement (ST  &gt; &gt; 1 000 copi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51040" y="324000"/>
            <a:ext cx="3314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La PCR en temps ré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4984920" y="-38160"/>
            <a:ext cx="42922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19040" y="146988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 Yor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36440" y="361800"/>
            <a:ext cx="5382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Les différents types de prélè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6440" y="1239840"/>
            <a:ext cx="873756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Wingdings 3"/>
                <a:ea typeface="Wingdings 3"/>
              </a:rPr>
              <a:t>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En périphérie : sérum, plasma, PBMC, </a:t>
            </a:r>
            <a:r>
              <a:rPr b="1" lang="fr-FR" sz="2400" spc="-1" strike="noStrike" u="sng">
                <a:solidFill>
                  <a:srgbClr val="ffcc00"/>
                </a:solidFill>
                <a:uFillTx/>
                <a:latin typeface="Arial"/>
              </a:rPr>
              <a:t>sang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oblème sérum et plas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antifie si virus en cycle lytique (intérêt primo-inf et CN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 quantifie pas virus intracellul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eut quantifier virus intracellulaire relargué par cellules en apopto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u en nécrose (ou ex vivo lors de coagul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préférer sang tota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auf exceptions (= cellules + plas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Intérêt des autres sites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 LCR, liquide pleural, péritonéal, LBA, moëll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1800" y="6261120"/>
            <a:ext cx="87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0e500"/>
                </a:solidFill>
                <a:latin typeface="Arial"/>
              </a:rPr>
              <a:t>Stevens , Middledorp</a:t>
            </a: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JCM 1999; </a:t>
            </a:r>
            <a:r>
              <a:rPr b="0" i="1" lang="fr-FR" sz="1200" spc="-1" strike="noStrike">
                <a:solidFill>
                  <a:srgbClr val="f0e500"/>
                </a:solidFill>
                <a:latin typeface="Arial"/>
              </a:rPr>
              <a:t>JCM 2001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; Blood 2001; JCM 2002; AIDS 2002; Leuk lymphoma 2002; Meth Mol Biol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64000" y="1784520"/>
            <a:ext cx="7706160" cy="228852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écessité harmoniser les technique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à défaut garder le même labo,  la même techniqu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886040" y="171360"/>
            <a:ext cx="5333760" cy="587520"/>
          </a:xfrm>
          <a:prstGeom prst="rect">
            <a:avLst/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 York"/>
              </a:rPr>
              <a:t>Conclusion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7680" y="819000"/>
            <a:ext cx="889632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QEBV : intérêt dans le sang périphér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intérêt potentiel dans toutes les pathologies EBV-induite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aleur diagnostic dans primo-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aleur prédictive dans le CN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aleur prédictive d’évolution vers un lymph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uvé chez les immunodéprimés (greffés) </a:t>
            </a:r>
            <a:r>
              <a:rPr b="0" i="1" lang="fr-FR" sz="1800" spc="-1" strike="noStrike">
                <a:solidFill>
                  <a:srgbClr val="ffffff"/>
                </a:solidFill>
                <a:latin typeface="New York"/>
              </a:rPr>
              <a:t>: </a:t>
            </a:r>
            <a:r>
              <a:rPr b="0" i="1" lang="fr-FR" sz="1600" spc="-1" strike="noStrike">
                <a:solidFill>
                  <a:srgbClr val="ffffff"/>
                </a:solidFill>
                <a:latin typeface="New York"/>
              </a:rPr>
              <a:t>aide au diagnostic précoce (ttt préemptif, ttt curatif) et au suivi thérapeuti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Intérêt probable dans autres immunodépressions</a:t>
            </a:r>
            <a:r>
              <a:rPr b="0" i="1" lang="fr-FR" sz="18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0" i="1" lang="fr-FR" sz="1600" spc="-1" strike="noStrike">
                <a:solidFill>
                  <a:srgbClr val="ffffff"/>
                </a:solidFill>
                <a:latin typeface="New York"/>
              </a:rPr>
              <a:t>(Crohn, RCH, PR, SPA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on prouvé chez le sujet HIV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QEBV : intérêt dans autres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oëlle (SAM), épanchements, LCR     . . .  </a:t>
            </a:r>
            <a:r>
              <a:rPr b="0" i="1" lang="fr-FR" sz="2000" spc="-1" strike="noStrike">
                <a:solidFill>
                  <a:srgbClr val="ffffff"/>
                </a:solidFill>
                <a:latin typeface="New York"/>
              </a:rPr>
              <a:t>faire en parallèle sang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886040" y="247680"/>
            <a:ext cx="5333760" cy="587520"/>
          </a:xfrm>
          <a:prstGeom prst="rect">
            <a:avLst/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 York"/>
              </a:rPr>
              <a:t>Conclusion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0400" y="1104840"/>
            <a:ext cx="810108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cc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Attention à l’interprétation des résultat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pression en périphérie d’une pathologie EBV-induite :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enir compte des techniques de quan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euils à définir (à chaque technique ses seuils 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térêt du suivi longitud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13520" y="4822920"/>
            <a:ext cx="3868920" cy="1283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ans doute très bon outil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pprendre à le connaît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t ne pas lui en demander t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10160" y="585720"/>
            <a:ext cx="351828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virus d’Epstein Ba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4200" y="1749600"/>
            <a:ext cx="4716360" cy="825480"/>
          </a:xfrm>
          <a:prstGeom prst="rect">
            <a:avLst/>
          </a:prstGeom>
          <a:noFill/>
          <a:ln w="93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8% de la population mondiale est porteur de l’E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114960" y="0"/>
            <a:ext cx="3028680" cy="4008240"/>
            <a:chOff x="6114960" y="0"/>
            <a:chExt cx="3028680" cy="400824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114960" y="738000"/>
              <a:ext cx="302868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117840" y="0"/>
              <a:ext cx="30164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amination   saliva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517080" y="4164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 sexuelle ?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1640" y="4224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7880" y="4549680"/>
            <a:ext cx="4716720" cy="825480"/>
          </a:xfrm>
          <a:prstGeom prst="rect">
            <a:avLst/>
          </a:prstGeom>
          <a:noFill/>
          <a:ln w="93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éponse immune int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TL CD8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5120" y="3159000"/>
            <a:ext cx="4716360" cy="459720"/>
          </a:xfrm>
          <a:prstGeom prst="rect">
            <a:avLst/>
          </a:prstGeom>
          <a:noFill/>
          <a:ln w="93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ut pouvoir transform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23840"/>
            <a:ext cx="54133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e biologique et tropisme cellul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16440" y="457200"/>
            <a:ext cx="4952520" cy="2038320"/>
            <a:chOff x="316440" y="457200"/>
            <a:chExt cx="4952520" cy="2038320"/>
          </a:xfrm>
        </p:grpSpPr>
        <p:sp>
          <p:nvSpPr>
            <p:cNvPr id="65" name=""/>
            <p:cNvSpPr/>
            <p:nvPr/>
          </p:nvSpPr>
          <p:spPr>
            <a:xfrm>
              <a:off x="3505320" y="1001880"/>
              <a:ext cx="1763640" cy="100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f8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c0c0c0"/>
                  </a:solidFill>
                  <a:latin typeface="New York"/>
                </a:rPr>
                <a:t>Épithéliu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c0c0c0"/>
                  </a:solidFill>
                  <a:latin typeface="New York"/>
                </a:rPr>
                <a:t>oropharyng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03200" y="1089000"/>
              <a:ext cx="785880" cy="4446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5680" y="1158840"/>
              <a:ext cx="355680" cy="304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0040" y="457200"/>
              <a:ext cx="187200" cy="158760"/>
            </a:xfrm>
            <a:custGeom>
              <a:avLst/>
              <a:gdLst>
                <a:gd name="textAreaLeft" fmla="*/ 42480 w 187200"/>
                <a:gd name="textAreaRight" fmla="*/ 144720 w 18720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6440" y="560520"/>
              <a:ext cx="1396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46320" y="1089000"/>
              <a:ext cx="789120" cy="4446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71680" y="1158840"/>
              <a:ext cx="355680" cy="304920"/>
            </a:xfrm>
            <a:prstGeom prst="ellipse">
              <a:avLst/>
            </a:prstGeom>
            <a:gradFill rotWithShape="0">
              <a:gsLst>
                <a:gs pos="0">
                  <a:srgbClr val="f76681"/>
                </a:gs>
                <a:gs pos="100000">
                  <a:srgbClr val="491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1076400"/>
              <a:ext cx="789120" cy="4446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1120" y="1146240"/>
              <a:ext cx="355680" cy="304560"/>
            </a:xfrm>
            <a:prstGeom prst="ellipse">
              <a:avLst/>
            </a:prstGeom>
            <a:gradFill rotWithShape="0">
              <a:gsLst>
                <a:gs pos="0">
                  <a:srgbClr val="f76681"/>
                </a:gs>
                <a:gs pos="100000">
                  <a:srgbClr val="491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6200000">
              <a:off x="1442880" y="1724760"/>
              <a:ext cx="507960" cy="398520"/>
            </a:xfrm>
            <a:prstGeom prst="rightArrow">
              <a:avLst>
                <a:gd name="adj1" fmla="val 50000"/>
                <a:gd name="adj2" fmla="val 63736"/>
              </a:avLst>
            </a:pr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60440" y="2082960"/>
              <a:ext cx="189000" cy="15876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11280" y="2311560"/>
              <a:ext cx="187200" cy="158760"/>
            </a:xfrm>
            <a:custGeom>
              <a:avLst/>
              <a:gdLst>
                <a:gd name="textAreaLeft" fmla="*/ 42480 w 187200"/>
                <a:gd name="textAreaRight" fmla="*/ 144720 w 18720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9800" y="2336760"/>
              <a:ext cx="187200" cy="158760"/>
            </a:xfrm>
            <a:custGeom>
              <a:avLst/>
              <a:gdLst>
                <a:gd name="textAreaLeft" fmla="*/ 42480 w 187200"/>
                <a:gd name="textAreaRight" fmla="*/ 144720 w 18720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31960" y="2197080"/>
              <a:ext cx="187200" cy="158760"/>
            </a:xfrm>
            <a:custGeom>
              <a:avLst/>
              <a:gdLst>
                <a:gd name="textAreaLeft" fmla="*/ 42480 w 187200"/>
                <a:gd name="textAreaRight" fmla="*/ 144720 w 18720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384360" y="2171880"/>
            <a:ext cx="2212200" cy="4420080"/>
            <a:chOff x="3384360" y="2171880"/>
            <a:chExt cx="2212200" cy="4420080"/>
          </a:xfrm>
        </p:grpSpPr>
        <p:grpSp>
          <p:nvGrpSpPr>
            <p:cNvPr id="80" name=""/>
            <p:cNvGrpSpPr/>
            <p:nvPr/>
          </p:nvGrpSpPr>
          <p:grpSpPr>
            <a:xfrm>
              <a:off x="3384360" y="2171880"/>
              <a:ext cx="1991160" cy="2054160"/>
              <a:chOff x="3384360" y="2171880"/>
              <a:chExt cx="1991160" cy="205416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3629160" y="2171880"/>
                <a:ext cx="1225080" cy="1185840"/>
                <a:chOff x="3629160" y="2171880"/>
                <a:chExt cx="1225080" cy="1185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263840" y="240516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89440" y="2667240"/>
                  <a:ext cx="53280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33720" y="282420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321080" y="2705400"/>
                  <a:ext cx="5331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74960" y="271476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629160" y="2291040"/>
                  <a:ext cx="5331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016160" y="217188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3384360" y="3400560"/>
                <a:ext cx="1991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99"/>
                    </a:solidFill>
                    <a:latin typeface="Times New Roman"/>
                  </a:rPr>
                  <a:t>Contrôle NK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99"/>
                    </a:solidFill>
                    <a:latin typeface="Times New Roman"/>
                  </a:rPr>
                  <a:t>et CTL (CD8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468600" y="4859280"/>
              <a:ext cx="800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60920" y="422928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94160" y="479124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88720" y="5888160"/>
              <a:ext cx="170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ecff"/>
                  </a:solidFill>
                  <a:latin typeface="Arial"/>
                </a:rPr>
                <a:t>gè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ec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ccecff"/>
                  </a:solidFill>
                  <a:latin typeface="Arial"/>
                </a:rPr>
                <a:t>de latence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94360" y="545940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ad630"/>
                  </a:solidFill>
                  <a:latin typeface="Arial"/>
                </a:rPr>
                <a:t>Late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38520" y="4927680"/>
              <a:ext cx="187560" cy="158760"/>
            </a:xfrm>
            <a:custGeom>
              <a:avLst/>
              <a:gdLst>
                <a:gd name="textAreaLeft" fmla="*/ 42840 w 187560"/>
                <a:gd name="textAreaRight" fmla="*/ 144720 w 18756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343480" y="409680"/>
            <a:ext cx="3800520" cy="4076640"/>
            <a:chOff x="5343480" y="409680"/>
            <a:chExt cx="3800520" cy="4076640"/>
          </a:xfrm>
        </p:grpSpPr>
        <p:sp>
          <p:nvSpPr>
            <p:cNvPr id="97" name=""/>
            <p:cNvSpPr/>
            <p:nvPr/>
          </p:nvSpPr>
          <p:spPr>
            <a:xfrm flipV="1">
              <a:off x="5343480" y="3743280"/>
              <a:ext cx="542880" cy="743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851440" y="409680"/>
              <a:ext cx="3292560" cy="3638880"/>
              <a:chOff x="5851440" y="409680"/>
              <a:chExt cx="3292560" cy="3638880"/>
            </a:xfrm>
          </p:grpSpPr>
          <p:sp>
            <p:nvSpPr>
              <p:cNvPr id="99" name=""/>
              <p:cNvSpPr/>
              <p:nvPr/>
            </p:nvSpPr>
            <p:spPr>
              <a:xfrm>
                <a:off x="7953480" y="1085760"/>
                <a:ext cx="790560" cy="44460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07120" y="1079640"/>
                <a:ext cx="787680" cy="44424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29440" y="1095480"/>
                <a:ext cx="788760" cy="44424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86480" y="1149480"/>
                <a:ext cx="355680" cy="304560"/>
              </a:xfrm>
              <a:prstGeom prst="ellipse">
                <a:avLst/>
              </a:prstGeom>
              <a:gradFill rotWithShape="0">
                <a:gsLst>
                  <a:gs pos="0">
                    <a:srgbClr val="f76681"/>
                  </a:gs>
                  <a:gs pos="100000">
                    <a:srgbClr val="491e2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78840" y="1155600"/>
                <a:ext cx="357120" cy="304920"/>
              </a:xfrm>
              <a:prstGeom prst="ellipse">
                <a:avLst/>
              </a:prstGeom>
              <a:gradFill rotWithShape="0">
                <a:gsLst>
                  <a:gs pos="0">
                    <a:srgbClr val="f76681"/>
                  </a:gs>
                  <a:gs pos="100000">
                    <a:srgbClr val="491e2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280280" y="2600280"/>
                <a:ext cx="493560" cy="419040"/>
              </a:xfrm>
              <a:prstGeom prst="ellipse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2b2b2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42200" y="2698920"/>
                <a:ext cx="355680" cy="3045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6200000">
                <a:off x="7260840" y="1663560"/>
                <a:ext cx="508320" cy="399960"/>
              </a:xfrm>
              <a:prstGeom prst="rightArrow">
                <a:avLst>
                  <a:gd name="adj1" fmla="val 50000"/>
                  <a:gd name="adj2" fmla="val 63552"/>
                </a:avLst>
              </a:pr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09000" y="211140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29520" y="237816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86720" y="239076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94480" y="2238480"/>
                <a:ext cx="187560" cy="158760"/>
              </a:xfrm>
              <a:custGeom>
                <a:avLst/>
                <a:gdLst>
                  <a:gd name="textAreaLeft" fmla="*/ 42840 w 187560"/>
                  <a:gd name="textAreaRight" fmla="*/ 144720 w 18756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43640" y="1149480"/>
                <a:ext cx="357480" cy="3045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085240" y="409680"/>
                <a:ext cx="188640" cy="158760"/>
              </a:xfrm>
              <a:custGeom>
                <a:avLst/>
                <a:gdLst>
                  <a:gd name="textAreaLeft" fmla="*/ 42840 w 188640"/>
                  <a:gd name="textAreaRight" fmla="*/ 145800 w 18864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07440" y="531720"/>
                <a:ext cx="10155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9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9257"/>
                  </a:path>
                </a:pathLst>
              </a:custGeom>
              <a:noFill/>
              <a:ln cap="rnd"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51440" y="3344760"/>
                <a:ext cx="3292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ad630"/>
                    </a:solidFill>
                    <a:latin typeface="Arial"/>
                  </a:rPr>
                  <a:t>Réactivation :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ecff"/>
                    </a:solidFill>
                    <a:latin typeface="Arial"/>
                  </a:rPr>
                  <a:t>gènes du cycle lytiqu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267760" y="188928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5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25000" y="514440"/>
                <a:ext cx="722160" cy="1162080"/>
              </a:xfrm>
              <a:custGeom>
                <a:avLst/>
                <a:gdLst/>
                <a:ahLst/>
                <a:rect l="l" t="t" r="r" b="b"/>
                <a:pathLst>
                  <a:path w="455" h="732">
                    <a:moveTo>
                      <a:pt x="0" y="0"/>
                    </a:moveTo>
                    <a:cubicBezTo>
                      <a:pt x="10" y="1"/>
                      <a:pt x="165" y="2"/>
                      <a:pt x="216" y="24"/>
                    </a:cubicBezTo>
                    <a:cubicBezTo>
                      <a:pt x="241" y="35"/>
                      <a:pt x="265" y="47"/>
                      <a:pt x="288" y="60"/>
                    </a:cubicBezTo>
                    <a:cubicBezTo>
                      <a:pt x="313" y="74"/>
                      <a:pt x="360" y="108"/>
                      <a:pt x="360" y="108"/>
                    </a:cubicBezTo>
                    <a:cubicBezTo>
                      <a:pt x="384" y="144"/>
                      <a:pt x="396" y="180"/>
                      <a:pt x="420" y="216"/>
                    </a:cubicBezTo>
                    <a:cubicBezTo>
                      <a:pt x="455" y="392"/>
                      <a:pt x="444" y="546"/>
                      <a:pt x="444" y="732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8744040" y="1657440"/>
                <a:ext cx="28584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57600" y="233532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LB naïf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58080" y="262260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34360" y="275580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481960" y="214632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5334120" y="4457880"/>
            <a:ext cx="3809880" cy="2400120"/>
            <a:chOff x="5334120" y="4457880"/>
            <a:chExt cx="3809880" cy="2400120"/>
          </a:xfrm>
        </p:grpSpPr>
        <p:grpSp>
          <p:nvGrpSpPr>
            <p:cNvPr id="123" name=""/>
            <p:cNvGrpSpPr/>
            <p:nvPr/>
          </p:nvGrpSpPr>
          <p:grpSpPr>
            <a:xfrm>
              <a:off x="5334120" y="4457880"/>
              <a:ext cx="3809880" cy="2400120"/>
              <a:chOff x="5334120" y="4457880"/>
              <a:chExt cx="3809880" cy="2400120"/>
            </a:xfrm>
          </p:grpSpPr>
          <p:sp>
            <p:nvSpPr>
              <p:cNvPr id="124" name=""/>
              <p:cNvSpPr/>
              <p:nvPr/>
            </p:nvSpPr>
            <p:spPr>
              <a:xfrm>
                <a:off x="5334120" y="4457880"/>
                <a:ext cx="771480" cy="685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35680" y="4498920"/>
                <a:ext cx="3208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1ad630"/>
                    </a:solidFill>
                    <a:latin typeface="Arial"/>
                  </a:rPr>
                  <a:t>Lymphoprolifération :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ccecff"/>
                    </a:solidFill>
                    <a:latin typeface="Arial"/>
                  </a:rPr>
                  <a:t>gènes de latence I,II,II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78800" y="5472000"/>
                <a:ext cx="533160" cy="53352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331040" y="535788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35680" y="598644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31080" y="562464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83360" y="577692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902720" y="541512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78720" y="573876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21480" y="604368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864560" y="581508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31120" y="58341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78760" y="6324480"/>
                <a:ext cx="533160" cy="53352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07320" y="608184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005e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81720" y="5937120"/>
                <a:ext cx="187560" cy="158760"/>
              </a:xfrm>
              <a:custGeom>
                <a:avLst/>
                <a:gdLst>
                  <a:gd name="textAreaLeft" fmla="*/ 42840 w 187560"/>
                  <a:gd name="textAreaRight" fmla="*/ 144720 w 18756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82000" y="589932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281720" y="6470640"/>
                <a:ext cx="187560" cy="158760"/>
              </a:xfrm>
              <a:custGeom>
                <a:avLst/>
                <a:gdLst>
                  <a:gd name="textAreaLeft" fmla="*/ 42840 w 187560"/>
                  <a:gd name="textAreaRight" fmla="*/ 144720 w 18756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29400" y="5518080"/>
                <a:ext cx="187560" cy="158760"/>
              </a:xfrm>
              <a:custGeom>
                <a:avLst/>
                <a:gdLst>
                  <a:gd name="textAreaLeft" fmla="*/ 42840 w 187560"/>
                  <a:gd name="textAreaRight" fmla="*/ 144720 w 18756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710400" y="6051600"/>
              <a:ext cx="187200" cy="158760"/>
            </a:xfrm>
            <a:custGeom>
              <a:avLst/>
              <a:gdLst>
                <a:gd name="textAreaLeft" fmla="*/ 42480 w 187200"/>
                <a:gd name="textAreaRight" fmla="*/ 144720 w 18720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5320" y="5880240"/>
              <a:ext cx="187200" cy="158760"/>
            </a:xfrm>
            <a:custGeom>
              <a:avLst/>
              <a:gdLst>
                <a:gd name="textAreaLeft" fmla="*/ 42480 w 187200"/>
                <a:gd name="textAreaRight" fmla="*/ 144720 w 18720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31920" y="2666880"/>
            <a:ext cx="3689280" cy="4193280"/>
            <a:chOff x="331920" y="2666880"/>
            <a:chExt cx="3689280" cy="4193280"/>
          </a:xfrm>
        </p:grpSpPr>
        <p:sp>
          <p:nvSpPr>
            <p:cNvPr id="145" name=""/>
            <p:cNvSpPr/>
            <p:nvPr/>
          </p:nvSpPr>
          <p:spPr>
            <a:xfrm>
              <a:off x="1611360" y="2666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31920" y="3124080"/>
              <a:ext cx="3689280" cy="3736080"/>
              <a:chOff x="331920" y="3124080"/>
              <a:chExt cx="3689280" cy="3736080"/>
            </a:xfrm>
          </p:grpSpPr>
          <p:sp>
            <p:nvSpPr>
              <p:cNvPr id="147" name=""/>
              <p:cNvSpPr/>
              <p:nvPr/>
            </p:nvSpPr>
            <p:spPr>
              <a:xfrm>
                <a:off x="1376280" y="312408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5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5440" y="317340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LB naïf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1344600" y="4048200"/>
                <a:ext cx="1822320" cy="1647720"/>
                <a:chOff x="1344600" y="4048200"/>
                <a:chExt cx="1822320" cy="1647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814400" y="5462640"/>
                  <a:ext cx="6098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170080" y="4319640"/>
                  <a:ext cx="5335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795320" y="4581720"/>
                  <a:ext cx="5335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649520" y="484344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503360" y="5105520"/>
                  <a:ext cx="5335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986120" y="5162760"/>
                  <a:ext cx="5331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839960" y="4738680"/>
                  <a:ext cx="5335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227320" y="4619520"/>
                  <a:ext cx="5335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14680" y="4500720"/>
                  <a:ext cx="5335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92200" y="4991040"/>
                  <a:ext cx="5335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633760" y="505764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490760" y="404820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44600" y="4310280"/>
                  <a:ext cx="5335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440000" y="494352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81200" y="4629240"/>
                  <a:ext cx="5335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922400" y="4086360"/>
                  <a:ext cx="5335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043000" y="4548240"/>
                  <a:ext cx="5335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170080" y="4872240"/>
                  <a:ext cx="5335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4675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331920" y="6461280"/>
                <a:ext cx="338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cecff"/>
                    </a:solidFill>
                    <a:latin typeface="Arial"/>
                  </a:rPr>
                  <a:t>gènes de latence II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" y="5649840"/>
                <a:ext cx="3564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ad630"/>
                    </a:solidFill>
                    <a:latin typeface="Arial"/>
                  </a:rPr>
                  <a:t>Activation et prolifération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ad630"/>
                    </a:solidFill>
                    <a:latin typeface="Arial"/>
                  </a:rPr>
                  <a:t>lymphocytes 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87720" y="466092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01920" y="448956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21000" y="328932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6960" y="5137200"/>
                <a:ext cx="187560" cy="158760"/>
              </a:xfrm>
              <a:custGeom>
                <a:avLst/>
                <a:gdLst>
                  <a:gd name="textAreaLeft" fmla="*/ 42840 w 187560"/>
                  <a:gd name="textAreaRight" fmla="*/ 144720 w 18756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97200" y="523224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16280" y="469908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49560" y="542304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73240" y="429912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95600" y="3714840"/>
                <a:ext cx="75960" cy="20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05320" y="1001880"/>
            <a:ext cx="1763640" cy="100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8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New York"/>
              </a:rPr>
              <a:t>Épithél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New York"/>
              </a:rPr>
              <a:t>oropharyng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0040" y="457200"/>
            <a:ext cx="187200" cy="158760"/>
          </a:xfrm>
          <a:custGeom>
            <a:avLst/>
            <a:gdLst>
              <a:gd name="textAreaLeft" fmla="*/ 42480 w 187200"/>
              <a:gd name="textAreaRight" fmla="*/ 144720 w 1872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6440" y="560520"/>
            <a:ext cx="1396080" cy="74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46320" y="1089000"/>
            <a:ext cx="789120" cy="444600"/>
          </a:xfrm>
          <a:prstGeom prst="octagon">
            <a:avLst>
              <a:gd name="adj" fmla="val 29282"/>
            </a:avLst>
          </a:prstGeom>
          <a:gradFill rotWithShape="0">
            <a:gsLst>
              <a:gs pos="0">
                <a:srgbClr val="ffffff"/>
              </a:gs>
              <a:gs pos="100000">
                <a:srgbClr val="4b4b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076400"/>
            <a:ext cx="789120" cy="444600"/>
          </a:xfrm>
          <a:prstGeom prst="octagon">
            <a:avLst>
              <a:gd name="adj" fmla="val 29282"/>
            </a:avLst>
          </a:prstGeom>
          <a:gradFill rotWithShape="0">
            <a:gsLst>
              <a:gs pos="0">
                <a:srgbClr val="ffffff"/>
              </a:gs>
              <a:gs pos="100000">
                <a:srgbClr val="4b4b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384360" y="2171880"/>
            <a:ext cx="2212200" cy="4420080"/>
            <a:chOff x="3384360" y="2171880"/>
            <a:chExt cx="2212200" cy="4420080"/>
          </a:xfrm>
        </p:grpSpPr>
        <p:grpSp>
          <p:nvGrpSpPr>
            <p:cNvPr id="185" name=""/>
            <p:cNvGrpSpPr/>
            <p:nvPr/>
          </p:nvGrpSpPr>
          <p:grpSpPr>
            <a:xfrm>
              <a:off x="3384360" y="2171880"/>
              <a:ext cx="1991160" cy="2054160"/>
              <a:chOff x="3384360" y="2171880"/>
              <a:chExt cx="1991160" cy="20541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3629160" y="2171880"/>
                <a:ext cx="1225080" cy="1185840"/>
                <a:chOff x="3629160" y="2171880"/>
                <a:chExt cx="1225080" cy="11858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263840" y="240516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889440" y="2667240"/>
                  <a:ext cx="53280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33720" y="282420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21080" y="2705400"/>
                  <a:ext cx="5331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774960" y="271476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629160" y="2291040"/>
                  <a:ext cx="5331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016160" y="2171880"/>
                  <a:ext cx="53316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80194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3384360" y="3400560"/>
                <a:ext cx="1991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5f5f5f"/>
                    </a:solidFill>
                    <a:latin typeface="Times New Roman"/>
                  </a:rPr>
                  <a:t>Contrôle NK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5f5f5f"/>
                    </a:solidFill>
                    <a:latin typeface="Times New Roman"/>
                  </a:rPr>
                  <a:t>et CTL (CD8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3468600" y="4859280"/>
              <a:ext cx="800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60920" y="422928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94160" y="479124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88720" y="5888160"/>
              <a:ext cx="170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5f5f5f"/>
                  </a:solidFill>
                  <a:latin typeface="Arial"/>
                </a:rPr>
                <a:t>gè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5f5f5f"/>
                  </a:solidFill>
                  <a:latin typeface="Arial"/>
                </a:rPr>
                <a:t>de latence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4360" y="545940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0e500"/>
                  </a:solidFill>
                  <a:latin typeface="Arial"/>
                </a:rPr>
                <a:t>Late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38520" y="4927680"/>
              <a:ext cx="187560" cy="158760"/>
            </a:xfrm>
            <a:custGeom>
              <a:avLst/>
              <a:gdLst>
                <a:gd name="textAreaLeft" fmla="*/ 42840 w 187560"/>
                <a:gd name="textAreaRight" fmla="*/ 144720 w 18756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24360" y="4413240"/>
              <a:ext cx="187200" cy="158760"/>
            </a:xfrm>
            <a:custGeom>
              <a:avLst/>
              <a:gdLst>
                <a:gd name="textAreaLeft" fmla="*/ 42480 w 187200"/>
                <a:gd name="textAreaRight" fmla="*/ 144720 w 18720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61136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6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440" y="309708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B naï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49520" y="3657600"/>
            <a:ext cx="56880" cy="399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40000" y="4143240"/>
            <a:ext cx="1822320" cy="1647720"/>
            <a:chOff x="1440000" y="4143240"/>
            <a:chExt cx="1822320" cy="1647720"/>
          </a:xfrm>
        </p:grpSpPr>
        <p:sp>
          <p:nvSpPr>
            <p:cNvPr id="207" name=""/>
            <p:cNvSpPr/>
            <p:nvPr/>
          </p:nvSpPr>
          <p:spPr>
            <a:xfrm>
              <a:off x="1909800" y="5557680"/>
              <a:ext cx="609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5480" y="44146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0720" y="467676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44920" y="493848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8760" y="520056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81520" y="525780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35360" y="483372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22720" y="47145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10080" y="459576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87600" y="50860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29160" y="515268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86160" y="414324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000" y="440532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35400" y="503856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76600" y="47242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17800" y="418140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38400" y="464328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65480" y="496728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0" y="6461280"/>
            <a:ext cx="40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gènes de latence I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5745240"/>
            <a:ext cx="38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ctivation et prolifé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Lymphocytes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01840" y="4756320"/>
            <a:ext cx="187200" cy="158760"/>
          </a:xfrm>
          <a:custGeom>
            <a:avLst/>
            <a:gdLst>
              <a:gd name="textAreaLeft" fmla="*/ 42480 w 187200"/>
              <a:gd name="textAreaRight" fmla="*/ 144720 w 1872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96960" y="4565520"/>
            <a:ext cx="187560" cy="158760"/>
          </a:xfrm>
          <a:custGeom>
            <a:avLst/>
            <a:gdLst>
              <a:gd name="textAreaLeft" fmla="*/ 42840 w 187560"/>
              <a:gd name="textAreaRight" fmla="*/ 144720 w 18756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1000" y="3213000"/>
            <a:ext cx="187200" cy="158760"/>
          </a:xfrm>
          <a:custGeom>
            <a:avLst/>
            <a:gdLst>
              <a:gd name="textAreaLeft" fmla="*/ 42480 w 187200"/>
              <a:gd name="textAreaRight" fmla="*/ 144720 w 1872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73280" y="5232240"/>
            <a:ext cx="187200" cy="158760"/>
          </a:xfrm>
          <a:custGeom>
            <a:avLst/>
            <a:gdLst>
              <a:gd name="textAreaLeft" fmla="*/ 42480 w 187200"/>
              <a:gd name="textAreaRight" fmla="*/ 144720 w 1872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11320" y="5365800"/>
            <a:ext cx="187560" cy="158760"/>
          </a:xfrm>
          <a:custGeom>
            <a:avLst/>
            <a:gdLst>
              <a:gd name="textAreaLeft" fmla="*/ 42840 w 187560"/>
              <a:gd name="textAreaRight" fmla="*/ 144720 w 18756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2600" y="4813200"/>
            <a:ext cx="187200" cy="158760"/>
          </a:xfrm>
          <a:custGeom>
            <a:avLst/>
            <a:gdLst>
              <a:gd name="textAreaLeft" fmla="*/ 42480 w 187200"/>
              <a:gd name="textAreaRight" fmla="*/ 144720 w 1872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44600" y="5537160"/>
            <a:ext cx="187560" cy="158760"/>
          </a:xfrm>
          <a:custGeom>
            <a:avLst/>
            <a:gdLst>
              <a:gd name="textAreaLeft" fmla="*/ 42840 w 187560"/>
              <a:gd name="textAreaRight" fmla="*/ 144720 w 18756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87720" y="4375080"/>
            <a:ext cx="187200" cy="158760"/>
          </a:xfrm>
          <a:custGeom>
            <a:avLst/>
            <a:gdLst>
              <a:gd name="textAreaLeft" fmla="*/ 42480 w 187200"/>
              <a:gd name="textAreaRight" fmla="*/ 144720 w 1872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343480" y="409680"/>
            <a:ext cx="3800520" cy="4076640"/>
            <a:chOff x="5343480" y="409680"/>
            <a:chExt cx="3800520" cy="4076640"/>
          </a:xfrm>
        </p:grpSpPr>
        <p:sp>
          <p:nvSpPr>
            <p:cNvPr id="236" name=""/>
            <p:cNvSpPr/>
            <p:nvPr/>
          </p:nvSpPr>
          <p:spPr>
            <a:xfrm flipV="1">
              <a:off x="5343480" y="3743280"/>
              <a:ext cx="542880" cy="743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5851440" y="409680"/>
              <a:ext cx="3292560" cy="3638880"/>
              <a:chOff x="5851440" y="409680"/>
              <a:chExt cx="3292560" cy="3638880"/>
            </a:xfrm>
          </p:grpSpPr>
          <p:sp>
            <p:nvSpPr>
              <p:cNvPr id="238" name=""/>
              <p:cNvSpPr/>
              <p:nvPr/>
            </p:nvSpPr>
            <p:spPr>
              <a:xfrm>
                <a:off x="7953480" y="1085760"/>
                <a:ext cx="790560" cy="44460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07120" y="1079640"/>
                <a:ext cx="787680" cy="44424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9440" y="1095480"/>
                <a:ext cx="788760" cy="44424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86480" y="1149480"/>
                <a:ext cx="355680" cy="304560"/>
              </a:xfrm>
              <a:prstGeom prst="ellipse">
                <a:avLst/>
              </a:prstGeom>
              <a:gradFill rotWithShape="0">
                <a:gsLst>
                  <a:gs pos="0">
                    <a:srgbClr val="f76681"/>
                  </a:gs>
                  <a:gs pos="100000">
                    <a:srgbClr val="491e2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78840" y="1155600"/>
                <a:ext cx="357120" cy="304920"/>
              </a:xfrm>
              <a:prstGeom prst="ellipse">
                <a:avLst/>
              </a:prstGeom>
              <a:gradFill rotWithShape="0">
                <a:gsLst>
                  <a:gs pos="0">
                    <a:srgbClr val="f76681"/>
                  </a:gs>
                  <a:gs pos="100000">
                    <a:srgbClr val="491e2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80280" y="2600280"/>
                <a:ext cx="493560" cy="419040"/>
              </a:xfrm>
              <a:prstGeom prst="ellipse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2b2b2b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42200" y="2698920"/>
                <a:ext cx="355680" cy="3045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7260840" y="1663560"/>
                <a:ext cx="508320" cy="399960"/>
              </a:xfrm>
              <a:prstGeom prst="rightArrow">
                <a:avLst>
                  <a:gd name="adj1" fmla="val 50000"/>
                  <a:gd name="adj2" fmla="val 63552"/>
                </a:avLst>
              </a:pr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09000" y="211140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29520" y="237816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86720" y="239076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94480" y="2238480"/>
                <a:ext cx="187560" cy="158760"/>
              </a:xfrm>
              <a:custGeom>
                <a:avLst/>
                <a:gdLst>
                  <a:gd name="textAreaLeft" fmla="*/ 42840 w 187560"/>
                  <a:gd name="textAreaRight" fmla="*/ 144720 w 18756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343640" y="1149480"/>
                <a:ext cx="357480" cy="3045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85240" y="409680"/>
                <a:ext cx="188640" cy="158760"/>
              </a:xfrm>
              <a:custGeom>
                <a:avLst/>
                <a:gdLst>
                  <a:gd name="textAreaLeft" fmla="*/ 42840 w 188640"/>
                  <a:gd name="textAreaRight" fmla="*/ 145800 w 18864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07440" y="531720"/>
                <a:ext cx="10155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9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9257"/>
                  </a:path>
                </a:pathLst>
              </a:custGeom>
              <a:noFill/>
              <a:ln cap="rnd"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51440" y="3344760"/>
                <a:ext cx="3292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f5f5f"/>
                    </a:solidFill>
                    <a:latin typeface="Arial"/>
                  </a:rPr>
                  <a:t>Réactivation :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5f5f5f"/>
                    </a:solidFill>
                    <a:latin typeface="Arial"/>
                  </a:rPr>
                  <a:t>gènes du cycle lytiqu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67760" y="188928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75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25000" y="514440"/>
                <a:ext cx="722160" cy="1162080"/>
              </a:xfrm>
              <a:custGeom>
                <a:avLst/>
                <a:gdLst/>
                <a:ahLst/>
                <a:rect l="l" t="t" r="r" b="b"/>
                <a:pathLst>
                  <a:path w="455" h="732">
                    <a:moveTo>
                      <a:pt x="0" y="0"/>
                    </a:moveTo>
                    <a:cubicBezTo>
                      <a:pt x="10" y="1"/>
                      <a:pt x="165" y="2"/>
                      <a:pt x="216" y="24"/>
                    </a:cubicBezTo>
                    <a:cubicBezTo>
                      <a:pt x="241" y="35"/>
                      <a:pt x="265" y="47"/>
                      <a:pt x="288" y="60"/>
                    </a:cubicBezTo>
                    <a:cubicBezTo>
                      <a:pt x="313" y="74"/>
                      <a:pt x="360" y="108"/>
                      <a:pt x="360" y="108"/>
                    </a:cubicBezTo>
                    <a:cubicBezTo>
                      <a:pt x="384" y="144"/>
                      <a:pt x="396" y="180"/>
                      <a:pt x="420" y="216"/>
                    </a:cubicBezTo>
                    <a:cubicBezTo>
                      <a:pt x="455" y="392"/>
                      <a:pt x="444" y="546"/>
                      <a:pt x="444" y="732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8744040" y="1657440"/>
                <a:ext cx="28584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157600" y="233532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f5f5f"/>
                    </a:solidFill>
                    <a:latin typeface="Arial"/>
                  </a:rPr>
                  <a:t>LB naïf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58080" y="262260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34360" y="275580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481960" y="2146320"/>
                <a:ext cx="187200" cy="158760"/>
              </a:xfrm>
              <a:custGeom>
                <a:avLst/>
                <a:gdLst>
                  <a:gd name="textAreaLeft" fmla="*/ 42480 w 187200"/>
                  <a:gd name="textAreaRight" fmla="*/ 144720 w 187200"/>
                  <a:gd name="textAreaTop" fmla="*/ 36000 h 158760"/>
                  <a:gd name="textAreaBottom" fmla="*/ 122760 h 15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ae85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5334120" y="4457880"/>
            <a:ext cx="3809880" cy="2400120"/>
            <a:chOff x="5334120" y="4457880"/>
            <a:chExt cx="3809880" cy="2400120"/>
          </a:xfrm>
        </p:grpSpPr>
        <p:sp>
          <p:nvSpPr>
            <p:cNvPr id="262" name=""/>
            <p:cNvSpPr/>
            <p:nvPr/>
          </p:nvSpPr>
          <p:spPr>
            <a:xfrm>
              <a:off x="5334120" y="4457880"/>
              <a:ext cx="77148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35680" y="4498920"/>
              <a:ext cx="320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5f5f5f"/>
                  </a:solidFill>
                  <a:latin typeface="Arial"/>
                </a:rPr>
                <a:t>Lymphoprolifération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5f5f5f"/>
                  </a:solidFill>
                  <a:latin typeface="Arial"/>
                </a:rPr>
                <a:t>gènes de latence I,II,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78800" y="547200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31040" y="535788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35680" y="59864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31080" y="562464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3360" y="577692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02720" y="541512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78720" y="57387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21480" y="604368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64560" y="5815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31120" y="583416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78760" y="632448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07320" y="608184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81720" y="5937120"/>
              <a:ext cx="187560" cy="158760"/>
            </a:xfrm>
            <a:custGeom>
              <a:avLst/>
              <a:gdLst>
                <a:gd name="textAreaLeft" fmla="*/ 42840 w 187560"/>
                <a:gd name="textAreaRight" fmla="*/ 144720 w 18756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82000" y="5899320"/>
              <a:ext cx="187200" cy="158760"/>
            </a:xfrm>
            <a:custGeom>
              <a:avLst/>
              <a:gdLst>
                <a:gd name="textAreaLeft" fmla="*/ 42480 w 187200"/>
                <a:gd name="textAreaRight" fmla="*/ 144720 w 18720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81720" y="6470640"/>
              <a:ext cx="187560" cy="158760"/>
            </a:xfrm>
            <a:custGeom>
              <a:avLst/>
              <a:gdLst>
                <a:gd name="textAreaLeft" fmla="*/ 42840 w 187560"/>
                <a:gd name="textAreaRight" fmla="*/ 144720 w 18756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9400" y="5518080"/>
              <a:ext cx="187560" cy="158760"/>
            </a:xfrm>
            <a:custGeom>
              <a:avLst/>
              <a:gdLst>
                <a:gd name="textAreaLeft" fmla="*/ 42840 w 187560"/>
                <a:gd name="textAreaRight" fmla="*/ 144720 w 187560"/>
                <a:gd name="textAreaTop" fmla="*/ 36000 h 158760"/>
                <a:gd name="textAreaBottom" fmla="*/ 12276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e85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341360" y="1089000"/>
            <a:ext cx="785880" cy="444600"/>
          </a:xfrm>
          <a:prstGeom prst="octagon">
            <a:avLst>
              <a:gd name="adj" fmla="val 29282"/>
            </a:avLst>
          </a:prstGeom>
          <a:gradFill rotWithShape="0">
            <a:gsLst>
              <a:gs pos="0">
                <a:srgbClr val="ffffff"/>
              </a:gs>
              <a:gs pos="100000">
                <a:srgbClr val="4b4b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63840" y="1158840"/>
            <a:ext cx="355320" cy="3049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09840" y="1158840"/>
            <a:ext cx="355680" cy="304920"/>
          </a:xfrm>
          <a:prstGeom prst="ellipse">
            <a:avLst/>
          </a:prstGeom>
          <a:gradFill rotWithShape="0">
            <a:gsLst>
              <a:gs pos="0">
                <a:srgbClr val="f76681"/>
              </a:gs>
              <a:gs pos="100000">
                <a:srgbClr val="491e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9280" y="1146240"/>
            <a:ext cx="355320" cy="304560"/>
          </a:xfrm>
          <a:prstGeom prst="ellipse">
            <a:avLst/>
          </a:prstGeom>
          <a:gradFill rotWithShape="0">
            <a:gsLst>
              <a:gs pos="0">
                <a:srgbClr val="f76681"/>
              </a:gs>
              <a:gs pos="100000">
                <a:srgbClr val="491e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rot="16200000">
            <a:off x="1481760" y="1724760"/>
            <a:ext cx="507960" cy="398160"/>
          </a:xfrm>
          <a:prstGeom prst="rightArrow">
            <a:avLst>
              <a:gd name="adj1" fmla="val 50000"/>
              <a:gd name="adj2" fmla="val 63794"/>
            </a:avLst>
          </a:pr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98600" y="2082960"/>
            <a:ext cx="189000" cy="158760"/>
          </a:xfrm>
          <a:custGeom>
            <a:avLst/>
            <a:gdLst>
              <a:gd name="textAreaLeft" fmla="*/ 43200 w 189000"/>
              <a:gd name="textAreaRight" fmla="*/ 145800 w 1890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49440" y="2311560"/>
            <a:ext cx="187200" cy="158760"/>
          </a:xfrm>
          <a:custGeom>
            <a:avLst/>
            <a:gdLst>
              <a:gd name="textAreaLeft" fmla="*/ 42480 w 187200"/>
              <a:gd name="textAreaRight" fmla="*/ 144720 w 1872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47960" y="2336760"/>
            <a:ext cx="187200" cy="158760"/>
          </a:xfrm>
          <a:custGeom>
            <a:avLst/>
            <a:gdLst>
              <a:gd name="textAreaLeft" fmla="*/ 42480 w 187200"/>
              <a:gd name="textAreaRight" fmla="*/ 144720 w 1872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2197080"/>
            <a:ext cx="187200" cy="158760"/>
          </a:xfrm>
          <a:custGeom>
            <a:avLst/>
            <a:gdLst>
              <a:gd name="textAreaLeft" fmla="*/ 42480 w 187200"/>
              <a:gd name="textAreaRight" fmla="*/ 144720 w 187200"/>
              <a:gd name="textAreaTop" fmla="*/ 36000 h 158760"/>
              <a:gd name="textAreaBottom" fmla="*/ 12276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e8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760" y="1143000"/>
            <a:ext cx="2762280" cy="2724120"/>
          </a:xfrm>
          <a:prstGeom prst="ellipse">
            <a:avLst/>
          </a:prstGeom>
          <a:solidFill>
            <a:srgbClr val="00006a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ycle lytique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ossible d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asm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3638520"/>
            <a:ext cx="2647800" cy="2495520"/>
          </a:xfrm>
          <a:prstGeom prst="ellipse">
            <a:avLst/>
          </a:prstGeom>
          <a:solidFill>
            <a:srgbClr val="00006a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/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81760" y="1028880"/>
            <a:ext cx="2705040" cy="2666880"/>
          </a:xfrm>
          <a:prstGeom prst="ellipse">
            <a:avLst/>
          </a:prstGeom>
          <a:solidFill>
            <a:srgbClr val="00006a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éac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ycle lytique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ossible d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asm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62640" y="4191120"/>
            <a:ext cx="2514600" cy="2438280"/>
          </a:xfrm>
          <a:prstGeom prst="ellipse">
            <a:avLst/>
          </a:prstGeom>
          <a:solidFill>
            <a:srgbClr val="00006a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ymph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lifé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(cycle de latence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viru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ns cellul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9240" y="228600"/>
            <a:ext cx="8753400" cy="459720"/>
          </a:xfrm>
          <a:prstGeom prst="rect">
            <a:avLst/>
          </a:prstGeom>
          <a:solidFill>
            <a:srgbClr val="00006a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d peut-on voir une élévation de la charge virale EB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406520" y="334800"/>
            <a:ext cx="62229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Site de latence de l’E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 u="sng">
                <a:solidFill>
                  <a:srgbClr val="ffcc00"/>
                </a:solidFill>
                <a:uFillTx/>
                <a:latin typeface="Arial"/>
              </a:rPr>
              <a:t>dans le sang périphér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Lymphocyte B mémoire = LB CD27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040" y="6521400"/>
            <a:ext cx="88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Wagner </a:t>
            </a: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HJ;  J Clin Microbiol, 1992, 30(11):2826-9 ; </a:t>
            </a: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Miyashita </a:t>
            </a: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EM; 1995 Cell, 80(4):593-6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73000" y="3119400"/>
            <a:ext cx="7718400" cy="1233720"/>
          </a:xfrm>
          <a:prstGeom prst="rect">
            <a:avLst/>
          </a:prstGeom>
          <a:noFill/>
          <a:ln w="93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chez le sujet sain EBV+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1 - 50 copies d’EBV / 10</a:t>
            </a:r>
            <a:r>
              <a:rPr b="1" lang="fr-FR" sz="2000" spc="-1" strike="noStrike" baseline="30000">
                <a:solidFill>
                  <a:srgbClr val="ffffff"/>
                </a:solidFill>
                <a:latin typeface="New York"/>
              </a:rPr>
              <a:t>6 </a:t>
            </a:r>
            <a:r>
              <a:rPr b="1" lang="fr-FR" sz="2000" spc="-1" strike="noStrike">
                <a:solidFill>
                  <a:srgbClr val="ffffff"/>
                </a:solidFill>
                <a:latin typeface="New York"/>
              </a:rPr>
              <a:t>lymphocytes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épisomal dans noyau (5 – 500 épisomes / cellule infecté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19720" y="16383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00" y="4816440"/>
            <a:ext cx="88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N EBV souvent non quantifiable en périphéri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(50-7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4019400"/>
            <a:ext cx="457200" cy="800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24080" y="876240"/>
            <a:ext cx="21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New York"/>
              </a:rPr>
              <a:t>Primo-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70480" y="857160"/>
            <a:ext cx="16002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New York"/>
              </a:rPr>
              <a:t>La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3080" y="190440"/>
            <a:ext cx="8572320" cy="764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New York"/>
              </a:rPr>
              <a:t>Pouvoir pathogène de l’EBV: lympho et épithélio-prolifé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8120" y="2324160"/>
            <a:ext cx="1476360" cy="671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New York"/>
              </a:rPr>
              <a:t>Imm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New York"/>
              </a:rPr>
              <a:t>compé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3720" y="4660920"/>
            <a:ext cx="1462320" cy="720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New York"/>
              </a:rPr>
              <a:t>Imm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New York"/>
              </a:rPr>
              <a:t>déprim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6320" y="4159080"/>
            <a:ext cx="861048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7440" y="2673360"/>
            <a:ext cx="217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New York"/>
              </a:rPr>
              <a:t>+/- méningit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 Yor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New York"/>
              </a:rPr>
              <a:t>encéphal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New York"/>
              </a:rPr>
              <a:t>- Guillain Barré, </a:t>
            </a:r>
            <a:r>
              <a:rPr b="0" lang="fr-FR" sz="1200" spc="-1" strike="noStrike">
                <a:solidFill>
                  <a:srgbClr val="ffffff"/>
                </a:solidFill>
                <a:latin typeface="New York"/>
              </a:rPr>
              <a:t>(encéph) myelo radiculit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17680" y="1754280"/>
            <a:ext cx="2243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New York"/>
              </a:rPr>
              <a:t>Infections inappar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24240" y="2021040"/>
            <a:ext cx="459576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Lymphome de Burkitt (BL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Carcinome nasopharyngé (N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Maladie de Hodgkin (10-90% EB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Lymphome B non Hodgkinien (LMNH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Lymphome T et 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i="1" lang="fr-FR" sz="1800" spc="-1" strike="noStrike">
                <a:solidFill>
                  <a:srgbClr val="ffffff"/>
                </a:solidFill>
                <a:latin typeface="New York"/>
              </a:rPr>
              <a:t>Carcinome gastri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i="1" lang="fr-FR" sz="1600" spc="-1" strike="noStrike">
                <a:solidFill>
                  <a:srgbClr val="ffffff"/>
                </a:solidFill>
                <a:latin typeface="New York"/>
              </a:rPr>
              <a:t>Carcinome pulmonaire (mammaire ?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05160" y="1531800"/>
            <a:ext cx="3757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New York"/>
              </a:rPr>
              <a:t>Réactivations inappar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74920" y="4946760"/>
            <a:ext cx="16257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Syndrome de Purtilo (XL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86080" y="4227480"/>
            <a:ext cx="472932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New Y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ecff"/>
                </a:solidFill>
                <a:latin typeface="New York"/>
              </a:rPr>
              <a:t> </a:t>
            </a:r>
            <a:r>
              <a:rPr b="1" lang="fr-FR" sz="2000" spc="-1" strike="noStrike">
                <a:solidFill>
                  <a:srgbClr val="ccecff"/>
                </a:solidFill>
                <a:latin typeface="New York"/>
              </a:rPr>
              <a:t>lymphome de l’immunodéprim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fr-FR" sz="20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New York"/>
              </a:rPr>
              <a:t>Post greffe : PT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New York"/>
              </a:rPr>
              <a:t>Infection HI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New York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New York"/>
              </a:rPr>
              <a:t>(</a:t>
            </a:r>
            <a:r>
              <a:rPr b="0" lang="fr-FR" sz="1600" spc="-1" strike="noStrike">
                <a:solidFill>
                  <a:srgbClr val="ffffff"/>
                </a:solidFill>
                <a:latin typeface="New York"/>
              </a:rPr>
              <a:t>LMNH; lymph cérébral primitif; Hodgk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New York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New York"/>
              </a:rPr>
              <a:t>Autres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5000"/>
              </a:lnSpc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Léiomyosar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• </a:t>
            </a:r>
            <a:r>
              <a:rPr b="0" lang="fr-FR" sz="1800" spc="-1" strike="noStrike">
                <a:solidFill>
                  <a:srgbClr val="ffffff"/>
                </a:solidFill>
                <a:latin typeface="New York"/>
              </a:rPr>
              <a:t>Leucoplasie orale cheve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7680" y="5821200"/>
            <a:ext cx="19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New York"/>
              </a:rPr>
              <a:t>Surtout greffes et infection H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28760" y="1276200"/>
            <a:ext cx="6477120" cy="52959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72040" y="1314360"/>
            <a:ext cx="0" cy="51818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724440" y="474336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0880" y="1376280"/>
            <a:ext cx="8534520" cy="5041080"/>
          </a:xfrm>
          <a:prstGeom prst="rect">
            <a:avLst/>
          </a:prstGeom>
          <a:noFill/>
          <a:ln w="9360">
            <a:solidFill>
              <a:srgbClr val="c1f8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 hétérogène de prolif lymphoïdes anormales (prolif B par déficit 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aggrégats lymphoïdes - prolif polyclonale -  lymp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60- 90% EBV-indui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de - en - EBV et de - en – B avec tem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munosuppression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éficit CTL spécifiques de l’EB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incidence 1- 30%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; dépend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gan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intestin: 20-31%; poumon 4-12%; cœur 2-10%;  foie 2-13%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in 1-9%; moelle 1-2% (sauf T-depleted = 24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ype et intensité IS   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déplétion T </a:t>
            </a:r>
            <a:r>
              <a:rPr b="0" lang="fr-FR" sz="1600" spc="-1" strike="noStrike">
                <a:solidFill>
                  <a:srgbClr val="ffffff"/>
                </a:solidFill>
                <a:latin typeface="Wingdings 3"/>
                <a:ea typeface="Wingdings 3"/>
              </a:rPr>
              <a:t>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risque OKT3; AT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atut immunitaire D/R 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D EBV+ / R EBV- : risque PTLD x 7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89000" y="228600"/>
            <a:ext cx="73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Arial"/>
              </a:rPr>
              <a:t>PTLD (lymphoproliférations post greffe): quid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86640" y="942840"/>
            <a:ext cx="51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post transplant lymphoproliferative disorder</a:t>
            </a:r>
            <a:r>
              <a:rPr b="1" lang="fr-FR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1800" y="66628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3160" y="6570720"/>
            <a:ext cx="24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Lim Nephrology 2006; 11:355-36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6"/>
            </a:gs>
            <a:gs pos="50000">
              <a:srgbClr val="110153"/>
            </a:gs>
            <a:gs pos="100000">
              <a:srgbClr val="0700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0880" y="709560"/>
            <a:ext cx="8534520" cy="5581080"/>
          </a:xfrm>
          <a:prstGeom prst="rect">
            <a:avLst/>
          </a:prstGeom>
          <a:noFill/>
          <a:ln w="9360">
            <a:solidFill>
              <a:srgbClr val="c1f8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diane survenue PTLD : 1 semaine à 9 ans après transplant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OT = 6 mois  (40-70% décès) et HCT = 3 mois (90% décè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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rait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ccecff"/>
                </a:solidFill>
                <a:latin typeface="Arial"/>
              </a:rPr>
              <a:t>Traitement portant sur les cellule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- diminuer l’immunosup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- immunothérapie adoptive : transfert de CT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ccecff"/>
                </a:solidFill>
                <a:latin typeface="Arial"/>
              </a:rPr>
              <a:t>Traitement portant sur les cellules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- rituximab (anti CD20)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himiothéra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hirurgie; radiothéra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ccecff"/>
                </a:solidFill>
                <a:latin typeface="Arial"/>
              </a:rPr>
              <a:t>autres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FN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; Ac anti IL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ntiviraux arginine butyrate/fosca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ellules dendritiques (dériv monocy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89000" y="76320"/>
            <a:ext cx="73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ecff"/>
                </a:solidFill>
                <a:latin typeface="Arial"/>
              </a:rPr>
              <a:t>PTLD (lymphoproliférations post greffe): su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3160" y="6570720"/>
            <a:ext cx="24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Lim Nephrology 2006; 11:355-36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0:02:52Z</dcterms:created>
  <dc:creator>AMIEL-WELKER CORINNE</dc:creator>
  <dc:description/>
  <dc:language>en-US</dc:language>
  <cp:lastModifiedBy>amiel</cp:lastModifiedBy>
  <dcterms:modified xsi:type="dcterms:W3CDTF">2006-11-28T09:00:08Z</dcterms:modified>
  <cp:revision>438</cp:revision>
  <dc:subject/>
  <dc:title>Diapositive 1</dc:title>
</cp:coreProperties>
</file>