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885-097A-4D2E-AE4A-3E1BAD8D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1104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C7D-E7B9-417D-95EB-D9770B0E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110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9110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11D-7C53-4356-ADE5-B3BCE1AB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0526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10526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110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9110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91104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AF2-17BB-4753-854D-4978336C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102-7B22-427B-B07D-18DB983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945-FAAF-4394-8648-5EA4A9A8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05264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4BD-FEE6-4C08-BD6B-D649D78F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29D-30F2-4E77-AF46-2611948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0"/>
            <a:ext cx="77979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CFE-277A-4F70-B246-40547AE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05264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110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3CC-205E-45F3-883F-2A351CF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9110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56E-A3B0-45AA-9787-09FF143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05264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1104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30E-421F-40F9-A7DD-6A9C71F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696-272F-482D-BD30-A08D601B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0113" t="17281" r="18446" b="14830"/>
          <a:stretch/>
        </p:blipFill>
        <p:spPr>
          <a:xfrm>
            <a:off x="0" y="0"/>
            <a:ext cx="1116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stion d’un risque transfusionnel émergent : exemple du virus Chikungunya</a:t>
            </a:r>
            <a:br>
              <a:rPr sz="4000"/>
            </a:br>
            <a:br>
              <a:rPr sz="32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odélisation du risque transfusionn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084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333399"/>
                </a:solidFill>
                <a:latin typeface="Arial"/>
              </a:rPr>
              <a:t>Cécile Brouard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pour le groupe de travail Afssaps, EFS, INTS, InVS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« Estimation quantitative du risque de contamination d’un don de sang par des agents infectieux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0113" t="17281" r="18446" b="14830"/>
          <a:stretch/>
        </p:blipFill>
        <p:spPr>
          <a:xfrm>
            <a:off x="0" y="0"/>
            <a:ext cx="111600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6165720"/>
            <a:ext cx="828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ème colloque de Virologie de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8 novembre 2006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éfinition de c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èvre &gt; 38,5°C de début bru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leurs articulaires incapacit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'absence de tout autre point d'appel infec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33120"/>
            <a:ext cx="738828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e fin janvier 200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20 janvier 2006 : EFS : arrêt collecte concentrés de globules rouges (CGR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Dépistage génomique viral (DGV) par RT-PCR sur dons de plaquettes (+inactivation des pathogène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InVS : Estimation du risque de contamination d’un don de sa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32000" y="2565360"/>
            <a:ext cx="6192720" cy="4248000"/>
            <a:chOff x="1332000" y="2565360"/>
            <a:chExt cx="6192720" cy="4248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332000" y="2574720"/>
              <a:ext cx="619272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954840" y="2565360"/>
              <a:ext cx="0" cy="625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236000" y="658332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0200" y="6568920"/>
            <a:ext cx="4106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ines de début des symptô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58560" y="4869000"/>
            <a:ext cx="878508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sympto =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rtion de formes sympto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sympto =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rée moyenne virémie asymptomatique chez les sympto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sympto =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rée moyenne virémie chez les asympto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00000" y="71280"/>
            <a:ext cx="82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éthode d’estimation du risque moyen de contamination d’un don*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6760" y="3589200"/>
                <a:ext cx="8337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sque moyen 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pto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pt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pt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ympt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rée de l'épidémie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Incidenc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61437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Méthode approximative de Biggerstaff et al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ggerstaff B., Petersen L.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risk of West Nile Virus transmission through blood transfusion in the US, 200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Transfusion, vol 43, 1007, August 2003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0" y="1341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que moy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12536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Probabilité de prélever un donneur infecté un jour où il est virémique (et asymptomatique)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1484280"/>
            <a:ext cx="3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1268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sque d’être infecté au cours de l’épid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3211560"/>
            <a:ext cx="4608720" cy="1512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494080"/>
            <a:ext cx="432000" cy="647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3716280"/>
            <a:ext cx="1512720" cy="7207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27640" y="2349360"/>
            <a:ext cx="144360" cy="1295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0872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1773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34136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7280" y="1773360"/>
            <a:ext cx="100980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1280" y="1341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de contamination d’un don de sang par le Chikunguny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6597720"/>
            <a:ext cx="4106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ines de début des symptô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résentation des paramètres et données disponibles fin janvier 200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6266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Paramè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de formes asymptomatiques : 2 hypothè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èse basse :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ypothèse haute :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rée virémie avant symptômes chez les symptomatiques :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1,5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rée virémie chez les asymptomatiques :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,5 jour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Donn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on du nombre de c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riode 1 :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6 500 cas / 266 jour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riode 2 :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25 000 / 35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lle population d’étude :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57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6521400"/>
            <a:ext cx="47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Données fournies par la Cire Réunion-Mayo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30872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73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34136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7280" y="1773360"/>
            <a:ext cx="100980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1280" y="1341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de contamination d’un don de sang par le Chikunguny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1025640"/>
            <a:ext cx="5761080" cy="583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- période 1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8/03/2005-18/12/2005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88840"/>
          <a:ext cx="6300720" cy="5464440"/>
        </p:xfrm>
        <a:graphic>
          <a:graphicData uri="http://schemas.openxmlformats.org/drawingml/2006/table">
            <a:tbl>
              <a:tblPr/>
              <a:tblGrid>
                <a:gridCol w="2963880"/>
                <a:gridCol w="1668600"/>
                <a:gridCol w="1668240"/>
              </a:tblGrid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in janvi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b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ha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émi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cas détec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personnes infect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de l’infection (/100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que /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IC 95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-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-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isque/nb dons collec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/12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8/12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059280" y="5734080"/>
            <a:ext cx="3097080" cy="430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30872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773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134136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7280" y="1773360"/>
            <a:ext cx="100980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1280" y="1341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de contamination d’un don de sang par le Chikunguny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765000"/>
            <a:ext cx="2124000" cy="583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- période 2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9/12/2005-22/01/2006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888840"/>
          <a:ext cx="6300720" cy="5464440"/>
        </p:xfrm>
        <a:graphic>
          <a:graphicData uri="http://schemas.openxmlformats.org/drawingml/2006/table">
            <a:tbl>
              <a:tblPr/>
              <a:tblGrid>
                <a:gridCol w="2963880"/>
                <a:gridCol w="1668600"/>
                <a:gridCol w="1668240"/>
              </a:tblGrid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in janvi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b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ha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émi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cas détec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personnes infect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de l’infection (/100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que /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IC 95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-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-18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isque/nb dons collec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/1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9/1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132000" y="3141720"/>
            <a:ext cx="129564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141720"/>
            <a:ext cx="129528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3573360"/>
            <a:ext cx="129564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3573360"/>
            <a:ext cx="129528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5734080"/>
            <a:ext cx="3097080" cy="430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ion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a posterior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ées d’incidence consoli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 de formes asymptomati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quête de séroprévalence Réunion (F. Favi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6 %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formes asymptoma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ées de virémie asymptomatique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e ch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stimations </a:t>
            </a:r>
            <a:r>
              <a:rPr b="0" i="1" lang="en-US" sz="3000" spc="-1" strike="noStrike">
                <a:solidFill>
                  <a:srgbClr val="333399"/>
                </a:solidFill>
                <a:latin typeface="Arial"/>
              </a:rPr>
              <a:t>a posteri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positif de veille sanitair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125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907920"/>
            <a:ext cx="0" cy="1081080"/>
          </a:xfrm>
          <a:prstGeom prst="line">
            <a:avLst/>
          </a:prstGeom>
          <a:ln w="88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98900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étection de cas group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448452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isque accr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363060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Alerte des partenaires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ssaps, EFS, EFG, CTSA, 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5022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tification du risqu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he multidiscipl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26780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 agent transmissible par le 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563920"/>
            <a:ext cx="0" cy="1081080"/>
          </a:xfrm>
          <a:prstGeom prst="line">
            <a:avLst/>
          </a:prstGeom>
          <a:ln w="88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4292640"/>
            <a:ext cx="0" cy="1081080"/>
          </a:xfrm>
          <a:prstGeom prst="line">
            <a:avLst/>
          </a:prstGeom>
          <a:ln w="88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30872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1773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134136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7280" y="1773360"/>
            <a:ext cx="100980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1280" y="1341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de contamination d’un don de sang par le Chikunguny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025640"/>
            <a:ext cx="5761080" cy="583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- période 1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8/03/2005-18/12/2005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88840"/>
          <a:ext cx="6300720" cy="5464440"/>
        </p:xfrm>
        <a:graphic>
          <a:graphicData uri="http://schemas.openxmlformats.org/drawingml/2006/table">
            <a:tbl>
              <a:tblPr/>
              <a:tblGrid>
                <a:gridCol w="2963880"/>
                <a:gridCol w="1668600"/>
                <a:gridCol w="1668240"/>
              </a:tblGrid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in janvi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b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ha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émi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cas détec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personnes infect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de l’infection (/100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que /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IC 95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-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-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isque/nb dons collec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/12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8/12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410160" y="907920"/>
          <a:ext cx="2122560" cy="5434200"/>
        </p:xfrm>
        <a:graphic>
          <a:graphicData uri="http://schemas.openxmlformats.org/drawingml/2006/table">
            <a:tbl>
              <a:tblPr/>
              <a:tblGrid>
                <a:gridCol w="212256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 posteri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-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0,9/12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04000" y="1773360"/>
            <a:ext cx="1295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3573360"/>
            <a:ext cx="129528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4005360"/>
            <a:ext cx="1295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5661000"/>
            <a:ext cx="1584360" cy="504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30872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1773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134136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1773360"/>
            <a:ext cx="100980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91280" y="1341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00"/>
                </a:solidFill>
                <a:latin typeface="Arial"/>
              </a:rPr>
              <a:t>Pério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de contamination d’un don de sang par le Chikunguny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765000"/>
            <a:ext cx="2124000" cy="583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timation du risque - période 2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9/12/2005-22/01/2006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888840"/>
          <a:ext cx="6300720" cy="5464440"/>
        </p:xfrm>
        <a:graphic>
          <a:graphicData uri="http://schemas.openxmlformats.org/drawingml/2006/table">
            <a:tbl>
              <a:tblPr/>
              <a:tblGrid>
                <a:gridCol w="2963880"/>
                <a:gridCol w="1668600"/>
                <a:gridCol w="1668240"/>
              </a:tblGrid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in janvi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b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 ha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émi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o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cas détec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 personnes infect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de l’infection (/100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que /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IC 95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-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-18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isque/nb dons collec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/1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9/1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10160" y="907920"/>
          <a:ext cx="2122560" cy="5434200"/>
        </p:xfrm>
        <a:graphic>
          <a:graphicData uri="http://schemas.openxmlformats.org/drawingml/2006/table">
            <a:tbl>
              <a:tblPr/>
              <a:tblGrid>
                <a:gridCol w="212256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 posteri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-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/1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804000" y="1773360"/>
            <a:ext cx="1295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3573360"/>
            <a:ext cx="129528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4005360"/>
            <a:ext cx="1295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5661000"/>
            <a:ext cx="1584360" cy="504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ion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a posterior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181080" y="1463760"/>
          <a:ext cx="9001080" cy="57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463760"/>
                    <a:ext cx="900108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V="1">
            <a:off x="1258920" y="1339560"/>
            <a:ext cx="0" cy="475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84720" y="1413000"/>
            <a:ext cx="0" cy="47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732720" y="1413000"/>
            <a:ext cx="0" cy="47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2060640"/>
            <a:ext cx="3960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 dons contaminés / 14 450 d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45 000 personnes infect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2280"/>
            <a:ext cx="3960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 dons contaminés / 1940 d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80 000 personnes infect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1844640"/>
            <a:ext cx="2160720" cy="15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7 dons contaminés / 5730 d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60 000 personnes infect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ions a posterior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-181080" y="1463760"/>
          <a:ext cx="9001080" cy="57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463760"/>
                    <a:ext cx="900108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 flipV="1">
            <a:off x="1258920" y="1339560"/>
            <a:ext cx="0" cy="475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084720" y="2924280"/>
            <a:ext cx="0" cy="324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2060640"/>
            <a:ext cx="3960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5 dons contaminés / 14 450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5 000 personnes infect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1557360"/>
            <a:ext cx="2160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8 dons contaminés / 7670 d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40 000 personnes infec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4720" y="1413000"/>
            <a:ext cx="0" cy="1224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98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rrêt collecte C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ions a posterior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181080" y="1463760"/>
          <a:ext cx="9001080" cy="57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463760"/>
                    <a:ext cx="900108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V="1">
            <a:off x="1258920" y="1844280"/>
            <a:ext cx="0" cy="424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084720" y="1989000"/>
            <a:ext cx="0" cy="417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060640"/>
            <a:ext cx="3960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5 dons contaminés / 14 450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5 000 personnes infect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060640"/>
            <a:ext cx="25210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28 dons contaminés / 7670 d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40 000 personnes infect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907920"/>
            <a:ext cx="7236000" cy="923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3 dons contaminés / 22 120 d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85 000 personnes inf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91640" y="115920"/>
            <a:ext cx="83883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raison du risque observé et du risque estimé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ées observées : RT-PCR sur plaquettes entre fin janvier et mi-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dons positifs / 500 dons testés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,4% don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du risque de contamination d’un don pour la même pé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,54% don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638172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onnées communiquées par l’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560" y="127080"/>
            <a:ext cx="79218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8200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quête de séropréval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 d’asymptoma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ème de surveillanc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e en place rap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ne exhaustivité du système de surveillance (cohérence avec résultats de l’enquête de séropréval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éac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Estimations de risque en « temps réel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 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sque de contamination d’un don de sang et non risque d’infection chez le recev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acité des méthodes de traitement du sang, efficacité de 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, immunité du recev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s de ri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re de grandeur du risque de contamination d’un don de sang par le Chikungunya en « temps réel » en phase épidém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ne cohérence des estimations affinées et du risque observ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validation méthode / paramè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il d’aide à la décision dans un contexte d’ur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atique de l’acceptabilité du risque transfusi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72428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205240"/>
            <a:ext cx="45720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3 dons CGR potentiellement contaminés sur 22 000 d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ont 28 évités par mesures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4365720"/>
            <a:ext cx="57610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 mars 2005 à début juille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5013360"/>
            <a:ext cx="0" cy="172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24360" y="5376960"/>
            <a:ext cx="41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85 000 personnes infect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Groupe de travail Afssaps, EFS, INTS, InV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i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isque de contamination d’un don de sa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des agents infec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tion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 quantifie pas le risque d’infection chez le rece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n cas d’épidémie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ger rapidement de la nécessité de mettre en place des mesures de pré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er ces me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19280" y="2060640"/>
            <a:ext cx="69516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2589120"/>
            <a:ext cx="5181480" cy="673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ur différents agents infectieux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donnant lieu à un passage sanguin asymp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060640"/>
            <a:ext cx="76176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7240" y="2563920"/>
            <a:ext cx="3381480" cy="703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ur différents scénarii d’endémie e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’épid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erci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oupe de travail « risque de contamination d’un don de sang par des agents infectieux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ssaps : JF Legras, M Martin, W Oualikene, E Pouchol, I Sainte-M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S : A Assal, P Biagini, P de Micco, MH Elghouzzi, P Gallian, P Mo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S : S Lap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VS : P Bernillon, F Biton, I Capek, E Delarocque, H de Valk, D Jeannel, A Mailles, J Pillonel, I Quatresous, L Sanchez, N Schwarz, V Vail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ntre national de référence des arboviroses, Institut Pasteur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ntre national de référence des arboviroses, laboratoire associé, IMTSSA Marse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boratoire de microbiologie, hôpital de St Pierre, La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e Réunion-May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797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tapes de l’estimation du risque de contamination d’un d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7020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termination du modèle à utili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termination des paramètres du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scénarii de situations endémiques et épidémiques plau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du modèle aux différents scénarii développ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2060640"/>
            <a:ext cx="216000" cy="1728720"/>
          </a:xfrm>
          <a:custGeom>
            <a:avLst/>
            <a:gdLst>
              <a:gd name="textAreaLeft" fmla="*/ 0 w 216000"/>
              <a:gd name="textAreaRight" fmla="*/ 151560 w 21600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2205000"/>
            <a:ext cx="20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vue de la littérature et consultation d’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797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pidémie de Chikungunya à la Réunion, 2005-200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76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443700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que transfusionne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cation du ris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123480"/>
            <a:ext cx="73864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ppe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bovirus de la famille de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ogavirida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genre Alpha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marcher courbé en swah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cteur :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edes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egypti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, albopictus, polynesien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épidémie identifiée en Afrique de l’Est en 1952 (Tanza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aïlande (58-70)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mbodge (61-62) Vietnam(64), Myanmar, Sri Lanka(65), Calcutta (64), Madras(65-73), Indonésie (82-85-98), Philippines (54-56-68), Malaisie, Angola(70-71), RCA (78-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2720" y="85320"/>
            <a:ext cx="7388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bleau cliniqu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607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but bru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èvre élevée avec arthralgies invalidantes, myalgies, oedèmes, éruption cu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thralgies invalidantes parfois persi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olution connue pour être bén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itement symptomatique: 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agnostic : sérologie (apparition des IgM à J5), PCR, culture vi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4480" y="104760"/>
            <a:ext cx="8039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urbe épidémique avril 2005 - janvier 200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1009800"/>
            <a:ext cx="8497800" cy="594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95640" y="5516640"/>
            <a:ext cx="1800000" cy="288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465300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43700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500280"/>
            <a:ext cx="1511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gnalement épidémie Com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429264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95640" y="407628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07628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573360"/>
            <a:ext cx="208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Période inter-épidé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5516640"/>
            <a:ext cx="1512720" cy="288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4000" y="1700280"/>
            <a:ext cx="2160720" cy="424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0200" y="6600960"/>
            <a:ext cx="4106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ines de début des symptô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4480" y="33120"/>
            <a:ext cx="738828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ème de surveill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8893080" cy="622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201080" y="666900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ébut juill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0360" y="1196640"/>
            <a:ext cx="0" cy="5327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557360"/>
            <a:ext cx="525636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782640"/>
            <a:ext cx="5977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Recherche active et rétrospective des cas par LAV autour des cas signalés + médecins sentinel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0200" y="1557360"/>
            <a:ext cx="100944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51640" y="765000"/>
            <a:ext cx="151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Médecins sentinel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1480" y="6600960"/>
            <a:ext cx="41068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ines de début des symptô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6:20:45Z</dcterms:created>
  <dc:creator>CeB</dc:creator>
  <dc:description/>
  <dc:language>en-US</dc:language>
  <cp:lastModifiedBy>CeB</cp:lastModifiedBy>
  <dcterms:modified xsi:type="dcterms:W3CDTF">2006-11-27T10:36:14Z</dcterms:modified>
  <cp:revision>81</cp:revision>
  <dc:subject/>
  <dc:title>Gestion d’un risque transfusionnel émergent : exemple du virus Chikungunya Modélisation du risque transfusionnel</dc:title>
</cp:coreProperties>
</file>