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F66-AE26-4319-8A28-6627B63A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097-F12D-4FF1-92AA-6146496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926-ADCB-46C4-99FC-27D57E7A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2C3-8141-4D5B-9603-25C42F64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9DF-AC4E-4185-8A2A-1662ECC1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504-1046-4135-9A13-49A21D35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ABA-2DDB-4355-A558-4734D5C1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2B6-12AD-4A6E-9A1C-9709DD43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A35-814E-4A34-8337-22DB2E5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320-0933-49A1-9103-E73BA34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F6D-8CEE-40C3-BAC2-10CEF4E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B91-26C6-4382-B4C8-8592833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EF37-1E86-4C98-8985-A9F4C2EB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s.sante.fr/publications/2005/pandemie_grippale_170205/estimation_impact_pandemie_grippale.pdf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371600" cy="62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76360" y="5300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scal Mor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ablissement Français du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rgogne Franche Com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06064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esures préventives d’un risque transfusionnel émergent hypothéti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emple d’une pandémie grippa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 prév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onibilité des P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orité aux transport des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aide régionale et n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clusion des donneurs 15 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ntrés érythrocy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arantaine de 3 à 4 j des CGR (capacité de stock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roissement du stock minimum (à 17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EFS, développer un plan pour accroître de 20% les prélèvements sur 4 à 6 sema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ntrés de plaquettes (péremption 5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cation d’une quarantaine de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ude du déploiement de l’inactivation des pathogènes (Interce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smas thérapeu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tilisation de plasmas viro-atténué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72080" y="1628640"/>
            <a:ext cx="3351240" cy="417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35640" y="1557360"/>
            <a:ext cx="370836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4320" y="3213000"/>
            <a:ext cx="6247440" cy="19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rémie à influenza 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rement détectée en phase symp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tectée en phase pré-symptomatique et asymp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ection volontaire H2N2 10/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tanley &amp; Jackson Trans. Assoc. Am. Physicians. 19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A00-32AA-49F5-8060-23D27D776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43280" cy="273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456000" cy="24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3382920" cy="2503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03640" y="3933720"/>
            <a:ext cx="3384720" cy="264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21920" y="3645000"/>
            <a:ext cx="24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an Custer (AABB 2006 Miami Beac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9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 préven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2920" y="857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él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6DC-885E-498C-A3FA-D2C22E37EF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559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urité des P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is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visionnement en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mission : donneur-donneur, donneur-team, team- donneur, donneur –mal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a dispon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finition des collectes Préc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partition des collec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an d’accrois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duction négociée des besoins (avec les prescripte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ones de prélè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itères d’exclusion (sélection des donne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rantaine des prod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o-atténuation Priorité aux transport des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spectiv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5D4-EA4B-43E3-BDD6-500E9761C8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08360" y="6093000"/>
            <a:ext cx="1368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095720" cy="3009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343480" cy="82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27640" y="2654280"/>
            <a:ext cx="4716360" cy="4203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si la transfusion était la solu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00720" y="2421000"/>
            <a:ext cx="3024000" cy="1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C70-40DC-4168-898B-BDE7C0654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é d’une pandémie de grippe (3 à fois par siè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OMS demande à chaque pays de se doter d’un plan de lut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se en charge des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ures de pré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et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France, le plan existe depuis 1997* (remis à jour régulièrement) son bu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duire la transmission du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inuer le nombre de formes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impact d’une pandémie est réalisé par modé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96600" y="6553080"/>
            <a:ext cx="69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http://www.grippeaviaire.gouv.fr/IMG/pdf/Plan_pandemie_grippale_janvier_2006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111640" y="0"/>
            <a:ext cx="4032360" cy="3025800"/>
            <a:chOff x="5111640" y="0"/>
            <a:chExt cx="4032360" cy="3025800"/>
          </a:xfrm>
        </p:grpSpPr>
        <p:sp>
          <p:nvSpPr>
            <p:cNvPr id="51" name=""/>
            <p:cNvSpPr/>
            <p:nvPr/>
          </p:nvSpPr>
          <p:spPr>
            <a:xfrm>
              <a:off x="5111640" y="0"/>
              <a:ext cx="4032360" cy="3025800"/>
            </a:xfrm>
            <a:prstGeom prst="rect">
              <a:avLst/>
            </a:prstGeom>
            <a:solidFill>
              <a:srgbClr val="a5f9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116680" y="73080"/>
              <a:ext cx="3958560" cy="2902680"/>
              <a:chOff x="5116680" y="73080"/>
              <a:chExt cx="3958560" cy="2902680"/>
            </a:xfrm>
          </p:grpSpPr>
          <p:sp>
            <p:nvSpPr>
              <p:cNvPr id="53" name=""/>
              <p:cNvSpPr/>
              <p:nvPr/>
            </p:nvSpPr>
            <p:spPr>
              <a:xfrm>
                <a:off x="5116680" y="73080"/>
                <a:ext cx="39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stoire des pandémies à Influenz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66000" y="412920"/>
                <a:ext cx="160524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89   H2N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00   H3N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18   H1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57   H2N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68   H3N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77   H1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67280" y="1584360"/>
                <a:ext cx="73080" cy="1224000"/>
              </a:xfrm>
              <a:custGeom>
                <a:avLst/>
                <a:gdLst>
                  <a:gd name="textAreaLeft" fmla="*/ 0 w 73080"/>
                  <a:gd name="textAreaRight" fmla="*/ 51480 w 73080"/>
                  <a:gd name="textAreaTop" fmla="*/ 50760 h 1224000"/>
                  <a:gd name="textAreaBottom" fmla="*/ 117324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911640" y="1152360"/>
                <a:ext cx="73080" cy="1224000"/>
              </a:xfrm>
              <a:custGeom>
                <a:avLst/>
                <a:gdLst>
                  <a:gd name="textAreaLeft" fmla="*/ 0 w 73080"/>
                  <a:gd name="textAreaRight" fmla="*/ 51480 w 73080"/>
                  <a:gd name="textAreaTop" fmla="*/ 50760 h 1224000"/>
                  <a:gd name="textAreaBottom" fmla="*/ 117324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056360" y="720720"/>
                <a:ext cx="73080" cy="1224000"/>
              </a:xfrm>
              <a:custGeom>
                <a:avLst/>
                <a:gdLst>
                  <a:gd name="textAreaLeft" fmla="*/ 0 w 73080"/>
                  <a:gd name="textAreaRight" fmla="*/ 51480 w 73080"/>
                  <a:gd name="textAreaTop" fmla="*/ 50760 h 1224000"/>
                  <a:gd name="textAreaBottom" fmla="*/ 117324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202880" y="1368360"/>
                <a:ext cx="1533960" cy="15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« Espagnole 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« Asiatique 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« Hong Kong 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« Russe 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50920" y="333360"/>
            <a:ext cx="6659640" cy="6237360"/>
            <a:chOff x="250920" y="333360"/>
            <a:chExt cx="6659640" cy="6237360"/>
          </a:xfrm>
        </p:grpSpPr>
        <p:sp>
          <p:nvSpPr>
            <p:cNvPr id="60" name=""/>
            <p:cNvSpPr/>
            <p:nvPr/>
          </p:nvSpPr>
          <p:spPr>
            <a:xfrm>
              <a:off x="250920" y="333360"/>
              <a:ext cx="6659640" cy="6237360"/>
            </a:xfrm>
            <a:prstGeom prst="rect">
              <a:avLst/>
            </a:prstGeom>
            <a:solidFill>
              <a:srgbClr val="a5f9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2720" y="909720"/>
              <a:ext cx="65844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5N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ng K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9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9N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ng K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2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7N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rgi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3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5N1, H9N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ng K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7N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llan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7N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5N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aïlande, Vietnam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7N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10N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gyp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5    H5N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aïlande, Vietnam, Cambodg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onésie, Ch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6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5N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ie, Europe, Afr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1640" y="333360"/>
              <a:ext cx="518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ouches aviaires récemment identifié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lors d’infection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278-935C-49A7-B4E8-373DC1B396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sur la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élisatio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un modèle partag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des pandémies antérie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ant en comp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robabilité de réussite des stratégies de pré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onnées démograph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acteurs de ri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310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* Aoif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oyle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sabel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onmarin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anie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évy-Bruhl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Yan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trat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ean-Claud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senc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nvs.sante.fr/publications/2005/pandemie_grippale_170205/estimation_impact_pandemie_grippale.p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507672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32440" y="4005360"/>
            <a:ext cx="5011560" cy="180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360" y="41497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Etats 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5805360"/>
            <a:ext cx="24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an Custer (AABB 2006 Miami Beac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44A-33C9-429B-A365-28EE5B37D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sur la transf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act d’une pandémi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té des don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té des équipes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é de prélè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des Produits Sanguins (P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té des P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s rè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87640" y="1773360"/>
            <a:ext cx="5256360" cy="3487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63240" y="5229360"/>
            <a:ext cx="24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an Custer (AABB 2006 Miami Beac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F4A-E223-463D-B9BE-EF2B5527E9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sur la transf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niveaux d’action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cer la transfusion sanguine dans le dispositif d’alerte et comme activité prioritaire (« Task force 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tter contre la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quipes de l’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don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mal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tre les déplacements des équipes des donneurs et des Produits sangu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doter de la capacité d’accroî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quantité de d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tockage des Produits Sanguins (PS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érarchiser les indications (minimiser la transfusion programmé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7CE-BF94-4111-BF7D-C5E7A7EE1E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 prév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 géné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ircuit de l’al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3076920" cy="437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920" y="2565360"/>
            <a:ext cx="3543480" cy="247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5013360"/>
            <a:ext cx="3543120" cy="162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64000" y="4797360"/>
            <a:ext cx="2058840" cy="157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3357720"/>
            <a:ext cx="936720" cy="50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5661000"/>
            <a:ext cx="93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213000"/>
            <a:ext cx="203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re trait d’un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coordonateurs Régionaux d’Hémo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92360" y="3429000"/>
            <a:ext cx="5032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5003640" y="4149720"/>
            <a:ext cx="64800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06C-8F5F-4FA6-9CBD-AC3BAAC1B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 prév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rganisation géné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Le circuit d’al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’EFS création d’une cellule de crise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s chaque 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signation d’un correspondant en relation avec les services déconcentrés de l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éation d’une cellule de crise dotée de moyens de communication et infor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 d’un plan de continuité d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ation des directeurs d’EFS d’un téléphone satell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r une liste des correspondants internes et externes (coordonnées tenues à j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rités locales, cadres des associations de donneurs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finition des stocks (175% de la distribution hebdomadai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dre en compte les PB d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e spécifique de « priorité » aux autor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1268280"/>
            <a:ext cx="5689440" cy="276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aux directeurs grippe aviaire 1 (PH/CM 06-28 du 1er mars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0" y="1300320"/>
            <a:ext cx="436680" cy="19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8D2-6960-48D1-A218-C34B3FCF76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851280" cy="300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 prév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5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té des don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clusion des malades 15j [2 à 8 puis 8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es collectes précaires et limitation à &lt; 20% de l’approvisi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er et inciter aux déplacements sur les lieux des collec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r le risque de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ement de 2 mè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de masques chirurgi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sinfection des sièges et des accoudoirs par une solution hydro-alcoolique entre chaque donneur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toyage des mains entre chaque donneur avec une solution hydro-alcoo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454-7F6B-44AC-900B-17E4140C1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427640" cy="3432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 prév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té d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aires des renforts possibles (étudiants, retraité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s individu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els : mesures d’hygiène ordinaires (mains, usage unique, déchet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ment à la vaccination vis-à-vis de la grippe saisonn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ques FFP2 (4/Personne/J), lunettes, sur-bl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ques chirurgicaux pour les visiteurs/don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é des déplacements (accès aux collec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VV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0C3-36F8-4A7C-8678-A5219D6EE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7:01:18Z</dcterms:created>
  <dc:creator>Pascal Morel</dc:creator>
  <dc:description/>
  <dc:language>en-US</dc:language>
  <cp:lastModifiedBy>FORMATION</cp:lastModifiedBy>
  <cp:lastPrinted>2004-09-28T16:39:57Z</cp:lastPrinted>
  <dcterms:modified xsi:type="dcterms:W3CDTF">2006-11-28T08:29:51Z</dcterms:modified>
  <cp:revision>244</cp:revision>
  <dc:subject/>
  <dc:title>Diapositive 1</dc:title>
</cp:coreProperties>
</file>