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1CBD-2EBA-4CA7-8FEC-18CD02483E8B}" type="slidenum"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306B-6184-4882-8925-57DEE549B17C}" type="slidenum"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-144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-144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97080" y="801720"/>
            <a:ext cx="4260600" cy="3195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A811-7838-45DA-BB34-085B73A05203}" type="slidenum"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DFFE-FBCC-481B-AC55-2AE5D6366694}" type="slidenum"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-144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-144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97080" y="801720"/>
            <a:ext cx="4260600" cy="3195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450A-76D2-4D75-B839-05CD5CDBD62A}" type="slidenum"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Comic Sans MS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-144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97080" y="801720"/>
            <a:ext cx="4260600" cy="31957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01F0-C9D6-4D6F-9638-61DD7A3BC5ED}" type="slidenum"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Comic Sans MS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-144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-144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97080" y="801720"/>
            <a:ext cx="4260600" cy="3195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F79F-73B0-4FCC-8570-BD6BA6CF194C}" type="slidenum"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EC5-6E49-4F05-BE69-48882F83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289-6FBA-49EF-A5CD-10308683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9A8-A0BF-4951-8360-12E0C3AA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5D7-9ED3-46C5-A265-E61151AF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00F-92B5-4219-B44B-C7DE8913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1C8-CA98-4ED6-98CD-0FFDD511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8BC-402D-4111-9971-DF105F49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C49-06C4-4AA5-9BEF-5742D71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9AC-C31A-40AD-9781-DD48A598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8D6-B938-40D5-A31F-EBEBB9BB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1D5-4833-4A59-9A04-1A4ABB99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C9D-F68D-48D2-8127-9821586A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2803-7417-4DF3-9F39-3F5B80A43647}" type="slidenum">
              <a:rPr b="0" lang="fr-F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8320" y="1641240"/>
            <a:ext cx="5618160" cy="1372320"/>
          </a:xfrm>
          <a:prstGeom prst="rect">
            <a:avLst/>
          </a:prstGeom>
          <a:solidFill>
            <a:srgbClr val="fffcc2"/>
          </a:solidFill>
          <a:ln w="9360">
            <a:solidFill>
              <a:srgbClr val="fffcc2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ersité génétique du VHB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z les donneurs de sa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act sur le dépista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240" y="1743120"/>
            <a:ext cx="252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3240" y="1743120"/>
            <a:ext cx="252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033960"/>
            <a:ext cx="184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05920" y="3230640"/>
            <a:ext cx="33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97b"/>
                </a:solidFill>
                <a:latin typeface="Comic Sans MS"/>
              </a:rPr>
              <a:t>Annabelle Servant-Delma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054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Unité d’Expertise en Virologie - CNR des hépatites B et C en transfusi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épartement des Agents Transmissibles par le Sa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stitut National de la Transfusion Sangui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106200" y="1440000"/>
            <a:ext cx="93265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9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Clonage des protéines S de variants naturels et recombin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Panel composé de 11 variants naturels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(donneurs de sang, patients traités…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et de 3 obtenus par mutagénèse dirigée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 </a:t>
            </a:r>
            <a:r>
              <a:rPr b="0" i="1" lang="fr-FR" sz="2000" spc="-1" strike="noStrike">
                <a:solidFill>
                  <a:srgbClr val="ff9ce8"/>
                </a:solidFill>
                <a:latin typeface="Comic Sans MS"/>
              </a:rPr>
              <a:t>à compléter 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77840" y="152280"/>
            <a:ext cx="8636040" cy="711360"/>
          </a:xfrm>
          <a:prstGeom prst="rect">
            <a:avLst/>
          </a:prstGeom>
          <a:solidFill>
            <a:srgbClr val="fff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el de protéines S de variants naturels et recombin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39960" y="3429000"/>
            <a:ext cx="6639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9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Production des protéines </a:t>
            </a:r>
            <a:r>
              <a:rPr b="0" i="1" lang="fr-FR" sz="2400" spc="-1" strike="noStrike">
                <a:solidFill>
                  <a:srgbClr val="fff97b"/>
                </a:solidFill>
                <a:latin typeface="Comic Sans MS"/>
              </a:rPr>
              <a:t>in vitro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 : </a:t>
            </a:r>
            <a:r>
              <a:rPr b="0" i="1" lang="fr-FR" sz="2000" spc="-1" strike="noStrike">
                <a:solidFill>
                  <a:srgbClr val="ff9ce8"/>
                </a:solidFill>
                <a:latin typeface="Comic Sans MS"/>
              </a:rPr>
              <a:t>en cours 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- Transfection en cellules HuH7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- Calibration des</a:t>
            </a:r>
            <a:r>
              <a:rPr b="0" lang="fr-FR" sz="2000" spc="-1" strike="noStrike">
                <a:solidFill>
                  <a:srgbClr val="fff97b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stocks de protéines produit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822320" y="5346720"/>
            <a:ext cx="5499360" cy="825480"/>
          </a:xfrm>
          <a:prstGeom prst="rect">
            <a:avLst/>
          </a:prstGeom>
          <a:noFill/>
          <a:ln w="9360">
            <a:solidFill>
              <a:srgbClr val="fff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effba"/>
                </a:solidFill>
                <a:latin typeface="Comic Sans MS"/>
              </a:rPr>
              <a:t> </a:t>
            </a:r>
            <a:r>
              <a:rPr b="0" i="1" lang="fr-FR" sz="2400" spc="-1" strike="noStrike">
                <a:solidFill>
                  <a:srgbClr val="feffba"/>
                </a:solidFill>
                <a:latin typeface="Comic Sans MS"/>
              </a:rPr>
              <a:t>Comparaison de différents tests AgHB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effba"/>
                </a:solidFill>
                <a:latin typeface="Comic Sans MS"/>
              </a:rPr>
              <a:t>vis à vis du panel de vari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92520" y="1561680"/>
            <a:ext cx="9070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81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Unité de Virologie Transfusionnelle - I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81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Syria Laperche, Annie Girault, Catherine Jourdain, Mélanie Mercier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81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Françoise Bouchardeau, Rémi Caparros, Christine Portal, Annie Raz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81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177840" y="152280"/>
            <a:ext cx="2539800" cy="711360"/>
          </a:xfrm>
          <a:prstGeom prst="rect">
            <a:avLst/>
          </a:prstGeom>
          <a:solidFill>
            <a:srgbClr val="fff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rciem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1514520" y="4546440"/>
            <a:ext cx="67723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81040" indent="-581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Unité de Virologie Fondamentale - I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81040" indent="-581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Camille Sureau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2009880" y="3429000"/>
            <a:ext cx="5502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81040" indent="-581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7b"/>
                </a:solidFill>
                <a:latin typeface="Comic Sans MS"/>
              </a:rPr>
              <a:t>Sites EFS de France métropolitain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3200" y="4084560"/>
            <a:ext cx="846144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87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877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877"/>
                </a:solidFill>
                <a:latin typeface="Comic Sans MS"/>
              </a:rPr>
              <a:t>L’AgHB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Région hydrophile majeure (aa 100-170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Exposée à la surface du viru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Epitopes majeurs de neutralisation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Emergence de variants de l’enveloppe sous pression de sélec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Système immunitaire lors d’infection chroniqu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Vaccin, Immunothérapie passive, Thérapeutiqu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77840" y="101520"/>
            <a:ext cx="3174840" cy="749520"/>
          </a:xfrm>
          <a:prstGeom prst="rect">
            <a:avLst/>
          </a:prstGeom>
          <a:solidFill>
            <a:srgbClr val="fff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VHB et l’AgHB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673200" y="888840"/>
            <a:ext cx="895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87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877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877"/>
                </a:solidFill>
                <a:latin typeface="Comic Sans MS"/>
              </a:rPr>
              <a:t>Répartition des 8 génotypes en Fr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9483"/>
                </a:solidFill>
                <a:latin typeface="Comic Sans MS"/>
              </a:rPr>
              <a:t>Halfon et al. </a:t>
            </a:r>
            <a:r>
              <a:rPr b="0" i="1" lang="fr-FR" sz="1600" spc="-1" strike="noStrike">
                <a:solidFill>
                  <a:srgbClr val="ff9483"/>
                </a:solidFill>
                <a:latin typeface="Comic Sans MS"/>
              </a:rPr>
              <a:t>2006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Porteurs chroniques non traités recrutement hospitalier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1993-2002 (262 patient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7fa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c7fa"/>
                </a:solidFill>
                <a:latin typeface="Comic Sans MS"/>
              </a:rPr>
              <a:t>Génotypes majoritaires D et A suivis de E, C et B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9483"/>
                </a:solidFill>
                <a:latin typeface="Comic Sans MS"/>
              </a:rPr>
              <a:t>Laperche et al.</a:t>
            </a:r>
            <a:r>
              <a:rPr b="0" i="1" lang="fr-FR" sz="1800" spc="-1" strike="noStrike">
                <a:solidFill>
                  <a:srgbClr val="ffc7fa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Extrapolation des sérotypes de l’AgHBs en génotypes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chez les donneurs de sang 1998-2004</a:t>
            </a:r>
            <a:r>
              <a:rPr b="0" lang="fr-FR" sz="1800" spc="-1" strike="noStrike">
                <a:solidFill>
                  <a:srgbClr val="ffc7f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7fa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c7fa"/>
                </a:solidFill>
                <a:latin typeface="Comic Sans MS"/>
              </a:rPr>
              <a:t>Génotype majoritaire D suivi de A ou B, E et C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602000" y="1321560"/>
            <a:ext cx="6533280" cy="3555000"/>
            <a:chOff x="1602000" y="1321560"/>
            <a:chExt cx="6533280" cy="3555000"/>
          </a:xfrm>
        </p:grpSpPr>
        <p:sp>
          <p:nvSpPr>
            <p:cNvPr id="58" name=""/>
            <p:cNvSpPr/>
            <p:nvPr/>
          </p:nvSpPr>
          <p:spPr>
            <a:xfrm>
              <a:off x="1602000" y="4395240"/>
              <a:ext cx="407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NH2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717800">
              <a:off x="1972800" y="3967920"/>
              <a:ext cx="240120" cy="424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00cc">
                    <a:alpha val="50196"/>
                  </a:srgbClr>
                </a:gs>
                <a:gs pos="50000">
                  <a:srgbClr val="ffccff"/>
                </a:gs>
                <a:gs pos="100000">
                  <a:srgbClr val="cc00cc">
                    <a:alpha val="50196"/>
                  </a:srgbClr>
                </a:gs>
              </a:gsLst>
              <a:lin ang="90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0021400">
              <a:off x="7105680" y="3952080"/>
              <a:ext cx="239760" cy="424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00cc">
                    <a:alpha val="50196"/>
                  </a:srgbClr>
                </a:gs>
                <a:gs pos="50000">
                  <a:srgbClr val="ffccff"/>
                </a:gs>
                <a:gs pos="100000">
                  <a:srgbClr val="cc00cc">
                    <a:alpha val="50196"/>
                  </a:srgbClr>
                </a:gs>
              </a:gsLst>
              <a:lin ang="123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61200" y="2273760"/>
              <a:ext cx="255960" cy="0"/>
            </a:xfrm>
            <a:prstGeom prst="line">
              <a:avLst/>
            </a:prstGeom>
            <a:ln cap="rnd" w="28440">
              <a:solidFill>
                <a:srgbClr val="cc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04520" y="3637440"/>
              <a:ext cx="255600" cy="0"/>
            </a:xfrm>
            <a:prstGeom prst="line">
              <a:avLst/>
            </a:prstGeom>
            <a:ln cap="rnd" w="28440">
              <a:solidFill>
                <a:srgbClr val="cc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93680" y="3786480"/>
              <a:ext cx="255960" cy="0"/>
            </a:xfrm>
            <a:prstGeom prst="line">
              <a:avLst/>
            </a:prstGeom>
            <a:ln cap="rnd" w="28440">
              <a:solidFill>
                <a:srgbClr val="cc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75320" y="3511800"/>
              <a:ext cx="255600" cy="0"/>
            </a:xfrm>
            <a:prstGeom prst="line">
              <a:avLst/>
            </a:prstGeom>
            <a:ln cap="rnd" w="28440">
              <a:solidFill>
                <a:srgbClr val="cc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94120" y="387720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63680" y="383076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2880" y="378396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02440" y="373716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71640" y="369072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41200" y="364392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10760" y="359712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80320" y="3550680"/>
              <a:ext cx="181080" cy="181440"/>
            </a:xfrm>
            <a:prstGeom prst="ellipse">
              <a:avLst/>
            </a:prstGeom>
            <a:solidFill>
              <a:srgbClr val="cc00cc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107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81400" y="337176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46760" y="324900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00240" y="3142440"/>
              <a:ext cx="18108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53000" y="304344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90280" y="298872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23600" y="291816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73120" y="280728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50360" y="268056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03480" y="256176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69000" y="238716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02200" y="226044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67800" y="218952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119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5440" y="2178720"/>
              <a:ext cx="181080" cy="181080"/>
            </a:xfrm>
            <a:prstGeom prst="ellipse">
              <a:avLst/>
            </a:prstGeom>
            <a:solidFill>
              <a:srgbClr val="cc00cc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120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70480" y="198792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66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880" y="188532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66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7560" y="197856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66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123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38680" y="2184120"/>
              <a:ext cx="181080" cy="181440"/>
            </a:xfrm>
            <a:prstGeom prst="ellipse">
              <a:avLst/>
            </a:prstGeom>
            <a:solidFill>
              <a:srgbClr val="cc00cc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124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5960" y="217728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17400" y="214668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126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23360" y="240840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6480" y="267768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89960" y="279540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75120" y="294480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64600" y="309816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37880" y="323568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75240" y="3404880"/>
              <a:ext cx="181440" cy="181440"/>
            </a:xfrm>
            <a:prstGeom prst="ellipse">
              <a:avLst/>
            </a:prstGeom>
            <a:solidFill>
              <a:srgbClr val="cc00cc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137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2280" y="3566520"/>
              <a:ext cx="181440" cy="181440"/>
            </a:xfrm>
            <a:prstGeom prst="ellipse">
              <a:avLst/>
            </a:prstGeom>
            <a:solidFill>
              <a:srgbClr val="cc00cc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138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15040" y="217620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96120" y="223776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3800" y="232308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129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64480" y="251784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5480" y="3700080"/>
              <a:ext cx="181440" cy="181440"/>
            </a:xfrm>
            <a:prstGeom prst="ellipse">
              <a:avLst/>
            </a:prstGeom>
            <a:solidFill>
              <a:srgbClr val="cc00cc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139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91000" y="384948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12600" y="403884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29960" y="4188240"/>
              <a:ext cx="18108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11040" y="420156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2480" y="415908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7800" y="398808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Comic Sans MS"/>
                </a:rPr>
                <a:t>145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71240" y="384120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72600" y="3694680"/>
              <a:ext cx="181440" cy="181440"/>
            </a:xfrm>
            <a:prstGeom prst="ellipse">
              <a:avLst/>
            </a:prstGeom>
            <a:solidFill>
              <a:srgbClr val="cc00cc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147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5840" y="354780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148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7240" y="3432960"/>
              <a:ext cx="181440" cy="181440"/>
            </a:xfrm>
            <a:prstGeom prst="ellipse">
              <a:avLst/>
            </a:prstGeom>
            <a:solidFill>
              <a:srgbClr val="cc00cc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149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60440" y="330228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94000" y="317160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5440" y="312084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56880" y="308592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37960" y="306756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11840" y="300060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92920" y="297396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82640" y="2947320"/>
              <a:ext cx="18108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47880" y="301680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41120" y="317412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10600" y="333972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7960" y="3481200"/>
              <a:ext cx="18144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69440" y="360648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42960" y="370008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08200" y="362520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89640" y="356652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71080" y="356400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52520" y="359316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61960" y="3742560"/>
              <a:ext cx="18108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03440" y="3867840"/>
              <a:ext cx="181440" cy="18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169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75840" y="4296600"/>
              <a:ext cx="559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COOH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2697480" y="1350360"/>
              <a:ext cx="131760" cy="337680"/>
            </a:xfrm>
            <a:prstGeom prst="line">
              <a:avLst/>
            </a:prstGeom>
            <a:ln w="127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31600">
              <a:off x="2296800" y="1537200"/>
              <a:ext cx="1097640" cy="1060560"/>
            </a:xfrm>
            <a:custGeom>
              <a:avLst/>
              <a:gdLst/>
              <a:ahLst/>
              <a:rect l="l" t="t" r="r" b="b"/>
              <a:pathLst>
                <a:path w="823" h="795">
                  <a:moveTo>
                    <a:pt x="823" y="0"/>
                  </a:moveTo>
                  <a:cubicBezTo>
                    <a:pt x="599" y="25"/>
                    <a:pt x="375" y="50"/>
                    <a:pt x="238" y="183"/>
                  </a:cubicBezTo>
                  <a:cubicBezTo>
                    <a:pt x="101" y="316"/>
                    <a:pt x="40" y="695"/>
                    <a:pt x="0" y="795"/>
                  </a:cubicBezTo>
                </a:path>
              </a:pathLst>
            </a:custGeom>
            <a:noFill/>
            <a:ln w="127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2040" y="4253760"/>
              <a:ext cx="1135080" cy="254520"/>
            </a:xfrm>
            <a:custGeom>
              <a:avLst/>
              <a:gdLst/>
              <a:ahLst/>
              <a:rect l="l" t="t" r="r" b="b"/>
              <a:pathLst>
                <a:path w="1314" h="191">
                  <a:moveTo>
                    <a:pt x="0" y="32"/>
                  </a:moveTo>
                  <a:cubicBezTo>
                    <a:pt x="34" y="90"/>
                    <a:pt x="69" y="148"/>
                    <a:pt x="245" y="169"/>
                  </a:cubicBezTo>
                  <a:cubicBezTo>
                    <a:pt x="420" y="191"/>
                    <a:pt x="884" y="176"/>
                    <a:pt x="1054" y="161"/>
                  </a:cubicBezTo>
                  <a:cubicBezTo>
                    <a:pt x="1224" y="146"/>
                    <a:pt x="1222" y="108"/>
                    <a:pt x="1265" y="81"/>
                  </a:cubicBezTo>
                  <a:cubicBezTo>
                    <a:pt x="1308" y="54"/>
                    <a:pt x="1304" y="17"/>
                    <a:pt x="1314" y="0"/>
                  </a:cubicBezTo>
                </a:path>
              </a:pathLst>
            </a:custGeom>
            <a:noFill/>
            <a:ln w="127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03200" y="4535280"/>
              <a:ext cx="84960" cy="341280"/>
            </a:xfrm>
            <a:prstGeom prst="line">
              <a:avLst/>
            </a:prstGeom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83600" y="2528280"/>
              <a:ext cx="365400" cy="0"/>
            </a:xfrm>
            <a:prstGeom prst="line">
              <a:avLst/>
            </a:prstGeom>
            <a:ln w="127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95240" y="2166840"/>
              <a:ext cx="257400" cy="830880"/>
            </a:xfrm>
            <a:custGeom>
              <a:avLst/>
              <a:gdLst/>
              <a:ahLst/>
              <a:rect l="l" t="t" r="r" b="b"/>
              <a:pathLst>
                <a:path w="193" h="777">
                  <a:moveTo>
                    <a:pt x="0" y="0"/>
                  </a:moveTo>
                  <a:cubicBezTo>
                    <a:pt x="76" y="86"/>
                    <a:pt x="153" y="173"/>
                    <a:pt x="173" y="302"/>
                  </a:cubicBezTo>
                  <a:cubicBezTo>
                    <a:pt x="193" y="431"/>
                    <a:pt x="129" y="698"/>
                    <a:pt x="118" y="777"/>
                  </a:cubicBezTo>
                </a:path>
              </a:pathLst>
            </a:custGeom>
            <a:noFill/>
            <a:ln w="127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778600">
              <a:off x="2315520" y="2812320"/>
              <a:ext cx="512280" cy="832680"/>
            </a:xfrm>
            <a:custGeom>
              <a:avLst/>
              <a:gdLst/>
              <a:ahLst/>
              <a:rect l="l" t="t" r="r" b="b"/>
              <a:pathLst>
                <a:path w="384" h="624">
                  <a:moveTo>
                    <a:pt x="0" y="0"/>
                  </a:moveTo>
                  <a:cubicBezTo>
                    <a:pt x="16" y="116"/>
                    <a:pt x="32" y="232"/>
                    <a:pt x="96" y="336"/>
                  </a:cubicBezTo>
                  <a:cubicBezTo>
                    <a:pt x="160" y="440"/>
                    <a:pt x="336" y="576"/>
                    <a:pt x="384" y="624"/>
                  </a:cubicBezTo>
                </a:path>
              </a:pathLst>
            </a:custGeom>
            <a:noFill/>
            <a:ln w="127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205360" y="3352680"/>
              <a:ext cx="265320" cy="262080"/>
            </a:xfrm>
            <a:prstGeom prst="line">
              <a:avLst/>
            </a:prstGeom>
            <a:ln w="127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21360" y="2149560"/>
              <a:ext cx="181440" cy="1810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75120" y="2932560"/>
              <a:ext cx="181440" cy="18144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09440" y="3690720"/>
              <a:ext cx="181440" cy="18144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32200" y="2185560"/>
              <a:ext cx="181080" cy="1810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75280" y="3987000"/>
              <a:ext cx="181440" cy="18144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51280" y="2330640"/>
              <a:ext cx="181440" cy="18144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8920" y="165240"/>
            <a:ext cx="7937640" cy="660240"/>
          </a:xfrm>
          <a:prstGeom prst="rect">
            <a:avLst/>
          </a:prstGeom>
          <a:solidFill>
            <a:srgbClr val="fff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utations de la région hydrophile majeur de l’AgHB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491480" y="5219640"/>
            <a:ext cx="6718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Impact diagnostique (trousses de détection de l’AgHB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Sensibilité identique à une souche sauvag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Diminution de sensibilité = </a:t>
            </a:r>
            <a:r>
              <a:rPr b="0" lang="fr-FR" sz="1800" spc="-1" strike="noStrike">
                <a:solidFill>
                  <a:srgbClr val="ffc7fa"/>
                </a:solidFill>
                <a:latin typeface="Comic Sans MS"/>
              </a:rPr>
              <a:t>sous-estimation du tit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Absence de détection = </a:t>
            </a:r>
            <a:r>
              <a:rPr b="0" lang="fr-FR" sz="1800" spc="-1" strike="noStrike">
                <a:solidFill>
                  <a:srgbClr val="ffc7fa"/>
                </a:solidFill>
                <a:latin typeface="Comic Sans MS"/>
              </a:rPr>
              <a:t>faux négatif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7480" y="101520"/>
            <a:ext cx="2514600" cy="749520"/>
          </a:xfrm>
          <a:prstGeom prst="rect">
            <a:avLst/>
          </a:prstGeom>
          <a:solidFill>
            <a:srgbClr val="fffc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du travail</a:t>
            </a:r>
            <a:endParaRPr b="0" lang="en-US" sz="2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39680" y="1968480"/>
            <a:ext cx="88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877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877"/>
                </a:solidFill>
                <a:latin typeface="Comic Sans MS"/>
              </a:rPr>
              <a:t>Diversité génétique du VHB en France chez les donneurs de sang 200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3111480"/>
            <a:ext cx="50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877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877"/>
                </a:solidFill>
                <a:latin typeface="Comic Sans MS"/>
              </a:rPr>
              <a:t>Prévalence des variants de l’envelopp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851200" y="4432320"/>
            <a:ext cx="34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877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877"/>
                </a:solidFill>
                <a:latin typeface="Comic Sans MS"/>
              </a:rPr>
              <a:t>Impact sur le dépi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23960" y="643896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162240" y="643896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9320" y="76320"/>
            <a:ext cx="3289320" cy="736560"/>
          </a:xfrm>
          <a:prstGeom prst="rect">
            <a:avLst/>
          </a:prstGeom>
          <a:solidFill>
            <a:srgbClr val="fffc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ients et Méthodes</a:t>
            </a:r>
            <a:endParaRPr b="0" lang="en-US" sz="2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45520"/>
            <a:ext cx="9144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fff87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877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fff877"/>
                </a:solidFill>
                <a:latin typeface="Comic Sans MS"/>
              </a:rPr>
              <a:t>Patients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Donneurs de sang </a:t>
            </a:r>
            <a:r>
              <a:rPr b="0" lang="fr-FR" sz="1800" spc="-1" strike="noStrike">
                <a:solidFill>
                  <a:srgbClr val="ffc2f7"/>
                </a:solidFill>
                <a:latin typeface="Comic Sans MS"/>
              </a:rPr>
              <a:t>AgHBs positif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1613"/>
                </a:solidFill>
                <a:latin typeface="Comic Sans MS"/>
              </a:rPr>
              <a:t>       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Tests de 1ère intention: AgHBs Prism (Abbott), AgHBs Plus Monolisa ou Ultra (Biorad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        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Tests de 2ème intention: AgHBs Prism, Axsym (Abbott), Behring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AgHBs Plus Monolisa ou Ultra (Biorad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France métropolitaine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Année 2005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13080"/>
            <a:ext cx="9439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87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877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fff877"/>
                </a:solidFill>
                <a:latin typeface="Comic Sans MS"/>
              </a:rPr>
              <a:t>Méthode de Génotyp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CR maison du gène S partiel (MHR aa 100 à 180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équençage direc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nalyse phylogénétique: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Alignement (Clustal W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       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             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Matrice de Distances (modèle évolutif Kimura 2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(Package Phylip - reconstruction de l’arbre par Neighbor-joinin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60480" y="5622840"/>
            <a:ext cx="85640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87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877"/>
                </a:solidFill>
                <a:latin typeface="Comic Sans MS"/>
              </a:rPr>
              <a:t>Marqueurs sérologiques et sérotyp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fff87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877"/>
                </a:solidFill>
                <a:latin typeface="Comic Sans MS"/>
              </a:rPr>
              <a:t>Détermination de la charge virale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c0ffdf"/>
                </a:solidFill>
                <a:latin typeface="Comic Sans MS"/>
              </a:rPr>
              <a:t>(Cobas TaqMan HBV test - Roche  SD 6UI/ml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41200" y="127080"/>
            <a:ext cx="4000680" cy="799920"/>
          </a:xfrm>
          <a:prstGeom prst="rect">
            <a:avLst/>
          </a:prstGeom>
          <a:solidFill>
            <a:srgbClr val="fff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sultats - Année 200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-41400" y="1090440"/>
            <a:ext cx="9185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87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877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877"/>
                </a:solidFill>
                <a:latin typeface="Comic Sans MS"/>
              </a:rPr>
              <a:t>Résultats partiels: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302 cas/313 AgHBs+ déclaré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fr-FR" sz="2000" spc="-1" strike="noStrike">
                <a:solidFill>
                  <a:srgbClr val="ffbeee"/>
                </a:solidFill>
                <a:latin typeface="Comic Sans MS"/>
              </a:rPr>
              <a:t>83,4%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des échantillons testés en PCR « S » sont </a:t>
            </a:r>
            <a:r>
              <a:rPr b="0" lang="fr-FR" sz="2000" spc="-1" strike="noStrike">
                <a:solidFill>
                  <a:srgbClr val="ffacfd"/>
                </a:solidFill>
                <a:latin typeface="Comic Sans MS"/>
              </a:rPr>
              <a:t>génotypés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(n=236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1613"/>
                </a:solidFill>
                <a:latin typeface="Comic Sans MS"/>
              </a:rPr>
              <a:t>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10,2% des échantillons sont négatifs en PCR « S » </a:t>
            </a: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(n=29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6,3% des échantillons positifs en PCR « S » sont non génotypables </a:t>
            </a: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(n=18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816200" y="3419640"/>
            <a:ext cx="6560280" cy="3008880"/>
            <a:chOff x="1816200" y="3419640"/>
            <a:chExt cx="6560280" cy="3008880"/>
          </a:xfrm>
        </p:grpSpPr>
        <p:sp>
          <p:nvSpPr>
            <p:cNvPr id="166" name=""/>
            <p:cNvSpPr/>
            <p:nvPr/>
          </p:nvSpPr>
          <p:spPr>
            <a:xfrm>
              <a:off x="6726600" y="6121440"/>
              <a:ext cx="164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(302 échantillons)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1816200" y="3419640"/>
            <a:ext cx="4978440" cy="300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6200" y="3419640"/>
                      <a:ext cx="4978440" cy="30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1883520" y="4210200"/>
              <a:ext cx="44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70707"/>
                  </a:solidFill>
                  <a:latin typeface="Comic Sans MS"/>
                </a:rPr>
                <a:t>NG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70707"/>
                  </a:solidFill>
                  <a:latin typeface="Comic Sans MS"/>
                </a:rPr>
                <a:t>(18)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62800" y="3633840"/>
              <a:ext cx="79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70707"/>
                  </a:solidFill>
                  <a:latin typeface="Comic Sans MS"/>
                </a:rPr>
                <a:t>En cours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70707"/>
                  </a:solidFill>
                  <a:latin typeface="Comic Sans MS"/>
                </a:rPr>
                <a:t>(1)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5400" y="3633840"/>
              <a:ext cx="73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70707"/>
                  </a:solidFill>
                  <a:latin typeface="Comic Sans MS"/>
                </a:rPr>
                <a:t>En Vérif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70707"/>
                  </a:solidFill>
                  <a:latin typeface="Comic Sans MS"/>
                </a:rPr>
                <a:t>(18)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1280" y="5711760"/>
              <a:ext cx="108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70707"/>
                  </a:solidFill>
                  <a:latin typeface="Comic Sans MS"/>
                </a:rPr>
                <a:t>Génotypés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70707"/>
                  </a:solidFill>
                  <a:latin typeface="Comic Sans MS"/>
                </a:rPr>
                <a:t>(236)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06600" y="3867120"/>
              <a:ext cx="78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70707"/>
                  </a:solidFill>
                  <a:latin typeface="Comic Sans MS"/>
                </a:rPr>
                <a:t>Neg (29)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0840" y="127080"/>
            <a:ext cx="4000680" cy="799920"/>
          </a:xfrm>
          <a:prstGeom prst="rect">
            <a:avLst/>
          </a:prstGeom>
          <a:solidFill>
            <a:srgbClr val="fffcc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sultats - Année 2005</a:t>
            </a:r>
            <a:endParaRPr b="0" lang="en-US" sz="2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414440"/>
            <a:ext cx="89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87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877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877"/>
                </a:solidFill>
                <a:latin typeface="Comic Sans MS"/>
              </a:rPr>
              <a:t>Distribution des génotypes VHB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(236 échantillons génotypé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184040" y="5803920"/>
            <a:ext cx="668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Corrélation avec le sérotypage: 3 discordances (1,2%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(dont 2 avec des mutation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05120" y="2200320"/>
            <a:ext cx="5438160" cy="3422520"/>
            <a:chOff x="1905120" y="2200320"/>
            <a:chExt cx="5438160" cy="34225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1905120" y="2200320"/>
              <a:ext cx="5333760" cy="34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077800" y="2522520"/>
              <a:ext cx="1102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0404"/>
                  </a:solidFill>
                  <a:latin typeface="Comic Sans MS"/>
                </a:rPr>
                <a:t>A (25,4%)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0404"/>
                  </a:solidFill>
                  <a:latin typeface="Comic Sans MS"/>
                </a:rPr>
                <a:t>FM/Europe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56760" y="3649680"/>
              <a:ext cx="68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40404"/>
                  </a:solidFill>
                  <a:latin typeface="Comic Sans MS"/>
                </a:rPr>
                <a:t>B 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40404"/>
                  </a:solidFill>
                  <a:latin typeface="Comic Sans MS"/>
                </a:rPr>
                <a:t>(7,2%)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40404"/>
                  </a:solidFill>
                  <a:latin typeface="Comic Sans MS"/>
                </a:rPr>
                <a:t>Asie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8160" y="4557600"/>
              <a:ext cx="127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49501"/>
                  </a:solidFill>
                  <a:latin typeface="Comic Sans MS"/>
                </a:rPr>
                <a:t>C (5,9%)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47500"/>
                  </a:solidFill>
                  <a:latin typeface="Comic Sans MS"/>
                </a:rPr>
                <a:t>Asie/Océanie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78200" y="4803840"/>
              <a:ext cx="150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26569"/>
                  </a:solidFill>
                  <a:latin typeface="Comic Sans MS"/>
                </a:rPr>
                <a:t>D (42,4%)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26569"/>
                  </a:solidFill>
                  <a:latin typeface="Comic Sans MS"/>
                </a:rPr>
                <a:t>FM/Bassin Méd.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99480" y="2549520"/>
              <a:ext cx="127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0361"/>
                  </a:solidFill>
                  <a:latin typeface="Comic Sans MS"/>
                </a:rPr>
                <a:t>E (19%) 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0361"/>
                  </a:solidFill>
                  <a:latin typeface="Comic Sans MS"/>
                </a:rPr>
                <a:t>Afrique noire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203040"/>
            <a:ext cx="6451560" cy="711360"/>
          </a:xfrm>
          <a:prstGeom prst="rect">
            <a:avLst/>
          </a:prstGeom>
          <a:solidFill>
            <a:srgbClr val="fff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ariants VHB - Donneurs de sang AgHBS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39680" y="3922560"/>
            <a:ext cx="89899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9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Prévalence des variants de l’AgHBs: </a:t>
            </a:r>
            <a:r>
              <a:rPr b="0" lang="fr-FR" sz="2000" spc="-1" strike="noStrike">
                <a:solidFill>
                  <a:srgbClr val="ffbeee"/>
                </a:solidFill>
                <a:latin typeface="Comic Sans MS"/>
              </a:rPr>
              <a:t>5%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(n=12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Mutations observées et décrites com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affectant le diagnostic: </a:t>
            </a:r>
            <a:r>
              <a:rPr b="0" lang="fr-FR" sz="1800" spc="-1" strike="noStrike">
                <a:solidFill>
                  <a:srgbClr val="ffbeee"/>
                </a:solidFill>
                <a:latin typeface="Comic Sans MS"/>
              </a:rPr>
              <a:t>T118A, P120T, T131I, M133I, Y134N, D144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échappant à la vaccination ou aux Ig: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beee"/>
                </a:solidFill>
                <a:latin typeface="Comic Sans MS"/>
              </a:rPr>
              <a:t>Q129H, I126N, S143M, G130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85680" y="1471680"/>
            <a:ext cx="88902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97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Variabilité des séq</a:t>
            </a:r>
            <a:r>
              <a:rPr b="0" lang="fr-FR" sz="2400" spc="-1" strike="noStrike">
                <a:solidFill>
                  <a:srgbClr val="fff877"/>
                </a:solidFill>
                <a:latin typeface="Comic Sans MS"/>
              </a:rPr>
              <a:t>uence</a:t>
            </a:r>
            <a:r>
              <a:rPr b="0" lang="fr-FR" sz="2400" spc="-1" strike="noStrike">
                <a:solidFill>
                  <a:srgbClr val="fff97b"/>
                </a:solidFill>
                <a:latin typeface="Comic Sans MS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- Mutations observées mais non documentées: </a:t>
            </a:r>
            <a:r>
              <a:rPr b="0" lang="fr-FR" sz="2000" spc="-1" strike="noStrike">
                <a:solidFill>
                  <a:srgbClr val="ff9ce8"/>
                </a:solidFill>
                <a:latin typeface="Comic Sans MS"/>
              </a:rPr>
              <a:t>12,7%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(n=30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- Populations mixtes suspectées mais non explorées: </a:t>
            </a:r>
            <a:r>
              <a:rPr b="0" lang="fr-FR" sz="2000" spc="-1" strike="noStrike">
                <a:solidFill>
                  <a:srgbClr val="ff9ce8"/>
                </a:solidFill>
                <a:latin typeface="Comic Sans MS"/>
              </a:rPr>
              <a:t>~ 7,6%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(n=18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9483"/>
                </a:solidFill>
                <a:latin typeface="Comic Sans MS"/>
              </a:rPr>
              <a:t>       </a:t>
            </a:r>
            <a:r>
              <a:rPr b="0" i="1" lang="fr-FR" sz="1800" spc="-1" strike="noStrike">
                <a:solidFill>
                  <a:srgbClr val="ff9483"/>
                </a:solidFill>
                <a:latin typeface="Comic Sans MS"/>
              </a:rPr>
              <a:t>Halfon et al.</a:t>
            </a:r>
            <a:r>
              <a:rPr b="0" i="1" lang="fr-FR" sz="1600" spc="-1" strike="noStrike">
                <a:solidFill>
                  <a:srgbClr val="ff9483"/>
                </a:solidFill>
                <a:latin typeface="Comic Sans MS"/>
              </a:rPr>
              <a:t>2006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16% d’infections mixtes de 2 à 4 génotyp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(INNO-LiPA HBV Genotyping, Innogenetics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66720" y="1817640"/>
            <a:ext cx="7758000" cy="2613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203040"/>
            <a:ext cx="6553440" cy="711360"/>
          </a:xfrm>
          <a:prstGeom prst="rect">
            <a:avLst/>
          </a:prstGeom>
          <a:solidFill>
            <a:srgbClr val="fff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épatites B occultes - Donneurs de sa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6240600" y="4888080"/>
            <a:ext cx="307476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1 éch confirmé</a:t>
            </a: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en QPCR Abbott sur 3 testé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1228680"/>
            <a:ext cx="89330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de95f"/>
                </a:solidFill>
                <a:latin typeface="Comic Sans MS"/>
              </a:rPr>
              <a:t>ADN-VHB </a:t>
            </a:r>
            <a:r>
              <a:rPr b="0" lang="fr-FR" sz="1600" spc="-1" strike="noStrike">
                <a:solidFill>
                  <a:srgbClr val="ede95f"/>
                </a:solidFill>
                <a:latin typeface="Comic Sans MS"/>
              </a:rPr>
              <a:t>(QPCR Roche)</a:t>
            </a:r>
            <a:r>
              <a:rPr b="0" lang="fr-FR" sz="2000" spc="-1" strike="noStrike">
                <a:solidFill>
                  <a:srgbClr val="ede95f"/>
                </a:solidFill>
                <a:latin typeface="Comic Sans MS"/>
              </a:rPr>
              <a:t> - Donneurs de sang </a:t>
            </a:r>
            <a:r>
              <a:rPr b="0" lang="fr-FR" sz="2000" spc="-1" strike="noStrike" u="sng">
                <a:solidFill>
                  <a:srgbClr val="ede95f"/>
                </a:solidFill>
                <a:uFillTx/>
                <a:latin typeface="Comic Sans MS"/>
              </a:rPr>
              <a:t>AgHBs négatif</a:t>
            </a:r>
            <a:r>
              <a:rPr b="0" lang="fr-FR" sz="2000" spc="-1" strike="noStrike">
                <a:solidFill>
                  <a:srgbClr val="ede95f"/>
                </a:solidFill>
                <a:latin typeface="Comic Sans MS"/>
              </a:rPr>
              <a:t>/Anti-HBc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7569360" y="4597560"/>
            <a:ext cx="126720" cy="304560"/>
          </a:xfrm>
          <a:prstGeom prst="downArrow">
            <a:avLst>
              <a:gd name="adj1" fmla="val 50000"/>
              <a:gd name="adj2" fmla="val 6008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5600880" y="4165560"/>
            <a:ext cx="939600" cy="419040"/>
          </a:xfrm>
          <a:prstGeom prst="ellipse">
            <a:avLst/>
          </a:prstGeom>
          <a:noFill/>
          <a:ln w="19080">
            <a:solidFill>
              <a:srgbClr val="ede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4152960"/>
            <a:ext cx="939600" cy="419040"/>
          </a:xfrm>
          <a:prstGeom prst="ellipse">
            <a:avLst/>
          </a:prstGeom>
          <a:noFill/>
          <a:ln w="19080">
            <a:solidFill>
              <a:srgbClr val="ede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5466960"/>
            <a:ext cx="4784760" cy="711720"/>
          </a:xfrm>
          <a:prstGeom prst="rect">
            <a:avLst/>
          </a:prstGeom>
          <a:noFill/>
          <a:ln w="19080">
            <a:solidFill>
              <a:srgbClr val="ffac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acfd"/>
                </a:solidFill>
                <a:latin typeface="Comic Sans MS"/>
              </a:rPr>
              <a:t>27 testés et nég en PCR « S »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acfd"/>
                </a:solidFill>
                <a:latin typeface="Comic Sans MS"/>
              </a:rPr>
              <a:t>Pas de séquenc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5:37:12Z</dcterms:created>
  <dc:creator>Annabelle Servant</dc:creator>
  <dc:description/>
  <dc:language>en-US</dc:language>
  <cp:lastModifiedBy> </cp:lastModifiedBy>
  <cp:lastPrinted>2006-11-22T13:41:53Z</cp:lastPrinted>
  <dcterms:modified xsi:type="dcterms:W3CDTF">2006-11-24T14:20:44Z</dcterms:modified>
  <cp:revision>189</cp:revision>
  <dc:subject/>
  <dc:title>Présentation PowerPoint</dc:title>
</cp:coreProperties>
</file>