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76F7-F9CF-4782-BB1C-170B6E487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introduire ces nouvelles techn de quantif de l’arn vih1 par pcr en temps réel, j’ai essayé de récapituler ce qui les rassemble et ce qui les op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E73A-7A71-419B-9B7E-CFF06C8D9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300320" y="803160"/>
            <a:ext cx="4259160" cy="319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he 4 log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bas taq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6FAB-9EEC-4DFA-BE1D-BF436DF0D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ême suspension mere utilisée à diff d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5 similaire à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e schema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ter 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ff 2003-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ldImg"/>
          </p:nvPr>
        </p:nvSpPr>
        <p:spPr>
          <a:xfrm>
            <a:off x="1300320" y="803160"/>
            <a:ext cx="4259160" cy="3194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ssbl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 stan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bas taqman bi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t ech 100 cop ou même &lt;50, 600 en bdna, 3000 en cob taqman, csq nef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 0.6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 bdna cobas &gt;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63B-BB96-41BE-AB5E-56B06233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62AB-4600-4A05-AFF2-080EA51B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986-D94D-4FDC-A4E3-6EFF07BD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C0F-E16A-4652-8FAA-F840E33B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852-4C6B-46AB-8B71-DDBAED42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AC6-E592-4EB8-9952-0C1CAC61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47E-3C63-4B3D-AA72-71249491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4F0-7881-4450-B330-D9D1D00D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39CD-E828-48D9-8559-1982C211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DFF-DC25-4E3D-BD34-E3DD8D36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665-8DBE-46D6-AC4E-8DE63CF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AFD-75EA-4120-B352-F935128F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 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B52C-447E-4BA9-AB59-140E4D5F4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1280" y="6324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urgard Viro Nec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4876920" y="6372360"/>
          <a:ext cx="218880" cy="18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6372360"/>
                    <a:ext cx="2188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antification de l’ARN VIH-1 par amplification en temps réel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1DF-50B4-4605-9C2C-0920DF5088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Controle national de Qualité ARN VIH plasmatique</a:t>
            </a:r>
            <a:br>
              <a:rPr sz="4400"/>
            </a:br>
            <a:r>
              <a:rPr b="1" lang="fr-FR" sz="4400" spc="-1" strike="noStrike">
                <a:solidFill>
                  <a:srgbClr val="ff0000"/>
                </a:solidFill>
                <a:latin typeface="Arial"/>
              </a:rPr>
              <a:t>2005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AFSSAPS: I Hélias, P Maisonneuve, E Burg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SERM E0214: D Costagliola, V Potar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Virologie Hop. Necker: C Rouzioux, M Burgard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25D-B013-4485-A107-CF1EC45612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Composition du CNQ 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Arial"/>
              </a:rPr>
              <a:t>ARN VIH-1 plasmatique 2005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chantillon en duplicate,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éjà testé en 2003: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uspension virale (sous-type B) utilisée depuis 1997 à différentes dilution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che de 4 log en Monitor et bDNA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irus CRF02 (Cameroun) connu pour être sous-estimé en technique Roche Monitor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égatif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F9E1-DA92-4BE4-9817-C1A5A2F156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chantillon de sous-type B proche de 4 log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yenne en fonction de la techniqu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63868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049200" y="2590920"/>
            <a:ext cx="60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33, Cobas Taqman, extrait Ampliprep, n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7040" y="289548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32, Nuclisens EasyQ, n= 1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0" y="350532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4, LCX, n= 4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6680" y="38098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95, Monitor, n= 94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3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920" y="41148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86, bDNA, n= 37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7400" y="4495680"/>
            <a:ext cx="61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.70, Cobas Taqman, extrait manuel, n= 8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6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54864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E03-143A-487D-ADC3-7A36469AA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511440" y="6407280"/>
            <a:ext cx="5968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597040" y="5950080"/>
            <a:ext cx="596880" cy="291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9520" y="470232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9520" y="432900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9520" y="395748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9520" y="358776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9520" y="321624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9520" y="284328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9520" y="247176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9520" y="2100240"/>
            <a:ext cx="61488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5400" y="1728720"/>
            <a:ext cx="403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17680" y="4950000"/>
            <a:ext cx="557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9280" y="49435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19520" y="49435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49760" y="49435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76760" y="49435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08800" y="49435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537240" y="4943520"/>
            <a:ext cx="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17680" y="1568520"/>
            <a:ext cx="55735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467480" y="3657600"/>
            <a:ext cx="1455840" cy="881640"/>
            <a:chOff x="7467480" y="3657600"/>
            <a:chExt cx="1455840" cy="881640"/>
          </a:xfrm>
        </p:grpSpPr>
        <p:sp>
          <p:nvSpPr>
            <p:cNvPr id="209" name=""/>
            <p:cNvSpPr/>
            <p:nvPr/>
          </p:nvSpPr>
          <p:spPr>
            <a:xfrm>
              <a:off x="7467480" y="3878280"/>
              <a:ext cx="1066680" cy="617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0280" y="4103640"/>
              <a:ext cx="9702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0320" rIns="130320" tIns="65160" bIns="65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5560"/>
                  <a:tab algn="l" pos="3651120"/>
                  <a:tab algn="l" pos="5477040"/>
                  <a:tab algn="l" pos="7302600"/>
                  <a:tab algn="l" pos="91281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D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27960" y="4235400"/>
              <a:ext cx="188640" cy="15552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60" y="0"/>
                  </a:moveTo>
                  <a:lnTo>
                    <a:pt x="0" y="97"/>
                  </a:lnTo>
                  <a:lnTo>
                    <a:pt x="118" y="97"/>
                  </a:lnTo>
                  <a:lnTo>
                    <a:pt x="60" y="0"/>
                  </a:lnTo>
                </a:path>
              </a:pathLst>
            </a:custGeom>
            <a:solidFill>
              <a:srgbClr val="ff0006"/>
            </a:solidFill>
            <a:ln cap="rnd" w="12600">
              <a:solidFill>
                <a:srgbClr val="ff00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29200" y="3657600"/>
              <a:ext cx="119412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0320" rIns="130320" tIns="65160" bIns="65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25560"/>
                  <a:tab algn="l" pos="3651120"/>
                  <a:tab algn="l" pos="5477040"/>
                  <a:tab algn="l" pos="7302600"/>
                  <a:tab algn="l" pos="91281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543800" y="3801960"/>
              <a:ext cx="152280" cy="155520"/>
            </a:xfrm>
            <a:prstGeom prst="ellipse">
              <a:avLst/>
            </a:prstGeom>
            <a:solidFill>
              <a:srgbClr val="0002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417680" y="4950000"/>
            <a:ext cx="64310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71240" y="1599840"/>
            <a:ext cx="63720" cy="3343680"/>
            <a:chOff x="1371240" y="1599840"/>
            <a:chExt cx="63720" cy="3343680"/>
          </a:xfrm>
        </p:grpSpPr>
        <p:sp>
          <p:nvSpPr>
            <p:cNvPr id="216" name=""/>
            <p:cNvSpPr/>
            <p:nvPr/>
          </p:nvSpPr>
          <p:spPr>
            <a:xfrm flipV="1">
              <a:off x="1434960" y="1599840"/>
              <a:ext cx="0" cy="33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371240" y="494352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1401120" y="475776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371240" y="457200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1401120" y="438624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371240" y="419904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401120" y="401472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371240" y="382752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401120" y="364176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371240" y="345600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401120" y="327024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371240" y="308304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401120" y="289872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371240" y="271152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401120" y="252756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371240" y="234000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401120" y="215604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371240" y="197172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1401120" y="1784520"/>
              <a:ext cx="3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371240" y="1600200"/>
              <a:ext cx="6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1434960" y="1599840"/>
              <a:ext cx="0" cy="334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450120" y="2232000"/>
            <a:ext cx="152280" cy="15228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22760" y="2712960"/>
            <a:ext cx="152640" cy="15264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92520" y="2077920"/>
            <a:ext cx="152640" cy="15264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664080" y="2265480"/>
            <a:ext cx="152280" cy="15228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32040" y="2154240"/>
            <a:ext cx="152280" cy="15228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03240" y="1892160"/>
            <a:ext cx="152640" cy="15264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35720" y="2620800"/>
            <a:ext cx="185760" cy="155880"/>
          </a:xfrm>
          <a:custGeom>
            <a:avLst/>
            <a:gdLst/>
            <a:ahLst/>
            <a:rect l="l" t="t" r="r" b="b"/>
            <a:pathLst>
              <a:path w="117" h="98">
                <a:moveTo>
                  <a:pt x="59" y="0"/>
                </a:moveTo>
                <a:lnTo>
                  <a:pt x="0" y="97"/>
                </a:lnTo>
                <a:lnTo>
                  <a:pt x="116" y="97"/>
                </a:lnTo>
                <a:lnTo>
                  <a:pt x="59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06920" y="4556160"/>
            <a:ext cx="187560" cy="155520"/>
          </a:xfrm>
          <a:custGeom>
            <a:avLst/>
            <a:gdLst/>
            <a:ahLst/>
            <a:rect l="l" t="t" r="r" b="b"/>
            <a:pathLst>
              <a:path w="118" h="98">
                <a:moveTo>
                  <a:pt x="58" y="0"/>
                </a:moveTo>
                <a:lnTo>
                  <a:pt x="0" y="97"/>
                </a:lnTo>
                <a:lnTo>
                  <a:pt x="117" y="97"/>
                </a:lnTo>
                <a:lnTo>
                  <a:pt x="58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8480" y="3222720"/>
            <a:ext cx="185760" cy="155520"/>
          </a:xfrm>
          <a:custGeom>
            <a:avLst/>
            <a:gdLst/>
            <a:ahLst/>
            <a:rect l="l" t="t" r="r" b="b"/>
            <a:pathLst>
              <a:path w="117" h="98">
                <a:moveTo>
                  <a:pt x="57" y="0"/>
                </a:moveTo>
                <a:lnTo>
                  <a:pt x="0" y="97"/>
                </a:lnTo>
                <a:lnTo>
                  <a:pt x="116" y="97"/>
                </a:lnTo>
                <a:lnTo>
                  <a:pt x="57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46440" y="2509920"/>
            <a:ext cx="187200" cy="156960"/>
          </a:xfrm>
          <a:custGeom>
            <a:avLst/>
            <a:gdLst/>
            <a:ahLst/>
            <a:rect l="l" t="t" r="r" b="b"/>
            <a:pathLst>
              <a:path w="118" h="99">
                <a:moveTo>
                  <a:pt x="59" y="0"/>
                </a:moveTo>
                <a:lnTo>
                  <a:pt x="0" y="98"/>
                </a:lnTo>
                <a:lnTo>
                  <a:pt x="117" y="98"/>
                </a:lnTo>
                <a:lnTo>
                  <a:pt x="59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16200" y="4184640"/>
            <a:ext cx="189000" cy="155520"/>
          </a:xfrm>
          <a:custGeom>
            <a:avLst/>
            <a:gdLst/>
            <a:ahLst/>
            <a:rect l="l" t="t" r="r" b="b"/>
            <a:pathLst>
              <a:path w="119" h="98">
                <a:moveTo>
                  <a:pt x="60" y="0"/>
                </a:moveTo>
                <a:lnTo>
                  <a:pt x="0" y="97"/>
                </a:lnTo>
                <a:lnTo>
                  <a:pt x="118" y="97"/>
                </a:lnTo>
                <a:lnTo>
                  <a:pt x="60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89200" y="4232160"/>
            <a:ext cx="187200" cy="155520"/>
          </a:xfrm>
          <a:custGeom>
            <a:avLst/>
            <a:gdLst/>
            <a:ahLst/>
            <a:rect l="l" t="t" r="r" b="b"/>
            <a:pathLst>
              <a:path w="118" h="98">
                <a:moveTo>
                  <a:pt x="58" y="0"/>
                </a:moveTo>
                <a:lnTo>
                  <a:pt x="0" y="97"/>
                </a:lnTo>
                <a:lnTo>
                  <a:pt x="117" y="97"/>
                </a:lnTo>
                <a:lnTo>
                  <a:pt x="58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NQ: Concentration de la suspension mère de viru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32440" y="50608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23160" y="50608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13520" y="50608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27920" y="50608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2320" y="50608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33040" y="506088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60" y="5388120"/>
            <a:ext cx="1549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eur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22360" y="54640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13080" y="5464080"/>
            <a:ext cx="1015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1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27480" y="5464080"/>
            <a:ext cx="1092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6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41880" y="5464080"/>
            <a:ext cx="1092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,8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32240" y="5464080"/>
            <a:ext cx="1016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,2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75240" y="54640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22360" y="5921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3080" y="5921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03440" y="5921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94160" y="5921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32240" y="5921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99280" y="59212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22360" y="634356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3080" y="634356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03440" y="634356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94160" y="6343560"/>
            <a:ext cx="86364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32240" y="634356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99280" y="634356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00" y="6327720"/>
            <a:ext cx="970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9440" y="5908680"/>
            <a:ext cx="119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0320" rIns="130320" tIns="65160" bIns="65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2360" y="157788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9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13080" y="183528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8.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191124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8.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41880" y="168264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8.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56280" y="236844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8.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190512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8.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22360" y="441972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41972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52680" y="274320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41880" y="342900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56280" y="4702320"/>
            <a:ext cx="863640" cy="37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46640" y="274320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34360" y="2438280"/>
            <a:ext cx="152280" cy="152640"/>
          </a:xfrm>
          <a:prstGeom prst="ellipse">
            <a:avLst/>
          </a:prstGeom>
          <a:solidFill>
            <a:srgbClr val="0002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37800" y="5029200"/>
            <a:ext cx="748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89640" y="548640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213680" y="594360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13680" y="63658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34360" y="2773440"/>
            <a:ext cx="185760" cy="155520"/>
          </a:xfrm>
          <a:custGeom>
            <a:avLst/>
            <a:gdLst/>
            <a:ahLst/>
            <a:rect l="l" t="t" r="r" b="b"/>
            <a:pathLst>
              <a:path w="117" h="98">
                <a:moveTo>
                  <a:pt x="59" y="0"/>
                </a:moveTo>
                <a:lnTo>
                  <a:pt x="0" y="97"/>
                </a:lnTo>
                <a:lnTo>
                  <a:pt x="116" y="97"/>
                </a:lnTo>
                <a:lnTo>
                  <a:pt x="59" y="0"/>
                </a:lnTo>
              </a:path>
            </a:pathLst>
          </a:custGeom>
          <a:solidFill>
            <a:srgbClr val="ff0006"/>
          </a:solidFill>
          <a:ln cap="rnd" w="12600">
            <a:solidFill>
              <a:srgbClr val="ff00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37360" y="2895480"/>
            <a:ext cx="86364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.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12160" y="2133720"/>
            <a:ext cx="86328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320" rIns="130320" tIns="65160" bIns="65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825560"/>
                <a:tab algn="l" pos="3651120"/>
                <a:tab algn="l" pos="5477040"/>
                <a:tab algn="l" pos="7302600"/>
                <a:tab algn="l" pos="9128160"/>
                <a:tab algn="l" pos="10953720"/>
              </a:tabLst>
            </a:pP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8.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505320"/>
            <a:ext cx="1828800" cy="1218960"/>
          </a:xfrm>
          <a:prstGeom prst="ellipse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4D7-4AB4-4A36-901E-0BD62A674F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Virus CRF02 sous-estimé en Monitor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581280" cy="4114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896560" y="2286000"/>
            <a:ext cx="60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8, Cobas Taqman, extrait Ampliprep, n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4400" y="259092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41, Nuclisens EasyQ, n= 1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9200" y="327672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7, LCX, n= 4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6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520" y="495288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04, Monitor sensibilisé, n= 56; 6 neg / 56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.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nitor standard: 23 neg /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920" y="388620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76, bDNA, n= 37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7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7400" y="358128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81, Cobas Taqman, extrait manuel, n= 7,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.6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D719-DD49-401B-B016-D521CEBDE8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NQ: Conclus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rus B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nitor et bDNA : résultats très proches et similaires à ceux obtenus en 2003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cart inquiétant de 0.6 log en fonction de la technique d’extraction du Cobas Taqma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rus CRF02 connu sous-estimé en Monito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firmé: inférieur de 0.7 log à bDNA (2.8 log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 détecté dans 11% des cas en Monitor sensibilisé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is bDNA inférieur de 0.7 log à Cobas Taqma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ifficulté à définir une sous-estimation, par référence à quelle technique ?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936-C0E1-4500-8D96-FD4F0015E9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T PCR LTR en temps réel de l’ANRS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11 et AC1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BE0-84A0-4D86-85A4-B02DD99F76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CR ANRS 2° Générat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nde : modifiée courte (15 bases)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morce 5’ modifiée (nec 05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actifs Invitroge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tocoles d’amplification Abi Prism et Light Cycle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ous les réactifs reconditionnés par la firme Biocentric: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kits avec standard Acrometrix de 240 réactions (ou autre conditionnement)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ocentric@biocentric.com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ix 7.2 euros HT / réaction (Qiagen compris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327-0DDE-4780-836F-B53CF1030F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CR ANRS 2° génération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aluation de virus d’origine diverse par référence à Monitor ou bDN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1676520"/>
          <a:ext cx="8458200" cy="43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458200" cy="43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306720" y="5181480"/>
            <a:ext cx="9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 2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 0.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ou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55627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F4B-83BD-462D-8266-64949CF436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valuation inter-laboratoires de la RT-PCR ANRS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n kits Biocentric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29 échantillons dont 58 avec sous-type connu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 labos AC11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 ABI Prism (7000, 7700, 7900) et 4 Light Cycle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araison à la technique de routine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nitor 181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bas Taqman 32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DNA 16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E2F-53EC-4096-B55C-3CC8E910F8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echniques de quantification de l’ARN VIH-1 disponibl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chn. Initial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CX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ersant BDNA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uclisens Q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onitor +/- Coba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90960" y="198108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 temps réel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bbott RealTim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T-PCR LT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uclisens EasyQ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bas TaqMan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98108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bo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omeri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057400"/>
            <a:ext cx="0" cy="4267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CC9-ACCA-4C09-A407-38438DDBC4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mparaison des résultats d’ARN VIH en technique ANRS et de routin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133720"/>
            <a:ext cx="5268960" cy="4114800"/>
            <a:chOff x="1905120" y="2133720"/>
            <a:chExt cx="5268960" cy="4114800"/>
          </a:xfrm>
        </p:grpSpPr>
        <p:sp>
          <p:nvSpPr>
            <p:cNvPr id="321" name=""/>
            <p:cNvSpPr/>
            <p:nvPr/>
          </p:nvSpPr>
          <p:spPr>
            <a:xfrm flipV="1">
              <a:off x="2438280" y="2285640"/>
              <a:ext cx="4343400" cy="28954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743200" y="2514240"/>
              <a:ext cx="4343400" cy="28954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905120" y="2133720"/>
              <a:ext cx="5268960" cy="41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"/>
          <p:cNvSpPr/>
          <p:nvPr/>
        </p:nvSpPr>
        <p:spPr>
          <a:xfrm>
            <a:off x="1598760" y="1676520"/>
            <a:ext cx="60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06 echantillons positifs dans les 2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91320" y="4572000"/>
            <a:ext cx="28954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% : ANRS &lt; Rout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 + de 0.5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2362320"/>
            <a:ext cx="3429000" cy="764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24% : ANRS &gt; Rout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e + de 0.5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3960" y="3824280"/>
            <a:ext cx="13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nte 0.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0.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E52-A6AC-4C9E-88D7-75CC3D5BFB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aison des résultats d’ARN VIH en t. ANRS et de routine, en fonction du sous-typ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92520" y="1523880"/>
            <a:ext cx="37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érence ANRS -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5222880" cy="41148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752480" y="35053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52680" y="3429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5160" y="3200400"/>
            <a:ext cx="625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é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00800" y="3048120"/>
            <a:ext cx="6256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é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16840" y="2209680"/>
            <a:ext cx="251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us-estim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0.5 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 techn. A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B, D,     A,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 techn. 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CRF06, F1,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B, A, CRF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77600" y="586728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=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77800" y="5791320"/>
            <a:ext cx="61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=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F837-B80F-4252-A8F8-D5923A89B9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mélioration de la méthode ANR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étection des sous-types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tilisation pratique (kits Biocentric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tilisation à Necker en routine comme 2° technique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tilisation en PED en routine et dans les protocoles ANRS (Cambodge, Congo, Cote d’Ivoire)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ursuite de l’évaluation par les laboratoires de l’AC11 et de l’AC12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E05-9F0D-4A69-B6F9-78B4942B30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boratoire de Virologie, Hopital Necker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 Rouzioux, ML Chaix, M Leruez, V Avettand, C Seels, C Jamet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upe "Quantification du VIH", AC11, AN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ordination : JM. Seigneurin, C. Rouzioux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. Descamps, F Damond (Bichat, Paris), I. Pellegrin, I Garrigue, S Capdepont (Bordeaux), A. Vabret (Caen), G. Bargues (Grenoble), C. Tamalet, P Colson (Marseille), B. Amellal (Pitié, Paris), O Guisthau, A. Ruffault, (Rennes), M. Gueudin, JC Plantier (Rouen), K Saune (Toulouse), M. Burgard (Necker, Paris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upe "Techniques Alternatives de Virologie”, AC12, ANR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ordination : C. Rouzioux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 Manigart (Burkina Faso), JM Reynes (Cambodge), E Nerrienet (Cameroun), F Rouet, C Montcho (Cote d’Ivoire), M Peeters (Montpellier), S Mboup, C ToureKane (Senegal), P Hung (Vietnam), B Bazin, S Blesson (ANRS)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C2CB-7E98-420B-ACA5-304D71B78A11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ocalisation de la région du génome HIV amplifiée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3068640"/>
          <a:ext cx="777240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68640"/>
                    <a:ext cx="7772400" cy="1938240"/>
                  </a:xfrm>
                  <a:prstGeom prst="rect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82880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720" y="179388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uclis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19520" y="2590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25909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6800" y="20988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25909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8720" y="20574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C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3440" y="54100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37160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828800" y="48765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7720" y="53751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bas Taq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uclisens Easy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11480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920" y="533412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bott Real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0040" y="1771560"/>
            <a:ext cx="28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echn. init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561672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 temps ré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AC4-3E7B-4864-890A-C547E9461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echniques d’extract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nuelle et automatisé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pour les 4 techniques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Non spécifiqu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r adsorption sur silice ou oxyde de fer (abbott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uf Ampliprep (automate Roche): 2 technique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on spécifiqu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écifique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: capture par sonde HIV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4A05-0D6F-4955-AC46-F461998135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mplificat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T-PCR (PCR après Reverse Transcriptase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auf Nuclisens EasyQ: méthode NASBA à température stable (41°C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3657600"/>
            <a:ext cx="6248520" cy="2136240"/>
            <a:chOff x="914400" y="3657600"/>
            <a:chExt cx="6248520" cy="2136240"/>
          </a:xfrm>
        </p:grpSpPr>
        <p:sp>
          <p:nvSpPr>
            <p:cNvPr id="81" name=""/>
            <p:cNvSpPr/>
            <p:nvPr/>
          </p:nvSpPr>
          <p:spPr>
            <a:xfrm flipV="1">
              <a:off x="914400" y="4022280"/>
              <a:ext cx="83808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0200" y="4313160"/>
              <a:ext cx="6858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209680" y="4701960"/>
              <a:ext cx="838440" cy="29196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86000" y="4751280"/>
              <a:ext cx="838080" cy="2923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4600" y="4237200"/>
              <a:ext cx="123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RN VI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903320" y="4216320"/>
              <a:ext cx="125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DN VI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68640" y="4169160"/>
              <a:ext cx="2246040" cy="777240"/>
              <a:chOff x="3068640" y="4169160"/>
              <a:chExt cx="2246040" cy="777240"/>
            </a:xfrm>
          </p:grpSpPr>
          <p:sp>
            <p:nvSpPr>
              <p:cNvPr id="88" name=""/>
              <p:cNvSpPr/>
              <p:nvPr/>
            </p:nvSpPr>
            <p:spPr>
              <a:xfrm rot="10800000">
                <a:off x="3068640" y="4169160"/>
                <a:ext cx="2114280" cy="77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0800000">
                <a:off x="3200400" y="4169160"/>
                <a:ext cx="2114280" cy="77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3143160" y="4555800"/>
              <a:ext cx="2249280" cy="777960"/>
              <a:chOff x="3143160" y="4555800"/>
              <a:chExt cx="2249280" cy="777960"/>
            </a:xfrm>
          </p:grpSpPr>
          <p:sp>
            <p:nvSpPr>
              <p:cNvPr id="91" name=""/>
              <p:cNvSpPr/>
              <p:nvPr/>
            </p:nvSpPr>
            <p:spPr>
              <a:xfrm>
                <a:off x="3278160" y="4555800"/>
                <a:ext cx="2114280" cy="77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143160" y="4555800"/>
                <a:ext cx="2114280" cy="77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V="1">
              <a:off x="5562720" y="4654080"/>
              <a:ext cx="83808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6019920" y="4848120"/>
              <a:ext cx="838080" cy="2923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019920" y="4800240"/>
              <a:ext cx="83808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6172200" y="4944960"/>
              <a:ext cx="838080" cy="2923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172200" y="4800240"/>
              <a:ext cx="83808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019920" y="4800240"/>
              <a:ext cx="83808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6172200" y="4800240"/>
              <a:ext cx="83808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6324480" y="4897080"/>
              <a:ext cx="838440" cy="29196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65600" y="3722760"/>
              <a:ext cx="123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ARN VI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324480" y="4557240"/>
              <a:ext cx="838440" cy="29052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172200" y="4701960"/>
              <a:ext cx="838080" cy="291960"/>
            </a:xfrm>
            <a:prstGeom prst="line">
              <a:avLst/>
            </a:prstGeom>
            <a:ln w="50760">
              <a:solidFill>
                <a:srgbClr val="037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46680" y="5334120"/>
              <a:ext cx="242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ébut de réac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068640" y="4191480"/>
              <a:ext cx="2246040" cy="777240"/>
              <a:chOff x="3068640" y="4191480"/>
              <a:chExt cx="2246040" cy="777240"/>
            </a:xfrm>
          </p:grpSpPr>
          <p:sp>
            <p:nvSpPr>
              <p:cNvPr id="106" name=""/>
              <p:cNvSpPr/>
              <p:nvPr/>
            </p:nvSpPr>
            <p:spPr>
              <a:xfrm rot="10800000">
                <a:off x="3068640" y="4191480"/>
                <a:ext cx="2114280" cy="77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0800000">
                <a:off x="3200400" y="4191480"/>
                <a:ext cx="2114280" cy="77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277080" y="365760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man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2887-69AE-4527-B83E-4373C55B88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tect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RS et Cobas Taqma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 Taqman ou 5’ nucleas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33160" y="3048120"/>
            <a:ext cx="2868840" cy="650880"/>
            <a:chOff x="533160" y="3048120"/>
            <a:chExt cx="2868840" cy="650880"/>
          </a:xfrm>
        </p:grpSpPr>
        <p:sp>
          <p:nvSpPr>
            <p:cNvPr id="112" name=""/>
            <p:cNvSpPr/>
            <p:nvPr/>
          </p:nvSpPr>
          <p:spPr>
            <a:xfrm>
              <a:off x="793440" y="3583080"/>
              <a:ext cx="15062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3160" y="3048120"/>
              <a:ext cx="783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' Flu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23280" y="3061080"/>
              <a:ext cx="127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' Quench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000" y="3483000"/>
              <a:ext cx="221760" cy="2034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76280" y="3495960"/>
              <a:ext cx="221760" cy="2030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581280" y="32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724280" y="2362320"/>
            <a:ext cx="4064040" cy="1279440"/>
            <a:chOff x="4724280" y="2362320"/>
            <a:chExt cx="4064040" cy="1279440"/>
          </a:xfrm>
        </p:grpSpPr>
        <p:sp>
          <p:nvSpPr>
            <p:cNvPr id="119" name=""/>
            <p:cNvSpPr/>
            <p:nvPr/>
          </p:nvSpPr>
          <p:spPr>
            <a:xfrm>
              <a:off x="4741920" y="3456000"/>
              <a:ext cx="50796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24280" y="3641760"/>
              <a:ext cx="4064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020000" y="3420720"/>
              <a:ext cx="531720" cy="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08680" y="2674800"/>
              <a:ext cx="222120" cy="202680"/>
            </a:xfrm>
            <a:prstGeom prst="ellipse">
              <a:avLst/>
            </a:prstGeom>
            <a:solidFill>
              <a:srgbClr val="66ff33"/>
            </a:solidFill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27960" y="3333600"/>
              <a:ext cx="222120" cy="202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99280" y="3278160"/>
              <a:ext cx="75960" cy="248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70640" y="3292200"/>
              <a:ext cx="76320" cy="1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26240" y="3236760"/>
              <a:ext cx="22320" cy="853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214680" y="3098520"/>
              <a:ext cx="3240" cy="759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105240" y="3227400"/>
              <a:ext cx="75960" cy="756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54560" y="3456000"/>
              <a:ext cx="1635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03720" y="2362320"/>
              <a:ext cx="0" cy="2919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0" y="2900160"/>
              <a:ext cx="0" cy="29196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61040" y="2760480"/>
              <a:ext cx="29196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95840" y="2778120"/>
              <a:ext cx="292320" cy="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78280" y="2525400"/>
              <a:ext cx="228600" cy="1774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724000" y="2852640"/>
              <a:ext cx="189000" cy="2314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14960" y="2847960"/>
              <a:ext cx="228600" cy="1774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105600" y="2458800"/>
              <a:ext cx="188640" cy="231480"/>
            </a:xfrm>
            <a:prstGeom prst="line">
              <a:avLst/>
            </a:prstGeom>
            <a:ln w="284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62120" y="46483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ANRS: Sonde courte de 15 ba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BF6-051A-4BDD-8603-F7985689FF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etect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isens EasyQ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alise moléculaire (beacon), hybridation à 41°C, bases univers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bott Realtim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nde standard interne : même principe que balise moleculaire avec repliement tridimensionnel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onde HIV: Longue double brin (43 bases), hybridation et lecture à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5°C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23880" y="2057400"/>
            <a:ext cx="5109480" cy="1069200"/>
            <a:chOff x="1523880" y="2057400"/>
            <a:chExt cx="5109480" cy="1069200"/>
          </a:xfrm>
        </p:grpSpPr>
        <p:grpSp>
          <p:nvGrpSpPr>
            <p:cNvPr id="142" name=""/>
            <p:cNvGrpSpPr/>
            <p:nvPr/>
          </p:nvGrpSpPr>
          <p:grpSpPr>
            <a:xfrm>
              <a:off x="1523880" y="2057400"/>
              <a:ext cx="482760" cy="1015920"/>
              <a:chOff x="1523880" y="2057400"/>
              <a:chExt cx="482760" cy="1015920"/>
            </a:xfrm>
          </p:grpSpPr>
          <p:sp>
            <p:nvSpPr>
              <p:cNvPr id="143" name=""/>
              <p:cNvSpPr/>
              <p:nvPr/>
            </p:nvSpPr>
            <p:spPr>
              <a:xfrm>
                <a:off x="1650960" y="2489040"/>
                <a:ext cx="0" cy="4572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803240" y="2489040"/>
                <a:ext cx="0" cy="4572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23880" y="2057400"/>
                <a:ext cx="482760" cy="482400"/>
              </a:xfrm>
              <a:prstGeom prst="ellipse">
                <a:avLst/>
              </a:prstGeom>
              <a:noFill/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50960" y="2641680"/>
                <a:ext cx="15228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650960" y="2793960"/>
                <a:ext cx="15228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650960" y="2870280"/>
                <a:ext cx="15228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650960" y="2717640"/>
                <a:ext cx="152280" cy="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23880" y="2971800"/>
                <a:ext cx="177840" cy="101520"/>
              </a:xfrm>
              <a:prstGeom prst="ellipse">
                <a:avLst/>
              </a:prstGeom>
              <a:solidFill>
                <a:srgbClr val="7fff00"/>
              </a:solidFill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52480" y="2971800"/>
                <a:ext cx="177840" cy="101520"/>
              </a:xfrm>
              <a:prstGeom prst="ellipse">
                <a:avLst/>
              </a:prstGeom>
              <a:solidFill>
                <a:srgbClr val="000000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124080" y="2540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488560" y="2842200"/>
              <a:ext cx="1144800" cy="698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473440" y="2666880"/>
              <a:ext cx="990720" cy="76320"/>
            </a:xfrm>
            <a:prstGeom prst="line">
              <a:avLst/>
            </a:prstGeom>
            <a:ln w="5076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72000" y="2514240"/>
              <a:ext cx="1440" cy="2286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464160" y="2514240"/>
              <a:ext cx="0" cy="1522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62640" y="2413080"/>
              <a:ext cx="177840" cy="10152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57800" y="2133720"/>
              <a:ext cx="368280" cy="463320"/>
            </a:xfrm>
            <a:prstGeom prst="star5">
              <a:avLst/>
            </a:prstGeom>
            <a:solidFill>
              <a:srgbClr val="7fff00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06000" y="281952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mp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08520" y="5029200"/>
            <a:ext cx="8301960" cy="846720"/>
            <a:chOff x="308520" y="5029200"/>
            <a:chExt cx="8301960" cy="846720"/>
          </a:xfrm>
        </p:grpSpPr>
        <p:sp>
          <p:nvSpPr>
            <p:cNvPr id="161" name=""/>
            <p:cNvSpPr/>
            <p:nvPr/>
          </p:nvSpPr>
          <p:spPr>
            <a:xfrm>
              <a:off x="1066680" y="5370480"/>
              <a:ext cx="27432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552276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0720" y="5264280"/>
              <a:ext cx="177840" cy="101520"/>
            </a:xfrm>
            <a:prstGeom prst="ellipse">
              <a:avLst/>
            </a:prstGeom>
            <a:solidFill>
              <a:srgbClr val="7fff00"/>
            </a:solidFill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1480" y="5467320"/>
              <a:ext cx="177840" cy="10152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549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5568840"/>
              <a:ext cx="36576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416560"/>
              <a:ext cx="274320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4120" y="5029200"/>
              <a:ext cx="368280" cy="463680"/>
            </a:xfrm>
            <a:prstGeom prst="star5">
              <a:avLst/>
            </a:prstGeom>
            <a:solidFill>
              <a:srgbClr val="7fff00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8120" y="521820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lu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8520" y="54468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enc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39520" y="5568840"/>
              <a:ext cx="84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cc"/>
                  </a:solidFill>
                  <a:latin typeface="Times New Roman"/>
                </a:rPr>
                <a:t>amp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1F55-9662-4BF0-B172-E0B2BF68F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antificat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bas Taqman et Nuclisens EasyQ: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Intern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reconnu par sonde different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bas Taqman: ratio des CT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uclisens EasyQ: ratio des « pentes » de fluorescenc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bott RealTime et ANR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extern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bbott RealTime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lidation par standard interne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F75-9141-4E30-9A5B-36051D2955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1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versité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tre ces méthodes en temps réel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tre les 2 (ou 3) techniques d’extraction d’une même méthode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Nécessité de suivre un patient strictement dans la même technique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éacto-vigilance (stabilité) : très importante pour ces nouvelles techniques mais d’autant plus difficile que multiples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blème des virus sous-quantifié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possible de transposer les résultats obtenus avec la méthode précédente de même localisation.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À explorer pour ces méthodes sur de nombreux virus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u lié au sous-type (CRF et Unic Recombinant Frequents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sques de problèmes de spécificité ?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(Algorithmes de lecture des courbes)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664-6CA1-42A2-B977-7773ECBA93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12:12:33Z</dcterms:created>
  <dc:creator>burgard</dc:creator>
  <dc:description/>
  <dc:language>en-US</dc:language>
  <cp:lastModifiedBy>burgard</cp:lastModifiedBy>
  <dcterms:modified xsi:type="dcterms:W3CDTF">2005-11-22T06:44:20Z</dcterms:modified>
  <cp:revision>59</cp:revision>
  <dc:subject/>
  <dc:title>Présentation PowerPoint</dc:title>
</cp:coreProperties>
</file>