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hdr"/>
          </p:nvPr>
        </p:nvSpPr>
        <p:spPr>
          <a:xfrm>
            <a:off x="898200" y="115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3774960" y="115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56CB-08D1-4018-B7FA-E340D4459F0C}" type="datetime">
              <a:rPr b="0" lang="fr-FR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2"/>
          </p:nvPr>
        </p:nvSpPr>
        <p:spPr>
          <a:xfrm>
            <a:off x="-360" y="92739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 type="sldNum" idx="3"/>
          </p:nvPr>
        </p:nvSpPr>
        <p:spPr>
          <a:xfrm>
            <a:off x="3774960" y="92739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4D32-DEDD-4CAF-8D06-8F33FC2842B0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"/>
          <p:cNvSpPr txBox="1"/>
          <p:nvPr/>
        </p:nvSpPr>
        <p:spPr>
          <a:xfrm>
            <a:off x="3774960" y="92739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09CD-9721-4F4E-973B-5A5E9EDEAC98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-360" y="92739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898200" y="115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3774960" y="115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BF64-46BC-4C13-893B-9CEB658015CE}" type="datetime">
              <a:rPr b="0" lang="fr-FR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871560" y="7365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66720" y="4669920"/>
            <a:ext cx="53294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sumé des 3 profils de réponse observés 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3774960" y="92739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DF68-4B43-401E-980A-38ADE03553DD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-360" y="92739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898200" y="115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3774960" y="115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801B-344F-4F8A-B6AF-64C24FAEE85D}" type="datetime">
              <a:rPr b="0" lang="fr-FR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7960" cy="368748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866520" y="4646160"/>
            <a:ext cx="493236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is slide come frome the Center fot Disease Control and show the HCV Infection testing algorythm for diagn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 you can see the Nucleic Acid Testing as PCR is use in a second line to confirm the positive sample for Ab DETECTIO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 txBox="1"/>
          <p:nvPr/>
        </p:nvSpPr>
        <p:spPr>
          <a:xfrm>
            <a:off x="3774960" y="92739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E722-A97A-40D1-8218-F5D2AF022EFB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-360" y="92739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898200" y="115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3774960" y="115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A3A3-BAB0-4E39-BE41-EBAC9DE75DCE}" type="datetime">
              <a:rPr b="0" lang="fr-FR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871560" y="7365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66720" y="4669920"/>
            <a:ext cx="532944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 txBox="1"/>
          <p:nvPr/>
        </p:nvSpPr>
        <p:spPr>
          <a:xfrm>
            <a:off x="3774960" y="92739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4E6-1321-4A82-99CF-F2470748C865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-360" y="92739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898200" y="115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3774960" y="115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F04-B77D-4DEA-AB9A-7CC5FB78AD7A}" type="datetime">
              <a:rPr b="0" lang="fr-FR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871560" y="7365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666720" y="4669920"/>
            <a:ext cx="53294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-Essai en plaque 96 puits. Chaque puit est coaté par d’une part un Ac anti-capside du VHC, et d’autre part par les protéines virales NS3, NS4 et capside (muté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- Addition du sérum du patient (50µl) =&gt; fixation de la capside sérique sur l’Ac anti-capside coaté ; et des Ac sériques anti-NS3, NS4 et C sur les protéines coat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- addition d’1 Ac monoclonal anti-capside biotinylé qui se fixe sur la capside sérique (et pas sur la capside coatée car elle est muté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ère étape d’incub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- 2e étape = révélation, par addition d’une part d’une streptavidine couplée à la peroxydase ; et d’autre part par des Ac anti-IgG humaines couplés à la peroxydase. Ensuite addition du substrat de la peroxydase et lecture de la densité optique, proportionnelle à la concentration de chaque composant sér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sultat positif = présence dans le sérum d’Ac anti-VHC ET/OU de la capside du VH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3774960" y="92739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D03-9776-45FA-AEE3-66B9A2514119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-360" y="92739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898200" y="115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774960" y="115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C69B-F322-442B-930D-EA3515778F47}" type="datetime">
              <a:rPr b="0" lang="fr-FR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871560" y="7365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666720" y="4669920"/>
            <a:ext cx="53294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 les patients VIH coinfectés ou non par le VHC, on a regardé le résultat du test combo. On démontr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de fausse réactivité négative sur les hépatites C chro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de réactivité faux positif sur des patients ayant une sérologie nég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conclue que le test présente une bonne spécificité/sensibilité dans une population VIH (sur un nombre limité d'échantill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 il y a une grande marge entre les échantillons négatifs et positifs et que les échantillons négatifs sont toujours inférieur à 0.3 de ratio (valeur du patient en densité optique / valeur des témoins du test), on peut proposer un seuil de 0.5 inférieur à celui proposé par le fabricant pour essayer d'augmenter la sensibilité du test (seuil sensibili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HIV study population, the new assay showed a very good discrimination between HCV positive (mean ratio 7.5) and negative patients (mean ratio 0.15) (figure 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2 HCV positive samples had a ratio below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HCV negative samples had a ratio below 0.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our evaluation, a ratio around 0.5 may be suggested to allow for a better sensi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 txBox="1"/>
          <p:nvPr/>
        </p:nvSpPr>
        <p:spPr>
          <a:xfrm>
            <a:off x="3774960" y="92739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FE2C-A97E-4B61-B888-214A02B99801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-360" y="92739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898200" y="115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3774960" y="115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7AFB-EC95-4489-AE43-B227C5DCBFE7}" type="datetime">
              <a:rPr b="0" lang="fr-FR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871560" y="7365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66720" y="4669920"/>
            <a:ext cx="53294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- Patients suivis pour leur VIH = CV tous les 3 m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- Diagnostic d’hépatite C, confirmé par une PCR VHC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- remontée rétrospective dans les prélèvements antérieurs disponibles pour dater la dernière PCR négative et la 1èr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- 17 patients ont pu être étudiés, qui remplissaient strictement tous les critères : (…) Seuls 16 patients ont présenté une séroconversion complète (séro VHC 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 txBox="1"/>
          <p:nvPr/>
        </p:nvSpPr>
        <p:spPr>
          <a:xfrm>
            <a:off x="3774960" y="92739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F674-F30E-4082-A18B-8ADAB2711636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-360" y="92739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898200" y="115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3774960" y="115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57240" rIns="572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DA4A-B6EA-4D1B-A5D5-E248541E54E1}" type="datetime">
              <a:rPr b="0" lang="fr-FR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871560" y="73656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66720" y="4669920"/>
            <a:ext cx="532944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tilisation du nouveau test combiné sur les sérums de ces 17 patients en hépatites aigue = 3 types de prof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= profil le plus fréquent (9 patients /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1- PCR positive avant élévation des tran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- Séroconversion contemporaine du pic de transas = en général moment du diagnostic cli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- avec le nouveau test : résultat déjà positif au moment de la 1ère PCR positive et surtout </a:t>
            </a: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avant l’apparition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des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- idem avec le seuil sensibi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5- Conclusion : (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3342960"/>
            <a:ext cx="77724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334296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334296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334296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334296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3342960"/>
            <a:ext cx="250236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26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77880" y="12240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34296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0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334296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342960"/>
            <a:ext cx="7772400" cy="12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6629400"/>
            <a:ext cx="8184600" cy="227160"/>
            <a:chOff x="685800" y="6629400"/>
            <a:chExt cx="8184600" cy="22716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4960" cy="22716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7800" y="6746760"/>
              <a:ext cx="4332600" cy="65160"/>
              <a:chOff x="453780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7800" y="6746760"/>
                <a:ext cx="66960" cy="6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7640" y="6746760"/>
                <a:ext cx="66600" cy="6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120" y="6746760"/>
                <a:ext cx="65160" cy="6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6600" y="6746760"/>
                <a:ext cx="65160" cy="6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6440" y="6746760"/>
                <a:ext cx="66600" cy="6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5920" y="6746760"/>
                <a:ext cx="66600" cy="6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5400" y="6746760"/>
                <a:ext cx="66960" cy="6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240" y="6746760"/>
                <a:ext cx="65160" cy="65160"/>
              </a:xfrm>
              <a:prstGeom prst="ellipse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" name=""/>
          <p:cNvGrpSpPr/>
          <p:nvPr/>
        </p:nvGrpSpPr>
        <p:grpSpPr>
          <a:xfrm>
            <a:off x="203040" y="117360"/>
            <a:ext cx="68400" cy="522360"/>
            <a:chOff x="203040" y="117360"/>
            <a:chExt cx="68400" cy="522360"/>
          </a:xfrm>
        </p:grpSpPr>
        <p:sp>
          <p:nvSpPr>
            <p:cNvPr id="12" name=""/>
            <p:cNvSpPr/>
            <p:nvPr/>
          </p:nvSpPr>
          <p:spPr>
            <a:xfrm>
              <a:off x="203040" y="117360"/>
              <a:ext cx="68400" cy="669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3040" y="347760"/>
              <a:ext cx="684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03040" y="574560"/>
              <a:ext cx="684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3399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26071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 algn="just">
              <a:spcBef>
                <a:spcPts val="499"/>
              </a:spcBef>
              <a:buClr>
                <a:srgbClr val="ffffff"/>
              </a:buClr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3" marL="1584000" indent="-226080" algn="just">
              <a:spcBef>
                <a:spcPts val="499"/>
              </a:spcBef>
              <a:buClr>
                <a:srgbClr val="ffffff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4" marL="2036520" indent="-226080" algn="just">
              <a:spcBef>
                <a:spcPts val="499"/>
              </a:spcBef>
              <a:buClr>
                <a:srgbClr val="ffffff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5" marL="2036520" indent="-226080" algn="just"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6" marL="2036520" indent="-226080" algn="just">
              <a:spcBef>
                <a:spcPts val="499"/>
              </a:spcBef>
              <a:buClr>
                <a:srgbClr val="000000"/>
              </a:buClr>
              <a:buFont typeface="Monotype Sort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114480" y="1523880"/>
            <a:ext cx="158400" cy="4648320"/>
            <a:chOff x="114480" y="1523880"/>
            <a:chExt cx="158400" cy="4648320"/>
          </a:xfrm>
        </p:grpSpPr>
        <p:sp>
          <p:nvSpPr>
            <p:cNvPr id="18" name=""/>
            <p:cNvSpPr/>
            <p:nvPr/>
          </p:nvSpPr>
          <p:spPr>
            <a:xfrm>
              <a:off x="114480" y="1523880"/>
              <a:ext cx="149760" cy="182880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4480" y="3505320"/>
              <a:ext cx="149760" cy="30456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4480" y="409572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14480" y="4686480"/>
              <a:ext cx="149760" cy="30456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480" y="527688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23120" y="586728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" name=""/>
          <p:cNvSpPr/>
          <p:nvPr/>
        </p:nvSpPr>
        <p:spPr>
          <a:xfrm>
            <a:off x="781200" y="6643800"/>
            <a:ext cx="159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ffffff"/>
                </a:solidFill>
                <a:latin typeface="Comic Sans MS"/>
              </a:rPr>
              <a:t>V.THIBAULT – CVV  22 Nov.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33440" y="387360"/>
            <a:ext cx="8364600" cy="17020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66ff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Place d'un test combiné VHC dans un algorithme de diagnostic de l'infection par le virus de l'hépatit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212200" y="4416480"/>
            <a:ext cx="4794120" cy="2098440"/>
            <a:chOff x="2212200" y="4416480"/>
            <a:chExt cx="4794120" cy="2098440"/>
          </a:xfrm>
        </p:grpSpPr>
        <p:sp>
          <p:nvSpPr>
            <p:cNvPr id="70" name=""/>
            <p:cNvSpPr/>
            <p:nvPr/>
          </p:nvSpPr>
          <p:spPr>
            <a:xfrm>
              <a:off x="3936240" y="4838760"/>
              <a:ext cx="3070080" cy="70380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50000">
                  <a:srgbClr val="0066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Vincent THIBA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Laboratoire de Virologi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2717640" y="4416480"/>
              <a:ext cx="122112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212200" y="5872320"/>
              <a:ext cx="2221200" cy="64260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50000">
                  <a:srgbClr val="0066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omic Sans MS"/>
                </a:rPr>
                <a:t>Groupe Hospital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omic Sans MS"/>
                </a:rPr>
                <a:t>Pitié-Salpêtriè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205000" y="2538360"/>
            <a:ext cx="4819680" cy="1283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Comic Sans MS"/>
              </a:rPr>
              <a:t>La stratégie diagnostique pour le VHC doit elle se démarquer de celle pratiquée pour le VIH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"/>
          <p:cNvGrpSpPr/>
          <p:nvPr/>
        </p:nvGrpSpPr>
        <p:grpSpPr>
          <a:xfrm>
            <a:off x="1228680" y="1560600"/>
            <a:ext cx="6877080" cy="4364280"/>
            <a:chOff x="1228680" y="1560600"/>
            <a:chExt cx="6877080" cy="4364280"/>
          </a:xfrm>
        </p:grpSpPr>
        <p:sp>
          <p:nvSpPr>
            <p:cNvPr id="851" name=""/>
            <p:cNvSpPr/>
            <p:nvPr/>
          </p:nvSpPr>
          <p:spPr>
            <a:xfrm>
              <a:off x="1241280" y="1560600"/>
              <a:ext cx="6861240" cy="238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2" name=""/>
            <p:cNvGraphicFramePr/>
            <p:nvPr/>
          </p:nvGraphicFramePr>
          <p:xfrm>
            <a:off x="1297080" y="1666800"/>
            <a:ext cx="6800760" cy="2192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7080" y="1666800"/>
                      <a:ext cx="6800760" cy="21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4" name=""/>
            <p:cNvSpPr/>
            <p:nvPr/>
          </p:nvSpPr>
          <p:spPr>
            <a:xfrm>
              <a:off x="2263680" y="1739880"/>
              <a:ext cx="5832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0                650              700             750              800      jou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6200000">
              <a:off x="747720" y="266040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ALAT (UI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950840" y="1987560"/>
              <a:ext cx="406440" cy="191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25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25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2770200" y="2027160"/>
              <a:ext cx="216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857680" y="2027160"/>
              <a:ext cx="21564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28680" y="3827520"/>
              <a:ext cx="6867720" cy="678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2000" spc="-1" strike="noStrike">
                  <a:solidFill>
                    <a:srgbClr val="0066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CR  -         +  +   +    +  +       +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V VHC (log UI/ml)       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6,67   6,49      6,49         6,57    6,55                  6,6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228680" y="4870440"/>
              <a:ext cx="6877080" cy="5511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g-Ac -         -  -   -    -  -       -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lang="fr-FR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uil 1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228680" y="5373720"/>
              <a:ext cx="6869160" cy="5511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g-Ac -         </a:t>
              </a:r>
              <a:r>
                <a:rPr b="1" lang="fr-FR" sz="1800" spc="-1" strike="noStrike">
                  <a:solidFill>
                    <a:srgbClr val="ff0066"/>
                  </a:solidFill>
                  <a:latin typeface="Courier New"/>
                  <a:ea typeface="Courier New"/>
                </a:rPr>
                <a:t>+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-   -    </a:t>
              </a:r>
              <a:r>
                <a:rPr b="1" lang="fr-FR" sz="1800" spc="-1" strike="noStrike">
                  <a:solidFill>
                    <a:srgbClr val="ff0066"/>
                  </a:solidFill>
                  <a:latin typeface="Courier New"/>
                  <a:ea typeface="Courier New"/>
                </a:rPr>
                <a:t>+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fr-FR" sz="1800" spc="-1" strike="noStrike">
                  <a:solidFill>
                    <a:srgbClr val="ff0066"/>
                  </a:solidFill>
                  <a:latin typeface="Courier New"/>
                  <a:ea typeface="Courier New"/>
                </a:rPr>
                <a:t>+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-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uil 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28680" y="4486320"/>
              <a:ext cx="6875640" cy="398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ISA -         -  -   -    -  -       -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2572200" y="38592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Profil d’évolution C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n = 1 pati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19240" y="6143760"/>
            <a:ext cx="87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Fenêtre séronégative prolongée : résultats « limite » du test combi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3399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00"/>
                </a:solidFill>
                <a:latin typeface="Comic Sans MS"/>
              </a:rPr>
              <a:t>Monsieur JR., 37 ans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6" name=""/>
          <p:cNvSpPr/>
          <p:nvPr/>
        </p:nvSpPr>
        <p:spPr>
          <a:xfrm>
            <a:off x="495360" y="98748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Patient VIH+ Homosexuel, pratiques à ris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5360" y="1508040"/>
            <a:ext cx="47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Consulte le 4/06/2004 pour syphil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1430280" y="2103480"/>
            <a:ext cx="7539120" cy="1091160"/>
            <a:chOff x="1430280" y="2103480"/>
            <a:chExt cx="7539120" cy="1091160"/>
          </a:xfrm>
        </p:grpSpPr>
        <p:sp>
          <p:nvSpPr>
            <p:cNvPr id="869" name=""/>
            <p:cNvSpPr/>
            <p:nvPr/>
          </p:nvSpPr>
          <p:spPr>
            <a:xfrm>
              <a:off x="2509920" y="210348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4/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430280" y="2795760"/>
              <a:ext cx="89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ALA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509920" y="279576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3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19360" y="210348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22/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19360" y="279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6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30680" y="210348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13/0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30680" y="279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5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743440" y="210348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09/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54760" y="210348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19/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67520" y="210348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06/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743440" y="279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5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4760" y="279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967520" y="279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31920" y="3981600"/>
            <a:ext cx="8637480" cy="398880"/>
            <a:chOff x="331920" y="3981600"/>
            <a:chExt cx="8637480" cy="398880"/>
          </a:xfrm>
        </p:grpSpPr>
        <p:sp>
          <p:nvSpPr>
            <p:cNvPr id="883" name=""/>
            <p:cNvSpPr/>
            <p:nvPr/>
          </p:nvSpPr>
          <p:spPr>
            <a:xfrm>
              <a:off x="331920" y="3981600"/>
              <a:ext cx="199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Sérologie VH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509920" y="398160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0.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19360" y="39816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0.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630680" y="39816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43440" y="39816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54760" y="39816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0.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967520" y="39816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0.1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36520" y="4573440"/>
            <a:ext cx="8732880" cy="673200"/>
            <a:chOff x="236520" y="4573440"/>
            <a:chExt cx="8732880" cy="673200"/>
          </a:xfrm>
        </p:grpSpPr>
        <p:sp>
          <p:nvSpPr>
            <p:cNvPr id="891" name=""/>
            <p:cNvSpPr/>
            <p:nvPr/>
          </p:nvSpPr>
          <p:spPr>
            <a:xfrm>
              <a:off x="2509920" y="466200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466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630680" y="46620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30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43440" y="46620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36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854760" y="46620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45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967520" y="46620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567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519360" y="46620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308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6520" y="4573440"/>
              <a:ext cx="2097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ARN-VH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omic Sans MS"/>
                </a:rPr>
                <a:t>(10</a:t>
              </a:r>
              <a:r>
                <a:rPr b="0" lang="fr-FR" sz="1800" spc="-1" strike="noStrike" baseline="30000">
                  <a:solidFill>
                    <a:srgbClr val="ffff00"/>
                  </a:solidFill>
                  <a:latin typeface="Comic Sans MS"/>
                </a:rPr>
                <a:t>3</a:t>
              </a:r>
              <a:r>
                <a:rPr b="0" lang="fr-FR" sz="1800" spc="-1" strike="noStrike">
                  <a:solidFill>
                    <a:srgbClr val="ffff00"/>
                  </a:solidFill>
                  <a:latin typeface="Comic Sans MS"/>
                </a:rPr>
                <a:t> UI/m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41280" y="5442120"/>
            <a:ext cx="8628120" cy="398880"/>
            <a:chOff x="341280" y="5442120"/>
            <a:chExt cx="8628120" cy="398880"/>
          </a:xfrm>
        </p:grpSpPr>
        <p:sp>
          <p:nvSpPr>
            <p:cNvPr id="899" name=""/>
            <p:cNvSpPr/>
            <p:nvPr/>
          </p:nvSpPr>
          <p:spPr>
            <a:xfrm>
              <a:off x="2509920" y="544212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ffccff"/>
                  </a:solidFill>
                  <a:uFillTx/>
                  <a:latin typeface="Comic Sans MS"/>
                </a:rPr>
                <a:t>0.58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19360" y="544212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0.38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30680" y="544212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0.27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43440" y="544212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ffccff"/>
                  </a:solidFill>
                  <a:uFillTx/>
                  <a:latin typeface="Comic Sans MS"/>
                </a:rPr>
                <a:t>0.5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54760" y="544212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ffccff"/>
                  </a:solidFill>
                  <a:uFillTx/>
                  <a:latin typeface="Comic Sans MS"/>
                </a:rPr>
                <a:t>0.5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967520" y="544212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 u="sng">
                  <a:solidFill>
                    <a:srgbClr val="ffccff"/>
                  </a:solidFill>
                  <a:uFillTx/>
                  <a:latin typeface="Comic Sans MS"/>
                </a:rPr>
                <a:t>0.54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1280" y="5442120"/>
              <a:ext cx="199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Ag-Ab Ult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34800" y="3387600"/>
            <a:ext cx="8634600" cy="398880"/>
            <a:chOff x="334800" y="3387600"/>
            <a:chExt cx="8634600" cy="398880"/>
          </a:xfrm>
        </p:grpSpPr>
        <p:sp>
          <p:nvSpPr>
            <p:cNvPr id="907" name=""/>
            <p:cNvSpPr/>
            <p:nvPr/>
          </p:nvSpPr>
          <p:spPr>
            <a:xfrm>
              <a:off x="2509920" y="338760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&lt;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743440" y="33876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&lt;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967520" y="338760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&lt;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800" y="338760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CV VI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12760" y="6035760"/>
            <a:ext cx="8756640" cy="398880"/>
            <a:chOff x="212760" y="6035760"/>
            <a:chExt cx="8756640" cy="398880"/>
          </a:xfrm>
        </p:grpSpPr>
        <p:sp>
          <p:nvSpPr>
            <p:cNvPr id="912" name=""/>
            <p:cNvSpPr/>
            <p:nvPr/>
          </p:nvSpPr>
          <p:spPr>
            <a:xfrm>
              <a:off x="2509920" y="6035760"/>
              <a:ext cx="89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1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519360" y="603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8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630680" y="603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3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743440" y="603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12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54760" y="603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2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967520" y="6035760"/>
              <a:ext cx="10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omic Sans MS"/>
                </a:rPr>
                <a:t>4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2760" y="6035760"/>
              <a:ext cx="211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00"/>
                  </a:solidFill>
                  <a:latin typeface="Comic Sans MS"/>
                </a:rPr>
                <a:t>Trak-C (pg/m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5699160" y="0"/>
            <a:ext cx="3444840" cy="2187720"/>
          </a:xfrm>
          <a:prstGeom prst="rect">
            <a:avLst/>
          </a:prstGeom>
          <a:ln w="0">
            <a:noFill/>
          </a:ln>
        </p:spPr>
      </p:pic>
      <p:grpSp>
        <p:nvGrpSpPr>
          <p:cNvPr id="920" name=""/>
          <p:cNvGrpSpPr/>
          <p:nvPr/>
        </p:nvGrpSpPr>
        <p:grpSpPr>
          <a:xfrm>
            <a:off x="2946240" y="2471760"/>
            <a:ext cx="6197760" cy="3987720"/>
            <a:chOff x="2946240" y="2471760"/>
            <a:chExt cx="6197760" cy="3987720"/>
          </a:xfrm>
        </p:grpSpPr>
        <p:grpSp>
          <p:nvGrpSpPr>
            <p:cNvPr id="921" name=""/>
            <p:cNvGrpSpPr/>
            <p:nvPr/>
          </p:nvGrpSpPr>
          <p:grpSpPr>
            <a:xfrm>
              <a:off x="3344760" y="2716200"/>
              <a:ext cx="5799240" cy="3743280"/>
              <a:chOff x="3344760" y="2716200"/>
              <a:chExt cx="5799240" cy="3743280"/>
            </a:xfrm>
          </p:grpSpPr>
          <p:sp>
            <p:nvSpPr>
              <p:cNvPr id="922" name=""/>
              <p:cNvSpPr/>
              <p:nvPr/>
            </p:nvSpPr>
            <p:spPr>
              <a:xfrm>
                <a:off x="3457440" y="3313080"/>
                <a:ext cx="5524560" cy="0"/>
              </a:xfrm>
              <a:prstGeom prst="line">
                <a:avLst/>
              </a:prstGeom>
              <a:ln cap="rnd" w="19080">
                <a:solidFill>
                  <a:srgbClr val="eaeaea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457440" y="3586320"/>
                <a:ext cx="5524560" cy="0"/>
              </a:xfrm>
              <a:prstGeom prst="line">
                <a:avLst/>
              </a:prstGeom>
              <a:ln cap="rnd" w="19080">
                <a:solidFill>
                  <a:srgbClr val="eaeaea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457440" y="4573440"/>
                <a:ext cx="5524560" cy="0"/>
              </a:xfrm>
              <a:prstGeom prst="line">
                <a:avLst/>
              </a:prstGeom>
              <a:ln cap="rnd" w="19080">
                <a:solidFill>
                  <a:srgbClr val="eaeaea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457440" y="5318280"/>
                <a:ext cx="5524560" cy="0"/>
              </a:xfrm>
              <a:prstGeom prst="line">
                <a:avLst/>
              </a:prstGeom>
              <a:ln cap="rnd" w="19080">
                <a:solidFill>
                  <a:srgbClr val="eaeaea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4760" y="2716200"/>
                <a:ext cx="295200" cy="374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08880" y="2716200"/>
                <a:ext cx="295200" cy="369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829720" y="2716200"/>
                <a:ext cx="314280" cy="367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62640" y="2716200"/>
                <a:ext cx="295200" cy="369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795920" y="2728800"/>
                <a:ext cx="637920" cy="3705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31" name=""/>
            <p:cNvGrpSpPr/>
            <p:nvPr/>
          </p:nvGrpSpPr>
          <p:grpSpPr>
            <a:xfrm>
              <a:off x="2946240" y="2471760"/>
              <a:ext cx="5975640" cy="241200"/>
              <a:chOff x="2946240" y="2471760"/>
              <a:chExt cx="5975640" cy="241200"/>
            </a:xfrm>
          </p:grpSpPr>
          <p:sp>
            <p:nvSpPr>
              <p:cNvPr id="932" name=""/>
              <p:cNvSpPr/>
              <p:nvPr/>
            </p:nvSpPr>
            <p:spPr>
              <a:xfrm rot="16200000">
                <a:off x="3075840" y="2342160"/>
                <a:ext cx="218880" cy="478080"/>
              </a:xfrm>
              <a:custGeom>
                <a:avLst/>
                <a:gdLst>
                  <a:gd name="textAreaLeft" fmla="*/ 0 w 218880"/>
                  <a:gd name="textAreaRight" fmla="*/ 78840 w 218880"/>
                  <a:gd name="textAreaTop" fmla="*/ 12240 h 478080"/>
                  <a:gd name="textAreaBottom" fmla="*/ 465840 h 47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cap="sq"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6200000">
                <a:off x="6379200" y="2364480"/>
                <a:ext cx="218880" cy="477720"/>
              </a:xfrm>
              <a:custGeom>
                <a:avLst/>
                <a:gdLst>
                  <a:gd name="textAreaLeft" fmla="*/ 0 w 218880"/>
                  <a:gd name="textAreaRight" fmla="*/ 78840 w 218880"/>
                  <a:gd name="textAreaTop" fmla="*/ 12240 h 477720"/>
                  <a:gd name="textAreaBottom" fmla="*/ 465480 h 47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cap="sq"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6200000">
                <a:off x="8573400" y="2356560"/>
                <a:ext cx="218880" cy="478080"/>
              </a:xfrm>
              <a:custGeom>
                <a:avLst/>
                <a:gdLst>
                  <a:gd name="textAreaLeft" fmla="*/ 0 w 218880"/>
                  <a:gd name="textAreaRight" fmla="*/ 78840 w 218880"/>
                  <a:gd name="textAreaTop" fmla="*/ 12240 h 478080"/>
                  <a:gd name="textAreaBottom" fmla="*/ 465840 h 47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cap="sq" w="284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2644920" y="371520"/>
            <a:ext cx="413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Apport du test Ag-Ac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95400" y="1176480"/>
            <a:ext cx="8959680" cy="33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74680" algn="just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Avantage du test Ag-Ac dans </a:t>
            </a:r>
            <a:r>
              <a:rPr b="0" lang="fr-FR" sz="2000" spc="-1" strike="noStrike">
                <a:solidFill>
                  <a:srgbClr val="ffccff"/>
                </a:solidFill>
                <a:latin typeface="Comic Sans MS"/>
              </a:rPr>
              <a:t>65 % des cas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257040" algn="just">
              <a:lnSpc>
                <a:spcPct val="130000"/>
              </a:lnSpc>
              <a:spcBef>
                <a:spcPts val="451"/>
              </a:spcBef>
              <a:buClr>
                <a:srgbClr val="ffccff"/>
              </a:buClr>
              <a:buFont typeface="Wingdings" charset="2"/>
              <a:buChar char="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fr-FR" sz="1800" spc="-1" strike="noStrike">
                <a:solidFill>
                  <a:srgbClr val="ffccff"/>
                </a:solidFill>
                <a:latin typeface="Comic Sans MS"/>
              </a:rPr>
              <a:t>53 %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réactivité en même temps que la 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257040" algn="just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12 % réactivité après la 1ère PCR positive mais avant l'apparition d'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274680" algn="just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Pas d’avantage du test Ag-Ac par rapport à l’ELISA  dans </a:t>
            </a:r>
            <a:r>
              <a:rPr b="0" lang="fr-FR" sz="2000" spc="-1" strike="noStrike">
                <a:solidFill>
                  <a:srgbClr val="ffccff"/>
                </a:solidFill>
                <a:latin typeface="Comic Sans MS"/>
              </a:rPr>
              <a:t>18 % des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274680" algn="just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Absence de détection par les techniques sérologiques : 1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2880" indent="257040" algn="just">
              <a:lnSpc>
                <a:spcPct val="13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as de résultat positif franc par le test Ag-Ac malgré une charge virale élevée (&gt; 6 Log UI/mL) sur plusieurs prélèvements consécutifs 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(résultats «limite » avec le seuil sensibilisé à 0,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77840" y="4743360"/>
            <a:ext cx="888048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42800">
              <a:lnSpc>
                <a:spcPct val="130000"/>
              </a:lnSpc>
              <a:spcBef>
                <a:spcPts val="349"/>
              </a:spcBef>
              <a:buClr>
                <a:srgbClr val="ffccff"/>
              </a:buClr>
              <a:buFont typeface="Monotype Sort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ccff"/>
                </a:solidFill>
                <a:latin typeface="Comic Sans MS"/>
              </a:rPr>
              <a:t>Performance dans la détection d'une infection récente : </a:t>
            </a:r>
            <a:r>
              <a:rPr b="0" lang="fr-FR" sz="1400" spc="-1" strike="noStrike">
                <a:solidFill>
                  <a:srgbClr val="ffccff"/>
                </a:solidFill>
                <a:latin typeface="Comic Sans MS"/>
              </a:rPr>
              <a:t>(délais moye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255600">
              <a:lnSpc>
                <a:spcPct val="130000"/>
              </a:lnSpc>
              <a:spcBef>
                <a:spcPts val="400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ff"/>
                </a:solidFill>
                <a:latin typeface="Comic Sans MS"/>
              </a:rPr>
              <a:t>Retard par rapport à la PCR : </a:t>
            </a:r>
            <a:r>
              <a:rPr b="0" lang="fr-FR" sz="1800" spc="-1" strike="noStrike" u="sng">
                <a:solidFill>
                  <a:srgbClr val="ffccff"/>
                </a:solidFill>
                <a:uFillTx/>
                <a:latin typeface="Comic Sans MS"/>
              </a:rPr>
              <a:t>30 jours</a:t>
            </a:r>
            <a:r>
              <a:rPr b="0" lang="fr-FR" sz="1800" spc="-1" strike="noStrike">
                <a:solidFill>
                  <a:srgbClr val="ffccff"/>
                </a:solidFill>
                <a:latin typeface="Comic Sans MS"/>
              </a:rPr>
              <a:t> </a:t>
            </a:r>
            <a:r>
              <a:rPr b="0" i="1" lang="fr-FR" sz="1600" spc="-1" strike="noStrike">
                <a:solidFill>
                  <a:srgbClr val="ffccff"/>
                </a:solidFill>
                <a:latin typeface="Comic Sans MS"/>
              </a:rPr>
              <a:t>(test sensibilisé : 11 j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255600">
              <a:lnSpc>
                <a:spcPct val="130000"/>
              </a:lnSpc>
              <a:spcBef>
                <a:spcPts val="400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ff"/>
                </a:solidFill>
                <a:latin typeface="Comic Sans MS"/>
              </a:rPr>
              <a:t>Précocité par rapport à la sérologie : </a:t>
            </a:r>
            <a:r>
              <a:rPr b="0" lang="fr-FR" sz="1800" spc="-1" strike="noStrike" u="sng">
                <a:solidFill>
                  <a:srgbClr val="ffccff"/>
                </a:solidFill>
                <a:uFillTx/>
                <a:latin typeface="Comic Sans MS"/>
              </a:rPr>
              <a:t>49 jours</a:t>
            </a:r>
            <a:r>
              <a:rPr b="0" lang="fr-FR" sz="1800" spc="-1" strike="noStrike">
                <a:solidFill>
                  <a:srgbClr val="ffccff"/>
                </a:solidFill>
                <a:latin typeface="Comic Sans MS"/>
              </a:rPr>
              <a:t> </a:t>
            </a:r>
            <a:r>
              <a:rPr b="0" i="1" lang="fr-FR" sz="1600" spc="-1" strike="noStrike">
                <a:solidFill>
                  <a:srgbClr val="ffccff"/>
                </a:solidFill>
                <a:latin typeface="Comic Sans MS"/>
              </a:rPr>
              <a:t>(test sensibilisé : 68 j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255600">
              <a:lnSpc>
                <a:spcPct val="130000"/>
              </a:lnSpc>
              <a:spcBef>
                <a:spcPts val="451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ff"/>
                </a:solidFill>
                <a:latin typeface="Comic Sans MS"/>
              </a:rPr>
              <a:t>Retard de la sérologie par rapport à la PCR : </a:t>
            </a:r>
            <a:r>
              <a:rPr b="0" lang="fr-FR" sz="1800" spc="-1" strike="noStrike" u="sng">
                <a:solidFill>
                  <a:srgbClr val="ffccff"/>
                </a:solidFill>
                <a:uFillTx/>
                <a:latin typeface="Comic Sans MS"/>
              </a:rPr>
              <a:t>79 j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20891400">
            <a:off x="775080" y="4898880"/>
            <a:ext cx="73677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Calculs Biaisés 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1680" y="291600"/>
            <a:ext cx="7772400" cy="73980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3399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txBody>
          <a:bodyPr lIns="64800" rIns="64800" tIns="64800" bIns="64800" anchor="ctr">
            <a:noAutofit/>
          </a:bodyPr>
          <a:p>
            <a:pPr indent="0" algn="ctr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i="1" lang="fr-FR" sz="2000" spc="-1" strike="noStrike">
                <a:solidFill>
                  <a:srgbClr val="ffff00"/>
                </a:solidFill>
                <a:latin typeface="Comic Sans MS"/>
              </a:rPr>
              <a:t>Proposition d'algorithme </a:t>
            </a:r>
            <a:br>
              <a:rPr sz="2000"/>
            </a:br>
            <a:r>
              <a:rPr b="1" i="1" lang="fr-FR" sz="2000" spc="-1" strike="noStrike">
                <a:solidFill>
                  <a:srgbClr val="ffff00"/>
                </a:solidFill>
                <a:latin typeface="Comic Sans MS"/>
              </a:rPr>
              <a:t>incluant le test </a:t>
            </a:r>
            <a:r>
              <a:rPr b="1" i="1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olisa</a:t>
            </a:r>
            <a:r>
              <a:rPr b="1" i="1" lang="fr-FR" sz="2000" spc="-1" strike="noStrike" baseline="30000">
                <a:solidFill>
                  <a:srgbClr val="ffff00"/>
                </a:solidFill>
                <a:latin typeface="Symbol"/>
                <a:ea typeface="Symbol"/>
              </a:rPr>
              <a:t></a:t>
            </a:r>
            <a:r>
              <a:rPr b="1" i="1" lang="fr-FR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Ag-Ab ULTRA </a:t>
            </a:r>
            <a:endParaRPr b="1" i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>
            <a:off x="3333600" y="1353240"/>
            <a:ext cx="2276640" cy="373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64800" bIns="64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g-Ab ULTRA ass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2170080" y="1740960"/>
            <a:ext cx="3316320" cy="2666160"/>
            <a:chOff x="2170080" y="1740960"/>
            <a:chExt cx="3316320" cy="2666160"/>
          </a:xfrm>
        </p:grpSpPr>
        <p:sp>
          <p:nvSpPr>
            <p:cNvPr id="942" name=""/>
            <p:cNvSpPr/>
            <p:nvPr/>
          </p:nvSpPr>
          <p:spPr>
            <a:xfrm>
              <a:off x="4373640" y="3381480"/>
              <a:ext cx="325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 anchorCtr="1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170080" y="2066760"/>
              <a:ext cx="201312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32400" bIns="32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omic Sans MS"/>
                </a:rPr>
                <a:t>Positif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lang="fr-FR" sz="1400" spc="-1" strike="noStrike">
                  <a:solidFill>
                    <a:srgbClr val="ff3300"/>
                  </a:solidFill>
                  <a:latin typeface="Comic Sans MS"/>
                </a:rPr>
                <a:t>(réactivité contrôlé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452760" y="2849040"/>
              <a:ext cx="2033640" cy="616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330099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</a:rPr>
                <a:t>Test sérologique (2ème Prélèveme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475080" y="3790440"/>
              <a:ext cx="1971720" cy="6166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330099"/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 anchorCtr="1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</a:rPr>
                <a:t>ARN VH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</a:rPr>
                <a:t>PC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29280" y="2098800"/>
              <a:ext cx="485640" cy="485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2400" rIns="32400" tIns="32400" bIns="32400" anchor="ctr">
              <a:no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7" name=""/>
            <p:cNvCxnSpPr>
              <a:stCxn id="940" idx="2"/>
              <a:endCxn id="946" idx="0"/>
            </p:cNvCxnSpPr>
            <p:nvPr/>
          </p:nvCxnSpPr>
          <p:spPr>
            <a:xfrm>
              <a:off x="4471560" y="1740960"/>
              <a:ext cx="1080" cy="3582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948" name=""/>
            <p:cNvCxnSpPr>
              <a:stCxn id="946" idx="4"/>
              <a:endCxn id="944" idx="0"/>
            </p:cNvCxnSpPr>
            <p:nvPr/>
          </p:nvCxnSpPr>
          <p:spPr>
            <a:xfrm flipH="1">
              <a:off x="4470120" y="2584440"/>
              <a:ext cx="2160" cy="26424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</p:grpSp>
      <p:grpSp>
        <p:nvGrpSpPr>
          <p:cNvPr id="949" name=""/>
          <p:cNvGrpSpPr/>
          <p:nvPr/>
        </p:nvGrpSpPr>
        <p:grpSpPr>
          <a:xfrm>
            <a:off x="5608800" y="1157400"/>
            <a:ext cx="2830320" cy="903960"/>
            <a:chOff x="5608800" y="1157400"/>
            <a:chExt cx="2830320" cy="903960"/>
          </a:xfrm>
        </p:grpSpPr>
        <p:sp>
          <p:nvSpPr>
            <p:cNvPr id="950" name=""/>
            <p:cNvSpPr/>
            <p:nvPr/>
          </p:nvSpPr>
          <p:spPr>
            <a:xfrm>
              <a:off x="5608800" y="1549080"/>
              <a:ext cx="179856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lnSpc>
                  <a:spcPct val="65000"/>
                </a:lnSpc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ffffff"/>
                  </a:solidFill>
                  <a:latin typeface="Times New Roman"/>
                </a:rPr>
                <a:t>Négatif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ffffff"/>
                  </a:solidFill>
                  <a:latin typeface="Times New Roman"/>
                </a:rPr>
                <a:t>(non réactif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535880" y="1157400"/>
              <a:ext cx="903240" cy="763560"/>
            </a:xfrm>
            <a:prstGeom prst="octagon">
              <a:avLst>
                <a:gd name="adj" fmla="val 33264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ST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2" name=""/>
            <p:cNvCxnSpPr>
              <a:stCxn id="940" idx="3"/>
              <a:endCxn id="951" idx="1"/>
            </p:cNvCxnSpPr>
            <p:nvPr/>
          </p:nvCxnSpPr>
          <p:spPr>
            <a:xfrm>
              <a:off x="5609880" y="1539360"/>
              <a:ext cx="192636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</p:grpSp>
      <p:grpSp>
        <p:nvGrpSpPr>
          <p:cNvPr id="953" name=""/>
          <p:cNvGrpSpPr/>
          <p:nvPr/>
        </p:nvGrpSpPr>
        <p:grpSpPr>
          <a:xfrm>
            <a:off x="3987720" y="4944960"/>
            <a:ext cx="1729080" cy="1174680"/>
            <a:chOff x="3987720" y="4944960"/>
            <a:chExt cx="1729080" cy="1174680"/>
          </a:xfrm>
        </p:grpSpPr>
        <p:sp>
          <p:nvSpPr>
            <p:cNvPr id="954" name=""/>
            <p:cNvSpPr/>
            <p:nvPr/>
          </p:nvSpPr>
          <p:spPr>
            <a:xfrm>
              <a:off x="3987720" y="5113080"/>
              <a:ext cx="16430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Confirmation par Immunobl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(RIBA/DECISCA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5" name=""/>
            <p:cNvCxnSpPr>
              <a:stCxn id="956" idx="1"/>
              <a:endCxn id="954" idx="0"/>
            </p:cNvCxnSpPr>
            <p:nvPr/>
          </p:nvCxnSpPr>
          <p:spPr>
            <a:xfrm flipV="1" rot="10800000">
              <a:off x="4809240" y="4944600"/>
              <a:ext cx="843840" cy="169200"/>
            </a:xfrm>
            <a:prstGeom prst="curvedConnector2">
              <a:avLst/>
            </a:prstGeom>
            <a:ln w="25560">
              <a:solidFill>
                <a:srgbClr val="ffffff"/>
              </a:solidFill>
              <a:prstDash val="sysDot"/>
              <a:miter/>
              <a:tailEnd len="lg" type="stealth" w="lg"/>
            </a:ln>
          </p:spPr>
        </p:cxnSp>
        <p:cxnSp>
          <p:nvCxnSpPr>
            <p:cNvPr id="957" name=""/>
            <p:cNvCxnSpPr>
              <a:stCxn id="954" idx="2"/>
              <a:endCxn id="958" idx="1"/>
            </p:cNvCxnSpPr>
            <p:nvPr/>
          </p:nvCxnSpPr>
          <p:spPr>
            <a:xfrm flipH="1" rot="16200000">
              <a:off x="5144040" y="5546880"/>
              <a:ext cx="238680" cy="907200"/>
            </a:xfrm>
            <a:prstGeom prst="curvedConnector2">
              <a:avLst/>
            </a:prstGeom>
            <a:ln w="25560">
              <a:solidFill>
                <a:srgbClr val="ffffff"/>
              </a:solidFill>
              <a:prstDash val="sysDot"/>
              <a:miter/>
              <a:tailEnd len="lg" type="stealth" w="lg"/>
            </a:ln>
          </p:spPr>
        </p:cxnSp>
      </p:grpSp>
      <p:grpSp>
        <p:nvGrpSpPr>
          <p:cNvPr id="959" name=""/>
          <p:cNvGrpSpPr/>
          <p:nvPr/>
        </p:nvGrpSpPr>
        <p:grpSpPr>
          <a:xfrm>
            <a:off x="81000" y="2962440"/>
            <a:ext cx="1952280" cy="3542040"/>
            <a:chOff x="81000" y="2962440"/>
            <a:chExt cx="1952280" cy="3542040"/>
          </a:xfrm>
        </p:grpSpPr>
        <p:sp>
          <p:nvSpPr>
            <p:cNvPr id="960" name=""/>
            <p:cNvSpPr/>
            <p:nvPr/>
          </p:nvSpPr>
          <p:spPr>
            <a:xfrm>
              <a:off x="351000" y="2962440"/>
              <a:ext cx="973080" cy="38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Néga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1000" y="3905280"/>
              <a:ext cx="973080" cy="38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Posi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1000" y="4560480"/>
              <a:ext cx="151272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Compatible avec une hépatite C aiguë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3" name=""/>
            <p:cNvCxnSpPr>
              <a:stCxn id="964" idx="1"/>
              <a:endCxn id="961" idx="3"/>
            </p:cNvCxnSpPr>
            <p:nvPr/>
          </p:nvCxnSpPr>
          <p:spPr>
            <a:xfrm flipH="1">
              <a:off x="1323360" y="4100040"/>
              <a:ext cx="710280" cy="1080"/>
            </a:xfrm>
            <a:prstGeom prst="straightConnector1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965" name=""/>
            <p:cNvCxnSpPr>
              <a:stCxn id="966" idx="1"/>
              <a:endCxn id="960" idx="3"/>
            </p:cNvCxnSpPr>
            <p:nvPr/>
          </p:nvCxnSpPr>
          <p:spPr>
            <a:xfrm flipH="1">
              <a:off x="1323360" y="3157200"/>
              <a:ext cx="710280" cy="1080"/>
            </a:xfrm>
            <a:prstGeom prst="straightConnector1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sp>
          <p:nvSpPr>
            <p:cNvPr id="967" name=""/>
            <p:cNvSpPr/>
            <p:nvPr/>
          </p:nvSpPr>
          <p:spPr>
            <a:xfrm>
              <a:off x="82440" y="5735160"/>
              <a:ext cx="151308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Suivi 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Considérer un traitement préco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6200000">
              <a:off x="806400" y="3817440"/>
              <a:ext cx="63720" cy="1101960"/>
            </a:xfrm>
            <a:custGeom>
              <a:avLst/>
              <a:gdLst>
                <a:gd name="textAreaLeft" fmla="*/ 40680 w 63720"/>
                <a:gd name="textAreaRight" fmla="*/ 64080 w 63720"/>
                <a:gd name="textAreaTop" fmla="*/ 28440 h 1101960"/>
                <a:gd name="textAreaBottom" fmla="*/ 1073520 h 11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9" name=""/>
            <p:cNvCxnSpPr>
              <a:stCxn id="968" idx="1"/>
              <a:endCxn id="962" idx="0"/>
            </p:cNvCxnSpPr>
            <p:nvPr/>
          </p:nvCxnSpPr>
          <p:spPr>
            <a:xfrm>
              <a:off x="837720" y="4413240"/>
              <a:ext cx="1080" cy="1483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970" name=""/>
            <p:cNvCxnSpPr>
              <a:stCxn id="962" idx="2"/>
              <a:endCxn id="967" idx="0"/>
            </p:cNvCxnSpPr>
            <p:nvPr/>
          </p:nvCxnSpPr>
          <p:spPr>
            <a:xfrm>
              <a:off x="837720" y="5328720"/>
              <a:ext cx="2520" cy="5137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</p:grpSp>
      <p:grpSp>
        <p:nvGrpSpPr>
          <p:cNvPr id="971" name=""/>
          <p:cNvGrpSpPr/>
          <p:nvPr/>
        </p:nvGrpSpPr>
        <p:grpSpPr>
          <a:xfrm>
            <a:off x="1762200" y="2962440"/>
            <a:ext cx="1712520" cy="3435480"/>
            <a:chOff x="1762200" y="2962440"/>
            <a:chExt cx="1712520" cy="3435480"/>
          </a:xfrm>
        </p:grpSpPr>
        <p:sp>
          <p:nvSpPr>
            <p:cNvPr id="966" name=""/>
            <p:cNvSpPr/>
            <p:nvPr/>
          </p:nvSpPr>
          <p:spPr>
            <a:xfrm>
              <a:off x="2033640" y="2962440"/>
              <a:ext cx="971640" cy="38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Posi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033640" y="3905280"/>
              <a:ext cx="971640" cy="38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Posi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2" name=""/>
            <p:cNvCxnSpPr>
              <a:stCxn id="945" idx="1"/>
              <a:endCxn id="964" idx="3"/>
            </p:cNvCxnSpPr>
            <p:nvPr/>
          </p:nvCxnSpPr>
          <p:spPr>
            <a:xfrm flipH="1">
              <a:off x="3004560" y="4098960"/>
              <a:ext cx="470520" cy="2160"/>
            </a:xfrm>
            <a:prstGeom prst="straightConnector1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973" name=""/>
            <p:cNvCxnSpPr>
              <a:stCxn id="944" idx="1"/>
              <a:endCxn id="966" idx="3"/>
            </p:cNvCxnSpPr>
            <p:nvPr/>
          </p:nvCxnSpPr>
          <p:spPr>
            <a:xfrm flipH="1">
              <a:off x="3004560" y="3157200"/>
              <a:ext cx="448200" cy="1080"/>
            </a:xfrm>
            <a:prstGeom prst="straightConnector1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sp>
          <p:nvSpPr>
            <p:cNvPr id="974" name=""/>
            <p:cNvSpPr/>
            <p:nvPr/>
          </p:nvSpPr>
          <p:spPr>
            <a:xfrm>
              <a:off x="1762200" y="5841720"/>
              <a:ext cx="151128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Traitement à considér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763640" y="4562280"/>
              <a:ext cx="151128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Compatible avec une hépatite C ac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16200000">
              <a:off x="2486520" y="3816720"/>
              <a:ext cx="63720" cy="1103040"/>
            </a:xfrm>
            <a:custGeom>
              <a:avLst/>
              <a:gdLst>
                <a:gd name="textAreaLeft" fmla="*/ 40680 w 63720"/>
                <a:gd name="textAreaRight" fmla="*/ 64080 w 63720"/>
                <a:gd name="textAreaTop" fmla="*/ 28440 h 1103040"/>
                <a:gd name="textAreaBottom" fmla="*/ 1074600 h 110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7" name=""/>
            <p:cNvCxnSpPr>
              <a:stCxn id="976" idx="1"/>
              <a:endCxn id="975" idx="0"/>
            </p:cNvCxnSpPr>
            <p:nvPr/>
          </p:nvCxnSpPr>
          <p:spPr>
            <a:xfrm>
              <a:off x="2517840" y="4414320"/>
              <a:ext cx="2160" cy="1486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978" name=""/>
            <p:cNvCxnSpPr>
              <a:stCxn id="975" idx="2"/>
              <a:endCxn id="974" idx="0"/>
            </p:cNvCxnSpPr>
            <p:nvPr/>
          </p:nvCxnSpPr>
          <p:spPr>
            <a:xfrm flipH="1">
              <a:off x="2517480" y="5330880"/>
              <a:ext cx="2160" cy="5119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</p:grpSp>
      <p:grpSp>
        <p:nvGrpSpPr>
          <p:cNvPr id="979" name=""/>
          <p:cNvGrpSpPr/>
          <p:nvPr/>
        </p:nvGrpSpPr>
        <p:grpSpPr>
          <a:xfrm>
            <a:off x="5446080" y="2962440"/>
            <a:ext cx="1848600" cy="3755160"/>
            <a:chOff x="5446080" y="2962440"/>
            <a:chExt cx="1848600" cy="3755160"/>
          </a:xfrm>
        </p:grpSpPr>
        <p:sp>
          <p:nvSpPr>
            <p:cNvPr id="980" name=""/>
            <p:cNvSpPr/>
            <p:nvPr/>
          </p:nvSpPr>
          <p:spPr>
            <a:xfrm>
              <a:off x="5987880" y="2962440"/>
              <a:ext cx="971640" cy="38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3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Posi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87880" y="3905280"/>
              <a:ext cx="971640" cy="38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Néga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2" name=""/>
            <p:cNvCxnSpPr>
              <a:stCxn id="981" idx="1"/>
              <a:endCxn id="945" idx="3"/>
            </p:cNvCxnSpPr>
            <p:nvPr/>
          </p:nvCxnSpPr>
          <p:spPr>
            <a:xfrm flipH="1" flipV="1">
              <a:off x="5446080" y="4098600"/>
              <a:ext cx="541800" cy="2160"/>
            </a:xfrm>
            <a:prstGeom prst="straightConnector1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983" name=""/>
            <p:cNvCxnSpPr>
              <a:stCxn id="980" idx="1"/>
              <a:endCxn id="944" idx="3"/>
            </p:cNvCxnSpPr>
            <p:nvPr/>
          </p:nvCxnSpPr>
          <p:spPr>
            <a:xfrm flipH="1">
              <a:off x="5486040" y="3157200"/>
              <a:ext cx="501840" cy="1080"/>
            </a:xfrm>
            <a:prstGeom prst="straightConnector1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sp>
          <p:nvSpPr>
            <p:cNvPr id="958" name=""/>
            <p:cNvSpPr/>
            <p:nvPr/>
          </p:nvSpPr>
          <p:spPr>
            <a:xfrm>
              <a:off x="5716440" y="5522040"/>
              <a:ext cx="151308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En cas d'anomalie du bilan hépatique, répéter la recherche de l'ARN VH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653080" y="4773600"/>
              <a:ext cx="16416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Hépatite C guérie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6200000">
              <a:off x="6441840" y="3817440"/>
              <a:ext cx="63720" cy="1101600"/>
            </a:xfrm>
            <a:custGeom>
              <a:avLst/>
              <a:gdLst>
                <a:gd name="textAreaLeft" fmla="*/ 40680 w 63720"/>
                <a:gd name="textAreaRight" fmla="*/ 64080 w 63720"/>
                <a:gd name="textAreaTop" fmla="*/ 28440 h 1101600"/>
                <a:gd name="textAreaBottom" fmla="*/ 1073160 h 110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5" name=""/>
            <p:cNvCxnSpPr>
              <a:stCxn id="956" idx="2"/>
              <a:endCxn id="958" idx="0"/>
            </p:cNvCxnSpPr>
            <p:nvPr/>
          </p:nvCxnSpPr>
          <p:spPr>
            <a:xfrm>
              <a:off x="6473520" y="5116680"/>
              <a:ext cx="1080" cy="4068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986" name=""/>
            <p:cNvCxnSpPr>
              <a:stCxn id="984" idx="1"/>
              <a:endCxn id="956" idx="0"/>
            </p:cNvCxnSpPr>
            <p:nvPr/>
          </p:nvCxnSpPr>
          <p:spPr>
            <a:xfrm>
              <a:off x="6473520" y="4412880"/>
              <a:ext cx="1080" cy="36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</p:grpSp>
      <p:grpSp>
        <p:nvGrpSpPr>
          <p:cNvPr id="987" name=""/>
          <p:cNvGrpSpPr/>
          <p:nvPr/>
        </p:nvGrpSpPr>
        <p:grpSpPr>
          <a:xfrm>
            <a:off x="6959160" y="2962440"/>
            <a:ext cx="2022840" cy="3755160"/>
            <a:chOff x="6959160" y="2962440"/>
            <a:chExt cx="2022840" cy="3755160"/>
          </a:xfrm>
        </p:grpSpPr>
        <p:sp>
          <p:nvSpPr>
            <p:cNvPr id="988" name=""/>
            <p:cNvSpPr/>
            <p:nvPr/>
          </p:nvSpPr>
          <p:spPr>
            <a:xfrm>
              <a:off x="7740720" y="2962440"/>
              <a:ext cx="971640" cy="38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Néga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740720" y="3905280"/>
              <a:ext cx="971640" cy="388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ff3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1" i="1" lang="fr-FR" sz="1600" spc="-1" strike="noStrike">
                  <a:solidFill>
                    <a:srgbClr val="000000"/>
                  </a:solidFill>
                  <a:latin typeface="Times New Roman"/>
                </a:rPr>
                <a:t>Néga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0" name=""/>
            <p:cNvCxnSpPr>
              <a:stCxn id="989" idx="1"/>
              <a:endCxn id="981" idx="3"/>
            </p:cNvCxnSpPr>
            <p:nvPr/>
          </p:nvCxnSpPr>
          <p:spPr>
            <a:xfrm flipH="1">
              <a:off x="6959160" y="4100040"/>
              <a:ext cx="781920" cy="1080"/>
            </a:xfrm>
            <a:prstGeom prst="straightConnector1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cxnSp>
          <p:nvCxnSpPr>
            <p:cNvPr id="991" name=""/>
            <p:cNvCxnSpPr>
              <a:stCxn id="988" idx="1"/>
              <a:endCxn id="980" idx="3"/>
            </p:cNvCxnSpPr>
            <p:nvPr/>
          </p:nvCxnSpPr>
          <p:spPr>
            <a:xfrm flipH="1">
              <a:off x="6959160" y="3157200"/>
              <a:ext cx="781920" cy="1080"/>
            </a:xfrm>
            <a:prstGeom prst="straightConnector1">
              <a:avLst/>
            </a:prstGeom>
            <a:ln cap="rnd" w="25560">
              <a:solidFill>
                <a:srgbClr val="ffffff"/>
              </a:solidFill>
              <a:custDash>
                <a:ds d="100000" sp="1000"/>
              </a:custDash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7470720" y="5522040"/>
              <a:ext cx="1511280" cy="11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Répéter la recherche du génome vi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Si bilan hépatique a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88360" y="4667040"/>
              <a:ext cx="14763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64800" bIns="64800" anchor="ctr">
              <a:spAutoFit/>
            </a:bodyPr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Ag-Ab ULTR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4040"/>
                  <a:tab algn="l" pos="1647720"/>
                  <a:tab algn="l" pos="2471760"/>
                  <a:tab algn="l" pos="3295800"/>
                  <a:tab algn="l" pos="4119480"/>
                  <a:tab algn="l" pos="4943520"/>
                  <a:tab algn="l" pos="5767560"/>
                  <a:tab algn="l" pos="6591240"/>
                  <a:tab algn="l" pos="7415280"/>
                  <a:tab algn="l" pos="8238960"/>
                  <a:tab algn="l" pos="9063000"/>
                  <a:tab algn="l" pos="9887040"/>
                  <a:tab algn="l" pos="10710720"/>
                </a:tabLst>
              </a:pP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faux positif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6200000">
              <a:off x="8196120" y="3817440"/>
              <a:ext cx="63720" cy="1101960"/>
            </a:xfrm>
            <a:custGeom>
              <a:avLst/>
              <a:gdLst>
                <a:gd name="textAreaLeft" fmla="*/ 40680 w 63720"/>
                <a:gd name="textAreaRight" fmla="*/ 64080 w 63720"/>
                <a:gd name="textAreaTop" fmla="*/ 28440 h 1101960"/>
                <a:gd name="textAreaBottom" fmla="*/ 1073520 h 11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5" name=""/>
            <p:cNvCxnSpPr>
              <a:stCxn id="994" idx="1"/>
              <a:endCxn id="993" idx="0"/>
            </p:cNvCxnSpPr>
            <p:nvPr/>
          </p:nvCxnSpPr>
          <p:spPr>
            <a:xfrm flipH="1">
              <a:off x="8225640" y="4413240"/>
              <a:ext cx="2520" cy="2548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  <p:cxnSp>
          <p:nvCxnSpPr>
            <p:cNvPr id="996" name=""/>
            <p:cNvCxnSpPr>
              <a:stCxn id="993" idx="2"/>
              <a:endCxn id="992" idx="0"/>
            </p:cNvCxnSpPr>
            <p:nvPr/>
          </p:nvCxnSpPr>
          <p:spPr>
            <a:xfrm>
              <a:off x="8226000" y="5222520"/>
              <a:ext cx="1080" cy="30060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lg" type="stealth" w="lg"/>
            </a:ln>
          </p:spPr>
        </p:cxnSp>
      </p:grp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3399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22360" y="1326960"/>
            <a:ext cx="8478720" cy="5512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Nous n'avons pas mis en évidence de problème de </a:t>
            </a:r>
            <a:r>
              <a:rPr b="1" lang="fr-FR" sz="1800" spc="-1" strike="noStrike">
                <a:solidFill>
                  <a:srgbClr val="ffccff"/>
                </a:solidFill>
                <a:latin typeface="Comic Sans MS"/>
              </a:rPr>
              <a:t>spécificité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chez les patients infectés par le VIH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e test combiné </a:t>
            </a:r>
            <a:r>
              <a:rPr b="1" lang="fr-FR" sz="1800" spc="-1" strike="noStrike">
                <a:solidFill>
                  <a:srgbClr val="ffccff"/>
                </a:solidFill>
                <a:latin typeface="Comic Sans MS"/>
              </a:rPr>
              <a:t>réduit significativement la fenêtre sérologiqu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 algn="just">
              <a:lnSpc>
                <a:spcPct val="125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Les résultats observés dans le cadre de la coinfection VIH sont comparables à ceux obtenus sur les panels de séroconversion.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e domaine d'application du test est en première intention les situations de </a:t>
            </a:r>
            <a:r>
              <a:rPr b="1" lang="fr-FR" sz="1800" spc="-1" strike="noStrike">
                <a:solidFill>
                  <a:srgbClr val="ffccff"/>
                </a:solidFill>
                <a:latin typeface="Comic Sans MS"/>
              </a:rPr>
              <a:t>modifications de la réponse immunitair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: VIH, greffes, hémodialyse...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Le gain considérable en terme de </a:t>
            </a:r>
            <a:r>
              <a:rPr b="1" lang="fr-FR" sz="1800" spc="-1" strike="noStrike">
                <a:solidFill>
                  <a:srgbClr val="ffccff"/>
                </a:solidFill>
                <a:latin typeface="Comic Sans MS"/>
              </a:rPr>
              <a:t>précocité de diagnostic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apporté par la double détection Ag et Ac est de toute façon généralisable à toutes les populations </a:t>
            </a:r>
            <a:r>
              <a:rPr b="0" i="1" lang="fr-FR" sz="1800" spc="-1" strike="noStrike">
                <a:solidFill>
                  <a:srgbClr val="ffffff"/>
                </a:solidFill>
                <a:latin typeface="Comic Sans MS"/>
              </a:rPr>
              <a:t>(cf VIH...)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 algn="just">
              <a:lnSpc>
                <a:spcPct val="125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Des </a:t>
            </a:r>
            <a:r>
              <a:rPr b="1" lang="fr-FR" sz="1800" spc="-1" strike="noStrike">
                <a:solidFill>
                  <a:srgbClr val="ffccff"/>
                </a:solidFill>
                <a:latin typeface="Comic Sans MS"/>
              </a:rPr>
              <a:t>données complémentaires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sur la réelle sensibilité de la détection de l'Ag seraient appréciables : possibilité de faux négatifs lors de faibles charges virales en phase précoce ?</a:t>
            </a:r>
            <a:endParaRPr b="0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631800" y="1236600"/>
            <a:ext cx="3059280" cy="1350360"/>
          </a:xfrm>
          <a:prstGeom prst="bevel">
            <a:avLst>
              <a:gd name="adj" fmla="val 6093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4400" algn="ctr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Laboratoire de Vir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14400"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urélie Schnuri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" descr=""/>
          <p:cNvPicPr/>
          <p:nvPr/>
        </p:nvPicPr>
        <p:blipFill>
          <a:blip r:embed="rId1"/>
          <a:stretch/>
        </p:blipFill>
        <p:spPr>
          <a:xfrm>
            <a:off x="4343400" y="1936800"/>
            <a:ext cx="1014480" cy="110952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>
            <a:off x="3160800" y="5776920"/>
            <a:ext cx="576900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Les réactifs pour le test Monolisa HCV Ag-Ab Ult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ont été fournis gracieusement par Bio-R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2"/>
          <a:stretch/>
        </p:blipFill>
        <p:spPr>
          <a:xfrm>
            <a:off x="455760" y="5925960"/>
            <a:ext cx="304560" cy="33516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3269880" y="38088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Remerci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77720" y="5803920"/>
            <a:ext cx="314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A. Schnuriger bénéfici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d’une bourse Sida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013080" y="1236600"/>
            <a:ext cx="2894760" cy="3181680"/>
          </a:xfrm>
          <a:prstGeom prst="bevel">
            <a:avLst>
              <a:gd name="adj" fmla="val 3056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Service des Malad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Infectie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Jade Ghos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téphanie Domingu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Marc-Antoine Valan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Roland Tub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laudine Duviv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hristine Katl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37320" y="3144960"/>
            <a:ext cx="182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Hô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Pitié-Salpêtriè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31800" y="3078000"/>
            <a:ext cx="3062160" cy="1347480"/>
          </a:xfrm>
          <a:prstGeom prst="bevel">
            <a:avLst>
              <a:gd name="adj" fmla="val 5991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4400" algn="ctr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Service de Médecine In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14400"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nne Si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224160" y="4676760"/>
            <a:ext cx="3014640" cy="932040"/>
          </a:xfrm>
          <a:prstGeom prst="bevel">
            <a:avLst>
              <a:gd name="adj" fmla="val 5991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4400" algn="ctr">
              <a:lnSpc>
                <a:spcPct val="12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40" indent="14400" algn="ctr">
              <a:lnSpc>
                <a:spcPct val="12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yria Laper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76440" y="1895400"/>
            <a:ext cx="180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67120" y="1895400"/>
            <a:ext cx="144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1895400"/>
            <a:ext cx="144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30480" y="1895400"/>
            <a:ext cx="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1160" y="1895400"/>
            <a:ext cx="144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02120" y="1895400"/>
            <a:ext cx="180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84880" y="1895400"/>
            <a:ext cx="144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73760" y="1895400"/>
            <a:ext cx="144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56520" y="1895400"/>
            <a:ext cx="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8920" y="1895400"/>
            <a:ext cx="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27800" y="1895400"/>
            <a:ext cx="180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08760" y="1895400"/>
            <a:ext cx="1800" cy="298296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95480" y="1895400"/>
            <a:ext cx="1440" cy="298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44720" y="487836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44720" y="4727520"/>
            <a:ext cx="50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44720" y="457848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44720" y="442764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44720" y="4278240"/>
            <a:ext cx="50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44720" y="413712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44720" y="3987720"/>
            <a:ext cx="50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44720" y="3836880"/>
            <a:ext cx="50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44720" y="368784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44720" y="353700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44720" y="338616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44720" y="3236760"/>
            <a:ext cx="50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44720" y="308628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44720" y="293688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44720" y="278604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44720" y="263700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44720" y="249552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44720" y="234648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44720" y="2195640"/>
            <a:ext cx="50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44720" y="2046240"/>
            <a:ext cx="50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4720" y="1895400"/>
            <a:ext cx="50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19160" y="4878360"/>
            <a:ext cx="76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19160" y="4137120"/>
            <a:ext cx="76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19160" y="3386160"/>
            <a:ext cx="76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19160" y="2646360"/>
            <a:ext cx="763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9160" y="1895400"/>
            <a:ext cx="76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95480" y="4878360"/>
            <a:ext cx="5813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9954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089080" y="4817880"/>
            <a:ext cx="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190600" y="4817880"/>
            <a:ext cx="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28276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38284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7644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57796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67192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77344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86560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96712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6072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6080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25440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5592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4480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4168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64320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73680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8386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930480" y="4817880"/>
            <a:ext cx="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032360" y="4817880"/>
            <a:ext cx="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12416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22604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31964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42116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14760" y="4817880"/>
            <a:ext cx="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616280" y="4817880"/>
            <a:ext cx="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70700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0852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0212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9572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9760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18940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2912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3848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48496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57856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800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77224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7376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6736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06888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16104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26256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56520" y="4817880"/>
            <a:ext cx="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4832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5020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64380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4532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38920" y="4817880"/>
            <a:ext cx="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93900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03116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1326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2262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2780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42140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523280" y="4817880"/>
            <a:ext cx="144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61508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71516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808760" y="4817880"/>
            <a:ext cx="1800" cy="60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995480" y="4878000"/>
            <a:ext cx="144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476440" y="4878000"/>
            <a:ext cx="180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967120" y="4878000"/>
            <a:ext cx="144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448080" y="4878000"/>
            <a:ext cx="144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930480" y="4878000"/>
            <a:ext cx="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421160" y="4878000"/>
            <a:ext cx="144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902120" y="4878000"/>
            <a:ext cx="180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384880" y="4878000"/>
            <a:ext cx="144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873760" y="4878000"/>
            <a:ext cx="144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56520" y="4878000"/>
            <a:ext cx="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38920" y="4878000"/>
            <a:ext cx="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327800" y="4878000"/>
            <a:ext cx="180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808760" y="4878000"/>
            <a:ext cx="1800" cy="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28000" y="468792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28000" y="394812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319716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245592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170496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2160" y="5168880"/>
            <a:ext cx="13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364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504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6600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876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3836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5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1932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0208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68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73720" y="5168880"/>
            <a:ext cx="2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90600" y="51688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80560" y="51688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1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62960" y="5168880"/>
            <a:ext cx="412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69200" y="5708520"/>
            <a:ext cx="657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Jou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63880" y="3218400"/>
            <a:ext cx="2292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Transaminases (x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20320" y="352080"/>
            <a:ext cx="6908760" cy="9428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3399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Comic Sans MS"/>
              </a:rPr>
              <a:t>Profil des différents marqueurs lors </a:t>
            </a:r>
            <a:br>
              <a:rPr sz="2800"/>
            </a:br>
            <a:r>
              <a:rPr b="1" i="1" lang="fr-FR" sz="2800" spc="-1" strike="noStrike">
                <a:solidFill>
                  <a:srgbClr val="ffff00"/>
                </a:solidFill>
                <a:latin typeface="Comic Sans MS"/>
              </a:rPr>
              <a:t>d’une hépatite C aiguë ou chronique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448160" y="1978200"/>
            <a:ext cx="3368160" cy="322200"/>
            <a:chOff x="4448160" y="1978200"/>
            <a:chExt cx="3368160" cy="322200"/>
          </a:xfrm>
        </p:grpSpPr>
        <p:sp>
          <p:nvSpPr>
            <p:cNvPr id="210" name=""/>
            <p:cNvSpPr/>
            <p:nvPr/>
          </p:nvSpPr>
          <p:spPr>
            <a:xfrm>
              <a:off x="4448160" y="2057400"/>
              <a:ext cx="415080" cy="1634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2440" y="1978200"/>
              <a:ext cx="2963880" cy="322200"/>
            </a:xfrm>
            <a:prstGeom prst="rightArrow">
              <a:avLst>
                <a:gd name="adj1" fmla="val 50000"/>
                <a:gd name="adj2" fmla="val 229972"/>
              </a:avLst>
            </a:prstGeom>
            <a:gradFill rotWithShape="0">
              <a:gsLst>
                <a:gs pos="0">
                  <a:srgbClr val="618ffd"/>
                </a:gs>
                <a:gs pos="50000">
                  <a:srgbClr val="1c2a4b"/>
                </a:gs>
                <a:gs pos="100000">
                  <a:srgbClr val="618ffd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EI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254240" y="1846440"/>
            <a:ext cx="6597000" cy="4543920"/>
            <a:chOff x="1254240" y="1846440"/>
            <a:chExt cx="6597000" cy="4543920"/>
          </a:xfrm>
        </p:grpSpPr>
        <p:grpSp>
          <p:nvGrpSpPr>
            <p:cNvPr id="213" name=""/>
            <p:cNvGrpSpPr/>
            <p:nvPr/>
          </p:nvGrpSpPr>
          <p:grpSpPr>
            <a:xfrm>
              <a:off x="2679840" y="1846440"/>
              <a:ext cx="5171400" cy="2931840"/>
              <a:chOff x="2679840" y="1846440"/>
              <a:chExt cx="5171400" cy="2931840"/>
            </a:xfrm>
          </p:grpSpPr>
          <p:sp>
            <p:nvSpPr>
              <p:cNvPr id="214" name=""/>
              <p:cNvSpPr/>
              <p:nvPr/>
            </p:nvSpPr>
            <p:spPr>
              <a:xfrm>
                <a:off x="2721960" y="4727520"/>
                <a:ext cx="726480" cy="180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448440" y="4427280"/>
                <a:ext cx="972360" cy="2998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4421160" y="1895400"/>
                <a:ext cx="480600" cy="25322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02120" y="1895400"/>
                <a:ext cx="726480" cy="224172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28600" y="4137120"/>
                <a:ext cx="726480" cy="44136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355440" y="4578480"/>
                <a:ext cx="1453320" cy="1490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79840" y="4678200"/>
                <a:ext cx="8460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3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406320" y="4678200"/>
                <a:ext cx="8460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3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59640" y="1846440"/>
                <a:ext cx="84600" cy="9972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3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86480" y="4087800"/>
                <a:ext cx="8460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3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13320" y="4527720"/>
                <a:ext cx="84600" cy="9972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30" y="0"/>
                    </a:moveTo>
                    <a:lnTo>
                      <a:pt x="60" y="32"/>
                    </a:lnTo>
                    <a:lnTo>
                      <a:pt x="30" y="63"/>
                    </a:lnTo>
                    <a:lnTo>
                      <a:pt x="0" y="32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66640" y="4678200"/>
                <a:ext cx="8460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3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90200" y="43671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3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254240" y="6130800"/>
              <a:ext cx="2958120" cy="259560"/>
              <a:chOff x="1254240" y="6130800"/>
              <a:chExt cx="2958120" cy="259560"/>
            </a:xfrm>
          </p:grpSpPr>
          <p:sp>
            <p:nvSpPr>
              <p:cNvPr id="228" name=""/>
              <p:cNvSpPr/>
              <p:nvPr/>
            </p:nvSpPr>
            <p:spPr>
              <a:xfrm>
                <a:off x="1254240" y="6259680"/>
                <a:ext cx="245880" cy="144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330560" y="6210360"/>
                <a:ext cx="84240" cy="100080"/>
              </a:xfrm>
              <a:custGeom>
                <a:avLst/>
                <a:gdLst/>
                <a:ahLst/>
                <a:rect l="l" t="t" r="r" b="b"/>
                <a:pathLst>
                  <a:path w="60" h="63">
                    <a:moveTo>
                      <a:pt x="30" y="0"/>
                    </a:moveTo>
                    <a:lnTo>
                      <a:pt x="60" y="31"/>
                    </a:lnTo>
                    <a:lnTo>
                      <a:pt x="30" y="63"/>
                    </a:lnTo>
                    <a:lnTo>
                      <a:pt x="0" y="31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506600" y="6130800"/>
                <a:ext cx="2705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ffffff"/>
                    </a:solidFill>
                    <a:latin typeface="Comic Sans MS"/>
                  </a:rPr>
                  <a:t>Transaminases Hép. Aiguë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2641680" y="4432320"/>
            <a:ext cx="1612800" cy="322200"/>
          </a:xfrm>
          <a:custGeom>
            <a:avLst/>
            <a:gdLst>
              <a:gd name="textAreaLeft" fmla="*/ 252000 w 1612800"/>
              <a:gd name="textAreaRight" fmla="*/ 1388160 w 1612800"/>
              <a:gd name="textAreaTop" fmla="*/ 68040 h 322200"/>
              <a:gd name="textAreaBottom" fmla="*/ 254160 h 322200"/>
            </a:gdLst>
            <a:ahLst/>
            <a:rect l="textAreaLeft" t="textAreaTop" r="textAreaRight" b="textAreaBottom"/>
            <a:pathLst>
              <a:path w="21600" h="21600">
                <a:moveTo>
                  <a:pt x="3375" y="4575"/>
                </a:moveTo>
                <a:lnTo>
                  <a:pt x="16379" y="4575"/>
                </a:lnTo>
                <a:lnTo>
                  <a:pt x="16379" y="0"/>
                </a:lnTo>
                <a:lnTo>
                  <a:pt x="21600" y="10800"/>
                </a:lnTo>
                <a:lnTo>
                  <a:pt x="16379" y="21600"/>
                </a:lnTo>
                <a:lnTo>
                  <a:pt x="16379" y="17025"/>
                </a:lnTo>
                <a:lnTo>
                  <a:pt x="3375" y="17025"/>
                </a:lnTo>
                <a:close/>
              </a:path>
              <a:path w="21600" h="21600">
                <a:moveTo>
                  <a:pt x="0" y="4575"/>
                </a:moveTo>
                <a:lnTo>
                  <a:pt x="675" y="4575"/>
                </a:lnTo>
                <a:lnTo>
                  <a:pt x="675" y="17025"/>
                </a:lnTo>
                <a:lnTo>
                  <a:pt x="0" y="17025"/>
                </a:lnTo>
                <a:close/>
              </a:path>
              <a:path w="21600" h="21600">
                <a:moveTo>
                  <a:pt x="1350" y="4575"/>
                </a:moveTo>
                <a:lnTo>
                  <a:pt x="2700" y="4575"/>
                </a:lnTo>
                <a:lnTo>
                  <a:pt x="2700" y="17025"/>
                </a:lnTo>
                <a:lnTo>
                  <a:pt x="1350" y="1702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A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24560" y="6259680"/>
            <a:ext cx="24444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87760" y="3384720"/>
            <a:ext cx="5352840" cy="3005640"/>
            <a:chOff x="2687760" y="3384720"/>
            <a:chExt cx="5352840" cy="3005640"/>
          </a:xfrm>
        </p:grpSpPr>
        <p:grpSp>
          <p:nvGrpSpPr>
            <p:cNvPr id="234" name=""/>
            <p:cNvGrpSpPr/>
            <p:nvPr/>
          </p:nvGrpSpPr>
          <p:grpSpPr>
            <a:xfrm>
              <a:off x="2687760" y="3384720"/>
              <a:ext cx="5146200" cy="1410840"/>
              <a:chOff x="2687760" y="3384720"/>
              <a:chExt cx="5146200" cy="1410840"/>
            </a:xfrm>
          </p:grpSpPr>
          <p:sp>
            <p:nvSpPr>
              <p:cNvPr id="235" name=""/>
              <p:cNvSpPr/>
              <p:nvPr/>
            </p:nvSpPr>
            <p:spPr>
              <a:xfrm>
                <a:off x="4375440" y="4438440"/>
                <a:ext cx="5904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4420440" y="3436920"/>
                <a:ext cx="480960" cy="1041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3448080" y="4465080"/>
                <a:ext cx="972360" cy="299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628240" y="4025880"/>
                <a:ext cx="726480" cy="148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721240" y="4765680"/>
                <a:ext cx="726480" cy="1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901400" y="3424320"/>
                <a:ext cx="726480" cy="601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55080" y="4174920"/>
                <a:ext cx="1453320" cy="290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687760" y="4726080"/>
                <a:ext cx="5904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414240" y="4726080"/>
                <a:ext cx="5904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67920" y="3384720"/>
                <a:ext cx="5904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594760" y="3986280"/>
                <a:ext cx="5904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321600" y="4135320"/>
                <a:ext cx="5904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774920" y="4425840"/>
                <a:ext cx="59040" cy="694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4707000" y="6130800"/>
              <a:ext cx="3333600" cy="259560"/>
              <a:chOff x="4707000" y="6130800"/>
              <a:chExt cx="3333600" cy="259560"/>
            </a:xfrm>
          </p:grpSpPr>
          <p:sp>
            <p:nvSpPr>
              <p:cNvPr id="249" name=""/>
              <p:cNvSpPr/>
              <p:nvPr/>
            </p:nvSpPr>
            <p:spPr>
              <a:xfrm>
                <a:off x="4707000" y="6219720"/>
                <a:ext cx="60120" cy="69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847040" y="6130800"/>
                <a:ext cx="3193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ffffff"/>
                    </a:solidFill>
                    <a:latin typeface="Comic Sans MS"/>
                  </a:rPr>
                  <a:t>Transaminases Hép. Chroniqu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2641680" y="4124160"/>
            <a:ext cx="5199120" cy="308160"/>
          </a:xfrm>
          <a:custGeom>
            <a:avLst/>
            <a:gdLst>
              <a:gd name="textAreaLeft" fmla="*/ 812160 w 5199120"/>
              <a:gd name="textAreaRight" fmla="*/ 4680720 w 5199120"/>
              <a:gd name="textAreaTop" fmla="*/ 39600 h 308160"/>
              <a:gd name="textAreaBottom" fmla="*/ 268560 h 308160"/>
            </a:gdLst>
            <a:ahLst/>
            <a:rect l="textAreaLeft" t="textAreaTop" r="textAreaRight" b="textAreaBottom"/>
            <a:pathLst>
              <a:path w="21600" h="21600">
                <a:moveTo>
                  <a:pt x="3375" y="2784"/>
                </a:moveTo>
                <a:lnTo>
                  <a:pt x="18698" y="2784"/>
                </a:lnTo>
                <a:lnTo>
                  <a:pt x="18698" y="0"/>
                </a:lnTo>
                <a:lnTo>
                  <a:pt x="21600" y="10800"/>
                </a:lnTo>
                <a:lnTo>
                  <a:pt x="18698" y="21600"/>
                </a:lnTo>
                <a:lnTo>
                  <a:pt x="18698" y="18816"/>
                </a:lnTo>
                <a:lnTo>
                  <a:pt x="3375" y="18816"/>
                </a:lnTo>
                <a:close/>
              </a:path>
              <a:path w="21600" h="21600">
                <a:moveTo>
                  <a:pt x="0" y="2784"/>
                </a:moveTo>
                <a:lnTo>
                  <a:pt x="675" y="2784"/>
                </a:lnTo>
                <a:lnTo>
                  <a:pt x="675" y="18816"/>
                </a:lnTo>
                <a:lnTo>
                  <a:pt x="0" y="18816"/>
                </a:lnTo>
                <a:close/>
              </a:path>
              <a:path w="21600" h="21600">
                <a:moveTo>
                  <a:pt x="1350" y="2784"/>
                </a:moveTo>
                <a:lnTo>
                  <a:pt x="2700" y="2784"/>
                </a:lnTo>
                <a:lnTo>
                  <a:pt x="2700" y="18816"/>
                </a:lnTo>
                <a:lnTo>
                  <a:pt x="1350" y="1881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A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52840" y="3022560"/>
            <a:ext cx="4287960" cy="322200"/>
          </a:xfrm>
          <a:custGeom>
            <a:avLst/>
            <a:gdLst>
              <a:gd name="textAreaLeft" fmla="*/ 669960 w 4287960"/>
              <a:gd name="textAreaRight" fmla="*/ 3690720 w 4287960"/>
              <a:gd name="textAreaTop" fmla="*/ 68040 h 322200"/>
              <a:gd name="textAreaBottom" fmla="*/ 254160 h 322200"/>
            </a:gdLst>
            <a:ahLst/>
            <a:rect l="textAreaLeft" t="textAreaTop" r="textAreaRight" b="textAreaBottom"/>
            <a:pathLst>
              <a:path w="21600" h="21600">
                <a:moveTo>
                  <a:pt x="3375" y="4575"/>
                </a:moveTo>
                <a:lnTo>
                  <a:pt x="16379" y="4575"/>
                </a:lnTo>
                <a:lnTo>
                  <a:pt x="16379" y="0"/>
                </a:lnTo>
                <a:lnTo>
                  <a:pt x="21600" y="10800"/>
                </a:lnTo>
                <a:lnTo>
                  <a:pt x="16379" y="21600"/>
                </a:lnTo>
                <a:lnTo>
                  <a:pt x="16379" y="17025"/>
                </a:lnTo>
                <a:lnTo>
                  <a:pt x="3375" y="17025"/>
                </a:lnTo>
                <a:close/>
              </a:path>
              <a:path w="21600" h="21600">
                <a:moveTo>
                  <a:pt x="0" y="4575"/>
                </a:moveTo>
                <a:lnTo>
                  <a:pt x="675" y="4575"/>
                </a:lnTo>
                <a:lnTo>
                  <a:pt x="675" y="17025"/>
                </a:lnTo>
                <a:lnTo>
                  <a:pt x="0" y="17025"/>
                </a:lnTo>
                <a:close/>
              </a:path>
              <a:path w="21600" h="21600">
                <a:moveTo>
                  <a:pt x="1350" y="4575"/>
                </a:moveTo>
                <a:lnTo>
                  <a:pt x="2700" y="4575"/>
                </a:lnTo>
                <a:lnTo>
                  <a:pt x="2700" y="17025"/>
                </a:lnTo>
                <a:lnTo>
                  <a:pt x="1350" y="17025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MBO (Ult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67040" y="3416400"/>
            <a:ext cx="1508040" cy="277560"/>
          </a:xfrm>
          <a:custGeom>
            <a:avLst/>
            <a:gdLst>
              <a:gd name="textAreaLeft" fmla="*/ 235440 w 1508040"/>
              <a:gd name="textAreaRight" fmla="*/ 1298160 w 1508040"/>
              <a:gd name="textAreaTop" fmla="*/ 58680 h 277560"/>
              <a:gd name="textAreaBottom" fmla="*/ 218880 h 277560"/>
            </a:gdLst>
            <a:ahLst/>
            <a:rect l="textAreaLeft" t="textAreaTop" r="textAreaRight" b="textAreaBottom"/>
            <a:pathLst>
              <a:path w="21600" h="21600">
                <a:moveTo>
                  <a:pt x="3375" y="4575"/>
                </a:moveTo>
                <a:lnTo>
                  <a:pt x="16379" y="4575"/>
                </a:lnTo>
                <a:lnTo>
                  <a:pt x="16379" y="0"/>
                </a:lnTo>
                <a:lnTo>
                  <a:pt x="21600" y="10800"/>
                </a:lnTo>
                <a:lnTo>
                  <a:pt x="16379" y="21600"/>
                </a:lnTo>
                <a:lnTo>
                  <a:pt x="16379" y="17025"/>
                </a:lnTo>
                <a:lnTo>
                  <a:pt x="3375" y="17025"/>
                </a:lnTo>
                <a:close/>
              </a:path>
              <a:path w="21600" h="21600">
                <a:moveTo>
                  <a:pt x="0" y="4575"/>
                </a:moveTo>
                <a:lnTo>
                  <a:pt x="675" y="4575"/>
                </a:lnTo>
                <a:lnTo>
                  <a:pt x="675" y="17025"/>
                </a:lnTo>
                <a:lnTo>
                  <a:pt x="0" y="17025"/>
                </a:lnTo>
                <a:close/>
              </a:path>
              <a:path w="21600" h="21600">
                <a:moveTo>
                  <a:pt x="1350" y="4575"/>
                </a:moveTo>
                <a:lnTo>
                  <a:pt x="2700" y="4575"/>
                </a:lnTo>
                <a:lnTo>
                  <a:pt x="2700" y="17025"/>
                </a:lnTo>
                <a:lnTo>
                  <a:pt x="1350" y="1702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HCV-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5147600">
            <a:off x="1026720" y="4849200"/>
            <a:ext cx="871560" cy="1353960"/>
          </a:xfrm>
          <a:prstGeom prst="lightningBol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71920" y="4433760"/>
            <a:ext cx="1079640" cy="322560"/>
          </a:xfrm>
          <a:custGeom>
            <a:avLst/>
            <a:gdLst>
              <a:gd name="textAreaLeft" fmla="*/ 168480 w 1079640"/>
              <a:gd name="textAreaRight" fmla="*/ 929520 w 1079640"/>
              <a:gd name="textAreaTop" fmla="*/ 68040 h 322560"/>
              <a:gd name="textAreaBottom" fmla="*/ 254520 h 322560"/>
            </a:gdLst>
            <a:ahLst/>
            <a:rect l="textAreaLeft" t="textAreaTop" r="textAreaRight" b="textAreaBottom"/>
            <a:pathLst>
              <a:path w="21600" h="21600">
                <a:moveTo>
                  <a:pt x="3375" y="4575"/>
                </a:moveTo>
                <a:lnTo>
                  <a:pt x="16379" y="4575"/>
                </a:lnTo>
                <a:lnTo>
                  <a:pt x="16379" y="0"/>
                </a:lnTo>
                <a:lnTo>
                  <a:pt x="21600" y="10800"/>
                </a:lnTo>
                <a:lnTo>
                  <a:pt x="16379" y="21600"/>
                </a:lnTo>
                <a:lnTo>
                  <a:pt x="16379" y="17025"/>
                </a:lnTo>
                <a:lnTo>
                  <a:pt x="3375" y="17025"/>
                </a:lnTo>
                <a:close/>
              </a:path>
              <a:path w="21600" h="21600">
                <a:moveTo>
                  <a:pt x="0" y="4575"/>
                </a:moveTo>
                <a:lnTo>
                  <a:pt x="675" y="4575"/>
                </a:lnTo>
                <a:lnTo>
                  <a:pt x="675" y="17025"/>
                </a:lnTo>
                <a:lnTo>
                  <a:pt x="0" y="17025"/>
                </a:lnTo>
                <a:close/>
              </a:path>
              <a:path w="21600" h="21600">
                <a:moveTo>
                  <a:pt x="1350" y="4575"/>
                </a:moveTo>
                <a:lnTo>
                  <a:pt x="2700" y="4575"/>
                </a:lnTo>
                <a:lnTo>
                  <a:pt x="2700" y="17025"/>
                </a:lnTo>
                <a:lnTo>
                  <a:pt x="1350" y="1702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A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4920" y="127080"/>
            <a:ext cx="907272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4960" rIns="534960" tIns="267480" bIns="267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Principe du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Monolisa HCV Ag-Ab Ultra </a:t>
            </a:r>
            <a:r>
              <a:rPr b="0" lang="fr-FR" sz="2000" spc="-1" strike="noStrike" baseline="30000">
                <a:solidFill>
                  <a:srgbClr val="ffffff"/>
                </a:solidFill>
                <a:latin typeface="Comic Sans MS"/>
              </a:rPr>
              <a:t>®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(Bio-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5280" y="1795320"/>
            <a:ext cx="8424720" cy="4176720"/>
            <a:chOff x="395280" y="1795320"/>
            <a:chExt cx="8424720" cy="4176720"/>
          </a:xfrm>
        </p:grpSpPr>
        <p:sp>
          <p:nvSpPr>
            <p:cNvPr id="258" name=""/>
            <p:cNvSpPr/>
            <p:nvPr/>
          </p:nvSpPr>
          <p:spPr>
            <a:xfrm>
              <a:off x="395280" y="1795320"/>
              <a:ext cx="8424720" cy="417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2751120" y="4140360"/>
              <a:ext cx="407880" cy="339120"/>
              <a:chOff x="2751120" y="4140360"/>
              <a:chExt cx="407880" cy="339120"/>
            </a:xfrm>
          </p:grpSpPr>
          <p:sp>
            <p:nvSpPr>
              <p:cNvPr id="260" name=""/>
              <p:cNvSpPr/>
              <p:nvPr/>
            </p:nvSpPr>
            <p:spPr>
              <a:xfrm>
                <a:off x="2751120" y="4140360"/>
                <a:ext cx="20484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955960" y="4140360"/>
                <a:ext cx="20304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955960" y="4309920"/>
                <a:ext cx="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3911760" y="4140360"/>
              <a:ext cx="407880" cy="339480"/>
            </a:xfrm>
            <a:prstGeom prst="diamond">
              <a:avLst/>
            </a:prstGeom>
            <a:solidFill>
              <a:srgbClr val="00cc66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4960" rIns="534960" tIns="-97560" bIns="-9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Arial"/>
                </a:rPr>
                <a:t>NS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72040" y="4140360"/>
              <a:ext cx="409680" cy="339480"/>
            </a:xfrm>
            <a:prstGeom prst="diamond">
              <a:avLst/>
            </a:prstGeom>
            <a:solidFill>
              <a:srgbClr val="eaeaea"/>
            </a:solidFill>
            <a:ln w="381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4960" rIns="534960" tIns="-97560" bIns="-9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Arial"/>
                </a:rPr>
                <a:t>NS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62840" y="4149720"/>
              <a:ext cx="407880" cy="339840"/>
            </a:xfrm>
            <a:prstGeom prst="diamond">
              <a:avLst/>
            </a:prstGeom>
            <a:solidFill>
              <a:srgbClr val="ff0000"/>
            </a:solidFill>
            <a:ln w="38160">
              <a:solidFill>
                <a:srgbClr val="aa12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4960" rIns="534960" tIns="-97560" bIns="-9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Arial"/>
                </a:rPr>
                <a:t>C mu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78240" y="2949480"/>
              <a:ext cx="0" cy="153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62040" y="4495680"/>
              <a:ext cx="49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23200" y="2949480"/>
              <a:ext cx="0" cy="153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51480" y="4363920"/>
              <a:ext cx="208080" cy="128880"/>
            </a:xfrm>
            <a:prstGeom prst="star5">
              <a:avLst/>
            </a:prstGeom>
            <a:solidFill>
              <a:srgbClr val="ffcc00"/>
            </a:solidFill>
            <a:ln w="9360">
              <a:solidFill>
                <a:srgbClr val="aa12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39640" y="1874880"/>
            <a:ext cx="8641800" cy="2604600"/>
            <a:chOff x="539640" y="1874880"/>
            <a:chExt cx="8641800" cy="2604600"/>
          </a:xfrm>
        </p:grpSpPr>
        <p:grpSp>
          <p:nvGrpSpPr>
            <p:cNvPr id="271" name=""/>
            <p:cNvGrpSpPr/>
            <p:nvPr/>
          </p:nvGrpSpPr>
          <p:grpSpPr>
            <a:xfrm>
              <a:off x="539640" y="2728800"/>
              <a:ext cx="8641800" cy="1378800"/>
              <a:chOff x="539640" y="2728800"/>
              <a:chExt cx="8641800" cy="1378800"/>
            </a:xfrm>
          </p:grpSpPr>
          <p:sp>
            <p:nvSpPr>
              <p:cNvPr id="272" name=""/>
              <p:cNvSpPr/>
              <p:nvPr/>
            </p:nvSpPr>
            <p:spPr>
              <a:xfrm flipV="1">
                <a:off x="3295800" y="3247920"/>
                <a:ext cx="71280" cy="169920"/>
              </a:xfrm>
              <a:prstGeom prst="line">
                <a:avLst/>
              </a:prstGeom>
              <a:ln w="5724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539640" y="2728800"/>
                <a:ext cx="8641800" cy="1378800"/>
                <a:chOff x="539640" y="2728800"/>
                <a:chExt cx="8641800" cy="1378800"/>
              </a:xfrm>
            </p:grpSpPr>
            <p:sp>
              <p:nvSpPr>
                <p:cNvPr id="274" name=""/>
                <p:cNvSpPr/>
                <p:nvPr/>
              </p:nvSpPr>
              <p:spPr>
                <a:xfrm flipH="1" flipV="1">
                  <a:off x="4223880" y="3841920"/>
                  <a:ext cx="43920" cy="26568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956040" y="3835080"/>
                  <a:ext cx="268200" cy="684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V="1">
                  <a:off x="4224960" y="3713040"/>
                  <a:ext cx="113040" cy="12924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005360" y="3511440"/>
                  <a:ext cx="753840" cy="210960"/>
                </a:xfrm>
                <a:prstGeom prst="ellipse">
                  <a:avLst/>
                </a:prstGeom>
                <a:solidFill>
                  <a:srgbClr val="dddddd"/>
                </a:solidFill>
                <a:ln w="2844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4960" rIns="534960" tIns="-117720" bIns="-117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349960"/>
                      <a:tab algn="l" pos="1069992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per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>
                  <a:off x="5381640" y="3842640"/>
                  <a:ext cx="42120" cy="26280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115240" y="3835440"/>
                  <a:ext cx="266040" cy="720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5382360" y="3716280"/>
                  <a:ext cx="113040" cy="12924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167440" y="3511440"/>
                  <a:ext cx="752400" cy="212760"/>
                </a:xfrm>
                <a:prstGeom prst="ellipse">
                  <a:avLst/>
                </a:prstGeom>
                <a:solidFill>
                  <a:srgbClr val="dddddd"/>
                </a:solidFill>
                <a:ln w="2844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4960" rIns="534960" tIns="-116640" bIns="-116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349960"/>
                      <a:tab algn="l" pos="1069992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per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 flipV="1">
                  <a:off x="6477120" y="3842640"/>
                  <a:ext cx="42120" cy="26280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214320" y="3837960"/>
                  <a:ext cx="264960" cy="576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6477480" y="3716280"/>
                  <a:ext cx="113040" cy="129240"/>
                </a:xfrm>
                <a:prstGeom prst="line">
                  <a:avLst/>
                </a:prstGeom>
                <a:ln w="3816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262560" y="3511440"/>
                  <a:ext cx="746280" cy="212760"/>
                </a:xfrm>
                <a:prstGeom prst="ellipse">
                  <a:avLst/>
                </a:prstGeom>
                <a:solidFill>
                  <a:srgbClr val="dddddd"/>
                </a:solidFill>
                <a:ln w="2844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4960" rIns="534960" tIns="-116640" bIns="-1166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349960"/>
                      <a:tab algn="l" pos="1069992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per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3022560" y="3287520"/>
                  <a:ext cx="628560" cy="322200"/>
                </a:xfrm>
                <a:prstGeom prst="irregularSeal1">
                  <a:avLst/>
                </a:prstGeom>
                <a:solidFill>
                  <a:srgbClr val="86868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57400" y="3033360"/>
                  <a:ext cx="747720" cy="211320"/>
                </a:xfrm>
                <a:prstGeom prst="ellipse">
                  <a:avLst/>
                </a:prstGeom>
                <a:solidFill>
                  <a:srgbClr val="dddddd"/>
                </a:solidFill>
                <a:ln w="28440">
                  <a:solidFill>
                    <a:srgbClr val="86868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4960" rIns="534960" tIns="-118080" bIns="-118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349960"/>
                      <a:tab algn="l" pos="1069992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pero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638520" y="3928680"/>
                  <a:ext cx="3821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478240" y="3458880"/>
                  <a:ext cx="1160280" cy="469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537320" y="3335040"/>
                  <a:ext cx="136800" cy="509760"/>
                </a:xfrm>
                <a:custGeom>
                  <a:avLst/>
                  <a:gdLst>
                    <a:gd name="textAreaLeft" fmla="*/ 0 w 136800"/>
                    <a:gd name="textAreaRight" fmla="*/ 49320 w 136800"/>
                    <a:gd name="textAreaTop" fmla="*/ 12960 h 509760"/>
                    <a:gd name="textAreaBottom" fmla="*/ 496800 h 509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179480" y="3124080"/>
                  <a:ext cx="2001960" cy="84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34960" rIns="534960" tIns="267480" bIns="2674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349960"/>
                      <a:tab algn="l" pos="10699920"/>
                    </a:tabLst>
                  </a:pPr>
                  <a:r>
                    <a:rPr b="1" lang="fr-FR" sz="2000" spc="-1" strike="noStrike">
                      <a:solidFill>
                        <a:srgbClr val="cc0099"/>
                      </a:solidFill>
                      <a:latin typeface="Comic Sans MS"/>
                    </a:rPr>
                    <a:t>Etape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39640" y="2947680"/>
                  <a:ext cx="1573200" cy="571680"/>
                </a:xfrm>
                <a:gradFill rotWithShape="0">
                  <a:gsLst>
                    <a:gs pos="0">
                      <a:srgbClr val="ccffff"/>
                    </a:gs>
                    <a:gs pos="50000">
                      <a:srgbClr val="fefefe"/>
                    </a:gs>
                    <a:gs pos="100000">
                      <a:srgbClr val="cc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349960"/>
                      <a:tab algn="l" pos="1069992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Streptavidin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349960"/>
                      <a:tab algn="l" pos="1069992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fr-FR" sz="1400" spc="-1" strike="noStrike">
                      <a:solidFill>
                        <a:srgbClr val="000000"/>
                      </a:solidFill>
                      <a:latin typeface="Comic Sans MS"/>
                    </a:rPr>
                    <a:t>- peroxydase</a:t>
                  </a: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 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282920" y="2728800"/>
                  <a:ext cx="1922760" cy="507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1600" y="21600"/>
                      </a:lnTo>
                      <a:lnTo>
                        <a:pt x="0" y="21600"/>
                      </a:lnTo>
                      <a:close/>
                    </a:path>
                    <a:path fill="none" w="21600" h="21600">
                      <a:moveTo>
                        <a:pt x="22456" y="4860"/>
                      </a:moveTo>
                      <a:lnTo>
                        <a:pt x="28449" y="4860"/>
                      </a:lnTo>
                      <a:lnTo>
                        <a:pt x="28449" y="20723"/>
                      </a:lnTo>
                      <a:lnTo>
                        <a:pt x="26487" y="29835"/>
                      </a:lnTo>
                    </a:path>
                    <a:path w="21600" h="21600">
                      <a:moveTo>
                        <a:pt x="22456" y="0"/>
                      </a:moveTo>
                      <a:lnTo>
                        <a:pt x="22456" y="21600"/>
                      </a:lnTo>
                    </a:path>
                  </a:pathLst>
                </a:custGeom>
                <a:gradFill rotWithShape="0">
                  <a:gsLst>
                    <a:gs pos="0">
                      <a:srgbClr val="ccffff"/>
                    </a:gs>
                    <a:gs pos="50000">
                      <a:srgbClr val="fefefe"/>
                    </a:gs>
                    <a:gs pos="100000">
                      <a:srgbClr val="cc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5349960"/>
                      <a:tab algn="l" pos="1069992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Comic Sans MS"/>
                    </a:rPr>
                    <a:t>Anti-IgG humaine - peroxydas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4683240" y="3232080"/>
                  <a:ext cx="1790640" cy="25848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6473880" y="3088800"/>
                  <a:ext cx="0" cy="14292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6254280" y="3089160"/>
                  <a:ext cx="21924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92760" y="3003480"/>
                  <a:ext cx="0" cy="22860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5925960" y="3232080"/>
                  <a:ext cx="766800" cy="25848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273720" y="2993760"/>
                  <a:ext cx="432000" cy="0"/>
                </a:xfrm>
                <a:prstGeom prst="line">
                  <a:avLst/>
                </a:prstGeom>
                <a:ln cap="rnd" w="1260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0" name=""/>
            <p:cNvGrpSpPr/>
            <p:nvPr/>
          </p:nvGrpSpPr>
          <p:grpSpPr>
            <a:xfrm>
              <a:off x="1231560" y="1874880"/>
              <a:ext cx="5507640" cy="2604600"/>
              <a:chOff x="1231560" y="1874880"/>
              <a:chExt cx="5507640" cy="2604600"/>
            </a:xfrm>
          </p:grpSpPr>
          <p:sp>
            <p:nvSpPr>
              <p:cNvPr id="301" name=""/>
              <p:cNvSpPr/>
              <p:nvPr/>
            </p:nvSpPr>
            <p:spPr>
              <a:xfrm>
                <a:off x="3774960" y="2482560"/>
                <a:ext cx="0" cy="1996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231560" y="1874880"/>
                <a:ext cx="2932920" cy="84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4960" rIns="534960" tIns="267480" bIns="267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349960"/>
                    <a:tab algn="l" pos="10699920"/>
                  </a:tabLst>
                </a:pPr>
                <a:r>
                  <a:rPr b="1" lang="fr-FR" sz="2000" spc="-1" strike="noStrike">
                    <a:solidFill>
                      <a:srgbClr val="cc0099"/>
                    </a:solidFill>
                    <a:latin typeface="Comic Sans MS"/>
                  </a:rPr>
                  <a:t>Détection d’A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36880" y="1874880"/>
                <a:ext cx="2902320" cy="84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34960" rIns="534960" tIns="267480" bIns="2674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349960"/>
                    <a:tab algn="l" pos="10699920"/>
                  </a:tabLst>
                </a:pPr>
                <a:r>
                  <a:rPr b="1" lang="fr-FR" sz="2000" spc="-1" strike="noStrike">
                    <a:solidFill>
                      <a:srgbClr val="cc0099"/>
                    </a:solidFill>
                    <a:latin typeface="Comic Sans MS"/>
                  </a:rPr>
                  <a:t>Détection d’A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539640" y="3557520"/>
            <a:ext cx="8641800" cy="1095120"/>
            <a:chOff x="539640" y="3557520"/>
            <a:chExt cx="8641800" cy="1095120"/>
          </a:xfrm>
        </p:grpSpPr>
        <p:sp>
          <p:nvSpPr>
            <p:cNvPr id="305" name=""/>
            <p:cNvSpPr/>
            <p:nvPr/>
          </p:nvSpPr>
          <p:spPr>
            <a:xfrm flipV="1">
              <a:off x="2751120" y="3800160"/>
              <a:ext cx="204840" cy="16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2955960" y="3800160"/>
              <a:ext cx="203040" cy="16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955960" y="3630240"/>
              <a:ext cx="0" cy="169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57400" y="3629880"/>
              <a:ext cx="201600" cy="86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133800" y="3557520"/>
              <a:ext cx="127080" cy="95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7320" y="3970080"/>
              <a:ext cx="136800" cy="509760"/>
            </a:xfrm>
            <a:custGeom>
              <a:avLst/>
              <a:gdLst>
                <a:gd name="textAreaLeft" fmla="*/ 0 w 136800"/>
                <a:gd name="textAreaRight" fmla="*/ 49320 w 136800"/>
                <a:gd name="textAreaTop" fmla="*/ 12960 h 509760"/>
                <a:gd name="textAreaBottom" fmla="*/ 496800 h 5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79480" y="3762000"/>
              <a:ext cx="200196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4960" rIns="534960" tIns="267480" bIns="267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2000" spc="-1" strike="noStrike">
                  <a:solidFill>
                    <a:srgbClr val="cc0099"/>
                  </a:solidFill>
                  <a:latin typeface="Comic Sans MS"/>
                </a:rPr>
                <a:t>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9640" y="3789000"/>
              <a:ext cx="1573200" cy="863640"/>
            </a:xfrm>
            <a:gradFill rotWithShape="0">
              <a:gsLst>
                <a:gs pos="0">
                  <a:srgbClr val="ccffff"/>
                </a:gs>
                <a:gs pos="5000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Comic Sans MS"/>
                </a:rPr>
                <a:t>Ac monoclonal anti-capside du VHC - bioti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763640" y="3886200"/>
            <a:ext cx="5832720" cy="1725120"/>
            <a:chOff x="1763640" y="3886200"/>
            <a:chExt cx="5832720" cy="1725120"/>
          </a:xfrm>
        </p:grpSpPr>
        <p:sp>
          <p:nvSpPr>
            <p:cNvPr id="314" name=""/>
            <p:cNvSpPr/>
            <p:nvPr/>
          </p:nvSpPr>
          <p:spPr>
            <a:xfrm>
              <a:off x="2751120" y="3886200"/>
              <a:ext cx="407880" cy="341280"/>
            </a:xfrm>
            <a:prstGeom prst="diamond">
              <a:avLst/>
            </a:prstGeom>
            <a:solidFill>
              <a:srgbClr val="ff0000"/>
            </a:solidFill>
            <a:ln w="38160">
              <a:solidFill>
                <a:srgbClr val="aa12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34960" rIns="534960" tIns="-96840" bIns="-9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6162840" y="3886200"/>
              <a:ext cx="407520" cy="340560"/>
              <a:chOff x="6162840" y="3886200"/>
              <a:chExt cx="407520" cy="340560"/>
            </a:xfrm>
          </p:grpSpPr>
          <p:sp>
            <p:nvSpPr>
              <p:cNvPr id="316" name=""/>
              <p:cNvSpPr/>
              <p:nvPr/>
            </p:nvSpPr>
            <p:spPr>
              <a:xfrm flipV="1">
                <a:off x="6162840" y="4057200"/>
                <a:ext cx="20448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 flipV="1">
                <a:off x="6366960" y="4057200"/>
                <a:ext cx="203400" cy="169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367320" y="3886200"/>
                <a:ext cx="0" cy="171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072040" y="3886200"/>
              <a:ext cx="409320" cy="340560"/>
              <a:chOff x="5072040" y="3886200"/>
              <a:chExt cx="409320" cy="340560"/>
            </a:xfrm>
          </p:grpSpPr>
          <p:sp>
            <p:nvSpPr>
              <p:cNvPr id="320" name=""/>
              <p:cNvSpPr/>
              <p:nvPr/>
            </p:nvSpPr>
            <p:spPr>
              <a:xfrm flipV="1">
                <a:off x="5072040" y="4057200"/>
                <a:ext cx="204840" cy="16956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 flipV="1">
                <a:off x="5276520" y="4057200"/>
                <a:ext cx="204840" cy="16956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5276880" y="3886200"/>
                <a:ext cx="0" cy="171360"/>
              </a:xfrm>
              <a:prstGeom prst="line">
                <a:avLst/>
              </a:prstGeom>
              <a:ln w="381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3911760" y="3886200"/>
              <a:ext cx="407520" cy="340560"/>
              <a:chOff x="3911760" y="3886200"/>
              <a:chExt cx="407520" cy="340560"/>
            </a:xfrm>
          </p:grpSpPr>
          <p:sp>
            <p:nvSpPr>
              <p:cNvPr id="324" name=""/>
              <p:cNvSpPr/>
              <p:nvPr/>
            </p:nvSpPr>
            <p:spPr>
              <a:xfrm flipV="1">
                <a:off x="3911760" y="4057200"/>
                <a:ext cx="204480" cy="1695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 flipV="1">
                <a:off x="4115880" y="4057200"/>
                <a:ext cx="203400" cy="1695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116240" y="3886200"/>
                <a:ext cx="0" cy="171360"/>
              </a:xfrm>
              <a:prstGeom prst="line">
                <a:avLst/>
              </a:prstGeom>
              <a:ln w="38160">
                <a:solidFill>
                  <a:srgbClr val="00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1763640" y="4844880"/>
              <a:ext cx="1602000" cy="76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628" y="3220"/>
                  </a:moveTo>
                  <a:lnTo>
                    <a:pt x="23591" y="3220"/>
                  </a:lnTo>
                  <a:lnTo>
                    <a:pt x="23591" y="-8542"/>
                  </a:lnTo>
                  <a:lnTo>
                    <a:pt x="19245" y="-20393"/>
                  </a:lnTo>
                </a:path>
                <a:path w="21600" h="21600">
                  <a:moveTo>
                    <a:pt x="22628" y="0"/>
                  </a:moveTo>
                  <a:lnTo>
                    <a:pt x="22628" y="21600"/>
                  </a:lnTo>
                </a:path>
              </a:pathLst>
            </a:custGeom>
            <a:gradFill rotWithShape="0">
              <a:gsLst>
                <a:gs pos="0">
                  <a:srgbClr val="ccffff"/>
                </a:gs>
                <a:gs pos="50000">
                  <a:srgbClr val="fefefe"/>
                </a:gs>
                <a:gs pos="100000">
                  <a:srgbClr val="ccffff"/>
                </a:gs>
              </a:gsLst>
              <a:lin ang="5400000"/>
            </a:gra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Comic Sans MS"/>
                </a:rPr>
                <a:t>Antigène de capside de l’échantill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4316400" y="4114440"/>
              <a:ext cx="3279960" cy="1496520"/>
              <a:chOff x="4316400" y="4114440"/>
              <a:chExt cx="3279960" cy="1496520"/>
            </a:xfrm>
          </p:grpSpPr>
          <p:sp>
            <p:nvSpPr>
              <p:cNvPr id="329" name=""/>
              <p:cNvSpPr/>
              <p:nvPr/>
            </p:nvSpPr>
            <p:spPr>
              <a:xfrm flipH="1">
                <a:off x="6108840" y="4844520"/>
                <a:ext cx="1487520" cy="766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fill="none" w="21600" h="21600">
                    <a:moveTo>
                      <a:pt x="22706" y="3219"/>
                    </a:moveTo>
                    <a:lnTo>
                      <a:pt x="26279" y="3219"/>
                    </a:lnTo>
                    <a:lnTo>
                      <a:pt x="26279" y="-14400"/>
                    </a:lnTo>
                    <a:lnTo>
                      <a:pt x="19871" y="-19409"/>
                    </a:lnTo>
                  </a:path>
                  <a:path w="21600" h="21600">
                    <a:moveTo>
                      <a:pt x="22706" y="0"/>
                    </a:moveTo>
                    <a:lnTo>
                      <a:pt x="22706" y="21600"/>
                    </a:lnTo>
                  </a:path>
                </a:pathLst>
              </a:custGeom>
              <a:gradFill rotWithShape="0">
                <a:gsLst>
                  <a:gs pos="0">
                    <a:srgbClr val="ccffff"/>
                  </a:gs>
                  <a:gs pos="50000">
                    <a:srgbClr val="fefefe"/>
                  </a:gs>
                  <a:gs pos="100000">
                    <a:srgbClr val="ccffff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349960"/>
                    <a:tab algn="l" pos="1069992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Comic Sans MS"/>
                  </a:rPr>
                  <a:t>Anticorps anti-VHC de l’échantill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16400" y="4142880"/>
                <a:ext cx="293760" cy="14256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4792320" y="4114440"/>
                <a:ext cx="328680" cy="11556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88000" y="4244400"/>
                <a:ext cx="0" cy="8632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91080" y="4296960"/>
                <a:ext cx="0" cy="10076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788000" y="5108040"/>
                <a:ext cx="1224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84600" y="5292000"/>
                <a:ext cx="144000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3399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Comic Sans MS"/>
              </a:rPr>
              <a:t>Evaluation du test Ultra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28840"/>
            <a:ext cx="8534160" cy="51447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ff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6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Le contexte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 algn="just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Patients coinfectés par le VIH : </a:t>
            </a: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longue fenêtre séronégativ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 algn="just">
              <a:lnSpc>
                <a:spcPct val="16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Recrudescence d'hépatites C aiguës dans la population homosexuelle (Paris) parallèle avec la syphili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 algn="just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ratiques sexuelles à risque (sexe traumatique = contact sanguin...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16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Diagnostic précoce = 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2" marL="1131480" indent="-226080" algn="just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rise en charge précoc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 algn="just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révention des transmissio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 algn="just">
              <a:lnSpc>
                <a:spcPct val="160000"/>
              </a:lnSpc>
              <a:spcBef>
                <a:spcPts val="451"/>
              </a:spcBef>
              <a:buClr>
                <a:srgbClr val="ffffff"/>
              </a:buClr>
              <a:buFont typeface="Monotype Sorts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roposition de traitemen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19040" y="2783160"/>
            <a:ext cx="8461440" cy="37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lnSpc>
                <a:spcPct val="130000"/>
              </a:lnSpc>
              <a:buClr>
                <a:srgbClr val="ffff99"/>
              </a:buClr>
              <a:buFont typeface="Wingdings" charset="2"/>
              <a:buChar char=""/>
              <a:tabLst>
                <a:tab algn="l" pos="4664160"/>
                <a:tab algn="l" pos="5349960"/>
                <a:tab algn="l" pos="1069992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 </a:t>
            </a:r>
            <a:r>
              <a:rPr b="0" lang="fr-FR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Validation des performances du test chez des patients infectés par le VIH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25236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664160"/>
                <a:tab algn="l" pos="5349960"/>
                <a:tab algn="l" pos="106999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80 échantillons séronégatifs pour le VH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25236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664160"/>
                <a:tab algn="l" pos="5349960"/>
                <a:tab algn="l" pos="106999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80 échantillons séropositifs pour le VH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4600">
              <a:lnSpc>
                <a:spcPct val="13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66416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Hépatite C chr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4600">
              <a:lnSpc>
                <a:spcPct val="13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66416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ARN du VHC détectable par P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4600">
              <a:lnSpc>
                <a:spcPct val="13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664160"/>
                <a:tab algn="l" pos="5349960"/>
                <a:tab algn="l" pos="1069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Wingdings" charset="2"/>
              <a:buChar char=""/>
              <a:tabLst>
                <a:tab algn="l" pos="4664160"/>
                <a:tab algn="l" pos="5349960"/>
                <a:tab algn="l" pos="1069992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 </a:t>
            </a:r>
            <a:r>
              <a:rPr b="0" lang="fr-FR" sz="2000" spc="-1" strike="noStrike">
                <a:solidFill>
                  <a:srgbClr val="ffff99"/>
                </a:solidFill>
                <a:latin typeface="Comic Sans MS"/>
                <a:ea typeface="Arial"/>
              </a:rPr>
              <a:t>Bénéfice clinique dans le cadre d'hépatites C aiguë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9640" indent="25236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4664160"/>
                <a:tab algn="l" pos="5349960"/>
                <a:tab algn="l" pos="106999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17 cas documentés d'infections récentes par le VHC chez des patients homosexuels VIH+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3440" y="1240920"/>
            <a:ext cx="8467560" cy="122184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i="1" lang="fr-FR" sz="2000" spc="-1" strike="noStrike">
                <a:solidFill>
                  <a:srgbClr val="ffccff"/>
                </a:solidFill>
                <a:latin typeface="Comic Sans MS"/>
              </a:rPr>
              <a:t>Déterminer le bénéfice potentiel d’un nouveau test combiné antigène/anticorps, dans le cadre de l’infection aiguë par le VHC chez des sujets infectés par le VI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65240"/>
            <a:ext cx="90727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4960" rIns="534960" tIns="267480" bIns="267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4920" y="-27000"/>
            <a:ext cx="907272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4960" rIns="534960" tIns="267480" bIns="267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Validation du test Ag-Ac Ultra chez des patients infectés par le VI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-961560" y="377928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tio DO échantillon / DO seu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1960" y="1722600"/>
            <a:ext cx="8602920" cy="47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43160" y="2039760"/>
            <a:ext cx="74008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43160" y="2227320"/>
            <a:ext cx="7400880" cy="12996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43160" y="2357280"/>
            <a:ext cx="7400880" cy="1159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43160" y="2473200"/>
            <a:ext cx="7400880" cy="716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43160" y="2544840"/>
            <a:ext cx="7400880" cy="7308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43160" y="2617920"/>
            <a:ext cx="7400880" cy="5688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343160" y="2674800"/>
            <a:ext cx="7400880" cy="428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43160" y="2717640"/>
            <a:ext cx="7400880" cy="7308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43160" y="2790720"/>
            <a:ext cx="7400880" cy="4284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43160" y="2833560"/>
            <a:ext cx="7400880" cy="2880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43160" y="2862360"/>
            <a:ext cx="7400880" cy="5688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43160" y="2919240"/>
            <a:ext cx="7400880" cy="4320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43160" y="2962440"/>
            <a:ext cx="7400880" cy="2988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43160" y="2992320"/>
            <a:ext cx="7400880" cy="42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43160" y="3035160"/>
            <a:ext cx="7400880" cy="42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343160" y="3078000"/>
            <a:ext cx="7400880" cy="4320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43160" y="3121200"/>
            <a:ext cx="7400880" cy="2988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43160" y="3151080"/>
            <a:ext cx="7400880" cy="4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43160" y="3193920"/>
            <a:ext cx="7400880" cy="428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43160" y="3236760"/>
            <a:ext cx="7400880" cy="4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43160" y="3279600"/>
            <a:ext cx="7400880" cy="2880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43160" y="3308400"/>
            <a:ext cx="7400880" cy="4428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43160" y="3352680"/>
            <a:ext cx="7400880" cy="5724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43160" y="3409920"/>
            <a:ext cx="7400880" cy="2844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43160" y="3438360"/>
            <a:ext cx="7400880" cy="4320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43160" y="3481560"/>
            <a:ext cx="7400880" cy="7272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43160" y="3554280"/>
            <a:ext cx="7400880" cy="428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43160" y="3597120"/>
            <a:ext cx="7400880" cy="5724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43160" y="3654360"/>
            <a:ext cx="7400880" cy="8748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43160" y="3741840"/>
            <a:ext cx="7400880" cy="7128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43160" y="3813120"/>
            <a:ext cx="7400880" cy="130320"/>
          </a:xfrm>
          <a:prstGeom prst="rect">
            <a:avLst/>
          </a:pr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43160" y="3943440"/>
            <a:ext cx="7400880" cy="33156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43160" y="4275000"/>
            <a:ext cx="7400880" cy="115920"/>
          </a:xfrm>
          <a:prstGeom prst="rect">
            <a:avLst/>
          </a:pr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43160" y="4390920"/>
            <a:ext cx="7400880" cy="71640"/>
          </a:xfrm>
          <a:prstGeom prst="rect">
            <a:avLst/>
          </a:pr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43160" y="4462560"/>
            <a:ext cx="7400880" cy="71280"/>
          </a:xfrm>
          <a:prstGeom prst="rect">
            <a:avLst/>
          </a:pr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3160" y="4533840"/>
            <a:ext cx="7400880" cy="58680"/>
          </a:xfrm>
          <a:prstGeom prst="rect">
            <a:avLst/>
          </a:pr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43160" y="4592520"/>
            <a:ext cx="7400880" cy="5724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43160" y="4649760"/>
            <a:ext cx="7400880" cy="42840"/>
          </a:xfrm>
          <a:prstGeom prst="rect">
            <a:avLst/>
          </a:pr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43160" y="4692600"/>
            <a:ext cx="7400880" cy="4464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43160" y="4737240"/>
            <a:ext cx="7400880" cy="568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43160" y="4794120"/>
            <a:ext cx="7400880" cy="2880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43160" y="4822920"/>
            <a:ext cx="7400880" cy="42840"/>
          </a:xfrm>
          <a:prstGeom prst="rect">
            <a:avLst/>
          </a:pr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43160" y="4865760"/>
            <a:ext cx="7400880" cy="44280"/>
          </a:xfrm>
          <a:prstGeom prst="rect">
            <a:avLst/>
          </a:pr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43160" y="4910040"/>
            <a:ext cx="7400880" cy="42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43160" y="4952880"/>
            <a:ext cx="7400880" cy="4284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343160" y="4995720"/>
            <a:ext cx="7400880" cy="28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43160" y="5024520"/>
            <a:ext cx="7400880" cy="28440"/>
          </a:xfrm>
          <a:prstGeom prst="rect">
            <a:avLst/>
          </a:pr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43160" y="5052960"/>
            <a:ext cx="7400880" cy="58680"/>
          </a:xfrm>
          <a:prstGeom prst="rect">
            <a:avLst/>
          </a:pr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43160" y="5111640"/>
            <a:ext cx="7400880" cy="2880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3160" y="5140440"/>
            <a:ext cx="7400880" cy="428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43160" y="5183280"/>
            <a:ext cx="7400880" cy="28440"/>
          </a:xfrm>
          <a:prstGeom prst="rect">
            <a:avLst/>
          </a:prstGeom>
          <a:solidFill>
            <a:srgbClr val="e7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43160" y="5211720"/>
            <a:ext cx="7400880" cy="58680"/>
          </a:xfrm>
          <a:prstGeom prst="rect">
            <a:avLst/>
          </a:prstGeom>
          <a:solidFill>
            <a:srgbClr val="e9e9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43160" y="5270400"/>
            <a:ext cx="7400880" cy="42840"/>
          </a:xfrm>
          <a:prstGeom prst="rect">
            <a:avLst/>
          </a:prstGeom>
          <a:solidFill>
            <a:srgbClr val="ebeb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43160" y="5313240"/>
            <a:ext cx="7400880" cy="42840"/>
          </a:xfrm>
          <a:prstGeom prst="rect">
            <a:avLst/>
          </a:pr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343160" y="5356080"/>
            <a:ext cx="7400880" cy="4284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343160" y="5398920"/>
            <a:ext cx="7400880" cy="5904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43160" y="5457960"/>
            <a:ext cx="7400880" cy="5688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43160" y="5514840"/>
            <a:ext cx="7400880" cy="71640"/>
          </a:xfrm>
          <a:prstGeom prst="rect">
            <a:avLst/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43160" y="5586480"/>
            <a:ext cx="7400880" cy="73080"/>
          </a:xfrm>
          <a:prstGeom prst="rect">
            <a:avLst/>
          </a:prstGeom>
          <a:solidFill>
            <a:srgbClr val="f7f7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43160" y="5659560"/>
            <a:ext cx="7400880" cy="856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43160" y="5745240"/>
            <a:ext cx="7400880" cy="115920"/>
          </a:xfrm>
          <a:prstGeom prst="rect">
            <a:avLst/>
          </a:prstGeom>
          <a:solidFill>
            <a:srgbClr val="fbfb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43160" y="5861160"/>
            <a:ext cx="7400880" cy="187200"/>
          </a:xfrm>
          <a:prstGeom prst="rect">
            <a:avLst/>
          </a:prstGeom>
          <a:solidFill>
            <a:srgbClr val="fdf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343160" y="6048360"/>
            <a:ext cx="7400880" cy="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57200" y="2054160"/>
            <a:ext cx="739944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357200" y="612144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57200" y="588960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57200" y="5673600"/>
            <a:ext cx="739944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57200" y="544356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57200" y="5211720"/>
            <a:ext cx="739944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357200" y="4995720"/>
            <a:ext cx="739944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357200" y="476568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57200" y="4533840"/>
            <a:ext cx="739944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57200" y="4317840"/>
            <a:ext cx="739944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57200" y="408780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357200" y="385776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57200" y="3639960"/>
            <a:ext cx="739944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57200" y="340992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357200" y="317988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357200" y="296244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357200" y="2732040"/>
            <a:ext cx="739944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357200" y="250200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57200" y="2286000"/>
            <a:ext cx="7399440" cy="144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57200" y="2054160"/>
            <a:ext cx="7399440" cy="180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57200" y="2054160"/>
            <a:ext cx="7399440" cy="4067280"/>
          </a:xfrm>
          <a:prstGeom prst="rect">
            <a:avLst/>
          </a:prstGeom>
          <a:noFill/>
          <a:ln w="144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57200" y="2054160"/>
            <a:ext cx="1800" cy="406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87360" y="61214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87360" y="588960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287360" y="567360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87360" y="544356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87360" y="521172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87360" y="499572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87360" y="47656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87360" y="453384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87360" y="431784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87360" y="408780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87360" y="385776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87360" y="363996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87360" y="340992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87360" y="317988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87360" y="296244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87360" y="273204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87360" y="250200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87360" y="2286000"/>
            <a:ext cx="6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87360" y="2054160"/>
            <a:ext cx="6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42560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2244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4880" y="607680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8"/>
                </a:lnTo>
                <a:lnTo>
                  <a:pt x="27" y="55"/>
                </a:lnTo>
                <a:lnTo>
                  <a:pt x="0" y="28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912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71560" y="60483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6840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5120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3364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3048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1472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971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9400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76440" y="60199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6" y="0"/>
                </a:moveTo>
                <a:lnTo>
                  <a:pt x="53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6068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64312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399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2240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0520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0204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8628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6872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5116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48000" y="60483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43224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1468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1152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93960" y="60483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76760" y="6005520"/>
            <a:ext cx="8388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73600" y="6062760"/>
            <a:ext cx="8388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95748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4028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2272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1956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0380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38624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483080" y="60055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56552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6048360"/>
            <a:ext cx="8388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3220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2904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1184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94280" y="60055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9112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173560" y="60483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5464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3708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19880" y="6062760"/>
            <a:ext cx="8388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0060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8340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65840" y="607680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8"/>
                </a:lnTo>
                <a:lnTo>
                  <a:pt x="26" y="55"/>
                </a:lnTo>
                <a:lnTo>
                  <a:pt x="0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6268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45120" y="59911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293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1180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30864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91440" y="6062760"/>
            <a:ext cx="8388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475320" y="60483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72160" y="60483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65496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3740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3424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16680" y="60483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0092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08336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18020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6264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4688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4372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6160" y="606276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60896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91400" y="60199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6" y="0"/>
                </a:moveTo>
                <a:lnTo>
                  <a:pt x="53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788240" y="6062760"/>
            <a:ext cx="8424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72480" y="610560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8"/>
                </a:lnTo>
                <a:lnTo>
                  <a:pt x="26" y="55"/>
                </a:lnTo>
                <a:lnTo>
                  <a:pt x="0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954920" y="609120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8"/>
                </a:lnTo>
                <a:lnTo>
                  <a:pt x="26" y="55"/>
                </a:lnTo>
                <a:lnTo>
                  <a:pt x="0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51760" y="609120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8"/>
                </a:lnTo>
                <a:lnTo>
                  <a:pt x="26" y="55"/>
                </a:lnTo>
                <a:lnTo>
                  <a:pt x="0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134200" y="607680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8"/>
                </a:lnTo>
                <a:lnTo>
                  <a:pt x="26" y="55"/>
                </a:lnTo>
                <a:lnTo>
                  <a:pt x="0" y="28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17000" y="6091200"/>
            <a:ext cx="8388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8"/>
                </a:lnTo>
                <a:lnTo>
                  <a:pt x="27" y="55"/>
                </a:lnTo>
                <a:lnTo>
                  <a:pt x="0" y="28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13840" y="6105600"/>
            <a:ext cx="8388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8"/>
                </a:lnTo>
                <a:lnTo>
                  <a:pt x="27" y="55"/>
                </a:lnTo>
                <a:lnTo>
                  <a:pt x="0" y="28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98600" y="60055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9544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77880" y="60483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66068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743120" y="60199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839960" y="60339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2420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0664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10348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185920" y="60199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6" y="0"/>
                </a:moveTo>
                <a:lnTo>
                  <a:pt x="53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70160" y="60055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6700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449440" y="5991120"/>
            <a:ext cx="8280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3224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14680" y="60055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11520" y="60055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957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87820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7504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57480" y="60339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4172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241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2100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03440" y="60339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86240" y="6033960"/>
            <a:ext cx="8388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3080" y="6019920"/>
            <a:ext cx="8388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66960" y="6019920"/>
            <a:ext cx="8280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749760" y="597708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4660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29040" y="60339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13280" y="60055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9572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25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275000" y="60339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57800" y="6019920"/>
            <a:ext cx="8388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54640" y="5977080"/>
            <a:ext cx="8388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538520" y="60339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2132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7037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0060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83040" y="60339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67280" y="597708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6412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46560" y="6019920"/>
            <a:ext cx="8280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29360" y="6033960"/>
            <a:ext cx="8388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326200" y="6033960"/>
            <a:ext cx="8388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410080" y="60339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49288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7532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6721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54600" y="60199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38840" y="60483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568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018120" y="5962680"/>
            <a:ext cx="8280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100920" y="6005520"/>
            <a:ext cx="8388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6" y="0"/>
                </a:moveTo>
                <a:lnTo>
                  <a:pt x="53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84800" y="60339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81640" y="60339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6444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88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4372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6160" y="6019920"/>
            <a:ext cx="8424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7" y="0"/>
                </a:moveTo>
                <a:lnTo>
                  <a:pt x="53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1040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07240" y="60199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89680" y="6019920"/>
            <a:ext cx="8280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972480" y="6005520"/>
            <a:ext cx="83880" cy="85680"/>
          </a:xfrm>
          <a:custGeom>
            <a:avLst/>
            <a:gdLst/>
            <a:ahLst/>
            <a:rect l="l" t="t" r="r" b="b"/>
            <a:pathLst>
              <a:path w="53" h="54">
                <a:moveTo>
                  <a:pt x="26" y="0"/>
                </a:moveTo>
                <a:lnTo>
                  <a:pt x="53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56360" y="60339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153200" y="60339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23600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844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41528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97720" y="60339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26" y="0"/>
                </a:moveTo>
                <a:lnTo>
                  <a:pt x="53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58196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664400" y="5991120"/>
            <a:ext cx="82440" cy="85680"/>
          </a:xfrm>
          <a:custGeom>
            <a:avLst/>
            <a:gdLst/>
            <a:ahLst/>
            <a:rect l="l" t="t" r="r" b="b"/>
            <a:pathLst>
              <a:path w="52" h="54">
                <a:moveTo>
                  <a:pt x="26" y="0"/>
                </a:moveTo>
                <a:lnTo>
                  <a:pt x="52" y="27"/>
                </a:lnTo>
                <a:lnTo>
                  <a:pt x="26" y="54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761240" y="603396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43680" y="607680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8"/>
                </a:lnTo>
                <a:lnTo>
                  <a:pt x="26" y="55"/>
                </a:lnTo>
                <a:lnTo>
                  <a:pt x="0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926480" y="6062760"/>
            <a:ext cx="8388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023320" y="6062760"/>
            <a:ext cx="83880" cy="87120"/>
          </a:xfrm>
          <a:custGeom>
            <a:avLst/>
            <a:gdLst/>
            <a:ahLst/>
            <a:rect l="l" t="t" r="r" b="b"/>
            <a:pathLst>
              <a:path w="53" h="55">
                <a:moveTo>
                  <a:pt x="27" y="0"/>
                </a:moveTo>
                <a:lnTo>
                  <a:pt x="53" y="27"/>
                </a:lnTo>
                <a:lnTo>
                  <a:pt x="27" y="55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107200" y="6048360"/>
            <a:ext cx="8280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190000" y="6062760"/>
            <a:ext cx="8244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7"/>
                </a:lnTo>
                <a:lnTo>
                  <a:pt x="26" y="55"/>
                </a:lnTo>
                <a:lnTo>
                  <a:pt x="0" y="27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286840" y="6076800"/>
            <a:ext cx="82440" cy="87480"/>
          </a:xfrm>
          <a:custGeom>
            <a:avLst/>
            <a:gdLst/>
            <a:ahLst/>
            <a:rect l="l" t="t" r="r" b="b"/>
            <a:pathLst>
              <a:path w="52" h="55">
                <a:moveTo>
                  <a:pt x="26" y="0"/>
                </a:moveTo>
                <a:lnTo>
                  <a:pt x="52" y="28"/>
                </a:lnTo>
                <a:lnTo>
                  <a:pt x="26" y="55"/>
                </a:lnTo>
                <a:lnTo>
                  <a:pt x="0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00ff"/>
          </a:solidFill>
          <a:ln w="144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398600" y="2184480"/>
            <a:ext cx="6985080" cy="3128760"/>
            <a:chOff x="1398600" y="2184480"/>
            <a:chExt cx="6985080" cy="3128760"/>
          </a:xfrm>
        </p:grpSpPr>
        <p:sp>
          <p:nvSpPr>
            <p:cNvPr id="609" name=""/>
            <p:cNvSpPr/>
            <p:nvPr/>
          </p:nvSpPr>
          <p:spPr>
            <a:xfrm>
              <a:off x="1425600" y="29480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522440" y="290520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604880" y="31352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689120" y="315108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71560" y="251604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868400" y="2558880"/>
              <a:ext cx="6840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51200" y="261792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33640" y="26463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0480" y="25448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14720" y="2674800"/>
              <a:ext cx="680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97160" y="322272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94000" y="349740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76440" y="26607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60680" y="2819520"/>
              <a:ext cx="6840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43120" y="2962440"/>
              <a:ext cx="68400" cy="7272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739960" y="289080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22400" y="2992320"/>
              <a:ext cx="702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905200" y="28479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002040" y="315108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86280" y="2602080"/>
              <a:ext cx="68040" cy="7272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8720" y="27320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251160" y="277488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48000" y="277488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32240" y="2760840"/>
              <a:ext cx="68040" cy="7272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514680" y="2558880"/>
              <a:ext cx="6840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611520" y="2919240"/>
              <a:ext cx="6840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693960" y="267480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76760" y="257328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73600" y="25448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57480" y="2459160"/>
              <a:ext cx="6840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40280" y="29480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22720" y="28623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19560" y="349740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03800" y="2890800"/>
              <a:ext cx="680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86240" y="3006720"/>
              <a:ext cx="6840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83080" y="2660760"/>
              <a:ext cx="6840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65520" y="263196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48320" y="28479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32200" y="2660760"/>
              <a:ext cx="6840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829040" y="2919240"/>
              <a:ext cx="6840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11840" y="4836960"/>
              <a:ext cx="680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94280" y="268920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091120" y="52419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173560" y="2602080"/>
              <a:ext cx="69840" cy="7272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2487600"/>
              <a:ext cx="6840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54640" y="3135240"/>
              <a:ext cx="6840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437080" y="29336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19880" y="28479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03760" y="283356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00600" y="2646360"/>
              <a:ext cx="6840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783400" y="2544840"/>
              <a:ext cx="680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65840" y="247320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62680" y="235728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45120" y="232884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29360" y="279072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11800" y="26607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08640" y="304956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391440" y="29192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75320" y="315108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572160" y="263196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54960" y="2414520"/>
              <a:ext cx="680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37400" y="27320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834240" y="346716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16680" y="264636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00920" y="2717640"/>
              <a:ext cx="680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83360" y="277488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180200" y="263196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262640" y="2487600"/>
              <a:ext cx="7020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46880" y="267480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443720" y="3236760"/>
              <a:ext cx="6840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26160" y="2573280"/>
              <a:ext cx="6840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8960" y="29336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91400" y="25448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88240" y="3035160"/>
              <a:ext cx="69840" cy="7164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72480" y="2487600"/>
              <a:ext cx="680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954920" y="2717640"/>
              <a:ext cx="6840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051760" y="2227320"/>
              <a:ext cx="6840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134200" y="221292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17000" y="2948040"/>
              <a:ext cx="69840" cy="730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313840" y="2617920"/>
              <a:ext cx="69840" cy="71280"/>
            </a:xfrm>
            <a:prstGeom prst="rect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98600" y="291924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495440" y="2876400"/>
              <a:ext cx="6840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577880" y="310680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60680" y="3121200"/>
              <a:ext cx="69840" cy="7272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43120" y="248760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39960" y="253044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924200" y="2587680"/>
              <a:ext cx="680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6640" y="261792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03480" y="251604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85920" y="264636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70160" y="3193920"/>
              <a:ext cx="6840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67000" y="346716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449440" y="2631960"/>
              <a:ext cx="6840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32240" y="279072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614680" y="293364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11520" y="286236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795760" y="2962440"/>
              <a:ext cx="68040" cy="7272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878200" y="281952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75040" y="3121200"/>
              <a:ext cx="69840" cy="7272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57480" y="257328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41720" y="2703600"/>
              <a:ext cx="680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24160" y="274644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21000" y="274644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403440" y="273204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86240" y="253044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83080" y="289080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66960" y="2646360"/>
              <a:ext cx="6840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49760" y="254484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846600" y="251604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29040" y="242892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013280" y="2919240"/>
              <a:ext cx="680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95720" y="2833560"/>
              <a:ext cx="6840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92560" y="346716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275000" y="286236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357800" y="297828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454640" y="263196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38520" y="2602080"/>
              <a:ext cx="68400" cy="7272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21320" y="2819520"/>
              <a:ext cx="680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03760" y="263196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800600" y="289080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83040" y="480852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67280" y="2660760"/>
              <a:ext cx="6840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064120" y="521172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146560" y="257328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29360" y="245916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26200" y="310680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410080" y="290520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92880" y="2819520"/>
              <a:ext cx="680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575320" y="280512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72160" y="261792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54600" y="251604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38840" y="2444760"/>
              <a:ext cx="6840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935680" y="2328840"/>
              <a:ext cx="6840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18120" y="230040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00920" y="2760840"/>
              <a:ext cx="69840" cy="7272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84800" y="2631960"/>
              <a:ext cx="6840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81640" y="3021120"/>
              <a:ext cx="6840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64440" y="2890800"/>
              <a:ext cx="680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46880" y="3121200"/>
              <a:ext cx="69840" cy="7272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43720" y="2602080"/>
              <a:ext cx="69840" cy="7272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626160" y="238608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710400" y="2703600"/>
              <a:ext cx="6840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807240" y="343836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889680" y="261792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72480" y="268920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56360" y="2746440"/>
              <a:ext cx="6840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53200" y="2602080"/>
              <a:ext cx="68400" cy="7272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36000" y="2459160"/>
              <a:ext cx="680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318440" y="264636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415280" y="320832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497720" y="254484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1960" y="2905200"/>
              <a:ext cx="680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664400" y="2516040"/>
              <a:ext cx="6840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61240" y="3006720"/>
              <a:ext cx="6840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43680" y="2459160"/>
              <a:ext cx="6984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926480" y="2689200"/>
              <a:ext cx="69840" cy="7164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023320" y="219852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07200" y="2184480"/>
              <a:ext cx="68400" cy="712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190000" y="291924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86840" y="2587680"/>
              <a:ext cx="69840" cy="73080"/>
            </a:xfrm>
            <a:prstGeom prst="rect">
              <a:avLst/>
            </a:prstGeom>
            <a:solidFill>
              <a:srgbClr val="3366ff"/>
            </a:solidFill>
            <a:ln w="144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873000" y="59911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73000" y="57592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73000" y="5543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73000" y="53132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73000" y="50832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73000" y="48657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73000" y="46353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73000" y="4405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73000" y="418932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73000" y="39574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73000" y="37274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73000" y="35114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5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73000" y="32796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73000" y="3049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6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73000" y="283356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73000" y="26020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7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73000" y="23716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73000" y="215568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,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73000" y="1925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9,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16360" y="1423440"/>
            <a:ext cx="3384360" cy="62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8000" rIns="198000" tIns="180000" bIns="1800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3366ff"/>
                </a:solidFill>
                <a:latin typeface="Wingdings"/>
                <a:ea typeface="Wingdings"/>
              </a:rPr>
              <a:t></a:t>
            </a:r>
            <a:r>
              <a:rPr b="0" lang="fr-FR" sz="16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HC +        </a:t>
            </a:r>
            <a:r>
              <a:rPr b="0" lang="fr-FR" sz="1600" spc="-1" strike="noStrike">
                <a:solidFill>
                  <a:srgbClr val="ff33cc"/>
                </a:solidFill>
                <a:latin typeface="Wingdings"/>
                <a:ea typeface="Wingdings"/>
              </a:rPr>
              <a:t></a:t>
            </a:r>
            <a:r>
              <a:rPr b="0" lang="fr-FR" sz="1600" spc="-1" strike="noStrike">
                <a:solidFill>
                  <a:srgbClr val="ff9900"/>
                </a:solidFill>
                <a:latin typeface="Comic Sans MS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VHC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1572840" y="6105600"/>
            <a:ext cx="7399080" cy="1440"/>
            <a:chOff x="1572840" y="6105600"/>
            <a:chExt cx="7399080" cy="1440"/>
          </a:xfrm>
        </p:grpSpPr>
        <p:sp>
          <p:nvSpPr>
            <p:cNvPr id="790" name=""/>
            <p:cNvSpPr/>
            <p:nvPr/>
          </p:nvSpPr>
          <p:spPr>
            <a:xfrm>
              <a:off x="1572840" y="6105600"/>
              <a:ext cx="7399080" cy="1440"/>
            </a:xfrm>
            <a:prstGeom prst="line">
              <a:avLst/>
            </a:prstGeom>
            <a:ln w="0">
              <a:solidFill>
                <a:srgbClr val="969696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1344600" y="5673600"/>
            <a:ext cx="7445520" cy="0"/>
          </a:xfrm>
          <a:prstGeom prst="line">
            <a:avLst/>
          </a:prstGeom>
          <a:ln w="1908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1375560" y="4321080"/>
            <a:ext cx="1800360" cy="571680"/>
          </a:xfrm>
          <a:gradFill rotWithShape="0">
            <a:gsLst>
              <a:gs pos="0">
                <a:srgbClr val="ffe1ff"/>
              </a:gs>
              <a:gs pos="50000">
                <a:srgbClr val="fefefe"/>
              </a:gs>
              <a:gs pos="100000">
                <a:srgbClr val="ffe1ff"/>
              </a:gs>
            </a:gsLst>
            <a:lin ang="5400000"/>
          </a:gradFill>
          <a:ln w="1908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1 = Seuil recommandé par le fabriqu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42320" y="4675320"/>
            <a:ext cx="1547640" cy="641520"/>
          </a:xfrm>
          <a:solidFill>
            <a:srgbClr val="ffff99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Ratio maximum parmi les VHC négatifs (0.2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3848040"/>
            <a:ext cx="1547640" cy="641520"/>
          </a:xfrm>
          <a:solidFill>
            <a:srgbClr val="ccffff"/>
          </a:soli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Ratio minimum parmi les VHC positifs (1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1344600" y="5008680"/>
            <a:ext cx="7445520" cy="901440"/>
            <a:chOff x="1344600" y="5008680"/>
            <a:chExt cx="7445520" cy="901440"/>
          </a:xfrm>
        </p:grpSpPr>
        <p:sp>
          <p:nvSpPr>
            <p:cNvPr id="796" name=""/>
            <p:cNvSpPr/>
            <p:nvPr/>
          </p:nvSpPr>
          <p:spPr>
            <a:xfrm>
              <a:off x="1344600" y="5910120"/>
              <a:ext cx="7445520" cy="0"/>
            </a:xfrm>
            <a:prstGeom prst="line">
              <a:avLst/>
            </a:prstGeom>
            <a:ln w="25560">
              <a:solidFill>
                <a:srgbClr val="ff66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1374840" y="5008680"/>
              <a:ext cx="1798560" cy="436320"/>
            </a:xfrm>
            <a:gradFill rotWithShape="0">
              <a:gsLst>
                <a:gs pos="0">
                  <a:srgbClr val="ffe1ff"/>
                </a:gs>
                <a:gs pos="50000">
                  <a:srgbClr val="fefefe"/>
                </a:gs>
                <a:gs pos="100000">
                  <a:srgbClr val="ffe1ff"/>
                </a:gs>
              </a:gsLst>
              <a:lin ang="5400000"/>
            </a:gradFill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0.5 = Seuil sensibilisé propos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"/>
          <p:cNvSpPr/>
          <p:nvPr/>
        </p:nvSpPr>
        <p:spPr>
          <a:xfrm rot="16200000">
            <a:off x="-920160" y="3994920"/>
            <a:ext cx="29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tio DO échantillon / DO seu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4920" y="169920"/>
            <a:ext cx="907272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4960" rIns="534960" tIns="267480" bIns="267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Approche expérim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2440" y="3373560"/>
            <a:ext cx="8451720" cy="32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fr-FR" sz="2000" spc="-1" strike="noStrike">
                <a:solidFill>
                  <a:srgbClr val="ffff99"/>
                </a:solidFill>
                <a:latin typeface="Comic Sans MS"/>
              </a:rPr>
              <a:t>17 patients infectés par le VIH répondant aux critères suiva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0000" algn="just">
              <a:lnSpc>
                <a:spcPct val="14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Échantillons sériés congelés disponibles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274320" algn="just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ntervalle entre 2 prélèvements &lt; 6 m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70000" algn="just">
              <a:lnSpc>
                <a:spcPct val="14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Documentation des contaminations récentes par le VHC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274320" algn="just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disponibilité d'un prélèvement antérieur </a:t>
            </a:r>
            <a:r>
              <a:rPr b="0" lang="fr-FR" sz="1800" spc="-1" strike="noStrike">
                <a:solidFill>
                  <a:srgbClr val="ffff99"/>
                </a:solidFill>
                <a:latin typeface="Comic Sans MS"/>
              </a:rPr>
              <a:t>ARN-VHC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99"/>
                </a:solidFill>
                <a:latin typeface="Comic Sans MS"/>
              </a:rPr>
              <a:t>négatif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et </a:t>
            </a:r>
            <a:r>
              <a:rPr b="0" lang="fr-FR" sz="1800" spc="-1" strike="noStrike">
                <a:solidFill>
                  <a:srgbClr val="ffff99"/>
                </a:solidFill>
                <a:latin typeface="Comic Sans MS"/>
              </a:rPr>
              <a:t>sérologie VHC négativ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274320" algn="just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uis au moins 2 prélèvements consécutifs positifs en ARN du VH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0280" indent="274320" algn="just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séroconversion VHC pour 16 patients / 1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31920" y="1235160"/>
            <a:ext cx="1457280" cy="454680"/>
          </a:xfrm>
          <a:custGeom>
            <a:avLst/>
            <a:gdLst>
              <a:gd name="textAreaLeft" fmla="*/ 0 w 1457280"/>
              <a:gd name="textAreaRight" fmla="*/ 1457640 w 1457280"/>
              <a:gd name="textAreaTop" fmla="*/ 58680 h 454680"/>
              <a:gd name="textAreaBottom" fmla="*/ 396000 h 454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uivi du V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60880" y="1355760"/>
            <a:ext cx="0" cy="2016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45080" y="1353960"/>
            <a:ext cx="0" cy="20196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760840" y="1357200"/>
            <a:ext cx="0" cy="2016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101000" y="1355760"/>
            <a:ext cx="0" cy="201600"/>
          </a:xfrm>
          <a:prstGeom prst="line">
            <a:avLst/>
          </a:prstGeom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968480" y="1378080"/>
            <a:ext cx="279360" cy="0"/>
          </a:xfrm>
          <a:prstGeom prst="line">
            <a:avLst/>
          </a:prstGeom>
          <a:ln w="57240">
            <a:solidFill>
              <a:srgbClr val="cc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519640" y="15573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99"/>
                </a:solidFill>
                <a:latin typeface="Comic Sans MS"/>
              </a:rPr>
              <a:t>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40200" y="15667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99"/>
                </a:solidFill>
                <a:latin typeface="Comic Sans MS"/>
              </a:rPr>
              <a:t>C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8800" y="15429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99"/>
                </a:solidFill>
                <a:latin typeface="Comic Sans MS"/>
              </a:rPr>
              <a:t>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918480" y="15447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0099"/>
                </a:solidFill>
                <a:latin typeface="Comic Sans MS"/>
              </a:rPr>
              <a:t>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985160" y="14256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99"/>
                </a:solidFill>
                <a:latin typeface="Comic Sans MS"/>
              </a:rPr>
              <a:t>te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1040" y="1768320"/>
            <a:ext cx="14040" cy="427320"/>
          </a:xfrm>
          <a:prstGeom prst="line">
            <a:avLst/>
          </a:prstGeom>
          <a:ln w="57240">
            <a:solidFill>
              <a:srgbClr val="66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15800" y="2216160"/>
            <a:ext cx="27259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Hépatite C aiguë cli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279520" y="1373040"/>
            <a:ext cx="6031080" cy="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18960" y="2050920"/>
            <a:ext cx="1473480" cy="454680"/>
          </a:xfrm>
          <a:custGeom>
            <a:avLst/>
            <a:gdLst>
              <a:gd name="textAreaLeft" fmla="*/ 0 w 1473480"/>
              <a:gd name="textAreaRight" fmla="*/ 1473840 w 1473480"/>
              <a:gd name="textAreaTop" fmla="*/ 58680 h 454680"/>
              <a:gd name="textAreaBottom" fmla="*/ 396000 h 454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Suivi du VH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420600" y="2733840"/>
            <a:ext cx="121104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mic Sans MS"/>
              </a:rPr>
              <a:t>PCR VHC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2215080" y="2057400"/>
            <a:ext cx="4014720" cy="1027800"/>
            <a:chOff x="2215080" y="2057400"/>
            <a:chExt cx="4014720" cy="1027800"/>
          </a:xfrm>
        </p:grpSpPr>
        <p:sp>
          <p:nvSpPr>
            <p:cNvPr id="818" name=""/>
            <p:cNvSpPr/>
            <p:nvPr/>
          </p:nvSpPr>
          <p:spPr>
            <a:xfrm flipH="1">
              <a:off x="5532480" y="2092320"/>
              <a:ext cx="1440" cy="649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18760" y="273204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6ffff"/>
                  </a:solidFill>
                  <a:latin typeface="Comic Sans MS"/>
                </a:rPr>
                <a:t>PCR VHC 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4161960" y="2079720"/>
              <a:ext cx="1800" cy="64908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77320" y="2747880"/>
              <a:ext cx="121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6ffff"/>
                  </a:solidFill>
                  <a:latin typeface="Comic Sans MS"/>
                </a:rPr>
                <a:t>PCR VHC 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2774520" y="2057400"/>
              <a:ext cx="1800" cy="64944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15080" y="2725560"/>
              <a:ext cx="11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6ffff"/>
                  </a:solidFill>
                  <a:latin typeface="Comic Sans MS"/>
                </a:rPr>
                <a:t>PCR VHC 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7484400" y="3086280"/>
            <a:ext cx="17380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Comic Sans MS"/>
              </a:rPr>
              <a:t>Séro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1103400" y="1800360"/>
            <a:ext cx="6999120" cy="23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72920" y="385920"/>
            <a:ext cx="38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Profil d’évolution A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n = 9 pati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"/>
          <p:cNvGraphicFramePr/>
          <p:nvPr/>
        </p:nvGraphicFramePr>
        <p:xfrm>
          <a:off x="1246320" y="1820880"/>
          <a:ext cx="6842160" cy="221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6320" y="1820880"/>
                    <a:ext cx="68421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"/>
          <p:cNvSpPr/>
          <p:nvPr/>
        </p:nvSpPr>
        <p:spPr>
          <a:xfrm rot="16200000">
            <a:off x="744480" y="28062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AT (UI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239920" y="2036880"/>
            <a:ext cx="5862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             50           100           150           200           250   j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719000" y="2152800"/>
            <a:ext cx="519120" cy="19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081440" y="4032360"/>
            <a:ext cx="7038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CR  -          +          +   +        +</a:t>
            </a:r>
            <a:r>
              <a:rPr b="1" lang="fr-FR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81440" y="4751280"/>
            <a:ext cx="7038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g-Ac -          </a:t>
            </a:r>
            <a:r>
              <a:rPr b="1" lang="fr-FR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+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+   +        +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uil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81440" y="5254560"/>
            <a:ext cx="7038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g-Ac -          </a:t>
            </a:r>
            <a:r>
              <a:rPr b="1" lang="fr-FR" sz="1800" spc="-1" strike="noStrike">
                <a:solidFill>
                  <a:srgbClr val="ff0066"/>
                </a:solidFill>
                <a:latin typeface="Courier New"/>
                <a:ea typeface="Courier New"/>
              </a:rPr>
              <a:t>+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+   +        +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fr-FR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uil 0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081440" y="4390920"/>
            <a:ext cx="70387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ISA -          -          +   +        +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94160" y="6051600"/>
            <a:ext cx="79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e test Ag-Ac Ultra </a:t>
            </a:r>
            <a:r>
              <a:rPr b="1" lang="fr-FR" sz="1800" spc="-1" strike="noStrike" baseline="30000">
                <a:solidFill>
                  <a:srgbClr val="ffffff"/>
                </a:solidFill>
                <a:latin typeface="Comic Sans MS"/>
              </a:rPr>
              <a:t>®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devient positif en même temps que la PC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062000" y="1727280"/>
            <a:ext cx="702468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1341360" y="2016000"/>
          <a:ext cx="6728040" cy="201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1360" y="2016000"/>
                    <a:ext cx="67280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2338560" y="2087640"/>
            <a:ext cx="5722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          50         100        150         200        250        300 j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rot="16200000">
            <a:off x="892080" y="287784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AT (UI/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36720" y="2200320"/>
            <a:ext cx="519120" cy="18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8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8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58760" y="3959280"/>
            <a:ext cx="70344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Courier New"/>
                <a:ea typeface="Courier New"/>
              </a:rPr>
              <a:t> 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CR  -          +             + +        +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057320" y="4319640"/>
            <a:ext cx="702936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ISA -          -             + +        +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1057320" y="4668840"/>
            <a:ext cx="7027920" cy="996840"/>
            <a:chOff x="1057320" y="4668840"/>
            <a:chExt cx="7027920" cy="996840"/>
          </a:xfrm>
        </p:grpSpPr>
        <p:sp>
          <p:nvSpPr>
            <p:cNvPr id="846" name=""/>
            <p:cNvSpPr/>
            <p:nvPr/>
          </p:nvSpPr>
          <p:spPr>
            <a:xfrm>
              <a:off x="1058760" y="4668840"/>
              <a:ext cx="702648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g-Ac -          -             + +        +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lang="fr-FR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uil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57320" y="5145120"/>
              <a:ext cx="702612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lang="fr-FR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g-Ab -          -             + +        +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49960"/>
                  <a:tab algn="l" pos="1069992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1" lang="fr-FR" sz="1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uil 0.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"/>
          <p:cNvSpPr/>
          <p:nvPr/>
        </p:nvSpPr>
        <p:spPr>
          <a:xfrm>
            <a:off x="2571840" y="38592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Profil d’évolution B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49960"/>
                <a:tab algn="l" pos="1069992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n = 3 pati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95760" y="5975280"/>
            <a:ext cx="72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Pas d’avantage du test Ag-Ac Ultra </a:t>
            </a:r>
            <a:r>
              <a:rPr b="1" lang="fr-FR" sz="1800" spc="-1" strike="noStrike" baseline="30000">
                <a:solidFill>
                  <a:srgbClr val="ffffff"/>
                </a:solidFill>
                <a:latin typeface="Comic Sans MS"/>
              </a:rPr>
              <a:t>®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par rapport à l’ELI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2:58:39Z</dcterms:created>
  <dc:creator>Vincent</dc:creator>
  <dc:description/>
  <dc:language>en-US</dc:language>
  <cp:lastModifiedBy>Vincent Thibault</cp:lastModifiedBy>
  <cp:lastPrinted>2002-11-28T15:29:35Z</cp:lastPrinted>
  <dcterms:modified xsi:type="dcterms:W3CDTF">2005-11-21T22:36:18Z</dcterms:modified>
  <cp:revision>1625</cp:revision>
  <dc:subject/>
  <dc:title>Les Hépatites de A à ...</dc:title>
</cp:coreProperties>
</file>