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4BB-98CF-4211-8A6F-A6483626D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C99-A96B-400F-9B73-0045B9EA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17B-779B-422A-9329-04016809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A1AF-9D03-4C36-9EC1-A0869A7C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6EC-7BA3-4A65-906D-2597FB87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2C3-AC05-4FC3-BDF5-21B57020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921-78AA-43C5-83EB-7870C778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9960-5316-47BA-BEC2-AEDAF52F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4889-9F4F-448A-B2B6-EDCDC251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DB5-0AA5-4171-BEFD-B2CC1F11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6CB-FE33-4347-8673-B11996A9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D87-749B-42A2-AAA2-734DDAAD2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6F80-F349-4440-B6D3-11B15A306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914400"/>
            <a:ext cx="8839440" cy="1905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76320" y="609480"/>
            <a:ext cx="9372600" cy="57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ff0000"/>
                </a:solidFill>
                <a:latin typeface="Times New Roman"/>
              </a:rPr>
              <a:t>Quantification de l’ARN HCV dans le sperm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ff0000"/>
                </a:solidFill>
                <a:latin typeface="Times New Roman"/>
              </a:rPr>
              <a:t>après extraction automatisée (M-1000)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ff0000"/>
                </a:solidFill>
                <a:latin typeface="Times New Roman"/>
              </a:rPr>
              <a:t>et PCR HCV en temps réel (Abbott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Times New Roman"/>
              </a:rPr>
              <a:t>Thomas Bour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99"/>
                </a:solidFill>
                <a:latin typeface="Times New Roman"/>
              </a:rPr>
              <a:t>Laboratoire de Virologi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99"/>
                </a:solidFill>
                <a:latin typeface="Times New Roman"/>
              </a:rPr>
              <a:t>Hôpital Nord, CHU de Saint-Eti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99"/>
                </a:solidFill>
                <a:latin typeface="Times New Roman"/>
              </a:rPr>
              <a:t>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99"/>
                </a:solidFill>
                <a:latin typeface="Times New Roman"/>
              </a:rPr>
              <a:t>Groupe Hépatite C, AC-11, AN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467480" y="39625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09880" y="6553080"/>
            <a:ext cx="36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 Colloque de Virologie de Versailles, 22 novemb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8360" y="1393920"/>
            <a:ext cx="8615520" cy="50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épondre aux recommandations de l’arrêté de Mai 2001 : prise en charge 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isque viral en Procréation Médicale Assistée (couples sérodifféren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valuer un protocole d’extraction d’ARN automatisée dans le plasma sémina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2 contrôles de qualité (groupe HCV, AC-11, ANRS)</a:t>
            </a: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001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(Bourlet et al, 2001, J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003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(30 laboratoires participa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andardiser des protocoles d’extraction dans la fraction cellulai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spermatozoï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78840" y="4114800"/>
            <a:ext cx="58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Standardisation et validation de 3 protocoles d’extra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(puis RT-PCR qualitative, Roche Coba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99"/>
                </a:solidFill>
                <a:latin typeface="Times New Roman"/>
              </a:rPr>
              <a:t>Object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09880" y="6553080"/>
            <a:ext cx="36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 Colloque de Virologie de Versailles, 22 novemb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99"/>
                </a:solidFill>
                <a:latin typeface="Times New Roman"/>
              </a:rPr>
              <a:t>Matériel et méth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Plasma sém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Mélange de plasma séminaux HCV- (BD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Contamination artificielle par un sérum de patient chroniquement infecté (2.10</a:t>
            </a:r>
            <a:r>
              <a:rPr b="0" lang="en-GB" sz="2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UI/ml) : 5000, 1000, 500, 100, 50 et 0 UI/ml en dupl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Protocoles M-1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0,2 ml : 200 µl de plasma séminal + 0,5 ml de N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0,5 ml : 500 µl de plasma séminal + 0,5 ml de N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Reproductibilité inter-spermes (10 PS différents avec 5000 et 100 UI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Fraction spermatozoï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Traitement préalable PK 1/2 heure à 56°C, dénaturation 20 mn à 72°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Extraction 0,2 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Gène contrôle prota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Amplification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: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PCR HCV en temps réel (HCV quantification ASR, Abbot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09880" y="6553080"/>
            <a:ext cx="36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 Colloque de Virologie de Versailles, 22 novemb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99"/>
                </a:solidFill>
                <a:latin typeface="Times New Roman"/>
              </a:rPr>
              <a:t>Résultats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2028960"/>
            <a:ext cx="1440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25920" y="2028960"/>
            <a:ext cx="1404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67040" y="2028960"/>
            <a:ext cx="1440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35760" y="2028960"/>
            <a:ext cx="1260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61040" y="2028960"/>
            <a:ext cx="1440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3800" y="2028960"/>
            <a:ext cx="1440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98760" y="2028960"/>
            <a:ext cx="1440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94200" y="2028960"/>
            <a:ext cx="1440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02600" y="2028960"/>
            <a:ext cx="14040" cy="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1103400"/>
            <a:ext cx="70866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1103400"/>
            <a:ext cx="708660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85080" y="1397160"/>
            <a:ext cx="505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UI/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56720" y="1397160"/>
            <a:ext cx="86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LogUI/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79080" y="1397160"/>
            <a:ext cx="505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UI/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66560" y="1397160"/>
            <a:ext cx="86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LogUI/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74520" y="1397160"/>
            <a:ext cx="505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UI/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74960" y="1397160"/>
            <a:ext cx="86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LogUI/m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1674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40320" y="167472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3,7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94200" y="1674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135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0160" y="167472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3,1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89640" y="1674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114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60000" y="167472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3,0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195120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0320" y="195120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3,7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94200" y="195120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51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50160" y="195120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3,7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89640" y="195120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42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60000" y="195120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3,6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2228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0320" y="222876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3,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7040" y="22287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50160" y="222876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2,9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46880" y="22287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60000" y="222876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2,7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250524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0320" y="250524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3,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7040" y="25052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50160" y="250524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2,8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46880" y="25052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68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60000" y="250524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2,8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41600" y="2782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0320" y="278280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2,7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7040" y="2782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50160" y="278280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2,5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46880" y="2782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28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60000" y="278280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2,4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41600" y="3060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0320" y="306072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2,7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7040" y="3060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39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50160" y="306072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2,5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46880" y="3060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60000" y="306072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2,5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41600" y="33368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0320" y="333684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2,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7040" y="33368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50160" y="333684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2,2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46880" y="33368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60000" y="333684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2,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41600" y="36147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0320" y="361476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2,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7040" y="36147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50160" y="361476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2,1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46880" y="36147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60000" y="361476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2,1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98480" y="389268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0320" y="389268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1,7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35320" y="38926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50160" y="389268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0,8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45160" y="38926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60000" y="389268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0,8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98480" y="41688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0320" y="416880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1,7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92480" y="41688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50160" y="416880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1,9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88280" y="41688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60000" y="416880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1,5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39880" y="44467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95400" y="4446720"/>
            <a:ext cx="31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36680" y="4446720"/>
            <a:ext cx="36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&lt;2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94360" y="4446720"/>
            <a:ext cx="54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&lt;1,3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32120" y="4446720"/>
            <a:ext cx="36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&lt;2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02400" y="4446720"/>
            <a:ext cx="54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&lt;1,3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39880" y="47242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95400" y="4724280"/>
            <a:ext cx="31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6680" y="4724280"/>
            <a:ext cx="36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&lt;2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94360" y="4724280"/>
            <a:ext cx="54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&lt;1,3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32120" y="4724280"/>
            <a:ext cx="36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&lt;2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02400" y="4724280"/>
            <a:ext cx="54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cc"/>
                </a:solidFill>
                <a:latin typeface="Arial"/>
              </a:rPr>
              <a:t>&lt;1,3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95000" y="1119240"/>
            <a:ext cx="201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aleur théorique (UI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47240" y="1119240"/>
            <a:ext cx="203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tocole M-1000 0,2 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7080" y="1119240"/>
            <a:ext cx="203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tocole M-1000 0,5 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1103400"/>
            <a:ext cx="708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1103400"/>
            <a:ext cx="708660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380960"/>
            <a:ext cx="2268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1380960"/>
            <a:ext cx="2268360" cy="1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14760" y="1380960"/>
            <a:ext cx="2281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14760" y="1380960"/>
            <a:ext cx="2281320" cy="1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08760" y="1380960"/>
            <a:ext cx="229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08760" y="1380960"/>
            <a:ext cx="2297160" cy="1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1657440"/>
            <a:ext cx="708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1657440"/>
            <a:ext cx="708660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4984920"/>
            <a:ext cx="708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4984920"/>
            <a:ext cx="708660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0007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19320" y="5000760"/>
            <a:ext cx="1404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46480" y="50007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46480" y="5000760"/>
            <a:ext cx="1404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73280" y="500076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73280" y="5000760"/>
            <a:ext cx="1440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14760" y="50007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14760" y="5000760"/>
            <a:ext cx="1440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41920" y="50007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41920" y="5000760"/>
            <a:ext cx="1440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83120" y="500076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83120" y="5000760"/>
            <a:ext cx="1296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08760" y="50007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08760" y="5000760"/>
            <a:ext cx="1404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149960" y="5000760"/>
            <a:ext cx="180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49960" y="5000760"/>
            <a:ext cx="1440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91520" y="50007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91520" y="5000760"/>
            <a:ext cx="1440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05920" y="110340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05920" y="1103400"/>
            <a:ext cx="1404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05920" y="1380960"/>
            <a:ext cx="144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05920" y="1380960"/>
            <a:ext cx="14040" cy="16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05920" y="165744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05920" y="1657440"/>
            <a:ext cx="14040" cy="17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05920" y="5013360"/>
            <a:ext cx="1440" cy="14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05920" y="5013360"/>
            <a:ext cx="14040" cy="15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4080" y="5181480"/>
            <a:ext cx="350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imes New Roman"/>
              </a:rPr>
              <a:t>Spécificité : 100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imes New Roman"/>
              </a:rPr>
              <a:t>Pas de contrôle interne inhib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imes New Roman"/>
              </a:rPr>
              <a:t>Sensibilité élevé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09880" y="6553080"/>
            <a:ext cx="36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 Colloque de Virologie de Versailles, 22 novemb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144360" y="2362320"/>
            <a:ext cx="8692560" cy="3961440"/>
            <a:chOff x="144360" y="2362320"/>
            <a:chExt cx="8692560" cy="3961440"/>
          </a:xfrm>
        </p:grpSpPr>
        <p:grpSp>
          <p:nvGrpSpPr>
            <p:cNvPr id="186" name=""/>
            <p:cNvGrpSpPr/>
            <p:nvPr/>
          </p:nvGrpSpPr>
          <p:grpSpPr>
            <a:xfrm>
              <a:off x="2181600" y="2362320"/>
              <a:ext cx="6655320" cy="3961440"/>
              <a:chOff x="2181600" y="2362320"/>
              <a:chExt cx="6655320" cy="3961440"/>
            </a:xfrm>
          </p:grpSpPr>
          <p:sp>
            <p:nvSpPr>
              <p:cNvPr id="187" name=""/>
              <p:cNvSpPr/>
              <p:nvPr/>
            </p:nvSpPr>
            <p:spPr>
              <a:xfrm>
                <a:off x="2181600" y="2362320"/>
                <a:ext cx="6345360" cy="396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223440" y="2694240"/>
                <a:ext cx="2160" cy="2603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170520" y="5298480"/>
                <a:ext cx="525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70520" y="4871880"/>
                <a:ext cx="5256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70520" y="4428720"/>
                <a:ext cx="525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170520" y="4002120"/>
                <a:ext cx="5256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170520" y="3561120"/>
                <a:ext cx="5256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170520" y="3135240"/>
                <a:ext cx="525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170520" y="2694240"/>
                <a:ext cx="525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223440" y="5298480"/>
                <a:ext cx="4234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3223440" y="5298120"/>
                <a:ext cx="2160" cy="61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3936240" y="5298120"/>
                <a:ext cx="2160" cy="61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4634280" y="5298120"/>
                <a:ext cx="1800" cy="61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347440" y="5298120"/>
                <a:ext cx="1800" cy="61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6047640" y="5298120"/>
                <a:ext cx="1800" cy="61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6757920" y="5298120"/>
                <a:ext cx="2160" cy="61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7458120" y="5298120"/>
                <a:ext cx="1800" cy="61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47480" y="3402720"/>
                <a:ext cx="120600" cy="14364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834520" y="3088080"/>
                <a:ext cx="120240" cy="1407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89800" y="3467160"/>
                <a:ext cx="118080" cy="1407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689800" y="3499200"/>
                <a:ext cx="118080" cy="1407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347440" y="3766680"/>
                <a:ext cx="118080" cy="14148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886640" y="3875760"/>
                <a:ext cx="118080" cy="14364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89560" y="3940200"/>
                <a:ext cx="118080" cy="14076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094640" y="4225320"/>
                <a:ext cx="118080" cy="14148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671280" y="4903920"/>
                <a:ext cx="120240" cy="14148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671280" y="4903920"/>
                <a:ext cx="120240" cy="14148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113160" y="3561120"/>
                <a:ext cx="118080" cy="1414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626880" y="3576240"/>
                <a:ext cx="118080" cy="1436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07680" y="3655440"/>
                <a:ext cx="118080" cy="1436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955120" y="3655440"/>
                <a:ext cx="118080" cy="14364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18440" y="3861000"/>
                <a:ext cx="118080" cy="1407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347440" y="4161240"/>
                <a:ext cx="118080" cy="1407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1960" y="4398840"/>
                <a:ext cx="118080" cy="1407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65680" y="4651560"/>
                <a:ext cx="120600" cy="14076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71280" y="4903920"/>
                <a:ext cx="120240" cy="1414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71280" y="4903920"/>
                <a:ext cx="120240" cy="1414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852280" y="5172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852280" y="47455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1,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852280" y="4302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2,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852280" y="38757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2,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852280" y="34347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3,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852280" y="30088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3,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852280" y="25700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4,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104640" y="54712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816720" y="54712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1,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515480" y="54712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2,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28640" y="54712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2,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928120" y="54712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3,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639120" y="54712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3,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339320" y="547128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4,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66000" y="5833080"/>
                <a:ext cx="1593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Sérum, HCV RNA (logUI/ml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6200000">
                <a:off x="1617840" y="4362120"/>
                <a:ext cx="1564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Plasma séminal, HCV RNA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2354400" y="4053600"/>
                <a:ext cx="54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(logUI/ml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800480" y="3781800"/>
                <a:ext cx="91800" cy="11124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946280" y="3717360"/>
                <a:ext cx="890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Plasma sémi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800480" y="4098960"/>
                <a:ext cx="91800" cy="10872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945200" y="403488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Sér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210480" y="2647080"/>
                <a:ext cx="4247640" cy="265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7192440" y="2948760"/>
              <a:ext cx="6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GB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GB" sz="1200" spc="-1" strike="noStrike">
                  <a:solidFill>
                    <a:srgbClr val="000000"/>
                  </a:solidFill>
                  <a:latin typeface="Times New Roman"/>
                </a:rPr>
                <a:t>=0.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4360" y="3836880"/>
              <a:ext cx="212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Comparaison plasma séminal </a:t>
              </a:r>
              <a:r>
                <a:rPr b="0" i="1" lang="en-GB" sz="1200" spc="-1" strike="noStrike">
                  <a:solidFill>
                    <a:srgbClr val="000000"/>
                  </a:solidFill>
                  <a:latin typeface="Comic Sans MS"/>
                </a:rPr>
                <a:t>vs</a:t>
              </a: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 serumNH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(protocole 0,2 m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8380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99"/>
                </a:solidFill>
                <a:latin typeface="Times New Roman"/>
              </a:rPr>
              <a:t>Résultats (2) :</a:t>
            </a:r>
            <a:r>
              <a:rPr b="0" i="1" lang="en-GB" sz="2800" spc="-1" strike="noStrike">
                <a:solidFill>
                  <a:srgbClr val="000099"/>
                </a:solidFill>
                <a:latin typeface="Times New Roman"/>
              </a:rPr>
              <a:t> pas d’influence de la nature du prélèvement sur la mesure de la charge virale : </a:t>
            </a:r>
            <a:br>
              <a:rPr sz="2800"/>
            </a:br>
            <a:r>
              <a:rPr b="0" i="1" lang="en-GB" sz="2800" spc="-1" strike="noStrike">
                <a:solidFill>
                  <a:srgbClr val="000099"/>
                </a:solidFill>
                <a:latin typeface="Times New Roman"/>
              </a:rPr>
              <a:t>plasma séminal vs sé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09880" y="6553080"/>
            <a:ext cx="36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 Colloque de Virologie de Versailles, 22 novemb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1444680" y="1647720"/>
            <a:ext cx="6608520" cy="3609360"/>
            <a:chOff x="1444680" y="1647720"/>
            <a:chExt cx="6608520" cy="3609360"/>
          </a:xfrm>
        </p:grpSpPr>
        <p:sp>
          <p:nvSpPr>
            <p:cNvPr id="251" name=""/>
            <p:cNvSpPr/>
            <p:nvPr/>
          </p:nvSpPr>
          <p:spPr>
            <a:xfrm>
              <a:off x="2174760" y="1781280"/>
              <a:ext cx="1440" cy="274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15720" y="4525560"/>
              <a:ext cx="590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15720" y="4074840"/>
              <a:ext cx="590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15720" y="3609720"/>
              <a:ext cx="590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115720" y="316152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15720" y="2694240"/>
              <a:ext cx="590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15720" y="2245320"/>
              <a:ext cx="590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15720" y="17812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74760" y="4525560"/>
              <a:ext cx="4936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174760" y="4525200"/>
              <a:ext cx="1440" cy="6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000240" y="4525200"/>
              <a:ext cx="1440" cy="6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825720" y="4525200"/>
              <a:ext cx="1440" cy="6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651200" y="4525200"/>
              <a:ext cx="1440" cy="6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460480" y="4525200"/>
              <a:ext cx="2160" cy="6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6285960" y="4525200"/>
              <a:ext cx="1440" cy="6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7111440" y="4525200"/>
              <a:ext cx="1440" cy="6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90360" y="2496240"/>
              <a:ext cx="148320" cy="16560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38" y="0"/>
                  </a:moveTo>
                  <a:lnTo>
                    <a:pt x="75" y="36"/>
                  </a:lnTo>
                  <a:lnTo>
                    <a:pt x="38" y="72"/>
                  </a:lnTo>
                  <a:lnTo>
                    <a:pt x="0" y="36"/>
                  </a:lnTo>
                  <a:lnTo>
                    <a:pt x="38" y="0"/>
                  </a:lnTo>
                  <a:close/>
                </a:path>
              </a:pathLst>
            </a:custGeom>
            <a:noFill/>
            <a:ln w="1116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18440" y="1962720"/>
              <a:ext cx="148320" cy="16776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38" y="0"/>
                  </a:moveTo>
                  <a:lnTo>
                    <a:pt x="75" y="37"/>
                  </a:lnTo>
                  <a:lnTo>
                    <a:pt x="38" y="73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noFill/>
            <a:ln w="1116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34960" y="2694240"/>
              <a:ext cx="146160" cy="167760"/>
            </a:xfrm>
            <a:custGeom>
              <a:avLst/>
              <a:gdLst/>
              <a:ahLst/>
              <a:rect l="l" t="t" r="r" b="b"/>
              <a:pathLst>
                <a:path w="74" h="73">
                  <a:moveTo>
                    <a:pt x="37" y="0"/>
                  </a:moveTo>
                  <a:lnTo>
                    <a:pt x="74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1116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22080" y="2744640"/>
              <a:ext cx="148320" cy="16560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37" y="0"/>
                  </a:moveTo>
                  <a:lnTo>
                    <a:pt x="75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1116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88840" y="3060360"/>
              <a:ext cx="148320" cy="16740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37" y="0"/>
                  </a:moveTo>
                  <a:lnTo>
                    <a:pt x="75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1116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21320" y="2977560"/>
              <a:ext cx="148320" cy="16776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37" y="0"/>
                  </a:moveTo>
                  <a:lnTo>
                    <a:pt x="75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1116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77000" y="3294720"/>
              <a:ext cx="146160" cy="165600"/>
            </a:xfrm>
            <a:custGeom>
              <a:avLst/>
              <a:gdLst/>
              <a:ahLst/>
              <a:rect l="l" t="t" r="r" b="b"/>
              <a:pathLst>
                <a:path w="74" h="72">
                  <a:moveTo>
                    <a:pt x="37" y="0"/>
                  </a:moveTo>
                  <a:lnTo>
                    <a:pt x="74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1116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14640" y="3361320"/>
              <a:ext cx="146160" cy="165600"/>
            </a:xfrm>
            <a:custGeom>
              <a:avLst/>
              <a:gdLst/>
              <a:ahLst/>
              <a:rect l="l" t="t" r="r" b="b"/>
              <a:pathLst>
                <a:path w="74" h="72">
                  <a:moveTo>
                    <a:pt x="37" y="0"/>
                  </a:moveTo>
                  <a:lnTo>
                    <a:pt x="74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1116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29760" y="3594240"/>
              <a:ext cx="148320" cy="165240"/>
            </a:xfrm>
            <a:custGeom>
              <a:avLst/>
              <a:gdLst/>
              <a:ahLst/>
              <a:rect l="l" t="t" r="r" b="b"/>
              <a:pathLst>
                <a:path w="75" h="72">
                  <a:moveTo>
                    <a:pt x="37" y="0"/>
                  </a:moveTo>
                  <a:lnTo>
                    <a:pt x="75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noFill/>
            <a:ln w="1116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09160" y="2563200"/>
              <a:ext cx="132120" cy="149400"/>
            </a:xfrm>
            <a:prstGeom prst="ellipse">
              <a:avLst/>
            </a:prstGeom>
            <a:noFill/>
            <a:ln w="1116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51280" y="2047680"/>
              <a:ext cx="132120" cy="149400"/>
            </a:xfrm>
            <a:prstGeom prst="ellipse">
              <a:avLst/>
            </a:prstGeom>
            <a:noFill/>
            <a:ln w="1116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41240" y="2811600"/>
              <a:ext cx="132120" cy="149400"/>
            </a:xfrm>
            <a:prstGeom prst="ellipse">
              <a:avLst/>
            </a:prstGeom>
            <a:noFill/>
            <a:ln w="1116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51600" y="2760840"/>
              <a:ext cx="132840" cy="149400"/>
            </a:xfrm>
            <a:prstGeom prst="ellipse">
              <a:avLst/>
            </a:prstGeom>
            <a:noFill/>
            <a:ln w="1116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7760" y="3111120"/>
              <a:ext cx="132840" cy="149040"/>
            </a:xfrm>
            <a:prstGeom prst="ellipse">
              <a:avLst/>
            </a:prstGeom>
            <a:noFill/>
            <a:ln w="1116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24280" y="3044160"/>
              <a:ext cx="132120" cy="149040"/>
            </a:xfrm>
            <a:prstGeom prst="ellipse">
              <a:avLst/>
            </a:prstGeom>
            <a:noFill/>
            <a:ln w="1116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64120" y="3343320"/>
              <a:ext cx="132120" cy="149400"/>
            </a:xfrm>
            <a:prstGeom prst="ellipse">
              <a:avLst/>
            </a:prstGeom>
            <a:noFill/>
            <a:ln w="1116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31280" y="3426120"/>
              <a:ext cx="132840" cy="151560"/>
            </a:xfrm>
            <a:prstGeom prst="ellipse">
              <a:avLst/>
            </a:prstGeom>
            <a:noFill/>
            <a:ln w="1116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19800" y="3925440"/>
              <a:ext cx="132840" cy="149040"/>
            </a:xfrm>
            <a:prstGeom prst="ellipse">
              <a:avLst/>
            </a:prstGeom>
            <a:noFill/>
            <a:ln w="1116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62200" y="43923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62200" y="39438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62200" y="34768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62200" y="3027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62200" y="25632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62200" y="21124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62200" y="16477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40840" y="47077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65240" y="47077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1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90720" y="47077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16200" y="47077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2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25840" y="47077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51320" y="47077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3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978600" y="47077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4,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43200" y="5089320"/>
              <a:ext cx="1546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M-1000, 0,2ml (logUI/ml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6200000">
              <a:off x="779040" y="3403440"/>
              <a:ext cx="149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M1000, 0,5ml (logUI/ml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09240" y="2945160"/>
              <a:ext cx="118800" cy="133560"/>
            </a:xfrm>
            <a:custGeom>
              <a:avLst/>
              <a:gdLst/>
              <a:ahLst/>
              <a:rect l="l" t="t" r="r" b="b"/>
              <a:pathLst>
                <a:path w="60" h="58">
                  <a:moveTo>
                    <a:pt x="30" y="0"/>
                  </a:moveTo>
                  <a:lnTo>
                    <a:pt x="60" y="29"/>
                  </a:lnTo>
                  <a:lnTo>
                    <a:pt x="30" y="58"/>
                  </a:lnTo>
                  <a:lnTo>
                    <a:pt x="0" y="29"/>
                  </a:lnTo>
                  <a:lnTo>
                    <a:pt x="30" y="0"/>
                  </a:lnTo>
                  <a:close/>
                </a:path>
              </a:pathLst>
            </a:custGeom>
            <a:noFill/>
            <a:ln w="1116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69800" y="28782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0,5 m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09240" y="3276360"/>
              <a:ext cx="102600" cy="117360"/>
            </a:xfrm>
            <a:prstGeom prst="ellipse">
              <a:avLst/>
            </a:prstGeom>
            <a:noFill/>
            <a:ln w="11160">
              <a:solidFill>
                <a:srgbClr val="ff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69800" y="321228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0,2 m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123280" y="1789560"/>
              <a:ext cx="4940640" cy="27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78880" y="2121120"/>
              <a:ext cx="6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i="1" lang="en-GB" sz="12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i="1" lang="en-GB" sz="1200" spc="-1" strike="noStrike">
                  <a:solidFill>
                    <a:srgbClr val="000000"/>
                  </a:solidFill>
                  <a:latin typeface="Times New Roman"/>
                </a:rPr>
                <a:t>=0.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8380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99"/>
                </a:solidFill>
                <a:latin typeface="Times New Roman"/>
              </a:rPr>
              <a:t>Résultats (3)</a:t>
            </a:r>
            <a:r>
              <a:rPr b="0" i="1" lang="en-GB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99"/>
                </a:solidFill>
                <a:latin typeface="Times New Roman"/>
              </a:rPr>
              <a:t>:</a:t>
            </a:r>
            <a:r>
              <a:rPr b="0" i="1" lang="en-GB" sz="2800" spc="-1" strike="noStrike">
                <a:solidFill>
                  <a:srgbClr val="000099"/>
                </a:solidFill>
                <a:latin typeface="Times New Roman"/>
              </a:rPr>
              <a:t> Influence du volume de prise d’essai : comparaison protocoles 0,5 vs 0,2 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09880" y="6553080"/>
            <a:ext cx="36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 Colloque de Virologie de Versailles, 22 novemb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27720" y="5638680"/>
            <a:ext cx="548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3333cc"/>
                </a:solidFill>
                <a:latin typeface="Times New Roman"/>
              </a:rPr>
              <a:t>Possibilité d’utiliser une prise d’essai de 200 µ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8380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99"/>
                </a:solidFill>
                <a:latin typeface="Times New Roman"/>
              </a:rPr>
              <a:t>Résultats (4) :</a:t>
            </a:r>
            <a:r>
              <a:rPr b="0" i="1" lang="en-GB" sz="2800" spc="-1" strike="noStrike">
                <a:solidFill>
                  <a:srgbClr val="000099"/>
                </a:solidFill>
                <a:latin typeface="Times New Roman"/>
              </a:rPr>
              <a:t> Reproductibilité inter-sper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17560" y="1998720"/>
            <a:ext cx="1800" cy="300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46280" y="5008680"/>
            <a:ext cx="7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46280" y="4514760"/>
            <a:ext cx="71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46280" y="4005360"/>
            <a:ext cx="7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46280" y="3511440"/>
            <a:ext cx="71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46280" y="3002040"/>
            <a:ext cx="7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46280" y="2508120"/>
            <a:ext cx="71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46280" y="1998720"/>
            <a:ext cx="71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17560" y="5008680"/>
            <a:ext cx="68788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717560" y="50083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344840" y="50083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991200" y="5008320"/>
            <a:ext cx="180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45480" y="3567240"/>
            <a:ext cx="106200" cy="109440"/>
          </a:xfrm>
          <a:custGeom>
            <a:avLst/>
            <a:gdLst/>
            <a:ahLst/>
            <a:rect l="l" t="t" r="r" b="b"/>
            <a:pathLst>
              <a:path w="67" h="69">
                <a:moveTo>
                  <a:pt x="33" y="0"/>
                </a:moveTo>
                <a:lnTo>
                  <a:pt x="67" y="34"/>
                </a:lnTo>
                <a:lnTo>
                  <a:pt x="33" y="69"/>
                </a:lnTo>
                <a:lnTo>
                  <a:pt x="0" y="34"/>
                </a:lnTo>
                <a:lnTo>
                  <a:pt x="33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92640" y="2144880"/>
            <a:ext cx="106200" cy="109440"/>
          </a:xfrm>
          <a:custGeom>
            <a:avLst/>
            <a:gdLst/>
            <a:ahLst/>
            <a:rect l="l" t="t" r="r" b="b"/>
            <a:pathLst>
              <a:path w="67" h="69">
                <a:moveTo>
                  <a:pt x="34" y="0"/>
                </a:moveTo>
                <a:lnTo>
                  <a:pt x="67" y="34"/>
                </a:lnTo>
                <a:lnTo>
                  <a:pt x="34" y="69"/>
                </a:lnTo>
                <a:lnTo>
                  <a:pt x="0" y="34"/>
                </a:lnTo>
                <a:lnTo>
                  <a:pt x="34" y="0"/>
                </a:lnTo>
                <a:close/>
              </a:path>
            </a:pathLst>
          </a:custGeom>
          <a:solidFill>
            <a:srgbClr val="000080"/>
          </a:solidFill>
          <a:ln w="176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86600" y="3092400"/>
            <a:ext cx="87480" cy="92160"/>
          </a:xfrm>
          <a:prstGeom prst="rect">
            <a:avLst/>
          </a:prstGeom>
          <a:noFill/>
          <a:ln w="176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02000" y="3294000"/>
            <a:ext cx="88920" cy="90720"/>
          </a:xfrm>
          <a:prstGeom prst="rect">
            <a:avLst/>
          </a:prstGeom>
          <a:noFill/>
          <a:ln w="176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6920" y="3092400"/>
            <a:ext cx="106200" cy="109440"/>
          </a:xfrm>
          <a:custGeom>
            <a:avLst/>
            <a:gdLst/>
            <a:ahLst/>
            <a:rect l="l" t="t" r="r" b="b"/>
            <a:pathLst>
              <a:path w="67" h="69">
                <a:moveTo>
                  <a:pt x="33" y="0"/>
                </a:moveTo>
                <a:lnTo>
                  <a:pt x="67" y="69"/>
                </a:lnTo>
                <a:lnTo>
                  <a:pt x="0" y="69"/>
                </a:lnTo>
                <a:lnTo>
                  <a:pt x="33" y="0"/>
                </a:lnTo>
                <a:close/>
              </a:path>
            </a:pathLst>
          </a:custGeom>
          <a:noFill/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92640" y="3056040"/>
            <a:ext cx="106200" cy="109440"/>
          </a:xfrm>
          <a:custGeom>
            <a:avLst/>
            <a:gdLst/>
            <a:ahLst/>
            <a:rect l="l" t="t" r="r" b="b"/>
            <a:pathLst>
              <a:path w="67" h="69">
                <a:moveTo>
                  <a:pt x="34" y="0"/>
                </a:moveTo>
                <a:lnTo>
                  <a:pt x="67" y="69"/>
                </a:lnTo>
                <a:lnTo>
                  <a:pt x="0" y="69"/>
                </a:lnTo>
                <a:lnTo>
                  <a:pt x="34" y="0"/>
                </a:lnTo>
                <a:close/>
              </a:path>
            </a:pathLst>
          </a:custGeom>
          <a:noFill/>
          <a:ln w="176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912000" y="2982960"/>
            <a:ext cx="1602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6964200" y="3002040"/>
            <a:ext cx="52560" cy="5400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64200" y="3056040"/>
            <a:ext cx="54000" cy="5544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6964200" y="3056040"/>
            <a:ext cx="52560" cy="5544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964200" y="3002040"/>
            <a:ext cx="54000" cy="5400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997680" y="3002040"/>
            <a:ext cx="1440" cy="5400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99120" y="3056040"/>
            <a:ext cx="1800" cy="5544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67080" y="2235240"/>
            <a:ext cx="15876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4319640" y="2254320"/>
            <a:ext cx="54000" cy="5400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321080" y="2308320"/>
            <a:ext cx="52560" cy="5544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319640" y="2308320"/>
            <a:ext cx="54000" cy="5544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321080" y="2254320"/>
            <a:ext cx="52560" cy="5400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344840" y="2254320"/>
            <a:ext cx="1800" cy="5400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44840" y="2308320"/>
            <a:ext cx="1800" cy="55440"/>
          </a:xfrm>
          <a:prstGeom prst="line">
            <a:avLst/>
          </a:prstGeom>
          <a:ln w="176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75440" y="2727360"/>
            <a:ext cx="87480" cy="92160"/>
          </a:xfrm>
          <a:prstGeom prst="ellipse">
            <a:avLst/>
          </a:prstGeom>
          <a:noFill/>
          <a:ln w="176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3056040"/>
            <a:ext cx="88920" cy="91800"/>
          </a:xfrm>
          <a:prstGeom prst="ellipse">
            <a:avLst/>
          </a:prstGeom>
          <a:noFill/>
          <a:ln w="176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2895480"/>
            <a:ext cx="75960" cy="87480"/>
          </a:xfrm>
          <a:prstGeom prst="rect">
            <a:avLst/>
          </a:prstGeom>
          <a:solidFill>
            <a:srgbClr val="0000ff"/>
          </a:solidFill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46920" y="2819520"/>
            <a:ext cx="106200" cy="17280"/>
          </a:xfrm>
          <a:prstGeom prst="rect">
            <a:avLst/>
          </a:prstGeom>
          <a:noFill/>
          <a:ln w="176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92640" y="2666880"/>
            <a:ext cx="106200" cy="19080"/>
          </a:xfrm>
          <a:prstGeom prst="rect">
            <a:avLst/>
          </a:prstGeom>
          <a:solidFill>
            <a:srgbClr val="00ccff"/>
          </a:solidFill>
          <a:ln w="176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46920" y="3330720"/>
            <a:ext cx="106200" cy="107640"/>
          </a:xfrm>
          <a:custGeom>
            <a:avLst/>
            <a:gdLst/>
            <a:ahLst/>
            <a:rect l="l" t="t" r="r" b="b"/>
            <a:pathLst>
              <a:path w="67" h="68">
                <a:moveTo>
                  <a:pt x="33" y="0"/>
                </a:moveTo>
                <a:lnTo>
                  <a:pt x="67" y="34"/>
                </a:lnTo>
                <a:lnTo>
                  <a:pt x="33" y="68"/>
                </a:lnTo>
                <a:lnTo>
                  <a:pt x="0" y="34"/>
                </a:lnTo>
                <a:lnTo>
                  <a:pt x="33" y="0"/>
                </a:lnTo>
                <a:close/>
              </a:path>
            </a:pathLst>
          </a:custGeom>
          <a:noFill/>
          <a:ln w="176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292640" y="3147840"/>
            <a:ext cx="106200" cy="109800"/>
          </a:xfrm>
          <a:custGeom>
            <a:avLst/>
            <a:gdLst/>
            <a:ahLst/>
            <a:rect l="l" t="t" r="r" b="b"/>
            <a:pathLst>
              <a:path w="67" h="69">
                <a:moveTo>
                  <a:pt x="34" y="0"/>
                </a:moveTo>
                <a:lnTo>
                  <a:pt x="67" y="34"/>
                </a:lnTo>
                <a:lnTo>
                  <a:pt x="34" y="69"/>
                </a:lnTo>
                <a:lnTo>
                  <a:pt x="0" y="34"/>
                </a:lnTo>
                <a:lnTo>
                  <a:pt x="34" y="0"/>
                </a:lnTo>
                <a:close/>
              </a:path>
            </a:pathLst>
          </a:custGeom>
          <a:noFill/>
          <a:ln w="176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56280" y="3403440"/>
            <a:ext cx="87480" cy="90720"/>
          </a:xfrm>
          <a:prstGeom prst="rect">
            <a:avLst/>
          </a:prstGeom>
          <a:noFill/>
          <a:ln w="1764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2946240"/>
            <a:ext cx="88920" cy="92160"/>
          </a:xfrm>
          <a:prstGeom prst="rect">
            <a:avLst/>
          </a:prstGeom>
          <a:noFill/>
          <a:ln w="176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67200" y="4862520"/>
            <a:ext cx="349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-2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67200" y="4368960"/>
            <a:ext cx="349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-1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67200" y="3859200"/>
            <a:ext cx="349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97880" y="3367080"/>
            <a:ext cx="215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63400" y="28558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63400" y="2363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44240" y="18525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12880" y="52084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78240" y="52084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23440" y="520848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3,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668040" y="5627520"/>
            <a:ext cx="262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leurs attendues (log UI/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-858960" y="3550320"/>
            <a:ext cx="302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fférence par rapport à la valeu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556920" y="344844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ble (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82640" y="3019320"/>
            <a:ext cx="709164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32440" y="3378240"/>
            <a:ext cx="76320" cy="87120"/>
          </a:xfrm>
          <a:prstGeom prst="rect">
            <a:avLst/>
          </a:prstGeom>
          <a:solidFill>
            <a:srgbClr val="0000ff"/>
          </a:solidFill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09880" y="6553080"/>
            <a:ext cx="36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 Colloque de Virologie de Versailles, 22 novemb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59440" y="46022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05160" y="2819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905120" y="2209680"/>
            <a:ext cx="5105160" cy="289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99"/>
                </a:solidFill>
                <a:latin typeface="Times New Roman"/>
              </a:rPr>
              <a:t>Résultats (5) :</a:t>
            </a:r>
            <a:r>
              <a:rPr b="0" i="1" lang="en-GB" sz="2800" spc="-1" strike="noStrike">
                <a:solidFill>
                  <a:srgbClr val="000099"/>
                </a:solidFill>
                <a:latin typeface="Times New Roman"/>
              </a:rPr>
              <a:t> Fraction spermatozoï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905120" y="2255760"/>
            <a:ext cx="1404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46440" y="2255760"/>
            <a:ext cx="1440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649760" y="2255760"/>
            <a:ext cx="1440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10280" y="2255760"/>
            <a:ext cx="1440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65640" y="2255760"/>
            <a:ext cx="1404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29480" y="2255760"/>
            <a:ext cx="1584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14400" y="1523880"/>
            <a:ext cx="77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actions de 500 000 cellules contaminées par 1000 U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440" y="5373720"/>
            <a:ext cx="146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 u="sng">
                <a:solidFill>
                  <a:srgbClr val="000000"/>
                </a:solidFill>
                <a:uFillTx/>
                <a:latin typeface="Times New Roman"/>
              </a:rPr>
              <a:t>Moyenne </a:t>
            </a:r>
            <a:r>
              <a:rPr b="1" i="1" lang="en-GB" sz="16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</a:t>
            </a:r>
            <a:r>
              <a:rPr b="1" i="1" lang="en-GB" sz="1600" spc="-1" strike="noStrike" u="sng">
                <a:solidFill>
                  <a:srgbClr val="000000"/>
                </a:solidFill>
                <a:uFillTx/>
                <a:latin typeface="Times New Roman"/>
              </a:rPr>
              <a:t> e.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757880" y="5370480"/>
            <a:ext cx="10051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927 ± 5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198240" y="53704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2,92 ± 0,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034600" y="5370480"/>
            <a:ext cx="90324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119 ± 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01880" y="53704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Times New Roman"/>
              </a:rPr>
              <a:t>2,06 ± 0,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4720" y="5994360"/>
            <a:ext cx="1104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Times New Roman"/>
              </a:rPr>
              <a:t>P=0,0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184480" y="5715000"/>
            <a:ext cx="1015920" cy="317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4343040" y="5715000"/>
            <a:ext cx="11430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09880" y="6553080"/>
            <a:ext cx="36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XVIII</a:t>
            </a:r>
            <a:r>
              <a:rPr b="0" i="1" lang="en-GB" sz="1000" spc="-1" strike="noStrike" baseline="30000">
                <a:solidFill>
                  <a:srgbClr val="6666ff"/>
                </a:solidFill>
                <a:latin typeface="Comic Sans MS"/>
              </a:rPr>
              <a:t>ème</a:t>
            </a:r>
            <a:r>
              <a:rPr b="0" i="1" lang="en-GB" sz="1000" spc="-1" strike="noStrike">
                <a:solidFill>
                  <a:srgbClr val="6666ff"/>
                </a:solidFill>
                <a:latin typeface="Comic Sans MS"/>
              </a:rPr>
              <a:t> Colloque de Virologie de Versailles, 22 novembre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05120" y="2286000"/>
            <a:ext cx="510516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295280" y="2255760"/>
            <a:ext cx="6400440" cy="3078000"/>
            <a:chOff x="1295280" y="2255760"/>
            <a:chExt cx="6400440" cy="3078000"/>
          </a:xfrm>
        </p:grpSpPr>
        <p:sp>
          <p:nvSpPr>
            <p:cNvPr id="390" name=""/>
            <p:cNvSpPr/>
            <p:nvPr/>
          </p:nvSpPr>
          <p:spPr>
            <a:xfrm>
              <a:off x="1295280" y="2255760"/>
              <a:ext cx="63806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95280" y="2255760"/>
              <a:ext cx="6380640" cy="16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95280" y="2255760"/>
              <a:ext cx="1440" cy="306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95280" y="2255760"/>
              <a:ext cx="17280" cy="3061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36800" y="2577960"/>
              <a:ext cx="505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UI/m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67320" y="25779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191560" y="2577960"/>
              <a:ext cx="505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UI/m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38120" y="25779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57680" y="288180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16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30600" y="28818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3,2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41320" y="288180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702480" y="288180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1,9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57680" y="318672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17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30600" y="3186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3,2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67880" y="318672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14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702480" y="3186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2,1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57680" y="3490560"/>
              <a:ext cx="482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10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30600" y="34905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3,0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67880" y="34905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02480" y="34905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2,2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31120" y="379548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59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30600" y="37954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2,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67880" y="379548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11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02480" y="379548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2,0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31120" y="40989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30600" y="40989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2,9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67880" y="40989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11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702480" y="40989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2,0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31120" y="440424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5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30600" y="4404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2,7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41320" y="4404240"/>
              <a:ext cx="241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5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02480" y="440424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1,7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31120" y="470772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47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30600" y="4707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2,6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67880" y="470772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14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2480" y="470772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2,16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31120" y="50133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61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30600" y="50133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2,7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67880" y="5013360"/>
              <a:ext cx="361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02480" y="5013360"/>
              <a:ext cx="42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2,0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87640" y="2272680"/>
              <a:ext cx="1669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rotocole 0,2 m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09240" y="2272680"/>
              <a:ext cx="2174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ré-traitement Prot 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95280" y="2255760"/>
              <a:ext cx="6380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95280" y="2255760"/>
              <a:ext cx="638064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95280" y="2272680"/>
              <a:ext cx="1440" cy="2865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95280" y="2272680"/>
              <a:ext cx="17280" cy="28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95280" y="2559240"/>
              <a:ext cx="3309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95280" y="2559240"/>
              <a:ext cx="330984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87120" y="2272680"/>
              <a:ext cx="2160" cy="2865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87120" y="2272680"/>
              <a:ext cx="17640" cy="28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05120" y="2559240"/>
              <a:ext cx="1105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05120" y="2559240"/>
              <a:ext cx="110520" cy="18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16000" y="2272680"/>
              <a:ext cx="1440" cy="2865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716000" y="2272680"/>
              <a:ext cx="17640" cy="28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16000" y="2559240"/>
              <a:ext cx="2959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16000" y="2559240"/>
              <a:ext cx="29599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58280" y="2272680"/>
              <a:ext cx="2160" cy="2865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58280" y="2272680"/>
              <a:ext cx="17640" cy="28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95280" y="2577960"/>
              <a:ext cx="1440" cy="2858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95280" y="2577960"/>
              <a:ext cx="17280" cy="28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15440" y="2577960"/>
              <a:ext cx="1440" cy="2858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15440" y="2577960"/>
              <a:ext cx="17280" cy="28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87120" y="2577960"/>
              <a:ext cx="2160" cy="2858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87120" y="2577960"/>
              <a:ext cx="17640" cy="28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16000" y="2577960"/>
              <a:ext cx="1440" cy="2858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16000" y="2577960"/>
              <a:ext cx="17640" cy="28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86240" y="2577960"/>
              <a:ext cx="1440" cy="2858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86240" y="2577960"/>
              <a:ext cx="19440" cy="28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95280" y="2864160"/>
              <a:ext cx="6380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95280" y="2864160"/>
              <a:ext cx="638064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658280" y="2577960"/>
              <a:ext cx="2160" cy="2858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58280" y="2577960"/>
              <a:ext cx="17640" cy="285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95280" y="2881800"/>
              <a:ext cx="1440" cy="2418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95280" y="2881800"/>
              <a:ext cx="17280" cy="2418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15440" y="2881800"/>
              <a:ext cx="1440" cy="2418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15440" y="2881800"/>
              <a:ext cx="17280" cy="2418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87120" y="2881800"/>
              <a:ext cx="2160" cy="2418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87120" y="2881800"/>
              <a:ext cx="17640" cy="2418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716000" y="2881800"/>
              <a:ext cx="1440" cy="2418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716000" y="2881800"/>
              <a:ext cx="17640" cy="2418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186240" y="2881800"/>
              <a:ext cx="1440" cy="2418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186240" y="2881800"/>
              <a:ext cx="19440" cy="2418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295280" y="5299920"/>
              <a:ext cx="6380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95280" y="5299920"/>
              <a:ext cx="6380640" cy="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58280" y="2881800"/>
              <a:ext cx="2160" cy="2418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58280" y="2881800"/>
              <a:ext cx="17640" cy="2418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95280" y="531684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95280" y="5316840"/>
              <a:ext cx="17280" cy="16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15440" y="531684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15440" y="5316840"/>
              <a:ext cx="17280" cy="16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587120" y="5316840"/>
              <a:ext cx="21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87120" y="5316840"/>
              <a:ext cx="17640" cy="16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16000" y="531684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16000" y="5316840"/>
              <a:ext cx="17640" cy="16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186240" y="531684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186240" y="5316840"/>
              <a:ext cx="19440" cy="16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658280" y="5316840"/>
              <a:ext cx="216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658280" y="5316840"/>
              <a:ext cx="17640" cy="16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75920" y="22557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75920" y="2255760"/>
              <a:ext cx="19440" cy="16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75920" y="255924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75920" y="2559240"/>
              <a:ext cx="19440" cy="18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675920" y="286416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675920" y="2864160"/>
              <a:ext cx="19440" cy="17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295280" y="3168000"/>
              <a:ext cx="63806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295280" y="3168000"/>
              <a:ext cx="6400440" cy="18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95280" y="3473280"/>
              <a:ext cx="63806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95280" y="3473280"/>
              <a:ext cx="6400440" cy="16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95280" y="3777120"/>
              <a:ext cx="63806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95280" y="3777120"/>
              <a:ext cx="6400440" cy="1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95280" y="4082040"/>
              <a:ext cx="63806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295280" y="4082040"/>
              <a:ext cx="6400440" cy="16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95280" y="4385520"/>
              <a:ext cx="63806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295280" y="4385520"/>
              <a:ext cx="6400440" cy="1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295280" y="4690800"/>
              <a:ext cx="63806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295280" y="4690800"/>
              <a:ext cx="6400440" cy="16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95280" y="4994280"/>
              <a:ext cx="63806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95280" y="4994280"/>
              <a:ext cx="6400440" cy="18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75920" y="5299920"/>
              <a:ext cx="144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75920" y="5299920"/>
              <a:ext cx="19440" cy="16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597560" y="2590920"/>
            <a:ext cx="4572000" cy="3809880"/>
            <a:chOff x="4597560" y="2590920"/>
            <a:chExt cx="4572000" cy="3809880"/>
          </a:xfrm>
        </p:grpSpPr>
        <p:pic>
          <p:nvPicPr>
            <p:cNvPr id="511" name="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>
              <a:off x="4597560" y="2590920"/>
              <a:ext cx="45720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7265160" y="4648320"/>
              <a:ext cx="46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0000"/>
                  </a:solidFill>
                  <a:latin typeface="Times New Roman"/>
                </a:rPr>
                <a:t>31,4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33440" y="5013360"/>
              <a:ext cx="46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0000"/>
                  </a:solidFill>
                  <a:latin typeface="Times New Roman"/>
                </a:rPr>
                <a:t>34,9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021160" y="524196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191800" y="309240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Times New Roman"/>
                </a:rPr>
                <a:t>500 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8560080" y="348948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Times New Roman"/>
                </a:rPr>
                <a:t>50 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623800" y="4098960"/>
              <a:ext cx="46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Times New Roman"/>
                </a:rPr>
                <a:t>5 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2600" y="2577960"/>
            <a:ext cx="4572000" cy="3822480"/>
            <a:chOff x="12600" y="2577960"/>
            <a:chExt cx="4572000" cy="3822480"/>
          </a:xfrm>
        </p:grpSpPr>
        <p:grpSp>
          <p:nvGrpSpPr>
            <p:cNvPr id="519" name=""/>
            <p:cNvGrpSpPr/>
            <p:nvPr/>
          </p:nvGrpSpPr>
          <p:grpSpPr>
            <a:xfrm>
              <a:off x="12600" y="2577960"/>
              <a:ext cx="4572000" cy="3822480"/>
              <a:chOff x="12600" y="2577960"/>
              <a:chExt cx="4572000" cy="3822480"/>
            </a:xfrm>
          </p:grpSpPr>
          <p:pic>
            <p:nvPicPr>
              <p:cNvPr id="5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600" y="2590560"/>
                <a:ext cx="4572000" cy="380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1" name=""/>
              <p:cNvSpPr/>
              <p:nvPr/>
            </p:nvSpPr>
            <p:spPr>
              <a:xfrm>
                <a:off x="4584600" y="2577960"/>
                <a:ext cx="0" cy="3809880"/>
              </a:xfrm>
              <a:prstGeom prst="line">
                <a:avLst/>
              </a:prstGeom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2337120" y="5152680"/>
              <a:ext cx="46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0000"/>
                  </a:solidFill>
                  <a:latin typeface="Times New Roman"/>
                </a:rPr>
                <a:t>28,8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19880" y="5078160"/>
              <a:ext cx="46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0000"/>
                  </a:solidFill>
                  <a:latin typeface="Times New Roman"/>
                </a:rPr>
                <a:t>33,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53400" y="5229000"/>
              <a:ext cx="46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0000"/>
                  </a:solidFill>
                  <a:latin typeface="Times New Roman"/>
                </a:rPr>
                <a:t>36,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80960" y="2684160"/>
              <a:ext cx="228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Comic Sans MS"/>
                </a:rPr>
                <a:t>Gène de la protamine (AR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708360" y="292716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Times New Roman"/>
                </a:rPr>
                <a:t>500 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00720" y="3349440"/>
              <a:ext cx="532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Times New Roman"/>
                </a:rPr>
                <a:t>50 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950280" y="3705120"/>
              <a:ext cx="46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000" spc="-1" strike="noStrike">
                  <a:solidFill>
                    <a:srgbClr val="000000"/>
                  </a:solidFill>
                  <a:latin typeface="Times New Roman"/>
                </a:rPr>
                <a:t>5 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0:14:32Z</dcterms:created>
  <dc:creator>BOURLET Thomas</dc:creator>
  <dc:description/>
  <dc:language>en-US</dc:language>
  <cp:lastModifiedBy>BOURLET Thomas</cp:lastModifiedBy>
  <dcterms:modified xsi:type="dcterms:W3CDTF">2005-11-21T23:54:27Z</dcterms:modified>
  <cp:revision>19</cp:revision>
  <dc:subject/>
  <dc:title>Aucun titre de diapositive</dc:title>
</cp:coreProperties>
</file>