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288588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1F2-04F6-4DAA-9E95-9B9C895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E85-C015-4D6B-B4D1-4D76D206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B9CB-0322-4ED7-B8E5-09B78850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F24-1187-423D-A79B-01BD2D20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F68-680A-4E77-A36A-9D15119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ABE-45BD-46FF-BE8E-3872A395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0326-CE34-4D95-915F-32FF68F6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1B5-E78D-4586-8F68-E3866756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68D-503F-4E10-A7DC-071D3AE4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4A5-EDB0-4F11-AFE7-AC740D5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5EE-73D6-48B1-B5C8-AEB1E424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B90-95A2-4C07-A4AF-31A49AFA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8EC9-2148-4014-B11E-BC52E4B947C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/>
          <p:cNvSpPr/>
          <p:nvPr/>
        </p:nvSpPr>
        <p:spPr>
          <a:xfrm>
            <a:off x="146160" y="64008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701640"/>
            <a:ext cx="102870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PPROCHE PROTEOMIQUE SELDI-TOF-MS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OUR LA RECHERCHE DE BIOMARQUEUR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SSOCIES A LA RESOLU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 L’INFECTION PAR LE VIRUS DE L’HEPATITE C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1148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Arial"/>
              </a:rPr>
              <a:t>C. Fournier-Wir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440160" y="4937040"/>
            <a:ext cx="340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FS Pyrénées-Méditerrané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5788440" y="630864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VIII CVV, Paris, 22 novembre 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73200" y="228600"/>
            <a:ext cx="10314000" cy="6478920"/>
            <a:chOff x="1573200" y="228600"/>
            <a:chExt cx="10314000" cy="6478920"/>
          </a:xfrm>
        </p:grpSpPr>
        <p:graphicFrame>
          <p:nvGraphicFramePr>
            <p:cNvPr id="49" name=""/>
            <p:cNvGraphicFramePr/>
            <p:nvPr/>
          </p:nvGraphicFramePr>
          <p:xfrm>
            <a:off x="9144000" y="228600"/>
            <a:ext cx="958680" cy="54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0" y="228600"/>
                      <a:ext cx="958680" cy="54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3939840" y="393840"/>
              <a:ext cx="225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Introductio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85960" y="1717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49520" y="1219320"/>
              <a:ext cx="7238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ogrès récents :  dépistage du VH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        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prise en charge des patient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49520" y="2743200"/>
              <a:ext cx="102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nombreux aspects de l'infection incompris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73200" y="2895480"/>
              <a:ext cx="1023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15 %  des patients avec infection aiguë : clairance viral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0720" y="6308640"/>
              <a:ext cx="430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XVIII CVV, Paris, 22 novembre 200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838080" y="4343400"/>
            <a:ext cx="8839440" cy="1145520"/>
            <a:chOff x="838080" y="4343400"/>
            <a:chExt cx="8839440" cy="1145520"/>
          </a:xfrm>
        </p:grpSpPr>
        <p:sp>
          <p:nvSpPr>
            <p:cNvPr id="58" name=""/>
            <p:cNvSpPr/>
            <p:nvPr/>
          </p:nvSpPr>
          <p:spPr>
            <a:xfrm>
              <a:off x="4421880" y="4343400"/>
              <a:ext cx="1505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</a:rPr>
                <a:t>Objectif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8080" y="5029200"/>
              <a:ext cx="88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Arial"/>
                </a:rPr>
                <a:t>  </a:t>
              </a:r>
              <a:r>
                <a:rPr b="0" lang="fr-FR" sz="2400" spc="-1" strike="noStrike">
                  <a:solidFill>
                    <a:srgbClr val="ffff00"/>
                  </a:solidFill>
                  <a:latin typeface="Arial"/>
                </a:rPr>
                <a:t>biomarqueurs signant la résolution de l'infection par le VHC ? 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5320" y="4495680"/>
              <a:ext cx="457200" cy="257400"/>
            </a:xfrm>
            <a:prstGeom prst="rightArrow">
              <a:avLst>
                <a:gd name="adj1" fmla="val 50000"/>
                <a:gd name="adj2" fmla="val 44406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04920"/>
            <a:ext cx="998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Arial"/>
              </a:rPr>
              <a:t>SELDI TOF-MS ProteinChip techn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fr-FR" sz="2800" spc="-1" strike="noStrike">
                <a:solidFill>
                  <a:srgbClr val="ffff00"/>
                </a:solidFill>
                <a:latin typeface="Arial"/>
              </a:rPr>
              <a:t>Ciphergen Biosystems</a:t>
            </a:r>
            <a:r>
              <a:rPr b="0" i="1" lang="fr-FR" sz="1400" spc="-1" strike="noStrike" baseline="30000">
                <a:solidFill>
                  <a:srgbClr val="ffff00"/>
                </a:solidFill>
                <a:latin typeface="Arial"/>
              </a:rPr>
              <a:t>TM</a:t>
            </a:r>
            <a:r>
              <a:rPr b="0" lang="fr-FR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« 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rface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hanced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er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Sorption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ization 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30040" y="1981080"/>
            <a:ext cx="650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pture de protéines sur des surfaces a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spectrométrie de masse (TOF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>
            <a:off x="5945400" y="3182760"/>
            <a:ext cx="429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sépar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détec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- analyse de protéines ( femtomolai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6096600" y="441972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irectement à partir de liquid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biologiques complex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124080"/>
            <a:ext cx="0" cy="947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255276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25720" y="2895480"/>
            <a:ext cx="2789280" cy="312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806760" y="6172200"/>
            <a:ext cx="41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http://www.ciphergen.com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788440" y="630864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VIII CVV, Paris, 22 novembre 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/>
          <p:nvPr/>
        </p:nvSpPr>
        <p:spPr>
          <a:xfrm>
            <a:off x="3234240" y="393840"/>
            <a:ext cx="40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pproche protéom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"/>
          <p:cNvSpPr/>
          <p:nvPr/>
        </p:nvSpPr>
        <p:spPr>
          <a:xfrm>
            <a:off x="3458160" y="1241280"/>
            <a:ext cx="6293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Plasma humain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onneurs ayant résolu leur infection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 anti-VHC + / PCR VHC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porteurs chroniques VHC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 anti-VHC + / PCR VHC +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donneurs négatif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c anti-VHC - / PCR VHC 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106720"/>
          <a:ext cx="3581640" cy="23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106720"/>
                    <a:ext cx="3581640" cy="238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760560" y="54100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sma 1: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5533920"/>
            <a:ext cx="457200" cy="257400"/>
          </a:xfrm>
          <a:prstGeom prst="rightArrow">
            <a:avLst>
              <a:gd name="adj1" fmla="val 50000"/>
              <a:gd name="adj2" fmla="val 4440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029200" y="152388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candidats sélectionnés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5- 15 k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144160" y="0"/>
            <a:ext cx="63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alyse des profils protéiq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09480" y="762120"/>
            <a:ext cx="5562360" cy="3048480"/>
            <a:chOff x="609480" y="762120"/>
            <a:chExt cx="5562360" cy="3048480"/>
          </a:xfrm>
        </p:grpSpPr>
        <p:sp>
          <p:nvSpPr>
            <p:cNvPr id="85" name=""/>
            <p:cNvSpPr/>
            <p:nvPr/>
          </p:nvSpPr>
          <p:spPr>
            <a:xfrm>
              <a:off x="609480" y="762120"/>
              <a:ext cx="5381640" cy="297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86240" y="1054440"/>
              <a:ext cx="4253760" cy="2756160"/>
              <a:chOff x="786240" y="1054440"/>
              <a:chExt cx="4253760" cy="2756160"/>
            </a:xfrm>
          </p:grpSpPr>
          <p:sp>
            <p:nvSpPr>
              <p:cNvPr id="87" name=""/>
              <p:cNvSpPr/>
              <p:nvPr/>
            </p:nvSpPr>
            <p:spPr>
              <a:xfrm>
                <a:off x="2620440" y="1142640"/>
                <a:ext cx="513720" cy="2666520"/>
              </a:xfrm>
              <a:prstGeom prst="rect">
                <a:avLst/>
              </a:prstGeom>
              <a:solidFill>
                <a:srgbClr val="ccffff">
                  <a:alpha val="50000"/>
                </a:srgbClr>
              </a:solidFill>
              <a:ln w="190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" name=""/>
              <p:cNvGrpSpPr/>
              <p:nvPr/>
            </p:nvGrpSpPr>
            <p:grpSpPr>
              <a:xfrm>
                <a:off x="786240" y="1209240"/>
                <a:ext cx="4253760" cy="2601360"/>
                <a:chOff x="786240" y="1209240"/>
                <a:chExt cx="4253760" cy="26013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992880" y="1956240"/>
                  <a:ext cx="4046400" cy="10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833760" y="19339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92880" y="1728720"/>
                  <a:ext cx="4046400" cy="10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86240" y="17038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992880" y="1490400"/>
                  <a:ext cx="4046400" cy="10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86240" y="146124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992880" y="1262520"/>
                  <a:ext cx="4046400" cy="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86240" y="1239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2003400" y="1209240"/>
                  <a:ext cx="108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3019680" y="1209240"/>
                  <a:ext cx="72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4029840" y="1209240"/>
                  <a:ext cx="108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>
                  <a:off x="5039280" y="1209240"/>
                  <a:ext cx="72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992880" y="1209240"/>
                  <a:ext cx="4046400" cy="835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992880" y="1266120"/>
                  <a:ext cx="3337560" cy="677160"/>
                </a:xfrm>
                <a:custGeom>
                  <a:avLst/>
                  <a:gdLst/>
                  <a:ahLst/>
                  <a:rect l="l" t="t" r="r" b="b"/>
                  <a:pathLst>
                    <a:path w="4271" h="958">
                      <a:moveTo>
                        <a:pt x="0" y="946"/>
                      </a:moveTo>
                      <a:lnTo>
                        <a:pt x="0" y="933"/>
                      </a:lnTo>
                      <a:lnTo>
                        <a:pt x="9" y="921"/>
                      </a:lnTo>
                      <a:lnTo>
                        <a:pt x="26" y="933"/>
                      </a:lnTo>
                      <a:lnTo>
                        <a:pt x="26" y="946"/>
                      </a:lnTo>
                      <a:lnTo>
                        <a:pt x="43" y="933"/>
                      </a:lnTo>
                      <a:lnTo>
                        <a:pt x="43" y="921"/>
                      </a:lnTo>
                      <a:lnTo>
                        <a:pt x="51" y="921"/>
                      </a:lnTo>
                      <a:lnTo>
                        <a:pt x="69" y="933"/>
                      </a:lnTo>
                      <a:lnTo>
                        <a:pt x="69" y="933"/>
                      </a:lnTo>
                      <a:lnTo>
                        <a:pt x="77" y="933"/>
                      </a:lnTo>
                      <a:lnTo>
                        <a:pt x="86" y="958"/>
                      </a:lnTo>
                      <a:lnTo>
                        <a:pt x="103" y="946"/>
                      </a:lnTo>
                      <a:lnTo>
                        <a:pt x="103" y="921"/>
                      </a:lnTo>
                      <a:lnTo>
                        <a:pt x="111" y="921"/>
                      </a:lnTo>
                      <a:lnTo>
                        <a:pt x="120" y="933"/>
                      </a:lnTo>
                      <a:lnTo>
                        <a:pt x="129" y="908"/>
                      </a:lnTo>
                      <a:lnTo>
                        <a:pt x="146" y="921"/>
                      </a:lnTo>
                      <a:lnTo>
                        <a:pt x="154" y="946"/>
                      </a:lnTo>
                      <a:lnTo>
                        <a:pt x="154" y="958"/>
                      </a:lnTo>
                      <a:lnTo>
                        <a:pt x="163" y="958"/>
                      </a:lnTo>
                      <a:lnTo>
                        <a:pt x="171" y="921"/>
                      </a:lnTo>
                      <a:lnTo>
                        <a:pt x="180" y="921"/>
                      </a:lnTo>
                      <a:lnTo>
                        <a:pt x="188" y="908"/>
                      </a:lnTo>
                      <a:lnTo>
                        <a:pt x="197" y="908"/>
                      </a:lnTo>
                      <a:lnTo>
                        <a:pt x="206" y="946"/>
                      </a:lnTo>
                      <a:lnTo>
                        <a:pt x="214" y="958"/>
                      </a:lnTo>
                      <a:lnTo>
                        <a:pt x="223" y="946"/>
                      </a:lnTo>
                      <a:lnTo>
                        <a:pt x="231" y="946"/>
                      </a:lnTo>
                      <a:lnTo>
                        <a:pt x="240" y="946"/>
                      </a:lnTo>
                      <a:lnTo>
                        <a:pt x="248" y="921"/>
                      </a:lnTo>
                      <a:lnTo>
                        <a:pt x="257" y="933"/>
                      </a:lnTo>
                      <a:lnTo>
                        <a:pt x="265" y="946"/>
                      </a:lnTo>
                      <a:lnTo>
                        <a:pt x="283" y="946"/>
                      </a:lnTo>
                      <a:lnTo>
                        <a:pt x="291" y="933"/>
                      </a:lnTo>
                      <a:lnTo>
                        <a:pt x="291" y="946"/>
                      </a:lnTo>
                      <a:lnTo>
                        <a:pt x="300" y="946"/>
                      </a:lnTo>
                      <a:lnTo>
                        <a:pt x="308" y="958"/>
                      </a:lnTo>
                      <a:lnTo>
                        <a:pt x="317" y="958"/>
                      </a:lnTo>
                      <a:lnTo>
                        <a:pt x="334" y="946"/>
                      </a:lnTo>
                      <a:lnTo>
                        <a:pt x="334" y="933"/>
                      </a:lnTo>
                      <a:lnTo>
                        <a:pt x="342" y="921"/>
                      </a:lnTo>
                      <a:lnTo>
                        <a:pt x="351" y="921"/>
                      </a:lnTo>
                      <a:lnTo>
                        <a:pt x="368" y="933"/>
                      </a:lnTo>
                      <a:lnTo>
                        <a:pt x="368" y="908"/>
                      </a:lnTo>
                      <a:lnTo>
                        <a:pt x="377" y="933"/>
                      </a:lnTo>
                      <a:lnTo>
                        <a:pt x="394" y="921"/>
                      </a:lnTo>
                      <a:lnTo>
                        <a:pt x="394" y="896"/>
                      </a:lnTo>
                      <a:lnTo>
                        <a:pt x="402" y="896"/>
                      </a:lnTo>
                      <a:lnTo>
                        <a:pt x="420" y="908"/>
                      </a:lnTo>
                      <a:lnTo>
                        <a:pt x="420" y="933"/>
                      </a:lnTo>
                      <a:lnTo>
                        <a:pt x="437" y="933"/>
                      </a:lnTo>
                      <a:lnTo>
                        <a:pt x="437" y="933"/>
                      </a:lnTo>
                      <a:lnTo>
                        <a:pt x="445" y="958"/>
                      </a:lnTo>
                      <a:lnTo>
                        <a:pt x="462" y="946"/>
                      </a:lnTo>
                      <a:lnTo>
                        <a:pt x="462" y="946"/>
                      </a:lnTo>
                      <a:lnTo>
                        <a:pt x="479" y="946"/>
                      </a:lnTo>
                      <a:lnTo>
                        <a:pt x="479" y="946"/>
                      </a:lnTo>
                      <a:lnTo>
                        <a:pt x="497" y="933"/>
                      </a:lnTo>
                      <a:lnTo>
                        <a:pt x="505" y="921"/>
                      </a:lnTo>
                      <a:lnTo>
                        <a:pt x="505" y="921"/>
                      </a:lnTo>
                      <a:lnTo>
                        <a:pt x="522" y="946"/>
                      </a:lnTo>
                      <a:lnTo>
                        <a:pt x="522" y="958"/>
                      </a:lnTo>
                      <a:lnTo>
                        <a:pt x="539" y="958"/>
                      </a:lnTo>
                      <a:lnTo>
                        <a:pt x="539" y="946"/>
                      </a:lnTo>
                      <a:lnTo>
                        <a:pt x="548" y="946"/>
                      </a:lnTo>
                      <a:lnTo>
                        <a:pt x="565" y="933"/>
                      </a:lnTo>
                      <a:lnTo>
                        <a:pt x="565" y="946"/>
                      </a:lnTo>
                      <a:lnTo>
                        <a:pt x="582" y="958"/>
                      </a:lnTo>
                      <a:lnTo>
                        <a:pt x="591" y="958"/>
                      </a:lnTo>
                      <a:lnTo>
                        <a:pt x="591" y="958"/>
                      </a:lnTo>
                      <a:lnTo>
                        <a:pt x="599" y="921"/>
                      </a:lnTo>
                      <a:lnTo>
                        <a:pt x="616" y="933"/>
                      </a:lnTo>
                      <a:lnTo>
                        <a:pt x="625" y="946"/>
                      </a:lnTo>
                      <a:lnTo>
                        <a:pt x="625" y="946"/>
                      </a:lnTo>
                      <a:lnTo>
                        <a:pt x="633" y="958"/>
                      </a:lnTo>
                      <a:lnTo>
                        <a:pt x="651" y="933"/>
                      </a:lnTo>
                      <a:lnTo>
                        <a:pt x="659" y="908"/>
                      </a:lnTo>
                      <a:lnTo>
                        <a:pt x="668" y="908"/>
                      </a:lnTo>
                      <a:lnTo>
                        <a:pt x="668" y="921"/>
                      </a:lnTo>
                      <a:lnTo>
                        <a:pt x="676" y="933"/>
                      </a:lnTo>
                      <a:lnTo>
                        <a:pt x="693" y="933"/>
                      </a:lnTo>
                      <a:lnTo>
                        <a:pt x="702" y="933"/>
                      </a:lnTo>
                      <a:lnTo>
                        <a:pt x="711" y="896"/>
                      </a:lnTo>
                      <a:lnTo>
                        <a:pt x="719" y="834"/>
                      </a:lnTo>
                      <a:lnTo>
                        <a:pt x="728" y="361"/>
                      </a:lnTo>
                      <a:lnTo>
                        <a:pt x="736" y="174"/>
                      </a:lnTo>
                      <a:lnTo>
                        <a:pt x="745" y="298"/>
                      </a:lnTo>
                      <a:lnTo>
                        <a:pt x="753" y="585"/>
                      </a:lnTo>
                      <a:lnTo>
                        <a:pt x="762" y="759"/>
                      </a:lnTo>
                      <a:lnTo>
                        <a:pt x="770" y="834"/>
                      </a:lnTo>
                      <a:lnTo>
                        <a:pt x="779" y="846"/>
                      </a:lnTo>
                      <a:lnTo>
                        <a:pt x="788" y="834"/>
                      </a:lnTo>
                      <a:lnTo>
                        <a:pt x="796" y="846"/>
                      </a:lnTo>
                      <a:lnTo>
                        <a:pt x="805" y="859"/>
                      </a:lnTo>
                      <a:lnTo>
                        <a:pt x="813" y="821"/>
                      </a:lnTo>
                      <a:lnTo>
                        <a:pt x="822" y="747"/>
                      </a:lnTo>
                      <a:lnTo>
                        <a:pt x="830" y="149"/>
                      </a:lnTo>
                      <a:lnTo>
                        <a:pt x="839" y="0"/>
                      </a:lnTo>
                      <a:lnTo>
                        <a:pt x="847" y="62"/>
                      </a:lnTo>
                      <a:lnTo>
                        <a:pt x="856" y="323"/>
                      </a:lnTo>
                      <a:lnTo>
                        <a:pt x="856" y="523"/>
                      </a:lnTo>
                      <a:lnTo>
                        <a:pt x="865" y="672"/>
                      </a:lnTo>
                      <a:lnTo>
                        <a:pt x="882" y="796"/>
                      </a:lnTo>
                      <a:lnTo>
                        <a:pt x="890" y="846"/>
                      </a:lnTo>
                      <a:lnTo>
                        <a:pt x="899" y="884"/>
                      </a:lnTo>
                      <a:lnTo>
                        <a:pt x="907" y="896"/>
                      </a:lnTo>
                      <a:lnTo>
                        <a:pt x="907" y="896"/>
                      </a:lnTo>
                      <a:lnTo>
                        <a:pt x="924" y="896"/>
                      </a:lnTo>
                      <a:lnTo>
                        <a:pt x="933" y="871"/>
                      </a:lnTo>
                      <a:lnTo>
                        <a:pt x="942" y="722"/>
                      </a:lnTo>
                      <a:lnTo>
                        <a:pt x="942" y="697"/>
                      </a:lnTo>
                      <a:lnTo>
                        <a:pt x="959" y="734"/>
                      </a:lnTo>
                      <a:lnTo>
                        <a:pt x="967" y="821"/>
                      </a:lnTo>
                      <a:lnTo>
                        <a:pt x="967" y="871"/>
                      </a:lnTo>
                      <a:lnTo>
                        <a:pt x="976" y="908"/>
                      </a:lnTo>
                      <a:lnTo>
                        <a:pt x="993" y="908"/>
                      </a:lnTo>
                      <a:lnTo>
                        <a:pt x="1002" y="908"/>
                      </a:lnTo>
                      <a:lnTo>
                        <a:pt x="1002" y="933"/>
                      </a:lnTo>
                      <a:lnTo>
                        <a:pt x="1019" y="933"/>
                      </a:lnTo>
                      <a:lnTo>
                        <a:pt x="1019" y="933"/>
                      </a:lnTo>
                      <a:lnTo>
                        <a:pt x="1036" y="921"/>
                      </a:lnTo>
                      <a:lnTo>
                        <a:pt x="1044" y="921"/>
                      </a:lnTo>
                      <a:lnTo>
                        <a:pt x="1044" y="933"/>
                      </a:lnTo>
                      <a:lnTo>
                        <a:pt x="1061" y="921"/>
                      </a:lnTo>
                      <a:lnTo>
                        <a:pt x="1061" y="921"/>
                      </a:lnTo>
                      <a:lnTo>
                        <a:pt x="1079" y="933"/>
                      </a:lnTo>
                      <a:lnTo>
                        <a:pt x="1079" y="946"/>
                      </a:lnTo>
                      <a:lnTo>
                        <a:pt x="1096" y="933"/>
                      </a:lnTo>
                      <a:lnTo>
                        <a:pt x="1096" y="933"/>
                      </a:lnTo>
                      <a:lnTo>
                        <a:pt x="1113" y="933"/>
                      </a:lnTo>
                      <a:lnTo>
                        <a:pt x="1113" y="921"/>
                      </a:lnTo>
                      <a:lnTo>
                        <a:pt x="1130" y="921"/>
                      </a:lnTo>
                      <a:lnTo>
                        <a:pt x="1130" y="933"/>
                      </a:lnTo>
                      <a:lnTo>
                        <a:pt x="1147" y="933"/>
                      </a:lnTo>
                      <a:lnTo>
                        <a:pt x="1147" y="946"/>
                      </a:lnTo>
                      <a:lnTo>
                        <a:pt x="1164" y="946"/>
                      </a:lnTo>
                      <a:lnTo>
                        <a:pt x="1164" y="958"/>
                      </a:lnTo>
                      <a:lnTo>
                        <a:pt x="1181" y="933"/>
                      </a:lnTo>
                      <a:lnTo>
                        <a:pt x="1181" y="933"/>
                      </a:lnTo>
                      <a:lnTo>
                        <a:pt x="1190" y="946"/>
                      </a:lnTo>
                      <a:lnTo>
                        <a:pt x="1207" y="958"/>
                      </a:lnTo>
                      <a:lnTo>
                        <a:pt x="1207" y="958"/>
                      </a:lnTo>
                      <a:lnTo>
                        <a:pt x="1215" y="946"/>
                      </a:lnTo>
                      <a:lnTo>
                        <a:pt x="1233" y="933"/>
                      </a:lnTo>
                      <a:lnTo>
                        <a:pt x="1233" y="933"/>
                      </a:lnTo>
                      <a:lnTo>
                        <a:pt x="1241" y="946"/>
                      </a:lnTo>
                      <a:lnTo>
                        <a:pt x="1258" y="958"/>
                      </a:lnTo>
                      <a:lnTo>
                        <a:pt x="1258" y="958"/>
                      </a:lnTo>
                      <a:lnTo>
                        <a:pt x="1267" y="946"/>
                      </a:lnTo>
                      <a:lnTo>
                        <a:pt x="1284" y="946"/>
                      </a:lnTo>
                      <a:lnTo>
                        <a:pt x="1293" y="958"/>
                      </a:lnTo>
                      <a:lnTo>
                        <a:pt x="1293" y="946"/>
                      </a:lnTo>
                      <a:lnTo>
                        <a:pt x="1301" y="958"/>
                      </a:lnTo>
                      <a:lnTo>
                        <a:pt x="1318" y="946"/>
                      </a:lnTo>
                      <a:lnTo>
                        <a:pt x="1327" y="958"/>
                      </a:lnTo>
                      <a:lnTo>
                        <a:pt x="1327" y="958"/>
                      </a:lnTo>
                      <a:lnTo>
                        <a:pt x="1335" y="958"/>
                      </a:lnTo>
                      <a:lnTo>
                        <a:pt x="1352" y="946"/>
                      </a:lnTo>
                      <a:lnTo>
                        <a:pt x="1361" y="958"/>
                      </a:lnTo>
                      <a:lnTo>
                        <a:pt x="1370" y="946"/>
                      </a:lnTo>
                      <a:lnTo>
                        <a:pt x="1370" y="946"/>
                      </a:lnTo>
                      <a:lnTo>
                        <a:pt x="1378" y="946"/>
                      </a:lnTo>
                      <a:lnTo>
                        <a:pt x="1387" y="946"/>
                      </a:lnTo>
                      <a:lnTo>
                        <a:pt x="1395" y="958"/>
                      </a:lnTo>
                      <a:lnTo>
                        <a:pt x="1412" y="946"/>
                      </a:lnTo>
                      <a:lnTo>
                        <a:pt x="1421" y="946"/>
                      </a:lnTo>
                      <a:lnTo>
                        <a:pt x="1429" y="946"/>
                      </a:lnTo>
                      <a:lnTo>
                        <a:pt x="1438" y="946"/>
                      </a:lnTo>
                      <a:lnTo>
                        <a:pt x="1438" y="946"/>
                      </a:lnTo>
                      <a:lnTo>
                        <a:pt x="1447" y="958"/>
                      </a:lnTo>
                      <a:lnTo>
                        <a:pt x="1455" y="946"/>
                      </a:lnTo>
                      <a:lnTo>
                        <a:pt x="1464" y="958"/>
                      </a:lnTo>
                      <a:lnTo>
                        <a:pt x="1472" y="958"/>
                      </a:lnTo>
                      <a:lnTo>
                        <a:pt x="1481" y="958"/>
                      </a:lnTo>
                      <a:lnTo>
                        <a:pt x="1489" y="958"/>
                      </a:lnTo>
                      <a:lnTo>
                        <a:pt x="1498" y="946"/>
                      </a:lnTo>
                      <a:lnTo>
                        <a:pt x="1506" y="958"/>
                      </a:lnTo>
                      <a:lnTo>
                        <a:pt x="1515" y="946"/>
                      </a:lnTo>
                      <a:lnTo>
                        <a:pt x="1524" y="958"/>
                      </a:lnTo>
                      <a:lnTo>
                        <a:pt x="1532" y="958"/>
                      </a:lnTo>
                      <a:lnTo>
                        <a:pt x="1541" y="958"/>
                      </a:lnTo>
                      <a:lnTo>
                        <a:pt x="1549" y="958"/>
                      </a:lnTo>
                      <a:lnTo>
                        <a:pt x="1558" y="958"/>
                      </a:lnTo>
                      <a:lnTo>
                        <a:pt x="1575" y="958"/>
                      </a:lnTo>
                      <a:lnTo>
                        <a:pt x="1583" y="958"/>
                      </a:lnTo>
                      <a:lnTo>
                        <a:pt x="1592" y="958"/>
                      </a:lnTo>
                      <a:lnTo>
                        <a:pt x="1601" y="958"/>
                      </a:lnTo>
                      <a:lnTo>
                        <a:pt x="1609" y="958"/>
                      </a:lnTo>
                      <a:lnTo>
                        <a:pt x="1609" y="958"/>
                      </a:lnTo>
                      <a:lnTo>
                        <a:pt x="1618" y="958"/>
                      </a:lnTo>
                      <a:lnTo>
                        <a:pt x="1626" y="958"/>
                      </a:lnTo>
                      <a:lnTo>
                        <a:pt x="1635" y="946"/>
                      </a:lnTo>
                      <a:lnTo>
                        <a:pt x="1652" y="921"/>
                      </a:lnTo>
                      <a:lnTo>
                        <a:pt x="1661" y="884"/>
                      </a:lnTo>
                      <a:lnTo>
                        <a:pt x="1661" y="871"/>
                      </a:lnTo>
                      <a:lnTo>
                        <a:pt x="1669" y="871"/>
                      </a:lnTo>
                      <a:lnTo>
                        <a:pt x="1678" y="908"/>
                      </a:lnTo>
                      <a:lnTo>
                        <a:pt x="1695" y="933"/>
                      </a:lnTo>
                      <a:lnTo>
                        <a:pt x="1703" y="946"/>
                      </a:lnTo>
                      <a:lnTo>
                        <a:pt x="1703" y="958"/>
                      </a:lnTo>
                      <a:lnTo>
                        <a:pt x="1712" y="958"/>
                      </a:lnTo>
                      <a:lnTo>
                        <a:pt x="1720" y="958"/>
                      </a:lnTo>
                      <a:lnTo>
                        <a:pt x="1738" y="946"/>
                      </a:lnTo>
                      <a:lnTo>
                        <a:pt x="1738" y="946"/>
                      </a:lnTo>
                      <a:lnTo>
                        <a:pt x="1746" y="958"/>
                      </a:lnTo>
                      <a:lnTo>
                        <a:pt x="1763" y="946"/>
                      </a:lnTo>
                      <a:lnTo>
                        <a:pt x="1772" y="946"/>
                      </a:lnTo>
                      <a:lnTo>
                        <a:pt x="1772" y="946"/>
                      </a:lnTo>
                      <a:lnTo>
                        <a:pt x="1780" y="933"/>
                      </a:lnTo>
                      <a:lnTo>
                        <a:pt x="1797" y="921"/>
                      </a:lnTo>
                      <a:lnTo>
                        <a:pt x="1797" y="933"/>
                      </a:lnTo>
                      <a:lnTo>
                        <a:pt x="1806" y="921"/>
                      </a:lnTo>
                      <a:lnTo>
                        <a:pt x="1823" y="908"/>
                      </a:lnTo>
                      <a:lnTo>
                        <a:pt x="1823" y="896"/>
                      </a:lnTo>
                      <a:lnTo>
                        <a:pt x="1840" y="796"/>
                      </a:lnTo>
                      <a:lnTo>
                        <a:pt x="1849" y="784"/>
                      </a:lnTo>
                      <a:lnTo>
                        <a:pt x="1849" y="796"/>
                      </a:lnTo>
                      <a:lnTo>
                        <a:pt x="1866" y="834"/>
                      </a:lnTo>
                      <a:lnTo>
                        <a:pt x="1866" y="747"/>
                      </a:lnTo>
                      <a:lnTo>
                        <a:pt x="1874" y="734"/>
                      </a:lnTo>
                      <a:lnTo>
                        <a:pt x="1892" y="759"/>
                      </a:lnTo>
                      <a:lnTo>
                        <a:pt x="1892" y="535"/>
                      </a:lnTo>
                      <a:lnTo>
                        <a:pt x="1909" y="161"/>
                      </a:lnTo>
                      <a:lnTo>
                        <a:pt x="1909" y="149"/>
                      </a:lnTo>
                      <a:lnTo>
                        <a:pt x="1926" y="361"/>
                      </a:lnTo>
                      <a:lnTo>
                        <a:pt x="1926" y="547"/>
                      </a:lnTo>
                      <a:lnTo>
                        <a:pt x="1943" y="547"/>
                      </a:lnTo>
                      <a:lnTo>
                        <a:pt x="1952" y="498"/>
                      </a:lnTo>
                      <a:lnTo>
                        <a:pt x="1960" y="460"/>
                      </a:lnTo>
                      <a:lnTo>
                        <a:pt x="1969" y="161"/>
                      </a:lnTo>
                      <a:lnTo>
                        <a:pt x="1977" y="124"/>
                      </a:lnTo>
                      <a:lnTo>
                        <a:pt x="1986" y="224"/>
                      </a:lnTo>
                      <a:lnTo>
                        <a:pt x="1994" y="423"/>
                      </a:lnTo>
                      <a:lnTo>
                        <a:pt x="1994" y="547"/>
                      </a:lnTo>
                      <a:lnTo>
                        <a:pt x="2011" y="547"/>
                      </a:lnTo>
                      <a:lnTo>
                        <a:pt x="2011" y="373"/>
                      </a:lnTo>
                      <a:lnTo>
                        <a:pt x="2029" y="124"/>
                      </a:lnTo>
                      <a:lnTo>
                        <a:pt x="2029" y="99"/>
                      </a:lnTo>
                      <a:lnTo>
                        <a:pt x="2046" y="149"/>
                      </a:lnTo>
                      <a:lnTo>
                        <a:pt x="2054" y="311"/>
                      </a:lnTo>
                      <a:lnTo>
                        <a:pt x="2063" y="510"/>
                      </a:lnTo>
                      <a:lnTo>
                        <a:pt x="2071" y="597"/>
                      </a:lnTo>
                      <a:lnTo>
                        <a:pt x="2071" y="622"/>
                      </a:lnTo>
                      <a:lnTo>
                        <a:pt x="2088" y="647"/>
                      </a:lnTo>
                      <a:lnTo>
                        <a:pt x="2097" y="697"/>
                      </a:lnTo>
                      <a:lnTo>
                        <a:pt x="2097" y="759"/>
                      </a:lnTo>
                      <a:lnTo>
                        <a:pt x="2114" y="759"/>
                      </a:lnTo>
                      <a:lnTo>
                        <a:pt x="2123" y="734"/>
                      </a:lnTo>
                      <a:lnTo>
                        <a:pt x="2131" y="597"/>
                      </a:lnTo>
                      <a:lnTo>
                        <a:pt x="2140" y="460"/>
                      </a:lnTo>
                      <a:lnTo>
                        <a:pt x="2148" y="448"/>
                      </a:lnTo>
                      <a:lnTo>
                        <a:pt x="2157" y="498"/>
                      </a:lnTo>
                      <a:lnTo>
                        <a:pt x="2165" y="597"/>
                      </a:lnTo>
                      <a:lnTo>
                        <a:pt x="2174" y="672"/>
                      </a:lnTo>
                      <a:lnTo>
                        <a:pt x="2174" y="722"/>
                      </a:lnTo>
                      <a:lnTo>
                        <a:pt x="2191" y="759"/>
                      </a:lnTo>
                      <a:lnTo>
                        <a:pt x="2200" y="809"/>
                      </a:lnTo>
                      <a:lnTo>
                        <a:pt x="2208" y="809"/>
                      </a:lnTo>
                      <a:lnTo>
                        <a:pt x="2217" y="809"/>
                      </a:lnTo>
                      <a:lnTo>
                        <a:pt x="2225" y="784"/>
                      </a:lnTo>
                      <a:lnTo>
                        <a:pt x="2234" y="784"/>
                      </a:lnTo>
                      <a:lnTo>
                        <a:pt x="2243" y="759"/>
                      </a:lnTo>
                      <a:lnTo>
                        <a:pt x="2243" y="684"/>
                      </a:lnTo>
                      <a:lnTo>
                        <a:pt x="2260" y="635"/>
                      </a:lnTo>
                      <a:lnTo>
                        <a:pt x="2268" y="635"/>
                      </a:lnTo>
                      <a:lnTo>
                        <a:pt x="2277" y="647"/>
                      </a:lnTo>
                      <a:lnTo>
                        <a:pt x="2277" y="386"/>
                      </a:lnTo>
                      <a:lnTo>
                        <a:pt x="2294" y="286"/>
                      </a:lnTo>
                      <a:lnTo>
                        <a:pt x="2302" y="298"/>
                      </a:lnTo>
                      <a:lnTo>
                        <a:pt x="2311" y="423"/>
                      </a:lnTo>
                      <a:lnTo>
                        <a:pt x="2320" y="585"/>
                      </a:lnTo>
                      <a:lnTo>
                        <a:pt x="2328" y="684"/>
                      </a:lnTo>
                      <a:lnTo>
                        <a:pt x="2328" y="747"/>
                      </a:lnTo>
                      <a:lnTo>
                        <a:pt x="2345" y="784"/>
                      </a:lnTo>
                      <a:lnTo>
                        <a:pt x="2354" y="809"/>
                      </a:lnTo>
                      <a:lnTo>
                        <a:pt x="2362" y="821"/>
                      </a:lnTo>
                      <a:lnTo>
                        <a:pt x="2371" y="809"/>
                      </a:lnTo>
                      <a:lnTo>
                        <a:pt x="2379" y="809"/>
                      </a:lnTo>
                      <a:lnTo>
                        <a:pt x="2388" y="796"/>
                      </a:lnTo>
                      <a:lnTo>
                        <a:pt x="2397" y="772"/>
                      </a:lnTo>
                      <a:lnTo>
                        <a:pt x="2405" y="772"/>
                      </a:lnTo>
                      <a:lnTo>
                        <a:pt x="2405" y="759"/>
                      </a:lnTo>
                      <a:lnTo>
                        <a:pt x="2414" y="772"/>
                      </a:lnTo>
                      <a:lnTo>
                        <a:pt x="2431" y="809"/>
                      </a:lnTo>
                      <a:lnTo>
                        <a:pt x="2439" y="784"/>
                      </a:lnTo>
                      <a:lnTo>
                        <a:pt x="2448" y="784"/>
                      </a:lnTo>
                      <a:lnTo>
                        <a:pt x="2456" y="796"/>
                      </a:lnTo>
                      <a:lnTo>
                        <a:pt x="2465" y="834"/>
                      </a:lnTo>
                      <a:lnTo>
                        <a:pt x="2474" y="859"/>
                      </a:lnTo>
                      <a:lnTo>
                        <a:pt x="2482" y="871"/>
                      </a:lnTo>
                      <a:lnTo>
                        <a:pt x="2491" y="871"/>
                      </a:lnTo>
                      <a:lnTo>
                        <a:pt x="2499" y="896"/>
                      </a:lnTo>
                      <a:lnTo>
                        <a:pt x="2508" y="896"/>
                      </a:lnTo>
                      <a:lnTo>
                        <a:pt x="2516" y="896"/>
                      </a:lnTo>
                      <a:lnTo>
                        <a:pt x="2525" y="896"/>
                      </a:lnTo>
                      <a:lnTo>
                        <a:pt x="2534" y="908"/>
                      </a:lnTo>
                      <a:lnTo>
                        <a:pt x="2542" y="896"/>
                      </a:lnTo>
                      <a:lnTo>
                        <a:pt x="2551" y="871"/>
                      </a:lnTo>
                      <a:lnTo>
                        <a:pt x="2559" y="871"/>
                      </a:lnTo>
                      <a:lnTo>
                        <a:pt x="2568" y="871"/>
                      </a:lnTo>
                      <a:lnTo>
                        <a:pt x="2576" y="884"/>
                      </a:lnTo>
                      <a:lnTo>
                        <a:pt x="2576" y="908"/>
                      </a:lnTo>
                      <a:lnTo>
                        <a:pt x="2593" y="908"/>
                      </a:lnTo>
                      <a:lnTo>
                        <a:pt x="2602" y="921"/>
                      </a:lnTo>
                      <a:lnTo>
                        <a:pt x="2611" y="933"/>
                      </a:lnTo>
                      <a:lnTo>
                        <a:pt x="2619" y="933"/>
                      </a:lnTo>
                      <a:lnTo>
                        <a:pt x="2628" y="921"/>
                      </a:lnTo>
                      <a:lnTo>
                        <a:pt x="2636" y="921"/>
                      </a:lnTo>
                      <a:lnTo>
                        <a:pt x="2645" y="933"/>
                      </a:lnTo>
                      <a:lnTo>
                        <a:pt x="2653" y="933"/>
                      </a:lnTo>
                      <a:lnTo>
                        <a:pt x="2653" y="933"/>
                      </a:lnTo>
                      <a:lnTo>
                        <a:pt x="2670" y="933"/>
                      </a:lnTo>
                      <a:lnTo>
                        <a:pt x="2679" y="933"/>
                      </a:lnTo>
                      <a:lnTo>
                        <a:pt x="2688" y="933"/>
                      </a:lnTo>
                      <a:lnTo>
                        <a:pt x="2696" y="933"/>
                      </a:lnTo>
                      <a:lnTo>
                        <a:pt x="2705" y="933"/>
                      </a:lnTo>
                      <a:lnTo>
                        <a:pt x="2713" y="933"/>
                      </a:lnTo>
                      <a:lnTo>
                        <a:pt x="2722" y="933"/>
                      </a:lnTo>
                      <a:lnTo>
                        <a:pt x="2730" y="933"/>
                      </a:lnTo>
                      <a:lnTo>
                        <a:pt x="2739" y="946"/>
                      </a:lnTo>
                      <a:lnTo>
                        <a:pt x="2747" y="946"/>
                      </a:lnTo>
                      <a:lnTo>
                        <a:pt x="2756" y="958"/>
                      </a:lnTo>
                      <a:lnTo>
                        <a:pt x="2765" y="958"/>
                      </a:lnTo>
                      <a:lnTo>
                        <a:pt x="2773" y="958"/>
                      </a:lnTo>
                      <a:lnTo>
                        <a:pt x="2782" y="958"/>
                      </a:lnTo>
                      <a:lnTo>
                        <a:pt x="2790" y="958"/>
                      </a:lnTo>
                      <a:lnTo>
                        <a:pt x="2790" y="946"/>
                      </a:lnTo>
                      <a:lnTo>
                        <a:pt x="2807" y="946"/>
                      </a:lnTo>
                      <a:lnTo>
                        <a:pt x="2816" y="946"/>
                      </a:lnTo>
                      <a:lnTo>
                        <a:pt x="2825" y="946"/>
                      </a:lnTo>
                      <a:lnTo>
                        <a:pt x="2833" y="946"/>
                      </a:lnTo>
                      <a:lnTo>
                        <a:pt x="2842" y="946"/>
                      </a:lnTo>
                      <a:lnTo>
                        <a:pt x="2850" y="946"/>
                      </a:lnTo>
                      <a:lnTo>
                        <a:pt x="2850" y="946"/>
                      </a:lnTo>
                      <a:lnTo>
                        <a:pt x="2867" y="946"/>
                      </a:lnTo>
                      <a:lnTo>
                        <a:pt x="2876" y="958"/>
                      </a:lnTo>
                      <a:lnTo>
                        <a:pt x="2884" y="958"/>
                      </a:lnTo>
                      <a:lnTo>
                        <a:pt x="2893" y="958"/>
                      </a:lnTo>
                      <a:lnTo>
                        <a:pt x="2902" y="958"/>
                      </a:lnTo>
                      <a:lnTo>
                        <a:pt x="2910" y="958"/>
                      </a:lnTo>
                      <a:lnTo>
                        <a:pt x="2919" y="958"/>
                      </a:lnTo>
                      <a:lnTo>
                        <a:pt x="2927" y="958"/>
                      </a:lnTo>
                      <a:lnTo>
                        <a:pt x="2927" y="958"/>
                      </a:lnTo>
                      <a:lnTo>
                        <a:pt x="2944" y="958"/>
                      </a:lnTo>
                      <a:lnTo>
                        <a:pt x="2953" y="958"/>
                      </a:lnTo>
                      <a:lnTo>
                        <a:pt x="2953" y="958"/>
                      </a:lnTo>
                      <a:lnTo>
                        <a:pt x="2970" y="958"/>
                      </a:lnTo>
                      <a:lnTo>
                        <a:pt x="2979" y="958"/>
                      </a:lnTo>
                      <a:lnTo>
                        <a:pt x="2987" y="958"/>
                      </a:lnTo>
                      <a:lnTo>
                        <a:pt x="2996" y="958"/>
                      </a:lnTo>
                      <a:lnTo>
                        <a:pt x="2996" y="958"/>
                      </a:lnTo>
                      <a:lnTo>
                        <a:pt x="3013" y="958"/>
                      </a:lnTo>
                      <a:lnTo>
                        <a:pt x="3021" y="958"/>
                      </a:lnTo>
                      <a:lnTo>
                        <a:pt x="3030" y="958"/>
                      </a:lnTo>
                      <a:lnTo>
                        <a:pt x="3038" y="958"/>
                      </a:lnTo>
                      <a:lnTo>
                        <a:pt x="3038" y="958"/>
                      </a:lnTo>
                      <a:lnTo>
                        <a:pt x="3056" y="958"/>
                      </a:lnTo>
                      <a:lnTo>
                        <a:pt x="3056" y="958"/>
                      </a:lnTo>
                      <a:lnTo>
                        <a:pt x="3073" y="958"/>
                      </a:lnTo>
                      <a:lnTo>
                        <a:pt x="3073" y="958"/>
                      </a:lnTo>
                      <a:lnTo>
                        <a:pt x="3090" y="958"/>
                      </a:lnTo>
                      <a:lnTo>
                        <a:pt x="3098" y="958"/>
                      </a:lnTo>
                      <a:lnTo>
                        <a:pt x="3107" y="958"/>
                      </a:lnTo>
                      <a:lnTo>
                        <a:pt x="3116" y="958"/>
                      </a:lnTo>
                      <a:lnTo>
                        <a:pt x="3124" y="958"/>
                      </a:lnTo>
                      <a:lnTo>
                        <a:pt x="3133" y="958"/>
                      </a:lnTo>
                      <a:lnTo>
                        <a:pt x="3141" y="958"/>
                      </a:lnTo>
                      <a:lnTo>
                        <a:pt x="3150" y="958"/>
                      </a:lnTo>
                      <a:lnTo>
                        <a:pt x="3158" y="958"/>
                      </a:lnTo>
                      <a:lnTo>
                        <a:pt x="3167" y="958"/>
                      </a:lnTo>
                      <a:lnTo>
                        <a:pt x="3175" y="958"/>
                      </a:lnTo>
                      <a:lnTo>
                        <a:pt x="3175" y="958"/>
                      </a:lnTo>
                      <a:lnTo>
                        <a:pt x="3193" y="958"/>
                      </a:lnTo>
                      <a:lnTo>
                        <a:pt x="3193" y="958"/>
                      </a:lnTo>
                      <a:lnTo>
                        <a:pt x="3210" y="958"/>
                      </a:lnTo>
                      <a:lnTo>
                        <a:pt x="3210" y="958"/>
                      </a:lnTo>
                      <a:lnTo>
                        <a:pt x="3227" y="958"/>
                      </a:lnTo>
                      <a:lnTo>
                        <a:pt x="3235" y="958"/>
                      </a:lnTo>
                      <a:lnTo>
                        <a:pt x="3244" y="958"/>
                      </a:lnTo>
                      <a:lnTo>
                        <a:pt x="3252" y="958"/>
                      </a:lnTo>
                      <a:lnTo>
                        <a:pt x="3252" y="958"/>
                      </a:lnTo>
                      <a:lnTo>
                        <a:pt x="3270" y="958"/>
                      </a:lnTo>
                      <a:lnTo>
                        <a:pt x="3278" y="958"/>
                      </a:lnTo>
                      <a:lnTo>
                        <a:pt x="3287" y="958"/>
                      </a:lnTo>
                      <a:lnTo>
                        <a:pt x="3295" y="958"/>
                      </a:lnTo>
                      <a:lnTo>
                        <a:pt x="3295" y="958"/>
                      </a:lnTo>
                      <a:lnTo>
                        <a:pt x="3312" y="958"/>
                      </a:lnTo>
                      <a:lnTo>
                        <a:pt x="3321" y="958"/>
                      </a:lnTo>
                      <a:lnTo>
                        <a:pt x="3321" y="958"/>
                      </a:lnTo>
                      <a:lnTo>
                        <a:pt x="3338" y="958"/>
                      </a:lnTo>
                      <a:lnTo>
                        <a:pt x="3347" y="958"/>
                      </a:lnTo>
                      <a:lnTo>
                        <a:pt x="3347" y="958"/>
                      </a:lnTo>
                      <a:lnTo>
                        <a:pt x="3364" y="958"/>
                      </a:lnTo>
                      <a:lnTo>
                        <a:pt x="3372" y="946"/>
                      </a:lnTo>
                      <a:lnTo>
                        <a:pt x="3372" y="933"/>
                      </a:lnTo>
                      <a:lnTo>
                        <a:pt x="3389" y="933"/>
                      </a:lnTo>
                      <a:lnTo>
                        <a:pt x="3398" y="933"/>
                      </a:lnTo>
                      <a:lnTo>
                        <a:pt x="3398" y="946"/>
                      </a:lnTo>
                      <a:lnTo>
                        <a:pt x="3415" y="946"/>
                      </a:lnTo>
                      <a:lnTo>
                        <a:pt x="3424" y="946"/>
                      </a:lnTo>
                      <a:lnTo>
                        <a:pt x="3424" y="958"/>
                      </a:lnTo>
                      <a:lnTo>
                        <a:pt x="3441" y="946"/>
                      </a:lnTo>
                      <a:lnTo>
                        <a:pt x="3449" y="946"/>
                      </a:lnTo>
                      <a:lnTo>
                        <a:pt x="3458" y="933"/>
                      </a:lnTo>
                      <a:lnTo>
                        <a:pt x="3458" y="933"/>
                      </a:lnTo>
                      <a:lnTo>
                        <a:pt x="3475" y="933"/>
                      </a:lnTo>
                      <a:lnTo>
                        <a:pt x="3484" y="933"/>
                      </a:lnTo>
                      <a:lnTo>
                        <a:pt x="3484" y="933"/>
                      </a:lnTo>
                      <a:lnTo>
                        <a:pt x="3492" y="946"/>
                      </a:lnTo>
                      <a:lnTo>
                        <a:pt x="3509" y="946"/>
                      </a:lnTo>
                      <a:lnTo>
                        <a:pt x="3518" y="946"/>
                      </a:lnTo>
                      <a:lnTo>
                        <a:pt x="3526" y="946"/>
                      </a:lnTo>
                      <a:lnTo>
                        <a:pt x="3526" y="958"/>
                      </a:lnTo>
                      <a:lnTo>
                        <a:pt x="3543" y="958"/>
                      </a:lnTo>
                      <a:lnTo>
                        <a:pt x="3552" y="958"/>
                      </a:lnTo>
                      <a:lnTo>
                        <a:pt x="3561" y="958"/>
                      </a:lnTo>
                      <a:lnTo>
                        <a:pt x="3561" y="958"/>
                      </a:lnTo>
                      <a:lnTo>
                        <a:pt x="3569" y="946"/>
                      </a:lnTo>
                      <a:lnTo>
                        <a:pt x="3586" y="958"/>
                      </a:lnTo>
                      <a:lnTo>
                        <a:pt x="3595" y="946"/>
                      </a:lnTo>
                      <a:lnTo>
                        <a:pt x="3603" y="958"/>
                      </a:lnTo>
                      <a:lnTo>
                        <a:pt x="3612" y="958"/>
                      </a:lnTo>
                      <a:lnTo>
                        <a:pt x="3612" y="958"/>
                      </a:lnTo>
                      <a:lnTo>
                        <a:pt x="3620" y="958"/>
                      </a:lnTo>
                      <a:lnTo>
                        <a:pt x="3638" y="958"/>
                      </a:lnTo>
                      <a:lnTo>
                        <a:pt x="3646" y="958"/>
                      </a:lnTo>
                      <a:lnTo>
                        <a:pt x="3655" y="958"/>
                      </a:lnTo>
                      <a:lnTo>
                        <a:pt x="3663" y="958"/>
                      </a:lnTo>
                      <a:lnTo>
                        <a:pt x="3663" y="958"/>
                      </a:lnTo>
                      <a:lnTo>
                        <a:pt x="3672" y="958"/>
                      </a:lnTo>
                      <a:lnTo>
                        <a:pt x="3680" y="958"/>
                      </a:lnTo>
                      <a:lnTo>
                        <a:pt x="3689" y="958"/>
                      </a:lnTo>
                      <a:lnTo>
                        <a:pt x="3706" y="958"/>
                      </a:lnTo>
                      <a:lnTo>
                        <a:pt x="3715" y="958"/>
                      </a:lnTo>
                      <a:lnTo>
                        <a:pt x="3723" y="958"/>
                      </a:lnTo>
                      <a:lnTo>
                        <a:pt x="3732" y="958"/>
                      </a:lnTo>
                      <a:lnTo>
                        <a:pt x="3740" y="958"/>
                      </a:lnTo>
                      <a:lnTo>
                        <a:pt x="3740" y="958"/>
                      </a:lnTo>
                      <a:lnTo>
                        <a:pt x="3749" y="958"/>
                      </a:lnTo>
                      <a:lnTo>
                        <a:pt x="3757" y="958"/>
                      </a:lnTo>
                      <a:lnTo>
                        <a:pt x="3766" y="958"/>
                      </a:lnTo>
                      <a:lnTo>
                        <a:pt x="3775" y="958"/>
                      </a:lnTo>
                      <a:lnTo>
                        <a:pt x="3783" y="958"/>
                      </a:lnTo>
                      <a:lnTo>
                        <a:pt x="3792" y="958"/>
                      </a:lnTo>
                      <a:lnTo>
                        <a:pt x="3809" y="958"/>
                      </a:lnTo>
                      <a:lnTo>
                        <a:pt x="3817" y="958"/>
                      </a:lnTo>
                      <a:lnTo>
                        <a:pt x="3826" y="958"/>
                      </a:lnTo>
                      <a:lnTo>
                        <a:pt x="3834" y="958"/>
                      </a:lnTo>
                      <a:lnTo>
                        <a:pt x="3843" y="958"/>
                      </a:lnTo>
                      <a:lnTo>
                        <a:pt x="3852" y="958"/>
                      </a:lnTo>
                      <a:lnTo>
                        <a:pt x="3860" y="958"/>
                      </a:lnTo>
                      <a:lnTo>
                        <a:pt x="3869" y="958"/>
                      </a:lnTo>
                      <a:lnTo>
                        <a:pt x="3877" y="958"/>
                      </a:lnTo>
                      <a:lnTo>
                        <a:pt x="3886" y="958"/>
                      </a:lnTo>
                      <a:lnTo>
                        <a:pt x="3894" y="958"/>
                      </a:lnTo>
                      <a:lnTo>
                        <a:pt x="3903" y="958"/>
                      </a:lnTo>
                      <a:lnTo>
                        <a:pt x="3911" y="946"/>
                      </a:lnTo>
                      <a:lnTo>
                        <a:pt x="3920" y="933"/>
                      </a:lnTo>
                      <a:lnTo>
                        <a:pt x="3929" y="933"/>
                      </a:lnTo>
                      <a:lnTo>
                        <a:pt x="3937" y="933"/>
                      </a:lnTo>
                      <a:lnTo>
                        <a:pt x="3946" y="933"/>
                      </a:lnTo>
                      <a:lnTo>
                        <a:pt x="3954" y="946"/>
                      </a:lnTo>
                      <a:lnTo>
                        <a:pt x="3963" y="946"/>
                      </a:lnTo>
                      <a:lnTo>
                        <a:pt x="3963" y="958"/>
                      </a:lnTo>
                      <a:lnTo>
                        <a:pt x="3971" y="958"/>
                      </a:lnTo>
                      <a:lnTo>
                        <a:pt x="3980" y="958"/>
                      </a:lnTo>
                      <a:lnTo>
                        <a:pt x="3988" y="958"/>
                      </a:lnTo>
                      <a:lnTo>
                        <a:pt x="3997" y="946"/>
                      </a:lnTo>
                      <a:lnTo>
                        <a:pt x="4006" y="946"/>
                      </a:lnTo>
                      <a:lnTo>
                        <a:pt x="4014" y="946"/>
                      </a:lnTo>
                      <a:lnTo>
                        <a:pt x="4031" y="946"/>
                      </a:lnTo>
                      <a:lnTo>
                        <a:pt x="4040" y="933"/>
                      </a:lnTo>
                      <a:lnTo>
                        <a:pt x="4048" y="933"/>
                      </a:lnTo>
                      <a:lnTo>
                        <a:pt x="4057" y="908"/>
                      </a:lnTo>
                      <a:lnTo>
                        <a:pt x="4066" y="871"/>
                      </a:lnTo>
                      <a:lnTo>
                        <a:pt x="4074" y="821"/>
                      </a:lnTo>
                      <a:lnTo>
                        <a:pt x="4074" y="821"/>
                      </a:lnTo>
                      <a:lnTo>
                        <a:pt x="4083" y="821"/>
                      </a:lnTo>
                      <a:lnTo>
                        <a:pt x="4091" y="859"/>
                      </a:lnTo>
                      <a:lnTo>
                        <a:pt x="4108" y="884"/>
                      </a:lnTo>
                      <a:lnTo>
                        <a:pt x="4117" y="908"/>
                      </a:lnTo>
                      <a:lnTo>
                        <a:pt x="4125" y="933"/>
                      </a:lnTo>
                      <a:lnTo>
                        <a:pt x="4134" y="933"/>
                      </a:lnTo>
                      <a:lnTo>
                        <a:pt x="4143" y="933"/>
                      </a:lnTo>
                      <a:lnTo>
                        <a:pt x="4143" y="946"/>
                      </a:lnTo>
                      <a:lnTo>
                        <a:pt x="4151" y="933"/>
                      </a:lnTo>
                      <a:lnTo>
                        <a:pt x="4168" y="933"/>
                      </a:lnTo>
                      <a:lnTo>
                        <a:pt x="4177" y="933"/>
                      </a:lnTo>
                      <a:lnTo>
                        <a:pt x="4185" y="921"/>
                      </a:lnTo>
                      <a:lnTo>
                        <a:pt x="4194" y="921"/>
                      </a:lnTo>
                      <a:lnTo>
                        <a:pt x="4194" y="921"/>
                      </a:lnTo>
                      <a:lnTo>
                        <a:pt x="4202" y="933"/>
                      </a:lnTo>
                      <a:lnTo>
                        <a:pt x="4220" y="946"/>
                      </a:lnTo>
                      <a:lnTo>
                        <a:pt x="4228" y="946"/>
                      </a:lnTo>
                      <a:lnTo>
                        <a:pt x="4237" y="946"/>
                      </a:lnTo>
                      <a:lnTo>
                        <a:pt x="4237" y="946"/>
                      </a:lnTo>
                      <a:lnTo>
                        <a:pt x="4245" y="946"/>
                      </a:lnTo>
                      <a:lnTo>
                        <a:pt x="4262" y="946"/>
                      </a:lnTo>
                      <a:lnTo>
                        <a:pt x="4271" y="946"/>
                      </a:lnTo>
                    </a:path>
                  </a:pathLst>
                </a:custGeom>
                <a:noFill/>
                <a:ln w="29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330800" y="1749960"/>
                  <a:ext cx="708480" cy="192960"/>
                </a:xfrm>
                <a:custGeom>
                  <a:avLst/>
                  <a:gdLst/>
                  <a:ahLst/>
                  <a:rect l="l" t="t" r="r" b="b"/>
                  <a:pathLst>
                    <a:path w="907" h="274">
                      <a:moveTo>
                        <a:pt x="0" y="262"/>
                      </a:moveTo>
                      <a:lnTo>
                        <a:pt x="8" y="262"/>
                      </a:lnTo>
                      <a:lnTo>
                        <a:pt x="8" y="262"/>
                      </a:lnTo>
                      <a:lnTo>
                        <a:pt x="26" y="262"/>
                      </a:lnTo>
                      <a:lnTo>
                        <a:pt x="34" y="262"/>
                      </a:lnTo>
                      <a:lnTo>
                        <a:pt x="43" y="262"/>
                      </a:lnTo>
                      <a:lnTo>
                        <a:pt x="43" y="262"/>
                      </a:lnTo>
                      <a:lnTo>
                        <a:pt x="60" y="262"/>
                      </a:lnTo>
                      <a:lnTo>
                        <a:pt x="68" y="262"/>
                      </a:lnTo>
                      <a:lnTo>
                        <a:pt x="77" y="274"/>
                      </a:lnTo>
                      <a:lnTo>
                        <a:pt x="77" y="274"/>
                      </a:lnTo>
                      <a:lnTo>
                        <a:pt x="94" y="274"/>
                      </a:lnTo>
                      <a:lnTo>
                        <a:pt x="103" y="274"/>
                      </a:lnTo>
                      <a:lnTo>
                        <a:pt x="103" y="274"/>
                      </a:lnTo>
                      <a:lnTo>
                        <a:pt x="120" y="274"/>
                      </a:lnTo>
                      <a:lnTo>
                        <a:pt x="128" y="274"/>
                      </a:lnTo>
                      <a:lnTo>
                        <a:pt x="137" y="262"/>
                      </a:lnTo>
                      <a:lnTo>
                        <a:pt x="137" y="274"/>
                      </a:lnTo>
                      <a:lnTo>
                        <a:pt x="154" y="274"/>
                      </a:lnTo>
                      <a:lnTo>
                        <a:pt x="163" y="274"/>
                      </a:lnTo>
                      <a:lnTo>
                        <a:pt x="163" y="274"/>
                      </a:lnTo>
                      <a:lnTo>
                        <a:pt x="180" y="274"/>
                      </a:lnTo>
                      <a:lnTo>
                        <a:pt x="188" y="274"/>
                      </a:lnTo>
                      <a:lnTo>
                        <a:pt x="188" y="274"/>
                      </a:lnTo>
                      <a:lnTo>
                        <a:pt x="205" y="274"/>
                      </a:lnTo>
                      <a:lnTo>
                        <a:pt x="214" y="274"/>
                      </a:lnTo>
                      <a:lnTo>
                        <a:pt x="214" y="274"/>
                      </a:lnTo>
                      <a:lnTo>
                        <a:pt x="231" y="274"/>
                      </a:lnTo>
                      <a:lnTo>
                        <a:pt x="240" y="274"/>
                      </a:lnTo>
                      <a:lnTo>
                        <a:pt x="240" y="274"/>
                      </a:lnTo>
                      <a:lnTo>
                        <a:pt x="257" y="262"/>
                      </a:lnTo>
                      <a:lnTo>
                        <a:pt x="265" y="262"/>
                      </a:lnTo>
                      <a:lnTo>
                        <a:pt x="265" y="262"/>
                      </a:lnTo>
                      <a:lnTo>
                        <a:pt x="282" y="262"/>
                      </a:lnTo>
                      <a:lnTo>
                        <a:pt x="291" y="262"/>
                      </a:lnTo>
                      <a:lnTo>
                        <a:pt x="299" y="262"/>
                      </a:lnTo>
                      <a:lnTo>
                        <a:pt x="308" y="262"/>
                      </a:lnTo>
                      <a:lnTo>
                        <a:pt x="308" y="262"/>
                      </a:lnTo>
                      <a:lnTo>
                        <a:pt x="325" y="262"/>
                      </a:lnTo>
                      <a:lnTo>
                        <a:pt x="334" y="262"/>
                      </a:lnTo>
                      <a:lnTo>
                        <a:pt x="342" y="262"/>
                      </a:lnTo>
                      <a:lnTo>
                        <a:pt x="351" y="249"/>
                      </a:lnTo>
                      <a:lnTo>
                        <a:pt x="351" y="249"/>
                      </a:lnTo>
                      <a:lnTo>
                        <a:pt x="368" y="237"/>
                      </a:lnTo>
                      <a:lnTo>
                        <a:pt x="377" y="224"/>
                      </a:lnTo>
                      <a:lnTo>
                        <a:pt x="385" y="200"/>
                      </a:lnTo>
                      <a:lnTo>
                        <a:pt x="394" y="175"/>
                      </a:lnTo>
                      <a:lnTo>
                        <a:pt x="402" y="100"/>
                      </a:lnTo>
                      <a:lnTo>
                        <a:pt x="411" y="13"/>
                      </a:lnTo>
                      <a:lnTo>
                        <a:pt x="411" y="0"/>
                      </a:lnTo>
                      <a:lnTo>
                        <a:pt x="428" y="25"/>
                      </a:lnTo>
                      <a:lnTo>
                        <a:pt x="428" y="75"/>
                      </a:lnTo>
                      <a:lnTo>
                        <a:pt x="445" y="150"/>
                      </a:lnTo>
                      <a:lnTo>
                        <a:pt x="454" y="162"/>
                      </a:lnTo>
                      <a:lnTo>
                        <a:pt x="462" y="150"/>
                      </a:lnTo>
                      <a:lnTo>
                        <a:pt x="471" y="137"/>
                      </a:lnTo>
                      <a:lnTo>
                        <a:pt x="479" y="137"/>
                      </a:lnTo>
                      <a:lnTo>
                        <a:pt x="488" y="175"/>
                      </a:lnTo>
                      <a:lnTo>
                        <a:pt x="496" y="200"/>
                      </a:lnTo>
                      <a:lnTo>
                        <a:pt x="505" y="212"/>
                      </a:lnTo>
                      <a:lnTo>
                        <a:pt x="513" y="212"/>
                      </a:lnTo>
                      <a:lnTo>
                        <a:pt x="522" y="212"/>
                      </a:lnTo>
                      <a:lnTo>
                        <a:pt x="531" y="212"/>
                      </a:lnTo>
                      <a:lnTo>
                        <a:pt x="539" y="224"/>
                      </a:lnTo>
                      <a:lnTo>
                        <a:pt x="548" y="224"/>
                      </a:lnTo>
                      <a:lnTo>
                        <a:pt x="556" y="237"/>
                      </a:lnTo>
                      <a:lnTo>
                        <a:pt x="565" y="237"/>
                      </a:lnTo>
                      <a:lnTo>
                        <a:pt x="573" y="237"/>
                      </a:lnTo>
                      <a:lnTo>
                        <a:pt x="582" y="237"/>
                      </a:lnTo>
                      <a:lnTo>
                        <a:pt x="590" y="237"/>
                      </a:lnTo>
                      <a:lnTo>
                        <a:pt x="599" y="237"/>
                      </a:lnTo>
                      <a:lnTo>
                        <a:pt x="608" y="224"/>
                      </a:lnTo>
                      <a:lnTo>
                        <a:pt x="616" y="224"/>
                      </a:lnTo>
                      <a:lnTo>
                        <a:pt x="616" y="224"/>
                      </a:lnTo>
                      <a:lnTo>
                        <a:pt x="633" y="224"/>
                      </a:lnTo>
                      <a:lnTo>
                        <a:pt x="642" y="224"/>
                      </a:lnTo>
                      <a:lnTo>
                        <a:pt x="650" y="237"/>
                      </a:lnTo>
                      <a:lnTo>
                        <a:pt x="659" y="237"/>
                      </a:lnTo>
                      <a:lnTo>
                        <a:pt x="668" y="237"/>
                      </a:lnTo>
                      <a:lnTo>
                        <a:pt x="676" y="237"/>
                      </a:lnTo>
                      <a:lnTo>
                        <a:pt x="685" y="237"/>
                      </a:lnTo>
                      <a:lnTo>
                        <a:pt x="693" y="237"/>
                      </a:lnTo>
                      <a:lnTo>
                        <a:pt x="702" y="237"/>
                      </a:lnTo>
                      <a:lnTo>
                        <a:pt x="710" y="237"/>
                      </a:lnTo>
                      <a:lnTo>
                        <a:pt x="719" y="249"/>
                      </a:lnTo>
                      <a:lnTo>
                        <a:pt x="727" y="249"/>
                      </a:lnTo>
                      <a:lnTo>
                        <a:pt x="736" y="249"/>
                      </a:lnTo>
                      <a:lnTo>
                        <a:pt x="736" y="249"/>
                      </a:lnTo>
                      <a:lnTo>
                        <a:pt x="753" y="249"/>
                      </a:lnTo>
                      <a:lnTo>
                        <a:pt x="762" y="249"/>
                      </a:lnTo>
                      <a:lnTo>
                        <a:pt x="770" y="249"/>
                      </a:lnTo>
                      <a:lnTo>
                        <a:pt x="779" y="249"/>
                      </a:lnTo>
                      <a:lnTo>
                        <a:pt x="787" y="249"/>
                      </a:lnTo>
                      <a:lnTo>
                        <a:pt x="796" y="249"/>
                      </a:lnTo>
                      <a:lnTo>
                        <a:pt x="804" y="249"/>
                      </a:lnTo>
                      <a:lnTo>
                        <a:pt x="804" y="249"/>
                      </a:lnTo>
                      <a:lnTo>
                        <a:pt x="822" y="249"/>
                      </a:lnTo>
                      <a:lnTo>
                        <a:pt x="830" y="249"/>
                      </a:lnTo>
                      <a:lnTo>
                        <a:pt x="839" y="249"/>
                      </a:lnTo>
                      <a:lnTo>
                        <a:pt x="847" y="262"/>
                      </a:lnTo>
                      <a:lnTo>
                        <a:pt x="856" y="262"/>
                      </a:lnTo>
                      <a:lnTo>
                        <a:pt x="864" y="262"/>
                      </a:lnTo>
                      <a:lnTo>
                        <a:pt x="873" y="262"/>
                      </a:lnTo>
                      <a:lnTo>
                        <a:pt x="881" y="262"/>
                      </a:lnTo>
                      <a:lnTo>
                        <a:pt x="890" y="262"/>
                      </a:lnTo>
                      <a:lnTo>
                        <a:pt x="899" y="262"/>
                      </a:lnTo>
                      <a:lnTo>
                        <a:pt x="907" y="262"/>
                      </a:lnTo>
                      <a:lnTo>
                        <a:pt x="907" y="262"/>
                      </a:lnTo>
                    </a:path>
                  </a:pathLst>
                </a:custGeom>
                <a:noFill/>
                <a:ln w="29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992880" y="2818080"/>
                  <a:ext cx="4046400" cy="10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33760" y="279360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92880" y="2599560"/>
                  <a:ext cx="4046400" cy="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86240" y="257220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992880" y="2387880"/>
                  <a:ext cx="404640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6240" y="23673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992880" y="2167920"/>
                  <a:ext cx="404640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86240" y="214812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2003400" y="2053440"/>
                  <a:ext cx="1080" cy="8434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V="1">
                  <a:off x="3019680" y="2053440"/>
                  <a:ext cx="720" cy="8434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flipV="1">
                  <a:off x="4029840" y="2053440"/>
                  <a:ext cx="1080" cy="8434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5039280" y="2053440"/>
                  <a:ext cx="720" cy="8434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92880" y="2053800"/>
                  <a:ext cx="4046400" cy="8434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992880" y="2110680"/>
                  <a:ext cx="3337560" cy="694440"/>
                </a:xfrm>
                <a:custGeom>
                  <a:avLst/>
                  <a:gdLst/>
                  <a:ahLst/>
                  <a:rect l="l" t="t" r="r" b="b"/>
                  <a:pathLst>
                    <a:path w="4271" h="983">
                      <a:moveTo>
                        <a:pt x="0" y="983"/>
                      </a:moveTo>
                      <a:lnTo>
                        <a:pt x="9" y="958"/>
                      </a:lnTo>
                      <a:lnTo>
                        <a:pt x="9" y="946"/>
                      </a:lnTo>
                      <a:lnTo>
                        <a:pt x="26" y="958"/>
                      </a:lnTo>
                      <a:lnTo>
                        <a:pt x="34" y="958"/>
                      </a:lnTo>
                      <a:lnTo>
                        <a:pt x="43" y="946"/>
                      </a:lnTo>
                      <a:lnTo>
                        <a:pt x="51" y="946"/>
                      </a:lnTo>
                      <a:lnTo>
                        <a:pt x="60" y="946"/>
                      </a:lnTo>
                      <a:lnTo>
                        <a:pt x="69" y="946"/>
                      </a:lnTo>
                      <a:lnTo>
                        <a:pt x="77" y="934"/>
                      </a:lnTo>
                      <a:lnTo>
                        <a:pt x="86" y="958"/>
                      </a:lnTo>
                      <a:lnTo>
                        <a:pt x="86" y="971"/>
                      </a:lnTo>
                      <a:lnTo>
                        <a:pt x="103" y="958"/>
                      </a:lnTo>
                      <a:lnTo>
                        <a:pt x="111" y="934"/>
                      </a:lnTo>
                      <a:lnTo>
                        <a:pt x="120" y="946"/>
                      </a:lnTo>
                      <a:lnTo>
                        <a:pt x="120" y="934"/>
                      </a:lnTo>
                      <a:lnTo>
                        <a:pt x="129" y="921"/>
                      </a:lnTo>
                      <a:lnTo>
                        <a:pt x="146" y="958"/>
                      </a:lnTo>
                      <a:lnTo>
                        <a:pt x="154" y="971"/>
                      </a:lnTo>
                      <a:lnTo>
                        <a:pt x="163" y="983"/>
                      </a:lnTo>
                      <a:lnTo>
                        <a:pt x="171" y="958"/>
                      </a:lnTo>
                      <a:lnTo>
                        <a:pt x="180" y="946"/>
                      </a:lnTo>
                      <a:lnTo>
                        <a:pt x="188" y="946"/>
                      </a:lnTo>
                      <a:lnTo>
                        <a:pt x="197" y="934"/>
                      </a:lnTo>
                      <a:lnTo>
                        <a:pt x="206" y="934"/>
                      </a:lnTo>
                      <a:lnTo>
                        <a:pt x="214" y="971"/>
                      </a:lnTo>
                      <a:lnTo>
                        <a:pt x="223" y="971"/>
                      </a:lnTo>
                      <a:lnTo>
                        <a:pt x="231" y="946"/>
                      </a:lnTo>
                      <a:lnTo>
                        <a:pt x="240" y="958"/>
                      </a:lnTo>
                      <a:lnTo>
                        <a:pt x="248" y="958"/>
                      </a:lnTo>
                      <a:lnTo>
                        <a:pt x="257" y="946"/>
                      </a:lnTo>
                      <a:lnTo>
                        <a:pt x="265" y="971"/>
                      </a:lnTo>
                      <a:lnTo>
                        <a:pt x="274" y="971"/>
                      </a:lnTo>
                      <a:lnTo>
                        <a:pt x="283" y="958"/>
                      </a:lnTo>
                      <a:lnTo>
                        <a:pt x="291" y="958"/>
                      </a:lnTo>
                      <a:lnTo>
                        <a:pt x="291" y="946"/>
                      </a:lnTo>
                      <a:lnTo>
                        <a:pt x="300" y="958"/>
                      </a:lnTo>
                      <a:lnTo>
                        <a:pt x="317" y="971"/>
                      </a:lnTo>
                      <a:lnTo>
                        <a:pt x="325" y="971"/>
                      </a:lnTo>
                      <a:lnTo>
                        <a:pt x="334" y="971"/>
                      </a:lnTo>
                      <a:lnTo>
                        <a:pt x="334" y="958"/>
                      </a:lnTo>
                      <a:lnTo>
                        <a:pt x="351" y="934"/>
                      </a:lnTo>
                      <a:lnTo>
                        <a:pt x="360" y="946"/>
                      </a:lnTo>
                      <a:lnTo>
                        <a:pt x="368" y="946"/>
                      </a:lnTo>
                      <a:lnTo>
                        <a:pt x="368" y="946"/>
                      </a:lnTo>
                      <a:lnTo>
                        <a:pt x="385" y="958"/>
                      </a:lnTo>
                      <a:lnTo>
                        <a:pt x="394" y="934"/>
                      </a:lnTo>
                      <a:lnTo>
                        <a:pt x="394" y="909"/>
                      </a:lnTo>
                      <a:lnTo>
                        <a:pt x="411" y="921"/>
                      </a:lnTo>
                      <a:lnTo>
                        <a:pt x="420" y="934"/>
                      </a:lnTo>
                      <a:lnTo>
                        <a:pt x="428" y="958"/>
                      </a:lnTo>
                      <a:lnTo>
                        <a:pt x="437" y="958"/>
                      </a:lnTo>
                      <a:lnTo>
                        <a:pt x="437" y="958"/>
                      </a:lnTo>
                      <a:lnTo>
                        <a:pt x="454" y="958"/>
                      </a:lnTo>
                      <a:lnTo>
                        <a:pt x="454" y="958"/>
                      </a:lnTo>
                      <a:lnTo>
                        <a:pt x="471" y="958"/>
                      </a:lnTo>
                      <a:lnTo>
                        <a:pt x="479" y="958"/>
                      </a:lnTo>
                      <a:lnTo>
                        <a:pt x="488" y="958"/>
                      </a:lnTo>
                      <a:lnTo>
                        <a:pt x="497" y="934"/>
                      </a:lnTo>
                      <a:lnTo>
                        <a:pt x="505" y="946"/>
                      </a:lnTo>
                      <a:lnTo>
                        <a:pt x="514" y="946"/>
                      </a:lnTo>
                      <a:lnTo>
                        <a:pt x="522" y="971"/>
                      </a:lnTo>
                      <a:lnTo>
                        <a:pt x="531" y="983"/>
                      </a:lnTo>
                      <a:lnTo>
                        <a:pt x="539" y="971"/>
                      </a:lnTo>
                      <a:lnTo>
                        <a:pt x="548" y="958"/>
                      </a:lnTo>
                      <a:lnTo>
                        <a:pt x="556" y="958"/>
                      </a:lnTo>
                      <a:lnTo>
                        <a:pt x="565" y="958"/>
                      </a:lnTo>
                      <a:lnTo>
                        <a:pt x="574" y="971"/>
                      </a:lnTo>
                      <a:lnTo>
                        <a:pt x="574" y="971"/>
                      </a:lnTo>
                      <a:lnTo>
                        <a:pt x="591" y="971"/>
                      </a:lnTo>
                      <a:lnTo>
                        <a:pt x="599" y="971"/>
                      </a:lnTo>
                      <a:lnTo>
                        <a:pt x="608" y="946"/>
                      </a:lnTo>
                      <a:lnTo>
                        <a:pt x="616" y="946"/>
                      </a:lnTo>
                      <a:lnTo>
                        <a:pt x="625" y="971"/>
                      </a:lnTo>
                      <a:lnTo>
                        <a:pt x="633" y="971"/>
                      </a:lnTo>
                      <a:lnTo>
                        <a:pt x="642" y="971"/>
                      </a:lnTo>
                      <a:lnTo>
                        <a:pt x="651" y="946"/>
                      </a:lnTo>
                      <a:lnTo>
                        <a:pt x="659" y="934"/>
                      </a:lnTo>
                      <a:lnTo>
                        <a:pt x="668" y="934"/>
                      </a:lnTo>
                      <a:lnTo>
                        <a:pt x="676" y="934"/>
                      </a:lnTo>
                      <a:lnTo>
                        <a:pt x="685" y="946"/>
                      </a:lnTo>
                      <a:lnTo>
                        <a:pt x="693" y="958"/>
                      </a:lnTo>
                      <a:lnTo>
                        <a:pt x="702" y="934"/>
                      </a:lnTo>
                      <a:lnTo>
                        <a:pt x="711" y="896"/>
                      </a:lnTo>
                      <a:lnTo>
                        <a:pt x="719" y="784"/>
                      </a:lnTo>
                      <a:lnTo>
                        <a:pt x="728" y="124"/>
                      </a:lnTo>
                      <a:lnTo>
                        <a:pt x="736" y="112"/>
                      </a:lnTo>
                      <a:lnTo>
                        <a:pt x="745" y="386"/>
                      </a:lnTo>
                      <a:lnTo>
                        <a:pt x="753" y="709"/>
                      </a:lnTo>
                      <a:lnTo>
                        <a:pt x="762" y="821"/>
                      </a:lnTo>
                      <a:lnTo>
                        <a:pt x="770" y="871"/>
                      </a:lnTo>
                      <a:lnTo>
                        <a:pt x="779" y="846"/>
                      </a:lnTo>
                      <a:lnTo>
                        <a:pt x="788" y="846"/>
                      </a:lnTo>
                      <a:lnTo>
                        <a:pt x="796" y="884"/>
                      </a:lnTo>
                      <a:lnTo>
                        <a:pt x="805" y="859"/>
                      </a:lnTo>
                      <a:lnTo>
                        <a:pt x="813" y="797"/>
                      </a:lnTo>
                      <a:lnTo>
                        <a:pt x="822" y="660"/>
                      </a:lnTo>
                      <a:lnTo>
                        <a:pt x="830" y="0"/>
                      </a:lnTo>
                      <a:lnTo>
                        <a:pt x="839" y="0"/>
                      </a:lnTo>
                      <a:lnTo>
                        <a:pt x="847" y="137"/>
                      </a:lnTo>
                      <a:lnTo>
                        <a:pt x="856" y="510"/>
                      </a:lnTo>
                      <a:lnTo>
                        <a:pt x="865" y="697"/>
                      </a:lnTo>
                      <a:lnTo>
                        <a:pt x="873" y="784"/>
                      </a:lnTo>
                      <a:lnTo>
                        <a:pt x="882" y="859"/>
                      </a:lnTo>
                      <a:lnTo>
                        <a:pt x="890" y="909"/>
                      </a:lnTo>
                      <a:lnTo>
                        <a:pt x="899" y="921"/>
                      </a:lnTo>
                      <a:lnTo>
                        <a:pt x="907" y="921"/>
                      </a:lnTo>
                      <a:lnTo>
                        <a:pt x="916" y="871"/>
                      </a:lnTo>
                      <a:lnTo>
                        <a:pt x="924" y="871"/>
                      </a:lnTo>
                      <a:lnTo>
                        <a:pt x="933" y="846"/>
                      </a:lnTo>
                      <a:lnTo>
                        <a:pt x="942" y="697"/>
                      </a:lnTo>
                      <a:lnTo>
                        <a:pt x="950" y="709"/>
                      </a:lnTo>
                      <a:lnTo>
                        <a:pt x="959" y="797"/>
                      </a:lnTo>
                      <a:lnTo>
                        <a:pt x="967" y="884"/>
                      </a:lnTo>
                      <a:lnTo>
                        <a:pt x="976" y="909"/>
                      </a:lnTo>
                      <a:lnTo>
                        <a:pt x="984" y="934"/>
                      </a:lnTo>
                      <a:lnTo>
                        <a:pt x="993" y="934"/>
                      </a:lnTo>
                      <a:lnTo>
                        <a:pt x="1002" y="934"/>
                      </a:lnTo>
                      <a:lnTo>
                        <a:pt x="1010" y="946"/>
                      </a:lnTo>
                      <a:lnTo>
                        <a:pt x="1019" y="946"/>
                      </a:lnTo>
                      <a:lnTo>
                        <a:pt x="1027" y="921"/>
                      </a:lnTo>
                      <a:lnTo>
                        <a:pt x="1036" y="921"/>
                      </a:lnTo>
                      <a:lnTo>
                        <a:pt x="1044" y="921"/>
                      </a:lnTo>
                      <a:lnTo>
                        <a:pt x="1053" y="934"/>
                      </a:lnTo>
                      <a:lnTo>
                        <a:pt x="1061" y="934"/>
                      </a:lnTo>
                      <a:lnTo>
                        <a:pt x="1070" y="946"/>
                      </a:lnTo>
                      <a:lnTo>
                        <a:pt x="1079" y="958"/>
                      </a:lnTo>
                      <a:lnTo>
                        <a:pt x="1087" y="958"/>
                      </a:lnTo>
                      <a:lnTo>
                        <a:pt x="1096" y="946"/>
                      </a:lnTo>
                      <a:lnTo>
                        <a:pt x="1096" y="921"/>
                      </a:lnTo>
                      <a:lnTo>
                        <a:pt x="1113" y="921"/>
                      </a:lnTo>
                      <a:lnTo>
                        <a:pt x="1113" y="921"/>
                      </a:lnTo>
                      <a:lnTo>
                        <a:pt x="1130" y="921"/>
                      </a:lnTo>
                      <a:lnTo>
                        <a:pt x="1130" y="934"/>
                      </a:lnTo>
                      <a:lnTo>
                        <a:pt x="1147" y="934"/>
                      </a:lnTo>
                      <a:lnTo>
                        <a:pt x="1156" y="946"/>
                      </a:lnTo>
                      <a:lnTo>
                        <a:pt x="1164" y="958"/>
                      </a:lnTo>
                      <a:lnTo>
                        <a:pt x="1173" y="958"/>
                      </a:lnTo>
                      <a:lnTo>
                        <a:pt x="1181" y="946"/>
                      </a:lnTo>
                      <a:lnTo>
                        <a:pt x="1190" y="958"/>
                      </a:lnTo>
                      <a:lnTo>
                        <a:pt x="1190" y="971"/>
                      </a:lnTo>
                      <a:lnTo>
                        <a:pt x="1207" y="971"/>
                      </a:lnTo>
                      <a:lnTo>
                        <a:pt x="1215" y="958"/>
                      </a:lnTo>
                      <a:lnTo>
                        <a:pt x="1215" y="958"/>
                      </a:lnTo>
                      <a:lnTo>
                        <a:pt x="1233" y="946"/>
                      </a:lnTo>
                      <a:lnTo>
                        <a:pt x="1241" y="958"/>
                      </a:lnTo>
                      <a:lnTo>
                        <a:pt x="1241" y="958"/>
                      </a:lnTo>
                      <a:lnTo>
                        <a:pt x="1258" y="958"/>
                      </a:lnTo>
                      <a:lnTo>
                        <a:pt x="1267" y="971"/>
                      </a:lnTo>
                      <a:lnTo>
                        <a:pt x="1267" y="958"/>
                      </a:lnTo>
                      <a:lnTo>
                        <a:pt x="1284" y="971"/>
                      </a:lnTo>
                      <a:lnTo>
                        <a:pt x="1293" y="971"/>
                      </a:lnTo>
                      <a:lnTo>
                        <a:pt x="1301" y="958"/>
                      </a:lnTo>
                      <a:lnTo>
                        <a:pt x="1301" y="958"/>
                      </a:lnTo>
                      <a:lnTo>
                        <a:pt x="1318" y="971"/>
                      </a:lnTo>
                      <a:lnTo>
                        <a:pt x="1327" y="983"/>
                      </a:lnTo>
                      <a:lnTo>
                        <a:pt x="1335" y="971"/>
                      </a:lnTo>
                      <a:lnTo>
                        <a:pt x="1335" y="958"/>
                      </a:lnTo>
                      <a:lnTo>
                        <a:pt x="1344" y="958"/>
                      </a:lnTo>
                      <a:lnTo>
                        <a:pt x="1361" y="958"/>
                      </a:lnTo>
                      <a:lnTo>
                        <a:pt x="1370" y="958"/>
                      </a:lnTo>
                      <a:lnTo>
                        <a:pt x="1378" y="958"/>
                      </a:lnTo>
                      <a:lnTo>
                        <a:pt x="1387" y="958"/>
                      </a:lnTo>
                      <a:lnTo>
                        <a:pt x="1387" y="971"/>
                      </a:lnTo>
                      <a:lnTo>
                        <a:pt x="1395" y="958"/>
                      </a:lnTo>
                      <a:lnTo>
                        <a:pt x="1412" y="958"/>
                      </a:lnTo>
                      <a:lnTo>
                        <a:pt x="1421" y="958"/>
                      </a:lnTo>
                      <a:lnTo>
                        <a:pt x="1429" y="971"/>
                      </a:lnTo>
                      <a:lnTo>
                        <a:pt x="1438" y="971"/>
                      </a:lnTo>
                      <a:lnTo>
                        <a:pt x="1447" y="971"/>
                      </a:lnTo>
                      <a:lnTo>
                        <a:pt x="1455" y="971"/>
                      </a:lnTo>
                      <a:lnTo>
                        <a:pt x="1464" y="971"/>
                      </a:lnTo>
                      <a:lnTo>
                        <a:pt x="1472" y="971"/>
                      </a:lnTo>
                      <a:lnTo>
                        <a:pt x="1481" y="971"/>
                      </a:lnTo>
                      <a:lnTo>
                        <a:pt x="1489" y="971"/>
                      </a:lnTo>
                      <a:lnTo>
                        <a:pt x="1498" y="971"/>
                      </a:lnTo>
                      <a:lnTo>
                        <a:pt x="1506" y="971"/>
                      </a:lnTo>
                      <a:lnTo>
                        <a:pt x="1515" y="971"/>
                      </a:lnTo>
                      <a:lnTo>
                        <a:pt x="1524" y="971"/>
                      </a:lnTo>
                      <a:lnTo>
                        <a:pt x="1532" y="971"/>
                      </a:lnTo>
                      <a:lnTo>
                        <a:pt x="1541" y="971"/>
                      </a:lnTo>
                      <a:lnTo>
                        <a:pt x="1549" y="971"/>
                      </a:lnTo>
                      <a:lnTo>
                        <a:pt x="1558" y="971"/>
                      </a:lnTo>
                      <a:lnTo>
                        <a:pt x="1566" y="971"/>
                      </a:lnTo>
                      <a:lnTo>
                        <a:pt x="1575" y="971"/>
                      </a:lnTo>
                      <a:lnTo>
                        <a:pt x="1583" y="971"/>
                      </a:lnTo>
                      <a:lnTo>
                        <a:pt x="1592" y="971"/>
                      </a:lnTo>
                      <a:lnTo>
                        <a:pt x="1601" y="971"/>
                      </a:lnTo>
                      <a:lnTo>
                        <a:pt x="1601" y="971"/>
                      </a:lnTo>
                      <a:lnTo>
                        <a:pt x="1609" y="971"/>
                      </a:lnTo>
                      <a:lnTo>
                        <a:pt x="1618" y="971"/>
                      </a:lnTo>
                      <a:lnTo>
                        <a:pt x="1635" y="958"/>
                      </a:lnTo>
                      <a:lnTo>
                        <a:pt x="1643" y="958"/>
                      </a:lnTo>
                      <a:lnTo>
                        <a:pt x="1652" y="921"/>
                      </a:lnTo>
                      <a:lnTo>
                        <a:pt x="1661" y="884"/>
                      </a:lnTo>
                      <a:lnTo>
                        <a:pt x="1661" y="859"/>
                      </a:lnTo>
                      <a:lnTo>
                        <a:pt x="1669" y="871"/>
                      </a:lnTo>
                      <a:lnTo>
                        <a:pt x="1686" y="934"/>
                      </a:lnTo>
                      <a:lnTo>
                        <a:pt x="1695" y="946"/>
                      </a:lnTo>
                      <a:lnTo>
                        <a:pt x="1703" y="958"/>
                      </a:lnTo>
                      <a:lnTo>
                        <a:pt x="1703" y="971"/>
                      </a:lnTo>
                      <a:lnTo>
                        <a:pt x="1720" y="983"/>
                      </a:lnTo>
                      <a:lnTo>
                        <a:pt x="1729" y="971"/>
                      </a:lnTo>
                      <a:lnTo>
                        <a:pt x="1738" y="971"/>
                      </a:lnTo>
                      <a:lnTo>
                        <a:pt x="1738" y="971"/>
                      </a:lnTo>
                      <a:lnTo>
                        <a:pt x="1755" y="971"/>
                      </a:lnTo>
                      <a:lnTo>
                        <a:pt x="1763" y="958"/>
                      </a:lnTo>
                      <a:lnTo>
                        <a:pt x="1772" y="958"/>
                      </a:lnTo>
                      <a:lnTo>
                        <a:pt x="1772" y="958"/>
                      </a:lnTo>
                      <a:lnTo>
                        <a:pt x="1789" y="946"/>
                      </a:lnTo>
                      <a:lnTo>
                        <a:pt x="1797" y="946"/>
                      </a:lnTo>
                      <a:lnTo>
                        <a:pt x="1797" y="946"/>
                      </a:lnTo>
                      <a:lnTo>
                        <a:pt x="1815" y="934"/>
                      </a:lnTo>
                      <a:lnTo>
                        <a:pt x="1823" y="909"/>
                      </a:lnTo>
                      <a:lnTo>
                        <a:pt x="1823" y="871"/>
                      </a:lnTo>
                      <a:lnTo>
                        <a:pt x="1840" y="759"/>
                      </a:lnTo>
                      <a:lnTo>
                        <a:pt x="1849" y="747"/>
                      </a:lnTo>
                      <a:lnTo>
                        <a:pt x="1857" y="784"/>
                      </a:lnTo>
                      <a:lnTo>
                        <a:pt x="1866" y="834"/>
                      </a:lnTo>
                      <a:lnTo>
                        <a:pt x="1866" y="685"/>
                      </a:lnTo>
                      <a:lnTo>
                        <a:pt x="1883" y="685"/>
                      </a:lnTo>
                      <a:lnTo>
                        <a:pt x="1892" y="709"/>
                      </a:lnTo>
                      <a:lnTo>
                        <a:pt x="1900" y="224"/>
                      </a:lnTo>
                      <a:lnTo>
                        <a:pt x="1909" y="50"/>
                      </a:lnTo>
                      <a:lnTo>
                        <a:pt x="1917" y="74"/>
                      </a:lnTo>
                      <a:lnTo>
                        <a:pt x="1926" y="398"/>
                      </a:lnTo>
                      <a:lnTo>
                        <a:pt x="1926" y="572"/>
                      </a:lnTo>
                      <a:lnTo>
                        <a:pt x="1943" y="647"/>
                      </a:lnTo>
                      <a:lnTo>
                        <a:pt x="1943" y="647"/>
                      </a:lnTo>
                      <a:lnTo>
                        <a:pt x="1960" y="386"/>
                      </a:lnTo>
                      <a:lnTo>
                        <a:pt x="1969" y="37"/>
                      </a:lnTo>
                      <a:lnTo>
                        <a:pt x="1977" y="37"/>
                      </a:lnTo>
                      <a:lnTo>
                        <a:pt x="1977" y="149"/>
                      </a:lnTo>
                      <a:lnTo>
                        <a:pt x="1994" y="498"/>
                      </a:lnTo>
                      <a:lnTo>
                        <a:pt x="1994" y="448"/>
                      </a:lnTo>
                      <a:lnTo>
                        <a:pt x="2011" y="448"/>
                      </a:lnTo>
                      <a:lnTo>
                        <a:pt x="2020" y="348"/>
                      </a:lnTo>
                      <a:lnTo>
                        <a:pt x="2029" y="162"/>
                      </a:lnTo>
                      <a:lnTo>
                        <a:pt x="2037" y="162"/>
                      </a:lnTo>
                      <a:lnTo>
                        <a:pt x="2046" y="199"/>
                      </a:lnTo>
                      <a:lnTo>
                        <a:pt x="2054" y="436"/>
                      </a:lnTo>
                      <a:lnTo>
                        <a:pt x="2063" y="597"/>
                      </a:lnTo>
                      <a:lnTo>
                        <a:pt x="2071" y="622"/>
                      </a:lnTo>
                      <a:lnTo>
                        <a:pt x="2080" y="610"/>
                      </a:lnTo>
                      <a:lnTo>
                        <a:pt x="2088" y="622"/>
                      </a:lnTo>
                      <a:lnTo>
                        <a:pt x="2097" y="709"/>
                      </a:lnTo>
                      <a:lnTo>
                        <a:pt x="2106" y="772"/>
                      </a:lnTo>
                      <a:lnTo>
                        <a:pt x="2114" y="759"/>
                      </a:lnTo>
                      <a:lnTo>
                        <a:pt x="2123" y="759"/>
                      </a:lnTo>
                      <a:lnTo>
                        <a:pt x="2131" y="635"/>
                      </a:lnTo>
                      <a:lnTo>
                        <a:pt x="2140" y="572"/>
                      </a:lnTo>
                      <a:lnTo>
                        <a:pt x="2148" y="572"/>
                      </a:lnTo>
                      <a:lnTo>
                        <a:pt x="2157" y="610"/>
                      </a:lnTo>
                      <a:lnTo>
                        <a:pt x="2165" y="709"/>
                      </a:lnTo>
                      <a:lnTo>
                        <a:pt x="2174" y="772"/>
                      </a:lnTo>
                      <a:lnTo>
                        <a:pt x="2183" y="809"/>
                      </a:lnTo>
                      <a:lnTo>
                        <a:pt x="2191" y="834"/>
                      </a:lnTo>
                      <a:lnTo>
                        <a:pt x="2200" y="846"/>
                      </a:lnTo>
                      <a:lnTo>
                        <a:pt x="2208" y="846"/>
                      </a:lnTo>
                      <a:lnTo>
                        <a:pt x="2217" y="834"/>
                      </a:lnTo>
                      <a:lnTo>
                        <a:pt x="2225" y="809"/>
                      </a:lnTo>
                      <a:lnTo>
                        <a:pt x="2234" y="809"/>
                      </a:lnTo>
                      <a:lnTo>
                        <a:pt x="2243" y="784"/>
                      </a:lnTo>
                      <a:lnTo>
                        <a:pt x="2251" y="722"/>
                      </a:lnTo>
                      <a:lnTo>
                        <a:pt x="2260" y="697"/>
                      </a:lnTo>
                      <a:lnTo>
                        <a:pt x="2268" y="722"/>
                      </a:lnTo>
                      <a:lnTo>
                        <a:pt x="2277" y="722"/>
                      </a:lnTo>
                      <a:lnTo>
                        <a:pt x="2285" y="535"/>
                      </a:lnTo>
                      <a:lnTo>
                        <a:pt x="2294" y="535"/>
                      </a:lnTo>
                      <a:lnTo>
                        <a:pt x="2302" y="572"/>
                      </a:lnTo>
                      <a:lnTo>
                        <a:pt x="2311" y="660"/>
                      </a:lnTo>
                      <a:lnTo>
                        <a:pt x="2320" y="747"/>
                      </a:lnTo>
                      <a:lnTo>
                        <a:pt x="2328" y="797"/>
                      </a:lnTo>
                      <a:lnTo>
                        <a:pt x="2337" y="834"/>
                      </a:lnTo>
                      <a:lnTo>
                        <a:pt x="2345" y="846"/>
                      </a:lnTo>
                      <a:lnTo>
                        <a:pt x="2354" y="859"/>
                      </a:lnTo>
                      <a:lnTo>
                        <a:pt x="2362" y="846"/>
                      </a:lnTo>
                      <a:lnTo>
                        <a:pt x="2371" y="834"/>
                      </a:lnTo>
                      <a:lnTo>
                        <a:pt x="2379" y="834"/>
                      </a:lnTo>
                      <a:lnTo>
                        <a:pt x="2388" y="834"/>
                      </a:lnTo>
                      <a:lnTo>
                        <a:pt x="2397" y="834"/>
                      </a:lnTo>
                      <a:lnTo>
                        <a:pt x="2405" y="834"/>
                      </a:lnTo>
                      <a:lnTo>
                        <a:pt x="2414" y="834"/>
                      </a:lnTo>
                      <a:lnTo>
                        <a:pt x="2422" y="859"/>
                      </a:lnTo>
                      <a:lnTo>
                        <a:pt x="2431" y="859"/>
                      </a:lnTo>
                      <a:lnTo>
                        <a:pt x="2439" y="846"/>
                      </a:lnTo>
                      <a:lnTo>
                        <a:pt x="2448" y="859"/>
                      </a:lnTo>
                      <a:lnTo>
                        <a:pt x="2456" y="871"/>
                      </a:lnTo>
                      <a:lnTo>
                        <a:pt x="2465" y="896"/>
                      </a:lnTo>
                      <a:lnTo>
                        <a:pt x="2474" y="909"/>
                      </a:lnTo>
                      <a:lnTo>
                        <a:pt x="2482" y="909"/>
                      </a:lnTo>
                      <a:lnTo>
                        <a:pt x="2491" y="921"/>
                      </a:lnTo>
                      <a:lnTo>
                        <a:pt x="2499" y="921"/>
                      </a:lnTo>
                      <a:lnTo>
                        <a:pt x="2508" y="921"/>
                      </a:lnTo>
                      <a:lnTo>
                        <a:pt x="2516" y="934"/>
                      </a:lnTo>
                      <a:lnTo>
                        <a:pt x="2525" y="934"/>
                      </a:lnTo>
                      <a:lnTo>
                        <a:pt x="2534" y="934"/>
                      </a:lnTo>
                      <a:lnTo>
                        <a:pt x="2542" y="934"/>
                      </a:lnTo>
                      <a:lnTo>
                        <a:pt x="2551" y="921"/>
                      </a:lnTo>
                      <a:lnTo>
                        <a:pt x="2559" y="921"/>
                      </a:lnTo>
                      <a:lnTo>
                        <a:pt x="2568" y="934"/>
                      </a:lnTo>
                      <a:lnTo>
                        <a:pt x="2576" y="934"/>
                      </a:lnTo>
                      <a:lnTo>
                        <a:pt x="2585" y="946"/>
                      </a:lnTo>
                      <a:lnTo>
                        <a:pt x="2593" y="946"/>
                      </a:lnTo>
                      <a:lnTo>
                        <a:pt x="2602" y="958"/>
                      </a:lnTo>
                      <a:lnTo>
                        <a:pt x="2611" y="958"/>
                      </a:lnTo>
                      <a:lnTo>
                        <a:pt x="2619" y="946"/>
                      </a:lnTo>
                      <a:lnTo>
                        <a:pt x="2628" y="934"/>
                      </a:lnTo>
                      <a:lnTo>
                        <a:pt x="2636" y="946"/>
                      </a:lnTo>
                      <a:lnTo>
                        <a:pt x="2645" y="946"/>
                      </a:lnTo>
                      <a:lnTo>
                        <a:pt x="2653" y="946"/>
                      </a:lnTo>
                      <a:lnTo>
                        <a:pt x="2662" y="958"/>
                      </a:lnTo>
                      <a:lnTo>
                        <a:pt x="2670" y="958"/>
                      </a:lnTo>
                      <a:lnTo>
                        <a:pt x="2679" y="958"/>
                      </a:lnTo>
                      <a:lnTo>
                        <a:pt x="2688" y="971"/>
                      </a:lnTo>
                      <a:lnTo>
                        <a:pt x="2696" y="958"/>
                      </a:lnTo>
                      <a:lnTo>
                        <a:pt x="2705" y="958"/>
                      </a:lnTo>
                      <a:lnTo>
                        <a:pt x="2713" y="958"/>
                      </a:lnTo>
                      <a:lnTo>
                        <a:pt x="2722" y="958"/>
                      </a:lnTo>
                      <a:lnTo>
                        <a:pt x="2730" y="958"/>
                      </a:lnTo>
                      <a:lnTo>
                        <a:pt x="2739" y="958"/>
                      </a:lnTo>
                      <a:lnTo>
                        <a:pt x="2747" y="971"/>
                      </a:lnTo>
                      <a:lnTo>
                        <a:pt x="2756" y="971"/>
                      </a:lnTo>
                      <a:lnTo>
                        <a:pt x="2765" y="971"/>
                      </a:lnTo>
                      <a:lnTo>
                        <a:pt x="2773" y="971"/>
                      </a:lnTo>
                      <a:lnTo>
                        <a:pt x="2782" y="971"/>
                      </a:lnTo>
                      <a:lnTo>
                        <a:pt x="2790" y="971"/>
                      </a:lnTo>
                      <a:lnTo>
                        <a:pt x="2799" y="971"/>
                      </a:lnTo>
                      <a:lnTo>
                        <a:pt x="2807" y="971"/>
                      </a:lnTo>
                      <a:lnTo>
                        <a:pt x="2816" y="971"/>
                      </a:lnTo>
                      <a:lnTo>
                        <a:pt x="2825" y="971"/>
                      </a:lnTo>
                      <a:lnTo>
                        <a:pt x="2833" y="971"/>
                      </a:lnTo>
                      <a:lnTo>
                        <a:pt x="2842" y="971"/>
                      </a:lnTo>
                      <a:lnTo>
                        <a:pt x="2850" y="971"/>
                      </a:lnTo>
                      <a:lnTo>
                        <a:pt x="2859" y="971"/>
                      </a:lnTo>
                      <a:lnTo>
                        <a:pt x="2867" y="971"/>
                      </a:lnTo>
                      <a:lnTo>
                        <a:pt x="2876" y="971"/>
                      </a:lnTo>
                      <a:lnTo>
                        <a:pt x="2884" y="971"/>
                      </a:lnTo>
                      <a:lnTo>
                        <a:pt x="2893" y="971"/>
                      </a:lnTo>
                      <a:lnTo>
                        <a:pt x="2902" y="971"/>
                      </a:lnTo>
                      <a:lnTo>
                        <a:pt x="2910" y="971"/>
                      </a:lnTo>
                      <a:lnTo>
                        <a:pt x="2919" y="971"/>
                      </a:lnTo>
                      <a:lnTo>
                        <a:pt x="2927" y="971"/>
                      </a:lnTo>
                      <a:lnTo>
                        <a:pt x="2936" y="983"/>
                      </a:lnTo>
                      <a:lnTo>
                        <a:pt x="2944" y="971"/>
                      </a:lnTo>
                      <a:lnTo>
                        <a:pt x="2953" y="971"/>
                      </a:lnTo>
                      <a:lnTo>
                        <a:pt x="2961" y="971"/>
                      </a:lnTo>
                      <a:lnTo>
                        <a:pt x="2970" y="971"/>
                      </a:lnTo>
                      <a:lnTo>
                        <a:pt x="2979" y="971"/>
                      </a:lnTo>
                      <a:lnTo>
                        <a:pt x="2987" y="971"/>
                      </a:lnTo>
                      <a:lnTo>
                        <a:pt x="2996" y="983"/>
                      </a:lnTo>
                      <a:lnTo>
                        <a:pt x="3004" y="983"/>
                      </a:lnTo>
                      <a:lnTo>
                        <a:pt x="3013" y="971"/>
                      </a:lnTo>
                      <a:lnTo>
                        <a:pt x="3021" y="958"/>
                      </a:lnTo>
                      <a:lnTo>
                        <a:pt x="3030" y="958"/>
                      </a:lnTo>
                      <a:lnTo>
                        <a:pt x="3038" y="971"/>
                      </a:lnTo>
                      <a:lnTo>
                        <a:pt x="3047" y="971"/>
                      </a:lnTo>
                      <a:lnTo>
                        <a:pt x="3056" y="971"/>
                      </a:lnTo>
                      <a:lnTo>
                        <a:pt x="3064" y="971"/>
                      </a:lnTo>
                      <a:lnTo>
                        <a:pt x="3073" y="971"/>
                      </a:lnTo>
                      <a:lnTo>
                        <a:pt x="3073" y="971"/>
                      </a:lnTo>
                      <a:lnTo>
                        <a:pt x="3090" y="971"/>
                      </a:lnTo>
                      <a:lnTo>
                        <a:pt x="3098" y="971"/>
                      </a:lnTo>
                      <a:lnTo>
                        <a:pt x="3107" y="983"/>
                      </a:lnTo>
                      <a:lnTo>
                        <a:pt x="3116" y="971"/>
                      </a:lnTo>
                      <a:lnTo>
                        <a:pt x="3124" y="971"/>
                      </a:lnTo>
                      <a:lnTo>
                        <a:pt x="3133" y="971"/>
                      </a:lnTo>
                      <a:lnTo>
                        <a:pt x="3141" y="971"/>
                      </a:lnTo>
                      <a:lnTo>
                        <a:pt x="3150" y="971"/>
                      </a:lnTo>
                      <a:lnTo>
                        <a:pt x="3158" y="971"/>
                      </a:lnTo>
                      <a:lnTo>
                        <a:pt x="3158" y="971"/>
                      </a:lnTo>
                      <a:lnTo>
                        <a:pt x="3175" y="971"/>
                      </a:lnTo>
                      <a:lnTo>
                        <a:pt x="3175" y="971"/>
                      </a:lnTo>
                      <a:lnTo>
                        <a:pt x="3193" y="971"/>
                      </a:lnTo>
                      <a:lnTo>
                        <a:pt x="3201" y="971"/>
                      </a:lnTo>
                      <a:lnTo>
                        <a:pt x="3210" y="971"/>
                      </a:lnTo>
                      <a:lnTo>
                        <a:pt x="3218" y="971"/>
                      </a:lnTo>
                      <a:lnTo>
                        <a:pt x="3227" y="971"/>
                      </a:lnTo>
                      <a:lnTo>
                        <a:pt x="3235" y="971"/>
                      </a:lnTo>
                      <a:lnTo>
                        <a:pt x="3235" y="971"/>
                      </a:lnTo>
                      <a:lnTo>
                        <a:pt x="3252" y="971"/>
                      </a:lnTo>
                      <a:lnTo>
                        <a:pt x="3261" y="971"/>
                      </a:lnTo>
                      <a:lnTo>
                        <a:pt x="3270" y="971"/>
                      </a:lnTo>
                      <a:lnTo>
                        <a:pt x="3278" y="971"/>
                      </a:lnTo>
                      <a:lnTo>
                        <a:pt x="3287" y="971"/>
                      </a:lnTo>
                      <a:lnTo>
                        <a:pt x="3295" y="971"/>
                      </a:lnTo>
                      <a:lnTo>
                        <a:pt x="3304" y="971"/>
                      </a:lnTo>
                      <a:lnTo>
                        <a:pt x="3312" y="971"/>
                      </a:lnTo>
                      <a:lnTo>
                        <a:pt x="3321" y="971"/>
                      </a:lnTo>
                      <a:lnTo>
                        <a:pt x="3321" y="971"/>
                      </a:lnTo>
                      <a:lnTo>
                        <a:pt x="3338" y="971"/>
                      </a:lnTo>
                      <a:lnTo>
                        <a:pt x="3347" y="971"/>
                      </a:lnTo>
                      <a:lnTo>
                        <a:pt x="3347" y="971"/>
                      </a:lnTo>
                      <a:lnTo>
                        <a:pt x="3364" y="971"/>
                      </a:lnTo>
                      <a:lnTo>
                        <a:pt x="3372" y="971"/>
                      </a:lnTo>
                      <a:lnTo>
                        <a:pt x="3372" y="958"/>
                      </a:lnTo>
                      <a:lnTo>
                        <a:pt x="3389" y="958"/>
                      </a:lnTo>
                      <a:lnTo>
                        <a:pt x="3398" y="971"/>
                      </a:lnTo>
                      <a:lnTo>
                        <a:pt x="3398" y="971"/>
                      </a:lnTo>
                      <a:lnTo>
                        <a:pt x="3415" y="971"/>
                      </a:lnTo>
                      <a:lnTo>
                        <a:pt x="3424" y="971"/>
                      </a:lnTo>
                      <a:lnTo>
                        <a:pt x="3432" y="971"/>
                      </a:lnTo>
                      <a:lnTo>
                        <a:pt x="3441" y="971"/>
                      </a:lnTo>
                      <a:lnTo>
                        <a:pt x="3449" y="958"/>
                      </a:lnTo>
                      <a:lnTo>
                        <a:pt x="3458" y="958"/>
                      </a:lnTo>
                      <a:lnTo>
                        <a:pt x="3458" y="958"/>
                      </a:lnTo>
                      <a:lnTo>
                        <a:pt x="3475" y="958"/>
                      </a:lnTo>
                      <a:lnTo>
                        <a:pt x="3484" y="971"/>
                      </a:lnTo>
                      <a:lnTo>
                        <a:pt x="3492" y="971"/>
                      </a:lnTo>
                      <a:lnTo>
                        <a:pt x="3492" y="971"/>
                      </a:lnTo>
                      <a:lnTo>
                        <a:pt x="3509" y="971"/>
                      </a:lnTo>
                      <a:lnTo>
                        <a:pt x="3518" y="971"/>
                      </a:lnTo>
                      <a:lnTo>
                        <a:pt x="3526" y="971"/>
                      </a:lnTo>
                      <a:lnTo>
                        <a:pt x="3535" y="971"/>
                      </a:lnTo>
                      <a:lnTo>
                        <a:pt x="3535" y="983"/>
                      </a:lnTo>
                      <a:lnTo>
                        <a:pt x="3552" y="971"/>
                      </a:lnTo>
                      <a:lnTo>
                        <a:pt x="3561" y="971"/>
                      </a:lnTo>
                      <a:lnTo>
                        <a:pt x="3569" y="971"/>
                      </a:lnTo>
                      <a:lnTo>
                        <a:pt x="3569" y="971"/>
                      </a:lnTo>
                      <a:lnTo>
                        <a:pt x="3578" y="971"/>
                      </a:lnTo>
                      <a:lnTo>
                        <a:pt x="3595" y="971"/>
                      </a:lnTo>
                      <a:lnTo>
                        <a:pt x="3603" y="971"/>
                      </a:lnTo>
                      <a:lnTo>
                        <a:pt x="3612" y="971"/>
                      </a:lnTo>
                      <a:lnTo>
                        <a:pt x="3620" y="971"/>
                      </a:lnTo>
                      <a:lnTo>
                        <a:pt x="3620" y="971"/>
                      </a:lnTo>
                      <a:lnTo>
                        <a:pt x="3638" y="971"/>
                      </a:lnTo>
                      <a:lnTo>
                        <a:pt x="3646" y="971"/>
                      </a:lnTo>
                      <a:lnTo>
                        <a:pt x="3655" y="971"/>
                      </a:lnTo>
                      <a:lnTo>
                        <a:pt x="3663" y="971"/>
                      </a:lnTo>
                      <a:lnTo>
                        <a:pt x="3672" y="971"/>
                      </a:lnTo>
                      <a:lnTo>
                        <a:pt x="3680" y="971"/>
                      </a:lnTo>
                      <a:lnTo>
                        <a:pt x="3680" y="971"/>
                      </a:lnTo>
                      <a:lnTo>
                        <a:pt x="3689" y="971"/>
                      </a:lnTo>
                      <a:lnTo>
                        <a:pt x="3706" y="971"/>
                      </a:lnTo>
                      <a:lnTo>
                        <a:pt x="3715" y="971"/>
                      </a:lnTo>
                      <a:lnTo>
                        <a:pt x="3723" y="971"/>
                      </a:lnTo>
                      <a:lnTo>
                        <a:pt x="3732" y="971"/>
                      </a:lnTo>
                      <a:lnTo>
                        <a:pt x="3740" y="971"/>
                      </a:lnTo>
                      <a:lnTo>
                        <a:pt x="3749" y="983"/>
                      </a:lnTo>
                      <a:lnTo>
                        <a:pt x="3757" y="971"/>
                      </a:lnTo>
                      <a:lnTo>
                        <a:pt x="3766" y="971"/>
                      </a:lnTo>
                      <a:lnTo>
                        <a:pt x="3766" y="971"/>
                      </a:lnTo>
                      <a:lnTo>
                        <a:pt x="3775" y="971"/>
                      </a:lnTo>
                      <a:lnTo>
                        <a:pt x="3783" y="971"/>
                      </a:lnTo>
                      <a:lnTo>
                        <a:pt x="3792" y="971"/>
                      </a:lnTo>
                      <a:lnTo>
                        <a:pt x="3800" y="971"/>
                      </a:lnTo>
                      <a:lnTo>
                        <a:pt x="3817" y="971"/>
                      </a:lnTo>
                      <a:lnTo>
                        <a:pt x="3826" y="971"/>
                      </a:lnTo>
                      <a:lnTo>
                        <a:pt x="3834" y="971"/>
                      </a:lnTo>
                      <a:lnTo>
                        <a:pt x="3843" y="971"/>
                      </a:lnTo>
                      <a:lnTo>
                        <a:pt x="3852" y="971"/>
                      </a:lnTo>
                      <a:lnTo>
                        <a:pt x="3860" y="971"/>
                      </a:lnTo>
                      <a:lnTo>
                        <a:pt x="3869" y="971"/>
                      </a:lnTo>
                      <a:lnTo>
                        <a:pt x="3877" y="971"/>
                      </a:lnTo>
                      <a:lnTo>
                        <a:pt x="3886" y="971"/>
                      </a:lnTo>
                      <a:lnTo>
                        <a:pt x="3894" y="971"/>
                      </a:lnTo>
                      <a:lnTo>
                        <a:pt x="3903" y="971"/>
                      </a:lnTo>
                      <a:lnTo>
                        <a:pt x="3911" y="971"/>
                      </a:lnTo>
                      <a:lnTo>
                        <a:pt x="3920" y="958"/>
                      </a:lnTo>
                      <a:lnTo>
                        <a:pt x="3929" y="958"/>
                      </a:lnTo>
                      <a:lnTo>
                        <a:pt x="3937" y="958"/>
                      </a:lnTo>
                      <a:lnTo>
                        <a:pt x="3946" y="971"/>
                      </a:lnTo>
                      <a:lnTo>
                        <a:pt x="3954" y="971"/>
                      </a:lnTo>
                      <a:lnTo>
                        <a:pt x="3954" y="971"/>
                      </a:lnTo>
                      <a:lnTo>
                        <a:pt x="3963" y="971"/>
                      </a:lnTo>
                      <a:lnTo>
                        <a:pt x="3971" y="971"/>
                      </a:lnTo>
                      <a:lnTo>
                        <a:pt x="3980" y="971"/>
                      </a:lnTo>
                      <a:lnTo>
                        <a:pt x="3988" y="971"/>
                      </a:lnTo>
                      <a:lnTo>
                        <a:pt x="4006" y="971"/>
                      </a:lnTo>
                      <a:lnTo>
                        <a:pt x="4014" y="971"/>
                      </a:lnTo>
                      <a:lnTo>
                        <a:pt x="4023" y="958"/>
                      </a:lnTo>
                      <a:lnTo>
                        <a:pt x="4031" y="958"/>
                      </a:lnTo>
                      <a:lnTo>
                        <a:pt x="4040" y="958"/>
                      </a:lnTo>
                      <a:lnTo>
                        <a:pt x="4048" y="958"/>
                      </a:lnTo>
                      <a:lnTo>
                        <a:pt x="4057" y="946"/>
                      </a:lnTo>
                      <a:lnTo>
                        <a:pt x="4066" y="909"/>
                      </a:lnTo>
                      <a:lnTo>
                        <a:pt x="4074" y="896"/>
                      </a:lnTo>
                      <a:lnTo>
                        <a:pt x="4074" y="884"/>
                      </a:lnTo>
                      <a:lnTo>
                        <a:pt x="4083" y="909"/>
                      </a:lnTo>
                      <a:lnTo>
                        <a:pt x="4100" y="934"/>
                      </a:lnTo>
                      <a:lnTo>
                        <a:pt x="4108" y="946"/>
                      </a:lnTo>
                      <a:lnTo>
                        <a:pt x="4117" y="958"/>
                      </a:lnTo>
                      <a:lnTo>
                        <a:pt x="4125" y="958"/>
                      </a:lnTo>
                      <a:lnTo>
                        <a:pt x="4134" y="958"/>
                      </a:lnTo>
                      <a:lnTo>
                        <a:pt x="4134" y="958"/>
                      </a:lnTo>
                      <a:lnTo>
                        <a:pt x="4143" y="958"/>
                      </a:lnTo>
                      <a:lnTo>
                        <a:pt x="4160" y="958"/>
                      </a:lnTo>
                      <a:lnTo>
                        <a:pt x="4168" y="958"/>
                      </a:lnTo>
                      <a:lnTo>
                        <a:pt x="4177" y="958"/>
                      </a:lnTo>
                      <a:lnTo>
                        <a:pt x="4185" y="946"/>
                      </a:lnTo>
                      <a:lnTo>
                        <a:pt x="4194" y="946"/>
                      </a:lnTo>
                      <a:lnTo>
                        <a:pt x="4194" y="958"/>
                      </a:lnTo>
                      <a:lnTo>
                        <a:pt x="4211" y="958"/>
                      </a:lnTo>
                      <a:lnTo>
                        <a:pt x="4220" y="971"/>
                      </a:lnTo>
                      <a:lnTo>
                        <a:pt x="4228" y="971"/>
                      </a:lnTo>
                      <a:lnTo>
                        <a:pt x="4237" y="971"/>
                      </a:lnTo>
                      <a:lnTo>
                        <a:pt x="4237" y="971"/>
                      </a:lnTo>
                      <a:lnTo>
                        <a:pt x="4254" y="971"/>
                      </a:lnTo>
                      <a:lnTo>
                        <a:pt x="4262" y="971"/>
                      </a:lnTo>
                      <a:lnTo>
                        <a:pt x="4271" y="971"/>
                      </a:lnTo>
                    </a:path>
                  </a:pathLst>
                </a:custGeom>
                <a:noFill/>
                <a:ln w="291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330800" y="2664720"/>
                  <a:ext cx="708480" cy="131760"/>
                </a:xfrm>
                <a:custGeom>
                  <a:avLst/>
                  <a:gdLst/>
                  <a:ahLst/>
                  <a:rect l="l" t="t" r="r" b="b"/>
                  <a:pathLst>
                    <a:path w="907" h="187">
                      <a:moveTo>
                        <a:pt x="0" y="187"/>
                      </a:moveTo>
                      <a:lnTo>
                        <a:pt x="0" y="187"/>
                      </a:lnTo>
                      <a:lnTo>
                        <a:pt x="17" y="187"/>
                      </a:lnTo>
                      <a:lnTo>
                        <a:pt x="26" y="187"/>
                      </a:lnTo>
                      <a:lnTo>
                        <a:pt x="34" y="187"/>
                      </a:lnTo>
                      <a:lnTo>
                        <a:pt x="43" y="187"/>
                      </a:lnTo>
                      <a:lnTo>
                        <a:pt x="51" y="187"/>
                      </a:lnTo>
                      <a:lnTo>
                        <a:pt x="60" y="187"/>
                      </a:lnTo>
                      <a:lnTo>
                        <a:pt x="68" y="187"/>
                      </a:lnTo>
                      <a:lnTo>
                        <a:pt x="77" y="187"/>
                      </a:lnTo>
                      <a:lnTo>
                        <a:pt x="86" y="187"/>
                      </a:lnTo>
                      <a:lnTo>
                        <a:pt x="94" y="187"/>
                      </a:lnTo>
                      <a:lnTo>
                        <a:pt x="103" y="187"/>
                      </a:lnTo>
                      <a:lnTo>
                        <a:pt x="103" y="187"/>
                      </a:lnTo>
                      <a:lnTo>
                        <a:pt x="120" y="187"/>
                      </a:lnTo>
                      <a:lnTo>
                        <a:pt x="128" y="187"/>
                      </a:lnTo>
                      <a:lnTo>
                        <a:pt x="137" y="187"/>
                      </a:lnTo>
                      <a:lnTo>
                        <a:pt x="145" y="187"/>
                      </a:lnTo>
                      <a:lnTo>
                        <a:pt x="154" y="187"/>
                      </a:lnTo>
                      <a:lnTo>
                        <a:pt x="163" y="187"/>
                      </a:lnTo>
                      <a:lnTo>
                        <a:pt x="163" y="187"/>
                      </a:lnTo>
                      <a:lnTo>
                        <a:pt x="180" y="187"/>
                      </a:lnTo>
                      <a:lnTo>
                        <a:pt x="188" y="187"/>
                      </a:lnTo>
                      <a:lnTo>
                        <a:pt x="188" y="187"/>
                      </a:lnTo>
                      <a:lnTo>
                        <a:pt x="205" y="187"/>
                      </a:lnTo>
                      <a:lnTo>
                        <a:pt x="214" y="187"/>
                      </a:lnTo>
                      <a:lnTo>
                        <a:pt x="214" y="187"/>
                      </a:lnTo>
                      <a:lnTo>
                        <a:pt x="231" y="187"/>
                      </a:lnTo>
                      <a:lnTo>
                        <a:pt x="240" y="187"/>
                      </a:lnTo>
                      <a:lnTo>
                        <a:pt x="248" y="187"/>
                      </a:lnTo>
                      <a:lnTo>
                        <a:pt x="257" y="174"/>
                      </a:lnTo>
                      <a:lnTo>
                        <a:pt x="265" y="174"/>
                      </a:lnTo>
                      <a:lnTo>
                        <a:pt x="274" y="174"/>
                      </a:lnTo>
                      <a:lnTo>
                        <a:pt x="282" y="174"/>
                      </a:lnTo>
                      <a:lnTo>
                        <a:pt x="291" y="174"/>
                      </a:lnTo>
                      <a:lnTo>
                        <a:pt x="299" y="174"/>
                      </a:lnTo>
                      <a:lnTo>
                        <a:pt x="308" y="174"/>
                      </a:lnTo>
                      <a:lnTo>
                        <a:pt x="317" y="174"/>
                      </a:lnTo>
                      <a:lnTo>
                        <a:pt x="325" y="174"/>
                      </a:lnTo>
                      <a:lnTo>
                        <a:pt x="334" y="174"/>
                      </a:lnTo>
                      <a:lnTo>
                        <a:pt x="342" y="174"/>
                      </a:lnTo>
                      <a:lnTo>
                        <a:pt x="351" y="174"/>
                      </a:lnTo>
                      <a:lnTo>
                        <a:pt x="359" y="162"/>
                      </a:lnTo>
                      <a:lnTo>
                        <a:pt x="368" y="162"/>
                      </a:lnTo>
                      <a:lnTo>
                        <a:pt x="377" y="150"/>
                      </a:lnTo>
                      <a:lnTo>
                        <a:pt x="385" y="137"/>
                      </a:lnTo>
                      <a:lnTo>
                        <a:pt x="394" y="112"/>
                      </a:lnTo>
                      <a:lnTo>
                        <a:pt x="402" y="37"/>
                      </a:lnTo>
                      <a:lnTo>
                        <a:pt x="411" y="0"/>
                      </a:lnTo>
                      <a:lnTo>
                        <a:pt x="419" y="0"/>
                      </a:lnTo>
                      <a:lnTo>
                        <a:pt x="428" y="50"/>
                      </a:lnTo>
                      <a:lnTo>
                        <a:pt x="428" y="100"/>
                      </a:lnTo>
                      <a:lnTo>
                        <a:pt x="445" y="125"/>
                      </a:lnTo>
                      <a:lnTo>
                        <a:pt x="454" y="112"/>
                      </a:lnTo>
                      <a:lnTo>
                        <a:pt x="462" y="100"/>
                      </a:lnTo>
                      <a:lnTo>
                        <a:pt x="471" y="100"/>
                      </a:lnTo>
                      <a:lnTo>
                        <a:pt x="479" y="112"/>
                      </a:lnTo>
                      <a:lnTo>
                        <a:pt x="488" y="137"/>
                      </a:lnTo>
                      <a:lnTo>
                        <a:pt x="496" y="150"/>
                      </a:lnTo>
                      <a:lnTo>
                        <a:pt x="505" y="150"/>
                      </a:lnTo>
                      <a:lnTo>
                        <a:pt x="513" y="150"/>
                      </a:lnTo>
                      <a:lnTo>
                        <a:pt x="522" y="150"/>
                      </a:lnTo>
                      <a:lnTo>
                        <a:pt x="531" y="150"/>
                      </a:lnTo>
                      <a:lnTo>
                        <a:pt x="539" y="162"/>
                      </a:lnTo>
                      <a:lnTo>
                        <a:pt x="548" y="162"/>
                      </a:lnTo>
                      <a:lnTo>
                        <a:pt x="556" y="162"/>
                      </a:lnTo>
                      <a:lnTo>
                        <a:pt x="565" y="162"/>
                      </a:lnTo>
                      <a:lnTo>
                        <a:pt x="573" y="162"/>
                      </a:lnTo>
                      <a:lnTo>
                        <a:pt x="582" y="162"/>
                      </a:lnTo>
                      <a:lnTo>
                        <a:pt x="590" y="162"/>
                      </a:lnTo>
                      <a:lnTo>
                        <a:pt x="599" y="162"/>
                      </a:lnTo>
                      <a:lnTo>
                        <a:pt x="608" y="162"/>
                      </a:lnTo>
                      <a:lnTo>
                        <a:pt x="616" y="162"/>
                      </a:lnTo>
                      <a:lnTo>
                        <a:pt x="625" y="162"/>
                      </a:lnTo>
                      <a:lnTo>
                        <a:pt x="633" y="162"/>
                      </a:lnTo>
                      <a:lnTo>
                        <a:pt x="642" y="162"/>
                      </a:lnTo>
                      <a:lnTo>
                        <a:pt x="650" y="162"/>
                      </a:lnTo>
                      <a:lnTo>
                        <a:pt x="659" y="162"/>
                      </a:lnTo>
                      <a:lnTo>
                        <a:pt x="668" y="162"/>
                      </a:lnTo>
                      <a:lnTo>
                        <a:pt x="676" y="162"/>
                      </a:lnTo>
                      <a:lnTo>
                        <a:pt x="685" y="162"/>
                      </a:lnTo>
                      <a:lnTo>
                        <a:pt x="693" y="174"/>
                      </a:lnTo>
                      <a:lnTo>
                        <a:pt x="702" y="174"/>
                      </a:lnTo>
                      <a:lnTo>
                        <a:pt x="710" y="174"/>
                      </a:lnTo>
                      <a:lnTo>
                        <a:pt x="719" y="174"/>
                      </a:lnTo>
                      <a:lnTo>
                        <a:pt x="727" y="174"/>
                      </a:lnTo>
                      <a:lnTo>
                        <a:pt x="736" y="174"/>
                      </a:lnTo>
                      <a:lnTo>
                        <a:pt x="745" y="174"/>
                      </a:lnTo>
                      <a:lnTo>
                        <a:pt x="753" y="174"/>
                      </a:lnTo>
                      <a:lnTo>
                        <a:pt x="762" y="174"/>
                      </a:lnTo>
                      <a:lnTo>
                        <a:pt x="770" y="174"/>
                      </a:lnTo>
                      <a:lnTo>
                        <a:pt x="779" y="174"/>
                      </a:lnTo>
                      <a:lnTo>
                        <a:pt x="787" y="162"/>
                      </a:lnTo>
                      <a:lnTo>
                        <a:pt x="796" y="162"/>
                      </a:lnTo>
                      <a:lnTo>
                        <a:pt x="804" y="162"/>
                      </a:lnTo>
                      <a:lnTo>
                        <a:pt x="813" y="174"/>
                      </a:lnTo>
                      <a:lnTo>
                        <a:pt x="822" y="174"/>
                      </a:lnTo>
                      <a:lnTo>
                        <a:pt x="830" y="174"/>
                      </a:lnTo>
                      <a:lnTo>
                        <a:pt x="839" y="174"/>
                      </a:lnTo>
                      <a:lnTo>
                        <a:pt x="847" y="174"/>
                      </a:lnTo>
                      <a:lnTo>
                        <a:pt x="856" y="174"/>
                      </a:lnTo>
                      <a:lnTo>
                        <a:pt x="864" y="174"/>
                      </a:lnTo>
                      <a:lnTo>
                        <a:pt x="873" y="174"/>
                      </a:lnTo>
                      <a:lnTo>
                        <a:pt x="881" y="174"/>
                      </a:lnTo>
                      <a:lnTo>
                        <a:pt x="890" y="187"/>
                      </a:lnTo>
                      <a:lnTo>
                        <a:pt x="899" y="174"/>
                      </a:lnTo>
                      <a:lnTo>
                        <a:pt x="907" y="174"/>
                      </a:lnTo>
                      <a:lnTo>
                        <a:pt x="907" y="174"/>
                      </a:lnTo>
                    </a:path>
                  </a:pathLst>
                </a:custGeom>
                <a:noFill/>
                <a:ln w="291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992880" y="3654360"/>
                  <a:ext cx="4046400" cy="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833760" y="3627720"/>
                  <a:ext cx="86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2880" y="3425040"/>
                  <a:ext cx="404640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86240" y="340128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992880" y="3205800"/>
                  <a:ext cx="404640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86240" y="31791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992880" y="2976120"/>
                  <a:ext cx="4046400" cy="10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6240" y="2957760"/>
                  <a:ext cx="171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V="1">
                  <a:off x="2003400" y="2907360"/>
                  <a:ext cx="108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3019680" y="2907360"/>
                  <a:ext cx="72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029840" y="2907360"/>
                  <a:ext cx="108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5039280" y="2907360"/>
                  <a:ext cx="720" cy="8352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92880" y="2907360"/>
                  <a:ext cx="4046400" cy="83520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92880" y="2963160"/>
                  <a:ext cx="3337560" cy="685800"/>
                </a:xfrm>
                <a:custGeom>
                  <a:avLst/>
                  <a:gdLst/>
                  <a:ahLst/>
                  <a:rect l="l" t="t" r="r" b="b"/>
                  <a:pathLst>
                    <a:path w="4271" h="971">
                      <a:moveTo>
                        <a:pt x="0" y="947"/>
                      </a:moveTo>
                      <a:lnTo>
                        <a:pt x="9" y="934"/>
                      </a:lnTo>
                      <a:lnTo>
                        <a:pt x="9" y="922"/>
                      </a:lnTo>
                      <a:lnTo>
                        <a:pt x="26" y="934"/>
                      </a:lnTo>
                      <a:lnTo>
                        <a:pt x="34" y="934"/>
                      </a:lnTo>
                      <a:lnTo>
                        <a:pt x="43" y="934"/>
                      </a:lnTo>
                      <a:lnTo>
                        <a:pt x="51" y="897"/>
                      </a:lnTo>
                      <a:lnTo>
                        <a:pt x="51" y="897"/>
                      </a:lnTo>
                      <a:lnTo>
                        <a:pt x="69" y="934"/>
                      </a:lnTo>
                      <a:lnTo>
                        <a:pt x="77" y="934"/>
                      </a:lnTo>
                      <a:lnTo>
                        <a:pt x="86" y="934"/>
                      </a:lnTo>
                      <a:lnTo>
                        <a:pt x="86" y="959"/>
                      </a:lnTo>
                      <a:lnTo>
                        <a:pt x="103" y="922"/>
                      </a:lnTo>
                      <a:lnTo>
                        <a:pt x="111" y="909"/>
                      </a:lnTo>
                      <a:lnTo>
                        <a:pt x="120" y="909"/>
                      </a:lnTo>
                      <a:lnTo>
                        <a:pt x="120" y="909"/>
                      </a:lnTo>
                      <a:lnTo>
                        <a:pt x="129" y="884"/>
                      </a:lnTo>
                      <a:lnTo>
                        <a:pt x="146" y="909"/>
                      </a:lnTo>
                      <a:lnTo>
                        <a:pt x="154" y="947"/>
                      </a:lnTo>
                      <a:lnTo>
                        <a:pt x="163" y="959"/>
                      </a:lnTo>
                      <a:lnTo>
                        <a:pt x="171" y="947"/>
                      </a:lnTo>
                      <a:lnTo>
                        <a:pt x="180" y="922"/>
                      </a:lnTo>
                      <a:lnTo>
                        <a:pt x="180" y="909"/>
                      </a:lnTo>
                      <a:lnTo>
                        <a:pt x="188" y="859"/>
                      </a:lnTo>
                      <a:lnTo>
                        <a:pt x="197" y="872"/>
                      </a:lnTo>
                      <a:lnTo>
                        <a:pt x="206" y="947"/>
                      </a:lnTo>
                      <a:lnTo>
                        <a:pt x="214" y="934"/>
                      </a:lnTo>
                      <a:lnTo>
                        <a:pt x="223" y="934"/>
                      </a:lnTo>
                      <a:lnTo>
                        <a:pt x="231" y="934"/>
                      </a:lnTo>
                      <a:lnTo>
                        <a:pt x="240" y="934"/>
                      </a:lnTo>
                      <a:lnTo>
                        <a:pt x="257" y="909"/>
                      </a:lnTo>
                      <a:lnTo>
                        <a:pt x="265" y="909"/>
                      </a:lnTo>
                      <a:lnTo>
                        <a:pt x="274" y="934"/>
                      </a:lnTo>
                      <a:lnTo>
                        <a:pt x="283" y="934"/>
                      </a:lnTo>
                      <a:lnTo>
                        <a:pt x="291" y="922"/>
                      </a:lnTo>
                      <a:lnTo>
                        <a:pt x="291" y="922"/>
                      </a:lnTo>
                      <a:lnTo>
                        <a:pt x="300" y="947"/>
                      </a:lnTo>
                      <a:lnTo>
                        <a:pt x="317" y="959"/>
                      </a:lnTo>
                      <a:lnTo>
                        <a:pt x="325" y="947"/>
                      </a:lnTo>
                      <a:lnTo>
                        <a:pt x="334" y="934"/>
                      </a:lnTo>
                      <a:lnTo>
                        <a:pt x="334" y="897"/>
                      </a:lnTo>
                      <a:lnTo>
                        <a:pt x="342" y="872"/>
                      </a:lnTo>
                      <a:lnTo>
                        <a:pt x="360" y="872"/>
                      </a:lnTo>
                      <a:lnTo>
                        <a:pt x="368" y="909"/>
                      </a:lnTo>
                      <a:lnTo>
                        <a:pt x="368" y="909"/>
                      </a:lnTo>
                      <a:lnTo>
                        <a:pt x="385" y="934"/>
                      </a:lnTo>
                      <a:lnTo>
                        <a:pt x="394" y="934"/>
                      </a:lnTo>
                      <a:lnTo>
                        <a:pt x="394" y="909"/>
                      </a:lnTo>
                      <a:lnTo>
                        <a:pt x="411" y="897"/>
                      </a:lnTo>
                      <a:lnTo>
                        <a:pt x="420" y="897"/>
                      </a:lnTo>
                      <a:lnTo>
                        <a:pt x="420" y="934"/>
                      </a:lnTo>
                      <a:lnTo>
                        <a:pt x="437" y="922"/>
                      </a:lnTo>
                      <a:lnTo>
                        <a:pt x="437" y="934"/>
                      </a:lnTo>
                      <a:lnTo>
                        <a:pt x="454" y="934"/>
                      </a:lnTo>
                      <a:lnTo>
                        <a:pt x="454" y="934"/>
                      </a:lnTo>
                      <a:lnTo>
                        <a:pt x="471" y="934"/>
                      </a:lnTo>
                      <a:lnTo>
                        <a:pt x="479" y="922"/>
                      </a:lnTo>
                      <a:lnTo>
                        <a:pt x="488" y="934"/>
                      </a:lnTo>
                      <a:lnTo>
                        <a:pt x="497" y="909"/>
                      </a:lnTo>
                      <a:lnTo>
                        <a:pt x="505" y="909"/>
                      </a:lnTo>
                      <a:lnTo>
                        <a:pt x="505" y="922"/>
                      </a:lnTo>
                      <a:lnTo>
                        <a:pt x="522" y="947"/>
                      </a:lnTo>
                      <a:lnTo>
                        <a:pt x="531" y="971"/>
                      </a:lnTo>
                      <a:lnTo>
                        <a:pt x="539" y="947"/>
                      </a:lnTo>
                      <a:lnTo>
                        <a:pt x="548" y="934"/>
                      </a:lnTo>
                      <a:lnTo>
                        <a:pt x="548" y="934"/>
                      </a:lnTo>
                      <a:lnTo>
                        <a:pt x="565" y="909"/>
                      </a:lnTo>
                      <a:lnTo>
                        <a:pt x="574" y="934"/>
                      </a:lnTo>
                      <a:lnTo>
                        <a:pt x="574" y="947"/>
                      </a:lnTo>
                      <a:lnTo>
                        <a:pt x="591" y="947"/>
                      </a:lnTo>
                      <a:lnTo>
                        <a:pt x="599" y="947"/>
                      </a:lnTo>
                      <a:lnTo>
                        <a:pt x="599" y="934"/>
                      </a:lnTo>
                      <a:lnTo>
                        <a:pt x="616" y="934"/>
                      </a:lnTo>
                      <a:lnTo>
                        <a:pt x="625" y="947"/>
                      </a:lnTo>
                      <a:lnTo>
                        <a:pt x="633" y="947"/>
                      </a:lnTo>
                      <a:lnTo>
                        <a:pt x="633" y="947"/>
                      </a:lnTo>
                      <a:lnTo>
                        <a:pt x="651" y="934"/>
                      </a:lnTo>
                      <a:lnTo>
                        <a:pt x="659" y="909"/>
                      </a:lnTo>
                      <a:lnTo>
                        <a:pt x="668" y="909"/>
                      </a:lnTo>
                      <a:lnTo>
                        <a:pt x="676" y="922"/>
                      </a:lnTo>
                      <a:lnTo>
                        <a:pt x="685" y="922"/>
                      </a:lnTo>
                      <a:lnTo>
                        <a:pt x="693" y="947"/>
                      </a:lnTo>
                      <a:lnTo>
                        <a:pt x="702" y="934"/>
                      </a:lnTo>
                      <a:lnTo>
                        <a:pt x="711" y="909"/>
                      </a:lnTo>
                      <a:lnTo>
                        <a:pt x="719" y="872"/>
                      </a:lnTo>
                      <a:lnTo>
                        <a:pt x="728" y="399"/>
                      </a:lnTo>
                      <a:lnTo>
                        <a:pt x="736" y="299"/>
                      </a:lnTo>
                      <a:lnTo>
                        <a:pt x="745" y="511"/>
                      </a:lnTo>
                      <a:lnTo>
                        <a:pt x="753" y="772"/>
                      </a:lnTo>
                      <a:lnTo>
                        <a:pt x="762" y="847"/>
                      </a:lnTo>
                      <a:lnTo>
                        <a:pt x="770" y="884"/>
                      </a:lnTo>
                      <a:lnTo>
                        <a:pt x="779" y="859"/>
                      </a:lnTo>
                      <a:lnTo>
                        <a:pt x="788" y="847"/>
                      </a:lnTo>
                      <a:lnTo>
                        <a:pt x="796" y="859"/>
                      </a:lnTo>
                      <a:lnTo>
                        <a:pt x="805" y="872"/>
                      </a:lnTo>
                      <a:lnTo>
                        <a:pt x="813" y="847"/>
                      </a:lnTo>
                      <a:lnTo>
                        <a:pt x="822" y="747"/>
                      </a:lnTo>
                      <a:lnTo>
                        <a:pt x="830" y="38"/>
                      </a:lnTo>
                      <a:lnTo>
                        <a:pt x="839" y="0"/>
                      </a:lnTo>
                      <a:lnTo>
                        <a:pt x="847" y="112"/>
                      </a:lnTo>
                      <a:lnTo>
                        <a:pt x="856" y="424"/>
                      </a:lnTo>
                      <a:lnTo>
                        <a:pt x="865" y="648"/>
                      </a:lnTo>
                      <a:lnTo>
                        <a:pt x="873" y="785"/>
                      </a:lnTo>
                      <a:lnTo>
                        <a:pt x="882" y="859"/>
                      </a:lnTo>
                      <a:lnTo>
                        <a:pt x="890" y="884"/>
                      </a:lnTo>
                      <a:lnTo>
                        <a:pt x="899" y="897"/>
                      </a:lnTo>
                      <a:lnTo>
                        <a:pt x="907" y="909"/>
                      </a:lnTo>
                      <a:lnTo>
                        <a:pt x="916" y="909"/>
                      </a:lnTo>
                      <a:lnTo>
                        <a:pt x="924" y="897"/>
                      </a:lnTo>
                      <a:lnTo>
                        <a:pt x="933" y="872"/>
                      </a:lnTo>
                      <a:lnTo>
                        <a:pt x="942" y="722"/>
                      </a:lnTo>
                      <a:lnTo>
                        <a:pt x="950" y="722"/>
                      </a:lnTo>
                      <a:lnTo>
                        <a:pt x="959" y="785"/>
                      </a:lnTo>
                      <a:lnTo>
                        <a:pt x="967" y="859"/>
                      </a:lnTo>
                      <a:lnTo>
                        <a:pt x="967" y="884"/>
                      </a:lnTo>
                      <a:lnTo>
                        <a:pt x="984" y="922"/>
                      </a:lnTo>
                      <a:lnTo>
                        <a:pt x="993" y="909"/>
                      </a:lnTo>
                      <a:lnTo>
                        <a:pt x="993" y="909"/>
                      </a:lnTo>
                      <a:lnTo>
                        <a:pt x="1010" y="922"/>
                      </a:lnTo>
                      <a:lnTo>
                        <a:pt x="1019" y="922"/>
                      </a:lnTo>
                      <a:lnTo>
                        <a:pt x="1019" y="922"/>
                      </a:lnTo>
                      <a:lnTo>
                        <a:pt x="1036" y="909"/>
                      </a:lnTo>
                      <a:lnTo>
                        <a:pt x="1044" y="909"/>
                      </a:lnTo>
                      <a:lnTo>
                        <a:pt x="1053" y="934"/>
                      </a:lnTo>
                      <a:lnTo>
                        <a:pt x="1061" y="909"/>
                      </a:lnTo>
                      <a:lnTo>
                        <a:pt x="1061" y="909"/>
                      </a:lnTo>
                      <a:lnTo>
                        <a:pt x="1079" y="922"/>
                      </a:lnTo>
                      <a:lnTo>
                        <a:pt x="1079" y="934"/>
                      </a:lnTo>
                      <a:lnTo>
                        <a:pt x="1096" y="922"/>
                      </a:lnTo>
                      <a:lnTo>
                        <a:pt x="1096" y="922"/>
                      </a:lnTo>
                      <a:lnTo>
                        <a:pt x="1113" y="922"/>
                      </a:lnTo>
                      <a:lnTo>
                        <a:pt x="1113" y="934"/>
                      </a:lnTo>
                      <a:lnTo>
                        <a:pt x="1130" y="922"/>
                      </a:lnTo>
                      <a:lnTo>
                        <a:pt x="1130" y="934"/>
                      </a:lnTo>
                      <a:lnTo>
                        <a:pt x="1147" y="934"/>
                      </a:lnTo>
                      <a:lnTo>
                        <a:pt x="1147" y="934"/>
                      </a:lnTo>
                      <a:lnTo>
                        <a:pt x="1164" y="947"/>
                      </a:lnTo>
                      <a:lnTo>
                        <a:pt x="1173" y="947"/>
                      </a:lnTo>
                      <a:lnTo>
                        <a:pt x="1181" y="922"/>
                      </a:lnTo>
                      <a:lnTo>
                        <a:pt x="1190" y="922"/>
                      </a:lnTo>
                      <a:lnTo>
                        <a:pt x="1190" y="934"/>
                      </a:lnTo>
                      <a:lnTo>
                        <a:pt x="1207" y="947"/>
                      </a:lnTo>
                      <a:lnTo>
                        <a:pt x="1215" y="947"/>
                      </a:lnTo>
                      <a:lnTo>
                        <a:pt x="1215" y="947"/>
                      </a:lnTo>
                      <a:lnTo>
                        <a:pt x="1233" y="934"/>
                      </a:lnTo>
                      <a:lnTo>
                        <a:pt x="1241" y="934"/>
                      </a:lnTo>
                      <a:lnTo>
                        <a:pt x="1241" y="934"/>
                      </a:lnTo>
                      <a:lnTo>
                        <a:pt x="1258" y="947"/>
                      </a:lnTo>
                      <a:lnTo>
                        <a:pt x="1267" y="947"/>
                      </a:lnTo>
                      <a:lnTo>
                        <a:pt x="1267" y="947"/>
                      </a:lnTo>
                      <a:lnTo>
                        <a:pt x="1284" y="947"/>
                      </a:lnTo>
                      <a:lnTo>
                        <a:pt x="1293" y="947"/>
                      </a:lnTo>
                      <a:lnTo>
                        <a:pt x="1293" y="947"/>
                      </a:lnTo>
                      <a:lnTo>
                        <a:pt x="1301" y="947"/>
                      </a:lnTo>
                      <a:lnTo>
                        <a:pt x="1318" y="947"/>
                      </a:lnTo>
                      <a:lnTo>
                        <a:pt x="1327" y="947"/>
                      </a:lnTo>
                      <a:lnTo>
                        <a:pt x="1335" y="959"/>
                      </a:lnTo>
                      <a:lnTo>
                        <a:pt x="1335" y="947"/>
                      </a:lnTo>
                      <a:lnTo>
                        <a:pt x="1344" y="947"/>
                      </a:lnTo>
                      <a:lnTo>
                        <a:pt x="1361" y="947"/>
                      </a:lnTo>
                      <a:lnTo>
                        <a:pt x="1370" y="947"/>
                      </a:lnTo>
                      <a:lnTo>
                        <a:pt x="1378" y="934"/>
                      </a:lnTo>
                      <a:lnTo>
                        <a:pt x="1378" y="934"/>
                      </a:lnTo>
                      <a:lnTo>
                        <a:pt x="1387" y="947"/>
                      </a:lnTo>
                      <a:lnTo>
                        <a:pt x="1395" y="959"/>
                      </a:lnTo>
                      <a:lnTo>
                        <a:pt x="1412" y="947"/>
                      </a:lnTo>
                      <a:lnTo>
                        <a:pt x="1421" y="934"/>
                      </a:lnTo>
                      <a:lnTo>
                        <a:pt x="1429" y="922"/>
                      </a:lnTo>
                      <a:lnTo>
                        <a:pt x="1438" y="934"/>
                      </a:lnTo>
                      <a:lnTo>
                        <a:pt x="1447" y="934"/>
                      </a:lnTo>
                      <a:lnTo>
                        <a:pt x="1455" y="947"/>
                      </a:lnTo>
                      <a:lnTo>
                        <a:pt x="1464" y="947"/>
                      </a:lnTo>
                      <a:lnTo>
                        <a:pt x="1464" y="959"/>
                      </a:lnTo>
                      <a:lnTo>
                        <a:pt x="1472" y="959"/>
                      </a:lnTo>
                      <a:lnTo>
                        <a:pt x="1481" y="947"/>
                      </a:lnTo>
                      <a:lnTo>
                        <a:pt x="1489" y="947"/>
                      </a:lnTo>
                      <a:lnTo>
                        <a:pt x="1498" y="934"/>
                      </a:lnTo>
                      <a:lnTo>
                        <a:pt x="1506" y="947"/>
                      </a:lnTo>
                      <a:lnTo>
                        <a:pt x="1515" y="947"/>
                      </a:lnTo>
                      <a:lnTo>
                        <a:pt x="1524" y="947"/>
                      </a:lnTo>
                      <a:lnTo>
                        <a:pt x="1532" y="947"/>
                      </a:lnTo>
                      <a:lnTo>
                        <a:pt x="1541" y="959"/>
                      </a:lnTo>
                      <a:lnTo>
                        <a:pt x="1558" y="947"/>
                      </a:lnTo>
                      <a:lnTo>
                        <a:pt x="1566" y="959"/>
                      </a:lnTo>
                      <a:lnTo>
                        <a:pt x="1575" y="947"/>
                      </a:lnTo>
                      <a:lnTo>
                        <a:pt x="1583" y="947"/>
                      </a:lnTo>
                      <a:lnTo>
                        <a:pt x="1592" y="959"/>
                      </a:lnTo>
                      <a:lnTo>
                        <a:pt x="1601" y="959"/>
                      </a:lnTo>
                      <a:lnTo>
                        <a:pt x="1601" y="959"/>
                      </a:lnTo>
                      <a:lnTo>
                        <a:pt x="1609" y="947"/>
                      </a:lnTo>
                      <a:lnTo>
                        <a:pt x="1618" y="947"/>
                      </a:lnTo>
                      <a:lnTo>
                        <a:pt x="1626" y="947"/>
                      </a:lnTo>
                      <a:lnTo>
                        <a:pt x="1643" y="947"/>
                      </a:lnTo>
                      <a:lnTo>
                        <a:pt x="1652" y="947"/>
                      </a:lnTo>
                      <a:lnTo>
                        <a:pt x="1661" y="922"/>
                      </a:lnTo>
                      <a:lnTo>
                        <a:pt x="1661" y="909"/>
                      </a:lnTo>
                      <a:lnTo>
                        <a:pt x="1669" y="909"/>
                      </a:lnTo>
                      <a:lnTo>
                        <a:pt x="1686" y="934"/>
                      </a:lnTo>
                      <a:lnTo>
                        <a:pt x="1695" y="934"/>
                      </a:lnTo>
                      <a:lnTo>
                        <a:pt x="1703" y="947"/>
                      </a:lnTo>
                      <a:lnTo>
                        <a:pt x="1703" y="959"/>
                      </a:lnTo>
                      <a:lnTo>
                        <a:pt x="1712" y="959"/>
                      </a:lnTo>
                      <a:lnTo>
                        <a:pt x="1729" y="947"/>
                      </a:lnTo>
                      <a:lnTo>
                        <a:pt x="1738" y="934"/>
                      </a:lnTo>
                      <a:lnTo>
                        <a:pt x="1738" y="947"/>
                      </a:lnTo>
                      <a:lnTo>
                        <a:pt x="1746" y="947"/>
                      </a:lnTo>
                      <a:lnTo>
                        <a:pt x="1763" y="934"/>
                      </a:lnTo>
                      <a:lnTo>
                        <a:pt x="1772" y="934"/>
                      </a:lnTo>
                      <a:lnTo>
                        <a:pt x="1772" y="934"/>
                      </a:lnTo>
                      <a:lnTo>
                        <a:pt x="1789" y="909"/>
                      </a:lnTo>
                      <a:lnTo>
                        <a:pt x="1797" y="897"/>
                      </a:lnTo>
                      <a:lnTo>
                        <a:pt x="1797" y="909"/>
                      </a:lnTo>
                      <a:lnTo>
                        <a:pt x="1815" y="897"/>
                      </a:lnTo>
                      <a:lnTo>
                        <a:pt x="1823" y="859"/>
                      </a:lnTo>
                      <a:lnTo>
                        <a:pt x="1823" y="835"/>
                      </a:lnTo>
                      <a:lnTo>
                        <a:pt x="1840" y="648"/>
                      </a:lnTo>
                      <a:lnTo>
                        <a:pt x="1849" y="635"/>
                      </a:lnTo>
                      <a:lnTo>
                        <a:pt x="1849" y="660"/>
                      </a:lnTo>
                      <a:lnTo>
                        <a:pt x="1866" y="772"/>
                      </a:lnTo>
                      <a:lnTo>
                        <a:pt x="1866" y="648"/>
                      </a:lnTo>
                      <a:lnTo>
                        <a:pt x="1883" y="648"/>
                      </a:lnTo>
                      <a:lnTo>
                        <a:pt x="1892" y="722"/>
                      </a:lnTo>
                      <a:lnTo>
                        <a:pt x="1892" y="287"/>
                      </a:lnTo>
                      <a:lnTo>
                        <a:pt x="1909" y="112"/>
                      </a:lnTo>
                      <a:lnTo>
                        <a:pt x="1909" y="150"/>
                      </a:lnTo>
                      <a:lnTo>
                        <a:pt x="1926" y="424"/>
                      </a:lnTo>
                      <a:lnTo>
                        <a:pt x="1926" y="573"/>
                      </a:lnTo>
                      <a:lnTo>
                        <a:pt x="1943" y="648"/>
                      </a:lnTo>
                      <a:lnTo>
                        <a:pt x="1943" y="685"/>
                      </a:lnTo>
                      <a:lnTo>
                        <a:pt x="1960" y="586"/>
                      </a:lnTo>
                      <a:lnTo>
                        <a:pt x="1969" y="175"/>
                      </a:lnTo>
                      <a:lnTo>
                        <a:pt x="1977" y="175"/>
                      </a:lnTo>
                      <a:lnTo>
                        <a:pt x="1977" y="312"/>
                      </a:lnTo>
                      <a:lnTo>
                        <a:pt x="1994" y="586"/>
                      </a:lnTo>
                      <a:lnTo>
                        <a:pt x="1994" y="586"/>
                      </a:lnTo>
                      <a:lnTo>
                        <a:pt x="2011" y="586"/>
                      </a:lnTo>
                      <a:lnTo>
                        <a:pt x="2011" y="536"/>
                      </a:lnTo>
                      <a:lnTo>
                        <a:pt x="2029" y="436"/>
                      </a:lnTo>
                      <a:lnTo>
                        <a:pt x="2037" y="436"/>
                      </a:lnTo>
                      <a:lnTo>
                        <a:pt x="2046" y="498"/>
                      </a:lnTo>
                      <a:lnTo>
                        <a:pt x="2054" y="648"/>
                      </a:lnTo>
                      <a:lnTo>
                        <a:pt x="2063" y="722"/>
                      </a:lnTo>
                      <a:lnTo>
                        <a:pt x="2071" y="698"/>
                      </a:lnTo>
                      <a:lnTo>
                        <a:pt x="2071" y="685"/>
                      </a:lnTo>
                      <a:lnTo>
                        <a:pt x="2088" y="698"/>
                      </a:lnTo>
                      <a:lnTo>
                        <a:pt x="2097" y="760"/>
                      </a:lnTo>
                      <a:lnTo>
                        <a:pt x="2097" y="797"/>
                      </a:lnTo>
                      <a:lnTo>
                        <a:pt x="2114" y="797"/>
                      </a:lnTo>
                      <a:lnTo>
                        <a:pt x="2123" y="797"/>
                      </a:lnTo>
                      <a:lnTo>
                        <a:pt x="2123" y="747"/>
                      </a:lnTo>
                      <a:lnTo>
                        <a:pt x="2140" y="722"/>
                      </a:lnTo>
                      <a:lnTo>
                        <a:pt x="2148" y="722"/>
                      </a:lnTo>
                      <a:lnTo>
                        <a:pt x="2148" y="747"/>
                      </a:lnTo>
                      <a:lnTo>
                        <a:pt x="2165" y="797"/>
                      </a:lnTo>
                      <a:lnTo>
                        <a:pt x="2174" y="810"/>
                      </a:lnTo>
                      <a:lnTo>
                        <a:pt x="2174" y="835"/>
                      </a:lnTo>
                      <a:lnTo>
                        <a:pt x="2191" y="847"/>
                      </a:lnTo>
                      <a:lnTo>
                        <a:pt x="2200" y="859"/>
                      </a:lnTo>
                      <a:lnTo>
                        <a:pt x="2208" y="859"/>
                      </a:lnTo>
                      <a:lnTo>
                        <a:pt x="2208" y="847"/>
                      </a:lnTo>
                      <a:lnTo>
                        <a:pt x="2225" y="847"/>
                      </a:lnTo>
                      <a:lnTo>
                        <a:pt x="2234" y="835"/>
                      </a:lnTo>
                      <a:lnTo>
                        <a:pt x="2243" y="822"/>
                      </a:lnTo>
                      <a:lnTo>
                        <a:pt x="2243" y="747"/>
                      </a:lnTo>
                      <a:lnTo>
                        <a:pt x="2260" y="722"/>
                      </a:lnTo>
                      <a:lnTo>
                        <a:pt x="2268" y="747"/>
                      </a:lnTo>
                      <a:lnTo>
                        <a:pt x="2277" y="772"/>
                      </a:lnTo>
                      <a:lnTo>
                        <a:pt x="2285" y="660"/>
                      </a:lnTo>
                      <a:lnTo>
                        <a:pt x="2294" y="660"/>
                      </a:lnTo>
                      <a:lnTo>
                        <a:pt x="2302" y="660"/>
                      </a:lnTo>
                      <a:lnTo>
                        <a:pt x="2311" y="722"/>
                      </a:lnTo>
                      <a:lnTo>
                        <a:pt x="2320" y="785"/>
                      </a:lnTo>
                      <a:lnTo>
                        <a:pt x="2328" y="822"/>
                      </a:lnTo>
                      <a:lnTo>
                        <a:pt x="2337" y="835"/>
                      </a:lnTo>
                      <a:lnTo>
                        <a:pt x="2337" y="847"/>
                      </a:lnTo>
                      <a:lnTo>
                        <a:pt x="2354" y="847"/>
                      </a:lnTo>
                      <a:lnTo>
                        <a:pt x="2362" y="847"/>
                      </a:lnTo>
                      <a:lnTo>
                        <a:pt x="2371" y="847"/>
                      </a:lnTo>
                      <a:lnTo>
                        <a:pt x="2379" y="847"/>
                      </a:lnTo>
                      <a:lnTo>
                        <a:pt x="2388" y="859"/>
                      </a:lnTo>
                      <a:lnTo>
                        <a:pt x="2397" y="847"/>
                      </a:lnTo>
                      <a:lnTo>
                        <a:pt x="2405" y="835"/>
                      </a:lnTo>
                      <a:lnTo>
                        <a:pt x="2414" y="835"/>
                      </a:lnTo>
                      <a:lnTo>
                        <a:pt x="2422" y="847"/>
                      </a:lnTo>
                      <a:lnTo>
                        <a:pt x="2431" y="835"/>
                      </a:lnTo>
                      <a:lnTo>
                        <a:pt x="2439" y="822"/>
                      </a:lnTo>
                      <a:lnTo>
                        <a:pt x="2448" y="822"/>
                      </a:lnTo>
                      <a:lnTo>
                        <a:pt x="2456" y="847"/>
                      </a:lnTo>
                      <a:lnTo>
                        <a:pt x="2465" y="872"/>
                      </a:lnTo>
                      <a:lnTo>
                        <a:pt x="2474" y="884"/>
                      </a:lnTo>
                      <a:lnTo>
                        <a:pt x="2482" y="884"/>
                      </a:lnTo>
                      <a:lnTo>
                        <a:pt x="2491" y="897"/>
                      </a:lnTo>
                      <a:lnTo>
                        <a:pt x="2499" y="909"/>
                      </a:lnTo>
                      <a:lnTo>
                        <a:pt x="2508" y="909"/>
                      </a:lnTo>
                      <a:lnTo>
                        <a:pt x="2516" y="909"/>
                      </a:lnTo>
                      <a:lnTo>
                        <a:pt x="2525" y="909"/>
                      </a:lnTo>
                      <a:lnTo>
                        <a:pt x="2534" y="909"/>
                      </a:lnTo>
                      <a:lnTo>
                        <a:pt x="2542" y="909"/>
                      </a:lnTo>
                      <a:lnTo>
                        <a:pt x="2551" y="897"/>
                      </a:lnTo>
                      <a:lnTo>
                        <a:pt x="2559" y="897"/>
                      </a:lnTo>
                      <a:lnTo>
                        <a:pt x="2568" y="909"/>
                      </a:lnTo>
                      <a:lnTo>
                        <a:pt x="2568" y="909"/>
                      </a:lnTo>
                      <a:lnTo>
                        <a:pt x="2585" y="922"/>
                      </a:lnTo>
                      <a:lnTo>
                        <a:pt x="2593" y="922"/>
                      </a:lnTo>
                      <a:lnTo>
                        <a:pt x="2602" y="934"/>
                      </a:lnTo>
                      <a:lnTo>
                        <a:pt x="2611" y="934"/>
                      </a:lnTo>
                      <a:lnTo>
                        <a:pt x="2619" y="934"/>
                      </a:lnTo>
                      <a:lnTo>
                        <a:pt x="2628" y="934"/>
                      </a:lnTo>
                      <a:lnTo>
                        <a:pt x="2636" y="934"/>
                      </a:lnTo>
                      <a:lnTo>
                        <a:pt x="2645" y="934"/>
                      </a:lnTo>
                      <a:lnTo>
                        <a:pt x="2653" y="934"/>
                      </a:lnTo>
                      <a:lnTo>
                        <a:pt x="2653" y="934"/>
                      </a:lnTo>
                      <a:lnTo>
                        <a:pt x="2670" y="934"/>
                      </a:lnTo>
                      <a:lnTo>
                        <a:pt x="2679" y="934"/>
                      </a:lnTo>
                      <a:lnTo>
                        <a:pt x="2688" y="947"/>
                      </a:lnTo>
                      <a:lnTo>
                        <a:pt x="2696" y="934"/>
                      </a:lnTo>
                      <a:lnTo>
                        <a:pt x="2705" y="934"/>
                      </a:lnTo>
                      <a:lnTo>
                        <a:pt x="2705" y="934"/>
                      </a:lnTo>
                      <a:lnTo>
                        <a:pt x="2722" y="934"/>
                      </a:lnTo>
                      <a:lnTo>
                        <a:pt x="2730" y="934"/>
                      </a:lnTo>
                      <a:lnTo>
                        <a:pt x="2739" y="947"/>
                      </a:lnTo>
                      <a:lnTo>
                        <a:pt x="2747" y="947"/>
                      </a:lnTo>
                      <a:lnTo>
                        <a:pt x="2747" y="947"/>
                      </a:lnTo>
                      <a:lnTo>
                        <a:pt x="2765" y="947"/>
                      </a:lnTo>
                      <a:lnTo>
                        <a:pt x="2773" y="947"/>
                      </a:lnTo>
                      <a:lnTo>
                        <a:pt x="2782" y="947"/>
                      </a:lnTo>
                      <a:lnTo>
                        <a:pt x="2790" y="947"/>
                      </a:lnTo>
                      <a:lnTo>
                        <a:pt x="2799" y="947"/>
                      </a:lnTo>
                      <a:lnTo>
                        <a:pt x="2807" y="947"/>
                      </a:lnTo>
                      <a:lnTo>
                        <a:pt x="2816" y="934"/>
                      </a:lnTo>
                      <a:lnTo>
                        <a:pt x="2825" y="934"/>
                      </a:lnTo>
                      <a:lnTo>
                        <a:pt x="2833" y="934"/>
                      </a:lnTo>
                      <a:lnTo>
                        <a:pt x="2842" y="934"/>
                      </a:lnTo>
                      <a:lnTo>
                        <a:pt x="2850" y="934"/>
                      </a:lnTo>
                      <a:lnTo>
                        <a:pt x="2850" y="947"/>
                      </a:lnTo>
                      <a:lnTo>
                        <a:pt x="2867" y="947"/>
                      </a:lnTo>
                      <a:lnTo>
                        <a:pt x="2876" y="947"/>
                      </a:lnTo>
                      <a:lnTo>
                        <a:pt x="2876" y="947"/>
                      </a:lnTo>
                      <a:lnTo>
                        <a:pt x="2893" y="947"/>
                      </a:lnTo>
                      <a:lnTo>
                        <a:pt x="2902" y="959"/>
                      </a:lnTo>
                      <a:lnTo>
                        <a:pt x="2902" y="947"/>
                      </a:lnTo>
                      <a:lnTo>
                        <a:pt x="2919" y="947"/>
                      </a:lnTo>
                      <a:lnTo>
                        <a:pt x="2927" y="947"/>
                      </a:lnTo>
                      <a:lnTo>
                        <a:pt x="2927" y="947"/>
                      </a:lnTo>
                      <a:lnTo>
                        <a:pt x="2944" y="959"/>
                      </a:lnTo>
                      <a:lnTo>
                        <a:pt x="2953" y="947"/>
                      </a:lnTo>
                      <a:lnTo>
                        <a:pt x="2953" y="947"/>
                      </a:lnTo>
                      <a:lnTo>
                        <a:pt x="2970" y="947"/>
                      </a:lnTo>
                      <a:lnTo>
                        <a:pt x="2979" y="959"/>
                      </a:lnTo>
                      <a:lnTo>
                        <a:pt x="2987" y="959"/>
                      </a:lnTo>
                      <a:lnTo>
                        <a:pt x="2996" y="959"/>
                      </a:lnTo>
                      <a:lnTo>
                        <a:pt x="2996" y="959"/>
                      </a:lnTo>
                      <a:lnTo>
                        <a:pt x="3013" y="959"/>
                      </a:lnTo>
                      <a:lnTo>
                        <a:pt x="3021" y="947"/>
                      </a:lnTo>
                      <a:lnTo>
                        <a:pt x="3030" y="947"/>
                      </a:lnTo>
                      <a:lnTo>
                        <a:pt x="3038" y="947"/>
                      </a:lnTo>
                      <a:lnTo>
                        <a:pt x="3038" y="947"/>
                      </a:lnTo>
                      <a:lnTo>
                        <a:pt x="3056" y="959"/>
                      </a:lnTo>
                      <a:lnTo>
                        <a:pt x="3056" y="947"/>
                      </a:lnTo>
                      <a:lnTo>
                        <a:pt x="3073" y="947"/>
                      </a:lnTo>
                      <a:lnTo>
                        <a:pt x="3073" y="947"/>
                      </a:lnTo>
                      <a:lnTo>
                        <a:pt x="3090" y="947"/>
                      </a:lnTo>
                      <a:lnTo>
                        <a:pt x="3098" y="959"/>
                      </a:lnTo>
                      <a:lnTo>
                        <a:pt x="3107" y="959"/>
                      </a:lnTo>
                      <a:lnTo>
                        <a:pt x="3116" y="959"/>
                      </a:lnTo>
                      <a:lnTo>
                        <a:pt x="3124" y="959"/>
                      </a:lnTo>
                      <a:lnTo>
                        <a:pt x="3133" y="947"/>
                      </a:lnTo>
                      <a:lnTo>
                        <a:pt x="3141" y="959"/>
                      </a:lnTo>
                      <a:lnTo>
                        <a:pt x="3150" y="959"/>
                      </a:lnTo>
                      <a:lnTo>
                        <a:pt x="3158" y="947"/>
                      </a:lnTo>
                      <a:lnTo>
                        <a:pt x="3158" y="947"/>
                      </a:lnTo>
                      <a:lnTo>
                        <a:pt x="3175" y="947"/>
                      </a:lnTo>
                      <a:lnTo>
                        <a:pt x="3175" y="947"/>
                      </a:lnTo>
                      <a:lnTo>
                        <a:pt x="3193" y="947"/>
                      </a:lnTo>
                      <a:lnTo>
                        <a:pt x="3193" y="947"/>
                      </a:lnTo>
                      <a:lnTo>
                        <a:pt x="3210" y="947"/>
                      </a:lnTo>
                      <a:lnTo>
                        <a:pt x="3210" y="959"/>
                      </a:lnTo>
                      <a:lnTo>
                        <a:pt x="3227" y="959"/>
                      </a:lnTo>
                      <a:lnTo>
                        <a:pt x="3235" y="959"/>
                      </a:lnTo>
                      <a:lnTo>
                        <a:pt x="3235" y="959"/>
                      </a:lnTo>
                      <a:lnTo>
                        <a:pt x="3252" y="947"/>
                      </a:lnTo>
                      <a:lnTo>
                        <a:pt x="3252" y="947"/>
                      </a:lnTo>
                      <a:lnTo>
                        <a:pt x="3270" y="947"/>
                      </a:lnTo>
                      <a:lnTo>
                        <a:pt x="3278" y="959"/>
                      </a:lnTo>
                      <a:lnTo>
                        <a:pt x="3287" y="959"/>
                      </a:lnTo>
                      <a:lnTo>
                        <a:pt x="3295" y="959"/>
                      </a:lnTo>
                      <a:lnTo>
                        <a:pt x="3295" y="947"/>
                      </a:lnTo>
                      <a:lnTo>
                        <a:pt x="3312" y="947"/>
                      </a:lnTo>
                      <a:lnTo>
                        <a:pt x="3321" y="947"/>
                      </a:lnTo>
                      <a:lnTo>
                        <a:pt x="3321" y="959"/>
                      </a:lnTo>
                      <a:lnTo>
                        <a:pt x="3338" y="959"/>
                      </a:lnTo>
                      <a:lnTo>
                        <a:pt x="3347" y="959"/>
                      </a:lnTo>
                      <a:lnTo>
                        <a:pt x="3347" y="959"/>
                      </a:lnTo>
                      <a:lnTo>
                        <a:pt x="3364" y="959"/>
                      </a:lnTo>
                      <a:lnTo>
                        <a:pt x="3372" y="947"/>
                      </a:lnTo>
                      <a:lnTo>
                        <a:pt x="3372" y="947"/>
                      </a:lnTo>
                      <a:lnTo>
                        <a:pt x="3389" y="947"/>
                      </a:lnTo>
                      <a:lnTo>
                        <a:pt x="3398" y="947"/>
                      </a:lnTo>
                      <a:lnTo>
                        <a:pt x="3398" y="947"/>
                      </a:lnTo>
                      <a:lnTo>
                        <a:pt x="3415" y="959"/>
                      </a:lnTo>
                      <a:lnTo>
                        <a:pt x="3424" y="959"/>
                      </a:lnTo>
                      <a:lnTo>
                        <a:pt x="3424" y="959"/>
                      </a:lnTo>
                      <a:lnTo>
                        <a:pt x="3441" y="947"/>
                      </a:lnTo>
                      <a:lnTo>
                        <a:pt x="3449" y="947"/>
                      </a:lnTo>
                      <a:lnTo>
                        <a:pt x="3458" y="947"/>
                      </a:lnTo>
                      <a:lnTo>
                        <a:pt x="3458" y="947"/>
                      </a:lnTo>
                      <a:lnTo>
                        <a:pt x="3475" y="947"/>
                      </a:lnTo>
                      <a:lnTo>
                        <a:pt x="3484" y="947"/>
                      </a:lnTo>
                      <a:lnTo>
                        <a:pt x="3484" y="947"/>
                      </a:lnTo>
                      <a:lnTo>
                        <a:pt x="3492" y="947"/>
                      </a:lnTo>
                      <a:lnTo>
                        <a:pt x="3509" y="947"/>
                      </a:lnTo>
                      <a:lnTo>
                        <a:pt x="3518" y="947"/>
                      </a:lnTo>
                      <a:lnTo>
                        <a:pt x="3526" y="947"/>
                      </a:lnTo>
                      <a:lnTo>
                        <a:pt x="3526" y="947"/>
                      </a:lnTo>
                      <a:lnTo>
                        <a:pt x="3535" y="959"/>
                      </a:lnTo>
                      <a:lnTo>
                        <a:pt x="3552" y="947"/>
                      </a:lnTo>
                      <a:lnTo>
                        <a:pt x="3561" y="947"/>
                      </a:lnTo>
                      <a:lnTo>
                        <a:pt x="3561" y="947"/>
                      </a:lnTo>
                      <a:lnTo>
                        <a:pt x="3569" y="947"/>
                      </a:lnTo>
                      <a:lnTo>
                        <a:pt x="3578" y="947"/>
                      </a:lnTo>
                      <a:lnTo>
                        <a:pt x="3595" y="959"/>
                      </a:lnTo>
                      <a:lnTo>
                        <a:pt x="3603" y="959"/>
                      </a:lnTo>
                      <a:lnTo>
                        <a:pt x="3612" y="959"/>
                      </a:lnTo>
                      <a:lnTo>
                        <a:pt x="3612" y="959"/>
                      </a:lnTo>
                      <a:lnTo>
                        <a:pt x="3620" y="947"/>
                      </a:lnTo>
                      <a:lnTo>
                        <a:pt x="3638" y="947"/>
                      </a:lnTo>
                      <a:lnTo>
                        <a:pt x="3646" y="947"/>
                      </a:lnTo>
                      <a:lnTo>
                        <a:pt x="3655" y="959"/>
                      </a:lnTo>
                      <a:lnTo>
                        <a:pt x="3663" y="959"/>
                      </a:lnTo>
                      <a:lnTo>
                        <a:pt x="3663" y="959"/>
                      </a:lnTo>
                      <a:lnTo>
                        <a:pt x="3672" y="959"/>
                      </a:lnTo>
                      <a:lnTo>
                        <a:pt x="3680" y="959"/>
                      </a:lnTo>
                      <a:lnTo>
                        <a:pt x="3689" y="959"/>
                      </a:lnTo>
                      <a:lnTo>
                        <a:pt x="3706" y="959"/>
                      </a:lnTo>
                      <a:lnTo>
                        <a:pt x="3715" y="959"/>
                      </a:lnTo>
                      <a:lnTo>
                        <a:pt x="3723" y="959"/>
                      </a:lnTo>
                      <a:lnTo>
                        <a:pt x="3732" y="959"/>
                      </a:lnTo>
                      <a:lnTo>
                        <a:pt x="3740" y="959"/>
                      </a:lnTo>
                      <a:lnTo>
                        <a:pt x="3740" y="959"/>
                      </a:lnTo>
                      <a:lnTo>
                        <a:pt x="3749" y="959"/>
                      </a:lnTo>
                      <a:lnTo>
                        <a:pt x="3757" y="959"/>
                      </a:lnTo>
                      <a:lnTo>
                        <a:pt x="3766" y="959"/>
                      </a:lnTo>
                      <a:lnTo>
                        <a:pt x="3775" y="959"/>
                      </a:lnTo>
                      <a:lnTo>
                        <a:pt x="3783" y="959"/>
                      </a:lnTo>
                      <a:lnTo>
                        <a:pt x="3792" y="959"/>
                      </a:lnTo>
                      <a:lnTo>
                        <a:pt x="3800" y="959"/>
                      </a:lnTo>
                      <a:lnTo>
                        <a:pt x="3817" y="959"/>
                      </a:lnTo>
                      <a:lnTo>
                        <a:pt x="3826" y="959"/>
                      </a:lnTo>
                      <a:lnTo>
                        <a:pt x="3834" y="959"/>
                      </a:lnTo>
                      <a:lnTo>
                        <a:pt x="3843" y="959"/>
                      </a:lnTo>
                      <a:lnTo>
                        <a:pt x="3852" y="959"/>
                      </a:lnTo>
                      <a:lnTo>
                        <a:pt x="3860" y="959"/>
                      </a:lnTo>
                      <a:lnTo>
                        <a:pt x="3869" y="959"/>
                      </a:lnTo>
                      <a:lnTo>
                        <a:pt x="3877" y="959"/>
                      </a:lnTo>
                      <a:lnTo>
                        <a:pt x="3886" y="959"/>
                      </a:lnTo>
                      <a:lnTo>
                        <a:pt x="3894" y="959"/>
                      </a:lnTo>
                      <a:lnTo>
                        <a:pt x="3903" y="947"/>
                      </a:lnTo>
                      <a:lnTo>
                        <a:pt x="3911" y="947"/>
                      </a:lnTo>
                      <a:lnTo>
                        <a:pt x="3920" y="934"/>
                      </a:lnTo>
                      <a:lnTo>
                        <a:pt x="3929" y="934"/>
                      </a:lnTo>
                      <a:lnTo>
                        <a:pt x="3937" y="934"/>
                      </a:lnTo>
                      <a:lnTo>
                        <a:pt x="3946" y="947"/>
                      </a:lnTo>
                      <a:lnTo>
                        <a:pt x="3954" y="947"/>
                      </a:lnTo>
                      <a:lnTo>
                        <a:pt x="3954" y="947"/>
                      </a:lnTo>
                      <a:lnTo>
                        <a:pt x="3963" y="959"/>
                      </a:lnTo>
                      <a:lnTo>
                        <a:pt x="3971" y="959"/>
                      </a:lnTo>
                      <a:lnTo>
                        <a:pt x="3980" y="959"/>
                      </a:lnTo>
                      <a:lnTo>
                        <a:pt x="3988" y="959"/>
                      </a:lnTo>
                      <a:lnTo>
                        <a:pt x="3997" y="947"/>
                      </a:lnTo>
                      <a:lnTo>
                        <a:pt x="4006" y="947"/>
                      </a:lnTo>
                      <a:lnTo>
                        <a:pt x="4014" y="947"/>
                      </a:lnTo>
                      <a:lnTo>
                        <a:pt x="4031" y="947"/>
                      </a:lnTo>
                      <a:lnTo>
                        <a:pt x="4040" y="947"/>
                      </a:lnTo>
                      <a:lnTo>
                        <a:pt x="4048" y="947"/>
                      </a:lnTo>
                      <a:lnTo>
                        <a:pt x="4057" y="934"/>
                      </a:lnTo>
                      <a:lnTo>
                        <a:pt x="4066" y="922"/>
                      </a:lnTo>
                      <a:lnTo>
                        <a:pt x="4074" y="909"/>
                      </a:lnTo>
                      <a:lnTo>
                        <a:pt x="4074" y="909"/>
                      </a:lnTo>
                      <a:lnTo>
                        <a:pt x="4083" y="922"/>
                      </a:lnTo>
                      <a:lnTo>
                        <a:pt x="4091" y="934"/>
                      </a:lnTo>
                      <a:lnTo>
                        <a:pt x="4108" y="947"/>
                      </a:lnTo>
                      <a:lnTo>
                        <a:pt x="4117" y="947"/>
                      </a:lnTo>
                      <a:lnTo>
                        <a:pt x="4125" y="947"/>
                      </a:lnTo>
                      <a:lnTo>
                        <a:pt x="4134" y="947"/>
                      </a:lnTo>
                      <a:lnTo>
                        <a:pt x="4134" y="947"/>
                      </a:lnTo>
                      <a:lnTo>
                        <a:pt x="4143" y="947"/>
                      </a:lnTo>
                      <a:lnTo>
                        <a:pt x="4151" y="947"/>
                      </a:lnTo>
                      <a:lnTo>
                        <a:pt x="4168" y="947"/>
                      </a:lnTo>
                      <a:lnTo>
                        <a:pt x="4177" y="947"/>
                      </a:lnTo>
                      <a:lnTo>
                        <a:pt x="4185" y="947"/>
                      </a:lnTo>
                      <a:lnTo>
                        <a:pt x="4194" y="947"/>
                      </a:lnTo>
                      <a:lnTo>
                        <a:pt x="4194" y="947"/>
                      </a:lnTo>
                      <a:lnTo>
                        <a:pt x="4202" y="947"/>
                      </a:lnTo>
                      <a:lnTo>
                        <a:pt x="4220" y="947"/>
                      </a:lnTo>
                      <a:lnTo>
                        <a:pt x="4228" y="947"/>
                      </a:lnTo>
                      <a:lnTo>
                        <a:pt x="4237" y="947"/>
                      </a:lnTo>
                      <a:lnTo>
                        <a:pt x="4237" y="947"/>
                      </a:lnTo>
                      <a:lnTo>
                        <a:pt x="4245" y="947"/>
                      </a:lnTo>
                      <a:lnTo>
                        <a:pt x="4262" y="959"/>
                      </a:lnTo>
                      <a:lnTo>
                        <a:pt x="4271" y="959"/>
                      </a:lnTo>
                    </a:path>
                  </a:pathLst>
                </a:custGeom>
                <a:noFill/>
                <a:ln w="29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330800" y="3429000"/>
                  <a:ext cx="708480" cy="211320"/>
                </a:xfrm>
                <a:custGeom>
                  <a:avLst/>
                  <a:gdLst/>
                  <a:ahLst/>
                  <a:rect l="l" t="t" r="r" b="b"/>
                  <a:pathLst>
                    <a:path w="907" h="299">
                      <a:moveTo>
                        <a:pt x="0" y="299"/>
                      </a:moveTo>
                      <a:lnTo>
                        <a:pt x="0" y="299"/>
                      </a:lnTo>
                      <a:lnTo>
                        <a:pt x="8" y="287"/>
                      </a:lnTo>
                      <a:lnTo>
                        <a:pt x="26" y="299"/>
                      </a:lnTo>
                      <a:lnTo>
                        <a:pt x="34" y="299"/>
                      </a:lnTo>
                      <a:lnTo>
                        <a:pt x="43" y="287"/>
                      </a:lnTo>
                      <a:lnTo>
                        <a:pt x="43" y="287"/>
                      </a:lnTo>
                      <a:lnTo>
                        <a:pt x="60" y="287"/>
                      </a:lnTo>
                      <a:lnTo>
                        <a:pt x="68" y="287"/>
                      </a:lnTo>
                      <a:lnTo>
                        <a:pt x="77" y="299"/>
                      </a:lnTo>
                      <a:lnTo>
                        <a:pt x="77" y="299"/>
                      </a:lnTo>
                      <a:lnTo>
                        <a:pt x="94" y="299"/>
                      </a:lnTo>
                      <a:lnTo>
                        <a:pt x="103" y="299"/>
                      </a:lnTo>
                      <a:lnTo>
                        <a:pt x="103" y="299"/>
                      </a:lnTo>
                      <a:lnTo>
                        <a:pt x="111" y="299"/>
                      </a:lnTo>
                      <a:lnTo>
                        <a:pt x="128" y="287"/>
                      </a:lnTo>
                      <a:lnTo>
                        <a:pt x="137" y="287"/>
                      </a:lnTo>
                      <a:lnTo>
                        <a:pt x="137" y="287"/>
                      </a:lnTo>
                      <a:lnTo>
                        <a:pt x="154" y="299"/>
                      </a:lnTo>
                      <a:lnTo>
                        <a:pt x="163" y="287"/>
                      </a:lnTo>
                      <a:lnTo>
                        <a:pt x="163" y="299"/>
                      </a:lnTo>
                      <a:lnTo>
                        <a:pt x="180" y="299"/>
                      </a:lnTo>
                      <a:lnTo>
                        <a:pt x="188" y="299"/>
                      </a:lnTo>
                      <a:lnTo>
                        <a:pt x="188" y="299"/>
                      </a:lnTo>
                      <a:lnTo>
                        <a:pt x="205" y="299"/>
                      </a:lnTo>
                      <a:lnTo>
                        <a:pt x="214" y="287"/>
                      </a:lnTo>
                      <a:lnTo>
                        <a:pt x="214" y="287"/>
                      </a:lnTo>
                      <a:lnTo>
                        <a:pt x="231" y="287"/>
                      </a:lnTo>
                      <a:lnTo>
                        <a:pt x="240" y="287"/>
                      </a:lnTo>
                      <a:lnTo>
                        <a:pt x="240" y="287"/>
                      </a:lnTo>
                      <a:lnTo>
                        <a:pt x="257" y="287"/>
                      </a:lnTo>
                      <a:lnTo>
                        <a:pt x="265" y="287"/>
                      </a:lnTo>
                      <a:lnTo>
                        <a:pt x="265" y="287"/>
                      </a:lnTo>
                      <a:lnTo>
                        <a:pt x="282" y="274"/>
                      </a:lnTo>
                      <a:lnTo>
                        <a:pt x="291" y="274"/>
                      </a:lnTo>
                      <a:lnTo>
                        <a:pt x="299" y="274"/>
                      </a:lnTo>
                      <a:lnTo>
                        <a:pt x="308" y="274"/>
                      </a:lnTo>
                      <a:lnTo>
                        <a:pt x="308" y="274"/>
                      </a:lnTo>
                      <a:lnTo>
                        <a:pt x="325" y="274"/>
                      </a:lnTo>
                      <a:lnTo>
                        <a:pt x="334" y="274"/>
                      </a:lnTo>
                      <a:lnTo>
                        <a:pt x="342" y="262"/>
                      </a:lnTo>
                      <a:lnTo>
                        <a:pt x="351" y="262"/>
                      </a:lnTo>
                      <a:lnTo>
                        <a:pt x="351" y="249"/>
                      </a:lnTo>
                      <a:lnTo>
                        <a:pt x="368" y="224"/>
                      </a:lnTo>
                      <a:lnTo>
                        <a:pt x="377" y="212"/>
                      </a:lnTo>
                      <a:lnTo>
                        <a:pt x="385" y="187"/>
                      </a:lnTo>
                      <a:lnTo>
                        <a:pt x="394" y="150"/>
                      </a:lnTo>
                      <a:lnTo>
                        <a:pt x="394" y="50"/>
                      </a:lnTo>
                      <a:lnTo>
                        <a:pt x="411" y="0"/>
                      </a:lnTo>
                      <a:lnTo>
                        <a:pt x="411" y="0"/>
                      </a:lnTo>
                      <a:lnTo>
                        <a:pt x="428" y="50"/>
                      </a:lnTo>
                      <a:lnTo>
                        <a:pt x="428" y="112"/>
                      </a:lnTo>
                      <a:lnTo>
                        <a:pt x="445" y="175"/>
                      </a:lnTo>
                      <a:lnTo>
                        <a:pt x="454" y="150"/>
                      </a:lnTo>
                      <a:lnTo>
                        <a:pt x="462" y="137"/>
                      </a:lnTo>
                      <a:lnTo>
                        <a:pt x="471" y="137"/>
                      </a:lnTo>
                      <a:lnTo>
                        <a:pt x="479" y="162"/>
                      </a:lnTo>
                      <a:lnTo>
                        <a:pt x="488" y="187"/>
                      </a:lnTo>
                      <a:lnTo>
                        <a:pt x="496" y="212"/>
                      </a:lnTo>
                      <a:lnTo>
                        <a:pt x="505" y="224"/>
                      </a:lnTo>
                      <a:lnTo>
                        <a:pt x="513" y="224"/>
                      </a:lnTo>
                      <a:lnTo>
                        <a:pt x="522" y="224"/>
                      </a:lnTo>
                      <a:lnTo>
                        <a:pt x="531" y="224"/>
                      </a:lnTo>
                      <a:lnTo>
                        <a:pt x="539" y="237"/>
                      </a:lnTo>
                      <a:lnTo>
                        <a:pt x="548" y="237"/>
                      </a:lnTo>
                      <a:lnTo>
                        <a:pt x="556" y="237"/>
                      </a:lnTo>
                      <a:lnTo>
                        <a:pt x="565" y="249"/>
                      </a:lnTo>
                      <a:lnTo>
                        <a:pt x="573" y="249"/>
                      </a:lnTo>
                      <a:lnTo>
                        <a:pt x="582" y="237"/>
                      </a:lnTo>
                      <a:lnTo>
                        <a:pt x="590" y="237"/>
                      </a:lnTo>
                      <a:lnTo>
                        <a:pt x="599" y="237"/>
                      </a:lnTo>
                      <a:lnTo>
                        <a:pt x="608" y="237"/>
                      </a:lnTo>
                      <a:lnTo>
                        <a:pt x="616" y="237"/>
                      </a:lnTo>
                      <a:lnTo>
                        <a:pt x="616" y="237"/>
                      </a:lnTo>
                      <a:lnTo>
                        <a:pt x="633" y="237"/>
                      </a:lnTo>
                      <a:lnTo>
                        <a:pt x="633" y="237"/>
                      </a:lnTo>
                      <a:lnTo>
                        <a:pt x="650" y="237"/>
                      </a:lnTo>
                      <a:lnTo>
                        <a:pt x="659" y="237"/>
                      </a:lnTo>
                      <a:lnTo>
                        <a:pt x="668" y="249"/>
                      </a:lnTo>
                      <a:lnTo>
                        <a:pt x="676" y="249"/>
                      </a:lnTo>
                      <a:lnTo>
                        <a:pt x="685" y="249"/>
                      </a:lnTo>
                      <a:lnTo>
                        <a:pt x="693" y="249"/>
                      </a:lnTo>
                      <a:lnTo>
                        <a:pt x="693" y="249"/>
                      </a:lnTo>
                      <a:lnTo>
                        <a:pt x="710" y="249"/>
                      </a:lnTo>
                      <a:lnTo>
                        <a:pt x="719" y="249"/>
                      </a:lnTo>
                      <a:lnTo>
                        <a:pt x="727" y="262"/>
                      </a:lnTo>
                      <a:lnTo>
                        <a:pt x="736" y="262"/>
                      </a:lnTo>
                      <a:lnTo>
                        <a:pt x="736" y="262"/>
                      </a:lnTo>
                      <a:lnTo>
                        <a:pt x="753" y="262"/>
                      </a:lnTo>
                      <a:lnTo>
                        <a:pt x="762" y="262"/>
                      </a:lnTo>
                      <a:lnTo>
                        <a:pt x="770" y="262"/>
                      </a:lnTo>
                      <a:lnTo>
                        <a:pt x="779" y="262"/>
                      </a:lnTo>
                      <a:lnTo>
                        <a:pt x="779" y="249"/>
                      </a:lnTo>
                      <a:lnTo>
                        <a:pt x="796" y="249"/>
                      </a:lnTo>
                      <a:lnTo>
                        <a:pt x="804" y="249"/>
                      </a:lnTo>
                      <a:lnTo>
                        <a:pt x="804" y="262"/>
                      </a:lnTo>
                      <a:lnTo>
                        <a:pt x="822" y="262"/>
                      </a:lnTo>
                      <a:lnTo>
                        <a:pt x="830" y="262"/>
                      </a:lnTo>
                      <a:lnTo>
                        <a:pt x="839" y="262"/>
                      </a:lnTo>
                      <a:lnTo>
                        <a:pt x="847" y="274"/>
                      </a:lnTo>
                      <a:lnTo>
                        <a:pt x="856" y="274"/>
                      </a:lnTo>
                      <a:lnTo>
                        <a:pt x="864" y="274"/>
                      </a:lnTo>
                      <a:lnTo>
                        <a:pt x="873" y="274"/>
                      </a:lnTo>
                      <a:lnTo>
                        <a:pt x="881" y="274"/>
                      </a:lnTo>
                      <a:lnTo>
                        <a:pt x="890" y="274"/>
                      </a:lnTo>
                      <a:lnTo>
                        <a:pt x="899" y="274"/>
                      </a:lnTo>
                      <a:lnTo>
                        <a:pt x="907" y="274"/>
                      </a:lnTo>
                      <a:lnTo>
                        <a:pt x="907" y="274"/>
                      </a:lnTo>
                    </a:path>
                  </a:pathLst>
                </a:custGeom>
                <a:noFill/>
                <a:ln w="29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 rot="16200000">
                <a:off x="2824200" y="847440"/>
                <a:ext cx="99720" cy="513360"/>
              </a:xfrm>
              <a:custGeom>
                <a:avLst/>
                <a:gdLst>
                  <a:gd name="textAreaLeft" fmla="*/ 0 w 99720"/>
                  <a:gd name="textAreaRight" fmla="*/ 36000 w 99720"/>
                  <a:gd name="textAreaTop" fmla="*/ 13320 h 513360"/>
                  <a:gd name="textAreaBottom" fmla="*/ 500040 h 513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041800" y="1333440"/>
              <a:ext cx="1073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sma Norma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41800" y="2255400"/>
              <a:ext cx="85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sma Résolu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1800" y="3090960"/>
              <a:ext cx="113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asma Chroniqu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03360" y="3886200"/>
            <a:ext cx="9286920" cy="22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58440" y="3954240"/>
            <a:ext cx="4218120" cy="749160"/>
            <a:chOff x="658440" y="3954240"/>
            <a:chExt cx="4218120" cy="749160"/>
          </a:xfrm>
        </p:grpSpPr>
        <p:sp>
          <p:nvSpPr>
            <p:cNvPr id="140" name=""/>
            <p:cNvSpPr/>
            <p:nvPr/>
          </p:nvSpPr>
          <p:spPr>
            <a:xfrm>
              <a:off x="833040" y="4607280"/>
              <a:ext cx="404208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3800" y="4550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3040" y="4442760"/>
              <a:ext cx="4042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440" y="4385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3040" y="4278600"/>
              <a:ext cx="404208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8440" y="4219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3040" y="4119840"/>
              <a:ext cx="404208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8440" y="4060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3040" y="3954600"/>
              <a:ext cx="404208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33040" y="3954240"/>
              <a:ext cx="72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641960" y="3954240"/>
              <a:ext cx="72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450520" y="3954240"/>
              <a:ext cx="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258360" y="3954240"/>
              <a:ext cx="72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066920" y="3954240"/>
              <a:ext cx="108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875480" y="3954240"/>
              <a:ext cx="1080" cy="682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3040" y="3954600"/>
              <a:ext cx="4042080" cy="6822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3040" y="4105440"/>
              <a:ext cx="3327840" cy="501480"/>
            </a:xfrm>
            <a:custGeom>
              <a:avLst/>
              <a:gdLst/>
              <a:ahLst/>
              <a:rect l="l" t="t" r="r" b="b"/>
              <a:pathLst>
                <a:path w="3846" h="682">
                  <a:moveTo>
                    <a:pt x="0" y="672"/>
                  </a:moveTo>
                  <a:lnTo>
                    <a:pt x="0" y="663"/>
                  </a:lnTo>
                  <a:lnTo>
                    <a:pt x="16" y="663"/>
                  </a:lnTo>
                  <a:lnTo>
                    <a:pt x="16" y="653"/>
                  </a:lnTo>
                  <a:lnTo>
                    <a:pt x="24" y="663"/>
                  </a:lnTo>
                  <a:lnTo>
                    <a:pt x="39" y="663"/>
                  </a:lnTo>
                  <a:lnTo>
                    <a:pt x="39" y="653"/>
                  </a:lnTo>
                  <a:lnTo>
                    <a:pt x="55" y="653"/>
                  </a:lnTo>
                  <a:lnTo>
                    <a:pt x="55" y="672"/>
                  </a:lnTo>
                  <a:lnTo>
                    <a:pt x="62" y="653"/>
                  </a:lnTo>
                  <a:lnTo>
                    <a:pt x="70" y="643"/>
                  </a:lnTo>
                  <a:lnTo>
                    <a:pt x="78" y="663"/>
                  </a:lnTo>
                  <a:lnTo>
                    <a:pt x="85" y="663"/>
                  </a:lnTo>
                  <a:lnTo>
                    <a:pt x="93" y="663"/>
                  </a:lnTo>
                  <a:lnTo>
                    <a:pt x="109" y="663"/>
                  </a:lnTo>
                  <a:lnTo>
                    <a:pt x="109" y="672"/>
                  </a:lnTo>
                  <a:lnTo>
                    <a:pt x="124" y="663"/>
                  </a:lnTo>
                  <a:lnTo>
                    <a:pt x="124" y="633"/>
                  </a:lnTo>
                  <a:lnTo>
                    <a:pt x="132" y="653"/>
                  </a:lnTo>
                  <a:lnTo>
                    <a:pt x="147" y="643"/>
                  </a:lnTo>
                  <a:lnTo>
                    <a:pt x="155" y="643"/>
                  </a:lnTo>
                  <a:lnTo>
                    <a:pt x="163" y="663"/>
                  </a:lnTo>
                  <a:lnTo>
                    <a:pt x="163" y="653"/>
                  </a:lnTo>
                  <a:lnTo>
                    <a:pt x="170" y="663"/>
                  </a:lnTo>
                  <a:lnTo>
                    <a:pt x="186" y="653"/>
                  </a:lnTo>
                  <a:lnTo>
                    <a:pt x="186" y="672"/>
                  </a:lnTo>
                  <a:lnTo>
                    <a:pt x="201" y="663"/>
                  </a:lnTo>
                  <a:lnTo>
                    <a:pt x="201" y="653"/>
                  </a:lnTo>
                  <a:lnTo>
                    <a:pt x="209" y="672"/>
                  </a:lnTo>
                  <a:lnTo>
                    <a:pt x="224" y="663"/>
                  </a:lnTo>
                  <a:lnTo>
                    <a:pt x="232" y="672"/>
                  </a:lnTo>
                  <a:lnTo>
                    <a:pt x="240" y="643"/>
                  </a:lnTo>
                  <a:lnTo>
                    <a:pt x="248" y="653"/>
                  </a:lnTo>
                  <a:lnTo>
                    <a:pt x="248" y="653"/>
                  </a:lnTo>
                  <a:lnTo>
                    <a:pt x="255" y="399"/>
                  </a:lnTo>
                  <a:lnTo>
                    <a:pt x="263" y="312"/>
                  </a:lnTo>
                  <a:lnTo>
                    <a:pt x="278" y="594"/>
                  </a:lnTo>
                  <a:lnTo>
                    <a:pt x="278" y="614"/>
                  </a:lnTo>
                  <a:lnTo>
                    <a:pt x="294" y="604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9" y="429"/>
                  </a:lnTo>
                  <a:lnTo>
                    <a:pt x="325" y="614"/>
                  </a:lnTo>
                  <a:lnTo>
                    <a:pt x="332" y="643"/>
                  </a:lnTo>
                  <a:lnTo>
                    <a:pt x="340" y="555"/>
                  </a:lnTo>
                  <a:lnTo>
                    <a:pt x="340" y="555"/>
                  </a:lnTo>
                  <a:lnTo>
                    <a:pt x="348" y="624"/>
                  </a:lnTo>
                  <a:lnTo>
                    <a:pt x="363" y="653"/>
                  </a:lnTo>
                  <a:lnTo>
                    <a:pt x="363" y="653"/>
                  </a:lnTo>
                  <a:lnTo>
                    <a:pt x="379" y="653"/>
                  </a:lnTo>
                  <a:lnTo>
                    <a:pt x="379" y="653"/>
                  </a:lnTo>
                  <a:lnTo>
                    <a:pt x="394" y="663"/>
                  </a:lnTo>
                  <a:lnTo>
                    <a:pt x="394" y="653"/>
                  </a:lnTo>
                  <a:lnTo>
                    <a:pt x="402" y="653"/>
                  </a:lnTo>
                  <a:lnTo>
                    <a:pt x="410" y="663"/>
                  </a:lnTo>
                  <a:lnTo>
                    <a:pt x="417" y="672"/>
                  </a:lnTo>
                  <a:lnTo>
                    <a:pt x="425" y="663"/>
                  </a:lnTo>
                  <a:lnTo>
                    <a:pt x="433" y="672"/>
                  </a:lnTo>
                  <a:lnTo>
                    <a:pt x="441" y="663"/>
                  </a:lnTo>
                  <a:lnTo>
                    <a:pt x="448" y="672"/>
                  </a:lnTo>
                  <a:lnTo>
                    <a:pt x="456" y="672"/>
                  </a:lnTo>
                  <a:lnTo>
                    <a:pt x="471" y="672"/>
                  </a:lnTo>
                  <a:lnTo>
                    <a:pt x="471" y="672"/>
                  </a:lnTo>
                  <a:lnTo>
                    <a:pt x="487" y="672"/>
                  </a:lnTo>
                  <a:lnTo>
                    <a:pt x="487" y="663"/>
                  </a:lnTo>
                  <a:lnTo>
                    <a:pt x="502" y="663"/>
                  </a:lnTo>
                  <a:lnTo>
                    <a:pt x="502" y="663"/>
                  </a:lnTo>
                  <a:lnTo>
                    <a:pt x="510" y="585"/>
                  </a:lnTo>
                  <a:lnTo>
                    <a:pt x="525" y="633"/>
                  </a:lnTo>
                  <a:lnTo>
                    <a:pt x="533" y="672"/>
                  </a:lnTo>
                  <a:lnTo>
                    <a:pt x="541" y="672"/>
                  </a:lnTo>
                  <a:lnTo>
                    <a:pt x="549" y="672"/>
                  </a:lnTo>
                  <a:lnTo>
                    <a:pt x="556" y="663"/>
                  </a:lnTo>
                  <a:lnTo>
                    <a:pt x="564" y="663"/>
                  </a:lnTo>
                  <a:lnTo>
                    <a:pt x="572" y="672"/>
                  </a:lnTo>
                  <a:lnTo>
                    <a:pt x="572" y="672"/>
                  </a:lnTo>
                  <a:lnTo>
                    <a:pt x="587" y="663"/>
                  </a:lnTo>
                  <a:lnTo>
                    <a:pt x="595" y="663"/>
                  </a:lnTo>
                  <a:lnTo>
                    <a:pt x="595" y="633"/>
                  </a:lnTo>
                  <a:lnTo>
                    <a:pt x="610" y="643"/>
                  </a:lnTo>
                  <a:lnTo>
                    <a:pt x="610" y="663"/>
                  </a:lnTo>
                  <a:lnTo>
                    <a:pt x="618" y="672"/>
                  </a:lnTo>
                  <a:lnTo>
                    <a:pt x="634" y="672"/>
                  </a:lnTo>
                  <a:lnTo>
                    <a:pt x="634" y="663"/>
                  </a:lnTo>
                  <a:lnTo>
                    <a:pt x="641" y="653"/>
                  </a:lnTo>
                  <a:lnTo>
                    <a:pt x="649" y="643"/>
                  </a:lnTo>
                  <a:lnTo>
                    <a:pt x="657" y="536"/>
                  </a:lnTo>
                  <a:lnTo>
                    <a:pt x="664" y="516"/>
                  </a:lnTo>
                  <a:lnTo>
                    <a:pt x="672" y="507"/>
                  </a:lnTo>
                  <a:lnTo>
                    <a:pt x="680" y="263"/>
                  </a:lnTo>
                  <a:lnTo>
                    <a:pt x="688" y="204"/>
                  </a:lnTo>
                  <a:lnTo>
                    <a:pt x="695" y="468"/>
                  </a:lnTo>
                  <a:lnTo>
                    <a:pt x="703" y="292"/>
                  </a:lnTo>
                  <a:lnTo>
                    <a:pt x="711" y="292"/>
                  </a:lnTo>
                  <a:lnTo>
                    <a:pt x="726" y="458"/>
                  </a:lnTo>
                  <a:lnTo>
                    <a:pt x="726" y="253"/>
                  </a:lnTo>
                  <a:lnTo>
                    <a:pt x="742" y="263"/>
                  </a:lnTo>
                  <a:lnTo>
                    <a:pt x="742" y="487"/>
                  </a:lnTo>
                  <a:lnTo>
                    <a:pt x="757" y="516"/>
                  </a:lnTo>
                  <a:lnTo>
                    <a:pt x="757" y="575"/>
                  </a:lnTo>
                  <a:lnTo>
                    <a:pt x="773" y="438"/>
                  </a:lnTo>
                  <a:lnTo>
                    <a:pt x="780" y="438"/>
                  </a:lnTo>
                  <a:lnTo>
                    <a:pt x="780" y="516"/>
                  </a:lnTo>
                  <a:lnTo>
                    <a:pt x="788" y="585"/>
                  </a:lnTo>
                  <a:lnTo>
                    <a:pt x="803" y="585"/>
                  </a:lnTo>
                  <a:lnTo>
                    <a:pt x="811" y="546"/>
                  </a:lnTo>
                  <a:lnTo>
                    <a:pt x="819" y="497"/>
                  </a:lnTo>
                  <a:lnTo>
                    <a:pt x="827" y="321"/>
                  </a:lnTo>
                  <a:lnTo>
                    <a:pt x="834" y="321"/>
                  </a:lnTo>
                  <a:lnTo>
                    <a:pt x="842" y="487"/>
                  </a:lnTo>
                  <a:lnTo>
                    <a:pt x="850" y="565"/>
                  </a:lnTo>
                  <a:lnTo>
                    <a:pt x="850" y="594"/>
                  </a:lnTo>
                  <a:lnTo>
                    <a:pt x="858" y="565"/>
                  </a:lnTo>
                  <a:lnTo>
                    <a:pt x="873" y="555"/>
                  </a:lnTo>
                  <a:lnTo>
                    <a:pt x="873" y="565"/>
                  </a:lnTo>
                  <a:lnTo>
                    <a:pt x="881" y="565"/>
                  </a:lnTo>
                  <a:lnTo>
                    <a:pt x="896" y="614"/>
                  </a:lnTo>
                  <a:lnTo>
                    <a:pt x="896" y="633"/>
                  </a:lnTo>
                  <a:lnTo>
                    <a:pt x="912" y="633"/>
                  </a:lnTo>
                  <a:lnTo>
                    <a:pt x="912" y="643"/>
                  </a:lnTo>
                  <a:lnTo>
                    <a:pt x="919" y="643"/>
                  </a:lnTo>
                  <a:lnTo>
                    <a:pt x="935" y="643"/>
                  </a:lnTo>
                  <a:lnTo>
                    <a:pt x="935" y="663"/>
                  </a:lnTo>
                  <a:lnTo>
                    <a:pt x="942" y="653"/>
                  </a:lnTo>
                  <a:lnTo>
                    <a:pt x="950" y="653"/>
                  </a:lnTo>
                  <a:lnTo>
                    <a:pt x="958" y="663"/>
                  </a:lnTo>
                  <a:lnTo>
                    <a:pt x="973" y="663"/>
                  </a:lnTo>
                  <a:lnTo>
                    <a:pt x="981" y="663"/>
                  </a:lnTo>
                  <a:lnTo>
                    <a:pt x="989" y="663"/>
                  </a:lnTo>
                  <a:lnTo>
                    <a:pt x="996" y="672"/>
                  </a:lnTo>
                  <a:lnTo>
                    <a:pt x="1004" y="672"/>
                  </a:lnTo>
                  <a:lnTo>
                    <a:pt x="1012" y="663"/>
                  </a:lnTo>
                  <a:lnTo>
                    <a:pt x="1012" y="672"/>
                  </a:lnTo>
                  <a:lnTo>
                    <a:pt x="1020" y="672"/>
                  </a:lnTo>
                  <a:lnTo>
                    <a:pt x="1027" y="672"/>
                  </a:lnTo>
                  <a:lnTo>
                    <a:pt x="1035" y="672"/>
                  </a:lnTo>
                  <a:lnTo>
                    <a:pt x="1051" y="672"/>
                  </a:lnTo>
                  <a:lnTo>
                    <a:pt x="1051" y="672"/>
                  </a:lnTo>
                  <a:lnTo>
                    <a:pt x="1058" y="672"/>
                  </a:lnTo>
                  <a:lnTo>
                    <a:pt x="1066" y="672"/>
                  </a:lnTo>
                  <a:lnTo>
                    <a:pt x="1074" y="672"/>
                  </a:lnTo>
                  <a:lnTo>
                    <a:pt x="1089" y="672"/>
                  </a:lnTo>
                  <a:lnTo>
                    <a:pt x="1089" y="672"/>
                  </a:lnTo>
                  <a:lnTo>
                    <a:pt x="1097" y="672"/>
                  </a:lnTo>
                  <a:lnTo>
                    <a:pt x="1112" y="672"/>
                  </a:lnTo>
                  <a:lnTo>
                    <a:pt x="1112" y="672"/>
                  </a:lnTo>
                  <a:lnTo>
                    <a:pt x="1128" y="672"/>
                  </a:lnTo>
                  <a:lnTo>
                    <a:pt x="1135" y="672"/>
                  </a:lnTo>
                  <a:lnTo>
                    <a:pt x="1143" y="672"/>
                  </a:lnTo>
                  <a:lnTo>
                    <a:pt x="1143" y="672"/>
                  </a:lnTo>
                  <a:lnTo>
                    <a:pt x="1151" y="672"/>
                  </a:lnTo>
                  <a:lnTo>
                    <a:pt x="1166" y="672"/>
                  </a:lnTo>
                  <a:lnTo>
                    <a:pt x="1174" y="672"/>
                  </a:lnTo>
                  <a:lnTo>
                    <a:pt x="1182" y="672"/>
                  </a:lnTo>
                  <a:lnTo>
                    <a:pt x="1190" y="672"/>
                  </a:lnTo>
                  <a:lnTo>
                    <a:pt x="1197" y="672"/>
                  </a:lnTo>
                  <a:lnTo>
                    <a:pt x="1197" y="672"/>
                  </a:lnTo>
                  <a:lnTo>
                    <a:pt x="1205" y="672"/>
                  </a:lnTo>
                  <a:lnTo>
                    <a:pt x="1213" y="672"/>
                  </a:lnTo>
                  <a:lnTo>
                    <a:pt x="1228" y="672"/>
                  </a:lnTo>
                  <a:lnTo>
                    <a:pt x="1236" y="672"/>
                  </a:lnTo>
                  <a:lnTo>
                    <a:pt x="1236" y="672"/>
                  </a:lnTo>
                  <a:lnTo>
                    <a:pt x="1244" y="672"/>
                  </a:lnTo>
                  <a:lnTo>
                    <a:pt x="1259" y="672"/>
                  </a:lnTo>
                  <a:lnTo>
                    <a:pt x="1259" y="672"/>
                  </a:lnTo>
                  <a:lnTo>
                    <a:pt x="1274" y="672"/>
                  </a:lnTo>
                  <a:lnTo>
                    <a:pt x="1274" y="672"/>
                  </a:lnTo>
                  <a:lnTo>
                    <a:pt x="1290" y="672"/>
                  </a:lnTo>
                  <a:lnTo>
                    <a:pt x="1290" y="672"/>
                  </a:lnTo>
                  <a:lnTo>
                    <a:pt x="1305" y="672"/>
                  </a:lnTo>
                  <a:lnTo>
                    <a:pt x="1305" y="672"/>
                  </a:lnTo>
                  <a:lnTo>
                    <a:pt x="1321" y="672"/>
                  </a:lnTo>
                  <a:lnTo>
                    <a:pt x="1321" y="672"/>
                  </a:lnTo>
                  <a:lnTo>
                    <a:pt x="1328" y="672"/>
                  </a:lnTo>
                  <a:lnTo>
                    <a:pt x="1336" y="672"/>
                  </a:lnTo>
                  <a:lnTo>
                    <a:pt x="1352" y="672"/>
                  </a:lnTo>
                  <a:lnTo>
                    <a:pt x="1352" y="682"/>
                  </a:lnTo>
                  <a:lnTo>
                    <a:pt x="1359" y="672"/>
                  </a:lnTo>
                  <a:lnTo>
                    <a:pt x="1367" y="672"/>
                  </a:lnTo>
                  <a:lnTo>
                    <a:pt x="1375" y="682"/>
                  </a:lnTo>
                  <a:lnTo>
                    <a:pt x="1383" y="672"/>
                  </a:lnTo>
                  <a:lnTo>
                    <a:pt x="1390" y="672"/>
                  </a:lnTo>
                  <a:lnTo>
                    <a:pt x="1398" y="672"/>
                  </a:lnTo>
                  <a:lnTo>
                    <a:pt x="1406" y="663"/>
                  </a:lnTo>
                  <a:lnTo>
                    <a:pt x="1413" y="663"/>
                  </a:lnTo>
                  <a:lnTo>
                    <a:pt x="1421" y="663"/>
                  </a:lnTo>
                  <a:lnTo>
                    <a:pt x="1429" y="672"/>
                  </a:lnTo>
                  <a:lnTo>
                    <a:pt x="1437" y="672"/>
                  </a:lnTo>
                  <a:lnTo>
                    <a:pt x="1444" y="672"/>
                  </a:lnTo>
                  <a:lnTo>
                    <a:pt x="1460" y="672"/>
                  </a:lnTo>
                  <a:lnTo>
                    <a:pt x="1460" y="653"/>
                  </a:lnTo>
                  <a:lnTo>
                    <a:pt x="1467" y="643"/>
                  </a:lnTo>
                  <a:lnTo>
                    <a:pt x="1475" y="643"/>
                  </a:lnTo>
                  <a:lnTo>
                    <a:pt x="1491" y="663"/>
                  </a:lnTo>
                  <a:lnTo>
                    <a:pt x="1491" y="672"/>
                  </a:lnTo>
                  <a:lnTo>
                    <a:pt x="1506" y="672"/>
                  </a:lnTo>
                  <a:lnTo>
                    <a:pt x="1506" y="663"/>
                  </a:lnTo>
                  <a:lnTo>
                    <a:pt x="1514" y="663"/>
                  </a:lnTo>
                  <a:lnTo>
                    <a:pt x="1529" y="672"/>
                  </a:lnTo>
                  <a:lnTo>
                    <a:pt x="1529" y="672"/>
                  </a:lnTo>
                  <a:lnTo>
                    <a:pt x="1537" y="672"/>
                  </a:lnTo>
                  <a:lnTo>
                    <a:pt x="1552" y="672"/>
                  </a:lnTo>
                  <a:lnTo>
                    <a:pt x="1552" y="672"/>
                  </a:lnTo>
                  <a:lnTo>
                    <a:pt x="1568" y="672"/>
                  </a:lnTo>
                  <a:lnTo>
                    <a:pt x="1568" y="672"/>
                  </a:lnTo>
                  <a:lnTo>
                    <a:pt x="1576" y="672"/>
                  </a:lnTo>
                  <a:lnTo>
                    <a:pt x="1591" y="672"/>
                  </a:lnTo>
                  <a:lnTo>
                    <a:pt x="1599" y="672"/>
                  </a:lnTo>
                  <a:lnTo>
                    <a:pt x="1599" y="672"/>
                  </a:lnTo>
                  <a:lnTo>
                    <a:pt x="1606" y="672"/>
                  </a:lnTo>
                  <a:lnTo>
                    <a:pt x="1622" y="672"/>
                  </a:lnTo>
                  <a:lnTo>
                    <a:pt x="1630" y="672"/>
                  </a:lnTo>
                  <a:lnTo>
                    <a:pt x="1637" y="653"/>
                  </a:lnTo>
                  <a:lnTo>
                    <a:pt x="1645" y="653"/>
                  </a:lnTo>
                  <a:lnTo>
                    <a:pt x="1653" y="663"/>
                  </a:lnTo>
                  <a:lnTo>
                    <a:pt x="1661" y="663"/>
                  </a:lnTo>
                  <a:lnTo>
                    <a:pt x="1668" y="653"/>
                  </a:lnTo>
                  <a:lnTo>
                    <a:pt x="1676" y="643"/>
                  </a:lnTo>
                  <a:lnTo>
                    <a:pt x="1684" y="624"/>
                  </a:lnTo>
                  <a:lnTo>
                    <a:pt x="1691" y="546"/>
                  </a:lnTo>
                  <a:lnTo>
                    <a:pt x="1699" y="546"/>
                  </a:lnTo>
                  <a:lnTo>
                    <a:pt x="1699" y="614"/>
                  </a:lnTo>
                  <a:lnTo>
                    <a:pt x="1707" y="604"/>
                  </a:lnTo>
                  <a:lnTo>
                    <a:pt x="1722" y="624"/>
                  </a:lnTo>
                  <a:lnTo>
                    <a:pt x="1730" y="643"/>
                  </a:lnTo>
                  <a:lnTo>
                    <a:pt x="1738" y="643"/>
                  </a:lnTo>
                  <a:lnTo>
                    <a:pt x="1738" y="653"/>
                  </a:lnTo>
                  <a:lnTo>
                    <a:pt x="1753" y="653"/>
                  </a:lnTo>
                  <a:lnTo>
                    <a:pt x="1761" y="653"/>
                  </a:lnTo>
                  <a:lnTo>
                    <a:pt x="1761" y="653"/>
                  </a:lnTo>
                  <a:lnTo>
                    <a:pt x="1776" y="653"/>
                  </a:lnTo>
                  <a:lnTo>
                    <a:pt x="1776" y="653"/>
                  </a:lnTo>
                  <a:lnTo>
                    <a:pt x="1784" y="653"/>
                  </a:lnTo>
                  <a:lnTo>
                    <a:pt x="1792" y="663"/>
                  </a:lnTo>
                  <a:lnTo>
                    <a:pt x="1799" y="663"/>
                  </a:lnTo>
                  <a:lnTo>
                    <a:pt x="1807" y="663"/>
                  </a:lnTo>
                  <a:lnTo>
                    <a:pt x="1815" y="663"/>
                  </a:lnTo>
                  <a:lnTo>
                    <a:pt x="1823" y="663"/>
                  </a:lnTo>
                  <a:lnTo>
                    <a:pt x="1838" y="663"/>
                  </a:lnTo>
                  <a:lnTo>
                    <a:pt x="1838" y="663"/>
                  </a:lnTo>
                  <a:lnTo>
                    <a:pt x="1846" y="663"/>
                  </a:lnTo>
                  <a:lnTo>
                    <a:pt x="1861" y="663"/>
                  </a:lnTo>
                  <a:lnTo>
                    <a:pt x="1861" y="663"/>
                  </a:lnTo>
                  <a:lnTo>
                    <a:pt x="1869" y="672"/>
                  </a:lnTo>
                  <a:lnTo>
                    <a:pt x="1884" y="672"/>
                  </a:lnTo>
                  <a:lnTo>
                    <a:pt x="1884" y="672"/>
                  </a:lnTo>
                  <a:lnTo>
                    <a:pt x="1892" y="663"/>
                  </a:lnTo>
                  <a:lnTo>
                    <a:pt x="1900" y="672"/>
                  </a:lnTo>
                  <a:lnTo>
                    <a:pt x="1908" y="672"/>
                  </a:lnTo>
                  <a:lnTo>
                    <a:pt x="1915" y="672"/>
                  </a:lnTo>
                  <a:lnTo>
                    <a:pt x="1931" y="672"/>
                  </a:lnTo>
                  <a:lnTo>
                    <a:pt x="1938" y="672"/>
                  </a:lnTo>
                  <a:lnTo>
                    <a:pt x="1946" y="672"/>
                  </a:lnTo>
                  <a:lnTo>
                    <a:pt x="1946" y="672"/>
                  </a:lnTo>
                  <a:lnTo>
                    <a:pt x="1954" y="672"/>
                  </a:lnTo>
                  <a:lnTo>
                    <a:pt x="1962" y="672"/>
                  </a:lnTo>
                  <a:lnTo>
                    <a:pt x="1969" y="672"/>
                  </a:lnTo>
                  <a:lnTo>
                    <a:pt x="1985" y="672"/>
                  </a:lnTo>
                  <a:lnTo>
                    <a:pt x="1993" y="672"/>
                  </a:lnTo>
                  <a:lnTo>
                    <a:pt x="2000" y="672"/>
                  </a:lnTo>
                  <a:lnTo>
                    <a:pt x="2000" y="672"/>
                  </a:lnTo>
                  <a:lnTo>
                    <a:pt x="2008" y="672"/>
                  </a:lnTo>
                  <a:lnTo>
                    <a:pt x="2016" y="672"/>
                  </a:lnTo>
                  <a:lnTo>
                    <a:pt x="2023" y="672"/>
                  </a:lnTo>
                  <a:lnTo>
                    <a:pt x="2039" y="672"/>
                  </a:lnTo>
                  <a:lnTo>
                    <a:pt x="2047" y="672"/>
                  </a:lnTo>
                  <a:lnTo>
                    <a:pt x="2047" y="672"/>
                  </a:lnTo>
                  <a:lnTo>
                    <a:pt x="2054" y="672"/>
                  </a:lnTo>
                  <a:lnTo>
                    <a:pt x="2070" y="672"/>
                  </a:lnTo>
                  <a:lnTo>
                    <a:pt x="2070" y="672"/>
                  </a:lnTo>
                  <a:lnTo>
                    <a:pt x="2077" y="672"/>
                  </a:lnTo>
                  <a:lnTo>
                    <a:pt x="2093" y="682"/>
                  </a:lnTo>
                  <a:lnTo>
                    <a:pt x="2093" y="672"/>
                  </a:lnTo>
                  <a:lnTo>
                    <a:pt x="2101" y="672"/>
                  </a:lnTo>
                  <a:lnTo>
                    <a:pt x="2108" y="672"/>
                  </a:lnTo>
                  <a:lnTo>
                    <a:pt x="2116" y="672"/>
                  </a:lnTo>
                  <a:lnTo>
                    <a:pt x="2131" y="672"/>
                  </a:lnTo>
                  <a:lnTo>
                    <a:pt x="2131" y="672"/>
                  </a:lnTo>
                  <a:lnTo>
                    <a:pt x="2147" y="672"/>
                  </a:lnTo>
                  <a:lnTo>
                    <a:pt x="2147" y="672"/>
                  </a:lnTo>
                  <a:lnTo>
                    <a:pt x="2155" y="672"/>
                  </a:lnTo>
                  <a:lnTo>
                    <a:pt x="2170" y="672"/>
                  </a:lnTo>
                  <a:lnTo>
                    <a:pt x="2170" y="672"/>
                  </a:lnTo>
                  <a:lnTo>
                    <a:pt x="2186" y="672"/>
                  </a:lnTo>
                  <a:lnTo>
                    <a:pt x="2186" y="672"/>
                  </a:lnTo>
                  <a:lnTo>
                    <a:pt x="2193" y="672"/>
                  </a:lnTo>
                  <a:lnTo>
                    <a:pt x="2209" y="672"/>
                  </a:lnTo>
                  <a:lnTo>
                    <a:pt x="2216" y="672"/>
                  </a:lnTo>
                  <a:lnTo>
                    <a:pt x="2216" y="672"/>
                  </a:lnTo>
                  <a:lnTo>
                    <a:pt x="2232" y="672"/>
                  </a:lnTo>
                  <a:lnTo>
                    <a:pt x="2240" y="663"/>
                  </a:lnTo>
                  <a:lnTo>
                    <a:pt x="2247" y="653"/>
                  </a:lnTo>
                  <a:lnTo>
                    <a:pt x="2247" y="643"/>
                  </a:lnTo>
                  <a:lnTo>
                    <a:pt x="2255" y="604"/>
                  </a:lnTo>
                  <a:lnTo>
                    <a:pt x="2263" y="585"/>
                  </a:lnTo>
                  <a:lnTo>
                    <a:pt x="2278" y="585"/>
                  </a:lnTo>
                  <a:lnTo>
                    <a:pt x="2286" y="487"/>
                  </a:lnTo>
                  <a:lnTo>
                    <a:pt x="2294" y="448"/>
                  </a:lnTo>
                  <a:lnTo>
                    <a:pt x="2301" y="477"/>
                  </a:lnTo>
                  <a:lnTo>
                    <a:pt x="2309" y="477"/>
                  </a:lnTo>
                  <a:lnTo>
                    <a:pt x="2317" y="448"/>
                  </a:lnTo>
                  <a:lnTo>
                    <a:pt x="2325" y="458"/>
                  </a:lnTo>
                  <a:lnTo>
                    <a:pt x="2332" y="516"/>
                  </a:lnTo>
                  <a:lnTo>
                    <a:pt x="2340" y="565"/>
                  </a:lnTo>
                  <a:lnTo>
                    <a:pt x="2348" y="594"/>
                  </a:lnTo>
                  <a:lnTo>
                    <a:pt x="2355" y="585"/>
                  </a:lnTo>
                  <a:lnTo>
                    <a:pt x="2363" y="594"/>
                  </a:lnTo>
                  <a:lnTo>
                    <a:pt x="2363" y="614"/>
                  </a:lnTo>
                  <a:lnTo>
                    <a:pt x="2371" y="624"/>
                  </a:lnTo>
                  <a:lnTo>
                    <a:pt x="2379" y="624"/>
                  </a:lnTo>
                  <a:lnTo>
                    <a:pt x="2394" y="624"/>
                  </a:lnTo>
                  <a:lnTo>
                    <a:pt x="2402" y="624"/>
                  </a:lnTo>
                  <a:lnTo>
                    <a:pt x="2409" y="624"/>
                  </a:lnTo>
                  <a:lnTo>
                    <a:pt x="2409" y="624"/>
                  </a:lnTo>
                  <a:lnTo>
                    <a:pt x="2425" y="633"/>
                  </a:lnTo>
                  <a:lnTo>
                    <a:pt x="2433" y="624"/>
                  </a:lnTo>
                  <a:lnTo>
                    <a:pt x="2433" y="633"/>
                  </a:lnTo>
                  <a:lnTo>
                    <a:pt x="2440" y="633"/>
                  </a:lnTo>
                  <a:lnTo>
                    <a:pt x="2456" y="643"/>
                  </a:lnTo>
                  <a:lnTo>
                    <a:pt x="2456" y="643"/>
                  </a:lnTo>
                  <a:lnTo>
                    <a:pt x="2464" y="643"/>
                  </a:lnTo>
                  <a:lnTo>
                    <a:pt x="2479" y="653"/>
                  </a:lnTo>
                  <a:lnTo>
                    <a:pt x="2479" y="653"/>
                  </a:lnTo>
                  <a:lnTo>
                    <a:pt x="2494" y="653"/>
                  </a:lnTo>
                  <a:lnTo>
                    <a:pt x="2494" y="653"/>
                  </a:lnTo>
                  <a:lnTo>
                    <a:pt x="2510" y="663"/>
                  </a:lnTo>
                  <a:lnTo>
                    <a:pt x="2510" y="663"/>
                  </a:lnTo>
                  <a:lnTo>
                    <a:pt x="2525" y="663"/>
                  </a:lnTo>
                  <a:lnTo>
                    <a:pt x="2525" y="663"/>
                  </a:lnTo>
                  <a:lnTo>
                    <a:pt x="2541" y="663"/>
                  </a:lnTo>
                  <a:lnTo>
                    <a:pt x="2541" y="663"/>
                  </a:lnTo>
                  <a:lnTo>
                    <a:pt x="2556" y="663"/>
                  </a:lnTo>
                  <a:lnTo>
                    <a:pt x="2556" y="663"/>
                  </a:lnTo>
                  <a:lnTo>
                    <a:pt x="2564" y="663"/>
                  </a:lnTo>
                  <a:lnTo>
                    <a:pt x="2579" y="663"/>
                  </a:lnTo>
                  <a:lnTo>
                    <a:pt x="2579" y="672"/>
                  </a:lnTo>
                  <a:lnTo>
                    <a:pt x="2595" y="672"/>
                  </a:lnTo>
                  <a:lnTo>
                    <a:pt x="2595" y="672"/>
                  </a:lnTo>
                  <a:lnTo>
                    <a:pt x="2602" y="672"/>
                  </a:lnTo>
                  <a:lnTo>
                    <a:pt x="2610" y="672"/>
                  </a:lnTo>
                  <a:lnTo>
                    <a:pt x="2626" y="672"/>
                  </a:lnTo>
                  <a:lnTo>
                    <a:pt x="2626" y="672"/>
                  </a:lnTo>
                  <a:lnTo>
                    <a:pt x="2633" y="672"/>
                  </a:lnTo>
                  <a:lnTo>
                    <a:pt x="2641" y="672"/>
                  </a:lnTo>
                  <a:lnTo>
                    <a:pt x="2657" y="672"/>
                  </a:lnTo>
                  <a:lnTo>
                    <a:pt x="2664" y="672"/>
                  </a:lnTo>
                  <a:lnTo>
                    <a:pt x="2664" y="672"/>
                  </a:lnTo>
                  <a:lnTo>
                    <a:pt x="2672" y="672"/>
                  </a:lnTo>
                  <a:lnTo>
                    <a:pt x="2680" y="672"/>
                  </a:lnTo>
                  <a:lnTo>
                    <a:pt x="2687" y="672"/>
                  </a:lnTo>
                  <a:lnTo>
                    <a:pt x="2695" y="672"/>
                  </a:lnTo>
                  <a:lnTo>
                    <a:pt x="2703" y="672"/>
                  </a:lnTo>
                  <a:lnTo>
                    <a:pt x="2718" y="672"/>
                  </a:lnTo>
                  <a:lnTo>
                    <a:pt x="2726" y="672"/>
                  </a:lnTo>
                  <a:lnTo>
                    <a:pt x="2734" y="672"/>
                  </a:lnTo>
                  <a:lnTo>
                    <a:pt x="2741" y="672"/>
                  </a:lnTo>
                  <a:lnTo>
                    <a:pt x="2749" y="672"/>
                  </a:lnTo>
                  <a:lnTo>
                    <a:pt x="2757" y="672"/>
                  </a:lnTo>
                  <a:lnTo>
                    <a:pt x="2765" y="672"/>
                  </a:lnTo>
                  <a:lnTo>
                    <a:pt x="2772" y="672"/>
                  </a:lnTo>
                  <a:lnTo>
                    <a:pt x="2772" y="672"/>
                  </a:lnTo>
                  <a:lnTo>
                    <a:pt x="2780" y="672"/>
                  </a:lnTo>
                  <a:lnTo>
                    <a:pt x="2788" y="672"/>
                  </a:lnTo>
                  <a:lnTo>
                    <a:pt x="2796" y="672"/>
                  </a:lnTo>
                  <a:lnTo>
                    <a:pt x="2803" y="672"/>
                  </a:lnTo>
                  <a:lnTo>
                    <a:pt x="2811" y="672"/>
                  </a:lnTo>
                  <a:lnTo>
                    <a:pt x="2819" y="672"/>
                  </a:lnTo>
                  <a:lnTo>
                    <a:pt x="2834" y="672"/>
                  </a:lnTo>
                  <a:lnTo>
                    <a:pt x="2834" y="672"/>
                  </a:lnTo>
                  <a:lnTo>
                    <a:pt x="2842" y="672"/>
                  </a:lnTo>
                  <a:lnTo>
                    <a:pt x="2850" y="672"/>
                  </a:lnTo>
                  <a:lnTo>
                    <a:pt x="2865" y="672"/>
                  </a:lnTo>
                  <a:lnTo>
                    <a:pt x="2873" y="672"/>
                  </a:lnTo>
                  <a:lnTo>
                    <a:pt x="2873" y="672"/>
                  </a:lnTo>
                  <a:lnTo>
                    <a:pt x="2880" y="672"/>
                  </a:lnTo>
                  <a:lnTo>
                    <a:pt x="2896" y="672"/>
                  </a:lnTo>
                  <a:lnTo>
                    <a:pt x="2896" y="672"/>
                  </a:lnTo>
                  <a:lnTo>
                    <a:pt x="2904" y="672"/>
                  </a:lnTo>
                  <a:lnTo>
                    <a:pt x="2919" y="672"/>
                  </a:lnTo>
                  <a:lnTo>
                    <a:pt x="2919" y="682"/>
                  </a:lnTo>
                  <a:lnTo>
                    <a:pt x="2927" y="672"/>
                  </a:lnTo>
                  <a:lnTo>
                    <a:pt x="2942" y="672"/>
                  </a:lnTo>
                  <a:lnTo>
                    <a:pt x="2942" y="672"/>
                  </a:lnTo>
                  <a:lnTo>
                    <a:pt x="2958" y="672"/>
                  </a:lnTo>
                  <a:lnTo>
                    <a:pt x="2958" y="672"/>
                  </a:lnTo>
                  <a:lnTo>
                    <a:pt x="2973" y="672"/>
                  </a:lnTo>
                  <a:lnTo>
                    <a:pt x="2973" y="672"/>
                  </a:lnTo>
                  <a:lnTo>
                    <a:pt x="2989" y="672"/>
                  </a:lnTo>
                  <a:lnTo>
                    <a:pt x="2989" y="682"/>
                  </a:lnTo>
                  <a:lnTo>
                    <a:pt x="3004" y="672"/>
                  </a:lnTo>
                  <a:lnTo>
                    <a:pt x="3004" y="672"/>
                  </a:lnTo>
                  <a:lnTo>
                    <a:pt x="3019" y="682"/>
                  </a:lnTo>
                  <a:lnTo>
                    <a:pt x="3019" y="682"/>
                  </a:lnTo>
                  <a:lnTo>
                    <a:pt x="3035" y="672"/>
                  </a:lnTo>
                  <a:lnTo>
                    <a:pt x="3035" y="672"/>
                  </a:lnTo>
                  <a:lnTo>
                    <a:pt x="3043" y="672"/>
                  </a:lnTo>
                  <a:lnTo>
                    <a:pt x="3058" y="672"/>
                  </a:lnTo>
                  <a:lnTo>
                    <a:pt x="3058" y="682"/>
                  </a:lnTo>
                  <a:lnTo>
                    <a:pt x="3073" y="672"/>
                  </a:lnTo>
                  <a:lnTo>
                    <a:pt x="3081" y="672"/>
                  </a:lnTo>
                  <a:lnTo>
                    <a:pt x="3081" y="672"/>
                  </a:lnTo>
                  <a:lnTo>
                    <a:pt x="3097" y="672"/>
                  </a:lnTo>
                  <a:lnTo>
                    <a:pt x="3104" y="672"/>
                  </a:lnTo>
                  <a:lnTo>
                    <a:pt x="3104" y="672"/>
                  </a:lnTo>
                  <a:lnTo>
                    <a:pt x="3112" y="672"/>
                  </a:lnTo>
                  <a:lnTo>
                    <a:pt x="3128" y="672"/>
                  </a:lnTo>
                  <a:lnTo>
                    <a:pt x="3135" y="672"/>
                  </a:lnTo>
                  <a:lnTo>
                    <a:pt x="3135" y="672"/>
                  </a:lnTo>
                  <a:lnTo>
                    <a:pt x="3143" y="672"/>
                  </a:lnTo>
                  <a:lnTo>
                    <a:pt x="3158" y="672"/>
                  </a:lnTo>
                  <a:lnTo>
                    <a:pt x="3166" y="672"/>
                  </a:lnTo>
                  <a:lnTo>
                    <a:pt x="3174" y="672"/>
                  </a:lnTo>
                  <a:lnTo>
                    <a:pt x="3182" y="672"/>
                  </a:lnTo>
                  <a:lnTo>
                    <a:pt x="3182" y="672"/>
                  </a:lnTo>
                  <a:lnTo>
                    <a:pt x="3189" y="672"/>
                  </a:lnTo>
                  <a:lnTo>
                    <a:pt x="3197" y="672"/>
                  </a:lnTo>
                  <a:lnTo>
                    <a:pt x="3205" y="672"/>
                  </a:lnTo>
                  <a:lnTo>
                    <a:pt x="3220" y="672"/>
                  </a:lnTo>
                  <a:lnTo>
                    <a:pt x="3228" y="672"/>
                  </a:lnTo>
                  <a:lnTo>
                    <a:pt x="3236" y="672"/>
                  </a:lnTo>
                  <a:lnTo>
                    <a:pt x="3243" y="682"/>
                  </a:lnTo>
                  <a:lnTo>
                    <a:pt x="3251" y="672"/>
                  </a:lnTo>
                  <a:lnTo>
                    <a:pt x="3259" y="672"/>
                  </a:lnTo>
                  <a:lnTo>
                    <a:pt x="3267" y="672"/>
                  </a:lnTo>
                  <a:lnTo>
                    <a:pt x="3274" y="672"/>
                  </a:lnTo>
                  <a:lnTo>
                    <a:pt x="3282" y="672"/>
                  </a:lnTo>
                  <a:lnTo>
                    <a:pt x="3290" y="672"/>
                  </a:lnTo>
                  <a:lnTo>
                    <a:pt x="3297" y="672"/>
                  </a:lnTo>
                  <a:lnTo>
                    <a:pt x="3297" y="672"/>
                  </a:lnTo>
                  <a:lnTo>
                    <a:pt x="3305" y="672"/>
                  </a:lnTo>
                  <a:lnTo>
                    <a:pt x="3313" y="672"/>
                  </a:lnTo>
                  <a:lnTo>
                    <a:pt x="3321" y="672"/>
                  </a:lnTo>
                  <a:lnTo>
                    <a:pt x="3336" y="672"/>
                  </a:lnTo>
                  <a:lnTo>
                    <a:pt x="3344" y="672"/>
                  </a:lnTo>
                  <a:lnTo>
                    <a:pt x="3351" y="672"/>
                  </a:lnTo>
                  <a:lnTo>
                    <a:pt x="3359" y="672"/>
                  </a:lnTo>
                  <a:lnTo>
                    <a:pt x="3359" y="672"/>
                  </a:lnTo>
                  <a:lnTo>
                    <a:pt x="3367" y="672"/>
                  </a:lnTo>
                  <a:lnTo>
                    <a:pt x="3382" y="672"/>
                  </a:lnTo>
                  <a:lnTo>
                    <a:pt x="3390" y="672"/>
                  </a:lnTo>
                  <a:lnTo>
                    <a:pt x="3390" y="672"/>
                  </a:lnTo>
                  <a:lnTo>
                    <a:pt x="3398" y="672"/>
                  </a:lnTo>
                  <a:lnTo>
                    <a:pt x="3413" y="672"/>
                  </a:lnTo>
                  <a:lnTo>
                    <a:pt x="3421" y="672"/>
                  </a:lnTo>
                  <a:lnTo>
                    <a:pt x="3421" y="672"/>
                  </a:lnTo>
                  <a:lnTo>
                    <a:pt x="3429" y="672"/>
                  </a:lnTo>
                  <a:lnTo>
                    <a:pt x="3444" y="672"/>
                  </a:lnTo>
                  <a:lnTo>
                    <a:pt x="3444" y="672"/>
                  </a:lnTo>
                  <a:lnTo>
                    <a:pt x="3452" y="672"/>
                  </a:lnTo>
                  <a:lnTo>
                    <a:pt x="3467" y="672"/>
                  </a:lnTo>
                  <a:lnTo>
                    <a:pt x="3467" y="672"/>
                  </a:lnTo>
                  <a:lnTo>
                    <a:pt x="3483" y="672"/>
                  </a:lnTo>
                  <a:lnTo>
                    <a:pt x="3490" y="672"/>
                  </a:lnTo>
                  <a:lnTo>
                    <a:pt x="3490" y="672"/>
                  </a:lnTo>
                  <a:lnTo>
                    <a:pt x="3506" y="672"/>
                  </a:lnTo>
                  <a:lnTo>
                    <a:pt x="3506" y="672"/>
                  </a:lnTo>
                  <a:lnTo>
                    <a:pt x="3521" y="672"/>
                  </a:lnTo>
                  <a:lnTo>
                    <a:pt x="3521" y="672"/>
                  </a:lnTo>
                  <a:lnTo>
                    <a:pt x="3537" y="672"/>
                  </a:lnTo>
                  <a:lnTo>
                    <a:pt x="3537" y="672"/>
                  </a:lnTo>
                  <a:lnTo>
                    <a:pt x="3552" y="672"/>
                  </a:lnTo>
                  <a:lnTo>
                    <a:pt x="3552" y="672"/>
                  </a:lnTo>
                  <a:lnTo>
                    <a:pt x="3568" y="672"/>
                  </a:lnTo>
                  <a:lnTo>
                    <a:pt x="3568" y="672"/>
                  </a:lnTo>
                  <a:lnTo>
                    <a:pt x="3583" y="672"/>
                  </a:lnTo>
                  <a:lnTo>
                    <a:pt x="3583" y="672"/>
                  </a:lnTo>
                  <a:lnTo>
                    <a:pt x="3599" y="672"/>
                  </a:lnTo>
                  <a:lnTo>
                    <a:pt x="3599" y="672"/>
                  </a:lnTo>
                  <a:lnTo>
                    <a:pt x="3614" y="672"/>
                  </a:lnTo>
                  <a:lnTo>
                    <a:pt x="3614" y="672"/>
                  </a:lnTo>
                  <a:lnTo>
                    <a:pt x="3622" y="672"/>
                  </a:lnTo>
                  <a:lnTo>
                    <a:pt x="3637" y="672"/>
                  </a:lnTo>
                  <a:lnTo>
                    <a:pt x="3637" y="672"/>
                  </a:lnTo>
                  <a:lnTo>
                    <a:pt x="3645" y="672"/>
                  </a:lnTo>
                  <a:lnTo>
                    <a:pt x="3660" y="672"/>
                  </a:lnTo>
                  <a:lnTo>
                    <a:pt x="3660" y="672"/>
                  </a:lnTo>
                  <a:lnTo>
                    <a:pt x="3668" y="672"/>
                  </a:lnTo>
                  <a:lnTo>
                    <a:pt x="3683" y="672"/>
                  </a:lnTo>
                  <a:lnTo>
                    <a:pt x="3683" y="672"/>
                  </a:lnTo>
                  <a:lnTo>
                    <a:pt x="3691" y="672"/>
                  </a:lnTo>
                  <a:lnTo>
                    <a:pt x="3707" y="682"/>
                  </a:lnTo>
                  <a:lnTo>
                    <a:pt x="3714" y="682"/>
                  </a:lnTo>
                  <a:lnTo>
                    <a:pt x="3714" y="672"/>
                  </a:lnTo>
                  <a:lnTo>
                    <a:pt x="3722" y="672"/>
                  </a:lnTo>
                  <a:lnTo>
                    <a:pt x="3730" y="672"/>
                  </a:lnTo>
                  <a:lnTo>
                    <a:pt x="3745" y="672"/>
                  </a:lnTo>
                  <a:lnTo>
                    <a:pt x="3745" y="672"/>
                  </a:lnTo>
                  <a:lnTo>
                    <a:pt x="3753" y="672"/>
                  </a:lnTo>
                  <a:lnTo>
                    <a:pt x="3761" y="672"/>
                  </a:lnTo>
                  <a:lnTo>
                    <a:pt x="3768" y="672"/>
                  </a:lnTo>
                  <a:lnTo>
                    <a:pt x="3784" y="672"/>
                  </a:lnTo>
                  <a:lnTo>
                    <a:pt x="3792" y="672"/>
                  </a:lnTo>
                  <a:lnTo>
                    <a:pt x="3792" y="672"/>
                  </a:lnTo>
                  <a:lnTo>
                    <a:pt x="3799" y="672"/>
                  </a:lnTo>
                  <a:lnTo>
                    <a:pt x="3807" y="672"/>
                  </a:lnTo>
                  <a:lnTo>
                    <a:pt x="3815" y="672"/>
                  </a:lnTo>
                  <a:lnTo>
                    <a:pt x="3822" y="672"/>
                  </a:lnTo>
                  <a:lnTo>
                    <a:pt x="3830" y="672"/>
                  </a:lnTo>
                  <a:lnTo>
                    <a:pt x="3838" y="672"/>
                  </a:lnTo>
                  <a:lnTo>
                    <a:pt x="3846" y="6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60880" y="4463640"/>
              <a:ext cx="714240" cy="136440"/>
            </a:xfrm>
            <a:custGeom>
              <a:avLst/>
              <a:gdLst/>
              <a:ahLst/>
              <a:rect l="l" t="t" r="r" b="b"/>
              <a:pathLst>
                <a:path w="826" h="185">
                  <a:moveTo>
                    <a:pt x="0" y="185"/>
                  </a:moveTo>
                  <a:lnTo>
                    <a:pt x="7" y="185"/>
                  </a:lnTo>
                  <a:lnTo>
                    <a:pt x="15" y="185"/>
                  </a:lnTo>
                  <a:lnTo>
                    <a:pt x="23" y="185"/>
                  </a:lnTo>
                  <a:lnTo>
                    <a:pt x="30" y="185"/>
                  </a:lnTo>
                  <a:lnTo>
                    <a:pt x="38" y="185"/>
                  </a:lnTo>
                  <a:lnTo>
                    <a:pt x="46" y="185"/>
                  </a:lnTo>
                  <a:lnTo>
                    <a:pt x="54" y="185"/>
                  </a:lnTo>
                  <a:lnTo>
                    <a:pt x="61" y="185"/>
                  </a:lnTo>
                  <a:lnTo>
                    <a:pt x="69" y="185"/>
                  </a:lnTo>
                  <a:lnTo>
                    <a:pt x="77" y="185"/>
                  </a:lnTo>
                  <a:lnTo>
                    <a:pt x="85" y="185"/>
                  </a:lnTo>
                  <a:lnTo>
                    <a:pt x="92" y="185"/>
                  </a:lnTo>
                  <a:lnTo>
                    <a:pt x="100" y="185"/>
                  </a:lnTo>
                  <a:lnTo>
                    <a:pt x="108" y="185"/>
                  </a:lnTo>
                  <a:lnTo>
                    <a:pt x="115" y="185"/>
                  </a:lnTo>
                  <a:lnTo>
                    <a:pt x="131" y="185"/>
                  </a:lnTo>
                  <a:lnTo>
                    <a:pt x="139" y="185"/>
                  </a:lnTo>
                  <a:lnTo>
                    <a:pt x="139" y="185"/>
                  </a:lnTo>
                  <a:lnTo>
                    <a:pt x="146" y="185"/>
                  </a:lnTo>
                  <a:lnTo>
                    <a:pt x="154" y="185"/>
                  </a:lnTo>
                  <a:lnTo>
                    <a:pt x="162" y="185"/>
                  </a:lnTo>
                  <a:lnTo>
                    <a:pt x="177" y="185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93" y="185"/>
                  </a:lnTo>
                  <a:lnTo>
                    <a:pt x="200" y="185"/>
                  </a:lnTo>
                  <a:lnTo>
                    <a:pt x="216" y="185"/>
                  </a:lnTo>
                  <a:lnTo>
                    <a:pt x="216" y="185"/>
                  </a:lnTo>
                  <a:lnTo>
                    <a:pt x="224" y="185"/>
                  </a:lnTo>
                  <a:lnTo>
                    <a:pt x="231" y="185"/>
                  </a:lnTo>
                  <a:lnTo>
                    <a:pt x="247" y="185"/>
                  </a:lnTo>
                  <a:lnTo>
                    <a:pt x="247" y="185"/>
                  </a:lnTo>
                  <a:lnTo>
                    <a:pt x="254" y="185"/>
                  </a:lnTo>
                  <a:lnTo>
                    <a:pt x="270" y="185"/>
                  </a:lnTo>
                  <a:lnTo>
                    <a:pt x="270" y="185"/>
                  </a:lnTo>
                  <a:lnTo>
                    <a:pt x="278" y="185"/>
                  </a:lnTo>
                  <a:lnTo>
                    <a:pt x="293" y="185"/>
                  </a:lnTo>
                  <a:lnTo>
                    <a:pt x="293" y="185"/>
                  </a:lnTo>
                  <a:lnTo>
                    <a:pt x="301" y="185"/>
                  </a:lnTo>
                  <a:lnTo>
                    <a:pt x="316" y="185"/>
                  </a:lnTo>
                  <a:lnTo>
                    <a:pt x="316" y="185"/>
                  </a:lnTo>
                  <a:lnTo>
                    <a:pt x="332" y="185"/>
                  </a:lnTo>
                  <a:lnTo>
                    <a:pt x="332" y="185"/>
                  </a:lnTo>
                  <a:lnTo>
                    <a:pt x="339" y="185"/>
                  </a:lnTo>
                  <a:lnTo>
                    <a:pt x="355" y="185"/>
                  </a:lnTo>
                  <a:lnTo>
                    <a:pt x="355" y="185"/>
                  </a:lnTo>
                  <a:lnTo>
                    <a:pt x="370" y="176"/>
                  </a:lnTo>
                  <a:lnTo>
                    <a:pt x="370" y="176"/>
                  </a:lnTo>
                  <a:lnTo>
                    <a:pt x="386" y="176"/>
                  </a:lnTo>
                  <a:lnTo>
                    <a:pt x="386" y="176"/>
                  </a:lnTo>
                  <a:lnTo>
                    <a:pt x="401" y="166"/>
                  </a:lnTo>
                  <a:lnTo>
                    <a:pt x="401" y="156"/>
                  </a:lnTo>
                  <a:lnTo>
                    <a:pt x="417" y="146"/>
                  </a:lnTo>
                  <a:lnTo>
                    <a:pt x="417" y="117"/>
                  </a:lnTo>
                  <a:lnTo>
                    <a:pt x="432" y="88"/>
                  </a:lnTo>
                  <a:lnTo>
                    <a:pt x="432" y="49"/>
                  </a:lnTo>
                  <a:lnTo>
                    <a:pt x="447" y="20"/>
                  </a:lnTo>
                  <a:lnTo>
                    <a:pt x="447" y="0"/>
                  </a:lnTo>
                  <a:lnTo>
                    <a:pt x="463" y="0"/>
                  </a:lnTo>
                  <a:lnTo>
                    <a:pt x="463" y="20"/>
                  </a:lnTo>
                  <a:lnTo>
                    <a:pt x="478" y="39"/>
                  </a:lnTo>
                  <a:lnTo>
                    <a:pt x="486" y="59"/>
                  </a:lnTo>
                  <a:lnTo>
                    <a:pt x="486" y="68"/>
                  </a:lnTo>
                  <a:lnTo>
                    <a:pt x="501" y="88"/>
                  </a:lnTo>
                  <a:lnTo>
                    <a:pt x="501" y="98"/>
                  </a:lnTo>
                  <a:lnTo>
                    <a:pt x="509" y="107"/>
                  </a:lnTo>
                  <a:lnTo>
                    <a:pt x="525" y="117"/>
                  </a:lnTo>
                  <a:lnTo>
                    <a:pt x="525" y="127"/>
                  </a:lnTo>
                  <a:lnTo>
                    <a:pt x="540" y="127"/>
                  </a:lnTo>
                  <a:lnTo>
                    <a:pt x="548" y="137"/>
                  </a:lnTo>
                  <a:lnTo>
                    <a:pt x="548" y="137"/>
                  </a:lnTo>
                  <a:lnTo>
                    <a:pt x="556" y="137"/>
                  </a:lnTo>
                  <a:lnTo>
                    <a:pt x="571" y="137"/>
                  </a:lnTo>
                  <a:lnTo>
                    <a:pt x="579" y="137"/>
                  </a:lnTo>
                  <a:lnTo>
                    <a:pt x="579" y="137"/>
                  </a:lnTo>
                  <a:lnTo>
                    <a:pt x="594" y="137"/>
                  </a:lnTo>
                  <a:lnTo>
                    <a:pt x="602" y="137"/>
                  </a:lnTo>
                  <a:lnTo>
                    <a:pt x="602" y="137"/>
                  </a:lnTo>
                  <a:lnTo>
                    <a:pt x="610" y="137"/>
                  </a:lnTo>
                  <a:lnTo>
                    <a:pt x="625" y="137"/>
                  </a:lnTo>
                  <a:lnTo>
                    <a:pt x="633" y="146"/>
                  </a:lnTo>
                  <a:lnTo>
                    <a:pt x="640" y="146"/>
                  </a:lnTo>
                  <a:lnTo>
                    <a:pt x="640" y="146"/>
                  </a:lnTo>
                  <a:lnTo>
                    <a:pt x="648" y="156"/>
                  </a:lnTo>
                  <a:lnTo>
                    <a:pt x="664" y="156"/>
                  </a:lnTo>
                  <a:lnTo>
                    <a:pt x="671" y="156"/>
                  </a:lnTo>
                  <a:lnTo>
                    <a:pt x="679" y="156"/>
                  </a:lnTo>
                  <a:lnTo>
                    <a:pt x="679" y="156"/>
                  </a:lnTo>
                  <a:lnTo>
                    <a:pt x="687" y="166"/>
                  </a:lnTo>
                  <a:lnTo>
                    <a:pt x="695" y="166"/>
                  </a:lnTo>
                  <a:lnTo>
                    <a:pt x="710" y="166"/>
                  </a:lnTo>
                  <a:lnTo>
                    <a:pt x="718" y="166"/>
                  </a:lnTo>
                  <a:lnTo>
                    <a:pt x="725" y="166"/>
                  </a:lnTo>
                  <a:lnTo>
                    <a:pt x="733" y="166"/>
                  </a:lnTo>
                  <a:lnTo>
                    <a:pt x="741" y="166"/>
                  </a:lnTo>
                  <a:lnTo>
                    <a:pt x="749" y="166"/>
                  </a:lnTo>
                  <a:lnTo>
                    <a:pt x="749" y="166"/>
                  </a:lnTo>
                  <a:lnTo>
                    <a:pt x="756" y="166"/>
                  </a:lnTo>
                  <a:lnTo>
                    <a:pt x="764" y="176"/>
                  </a:lnTo>
                  <a:lnTo>
                    <a:pt x="772" y="176"/>
                  </a:lnTo>
                  <a:lnTo>
                    <a:pt x="779" y="176"/>
                  </a:lnTo>
                  <a:lnTo>
                    <a:pt x="787" y="176"/>
                  </a:lnTo>
                  <a:lnTo>
                    <a:pt x="795" y="176"/>
                  </a:lnTo>
                  <a:lnTo>
                    <a:pt x="810" y="176"/>
                  </a:lnTo>
                  <a:lnTo>
                    <a:pt x="818" y="176"/>
                  </a:lnTo>
                  <a:lnTo>
                    <a:pt x="826" y="176"/>
                  </a:lnTo>
                  <a:lnTo>
                    <a:pt x="826" y="17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3040" y="4643640"/>
              <a:ext cx="404208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613480" y="4626000"/>
            <a:ext cx="406692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5481360" y="45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5613480" y="4457880"/>
            <a:ext cx="406692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5432040" y="4395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613480" y="4289400"/>
            <a:ext cx="406692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432040" y="4232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5613480" y="4119480"/>
            <a:ext cx="4066920" cy="180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5432040" y="4062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613480" y="3952440"/>
            <a:ext cx="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6427800" y="3952440"/>
            <a:ext cx="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240680" y="3952440"/>
            <a:ext cx="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8053560" y="3952440"/>
            <a:ext cx="144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867880" y="3952440"/>
            <a:ext cx="144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680400" y="3952440"/>
            <a:ext cx="1800" cy="70164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5613480" y="3952800"/>
            <a:ext cx="4066920" cy="701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5613480" y="4076640"/>
            <a:ext cx="3354480" cy="549360"/>
          </a:xfrm>
          <a:custGeom>
            <a:avLst/>
            <a:gdLst/>
            <a:ahLst/>
            <a:rect l="l" t="t" r="r" b="b"/>
            <a:pathLst>
              <a:path w="3853" h="731">
                <a:moveTo>
                  <a:pt x="0" y="721"/>
                </a:moveTo>
                <a:lnTo>
                  <a:pt x="0" y="702"/>
                </a:lnTo>
                <a:lnTo>
                  <a:pt x="16" y="712"/>
                </a:lnTo>
                <a:lnTo>
                  <a:pt x="16" y="682"/>
                </a:lnTo>
                <a:lnTo>
                  <a:pt x="24" y="702"/>
                </a:lnTo>
                <a:lnTo>
                  <a:pt x="39" y="643"/>
                </a:lnTo>
                <a:lnTo>
                  <a:pt x="39" y="653"/>
                </a:lnTo>
                <a:lnTo>
                  <a:pt x="55" y="702"/>
                </a:lnTo>
                <a:lnTo>
                  <a:pt x="55" y="702"/>
                </a:lnTo>
                <a:lnTo>
                  <a:pt x="62" y="702"/>
                </a:lnTo>
                <a:lnTo>
                  <a:pt x="70" y="692"/>
                </a:lnTo>
                <a:lnTo>
                  <a:pt x="78" y="721"/>
                </a:lnTo>
                <a:lnTo>
                  <a:pt x="85" y="702"/>
                </a:lnTo>
                <a:lnTo>
                  <a:pt x="93" y="624"/>
                </a:lnTo>
                <a:lnTo>
                  <a:pt x="109" y="692"/>
                </a:lnTo>
                <a:lnTo>
                  <a:pt x="109" y="721"/>
                </a:lnTo>
                <a:lnTo>
                  <a:pt x="124" y="673"/>
                </a:lnTo>
                <a:lnTo>
                  <a:pt x="124" y="653"/>
                </a:lnTo>
                <a:lnTo>
                  <a:pt x="139" y="682"/>
                </a:lnTo>
                <a:lnTo>
                  <a:pt x="147" y="682"/>
                </a:lnTo>
                <a:lnTo>
                  <a:pt x="155" y="692"/>
                </a:lnTo>
                <a:lnTo>
                  <a:pt x="163" y="712"/>
                </a:lnTo>
                <a:lnTo>
                  <a:pt x="170" y="702"/>
                </a:lnTo>
                <a:lnTo>
                  <a:pt x="178" y="682"/>
                </a:lnTo>
                <a:lnTo>
                  <a:pt x="178" y="702"/>
                </a:lnTo>
                <a:lnTo>
                  <a:pt x="193" y="565"/>
                </a:lnTo>
                <a:lnTo>
                  <a:pt x="193" y="214"/>
                </a:lnTo>
                <a:lnTo>
                  <a:pt x="209" y="673"/>
                </a:lnTo>
                <a:lnTo>
                  <a:pt x="217" y="721"/>
                </a:lnTo>
                <a:lnTo>
                  <a:pt x="217" y="712"/>
                </a:lnTo>
                <a:lnTo>
                  <a:pt x="224" y="702"/>
                </a:lnTo>
                <a:lnTo>
                  <a:pt x="232" y="653"/>
                </a:lnTo>
                <a:lnTo>
                  <a:pt x="240" y="682"/>
                </a:lnTo>
                <a:lnTo>
                  <a:pt x="248" y="682"/>
                </a:lnTo>
                <a:lnTo>
                  <a:pt x="263" y="458"/>
                </a:lnTo>
                <a:lnTo>
                  <a:pt x="271" y="468"/>
                </a:lnTo>
                <a:lnTo>
                  <a:pt x="271" y="702"/>
                </a:lnTo>
                <a:lnTo>
                  <a:pt x="286" y="692"/>
                </a:lnTo>
                <a:lnTo>
                  <a:pt x="286" y="682"/>
                </a:lnTo>
                <a:lnTo>
                  <a:pt x="302" y="107"/>
                </a:lnTo>
                <a:lnTo>
                  <a:pt x="309" y="224"/>
                </a:lnTo>
                <a:lnTo>
                  <a:pt x="317" y="653"/>
                </a:lnTo>
                <a:lnTo>
                  <a:pt x="325" y="702"/>
                </a:lnTo>
                <a:lnTo>
                  <a:pt x="332" y="702"/>
                </a:lnTo>
                <a:lnTo>
                  <a:pt x="340" y="634"/>
                </a:lnTo>
                <a:lnTo>
                  <a:pt x="348" y="643"/>
                </a:lnTo>
                <a:lnTo>
                  <a:pt x="356" y="643"/>
                </a:lnTo>
                <a:lnTo>
                  <a:pt x="356" y="682"/>
                </a:lnTo>
                <a:lnTo>
                  <a:pt x="371" y="507"/>
                </a:lnTo>
                <a:lnTo>
                  <a:pt x="379" y="380"/>
                </a:lnTo>
                <a:lnTo>
                  <a:pt x="387" y="673"/>
                </a:lnTo>
                <a:lnTo>
                  <a:pt x="387" y="653"/>
                </a:lnTo>
                <a:lnTo>
                  <a:pt x="402" y="88"/>
                </a:lnTo>
                <a:lnTo>
                  <a:pt x="410" y="205"/>
                </a:lnTo>
                <a:lnTo>
                  <a:pt x="410" y="322"/>
                </a:lnTo>
                <a:lnTo>
                  <a:pt x="417" y="653"/>
                </a:lnTo>
                <a:lnTo>
                  <a:pt x="425" y="682"/>
                </a:lnTo>
                <a:lnTo>
                  <a:pt x="433" y="614"/>
                </a:lnTo>
                <a:lnTo>
                  <a:pt x="441" y="614"/>
                </a:lnTo>
                <a:lnTo>
                  <a:pt x="456" y="653"/>
                </a:lnTo>
                <a:lnTo>
                  <a:pt x="464" y="702"/>
                </a:lnTo>
                <a:lnTo>
                  <a:pt x="464" y="702"/>
                </a:lnTo>
                <a:lnTo>
                  <a:pt x="471" y="702"/>
                </a:lnTo>
                <a:lnTo>
                  <a:pt x="487" y="663"/>
                </a:lnTo>
                <a:lnTo>
                  <a:pt x="487" y="653"/>
                </a:lnTo>
                <a:lnTo>
                  <a:pt x="502" y="692"/>
                </a:lnTo>
                <a:lnTo>
                  <a:pt x="510" y="712"/>
                </a:lnTo>
                <a:lnTo>
                  <a:pt x="510" y="721"/>
                </a:lnTo>
                <a:lnTo>
                  <a:pt x="525" y="712"/>
                </a:lnTo>
                <a:lnTo>
                  <a:pt x="533" y="712"/>
                </a:lnTo>
                <a:lnTo>
                  <a:pt x="541" y="721"/>
                </a:lnTo>
                <a:lnTo>
                  <a:pt x="549" y="712"/>
                </a:lnTo>
                <a:lnTo>
                  <a:pt x="556" y="712"/>
                </a:lnTo>
                <a:lnTo>
                  <a:pt x="564" y="712"/>
                </a:lnTo>
                <a:lnTo>
                  <a:pt x="572" y="721"/>
                </a:lnTo>
                <a:lnTo>
                  <a:pt x="572" y="721"/>
                </a:lnTo>
                <a:lnTo>
                  <a:pt x="587" y="721"/>
                </a:lnTo>
                <a:lnTo>
                  <a:pt x="595" y="702"/>
                </a:lnTo>
                <a:lnTo>
                  <a:pt x="595" y="682"/>
                </a:lnTo>
                <a:lnTo>
                  <a:pt x="610" y="692"/>
                </a:lnTo>
                <a:lnTo>
                  <a:pt x="610" y="692"/>
                </a:lnTo>
                <a:lnTo>
                  <a:pt x="626" y="712"/>
                </a:lnTo>
                <a:lnTo>
                  <a:pt x="634" y="721"/>
                </a:lnTo>
                <a:lnTo>
                  <a:pt x="634" y="721"/>
                </a:lnTo>
                <a:lnTo>
                  <a:pt x="641" y="702"/>
                </a:lnTo>
                <a:lnTo>
                  <a:pt x="657" y="653"/>
                </a:lnTo>
                <a:lnTo>
                  <a:pt x="664" y="468"/>
                </a:lnTo>
                <a:lnTo>
                  <a:pt x="672" y="487"/>
                </a:lnTo>
                <a:lnTo>
                  <a:pt x="680" y="468"/>
                </a:lnTo>
                <a:lnTo>
                  <a:pt x="688" y="48"/>
                </a:lnTo>
                <a:lnTo>
                  <a:pt x="695" y="88"/>
                </a:lnTo>
                <a:lnTo>
                  <a:pt x="703" y="409"/>
                </a:lnTo>
                <a:lnTo>
                  <a:pt x="703" y="107"/>
                </a:lnTo>
                <a:lnTo>
                  <a:pt x="711" y="146"/>
                </a:lnTo>
                <a:lnTo>
                  <a:pt x="726" y="341"/>
                </a:lnTo>
                <a:lnTo>
                  <a:pt x="734" y="205"/>
                </a:lnTo>
                <a:lnTo>
                  <a:pt x="734" y="273"/>
                </a:lnTo>
                <a:lnTo>
                  <a:pt x="749" y="478"/>
                </a:lnTo>
                <a:lnTo>
                  <a:pt x="749" y="507"/>
                </a:lnTo>
                <a:lnTo>
                  <a:pt x="765" y="526"/>
                </a:lnTo>
                <a:lnTo>
                  <a:pt x="773" y="224"/>
                </a:lnTo>
                <a:lnTo>
                  <a:pt x="773" y="273"/>
                </a:lnTo>
                <a:lnTo>
                  <a:pt x="788" y="468"/>
                </a:lnTo>
                <a:lnTo>
                  <a:pt x="796" y="575"/>
                </a:lnTo>
                <a:lnTo>
                  <a:pt x="803" y="565"/>
                </a:lnTo>
                <a:lnTo>
                  <a:pt x="811" y="448"/>
                </a:lnTo>
                <a:lnTo>
                  <a:pt x="811" y="390"/>
                </a:lnTo>
                <a:lnTo>
                  <a:pt x="819" y="0"/>
                </a:lnTo>
                <a:lnTo>
                  <a:pt x="827" y="48"/>
                </a:lnTo>
                <a:lnTo>
                  <a:pt x="842" y="400"/>
                </a:lnTo>
                <a:lnTo>
                  <a:pt x="850" y="556"/>
                </a:lnTo>
                <a:lnTo>
                  <a:pt x="858" y="458"/>
                </a:lnTo>
                <a:lnTo>
                  <a:pt x="865" y="458"/>
                </a:lnTo>
                <a:lnTo>
                  <a:pt x="865" y="458"/>
                </a:lnTo>
                <a:lnTo>
                  <a:pt x="881" y="439"/>
                </a:lnTo>
                <a:lnTo>
                  <a:pt x="888" y="468"/>
                </a:lnTo>
                <a:lnTo>
                  <a:pt x="888" y="614"/>
                </a:lnTo>
                <a:lnTo>
                  <a:pt x="904" y="643"/>
                </a:lnTo>
                <a:lnTo>
                  <a:pt x="904" y="653"/>
                </a:lnTo>
                <a:lnTo>
                  <a:pt x="919" y="643"/>
                </a:lnTo>
                <a:lnTo>
                  <a:pt x="927" y="643"/>
                </a:lnTo>
                <a:lnTo>
                  <a:pt x="927" y="673"/>
                </a:lnTo>
                <a:lnTo>
                  <a:pt x="942" y="682"/>
                </a:lnTo>
                <a:lnTo>
                  <a:pt x="950" y="682"/>
                </a:lnTo>
                <a:lnTo>
                  <a:pt x="950" y="692"/>
                </a:lnTo>
                <a:lnTo>
                  <a:pt x="958" y="682"/>
                </a:lnTo>
                <a:lnTo>
                  <a:pt x="966" y="692"/>
                </a:lnTo>
                <a:lnTo>
                  <a:pt x="973" y="692"/>
                </a:lnTo>
                <a:lnTo>
                  <a:pt x="981" y="682"/>
                </a:lnTo>
                <a:lnTo>
                  <a:pt x="989" y="673"/>
                </a:lnTo>
                <a:lnTo>
                  <a:pt x="996" y="663"/>
                </a:lnTo>
                <a:lnTo>
                  <a:pt x="1004" y="604"/>
                </a:lnTo>
                <a:lnTo>
                  <a:pt x="1012" y="546"/>
                </a:lnTo>
                <a:lnTo>
                  <a:pt x="1020" y="546"/>
                </a:lnTo>
                <a:lnTo>
                  <a:pt x="1035" y="585"/>
                </a:lnTo>
                <a:lnTo>
                  <a:pt x="1043" y="653"/>
                </a:lnTo>
                <a:lnTo>
                  <a:pt x="1043" y="682"/>
                </a:lnTo>
                <a:lnTo>
                  <a:pt x="1051" y="673"/>
                </a:lnTo>
                <a:lnTo>
                  <a:pt x="1066" y="682"/>
                </a:lnTo>
                <a:lnTo>
                  <a:pt x="1066" y="682"/>
                </a:lnTo>
                <a:lnTo>
                  <a:pt x="1081" y="702"/>
                </a:lnTo>
                <a:lnTo>
                  <a:pt x="1081" y="692"/>
                </a:lnTo>
                <a:lnTo>
                  <a:pt x="1097" y="702"/>
                </a:lnTo>
                <a:lnTo>
                  <a:pt x="1097" y="712"/>
                </a:lnTo>
                <a:lnTo>
                  <a:pt x="1112" y="712"/>
                </a:lnTo>
                <a:lnTo>
                  <a:pt x="1120" y="712"/>
                </a:lnTo>
                <a:lnTo>
                  <a:pt x="1128" y="712"/>
                </a:lnTo>
                <a:lnTo>
                  <a:pt x="1135" y="692"/>
                </a:lnTo>
                <a:lnTo>
                  <a:pt x="1143" y="692"/>
                </a:lnTo>
                <a:lnTo>
                  <a:pt x="1151" y="712"/>
                </a:lnTo>
                <a:lnTo>
                  <a:pt x="1151" y="712"/>
                </a:lnTo>
                <a:lnTo>
                  <a:pt x="1166" y="721"/>
                </a:lnTo>
                <a:lnTo>
                  <a:pt x="1174" y="712"/>
                </a:lnTo>
                <a:lnTo>
                  <a:pt x="1182" y="712"/>
                </a:lnTo>
                <a:lnTo>
                  <a:pt x="1190" y="721"/>
                </a:lnTo>
                <a:lnTo>
                  <a:pt x="1197" y="721"/>
                </a:lnTo>
                <a:lnTo>
                  <a:pt x="1205" y="721"/>
                </a:lnTo>
                <a:lnTo>
                  <a:pt x="1205" y="721"/>
                </a:lnTo>
                <a:lnTo>
                  <a:pt x="1220" y="721"/>
                </a:lnTo>
                <a:lnTo>
                  <a:pt x="1228" y="721"/>
                </a:lnTo>
                <a:lnTo>
                  <a:pt x="1236" y="721"/>
                </a:lnTo>
                <a:lnTo>
                  <a:pt x="1244" y="721"/>
                </a:lnTo>
                <a:lnTo>
                  <a:pt x="1251" y="721"/>
                </a:lnTo>
                <a:lnTo>
                  <a:pt x="1259" y="721"/>
                </a:lnTo>
                <a:lnTo>
                  <a:pt x="1267" y="721"/>
                </a:lnTo>
                <a:lnTo>
                  <a:pt x="1274" y="721"/>
                </a:lnTo>
                <a:lnTo>
                  <a:pt x="1282" y="721"/>
                </a:lnTo>
                <a:lnTo>
                  <a:pt x="1290" y="721"/>
                </a:lnTo>
                <a:lnTo>
                  <a:pt x="1298" y="721"/>
                </a:lnTo>
                <a:lnTo>
                  <a:pt x="1305" y="721"/>
                </a:lnTo>
                <a:lnTo>
                  <a:pt x="1305" y="721"/>
                </a:lnTo>
                <a:lnTo>
                  <a:pt x="1321" y="721"/>
                </a:lnTo>
                <a:lnTo>
                  <a:pt x="1321" y="721"/>
                </a:lnTo>
                <a:lnTo>
                  <a:pt x="1336" y="721"/>
                </a:lnTo>
                <a:lnTo>
                  <a:pt x="1344" y="721"/>
                </a:lnTo>
                <a:lnTo>
                  <a:pt x="1352" y="721"/>
                </a:lnTo>
                <a:lnTo>
                  <a:pt x="1352" y="721"/>
                </a:lnTo>
                <a:lnTo>
                  <a:pt x="1359" y="721"/>
                </a:lnTo>
                <a:lnTo>
                  <a:pt x="1375" y="721"/>
                </a:lnTo>
                <a:lnTo>
                  <a:pt x="1383" y="721"/>
                </a:lnTo>
                <a:lnTo>
                  <a:pt x="1390" y="721"/>
                </a:lnTo>
                <a:lnTo>
                  <a:pt x="1398" y="721"/>
                </a:lnTo>
                <a:lnTo>
                  <a:pt x="1406" y="721"/>
                </a:lnTo>
                <a:lnTo>
                  <a:pt x="1413" y="712"/>
                </a:lnTo>
                <a:lnTo>
                  <a:pt x="1421" y="712"/>
                </a:lnTo>
                <a:lnTo>
                  <a:pt x="1429" y="721"/>
                </a:lnTo>
                <a:lnTo>
                  <a:pt x="1437" y="721"/>
                </a:lnTo>
                <a:lnTo>
                  <a:pt x="1437" y="721"/>
                </a:lnTo>
                <a:lnTo>
                  <a:pt x="1444" y="721"/>
                </a:lnTo>
                <a:lnTo>
                  <a:pt x="1452" y="721"/>
                </a:lnTo>
                <a:lnTo>
                  <a:pt x="1467" y="712"/>
                </a:lnTo>
                <a:lnTo>
                  <a:pt x="1475" y="702"/>
                </a:lnTo>
                <a:lnTo>
                  <a:pt x="1475" y="712"/>
                </a:lnTo>
                <a:lnTo>
                  <a:pt x="1491" y="721"/>
                </a:lnTo>
                <a:lnTo>
                  <a:pt x="1498" y="721"/>
                </a:lnTo>
                <a:lnTo>
                  <a:pt x="1498" y="721"/>
                </a:lnTo>
                <a:lnTo>
                  <a:pt x="1514" y="712"/>
                </a:lnTo>
                <a:lnTo>
                  <a:pt x="1522" y="712"/>
                </a:lnTo>
                <a:lnTo>
                  <a:pt x="1529" y="721"/>
                </a:lnTo>
                <a:lnTo>
                  <a:pt x="1537" y="721"/>
                </a:lnTo>
                <a:lnTo>
                  <a:pt x="1545" y="721"/>
                </a:lnTo>
                <a:lnTo>
                  <a:pt x="1552" y="721"/>
                </a:lnTo>
                <a:lnTo>
                  <a:pt x="1560" y="721"/>
                </a:lnTo>
                <a:lnTo>
                  <a:pt x="1560" y="721"/>
                </a:lnTo>
                <a:lnTo>
                  <a:pt x="1576" y="721"/>
                </a:lnTo>
                <a:lnTo>
                  <a:pt x="1583" y="721"/>
                </a:lnTo>
                <a:lnTo>
                  <a:pt x="1591" y="721"/>
                </a:lnTo>
                <a:lnTo>
                  <a:pt x="1599" y="721"/>
                </a:lnTo>
                <a:lnTo>
                  <a:pt x="1606" y="721"/>
                </a:lnTo>
                <a:lnTo>
                  <a:pt x="1614" y="721"/>
                </a:lnTo>
                <a:lnTo>
                  <a:pt x="1622" y="721"/>
                </a:lnTo>
                <a:lnTo>
                  <a:pt x="1630" y="702"/>
                </a:lnTo>
                <a:lnTo>
                  <a:pt x="1637" y="673"/>
                </a:lnTo>
                <a:lnTo>
                  <a:pt x="1645" y="682"/>
                </a:lnTo>
                <a:lnTo>
                  <a:pt x="1653" y="692"/>
                </a:lnTo>
                <a:lnTo>
                  <a:pt x="1661" y="673"/>
                </a:lnTo>
                <a:lnTo>
                  <a:pt x="1668" y="663"/>
                </a:lnTo>
                <a:lnTo>
                  <a:pt x="1676" y="663"/>
                </a:lnTo>
                <a:lnTo>
                  <a:pt x="1684" y="624"/>
                </a:lnTo>
                <a:lnTo>
                  <a:pt x="1691" y="575"/>
                </a:lnTo>
                <a:lnTo>
                  <a:pt x="1699" y="604"/>
                </a:lnTo>
                <a:lnTo>
                  <a:pt x="1707" y="643"/>
                </a:lnTo>
                <a:lnTo>
                  <a:pt x="1715" y="643"/>
                </a:lnTo>
                <a:lnTo>
                  <a:pt x="1722" y="682"/>
                </a:lnTo>
                <a:lnTo>
                  <a:pt x="1730" y="692"/>
                </a:lnTo>
                <a:lnTo>
                  <a:pt x="1730" y="692"/>
                </a:lnTo>
                <a:lnTo>
                  <a:pt x="1745" y="702"/>
                </a:lnTo>
                <a:lnTo>
                  <a:pt x="1753" y="702"/>
                </a:lnTo>
                <a:lnTo>
                  <a:pt x="1761" y="702"/>
                </a:lnTo>
                <a:lnTo>
                  <a:pt x="1769" y="702"/>
                </a:lnTo>
                <a:lnTo>
                  <a:pt x="1776" y="702"/>
                </a:lnTo>
                <a:lnTo>
                  <a:pt x="1776" y="702"/>
                </a:lnTo>
                <a:lnTo>
                  <a:pt x="1792" y="712"/>
                </a:lnTo>
                <a:lnTo>
                  <a:pt x="1792" y="712"/>
                </a:lnTo>
                <a:lnTo>
                  <a:pt x="1807" y="712"/>
                </a:lnTo>
                <a:lnTo>
                  <a:pt x="1807" y="712"/>
                </a:lnTo>
                <a:lnTo>
                  <a:pt x="1823" y="712"/>
                </a:lnTo>
                <a:lnTo>
                  <a:pt x="1823" y="712"/>
                </a:lnTo>
                <a:lnTo>
                  <a:pt x="1838" y="712"/>
                </a:lnTo>
                <a:lnTo>
                  <a:pt x="1846" y="721"/>
                </a:lnTo>
                <a:lnTo>
                  <a:pt x="1846" y="721"/>
                </a:lnTo>
                <a:lnTo>
                  <a:pt x="1861" y="721"/>
                </a:lnTo>
                <a:lnTo>
                  <a:pt x="1869" y="721"/>
                </a:lnTo>
                <a:lnTo>
                  <a:pt x="1869" y="721"/>
                </a:lnTo>
                <a:lnTo>
                  <a:pt x="1884" y="721"/>
                </a:lnTo>
                <a:lnTo>
                  <a:pt x="1892" y="712"/>
                </a:lnTo>
                <a:lnTo>
                  <a:pt x="1900" y="712"/>
                </a:lnTo>
                <a:lnTo>
                  <a:pt x="1900" y="721"/>
                </a:lnTo>
                <a:lnTo>
                  <a:pt x="1908" y="721"/>
                </a:lnTo>
                <a:lnTo>
                  <a:pt x="1923" y="721"/>
                </a:lnTo>
                <a:lnTo>
                  <a:pt x="1931" y="721"/>
                </a:lnTo>
                <a:lnTo>
                  <a:pt x="1938" y="721"/>
                </a:lnTo>
                <a:lnTo>
                  <a:pt x="1946" y="721"/>
                </a:lnTo>
                <a:lnTo>
                  <a:pt x="1954" y="721"/>
                </a:lnTo>
                <a:lnTo>
                  <a:pt x="1962" y="721"/>
                </a:lnTo>
                <a:lnTo>
                  <a:pt x="1969" y="721"/>
                </a:lnTo>
                <a:lnTo>
                  <a:pt x="1977" y="721"/>
                </a:lnTo>
                <a:lnTo>
                  <a:pt x="1985" y="721"/>
                </a:lnTo>
                <a:lnTo>
                  <a:pt x="1993" y="731"/>
                </a:lnTo>
                <a:lnTo>
                  <a:pt x="2000" y="721"/>
                </a:lnTo>
                <a:lnTo>
                  <a:pt x="2008" y="721"/>
                </a:lnTo>
                <a:lnTo>
                  <a:pt x="2016" y="721"/>
                </a:lnTo>
                <a:lnTo>
                  <a:pt x="2016" y="721"/>
                </a:lnTo>
                <a:lnTo>
                  <a:pt x="2023" y="712"/>
                </a:lnTo>
                <a:lnTo>
                  <a:pt x="2039" y="721"/>
                </a:lnTo>
                <a:lnTo>
                  <a:pt x="2047" y="721"/>
                </a:lnTo>
                <a:lnTo>
                  <a:pt x="2054" y="721"/>
                </a:lnTo>
                <a:lnTo>
                  <a:pt x="2054" y="721"/>
                </a:lnTo>
                <a:lnTo>
                  <a:pt x="2070" y="721"/>
                </a:lnTo>
                <a:lnTo>
                  <a:pt x="2077" y="721"/>
                </a:lnTo>
                <a:lnTo>
                  <a:pt x="2077" y="721"/>
                </a:lnTo>
                <a:lnTo>
                  <a:pt x="2093" y="721"/>
                </a:lnTo>
                <a:lnTo>
                  <a:pt x="2101" y="721"/>
                </a:lnTo>
                <a:lnTo>
                  <a:pt x="2108" y="721"/>
                </a:lnTo>
                <a:lnTo>
                  <a:pt x="2116" y="721"/>
                </a:lnTo>
                <a:lnTo>
                  <a:pt x="2116" y="721"/>
                </a:lnTo>
                <a:lnTo>
                  <a:pt x="2131" y="721"/>
                </a:lnTo>
                <a:lnTo>
                  <a:pt x="2131" y="721"/>
                </a:lnTo>
                <a:lnTo>
                  <a:pt x="2147" y="721"/>
                </a:lnTo>
                <a:lnTo>
                  <a:pt x="2147" y="721"/>
                </a:lnTo>
                <a:lnTo>
                  <a:pt x="2162" y="721"/>
                </a:lnTo>
                <a:lnTo>
                  <a:pt x="2170" y="721"/>
                </a:lnTo>
                <a:lnTo>
                  <a:pt x="2178" y="721"/>
                </a:lnTo>
                <a:lnTo>
                  <a:pt x="2186" y="721"/>
                </a:lnTo>
                <a:lnTo>
                  <a:pt x="2186" y="721"/>
                </a:lnTo>
                <a:lnTo>
                  <a:pt x="2201" y="721"/>
                </a:lnTo>
                <a:lnTo>
                  <a:pt x="2209" y="721"/>
                </a:lnTo>
                <a:lnTo>
                  <a:pt x="2209" y="721"/>
                </a:lnTo>
                <a:lnTo>
                  <a:pt x="2224" y="721"/>
                </a:lnTo>
                <a:lnTo>
                  <a:pt x="2232" y="712"/>
                </a:lnTo>
                <a:lnTo>
                  <a:pt x="2240" y="702"/>
                </a:lnTo>
                <a:lnTo>
                  <a:pt x="2247" y="692"/>
                </a:lnTo>
                <a:lnTo>
                  <a:pt x="2255" y="673"/>
                </a:lnTo>
                <a:lnTo>
                  <a:pt x="2263" y="604"/>
                </a:lnTo>
                <a:lnTo>
                  <a:pt x="2270" y="604"/>
                </a:lnTo>
                <a:lnTo>
                  <a:pt x="2278" y="575"/>
                </a:lnTo>
                <a:lnTo>
                  <a:pt x="2286" y="419"/>
                </a:lnTo>
                <a:lnTo>
                  <a:pt x="2294" y="419"/>
                </a:lnTo>
                <a:lnTo>
                  <a:pt x="2301" y="507"/>
                </a:lnTo>
                <a:lnTo>
                  <a:pt x="2309" y="419"/>
                </a:lnTo>
                <a:lnTo>
                  <a:pt x="2317" y="419"/>
                </a:lnTo>
                <a:lnTo>
                  <a:pt x="2325" y="487"/>
                </a:lnTo>
                <a:lnTo>
                  <a:pt x="2332" y="565"/>
                </a:lnTo>
                <a:lnTo>
                  <a:pt x="2340" y="614"/>
                </a:lnTo>
                <a:lnTo>
                  <a:pt x="2348" y="614"/>
                </a:lnTo>
                <a:lnTo>
                  <a:pt x="2355" y="614"/>
                </a:lnTo>
                <a:lnTo>
                  <a:pt x="2363" y="624"/>
                </a:lnTo>
                <a:lnTo>
                  <a:pt x="2371" y="653"/>
                </a:lnTo>
                <a:lnTo>
                  <a:pt x="2379" y="663"/>
                </a:lnTo>
                <a:lnTo>
                  <a:pt x="2386" y="663"/>
                </a:lnTo>
                <a:lnTo>
                  <a:pt x="2394" y="663"/>
                </a:lnTo>
                <a:lnTo>
                  <a:pt x="2402" y="663"/>
                </a:lnTo>
                <a:lnTo>
                  <a:pt x="2409" y="673"/>
                </a:lnTo>
                <a:lnTo>
                  <a:pt x="2417" y="673"/>
                </a:lnTo>
                <a:lnTo>
                  <a:pt x="2425" y="673"/>
                </a:lnTo>
                <a:lnTo>
                  <a:pt x="2425" y="673"/>
                </a:lnTo>
                <a:lnTo>
                  <a:pt x="2440" y="673"/>
                </a:lnTo>
                <a:lnTo>
                  <a:pt x="2448" y="682"/>
                </a:lnTo>
                <a:lnTo>
                  <a:pt x="2456" y="682"/>
                </a:lnTo>
                <a:lnTo>
                  <a:pt x="2464" y="692"/>
                </a:lnTo>
                <a:lnTo>
                  <a:pt x="2471" y="692"/>
                </a:lnTo>
                <a:lnTo>
                  <a:pt x="2471" y="692"/>
                </a:lnTo>
                <a:lnTo>
                  <a:pt x="2487" y="702"/>
                </a:lnTo>
                <a:lnTo>
                  <a:pt x="2494" y="702"/>
                </a:lnTo>
                <a:lnTo>
                  <a:pt x="2502" y="702"/>
                </a:lnTo>
                <a:lnTo>
                  <a:pt x="2510" y="702"/>
                </a:lnTo>
                <a:lnTo>
                  <a:pt x="2518" y="702"/>
                </a:lnTo>
                <a:lnTo>
                  <a:pt x="2525" y="702"/>
                </a:lnTo>
                <a:lnTo>
                  <a:pt x="2533" y="702"/>
                </a:lnTo>
                <a:lnTo>
                  <a:pt x="2541" y="702"/>
                </a:lnTo>
                <a:lnTo>
                  <a:pt x="2548" y="712"/>
                </a:lnTo>
                <a:lnTo>
                  <a:pt x="2556" y="712"/>
                </a:lnTo>
                <a:lnTo>
                  <a:pt x="2564" y="712"/>
                </a:lnTo>
                <a:lnTo>
                  <a:pt x="2564" y="712"/>
                </a:lnTo>
                <a:lnTo>
                  <a:pt x="2579" y="712"/>
                </a:lnTo>
                <a:lnTo>
                  <a:pt x="2587" y="712"/>
                </a:lnTo>
                <a:lnTo>
                  <a:pt x="2587" y="712"/>
                </a:lnTo>
                <a:lnTo>
                  <a:pt x="2602" y="721"/>
                </a:lnTo>
                <a:lnTo>
                  <a:pt x="2610" y="721"/>
                </a:lnTo>
                <a:lnTo>
                  <a:pt x="2610" y="721"/>
                </a:lnTo>
                <a:lnTo>
                  <a:pt x="2626" y="721"/>
                </a:lnTo>
                <a:lnTo>
                  <a:pt x="2633" y="721"/>
                </a:lnTo>
                <a:lnTo>
                  <a:pt x="2641" y="721"/>
                </a:lnTo>
                <a:lnTo>
                  <a:pt x="2641" y="721"/>
                </a:lnTo>
                <a:lnTo>
                  <a:pt x="2657" y="721"/>
                </a:lnTo>
                <a:lnTo>
                  <a:pt x="2664" y="721"/>
                </a:lnTo>
                <a:lnTo>
                  <a:pt x="2672" y="721"/>
                </a:lnTo>
                <a:lnTo>
                  <a:pt x="2680" y="721"/>
                </a:lnTo>
                <a:lnTo>
                  <a:pt x="2680" y="721"/>
                </a:lnTo>
                <a:lnTo>
                  <a:pt x="2687" y="721"/>
                </a:lnTo>
                <a:lnTo>
                  <a:pt x="2695" y="721"/>
                </a:lnTo>
                <a:lnTo>
                  <a:pt x="2711" y="721"/>
                </a:lnTo>
                <a:lnTo>
                  <a:pt x="2718" y="721"/>
                </a:lnTo>
                <a:lnTo>
                  <a:pt x="2726" y="721"/>
                </a:lnTo>
                <a:lnTo>
                  <a:pt x="2734" y="721"/>
                </a:lnTo>
                <a:lnTo>
                  <a:pt x="2741" y="721"/>
                </a:lnTo>
                <a:lnTo>
                  <a:pt x="2749" y="721"/>
                </a:lnTo>
                <a:lnTo>
                  <a:pt x="2757" y="721"/>
                </a:lnTo>
                <a:lnTo>
                  <a:pt x="2765" y="721"/>
                </a:lnTo>
                <a:lnTo>
                  <a:pt x="2772" y="721"/>
                </a:lnTo>
                <a:lnTo>
                  <a:pt x="2780" y="721"/>
                </a:lnTo>
                <a:lnTo>
                  <a:pt x="2788" y="721"/>
                </a:lnTo>
                <a:lnTo>
                  <a:pt x="2788" y="721"/>
                </a:lnTo>
                <a:lnTo>
                  <a:pt x="2796" y="721"/>
                </a:lnTo>
                <a:lnTo>
                  <a:pt x="2803" y="721"/>
                </a:lnTo>
                <a:lnTo>
                  <a:pt x="2819" y="721"/>
                </a:lnTo>
                <a:lnTo>
                  <a:pt x="2826" y="721"/>
                </a:lnTo>
                <a:lnTo>
                  <a:pt x="2834" y="721"/>
                </a:lnTo>
                <a:lnTo>
                  <a:pt x="2842" y="721"/>
                </a:lnTo>
                <a:lnTo>
                  <a:pt x="2842" y="731"/>
                </a:lnTo>
                <a:lnTo>
                  <a:pt x="2857" y="731"/>
                </a:lnTo>
                <a:lnTo>
                  <a:pt x="2865" y="731"/>
                </a:lnTo>
                <a:lnTo>
                  <a:pt x="2873" y="731"/>
                </a:lnTo>
                <a:lnTo>
                  <a:pt x="2873" y="721"/>
                </a:lnTo>
                <a:lnTo>
                  <a:pt x="2888" y="721"/>
                </a:lnTo>
                <a:lnTo>
                  <a:pt x="2896" y="721"/>
                </a:lnTo>
                <a:lnTo>
                  <a:pt x="2904" y="721"/>
                </a:lnTo>
                <a:lnTo>
                  <a:pt x="2911" y="731"/>
                </a:lnTo>
                <a:lnTo>
                  <a:pt x="2919" y="731"/>
                </a:lnTo>
                <a:lnTo>
                  <a:pt x="2927" y="731"/>
                </a:lnTo>
                <a:lnTo>
                  <a:pt x="2935" y="731"/>
                </a:lnTo>
                <a:lnTo>
                  <a:pt x="2942" y="731"/>
                </a:lnTo>
                <a:lnTo>
                  <a:pt x="2942" y="721"/>
                </a:lnTo>
                <a:lnTo>
                  <a:pt x="2958" y="721"/>
                </a:lnTo>
                <a:lnTo>
                  <a:pt x="2965" y="721"/>
                </a:lnTo>
                <a:lnTo>
                  <a:pt x="2973" y="721"/>
                </a:lnTo>
                <a:lnTo>
                  <a:pt x="2981" y="721"/>
                </a:lnTo>
                <a:lnTo>
                  <a:pt x="2989" y="721"/>
                </a:lnTo>
                <a:lnTo>
                  <a:pt x="2996" y="721"/>
                </a:lnTo>
                <a:lnTo>
                  <a:pt x="3004" y="721"/>
                </a:lnTo>
                <a:lnTo>
                  <a:pt x="3012" y="721"/>
                </a:lnTo>
                <a:lnTo>
                  <a:pt x="3019" y="721"/>
                </a:lnTo>
                <a:lnTo>
                  <a:pt x="3027" y="721"/>
                </a:lnTo>
                <a:lnTo>
                  <a:pt x="3035" y="721"/>
                </a:lnTo>
                <a:lnTo>
                  <a:pt x="3035" y="721"/>
                </a:lnTo>
                <a:lnTo>
                  <a:pt x="3050" y="721"/>
                </a:lnTo>
                <a:lnTo>
                  <a:pt x="3058" y="721"/>
                </a:lnTo>
                <a:lnTo>
                  <a:pt x="3066" y="721"/>
                </a:lnTo>
                <a:lnTo>
                  <a:pt x="3073" y="721"/>
                </a:lnTo>
                <a:lnTo>
                  <a:pt x="3081" y="721"/>
                </a:lnTo>
                <a:lnTo>
                  <a:pt x="3089" y="721"/>
                </a:lnTo>
                <a:lnTo>
                  <a:pt x="3097" y="721"/>
                </a:lnTo>
                <a:lnTo>
                  <a:pt x="3104" y="721"/>
                </a:lnTo>
                <a:lnTo>
                  <a:pt x="3112" y="721"/>
                </a:lnTo>
                <a:lnTo>
                  <a:pt x="3120" y="721"/>
                </a:lnTo>
                <a:lnTo>
                  <a:pt x="3128" y="721"/>
                </a:lnTo>
                <a:lnTo>
                  <a:pt x="3135" y="721"/>
                </a:lnTo>
                <a:lnTo>
                  <a:pt x="3143" y="721"/>
                </a:lnTo>
                <a:lnTo>
                  <a:pt x="3151" y="721"/>
                </a:lnTo>
                <a:lnTo>
                  <a:pt x="3158" y="721"/>
                </a:lnTo>
                <a:lnTo>
                  <a:pt x="3166" y="721"/>
                </a:lnTo>
                <a:lnTo>
                  <a:pt x="3174" y="721"/>
                </a:lnTo>
                <a:lnTo>
                  <a:pt x="3182" y="721"/>
                </a:lnTo>
                <a:lnTo>
                  <a:pt x="3189" y="721"/>
                </a:lnTo>
                <a:lnTo>
                  <a:pt x="3197" y="721"/>
                </a:lnTo>
                <a:lnTo>
                  <a:pt x="3205" y="721"/>
                </a:lnTo>
                <a:lnTo>
                  <a:pt x="3212" y="721"/>
                </a:lnTo>
                <a:lnTo>
                  <a:pt x="3220" y="721"/>
                </a:lnTo>
                <a:lnTo>
                  <a:pt x="3228" y="721"/>
                </a:lnTo>
                <a:lnTo>
                  <a:pt x="3236" y="721"/>
                </a:lnTo>
                <a:lnTo>
                  <a:pt x="3243" y="721"/>
                </a:lnTo>
                <a:lnTo>
                  <a:pt x="3251" y="721"/>
                </a:lnTo>
                <a:lnTo>
                  <a:pt x="3259" y="721"/>
                </a:lnTo>
                <a:lnTo>
                  <a:pt x="3267" y="721"/>
                </a:lnTo>
                <a:lnTo>
                  <a:pt x="3274" y="721"/>
                </a:lnTo>
                <a:lnTo>
                  <a:pt x="3282" y="721"/>
                </a:lnTo>
                <a:lnTo>
                  <a:pt x="3290" y="721"/>
                </a:lnTo>
                <a:lnTo>
                  <a:pt x="3297" y="721"/>
                </a:lnTo>
                <a:lnTo>
                  <a:pt x="3305" y="721"/>
                </a:lnTo>
                <a:lnTo>
                  <a:pt x="3313" y="721"/>
                </a:lnTo>
                <a:lnTo>
                  <a:pt x="3321" y="721"/>
                </a:lnTo>
                <a:lnTo>
                  <a:pt x="3328" y="721"/>
                </a:lnTo>
                <a:lnTo>
                  <a:pt x="3336" y="721"/>
                </a:lnTo>
                <a:lnTo>
                  <a:pt x="3344" y="721"/>
                </a:lnTo>
                <a:lnTo>
                  <a:pt x="3351" y="721"/>
                </a:lnTo>
                <a:lnTo>
                  <a:pt x="3359" y="721"/>
                </a:lnTo>
                <a:lnTo>
                  <a:pt x="3367" y="721"/>
                </a:lnTo>
                <a:lnTo>
                  <a:pt x="3375" y="721"/>
                </a:lnTo>
                <a:lnTo>
                  <a:pt x="3382" y="721"/>
                </a:lnTo>
                <a:lnTo>
                  <a:pt x="3390" y="721"/>
                </a:lnTo>
                <a:lnTo>
                  <a:pt x="3398" y="721"/>
                </a:lnTo>
                <a:lnTo>
                  <a:pt x="3405" y="731"/>
                </a:lnTo>
                <a:lnTo>
                  <a:pt x="3413" y="721"/>
                </a:lnTo>
                <a:lnTo>
                  <a:pt x="3421" y="721"/>
                </a:lnTo>
                <a:lnTo>
                  <a:pt x="3429" y="721"/>
                </a:lnTo>
                <a:lnTo>
                  <a:pt x="3436" y="721"/>
                </a:lnTo>
                <a:lnTo>
                  <a:pt x="3444" y="721"/>
                </a:lnTo>
                <a:lnTo>
                  <a:pt x="3452" y="721"/>
                </a:lnTo>
                <a:lnTo>
                  <a:pt x="3460" y="721"/>
                </a:lnTo>
                <a:lnTo>
                  <a:pt x="3467" y="721"/>
                </a:lnTo>
                <a:lnTo>
                  <a:pt x="3475" y="731"/>
                </a:lnTo>
                <a:lnTo>
                  <a:pt x="3483" y="731"/>
                </a:lnTo>
                <a:lnTo>
                  <a:pt x="3490" y="721"/>
                </a:lnTo>
                <a:lnTo>
                  <a:pt x="3498" y="721"/>
                </a:lnTo>
                <a:lnTo>
                  <a:pt x="3506" y="731"/>
                </a:lnTo>
                <a:lnTo>
                  <a:pt x="3514" y="731"/>
                </a:lnTo>
                <a:lnTo>
                  <a:pt x="3521" y="721"/>
                </a:lnTo>
                <a:lnTo>
                  <a:pt x="3529" y="731"/>
                </a:lnTo>
                <a:lnTo>
                  <a:pt x="3537" y="721"/>
                </a:lnTo>
                <a:lnTo>
                  <a:pt x="3544" y="721"/>
                </a:lnTo>
                <a:lnTo>
                  <a:pt x="3552" y="721"/>
                </a:lnTo>
                <a:lnTo>
                  <a:pt x="3560" y="731"/>
                </a:lnTo>
                <a:lnTo>
                  <a:pt x="3568" y="731"/>
                </a:lnTo>
                <a:lnTo>
                  <a:pt x="3575" y="731"/>
                </a:lnTo>
                <a:lnTo>
                  <a:pt x="3583" y="731"/>
                </a:lnTo>
                <a:lnTo>
                  <a:pt x="3591" y="731"/>
                </a:lnTo>
                <a:lnTo>
                  <a:pt x="3599" y="721"/>
                </a:lnTo>
                <a:lnTo>
                  <a:pt x="3606" y="721"/>
                </a:lnTo>
                <a:lnTo>
                  <a:pt x="3614" y="721"/>
                </a:lnTo>
                <a:lnTo>
                  <a:pt x="3622" y="721"/>
                </a:lnTo>
                <a:lnTo>
                  <a:pt x="3629" y="721"/>
                </a:lnTo>
                <a:lnTo>
                  <a:pt x="3637" y="721"/>
                </a:lnTo>
                <a:lnTo>
                  <a:pt x="3645" y="721"/>
                </a:lnTo>
                <a:lnTo>
                  <a:pt x="3645" y="721"/>
                </a:lnTo>
                <a:lnTo>
                  <a:pt x="3660" y="731"/>
                </a:lnTo>
                <a:lnTo>
                  <a:pt x="3668" y="731"/>
                </a:lnTo>
                <a:lnTo>
                  <a:pt x="3668" y="731"/>
                </a:lnTo>
                <a:lnTo>
                  <a:pt x="3683" y="721"/>
                </a:lnTo>
                <a:lnTo>
                  <a:pt x="3691" y="721"/>
                </a:lnTo>
                <a:lnTo>
                  <a:pt x="3699" y="731"/>
                </a:lnTo>
                <a:lnTo>
                  <a:pt x="3707" y="731"/>
                </a:lnTo>
                <a:lnTo>
                  <a:pt x="3714" y="721"/>
                </a:lnTo>
                <a:lnTo>
                  <a:pt x="3722" y="721"/>
                </a:lnTo>
                <a:lnTo>
                  <a:pt x="3722" y="721"/>
                </a:lnTo>
                <a:lnTo>
                  <a:pt x="3738" y="731"/>
                </a:lnTo>
                <a:lnTo>
                  <a:pt x="3745" y="721"/>
                </a:lnTo>
                <a:lnTo>
                  <a:pt x="3753" y="721"/>
                </a:lnTo>
                <a:lnTo>
                  <a:pt x="3761" y="721"/>
                </a:lnTo>
                <a:lnTo>
                  <a:pt x="3761" y="721"/>
                </a:lnTo>
                <a:lnTo>
                  <a:pt x="3776" y="721"/>
                </a:lnTo>
                <a:lnTo>
                  <a:pt x="3784" y="721"/>
                </a:lnTo>
                <a:lnTo>
                  <a:pt x="3792" y="721"/>
                </a:lnTo>
                <a:lnTo>
                  <a:pt x="3799" y="721"/>
                </a:lnTo>
                <a:lnTo>
                  <a:pt x="3807" y="721"/>
                </a:lnTo>
                <a:lnTo>
                  <a:pt x="3815" y="721"/>
                </a:lnTo>
                <a:lnTo>
                  <a:pt x="3815" y="721"/>
                </a:lnTo>
                <a:lnTo>
                  <a:pt x="3822" y="721"/>
                </a:lnTo>
                <a:lnTo>
                  <a:pt x="3830" y="721"/>
                </a:lnTo>
                <a:lnTo>
                  <a:pt x="3846" y="721"/>
                </a:lnTo>
                <a:lnTo>
                  <a:pt x="3853" y="7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8967960" y="4486320"/>
            <a:ext cx="712440" cy="131760"/>
          </a:xfrm>
          <a:custGeom>
            <a:avLst/>
            <a:gdLst/>
            <a:ahLst/>
            <a:rect l="l" t="t" r="r" b="b"/>
            <a:pathLst>
              <a:path w="819" h="175">
                <a:moveTo>
                  <a:pt x="0" y="175"/>
                </a:moveTo>
                <a:lnTo>
                  <a:pt x="8" y="175"/>
                </a:lnTo>
                <a:lnTo>
                  <a:pt x="16" y="175"/>
                </a:lnTo>
                <a:lnTo>
                  <a:pt x="23" y="175"/>
                </a:lnTo>
                <a:lnTo>
                  <a:pt x="31" y="175"/>
                </a:lnTo>
                <a:lnTo>
                  <a:pt x="39" y="175"/>
                </a:lnTo>
                <a:lnTo>
                  <a:pt x="47" y="175"/>
                </a:lnTo>
                <a:lnTo>
                  <a:pt x="54" y="175"/>
                </a:lnTo>
                <a:lnTo>
                  <a:pt x="62" y="175"/>
                </a:lnTo>
                <a:lnTo>
                  <a:pt x="70" y="175"/>
                </a:lnTo>
                <a:lnTo>
                  <a:pt x="78" y="175"/>
                </a:lnTo>
                <a:lnTo>
                  <a:pt x="85" y="175"/>
                </a:lnTo>
                <a:lnTo>
                  <a:pt x="85" y="175"/>
                </a:lnTo>
                <a:lnTo>
                  <a:pt x="93" y="175"/>
                </a:lnTo>
                <a:lnTo>
                  <a:pt x="108" y="175"/>
                </a:lnTo>
                <a:lnTo>
                  <a:pt x="116" y="175"/>
                </a:lnTo>
                <a:lnTo>
                  <a:pt x="124" y="175"/>
                </a:lnTo>
                <a:lnTo>
                  <a:pt x="132" y="175"/>
                </a:lnTo>
                <a:lnTo>
                  <a:pt x="139" y="175"/>
                </a:lnTo>
                <a:lnTo>
                  <a:pt x="147" y="175"/>
                </a:lnTo>
                <a:lnTo>
                  <a:pt x="147" y="175"/>
                </a:lnTo>
                <a:lnTo>
                  <a:pt x="155" y="175"/>
                </a:lnTo>
                <a:lnTo>
                  <a:pt x="170" y="175"/>
                </a:lnTo>
                <a:lnTo>
                  <a:pt x="178" y="175"/>
                </a:lnTo>
                <a:lnTo>
                  <a:pt x="186" y="175"/>
                </a:lnTo>
                <a:lnTo>
                  <a:pt x="193" y="175"/>
                </a:lnTo>
                <a:lnTo>
                  <a:pt x="201" y="175"/>
                </a:lnTo>
                <a:lnTo>
                  <a:pt x="209" y="175"/>
                </a:lnTo>
                <a:lnTo>
                  <a:pt x="217" y="175"/>
                </a:lnTo>
                <a:lnTo>
                  <a:pt x="224" y="175"/>
                </a:lnTo>
                <a:lnTo>
                  <a:pt x="232" y="175"/>
                </a:lnTo>
                <a:lnTo>
                  <a:pt x="240" y="175"/>
                </a:lnTo>
                <a:lnTo>
                  <a:pt x="247" y="175"/>
                </a:lnTo>
                <a:lnTo>
                  <a:pt x="255" y="175"/>
                </a:lnTo>
                <a:lnTo>
                  <a:pt x="263" y="175"/>
                </a:lnTo>
                <a:lnTo>
                  <a:pt x="271" y="175"/>
                </a:lnTo>
                <a:lnTo>
                  <a:pt x="278" y="175"/>
                </a:lnTo>
                <a:lnTo>
                  <a:pt x="286" y="175"/>
                </a:lnTo>
                <a:lnTo>
                  <a:pt x="294" y="175"/>
                </a:lnTo>
                <a:lnTo>
                  <a:pt x="301" y="175"/>
                </a:lnTo>
                <a:lnTo>
                  <a:pt x="309" y="175"/>
                </a:lnTo>
                <a:lnTo>
                  <a:pt x="317" y="175"/>
                </a:lnTo>
                <a:lnTo>
                  <a:pt x="325" y="175"/>
                </a:lnTo>
                <a:lnTo>
                  <a:pt x="332" y="175"/>
                </a:lnTo>
                <a:lnTo>
                  <a:pt x="340" y="175"/>
                </a:lnTo>
                <a:lnTo>
                  <a:pt x="348" y="175"/>
                </a:lnTo>
                <a:lnTo>
                  <a:pt x="355" y="175"/>
                </a:lnTo>
                <a:lnTo>
                  <a:pt x="363" y="166"/>
                </a:lnTo>
                <a:lnTo>
                  <a:pt x="371" y="166"/>
                </a:lnTo>
                <a:lnTo>
                  <a:pt x="379" y="166"/>
                </a:lnTo>
                <a:lnTo>
                  <a:pt x="386" y="156"/>
                </a:lnTo>
                <a:lnTo>
                  <a:pt x="394" y="156"/>
                </a:lnTo>
                <a:lnTo>
                  <a:pt x="402" y="136"/>
                </a:lnTo>
                <a:lnTo>
                  <a:pt x="410" y="117"/>
                </a:lnTo>
                <a:lnTo>
                  <a:pt x="417" y="97"/>
                </a:lnTo>
                <a:lnTo>
                  <a:pt x="425" y="58"/>
                </a:lnTo>
                <a:lnTo>
                  <a:pt x="433" y="29"/>
                </a:lnTo>
                <a:lnTo>
                  <a:pt x="440" y="10"/>
                </a:lnTo>
                <a:lnTo>
                  <a:pt x="448" y="0"/>
                </a:lnTo>
                <a:lnTo>
                  <a:pt x="456" y="10"/>
                </a:lnTo>
                <a:lnTo>
                  <a:pt x="464" y="29"/>
                </a:lnTo>
                <a:lnTo>
                  <a:pt x="471" y="58"/>
                </a:lnTo>
                <a:lnTo>
                  <a:pt x="479" y="78"/>
                </a:lnTo>
                <a:lnTo>
                  <a:pt x="487" y="88"/>
                </a:lnTo>
                <a:lnTo>
                  <a:pt x="494" y="97"/>
                </a:lnTo>
                <a:lnTo>
                  <a:pt x="502" y="107"/>
                </a:lnTo>
                <a:lnTo>
                  <a:pt x="510" y="117"/>
                </a:lnTo>
                <a:lnTo>
                  <a:pt x="518" y="127"/>
                </a:lnTo>
                <a:lnTo>
                  <a:pt x="525" y="127"/>
                </a:lnTo>
                <a:lnTo>
                  <a:pt x="533" y="136"/>
                </a:lnTo>
                <a:lnTo>
                  <a:pt x="541" y="136"/>
                </a:lnTo>
                <a:lnTo>
                  <a:pt x="549" y="136"/>
                </a:lnTo>
                <a:lnTo>
                  <a:pt x="556" y="136"/>
                </a:lnTo>
                <a:lnTo>
                  <a:pt x="564" y="136"/>
                </a:lnTo>
                <a:lnTo>
                  <a:pt x="572" y="136"/>
                </a:lnTo>
                <a:lnTo>
                  <a:pt x="579" y="136"/>
                </a:lnTo>
                <a:lnTo>
                  <a:pt x="587" y="146"/>
                </a:lnTo>
                <a:lnTo>
                  <a:pt x="595" y="146"/>
                </a:lnTo>
                <a:lnTo>
                  <a:pt x="603" y="146"/>
                </a:lnTo>
                <a:lnTo>
                  <a:pt x="610" y="146"/>
                </a:lnTo>
                <a:lnTo>
                  <a:pt x="618" y="146"/>
                </a:lnTo>
                <a:lnTo>
                  <a:pt x="626" y="146"/>
                </a:lnTo>
                <a:lnTo>
                  <a:pt x="633" y="156"/>
                </a:lnTo>
                <a:lnTo>
                  <a:pt x="641" y="156"/>
                </a:lnTo>
                <a:lnTo>
                  <a:pt x="649" y="156"/>
                </a:lnTo>
                <a:lnTo>
                  <a:pt x="657" y="156"/>
                </a:lnTo>
                <a:lnTo>
                  <a:pt x="664" y="156"/>
                </a:lnTo>
                <a:lnTo>
                  <a:pt x="672" y="166"/>
                </a:lnTo>
                <a:lnTo>
                  <a:pt x="680" y="166"/>
                </a:lnTo>
                <a:lnTo>
                  <a:pt x="688" y="166"/>
                </a:lnTo>
                <a:lnTo>
                  <a:pt x="695" y="166"/>
                </a:lnTo>
                <a:lnTo>
                  <a:pt x="703" y="166"/>
                </a:lnTo>
                <a:lnTo>
                  <a:pt x="711" y="166"/>
                </a:lnTo>
                <a:lnTo>
                  <a:pt x="718" y="166"/>
                </a:lnTo>
                <a:lnTo>
                  <a:pt x="726" y="166"/>
                </a:lnTo>
                <a:lnTo>
                  <a:pt x="734" y="166"/>
                </a:lnTo>
                <a:lnTo>
                  <a:pt x="742" y="166"/>
                </a:lnTo>
                <a:lnTo>
                  <a:pt x="749" y="166"/>
                </a:lnTo>
                <a:lnTo>
                  <a:pt x="757" y="175"/>
                </a:lnTo>
                <a:lnTo>
                  <a:pt x="765" y="175"/>
                </a:lnTo>
                <a:lnTo>
                  <a:pt x="772" y="175"/>
                </a:lnTo>
                <a:lnTo>
                  <a:pt x="780" y="175"/>
                </a:lnTo>
                <a:lnTo>
                  <a:pt x="788" y="175"/>
                </a:lnTo>
                <a:lnTo>
                  <a:pt x="796" y="175"/>
                </a:lnTo>
                <a:lnTo>
                  <a:pt x="803" y="175"/>
                </a:lnTo>
                <a:lnTo>
                  <a:pt x="811" y="175"/>
                </a:lnTo>
                <a:lnTo>
                  <a:pt x="819" y="175"/>
                </a:lnTo>
                <a:lnTo>
                  <a:pt x="819" y="17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613480" y="4664160"/>
            <a:ext cx="4066920" cy="0"/>
          </a:xfrm>
          <a:prstGeom prst="line">
            <a:avLst/>
          </a:prstGeom>
          <a:ln w="0">
            <a:solidFill>
              <a:srgbClr val="c0c0c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58440" y="5129280"/>
            <a:ext cx="4186080" cy="739440"/>
            <a:chOff x="658440" y="5129280"/>
            <a:chExt cx="4186080" cy="739440"/>
          </a:xfrm>
        </p:grpSpPr>
        <p:sp>
          <p:nvSpPr>
            <p:cNvPr id="178" name=""/>
            <p:cNvSpPr/>
            <p:nvPr/>
          </p:nvSpPr>
          <p:spPr>
            <a:xfrm>
              <a:off x="831960" y="5774400"/>
              <a:ext cx="40118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3800" y="5716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1960" y="5611320"/>
              <a:ext cx="40118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8440" y="5555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1960" y="5448960"/>
              <a:ext cx="40118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8440" y="5392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1960" y="5292720"/>
              <a:ext cx="4011840" cy="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8440" y="5235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960" y="5129280"/>
              <a:ext cx="401184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402200" y="5129280"/>
              <a:ext cx="0" cy="673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549880" y="5129280"/>
              <a:ext cx="0" cy="673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696480" y="5129280"/>
              <a:ext cx="720" cy="673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843800" y="5129280"/>
              <a:ext cx="720" cy="673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960" y="5129280"/>
              <a:ext cx="4011840" cy="673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1960" y="5271480"/>
              <a:ext cx="3308040" cy="502560"/>
            </a:xfrm>
            <a:custGeom>
              <a:avLst/>
              <a:gdLst/>
              <a:ahLst/>
              <a:rect l="l" t="t" r="r" b="b"/>
              <a:pathLst>
                <a:path w="3853" h="692">
                  <a:moveTo>
                    <a:pt x="0" y="682"/>
                  </a:moveTo>
                  <a:lnTo>
                    <a:pt x="0" y="682"/>
                  </a:lnTo>
                  <a:lnTo>
                    <a:pt x="16" y="682"/>
                  </a:lnTo>
                  <a:lnTo>
                    <a:pt x="24" y="673"/>
                  </a:lnTo>
                  <a:lnTo>
                    <a:pt x="24" y="682"/>
                  </a:lnTo>
                  <a:lnTo>
                    <a:pt x="39" y="692"/>
                  </a:lnTo>
                  <a:lnTo>
                    <a:pt x="47" y="682"/>
                  </a:lnTo>
                  <a:lnTo>
                    <a:pt x="47" y="673"/>
                  </a:lnTo>
                  <a:lnTo>
                    <a:pt x="62" y="663"/>
                  </a:lnTo>
                  <a:lnTo>
                    <a:pt x="70" y="663"/>
                  </a:lnTo>
                  <a:lnTo>
                    <a:pt x="70" y="663"/>
                  </a:lnTo>
                  <a:lnTo>
                    <a:pt x="85" y="673"/>
                  </a:lnTo>
                  <a:lnTo>
                    <a:pt x="85" y="673"/>
                  </a:lnTo>
                  <a:lnTo>
                    <a:pt x="93" y="673"/>
                  </a:lnTo>
                  <a:lnTo>
                    <a:pt x="109" y="673"/>
                  </a:lnTo>
                  <a:lnTo>
                    <a:pt x="109" y="682"/>
                  </a:lnTo>
                  <a:lnTo>
                    <a:pt x="124" y="692"/>
                  </a:lnTo>
                  <a:lnTo>
                    <a:pt x="124" y="682"/>
                  </a:lnTo>
                  <a:lnTo>
                    <a:pt x="132" y="673"/>
                  </a:lnTo>
                  <a:lnTo>
                    <a:pt x="147" y="663"/>
                  </a:lnTo>
                  <a:lnTo>
                    <a:pt x="147" y="663"/>
                  </a:lnTo>
                  <a:lnTo>
                    <a:pt x="163" y="673"/>
                  </a:lnTo>
                  <a:lnTo>
                    <a:pt x="163" y="663"/>
                  </a:lnTo>
                  <a:lnTo>
                    <a:pt x="178" y="663"/>
                  </a:lnTo>
                  <a:lnTo>
                    <a:pt x="178" y="673"/>
                  </a:lnTo>
                  <a:lnTo>
                    <a:pt x="193" y="682"/>
                  </a:lnTo>
                  <a:lnTo>
                    <a:pt x="193" y="682"/>
                  </a:lnTo>
                  <a:lnTo>
                    <a:pt x="209" y="692"/>
                  </a:lnTo>
                  <a:lnTo>
                    <a:pt x="209" y="682"/>
                  </a:lnTo>
                  <a:lnTo>
                    <a:pt x="224" y="682"/>
                  </a:lnTo>
                  <a:lnTo>
                    <a:pt x="224" y="673"/>
                  </a:lnTo>
                  <a:lnTo>
                    <a:pt x="232" y="673"/>
                  </a:lnTo>
                  <a:lnTo>
                    <a:pt x="248" y="663"/>
                  </a:lnTo>
                  <a:lnTo>
                    <a:pt x="248" y="653"/>
                  </a:lnTo>
                  <a:lnTo>
                    <a:pt x="263" y="663"/>
                  </a:lnTo>
                  <a:lnTo>
                    <a:pt x="263" y="673"/>
                  </a:lnTo>
                  <a:lnTo>
                    <a:pt x="278" y="692"/>
                  </a:lnTo>
                  <a:lnTo>
                    <a:pt x="278" y="682"/>
                  </a:lnTo>
                  <a:lnTo>
                    <a:pt x="286" y="673"/>
                  </a:lnTo>
                  <a:lnTo>
                    <a:pt x="302" y="682"/>
                  </a:lnTo>
                  <a:lnTo>
                    <a:pt x="302" y="682"/>
                  </a:lnTo>
                  <a:lnTo>
                    <a:pt x="309" y="682"/>
                  </a:lnTo>
                  <a:lnTo>
                    <a:pt x="325" y="673"/>
                  </a:lnTo>
                  <a:lnTo>
                    <a:pt x="325" y="673"/>
                  </a:lnTo>
                  <a:lnTo>
                    <a:pt x="332" y="673"/>
                  </a:lnTo>
                  <a:lnTo>
                    <a:pt x="348" y="673"/>
                  </a:lnTo>
                  <a:lnTo>
                    <a:pt x="348" y="682"/>
                  </a:lnTo>
                  <a:lnTo>
                    <a:pt x="356" y="682"/>
                  </a:lnTo>
                  <a:lnTo>
                    <a:pt x="371" y="673"/>
                  </a:lnTo>
                  <a:lnTo>
                    <a:pt x="371" y="682"/>
                  </a:lnTo>
                  <a:lnTo>
                    <a:pt x="379" y="682"/>
                  </a:lnTo>
                  <a:lnTo>
                    <a:pt x="394" y="682"/>
                  </a:lnTo>
                  <a:lnTo>
                    <a:pt x="402" y="682"/>
                  </a:lnTo>
                  <a:lnTo>
                    <a:pt x="402" y="682"/>
                  </a:lnTo>
                  <a:lnTo>
                    <a:pt x="410" y="682"/>
                  </a:lnTo>
                  <a:lnTo>
                    <a:pt x="425" y="682"/>
                  </a:lnTo>
                  <a:lnTo>
                    <a:pt x="433" y="673"/>
                  </a:lnTo>
                  <a:lnTo>
                    <a:pt x="433" y="673"/>
                  </a:lnTo>
                  <a:lnTo>
                    <a:pt x="441" y="653"/>
                  </a:lnTo>
                  <a:lnTo>
                    <a:pt x="448" y="643"/>
                  </a:lnTo>
                  <a:lnTo>
                    <a:pt x="464" y="663"/>
                  </a:lnTo>
                  <a:lnTo>
                    <a:pt x="464" y="673"/>
                  </a:lnTo>
                  <a:lnTo>
                    <a:pt x="471" y="673"/>
                  </a:lnTo>
                  <a:lnTo>
                    <a:pt x="479" y="663"/>
                  </a:lnTo>
                  <a:lnTo>
                    <a:pt x="487" y="682"/>
                  </a:lnTo>
                  <a:lnTo>
                    <a:pt x="502" y="673"/>
                  </a:lnTo>
                  <a:lnTo>
                    <a:pt x="510" y="663"/>
                  </a:lnTo>
                  <a:lnTo>
                    <a:pt x="510" y="653"/>
                  </a:lnTo>
                  <a:lnTo>
                    <a:pt x="518" y="663"/>
                  </a:lnTo>
                  <a:lnTo>
                    <a:pt x="525" y="653"/>
                  </a:lnTo>
                  <a:lnTo>
                    <a:pt x="533" y="663"/>
                  </a:lnTo>
                  <a:lnTo>
                    <a:pt x="541" y="682"/>
                  </a:lnTo>
                  <a:lnTo>
                    <a:pt x="549" y="673"/>
                  </a:lnTo>
                  <a:lnTo>
                    <a:pt x="564" y="673"/>
                  </a:lnTo>
                  <a:lnTo>
                    <a:pt x="572" y="682"/>
                  </a:lnTo>
                  <a:lnTo>
                    <a:pt x="580" y="682"/>
                  </a:lnTo>
                  <a:lnTo>
                    <a:pt x="580" y="682"/>
                  </a:lnTo>
                  <a:lnTo>
                    <a:pt x="587" y="673"/>
                  </a:lnTo>
                  <a:lnTo>
                    <a:pt x="595" y="663"/>
                  </a:lnTo>
                  <a:lnTo>
                    <a:pt x="603" y="673"/>
                  </a:lnTo>
                  <a:lnTo>
                    <a:pt x="610" y="673"/>
                  </a:lnTo>
                  <a:lnTo>
                    <a:pt x="618" y="673"/>
                  </a:lnTo>
                  <a:lnTo>
                    <a:pt x="626" y="673"/>
                  </a:lnTo>
                  <a:lnTo>
                    <a:pt x="634" y="673"/>
                  </a:lnTo>
                  <a:lnTo>
                    <a:pt x="641" y="663"/>
                  </a:lnTo>
                  <a:lnTo>
                    <a:pt x="649" y="673"/>
                  </a:lnTo>
                  <a:lnTo>
                    <a:pt x="657" y="673"/>
                  </a:lnTo>
                  <a:lnTo>
                    <a:pt x="664" y="682"/>
                  </a:lnTo>
                  <a:lnTo>
                    <a:pt x="672" y="682"/>
                  </a:lnTo>
                  <a:lnTo>
                    <a:pt x="680" y="682"/>
                  </a:lnTo>
                  <a:lnTo>
                    <a:pt x="688" y="692"/>
                  </a:lnTo>
                  <a:lnTo>
                    <a:pt x="695" y="682"/>
                  </a:lnTo>
                  <a:lnTo>
                    <a:pt x="703" y="682"/>
                  </a:lnTo>
                  <a:lnTo>
                    <a:pt x="711" y="673"/>
                  </a:lnTo>
                  <a:lnTo>
                    <a:pt x="719" y="663"/>
                  </a:lnTo>
                  <a:lnTo>
                    <a:pt x="726" y="682"/>
                  </a:lnTo>
                  <a:lnTo>
                    <a:pt x="734" y="682"/>
                  </a:lnTo>
                  <a:lnTo>
                    <a:pt x="742" y="682"/>
                  </a:lnTo>
                  <a:lnTo>
                    <a:pt x="757" y="682"/>
                  </a:lnTo>
                  <a:lnTo>
                    <a:pt x="765" y="682"/>
                  </a:lnTo>
                  <a:lnTo>
                    <a:pt x="773" y="682"/>
                  </a:lnTo>
                  <a:lnTo>
                    <a:pt x="773" y="673"/>
                  </a:lnTo>
                  <a:lnTo>
                    <a:pt x="780" y="673"/>
                  </a:lnTo>
                  <a:lnTo>
                    <a:pt x="788" y="673"/>
                  </a:lnTo>
                  <a:lnTo>
                    <a:pt x="796" y="682"/>
                  </a:lnTo>
                  <a:lnTo>
                    <a:pt x="803" y="682"/>
                  </a:lnTo>
                  <a:lnTo>
                    <a:pt x="811" y="682"/>
                  </a:lnTo>
                  <a:lnTo>
                    <a:pt x="827" y="682"/>
                  </a:lnTo>
                  <a:lnTo>
                    <a:pt x="834" y="673"/>
                  </a:lnTo>
                  <a:lnTo>
                    <a:pt x="834" y="673"/>
                  </a:lnTo>
                  <a:lnTo>
                    <a:pt x="842" y="653"/>
                  </a:lnTo>
                  <a:lnTo>
                    <a:pt x="850" y="663"/>
                  </a:lnTo>
                  <a:lnTo>
                    <a:pt x="858" y="663"/>
                  </a:lnTo>
                  <a:lnTo>
                    <a:pt x="873" y="663"/>
                  </a:lnTo>
                  <a:lnTo>
                    <a:pt x="881" y="673"/>
                  </a:lnTo>
                  <a:lnTo>
                    <a:pt x="881" y="673"/>
                  </a:lnTo>
                  <a:lnTo>
                    <a:pt x="888" y="682"/>
                  </a:lnTo>
                  <a:lnTo>
                    <a:pt x="896" y="673"/>
                  </a:lnTo>
                  <a:lnTo>
                    <a:pt x="912" y="663"/>
                  </a:lnTo>
                  <a:lnTo>
                    <a:pt x="912" y="653"/>
                  </a:lnTo>
                  <a:lnTo>
                    <a:pt x="919" y="643"/>
                  </a:lnTo>
                  <a:lnTo>
                    <a:pt x="927" y="517"/>
                  </a:lnTo>
                  <a:lnTo>
                    <a:pt x="942" y="322"/>
                  </a:lnTo>
                  <a:lnTo>
                    <a:pt x="950" y="322"/>
                  </a:lnTo>
                  <a:lnTo>
                    <a:pt x="950" y="439"/>
                  </a:lnTo>
                  <a:lnTo>
                    <a:pt x="958" y="546"/>
                  </a:lnTo>
                  <a:lnTo>
                    <a:pt x="973" y="604"/>
                  </a:lnTo>
                  <a:lnTo>
                    <a:pt x="973" y="614"/>
                  </a:lnTo>
                  <a:lnTo>
                    <a:pt x="981" y="634"/>
                  </a:lnTo>
                  <a:lnTo>
                    <a:pt x="996" y="643"/>
                  </a:lnTo>
                  <a:lnTo>
                    <a:pt x="1004" y="624"/>
                  </a:lnTo>
                  <a:lnTo>
                    <a:pt x="1004" y="624"/>
                  </a:lnTo>
                  <a:lnTo>
                    <a:pt x="1020" y="634"/>
                  </a:lnTo>
                  <a:lnTo>
                    <a:pt x="1027" y="634"/>
                  </a:lnTo>
                  <a:lnTo>
                    <a:pt x="1027" y="634"/>
                  </a:lnTo>
                  <a:lnTo>
                    <a:pt x="1043" y="624"/>
                  </a:lnTo>
                  <a:lnTo>
                    <a:pt x="1051" y="614"/>
                  </a:lnTo>
                  <a:lnTo>
                    <a:pt x="1051" y="585"/>
                  </a:lnTo>
                  <a:lnTo>
                    <a:pt x="1066" y="380"/>
                  </a:lnTo>
                  <a:lnTo>
                    <a:pt x="1074" y="10"/>
                  </a:lnTo>
                  <a:lnTo>
                    <a:pt x="1074" y="0"/>
                  </a:lnTo>
                  <a:lnTo>
                    <a:pt x="1089" y="88"/>
                  </a:lnTo>
                  <a:lnTo>
                    <a:pt x="1089" y="244"/>
                  </a:lnTo>
                  <a:lnTo>
                    <a:pt x="1097" y="390"/>
                  </a:lnTo>
                  <a:lnTo>
                    <a:pt x="1112" y="448"/>
                  </a:lnTo>
                  <a:lnTo>
                    <a:pt x="1112" y="526"/>
                  </a:lnTo>
                  <a:lnTo>
                    <a:pt x="1128" y="585"/>
                  </a:lnTo>
                  <a:lnTo>
                    <a:pt x="1135" y="614"/>
                  </a:lnTo>
                  <a:lnTo>
                    <a:pt x="1135" y="634"/>
                  </a:lnTo>
                  <a:lnTo>
                    <a:pt x="1151" y="643"/>
                  </a:lnTo>
                  <a:lnTo>
                    <a:pt x="1151" y="653"/>
                  </a:lnTo>
                  <a:lnTo>
                    <a:pt x="1166" y="663"/>
                  </a:lnTo>
                  <a:lnTo>
                    <a:pt x="1166" y="663"/>
                  </a:lnTo>
                  <a:lnTo>
                    <a:pt x="1182" y="663"/>
                  </a:lnTo>
                  <a:lnTo>
                    <a:pt x="1182" y="653"/>
                  </a:lnTo>
                  <a:lnTo>
                    <a:pt x="1197" y="653"/>
                  </a:lnTo>
                  <a:lnTo>
                    <a:pt x="1205" y="634"/>
                  </a:lnTo>
                  <a:lnTo>
                    <a:pt x="1205" y="565"/>
                  </a:lnTo>
                  <a:lnTo>
                    <a:pt x="1220" y="565"/>
                  </a:lnTo>
                  <a:lnTo>
                    <a:pt x="1220" y="575"/>
                  </a:lnTo>
                  <a:lnTo>
                    <a:pt x="1236" y="595"/>
                  </a:lnTo>
                  <a:lnTo>
                    <a:pt x="1236" y="614"/>
                  </a:lnTo>
                  <a:lnTo>
                    <a:pt x="1251" y="634"/>
                  </a:lnTo>
                  <a:lnTo>
                    <a:pt x="1251" y="653"/>
                  </a:lnTo>
                  <a:lnTo>
                    <a:pt x="1267" y="663"/>
                  </a:lnTo>
                  <a:lnTo>
                    <a:pt x="1274" y="663"/>
                  </a:lnTo>
                  <a:lnTo>
                    <a:pt x="1282" y="663"/>
                  </a:lnTo>
                  <a:lnTo>
                    <a:pt x="1290" y="663"/>
                  </a:lnTo>
                  <a:lnTo>
                    <a:pt x="1298" y="663"/>
                  </a:lnTo>
                  <a:lnTo>
                    <a:pt x="1305" y="673"/>
                  </a:lnTo>
                  <a:lnTo>
                    <a:pt x="1305" y="663"/>
                  </a:lnTo>
                  <a:lnTo>
                    <a:pt x="1321" y="663"/>
                  </a:lnTo>
                  <a:lnTo>
                    <a:pt x="1321" y="663"/>
                  </a:lnTo>
                  <a:lnTo>
                    <a:pt x="1336" y="663"/>
                  </a:lnTo>
                  <a:lnTo>
                    <a:pt x="1336" y="663"/>
                  </a:lnTo>
                  <a:lnTo>
                    <a:pt x="1352" y="673"/>
                  </a:lnTo>
                  <a:lnTo>
                    <a:pt x="1359" y="673"/>
                  </a:lnTo>
                  <a:lnTo>
                    <a:pt x="1359" y="663"/>
                  </a:lnTo>
                  <a:lnTo>
                    <a:pt x="1375" y="663"/>
                  </a:lnTo>
                  <a:lnTo>
                    <a:pt x="1375" y="673"/>
                  </a:lnTo>
                  <a:lnTo>
                    <a:pt x="1390" y="673"/>
                  </a:lnTo>
                  <a:lnTo>
                    <a:pt x="1398" y="673"/>
                  </a:lnTo>
                  <a:lnTo>
                    <a:pt x="1398" y="673"/>
                  </a:lnTo>
                  <a:lnTo>
                    <a:pt x="1413" y="673"/>
                  </a:lnTo>
                  <a:lnTo>
                    <a:pt x="1421" y="673"/>
                  </a:lnTo>
                  <a:lnTo>
                    <a:pt x="1421" y="663"/>
                  </a:lnTo>
                  <a:lnTo>
                    <a:pt x="1437" y="663"/>
                  </a:lnTo>
                  <a:lnTo>
                    <a:pt x="1444" y="663"/>
                  </a:lnTo>
                  <a:lnTo>
                    <a:pt x="1452" y="663"/>
                  </a:lnTo>
                  <a:lnTo>
                    <a:pt x="1460" y="663"/>
                  </a:lnTo>
                  <a:lnTo>
                    <a:pt x="1467" y="673"/>
                  </a:lnTo>
                  <a:lnTo>
                    <a:pt x="1475" y="673"/>
                  </a:lnTo>
                  <a:lnTo>
                    <a:pt x="1483" y="682"/>
                  </a:lnTo>
                  <a:lnTo>
                    <a:pt x="1491" y="682"/>
                  </a:lnTo>
                  <a:lnTo>
                    <a:pt x="1491" y="682"/>
                  </a:lnTo>
                  <a:lnTo>
                    <a:pt x="1506" y="682"/>
                  </a:lnTo>
                  <a:lnTo>
                    <a:pt x="1514" y="682"/>
                  </a:lnTo>
                  <a:lnTo>
                    <a:pt x="1514" y="673"/>
                  </a:lnTo>
                  <a:lnTo>
                    <a:pt x="1529" y="673"/>
                  </a:lnTo>
                  <a:lnTo>
                    <a:pt x="1537" y="682"/>
                  </a:lnTo>
                  <a:lnTo>
                    <a:pt x="1545" y="682"/>
                  </a:lnTo>
                  <a:lnTo>
                    <a:pt x="1545" y="682"/>
                  </a:lnTo>
                  <a:lnTo>
                    <a:pt x="1560" y="682"/>
                  </a:lnTo>
                  <a:lnTo>
                    <a:pt x="1568" y="682"/>
                  </a:lnTo>
                  <a:lnTo>
                    <a:pt x="1576" y="682"/>
                  </a:lnTo>
                  <a:lnTo>
                    <a:pt x="1583" y="682"/>
                  </a:lnTo>
                  <a:lnTo>
                    <a:pt x="1591" y="673"/>
                  </a:lnTo>
                  <a:lnTo>
                    <a:pt x="1599" y="673"/>
                  </a:lnTo>
                  <a:lnTo>
                    <a:pt x="1606" y="682"/>
                  </a:lnTo>
                  <a:lnTo>
                    <a:pt x="1606" y="682"/>
                  </a:lnTo>
                  <a:lnTo>
                    <a:pt x="1622" y="682"/>
                  </a:lnTo>
                  <a:lnTo>
                    <a:pt x="1630" y="682"/>
                  </a:lnTo>
                  <a:lnTo>
                    <a:pt x="1637" y="682"/>
                  </a:lnTo>
                  <a:lnTo>
                    <a:pt x="1637" y="682"/>
                  </a:lnTo>
                  <a:lnTo>
                    <a:pt x="1653" y="682"/>
                  </a:lnTo>
                  <a:lnTo>
                    <a:pt x="1661" y="682"/>
                  </a:lnTo>
                  <a:lnTo>
                    <a:pt x="1668" y="682"/>
                  </a:lnTo>
                  <a:lnTo>
                    <a:pt x="1676" y="682"/>
                  </a:lnTo>
                  <a:lnTo>
                    <a:pt x="1684" y="682"/>
                  </a:lnTo>
                  <a:lnTo>
                    <a:pt x="1684" y="682"/>
                  </a:lnTo>
                  <a:lnTo>
                    <a:pt x="1699" y="682"/>
                  </a:lnTo>
                  <a:lnTo>
                    <a:pt x="1707" y="682"/>
                  </a:lnTo>
                  <a:lnTo>
                    <a:pt x="1715" y="682"/>
                  </a:lnTo>
                  <a:lnTo>
                    <a:pt x="1722" y="692"/>
                  </a:lnTo>
                  <a:lnTo>
                    <a:pt x="1730" y="682"/>
                  </a:lnTo>
                  <a:lnTo>
                    <a:pt x="1730" y="682"/>
                  </a:lnTo>
                  <a:lnTo>
                    <a:pt x="1738" y="682"/>
                  </a:lnTo>
                  <a:lnTo>
                    <a:pt x="1753" y="682"/>
                  </a:lnTo>
                  <a:lnTo>
                    <a:pt x="1761" y="673"/>
                  </a:lnTo>
                  <a:lnTo>
                    <a:pt x="1769" y="673"/>
                  </a:lnTo>
                  <a:lnTo>
                    <a:pt x="1776" y="673"/>
                  </a:lnTo>
                  <a:lnTo>
                    <a:pt x="1784" y="673"/>
                  </a:lnTo>
                  <a:lnTo>
                    <a:pt x="1792" y="682"/>
                  </a:lnTo>
                  <a:lnTo>
                    <a:pt x="1799" y="682"/>
                  </a:lnTo>
                  <a:lnTo>
                    <a:pt x="1799" y="682"/>
                  </a:lnTo>
                  <a:lnTo>
                    <a:pt x="1807" y="673"/>
                  </a:lnTo>
                  <a:lnTo>
                    <a:pt x="1823" y="663"/>
                  </a:lnTo>
                  <a:lnTo>
                    <a:pt x="1830" y="634"/>
                  </a:lnTo>
                  <a:lnTo>
                    <a:pt x="1838" y="595"/>
                  </a:lnTo>
                  <a:lnTo>
                    <a:pt x="1846" y="595"/>
                  </a:lnTo>
                  <a:lnTo>
                    <a:pt x="1854" y="634"/>
                  </a:lnTo>
                  <a:lnTo>
                    <a:pt x="1861" y="653"/>
                  </a:lnTo>
                  <a:lnTo>
                    <a:pt x="1869" y="673"/>
                  </a:lnTo>
                  <a:lnTo>
                    <a:pt x="1877" y="682"/>
                  </a:lnTo>
                  <a:lnTo>
                    <a:pt x="1884" y="682"/>
                  </a:lnTo>
                  <a:lnTo>
                    <a:pt x="1892" y="682"/>
                  </a:lnTo>
                  <a:lnTo>
                    <a:pt x="1900" y="682"/>
                  </a:lnTo>
                  <a:lnTo>
                    <a:pt x="1908" y="682"/>
                  </a:lnTo>
                  <a:lnTo>
                    <a:pt x="1915" y="682"/>
                  </a:lnTo>
                  <a:lnTo>
                    <a:pt x="1923" y="682"/>
                  </a:lnTo>
                  <a:lnTo>
                    <a:pt x="1931" y="682"/>
                  </a:lnTo>
                  <a:lnTo>
                    <a:pt x="1938" y="682"/>
                  </a:lnTo>
                  <a:lnTo>
                    <a:pt x="1946" y="682"/>
                  </a:lnTo>
                  <a:lnTo>
                    <a:pt x="1954" y="682"/>
                  </a:lnTo>
                  <a:lnTo>
                    <a:pt x="1962" y="682"/>
                  </a:lnTo>
                  <a:lnTo>
                    <a:pt x="1969" y="682"/>
                  </a:lnTo>
                  <a:lnTo>
                    <a:pt x="1977" y="673"/>
                  </a:lnTo>
                  <a:lnTo>
                    <a:pt x="1985" y="673"/>
                  </a:lnTo>
                  <a:lnTo>
                    <a:pt x="1993" y="673"/>
                  </a:lnTo>
                  <a:lnTo>
                    <a:pt x="2000" y="682"/>
                  </a:lnTo>
                  <a:lnTo>
                    <a:pt x="2008" y="682"/>
                  </a:lnTo>
                  <a:lnTo>
                    <a:pt x="2016" y="682"/>
                  </a:lnTo>
                  <a:lnTo>
                    <a:pt x="2023" y="682"/>
                  </a:lnTo>
                  <a:lnTo>
                    <a:pt x="2031" y="682"/>
                  </a:lnTo>
                  <a:lnTo>
                    <a:pt x="2039" y="682"/>
                  </a:lnTo>
                  <a:lnTo>
                    <a:pt x="2047" y="682"/>
                  </a:lnTo>
                  <a:lnTo>
                    <a:pt x="2054" y="692"/>
                  </a:lnTo>
                  <a:lnTo>
                    <a:pt x="2062" y="682"/>
                  </a:lnTo>
                  <a:lnTo>
                    <a:pt x="2070" y="682"/>
                  </a:lnTo>
                  <a:lnTo>
                    <a:pt x="2070" y="682"/>
                  </a:lnTo>
                  <a:lnTo>
                    <a:pt x="2085" y="682"/>
                  </a:lnTo>
                  <a:lnTo>
                    <a:pt x="2093" y="673"/>
                  </a:lnTo>
                  <a:lnTo>
                    <a:pt x="2101" y="673"/>
                  </a:lnTo>
                  <a:lnTo>
                    <a:pt x="2108" y="682"/>
                  </a:lnTo>
                  <a:lnTo>
                    <a:pt x="2116" y="682"/>
                  </a:lnTo>
                  <a:lnTo>
                    <a:pt x="2124" y="682"/>
                  </a:lnTo>
                  <a:lnTo>
                    <a:pt x="2131" y="663"/>
                  </a:lnTo>
                  <a:lnTo>
                    <a:pt x="2139" y="653"/>
                  </a:lnTo>
                  <a:lnTo>
                    <a:pt x="2139" y="643"/>
                  </a:lnTo>
                  <a:lnTo>
                    <a:pt x="2155" y="643"/>
                  </a:lnTo>
                  <a:lnTo>
                    <a:pt x="2162" y="653"/>
                  </a:lnTo>
                  <a:lnTo>
                    <a:pt x="2170" y="663"/>
                  </a:lnTo>
                  <a:lnTo>
                    <a:pt x="2178" y="673"/>
                  </a:lnTo>
                  <a:lnTo>
                    <a:pt x="2186" y="673"/>
                  </a:lnTo>
                  <a:lnTo>
                    <a:pt x="2193" y="682"/>
                  </a:lnTo>
                  <a:lnTo>
                    <a:pt x="2193" y="682"/>
                  </a:lnTo>
                  <a:lnTo>
                    <a:pt x="2209" y="682"/>
                  </a:lnTo>
                  <a:lnTo>
                    <a:pt x="2216" y="682"/>
                  </a:lnTo>
                  <a:lnTo>
                    <a:pt x="2224" y="692"/>
                  </a:lnTo>
                  <a:lnTo>
                    <a:pt x="2232" y="682"/>
                  </a:lnTo>
                  <a:lnTo>
                    <a:pt x="2240" y="682"/>
                  </a:lnTo>
                  <a:lnTo>
                    <a:pt x="2240" y="682"/>
                  </a:lnTo>
                  <a:lnTo>
                    <a:pt x="2255" y="682"/>
                  </a:lnTo>
                  <a:lnTo>
                    <a:pt x="2263" y="682"/>
                  </a:lnTo>
                  <a:lnTo>
                    <a:pt x="2270" y="682"/>
                  </a:lnTo>
                  <a:lnTo>
                    <a:pt x="2278" y="673"/>
                  </a:lnTo>
                  <a:lnTo>
                    <a:pt x="2278" y="673"/>
                  </a:lnTo>
                  <a:lnTo>
                    <a:pt x="2294" y="673"/>
                  </a:lnTo>
                  <a:lnTo>
                    <a:pt x="2301" y="673"/>
                  </a:lnTo>
                  <a:lnTo>
                    <a:pt x="2309" y="663"/>
                  </a:lnTo>
                  <a:lnTo>
                    <a:pt x="2317" y="663"/>
                  </a:lnTo>
                  <a:lnTo>
                    <a:pt x="2325" y="663"/>
                  </a:lnTo>
                  <a:lnTo>
                    <a:pt x="2332" y="663"/>
                  </a:lnTo>
                  <a:lnTo>
                    <a:pt x="2340" y="653"/>
                  </a:lnTo>
                  <a:lnTo>
                    <a:pt x="2348" y="643"/>
                  </a:lnTo>
                  <a:lnTo>
                    <a:pt x="2355" y="634"/>
                  </a:lnTo>
                  <a:lnTo>
                    <a:pt x="2363" y="614"/>
                  </a:lnTo>
                  <a:lnTo>
                    <a:pt x="2371" y="546"/>
                  </a:lnTo>
                  <a:lnTo>
                    <a:pt x="2379" y="526"/>
                  </a:lnTo>
                  <a:lnTo>
                    <a:pt x="2386" y="526"/>
                  </a:lnTo>
                  <a:lnTo>
                    <a:pt x="2394" y="546"/>
                  </a:lnTo>
                  <a:lnTo>
                    <a:pt x="2402" y="595"/>
                  </a:lnTo>
                  <a:lnTo>
                    <a:pt x="2402" y="575"/>
                  </a:lnTo>
                  <a:lnTo>
                    <a:pt x="2417" y="517"/>
                  </a:lnTo>
                  <a:lnTo>
                    <a:pt x="2425" y="517"/>
                  </a:lnTo>
                  <a:lnTo>
                    <a:pt x="2433" y="546"/>
                  </a:lnTo>
                  <a:lnTo>
                    <a:pt x="2440" y="565"/>
                  </a:lnTo>
                  <a:lnTo>
                    <a:pt x="2448" y="439"/>
                  </a:lnTo>
                  <a:lnTo>
                    <a:pt x="2456" y="234"/>
                  </a:lnTo>
                  <a:lnTo>
                    <a:pt x="2456" y="214"/>
                  </a:lnTo>
                  <a:lnTo>
                    <a:pt x="2471" y="253"/>
                  </a:lnTo>
                  <a:lnTo>
                    <a:pt x="2479" y="390"/>
                  </a:lnTo>
                  <a:lnTo>
                    <a:pt x="2479" y="468"/>
                  </a:lnTo>
                  <a:lnTo>
                    <a:pt x="2494" y="487"/>
                  </a:lnTo>
                  <a:lnTo>
                    <a:pt x="2502" y="507"/>
                  </a:lnTo>
                  <a:lnTo>
                    <a:pt x="2502" y="497"/>
                  </a:lnTo>
                  <a:lnTo>
                    <a:pt x="2518" y="497"/>
                  </a:lnTo>
                  <a:lnTo>
                    <a:pt x="2525" y="497"/>
                  </a:lnTo>
                  <a:lnTo>
                    <a:pt x="2525" y="380"/>
                  </a:lnTo>
                  <a:lnTo>
                    <a:pt x="2541" y="302"/>
                  </a:lnTo>
                  <a:lnTo>
                    <a:pt x="2548" y="302"/>
                  </a:lnTo>
                  <a:lnTo>
                    <a:pt x="2556" y="370"/>
                  </a:lnTo>
                  <a:lnTo>
                    <a:pt x="2564" y="439"/>
                  </a:lnTo>
                  <a:lnTo>
                    <a:pt x="2572" y="487"/>
                  </a:lnTo>
                  <a:lnTo>
                    <a:pt x="2579" y="468"/>
                  </a:lnTo>
                  <a:lnTo>
                    <a:pt x="2587" y="468"/>
                  </a:lnTo>
                  <a:lnTo>
                    <a:pt x="2587" y="478"/>
                  </a:lnTo>
                  <a:lnTo>
                    <a:pt x="2602" y="429"/>
                  </a:lnTo>
                  <a:lnTo>
                    <a:pt x="2610" y="331"/>
                  </a:lnTo>
                  <a:lnTo>
                    <a:pt x="2618" y="263"/>
                  </a:lnTo>
                  <a:lnTo>
                    <a:pt x="2626" y="263"/>
                  </a:lnTo>
                  <a:lnTo>
                    <a:pt x="2626" y="302"/>
                  </a:lnTo>
                  <a:lnTo>
                    <a:pt x="2641" y="390"/>
                  </a:lnTo>
                  <a:lnTo>
                    <a:pt x="2649" y="468"/>
                  </a:lnTo>
                  <a:lnTo>
                    <a:pt x="2657" y="507"/>
                  </a:lnTo>
                  <a:lnTo>
                    <a:pt x="2664" y="517"/>
                  </a:lnTo>
                  <a:lnTo>
                    <a:pt x="2664" y="526"/>
                  </a:lnTo>
                  <a:lnTo>
                    <a:pt x="2680" y="526"/>
                  </a:lnTo>
                  <a:lnTo>
                    <a:pt x="2680" y="546"/>
                  </a:lnTo>
                  <a:lnTo>
                    <a:pt x="2695" y="565"/>
                  </a:lnTo>
                  <a:lnTo>
                    <a:pt x="2703" y="585"/>
                  </a:lnTo>
                  <a:lnTo>
                    <a:pt x="2711" y="585"/>
                  </a:lnTo>
                  <a:lnTo>
                    <a:pt x="2718" y="585"/>
                  </a:lnTo>
                  <a:lnTo>
                    <a:pt x="2726" y="595"/>
                  </a:lnTo>
                  <a:lnTo>
                    <a:pt x="2734" y="585"/>
                  </a:lnTo>
                  <a:lnTo>
                    <a:pt x="2734" y="565"/>
                  </a:lnTo>
                  <a:lnTo>
                    <a:pt x="2749" y="487"/>
                  </a:lnTo>
                  <a:lnTo>
                    <a:pt x="2749" y="448"/>
                  </a:lnTo>
                  <a:lnTo>
                    <a:pt x="2765" y="448"/>
                  </a:lnTo>
                  <a:lnTo>
                    <a:pt x="2765" y="458"/>
                  </a:lnTo>
                  <a:lnTo>
                    <a:pt x="2780" y="468"/>
                  </a:lnTo>
                  <a:lnTo>
                    <a:pt x="2780" y="507"/>
                  </a:lnTo>
                  <a:lnTo>
                    <a:pt x="2796" y="536"/>
                  </a:lnTo>
                  <a:lnTo>
                    <a:pt x="2796" y="556"/>
                  </a:lnTo>
                  <a:lnTo>
                    <a:pt x="2811" y="575"/>
                  </a:lnTo>
                  <a:lnTo>
                    <a:pt x="2811" y="595"/>
                  </a:lnTo>
                  <a:lnTo>
                    <a:pt x="2826" y="604"/>
                  </a:lnTo>
                  <a:lnTo>
                    <a:pt x="2826" y="604"/>
                  </a:lnTo>
                  <a:lnTo>
                    <a:pt x="2842" y="604"/>
                  </a:lnTo>
                  <a:lnTo>
                    <a:pt x="2842" y="604"/>
                  </a:lnTo>
                  <a:lnTo>
                    <a:pt x="2857" y="604"/>
                  </a:lnTo>
                  <a:lnTo>
                    <a:pt x="2857" y="595"/>
                  </a:lnTo>
                  <a:lnTo>
                    <a:pt x="2873" y="595"/>
                  </a:lnTo>
                  <a:lnTo>
                    <a:pt x="2873" y="585"/>
                  </a:lnTo>
                  <a:lnTo>
                    <a:pt x="2888" y="575"/>
                  </a:lnTo>
                  <a:lnTo>
                    <a:pt x="2896" y="556"/>
                  </a:lnTo>
                  <a:lnTo>
                    <a:pt x="2904" y="517"/>
                  </a:lnTo>
                  <a:lnTo>
                    <a:pt x="2911" y="507"/>
                  </a:lnTo>
                  <a:lnTo>
                    <a:pt x="2919" y="507"/>
                  </a:lnTo>
                  <a:lnTo>
                    <a:pt x="2927" y="526"/>
                  </a:lnTo>
                  <a:lnTo>
                    <a:pt x="2927" y="517"/>
                  </a:lnTo>
                  <a:lnTo>
                    <a:pt x="2942" y="400"/>
                  </a:lnTo>
                  <a:lnTo>
                    <a:pt x="2942" y="331"/>
                  </a:lnTo>
                  <a:lnTo>
                    <a:pt x="2958" y="331"/>
                  </a:lnTo>
                  <a:lnTo>
                    <a:pt x="2965" y="351"/>
                  </a:lnTo>
                  <a:lnTo>
                    <a:pt x="2973" y="390"/>
                  </a:lnTo>
                  <a:lnTo>
                    <a:pt x="2981" y="458"/>
                  </a:lnTo>
                  <a:lnTo>
                    <a:pt x="2981" y="507"/>
                  </a:lnTo>
                  <a:lnTo>
                    <a:pt x="2996" y="526"/>
                  </a:lnTo>
                  <a:lnTo>
                    <a:pt x="2996" y="556"/>
                  </a:lnTo>
                  <a:lnTo>
                    <a:pt x="3012" y="575"/>
                  </a:lnTo>
                  <a:lnTo>
                    <a:pt x="3019" y="585"/>
                  </a:lnTo>
                  <a:lnTo>
                    <a:pt x="3019" y="595"/>
                  </a:lnTo>
                  <a:lnTo>
                    <a:pt x="3035" y="604"/>
                  </a:lnTo>
                  <a:lnTo>
                    <a:pt x="3043" y="604"/>
                  </a:lnTo>
                  <a:lnTo>
                    <a:pt x="3050" y="604"/>
                  </a:lnTo>
                  <a:lnTo>
                    <a:pt x="3058" y="604"/>
                  </a:lnTo>
                  <a:lnTo>
                    <a:pt x="3058" y="604"/>
                  </a:lnTo>
                  <a:lnTo>
                    <a:pt x="3073" y="604"/>
                  </a:lnTo>
                  <a:lnTo>
                    <a:pt x="3081" y="595"/>
                  </a:lnTo>
                  <a:lnTo>
                    <a:pt x="3081" y="575"/>
                  </a:lnTo>
                  <a:lnTo>
                    <a:pt x="3097" y="565"/>
                  </a:lnTo>
                  <a:lnTo>
                    <a:pt x="3104" y="565"/>
                  </a:lnTo>
                  <a:lnTo>
                    <a:pt x="3112" y="575"/>
                  </a:lnTo>
                  <a:lnTo>
                    <a:pt x="3120" y="585"/>
                  </a:lnTo>
                  <a:lnTo>
                    <a:pt x="3128" y="595"/>
                  </a:lnTo>
                  <a:lnTo>
                    <a:pt x="3135" y="585"/>
                  </a:lnTo>
                  <a:lnTo>
                    <a:pt x="3143" y="575"/>
                  </a:lnTo>
                  <a:lnTo>
                    <a:pt x="3143" y="575"/>
                  </a:lnTo>
                  <a:lnTo>
                    <a:pt x="3158" y="585"/>
                  </a:lnTo>
                  <a:lnTo>
                    <a:pt x="3166" y="595"/>
                  </a:lnTo>
                  <a:lnTo>
                    <a:pt x="3174" y="614"/>
                  </a:lnTo>
                  <a:lnTo>
                    <a:pt x="3182" y="624"/>
                  </a:lnTo>
                  <a:lnTo>
                    <a:pt x="3189" y="624"/>
                  </a:lnTo>
                  <a:lnTo>
                    <a:pt x="3197" y="634"/>
                  </a:lnTo>
                  <a:lnTo>
                    <a:pt x="3197" y="643"/>
                  </a:lnTo>
                  <a:lnTo>
                    <a:pt x="3212" y="643"/>
                  </a:lnTo>
                  <a:lnTo>
                    <a:pt x="3220" y="643"/>
                  </a:lnTo>
                  <a:lnTo>
                    <a:pt x="3220" y="643"/>
                  </a:lnTo>
                  <a:lnTo>
                    <a:pt x="3236" y="643"/>
                  </a:lnTo>
                  <a:lnTo>
                    <a:pt x="3243" y="643"/>
                  </a:lnTo>
                  <a:lnTo>
                    <a:pt x="3243" y="643"/>
                  </a:lnTo>
                  <a:lnTo>
                    <a:pt x="3259" y="653"/>
                  </a:lnTo>
                  <a:lnTo>
                    <a:pt x="3267" y="653"/>
                  </a:lnTo>
                  <a:lnTo>
                    <a:pt x="3274" y="653"/>
                  </a:lnTo>
                  <a:lnTo>
                    <a:pt x="3274" y="653"/>
                  </a:lnTo>
                  <a:lnTo>
                    <a:pt x="3290" y="653"/>
                  </a:lnTo>
                  <a:lnTo>
                    <a:pt x="3297" y="653"/>
                  </a:lnTo>
                  <a:lnTo>
                    <a:pt x="3305" y="653"/>
                  </a:lnTo>
                  <a:lnTo>
                    <a:pt x="3305" y="653"/>
                  </a:lnTo>
                  <a:lnTo>
                    <a:pt x="3321" y="653"/>
                  </a:lnTo>
                  <a:lnTo>
                    <a:pt x="3328" y="663"/>
                  </a:lnTo>
                  <a:lnTo>
                    <a:pt x="3336" y="663"/>
                  </a:lnTo>
                  <a:lnTo>
                    <a:pt x="3336" y="663"/>
                  </a:lnTo>
                  <a:lnTo>
                    <a:pt x="3351" y="673"/>
                  </a:lnTo>
                  <a:lnTo>
                    <a:pt x="3359" y="673"/>
                  </a:lnTo>
                  <a:lnTo>
                    <a:pt x="3367" y="673"/>
                  </a:lnTo>
                  <a:lnTo>
                    <a:pt x="3367" y="673"/>
                  </a:lnTo>
                  <a:lnTo>
                    <a:pt x="3382" y="663"/>
                  </a:lnTo>
                  <a:lnTo>
                    <a:pt x="3390" y="663"/>
                  </a:lnTo>
                  <a:lnTo>
                    <a:pt x="3398" y="663"/>
                  </a:lnTo>
                  <a:lnTo>
                    <a:pt x="3398" y="663"/>
                  </a:lnTo>
                  <a:lnTo>
                    <a:pt x="3405" y="673"/>
                  </a:lnTo>
                  <a:lnTo>
                    <a:pt x="3421" y="673"/>
                  </a:lnTo>
                  <a:lnTo>
                    <a:pt x="3429" y="673"/>
                  </a:lnTo>
                  <a:lnTo>
                    <a:pt x="3436" y="673"/>
                  </a:lnTo>
                  <a:lnTo>
                    <a:pt x="3436" y="673"/>
                  </a:lnTo>
                  <a:lnTo>
                    <a:pt x="3444" y="673"/>
                  </a:lnTo>
                  <a:lnTo>
                    <a:pt x="3460" y="673"/>
                  </a:lnTo>
                  <a:lnTo>
                    <a:pt x="3467" y="673"/>
                  </a:lnTo>
                  <a:lnTo>
                    <a:pt x="3475" y="673"/>
                  </a:lnTo>
                  <a:lnTo>
                    <a:pt x="3475" y="673"/>
                  </a:lnTo>
                  <a:lnTo>
                    <a:pt x="3483" y="673"/>
                  </a:lnTo>
                  <a:lnTo>
                    <a:pt x="3498" y="673"/>
                  </a:lnTo>
                  <a:lnTo>
                    <a:pt x="3506" y="673"/>
                  </a:lnTo>
                  <a:lnTo>
                    <a:pt x="3514" y="673"/>
                  </a:lnTo>
                  <a:lnTo>
                    <a:pt x="3521" y="673"/>
                  </a:lnTo>
                  <a:lnTo>
                    <a:pt x="3521" y="673"/>
                  </a:lnTo>
                  <a:lnTo>
                    <a:pt x="3529" y="682"/>
                  </a:lnTo>
                  <a:lnTo>
                    <a:pt x="3544" y="682"/>
                  </a:lnTo>
                  <a:lnTo>
                    <a:pt x="3552" y="682"/>
                  </a:lnTo>
                  <a:lnTo>
                    <a:pt x="3560" y="682"/>
                  </a:lnTo>
                  <a:lnTo>
                    <a:pt x="3568" y="682"/>
                  </a:lnTo>
                  <a:lnTo>
                    <a:pt x="3575" y="682"/>
                  </a:lnTo>
                  <a:lnTo>
                    <a:pt x="3575" y="682"/>
                  </a:lnTo>
                  <a:lnTo>
                    <a:pt x="3583" y="682"/>
                  </a:lnTo>
                  <a:lnTo>
                    <a:pt x="3599" y="682"/>
                  </a:lnTo>
                  <a:lnTo>
                    <a:pt x="3606" y="673"/>
                  </a:lnTo>
                  <a:lnTo>
                    <a:pt x="3614" y="682"/>
                  </a:lnTo>
                  <a:lnTo>
                    <a:pt x="3622" y="682"/>
                  </a:lnTo>
                  <a:lnTo>
                    <a:pt x="3629" y="682"/>
                  </a:lnTo>
                  <a:lnTo>
                    <a:pt x="3637" y="682"/>
                  </a:lnTo>
                  <a:lnTo>
                    <a:pt x="3637" y="682"/>
                  </a:lnTo>
                  <a:lnTo>
                    <a:pt x="3645" y="682"/>
                  </a:lnTo>
                  <a:lnTo>
                    <a:pt x="3653" y="682"/>
                  </a:lnTo>
                  <a:lnTo>
                    <a:pt x="3668" y="682"/>
                  </a:lnTo>
                  <a:lnTo>
                    <a:pt x="3676" y="682"/>
                  </a:lnTo>
                  <a:lnTo>
                    <a:pt x="3683" y="682"/>
                  </a:lnTo>
                  <a:lnTo>
                    <a:pt x="3691" y="682"/>
                  </a:lnTo>
                  <a:lnTo>
                    <a:pt x="3699" y="682"/>
                  </a:lnTo>
                  <a:lnTo>
                    <a:pt x="3707" y="682"/>
                  </a:lnTo>
                  <a:lnTo>
                    <a:pt x="3714" y="682"/>
                  </a:lnTo>
                  <a:lnTo>
                    <a:pt x="3722" y="682"/>
                  </a:lnTo>
                  <a:lnTo>
                    <a:pt x="3722" y="682"/>
                  </a:lnTo>
                  <a:lnTo>
                    <a:pt x="3730" y="682"/>
                  </a:lnTo>
                  <a:lnTo>
                    <a:pt x="3738" y="682"/>
                  </a:lnTo>
                  <a:lnTo>
                    <a:pt x="3745" y="682"/>
                  </a:lnTo>
                  <a:lnTo>
                    <a:pt x="3753" y="682"/>
                  </a:lnTo>
                  <a:lnTo>
                    <a:pt x="3768" y="682"/>
                  </a:lnTo>
                  <a:lnTo>
                    <a:pt x="3776" y="682"/>
                  </a:lnTo>
                  <a:lnTo>
                    <a:pt x="3784" y="682"/>
                  </a:lnTo>
                  <a:lnTo>
                    <a:pt x="3792" y="692"/>
                  </a:lnTo>
                  <a:lnTo>
                    <a:pt x="3799" y="692"/>
                  </a:lnTo>
                  <a:lnTo>
                    <a:pt x="3807" y="682"/>
                  </a:lnTo>
                  <a:lnTo>
                    <a:pt x="3815" y="682"/>
                  </a:lnTo>
                  <a:lnTo>
                    <a:pt x="3822" y="682"/>
                  </a:lnTo>
                  <a:lnTo>
                    <a:pt x="3830" y="682"/>
                  </a:lnTo>
                  <a:lnTo>
                    <a:pt x="3838" y="682"/>
                  </a:lnTo>
                  <a:lnTo>
                    <a:pt x="3846" y="692"/>
                  </a:lnTo>
                  <a:lnTo>
                    <a:pt x="3853" y="6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40360" y="5766840"/>
              <a:ext cx="703440" cy="7560"/>
            </a:xfrm>
            <a:custGeom>
              <a:avLst/>
              <a:gdLst/>
              <a:ahLst/>
              <a:rect l="l" t="t" r="r" b="b"/>
              <a:pathLst>
                <a:path w="819" h="10">
                  <a:moveTo>
                    <a:pt x="0" y="1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39" y="10"/>
                  </a:lnTo>
                  <a:lnTo>
                    <a:pt x="147" y="10"/>
                  </a:lnTo>
                  <a:lnTo>
                    <a:pt x="155" y="0"/>
                  </a:lnTo>
                  <a:lnTo>
                    <a:pt x="162" y="10"/>
                  </a:lnTo>
                  <a:lnTo>
                    <a:pt x="170" y="0"/>
                  </a:lnTo>
                  <a:lnTo>
                    <a:pt x="178" y="0"/>
                  </a:lnTo>
                  <a:lnTo>
                    <a:pt x="186" y="10"/>
                  </a:lnTo>
                  <a:lnTo>
                    <a:pt x="193" y="10"/>
                  </a:lnTo>
                  <a:lnTo>
                    <a:pt x="201" y="0"/>
                  </a:lnTo>
                  <a:lnTo>
                    <a:pt x="209" y="1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7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9" y="10"/>
                  </a:lnTo>
                  <a:lnTo>
                    <a:pt x="317" y="10"/>
                  </a:lnTo>
                  <a:lnTo>
                    <a:pt x="332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5" y="0"/>
                  </a:lnTo>
                  <a:lnTo>
                    <a:pt x="363" y="0"/>
                  </a:lnTo>
                  <a:lnTo>
                    <a:pt x="371" y="0"/>
                  </a:lnTo>
                  <a:lnTo>
                    <a:pt x="371" y="10"/>
                  </a:lnTo>
                  <a:lnTo>
                    <a:pt x="379" y="10"/>
                  </a:lnTo>
                  <a:lnTo>
                    <a:pt x="386" y="0"/>
                  </a:lnTo>
                  <a:lnTo>
                    <a:pt x="402" y="0"/>
                  </a:lnTo>
                  <a:lnTo>
                    <a:pt x="410" y="0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33" y="0"/>
                  </a:lnTo>
                  <a:lnTo>
                    <a:pt x="433" y="0"/>
                  </a:lnTo>
                  <a:lnTo>
                    <a:pt x="440" y="10"/>
                  </a:lnTo>
                  <a:lnTo>
                    <a:pt x="456" y="10"/>
                  </a:lnTo>
                  <a:lnTo>
                    <a:pt x="464" y="10"/>
                  </a:lnTo>
                  <a:lnTo>
                    <a:pt x="471" y="10"/>
                  </a:lnTo>
                  <a:lnTo>
                    <a:pt x="479" y="10"/>
                  </a:lnTo>
                  <a:lnTo>
                    <a:pt x="479" y="0"/>
                  </a:lnTo>
                  <a:lnTo>
                    <a:pt x="487" y="0"/>
                  </a:lnTo>
                  <a:lnTo>
                    <a:pt x="502" y="0"/>
                  </a:lnTo>
                  <a:lnTo>
                    <a:pt x="510" y="0"/>
                  </a:lnTo>
                  <a:lnTo>
                    <a:pt x="518" y="0"/>
                  </a:lnTo>
                  <a:lnTo>
                    <a:pt x="525" y="0"/>
                  </a:lnTo>
                  <a:lnTo>
                    <a:pt x="525" y="0"/>
                  </a:lnTo>
                  <a:lnTo>
                    <a:pt x="541" y="0"/>
                  </a:lnTo>
                  <a:lnTo>
                    <a:pt x="549" y="10"/>
                  </a:lnTo>
                  <a:lnTo>
                    <a:pt x="556" y="10"/>
                  </a:lnTo>
                  <a:lnTo>
                    <a:pt x="564" y="0"/>
                  </a:lnTo>
                  <a:lnTo>
                    <a:pt x="564" y="0"/>
                  </a:lnTo>
                  <a:lnTo>
                    <a:pt x="572" y="0"/>
                  </a:lnTo>
                  <a:lnTo>
                    <a:pt x="587" y="0"/>
                  </a:lnTo>
                  <a:lnTo>
                    <a:pt x="595" y="0"/>
                  </a:lnTo>
                  <a:lnTo>
                    <a:pt x="603" y="0"/>
                  </a:lnTo>
                  <a:lnTo>
                    <a:pt x="603" y="0"/>
                  </a:lnTo>
                  <a:lnTo>
                    <a:pt x="618" y="0"/>
                  </a:lnTo>
                  <a:lnTo>
                    <a:pt x="626" y="0"/>
                  </a:lnTo>
                  <a:lnTo>
                    <a:pt x="633" y="0"/>
                  </a:lnTo>
                  <a:lnTo>
                    <a:pt x="641" y="0"/>
                  </a:lnTo>
                  <a:lnTo>
                    <a:pt x="641" y="0"/>
                  </a:lnTo>
                  <a:lnTo>
                    <a:pt x="657" y="0"/>
                  </a:lnTo>
                  <a:lnTo>
                    <a:pt x="664" y="0"/>
                  </a:lnTo>
                  <a:lnTo>
                    <a:pt x="672" y="0"/>
                  </a:lnTo>
                  <a:lnTo>
                    <a:pt x="672" y="0"/>
                  </a:lnTo>
                  <a:lnTo>
                    <a:pt x="688" y="0"/>
                  </a:lnTo>
                  <a:lnTo>
                    <a:pt x="695" y="0"/>
                  </a:lnTo>
                  <a:lnTo>
                    <a:pt x="703" y="10"/>
                  </a:lnTo>
                  <a:lnTo>
                    <a:pt x="711" y="0"/>
                  </a:lnTo>
                  <a:lnTo>
                    <a:pt x="718" y="0"/>
                  </a:lnTo>
                  <a:lnTo>
                    <a:pt x="726" y="0"/>
                  </a:lnTo>
                  <a:lnTo>
                    <a:pt x="734" y="0"/>
                  </a:lnTo>
                  <a:lnTo>
                    <a:pt x="734" y="0"/>
                  </a:lnTo>
                  <a:lnTo>
                    <a:pt x="749" y="0"/>
                  </a:lnTo>
                  <a:lnTo>
                    <a:pt x="757" y="0"/>
                  </a:lnTo>
                  <a:lnTo>
                    <a:pt x="765" y="0"/>
                  </a:lnTo>
                  <a:lnTo>
                    <a:pt x="765" y="0"/>
                  </a:lnTo>
                  <a:lnTo>
                    <a:pt x="780" y="0"/>
                  </a:lnTo>
                  <a:lnTo>
                    <a:pt x="788" y="0"/>
                  </a:lnTo>
                  <a:lnTo>
                    <a:pt x="796" y="0"/>
                  </a:lnTo>
                  <a:lnTo>
                    <a:pt x="796" y="0"/>
                  </a:lnTo>
                  <a:lnTo>
                    <a:pt x="811" y="10"/>
                  </a:lnTo>
                  <a:lnTo>
                    <a:pt x="819" y="0"/>
                  </a:lnTo>
                  <a:lnTo>
                    <a:pt x="81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31960" y="5810040"/>
              <a:ext cx="401184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32040" y="5122800"/>
            <a:ext cx="4295880" cy="761040"/>
            <a:chOff x="5432040" y="5122800"/>
            <a:chExt cx="4295880" cy="761040"/>
          </a:xfrm>
        </p:grpSpPr>
        <p:sp>
          <p:nvSpPr>
            <p:cNvPr id="196" name=""/>
            <p:cNvSpPr/>
            <p:nvPr/>
          </p:nvSpPr>
          <p:spPr>
            <a:xfrm>
              <a:off x="5613120" y="5790240"/>
              <a:ext cx="411372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81000" y="5731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3120" y="5623920"/>
              <a:ext cx="411372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32040" y="5563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13120" y="5456520"/>
              <a:ext cx="411372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2040" y="539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3120" y="5289120"/>
              <a:ext cx="4113720" cy="10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32040" y="5231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198120" y="5122800"/>
              <a:ext cx="720" cy="696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374600" y="5122800"/>
              <a:ext cx="720" cy="696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550720" y="5122800"/>
              <a:ext cx="720" cy="696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9727200" y="5122800"/>
              <a:ext cx="720" cy="696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13120" y="5122800"/>
              <a:ext cx="4113720" cy="696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13120" y="5245920"/>
              <a:ext cx="3392280" cy="543960"/>
            </a:xfrm>
            <a:custGeom>
              <a:avLst/>
              <a:gdLst/>
              <a:ahLst/>
              <a:rect l="l" t="t" r="r" b="b"/>
              <a:pathLst>
                <a:path w="3853" h="731">
                  <a:moveTo>
                    <a:pt x="0" y="721"/>
                  </a:moveTo>
                  <a:lnTo>
                    <a:pt x="0" y="721"/>
                  </a:lnTo>
                  <a:lnTo>
                    <a:pt x="16" y="712"/>
                  </a:lnTo>
                  <a:lnTo>
                    <a:pt x="24" y="702"/>
                  </a:lnTo>
                  <a:lnTo>
                    <a:pt x="24" y="721"/>
                  </a:lnTo>
                  <a:lnTo>
                    <a:pt x="39" y="712"/>
                  </a:lnTo>
                  <a:lnTo>
                    <a:pt x="47" y="712"/>
                  </a:lnTo>
                  <a:lnTo>
                    <a:pt x="47" y="721"/>
                  </a:lnTo>
                  <a:lnTo>
                    <a:pt x="62" y="702"/>
                  </a:lnTo>
                  <a:lnTo>
                    <a:pt x="70" y="682"/>
                  </a:lnTo>
                  <a:lnTo>
                    <a:pt x="70" y="692"/>
                  </a:lnTo>
                  <a:lnTo>
                    <a:pt x="85" y="702"/>
                  </a:lnTo>
                  <a:lnTo>
                    <a:pt x="93" y="702"/>
                  </a:lnTo>
                  <a:lnTo>
                    <a:pt x="93" y="702"/>
                  </a:lnTo>
                  <a:lnTo>
                    <a:pt x="109" y="702"/>
                  </a:lnTo>
                  <a:lnTo>
                    <a:pt x="109" y="682"/>
                  </a:lnTo>
                  <a:lnTo>
                    <a:pt x="124" y="643"/>
                  </a:lnTo>
                  <a:lnTo>
                    <a:pt x="132" y="643"/>
                  </a:lnTo>
                  <a:lnTo>
                    <a:pt x="139" y="643"/>
                  </a:lnTo>
                  <a:lnTo>
                    <a:pt x="147" y="653"/>
                  </a:lnTo>
                  <a:lnTo>
                    <a:pt x="147" y="682"/>
                  </a:lnTo>
                  <a:lnTo>
                    <a:pt x="163" y="702"/>
                  </a:lnTo>
                  <a:lnTo>
                    <a:pt x="163" y="702"/>
                  </a:lnTo>
                  <a:lnTo>
                    <a:pt x="178" y="702"/>
                  </a:lnTo>
                  <a:lnTo>
                    <a:pt x="178" y="721"/>
                  </a:lnTo>
                  <a:lnTo>
                    <a:pt x="193" y="712"/>
                  </a:lnTo>
                  <a:lnTo>
                    <a:pt x="193" y="702"/>
                  </a:lnTo>
                  <a:lnTo>
                    <a:pt x="209" y="702"/>
                  </a:lnTo>
                  <a:lnTo>
                    <a:pt x="209" y="712"/>
                  </a:lnTo>
                  <a:lnTo>
                    <a:pt x="224" y="712"/>
                  </a:lnTo>
                  <a:lnTo>
                    <a:pt x="224" y="712"/>
                  </a:lnTo>
                  <a:lnTo>
                    <a:pt x="240" y="702"/>
                  </a:lnTo>
                  <a:lnTo>
                    <a:pt x="248" y="702"/>
                  </a:lnTo>
                  <a:lnTo>
                    <a:pt x="248" y="702"/>
                  </a:lnTo>
                  <a:lnTo>
                    <a:pt x="263" y="712"/>
                  </a:lnTo>
                  <a:lnTo>
                    <a:pt x="263" y="712"/>
                  </a:lnTo>
                  <a:lnTo>
                    <a:pt x="278" y="721"/>
                  </a:lnTo>
                  <a:lnTo>
                    <a:pt x="278" y="731"/>
                  </a:lnTo>
                  <a:lnTo>
                    <a:pt x="286" y="721"/>
                  </a:lnTo>
                  <a:lnTo>
                    <a:pt x="302" y="721"/>
                  </a:lnTo>
                  <a:lnTo>
                    <a:pt x="302" y="721"/>
                  </a:lnTo>
                  <a:lnTo>
                    <a:pt x="317" y="721"/>
                  </a:lnTo>
                  <a:lnTo>
                    <a:pt x="325" y="702"/>
                  </a:lnTo>
                  <a:lnTo>
                    <a:pt x="325" y="712"/>
                  </a:lnTo>
                  <a:lnTo>
                    <a:pt x="340" y="692"/>
                  </a:lnTo>
                  <a:lnTo>
                    <a:pt x="348" y="624"/>
                  </a:lnTo>
                  <a:lnTo>
                    <a:pt x="348" y="624"/>
                  </a:lnTo>
                  <a:lnTo>
                    <a:pt x="363" y="673"/>
                  </a:lnTo>
                  <a:lnTo>
                    <a:pt x="371" y="702"/>
                  </a:lnTo>
                  <a:lnTo>
                    <a:pt x="371" y="712"/>
                  </a:lnTo>
                  <a:lnTo>
                    <a:pt x="379" y="712"/>
                  </a:lnTo>
                  <a:lnTo>
                    <a:pt x="394" y="721"/>
                  </a:lnTo>
                  <a:lnTo>
                    <a:pt x="394" y="721"/>
                  </a:lnTo>
                  <a:lnTo>
                    <a:pt x="402" y="721"/>
                  </a:lnTo>
                  <a:lnTo>
                    <a:pt x="417" y="721"/>
                  </a:lnTo>
                  <a:lnTo>
                    <a:pt x="425" y="692"/>
                  </a:lnTo>
                  <a:lnTo>
                    <a:pt x="425" y="673"/>
                  </a:lnTo>
                  <a:lnTo>
                    <a:pt x="433" y="673"/>
                  </a:lnTo>
                  <a:lnTo>
                    <a:pt x="441" y="653"/>
                  </a:lnTo>
                  <a:lnTo>
                    <a:pt x="456" y="653"/>
                  </a:lnTo>
                  <a:lnTo>
                    <a:pt x="464" y="692"/>
                  </a:lnTo>
                  <a:lnTo>
                    <a:pt x="464" y="692"/>
                  </a:lnTo>
                  <a:lnTo>
                    <a:pt x="471" y="682"/>
                  </a:lnTo>
                  <a:lnTo>
                    <a:pt x="479" y="692"/>
                  </a:lnTo>
                  <a:lnTo>
                    <a:pt x="495" y="712"/>
                  </a:lnTo>
                  <a:lnTo>
                    <a:pt x="502" y="702"/>
                  </a:lnTo>
                  <a:lnTo>
                    <a:pt x="502" y="692"/>
                  </a:lnTo>
                  <a:lnTo>
                    <a:pt x="510" y="682"/>
                  </a:lnTo>
                  <a:lnTo>
                    <a:pt x="518" y="692"/>
                  </a:lnTo>
                  <a:lnTo>
                    <a:pt x="525" y="692"/>
                  </a:lnTo>
                  <a:lnTo>
                    <a:pt x="541" y="712"/>
                  </a:lnTo>
                  <a:lnTo>
                    <a:pt x="549" y="721"/>
                  </a:lnTo>
                  <a:lnTo>
                    <a:pt x="556" y="721"/>
                  </a:lnTo>
                  <a:lnTo>
                    <a:pt x="564" y="712"/>
                  </a:lnTo>
                  <a:lnTo>
                    <a:pt x="564" y="721"/>
                  </a:lnTo>
                  <a:lnTo>
                    <a:pt x="572" y="731"/>
                  </a:lnTo>
                  <a:lnTo>
                    <a:pt x="580" y="721"/>
                  </a:lnTo>
                  <a:lnTo>
                    <a:pt x="587" y="721"/>
                  </a:lnTo>
                  <a:lnTo>
                    <a:pt x="595" y="712"/>
                  </a:lnTo>
                  <a:lnTo>
                    <a:pt x="603" y="682"/>
                  </a:lnTo>
                  <a:lnTo>
                    <a:pt x="610" y="682"/>
                  </a:lnTo>
                  <a:lnTo>
                    <a:pt x="618" y="712"/>
                  </a:lnTo>
                  <a:lnTo>
                    <a:pt x="626" y="721"/>
                  </a:lnTo>
                  <a:lnTo>
                    <a:pt x="641" y="702"/>
                  </a:lnTo>
                  <a:lnTo>
                    <a:pt x="649" y="712"/>
                  </a:lnTo>
                  <a:lnTo>
                    <a:pt x="657" y="712"/>
                  </a:lnTo>
                  <a:lnTo>
                    <a:pt x="664" y="721"/>
                  </a:lnTo>
                  <a:lnTo>
                    <a:pt x="672" y="712"/>
                  </a:lnTo>
                  <a:lnTo>
                    <a:pt x="680" y="721"/>
                  </a:lnTo>
                  <a:lnTo>
                    <a:pt x="688" y="634"/>
                  </a:lnTo>
                  <a:lnTo>
                    <a:pt x="695" y="283"/>
                  </a:lnTo>
                  <a:lnTo>
                    <a:pt x="695" y="214"/>
                  </a:lnTo>
                  <a:lnTo>
                    <a:pt x="703" y="400"/>
                  </a:lnTo>
                  <a:lnTo>
                    <a:pt x="711" y="604"/>
                  </a:lnTo>
                  <a:lnTo>
                    <a:pt x="719" y="673"/>
                  </a:lnTo>
                  <a:lnTo>
                    <a:pt x="726" y="702"/>
                  </a:lnTo>
                  <a:lnTo>
                    <a:pt x="734" y="712"/>
                  </a:lnTo>
                  <a:lnTo>
                    <a:pt x="742" y="721"/>
                  </a:lnTo>
                  <a:lnTo>
                    <a:pt x="749" y="731"/>
                  </a:lnTo>
                  <a:lnTo>
                    <a:pt x="757" y="731"/>
                  </a:lnTo>
                  <a:lnTo>
                    <a:pt x="765" y="721"/>
                  </a:lnTo>
                  <a:lnTo>
                    <a:pt x="780" y="721"/>
                  </a:lnTo>
                  <a:lnTo>
                    <a:pt x="788" y="721"/>
                  </a:lnTo>
                  <a:lnTo>
                    <a:pt x="796" y="721"/>
                  </a:lnTo>
                  <a:lnTo>
                    <a:pt x="803" y="712"/>
                  </a:lnTo>
                  <a:lnTo>
                    <a:pt x="803" y="712"/>
                  </a:lnTo>
                  <a:lnTo>
                    <a:pt x="811" y="712"/>
                  </a:lnTo>
                  <a:lnTo>
                    <a:pt x="819" y="702"/>
                  </a:lnTo>
                  <a:lnTo>
                    <a:pt x="827" y="663"/>
                  </a:lnTo>
                  <a:lnTo>
                    <a:pt x="842" y="653"/>
                  </a:lnTo>
                  <a:lnTo>
                    <a:pt x="850" y="673"/>
                  </a:lnTo>
                  <a:lnTo>
                    <a:pt x="858" y="692"/>
                  </a:lnTo>
                  <a:lnTo>
                    <a:pt x="858" y="682"/>
                  </a:lnTo>
                  <a:lnTo>
                    <a:pt x="865" y="702"/>
                  </a:lnTo>
                  <a:lnTo>
                    <a:pt x="881" y="731"/>
                  </a:lnTo>
                  <a:lnTo>
                    <a:pt x="888" y="712"/>
                  </a:lnTo>
                  <a:lnTo>
                    <a:pt x="896" y="712"/>
                  </a:lnTo>
                  <a:lnTo>
                    <a:pt x="896" y="702"/>
                  </a:lnTo>
                  <a:lnTo>
                    <a:pt x="904" y="682"/>
                  </a:lnTo>
                  <a:lnTo>
                    <a:pt x="919" y="673"/>
                  </a:lnTo>
                  <a:lnTo>
                    <a:pt x="927" y="663"/>
                  </a:lnTo>
                  <a:lnTo>
                    <a:pt x="927" y="517"/>
                  </a:lnTo>
                  <a:lnTo>
                    <a:pt x="935" y="458"/>
                  </a:lnTo>
                  <a:lnTo>
                    <a:pt x="950" y="536"/>
                  </a:lnTo>
                  <a:lnTo>
                    <a:pt x="958" y="624"/>
                  </a:lnTo>
                  <a:lnTo>
                    <a:pt x="958" y="673"/>
                  </a:lnTo>
                  <a:lnTo>
                    <a:pt x="966" y="702"/>
                  </a:lnTo>
                  <a:lnTo>
                    <a:pt x="981" y="712"/>
                  </a:lnTo>
                  <a:lnTo>
                    <a:pt x="989" y="702"/>
                  </a:lnTo>
                  <a:lnTo>
                    <a:pt x="989" y="692"/>
                  </a:lnTo>
                  <a:lnTo>
                    <a:pt x="996" y="692"/>
                  </a:lnTo>
                  <a:lnTo>
                    <a:pt x="1012" y="692"/>
                  </a:lnTo>
                  <a:lnTo>
                    <a:pt x="1012" y="692"/>
                  </a:lnTo>
                  <a:lnTo>
                    <a:pt x="1020" y="702"/>
                  </a:lnTo>
                  <a:lnTo>
                    <a:pt x="1035" y="702"/>
                  </a:lnTo>
                  <a:lnTo>
                    <a:pt x="1043" y="682"/>
                  </a:lnTo>
                  <a:lnTo>
                    <a:pt x="1043" y="682"/>
                  </a:lnTo>
                  <a:lnTo>
                    <a:pt x="1058" y="634"/>
                  </a:lnTo>
                  <a:lnTo>
                    <a:pt x="1058" y="292"/>
                  </a:lnTo>
                  <a:lnTo>
                    <a:pt x="1066" y="107"/>
                  </a:lnTo>
                  <a:lnTo>
                    <a:pt x="1081" y="166"/>
                  </a:lnTo>
                  <a:lnTo>
                    <a:pt x="1081" y="390"/>
                  </a:lnTo>
                  <a:lnTo>
                    <a:pt x="1097" y="536"/>
                  </a:lnTo>
                  <a:lnTo>
                    <a:pt x="1105" y="604"/>
                  </a:lnTo>
                  <a:lnTo>
                    <a:pt x="1105" y="653"/>
                  </a:lnTo>
                  <a:lnTo>
                    <a:pt x="1120" y="692"/>
                  </a:lnTo>
                  <a:lnTo>
                    <a:pt x="1120" y="702"/>
                  </a:lnTo>
                  <a:lnTo>
                    <a:pt x="1135" y="702"/>
                  </a:lnTo>
                  <a:lnTo>
                    <a:pt x="1143" y="712"/>
                  </a:lnTo>
                  <a:lnTo>
                    <a:pt x="1143" y="712"/>
                  </a:lnTo>
                  <a:lnTo>
                    <a:pt x="1159" y="721"/>
                  </a:lnTo>
                  <a:lnTo>
                    <a:pt x="1159" y="721"/>
                  </a:lnTo>
                  <a:lnTo>
                    <a:pt x="1174" y="712"/>
                  </a:lnTo>
                  <a:lnTo>
                    <a:pt x="1182" y="702"/>
                  </a:lnTo>
                  <a:lnTo>
                    <a:pt x="1190" y="702"/>
                  </a:lnTo>
                  <a:lnTo>
                    <a:pt x="1197" y="702"/>
                  </a:lnTo>
                  <a:lnTo>
                    <a:pt x="1205" y="653"/>
                  </a:lnTo>
                  <a:lnTo>
                    <a:pt x="1213" y="634"/>
                  </a:lnTo>
                  <a:lnTo>
                    <a:pt x="1213" y="643"/>
                  </a:lnTo>
                  <a:lnTo>
                    <a:pt x="1228" y="663"/>
                  </a:lnTo>
                  <a:lnTo>
                    <a:pt x="1228" y="643"/>
                  </a:lnTo>
                  <a:lnTo>
                    <a:pt x="1244" y="643"/>
                  </a:lnTo>
                  <a:lnTo>
                    <a:pt x="1244" y="653"/>
                  </a:lnTo>
                  <a:lnTo>
                    <a:pt x="1259" y="682"/>
                  </a:lnTo>
                  <a:lnTo>
                    <a:pt x="1259" y="682"/>
                  </a:lnTo>
                  <a:lnTo>
                    <a:pt x="1274" y="682"/>
                  </a:lnTo>
                  <a:lnTo>
                    <a:pt x="1274" y="682"/>
                  </a:lnTo>
                  <a:lnTo>
                    <a:pt x="1290" y="682"/>
                  </a:lnTo>
                  <a:lnTo>
                    <a:pt x="1298" y="682"/>
                  </a:lnTo>
                  <a:lnTo>
                    <a:pt x="1305" y="682"/>
                  </a:lnTo>
                  <a:lnTo>
                    <a:pt x="1313" y="682"/>
                  </a:lnTo>
                  <a:lnTo>
                    <a:pt x="1321" y="614"/>
                  </a:lnTo>
                  <a:lnTo>
                    <a:pt x="1328" y="390"/>
                  </a:lnTo>
                  <a:lnTo>
                    <a:pt x="1328" y="380"/>
                  </a:lnTo>
                  <a:lnTo>
                    <a:pt x="1344" y="546"/>
                  </a:lnTo>
                  <a:lnTo>
                    <a:pt x="1344" y="634"/>
                  </a:lnTo>
                  <a:lnTo>
                    <a:pt x="1359" y="682"/>
                  </a:lnTo>
                  <a:lnTo>
                    <a:pt x="1367" y="673"/>
                  </a:lnTo>
                  <a:lnTo>
                    <a:pt x="1367" y="673"/>
                  </a:lnTo>
                  <a:lnTo>
                    <a:pt x="1383" y="673"/>
                  </a:lnTo>
                  <a:lnTo>
                    <a:pt x="1383" y="673"/>
                  </a:lnTo>
                  <a:lnTo>
                    <a:pt x="1398" y="673"/>
                  </a:lnTo>
                  <a:lnTo>
                    <a:pt x="1406" y="653"/>
                  </a:lnTo>
                  <a:lnTo>
                    <a:pt x="1406" y="585"/>
                  </a:lnTo>
                  <a:lnTo>
                    <a:pt x="1421" y="146"/>
                  </a:lnTo>
                  <a:lnTo>
                    <a:pt x="1429" y="88"/>
                  </a:lnTo>
                  <a:lnTo>
                    <a:pt x="1437" y="136"/>
                  </a:lnTo>
                  <a:lnTo>
                    <a:pt x="1444" y="224"/>
                  </a:lnTo>
                  <a:lnTo>
                    <a:pt x="1452" y="244"/>
                  </a:lnTo>
                  <a:lnTo>
                    <a:pt x="1460" y="341"/>
                  </a:lnTo>
                  <a:lnTo>
                    <a:pt x="1467" y="322"/>
                  </a:lnTo>
                  <a:lnTo>
                    <a:pt x="1475" y="390"/>
                  </a:lnTo>
                  <a:lnTo>
                    <a:pt x="1483" y="556"/>
                  </a:lnTo>
                  <a:lnTo>
                    <a:pt x="1491" y="624"/>
                  </a:lnTo>
                  <a:lnTo>
                    <a:pt x="1498" y="663"/>
                  </a:lnTo>
                  <a:lnTo>
                    <a:pt x="1498" y="682"/>
                  </a:lnTo>
                  <a:lnTo>
                    <a:pt x="1514" y="692"/>
                  </a:lnTo>
                  <a:lnTo>
                    <a:pt x="1522" y="682"/>
                  </a:lnTo>
                  <a:lnTo>
                    <a:pt x="1522" y="682"/>
                  </a:lnTo>
                  <a:lnTo>
                    <a:pt x="1537" y="692"/>
                  </a:lnTo>
                  <a:lnTo>
                    <a:pt x="1545" y="692"/>
                  </a:lnTo>
                  <a:lnTo>
                    <a:pt x="1552" y="682"/>
                  </a:lnTo>
                  <a:lnTo>
                    <a:pt x="1560" y="624"/>
                  </a:lnTo>
                  <a:lnTo>
                    <a:pt x="1568" y="614"/>
                  </a:lnTo>
                  <a:lnTo>
                    <a:pt x="1576" y="614"/>
                  </a:lnTo>
                  <a:lnTo>
                    <a:pt x="1583" y="614"/>
                  </a:lnTo>
                  <a:lnTo>
                    <a:pt x="1591" y="624"/>
                  </a:lnTo>
                  <a:lnTo>
                    <a:pt x="1599" y="653"/>
                  </a:lnTo>
                  <a:lnTo>
                    <a:pt x="1606" y="653"/>
                  </a:lnTo>
                  <a:lnTo>
                    <a:pt x="1614" y="673"/>
                  </a:lnTo>
                  <a:lnTo>
                    <a:pt x="1614" y="692"/>
                  </a:lnTo>
                  <a:lnTo>
                    <a:pt x="1630" y="692"/>
                  </a:lnTo>
                  <a:lnTo>
                    <a:pt x="1637" y="702"/>
                  </a:lnTo>
                  <a:lnTo>
                    <a:pt x="1645" y="702"/>
                  </a:lnTo>
                  <a:lnTo>
                    <a:pt x="1653" y="702"/>
                  </a:lnTo>
                  <a:lnTo>
                    <a:pt x="1661" y="702"/>
                  </a:lnTo>
                  <a:lnTo>
                    <a:pt x="1668" y="712"/>
                  </a:lnTo>
                  <a:lnTo>
                    <a:pt x="1676" y="712"/>
                  </a:lnTo>
                  <a:lnTo>
                    <a:pt x="1684" y="712"/>
                  </a:lnTo>
                  <a:lnTo>
                    <a:pt x="1691" y="702"/>
                  </a:lnTo>
                  <a:lnTo>
                    <a:pt x="1691" y="702"/>
                  </a:lnTo>
                  <a:lnTo>
                    <a:pt x="1707" y="702"/>
                  </a:lnTo>
                  <a:lnTo>
                    <a:pt x="1715" y="702"/>
                  </a:lnTo>
                  <a:lnTo>
                    <a:pt x="1722" y="702"/>
                  </a:lnTo>
                  <a:lnTo>
                    <a:pt x="1730" y="692"/>
                  </a:lnTo>
                  <a:lnTo>
                    <a:pt x="1738" y="663"/>
                  </a:lnTo>
                  <a:lnTo>
                    <a:pt x="1745" y="653"/>
                  </a:lnTo>
                  <a:lnTo>
                    <a:pt x="1745" y="673"/>
                  </a:lnTo>
                  <a:lnTo>
                    <a:pt x="1761" y="682"/>
                  </a:lnTo>
                  <a:lnTo>
                    <a:pt x="1769" y="692"/>
                  </a:lnTo>
                  <a:lnTo>
                    <a:pt x="1776" y="692"/>
                  </a:lnTo>
                  <a:lnTo>
                    <a:pt x="1784" y="692"/>
                  </a:lnTo>
                  <a:lnTo>
                    <a:pt x="1792" y="702"/>
                  </a:lnTo>
                  <a:lnTo>
                    <a:pt x="1799" y="712"/>
                  </a:lnTo>
                  <a:lnTo>
                    <a:pt x="1807" y="712"/>
                  </a:lnTo>
                  <a:lnTo>
                    <a:pt x="1815" y="712"/>
                  </a:lnTo>
                  <a:lnTo>
                    <a:pt x="1815" y="712"/>
                  </a:lnTo>
                  <a:lnTo>
                    <a:pt x="1830" y="721"/>
                  </a:lnTo>
                  <a:lnTo>
                    <a:pt x="1838" y="721"/>
                  </a:lnTo>
                  <a:lnTo>
                    <a:pt x="1846" y="721"/>
                  </a:lnTo>
                  <a:lnTo>
                    <a:pt x="1854" y="721"/>
                  </a:lnTo>
                  <a:lnTo>
                    <a:pt x="1861" y="721"/>
                  </a:lnTo>
                  <a:lnTo>
                    <a:pt x="1869" y="721"/>
                  </a:lnTo>
                  <a:lnTo>
                    <a:pt x="1877" y="712"/>
                  </a:lnTo>
                  <a:lnTo>
                    <a:pt x="1884" y="712"/>
                  </a:lnTo>
                  <a:lnTo>
                    <a:pt x="1892" y="721"/>
                  </a:lnTo>
                  <a:lnTo>
                    <a:pt x="1900" y="721"/>
                  </a:lnTo>
                  <a:lnTo>
                    <a:pt x="1908" y="721"/>
                  </a:lnTo>
                  <a:lnTo>
                    <a:pt x="1915" y="721"/>
                  </a:lnTo>
                  <a:lnTo>
                    <a:pt x="1923" y="721"/>
                  </a:lnTo>
                  <a:lnTo>
                    <a:pt x="1931" y="721"/>
                  </a:lnTo>
                  <a:lnTo>
                    <a:pt x="1938" y="721"/>
                  </a:lnTo>
                  <a:lnTo>
                    <a:pt x="1946" y="721"/>
                  </a:lnTo>
                  <a:lnTo>
                    <a:pt x="1954" y="712"/>
                  </a:lnTo>
                  <a:lnTo>
                    <a:pt x="1962" y="712"/>
                  </a:lnTo>
                  <a:lnTo>
                    <a:pt x="1969" y="712"/>
                  </a:lnTo>
                  <a:lnTo>
                    <a:pt x="1977" y="712"/>
                  </a:lnTo>
                  <a:lnTo>
                    <a:pt x="1985" y="721"/>
                  </a:lnTo>
                  <a:lnTo>
                    <a:pt x="1993" y="721"/>
                  </a:lnTo>
                  <a:lnTo>
                    <a:pt x="2000" y="712"/>
                  </a:lnTo>
                  <a:lnTo>
                    <a:pt x="2008" y="721"/>
                  </a:lnTo>
                  <a:lnTo>
                    <a:pt x="2016" y="721"/>
                  </a:lnTo>
                  <a:lnTo>
                    <a:pt x="2023" y="721"/>
                  </a:lnTo>
                  <a:lnTo>
                    <a:pt x="2031" y="721"/>
                  </a:lnTo>
                  <a:lnTo>
                    <a:pt x="2039" y="721"/>
                  </a:lnTo>
                  <a:lnTo>
                    <a:pt x="2047" y="721"/>
                  </a:lnTo>
                  <a:lnTo>
                    <a:pt x="2054" y="731"/>
                  </a:lnTo>
                  <a:lnTo>
                    <a:pt x="2062" y="721"/>
                  </a:lnTo>
                  <a:lnTo>
                    <a:pt x="2070" y="721"/>
                  </a:lnTo>
                  <a:lnTo>
                    <a:pt x="2077" y="731"/>
                  </a:lnTo>
                  <a:lnTo>
                    <a:pt x="2085" y="721"/>
                  </a:lnTo>
                  <a:lnTo>
                    <a:pt x="2093" y="721"/>
                  </a:lnTo>
                  <a:lnTo>
                    <a:pt x="2101" y="721"/>
                  </a:lnTo>
                  <a:lnTo>
                    <a:pt x="2108" y="712"/>
                  </a:lnTo>
                  <a:lnTo>
                    <a:pt x="2116" y="712"/>
                  </a:lnTo>
                  <a:lnTo>
                    <a:pt x="2124" y="702"/>
                  </a:lnTo>
                  <a:lnTo>
                    <a:pt x="2131" y="692"/>
                  </a:lnTo>
                  <a:lnTo>
                    <a:pt x="2139" y="682"/>
                  </a:lnTo>
                  <a:lnTo>
                    <a:pt x="2147" y="692"/>
                  </a:lnTo>
                  <a:lnTo>
                    <a:pt x="2155" y="702"/>
                  </a:lnTo>
                  <a:lnTo>
                    <a:pt x="2162" y="702"/>
                  </a:lnTo>
                  <a:lnTo>
                    <a:pt x="2170" y="692"/>
                  </a:lnTo>
                  <a:lnTo>
                    <a:pt x="2178" y="692"/>
                  </a:lnTo>
                  <a:lnTo>
                    <a:pt x="2186" y="692"/>
                  </a:lnTo>
                  <a:lnTo>
                    <a:pt x="2193" y="692"/>
                  </a:lnTo>
                  <a:lnTo>
                    <a:pt x="2201" y="702"/>
                  </a:lnTo>
                  <a:lnTo>
                    <a:pt x="2209" y="712"/>
                  </a:lnTo>
                  <a:lnTo>
                    <a:pt x="2216" y="712"/>
                  </a:lnTo>
                  <a:lnTo>
                    <a:pt x="2224" y="721"/>
                  </a:lnTo>
                  <a:lnTo>
                    <a:pt x="2232" y="721"/>
                  </a:lnTo>
                  <a:lnTo>
                    <a:pt x="2240" y="721"/>
                  </a:lnTo>
                  <a:lnTo>
                    <a:pt x="2240" y="731"/>
                  </a:lnTo>
                  <a:lnTo>
                    <a:pt x="2255" y="731"/>
                  </a:lnTo>
                  <a:lnTo>
                    <a:pt x="2263" y="731"/>
                  </a:lnTo>
                  <a:lnTo>
                    <a:pt x="2270" y="721"/>
                  </a:lnTo>
                  <a:lnTo>
                    <a:pt x="2278" y="721"/>
                  </a:lnTo>
                  <a:lnTo>
                    <a:pt x="2278" y="721"/>
                  </a:lnTo>
                  <a:lnTo>
                    <a:pt x="2294" y="712"/>
                  </a:lnTo>
                  <a:lnTo>
                    <a:pt x="2301" y="702"/>
                  </a:lnTo>
                  <a:lnTo>
                    <a:pt x="2309" y="702"/>
                  </a:lnTo>
                  <a:lnTo>
                    <a:pt x="2317" y="702"/>
                  </a:lnTo>
                  <a:lnTo>
                    <a:pt x="2325" y="702"/>
                  </a:lnTo>
                  <a:lnTo>
                    <a:pt x="2332" y="692"/>
                  </a:lnTo>
                  <a:lnTo>
                    <a:pt x="2340" y="663"/>
                  </a:lnTo>
                  <a:lnTo>
                    <a:pt x="2348" y="653"/>
                  </a:lnTo>
                  <a:lnTo>
                    <a:pt x="2348" y="653"/>
                  </a:lnTo>
                  <a:lnTo>
                    <a:pt x="2363" y="526"/>
                  </a:lnTo>
                  <a:lnTo>
                    <a:pt x="2371" y="468"/>
                  </a:lnTo>
                  <a:lnTo>
                    <a:pt x="2379" y="478"/>
                  </a:lnTo>
                  <a:lnTo>
                    <a:pt x="2386" y="536"/>
                  </a:lnTo>
                  <a:lnTo>
                    <a:pt x="2394" y="585"/>
                  </a:lnTo>
                  <a:lnTo>
                    <a:pt x="2402" y="585"/>
                  </a:lnTo>
                  <a:lnTo>
                    <a:pt x="2409" y="468"/>
                  </a:lnTo>
                  <a:lnTo>
                    <a:pt x="2417" y="468"/>
                  </a:lnTo>
                  <a:lnTo>
                    <a:pt x="2425" y="507"/>
                  </a:lnTo>
                  <a:lnTo>
                    <a:pt x="2433" y="536"/>
                  </a:lnTo>
                  <a:lnTo>
                    <a:pt x="2433" y="419"/>
                  </a:lnTo>
                  <a:lnTo>
                    <a:pt x="2448" y="117"/>
                  </a:lnTo>
                  <a:lnTo>
                    <a:pt x="2456" y="48"/>
                  </a:lnTo>
                  <a:lnTo>
                    <a:pt x="2464" y="107"/>
                  </a:lnTo>
                  <a:lnTo>
                    <a:pt x="2471" y="273"/>
                  </a:lnTo>
                  <a:lnTo>
                    <a:pt x="2479" y="400"/>
                  </a:lnTo>
                  <a:lnTo>
                    <a:pt x="2487" y="409"/>
                  </a:lnTo>
                  <a:lnTo>
                    <a:pt x="2494" y="448"/>
                  </a:lnTo>
                  <a:lnTo>
                    <a:pt x="2502" y="419"/>
                  </a:lnTo>
                  <a:lnTo>
                    <a:pt x="2510" y="419"/>
                  </a:lnTo>
                  <a:lnTo>
                    <a:pt x="2518" y="448"/>
                  </a:lnTo>
                  <a:lnTo>
                    <a:pt x="2525" y="302"/>
                  </a:lnTo>
                  <a:lnTo>
                    <a:pt x="2533" y="107"/>
                  </a:lnTo>
                  <a:lnTo>
                    <a:pt x="2541" y="117"/>
                  </a:lnTo>
                  <a:lnTo>
                    <a:pt x="2548" y="185"/>
                  </a:lnTo>
                  <a:lnTo>
                    <a:pt x="2548" y="312"/>
                  </a:lnTo>
                  <a:lnTo>
                    <a:pt x="2564" y="409"/>
                  </a:lnTo>
                  <a:lnTo>
                    <a:pt x="2572" y="341"/>
                  </a:lnTo>
                  <a:lnTo>
                    <a:pt x="2579" y="341"/>
                  </a:lnTo>
                  <a:lnTo>
                    <a:pt x="2587" y="370"/>
                  </a:lnTo>
                  <a:lnTo>
                    <a:pt x="2595" y="380"/>
                  </a:lnTo>
                  <a:lnTo>
                    <a:pt x="2602" y="273"/>
                  </a:lnTo>
                  <a:lnTo>
                    <a:pt x="2610" y="205"/>
                  </a:lnTo>
                  <a:lnTo>
                    <a:pt x="2610" y="205"/>
                  </a:lnTo>
                  <a:lnTo>
                    <a:pt x="2626" y="244"/>
                  </a:lnTo>
                  <a:lnTo>
                    <a:pt x="2633" y="351"/>
                  </a:lnTo>
                  <a:lnTo>
                    <a:pt x="2641" y="439"/>
                  </a:lnTo>
                  <a:lnTo>
                    <a:pt x="2649" y="497"/>
                  </a:lnTo>
                  <a:lnTo>
                    <a:pt x="2649" y="478"/>
                  </a:lnTo>
                  <a:lnTo>
                    <a:pt x="2664" y="478"/>
                  </a:lnTo>
                  <a:lnTo>
                    <a:pt x="2672" y="478"/>
                  </a:lnTo>
                  <a:lnTo>
                    <a:pt x="2680" y="497"/>
                  </a:lnTo>
                  <a:lnTo>
                    <a:pt x="2687" y="526"/>
                  </a:lnTo>
                  <a:lnTo>
                    <a:pt x="2695" y="565"/>
                  </a:lnTo>
                  <a:lnTo>
                    <a:pt x="2703" y="565"/>
                  </a:lnTo>
                  <a:lnTo>
                    <a:pt x="2703" y="556"/>
                  </a:lnTo>
                  <a:lnTo>
                    <a:pt x="2718" y="546"/>
                  </a:lnTo>
                  <a:lnTo>
                    <a:pt x="2726" y="546"/>
                  </a:lnTo>
                  <a:lnTo>
                    <a:pt x="2734" y="507"/>
                  </a:lnTo>
                  <a:lnTo>
                    <a:pt x="2741" y="341"/>
                  </a:lnTo>
                  <a:lnTo>
                    <a:pt x="2749" y="224"/>
                  </a:lnTo>
                  <a:lnTo>
                    <a:pt x="2757" y="224"/>
                  </a:lnTo>
                  <a:lnTo>
                    <a:pt x="2765" y="273"/>
                  </a:lnTo>
                  <a:lnTo>
                    <a:pt x="2772" y="302"/>
                  </a:lnTo>
                  <a:lnTo>
                    <a:pt x="2780" y="380"/>
                  </a:lnTo>
                  <a:lnTo>
                    <a:pt x="2788" y="429"/>
                  </a:lnTo>
                  <a:lnTo>
                    <a:pt x="2796" y="478"/>
                  </a:lnTo>
                  <a:lnTo>
                    <a:pt x="2803" y="526"/>
                  </a:lnTo>
                  <a:lnTo>
                    <a:pt x="2811" y="556"/>
                  </a:lnTo>
                  <a:lnTo>
                    <a:pt x="2819" y="575"/>
                  </a:lnTo>
                  <a:lnTo>
                    <a:pt x="2826" y="595"/>
                  </a:lnTo>
                  <a:lnTo>
                    <a:pt x="2834" y="585"/>
                  </a:lnTo>
                  <a:lnTo>
                    <a:pt x="2842" y="575"/>
                  </a:lnTo>
                  <a:lnTo>
                    <a:pt x="2850" y="585"/>
                  </a:lnTo>
                  <a:lnTo>
                    <a:pt x="2857" y="585"/>
                  </a:lnTo>
                  <a:lnTo>
                    <a:pt x="2865" y="565"/>
                  </a:lnTo>
                  <a:lnTo>
                    <a:pt x="2873" y="556"/>
                  </a:lnTo>
                  <a:lnTo>
                    <a:pt x="2880" y="526"/>
                  </a:lnTo>
                  <a:lnTo>
                    <a:pt x="2888" y="497"/>
                  </a:lnTo>
                  <a:lnTo>
                    <a:pt x="2896" y="448"/>
                  </a:lnTo>
                  <a:lnTo>
                    <a:pt x="2904" y="409"/>
                  </a:lnTo>
                  <a:lnTo>
                    <a:pt x="2904" y="390"/>
                  </a:lnTo>
                  <a:lnTo>
                    <a:pt x="2919" y="390"/>
                  </a:lnTo>
                  <a:lnTo>
                    <a:pt x="2919" y="400"/>
                  </a:lnTo>
                  <a:lnTo>
                    <a:pt x="2935" y="175"/>
                  </a:lnTo>
                  <a:lnTo>
                    <a:pt x="2942" y="0"/>
                  </a:lnTo>
                  <a:lnTo>
                    <a:pt x="2950" y="0"/>
                  </a:lnTo>
                  <a:lnTo>
                    <a:pt x="2958" y="48"/>
                  </a:lnTo>
                  <a:lnTo>
                    <a:pt x="2965" y="136"/>
                  </a:lnTo>
                  <a:lnTo>
                    <a:pt x="2973" y="244"/>
                  </a:lnTo>
                  <a:lnTo>
                    <a:pt x="2973" y="351"/>
                  </a:lnTo>
                  <a:lnTo>
                    <a:pt x="2989" y="429"/>
                  </a:lnTo>
                  <a:lnTo>
                    <a:pt x="2996" y="487"/>
                  </a:lnTo>
                  <a:lnTo>
                    <a:pt x="3004" y="526"/>
                  </a:lnTo>
                  <a:lnTo>
                    <a:pt x="3012" y="556"/>
                  </a:lnTo>
                  <a:lnTo>
                    <a:pt x="3012" y="565"/>
                  </a:lnTo>
                  <a:lnTo>
                    <a:pt x="3027" y="585"/>
                  </a:lnTo>
                  <a:lnTo>
                    <a:pt x="3035" y="556"/>
                  </a:lnTo>
                  <a:lnTo>
                    <a:pt x="3043" y="468"/>
                  </a:lnTo>
                  <a:lnTo>
                    <a:pt x="3050" y="458"/>
                  </a:lnTo>
                  <a:lnTo>
                    <a:pt x="3050" y="487"/>
                  </a:lnTo>
                  <a:lnTo>
                    <a:pt x="3066" y="526"/>
                  </a:lnTo>
                  <a:lnTo>
                    <a:pt x="3073" y="526"/>
                  </a:lnTo>
                  <a:lnTo>
                    <a:pt x="3081" y="487"/>
                  </a:lnTo>
                  <a:lnTo>
                    <a:pt x="3089" y="458"/>
                  </a:lnTo>
                  <a:lnTo>
                    <a:pt x="3097" y="458"/>
                  </a:lnTo>
                  <a:lnTo>
                    <a:pt x="3104" y="468"/>
                  </a:lnTo>
                  <a:lnTo>
                    <a:pt x="3112" y="497"/>
                  </a:lnTo>
                  <a:lnTo>
                    <a:pt x="3112" y="526"/>
                  </a:lnTo>
                  <a:lnTo>
                    <a:pt x="3128" y="517"/>
                  </a:lnTo>
                  <a:lnTo>
                    <a:pt x="3135" y="439"/>
                  </a:lnTo>
                  <a:lnTo>
                    <a:pt x="3135" y="439"/>
                  </a:lnTo>
                  <a:lnTo>
                    <a:pt x="3151" y="458"/>
                  </a:lnTo>
                  <a:lnTo>
                    <a:pt x="3158" y="517"/>
                  </a:lnTo>
                  <a:lnTo>
                    <a:pt x="3158" y="556"/>
                  </a:lnTo>
                  <a:lnTo>
                    <a:pt x="3174" y="585"/>
                  </a:lnTo>
                  <a:lnTo>
                    <a:pt x="3182" y="614"/>
                  </a:lnTo>
                  <a:lnTo>
                    <a:pt x="3182" y="624"/>
                  </a:lnTo>
                  <a:lnTo>
                    <a:pt x="3197" y="634"/>
                  </a:lnTo>
                  <a:lnTo>
                    <a:pt x="3205" y="643"/>
                  </a:lnTo>
                  <a:lnTo>
                    <a:pt x="3212" y="653"/>
                  </a:lnTo>
                  <a:lnTo>
                    <a:pt x="3220" y="653"/>
                  </a:lnTo>
                  <a:lnTo>
                    <a:pt x="3228" y="653"/>
                  </a:lnTo>
                  <a:lnTo>
                    <a:pt x="3236" y="653"/>
                  </a:lnTo>
                  <a:lnTo>
                    <a:pt x="3236" y="653"/>
                  </a:lnTo>
                  <a:lnTo>
                    <a:pt x="3251" y="663"/>
                  </a:lnTo>
                  <a:lnTo>
                    <a:pt x="3259" y="663"/>
                  </a:lnTo>
                  <a:lnTo>
                    <a:pt x="3259" y="663"/>
                  </a:lnTo>
                  <a:lnTo>
                    <a:pt x="3274" y="653"/>
                  </a:lnTo>
                  <a:lnTo>
                    <a:pt x="3282" y="643"/>
                  </a:lnTo>
                  <a:lnTo>
                    <a:pt x="3290" y="643"/>
                  </a:lnTo>
                  <a:lnTo>
                    <a:pt x="3290" y="643"/>
                  </a:lnTo>
                  <a:lnTo>
                    <a:pt x="3305" y="663"/>
                  </a:lnTo>
                  <a:lnTo>
                    <a:pt x="3313" y="673"/>
                  </a:lnTo>
                  <a:lnTo>
                    <a:pt x="3321" y="682"/>
                  </a:lnTo>
                  <a:lnTo>
                    <a:pt x="3321" y="682"/>
                  </a:lnTo>
                  <a:lnTo>
                    <a:pt x="3336" y="692"/>
                  </a:lnTo>
                  <a:lnTo>
                    <a:pt x="3344" y="692"/>
                  </a:lnTo>
                  <a:lnTo>
                    <a:pt x="3351" y="692"/>
                  </a:lnTo>
                  <a:lnTo>
                    <a:pt x="3351" y="682"/>
                  </a:lnTo>
                  <a:lnTo>
                    <a:pt x="3367" y="682"/>
                  </a:lnTo>
                  <a:lnTo>
                    <a:pt x="3375" y="682"/>
                  </a:lnTo>
                  <a:lnTo>
                    <a:pt x="3382" y="692"/>
                  </a:lnTo>
                  <a:lnTo>
                    <a:pt x="3382" y="692"/>
                  </a:lnTo>
                  <a:lnTo>
                    <a:pt x="3398" y="692"/>
                  </a:lnTo>
                  <a:lnTo>
                    <a:pt x="3405" y="692"/>
                  </a:lnTo>
                  <a:lnTo>
                    <a:pt x="3413" y="702"/>
                  </a:lnTo>
                  <a:lnTo>
                    <a:pt x="3421" y="692"/>
                  </a:lnTo>
                  <a:lnTo>
                    <a:pt x="3421" y="682"/>
                  </a:lnTo>
                  <a:lnTo>
                    <a:pt x="3436" y="682"/>
                  </a:lnTo>
                  <a:lnTo>
                    <a:pt x="3444" y="682"/>
                  </a:lnTo>
                  <a:lnTo>
                    <a:pt x="3452" y="692"/>
                  </a:lnTo>
                  <a:lnTo>
                    <a:pt x="3460" y="692"/>
                  </a:lnTo>
                  <a:lnTo>
                    <a:pt x="3460" y="692"/>
                  </a:lnTo>
                  <a:lnTo>
                    <a:pt x="3475" y="692"/>
                  </a:lnTo>
                  <a:lnTo>
                    <a:pt x="3483" y="692"/>
                  </a:lnTo>
                  <a:lnTo>
                    <a:pt x="3490" y="692"/>
                  </a:lnTo>
                  <a:lnTo>
                    <a:pt x="3498" y="692"/>
                  </a:lnTo>
                  <a:lnTo>
                    <a:pt x="3498" y="692"/>
                  </a:lnTo>
                  <a:lnTo>
                    <a:pt x="3506" y="692"/>
                  </a:lnTo>
                  <a:lnTo>
                    <a:pt x="3521" y="692"/>
                  </a:lnTo>
                  <a:lnTo>
                    <a:pt x="3529" y="682"/>
                  </a:lnTo>
                  <a:lnTo>
                    <a:pt x="3537" y="682"/>
                  </a:lnTo>
                  <a:lnTo>
                    <a:pt x="3544" y="673"/>
                  </a:lnTo>
                  <a:lnTo>
                    <a:pt x="3544" y="673"/>
                  </a:lnTo>
                  <a:lnTo>
                    <a:pt x="3552" y="673"/>
                  </a:lnTo>
                  <a:lnTo>
                    <a:pt x="3568" y="663"/>
                  </a:lnTo>
                  <a:lnTo>
                    <a:pt x="3575" y="663"/>
                  </a:lnTo>
                  <a:lnTo>
                    <a:pt x="3583" y="663"/>
                  </a:lnTo>
                  <a:lnTo>
                    <a:pt x="3591" y="653"/>
                  </a:lnTo>
                  <a:lnTo>
                    <a:pt x="3599" y="643"/>
                  </a:lnTo>
                  <a:lnTo>
                    <a:pt x="3599" y="624"/>
                  </a:lnTo>
                  <a:lnTo>
                    <a:pt x="3606" y="595"/>
                  </a:lnTo>
                  <a:lnTo>
                    <a:pt x="3614" y="575"/>
                  </a:lnTo>
                  <a:lnTo>
                    <a:pt x="3629" y="546"/>
                  </a:lnTo>
                  <a:lnTo>
                    <a:pt x="3637" y="546"/>
                  </a:lnTo>
                  <a:lnTo>
                    <a:pt x="3645" y="546"/>
                  </a:lnTo>
                  <a:lnTo>
                    <a:pt x="3653" y="546"/>
                  </a:lnTo>
                  <a:lnTo>
                    <a:pt x="3660" y="556"/>
                  </a:lnTo>
                  <a:lnTo>
                    <a:pt x="3668" y="565"/>
                  </a:lnTo>
                  <a:lnTo>
                    <a:pt x="3668" y="585"/>
                  </a:lnTo>
                  <a:lnTo>
                    <a:pt x="3676" y="604"/>
                  </a:lnTo>
                  <a:lnTo>
                    <a:pt x="3683" y="634"/>
                  </a:lnTo>
                  <a:lnTo>
                    <a:pt x="3699" y="653"/>
                  </a:lnTo>
                  <a:lnTo>
                    <a:pt x="3707" y="663"/>
                  </a:lnTo>
                  <a:lnTo>
                    <a:pt x="3714" y="682"/>
                  </a:lnTo>
                  <a:lnTo>
                    <a:pt x="3722" y="682"/>
                  </a:lnTo>
                  <a:lnTo>
                    <a:pt x="3730" y="692"/>
                  </a:lnTo>
                  <a:lnTo>
                    <a:pt x="3738" y="692"/>
                  </a:lnTo>
                  <a:lnTo>
                    <a:pt x="3745" y="682"/>
                  </a:lnTo>
                  <a:lnTo>
                    <a:pt x="3753" y="682"/>
                  </a:lnTo>
                  <a:lnTo>
                    <a:pt x="3761" y="673"/>
                  </a:lnTo>
                  <a:lnTo>
                    <a:pt x="3761" y="673"/>
                  </a:lnTo>
                  <a:lnTo>
                    <a:pt x="3768" y="673"/>
                  </a:lnTo>
                  <a:lnTo>
                    <a:pt x="3776" y="682"/>
                  </a:lnTo>
                  <a:lnTo>
                    <a:pt x="3784" y="682"/>
                  </a:lnTo>
                  <a:lnTo>
                    <a:pt x="3792" y="682"/>
                  </a:lnTo>
                  <a:lnTo>
                    <a:pt x="3799" y="682"/>
                  </a:lnTo>
                  <a:lnTo>
                    <a:pt x="3815" y="682"/>
                  </a:lnTo>
                  <a:lnTo>
                    <a:pt x="3822" y="692"/>
                  </a:lnTo>
                  <a:lnTo>
                    <a:pt x="3830" y="692"/>
                  </a:lnTo>
                  <a:lnTo>
                    <a:pt x="3838" y="702"/>
                  </a:lnTo>
                  <a:lnTo>
                    <a:pt x="3846" y="712"/>
                  </a:lnTo>
                  <a:lnTo>
                    <a:pt x="3853" y="7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05760" y="5761440"/>
              <a:ext cx="721080" cy="28440"/>
            </a:xfrm>
            <a:custGeom>
              <a:avLst/>
              <a:gdLst/>
              <a:ahLst/>
              <a:rect l="l" t="t" r="r" b="b"/>
              <a:pathLst>
                <a:path w="819" h="39">
                  <a:moveTo>
                    <a:pt x="0" y="20"/>
                  </a:moveTo>
                  <a:lnTo>
                    <a:pt x="8" y="1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10"/>
                  </a:lnTo>
                  <a:lnTo>
                    <a:pt x="47" y="10"/>
                  </a:lnTo>
                  <a:lnTo>
                    <a:pt x="54" y="10"/>
                  </a:lnTo>
                  <a:lnTo>
                    <a:pt x="62" y="20"/>
                  </a:lnTo>
                  <a:lnTo>
                    <a:pt x="70" y="20"/>
                  </a:lnTo>
                  <a:lnTo>
                    <a:pt x="78" y="20"/>
                  </a:lnTo>
                  <a:lnTo>
                    <a:pt x="85" y="20"/>
                  </a:lnTo>
                  <a:lnTo>
                    <a:pt x="93" y="20"/>
                  </a:lnTo>
                  <a:lnTo>
                    <a:pt x="101" y="20"/>
                  </a:lnTo>
                  <a:lnTo>
                    <a:pt x="108" y="20"/>
                  </a:lnTo>
                  <a:lnTo>
                    <a:pt x="116" y="20"/>
                  </a:lnTo>
                  <a:lnTo>
                    <a:pt x="124" y="20"/>
                  </a:lnTo>
                  <a:lnTo>
                    <a:pt x="132" y="29"/>
                  </a:lnTo>
                  <a:lnTo>
                    <a:pt x="139" y="29"/>
                  </a:lnTo>
                  <a:lnTo>
                    <a:pt x="147" y="29"/>
                  </a:lnTo>
                  <a:lnTo>
                    <a:pt x="155" y="29"/>
                  </a:lnTo>
                  <a:lnTo>
                    <a:pt x="162" y="29"/>
                  </a:lnTo>
                  <a:lnTo>
                    <a:pt x="170" y="20"/>
                  </a:lnTo>
                  <a:lnTo>
                    <a:pt x="170" y="29"/>
                  </a:lnTo>
                  <a:lnTo>
                    <a:pt x="178" y="20"/>
                  </a:lnTo>
                  <a:lnTo>
                    <a:pt x="186" y="1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9" y="10"/>
                  </a:lnTo>
                  <a:lnTo>
                    <a:pt x="224" y="20"/>
                  </a:lnTo>
                  <a:lnTo>
                    <a:pt x="232" y="20"/>
                  </a:lnTo>
                  <a:lnTo>
                    <a:pt x="240" y="20"/>
                  </a:lnTo>
                  <a:lnTo>
                    <a:pt x="247" y="20"/>
                  </a:lnTo>
                  <a:lnTo>
                    <a:pt x="255" y="20"/>
                  </a:lnTo>
                  <a:lnTo>
                    <a:pt x="263" y="20"/>
                  </a:lnTo>
                  <a:lnTo>
                    <a:pt x="271" y="20"/>
                  </a:lnTo>
                  <a:lnTo>
                    <a:pt x="278" y="29"/>
                  </a:lnTo>
                  <a:lnTo>
                    <a:pt x="286" y="29"/>
                  </a:lnTo>
                  <a:lnTo>
                    <a:pt x="286" y="29"/>
                  </a:lnTo>
                  <a:lnTo>
                    <a:pt x="294" y="29"/>
                  </a:lnTo>
                  <a:lnTo>
                    <a:pt x="301" y="39"/>
                  </a:lnTo>
                  <a:lnTo>
                    <a:pt x="317" y="39"/>
                  </a:lnTo>
                  <a:lnTo>
                    <a:pt x="325" y="29"/>
                  </a:lnTo>
                  <a:lnTo>
                    <a:pt x="332" y="20"/>
                  </a:lnTo>
                  <a:lnTo>
                    <a:pt x="340" y="20"/>
                  </a:lnTo>
                  <a:lnTo>
                    <a:pt x="348" y="20"/>
                  </a:lnTo>
                  <a:lnTo>
                    <a:pt x="355" y="20"/>
                  </a:lnTo>
                  <a:lnTo>
                    <a:pt x="363" y="29"/>
                  </a:lnTo>
                  <a:lnTo>
                    <a:pt x="363" y="29"/>
                  </a:lnTo>
                  <a:lnTo>
                    <a:pt x="371" y="29"/>
                  </a:lnTo>
                  <a:lnTo>
                    <a:pt x="386" y="29"/>
                  </a:lnTo>
                  <a:lnTo>
                    <a:pt x="394" y="29"/>
                  </a:lnTo>
                  <a:lnTo>
                    <a:pt x="402" y="29"/>
                  </a:lnTo>
                  <a:lnTo>
                    <a:pt x="410" y="29"/>
                  </a:lnTo>
                  <a:lnTo>
                    <a:pt x="417" y="29"/>
                  </a:lnTo>
                  <a:lnTo>
                    <a:pt x="425" y="29"/>
                  </a:lnTo>
                  <a:lnTo>
                    <a:pt x="425" y="29"/>
                  </a:lnTo>
                  <a:lnTo>
                    <a:pt x="440" y="29"/>
                  </a:lnTo>
                  <a:lnTo>
                    <a:pt x="448" y="39"/>
                  </a:lnTo>
                  <a:lnTo>
                    <a:pt x="456" y="39"/>
                  </a:lnTo>
                  <a:lnTo>
                    <a:pt x="464" y="39"/>
                  </a:lnTo>
                  <a:lnTo>
                    <a:pt x="471" y="39"/>
                  </a:lnTo>
                  <a:lnTo>
                    <a:pt x="479" y="29"/>
                  </a:lnTo>
                  <a:lnTo>
                    <a:pt x="479" y="29"/>
                  </a:lnTo>
                  <a:lnTo>
                    <a:pt x="494" y="29"/>
                  </a:lnTo>
                  <a:lnTo>
                    <a:pt x="502" y="29"/>
                  </a:lnTo>
                  <a:lnTo>
                    <a:pt x="510" y="29"/>
                  </a:lnTo>
                  <a:lnTo>
                    <a:pt x="518" y="39"/>
                  </a:lnTo>
                  <a:lnTo>
                    <a:pt x="525" y="29"/>
                  </a:lnTo>
                  <a:lnTo>
                    <a:pt x="525" y="29"/>
                  </a:lnTo>
                  <a:lnTo>
                    <a:pt x="541" y="29"/>
                  </a:lnTo>
                  <a:lnTo>
                    <a:pt x="549" y="39"/>
                  </a:lnTo>
                  <a:lnTo>
                    <a:pt x="556" y="39"/>
                  </a:lnTo>
                  <a:lnTo>
                    <a:pt x="564" y="39"/>
                  </a:lnTo>
                  <a:lnTo>
                    <a:pt x="564" y="39"/>
                  </a:lnTo>
                  <a:lnTo>
                    <a:pt x="579" y="29"/>
                  </a:lnTo>
                  <a:lnTo>
                    <a:pt x="587" y="29"/>
                  </a:lnTo>
                  <a:lnTo>
                    <a:pt x="595" y="29"/>
                  </a:lnTo>
                  <a:lnTo>
                    <a:pt x="603" y="29"/>
                  </a:lnTo>
                  <a:lnTo>
                    <a:pt x="603" y="29"/>
                  </a:lnTo>
                  <a:lnTo>
                    <a:pt x="618" y="29"/>
                  </a:lnTo>
                  <a:lnTo>
                    <a:pt x="626" y="29"/>
                  </a:lnTo>
                  <a:lnTo>
                    <a:pt x="633" y="29"/>
                  </a:lnTo>
                  <a:lnTo>
                    <a:pt x="641" y="29"/>
                  </a:lnTo>
                  <a:lnTo>
                    <a:pt x="649" y="29"/>
                  </a:lnTo>
                  <a:lnTo>
                    <a:pt x="657" y="29"/>
                  </a:lnTo>
                  <a:lnTo>
                    <a:pt x="664" y="29"/>
                  </a:lnTo>
                  <a:lnTo>
                    <a:pt x="672" y="29"/>
                  </a:lnTo>
                  <a:lnTo>
                    <a:pt x="672" y="29"/>
                  </a:lnTo>
                  <a:lnTo>
                    <a:pt x="688" y="29"/>
                  </a:lnTo>
                  <a:lnTo>
                    <a:pt x="695" y="29"/>
                  </a:lnTo>
                  <a:lnTo>
                    <a:pt x="703" y="29"/>
                  </a:lnTo>
                  <a:lnTo>
                    <a:pt x="703" y="29"/>
                  </a:lnTo>
                  <a:lnTo>
                    <a:pt x="718" y="29"/>
                  </a:lnTo>
                  <a:lnTo>
                    <a:pt x="726" y="29"/>
                  </a:lnTo>
                  <a:lnTo>
                    <a:pt x="734" y="29"/>
                  </a:lnTo>
                  <a:lnTo>
                    <a:pt x="734" y="29"/>
                  </a:lnTo>
                  <a:lnTo>
                    <a:pt x="749" y="29"/>
                  </a:lnTo>
                  <a:lnTo>
                    <a:pt x="757" y="29"/>
                  </a:lnTo>
                  <a:lnTo>
                    <a:pt x="765" y="29"/>
                  </a:lnTo>
                  <a:lnTo>
                    <a:pt x="765" y="29"/>
                  </a:lnTo>
                  <a:lnTo>
                    <a:pt x="780" y="29"/>
                  </a:lnTo>
                  <a:lnTo>
                    <a:pt x="788" y="29"/>
                  </a:lnTo>
                  <a:lnTo>
                    <a:pt x="796" y="29"/>
                  </a:lnTo>
                  <a:lnTo>
                    <a:pt x="803" y="29"/>
                  </a:lnTo>
                  <a:lnTo>
                    <a:pt x="811" y="29"/>
                  </a:lnTo>
                  <a:lnTo>
                    <a:pt x="819" y="29"/>
                  </a:lnTo>
                  <a:lnTo>
                    <a:pt x="819" y="2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3120" y="5826600"/>
              <a:ext cx="411372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817560" y="4635360"/>
            <a:ext cx="40672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1295280" y="5832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ns Déplétion al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6669000" y="583236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vec Déplétion al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1025280" y="6126120"/>
            <a:ext cx="409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atre candidats: P1, P2, P3, P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lyse sur n= 15 plasmas par grou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>
            <a:off x="6085080" y="6132600"/>
            <a:ext cx="40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Quatre candidats: D1, D2, D3, D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alyse sur n=10 plasmas par group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3206880" y="5430960"/>
            <a:ext cx="0" cy="137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>
            <a:off x="3367080" y="5356080"/>
            <a:ext cx="0" cy="138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8037360" y="5235480"/>
            <a:ext cx="0" cy="1382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8211960" y="5081760"/>
            <a:ext cx="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502080" y="5511960"/>
            <a:ext cx="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>
            <a:off x="3556080" y="5511960"/>
            <a:ext cx="0" cy="136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8326440" y="5419800"/>
            <a:ext cx="0" cy="137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>
            <a:off x="8380440" y="5419800"/>
            <a:ext cx="0" cy="137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3076560" y="52372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255840" y="514512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3565440" y="546588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>
            <a:off x="3395520" y="5327640"/>
            <a:ext cx="33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51213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"/>
          <p:cNvSpPr/>
          <p:nvPr/>
        </p:nvSpPr>
        <p:spPr>
          <a:xfrm>
            <a:off x="8172720" y="500544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8215560" y="528336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8359920" y="5424480"/>
            <a:ext cx="34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714840" y="5835600"/>
            <a:ext cx="29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ma R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817560" y="3997440"/>
            <a:ext cx="1395360" cy="734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5595840" y="3997440"/>
            <a:ext cx="1449360" cy="7347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>
            <a:off x="878040" y="4724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817560" y="4640400"/>
            <a:ext cx="16200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998720" y="4640400"/>
            <a:ext cx="2844720" cy="458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648400" y="4686480"/>
            <a:ext cx="216000" cy="412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6777000" y="4640400"/>
            <a:ext cx="2951280" cy="458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5653080" y="4724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rot="5488800">
            <a:off x="707760" y="6148440"/>
            <a:ext cx="274680" cy="376200"/>
          </a:xfrm>
          <a:custGeom>
            <a:avLst/>
            <a:gdLst>
              <a:gd name="textAreaLeft" fmla="*/ 91440 w 274680"/>
              <a:gd name="textAreaRight" fmla="*/ 235440 w 274680"/>
              <a:gd name="textAreaTop" fmla="*/ 216720 h 376200"/>
              <a:gd name="textAreaBottom" fmla="*/ 3222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 rot="5488800">
            <a:off x="5752800" y="6102360"/>
            <a:ext cx="274680" cy="376200"/>
          </a:xfrm>
          <a:custGeom>
            <a:avLst/>
            <a:gdLst>
              <a:gd name="textAreaLeft" fmla="*/ 91440 w 274680"/>
              <a:gd name="textAreaRight" fmla="*/ 235440 w 274680"/>
              <a:gd name="textAreaTop" fmla="*/ 216720 h 376200"/>
              <a:gd name="textAreaBottom" fmla="*/ 322200 h 376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817560" y="579744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5608800" y="5821200"/>
            <a:ext cx="402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2438280" y="1666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nthèse de l'analyse statistiq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48120" y="806400"/>
            <a:ext cx="5444640" cy="2699640"/>
            <a:chOff x="3048120" y="806400"/>
            <a:chExt cx="5444640" cy="2699640"/>
          </a:xfrm>
        </p:grpSpPr>
        <p:graphicFrame>
          <p:nvGraphicFramePr>
            <p:cNvPr id="250" name=""/>
            <p:cNvGraphicFramePr/>
            <p:nvPr/>
          </p:nvGraphicFramePr>
          <p:xfrm>
            <a:off x="3048120" y="806400"/>
            <a:ext cx="5444640" cy="24534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806400"/>
                      <a:ext cx="5444640" cy="245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52" name=""/>
            <p:cNvGrpSpPr/>
            <p:nvPr/>
          </p:nvGrpSpPr>
          <p:grpSpPr>
            <a:xfrm>
              <a:off x="4053600" y="3259800"/>
              <a:ext cx="3475440" cy="246240"/>
              <a:chOff x="4053600" y="3259800"/>
              <a:chExt cx="3475440" cy="246240"/>
            </a:xfrm>
          </p:grpSpPr>
          <p:sp>
            <p:nvSpPr>
              <p:cNvPr id="253" name=""/>
              <p:cNvSpPr/>
              <p:nvPr/>
            </p:nvSpPr>
            <p:spPr>
              <a:xfrm>
                <a:off x="4053600" y="3272760"/>
                <a:ext cx="127440" cy="925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02440" y="3272760"/>
                <a:ext cx="127440" cy="925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51280" y="3272760"/>
                <a:ext cx="128520" cy="925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207680" y="3259800"/>
                <a:ext cx="1038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</a:rPr>
                  <a:t>CHRONIQUE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446080" y="325980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</a:rPr>
                  <a:t>RESOLUS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02120" y="3259800"/>
                <a:ext cx="826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00"/>
                    </a:solidFill>
                    <a:latin typeface="Arial"/>
                  </a:rPr>
                  <a:t>NORMAUX</a:t>
                </a:r>
                <a:endParaRPr b="0" lang="en-US" sz="1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 rot="16180200">
              <a:off x="2409480" y="1979280"/>
              <a:ext cx="171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Intensité du pi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43000" y="838080"/>
            <a:ext cx="1523520" cy="2210040"/>
            <a:chOff x="1143000" y="838080"/>
            <a:chExt cx="1523520" cy="2210040"/>
          </a:xfrm>
        </p:grpSpPr>
        <p:sp>
          <p:nvSpPr>
            <p:cNvPr id="261" name=""/>
            <p:cNvSpPr/>
            <p:nvPr/>
          </p:nvSpPr>
          <p:spPr>
            <a:xfrm rot="5400000">
              <a:off x="799560" y="1181160"/>
              <a:ext cx="2210040" cy="152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262" name=""/>
            <p:cNvGraphicFramePr/>
            <p:nvPr/>
          </p:nvGraphicFramePr>
          <p:xfrm>
            <a:off x="1227600" y="951120"/>
            <a:ext cx="1375200" cy="2004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27600" y="951120"/>
                      <a:ext cx="1375200" cy="200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64" name=""/>
          <p:cNvGrpSpPr/>
          <p:nvPr/>
        </p:nvGrpSpPr>
        <p:grpSpPr>
          <a:xfrm>
            <a:off x="1143720" y="3657600"/>
            <a:ext cx="8076240" cy="3081600"/>
            <a:chOff x="1143720" y="3657600"/>
            <a:chExt cx="8076240" cy="3081600"/>
          </a:xfrm>
        </p:grpSpPr>
        <p:grpSp>
          <p:nvGrpSpPr>
            <p:cNvPr id="265" name=""/>
            <p:cNvGrpSpPr/>
            <p:nvPr/>
          </p:nvGrpSpPr>
          <p:grpSpPr>
            <a:xfrm>
              <a:off x="1143720" y="3657600"/>
              <a:ext cx="8076240" cy="3081600"/>
              <a:chOff x="1143720" y="3657600"/>
              <a:chExt cx="8076240" cy="3081600"/>
            </a:xfrm>
          </p:grpSpPr>
          <p:sp>
            <p:nvSpPr>
              <p:cNvPr id="266" name=""/>
              <p:cNvSpPr/>
              <p:nvPr/>
            </p:nvSpPr>
            <p:spPr>
              <a:xfrm>
                <a:off x="1143720" y="3657600"/>
                <a:ext cx="8076240" cy="3048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1893960" y="3749040"/>
                <a:ext cx="5435640" cy="2990160"/>
                <a:chOff x="1893960" y="3749040"/>
                <a:chExt cx="5435640" cy="299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161080" y="443484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952640" y="437508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161080" y="426168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893960" y="420372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161080" y="408852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893960" y="402912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161080" y="392220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893960" y="386604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161080" y="374940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2161080" y="374904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450960" y="374904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4749480" y="374904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6039000" y="374904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7328520" y="3749040"/>
                  <a:ext cx="108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161080" y="3749400"/>
                  <a:ext cx="5167440" cy="715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161080" y="3899880"/>
                  <a:ext cx="4261680" cy="534600"/>
                </a:xfrm>
                <a:custGeom>
                  <a:avLst/>
                  <a:gdLst/>
                  <a:ahLst/>
                  <a:rect l="l" t="t" r="r" b="b"/>
                  <a:pathLst>
                    <a:path w="3853" h="692">
                      <a:moveTo>
                        <a:pt x="0" y="682"/>
                      </a:moveTo>
                      <a:lnTo>
                        <a:pt x="0" y="682"/>
                      </a:lnTo>
                      <a:lnTo>
                        <a:pt x="8" y="673"/>
                      </a:lnTo>
                      <a:lnTo>
                        <a:pt x="24" y="682"/>
                      </a:lnTo>
                      <a:lnTo>
                        <a:pt x="24" y="682"/>
                      </a:lnTo>
                      <a:lnTo>
                        <a:pt x="39" y="673"/>
                      </a:lnTo>
                      <a:lnTo>
                        <a:pt x="39" y="663"/>
                      </a:lnTo>
                      <a:lnTo>
                        <a:pt x="47" y="663"/>
                      </a:lnTo>
                      <a:lnTo>
                        <a:pt x="62" y="673"/>
                      </a:lnTo>
                      <a:lnTo>
                        <a:pt x="62" y="673"/>
                      </a:lnTo>
                      <a:lnTo>
                        <a:pt x="70" y="673"/>
                      </a:lnTo>
                      <a:lnTo>
                        <a:pt x="78" y="682"/>
                      </a:lnTo>
                      <a:lnTo>
                        <a:pt x="93" y="682"/>
                      </a:lnTo>
                      <a:lnTo>
                        <a:pt x="93" y="673"/>
                      </a:lnTo>
                      <a:lnTo>
                        <a:pt x="101" y="663"/>
                      </a:lnTo>
                      <a:lnTo>
                        <a:pt x="109" y="673"/>
                      </a:lnTo>
                      <a:lnTo>
                        <a:pt x="116" y="663"/>
                      </a:lnTo>
                      <a:lnTo>
                        <a:pt x="132" y="673"/>
                      </a:lnTo>
                      <a:lnTo>
                        <a:pt x="139" y="682"/>
                      </a:lnTo>
                      <a:lnTo>
                        <a:pt x="139" y="692"/>
                      </a:lnTo>
                      <a:lnTo>
                        <a:pt x="147" y="682"/>
                      </a:lnTo>
                      <a:lnTo>
                        <a:pt x="155" y="673"/>
                      </a:lnTo>
                      <a:lnTo>
                        <a:pt x="163" y="673"/>
                      </a:lnTo>
                      <a:lnTo>
                        <a:pt x="170" y="653"/>
                      </a:lnTo>
                      <a:lnTo>
                        <a:pt x="178" y="653"/>
                      </a:lnTo>
                      <a:lnTo>
                        <a:pt x="186" y="682"/>
                      </a:lnTo>
                      <a:lnTo>
                        <a:pt x="193" y="682"/>
                      </a:lnTo>
                      <a:lnTo>
                        <a:pt x="201" y="673"/>
                      </a:lnTo>
                      <a:lnTo>
                        <a:pt x="209" y="682"/>
                      </a:lnTo>
                      <a:lnTo>
                        <a:pt x="217" y="682"/>
                      </a:lnTo>
                      <a:lnTo>
                        <a:pt x="224" y="673"/>
                      </a:lnTo>
                      <a:lnTo>
                        <a:pt x="232" y="673"/>
                      </a:lnTo>
                      <a:lnTo>
                        <a:pt x="240" y="673"/>
                      </a:lnTo>
                      <a:lnTo>
                        <a:pt x="255" y="682"/>
                      </a:lnTo>
                      <a:lnTo>
                        <a:pt x="263" y="682"/>
                      </a:lnTo>
                      <a:lnTo>
                        <a:pt x="263" y="682"/>
                      </a:lnTo>
                      <a:lnTo>
                        <a:pt x="271" y="682"/>
                      </a:lnTo>
                      <a:lnTo>
                        <a:pt x="278" y="682"/>
                      </a:lnTo>
                      <a:lnTo>
                        <a:pt x="286" y="682"/>
                      </a:lnTo>
                      <a:lnTo>
                        <a:pt x="302" y="673"/>
                      </a:lnTo>
                      <a:lnTo>
                        <a:pt x="302" y="673"/>
                      </a:lnTo>
                      <a:lnTo>
                        <a:pt x="309" y="643"/>
                      </a:lnTo>
                      <a:lnTo>
                        <a:pt x="317" y="653"/>
                      </a:lnTo>
                      <a:lnTo>
                        <a:pt x="332" y="673"/>
                      </a:lnTo>
                      <a:lnTo>
                        <a:pt x="332" y="663"/>
                      </a:lnTo>
                      <a:lnTo>
                        <a:pt x="340" y="673"/>
                      </a:lnTo>
                      <a:lnTo>
                        <a:pt x="356" y="673"/>
                      </a:lnTo>
                      <a:lnTo>
                        <a:pt x="356" y="653"/>
                      </a:lnTo>
                      <a:lnTo>
                        <a:pt x="363" y="653"/>
                      </a:lnTo>
                      <a:lnTo>
                        <a:pt x="379" y="653"/>
                      </a:lnTo>
                      <a:lnTo>
                        <a:pt x="379" y="673"/>
                      </a:lnTo>
                      <a:lnTo>
                        <a:pt x="394" y="673"/>
                      </a:lnTo>
                      <a:lnTo>
                        <a:pt x="394" y="682"/>
                      </a:lnTo>
                      <a:lnTo>
                        <a:pt x="402" y="682"/>
                      </a:lnTo>
                      <a:lnTo>
                        <a:pt x="417" y="663"/>
                      </a:lnTo>
                      <a:lnTo>
                        <a:pt x="417" y="663"/>
                      </a:lnTo>
                      <a:lnTo>
                        <a:pt x="433" y="673"/>
                      </a:lnTo>
                      <a:lnTo>
                        <a:pt x="433" y="673"/>
                      </a:lnTo>
                      <a:lnTo>
                        <a:pt x="448" y="673"/>
                      </a:lnTo>
                      <a:lnTo>
                        <a:pt x="456" y="663"/>
                      </a:lnTo>
                      <a:lnTo>
                        <a:pt x="456" y="673"/>
                      </a:lnTo>
                      <a:lnTo>
                        <a:pt x="471" y="682"/>
                      </a:lnTo>
                      <a:lnTo>
                        <a:pt x="471" y="682"/>
                      </a:lnTo>
                      <a:lnTo>
                        <a:pt x="487" y="682"/>
                      </a:lnTo>
                      <a:lnTo>
                        <a:pt x="487" y="682"/>
                      </a:lnTo>
                      <a:lnTo>
                        <a:pt x="495" y="673"/>
                      </a:lnTo>
                      <a:lnTo>
                        <a:pt x="510" y="663"/>
                      </a:lnTo>
                      <a:lnTo>
                        <a:pt x="510" y="682"/>
                      </a:lnTo>
                      <a:lnTo>
                        <a:pt x="525" y="682"/>
                      </a:lnTo>
                      <a:lnTo>
                        <a:pt x="533" y="682"/>
                      </a:lnTo>
                      <a:lnTo>
                        <a:pt x="533" y="682"/>
                      </a:lnTo>
                      <a:lnTo>
                        <a:pt x="541" y="673"/>
                      </a:lnTo>
                      <a:lnTo>
                        <a:pt x="556" y="673"/>
                      </a:lnTo>
                      <a:lnTo>
                        <a:pt x="564" y="673"/>
                      </a:lnTo>
                      <a:lnTo>
                        <a:pt x="564" y="682"/>
                      </a:lnTo>
                      <a:lnTo>
                        <a:pt x="572" y="682"/>
                      </a:lnTo>
                      <a:lnTo>
                        <a:pt x="587" y="673"/>
                      </a:lnTo>
                      <a:lnTo>
                        <a:pt x="595" y="653"/>
                      </a:lnTo>
                      <a:lnTo>
                        <a:pt x="603" y="663"/>
                      </a:lnTo>
                      <a:lnTo>
                        <a:pt x="603" y="663"/>
                      </a:lnTo>
                      <a:lnTo>
                        <a:pt x="610" y="673"/>
                      </a:lnTo>
                      <a:lnTo>
                        <a:pt x="626" y="682"/>
                      </a:lnTo>
                      <a:lnTo>
                        <a:pt x="634" y="673"/>
                      </a:lnTo>
                      <a:lnTo>
                        <a:pt x="641" y="653"/>
                      </a:lnTo>
                      <a:lnTo>
                        <a:pt x="649" y="643"/>
                      </a:lnTo>
                      <a:lnTo>
                        <a:pt x="657" y="400"/>
                      </a:lnTo>
                      <a:lnTo>
                        <a:pt x="664" y="322"/>
                      </a:lnTo>
                      <a:lnTo>
                        <a:pt x="672" y="429"/>
                      </a:lnTo>
                      <a:lnTo>
                        <a:pt x="680" y="565"/>
                      </a:lnTo>
                      <a:lnTo>
                        <a:pt x="688" y="614"/>
                      </a:lnTo>
                      <a:lnTo>
                        <a:pt x="695" y="634"/>
                      </a:lnTo>
                      <a:lnTo>
                        <a:pt x="703" y="624"/>
                      </a:lnTo>
                      <a:lnTo>
                        <a:pt x="711" y="624"/>
                      </a:lnTo>
                      <a:lnTo>
                        <a:pt x="719" y="634"/>
                      </a:lnTo>
                      <a:lnTo>
                        <a:pt x="726" y="634"/>
                      </a:lnTo>
                      <a:lnTo>
                        <a:pt x="734" y="614"/>
                      </a:lnTo>
                      <a:lnTo>
                        <a:pt x="742" y="575"/>
                      </a:lnTo>
                      <a:lnTo>
                        <a:pt x="749" y="107"/>
                      </a:lnTo>
                      <a:lnTo>
                        <a:pt x="757" y="0"/>
                      </a:lnTo>
                      <a:lnTo>
                        <a:pt x="765" y="88"/>
                      </a:lnTo>
                      <a:lnTo>
                        <a:pt x="773" y="322"/>
                      </a:lnTo>
                      <a:lnTo>
                        <a:pt x="773" y="439"/>
                      </a:lnTo>
                      <a:lnTo>
                        <a:pt x="780" y="546"/>
                      </a:lnTo>
                      <a:lnTo>
                        <a:pt x="796" y="604"/>
                      </a:lnTo>
                      <a:lnTo>
                        <a:pt x="803" y="643"/>
                      </a:lnTo>
                      <a:lnTo>
                        <a:pt x="811" y="653"/>
                      </a:lnTo>
                      <a:lnTo>
                        <a:pt x="819" y="663"/>
                      </a:lnTo>
                      <a:lnTo>
                        <a:pt x="819" y="663"/>
                      </a:lnTo>
                      <a:lnTo>
                        <a:pt x="834" y="653"/>
                      </a:lnTo>
                      <a:lnTo>
                        <a:pt x="842" y="643"/>
                      </a:lnTo>
                      <a:lnTo>
                        <a:pt x="850" y="565"/>
                      </a:lnTo>
                      <a:lnTo>
                        <a:pt x="850" y="565"/>
                      </a:lnTo>
                      <a:lnTo>
                        <a:pt x="865" y="585"/>
                      </a:lnTo>
                      <a:lnTo>
                        <a:pt x="873" y="614"/>
                      </a:lnTo>
                      <a:lnTo>
                        <a:pt x="873" y="643"/>
                      </a:lnTo>
                      <a:lnTo>
                        <a:pt x="881" y="663"/>
                      </a:lnTo>
                      <a:lnTo>
                        <a:pt x="896" y="663"/>
                      </a:lnTo>
                      <a:lnTo>
                        <a:pt x="904" y="663"/>
                      </a:lnTo>
                      <a:lnTo>
                        <a:pt x="904" y="663"/>
                      </a:lnTo>
                      <a:lnTo>
                        <a:pt x="919" y="663"/>
                      </a:lnTo>
                      <a:lnTo>
                        <a:pt x="919" y="663"/>
                      </a:lnTo>
                      <a:lnTo>
                        <a:pt x="935" y="663"/>
                      </a:lnTo>
                      <a:lnTo>
                        <a:pt x="942" y="663"/>
                      </a:lnTo>
                      <a:lnTo>
                        <a:pt x="942" y="673"/>
                      </a:lnTo>
                      <a:lnTo>
                        <a:pt x="958" y="663"/>
                      </a:lnTo>
                      <a:lnTo>
                        <a:pt x="958" y="663"/>
                      </a:lnTo>
                      <a:lnTo>
                        <a:pt x="973" y="673"/>
                      </a:lnTo>
                      <a:lnTo>
                        <a:pt x="973" y="673"/>
                      </a:lnTo>
                      <a:lnTo>
                        <a:pt x="989" y="673"/>
                      </a:lnTo>
                      <a:lnTo>
                        <a:pt x="989" y="663"/>
                      </a:lnTo>
                      <a:lnTo>
                        <a:pt x="1004" y="663"/>
                      </a:lnTo>
                      <a:lnTo>
                        <a:pt x="1004" y="663"/>
                      </a:lnTo>
                      <a:lnTo>
                        <a:pt x="1020" y="663"/>
                      </a:lnTo>
                      <a:lnTo>
                        <a:pt x="1020" y="673"/>
                      </a:lnTo>
                      <a:lnTo>
                        <a:pt x="1035" y="673"/>
                      </a:lnTo>
                      <a:lnTo>
                        <a:pt x="1035" y="682"/>
                      </a:lnTo>
                      <a:lnTo>
                        <a:pt x="1051" y="682"/>
                      </a:lnTo>
                      <a:lnTo>
                        <a:pt x="1051" y="682"/>
                      </a:lnTo>
                      <a:lnTo>
                        <a:pt x="1066" y="673"/>
                      </a:lnTo>
                      <a:lnTo>
                        <a:pt x="1066" y="673"/>
                      </a:lnTo>
                      <a:lnTo>
                        <a:pt x="1074" y="682"/>
                      </a:lnTo>
                      <a:lnTo>
                        <a:pt x="1089" y="682"/>
                      </a:lnTo>
                      <a:lnTo>
                        <a:pt x="1089" y="682"/>
                      </a:lnTo>
                      <a:lnTo>
                        <a:pt x="1097" y="682"/>
                      </a:lnTo>
                      <a:lnTo>
                        <a:pt x="1112" y="673"/>
                      </a:lnTo>
                      <a:lnTo>
                        <a:pt x="1112" y="673"/>
                      </a:lnTo>
                      <a:lnTo>
                        <a:pt x="1120" y="682"/>
                      </a:lnTo>
                      <a:lnTo>
                        <a:pt x="1135" y="682"/>
                      </a:lnTo>
                      <a:lnTo>
                        <a:pt x="1135" y="682"/>
                      </a:lnTo>
                      <a:lnTo>
                        <a:pt x="1143" y="682"/>
                      </a:lnTo>
                      <a:lnTo>
                        <a:pt x="1159" y="682"/>
                      </a:lnTo>
                      <a:lnTo>
                        <a:pt x="1166" y="682"/>
                      </a:lnTo>
                      <a:lnTo>
                        <a:pt x="1166" y="682"/>
                      </a:lnTo>
                      <a:lnTo>
                        <a:pt x="1174" y="682"/>
                      </a:lnTo>
                      <a:lnTo>
                        <a:pt x="1190" y="682"/>
                      </a:lnTo>
                      <a:lnTo>
                        <a:pt x="1197" y="682"/>
                      </a:lnTo>
                      <a:lnTo>
                        <a:pt x="1197" y="682"/>
                      </a:lnTo>
                      <a:lnTo>
                        <a:pt x="1205" y="682"/>
                      </a:lnTo>
                      <a:lnTo>
                        <a:pt x="1220" y="682"/>
                      </a:lnTo>
                      <a:lnTo>
                        <a:pt x="1228" y="682"/>
                      </a:lnTo>
                      <a:lnTo>
                        <a:pt x="1236" y="673"/>
                      </a:lnTo>
                      <a:lnTo>
                        <a:pt x="1236" y="673"/>
                      </a:lnTo>
                      <a:lnTo>
                        <a:pt x="1244" y="673"/>
                      </a:lnTo>
                      <a:lnTo>
                        <a:pt x="1251" y="682"/>
                      </a:lnTo>
                      <a:lnTo>
                        <a:pt x="1259" y="682"/>
                      </a:lnTo>
                      <a:lnTo>
                        <a:pt x="1274" y="673"/>
                      </a:lnTo>
                      <a:lnTo>
                        <a:pt x="1282" y="624"/>
                      </a:lnTo>
                      <a:lnTo>
                        <a:pt x="1290" y="595"/>
                      </a:lnTo>
                      <a:lnTo>
                        <a:pt x="1298" y="614"/>
                      </a:lnTo>
                      <a:lnTo>
                        <a:pt x="1298" y="653"/>
                      </a:lnTo>
                      <a:lnTo>
                        <a:pt x="1305" y="673"/>
                      </a:lnTo>
                      <a:lnTo>
                        <a:pt x="1313" y="682"/>
                      </a:lnTo>
                      <a:lnTo>
                        <a:pt x="1321" y="682"/>
                      </a:lnTo>
                      <a:lnTo>
                        <a:pt x="1328" y="682"/>
                      </a:lnTo>
                      <a:lnTo>
                        <a:pt x="1336" y="682"/>
                      </a:lnTo>
                      <a:lnTo>
                        <a:pt x="1344" y="682"/>
                      </a:lnTo>
                      <a:lnTo>
                        <a:pt x="1352" y="682"/>
                      </a:lnTo>
                      <a:lnTo>
                        <a:pt x="1359" y="682"/>
                      </a:lnTo>
                      <a:lnTo>
                        <a:pt x="1367" y="682"/>
                      </a:lnTo>
                      <a:lnTo>
                        <a:pt x="1375" y="673"/>
                      </a:lnTo>
                      <a:lnTo>
                        <a:pt x="1383" y="673"/>
                      </a:lnTo>
                      <a:lnTo>
                        <a:pt x="1390" y="673"/>
                      </a:lnTo>
                      <a:lnTo>
                        <a:pt x="1398" y="682"/>
                      </a:lnTo>
                      <a:lnTo>
                        <a:pt x="1406" y="682"/>
                      </a:lnTo>
                      <a:lnTo>
                        <a:pt x="1421" y="682"/>
                      </a:lnTo>
                      <a:lnTo>
                        <a:pt x="1429" y="682"/>
                      </a:lnTo>
                      <a:lnTo>
                        <a:pt x="1437" y="692"/>
                      </a:lnTo>
                      <a:lnTo>
                        <a:pt x="1444" y="692"/>
                      </a:lnTo>
                      <a:lnTo>
                        <a:pt x="1452" y="682"/>
                      </a:lnTo>
                      <a:lnTo>
                        <a:pt x="1452" y="682"/>
                      </a:lnTo>
                      <a:lnTo>
                        <a:pt x="1460" y="673"/>
                      </a:lnTo>
                      <a:lnTo>
                        <a:pt x="1467" y="673"/>
                      </a:lnTo>
                      <a:lnTo>
                        <a:pt x="1475" y="682"/>
                      </a:lnTo>
                      <a:lnTo>
                        <a:pt x="1491" y="673"/>
                      </a:lnTo>
                      <a:lnTo>
                        <a:pt x="1498" y="653"/>
                      </a:lnTo>
                      <a:lnTo>
                        <a:pt x="1498" y="643"/>
                      </a:lnTo>
                      <a:lnTo>
                        <a:pt x="1506" y="653"/>
                      </a:lnTo>
                      <a:lnTo>
                        <a:pt x="1514" y="663"/>
                      </a:lnTo>
                      <a:lnTo>
                        <a:pt x="1529" y="673"/>
                      </a:lnTo>
                      <a:lnTo>
                        <a:pt x="1537" y="682"/>
                      </a:lnTo>
                      <a:lnTo>
                        <a:pt x="1537" y="682"/>
                      </a:lnTo>
                      <a:lnTo>
                        <a:pt x="1545" y="682"/>
                      </a:lnTo>
                      <a:lnTo>
                        <a:pt x="1552" y="682"/>
                      </a:lnTo>
                      <a:lnTo>
                        <a:pt x="1568" y="682"/>
                      </a:lnTo>
                      <a:lnTo>
                        <a:pt x="1568" y="682"/>
                      </a:lnTo>
                      <a:lnTo>
                        <a:pt x="1576" y="682"/>
                      </a:lnTo>
                      <a:lnTo>
                        <a:pt x="1591" y="682"/>
                      </a:lnTo>
                      <a:lnTo>
                        <a:pt x="1599" y="673"/>
                      </a:lnTo>
                      <a:lnTo>
                        <a:pt x="1599" y="673"/>
                      </a:lnTo>
                      <a:lnTo>
                        <a:pt x="1606" y="663"/>
                      </a:lnTo>
                      <a:lnTo>
                        <a:pt x="1622" y="663"/>
                      </a:lnTo>
                      <a:lnTo>
                        <a:pt x="1622" y="663"/>
                      </a:lnTo>
                      <a:lnTo>
                        <a:pt x="1630" y="663"/>
                      </a:lnTo>
                      <a:lnTo>
                        <a:pt x="1645" y="643"/>
                      </a:lnTo>
                      <a:lnTo>
                        <a:pt x="1645" y="624"/>
                      </a:lnTo>
                      <a:lnTo>
                        <a:pt x="1661" y="536"/>
                      </a:lnTo>
                      <a:lnTo>
                        <a:pt x="1668" y="526"/>
                      </a:lnTo>
                      <a:lnTo>
                        <a:pt x="1668" y="536"/>
                      </a:lnTo>
                      <a:lnTo>
                        <a:pt x="1684" y="595"/>
                      </a:lnTo>
                      <a:lnTo>
                        <a:pt x="1684" y="517"/>
                      </a:lnTo>
                      <a:lnTo>
                        <a:pt x="1691" y="517"/>
                      </a:lnTo>
                      <a:lnTo>
                        <a:pt x="1707" y="556"/>
                      </a:lnTo>
                      <a:lnTo>
                        <a:pt x="1707" y="409"/>
                      </a:lnTo>
                      <a:lnTo>
                        <a:pt x="1722" y="214"/>
                      </a:lnTo>
                      <a:lnTo>
                        <a:pt x="1722" y="214"/>
                      </a:lnTo>
                      <a:lnTo>
                        <a:pt x="1738" y="390"/>
                      </a:lnTo>
                      <a:lnTo>
                        <a:pt x="1738" y="478"/>
                      </a:lnTo>
                      <a:lnTo>
                        <a:pt x="1753" y="497"/>
                      </a:lnTo>
                      <a:lnTo>
                        <a:pt x="1761" y="497"/>
                      </a:lnTo>
                      <a:lnTo>
                        <a:pt x="1769" y="487"/>
                      </a:lnTo>
                      <a:lnTo>
                        <a:pt x="1776" y="302"/>
                      </a:lnTo>
                      <a:lnTo>
                        <a:pt x="1784" y="302"/>
                      </a:lnTo>
                      <a:lnTo>
                        <a:pt x="1792" y="370"/>
                      </a:lnTo>
                      <a:lnTo>
                        <a:pt x="1799" y="478"/>
                      </a:lnTo>
                      <a:lnTo>
                        <a:pt x="1799" y="468"/>
                      </a:lnTo>
                      <a:lnTo>
                        <a:pt x="1815" y="468"/>
                      </a:lnTo>
                      <a:lnTo>
                        <a:pt x="1815" y="419"/>
                      </a:lnTo>
                      <a:lnTo>
                        <a:pt x="1830" y="292"/>
                      </a:lnTo>
                      <a:lnTo>
                        <a:pt x="1830" y="263"/>
                      </a:lnTo>
                      <a:lnTo>
                        <a:pt x="1846" y="302"/>
                      </a:lnTo>
                      <a:lnTo>
                        <a:pt x="1854" y="429"/>
                      </a:lnTo>
                      <a:lnTo>
                        <a:pt x="1861" y="507"/>
                      </a:lnTo>
                      <a:lnTo>
                        <a:pt x="1869" y="517"/>
                      </a:lnTo>
                      <a:lnTo>
                        <a:pt x="1869" y="526"/>
                      </a:lnTo>
                      <a:lnTo>
                        <a:pt x="1884" y="546"/>
                      </a:lnTo>
                      <a:lnTo>
                        <a:pt x="1892" y="575"/>
                      </a:lnTo>
                      <a:lnTo>
                        <a:pt x="1892" y="585"/>
                      </a:lnTo>
                      <a:lnTo>
                        <a:pt x="1908" y="585"/>
                      </a:lnTo>
                      <a:lnTo>
                        <a:pt x="1915" y="575"/>
                      </a:lnTo>
                      <a:lnTo>
                        <a:pt x="1923" y="517"/>
                      </a:lnTo>
                      <a:lnTo>
                        <a:pt x="1931" y="448"/>
                      </a:lnTo>
                      <a:lnTo>
                        <a:pt x="1938" y="448"/>
                      </a:lnTo>
                      <a:lnTo>
                        <a:pt x="1946" y="468"/>
                      </a:lnTo>
                      <a:lnTo>
                        <a:pt x="1954" y="507"/>
                      </a:lnTo>
                      <a:lnTo>
                        <a:pt x="1962" y="546"/>
                      </a:lnTo>
                      <a:lnTo>
                        <a:pt x="1962" y="575"/>
                      </a:lnTo>
                      <a:lnTo>
                        <a:pt x="1977" y="595"/>
                      </a:lnTo>
                      <a:lnTo>
                        <a:pt x="1985" y="604"/>
                      </a:lnTo>
                      <a:lnTo>
                        <a:pt x="1993" y="614"/>
                      </a:lnTo>
                      <a:lnTo>
                        <a:pt x="2000" y="604"/>
                      </a:lnTo>
                      <a:lnTo>
                        <a:pt x="2008" y="595"/>
                      </a:lnTo>
                      <a:lnTo>
                        <a:pt x="2016" y="585"/>
                      </a:lnTo>
                      <a:lnTo>
                        <a:pt x="2023" y="575"/>
                      </a:lnTo>
                      <a:lnTo>
                        <a:pt x="2023" y="526"/>
                      </a:lnTo>
                      <a:lnTo>
                        <a:pt x="2039" y="507"/>
                      </a:lnTo>
                      <a:lnTo>
                        <a:pt x="2047" y="507"/>
                      </a:lnTo>
                      <a:lnTo>
                        <a:pt x="2054" y="517"/>
                      </a:lnTo>
                      <a:lnTo>
                        <a:pt x="2054" y="351"/>
                      </a:lnTo>
                      <a:lnTo>
                        <a:pt x="2070" y="331"/>
                      </a:lnTo>
                      <a:lnTo>
                        <a:pt x="2077" y="351"/>
                      </a:lnTo>
                      <a:lnTo>
                        <a:pt x="2085" y="419"/>
                      </a:lnTo>
                      <a:lnTo>
                        <a:pt x="2093" y="497"/>
                      </a:lnTo>
                      <a:lnTo>
                        <a:pt x="2101" y="536"/>
                      </a:lnTo>
                      <a:lnTo>
                        <a:pt x="2101" y="565"/>
                      </a:lnTo>
                      <a:lnTo>
                        <a:pt x="2116" y="585"/>
                      </a:lnTo>
                      <a:lnTo>
                        <a:pt x="2124" y="595"/>
                      </a:lnTo>
                      <a:lnTo>
                        <a:pt x="2131" y="604"/>
                      </a:lnTo>
                      <a:lnTo>
                        <a:pt x="2139" y="604"/>
                      </a:lnTo>
                      <a:lnTo>
                        <a:pt x="2147" y="604"/>
                      </a:lnTo>
                      <a:lnTo>
                        <a:pt x="2155" y="595"/>
                      </a:lnTo>
                      <a:lnTo>
                        <a:pt x="2162" y="575"/>
                      </a:lnTo>
                      <a:lnTo>
                        <a:pt x="2170" y="565"/>
                      </a:lnTo>
                      <a:lnTo>
                        <a:pt x="2170" y="565"/>
                      </a:lnTo>
                      <a:lnTo>
                        <a:pt x="2178" y="575"/>
                      </a:lnTo>
                      <a:lnTo>
                        <a:pt x="2193" y="595"/>
                      </a:lnTo>
                      <a:lnTo>
                        <a:pt x="2201" y="575"/>
                      </a:lnTo>
                      <a:lnTo>
                        <a:pt x="2209" y="575"/>
                      </a:lnTo>
                      <a:lnTo>
                        <a:pt x="2216" y="595"/>
                      </a:lnTo>
                      <a:lnTo>
                        <a:pt x="2224" y="614"/>
                      </a:lnTo>
                      <a:lnTo>
                        <a:pt x="2232" y="624"/>
                      </a:lnTo>
                      <a:lnTo>
                        <a:pt x="2240" y="634"/>
                      </a:lnTo>
                      <a:lnTo>
                        <a:pt x="2247" y="643"/>
                      </a:lnTo>
                      <a:lnTo>
                        <a:pt x="2255" y="643"/>
                      </a:lnTo>
                      <a:lnTo>
                        <a:pt x="2263" y="643"/>
                      </a:lnTo>
                      <a:lnTo>
                        <a:pt x="2270" y="643"/>
                      </a:lnTo>
                      <a:lnTo>
                        <a:pt x="2278" y="643"/>
                      </a:lnTo>
                      <a:lnTo>
                        <a:pt x="2286" y="653"/>
                      </a:lnTo>
                      <a:lnTo>
                        <a:pt x="2294" y="653"/>
                      </a:lnTo>
                      <a:lnTo>
                        <a:pt x="2301" y="653"/>
                      </a:lnTo>
                      <a:lnTo>
                        <a:pt x="2309" y="653"/>
                      </a:lnTo>
                      <a:lnTo>
                        <a:pt x="2317" y="653"/>
                      </a:lnTo>
                      <a:lnTo>
                        <a:pt x="2325" y="653"/>
                      </a:lnTo>
                      <a:lnTo>
                        <a:pt x="2325" y="663"/>
                      </a:lnTo>
                      <a:lnTo>
                        <a:pt x="2340" y="663"/>
                      </a:lnTo>
                      <a:lnTo>
                        <a:pt x="2348" y="673"/>
                      </a:lnTo>
                      <a:lnTo>
                        <a:pt x="2355" y="673"/>
                      </a:lnTo>
                      <a:lnTo>
                        <a:pt x="2363" y="673"/>
                      </a:lnTo>
                      <a:lnTo>
                        <a:pt x="2371" y="663"/>
                      </a:lnTo>
                      <a:lnTo>
                        <a:pt x="2379" y="663"/>
                      </a:lnTo>
                      <a:lnTo>
                        <a:pt x="2386" y="663"/>
                      </a:lnTo>
                      <a:lnTo>
                        <a:pt x="2394" y="673"/>
                      </a:lnTo>
                      <a:lnTo>
                        <a:pt x="2394" y="673"/>
                      </a:lnTo>
                      <a:lnTo>
                        <a:pt x="2409" y="673"/>
                      </a:lnTo>
                      <a:lnTo>
                        <a:pt x="2417" y="673"/>
                      </a:lnTo>
                      <a:lnTo>
                        <a:pt x="2425" y="673"/>
                      </a:lnTo>
                      <a:lnTo>
                        <a:pt x="2433" y="673"/>
                      </a:lnTo>
                      <a:lnTo>
                        <a:pt x="2440" y="673"/>
                      </a:lnTo>
                      <a:lnTo>
                        <a:pt x="2448" y="673"/>
                      </a:lnTo>
                      <a:lnTo>
                        <a:pt x="2456" y="673"/>
                      </a:lnTo>
                      <a:lnTo>
                        <a:pt x="2464" y="673"/>
                      </a:lnTo>
                      <a:lnTo>
                        <a:pt x="2471" y="673"/>
                      </a:lnTo>
                      <a:lnTo>
                        <a:pt x="2479" y="682"/>
                      </a:lnTo>
                      <a:lnTo>
                        <a:pt x="2487" y="682"/>
                      </a:lnTo>
                      <a:lnTo>
                        <a:pt x="2494" y="682"/>
                      </a:lnTo>
                      <a:lnTo>
                        <a:pt x="2502" y="682"/>
                      </a:lnTo>
                      <a:lnTo>
                        <a:pt x="2510" y="682"/>
                      </a:lnTo>
                      <a:lnTo>
                        <a:pt x="2518" y="682"/>
                      </a:lnTo>
                      <a:lnTo>
                        <a:pt x="2518" y="673"/>
                      </a:lnTo>
                      <a:lnTo>
                        <a:pt x="2533" y="682"/>
                      </a:lnTo>
                      <a:lnTo>
                        <a:pt x="2541" y="682"/>
                      </a:lnTo>
                      <a:lnTo>
                        <a:pt x="2548" y="682"/>
                      </a:lnTo>
                      <a:lnTo>
                        <a:pt x="2556" y="682"/>
                      </a:lnTo>
                      <a:lnTo>
                        <a:pt x="2564" y="682"/>
                      </a:lnTo>
                      <a:lnTo>
                        <a:pt x="2572" y="682"/>
                      </a:lnTo>
                      <a:lnTo>
                        <a:pt x="2572" y="682"/>
                      </a:lnTo>
                      <a:lnTo>
                        <a:pt x="2587" y="682"/>
                      </a:lnTo>
                      <a:lnTo>
                        <a:pt x="2595" y="682"/>
                      </a:lnTo>
                      <a:lnTo>
                        <a:pt x="2602" y="682"/>
                      </a:lnTo>
                      <a:lnTo>
                        <a:pt x="2610" y="682"/>
                      </a:lnTo>
                      <a:lnTo>
                        <a:pt x="2618" y="682"/>
                      </a:lnTo>
                      <a:lnTo>
                        <a:pt x="2626" y="682"/>
                      </a:lnTo>
                      <a:lnTo>
                        <a:pt x="2633" y="682"/>
                      </a:lnTo>
                      <a:lnTo>
                        <a:pt x="2641" y="682"/>
                      </a:lnTo>
                      <a:lnTo>
                        <a:pt x="2641" y="682"/>
                      </a:lnTo>
                      <a:lnTo>
                        <a:pt x="2657" y="682"/>
                      </a:lnTo>
                      <a:lnTo>
                        <a:pt x="2664" y="682"/>
                      </a:lnTo>
                      <a:lnTo>
                        <a:pt x="2664" y="682"/>
                      </a:lnTo>
                      <a:lnTo>
                        <a:pt x="2680" y="682"/>
                      </a:lnTo>
                      <a:lnTo>
                        <a:pt x="2687" y="682"/>
                      </a:lnTo>
                      <a:lnTo>
                        <a:pt x="2695" y="692"/>
                      </a:lnTo>
                      <a:lnTo>
                        <a:pt x="2703" y="682"/>
                      </a:lnTo>
                      <a:lnTo>
                        <a:pt x="2703" y="682"/>
                      </a:lnTo>
                      <a:lnTo>
                        <a:pt x="2718" y="682"/>
                      </a:lnTo>
                      <a:lnTo>
                        <a:pt x="2726" y="682"/>
                      </a:lnTo>
                      <a:lnTo>
                        <a:pt x="2734" y="682"/>
                      </a:lnTo>
                      <a:lnTo>
                        <a:pt x="2741" y="682"/>
                      </a:lnTo>
                      <a:lnTo>
                        <a:pt x="2741" y="682"/>
                      </a:lnTo>
                      <a:lnTo>
                        <a:pt x="2757" y="682"/>
                      </a:lnTo>
                      <a:lnTo>
                        <a:pt x="2757" y="682"/>
                      </a:lnTo>
                      <a:lnTo>
                        <a:pt x="2772" y="682"/>
                      </a:lnTo>
                      <a:lnTo>
                        <a:pt x="2772" y="682"/>
                      </a:lnTo>
                      <a:lnTo>
                        <a:pt x="2788" y="682"/>
                      </a:lnTo>
                      <a:lnTo>
                        <a:pt x="2796" y="682"/>
                      </a:lnTo>
                      <a:lnTo>
                        <a:pt x="2803" y="692"/>
                      </a:lnTo>
                      <a:lnTo>
                        <a:pt x="2811" y="682"/>
                      </a:lnTo>
                      <a:lnTo>
                        <a:pt x="2819" y="682"/>
                      </a:lnTo>
                      <a:lnTo>
                        <a:pt x="2826" y="682"/>
                      </a:lnTo>
                      <a:lnTo>
                        <a:pt x="2834" y="692"/>
                      </a:lnTo>
                      <a:lnTo>
                        <a:pt x="2842" y="682"/>
                      </a:lnTo>
                      <a:lnTo>
                        <a:pt x="2850" y="682"/>
                      </a:lnTo>
                      <a:lnTo>
                        <a:pt x="2857" y="682"/>
                      </a:lnTo>
                      <a:lnTo>
                        <a:pt x="2865" y="682"/>
                      </a:lnTo>
                      <a:lnTo>
                        <a:pt x="2865" y="682"/>
                      </a:lnTo>
                      <a:lnTo>
                        <a:pt x="2880" y="682"/>
                      </a:lnTo>
                      <a:lnTo>
                        <a:pt x="2880" y="682"/>
                      </a:lnTo>
                      <a:lnTo>
                        <a:pt x="2896" y="682"/>
                      </a:lnTo>
                      <a:lnTo>
                        <a:pt x="2896" y="682"/>
                      </a:lnTo>
                      <a:lnTo>
                        <a:pt x="2911" y="682"/>
                      </a:lnTo>
                      <a:lnTo>
                        <a:pt x="2919" y="692"/>
                      </a:lnTo>
                      <a:lnTo>
                        <a:pt x="2927" y="692"/>
                      </a:lnTo>
                      <a:lnTo>
                        <a:pt x="2935" y="682"/>
                      </a:lnTo>
                      <a:lnTo>
                        <a:pt x="2935" y="682"/>
                      </a:lnTo>
                      <a:lnTo>
                        <a:pt x="2950" y="682"/>
                      </a:lnTo>
                      <a:lnTo>
                        <a:pt x="2958" y="682"/>
                      </a:lnTo>
                      <a:lnTo>
                        <a:pt x="2965" y="692"/>
                      </a:lnTo>
                      <a:lnTo>
                        <a:pt x="2973" y="682"/>
                      </a:lnTo>
                      <a:lnTo>
                        <a:pt x="2973" y="682"/>
                      </a:lnTo>
                      <a:lnTo>
                        <a:pt x="2989" y="682"/>
                      </a:lnTo>
                      <a:lnTo>
                        <a:pt x="2996" y="682"/>
                      </a:lnTo>
                      <a:lnTo>
                        <a:pt x="2996" y="682"/>
                      </a:lnTo>
                      <a:lnTo>
                        <a:pt x="3012" y="692"/>
                      </a:lnTo>
                      <a:lnTo>
                        <a:pt x="3019" y="692"/>
                      </a:lnTo>
                      <a:lnTo>
                        <a:pt x="3019" y="682"/>
                      </a:lnTo>
                      <a:lnTo>
                        <a:pt x="3035" y="682"/>
                      </a:lnTo>
                      <a:lnTo>
                        <a:pt x="3043" y="682"/>
                      </a:lnTo>
                      <a:lnTo>
                        <a:pt x="3043" y="682"/>
                      </a:lnTo>
                      <a:lnTo>
                        <a:pt x="3058" y="682"/>
                      </a:lnTo>
                      <a:lnTo>
                        <a:pt x="3066" y="682"/>
                      </a:lnTo>
                      <a:lnTo>
                        <a:pt x="3066" y="682"/>
                      </a:lnTo>
                      <a:lnTo>
                        <a:pt x="3081" y="692"/>
                      </a:lnTo>
                      <a:lnTo>
                        <a:pt x="3089" y="692"/>
                      </a:lnTo>
                      <a:lnTo>
                        <a:pt x="3089" y="682"/>
                      </a:lnTo>
                      <a:lnTo>
                        <a:pt x="3104" y="682"/>
                      </a:lnTo>
                      <a:lnTo>
                        <a:pt x="3112" y="682"/>
                      </a:lnTo>
                      <a:lnTo>
                        <a:pt x="3120" y="682"/>
                      </a:lnTo>
                      <a:lnTo>
                        <a:pt x="3120" y="682"/>
                      </a:lnTo>
                      <a:lnTo>
                        <a:pt x="3135" y="682"/>
                      </a:lnTo>
                      <a:lnTo>
                        <a:pt x="3143" y="682"/>
                      </a:lnTo>
                      <a:lnTo>
                        <a:pt x="3143" y="682"/>
                      </a:lnTo>
                      <a:lnTo>
                        <a:pt x="3151" y="682"/>
                      </a:lnTo>
                      <a:lnTo>
                        <a:pt x="3166" y="682"/>
                      </a:lnTo>
                      <a:lnTo>
                        <a:pt x="3174" y="682"/>
                      </a:lnTo>
                      <a:lnTo>
                        <a:pt x="3182" y="682"/>
                      </a:lnTo>
                      <a:lnTo>
                        <a:pt x="3182" y="682"/>
                      </a:lnTo>
                      <a:lnTo>
                        <a:pt x="3197" y="682"/>
                      </a:lnTo>
                      <a:lnTo>
                        <a:pt x="3205" y="682"/>
                      </a:lnTo>
                      <a:lnTo>
                        <a:pt x="3212" y="682"/>
                      </a:lnTo>
                      <a:lnTo>
                        <a:pt x="3212" y="682"/>
                      </a:lnTo>
                      <a:lnTo>
                        <a:pt x="3220" y="682"/>
                      </a:lnTo>
                      <a:lnTo>
                        <a:pt x="3236" y="682"/>
                      </a:lnTo>
                      <a:lnTo>
                        <a:pt x="3243" y="682"/>
                      </a:lnTo>
                      <a:lnTo>
                        <a:pt x="3251" y="682"/>
                      </a:lnTo>
                      <a:lnTo>
                        <a:pt x="3259" y="682"/>
                      </a:lnTo>
                      <a:lnTo>
                        <a:pt x="3259" y="692"/>
                      </a:lnTo>
                      <a:lnTo>
                        <a:pt x="3267" y="682"/>
                      </a:lnTo>
                      <a:lnTo>
                        <a:pt x="3282" y="682"/>
                      </a:lnTo>
                      <a:lnTo>
                        <a:pt x="3290" y="682"/>
                      </a:lnTo>
                      <a:lnTo>
                        <a:pt x="3297" y="682"/>
                      </a:lnTo>
                      <a:lnTo>
                        <a:pt x="3305" y="682"/>
                      </a:lnTo>
                      <a:lnTo>
                        <a:pt x="3305" y="682"/>
                      </a:lnTo>
                      <a:lnTo>
                        <a:pt x="3313" y="682"/>
                      </a:lnTo>
                      <a:lnTo>
                        <a:pt x="3321" y="692"/>
                      </a:lnTo>
                      <a:lnTo>
                        <a:pt x="3328" y="682"/>
                      </a:lnTo>
                      <a:lnTo>
                        <a:pt x="3344" y="682"/>
                      </a:lnTo>
                      <a:lnTo>
                        <a:pt x="3351" y="682"/>
                      </a:lnTo>
                      <a:lnTo>
                        <a:pt x="3359" y="682"/>
                      </a:lnTo>
                      <a:lnTo>
                        <a:pt x="3367" y="692"/>
                      </a:lnTo>
                      <a:lnTo>
                        <a:pt x="3375" y="682"/>
                      </a:lnTo>
                      <a:lnTo>
                        <a:pt x="3375" y="682"/>
                      </a:lnTo>
                      <a:lnTo>
                        <a:pt x="3382" y="692"/>
                      </a:lnTo>
                      <a:lnTo>
                        <a:pt x="3390" y="692"/>
                      </a:lnTo>
                      <a:lnTo>
                        <a:pt x="3398" y="692"/>
                      </a:lnTo>
                      <a:lnTo>
                        <a:pt x="3405" y="682"/>
                      </a:lnTo>
                      <a:lnTo>
                        <a:pt x="3413" y="682"/>
                      </a:lnTo>
                      <a:lnTo>
                        <a:pt x="3421" y="682"/>
                      </a:lnTo>
                      <a:lnTo>
                        <a:pt x="3436" y="682"/>
                      </a:lnTo>
                      <a:lnTo>
                        <a:pt x="3444" y="692"/>
                      </a:lnTo>
                      <a:lnTo>
                        <a:pt x="3452" y="692"/>
                      </a:lnTo>
                      <a:lnTo>
                        <a:pt x="3460" y="692"/>
                      </a:lnTo>
                      <a:lnTo>
                        <a:pt x="3467" y="692"/>
                      </a:lnTo>
                      <a:lnTo>
                        <a:pt x="3475" y="682"/>
                      </a:lnTo>
                      <a:lnTo>
                        <a:pt x="3483" y="682"/>
                      </a:lnTo>
                      <a:lnTo>
                        <a:pt x="3490" y="682"/>
                      </a:lnTo>
                      <a:lnTo>
                        <a:pt x="3498" y="682"/>
                      </a:lnTo>
                      <a:lnTo>
                        <a:pt x="3506" y="682"/>
                      </a:lnTo>
                      <a:lnTo>
                        <a:pt x="3514" y="682"/>
                      </a:lnTo>
                      <a:lnTo>
                        <a:pt x="3521" y="682"/>
                      </a:lnTo>
                      <a:lnTo>
                        <a:pt x="3529" y="682"/>
                      </a:lnTo>
                      <a:lnTo>
                        <a:pt x="3537" y="673"/>
                      </a:lnTo>
                      <a:lnTo>
                        <a:pt x="3544" y="673"/>
                      </a:lnTo>
                      <a:lnTo>
                        <a:pt x="3552" y="673"/>
                      </a:lnTo>
                      <a:lnTo>
                        <a:pt x="3560" y="673"/>
                      </a:lnTo>
                      <a:lnTo>
                        <a:pt x="3568" y="682"/>
                      </a:lnTo>
                      <a:lnTo>
                        <a:pt x="3575" y="682"/>
                      </a:lnTo>
                      <a:lnTo>
                        <a:pt x="3575" y="682"/>
                      </a:lnTo>
                      <a:lnTo>
                        <a:pt x="3583" y="682"/>
                      </a:lnTo>
                      <a:lnTo>
                        <a:pt x="3591" y="682"/>
                      </a:lnTo>
                      <a:lnTo>
                        <a:pt x="3599" y="682"/>
                      </a:lnTo>
                      <a:lnTo>
                        <a:pt x="3606" y="682"/>
                      </a:lnTo>
                      <a:lnTo>
                        <a:pt x="3614" y="682"/>
                      </a:lnTo>
                      <a:lnTo>
                        <a:pt x="3622" y="682"/>
                      </a:lnTo>
                      <a:lnTo>
                        <a:pt x="3637" y="682"/>
                      </a:lnTo>
                      <a:lnTo>
                        <a:pt x="3645" y="682"/>
                      </a:lnTo>
                      <a:lnTo>
                        <a:pt x="3653" y="682"/>
                      </a:lnTo>
                      <a:lnTo>
                        <a:pt x="3660" y="673"/>
                      </a:lnTo>
                      <a:lnTo>
                        <a:pt x="3668" y="663"/>
                      </a:lnTo>
                      <a:lnTo>
                        <a:pt x="3676" y="653"/>
                      </a:lnTo>
                      <a:lnTo>
                        <a:pt x="3676" y="653"/>
                      </a:lnTo>
                      <a:lnTo>
                        <a:pt x="3683" y="653"/>
                      </a:lnTo>
                      <a:lnTo>
                        <a:pt x="3691" y="663"/>
                      </a:lnTo>
                      <a:lnTo>
                        <a:pt x="3707" y="673"/>
                      </a:lnTo>
                      <a:lnTo>
                        <a:pt x="3714" y="673"/>
                      </a:lnTo>
                      <a:lnTo>
                        <a:pt x="3722" y="682"/>
                      </a:lnTo>
                      <a:lnTo>
                        <a:pt x="3730" y="682"/>
                      </a:lnTo>
                      <a:lnTo>
                        <a:pt x="3738" y="682"/>
                      </a:lnTo>
                      <a:lnTo>
                        <a:pt x="3738" y="682"/>
                      </a:lnTo>
                      <a:lnTo>
                        <a:pt x="3745" y="682"/>
                      </a:lnTo>
                      <a:lnTo>
                        <a:pt x="3761" y="682"/>
                      </a:lnTo>
                      <a:lnTo>
                        <a:pt x="3768" y="682"/>
                      </a:lnTo>
                      <a:lnTo>
                        <a:pt x="3776" y="673"/>
                      </a:lnTo>
                      <a:lnTo>
                        <a:pt x="3784" y="673"/>
                      </a:lnTo>
                      <a:lnTo>
                        <a:pt x="3784" y="673"/>
                      </a:lnTo>
                      <a:lnTo>
                        <a:pt x="3792" y="682"/>
                      </a:lnTo>
                      <a:lnTo>
                        <a:pt x="3807" y="682"/>
                      </a:lnTo>
                      <a:lnTo>
                        <a:pt x="3815" y="682"/>
                      </a:lnTo>
                      <a:lnTo>
                        <a:pt x="3822" y="682"/>
                      </a:lnTo>
                      <a:lnTo>
                        <a:pt x="3822" y="682"/>
                      </a:lnTo>
                      <a:lnTo>
                        <a:pt x="3830" y="682"/>
                      </a:lnTo>
                      <a:lnTo>
                        <a:pt x="3846" y="682"/>
                      </a:lnTo>
                      <a:lnTo>
                        <a:pt x="3853" y="68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22760" y="4329720"/>
                  <a:ext cx="905400" cy="97200"/>
                </a:xfrm>
                <a:custGeom>
                  <a:avLst/>
                  <a:gdLst/>
                  <a:ahLst/>
                  <a:rect l="l" t="t" r="r" b="b"/>
                  <a:pathLst>
                    <a:path w="819" h="126">
                      <a:moveTo>
                        <a:pt x="0" y="126"/>
                      </a:moveTo>
                      <a:lnTo>
                        <a:pt x="8" y="126"/>
                      </a:lnTo>
                      <a:lnTo>
                        <a:pt x="8" y="126"/>
                      </a:lnTo>
                      <a:lnTo>
                        <a:pt x="23" y="126"/>
                      </a:lnTo>
                      <a:lnTo>
                        <a:pt x="31" y="126"/>
                      </a:lnTo>
                      <a:lnTo>
                        <a:pt x="39" y="126"/>
                      </a:lnTo>
                      <a:lnTo>
                        <a:pt x="39" y="126"/>
                      </a:lnTo>
                      <a:lnTo>
                        <a:pt x="54" y="126"/>
                      </a:lnTo>
                      <a:lnTo>
                        <a:pt x="62" y="126"/>
                      </a:lnTo>
                      <a:lnTo>
                        <a:pt x="70" y="126"/>
                      </a:lnTo>
                      <a:lnTo>
                        <a:pt x="70" y="126"/>
                      </a:lnTo>
                      <a:lnTo>
                        <a:pt x="85" y="126"/>
                      </a:lnTo>
                      <a:lnTo>
                        <a:pt x="93" y="126"/>
                      </a:lnTo>
                      <a:lnTo>
                        <a:pt x="93" y="126"/>
                      </a:lnTo>
                      <a:lnTo>
                        <a:pt x="108" y="126"/>
                      </a:lnTo>
                      <a:lnTo>
                        <a:pt x="116" y="126"/>
                      </a:lnTo>
                      <a:lnTo>
                        <a:pt x="124" y="126"/>
                      </a:lnTo>
                      <a:lnTo>
                        <a:pt x="124" y="126"/>
                      </a:lnTo>
                      <a:lnTo>
                        <a:pt x="139" y="126"/>
                      </a:lnTo>
                      <a:lnTo>
                        <a:pt x="147" y="126"/>
                      </a:lnTo>
                      <a:lnTo>
                        <a:pt x="147" y="126"/>
                      </a:lnTo>
                      <a:lnTo>
                        <a:pt x="162" y="126"/>
                      </a:lnTo>
                      <a:lnTo>
                        <a:pt x="170" y="126"/>
                      </a:lnTo>
                      <a:lnTo>
                        <a:pt x="170" y="126"/>
                      </a:lnTo>
                      <a:lnTo>
                        <a:pt x="186" y="126"/>
                      </a:lnTo>
                      <a:lnTo>
                        <a:pt x="193" y="126"/>
                      </a:lnTo>
                      <a:lnTo>
                        <a:pt x="193" y="126"/>
                      </a:lnTo>
                      <a:lnTo>
                        <a:pt x="209" y="126"/>
                      </a:lnTo>
                      <a:lnTo>
                        <a:pt x="217" y="126"/>
                      </a:lnTo>
                      <a:lnTo>
                        <a:pt x="217" y="126"/>
                      </a:lnTo>
                      <a:lnTo>
                        <a:pt x="232" y="117"/>
                      </a:lnTo>
                      <a:lnTo>
                        <a:pt x="240" y="107"/>
                      </a:lnTo>
                      <a:lnTo>
                        <a:pt x="240" y="107"/>
                      </a:lnTo>
                      <a:lnTo>
                        <a:pt x="255" y="107"/>
                      </a:lnTo>
                      <a:lnTo>
                        <a:pt x="263" y="117"/>
                      </a:lnTo>
                      <a:lnTo>
                        <a:pt x="271" y="117"/>
                      </a:lnTo>
                      <a:lnTo>
                        <a:pt x="278" y="117"/>
                      </a:lnTo>
                      <a:lnTo>
                        <a:pt x="278" y="117"/>
                      </a:lnTo>
                      <a:lnTo>
                        <a:pt x="294" y="117"/>
                      </a:lnTo>
                      <a:lnTo>
                        <a:pt x="301" y="117"/>
                      </a:lnTo>
                      <a:lnTo>
                        <a:pt x="309" y="107"/>
                      </a:lnTo>
                      <a:lnTo>
                        <a:pt x="317" y="107"/>
                      </a:lnTo>
                      <a:lnTo>
                        <a:pt x="317" y="107"/>
                      </a:lnTo>
                      <a:lnTo>
                        <a:pt x="332" y="97"/>
                      </a:lnTo>
                      <a:lnTo>
                        <a:pt x="340" y="97"/>
                      </a:lnTo>
                      <a:lnTo>
                        <a:pt x="348" y="87"/>
                      </a:lnTo>
                      <a:lnTo>
                        <a:pt x="355" y="78"/>
                      </a:lnTo>
                      <a:lnTo>
                        <a:pt x="363" y="29"/>
                      </a:lnTo>
                      <a:lnTo>
                        <a:pt x="371" y="0"/>
                      </a:lnTo>
                      <a:lnTo>
                        <a:pt x="371" y="0"/>
                      </a:lnTo>
                      <a:lnTo>
                        <a:pt x="386" y="19"/>
                      </a:lnTo>
                      <a:lnTo>
                        <a:pt x="386" y="48"/>
                      </a:lnTo>
                      <a:lnTo>
                        <a:pt x="402" y="68"/>
                      </a:lnTo>
                      <a:lnTo>
                        <a:pt x="410" y="78"/>
                      </a:lnTo>
                      <a:lnTo>
                        <a:pt x="417" y="58"/>
                      </a:lnTo>
                      <a:lnTo>
                        <a:pt x="425" y="58"/>
                      </a:lnTo>
                      <a:lnTo>
                        <a:pt x="433" y="68"/>
                      </a:lnTo>
                      <a:lnTo>
                        <a:pt x="440" y="87"/>
                      </a:lnTo>
                      <a:lnTo>
                        <a:pt x="448" y="97"/>
                      </a:lnTo>
                      <a:lnTo>
                        <a:pt x="456" y="97"/>
                      </a:lnTo>
                      <a:lnTo>
                        <a:pt x="464" y="97"/>
                      </a:lnTo>
                      <a:lnTo>
                        <a:pt x="471" y="97"/>
                      </a:lnTo>
                      <a:lnTo>
                        <a:pt x="479" y="97"/>
                      </a:lnTo>
                      <a:lnTo>
                        <a:pt x="487" y="107"/>
                      </a:lnTo>
                      <a:lnTo>
                        <a:pt x="494" y="107"/>
                      </a:lnTo>
                      <a:lnTo>
                        <a:pt x="502" y="107"/>
                      </a:lnTo>
                      <a:lnTo>
                        <a:pt x="510" y="107"/>
                      </a:lnTo>
                      <a:lnTo>
                        <a:pt x="518" y="107"/>
                      </a:lnTo>
                      <a:lnTo>
                        <a:pt x="525" y="107"/>
                      </a:lnTo>
                      <a:lnTo>
                        <a:pt x="533" y="107"/>
                      </a:lnTo>
                      <a:lnTo>
                        <a:pt x="541" y="107"/>
                      </a:lnTo>
                      <a:lnTo>
                        <a:pt x="549" y="107"/>
                      </a:lnTo>
                      <a:lnTo>
                        <a:pt x="556" y="107"/>
                      </a:lnTo>
                      <a:lnTo>
                        <a:pt x="556" y="107"/>
                      </a:lnTo>
                      <a:lnTo>
                        <a:pt x="572" y="107"/>
                      </a:lnTo>
                      <a:lnTo>
                        <a:pt x="579" y="107"/>
                      </a:lnTo>
                      <a:lnTo>
                        <a:pt x="587" y="107"/>
                      </a:lnTo>
                      <a:lnTo>
                        <a:pt x="595" y="107"/>
                      </a:lnTo>
                      <a:lnTo>
                        <a:pt x="603" y="107"/>
                      </a:lnTo>
                      <a:lnTo>
                        <a:pt x="610" y="107"/>
                      </a:lnTo>
                      <a:lnTo>
                        <a:pt x="618" y="107"/>
                      </a:lnTo>
                      <a:lnTo>
                        <a:pt x="626" y="117"/>
                      </a:lnTo>
                      <a:lnTo>
                        <a:pt x="633" y="117"/>
                      </a:lnTo>
                      <a:lnTo>
                        <a:pt x="641" y="117"/>
                      </a:lnTo>
                      <a:lnTo>
                        <a:pt x="649" y="117"/>
                      </a:lnTo>
                      <a:lnTo>
                        <a:pt x="657" y="117"/>
                      </a:lnTo>
                      <a:lnTo>
                        <a:pt x="664" y="117"/>
                      </a:lnTo>
                      <a:lnTo>
                        <a:pt x="664" y="117"/>
                      </a:lnTo>
                      <a:lnTo>
                        <a:pt x="680" y="117"/>
                      </a:lnTo>
                      <a:lnTo>
                        <a:pt x="688" y="117"/>
                      </a:lnTo>
                      <a:lnTo>
                        <a:pt x="695" y="117"/>
                      </a:lnTo>
                      <a:lnTo>
                        <a:pt x="703" y="117"/>
                      </a:lnTo>
                      <a:lnTo>
                        <a:pt x="711" y="117"/>
                      </a:lnTo>
                      <a:lnTo>
                        <a:pt x="718" y="117"/>
                      </a:lnTo>
                      <a:lnTo>
                        <a:pt x="726" y="117"/>
                      </a:lnTo>
                      <a:lnTo>
                        <a:pt x="726" y="117"/>
                      </a:lnTo>
                      <a:lnTo>
                        <a:pt x="742" y="117"/>
                      </a:lnTo>
                      <a:lnTo>
                        <a:pt x="749" y="117"/>
                      </a:lnTo>
                      <a:lnTo>
                        <a:pt x="757" y="117"/>
                      </a:lnTo>
                      <a:lnTo>
                        <a:pt x="765" y="117"/>
                      </a:lnTo>
                      <a:lnTo>
                        <a:pt x="772" y="117"/>
                      </a:lnTo>
                      <a:lnTo>
                        <a:pt x="780" y="117"/>
                      </a:lnTo>
                      <a:lnTo>
                        <a:pt x="788" y="117"/>
                      </a:lnTo>
                      <a:lnTo>
                        <a:pt x="796" y="126"/>
                      </a:lnTo>
                      <a:lnTo>
                        <a:pt x="803" y="117"/>
                      </a:lnTo>
                      <a:lnTo>
                        <a:pt x="811" y="126"/>
                      </a:lnTo>
                      <a:lnTo>
                        <a:pt x="819" y="126"/>
                      </a:lnTo>
                      <a:lnTo>
                        <a:pt x="819" y="12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161080" y="516564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952640" y="51051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161080" y="499248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893960" y="4933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161080" y="481932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93960" y="47592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161080" y="464580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1893960" y="4587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161080" y="447264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2161080" y="4472640"/>
                  <a:ext cx="720" cy="72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V="1">
                  <a:off x="3450960" y="4472640"/>
                  <a:ext cx="720" cy="72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V="1">
                  <a:off x="4749480" y="4472640"/>
                  <a:ext cx="720" cy="72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V="1">
                  <a:off x="6039000" y="4472640"/>
                  <a:ext cx="720" cy="72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7328520" y="4472640"/>
                  <a:ext cx="1080" cy="722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161080" y="4472640"/>
                  <a:ext cx="5167440" cy="72288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161080" y="4600800"/>
                  <a:ext cx="4261680" cy="564480"/>
                </a:xfrm>
                <a:custGeom>
                  <a:avLst/>
                  <a:gdLst/>
                  <a:ahLst/>
                  <a:rect l="l" t="t" r="r" b="b"/>
                  <a:pathLst>
                    <a:path w="3853" h="731">
                      <a:moveTo>
                        <a:pt x="0" y="721"/>
                      </a:moveTo>
                      <a:lnTo>
                        <a:pt x="8" y="721"/>
                      </a:lnTo>
                      <a:lnTo>
                        <a:pt x="8" y="702"/>
                      </a:lnTo>
                      <a:lnTo>
                        <a:pt x="24" y="712"/>
                      </a:lnTo>
                      <a:lnTo>
                        <a:pt x="24" y="712"/>
                      </a:lnTo>
                      <a:lnTo>
                        <a:pt x="39" y="721"/>
                      </a:lnTo>
                      <a:lnTo>
                        <a:pt x="47" y="692"/>
                      </a:lnTo>
                      <a:lnTo>
                        <a:pt x="47" y="682"/>
                      </a:lnTo>
                      <a:lnTo>
                        <a:pt x="62" y="702"/>
                      </a:lnTo>
                      <a:lnTo>
                        <a:pt x="70" y="702"/>
                      </a:lnTo>
                      <a:lnTo>
                        <a:pt x="70" y="692"/>
                      </a:lnTo>
                      <a:lnTo>
                        <a:pt x="78" y="663"/>
                      </a:lnTo>
                      <a:lnTo>
                        <a:pt x="93" y="643"/>
                      </a:lnTo>
                      <a:lnTo>
                        <a:pt x="93" y="643"/>
                      </a:lnTo>
                      <a:lnTo>
                        <a:pt x="101" y="673"/>
                      </a:lnTo>
                      <a:lnTo>
                        <a:pt x="109" y="702"/>
                      </a:lnTo>
                      <a:lnTo>
                        <a:pt x="124" y="702"/>
                      </a:lnTo>
                      <a:lnTo>
                        <a:pt x="132" y="721"/>
                      </a:lnTo>
                      <a:lnTo>
                        <a:pt x="139" y="712"/>
                      </a:lnTo>
                      <a:lnTo>
                        <a:pt x="139" y="702"/>
                      </a:lnTo>
                      <a:lnTo>
                        <a:pt x="147" y="712"/>
                      </a:lnTo>
                      <a:lnTo>
                        <a:pt x="155" y="712"/>
                      </a:lnTo>
                      <a:lnTo>
                        <a:pt x="163" y="702"/>
                      </a:lnTo>
                      <a:lnTo>
                        <a:pt x="170" y="702"/>
                      </a:lnTo>
                      <a:lnTo>
                        <a:pt x="178" y="702"/>
                      </a:lnTo>
                      <a:lnTo>
                        <a:pt x="186" y="712"/>
                      </a:lnTo>
                      <a:lnTo>
                        <a:pt x="193" y="721"/>
                      </a:lnTo>
                      <a:lnTo>
                        <a:pt x="201" y="721"/>
                      </a:lnTo>
                      <a:lnTo>
                        <a:pt x="209" y="721"/>
                      </a:lnTo>
                      <a:lnTo>
                        <a:pt x="217" y="712"/>
                      </a:lnTo>
                      <a:lnTo>
                        <a:pt x="224" y="702"/>
                      </a:lnTo>
                      <a:lnTo>
                        <a:pt x="232" y="682"/>
                      </a:lnTo>
                      <a:lnTo>
                        <a:pt x="240" y="624"/>
                      </a:lnTo>
                      <a:lnTo>
                        <a:pt x="248" y="653"/>
                      </a:lnTo>
                      <a:lnTo>
                        <a:pt x="263" y="702"/>
                      </a:lnTo>
                      <a:lnTo>
                        <a:pt x="271" y="712"/>
                      </a:lnTo>
                      <a:lnTo>
                        <a:pt x="271" y="721"/>
                      </a:lnTo>
                      <a:lnTo>
                        <a:pt x="278" y="721"/>
                      </a:lnTo>
                      <a:lnTo>
                        <a:pt x="286" y="721"/>
                      </a:lnTo>
                      <a:lnTo>
                        <a:pt x="302" y="673"/>
                      </a:lnTo>
                      <a:lnTo>
                        <a:pt x="309" y="673"/>
                      </a:lnTo>
                      <a:lnTo>
                        <a:pt x="309" y="653"/>
                      </a:lnTo>
                      <a:lnTo>
                        <a:pt x="317" y="663"/>
                      </a:lnTo>
                      <a:lnTo>
                        <a:pt x="332" y="692"/>
                      </a:lnTo>
                      <a:lnTo>
                        <a:pt x="340" y="682"/>
                      </a:lnTo>
                      <a:lnTo>
                        <a:pt x="340" y="712"/>
                      </a:lnTo>
                      <a:lnTo>
                        <a:pt x="356" y="692"/>
                      </a:lnTo>
                      <a:lnTo>
                        <a:pt x="363" y="682"/>
                      </a:lnTo>
                      <a:lnTo>
                        <a:pt x="363" y="692"/>
                      </a:lnTo>
                      <a:lnTo>
                        <a:pt x="379" y="702"/>
                      </a:lnTo>
                      <a:lnTo>
                        <a:pt x="387" y="721"/>
                      </a:lnTo>
                      <a:lnTo>
                        <a:pt x="387" y="721"/>
                      </a:lnTo>
                      <a:lnTo>
                        <a:pt x="402" y="721"/>
                      </a:lnTo>
                      <a:lnTo>
                        <a:pt x="402" y="721"/>
                      </a:lnTo>
                      <a:lnTo>
                        <a:pt x="417" y="721"/>
                      </a:lnTo>
                      <a:lnTo>
                        <a:pt x="417" y="702"/>
                      </a:lnTo>
                      <a:lnTo>
                        <a:pt x="433" y="682"/>
                      </a:lnTo>
                      <a:lnTo>
                        <a:pt x="433" y="712"/>
                      </a:lnTo>
                      <a:lnTo>
                        <a:pt x="448" y="702"/>
                      </a:lnTo>
                      <a:lnTo>
                        <a:pt x="448" y="712"/>
                      </a:lnTo>
                      <a:lnTo>
                        <a:pt x="464" y="721"/>
                      </a:lnTo>
                      <a:lnTo>
                        <a:pt x="464" y="712"/>
                      </a:lnTo>
                      <a:lnTo>
                        <a:pt x="479" y="692"/>
                      </a:lnTo>
                      <a:lnTo>
                        <a:pt x="487" y="234"/>
                      </a:lnTo>
                      <a:lnTo>
                        <a:pt x="495" y="214"/>
                      </a:lnTo>
                      <a:lnTo>
                        <a:pt x="502" y="526"/>
                      </a:lnTo>
                      <a:lnTo>
                        <a:pt x="502" y="673"/>
                      </a:lnTo>
                      <a:lnTo>
                        <a:pt x="518" y="702"/>
                      </a:lnTo>
                      <a:lnTo>
                        <a:pt x="525" y="721"/>
                      </a:lnTo>
                      <a:lnTo>
                        <a:pt x="525" y="731"/>
                      </a:lnTo>
                      <a:lnTo>
                        <a:pt x="541" y="721"/>
                      </a:lnTo>
                      <a:lnTo>
                        <a:pt x="549" y="721"/>
                      </a:lnTo>
                      <a:lnTo>
                        <a:pt x="556" y="721"/>
                      </a:lnTo>
                      <a:lnTo>
                        <a:pt x="556" y="712"/>
                      </a:lnTo>
                      <a:lnTo>
                        <a:pt x="572" y="712"/>
                      </a:lnTo>
                      <a:lnTo>
                        <a:pt x="580" y="702"/>
                      </a:lnTo>
                      <a:lnTo>
                        <a:pt x="587" y="653"/>
                      </a:lnTo>
                      <a:lnTo>
                        <a:pt x="587" y="663"/>
                      </a:lnTo>
                      <a:lnTo>
                        <a:pt x="603" y="682"/>
                      </a:lnTo>
                      <a:lnTo>
                        <a:pt x="610" y="692"/>
                      </a:lnTo>
                      <a:lnTo>
                        <a:pt x="618" y="721"/>
                      </a:lnTo>
                      <a:lnTo>
                        <a:pt x="626" y="712"/>
                      </a:lnTo>
                      <a:lnTo>
                        <a:pt x="634" y="692"/>
                      </a:lnTo>
                      <a:lnTo>
                        <a:pt x="641" y="673"/>
                      </a:lnTo>
                      <a:lnTo>
                        <a:pt x="641" y="663"/>
                      </a:lnTo>
                      <a:lnTo>
                        <a:pt x="657" y="458"/>
                      </a:lnTo>
                      <a:lnTo>
                        <a:pt x="664" y="468"/>
                      </a:lnTo>
                      <a:lnTo>
                        <a:pt x="672" y="614"/>
                      </a:lnTo>
                      <a:lnTo>
                        <a:pt x="680" y="692"/>
                      </a:lnTo>
                      <a:lnTo>
                        <a:pt x="688" y="702"/>
                      </a:lnTo>
                      <a:lnTo>
                        <a:pt x="695" y="702"/>
                      </a:lnTo>
                      <a:lnTo>
                        <a:pt x="703" y="692"/>
                      </a:lnTo>
                      <a:lnTo>
                        <a:pt x="711" y="692"/>
                      </a:lnTo>
                      <a:lnTo>
                        <a:pt x="719" y="692"/>
                      </a:lnTo>
                      <a:lnTo>
                        <a:pt x="726" y="692"/>
                      </a:lnTo>
                      <a:lnTo>
                        <a:pt x="734" y="682"/>
                      </a:lnTo>
                      <a:lnTo>
                        <a:pt x="742" y="595"/>
                      </a:lnTo>
                      <a:lnTo>
                        <a:pt x="749" y="107"/>
                      </a:lnTo>
                      <a:lnTo>
                        <a:pt x="749" y="107"/>
                      </a:lnTo>
                      <a:lnTo>
                        <a:pt x="765" y="390"/>
                      </a:lnTo>
                      <a:lnTo>
                        <a:pt x="773" y="575"/>
                      </a:lnTo>
                      <a:lnTo>
                        <a:pt x="780" y="653"/>
                      </a:lnTo>
                      <a:lnTo>
                        <a:pt x="788" y="702"/>
                      </a:lnTo>
                      <a:lnTo>
                        <a:pt x="796" y="702"/>
                      </a:lnTo>
                      <a:lnTo>
                        <a:pt x="803" y="712"/>
                      </a:lnTo>
                      <a:lnTo>
                        <a:pt x="803" y="721"/>
                      </a:lnTo>
                      <a:lnTo>
                        <a:pt x="819" y="721"/>
                      </a:lnTo>
                      <a:lnTo>
                        <a:pt x="827" y="702"/>
                      </a:lnTo>
                      <a:lnTo>
                        <a:pt x="834" y="702"/>
                      </a:lnTo>
                      <a:lnTo>
                        <a:pt x="842" y="673"/>
                      </a:lnTo>
                      <a:lnTo>
                        <a:pt x="850" y="634"/>
                      </a:lnTo>
                      <a:lnTo>
                        <a:pt x="858" y="643"/>
                      </a:lnTo>
                      <a:lnTo>
                        <a:pt x="865" y="643"/>
                      </a:lnTo>
                      <a:lnTo>
                        <a:pt x="865" y="643"/>
                      </a:lnTo>
                      <a:lnTo>
                        <a:pt x="881" y="663"/>
                      </a:lnTo>
                      <a:lnTo>
                        <a:pt x="888" y="682"/>
                      </a:lnTo>
                      <a:lnTo>
                        <a:pt x="896" y="682"/>
                      </a:lnTo>
                      <a:lnTo>
                        <a:pt x="904" y="682"/>
                      </a:lnTo>
                      <a:lnTo>
                        <a:pt x="912" y="682"/>
                      </a:lnTo>
                      <a:lnTo>
                        <a:pt x="919" y="682"/>
                      </a:lnTo>
                      <a:lnTo>
                        <a:pt x="927" y="507"/>
                      </a:lnTo>
                      <a:lnTo>
                        <a:pt x="935" y="380"/>
                      </a:lnTo>
                      <a:lnTo>
                        <a:pt x="935" y="526"/>
                      </a:lnTo>
                      <a:lnTo>
                        <a:pt x="950" y="653"/>
                      </a:lnTo>
                      <a:lnTo>
                        <a:pt x="958" y="673"/>
                      </a:lnTo>
                      <a:lnTo>
                        <a:pt x="966" y="673"/>
                      </a:lnTo>
                      <a:lnTo>
                        <a:pt x="973" y="673"/>
                      </a:lnTo>
                      <a:lnTo>
                        <a:pt x="981" y="673"/>
                      </a:lnTo>
                      <a:lnTo>
                        <a:pt x="989" y="604"/>
                      </a:lnTo>
                      <a:lnTo>
                        <a:pt x="989" y="88"/>
                      </a:lnTo>
                      <a:lnTo>
                        <a:pt x="1004" y="88"/>
                      </a:lnTo>
                      <a:lnTo>
                        <a:pt x="1004" y="205"/>
                      </a:lnTo>
                      <a:lnTo>
                        <a:pt x="1020" y="253"/>
                      </a:lnTo>
                      <a:lnTo>
                        <a:pt x="1020" y="322"/>
                      </a:lnTo>
                      <a:lnTo>
                        <a:pt x="1035" y="390"/>
                      </a:lnTo>
                      <a:lnTo>
                        <a:pt x="1043" y="595"/>
                      </a:lnTo>
                      <a:lnTo>
                        <a:pt x="1051" y="653"/>
                      </a:lnTo>
                      <a:lnTo>
                        <a:pt x="1058" y="692"/>
                      </a:lnTo>
                      <a:lnTo>
                        <a:pt x="1058" y="682"/>
                      </a:lnTo>
                      <a:lnTo>
                        <a:pt x="1074" y="682"/>
                      </a:lnTo>
                      <a:lnTo>
                        <a:pt x="1074" y="692"/>
                      </a:lnTo>
                      <a:lnTo>
                        <a:pt x="1089" y="663"/>
                      </a:lnTo>
                      <a:lnTo>
                        <a:pt x="1097" y="614"/>
                      </a:lnTo>
                      <a:lnTo>
                        <a:pt x="1097" y="614"/>
                      </a:lnTo>
                      <a:lnTo>
                        <a:pt x="1112" y="614"/>
                      </a:lnTo>
                      <a:lnTo>
                        <a:pt x="1120" y="643"/>
                      </a:lnTo>
                      <a:lnTo>
                        <a:pt x="1120" y="653"/>
                      </a:lnTo>
                      <a:lnTo>
                        <a:pt x="1135" y="682"/>
                      </a:lnTo>
                      <a:lnTo>
                        <a:pt x="1143" y="692"/>
                      </a:lnTo>
                      <a:lnTo>
                        <a:pt x="1143" y="702"/>
                      </a:lnTo>
                      <a:lnTo>
                        <a:pt x="1159" y="702"/>
                      </a:lnTo>
                      <a:lnTo>
                        <a:pt x="1166" y="712"/>
                      </a:lnTo>
                      <a:lnTo>
                        <a:pt x="1174" y="712"/>
                      </a:lnTo>
                      <a:lnTo>
                        <a:pt x="1174" y="702"/>
                      </a:lnTo>
                      <a:lnTo>
                        <a:pt x="1190" y="702"/>
                      </a:lnTo>
                      <a:lnTo>
                        <a:pt x="1197" y="702"/>
                      </a:lnTo>
                      <a:lnTo>
                        <a:pt x="1205" y="702"/>
                      </a:lnTo>
                      <a:lnTo>
                        <a:pt x="1205" y="692"/>
                      </a:lnTo>
                      <a:lnTo>
                        <a:pt x="1213" y="653"/>
                      </a:lnTo>
                      <a:lnTo>
                        <a:pt x="1228" y="673"/>
                      </a:lnTo>
                      <a:lnTo>
                        <a:pt x="1236" y="682"/>
                      </a:lnTo>
                      <a:lnTo>
                        <a:pt x="1244" y="692"/>
                      </a:lnTo>
                      <a:lnTo>
                        <a:pt x="1244" y="692"/>
                      </a:lnTo>
                      <a:lnTo>
                        <a:pt x="1251" y="712"/>
                      </a:lnTo>
                      <a:lnTo>
                        <a:pt x="1259" y="712"/>
                      </a:lnTo>
                      <a:lnTo>
                        <a:pt x="1274" y="712"/>
                      </a:lnTo>
                      <a:lnTo>
                        <a:pt x="1282" y="721"/>
                      </a:lnTo>
                      <a:lnTo>
                        <a:pt x="1290" y="721"/>
                      </a:lnTo>
                      <a:lnTo>
                        <a:pt x="1298" y="721"/>
                      </a:lnTo>
                      <a:lnTo>
                        <a:pt x="1305" y="721"/>
                      </a:lnTo>
                      <a:lnTo>
                        <a:pt x="1313" y="712"/>
                      </a:lnTo>
                      <a:lnTo>
                        <a:pt x="1321" y="712"/>
                      </a:lnTo>
                      <a:lnTo>
                        <a:pt x="1321" y="721"/>
                      </a:lnTo>
                      <a:lnTo>
                        <a:pt x="1328" y="721"/>
                      </a:lnTo>
                      <a:lnTo>
                        <a:pt x="1336" y="721"/>
                      </a:lnTo>
                      <a:lnTo>
                        <a:pt x="1344" y="721"/>
                      </a:lnTo>
                      <a:lnTo>
                        <a:pt x="1352" y="721"/>
                      </a:lnTo>
                      <a:lnTo>
                        <a:pt x="1359" y="712"/>
                      </a:lnTo>
                      <a:lnTo>
                        <a:pt x="1367" y="712"/>
                      </a:lnTo>
                      <a:lnTo>
                        <a:pt x="1375" y="712"/>
                      </a:lnTo>
                      <a:lnTo>
                        <a:pt x="1383" y="712"/>
                      </a:lnTo>
                      <a:lnTo>
                        <a:pt x="1390" y="721"/>
                      </a:lnTo>
                      <a:lnTo>
                        <a:pt x="1398" y="721"/>
                      </a:lnTo>
                      <a:lnTo>
                        <a:pt x="1413" y="721"/>
                      </a:lnTo>
                      <a:lnTo>
                        <a:pt x="1421" y="721"/>
                      </a:lnTo>
                      <a:lnTo>
                        <a:pt x="1429" y="721"/>
                      </a:lnTo>
                      <a:lnTo>
                        <a:pt x="1437" y="721"/>
                      </a:lnTo>
                      <a:lnTo>
                        <a:pt x="1444" y="721"/>
                      </a:lnTo>
                      <a:lnTo>
                        <a:pt x="1452" y="721"/>
                      </a:lnTo>
                      <a:lnTo>
                        <a:pt x="1460" y="721"/>
                      </a:lnTo>
                      <a:lnTo>
                        <a:pt x="1460" y="721"/>
                      </a:lnTo>
                      <a:lnTo>
                        <a:pt x="1467" y="721"/>
                      </a:lnTo>
                      <a:lnTo>
                        <a:pt x="1475" y="712"/>
                      </a:lnTo>
                      <a:lnTo>
                        <a:pt x="1491" y="692"/>
                      </a:lnTo>
                      <a:lnTo>
                        <a:pt x="1498" y="682"/>
                      </a:lnTo>
                      <a:lnTo>
                        <a:pt x="1506" y="692"/>
                      </a:lnTo>
                      <a:lnTo>
                        <a:pt x="1506" y="702"/>
                      </a:lnTo>
                      <a:lnTo>
                        <a:pt x="1514" y="692"/>
                      </a:lnTo>
                      <a:lnTo>
                        <a:pt x="1529" y="692"/>
                      </a:lnTo>
                      <a:lnTo>
                        <a:pt x="1537" y="692"/>
                      </a:lnTo>
                      <a:lnTo>
                        <a:pt x="1545" y="702"/>
                      </a:lnTo>
                      <a:lnTo>
                        <a:pt x="1545" y="712"/>
                      </a:lnTo>
                      <a:lnTo>
                        <a:pt x="1552" y="721"/>
                      </a:lnTo>
                      <a:lnTo>
                        <a:pt x="1568" y="721"/>
                      </a:lnTo>
                      <a:lnTo>
                        <a:pt x="1576" y="731"/>
                      </a:lnTo>
                      <a:lnTo>
                        <a:pt x="1576" y="731"/>
                      </a:lnTo>
                      <a:lnTo>
                        <a:pt x="1591" y="721"/>
                      </a:lnTo>
                      <a:lnTo>
                        <a:pt x="1599" y="721"/>
                      </a:lnTo>
                      <a:lnTo>
                        <a:pt x="1606" y="712"/>
                      </a:lnTo>
                      <a:lnTo>
                        <a:pt x="1606" y="702"/>
                      </a:lnTo>
                      <a:lnTo>
                        <a:pt x="1622" y="702"/>
                      </a:lnTo>
                      <a:lnTo>
                        <a:pt x="1630" y="702"/>
                      </a:lnTo>
                      <a:lnTo>
                        <a:pt x="1630" y="663"/>
                      </a:lnTo>
                      <a:lnTo>
                        <a:pt x="1645" y="653"/>
                      </a:lnTo>
                      <a:lnTo>
                        <a:pt x="1653" y="575"/>
                      </a:lnTo>
                      <a:lnTo>
                        <a:pt x="1653" y="468"/>
                      </a:lnTo>
                      <a:lnTo>
                        <a:pt x="1668" y="487"/>
                      </a:lnTo>
                      <a:lnTo>
                        <a:pt x="1676" y="575"/>
                      </a:lnTo>
                      <a:lnTo>
                        <a:pt x="1684" y="526"/>
                      </a:lnTo>
                      <a:lnTo>
                        <a:pt x="1691" y="468"/>
                      </a:lnTo>
                      <a:lnTo>
                        <a:pt x="1691" y="497"/>
                      </a:lnTo>
                      <a:lnTo>
                        <a:pt x="1707" y="458"/>
                      </a:lnTo>
                      <a:lnTo>
                        <a:pt x="1715" y="88"/>
                      </a:lnTo>
                      <a:lnTo>
                        <a:pt x="1722" y="48"/>
                      </a:lnTo>
                      <a:lnTo>
                        <a:pt x="1730" y="185"/>
                      </a:lnTo>
                      <a:lnTo>
                        <a:pt x="1738" y="400"/>
                      </a:lnTo>
                      <a:lnTo>
                        <a:pt x="1745" y="409"/>
                      </a:lnTo>
                      <a:lnTo>
                        <a:pt x="1753" y="419"/>
                      </a:lnTo>
                      <a:lnTo>
                        <a:pt x="1761" y="429"/>
                      </a:lnTo>
                      <a:lnTo>
                        <a:pt x="1761" y="253"/>
                      </a:lnTo>
                      <a:lnTo>
                        <a:pt x="1776" y="107"/>
                      </a:lnTo>
                      <a:lnTo>
                        <a:pt x="1776" y="146"/>
                      </a:lnTo>
                      <a:lnTo>
                        <a:pt x="1792" y="312"/>
                      </a:lnTo>
                      <a:lnTo>
                        <a:pt x="1799" y="341"/>
                      </a:lnTo>
                      <a:lnTo>
                        <a:pt x="1807" y="341"/>
                      </a:lnTo>
                      <a:lnTo>
                        <a:pt x="1815" y="380"/>
                      </a:lnTo>
                      <a:lnTo>
                        <a:pt x="1823" y="273"/>
                      </a:lnTo>
                      <a:lnTo>
                        <a:pt x="1830" y="205"/>
                      </a:lnTo>
                      <a:lnTo>
                        <a:pt x="1838" y="224"/>
                      </a:lnTo>
                      <a:lnTo>
                        <a:pt x="1846" y="351"/>
                      </a:lnTo>
                      <a:lnTo>
                        <a:pt x="1854" y="468"/>
                      </a:lnTo>
                      <a:lnTo>
                        <a:pt x="1861" y="478"/>
                      </a:lnTo>
                      <a:lnTo>
                        <a:pt x="1869" y="478"/>
                      </a:lnTo>
                      <a:lnTo>
                        <a:pt x="1877" y="487"/>
                      </a:lnTo>
                      <a:lnTo>
                        <a:pt x="1884" y="536"/>
                      </a:lnTo>
                      <a:lnTo>
                        <a:pt x="1892" y="565"/>
                      </a:lnTo>
                      <a:lnTo>
                        <a:pt x="1900" y="546"/>
                      </a:lnTo>
                      <a:lnTo>
                        <a:pt x="1908" y="546"/>
                      </a:lnTo>
                      <a:lnTo>
                        <a:pt x="1915" y="478"/>
                      </a:lnTo>
                      <a:lnTo>
                        <a:pt x="1923" y="244"/>
                      </a:lnTo>
                      <a:lnTo>
                        <a:pt x="1931" y="224"/>
                      </a:lnTo>
                      <a:lnTo>
                        <a:pt x="1938" y="283"/>
                      </a:lnTo>
                      <a:lnTo>
                        <a:pt x="1946" y="351"/>
                      </a:lnTo>
                      <a:lnTo>
                        <a:pt x="1954" y="429"/>
                      </a:lnTo>
                      <a:lnTo>
                        <a:pt x="1962" y="497"/>
                      </a:lnTo>
                      <a:lnTo>
                        <a:pt x="1969" y="546"/>
                      </a:lnTo>
                      <a:lnTo>
                        <a:pt x="1977" y="585"/>
                      </a:lnTo>
                      <a:lnTo>
                        <a:pt x="1985" y="585"/>
                      </a:lnTo>
                      <a:lnTo>
                        <a:pt x="1993" y="575"/>
                      </a:lnTo>
                      <a:lnTo>
                        <a:pt x="2000" y="585"/>
                      </a:lnTo>
                      <a:lnTo>
                        <a:pt x="2008" y="565"/>
                      </a:lnTo>
                      <a:lnTo>
                        <a:pt x="2016" y="536"/>
                      </a:lnTo>
                      <a:lnTo>
                        <a:pt x="2023" y="487"/>
                      </a:lnTo>
                      <a:lnTo>
                        <a:pt x="2031" y="419"/>
                      </a:lnTo>
                      <a:lnTo>
                        <a:pt x="2039" y="390"/>
                      </a:lnTo>
                      <a:lnTo>
                        <a:pt x="2047" y="400"/>
                      </a:lnTo>
                      <a:lnTo>
                        <a:pt x="2054" y="175"/>
                      </a:lnTo>
                      <a:lnTo>
                        <a:pt x="2062" y="0"/>
                      </a:lnTo>
                      <a:lnTo>
                        <a:pt x="2070" y="9"/>
                      </a:lnTo>
                      <a:lnTo>
                        <a:pt x="2077" y="127"/>
                      </a:lnTo>
                      <a:lnTo>
                        <a:pt x="2085" y="263"/>
                      </a:lnTo>
                      <a:lnTo>
                        <a:pt x="2093" y="419"/>
                      </a:lnTo>
                      <a:lnTo>
                        <a:pt x="2101" y="497"/>
                      </a:lnTo>
                      <a:lnTo>
                        <a:pt x="2108" y="546"/>
                      </a:lnTo>
                      <a:lnTo>
                        <a:pt x="2116" y="565"/>
                      </a:lnTo>
                      <a:lnTo>
                        <a:pt x="2124" y="565"/>
                      </a:lnTo>
                      <a:lnTo>
                        <a:pt x="2131" y="468"/>
                      </a:lnTo>
                      <a:lnTo>
                        <a:pt x="2139" y="458"/>
                      </a:lnTo>
                      <a:lnTo>
                        <a:pt x="2147" y="517"/>
                      </a:lnTo>
                      <a:lnTo>
                        <a:pt x="2155" y="507"/>
                      </a:lnTo>
                      <a:lnTo>
                        <a:pt x="2162" y="458"/>
                      </a:lnTo>
                      <a:lnTo>
                        <a:pt x="2170" y="458"/>
                      </a:lnTo>
                      <a:lnTo>
                        <a:pt x="2178" y="487"/>
                      </a:lnTo>
                      <a:lnTo>
                        <a:pt x="2186" y="517"/>
                      </a:lnTo>
                      <a:lnTo>
                        <a:pt x="2193" y="458"/>
                      </a:lnTo>
                      <a:lnTo>
                        <a:pt x="2201" y="439"/>
                      </a:lnTo>
                      <a:lnTo>
                        <a:pt x="2209" y="468"/>
                      </a:lnTo>
                      <a:lnTo>
                        <a:pt x="2216" y="536"/>
                      </a:lnTo>
                      <a:lnTo>
                        <a:pt x="2224" y="585"/>
                      </a:lnTo>
                      <a:lnTo>
                        <a:pt x="2232" y="614"/>
                      </a:lnTo>
                      <a:lnTo>
                        <a:pt x="2240" y="634"/>
                      </a:lnTo>
                      <a:lnTo>
                        <a:pt x="2247" y="653"/>
                      </a:lnTo>
                      <a:lnTo>
                        <a:pt x="2255" y="653"/>
                      </a:lnTo>
                      <a:lnTo>
                        <a:pt x="2263" y="653"/>
                      </a:lnTo>
                      <a:lnTo>
                        <a:pt x="2270" y="653"/>
                      </a:lnTo>
                      <a:lnTo>
                        <a:pt x="2278" y="663"/>
                      </a:lnTo>
                      <a:lnTo>
                        <a:pt x="2286" y="663"/>
                      </a:lnTo>
                      <a:lnTo>
                        <a:pt x="2294" y="643"/>
                      </a:lnTo>
                      <a:lnTo>
                        <a:pt x="2301" y="643"/>
                      </a:lnTo>
                      <a:lnTo>
                        <a:pt x="2309" y="643"/>
                      </a:lnTo>
                      <a:lnTo>
                        <a:pt x="2317" y="663"/>
                      </a:lnTo>
                      <a:lnTo>
                        <a:pt x="2325" y="673"/>
                      </a:lnTo>
                      <a:lnTo>
                        <a:pt x="2332" y="682"/>
                      </a:lnTo>
                      <a:lnTo>
                        <a:pt x="2340" y="692"/>
                      </a:lnTo>
                      <a:lnTo>
                        <a:pt x="2348" y="692"/>
                      </a:lnTo>
                      <a:lnTo>
                        <a:pt x="2355" y="682"/>
                      </a:lnTo>
                      <a:lnTo>
                        <a:pt x="2363" y="682"/>
                      </a:lnTo>
                      <a:lnTo>
                        <a:pt x="2371" y="692"/>
                      </a:lnTo>
                      <a:lnTo>
                        <a:pt x="2379" y="692"/>
                      </a:lnTo>
                      <a:lnTo>
                        <a:pt x="2386" y="692"/>
                      </a:lnTo>
                      <a:lnTo>
                        <a:pt x="2394" y="692"/>
                      </a:lnTo>
                      <a:lnTo>
                        <a:pt x="2402" y="682"/>
                      </a:lnTo>
                      <a:lnTo>
                        <a:pt x="2409" y="682"/>
                      </a:lnTo>
                      <a:lnTo>
                        <a:pt x="2417" y="682"/>
                      </a:lnTo>
                      <a:lnTo>
                        <a:pt x="2425" y="692"/>
                      </a:lnTo>
                      <a:lnTo>
                        <a:pt x="2433" y="692"/>
                      </a:lnTo>
                      <a:lnTo>
                        <a:pt x="2440" y="692"/>
                      </a:lnTo>
                      <a:lnTo>
                        <a:pt x="2448" y="692"/>
                      </a:lnTo>
                      <a:lnTo>
                        <a:pt x="2456" y="692"/>
                      </a:lnTo>
                      <a:lnTo>
                        <a:pt x="2464" y="692"/>
                      </a:lnTo>
                      <a:lnTo>
                        <a:pt x="2471" y="682"/>
                      </a:lnTo>
                      <a:lnTo>
                        <a:pt x="2479" y="673"/>
                      </a:lnTo>
                      <a:lnTo>
                        <a:pt x="2487" y="673"/>
                      </a:lnTo>
                      <a:lnTo>
                        <a:pt x="2494" y="673"/>
                      </a:lnTo>
                      <a:lnTo>
                        <a:pt x="2502" y="663"/>
                      </a:lnTo>
                      <a:lnTo>
                        <a:pt x="2510" y="653"/>
                      </a:lnTo>
                      <a:lnTo>
                        <a:pt x="2518" y="643"/>
                      </a:lnTo>
                      <a:lnTo>
                        <a:pt x="2525" y="624"/>
                      </a:lnTo>
                      <a:lnTo>
                        <a:pt x="2533" y="585"/>
                      </a:lnTo>
                      <a:lnTo>
                        <a:pt x="2541" y="546"/>
                      </a:lnTo>
                      <a:lnTo>
                        <a:pt x="2548" y="546"/>
                      </a:lnTo>
                      <a:lnTo>
                        <a:pt x="2556" y="546"/>
                      </a:lnTo>
                      <a:lnTo>
                        <a:pt x="2564" y="556"/>
                      </a:lnTo>
                      <a:lnTo>
                        <a:pt x="2572" y="575"/>
                      </a:lnTo>
                      <a:lnTo>
                        <a:pt x="2579" y="604"/>
                      </a:lnTo>
                      <a:lnTo>
                        <a:pt x="2587" y="634"/>
                      </a:lnTo>
                      <a:lnTo>
                        <a:pt x="2595" y="653"/>
                      </a:lnTo>
                      <a:lnTo>
                        <a:pt x="2602" y="682"/>
                      </a:lnTo>
                      <a:lnTo>
                        <a:pt x="2610" y="692"/>
                      </a:lnTo>
                      <a:lnTo>
                        <a:pt x="2618" y="692"/>
                      </a:lnTo>
                      <a:lnTo>
                        <a:pt x="2626" y="682"/>
                      </a:lnTo>
                      <a:lnTo>
                        <a:pt x="2633" y="673"/>
                      </a:lnTo>
                      <a:lnTo>
                        <a:pt x="2641" y="673"/>
                      </a:lnTo>
                      <a:lnTo>
                        <a:pt x="2649" y="682"/>
                      </a:lnTo>
                      <a:lnTo>
                        <a:pt x="2657" y="682"/>
                      </a:lnTo>
                      <a:lnTo>
                        <a:pt x="2664" y="682"/>
                      </a:lnTo>
                      <a:lnTo>
                        <a:pt x="2672" y="682"/>
                      </a:lnTo>
                      <a:lnTo>
                        <a:pt x="2680" y="692"/>
                      </a:lnTo>
                      <a:lnTo>
                        <a:pt x="2687" y="702"/>
                      </a:lnTo>
                      <a:lnTo>
                        <a:pt x="2695" y="712"/>
                      </a:lnTo>
                      <a:lnTo>
                        <a:pt x="2703" y="702"/>
                      </a:lnTo>
                      <a:lnTo>
                        <a:pt x="2711" y="692"/>
                      </a:lnTo>
                      <a:lnTo>
                        <a:pt x="2718" y="692"/>
                      </a:lnTo>
                      <a:lnTo>
                        <a:pt x="2726" y="692"/>
                      </a:lnTo>
                      <a:lnTo>
                        <a:pt x="2734" y="702"/>
                      </a:lnTo>
                      <a:lnTo>
                        <a:pt x="2741" y="712"/>
                      </a:lnTo>
                      <a:lnTo>
                        <a:pt x="2749" y="712"/>
                      </a:lnTo>
                      <a:lnTo>
                        <a:pt x="2757" y="712"/>
                      </a:lnTo>
                      <a:lnTo>
                        <a:pt x="2765" y="712"/>
                      </a:lnTo>
                      <a:lnTo>
                        <a:pt x="2772" y="712"/>
                      </a:lnTo>
                      <a:lnTo>
                        <a:pt x="2780" y="712"/>
                      </a:lnTo>
                      <a:lnTo>
                        <a:pt x="2788" y="712"/>
                      </a:lnTo>
                      <a:lnTo>
                        <a:pt x="2796" y="721"/>
                      </a:lnTo>
                      <a:lnTo>
                        <a:pt x="2803" y="721"/>
                      </a:lnTo>
                      <a:lnTo>
                        <a:pt x="2811" y="721"/>
                      </a:lnTo>
                      <a:lnTo>
                        <a:pt x="2819" y="712"/>
                      </a:lnTo>
                      <a:lnTo>
                        <a:pt x="2826" y="712"/>
                      </a:lnTo>
                      <a:lnTo>
                        <a:pt x="2834" y="692"/>
                      </a:lnTo>
                      <a:lnTo>
                        <a:pt x="2842" y="692"/>
                      </a:lnTo>
                      <a:lnTo>
                        <a:pt x="2850" y="702"/>
                      </a:lnTo>
                      <a:lnTo>
                        <a:pt x="2857" y="712"/>
                      </a:lnTo>
                      <a:lnTo>
                        <a:pt x="2865" y="712"/>
                      </a:lnTo>
                      <a:lnTo>
                        <a:pt x="2865" y="712"/>
                      </a:lnTo>
                      <a:lnTo>
                        <a:pt x="2880" y="712"/>
                      </a:lnTo>
                      <a:lnTo>
                        <a:pt x="2888" y="712"/>
                      </a:lnTo>
                      <a:lnTo>
                        <a:pt x="2896" y="721"/>
                      </a:lnTo>
                      <a:lnTo>
                        <a:pt x="2904" y="721"/>
                      </a:lnTo>
                      <a:lnTo>
                        <a:pt x="2911" y="721"/>
                      </a:lnTo>
                      <a:lnTo>
                        <a:pt x="2919" y="731"/>
                      </a:lnTo>
                      <a:lnTo>
                        <a:pt x="2927" y="721"/>
                      </a:lnTo>
                      <a:lnTo>
                        <a:pt x="2935" y="712"/>
                      </a:lnTo>
                      <a:lnTo>
                        <a:pt x="2942" y="712"/>
                      </a:lnTo>
                      <a:lnTo>
                        <a:pt x="2950" y="721"/>
                      </a:lnTo>
                      <a:lnTo>
                        <a:pt x="2958" y="721"/>
                      </a:lnTo>
                      <a:lnTo>
                        <a:pt x="2965" y="721"/>
                      </a:lnTo>
                      <a:lnTo>
                        <a:pt x="2973" y="721"/>
                      </a:lnTo>
                      <a:lnTo>
                        <a:pt x="2981" y="721"/>
                      </a:lnTo>
                      <a:lnTo>
                        <a:pt x="2989" y="721"/>
                      </a:lnTo>
                      <a:lnTo>
                        <a:pt x="2996" y="721"/>
                      </a:lnTo>
                      <a:lnTo>
                        <a:pt x="2996" y="721"/>
                      </a:lnTo>
                      <a:lnTo>
                        <a:pt x="3012" y="731"/>
                      </a:lnTo>
                      <a:lnTo>
                        <a:pt x="3019" y="731"/>
                      </a:lnTo>
                      <a:lnTo>
                        <a:pt x="3027" y="731"/>
                      </a:lnTo>
                      <a:lnTo>
                        <a:pt x="3035" y="721"/>
                      </a:lnTo>
                      <a:lnTo>
                        <a:pt x="3043" y="721"/>
                      </a:lnTo>
                      <a:lnTo>
                        <a:pt x="3050" y="721"/>
                      </a:lnTo>
                      <a:lnTo>
                        <a:pt x="3058" y="721"/>
                      </a:lnTo>
                      <a:lnTo>
                        <a:pt x="3066" y="721"/>
                      </a:lnTo>
                      <a:lnTo>
                        <a:pt x="3073" y="721"/>
                      </a:lnTo>
                      <a:lnTo>
                        <a:pt x="3081" y="731"/>
                      </a:lnTo>
                      <a:lnTo>
                        <a:pt x="3089" y="731"/>
                      </a:lnTo>
                      <a:lnTo>
                        <a:pt x="3089" y="731"/>
                      </a:lnTo>
                      <a:lnTo>
                        <a:pt x="3104" y="721"/>
                      </a:lnTo>
                      <a:lnTo>
                        <a:pt x="3112" y="721"/>
                      </a:lnTo>
                      <a:lnTo>
                        <a:pt x="3120" y="721"/>
                      </a:lnTo>
                      <a:lnTo>
                        <a:pt x="3128" y="721"/>
                      </a:lnTo>
                      <a:lnTo>
                        <a:pt x="3135" y="721"/>
                      </a:lnTo>
                      <a:lnTo>
                        <a:pt x="3143" y="721"/>
                      </a:lnTo>
                      <a:lnTo>
                        <a:pt x="3151" y="721"/>
                      </a:lnTo>
                      <a:lnTo>
                        <a:pt x="3158" y="721"/>
                      </a:lnTo>
                      <a:lnTo>
                        <a:pt x="3166" y="721"/>
                      </a:lnTo>
                      <a:lnTo>
                        <a:pt x="3174" y="721"/>
                      </a:lnTo>
                      <a:lnTo>
                        <a:pt x="3182" y="721"/>
                      </a:lnTo>
                      <a:lnTo>
                        <a:pt x="3189" y="721"/>
                      </a:lnTo>
                      <a:lnTo>
                        <a:pt x="3197" y="721"/>
                      </a:lnTo>
                      <a:lnTo>
                        <a:pt x="3205" y="721"/>
                      </a:lnTo>
                      <a:lnTo>
                        <a:pt x="3212" y="721"/>
                      </a:lnTo>
                      <a:lnTo>
                        <a:pt x="3220" y="721"/>
                      </a:lnTo>
                      <a:lnTo>
                        <a:pt x="3228" y="721"/>
                      </a:lnTo>
                      <a:lnTo>
                        <a:pt x="3236" y="721"/>
                      </a:lnTo>
                      <a:lnTo>
                        <a:pt x="3243" y="721"/>
                      </a:lnTo>
                      <a:lnTo>
                        <a:pt x="3251" y="721"/>
                      </a:lnTo>
                      <a:lnTo>
                        <a:pt x="3259" y="721"/>
                      </a:lnTo>
                      <a:lnTo>
                        <a:pt x="3259" y="721"/>
                      </a:lnTo>
                      <a:lnTo>
                        <a:pt x="3274" y="721"/>
                      </a:lnTo>
                      <a:lnTo>
                        <a:pt x="3282" y="721"/>
                      </a:lnTo>
                      <a:lnTo>
                        <a:pt x="3290" y="721"/>
                      </a:lnTo>
                      <a:lnTo>
                        <a:pt x="3297" y="721"/>
                      </a:lnTo>
                      <a:lnTo>
                        <a:pt x="3305" y="721"/>
                      </a:lnTo>
                      <a:lnTo>
                        <a:pt x="3305" y="721"/>
                      </a:lnTo>
                      <a:lnTo>
                        <a:pt x="3321" y="731"/>
                      </a:lnTo>
                      <a:lnTo>
                        <a:pt x="3328" y="721"/>
                      </a:lnTo>
                      <a:lnTo>
                        <a:pt x="3336" y="721"/>
                      </a:lnTo>
                      <a:lnTo>
                        <a:pt x="3344" y="721"/>
                      </a:lnTo>
                      <a:lnTo>
                        <a:pt x="3351" y="721"/>
                      </a:lnTo>
                      <a:lnTo>
                        <a:pt x="3359" y="721"/>
                      </a:lnTo>
                      <a:lnTo>
                        <a:pt x="3367" y="721"/>
                      </a:lnTo>
                      <a:lnTo>
                        <a:pt x="3375" y="721"/>
                      </a:lnTo>
                      <a:lnTo>
                        <a:pt x="3375" y="731"/>
                      </a:lnTo>
                      <a:lnTo>
                        <a:pt x="3382" y="721"/>
                      </a:lnTo>
                      <a:lnTo>
                        <a:pt x="3398" y="721"/>
                      </a:lnTo>
                      <a:lnTo>
                        <a:pt x="3405" y="731"/>
                      </a:lnTo>
                      <a:lnTo>
                        <a:pt x="3413" y="731"/>
                      </a:lnTo>
                      <a:lnTo>
                        <a:pt x="3421" y="721"/>
                      </a:lnTo>
                      <a:lnTo>
                        <a:pt x="3429" y="731"/>
                      </a:lnTo>
                      <a:lnTo>
                        <a:pt x="3436" y="731"/>
                      </a:lnTo>
                      <a:lnTo>
                        <a:pt x="3444" y="721"/>
                      </a:lnTo>
                      <a:lnTo>
                        <a:pt x="3452" y="721"/>
                      </a:lnTo>
                      <a:lnTo>
                        <a:pt x="3460" y="731"/>
                      </a:lnTo>
                      <a:lnTo>
                        <a:pt x="3467" y="721"/>
                      </a:lnTo>
                      <a:lnTo>
                        <a:pt x="3475" y="721"/>
                      </a:lnTo>
                      <a:lnTo>
                        <a:pt x="3483" y="721"/>
                      </a:lnTo>
                      <a:lnTo>
                        <a:pt x="3490" y="721"/>
                      </a:lnTo>
                      <a:lnTo>
                        <a:pt x="3498" y="721"/>
                      </a:lnTo>
                      <a:lnTo>
                        <a:pt x="3506" y="721"/>
                      </a:lnTo>
                      <a:lnTo>
                        <a:pt x="3514" y="721"/>
                      </a:lnTo>
                      <a:lnTo>
                        <a:pt x="3521" y="721"/>
                      </a:lnTo>
                      <a:lnTo>
                        <a:pt x="3529" y="721"/>
                      </a:lnTo>
                      <a:lnTo>
                        <a:pt x="3537" y="712"/>
                      </a:lnTo>
                      <a:lnTo>
                        <a:pt x="3544" y="712"/>
                      </a:lnTo>
                      <a:lnTo>
                        <a:pt x="3552" y="721"/>
                      </a:lnTo>
                      <a:lnTo>
                        <a:pt x="3560" y="721"/>
                      </a:lnTo>
                      <a:lnTo>
                        <a:pt x="3568" y="721"/>
                      </a:lnTo>
                      <a:lnTo>
                        <a:pt x="3575" y="721"/>
                      </a:lnTo>
                      <a:lnTo>
                        <a:pt x="3583" y="721"/>
                      </a:lnTo>
                      <a:lnTo>
                        <a:pt x="3591" y="721"/>
                      </a:lnTo>
                      <a:lnTo>
                        <a:pt x="3599" y="721"/>
                      </a:lnTo>
                      <a:lnTo>
                        <a:pt x="3606" y="721"/>
                      </a:lnTo>
                      <a:lnTo>
                        <a:pt x="3614" y="721"/>
                      </a:lnTo>
                      <a:lnTo>
                        <a:pt x="3622" y="721"/>
                      </a:lnTo>
                      <a:lnTo>
                        <a:pt x="3629" y="721"/>
                      </a:lnTo>
                      <a:lnTo>
                        <a:pt x="3629" y="721"/>
                      </a:lnTo>
                      <a:lnTo>
                        <a:pt x="3637" y="721"/>
                      </a:lnTo>
                      <a:lnTo>
                        <a:pt x="3653" y="721"/>
                      </a:lnTo>
                      <a:lnTo>
                        <a:pt x="3660" y="712"/>
                      </a:lnTo>
                      <a:lnTo>
                        <a:pt x="3668" y="712"/>
                      </a:lnTo>
                      <a:lnTo>
                        <a:pt x="3676" y="702"/>
                      </a:lnTo>
                      <a:lnTo>
                        <a:pt x="3683" y="712"/>
                      </a:lnTo>
                      <a:lnTo>
                        <a:pt x="3691" y="712"/>
                      </a:lnTo>
                      <a:lnTo>
                        <a:pt x="3699" y="712"/>
                      </a:lnTo>
                      <a:lnTo>
                        <a:pt x="3707" y="721"/>
                      </a:lnTo>
                      <a:lnTo>
                        <a:pt x="3707" y="721"/>
                      </a:lnTo>
                      <a:lnTo>
                        <a:pt x="3722" y="721"/>
                      </a:lnTo>
                      <a:lnTo>
                        <a:pt x="3730" y="721"/>
                      </a:lnTo>
                      <a:lnTo>
                        <a:pt x="3738" y="721"/>
                      </a:lnTo>
                      <a:lnTo>
                        <a:pt x="3745" y="721"/>
                      </a:lnTo>
                      <a:lnTo>
                        <a:pt x="3753" y="721"/>
                      </a:lnTo>
                      <a:lnTo>
                        <a:pt x="3761" y="721"/>
                      </a:lnTo>
                      <a:lnTo>
                        <a:pt x="3768" y="721"/>
                      </a:lnTo>
                      <a:lnTo>
                        <a:pt x="3776" y="721"/>
                      </a:lnTo>
                      <a:lnTo>
                        <a:pt x="3784" y="712"/>
                      </a:lnTo>
                      <a:lnTo>
                        <a:pt x="3792" y="712"/>
                      </a:lnTo>
                      <a:lnTo>
                        <a:pt x="3799" y="721"/>
                      </a:lnTo>
                      <a:lnTo>
                        <a:pt x="3807" y="721"/>
                      </a:lnTo>
                      <a:lnTo>
                        <a:pt x="3815" y="721"/>
                      </a:lnTo>
                      <a:lnTo>
                        <a:pt x="3822" y="721"/>
                      </a:lnTo>
                      <a:lnTo>
                        <a:pt x="3830" y="721"/>
                      </a:lnTo>
                      <a:lnTo>
                        <a:pt x="3838" y="721"/>
                      </a:lnTo>
                      <a:lnTo>
                        <a:pt x="3846" y="721"/>
                      </a:lnTo>
                      <a:lnTo>
                        <a:pt x="3853" y="72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422760" y="5045040"/>
                  <a:ext cx="905400" cy="120240"/>
                </a:xfrm>
                <a:custGeom>
                  <a:avLst/>
                  <a:gdLst/>
                  <a:ahLst/>
                  <a:rect l="l" t="t" r="r" b="b"/>
                  <a:pathLst>
                    <a:path w="819" h="156">
                      <a:moveTo>
                        <a:pt x="0" y="146"/>
                      </a:moveTo>
                      <a:lnTo>
                        <a:pt x="8" y="146"/>
                      </a:lnTo>
                      <a:lnTo>
                        <a:pt x="16" y="146"/>
                      </a:lnTo>
                      <a:lnTo>
                        <a:pt x="23" y="146"/>
                      </a:lnTo>
                      <a:lnTo>
                        <a:pt x="31" y="146"/>
                      </a:lnTo>
                      <a:lnTo>
                        <a:pt x="39" y="146"/>
                      </a:lnTo>
                      <a:lnTo>
                        <a:pt x="47" y="146"/>
                      </a:lnTo>
                      <a:lnTo>
                        <a:pt x="54" y="146"/>
                      </a:lnTo>
                      <a:lnTo>
                        <a:pt x="62" y="146"/>
                      </a:lnTo>
                      <a:lnTo>
                        <a:pt x="70" y="146"/>
                      </a:lnTo>
                      <a:lnTo>
                        <a:pt x="78" y="146"/>
                      </a:lnTo>
                      <a:lnTo>
                        <a:pt x="85" y="146"/>
                      </a:lnTo>
                      <a:lnTo>
                        <a:pt x="93" y="156"/>
                      </a:lnTo>
                      <a:lnTo>
                        <a:pt x="101" y="146"/>
                      </a:lnTo>
                      <a:lnTo>
                        <a:pt x="108" y="146"/>
                      </a:lnTo>
                      <a:lnTo>
                        <a:pt x="116" y="146"/>
                      </a:lnTo>
                      <a:lnTo>
                        <a:pt x="124" y="146"/>
                      </a:lnTo>
                      <a:lnTo>
                        <a:pt x="132" y="146"/>
                      </a:lnTo>
                      <a:lnTo>
                        <a:pt x="139" y="146"/>
                      </a:lnTo>
                      <a:lnTo>
                        <a:pt x="147" y="146"/>
                      </a:lnTo>
                      <a:lnTo>
                        <a:pt x="155" y="146"/>
                      </a:lnTo>
                      <a:lnTo>
                        <a:pt x="162" y="146"/>
                      </a:lnTo>
                      <a:lnTo>
                        <a:pt x="170" y="146"/>
                      </a:lnTo>
                      <a:lnTo>
                        <a:pt x="178" y="146"/>
                      </a:lnTo>
                      <a:lnTo>
                        <a:pt x="186" y="146"/>
                      </a:lnTo>
                      <a:lnTo>
                        <a:pt x="193" y="146"/>
                      </a:lnTo>
                      <a:lnTo>
                        <a:pt x="201" y="146"/>
                      </a:lnTo>
                      <a:lnTo>
                        <a:pt x="209" y="137"/>
                      </a:lnTo>
                      <a:lnTo>
                        <a:pt x="217" y="127"/>
                      </a:lnTo>
                      <a:lnTo>
                        <a:pt x="224" y="117"/>
                      </a:lnTo>
                      <a:lnTo>
                        <a:pt x="232" y="107"/>
                      </a:lnTo>
                      <a:lnTo>
                        <a:pt x="240" y="98"/>
                      </a:lnTo>
                      <a:lnTo>
                        <a:pt x="247" y="107"/>
                      </a:lnTo>
                      <a:lnTo>
                        <a:pt x="255" y="107"/>
                      </a:lnTo>
                      <a:lnTo>
                        <a:pt x="263" y="117"/>
                      </a:lnTo>
                      <a:lnTo>
                        <a:pt x="271" y="117"/>
                      </a:lnTo>
                      <a:lnTo>
                        <a:pt x="278" y="117"/>
                      </a:lnTo>
                      <a:lnTo>
                        <a:pt x="286" y="98"/>
                      </a:lnTo>
                      <a:lnTo>
                        <a:pt x="294" y="98"/>
                      </a:lnTo>
                      <a:lnTo>
                        <a:pt x="301" y="88"/>
                      </a:lnTo>
                      <a:lnTo>
                        <a:pt x="309" y="88"/>
                      </a:lnTo>
                      <a:lnTo>
                        <a:pt x="317" y="88"/>
                      </a:lnTo>
                      <a:lnTo>
                        <a:pt x="325" y="88"/>
                      </a:lnTo>
                      <a:lnTo>
                        <a:pt x="332" y="88"/>
                      </a:lnTo>
                      <a:lnTo>
                        <a:pt x="340" y="88"/>
                      </a:lnTo>
                      <a:lnTo>
                        <a:pt x="348" y="78"/>
                      </a:lnTo>
                      <a:lnTo>
                        <a:pt x="355" y="49"/>
                      </a:lnTo>
                      <a:lnTo>
                        <a:pt x="363" y="0"/>
                      </a:lnTo>
                      <a:lnTo>
                        <a:pt x="371" y="0"/>
                      </a:lnTo>
                      <a:lnTo>
                        <a:pt x="379" y="10"/>
                      </a:lnTo>
                      <a:lnTo>
                        <a:pt x="386" y="49"/>
                      </a:lnTo>
                      <a:lnTo>
                        <a:pt x="394" y="78"/>
                      </a:lnTo>
                      <a:lnTo>
                        <a:pt x="402" y="88"/>
                      </a:lnTo>
                      <a:lnTo>
                        <a:pt x="410" y="68"/>
                      </a:lnTo>
                      <a:lnTo>
                        <a:pt x="417" y="68"/>
                      </a:lnTo>
                      <a:lnTo>
                        <a:pt x="425" y="78"/>
                      </a:lnTo>
                      <a:lnTo>
                        <a:pt x="433" y="98"/>
                      </a:lnTo>
                      <a:lnTo>
                        <a:pt x="440" y="107"/>
                      </a:lnTo>
                      <a:lnTo>
                        <a:pt x="448" y="117"/>
                      </a:lnTo>
                      <a:lnTo>
                        <a:pt x="456" y="117"/>
                      </a:lnTo>
                      <a:lnTo>
                        <a:pt x="464" y="117"/>
                      </a:lnTo>
                      <a:lnTo>
                        <a:pt x="471" y="117"/>
                      </a:lnTo>
                      <a:lnTo>
                        <a:pt x="479" y="117"/>
                      </a:lnTo>
                      <a:lnTo>
                        <a:pt x="487" y="127"/>
                      </a:lnTo>
                      <a:lnTo>
                        <a:pt x="494" y="127"/>
                      </a:lnTo>
                      <a:lnTo>
                        <a:pt x="502" y="127"/>
                      </a:lnTo>
                      <a:lnTo>
                        <a:pt x="510" y="127"/>
                      </a:lnTo>
                      <a:lnTo>
                        <a:pt x="518" y="127"/>
                      </a:lnTo>
                      <a:lnTo>
                        <a:pt x="525" y="127"/>
                      </a:lnTo>
                      <a:lnTo>
                        <a:pt x="533" y="127"/>
                      </a:lnTo>
                      <a:lnTo>
                        <a:pt x="541" y="127"/>
                      </a:lnTo>
                      <a:lnTo>
                        <a:pt x="549" y="127"/>
                      </a:lnTo>
                      <a:lnTo>
                        <a:pt x="556" y="127"/>
                      </a:lnTo>
                      <a:lnTo>
                        <a:pt x="564" y="127"/>
                      </a:lnTo>
                      <a:lnTo>
                        <a:pt x="572" y="127"/>
                      </a:lnTo>
                      <a:lnTo>
                        <a:pt x="579" y="127"/>
                      </a:lnTo>
                      <a:lnTo>
                        <a:pt x="587" y="127"/>
                      </a:lnTo>
                      <a:lnTo>
                        <a:pt x="595" y="127"/>
                      </a:lnTo>
                      <a:lnTo>
                        <a:pt x="603" y="127"/>
                      </a:lnTo>
                      <a:lnTo>
                        <a:pt x="610" y="127"/>
                      </a:lnTo>
                      <a:lnTo>
                        <a:pt x="618" y="137"/>
                      </a:lnTo>
                      <a:lnTo>
                        <a:pt x="626" y="137"/>
                      </a:lnTo>
                      <a:lnTo>
                        <a:pt x="633" y="137"/>
                      </a:lnTo>
                      <a:lnTo>
                        <a:pt x="641" y="137"/>
                      </a:lnTo>
                      <a:lnTo>
                        <a:pt x="649" y="137"/>
                      </a:lnTo>
                      <a:lnTo>
                        <a:pt x="657" y="137"/>
                      </a:lnTo>
                      <a:lnTo>
                        <a:pt x="664" y="137"/>
                      </a:lnTo>
                      <a:lnTo>
                        <a:pt x="672" y="137"/>
                      </a:lnTo>
                      <a:lnTo>
                        <a:pt x="680" y="137"/>
                      </a:lnTo>
                      <a:lnTo>
                        <a:pt x="688" y="137"/>
                      </a:lnTo>
                      <a:lnTo>
                        <a:pt x="695" y="137"/>
                      </a:lnTo>
                      <a:lnTo>
                        <a:pt x="703" y="137"/>
                      </a:lnTo>
                      <a:lnTo>
                        <a:pt x="711" y="137"/>
                      </a:lnTo>
                      <a:lnTo>
                        <a:pt x="718" y="137"/>
                      </a:lnTo>
                      <a:lnTo>
                        <a:pt x="726" y="137"/>
                      </a:lnTo>
                      <a:lnTo>
                        <a:pt x="734" y="146"/>
                      </a:lnTo>
                      <a:lnTo>
                        <a:pt x="742" y="146"/>
                      </a:lnTo>
                      <a:lnTo>
                        <a:pt x="749" y="146"/>
                      </a:lnTo>
                      <a:lnTo>
                        <a:pt x="757" y="146"/>
                      </a:lnTo>
                      <a:lnTo>
                        <a:pt x="765" y="146"/>
                      </a:lnTo>
                      <a:lnTo>
                        <a:pt x="772" y="146"/>
                      </a:lnTo>
                      <a:lnTo>
                        <a:pt x="780" y="146"/>
                      </a:lnTo>
                      <a:lnTo>
                        <a:pt x="788" y="146"/>
                      </a:lnTo>
                      <a:lnTo>
                        <a:pt x="796" y="146"/>
                      </a:lnTo>
                      <a:lnTo>
                        <a:pt x="803" y="146"/>
                      </a:lnTo>
                      <a:lnTo>
                        <a:pt x="811" y="146"/>
                      </a:lnTo>
                      <a:lnTo>
                        <a:pt x="819" y="146"/>
                      </a:lnTo>
                      <a:lnTo>
                        <a:pt x="819" y="14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161080" y="588888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952640" y="58291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161080" y="571572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893960" y="56548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161080" y="554256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93960" y="5484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161080" y="537660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893960" y="53146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5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161080" y="520344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2161080" y="520308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450960" y="520308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4749480" y="520308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6039000" y="520308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328520" y="5203080"/>
                  <a:ext cx="108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161080" y="5203440"/>
                  <a:ext cx="5167440" cy="715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161080" y="5293800"/>
                  <a:ext cx="4261680" cy="594720"/>
                </a:xfrm>
                <a:custGeom>
                  <a:avLst/>
                  <a:gdLst/>
                  <a:ahLst/>
                  <a:rect l="l" t="t" r="r" b="b"/>
                  <a:pathLst>
                    <a:path w="3853" h="770">
                      <a:moveTo>
                        <a:pt x="0" y="751"/>
                      </a:moveTo>
                      <a:lnTo>
                        <a:pt x="8" y="741"/>
                      </a:lnTo>
                      <a:lnTo>
                        <a:pt x="16" y="751"/>
                      </a:lnTo>
                      <a:lnTo>
                        <a:pt x="24" y="751"/>
                      </a:lnTo>
                      <a:lnTo>
                        <a:pt x="31" y="741"/>
                      </a:lnTo>
                      <a:lnTo>
                        <a:pt x="39" y="741"/>
                      </a:lnTo>
                      <a:lnTo>
                        <a:pt x="47" y="741"/>
                      </a:lnTo>
                      <a:lnTo>
                        <a:pt x="55" y="751"/>
                      </a:lnTo>
                      <a:lnTo>
                        <a:pt x="62" y="751"/>
                      </a:lnTo>
                      <a:lnTo>
                        <a:pt x="70" y="751"/>
                      </a:lnTo>
                      <a:lnTo>
                        <a:pt x="78" y="761"/>
                      </a:lnTo>
                      <a:lnTo>
                        <a:pt x="78" y="751"/>
                      </a:lnTo>
                      <a:lnTo>
                        <a:pt x="93" y="751"/>
                      </a:lnTo>
                      <a:lnTo>
                        <a:pt x="101" y="751"/>
                      </a:lnTo>
                      <a:lnTo>
                        <a:pt x="109" y="751"/>
                      </a:lnTo>
                      <a:lnTo>
                        <a:pt x="109" y="751"/>
                      </a:lnTo>
                      <a:lnTo>
                        <a:pt x="116" y="751"/>
                      </a:lnTo>
                      <a:lnTo>
                        <a:pt x="132" y="761"/>
                      </a:lnTo>
                      <a:lnTo>
                        <a:pt x="139" y="761"/>
                      </a:lnTo>
                      <a:lnTo>
                        <a:pt x="147" y="761"/>
                      </a:lnTo>
                      <a:lnTo>
                        <a:pt x="155" y="761"/>
                      </a:lnTo>
                      <a:lnTo>
                        <a:pt x="163" y="761"/>
                      </a:lnTo>
                      <a:lnTo>
                        <a:pt x="170" y="751"/>
                      </a:lnTo>
                      <a:lnTo>
                        <a:pt x="178" y="751"/>
                      </a:lnTo>
                      <a:lnTo>
                        <a:pt x="186" y="751"/>
                      </a:lnTo>
                      <a:lnTo>
                        <a:pt x="193" y="761"/>
                      </a:lnTo>
                      <a:lnTo>
                        <a:pt x="201" y="761"/>
                      </a:lnTo>
                      <a:lnTo>
                        <a:pt x="209" y="761"/>
                      </a:lnTo>
                      <a:lnTo>
                        <a:pt x="217" y="761"/>
                      </a:lnTo>
                      <a:lnTo>
                        <a:pt x="224" y="761"/>
                      </a:lnTo>
                      <a:lnTo>
                        <a:pt x="232" y="761"/>
                      </a:lnTo>
                      <a:lnTo>
                        <a:pt x="240" y="751"/>
                      </a:lnTo>
                      <a:lnTo>
                        <a:pt x="248" y="751"/>
                      </a:lnTo>
                      <a:lnTo>
                        <a:pt x="255" y="761"/>
                      </a:lnTo>
                      <a:lnTo>
                        <a:pt x="263" y="761"/>
                      </a:lnTo>
                      <a:lnTo>
                        <a:pt x="263" y="761"/>
                      </a:lnTo>
                      <a:lnTo>
                        <a:pt x="271" y="761"/>
                      </a:lnTo>
                      <a:lnTo>
                        <a:pt x="286" y="761"/>
                      </a:lnTo>
                      <a:lnTo>
                        <a:pt x="294" y="770"/>
                      </a:lnTo>
                      <a:lnTo>
                        <a:pt x="302" y="761"/>
                      </a:lnTo>
                      <a:lnTo>
                        <a:pt x="302" y="761"/>
                      </a:lnTo>
                      <a:lnTo>
                        <a:pt x="317" y="751"/>
                      </a:lnTo>
                      <a:lnTo>
                        <a:pt x="325" y="761"/>
                      </a:lnTo>
                      <a:lnTo>
                        <a:pt x="332" y="761"/>
                      </a:lnTo>
                      <a:lnTo>
                        <a:pt x="332" y="761"/>
                      </a:lnTo>
                      <a:lnTo>
                        <a:pt x="348" y="751"/>
                      </a:lnTo>
                      <a:lnTo>
                        <a:pt x="356" y="761"/>
                      </a:lnTo>
                      <a:lnTo>
                        <a:pt x="356" y="761"/>
                      </a:lnTo>
                      <a:lnTo>
                        <a:pt x="371" y="761"/>
                      </a:lnTo>
                      <a:lnTo>
                        <a:pt x="379" y="761"/>
                      </a:lnTo>
                      <a:lnTo>
                        <a:pt x="387" y="761"/>
                      </a:lnTo>
                      <a:lnTo>
                        <a:pt x="394" y="761"/>
                      </a:lnTo>
                      <a:lnTo>
                        <a:pt x="394" y="761"/>
                      </a:lnTo>
                      <a:lnTo>
                        <a:pt x="410" y="751"/>
                      </a:lnTo>
                      <a:lnTo>
                        <a:pt x="417" y="761"/>
                      </a:lnTo>
                      <a:lnTo>
                        <a:pt x="425" y="761"/>
                      </a:lnTo>
                      <a:lnTo>
                        <a:pt x="433" y="761"/>
                      </a:lnTo>
                      <a:lnTo>
                        <a:pt x="441" y="761"/>
                      </a:lnTo>
                      <a:lnTo>
                        <a:pt x="448" y="761"/>
                      </a:lnTo>
                      <a:lnTo>
                        <a:pt x="456" y="761"/>
                      </a:lnTo>
                      <a:lnTo>
                        <a:pt x="464" y="761"/>
                      </a:lnTo>
                      <a:lnTo>
                        <a:pt x="471" y="761"/>
                      </a:lnTo>
                      <a:lnTo>
                        <a:pt x="479" y="770"/>
                      </a:lnTo>
                      <a:lnTo>
                        <a:pt x="487" y="761"/>
                      </a:lnTo>
                      <a:lnTo>
                        <a:pt x="495" y="761"/>
                      </a:lnTo>
                      <a:lnTo>
                        <a:pt x="502" y="761"/>
                      </a:lnTo>
                      <a:lnTo>
                        <a:pt x="510" y="761"/>
                      </a:lnTo>
                      <a:lnTo>
                        <a:pt x="518" y="761"/>
                      </a:lnTo>
                      <a:lnTo>
                        <a:pt x="525" y="761"/>
                      </a:lnTo>
                      <a:lnTo>
                        <a:pt x="533" y="751"/>
                      </a:lnTo>
                      <a:lnTo>
                        <a:pt x="541" y="751"/>
                      </a:lnTo>
                      <a:lnTo>
                        <a:pt x="549" y="761"/>
                      </a:lnTo>
                      <a:lnTo>
                        <a:pt x="556" y="761"/>
                      </a:lnTo>
                      <a:lnTo>
                        <a:pt x="564" y="761"/>
                      </a:lnTo>
                      <a:lnTo>
                        <a:pt x="572" y="761"/>
                      </a:lnTo>
                      <a:lnTo>
                        <a:pt x="580" y="761"/>
                      </a:lnTo>
                      <a:lnTo>
                        <a:pt x="587" y="761"/>
                      </a:lnTo>
                      <a:lnTo>
                        <a:pt x="595" y="761"/>
                      </a:lnTo>
                      <a:lnTo>
                        <a:pt x="603" y="761"/>
                      </a:lnTo>
                      <a:lnTo>
                        <a:pt x="610" y="761"/>
                      </a:lnTo>
                      <a:lnTo>
                        <a:pt x="618" y="761"/>
                      </a:lnTo>
                      <a:lnTo>
                        <a:pt x="626" y="761"/>
                      </a:lnTo>
                      <a:lnTo>
                        <a:pt x="634" y="751"/>
                      </a:lnTo>
                      <a:lnTo>
                        <a:pt x="641" y="751"/>
                      </a:lnTo>
                      <a:lnTo>
                        <a:pt x="649" y="712"/>
                      </a:lnTo>
                      <a:lnTo>
                        <a:pt x="657" y="663"/>
                      </a:lnTo>
                      <a:lnTo>
                        <a:pt x="664" y="673"/>
                      </a:lnTo>
                      <a:lnTo>
                        <a:pt x="672" y="731"/>
                      </a:lnTo>
                      <a:lnTo>
                        <a:pt x="680" y="741"/>
                      </a:lnTo>
                      <a:lnTo>
                        <a:pt x="688" y="751"/>
                      </a:lnTo>
                      <a:lnTo>
                        <a:pt x="695" y="751"/>
                      </a:lnTo>
                      <a:lnTo>
                        <a:pt x="703" y="751"/>
                      </a:lnTo>
                      <a:lnTo>
                        <a:pt x="711" y="751"/>
                      </a:lnTo>
                      <a:lnTo>
                        <a:pt x="719" y="751"/>
                      </a:lnTo>
                      <a:lnTo>
                        <a:pt x="726" y="741"/>
                      </a:lnTo>
                      <a:lnTo>
                        <a:pt x="734" y="722"/>
                      </a:lnTo>
                      <a:lnTo>
                        <a:pt x="742" y="624"/>
                      </a:lnTo>
                      <a:lnTo>
                        <a:pt x="749" y="448"/>
                      </a:lnTo>
                      <a:lnTo>
                        <a:pt x="757" y="478"/>
                      </a:lnTo>
                      <a:lnTo>
                        <a:pt x="765" y="653"/>
                      </a:lnTo>
                      <a:lnTo>
                        <a:pt x="773" y="692"/>
                      </a:lnTo>
                      <a:lnTo>
                        <a:pt x="780" y="722"/>
                      </a:lnTo>
                      <a:lnTo>
                        <a:pt x="788" y="731"/>
                      </a:lnTo>
                      <a:lnTo>
                        <a:pt x="796" y="741"/>
                      </a:lnTo>
                      <a:lnTo>
                        <a:pt x="803" y="741"/>
                      </a:lnTo>
                      <a:lnTo>
                        <a:pt x="811" y="751"/>
                      </a:lnTo>
                      <a:lnTo>
                        <a:pt x="819" y="722"/>
                      </a:lnTo>
                      <a:lnTo>
                        <a:pt x="827" y="702"/>
                      </a:lnTo>
                      <a:lnTo>
                        <a:pt x="834" y="722"/>
                      </a:lnTo>
                      <a:lnTo>
                        <a:pt x="842" y="722"/>
                      </a:lnTo>
                      <a:lnTo>
                        <a:pt x="850" y="722"/>
                      </a:lnTo>
                      <a:lnTo>
                        <a:pt x="858" y="722"/>
                      </a:lnTo>
                      <a:lnTo>
                        <a:pt x="865" y="702"/>
                      </a:lnTo>
                      <a:lnTo>
                        <a:pt x="873" y="702"/>
                      </a:lnTo>
                      <a:lnTo>
                        <a:pt x="881" y="731"/>
                      </a:lnTo>
                      <a:lnTo>
                        <a:pt x="888" y="741"/>
                      </a:lnTo>
                      <a:lnTo>
                        <a:pt x="896" y="722"/>
                      </a:lnTo>
                      <a:lnTo>
                        <a:pt x="904" y="712"/>
                      </a:lnTo>
                      <a:lnTo>
                        <a:pt x="912" y="712"/>
                      </a:lnTo>
                      <a:lnTo>
                        <a:pt x="919" y="731"/>
                      </a:lnTo>
                      <a:lnTo>
                        <a:pt x="927" y="731"/>
                      </a:lnTo>
                      <a:lnTo>
                        <a:pt x="935" y="741"/>
                      </a:lnTo>
                      <a:lnTo>
                        <a:pt x="942" y="741"/>
                      </a:lnTo>
                      <a:lnTo>
                        <a:pt x="942" y="741"/>
                      </a:lnTo>
                      <a:lnTo>
                        <a:pt x="958" y="751"/>
                      </a:lnTo>
                      <a:lnTo>
                        <a:pt x="966" y="751"/>
                      </a:lnTo>
                      <a:lnTo>
                        <a:pt x="973" y="751"/>
                      </a:lnTo>
                      <a:lnTo>
                        <a:pt x="981" y="751"/>
                      </a:lnTo>
                      <a:lnTo>
                        <a:pt x="989" y="751"/>
                      </a:lnTo>
                      <a:lnTo>
                        <a:pt x="996" y="751"/>
                      </a:lnTo>
                      <a:lnTo>
                        <a:pt x="1004" y="761"/>
                      </a:lnTo>
                      <a:lnTo>
                        <a:pt x="1012" y="761"/>
                      </a:lnTo>
                      <a:lnTo>
                        <a:pt x="1020" y="761"/>
                      </a:lnTo>
                      <a:lnTo>
                        <a:pt x="1027" y="761"/>
                      </a:lnTo>
                      <a:lnTo>
                        <a:pt x="1035" y="761"/>
                      </a:lnTo>
                      <a:lnTo>
                        <a:pt x="1043" y="761"/>
                      </a:lnTo>
                      <a:lnTo>
                        <a:pt x="1051" y="761"/>
                      </a:lnTo>
                      <a:lnTo>
                        <a:pt x="1051" y="761"/>
                      </a:lnTo>
                      <a:lnTo>
                        <a:pt x="1066" y="761"/>
                      </a:lnTo>
                      <a:lnTo>
                        <a:pt x="1074" y="761"/>
                      </a:lnTo>
                      <a:lnTo>
                        <a:pt x="1081" y="761"/>
                      </a:lnTo>
                      <a:lnTo>
                        <a:pt x="1089" y="761"/>
                      </a:lnTo>
                      <a:lnTo>
                        <a:pt x="1089" y="761"/>
                      </a:lnTo>
                      <a:lnTo>
                        <a:pt x="1105" y="761"/>
                      </a:lnTo>
                      <a:lnTo>
                        <a:pt x="1112" y="761"/>
                      </a:lnTo>
                      <a:lnTo>
                        <a:pt x="1112" y="761"/>
                      </a:lnTo>
                      <a:lnTo>
                        <a:pt x="1128" y="761"/>
                      </a:lnTo>
                      <a:lnTo>
                        <a:pt x="1135" y="761"/>
                      </a:lnTo>
                      <a:lnTo>
                        <a:pt x="1135" y="761"/>
                      </a:lnTo>
                      <a:lnTo>
                        <a:pt x="1151" y="761"/>
                      </a:lnTo>
                      <a:lnTo>
                        <a:pt x="1159" y="761"/>
                      </a:lnTo>
                      <a:lnTo>
                        <a:pt x="1166" y="761"/>
                      </a:lnTo>
                      <a:lnTo>
                        <a:pt x="1166" y="761"/>
                      </a:lnTo>
                      <a:lnTo>
                        <a:pt x="1182" y="751"/>
                      </a:lnTo>
                      <a:lnTo>
                        <a:pt x="1190" y="741"/>
                      </a:lnTo>
                      <a:lnTo>
                        <a:pt x="1197" y="751"/>
                      </a:lnTo>
                      <a:lnTo>
                        <a:pt x="1197" y="761"/>
                      </a:lnTo>
                      <a:lnTo>
                        <a:pt x="1213" y="761"/>
                      </a:lnTo>
                      <a:lnTo>
                        <a:pt x="1220" y="761"/>
                      </a:lnTo>
                      <a:lnTo>
                        <a:pt x="1228" y="751"/>
                      </a:lnTo>
                      <a:lnTo>
                        <a:pt x="1236" y="761"/>
                      </a:lnTo>
                      <a:lnTo>
                        <a:pt x="1236" y="751"/>
                      </a:lnTo>
                      <a:lnTo>
                        <a:pt x="1244" y="761"/>
                      </a:lnTo>
                      <a:lnTo>
                        <a:pt x="1259" y="761"/>
                      </a:lnTo>
                      <a:lnTo>
                        <a:pt x="1267" y="761"/>
                      </a:lnTo>
                      <a:lnTo>
                        <a:pt x="1274" y="761"/>
                      </a:lnTo>
                      <a:lnTo>
                        <a:pt x="1282" y="751"/>
                      </a:lnTo>
                      <a:lnTo>
                        <a:pt x="1290" y="761"/>
                      </a:lnTo>
                      <a:lnTo>
                        <a:pt x="1290" y="761"/>
                      </a:lnTo>
                      <a:lnTo>
                        <a:pt x="1298" y="761"/>
                      </a:lnTo>
                      <a:lnTo>
                        <a:pt x="1305" y="761"/>
                      </a:lnTo>
                      <a:lnTo>
                        <a:pt x="1313" y="761"/>
                      </a:lnTo>
                      <a:lnTo>
                        <a:pt x="1321" y="761"/>
                      </a:lnTo>
                      <a:lnTo>
                        <a:pt x="1328" y="761"/>
                      </a:lnTo>
                      <a:lnTo>
                        <a:pt x="1336" y="761"/>
                      </a:lnTo>
                      <a:lnTo>
                        <a:pt x="1344" y="761"/>
                      </a:lnTo>
                      <a:lnTo>
                        <a:pt x="1352" y="751"/>
                      </a:lnTo>
                      <a:lnTo>
                        <a:pt x="1359" y="751"/>
                      </a:lnTo>
                      <a:lnTo>
                        <a:pt x="1367" y="751"/>
                      </a:lnTo>
                      <a:lnTo>
                        <a:pt x="1375" y="761"/>
                      </a:lnTo>
                      <a:lnTo>
                        <a:pt x="1383" y="761"/>
                      </a:lnTo>
                      <a:lnTo>
                        <a:pt x="1390" y="751"/>
                      </a:lnTo>
                      <a:lnTo>
                        <a:pt x="1398" y="751"/>
                      </a:lnTo>
                      <a:lnTo>
                        <a:pt x="1406" y="751"/>
                      </a:lnTo>
                      <a:lnTo>
                        <a:pt x="1413" y="761"/>
                      </a:lnTo>
                      <a:lnTo>
                        <a:pt x="1421" y="761"/>
                      </a:lnTo>
                      <a:lnTo>
                        <a:pt x="1437" y="761"/>
                      </a:lnTo>
                      <a:lnTo>
                        <a:pt x="1444" y="761"/>
                      </a:lnTo>
                      <a:lnTo>
                        <a:pt x="1452" y="761"/>
                      </a:lnTo>
                      <a:lnTo>
                        <a:pt x="1460" y="751"/>
                      </a:lnTo>
                      <a:lnTo>
                        <a:pt x="1467" y="761"/>
                      </a:lnTo>
                      <a:lnTo>
                        <a:pt x="1467" y="761"/>
                      </a:lnTo>
                      <a:lnTo>
                        <a:pt x="1475" y="761"/>
                      </a:lnTo>
                      <a:lnTo>
                        <a:pt x="1483" y="751"/>
                      </a:lnTo>
                      <a:lnTo>
                        <a:pt x="1498" y="761"/>
                      </a:lnTo>
                      <a:lnTo>
                        <a:pt x="1506" y="761"/>
                      </a:lnTo>
                      <a:lnTo>
                        <a:pt x="1514" y="761"/>
                      </a:lnTo>
                      <a:lnTo>
                        <a:pt x="1514" y="761"/>
                      </a:lnTo>
                      <a:lnTo>
                        <a:pt x="1522" y="761"/>
                      </a:lnTo>
                      <a:lnTo>
                        <a:pt x="1537" y="761"/>
                      </a:lnTo>
                      <a:lnTo>
                        <a:pt x="1545" y="770"/>
                      </a:lnTo>
                      <a:lnTo>
                        <a:pt x="1552" y="761"/>
                      </a:lnTo>
                      <a:lnTo>
                        <a:pt x="1552" y="761"/>
                      </a:lnTo>
                      <a:lnTo>
                        <a:pt x="1568" y="761"/>
                      </a:lnTo>
                      <a:lnTo>
                        <a:pt x="1576" y="761"/>
                      </a:lnTo>
                      <a:lnTo>
                        <a:pt x="1583" y="761"/>
                      </a:lnTo>
                      <a:lnTo>
                        <a:pt x="1583" y="761"/>
                      </a:lnTo>
                      <a:lnTo>
                        <a:pt x="1599" y="761"/>
                      </a:lnTo>
                      <a:lnTo>
                        <a:pt x="1606" y="761"/>
                      </a:lnTo>
                      <a:lnTo>
                        <a:pt x="1606" y="770"/>
                      </a:lnTo>
                      <a:lnTo>
                        <a:pt x="1622" y="761"/>
                      </a:lnTo>
                      <a:lnTo>
                        <a:pt x="1630" y="761"/>
                      </a:lnTo>
                      <a:lnTo>
                        <a:pt x="1630" y="761"/>
                      </a:lnTo>
                      <a:lnTo>
                        <a:pt x="1645" y="751"/>
                      </a:lnTo>
                      <a:lnTo>
                        <a:pt x="1653" y="741"/>
                      </a:lnTo>
                      <a:lnTo>
                        <a:pt x="1653" y="731"/>
                      </a:lnTo>
                      <a:lnTo>
                        <a:pt x="1668" y="731"/>
                      </a:lnTo>
                      <a:lnTo>
                        <a:pt x="1676" y="731"/>
                      </a:lnTo>
                      <a:lnTo>
                        <a:pt x="1676" y="731"/>
                      </a:lnTo>
                      <a:lnTo>
                        <a:pt x="1691" y="731"/>
                      </a:lnTo>
                      <a:lnTo>
                        <a:pt x="1691" y="741"/>
                      </a:lnTo>
                      <a:lnTo>
                        <a:pt x="1707" y="702"/>
                      </a:lnTo>
                      <a:lnTo>
                        <a:pt x="1715" y="663"/>
                      </a:lnTo>
                      <a:lnTo>
                        <a:pt x="1722" y="663"/>
                      </a:lnTo>
                      <a:lnTo>
                        <a:pt x="1730" y="692"/>
                      </a:lnTo>
                      <a:lnTo>
                        <a:pt x="1730" y="692"/>
                      </a:lnTo>
                      <a:lnTo>
                        <a:pt x="1745" y="683"/>
                      </a:lnTo>
                      <a:lnTo>
                        <a:pt x="1745" y="673"/>
                      </a:lnTo>
                      <a:lnTo>
                        <a:pt x="1761" y="673"/>
                      </a:lnTo>
                      <a:lnTo>
                        <a:pt x="1761" y="624"/>
                      </a:lnTo>
                      <a:lnTo>
                        <a:pt x="1776" y="614"/>
                      </a:lnTo>
                      <a:lnTo>
                        <a:pt x="1776" y="595"/>
                      </a:lnTo>
                      <a:lnTo>
                        <a:pt x="1792" y="536"/>
                      </a:lnTo>
                      <a:lnTo>
                        <a:pt x="1792" y="468"/>
                      </a:lnTo>
                      <a:lnTo>
                        <a:pt x="1807" y="380"/>
                      </a:lnTo>
                      <a:lnTo>
                        <a:pt x="1807" y="244"/>
                      </a:lnTo>
                      <a:lnTo>
                        <a:pt x="1823" y="78"/>
                      </a:lnTo>
                      <a:lnTo>
                        <a:pt x="1830" y="0"/>
                      </a:lnTo>
                      <a:lnTo>
                        <a:pt x="1838" y="19"/>
                      </a:lnTo>
                      <a:lnTo>
                        <a:pt x="1846" y="175"/>
                      </a:lnTo>
                      <a:lnTo>
                        <a:pt x="1854" y="361"/>
                      </a:lnTo>
                      <a:lnTo>
                        <a:pt x="1861" y="409"/>
                      </a:lnTo>
                      <a:lnTo>
                        <a:pt x="1861" y="448"/>
                      </a:lnTo>
                      <a:lnTo>
                        <a:pt x="1877" y="536"/>
                      </a:lnTo>
                      <a:lnTo>
                        <a:pt x="1884" y="556"/>
                      </a:lnTo>
                      <a:lnTo>
                        <a:pt x="1892" y="507"/>
                      </a:lnTo>
                      <a:lnTo>
                        <a:pt x="1900" y="370"/>
                      </a:lnTo>
                      <a:lnTo>
                        <a:pt x="1908" y="341"/>
                      </a:lnTo>
                      <a:lnTo>
                        <a:pt x="1915" y="400"/>
                      </a:lnTo>
                      <a:lnTo>
                        <a:pt x="1923" y="351"/>
                      </a:lnTo>
                      <a:lnTo>
                        <a:pt x="1931" y="361"/>
                      </a:lnTo>
                      <a:lnTo>
                        <a:pt x="1938" y="448"/>
                      </a:lnTo>
                      <a:lnTo>
                        <a:pt x="1946" y="536"/>
                      </a:lnTo>
                      <a:lnTo>
                        <a:pt x="1954" y="595"/>
                      </a:lnTo>
                      <a:lnTo>
                        <a:pt x="1962" y="624"/>
                      </a:lnTo>
                      <a:lnTo>
                        <a:pt x="1969" y="653"/>
                      </a:lnTo>
                      <a:lnTo>
                        <a:pt x="1977" y="644"/>
                      </a:lnTo>
                      <a:lnTo>
                        <a:pt x="1977" y="644"/>
                      </a:lnTo>
                      <a:lnTo>
                        <a:pt x="1993" y="644"/>
                      </a:lnTo>
                      <a:lnTo>
                        <a:pt x="2000" y="634"/>
                      </a:lnTo>
                      <a:lnTo>
                        <a:pt x="2008" y="634"/>
                      </a:lnTo>
                      <a:lnTo>
                        <a:pt x="2008" y="644"/>
                      </a:lnTo>
                      <a:lnTo>
                        <a:pt x="2023" y="634"/>
                      </a:lnTo>
                      <a:lnTo>
                        <a:pt x="2031" y="624"/>
                      </a:lnTo>
                      <a:lnTo>
                        <a:pt x="2039" y="614"/>
                      </a:lnTo>
                      <a:lnTo>
                        <a:pt x="2047" y="595"/>
                      </a:lnTo>
                      <a:lnTo>
                        <a:pt x="2054" y="439"/>
                      </a:lnTo>
                      <a:lnTo>
                        <a:pt x="2062" y="419"/>
                      </a:lnTo>
                      <a:lnTo>
                        <a:pt x="2070" y="487"/>
                      </a:lnTo>
                      <a:lnTo>
                        <a:pt x="2077" y="556"/>
                      </a:lnTo>
                      <a:lnTo>
                        <a:pt x="2085" y="605"/>
                      </a:lnTo>
                      <a:lnTo>
                        <a:pt x="2093" y="644"/>
                      </a:lnTo>
                      <a:lnTo>
                        <a:pt x="2101" y="663"/>
                      </a:lnTo>
                      <a:lnTo>
                        <a:pt x="2108" y="673"/>
                      </a:lnTo>
                      <a:lnTo>
                        <a:pt x="2116" y="683"/>
                      </a:lnTo>
                      <a:lnTo>
                        <a:pt x="2124" y="683"/>
                      </a:lnTo>
                      <a:lnTo>
                        <a:pt x="2131" y="673"/>
                      </a:lnTo>
                      <a:lnTo>
                        <a:pt x="2139" y="663"/>
                      </a:lnTo>
                      <a:lnTo>
                        <a:pt x="2139" y="673"/>
                      </a:lnTo>
                      <a:lnTo>
                        <a:pt x="2155" y="653"/>
                      </a:lnTo>
                      <a:lnTo>
                        <a:pt x="2162" y="644"/>
                      </a:lnTo>
                      <a:lnTo>
                        <a:pt x="2170" y="653"/>
                      </a:lnTo>
                      <a:lnTo>
                        <a:pt x="2178" y="663"/>
                      </a:lnTo>
                      <a:lnTo>
                        <a:pt x="2186" y="644"/>
                      </a:lnTo>
                      <a:lnTo>
                        <a:pt x="2193" y="614"/>
                      </a:lnTo>
                      <a:lnTo>
                        <a:pt x="2201" y="624"/>
                      </a:lnTo>
                      <a:lnTo>
                        <a:pt x="2209" y="653"/>
                      </a:lnTo>
                      <a:lnTo>
                        <a:pt x="2216" y="673"/>
                      </a:lnTo>
                      <a:lnTo>
                        <a:pt x="2224" y="692"/>
                      </a:lnTo>
                      <a:lnTo>
                        <a:pt x="2232" y="702"/>
                      </a:lnTo>
                      <a:lnTo>
                        <a:pt x="2240" y="712"/>
                      </a:lnTo>
                      <a:lnTo>
                        <a:pt x="2247" y="712"/>
                      </a:lnTo>
                      <a:lnTo>
                        <a:pt x="2255" y="712"/>
                      </a:lnTo>
                      <a:lnTo>
                        <a:pt x="2263" y="712"/>
                      </a:lnTo>
                      <a:lnTo>
                        <a:pt x="2270" y="712"/>
                      </a:lnTo>
                      <a:lnTo>
                        <a:pt x="2278" y="712"/>
                      </a:lnTo>
                      <a:lnTo>
                        <a:pt x="2286" y="712"/>
                      </a:lnTo>
                      <a:lnTo>
                        <a:pt x="2294" y="712"/>
                      </a:lnTo>
                      <a:lnTo>
                        <a:pt x="2301" y="712"/>
                      </a:lnTo>
                      <a:lnTo>
                        <a:pt x="2309" y="722"/>
                      </a:lnTo>
                      <a:lnTo>
                        <a:pt x="2317" y="731"/>
                      </a:lnTo>
                      <a:lnTo>
                        <a:pt x="2325" y="731"/>
                      </a:lnTo>
                      <a:lnTo>
                        <a:pt x="2332" y="731"/>
                      </a:lnTo>
                      <a:lnTo>
                        <a:pt x="2340" y="731"/>
                      </a:lnTo>
                      <a:lnTo>
                        <a:pt x="2348" y="741"/>
                      </a:lnTo>
                      <a:lnTo>
                        <a:pt x="2355" y="741"/>
                      </a:lnTo>
                      <a:lnTo>
                        <a:pt x="2363" y="741"/>
                      </a:lnTo>
                      <a:lnTo>
                        <a:pt x="2363" y="741"/>
                      </a:lnTo>
                      <a:lnTo>
                        <a:pt x="2379" y="741"/>
                      </a:lnTo>
                      <a:lnTo>
                        <a:pt x="2386" y="741"/>
                      </a:lnTo>
                      <a:lnTo>
                        <a:pt x="2394" y="741"/>
                      </a:lnTo>
                      <a:lnTo>
                        <a:pt x="2402" y="731"/>
                      </a:lnTo>
                      <a:lnTo>
                        <a:pt x="2409" y="741"/>
                      </a:lnTo>
                      <a:lnTo>
                        <a:pt x="2417" y="741"/>
                      </a:lnTo>
                      <a:lnTo>
                        <a:pt x="2425" y="741"/>
                      </a:lnTo>
                      <a:lnTo>
                        <a:pt x="2433" y="741"/>
                      </a:lnTo>
                      <a:lnTo>
                        <a:pt x="2440" y="741"/>
                      </a:lnTo>
                      <a:lnTo>
                        <a:pt x="2448" y="741"/>
                      </a:lnTo>
                      <a:lnTo>
                        <a:pt x="2456" y="751"/>
                      </a:lnTo>
                      <a:lnTo>
                        <a:pt x="2464" y="751"/>
                      </a:lnTo>
                      <a:lnTo>
                        <a:pt x="2464" y="751"/>
                      </a:lnTo>
                      <a:lnTo>
                        <a:pt x="2479" y="751"/>
                      </a:lnTo>
                      <a:lnTo>
                        <a:pt x="2487" y="751"/>
                      </a:lnTo>
                      <a:lnTo>
                        <a:pt x="2494" y="751"/>
                      </a:lnTo>
                      <a:lnTo>
                        <a:pt x="2502" y="751"/>
                      </a:lnTo>
                      <a:lnTo>
                        <a:pt x="2502" y="751"/>
                      </a:lnTo>
                      <a:lnTo>
                        <a:pt x="2518" y="761"/>
                      </a:lnTo>
                      <a:lnTo>
                        <a:pt x="2525" y="761"/>
                      </a:lnTo>
                      <a:lnTo>
                        <a:pt x="2533" y="751"/>
                      </a:lnTo>
                      <a:lnTo>
                        <a:pt x="2533" y="751"/>
                      </a:lnTo>
                      <a:lnTo>
                        <a:pt x="2548" y="761"/>
                      </a:lnTo>
                      <a:lnTo>
                        <a:pt x="2556" y="761"/>
                      </a:lnTo>
                      <a:lnTo>
                        <a:pt x="2564" y="761"/>
                      </a:lnTo>
                      <a:lnTo>
                        <a:pt x="2572" y="761"/>
                      </a:lnTo>
                      <a:lnTo>
                        <a:pt x="2579" y="761"/>
                      </a:lnTo>
                      <a:lnTo>
                        <a:pt x="2587" y="761"/>
                      </a:lnTo>
                      <a:lnTo>
                        <a:pt x="2587" y="761"/>
                      </a:lnTo>
                      <a:lnTo>
                        <a:pt x="2602" y="761"/>
                      </a:lnTo>
                      <a:lnTo>
                        <a:pt x="2610" y="761"/>
                      </a:lnTo>
                      <a:lnTo>
                        <a:pt x="2610" y="761"/>
                      </a:lnTo>
                      <a:lnTo>
                        <a:pt x="2626" y="761"/>
                      </a:lnTo>
                      <a:lnTo>
                        <a:pt x="2633" y="761"/>
                      </a:lnTo>
                      <a:lnTo>
                        <a:pt x="2633" y="761"/>
                      </a:lnTo>
                      <a:lnTo>
                        <a:pt x="2649" y="761"/>
                      </a:lnTo>
                      <a:lnTo>
                        <a:pt x="2657" y="761"/>
                      </a:lnTo>
                      <a:lnTo>
                        <a:pt x="2657" y="770"/>
                      </a:lnTo>
                      <a:lnTo>
                        <a:pt x="2672" y="761"/>
                      </a:lnTo>
                      <a:lnTo>
                        <a:pt x="2680" y="770"/>
                      </a:lnTo>
                      <a:lnTo>
                        <a:pt x="2687" y="761"/>
                      </a:lnTo>
                      <a:lnTo>
                        <a:pt x="2695" y="761"/>
                      </a:lnTo>
                      <a:lnTo>
                        <a:pt x="2695" y="761"/>
                      </a:lnTo>
                      <a:lnTo>
                        <a:pt x="2711" y="770"/>
                      </a:lnTo>
                      <a:lnTo>
                        <a:pt x="2718" y="761"/>
                      </a:lnTo>
                      <a:lnTo>
                        <a:pt x="2726" y="761"/>
                      </a:lnTo>
                      <a:lnTo>
                        <a:pt x="2734" y="761"/>
                      </a:lnTo>
                      <a:lnTo>
                        <a:pt x="2734" y="770"/>
                      </a:lnTo>
                      <a:lnTo>
                        <a:pt x="2749" y="761"/>
                      </a:lnTo>
                      <a:lnTo>
                        <a:pt x="2749" y="761"/>
                      </a:lnTo>
                      <a:lnTo>
                        <a:pt x="2765" y="761"/>
                      </a:lnTo>
                      <a:lnTo>
                        <a:pt x="2772" y="770"/>
                      </a:lnTo>
                      <a:lnTo>
                        <a:pt x="2780" y="761"/>
                      </a:lnTo>
                      <a:lnTo>
                        <a:pt x="2788" y="761"/>
                      </a:lnTo>
                      <a:lnTo>
                        <a:pt x="2796" y="761"/>
                      </a:lnTo>
                      <a:lnTo>
                        <a:pt x="2803" y="761"/>
                      </a:lnTo>
                      <a:lnTo>
                        <a:pt x="2811" y="770"/>
                      </a:lnTo>
                      <a:lnTo>
                        <a:pt x="2819" y="761"/>
                      </a:lnTo>
                      <a:lnTo>
                        <a:pt x="2826" y="761"/>
                      </a:lnTo>
                      <a:lnTo>
                        <a:pt x="2834" y="761"/>
                      </a:lnTo>
                      <a:lnTo>
                        <a:pt x="2842" y="761"/>
                      </a:lnTo>
                      <a:lnTo>
                        <a:pt x="2850" y="761"/>
                      </a:lnTo>
                      <a:lnTo>
                        <a:pt x="2857" y="761"/>
                      </a:lnTo>
                      <a:lnTo>
                        <a:pt x="2865" y="761"/>
                      </a:lnTo>
                      <a:lnTo>
                        <a:pt x="2873" y="761"/>
                      </a:lnTo>
                      <a:lnTo>
                        <a:pt x="2880" y="761"/>
                      </a:lnTo>
                      <a:lnTo>
                        <a:pt x="2888" y="761"/>
                      </a:lnTo>
                      <a:lnTo>
                        <a:pt x="2888" y="770"/>
                      </a:lnTo>
                      <a:lnTo>
                        <a:pt x="2904" y="770"/>
                      </a:lnTo>
                      <a:lnTo>
                        <a:pt x="2904" y="761"/>
                      </a:lnTo>
                      <a:lnTo>
                        <a:pt x="2919" y="761"/>
                      </a:lnTo>
                      <a:lnTo>
                        <a:pt x="2919" y="761"/>
                      </a:lnTo>
                      <a:lnTo>
                        <a:pt x="2935" y="761"/>
                      </a:lnTo>
                      <a:lnTo>
                        <a:pt x="2942" y="761"/>
                      </a:lnTo>
                      <a:lnTo>
                        <a:pt x="2942" y="761"/>
                      </a:lnTo>
                      <a:lnTo>
                        <a:pt x="2958" y="761"/>
                      </a:lnTo>
                      <a:lnTo>
                        <a:pt x="2958" y="770"/>
                      </a:lnTo>
                      <a:lnTo>
                        <a:pt x="2973" y="761"/>
                      </a:lnTo>
                      <a:lnTo>
                        <a:pt x="2981" y="761"/>
                      </a:lnTo>
                      <a:lnTo>
                        <a:pt x="2981" y="761"/>
                      </a:lnTo>
                      <a:lnTo>
                        <a:pt x="2996" y="761"/>
                      </a:lnTo>
                      <a:lnTo>
                        <a:pt x="3004" y="770"/>
                      </a:lnTo>
                      <a:lnTo>
                        <a:pt x="3004" y="761"/>
                      </a:lnTo>
                      <a:lnTo>
                        <a:pt x="3019" y="761"/>
                      </a:lnTo>
                      <a:lnTo>
                        <a:pt x="3027" y="761"/>
                      </a:lnTo>
                      <a:lnTo>
                        <a:pt x="3027" y="761"/>
                      </a:lnTo>
                      <a:lnTo>
                        <a:pt x="3043" y="761"/>
                      </a:lnTo>
                      <a:lnTo>
                        <a:pt x="3050" y="761"/>
                      </a:lnTo>
                      <a:lnTo>
                        <a:pt x="3050" y="761"/>
                      </a:lnTo>
                      <a:lnTo>
                        <a:pt x="3066" y="761"/>
                      </a:lnTo>
                      <a:lnTo>
                        <a:pt x="3073" y="770"/>
                      </a:lnTo>
                      <a:lnTo>
                        <a:pt x="3073" y="761"/>
                      </a:lnTo>
                      <a:lnTo>
                        <a:pt x="3089" y="761"/>
                      </a:lnTo>
                      <a:lnTo>
                        <a:pt x="3097" y="761"/>
                      </a:lnTo>
                      <a:lnTo>
                        <a:pt x="3097" y="761"/>
                      </a:lnTo>
                      <a:lnTo>
                        <a:pt x="3112" y="761"/>
                      </a:lnTo>
                      <a:lnTo>
                        <a:pt x="3120" y="761"/>
                      </a:lnTo>
                      <a:lnTo>
                        <a:pt x="3128" y="761"/>
                      </a:lnTo>
                      <a:lnTo>
                        <a:pt x="3128" y="761"/>
                      </a:lnTo>
                      <a:lnTo>
                        <a:pt x="3143" y="761"/>
                      </a:lnTo>
                      <a:lnTo>
                        <a:pt x="3151" y="761"/>
                      </a:lnTo>
                      <a:lnTo>
                        <a:pt x="3151" y="761"/>
                      </a:lnTo>
                      <a:lnTo>
                        <a:pt x="3158" y="761"/>
                      </a:lnTo>
                      <a:lnTo>
                        <a:pt x="3174" y="761"/>
                      </a:lnTo>
                      <a:lnTo>
                        <a:pt x="3182" y="761"/>
                      </a:lnTo>
                      <a:lnTo>
                        <a:pt x="3189" y="761"/>
                      </a:lnTo>
                      <a:lnTo>
                        <a:pt x="3189" y="761"/>
                      </a:lnTo>
                      <a:lnTo>
                        <a:pt x="3197" y="761"/>
                      </a:lnTo>
                      <a:lnTo>
                        <a:pt x="3212" y="761"/>
                      </a:lnTo>
                      <a:lnTo>
                        <a:pt x="3220" y="761"/>
                      </a:lnTo>
                      <a:lnTo>
                        <a:pt x="3220" y="761"/>
                      </a:lnTo>
                      <a:lnTo>
                        <a:pt x="3228" y="761"/>
                      </a:lnTo>
                      <a:lnTo>
                        <a:pt x="3236" y="761"/>
                      </a:lnTo>
                      <a:lnTo>
                        <a:pt x="3251" y="761"/>
                      </a:lnTo>
                      <a:lnTo>
                        <a:pt x="3259" y="761"/>
                      </a:lnTo>
                      <a:lnTo>
                        <a:pt x="3267" y="761"/>
                      </a:lnTo>
                      <a:lnTo>
                        <a:pt x="3267" y="761"/>
                      </a:lnTo>
                      <a:lnTo>
                        <a:pt x="3274" y="761"/>
                      </a:lnTo>
                      <a:lnTo>
                        <a:pt x="3282" y="761"/>
                      </a:lnTo>
                      <a:lnTo>
                        <a:pt x="3297" y="761"/>
                      </a:lnTo>
                      <a:lnTo>
                        <a:pt x="3305" y="761"/>
                      </a:lnTo>
                      <a:lnTo>
                        <a:pt x="3313" y="761"/>
                      </a:lnTo>
                      <a:lnTo>
                        <a:pt x="3321" y="761"/>
                      </a:lnTo>
                      <a:lnTo>
                        <a:pt x="3321" y="761"/>
                      </a:lnTo>
                      <a:lnTo>
                        <a:pt x="3328" y="761"/>
                      </a:lnTo>
                      <a:lnTo>
                        <a:pt x="3336" y="761"/>
                      </a:lnTo>
                      <a:lnTo>
                        <a:pt x="3344" y="761"/>
                      </a:lnTo>
                      <a:lnTo>
                        <a:pt x="3359" y="761"/>
                      </a:lnTo>
                      <a:lnTo>
                        <a:pt x="3367" y="761"/>
                      </a:lnTo>
                      <a:lnTo>
                        <a:pt x="3375" y="761"/>
                      </a:lnTo>
                      <a:lnTo>
                        <a:pt x="3382" y="761"/>
                      </a:lnTo>
                      <a:lnTo>
                        <a:pt x="3390" y="761"/>
                      </a:lnTo>
                      <a:lnTo>
                        <a:pt x="3398" y="761"/>
                      </a:lnTo>
                      <a:lnTo>
                        <a:pt x="3398" y="761"/>
                      </a:lnTo>
                      <a:lnTo>
                        <a:pt x="3405" y="761"/>
                      </a:lnTo>
                      <a:lnTo>
                        <a:pt x="3413" y="761"/>
                      </a:lnTo>
                      <a:lnTo>
                        <a:pt x="3421" y="761"/>
                      </a:lnTo>
                      <a:lnTo>
                        <a:pt x="3429" y="770"/>
                      </a:lnTo>
                      <a:lnTo>
                        <a:pt x="3436" y="761"/>
                      </a:lnTo>
                      <a:lnTo>
                        <a:pt x="3444" y="761"/>
                      </a:lnTo>
                      <a:lnTo>
                        <a:pt x="3452" y="761"/>
                      </a:lnTo>
                      <a:lnTo>
                        <a:pt x="3460" y="761"/>
                      </a:lnTo>
                      <a:lnTo>
                        <a:pt x="3467" y="761"/>
                      </a:lnTo>
                      <a:lnTo>
                        <a:pt x="3475" y="761"/>
                      </a:lnTo>
                      <a:lnTo>
                        <a:pt x="3483" y="761"/>
                      </a:lnTo>
                      <a:lnTo>
                        <a:pt x="3490" y="770"/>
                      </a:lnTo>
                      <a:lnTo>
                        <a:pt x="3498" y="770"/>
                      </a:lnTo>
                      <a:lnTo>
                        <a:pt x="3506" y="761"/>
                      </a:lnTo>
                      <a:lnTo>
                        <a:pt x="3514" y="761"/>
                      </a:lnTo>
                      <a:lnTo>
                        <a:pt x="3521" y="761"/>
                      </a:lnTo>
                      <a:lnTo>
                        <a:pt x="3529" y="761"/>
                      </a:lnTo>
                      <a:lnTo>
                        <a:pt x="3537" y="761"/>
                      </a:lnTo>
                      <a:lnTo>
                        <a:pt x="3544" y="761"/>
                      </a:lnTo>
                      <a:lnTo>
                        <a:pt x="3552" y="761"/>
                      </a:lnTo>
                      <a:lnTo>
                        <a:pt x="3560" y="761"/>
                      </a:lnTo>
                      <a:lnTo>
                        <a:pt x="3568" y="770"/>
                      </a:lnTo>
                      <a:lnTo>
                        <a:pt x="3575" y="770"/>
                      </a:lnTo>
                      <a:lnTo>
                        <a:pt x="3583" y="761"/>
                      </a:lnTo>
                      <a:lnTo>
                        <a:pt x="3591" y="761"/>
                      </a:lnTo>
                      <a:lnTo>
                        <a:pt x="3599" y="761"/>
                      </a:lnTo>
                      <a:lnTo>
                        <a:pt x="3606" y="761"/>
                      </a:lnTo>
                      <a:lnTo>
                        <a:pt x="3622" y="761"/>
                      </a:lnTo>
                      <a:lnTo>
                        <a:pt x="3629" y="761"/>
                      </a:lnTo>
                      <a:lnTo>
                        <a:pt x="3637" y="761"/>
                      </a:lnTo>
                      <a:lnTo>
                        <a:pt x="3645" y="761"/>
                      </a:lnTo>
                      <a:lnTo>
                        <a:pt x="3653" y="761"/>
                      </a:lnTo>
                      <a:lnTo>
                        <a:pt x="3660" y="761"/>
                      </a:lnTo>
                      <a:lnTo>
                        <a:pt x="3660" y="761"/>
                      </a:lnTo>
                      <a:lnTo>
                        <a:pt x="3668" y="761"/>
                      </a:lnTo>
                      <a:lnTo>
                        <a:pt x="3676" y="761"/>
                      </a:lnTo>
                      <a:lnTo>
                        <a:pt x="3683" y="761"/>
                      </a:lnTo>
                      <a:lnTo>
                        <a:pt x="3691" y="761"/>
                      </a:lnTo>
                      <a:lnTo>
                        <a:pt x="3707" y="761"/>
                      </a:lnTo>
                      <a:lnTo>
                        <a:pt x="3714" y="761"/>
                      </a:lnTo>
                      <a:lnTo>
                        <a:pt x="3722" y="761"/>
                      </a:lnTo>
                      <a:lnTo>
                        <a:pt x="3722" y="761"/>
                      </a:lnTo>
                      <a:lnTo>
                        <a:pt x="3730" y="761"/>
                      </a:lnTo>
                      <a:lnTo>
                        <a:pt x="3738" y="761"/>
                      </a:lnTo>
                      <a:lnTo>
                        <a:pt x="3745" y="761"/>
                      </a:lnTo>
                      <a:lnTo>
                        <a:pt x="3761" y="761"/>
                      </a:lnTo>
                      <a:lnTo>
                        <a:pt x="3768" y="761"/>
                      </a:lnTo>
                      <a:lnTo>
                        <a:pt x="3776" y="761"/>
                      </a:lnTo>
                      <a:lnTo>
                        <a:pt x="3776" y="761"/>
                      </a:lnTo>
                      <a:lnTo>
                        <a:pt x="3784" y="761"/>
                      </a:lnTo>
                      <a:lnTo>
                        <a:pt x="3799" y="761"/>
                      </a:lnTo>
                      <a:lnTo>
                        <a:pt x="3807" y="761"/>
                      </a:lnTo>
                      <a:lnTo>
                        <a:pt x="3815" y="761"/>
                      </a:lnTo>
                      <a:lnTo>
                        <a:pt x="3815" y="761"/>
                      </a:lnTo>
                      <a:lnTo>
                        <a:pt x="3822" y="770"/>
                      </a:lnTo>
                      <a:lnTo>
                        <a:pt x="3838" y="770"/>
                      </a:lnTo>
                      <a:lnTo>
                        <a:pt x="3846" y="770"/>
                      </a:lnTo>
                      <a:lnTo>
                        <a:pt x="3853" y="761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422760" y="5761440"/>
                  <a:ext cx="905400" cy="127440"/>
                </a:xfrm>
                <a:custGeom>
                  <a:avLst/>
                  <a:gdLst/>
                  <a:ahLst/>
                  <a:rect l="l" t="t" r="r" b="b"/>
                  <a:pathLst>
                    <a:path w="819" h="165">
                      <a:moveTo>
                        <a:pt x="0" y="156"/>
                      </a:moveTo>
                      <a:lnTo>
                        <a:pt x="0" y="156"/>
                      </a:lnTo>
                      <a:lnTo>
                        <a:pt x="8" y="156"/>
                      </a:lnTo>
                      <a:lnTo>
                        <a:pt x="23" y="156"/>
                      </a:lnTo>
                      <a:lnTo>
                        <a:pt x="31" y="156"/>
                      </a:lnTo>
                      <a:lnTo>
                        <a:pt x="31" y="165"/>
                      </a:lnTo>
                      <a:lnTo>
                        <a:pt x="39" y="156"/>
                      </a:lnTo>
                      <a:lnTo>
                        <a:pt x="54" y="156"/>
                      </a:lnTo>
                      <a:lnTo>
                        <a:pt x="62" y="156"/>
                      </a:lnTo>
                      <a:lnTo>
                        <a:pt x="62" y="156"/>
                      </a:lnTo>
                      <a:lnTo>
                        <a:pt x="70" y="165"/>
                      </a:lnTo>
                      <a:lnTo>
                        <a:pt x="85" y="156"/>
                      </a:lnTo>
                      <a:lnTo>
                        <a:pt x="93" y="156"/>
                      </a:lnTo>
                      <a:lnTo>
                        <a:pt x="93" y="156"/>
                      </a:lnTo>
                      <a:lnTo>
                        <a:pt x="108" y="156"/>
                      </a:lnTo>
                      <a:lnTo>
                        <a:pt x="116" y="156"/>
                      </a:lnTo>
                      <a:lnTo>
                        <a:pt x="116" y="156"/>
                      </a:lnTo>
                      <a:lnTo>
                        <a:pt x="124" y="156"/>
                      </a:lnTo>
                      <a:lnTo>
                        <a:pt x="139" y="156"/>
                      </a:lnTo>
                      <a:lnTo>
                        <a:pt x="147" y="156"/>
                      </a:lnTo>
                      <a:lnTo>
                        <a:pt x="147" y="156"/>
                      </a:lnTo>
                      <a:lnTo>
                        <a:pt x="162" y="156"/>
                      </a:lnTo>
                      <a:lnTo>
                        <a:pt x="170" y="156"/>
                      </a:lnTo>
                      <a:lnTo>
                        <a:pt x="170" y="146"/>
                      </a:lnTo>
                      <a:lnTo>
                        <a:pt x="186" y="146"/>
                      </a:lnTo>
                      <a:lnTo>
                        <a:pt x="193" y="146"/>
                      </a:lnTo>
                      <a:lnTo>
                        <a:pt x="193" y="126"/>
                      </a:lnTo>
                      <a:lnTo>
                        <a:pt x="209" y="107"/>
                      </a:lnTo>
                      <a:lnTo>
                        <a:pt x="217" y="78"/>
                      </a:lnTo>
                      <a:lnTo>
                        <a:pt x="217" y="19"/>
                      </a:lnTo>
                      <a:lnTo>
                        <a:pt x="232" y="0"/>
                      </a:lnTo>
                      <a:lnTo>
                        <a:pt x="240" y="9"/>
                      </a:lnTo>
                      <a:lnTo>
                        <a:pt x="240" y="48"/>
                      </a:lnTo>
                      <a:lnTo>
                        <a:pt x="255" y="78"/>
                      </a:lnTo>
                      <a:lnTo>
                        <a:pt x="255" y="87"/>
                      </a:lnTo>
                      <a:lnTo>
                        <a:pt x="271" y="87"/>
                      </a:lnTo>
                      <a:lnTo>
                        <a:pt x="278" y="68"/>
                      </a:lnTo>
                      <a:lnTo>
                        <a:pt x="278" y="48"/>
                      </a:lnTo>
                      <a:lnTo>
                        <a:pt x="294" y="39"/>
                      </a:lnTo>
                      <a:lnTo>
                        <a:pt x="294" y="29"/>
                      </a:lnTo>
                      <a:lnTo>
                        <a:pt x="309" y="29"/>
                      </a:lnTo>
                      <a:lnTo>
                        <a:pt x="317" y="39"/>
                      </a:lnTo>
                      <a:lnTo>
                        <a:pt x="317" y="48"/>
                      </a:lnTo>
                      <a:lnTo>
                        <a:pt x="332" y="68"/>
                      </a:lnTo>
                      <a:lnTo>
                        <a:pt x="332" y="78"/>
                      </a:lnTo>
                      <a:lnTo>
                        <a:pt x="348" y="87"/>
                      </a:lnTo>
                      <a:lnTo>
                        <a:pt x="355" y="87"/>
                      </a:lnTo>
                      <a:lnTo>
                        <a:pt x="355" y="78"/>
                      </a:lnTo>
                      <a:lnTo>
                        <a:pt x="371" y="78"/>
                      </a:lnTo>
                      <a:lnTo>
                        <a:pt x="371" y="78"/>
                      </a:lnTo>
                      <a:lnTo>
                        <a:pt x="386" y="78"/>
                      </a:lnTo>
                      <a:lnTo>
                        <a:pt x="386" y="87"/>
                      </a:lnTo>
                      <a:lnTo>
                        <a:pt x="402" y="87"/>
                      </a:lnTo>
                      <a:lnTo>
                        <a:pt x="402" y="97"/>
                      </a:lnTo>
                      <a:lnTo>
                        <a:pt x="417" y="97"/>
                      </a:lnTo>
                      <a:lnTo>
                        <a:pt x="425" y="107"/>
                      </a:lnTo>
                      <a:lnTo>
                        <a:pt x="433" y="117"/>
                      </a:lnTo>
                      <a:lnTo>
                        <a:pt x="440" y="117"/>
                      </a:lnTo>
                      <a:lnTo>
                        <a:pt x="448" y="117"/>
                      </a:lnTo>
                      <a:lnTo>
                        <a:pt x="456" y="117"/>
                      </a:lnTo>
                      <a:lnTo>
                        <a:pt x="456" y="126"/>
                      </a:lnTo>
                      <a:lnTo>
                        <a:pt x="471" y="126"/>
                      </a:lnTo>
                      <a:lnTo>
                        <a:pt x="471" y="126"/>
                      </a:lnTo>
                      <a:lnTo>
                        <a:pt x="487" y="126"/>
                      </a:lnTo>
                      <a:lnTo>
                        <a:pt x="487" y="126"/>
                      </a:lnTo>
                      <a:lnTo>
                        <a:pt x="502" y="136"/>
                      </a:lnTo>
                      <a:lnTo>
                        <a:pt x="510" y="136"/>
                      </a:lnTo>
                      <a:lnTo>
                        <a:pt x="518" y="136"/>
                      </a:lnTo>
                      <a:lnTo>
                        <a:pt x="525" y="136"/>
                      </a:lnTo>
                      <a:lnTo>
                        <a:pt x="533" y="136"/>
                      </a:lnTo>
                      <a:lnTo>
                        <a:pt x="541" y="136"/>
                      </a:lnTo>
                      <a:lnTo>
                        <a:pt x="541" y="136"/>
                      </a:lnTo>
                      <a:lnTo>
                        <a:pt x="556" y="136"/>
                      </a:lnTo>
                      <a:lnTo>
                        <a:pt x="556" y="146"/>
                      </a:lnTo>
                      <a:lnTo>
                        <a:pt x="572" y="146"/>
                      </a:lnTo>
                      <a:lnTo>
                        <a:pt x="572" y="146"/>
                      </a:lnTo>
                      <a:lnTo>
                        <a:pt x="587" y="146"/>
                      </a:lnTo>
                      <a:lnTo>
                        <a:pt x="587" y="146"/>
                      </a:lnTo>
                      <a:lnTo>
                        <a:pt x="603" y="146"/>
                      </a:lnTo>
                      <a:lnTo>
                        <a:pt x="610" y="146"/>
                      </a:lnTo>
                      <a:lnTo>
                        <a:pt x="610" y="146"/>
                      </a:lnTo>
                      <a:lnTo>
                        <a:pt x="626" y="146"/>
                      </a:lnTo>
                      <a:lnTo>
                        <a:pt x="626" y="146"/>
                      </a:lnTo>
                      <a:lnTo>
                        <a:pt x="641" y="146"/>
                      </a:lnTo>
                      <a:lnTo>
                        <a:pt x="649" y="146"/>
                      </a:lnTo>
                      <a:lnTo>
                        <a:pt x="657" y="146"/>
                      </a:lnTo>
                      <a:lnTo>
                        <a:pt x="664" y="156"/>
                      </a:lnTo>
                      <a:lnTo>
                        <a:pt x="664" y="156"/>
                      </a:lnTo>
                      <a:lnTo>
                        <a:pt x="680" y="146"/>
                      </a:lnTo>
                      <a:lnTo>
                        <a:pt x="688" y="156"/>
                      </a:lnTo>
                      <a:lnTo>
                        <a:pt x="695" y="156"/>
                      </a:lnTo>
                      <a:lnTo>
                        <a:pt x="703" y="156"/>
                      </a:lnTo>
                      <a:lnTo>
                        <a:pt x="703" y="156"/>
                      </a:lnTo>
                      <a:lnTo>
                        <a:pt x="718" y="156"/>
                      </a:lnTo>
                      <a:lnTo>
                        <a:pt x="726" y="156"/>
                      </a:lnTo>
                      <a:lnTo>
                        <a:pt x="726" y="156"/>
                      </a:lnTo>
                      <a:lnTo>
                        <a:pt x="742" y="156"/>
                      </a:lnTo>
                      <a:lnTo>
                        <a:pt x="749" y="156"/>
                      </a:lnTo>
                      <a:lnTo>
                        <a:pt x="749" y="156"/>
                      </a:lnTo>
                      <a:lnTo>
                        <a:pt x="765" y="156"/>
                      </a:lnTo>
                      <a:lnTo>
                        <a:pt x="772" y="156"/>
                      </a:lnTo>
                      <a:lnTo>
                        <a:pt x="780" y="156"/>
                      </a:lnTo>
                      <a:lnTo>
                        <a:pt x="788" y="156"/>
                      </a:lnTo>
                      <a:lnTo>
                        <a:pt x="796" y="156"/>
                      </a:lnTo>
                      <a:lnTo>
                        <a:pt x="803" y="156"/>
                      </a:lnTo>
                      <a:lnTo>
                        <a:pt x="811" y="156"/>
                      </a:lnTo>
                      <a:lnTo>
                        <a:pt x="819" y="156"/>
                      </a:lnTo>
                      <a:lnTo>
                        <a:pt x="819" y="156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161080" y="664200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952640" y="65865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161080" y="6461280"/>
                  <a:ext cx="5167440" cy="7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952640" y="639972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2161080" y="628848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952640" y="62298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161080" y="610740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952640" y="604800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2161080" y="5926680"/>
                  <a:ext cx="5167440" cy="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2161080" y="592632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3450960" y="592632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V="1">
                  <a:off x="4749480" y="592632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V="1">
                  <a:off x="6039000" y="5926320"/>
                  <a:ext cx="72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flipV="1">
                  <a:off x="7328520" y="5926320"/>
                  <a:ext cx="1080" cy="71532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161080" y="5926680"/>
                  <a:ext cx="5167440" cy="715320"/>
                </a:xfrm>
                <a:prstGeom prst="rect">
                  <a:avLst/>
                </a:pr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161080" y="6228000"/>
                  <a:ext cx="4253760" cy="437040"/>
                </a:xfrm>
                <a:custGeom>
                  <a:avLst/>
                  <a:gdLst/>
                  <a:ahLst/>
                  <a:rect l="l" t="t" r="r" b="b"/>
                  <a:pathLst>
                    <a:path w="3846" h="566">
                      <a:moveTo>
                        <a:pt x="0" y="419"/>
                      </a:moveTo>
                      <a:lnTo>
                        <a:pt x="0" y="390"/>
                      </a:lnTo>
                      <a:lnTo>
                        <a:pt x="8" y="390"/>
                      </a:lnTo>
                      <a:lnTo>
                        <a:pt x="24" y="458"/>
                      </a:lnTo>
                      <a:lnTo>
                        <a:pt x="24" y="273"/>
                      </a:lnTo>
                      <a:lnTo>
                        <a:pt x="39" y="195"/>
                      </a:lnTo>
                      <a:lnTo>
                        <a:pt x="39" y="273"/>
                      </a:lnTo>
                      <a:lnTo>
                        <a:pt x="47" y="429"/>
                      </a:lnTo>
                      <a:lnTo>
                        <a:pt x="62" y="390"/>
                      </a:lnTo>
                      <a:lnTo>
                        <a:pt x="62" y="439"/>
                      </a:lnTo>
                      <a:lnTo>
                        <a:pt x="70" y="429"/>
                      </a:lnTo>
                      <a:lnTo>
                        <a:pt x="78" y="449"/>
                      </a:lnTo>
                      <a:lnTo>
                        <a:pt x="93" y="458"/>
                      </a:lnTo>
                      <a:lnTo>
                        <a:pt x="93" y="507"/>
                      </a:lnTo>
                      <a:lnTo>
                        <a:pt x="101" y="429"/>
                      </a:lnTo>
                      <a:lnTo>
                        <a:pt x="109" y="488"/>
                      </a:lnTo>
                      <a:lnTo>
                        <a:pt x="116" y="371"/>
                      </a:lnTo>
                      <a:lnTo>
                        <a:pt x="132" y="419"/>
                      </a:lnTo>
                      <a:lnTo>
                        <a:pt x="132" y="536"/>
                      </a:lnTo>
                      <a:lnTo>
                        <a:pt x="139" y="419"/>
                      </a:lnTo>
                      <a:lnTo>
                        <a:pt x="147" y="380"/>
                      </a:lnTo>
                      <a:lnTo>
                        <a:pt x="155" y="410"/>
                      </a:lnTo>
                      <a:lnTo>
                        <a:pt x="163" y="429"/>
                      </a:lnTo>
                      <a:lnTo>
                        <a:pt x="170" y="478"/>
                      </a:lnTo>
                      <a:lnTo>
                        <a:pt x="178" y="439"/>
                      </a:lnTo>
                      <a:lnTo>
                        <a:pt x="186" y="497"/>
                      </a:lnTo>
                      <a:lnTo>
                        <a:pt x="193" y="449"/>
                      </a:lnTo>
                      <a:lnTo>
                        <a:pt x="201" y="410"/>
                      </a:lnTo>
                      <a:lnTo>
                        <a:pt x="209" y="410"/>
                      </a:lnTo>
                      <a:lnTo>
                        <a:pt x="217" y="458"/>
                      </a:lnTo>
                      <a:lnTo>
                        <a:pt x="224" y="497"/>
                      </a:lnTo>
                      <a:lnTo>
                        <a:pt x="232" y="458"/>
                      </a:lnTo>
                      <a:lnTo>
                        <a:pt x="240" y="400"/>
                      </a:lnTo>
                      <a:lnTo>
                        <a:pt x="248" y="449"/>
                      </a:lnTo>
                      <a:lnTo>
                        <a:pt x="263" y="429"/>
                      </a:lnTo>
                      <a:lnTo>
                        <a:pt x="271" y="351"/>
                      </a:lnTo>
                      <a:lnTo>
                        <a:pt x="271" y="458"/>
                      </a:lnTo>
                      <a:lnTo>
                        <a:pt x="278" y="419"/>
                      </a:lnTo>
                      <a:lnTo>
                        <a:pt x="286" y="390"/>
                      </a:lnTo>
                      <a:lnTo>
                        <a:pt x="302" y="390"/>
                      </a:lnTo>
                      <a:lnTo>
                        <a:pt x="309" y="439"/>
                      </a:lnTo>
                      <a:lnTo>
                        <a:pt x="309" y="400"/>
                      </a:lnTo>
                      <a:lnTo>
                        <a:pt x="317" y="410"/>
                      </a:lnTo>
                      <a:lnTo>
                        <a:pt x="332" y="371"/>
                      </a:lnTo>
                      <a:lnTo>
                        <a:pt x="340" y="371"/>
                      </a:lnTo>
                      <a:lnTo>
                        <a:pt x="340" y="449"/>
                      </a:lnTo>
                      <a:lnTo>
                        <a:pt x="348" y="449"/>
                      </a:lnTo>
                      <a:lnTo>
                        <a:pt x="363" y="458"/>
                      </a:lnTo>
                      <a:lnTo>
                        <a:pt x="363" y="449"/>
                      </a:lnTo>
                      <a:lnTo>
                        <a:pt x="379" y="458"/>
                      </a:lnTo>
                      <a:lnTo>
                        <a:pt x="379" y="390"/>
                      </a:lnTo>
                      <a:lnTo>
                        <a:pt x="387" y="429"/>
                      </a:lnTo>
                      <a:lnTo>
                        <a:pt x="402" y="468"/>
                      </a:lnTo>
                      <a:lnTo>
                        <a:pt x="402" y="488"/>
                      </a:lnTo>
                      <a:lnTo>
                        <a:pt x="417" y="419"/>
                      </a:lnTo>
                      <a:lnTo>
                        <a:pt x="417" y="497"/>
                      </a:lnTo>
                      <a:lnTo>
                        <a:pt x="433" y="478"/>
                      </a:lnTo>
                      <a:lnTo>
                        <a:pt x="433" y="429"/>
                      </a:lnTo>
                      <a:lnTo>
                        <a:pt x="448" y="439"/>
                      </a:lnTo>
                      <a:lnTo>
                        <a:pt x="448" y="351"/>
                      </a:lnTo>
                      <a:lnTo>
                        <a:pt x="464" y="371"/>
                      </a:lnTo>
                      <a:lnTo>
                        <a:pt x="464" y="488"/>
                      </a:lnTo>
                      <a:lnTo>
                        <a:pt x="479" y="478"/>
                      </a:lnTo>
                      <a:lnTo>
                        <a:pt x="487" y="458"/>
                      </a:lnTo>
                      <a:lnTo>
                        <a:pt x="487" y="497"/>
                      </a:lnTo>
                      <a:lnTo>
                        <a:pt x="502" y="468"/>
                      </a:lnTo>
                      <a:lnTo>
                        <a:pt x="502" y="468"/>
                      </a:lnTo>
                      <a:lnTo>
                        <a:pt x="510" y="439"/>
                      </a:lnTo>
                      <a:lnTo>
                        <a:pt x="525" y="497"/>
                      </a:lnTo>
                      <a:lnTo>
                        <a:pt x="525" y="458"/>
                      </a:lnTo>
                      <a:lnTo>
                        <a:pt x="533" y="449"/>
                      </a:lnTo>
                      <a:lnTo>
                        <a:pt x="549" y="478"/>
                      </a:lnTo>
                      <a:lnTo>
                        <a:pt x="556" y="449"/>
                      </a:lnTo>
                      <a:lnTo>
                        <a:pt x="556" y="488"/>
                      </a:lnTo>
                      <a:lnTo>
                        <a:pt x="572" y="458"/>
                      </a:lnTo>
                      <a:lnTo>
                        <a:pt x="580" y="419"/>
                      </a:lnTo>
                      <a:lnTo>
                        <a:pt x="587" y="419"/>
                      </a:lnTo>
                      <a:lnTo>
                        <a:pt x="587" y="439"/>
                      </a:lnTo>
                      <a:lnTo>
                        <a:pt x="595" y="478"/>
                      </a:lnTo>
                      <a:lnTo>
                        <a:pt x="610" y="488"/>
                      </a:lnTo>
                      <a:lnTo>
                        <a:pt x="618" y="478"/>
                      </a:lnTo>
                      <a:lnTo>
                        <a:pt x="626" y="410"/>
                      </a:lnTo>
                      <a:lnTo>
                        <a:pt x="634" y="439"/>
                      </a:lnTo>
                      <a:lnTo>
                        <a:pt x="641" y="419"/>
                      </a:lnTo>
                      <a:lnTo>
                        <a:pt x="641" y="497"/>
                      </a:lnTo>
                      <a:lnTo>
                        <a:pt x="649" y="390"/>
                      </a:lnTo>
                      <a:lnTo>
                        <a:pt x="657" y="361"/>
                      </a:lnTo>
                      <a:lnTo>
                        <a:pt x="664" y="507"/>
                      </a:lnTo>
                      <a:lnTo>
                        <a:pt x="680" y="497"/>
                      </a:lnTo>
                      <a:lnTo>
                        <a:pt x="688" y="458"/>
                      </a:lnTo>
                      <a:lnTo>
                        <a:pt x="695" y="517"/>
                      </a:lnTo>
                      <a:lnTo>
                        <a:pt x="703" y="468"/>
                      </a:lnTo>
                      <a:lnTo>
                        <a:pt x="711" y="400"/>
                      </a:lnTo>
                      <a:lnTo>
                        <a:pt x="719" y="458"/>
                      </a:lnTo>
                      <a:lnTo>
                        <a:pt x="726" y="517"/>
                      </a:lnTo>
                      <a:lnTo>
                        <a:pt x="726" y="449"/>
                      </a:lnTo>
                      <a:lnTo>
                        <a:pt x="734" y="449"/>
                      </a:lnTo>
                      <a:lnTo>
                        <a:pt x="742" y="478"/>
                      </a:lnTo>
                      <a:lnTo>
                        <a:pt x="757" y="527"/>
                      </a:lnTo>
                      <a:lnTo>
                        <a:pt x="765" y="419"/>
                      </a:lnTo>
                      <a:lnTo>
                        <a:pt x="773" y="449"/>
                      </a:lnTo>
                      <a:lnTo>
                        <a:pt x="780" y="439"/>
                      </a:lnTo>
                      <a:lnTo>
                        <a:pt x="788" y="439"/>
                      </a:lnTo>
                      <a:lnTo>
                        <a:pt x="796" y="488"/>
                      </a:lnTo>
                      <a:lnTo>
                        <a:pt x="796" y="488"/>
                      </a:lnTo>
                      <a:lnTo>
                        <a:pt x="803" y="566"/>
                      </a:lnTo>
                      <a:lnTo>
                        <a:pt x="819" y="497"/>
                      </a:lnTo>
                      <a:lnTo>
                        <a:pt x="827" y="439"/>
                      </a:lnTo>
                      <a:lnTo>
                        <a:pt x="834" y="400"/>
                      </a:lnTo>
                      <a:lnTo>
                        <a:pt x="834" y="439"/>
                      </a:lnTo>
                      <a:lnTo>
                        <a:pt x="850" y="478"/>
                      </a:lnTo>
                      <a:lnTo>
                        <a:pt x="858" y="439"/>
                      </a:lnTo>
                      <a:lnTo>
                        <a:pt x="865" y="488"/>
                      </a:lnTo>
                      <a:lnTo>
                        <a:pt x="865" y="478"/>
                      </a:lnTo>
                      <a:lnTo>
                        <a:pt x="881" y="517"/>
                      </a:lnTo>
                      <a:lnTo>
                        <a:pt x="888" y="429"/>
                      </a:lnTo>
                      <a:lnTo>
                        <a:pt x="888" y="488"/>
                      </a:lnTo>
                      <a:lnTo>
                        <a:pt x="904" y="488"/>
                      </a:lnTo>
                      <a:lnTo>
                        <a:pt x="912" y="439"/>
                      </a:lnTo>
                      <a:lnTo>
                        <a:pt x="912" y="488"/>
                      </a:lnTo>
                      <a:lnTo>
                        <a:pt x="927" y="497"/>
                      </a:lnTo>
                      <a:lnTo>
                        <a:pt x="935" y="478"/>
                      </a:lnTo>
                      <a:lnTo>
                        <a:pt x="935" y="478"/>
                      </a:lnTo>
                      <a:lnTo>
                        <a:pt x="950" y="458"/>
                      </a:lnTo>
                      <a:lnTo>
                        <a:pt x="950" y="497"/>
                      </a:lnTo>
                      <a:lnTo>
                        <a:pt x="966" y="458"/>
                      </a:lnTo>
                      <a:lnTo>
                        <a:pt x="966" y="468"/>
                      </a:lnTo>
                      <a:lnTo>
                        <a:pt x="981" y="458"/>
                      </a:lnTo>
                      <a:lnTo>
                        <a:pt x="981" y="507"/>
                      </a:lnTo>
                      <a:lnTo>
                        <a:pt x="996" y="468"/>
                      </a:lnTo>
                      <a:lnTo>
                        <a:pt x="1004" y="449"/>
                      </a:lnTo>
                      <a:lnTo>
                        <a:pt x="1012" y="419"/>
                      </a:lnTo>
                      <a:lnTo>
                        <a:pt x="1012" y="410"/>
                      </a:lnTo>
                      <a:lnTo>
                        <a:pt x="1027" y="478"/>
                      </a:lnTo>
                      <a:lnTo>
                        <a:pt x="1027" y="468"/>
                      </a:lnTo>
                      <a:lnTo>
                        <a:pt x="1043" y="468"/>
                      </a:lnTo>
                      <a:lnTo>
                        <a:pt x="1043" y="478"/>
                      </a:lnTo>
                      <a:lnTo>
                        <a:pt x="1058" y="527"/>
                      </a:lnTo>
                      <a:lnTo>
                        <a:pt x="1058" y="488"/>
                      </a:lnTo>
                      <a:lnTo>
                        <a:pt x="1074" y="488"/>
                      </a:lnTo>
                      <a:lnTo>
                        <a:pt x="1081" y="478"/>
                      </a:lnTo>
                      <a:lnTo>
                        <a:pt x="1081" y="478"/>
                      </a:lnTo>
                      <a:lnTo>
                        <a:pt x="1097" y="527"/>
                      </a:lnTo>
                      <a:lnTo>
                        <a:pt x="1097" y="478"/>
                      </a:lnTo>
                      <a:lnTo>
                        <a:pt x="1105" y="478"/>
                      </a:lnTo>
                      <a:lnTo>
                        <a:pt x="1120" y="449"/>
                      </a:lnTo>
                      <a:lnTo>
                        <a:pt x="1120" y="517"/>
                      </a:lnTo>
                      <a:lnTo>
                        <a:pt x="1128" y="507"/>
                      </a:lnTo>
                      <a:lnTo>
                        <a:pt x="1143" y="449"/>
                      </a:lnTo>
                      <a:lnTo>
                        <a:pt x="1143" y="439"/>
                      </a:lnTo>
                      <a:lnTo>
                        <a:pt x="1151" y="478"/>
                      </a:lnTo>
                      <a:lnTo>
                        <a:pt x="1166" y="449"/>
                      </a:lnTo>
                      <a:lnTo>
                        <a:pt x="1174" y="458"/>
                      </a:lnTo>
                      <a:lnTo>
                        <a:pt x="1174" y="527"/>
                      </a:lnTo>
                      <a:lnTo>
                        <a:pt x="1182" y="488"/>
                      </a:lnTo>
                      <a:lnTo>
                        <a:pt x="1197" y="468"/>
                      </a:lnTo>
                      <a:lnTo>
                        <a:pt x="1205" y="497"/>
                      </a:lnTo>
                      <a:lnTo>
                        <a:pt x="1205" y="478"/>
                      </a:lnTo>
                      <a:lnTo>
                        <a:pt x="1213" y="497"/>
                      </a:lnTo>
                      <a:lnTo>
                        <a:pt x="1220" y="488"/>
                      </a:lnTo>
                      <a:lnTo>
                        <a:pt x="1228" y="439"/>
                      </a:lnTo>
                      <a:lnTo>
                        <a:pt x="1244" y="146"/>
                      </a:lnTo>
                      <a:lnTo>
                        <a:pt x="1251" y="20"/>
                      </a:lnTo>
                      <a:lnTo>
                        <a:pt x="1251" y="0"/>
                      </a:lnTo>
                      <a:lnTo>
                        <a:pt x="1259" y="98"/>
                      </a:lnTo>
                      <a:lnTo>
                        <a:pt x="1267" y="273"/>
                      </a:lnTo>
                      <a:lnTo>
                        <a:pt x="1274" y="439"/>
                      </a:lnTo>
                      <a:lnTo>
                        <a:pt x="1282" y="458"/>
                      </a:lnTo>
                      <a:lnTo>
                        <a:pt x="1290" y="439"/>
                      </a:lnTo>
                      <a:lnTo>
                        <a:pt x="1305" y="478"/>
                      </a:lnTo>
                      <a:lnTo>
                        <a:pt x="1313" y="488"/>
                      </a:lnTo>
                      <a:lnTo>
                        <a:pt x="1321" y="429"/>
                      </a:lnTo>
                      <a:lnTo>
                        <a:pt x="1328" y="458"/>
                      </a:lnTo>
                      <a:lnTo>
                        <a:pt x="1336" y="419"/>
                      </a:lnTo>
                      <a:lnTo>
                        <a:pt x="1344" y="371"/>
                      </a:lnTo>
                      <a:lnTo>
                        <a:pt x="1344" y="390"/>
                      </a:lnTo>
                      <a:lnTo>
                        <a:pt x="1352" y="380"/>
                      </a:lnTo>
                      <a:lnTo>
                        <a:pt x="1359" y="429"/>
                      </a:lnTo>
                      <a:lnTo>
                        <a:pt x="1367" y="410"/>
                      </a:lnTo>
                      <a:lnTo>
                        <a:pt x="1383" y="458"/>
                      </a:lnTo>
                      <a:lnTo>
                        <a:pt x="1390" y="488"/>
                      </a:lnTo>
                      <a:lnTo>
                        <a:pt x="1398" y="507"/>
                      </a:lnTo>
                      <a:lnTo>
                        <a:pt x="1406" y="488"/>
                      </a:lnTo>
                      <a:lnTo>
                        <a:pt x="1413" y="497"/>
                      </a:lnTo>
                      <a:lnTo>
                        <a:pt x="1421" y="478"/>
                      </a:lnTo>
                      <a:lnTo>
                        <a:pt x="1429" y="497"/>
                      </a:lnTo>
                      <a:lnTo>
                        <a:pt x="1429" y="458"/>
                      </a:lnTo>
                      <a:lnTo>
                        <a:pt x="1437" y="468"/>
                      </a:lnTo>
                      <a:lnTo>
                        <a:pt x="1444" y="507"/>
                      </a:lnTo>
                      <a:lnTo>
                        <a:pt x="1452" y="507"/>
                      </a:lnTo>
                      <a:lnTo>
                        <a:pt x="1460" y="507"/>
                      </a:lnTo>
                      <a:lnTo>
                        <a:pt x="1475" y="497"/>
                      </a:lnTo>
                      <a:lnTo>
                        <a:pt x="1483" y="449"/>
                      </a:lnTo>
                      <a:lnTo>
                        <a:pt x="1491" y="488"/>
                      </a:lnTo>
                      <a:lnTo>
                        <a:pt x="1491" y="507"/>
                      </a:lnTo>
                      <a:lnTo>
                        <a:pt x="1498" y="517"/>
                      </a:lnTo>
                      <a:lnTo>
                        <a:pt x="1506" y="507"/>
                      </a:lnTo>
                      <a:lnTo>
                        <a:pt x="1522" y="527"/>
                      </a:lnTo>
                      <a:lnTo>
                        <a:pt x="1529" y="507"/>
                      </a:lnTo>
                      <a:lnTo>
                        <a:pt x="1529" y="497"/>
                      </a:lnTo>
                      <a:lnTo>
                        <a:pt x="1537" y="478"/>
                      </a:lnTo>
                      <a:lnTo>
                        <a:pt x="1545" y="507"/>
                      </a:lnTo>
                      <a:lnTo>
                        <a:pt x="1560" y="517"/>
                      </a:lnTo>
                      <a:lnTo>
                        <a:pt x="1568" y="517"/>
                      </a:lnTo>
                      <a:lnTo>
                        <a:pt x="1568" y="478"/>
                      </a:lnTo>
                      <a:lnTo>
                        <a:pt x="1576" y="478"/>
                      </a:lnTo>
                      <a:lnTo>
                        <a:pt x="1591" y="488"/>
                      </a:lnTo>
                      <a:lnTo>
                        <a:pt x="1591" y="488"/>
                      </a:lnTo>
                      <a:lnTo>
                        <a:pt x="1599" y="507"/>
                      </a:lnTo>
                      <a:lnTo>
                        <a:pt x="1614" y="488"/>
                      </a:lnTo>
                      <a:lnTo>
                        <a:pt x="1622" y="458"/>
                      </a:lnTo>
                      <a:lnTo>
                        <a:pt x="1622" y="497"/>
                      </a:lnTo>
                      <a:lnTo>
                        <a:pt x="1637" y="478"/>
                      </a:lnTo>
                      <a:lnTo>
                        <a:pt x="1645" y="488"/>
                      </a:lnTo>
                      <a:lnTo>
                        <a:pt x="1645" y="478"/>
                      </a:lnTo>
                      <a:lnTo>
                        <a:pt x="1661" y="497"/>
                      </a:lnTo>
                      <a:lnTo>
                        <a:pt x="1661" y="478"/>
                      </a:lnTo>
                      <a:lnTo>
                        <a:pt x="1668" y="478"/>
                      </a:lnTo>
                      <a:lnTo>
                        <a:pt x="1684" y="478"/>
                      </a:lnTo>
                      <a:lnTo>
                        <a:pt x="1684" y="478"/>
                      </a:lnTo>
                      <a:lnTo>
                        <a:pt x="1699" y="458"/>
                      </a:lnTo>
                      <a:lnTo>
                        <a:pt x="1707" y="488"/>
                      </a:lnTo>
                      <a:lnTo>
                        <a:pt x="1707" y="497"/>
                      </a:lnTo>
                      <a:lnTo>
                        <a:pt x="1722" y="497"/>
                      </a:lnTo>
                      <a:lnTo>
                        <a:pt x="1722" y="517"/>
                      </a:lnTo>
                      <a:lnTo>
                        <a:pt x="1738" y="497"/>
                      </a:lnTo>
                      <a:lnTo>
                        <a:pt x="1738" y="497"/>
                      </a:lnTo>
                      <a:lnTo>
                        <a:pt x="1753" y="536"/>
                      </a:lnTo>
                      <a:lnTo>
                        <a:pt x="1753" y="458"/>
                      </a:lnTo>
                      <a:lnTo>
                        <a:pt x="1769" y="527"/>
                      </a:lnTo>
                      <a:lnTo>
                        <a:pt x="1769" y="527"/>
                      </a:lnTo>
                      <a:lnTo>
                        <a:pt x="1784" y="546"/>
                      </a:lnTo>
                      <a:lnTo>
                        <a:pt x="1784" y="478"/>
                      </a:lnTo>
                      <a:lnTo>
                        <a:pt x="1799" y="497"/>
                      </a:lnTo>
                      <a:lnTo>
                        <a:pt x="1799" y="517"/>
                      </a:lnTo>
                      <a:lnTo>
                        <a:pt x="1815" y="517"/>
                      </a:lnTo>
                      <a:lnTo>
                        <a:pt x="1815" y="478"/>
                      </a:lnTo>
                      <a:lnTo>
                        <a:pt x="1830" y="507"/>
                      </a:lnTo>
                      <a:lnTo>
                        <a:pt x="1830" y="507"/>
                      </a:lnTo>
                      <a:lnTo>
                        <a:pt x="1846" y="507"/>
                      </a:lnTo>
                      <a:lnTo>
                        <a:pt x="1854" y="488"/>
                      </a:lnTo>
                      <a:lnTo>
                        <a:pt x="1854" y="507"/>
                      </a:lnTo>
                      <a:lnTo>
                        <a:pt x="1869" y="527"/>
                      </a:lnTo>
                      <a:lnTo>
                        <a:pt x="1869" y="507"/>
                      </a:lnTo>
                      <a:lnTo>
                        <a:pt x="1884" y="517"/>
                      </a:lnTo>
                      <a:lnTo>
                        <a:pt x="1892" y="478"/>
                      </a:lnTo>
                      <a:lnTo>
                        <a:pt x="1892" y="468"/>
                      </a:lnTo>
                      <a:lnTo>
                        <a:pt x="1908" y="458"/>
                      </a:lnTo>
                      <a:lnTo>
                        <a:pt x="1915" y="468"/>
                      </a:lnTo>
                      <a:lnTo>
                        <a:pt x="1915" y="224"/>
                      </a:lnTo>
                      <a:lnTo>
                        <a:pt x="1931" y="176"/>
                      </a:lnTo>
                      <a:lnTo>
                        <a:pt x="1938" y="205"/>
                      </a:lnTo>
                      <a:lnTo>
                        <a:pt x="1938" y="273"/>
                      </a:lnTo>
                      <a:lnTo>
                        <a:pt x="1954" y="419"/>
                      </a:lnTo>
                      <a:lnTo>
                        <a:pt x="1962" y="458"/>
                      </a:lnTo>
                      <a:lnTo>
                        <a:pt x="1962" y="439"/>
                      </a:lnTo>
                      <a:lnTo>
                        <a:pt x="1977" y="488"/>
                      </a:lnTo>
                      <a:lnTo>
                        <a:pt x="1985" y="488"/>
                      </a:lnTo>
                      <a:lnTo>
                        <a:pt x="1985" y="449"/>
                      </a:lnTo>
                      <a:lnTo>
                        <a:pt x="1993" y="488"/>
                      </a:lnTo>
                      <a:lnTo>
                        <a:pt x="2008" y="439"/>
                      </a:lnTo>
                      <a:lnTo>
                        <a:pt x="2016" y="449"/>
                      </a:lnTo>
                      <a:lnTo>
                        <a:pt x="2016" y="458"/>
                      </a:lnTo>
                      <a:lnTo>
                        <a:pt x="2023" y="449"/>
                      </a:lnTo>
                      <a:lnTo>
                        <a:pt x="2039" y="458"/>
                      </a:lnTo>
                      <a:lnTo>
                        <a:pt x="2047" y="478"/>
                      </a:lnTo>
                      <a:lnTo>
                        <a:pt x="2054" y="458"/>
                      </a:lnTo>
                      <a:lnTo>
                        <a:pt x="2054" y="497"/>
                      </a:lnTo>
                      <a:lnTo>
                        <a:pt x="2070" y="488"/>
                      </a:lnTo>
                      <a:lnTo>
                        <a:pt x="2077" y="517"/>
                      </a:lnTo>
                      <a:lnTo>
                        <a:pt x="2085" y="507"/>
                      </a:lnTo>
                      <a:lnTo>
                        <a:pt x="2093" y="497"/>
                      </a:lnTo>
                      <a:lnTo>
                        <a:pt x="2101" y="468"/>
                      </a:lnTo>
                      <a:lnTo>
                        <a:pt x="2101" y="507"/>
                      </a:lnTo>
                      <a:lnTo>
                        <a:pt x="2116" y="497"/>
                      </a:lnTo>
                      <a:lnTo>
                        <a:pt x="2124" y="488"/>
                      </a:lnTo>
                      <a:lnTo>
                        <a:pt x="2131" y="517"/>
                      </a:lnTo>
                      <a:lnTo>
                        <a:pt x="2139" y="488"/>
                      </a:lnTo>
                      <a:lnTo>
                        <a:pt x="2147" y="478"/>
                      </a:lnTo>
                      <a:lnTo>
                        <a:pt x="2155" y="468"/>
                      </a:lnTo>
                      <a:lnTo>
                        <a:pt x="2162" y="536"/>
                      </a:lnTo>
                      <a:lnTo>
                        <a:pt x="2162" y="497"/>
                      </a:lnTo>
                      <a:lnTo>
                        <a:pt x="2170" y="497"/>
                      </a:lnTo>
                      <a:lnTo>
                        <a:pt x="2186" y="488"/>
                      </a:lnTo>
                      <a:lnTo>
                        <a:pt x="2193" y="517"/>
                      </a:lnTo>
                      <a:lnTo>
                        <a:pt x="2201" y="517"/>
                      </a:lnTo>
                      <a:lnTo>
                        <a:pt x="2209" y="536"/>
                      </a:lnTo>
                      <a:lnTo>
                        <a:pt x="2216" y="527"/>
                      </a:lnTo>
                      <a:lnTo>
                        <a:pt x="2224" y="497"/>
                      </a:lnTo>
                      <a:lnTo>
                        <a:pt x="2232" y="497"/>
                      </a:lnTo>
                      <a:lnTo>
                        <a:pt x="2240" y="488"/>
                      </a:lnTo>
                      <a:lnTo>
                        <a:pt x="2247" y="536"/>
                      </a:lnTo>
                      <a:lnTo>
                        <a:pt x="2255" y="478"/>
                      </a:lnTo>
                      <a:lnTo>
                        <a:pt x="2263" y="478"/>
                      </a:lnTo>
                      <a:lnTo>
                        <a:pt x="2270" y="468"/>
                      </a:lnTo>
                      <a:lnTo>
                        <a:pt x="2278" y="527"/>
                      </a:lnTo>
                      <a:lnTo>
                        <a:pt x="2286" y="517"/>
                      </a:lnTo>
                      <a:lnTo>
                        <a:pt x="2294" y="527"/>
                      </a:lnTo>
                      <a:lnTo>
                        <a:pt x="2301" y="497"/>
                      </a:lnTo>
                      <a:lnTo>
                        <a:pt x="2309" y="468"/>
                      </a:lnTo>
                      <a:lnTo>
                        <a:pt x="2317" y="488"/>
                      </a:lnTo>
                      <a:lnTo>
                        <a:pt x="2325" y="497"/>
                      </a:lnTo>
                      <a:lnTo>
                        <a:pt x="2332" y="517"/>
                      </a:lnTo>
                      <a:lnTo>
                        <a:pt x="2332" y="488"/>
                      </a:lnTo>
                      <a:lnTo>
                        <a:pt x="2340" y="468"/>
                      </a:lnTo>
                      <a:lnTo>
                        <a:pt x="2355" y="478"/>
                      </a:lnTo>
                      <a:lnTo>
                        <a:pt x="2363" y="507"/>
                      </a:lnTo>
                      <a:lnTo>
                        <a:pt x="2371" y="497"/>
                      </a:lnTo>
                      <a:lnTo>
                        <a:pt x="2379" y="478"/>
                      </a:lnTo>
                      <a:lnTo>
                        <a:pt x="2386" y="507"/>
                      </a:lnTo>
                      <a:lnTo>
                        <a:pt x="2394" y="497"/>
                      </a:lnTo>
                      <a:lnTo>
                        <a:pt x="2402" y="497"/>
                      </a:lnTo>
                      <a:lnTo>
                        <a:pt x="2402" y="507"/>
                      </a:lnTo>
                      <a:lnTo>
                        <a:pt x="2409" y="488"/>
                      </a:lnTo>
                      <a:lnTo>
                        <a:pt x="2425" y="507"/>
                      </a:lnTo>
                      <a:lnTo>
                        <a:pt x="2433" y="507"/>
                      </a:lnTo>
                      <a:lnTo>
                        <a:pt x="2440" y="507"/>
                      </a:lnTo>
                      <a:lnTo>
                        <a:pt x="2448" y="517"/>
                      </a:lnTo>
                      <a:lnTo>
                        <a:pt x="2448" y="527"/>
                      </a:lnTo>
                      <a:lnTo>
                        <a:pt x="2456" y="546"/>
                      </a:lnTo>
                      <a:lnTo>
                        <a:pt x="2471" y="497"/>
                      </a:lnTo>
                      <a:lnTo>
                        <a:pt x="2479" y="527"/>
                      </a:lnTo>
                      <a:lnTo>
                        <a:pt x="2487" y="507"/>
                      </a:lnTo>
                      <a:lnTo>
                        <a:pt x="2487" y="507"/>
                      </a:lnTo>
                      <a:lnTo>
                        <a:pt x="2502" y="497"/>
                      </a:lnTo>
                      <a:lnTo>
                        <a:pt x="2510" y="517"/>
                      </a:lnTo>
                      <a:lnTo>
                        <a:pt x="2518" y="507"/>
                      </a:lnTo>
                      <a:lnTo>
                        <a:pt x="2525" y="507"/>
                      </a:lnTo>
                      <a:lnTo>
                        <a:pt x="2525" y="497"/>
                      </a:lnTo>
                      <a:lnTo>
                        <a:pt x="2541" y="507"/>
                      </a:lnTo>
                      <a:lnTo>
                        <a:pt x="2548" y="507"/>
                      </a:lnTo>
                      <a:lnTo>
                        <a:pt x="2556" y="517"/>
                      </a:lnTo>
                      <a:lnTo>
                        <a:pt x="2564" y="527"/>
                      </a:lnTo>
                      <a:lnTo>
                        <a:pt x="2572" y="478"/>
                      </a:lnTo>
                      <a:lnTo>
                        <a:pt x="2579" y="478"/>
                      </a:lnTo>
                      <a:lnTo>
                        <a:pt x="2579" y="527"/>
                      </a:lnTo>
                      <a:lnTo>
                        <a:pt x="2595" y="507"/>
                      </a:lnTo>
                      <a:lnTo>
                        <a:pt x="2602" y="497"/>
                      </a:lnTo>
                      <a:lnTo>
                        <a:pt x="2602" y="478"/>
                      </a:lnTo>
                      <a:lnTo>
                        <a:pt x="2618" y="478"/>
                      </a:lnTo>
                      <a:lnTo>
                        <a:pt x="2626" y="507"/>
                      </a:lnTo>
                      <a:lnTo>
                        <a:pt x="2626" y="507"/>
                      </a:lnTo>
                      <a:lnTo>
                        <a:pt x="2641" y="527"/>
                      </a:lnTo>
                      <a:lnTo>
                        <a:pt x="2649" y="517"/>
                      </a:lnTo>
                      <a:lnTo>
                        <a:pt x="2649" y="536"/>
                      </a:lnTo>
                      <a:lnTo>
                        <a:pt x="2664" y="507"/>
                      </a:lnTo>
                      <a:lnTo>
                        <a:pt x="2672" y="497"/>
                      </a:lnTo>
                      <a:lnTo>
                        <a:pt x="2672" y="488"/>
                      </a:lnTo>
                      <a:lnTo>
                        <a:pt x="2687" y="488"/>
                      </a:lnTo>
                      <a:lnTo>
                        <a:pt x="2687" y="507"/>
                      </a:lnTo>
                      <a:lnTo>
                        <a:pt x="2703" y="488"/>
                      </a:lnTo>
                      <a:lnTo>
                        <a:pt x="2711" y="507"/>
                      </a:lnTo>
                      <a:lnTo>
                        <a:pt x="2711" y="527"/>
                      </a:lnTo>
                      <a:lnTo>
                        <a:pt x="2726" y="517"/>
                      </a:lnTo>
                      <a:lnTo>
                        <a:pt x="2726" y="507"/>
                      </a:lnTo>
                      <a:lnTo>
                        <a:pt x="2741" y="488"/>
                      </a:lnTo>
                      <a:lnTo>
                        <a:pt x="2749" y="497"/>
                      </a:lnTo>
                      <a:lnTo>
                        <a:pt x="2757" y="517"/>
                      </a:lnTo>
                      <a:lnTo>
                        <a:pt x="2765" y="517"/>
                      </a:lnTo>
                      <a:lnTo>
                        <a:pt x="2765" y="507"/>
                      </a:lnTo>
                      <a:lnTo>
                        <a:pt x="2780" y="497"/>
                      </a:lnTo>
                      <a:lnTo>
                        <a:pt x="2780" y="507"/>
                      </a:lnTo>
                      <a:lnTo>
                        <a:pt x="2796" y="497"/>
                      </a:lnTo>
                      <a:lnTo>
                        <a:pt x="2796" y="517"/>
                      </a:lnTo>
                      <a:lnTo>
                        <a:pt x="2811" y="517"/>
                      </a:lnTo>
                      <a:lnTo>
                        <a:pt x="2811" y="527"/>
                      </a:lnTo>
                      <a:lnTo>
                        <a:pt x="2826" y="497"/>
                      </a:lnTo>
                      <a:lnTo>
                        <a:pt x="2826" y="497"/>
                      </a:lnTo>
                      <a:lnTo>
                        <a:pt x="2842" y="517"/>
                      </a:lnTo>
                      <a:lnTo>
                        <a:pt x="2842" y="507"/>
                      </a:lnTo>
                      <a:lnTo>
                        <a:pt x="2857" y="517"/>
                      </a:lnTo>
                      <a:lnTo>
                        <a:pt x="2857" y="507"/>
                      </a:lnTo>
                      <a:lnTo>
                        <a:pt x="2873" y="507"/>
                      </a:lnTo>
                      <a:lnTo>
                        <a:pt x="2873" y="527"/>
                      </a:lnTo>
                      <a:lnTo>
                        <a:pt x="2888" y="517"/>
                      </a:lnTo>
                      <a:lnTo>
                        <a:pt x="2888" y="497"/>
                      </a:lnTo>
                      <a:lnTo>
                        <a:pt x="2904" y="497"/>
                      </a:lnTo>
                      <a:lnTo>
                        <a:pt x="2911" y="507"/>
                      </a:lnTo>
                      <a:lnTo>
                        <a:pt x="2911" y="527"/>
                      </a:lnTo>
                      <a:lnTo>
                        <a:pt x="2927" y="536"/>
                      </a:lnTo>
                      <a:lnTo>
                        <a:pt x="2927" y="546"/>
                      </a:lnTo>
                      <a:lnTo>
                        <a:pt x="2942" y="507"/>
                      </a:lnTo>
                      <a:lnTo>
                        <a:pt x="2942" y="517"/>
                      </a:lnTo>
                      <a:lnTo>
                        <a:pt x="2958" y="517"/>
                      </a:lnTo>
                      <a:lnTo>
                        <a:pt x="2965" y="536"/>
                      </a:lnTo>
                      <a:lnTo>
                        <a:pt x="2965" y="507"/>
                      </a:lnTo>
                      <a:lnTo>
                        <a:pt x="2981" y="507"/>
                      </a:lnTo>
                      <a:lnTo>
                        <a:pt x="2989" y="507"/>
                      </a:lnTo>
                      <a:lnTo>
                        <a:pt x="2989" y="507"/>
                      </a:lnTo>
                      <a:lnTo>
                        <a:pt x="3004" y="488"/>
                      </a:lnTo>
                      <a:lnTo>
                        <a:pt x="3004" y="517"/>
                      </a:lnTo>
                      <a:lnTo>
                        <a:pt x="3012" y="527"/>
                      </a:lnTo>
                      <a:lnTo>
                        <a:pt x="3027" y="507"/>
                      </a:lnTo>
                      <a:lnTo>
                        <a:pt x="3027" y="507"/>
                      </a:lnTo>
                      <a:lnTo>
                        <a:pt x="3043" y="507"/>
                      </a:lnTo>
                      <a:lnTo>
                        <a:pt x="3050" y="517"/>
                      </a:lnTo>
                      <a:lnTo>
                        <a:pt x="3050" y="527"/>
                      </a:lnTo>
                      <a:lnTo>
                        <a:pt x="3058" y="527"/>
                      </a:lnTo>
                      <a:lnTo>
                        <a:pt x="3073" y="536"/>
                      </a:lnTo>
                      <a:lnTo>
                        <a:pt x="3073" y="507"/>
                      </a:lnTo>
                      <a:lnTo>
                        <a:pt x="3081" y="497"/>
                      </a:lnTo>
                      <a:lnTo>
                        <a:pt x="3097" y="488"/>
                      </a:lnTo>
                      <a:lnTo>
                        <a:pt x="3104" y="507"/>
                      </a:lnTo>
                      <a:lnTo>
                        <a:pt x="3104" y="507"/>
                      </a:lnTo>
                      <a:lnTo>
                        <a:pt x="3120" y="507"/>
                      </a:lnTo>
                      <a:lnTo>
                        <a:pt x="3128" y="527"/>
                      </a:lnTo>
                      <a:lnTo>
                        <a:pt x="3128" y="527"/>
                      </a:lnTo>
                      <a:lnTo>
                        <a:pt x="3135" y="527"/>
                      </a:lnTo>
                      <a:lnTo>
                        <a:pt x="3151" y="517"/>
                      </a:lnTo>
                      <a:lnTo>
                        <a:pt x="3158" y="497"/>
                      </a:lnTo>
                      <a:lnTo>
                        <a:pt x="3158" y="507"/>
                      </a:lnTo>
                      <a:lnTo>
                        <a:pt x="3166" y="517"/>
                      </a:lnTo>
                      <a:lnTo>
                        <a:pt x="3182" y="517"/>
                      </a:lnTo>
                      <a:lnTo>
                        <a:pt x="3189" y="517"/>
                      </a:lnTo>
                      <a:lnTo>
                        <a:pt x="3197" y="507"/>
                      </a:lnTo>
                      <a:lnTo>
                        <a:pt x="3197" y="507"/>
                      </a:lnTo>
                      <a:lnTo>
                        <a:pt x="3205" y="517"/>
                      </a:lnTo>
                      <a:lnTo>
                        <a:pt x="3220" y="527"/>
                      </a:lnTo>
                      <a:lnTo>
                        <a:pt x="3228" y="546"/>
                      </a:lnTo>
                      <a:lnTo>
                        <a:pt x="3236" y="507"/>
                      </a:lnTo>
                      <a:lnTo>
                        <a:pt x="3236" y="507"/>
                      </a:lnTo>
                      <a:lnTo>
                        <a:pt x="3243" y="527"/>
                      </a:lnTo>
                      <a:lnTo>
                        <a:pt x="3259" y="507"/>
                      </a:lnTo>
                      <a:lnTo>
                        <a:pt x="3267" y="517"/>
                      </a:lnTo>
                      <a:lnTo>
                        <a:pt x="3274" y="527"/>
                      </a:lnTo>
                      <a:lnTo>
                        <a:pt x="3274" y="488"/>
                      </a:lnTo>
                      <a:lnTo>
                        <a:pt x="3282" y="497"/>
                      </a:lnTo>
                      <a:lnTo>
                        <a:pt x="3290" y="536"/>
                      </a:lnTo>
                      <a:lnTo>
                        <a:pt x="3297" y="517"/>
                      </a:lnTo>
                      <a:lnTo>
                        <a:pt x="3313" y="507"/>
                      </a:lnTo>
                      <a:lnTo>
                        <a:pt x="3321" y="517"/>
                      </a:lnTo>
                      <a:lnTo>
                        <a:pt x="3328" y="517"/>
                      </a:lnTo>
                      <a:lnTo>
                        <a:pt x="3328" y="527"/>
                      </a:lnTo>
                      <a:lnTo>
                        <a:pt x="3336" y="527"/>
                      </a:lnTo>
                      <a:lnTo>
                        <a:pt x="3344" y="507"/>
                      </a:lnTo>
                      <a:lnTo>
                        <a:pt x="3351" y="507"/>
                      </a:lnTo>
                      <a:lnTo>
                        <a:pt x="3359" y="507"/>
                      </a:lnTo>
                      <a:lnTo>
                        <a:pt x="3375" y="507"/>
                      </a:lnTo>
                      <a:lnTo>
                        <a:pt x="3382" y="517"/>
                      </a:lnTo>
                      <a:lnTo>
                        <a:pt x="3390" y="517"/>
                      </a:lnTo>
                      <a:lnTo>
                        <a:pt x="3398" y="497"/>
                      </a:lnTo>
                      <a:lnTo>
                        <a:pt x="3405" y="527"/>
                      </a:lnTo>
                      <a:lnTo>
                        <a:pt x="3413" y="536"/>
                      </a:lnTo>
                      <a:lnTo>
                        <a:pt x="3421" y="507"/>
                      </a:lnTo>
                      <a:lnTo>
                        <a:pt x="3421" y="497"/>
                      </a:lnTo>
                      <a:lnTo>
                        <a:pt x="3429" y="517"/>
                      </a:lnTo>
                      <a:lnTo>
                        <a:pt x="3436" y="507"/>
                      </a:lnTo>
                      <a:lnTo>
                        <a:pt x="3444" y="507"/>
                      </a:lnTo>
                      <a:lnTo>
                        <a:pt x="3452" y="497"/>
                      </a:lnTo>
                      <a:lnTo>
                        <a:pt x="3460" y="507"/>
                      </a:lnTo>
                      <a:lnTo>
                        <a:pt x="3467" y="527"/>
                      </a:lnTo>
                      <a:lnTo>
                        <a:pt x="3475" y="527"/>
                      </a:lnTo>
                      <a:lnTo>
                        <a:pt x="3483" y="507"/>
                      </a:lnTo>
                      <a:lnTo>
                        <a:pt x="3490" y="517"/>
                      </a:lnTo>
                      <a:lnTo>
                        <a:pt x="3498" y="517"/>
                      </a:lnTo>
                      <a:lnTo>
                        <a:pt x="3506" y="517"/>
                      </a:lnTo>
                      <a:lnTo>
                        <a:pt x="3514" y="517"/>
                      </a:lnTo>
                      <a:lnTo>
                        <a:pt x="3521" y="507"/>
                      </a:lnTo>
                      <a:lnTo>
                        <a:pt x="3529" y="536"/>
                      </a:lnTo>
                      <a:lnTo>
                        <a:pt x="3537" y="517"/>
                      </a:lnTo>
                      <a:lnTo>
                        <a:pt x="3544" y="497"/>
                      </a:lnTo>
                      <a:lnTo>
                        <a:pt x="3552" y="527"/>
                      </a:lnTo>
                      <a:lnTo>
                        <a:pt x="3560" y="517"/>
                      </a:lnTo>
                      <a:lnTo>
                        <a:pt x="3568" y="517"/>
                      </a:lnTo>
                      <a:lnTo>
                        <a:pt x="3575" y="507"/>
                      </a:lnTo>
                      <a:lnTo>
                        <a:pt x="3583" y="507"/>
                      </a:lnTo>
                      <a:lnTo>
                        <a:pt x="3591" y="527"/>
                      </a:lnTo>
                      <a:lnTo>
                        <a:pt x="3606" y="527"/>
                      </a:lnTo>
                      <a:lnTo>
                        <a:pt x="3614" y="517"/>
                      </a:lnTo>
                      <a:lnTo>
                        <a:pt x="3622" y="507"/>
                      </a:lnTo>
                      <a:lnTo>
                        <a:pt x="3629" y="517"/>
                      </a:lnTo>
                      <a:lnTo>
                        <a:pt x="3637" y="536"/>
                      </a:lnTo>
                      <a:lnTo>
                        <a:pt x="3645" y="527"/>
                      </a:lnTo>
                      <a:lnTo>
                        <a:pt x="3645" y="517"/>
                      </a:lnTo>
                      <a:lnTo>
                        <a:pt x="3653" y="517"/>
                      </a:lnTo>
                      <a:lnTo>
                        <a:pt x="3660" y="527"/>
                      </a:lnTo>
                      <a:lnTo>
                        <a:pt x="3668" y="497"/>
                      </a:lnTo>
                      <a:lnTo>
                        <a:pt x="3676" y="497"/>
                      </a:lnTo>
                      <a:lnTo>
                        <a:pt x="3691" y="517"/>
                      </a:lnTo>
                      <a:lnTo>
                        <a:pt x="3699" y="507"/>
                      </a:lnTo>
                      <a:lnTo>
                        <a:pt x="3707" y="517"/>
                      </a:lnTo>
                      <a:lnTo>
                        <a:pt x="3714" y="517"/>
                      </a:lnTo>
                      <a:lnTo>
                        <a:pt x="3714" y="527"/>
                      </a:lnTo>
                      <a:lnTo>
                        <a:pt x="3722" y="527"/>
                      </a:lnTo>
                      <a:lnTo>
                        <a:pt x="3730" y="527"/>
                      </a:lnTo>
                      <a:lnTo>
                        <a:pt x="3745" y="527"/>
                      </a:lnTo>
                      <a:lnTo>
                        <a:pt x="3753" y="527"/>
                      </a:lnTo>
                      <a:lnTo>
                        <a:pt x="3761" y="546"/>
                      </a:lnTo>
                      <a:lnTo>
                        <a:pt x="3768" y="536"/>
                      </a:lnTo>
                      <a:lnTo>
                        <a:pt x="3768" y="507"/>
                      </a:lnTo>
                      <a:lnTo>
                        <a:pt x="3776" y="517"/>
                      </a:lnTo>
                      <a:lnTo>
                        <a:pt x="3792" y="527"/>
                      </a:lnTo>
                      <a:lnTo>
                        <a:pt x="3799" y="527"/>
                      </a:lnTo>
                      <a:lnTo>
                        <a:pt x="3807" y="527"/>
                      </a:lnTo>
                      <a:lnTo>
                        <a:pt x="3807" y="527"/>
                      </a:lnTo>
                      <a:lnTo>
                        <a:pt x="3815" y="527"/>
                      </a:lnTo>
                      <a:lnTo>
                        <a:pt x="3822" y="527"/>
                      </a:lnTo>
                      <a:lnTo>
                        <a:pt x="3838" y="527"/>
                      </a:lnTo>
                      <a:lnTo>
                        <a:pt x="3846" y="517"/>
                      </a:lnTo>
                      <a:lnTo>
                        <a:pt x="3846" y="507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415200" y="6612120"/>
                  <a:ext cx="913320" cy="29880"/>
                </a:xfrm>
                <a:custGeom>
                  <a:avLst/>
                  <a:gdLst/>
                  <a:ahLst/>
                  <a:rect l="l" t="t" r="r" b="b"/>
                  <a:pathLst>
                    <a:path w="826" h="39">
                      <a:moveTo>
                        <a:pt x="0" y="10"/>
                      </a:moveTo>
                      <a:lnTo>
                        <a:pt x="7" y="20"/>
                      </a:lnTo>
                      <a:lnTo>
                        <a:pt x="23" y="30"/>
                      </a:lnTo>
                      <a:lnTo>
                        <a:pt x="30" y="39"/>
                      </a:lnTo>
                      <a:lnTo>
                        <a:pt x="38" y="30"/>
                      </a:lnTo>
                      <a:lnTo>
                        <a:pt x="38" y="30"/>
                      </a:lnTo>
                      <a:lnTo>
                        <a:pt x="54" y="20"/>
                      </a:lnTo>
                      <a:lnTo>
                        <a:pt x="61" y="30"/>
                      </a:lnTo>
                      <a:lnTo>
                        <a:pt x="69" y="20"/>
                      </a:lnTo>
                      <a:lnTo>
                        <a:pt x="69" y="20"/>
                      </a:lnTo>
                      <a:lnTo>
                        <a:pt x="85" y="20"/>
                      </a:lnTo>
                      <a:lnTo>
                        <a:pt x="92" y="10"/>
                      </a:lnTo>
                      <a:lnTo>
                        <a:pt x="92" y="30"/>
                      </a:lnTo>
                      <a:lnTo>
                        <a:pt x="100" y="39"/>
                      </a:lnTo>
                      <a:lnTo>
                        <a:pt x="115" y="30"/>
                      </a:lnTo>
                      <a:lnTo>
                        <a:pt x="123" y="20"/>
                      </a:lnTo>
                      <a:lnTo>
                        <a:pt x="123" y="20"/>
                      </a:lnTo>
                      <a:lnTo>
                        <a:pt x="139" y="30"/>
                      </a:lnTo>
                      <a:lnTo>
                        <a:pt x="146" y="10"/>
                      </a:lnTo>
                      <a:lnTo>
                        <a:pt x="146" y="20"/>
                      </a:lnTo>
                      <a:lnTo>
                        <a:pt x="154" y="20"/>
                      </a:lnTo>
                      <a:lnTo>
                        <a:pt x="169" y="30"/>
                      </a:lnTo>
                      <a:lnTo>
                        <a:pt x="177" y="20"/>
                      </a:lnTo>
                      <a:lnTo>
                        <a:pt x="177" y="20"/>
                      </a:lnTo>
                      <a:lnTo>
                        <a:pt x="193" y="39"/>
                      </a:lnTo>
                      <a:lnTo>
                        <a:pt x="200" y="30"/>
                      </a:lnTo>
                      <a:lnTo>
                        <a:pt x="200" y="20"/>
                      </a:lnTo>
                      <a:lnTo>
                        <a:pt x="216" y="39"/>
                      </a:lnTo>
                      <a:lnTo>
                        <a:pt x="224" y="30"/>
                      </a:lnTo>
                      <a:lnTo>
                        <a:pt x="224" y="30"/>
                      </a:lnTo>
                      <a:lnTo>
                        <a:pt x="239" y="20"/>
                      </a:lnTo>
                      <a:lnTo>
                        <a:pt x="239" y="30"/>
                      </a:lnTo>
                      <a:lnTo>
                        <a:pt x="254" y="30"/>
                      </a:lnTo>
                      <a:lnTo>
                        <a:pt x="262" y="30"/>
                      </a:lnTo>
                      <a:lnTo>
                        <a:pt x="262" y="30"/>
                      </a:lnTo>
                      <a:lnTo>
                        <a:pt x="278" y="39"/>
                      </a:lnTo>
                      <a:lnTo>
                        <a:pt x="285" y="10"/>
                      </a:lnTo>
                      <a:lnTo>
                        <a:pt x="285" y="20"/>
                      </a:lnTo>
                      <a:lnTo>
                        <a:pt x="301" y="30"/>
                      </a:lnTo>
                      <a:lnTo>
                        <a:pt x="301" y="20"/>
                      </a:lnTo>
                      <a:lnTo>
                        <a:pt x="316" y="30"/>
                      </a:lnTo>
                      <a:lnTo>
                        <a:pt x="324" y="30"/>
                      </a:lnTo>
                      <a:lnTo>
                        <a:pt x="324" y="20"/>
                      </a:lnTo>
                      <a:lnTo>
                        <a:pt x="339" y="30"/>
                      </a:lnTo>
                      <a:lnTo>
                        <a:pt x="339" y="30"/>
                      </a:lnTo>
                      <a:lnTo>
                        <a:pt x="355" y="20"/>
                      </a:lnTo>
                      <a:lnTo>
                        <a:pt x="362" y="30"/>
                      </a:lnTo>
                      <a:lnTo>
                        <a:pt x="370" y="39"/>
                      </a:lnTo>
                      <a:lnTo>
                        <a:pt x="378" y="20"/>
                      </a:lnTo>
                      <a:lnTo>
                        <a:pt x="378" y="10"/>
                      </a:lnTo>
                      <a:lnTo>
                        <a:pt x="393" y="10"/>
                      </a:lnTo>
                      <a:lnTo>
                        <a:pt x="393" y="30"/>
                      </a:lnTo>
                      <a:lnTo>
                        <a:pt x="409" y="20"/>
                      </a:lnTo>
                      <a:lnTo>
                        <a:pt x="409" y="10"/>
                      </a:lnTo>
                      <a:lnTo>
                        <a:pt x="424" y="30"/>
                      </a:lnTo>
                      <a:lnTo>
                        <a:pt x="424" y="20"/>
                      </a:lnTo>
                      <a:lnTo>
                        <a:pt x="440" y="20"/>
                      </a:lnTo>
                      <a:lnTo>
                        <a:pt x="447" y="20"/>
                      </a:lnTo>
                      <a:lnTo>
                        <a:pt x="455" y="20"/>
                      </a:lnTo>
                      <a:lnTo>
                        <a:pt x="463" y="20"/>
                      </a:lnTo>
                      <a:lnTo>
                        <a:pt x="471" y="20"/>
                      </a:lnTo>
                      <a:lnTo>
                        <a:pt x="478" y="39"/>
                      </a:lnTo>
                      <a:lnTo>
                        <a:pt x="486" y="20"/>
                      </a:lnTo>
                      <a:lnTo>
                        <a:pt x="494" y="20"/>
                      </a:lnTo>
                      <a:lnTo>
                        <a:pt x="501" y="30"/>
                      </a:lnTo>
                      <a:lnTo>
                        <a:pt x="509" y="20"/>
                      </a:lnTo>
                      <a:lnTo>
                        <a:pt x="517" y="30"/>
                      </a:lnTo>
                      <a:lnTo>
                        <a:pt x="525" y="20"/>
                      </a:lnTo>
                      <a:lnTo>
                        <a:pt x="532" y="30"/>
                      </a:lnTo>
                      <a:lnTo>
                        <a:pt x="540" y="30"/>
                      </a:lnTo>
                      <a:lnTo>
                        <a:pt x="548" y="20"/>
                      </a:lnTo>
                      <a:lnTo>
                        <a:pt x="548" y="10"/>
                      </a:lnTo>
                      <a:lnTo>
                        <a:pt x="563" y="20"/>
                      </a:lnTo>
                      <a:lnTo>
                        <a:pt x="563" y="39"/>
                      </a:lnTo>
                      <a:lnTo>
                        <a:pt x="579" y="10"/>
                      </a:lnTo>
                      <a:lnTo>
                        <a:pt x="579" y="30"/>
                      </a:lnTo>
                      <a:lnTo>
                        <a:pt x="594" y="10"/>
                      </a:lnTo>
                      <a:lnTo>
                        <a:pt x="602" y="0"/>
                      </a:lnTo>
                      <a:lnTo>
                        <a:pt x="610" y="10"/>
                      </a:lnTo>
                      <a:lnTo>
                        <a:pt x="617" y="0"/>
                      </a:lnTo>
                      <a:lnTo>
                        <a:pt x="617" y="39"/>
                      </a:lnTo>
                      <a:lnTo>
                        <a:pt x="633" y="30"/>
                      </a:lnTo>
                      <a:lnTo>
                        <a:pt x="633" y="30"/>
                      </a:lnTo>
                      <a:lnTo>
                        <a:pt x="648" y="30"/>
                      </a:lnTo>
                      <a:lnTo>
                        <a:pt x="656" y="30"/>
                      </a:lnTo>
                      <a:lnTo>
                        <a:pt x="664" y="30"/>
                      </a:lnTo>
                      <a:lnTo>
                        <a:pt x="671" y="30"/>
                      </a:lnTo>
                      <a:lnTo>
                        <a:pt x="671" y="20"/>
                      </a:lnTo>
                      <a:lnTo>
                        <a:pt x="687" y="10"/>
                      </a:lnTo>
                      <a:lnTo>
                        <a:pt x="695" y="20"/>
                      </a:lnTo>
                      <a:lnTo>
                        <a:pt x="702" y="20"/>
                      </a:lnTo>
                      <a:lnTo>
                        <a:pt x="710" y="20"/>
                      </a:lnTo>
                      <a:lnTo>
                        <a:pt x="718" y="30"/>
                      </a:lnTo>
                      <a:lnTo>
                        <a:pt x="725" y="20"/>
                      </a:lnTo>
                      <a:lnTo>
                        <a:pt x="733" y="10"/>
                      </a:lnTo>
                      <a:lnTo>
                        <a:pt x="733" y="10"/>
                      </a:lnTo>
                      <a:lnTo>
                        <a:pt x="749" y="30"/>
                      </a:lnTo>
                      <a:lnTo>
                        <a:pt x="756" y="30"/>
                      </a:lnTo>
                      <a:lnTo>
                        <a:pt x="756" y="20"/>
                      </a:lnTo>
                      <a:lnTo>
                        <a:pt x="772" y="20"/>
                      </a:lnTo>
                      <a:lnTo>
                        <a:pt x="779" y="10"/>
                      </a:lnTo>
                      <a:lnTo>
                        <a:pt x="787" y="10"/>
                      </a:lnTo>
                      <a:lnTo>
                        <a:pt x="795" y="20"/>
                      </a:lnTo>
                      <a:lnTo>
                        <a:pt x="803" y="10"/>
                      </a:lnTo>
                      <a:lnTo>
                        <a:pt x="810" y="30"/>
                      </a:lnTo>
                      <a:lnTo>
                        <a:pt x="818" y="30"/>
                      </a:lnTo>
                      <a:lnTo>
                        <a:pt x="826" y="30"/>
                      </a:lnTo>
                      <a:lnTo>
                        <a:pt x="826" y="3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1795320" y="3762360"/>
                <a:ext cx="0" cy="140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06480" y="5220360"/>
                <a:ext cx="0" cy="140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44080" y="4433040"/>
                <a:ext cx="55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5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44440" y="5861160"/>
                <a:ext cx="68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P20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7332120" y="3907080"/>
              <a:ext cx="185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4 non déplété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38600" y="46483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4 déplété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38600" y="535464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R4 non déplété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32120" y="6093720"/>
              <a:ext cx="1851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raction F3=P1?=D1?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83640" y="629100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83640" y="548460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90840" y="473256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8400" y="418140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447800" y="397980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0120" y="416124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05120" y="415440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433040" y="449748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45000" y="477936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90000" y="477252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33040" y="542448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45000" y="560556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90000" y="5599080"/>
              <a:ext cx="0" cy="160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73120" y="397332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08480" y="375408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9400" y="413136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65080" y="3968640"/>
              <a:ext cx="33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24520" y="45453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02440" y="44636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65800" y="462384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3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84240" y="4732560"/>
              <a:ext cx="34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4</a:t>
              </a:r>
              <a:endParaRPr b="0" lang="en-US" sz="1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762120" y="3581280"/>
            <a:ext cx="8915400" cy="1600200"/>
            <a:chOff x="762120" y="3581280"/>
            <a:chExt cx="8915400" cy="1600200"/>
          </a:xfrm>
        </p:grpSpPr>
        <p:sp>
          <p:nvSpPr>
            <p:cNvPr id="366" name=""/>
            <p:cNvSpPr/>
            <p:nvPr/>
          </p:nvSpPr>
          <p:spPr>
            <a:xfrm>
              <a:off x="1833480" y="4038480"/>
              <a:ext cx="733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Arial"/>
                </a:rPr>
                <a:t>APPEL A SEROTHEQUES ET PLASMATHEQUES *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66680" y="4114800"/>
              <a:ext cx="457200" cy="257040"/>
            </a:xfrm>
            <a:prstGeom prst="rightArrow">
              <a:avLst>
                <a:gd name="adj1" fmla="val 50000"/>
                <a:gd name="adj2" fmla="val 44468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2120" y="3581280"/>
              <a:ext cx="8915400" cy="160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08440" y="228600"/>
            <a:ext cx="10040040" cy="6479640"/>
            <a:chOff x="208440" y="228600"/>
            <a:chExt cx="10040040" cy="6479640"/>
          </a:xfrm>
        </p:grpSpPr>
        <p:grpSp>
          <p:nvGrpSpPr>
            <p:cNvPr id="370" name=""/>
            <p:cNvGrpSpPr/>
            <p:nvPr/>
          </p:nvGrpSpPr>
          <p:grpSpPr>
            <a:xfrm>
              <a:off x="380880" y="228600"/>
              <a:ext cx="9867600" cy="6478920"/>
              <a:chOff x="380880" y="228600"/>
              <a:chExt cx="9867600" cy="6478920"/>
            </a:xfrm>
          </p:grpSpPr>
          <p:graphicFrame>
            <p:nvGraphicFramePr>
              <p:cNvPr id="371" name=""/>
              <p:cNvGraphicFramePr/>
              <p:nvPr/>
            </p:nvGraphicFramePr>
            <p:xfrm>
              <a:off x="9144000" y="228600"/>
              <a:ext cx="958680" cy="549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9144000" y="228600"/>
                        <a:ext cx="958680" cy="54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3" name=""/>
              <p:cNvSpPr/>
              <p:nvPr/>
            </p:nvSpPr>
            <p:spPr>
              <a:xfrm>
                <a:off x="3938400" y="393840"/>
                <a:ext cx="23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Arial"/>
                  </a:rPr>
                  <a:t>Perspectives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0720" y="6308640"/>
                <a:ext cx="430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00"/>
                    </a:solidFill>
                    <a:latin typeface="Arial"/>
                  </a:rPr>
                  <a:t>XVIII CVV, Paris, 22 novembre 2005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0880" y="1371600"/>
                <a:ext cx="96775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identifications des protéines purifiées en cours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confirmations par d'autres techniques (western-blot, IP, ELISA...)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 </a:t>
                </a:r>
                <a:r>
                  <a:rPr b="0" lang="fr-FR" sz="2400" spc="-1" strike="noStrike">
                    <a:solidFill>
                      <a:srgbClr val="ffff00"/>
                    </a:solidFill>
                    <a:latin typeface="Arial"/>
                  </a:rPr>
                  <a:t>validations des candidats en tant que biomarqueurs : screening++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08440" y="6248520"/>
              <a:ext cx="39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00"/>
                  </a:solidFill>
                  <a:latin typeface="Times New Roman"/>
                </a:rPr>
                <a:t>* chantal.fournier@efs.sante.f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5940720" y="6308640"/>
            <a:ext cx="430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VIII CVV, Paris, 22 novembre 200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4021560" y="318960"/>
            <a:ext cx="28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merciem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1600200"/>
            <a:ext cx="289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NSERM U6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Physiopathologie Hépatiq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Sonia Mol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Patrick Maur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1082880" y="1600200"/>
            <a:ext cx="433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EFS P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R&amp;D Agents Transmissibles par Transfus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Sonia Moli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Joliette Cos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230840" y="3613320"/>
            <a:ext cx="396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RD UR 17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Immunologie Rétrovirale et Moléculai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Dorothée Miss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Francisco Véa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6126120" y="3613320"/>
            <a:ext cx="2533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mic Sans MS"/>
              </a:rPr>
              <a:t>IGH, CHU St Elo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Plateforme protéomiq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Stéphane Ro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00"/>
                </a:solidFill>
                <a:latin typeface="Comic Sans MS"/>
              </a:rPr>
              <a:t>Sylvain Lehman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3552120" y="5562720"/>
            <a:ext cx="36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upport financier : AN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9144000" y="228600"/>
          <a:ext cx="95868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0" y="228600"/>
                    <a:ext cx="95868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5:27:11Z</dcterms:created>
  <dc:creator>IMVRFC</dc:creator>
  <dc:description/>
  <dc:language>en-US</dc:language>
  <cp:lastModifiedBy>Chantal Fournier</cp:lastModifiedBy>
  <cp:lastPrinted>2005-06-30T09:17:44Z</cp:lastPrinted>
  <dcterms:modified xsi:type="dcterms:W3CDTF">2005-11-18T16:49:33Z</dcterms:modified>
  <cp:revision>448</cp:revision>
  <dc:subject/>
  <dc:title>Aucun titre de diapositive</dc:title>
</cp:coreProperties>
</file>