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4008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819000" y="738360"/>
            <a:ext cx="5220000" cy="365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C9C7-5302-43C3-B718-F32CD43EDC8E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9C87-4155-4EDC-BFA1-50DC9613C1AB}" type="slidenum"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-144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14320" y="733320"/>
            <a:ext cx="5234040" cy="36655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91720" y="4619160"/>
            <a:ext cx="5077080" cy="44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495-1B4C-4703-AD7A-5928DA36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5488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111-F845-494D-B8A1-4ED5CDDB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D51-EF20-4A55-96E0-2F010AEC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7BE-970C-49AE-8427-29F66991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BA7D-04D4-4319-80C9-13BFE0C8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489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5535-7B53-40E3-B7C9-FDAF9A5E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B3F8-E8DE-4C85-B519-60277207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9732-F041-4F6A-9DE1-EEB7D750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48A-BB19-45D1-ACB3-6D60677E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56952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D2F2-54E0-48A8-B350-82325C5A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F843-DDBC-4548-87FA-17BD01D5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489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5C6-4597-421A-84F0-28A07ECE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49BA-AE66-4C05-925F-8C400B2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32C9-C216-46B5-B08F-0FFD33E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85488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6B90-B21B-4455-B3A9-377C170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734D-1F1F-4D9C-BA48-D43AB883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84896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854880"/>
            <a:ext cx="250236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2434-04BB-4972-A80B-E7B87C17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4F48-4749-446F-B67F-2FB1E55B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36B-A656-4A39-AA4B-6700EDAD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158C-46C4-4BED-A966-67363F5D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6952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1A94-6BED-420F-8C9A-9F0CBBAC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FDF2-0123-41D4-BBFF-354959B6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85488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8559-6C4C-4073-B9B2-A89A857C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48960"/>
            <a:ext cx="37926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54880"/>
            <a:ext cx="7772400" cy="183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77F-E34A-4E49-9A14-DE805176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2779640"/>
            <a:chOff x="-8410320" y="1440"/>
            <a:chExt cx="17543160" cy="12779640"/>
          </a:xfrm>
        </p:grpSpPr>
        <p:sp>
          <p:nvSpPr>
            <p:cNvPr id="1" name=""/>
            <p:cNvSpPr/>
            <p:nvPr/>
          </p:nvSpPr>
          <p:spPr>
            <a:xfrm>
              <a:off x="5388120" y="1480320"/>
              <a:ext cx="3744720" cy="491076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2779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569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8489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rmAutofit fontScale="96000"/>
          </a:bodyPr>
          <a:p>
            <a:pPr marL="319680" indent="-319680">
              <a:spcBef>
                <a:spcPts val="774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691560" indent="-26496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4880" indent="-213120">
              <a:spcBef>
                <a:spcPts val="774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491840" indent="-213120">
              <a:spcBef>
                <a:spcPts val="774"/>
              </a:spcBef>
              <a:buClr>
                <a:srgbClr val="ffffff"/>
              </a:buClr>
              <a:buFont typeface="Times New Roman"/>
              <a:buChar char="–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8440" indent="-213480">
              <a:spcBef>
                <a:spcPts val="774"/>
              </a:spcBef>
              <a:buClr>
                <a:srgbClr val="00ffff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8440" indent="-2134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8440" indent="-213480">
              <a:spcBef>
                <a:spcPts val="774"/>
              </a:spcBef>
              <a:buClr>
                <a:srgbClr val="ffffff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5830560"/>
            <a:ext cx="289584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811510BD-E15A-4717-BBEC-1B8F8C1AF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ABO-LCL%20blanc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363320"/>
            <a:ext cx="16905240" cy="10074600"/>
            <a:chOff x="-7761240" y="1363320"/>
            <a:chExt cx="16905240" cy="10074600"/>
          </a:xfrm>
        </p:grpSpPr>
        <p:sp>
          <p:nvSpPr>
            <p:cNvPr id="46" name=""/>
            <p:cNvSpPr/>
            <p:nvPr/>
          </p:nvSpPr>
          <p:spPr>
            <a:xfrm>
              <a:off x="3271680" y="2528640"/>
              <a:ext cx="5872320" cy="387180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363320"/>
              <a:ext cx="13452120" cy="1007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11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4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5830560"/>
            <a:ext cx="289584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5830560"/>
            <a:ext cx="1905120" cy="4287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lstStyle>
            <a:lvl1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4AAD413F-43DE-428B-A66E-0386C2517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ABO-LCL%20blanc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114300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19320" y="1371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4419720"/>
            <a:ext cx="5410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T.D. LY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Times New Roman"/>
              </a:rPr>
              <a:t>L.C.L (Laboratoire Claude Lévy)  Ivry sur Seine F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lloque de virologie  de Versail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2 novembre  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19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Mise au point sur les performances des trousses de dépistage combiné Ag/Ac du VI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-380880" y="-609480"/>
          <a:ext cx="10058400" cy="754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-609480"/>
                    <a:ext cx="1005840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5335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rcit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AxSy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ure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4343400"/>
            <a:ext cx="10666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4343400"/>
            <a:ext cx="838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4343400"/>
            <a:ext cx="8384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o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4320" y="4343400"/>
            <a:ext cx="9903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Ult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343400"/>
            <a:ext cx="914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idas Du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924680" y="4343400"/>
            <a:ext cx="9907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Genscreen 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6483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6,6-41,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5,2-1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12-72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6,3-83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4648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9,2-45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86,9-2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4724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29,7-234,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48720" y="4876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42,3-&gt; 5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10280" y="4876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Times New Roman"/>
              </a:rPr>
              <a:t>7,3-180,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8098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053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25146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41008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73392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22860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3886200"/>
            <a:ext cx="457200" cy="0"/>
          </a:xfrm>
          <a:prstGeom prst="line">
            <a:avLst/>
          </a:prstGeom>
          <a:ln w="38160">
            <a:solidFill>
              <a:srgbClr val="ff0033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5181480"/>
          <a:ext cx="8458200" cy="304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181480"/>
                    <a:ext cx="84582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981080" y="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3300"/>
                </a:solidFill>
                <a:latin typeface="Times New Roman"/>
              </a:rPr>
              <a:t>Limite de détection de l’Ag VIH avec 31 panels d’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5029200"/>
          <a:ext cx="666720" cy="228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029200"/>
                    <a:ext cx="6667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33520"/>
            <a:ext cx="9144000" cy="49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s résultats montrent l’importance de la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é des anticorps monoclonaux utilisés dans les trousses pour la détection d’Ag p24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ersmette et al., </a:t>
            </a:r>
            <a:r>
              <a:rPr b="1" lang="nl-NL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rology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1989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Detection and subtyping of HIV-1 isolates with a panel of characterized monoclonal antibodies to HIV p24 gag”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: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détection d’Ag p24 avec les anticorps monoclonaux sur certaines souches vir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00"/>
                </a:solidFill>
                <a:latin typeface="Times New Roman"/>
              </a:rPr>
              <a:t>Maniez et al, Spectra biologie, 1997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« Évaluation des trousses de dépistage de l’Ag p24 du VIH »: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7 trousses d’Ag p24 avec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ème de sensibilité vis-à-vis de certaines souches VIH-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1981080"/>
            <a:ext cx="8001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3360" indent="-333360">
              <a:spcBef>
                <a:spcPts val="774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00ff00"/>
                </a:solidFill>
                <a:latin typeface="Times New Roman"/>
              </a:rPr>
              <a:t>9 panels BBI 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6120">
              <a:spcBef>
                <a:spcPts val="675"/>
              </a:spcBef>
              <a:buClr>
                <a:srgbClr val="ffff00"/>
              </a:buClr>
              <a:buFont typeface="Times New Roman"/>
              <a:buChar char="•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en-US" sz="2700" spc="-1" strike="noStrike">
                <a:solidFill>
                  <a:srgbClr val="ffff00"/>
                </a:solidFill>
                <a:latin typeface="Times New Roman"/>
              </a:rPr>
              <a:t>923, 932, 941, 944, 952, 953, 954, 957, 958,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352680"/>
            <a:ext cx="8763120" cy="16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11 panels de NABI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SV-0251, 261, 281, 321, 331, 371, 401, 404, 4888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37748, 122399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5033880"/>
            <a:ext cx="76960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4 panels de BCP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9013, 9016, , 9017, 624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0"/>
            <a:ext cx="891540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sibilité clinique avec 24 Séroconversion Panels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BI, BCP, NABI (n=16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ux méthodes pour calculer en jours le retard de détection d’une primo-infection à 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914400"/>
          <a:ext cx="723888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7238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3581280" y="2819520"/>
            <a:ext cx="304920" cy="53316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89548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743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</a:rPr>
              <a:t>3 jo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2514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</a:rPr>
              <a:t>7 jou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3657600"/>
          <a:ext cx="723888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657600"/>
                    <a:ext cx="72388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733920" y="5334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</a:rPr>
              <a:t>1 jou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9528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Times New Roman"/>
              </a:rPr>
              <a:t>4 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5562720"/>
            <a:ext cx="304920" cy="533160"/>
          </a:xfrm>
          <a:custGeom>
            <a:avLst/>
            <a:gdLst>
              <a:gd name="textAreaLeft" fmla="*/ 40680 w 304920"/>
              <a:gd name="textAreaRight" fmla="*/ 264240 w 30492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638680"/>
            <a:ext cx="304560" cy="762120"/>
          </a:xfrm>
          <a:custGeom>
            <a:avLst/>
            <a:gdLst>
              <a:gd name="textAreaLeft" fmla="*/ 40680 w 304560"/>
              <a:gd name="textAreaRight" fmla="*/ 263880 w 30456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3753000"/>
            <a:ext cx="2666880" cy="2669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Paul Ehrlich Institut méthode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Times New Roman"/>
              </a:rPr>
              <a:t>(dernier échantillon négatif 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plus 1 jou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24480" y="1447920"/>
            <a:ext cx="2819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Méthode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 class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14360" y="0"/>
            <a:ext cx="85010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yenne minimale en jours de retard d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détection d’une infection récente avec 24 pa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33520" y="1215720"/>
            <a:ext cx="8610480" cy="4290840"/>
            <a:chOff x="533520" y="1215720"/>
            <a:chExt cx="8610480" cy="4290840"/>
          </a:xfrm>
        </p:grpSpPr>
        <p:grpSp>
          <p:nvGrpSpPr>
            <p:cNvPr id="215" name=""/>
            <p:cNvGrpSpPr/>
            <p:nvPr/>
          </p:nvGrpSpPr>
          <p:grpSpPr>
            <a:xfrm>
              <a:off x="552240" y="3378240"/>
              <a:ext cx="7759800" cy="465840"/>
              <a:chOff x="552240" y="3378240"/>
              <a:chExt cx="7759800" cy="465840"/>
            </a:xfrm>
          </p:grpSpPr>
          <p:sp>
            <p:nvSpPr>
              <p:cNvPr id="216" name=""/>
              <p:cNvSpPr/>
              <p:nvPr/>
            </p:nvSpPr>
            <p:spPr>
              <a:xfrm>
                <a:off x="6048360" y="3548160"/>
                <a:ext cx="38880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0" y="3548160"/>
                <a:ext cx="37152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25960" y="3548160"/>
                <a:ext cx="40644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5280" y="3548160"/>
                <a:ext cx="37152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182760" y="3548160"/>
                <a:ext cx="37152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105520" y="3548160"/>
                <a:ext cx="37152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010280" y="3581280"/>
                <a:ext cx="38736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52240" y="3495600"/>
                <a:ext cx="308520" cy="29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Eurostile"/>
                  </a:rPr>
                  <a:t>0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4792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39400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4152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6708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3548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18156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2944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77320" y="3378240"/>
                <a:ext cx="0" cy="203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924680" y="3581280"/>
                <a:ext cx="387360" cy="26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Eurostile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33520" y="1215720"/>
              <a:ext cx="8610480" cy="4290840"/>
              <a:chOff x="533520" y="1215720"/>
              <a:chExt cx="8610480" cy="4290840"/>
            </a:xfrm>
          </p:grpSpPr>
          <p:sp>
            <p:nvSpPr>
              <p:cNvPr id="234" name=""/>
              <p:cNvSpPr/>
              <p:nvPr/>
            </p:nvSpPr>
            <p:spPr>
              <a:xfrm>
                <a:off x="8163000" y="2895480"/>
                <a:ext cx="981000" cy="4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Jour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33520" y="3479760"/>
                <a:ext cx="8458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49360" y="1215720"/>
                <a:ext cx="0" cy="4290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" name=""/>
          <p:cNvGrpSpPr/>
          <p:nvPr/>
        </p:nvGrpSpPr>
        <p:grpSpPr>
          <a:xfrm>
            <a:off x="6324480" y="1676520"/>
            <a:ext cx="2560680" cy="3767400"/>
            <a:chOff x="6324480" y="1676520"/>
            <a:chExt cx="2560680" cy="3767400"/>
          </a:xfrm>
        </p:grpSpPr>
        <p:grpSp>
          <p:nvGrpSpPr>
            <p:cNvPr id="238" name=""/>
            <p:cNvGrpSpPr/>
            <p:nvPr/>
          </p:nvGrpSpPr>
          <p:grpSpPr>
            <a:xfrm>
              <a:off x="6324480" y="1676520"/>
              <a:ext cx="1981440" cy="1677240"/>
              <a:chOff x="6324480" y="1676520"/>
              <a:chExt cx="1981440" cy="1677240"/>
            </a:xfrm>
          </p:grpSpPr>
          <p:sp>
            <p:nvSpPr>
              <p:cNvPr id="239" name=""/>
              <p:cNvSpPr/>
              <p:nvPr/>
            </p:nvSpPr>
            <p:spPr>
              <a:xfrm flipH="1">
                <a:off x="7080120" y="1909080"/>
                <a:ext cx="10080" cy="1444680"/>
              </a:xfrm>
              <a:prstGeom prst="line">
                <a:avLst/>
              </a:prstGeom>
              <a:ln w="76320">
                <a:solidFill>
                  <a:srgbClr val="66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324480" y="1676520"/>
                <a:ext cx="1462320" cy="50652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fr-FR" sz="1400" spc="-1" strike="noStrike">
                    <a:solidFill>
                      <a:srgbClr val="0000ff"/>
                    </a:solidFill>
                    <a:latin typeface="Eurostile Bold"/>
                  </a:rPr>
                  <a:t>Genscreen v2 Ab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385320" y="2120760"/>
                <a:ext cx="61164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Eurostile Bold"/>
                  </a:rPr>
                  <a:t>6,92</a:t>
                </a:r>
                <a:r>
                  <a:rPr b="1" lang="en-US" sz="1400" spc="-1" strike="noStrike">
                    <a:solidFill>
                      <a:srgbClr val="6699ff"/>
                    </a:solidFill>
                    <a:latin typeface="Eurostile Bold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229160" y="2736720"/>
                <a:ext cx="60552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Eurostile"/>
                  </a:rPr>
                  <a:t>6,96</a:t>
                </a:r>
                <a:r>
                  <a:rPr b="1" lang="en-US" sz="1200" spc="-1" strike="noStrike">
                    <a:solidFill>
                      <a:srgbClr val="6699ff"/>
                    </a:solidFill>
                    <a:latin typeface="Eurostile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16840" y="2286000"/>
                <a:ext cx="1189080" cy="506520"/>
              </a:xfrm>
              <a:prstGeom prst="rect">
                <a:avLst/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fr-FR" sz="1400" spc="-1" strike="noStrike">
                    <a:solidFill>
                      <a:srgbClr val="0000ff"/>
                    </a:solidFill>
                    <a:latin typeface="Eurostile"/>
                  </a:rPr>
                  <a:t>Ortho     Ab Capture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400800" y="4067280"/>
              <a:ext cx="1600200" cy="506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Eurostile"/>
                </a:rPr>
                <a:t>Behring Integral Ag-A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86040" y="3760920"/>
              <a:ext cx="605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"/>
                </a:rPr>
                <a:t>7,87</a:t>
              </a:r>
              <a:r>
                <a:rPr b="1" lang="en-US" sz="1200" spc="-1" strike="noStrike">
                  <a:solidFill>
                    <a:srgbClr val="33ccff"/>
                  </a:solidFill>
                  <a:latin typeface="Eurostile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238880" y="4724280"/>
              <a:ext cx="1646280" cy="719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Eurostile"/>
                </a:rPr>
                <a:t>Organon                 Uniform II Ag-Ab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18440" y="4462560"/>
              <a:ext cx="54468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Eurostile"/>
                </a:rPr>
                <a:t>8,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924680" y="3581280"/>
              <a:ext cx="0" cy="9144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153280" y="3580920"/>
              <a:ext cx="0" cy="121932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191120" y="2209680"/>
            <a:ext cx="1218960" cy="1298520"/>
            <a:chOff x="4191120" y="2209680"/>
            <a:chExt cx="1218960" cy="1298520"/>
          </a:xfrm>
        </p:grpSpPr>
        <p:sp>
          <p:nvSpPr>
            <p:cNvPr id="251" name=""/>
            <p:cNvSpPr/>
            <p:nvPr/>
          </p:nvSpPr>
          <p:spPr>
            <a:xfrm>
              <a:off x="4343400" y="2438280"/>
              <a:ext cx="1440" cy="10699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65080" y="2590920"/>
              <a:ext cx="565920" cy="323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Eurostile"/>
                </a:rPr>
                <a:t>3.9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91120" y="2209680"/>
              <a:ext cx="1218960" cy="5670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Eurostile"/>
                </a:rPr>
                <a:t>Coulter 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343400" y="1473120"/>
            <a:ext cx="2286000" cy="4787640"/>
            <a:chOff x="4343400" y="1473120"/>
            <a:chExt cx="2286000" cy="4787640"/>
          </a:xfrm>
        </p:grpSpPr>
        <p:grpSp>
          <p:nvGrpSpPr>
            <p:cNvPr id="255" name=""/>
            <p:cNvGrpSpPr/>
            <p:nvPr/>
          </p:nvGrpSpPr>
          <p:grpSpPr>
            <a:xfrm>
              <a:off x="4343400" y="1473120"/>
              <a:ext cx="1815480" cy="1879560"/>
              <a:chOff x="4343400" y="1473120"/>
              <a:chExt cx="1815480" cy="1879560"/>
            </a:xfrm>
          </p:grpSpPr>
          <p:sp>
            <p:nvSpPr>
              <p:cNvPr id="256" name=""/>
              <p:cNvSpPr/>
              <p:nvPr/>
            </p:nvSpPr>
            <p:spPr>
              <a:xfrm>
                <a:off x="5410080" y="1905120"/>
                <a:ext cx="0" cy="1447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547240" y="1968480"/>
                <a:ext cx="611640" cy="32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920" rIns="79920" tIns="39960" bIns="3996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Eurostile Bold"/>
                  </a:rPr>
                  <a:t>5,37</a:t>
                </a:r>
                <a:r>
                  <a:rPr b="1" lang="en-US" sz="1400" spc="-1" strike="noStrike">
                    <a:solidFill>
                      <a:srgbClr val="33cccc"/>
                    </a:solidFill>
                    <a:latin typeface="Eurostile Bold"/>
                  </a:rPr>
                  <a:t>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43400" y="1473120"/>
                <a:ext cx="1782720" cy="50652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920" rIns="79920" tIns="39960" bIns="399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00280"/>
                    <a:tab algn="l" pos="1600200"/>
                    <a:tab algn="l" pos="2400480"/>
                    <a:tab algn="l" pos="3200400"/>
                    <a:tab algn="l" pos="4000680"/>
                    <a:tab algn="l" pos="4800600"/>
                    <a:tab algn="l" pos="5600880"/>
                    <a:tab algn="l" pos="6400800"/>
                    <a:tab algn="l" pos="7201080"/>
                    <a:tab algn="l" pos="8001000"/>
                    <a:tab algn="l" pos="8801280"/>
                    <a:tab algn="l" pos="9601200"/>
                    <a:tab algn="l" pos="10401480"/>
                  </a:tabLst>
                </a:pPr>
                <a:r>
                  <a:rPr b="1" lang="fr-FR" sz="1400" spc="-1" strike="noStrike">
                    <a:solidFill>
                      <a:srgbClr val="0000ff"/>
                    </a:solidFill>
                    <a:latin typeface="Eurostile Bold"/>
                  </a:rPr>
                  <a:t>Genscreen Plus Ag-A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4800600" y="3580920"/>
              <a:ext cx="1828800" cy="2679840"/>
              <a:chOff x="4800600" y="3580920"/>
              <a:chExt cx="1828800" cy="26798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4800600" y="3580920"/>
                <a:ext cx="1828800" cy="2679840"/>
                <a:chOff x="4800600" y="3580920"/>
                <a:chExt cx="1828800" cy="2679840"/>
              </a:xfrm>
            </p:grpSpPr>
            <p:grpSp>
              <p:nvGrpSpPr>
                <p:cNvPr id="261" name=""/>
                <p:cNvGrpSpPr/>
                <p:nvPr/>
              </p:nvGrpSpPr>
              <p:grpSpPr>
                <a:xfrm>
                  <a:off x="4800600" y="3581280"/>
                  <a:ext cx="1828800" cy="2679480"/>
                  <a:chOff x="4800600" y="3581280"/>
                  <a:chExt cx="1828800" cy="2679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4847760" y="4184640"/>
                    <a:ext cx="60552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9920" rIns="79920" tIns="39960" bIns="399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Eurostile"/>
                      </a:rPr>
                      <a:t>4,79</a:t>
                    </a:r>
                    <a:r>
                      <a:rPr b="1" lang="en-US" sz="1200" spc="-1" strike="noStrike">
                        <a:solidFill>
                          <a:srgbClr val="33ccff"/>
                        </a:solidFill>
                        <a:latin typeface="Eurostile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400360" y="5937120"/>
                    <a:ext cx="60552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9920" rIns="79920" tIns="39960" bIns="399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Eurostile"/>
                      </a:rPr>
                      <a:t>5,41</a:t>
                    </a:r>
                    <a:r>
                      <a:rPr b="1" lang="en-US" sz="1200" spc="-1" strike="noStrike">
                        <a:solidFill>
                          <a:srgbClr val="33ccff"/>
                        </a:solidFill>
                        <a:latin typeface="Eurostile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095440" y="5099040"/>
                    <a:ext cx="605520" cy="32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79920" rIns="79920" tIns="39960" bIns="3996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Eurostile"/>
                      </a:rPr>
                      <a:t>5,21</a:t>
                    </a:r>
                    <a:r>
                      <a:rPr b="1" lang="en-US" sz="1200" spc="-1" strike="noStrike">
                        <a:solidFill>
                          <a:srgbClr val="33ccff"/>
                        </a:solidFill>
                        <a:latin typeface="Eurostile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800600" y="3962520"/>
                    <a:ext cx="1441440" cy="29340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9920" rIns="79920" tIns="39960" bIns="3996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fr-FR" sz="1400" spc="-1" strike="noStrike">
                        <a:solidFill>
                          <a:srgbClr val="0000ff"/>
                        </a:solidFill>
                        <a:latin typeface="Eurostile"/>
                      </a:rPr>
                      <a:t>Murex Ag-A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029200" y="4648320"/>
                    <a:ext cx="1295280" cy="50652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9920" rIns="79920" tIns="39960" bIns="3996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fr-FR" sz="1400" spc="-1" strike="noStrike">
                        <a:solidFill>
                          <a:srgbClr val="0000ff"/>
                        </a:solidFill>
                        <a:latin typeface="Eurostile"/>
                      </a:rPr>
                      <a:t>Cobas Core Ag-A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334120" y="5486400"/>
                    <a:ext cx="1295280" cy="506520"/>
                  </a:xfrm>
                  <a:prstGeom prst="rect">
                    <a:avLst/>
                  </a:prstGeom>
                  <a:solidFill>
                    <a:srgbClr val="33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9920" rIns="79920" tIns="39960" bIns="3996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800280"/>
                        <a:tab algn="l" pos="1600200"/>
                        <a:tab algn="l" pos="2400480"/>
                        <a:tab algn="l" pos="3200400"/>
                        <a:tab algn="l" pos="4000680"/>
                        <a:tab algn="l" pos="4800600"/>
                        <a:tab algn="l" pos="5600880"/>
                        <a:tab algn="l" pos="6400800"/>
                        <a:tab algn="l" pos="7201080"/>
                        <a:tab algn="l" pos="8001000"/>
                        <a:tab algn="l" pos="8801280"/>
                        <a:tab algn="l" pos="9601200"/>
                        <a:tab algn="l" pos="10401480"/>
                      </a:tabLst>
                    </a:pPr>
                    <a:r>
                      <a:rPr b="1" lang="fr-FR" sz="1400" spc="-1" strike="noStrike">
                        <a:solidFill>
                          <a:srgbClr val="0000ff"/>
                        </a:solidFill>
                        <a:latin typeface="Eurostile"/>
                      </a:rPr>
                      <a:t>Modular ECL Ag-A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105520" y="3581280"/>
                    <a:ext cx="0" cy="457200"/>
                  </a:xfrm>
                  <a:prstGeom prst="line">
                    <a:avLst/>
                  </a:prstGeom>
                  <a:ln w="76320">
                    <a:solidFill>
                      <a:srgbClr val="33ccff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334120" y="4299120"/>
                    <a:ext cx="0" cy="380880"/>
                  </a:xfrm>
                  <a:prstGeom prst="line">
                    <a:avLst/>
                  </a:prstGeom>
                  <a:ln w="76320">
                    <a:solidFill>
                      <a:srgbClr val="33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638680" y="5181480"/>
                    <a:ext cx="0" cy="304920"/>
                  </a:xfrm>
                  <a:prstGeom prst="line">
                    <a:avLst/>
                  </a:prstGeom>
                  <a:ln w="76320">
                    <a:solidFill>
                      <a:srgbClr val="33cc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1" name=""/>
                <p:cNvSpPr/>
                <p:nvPr/>
              </p:nvSpPr>
              <p:spPr>
                <a:xfrm flipV="1">
                  <a:off x="5638680" y="3580920"/>
                  <a:ext cx="0" cy="304920"/>
                </a:xfrm>
                <a:prstGeom prst="line">
                  <a:avLst/>
                </a:prstGeom>
                <a:ln w="76320">
                  <a:solidFill>
                    <a:srgbClr val="33cc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V="1">
                  <a:off x="5334120" y="3580920"/>
                  <a:ext cx="0" cy="304920"/>
                </a:xfrm>
                <a:prstGeom prst="line">
                  <a:avLst/>
                </a:prstGeom>
                <a:ln w="76320">
                  <a:solidFill>
                    <a:srgbClr val="33cc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638680" y="4299120"/>
                <a:ext cx="0" cy="304560"/>
              </a:xfrm>
              <a:prstGeom prst="line">
                <a:avLst/>
              </a:prstGeom>
              <a:ln w="76320">
                <a:solidFill>
                  <a:srgbClr val="3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4" name=""/>
          <p:cNvSpPr/>
          <p:nvPr/>
        </p:nvSpPr>
        <p:spPr>
          <a:xfrm>
            <a:off x="0" y="5867280"/>
            <a:ext cx="52578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fr-FR" sz="1600" spc="-1" strike="noStrike">
                <a:solidFill>
                  <a:srgbClr val="ff0033"/>
                </a:solidFill>
                <a:latin typeface="Times New Roman"/>
              </a:rPr>
              <a:t>Méthode Paul Erhlich Institut (PEI) (négative + 1 jou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200400"/>
            <a:ext cx="13716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36440" y="3586320"/>
            <a:ext cx="824040" cy="768240"/>
            <a:chOff x="136440" y="3586320"/>
            <a:chExt cx="824040" cy="768240"/>
          </a:xfrm>
        </p:grpSpPr>
        <p:sp>
          <p:nvSpPr>
            <p:cNvPr id="277" name=""/>
            <p:cNvSpPr/>
            <p:nvPr/>
          </p:nvSpPr>
          <p:spPr>
            <a:xfrm rot="10800000">
              <a:off x="458280" y="3586320"/>
              <a:ext cx="158760" cy="768240"/>
            </a:xfrm>
            <a:prstGeom prst="downArrow">
              <a:avLst>
                <a:gd name="adj1" fmla="val 50000"/>
                <a:gd name="adj2" fmla="val 12097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6440" y="3970440"/>
              <a:ext cx="824040" cy="3236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Eurostile"/>
                </a:rPr>
                <a:t>PC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533520" y="3124080"/>
            <a:ext cx="3352680" cy="228600"/>
          </a:xfrm>
          <a:custGeom>
            <a:avLst/>
            <a:gdLst>
              <a:gd name="textAreaLeft" fmla="*/ 586440 w 3352680"/>
              <a:gd name="textAreaRight" fmla="*/ 2430720 w 33526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47920" y="1281240"/>
            <a:ext cx="3581280" cy="4605120"/>
            <a:chOff x="1447920" y="1281240"/>
            <a:chExt cx="3581280" cy="4605120"/>
          </a:xfrm>
        </p:grpSpPr>
        <p:sp>
          <p:nvSpPr>
            <p:cNvPr id="281" name=""/>
            <p:cNvSpPr/>
            <p:nvPr/>
          </p:nvSpPr>
          <p:spPr>
            <a:xfrm>
              <a:off x="4155480" y="4724280"/>
              <a:ext cx="56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"/>
                </a:rPr>
                <a:t>4,0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9000" y="4419720"/>
              <a:ext cx="1600200" cy="32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Eurostile"/>
                </a:rPr>
                <a:t>AxSYM Ag-A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400" y="2286000"/>
              <a:ext cx="1752480" cy="567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Eurostile"/>
                </a:rPr>
                <a:t>ARCHITECT Ag-A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47560" y="2889360"/>
              <a:ext cx="605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"/>
                </a:rPr>
                <a:t>3,54</a:t>
              </a:r>
              <a:r>
                <a:rPr b="1" lang="en-US" sz="1200" spc="-1" strike="noStrike">
                  <a:solidFill>
                    <a:srgbClr val="33ccff"/>
                  </a:solidFill>
                  <a:latin typeface="Eurostile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343400" y="3581280"/>
              <a:ext cx="0" cy="9144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2819520"/>
              <a:ext cx="0" cy="6094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7920" y="1281240"/>
              <a:ext cx="2743200" cy="567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fr-FR" sz="1600" spc="-1" strike="noStrike">
                  <a:solidFill>
                    <a:srgbClr val="0000ff"/>
                  </a:solidFill>
                  <a:latin typeface="Eurostile Bold"/>
                </a:rPr>
                <a:t>GENSCREEN  ULTRA</a:t>
              </a:r>
              <a:r>
                <a:rPr b="1" lang="fr-FR" sz="1400" spc="-1" strike="noStrike">
                  <a:solidFill>
                    <a:srgbClr val="0000ff"/>
                  </a:solidFill>
                  <a:latin typeface="Eurostile Bold"/>
                </a:rPr>
                <a:t>   </a:t>
              </a:r>
              <a:r>
                <a:rPr b="1" lang="fr-FR" sz="1600" spc="-1" strike="noStrike">
                  <a:solidFill>
                    <a:srgbClr val="0000ff"/>
                  </a:solidFill>
                  <a:latin typeface="Eurostile Bold"/>
                </a:rPr>
                <a:t>Ag-A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76720" y="1828800"/>
              <a:ext cx="70776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 Bold"/>
                </a:rPr>
                <a:t>3,6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86200" y="1728720"/>
              <a:ext cx="190440" cy="1665360"/>
            </a:xfrm>
            <a:prstGeom prst="downArrow">
              <a:avLst>
                <a:gd name="adj1" fmla="val 50000"/>
                <a:gd name="adj2" fmla="val 21862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886200" y="3429000"/>
              <a:ext cx="0" cy="99072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352680" y="3505320"/>
              <a:ext cx="0" cy="1371600"/>
            </a:xfrm>
            <a:prstGeom prst="line">
              <a:avLst/>
            </a:prstGeom>
            <a:ln w="76320">
              <a:solidFill>
                <a:srgbClr val="33cc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886200" y="4647960"/>
              <a:ext cx="0" cy="6094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71800" y="5257800"/>
              <a:ext cx="1440000" cy="32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Eurostile"/>
                </a:rPr>
                <a:t>Vidas Quic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05120" y="4800600"/>
              <a:ext cx="1439640" cy="3236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Eurostile"/>
                </a:rPr>
                <a:t>Vidas U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79520" y="5562720"/>
              <a:ext cx="56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"/>
                </a:rPr>
                <a:t>3,6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22120" y="5105520"/>
              <a:ext cx="5659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Eurostile"/>
                </a:rPr>
                <a:t>3,1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8915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ensibilité de détection des anticorps anti-VIH-1/2 chez les patients infectés dans différentes régions du monde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(n=66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219320"/>
            <a:ext cx="937260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fr-FR" sz="2700" spc="-1" strike="noStrike">
                <a:solidFill>
                  <a:srgbClr val="ffff00"/>
                </a:solidFill>
                <a:latin typeface="Times New Roman"/>
              </a:rPr>
              <a:t>553 échantillons VIH-1-M :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3</a:t>
            </a:r>
            <a:r>
              <a:rPr b="1" i="1" lang="fr-FR" sz="3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sous-type A:  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5 sous-type B:  Brésil, Cameroun,Thaïlande, Afrique du Sud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71 sous-type C: 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40 sous-type D:  Cameroun, Afrique du Sud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11 sous-type F:  Argentine, Brésil, Cameroun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 sous-type G:   Cameroun, Ghan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83 CRF01-AE:  Thaïla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92</a:t>
            </a:r>
            <a:r>
              <a:rPr b="1" i="1" lang="fr-F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CRF01-AG: Cameroun, Grande Bretag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ffff00"/>
                </a:solidFill>
                <a:latin typeface="Times New Roman"/>
              </a:rPr>
              <a:t>59 Mosaïques : Argentine, Brésil ,Cameroun, Ghana, Uganda, Grande Bretagne, Fr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66ff66"/>
                </a:solidFill>
                <a:latin typeface="Times New Roman"/>
              </a:rPr>
              <a:t>6 échantillons VIH-1-O </a:t>
            </a:r>
            <a:r>
              <a:rPr b="1" lang="fr-FR" sz="1800" spc="-1" strike="noStrike">
                <a:solidFill>
                  <a:srgbClr val="66ff66"/>
                </a:solidFill>
                <a:latin typeface="Times New Roman"/>
              </a:rPr>
              <a:t>(France, USA, Espagne, Cameroun, ESP2, 08692A, ABB009/96, ABB141/98, Ess, Ru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09880" indent="-209880">
              <a:spcBef>
                <a:spcPts val="675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i="1" lang="fr-FR" sz="2700" spc="-1" strike="noStrike">
                <a:solidFill>
                  <a:srgbClr val="ffffff"/>
                </a:solidFill>
                <a:latin typeface="Times New Roman"/>
              </a:rPr>
              <a:t>110 échantillons VIH-2 </a:t>
            </a:r>
            <a:r>
              <a:rPr b="1" lang="fr-FR" sz="2700" spc="-1" strike="noStrike">
                <a:solidFill>
                  <a:srgbClr val="ffffff"/>
                </a:solidFill>
                <a:latin typeface="Times New Roman"/>
              </a:rPr>
              <a:t>(Afrique de l’Ouest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4479840"/>
            <a:ext cx="556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4719600"/>
            <a:ext cx="9144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DAS DUO 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F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v.2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groupe O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nzygnost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v.2</a:t>
            </a:r>
            <a:r>
              <a:rPr b="1" lang="en-GB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 VIH-1 sous-type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0"/>
          <a:ext cx="914400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3429000" y="54864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5562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Échantillons pré-sérocon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52280" y="923760"/>
            <a:ext cx="89917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imes New Roman"/>
              </a:rPr>
              <a:t>1 005 échantillons de négatifs en VIH-1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venant de  4 laboratoires privés d’analyses médi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631960"/>
            <a:ext cx="7162920" cy="45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-  2 à Pari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e d’exploration fonctionnelle Paris 13èm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re Suchet Paris 19è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- 2 en Bretagne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oratoire Morvan Mascart à Paimpo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oratoire Tréguier Lemoine à Lann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3880" y="35568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Étude de spécificit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5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pécificités de 12 tests de dépistage du VI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(1 005 VIH négative pati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7150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AS DUO, Vidas Ultra, Vironostika et Genscreen HIV1/2 v.2 présentent un taux élevé de faux positifs non répéta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143000"/>
          <a:ext cx="91440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505320" y="365760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5320" y="411480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5320" y="457200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05320" y="487692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541008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43800" y="2362320"/>
            <a:ext cx="304920" cy="457200"/>
          </a:xfrm>
          <a:custGeom>
            <a:avLst/>
            <a:gdLst>
              <a:gd name="textAreaLeft" fmla="*/ 40680 w 304920"/>
              <a:gd name="textAreaRight" fmla="*/ 264240 w 30492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3429000"/>
            <a:ext cx="761760" cy="0"/>
          </a:xfrm>
          <a:prstGeom prst="line">
            <a:avLst/>
          </a:prstGeom>
          <a:ln w="5724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0492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ints faibl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s premiers  tests Combo VI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362320"/>
            <a:ext cx="4495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Spécif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Moins bonne vis à vis  des tests d’anticorps anti-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2362320"/>
            <a:ext cx="4495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Sensibil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Times New Roman"/>
              </a:rPr>
              <a:t>Moins performante vis à vis des tests d’antigène p2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819520" y="6094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lusions (1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0574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rtaines nouvelles trousses Combinées Ag/Ac présentent une très bonne spécificité et une meilleure sensibilité vis-à-vis des tests de 3</a:t>
            </a:r>
            <a:r>
              <a:rPr b="1" lang="fr-FR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ème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génération avec une </a:t>
            </a:r>
            <a:r>
              <a:rPr b="1" lang="fr-FR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éduction de 3 jours minimum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dans la fenêtre de séroconvers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0040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lusions (2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129528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Vidas Ultra, Vidas Quick, ARCHITECT, Genscreen Ultra,  </a:t>
            </a:r>
            <a:r>
              <a:rPr b="1" lang="fr-FR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AxSYM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ésentent une meilleure sensibilit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04920" y="3505320"/>
            <a:ext cx="861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rmi les tests Combo, Architect, Genscreen Plus, AxSYM Combo , Modular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99ff99"/>
                </a:solidFill>
                <a:latin typeface="Times New Roman"/>
                <a:ea typeface="Times New Roman"/>
              </a:rPr>
              <a:t>et </a:t>
            </a:r>
            <a:r>
              <a:rPr b="1" lang="fr-FR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Genscreen Ultra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t une excellente spécificité 100 % , 99.9% et 99.8%.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clusions (3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858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te tenu de la performance de certaines trousses Combinées Ag/Ac de dépistage du VIH, il faut penser à demander la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cherche de l’Ag p24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t de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ôler la sérologie dans 15 jours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ur ne pas passer à côté d’une primo-inf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3733920"/>
            <a:ext cx="46483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Test Combiné (Ag/Ac)       posi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3</a:t>
            </a:r>
            <a:r>
              <a:rPr b="1" lang="fr-FR" sz="2400" spc="-1" strike="noStrike" baseline="30000">
                <a:solidFill>
                  <a:srgbClr val="ff0033"/>
                </a:solidFill>
                <a:latin typeface="Times New Roman"/>
              </a:rPr>
              <a:t>ème </a:t>
            </a:r>
            <a:r>
              <a:rPr b="1" lang="fr-FR" sz="2400" spc="-1" strike="noStrike">
                <a:solidFill>
                  <a:srgbClr val="ff0033"/>
                </a:solidFill>
                <a:latin typeface="Times New Roman"/>
              </a:rPr>
              <a:t>Génération                  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IgG+ Ig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388620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76920" y="4343400"/>
            <a:ext cx="1371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4038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’Ag p2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410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5 jours après,  un contrôle de sérolog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3200400"/>
            <a:ext cx="2209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Western blot (Ig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934320" y="2819520"/>
            <a:ext cx="1828800" cy="1295280"/>
            <a:chOff x="6934320" y="2819520"/>
            <a:chExt cx="1828800" cy="1295280"/>
          </a:xfrm>
        </p:grpSpPr>
        <p:sp>
          <p:nvSpPr>
            <p:cNvPr id="335" name=""/>
            <p:cNvSpPr/>
            <p:nvPr/>
          </p:nvSpPr>
          <p:spPr>
            <a:xfrm flipH="1">
              <a:off x="6934320" y="2895840"/>
              <a:ext cx="1828800" cy="1143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4320" y="2819520"/>
              <a:ext cx="1676520" cy="129528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228600"/>
            <a:ext cx="914400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00"/>
                </a:solidFill>
                <a:latin typeface="Times New Roman"/>
              </a:rPr>
              <a:t>No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</a:rPr>
              <a:t>GENSCREEN® ULTRA HIV Ag-Ab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est une technique immuno-enzymatique basée sur la détection de l’antigène VIH p24 et des anticorps anti-VIH-1 (groupes M et O) et anti-VIH-2 dans le sérum ou le plasma hum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Cette trousse peut être utilisée à la fois pour un dépistage Ag VIH et anticorps anti-VI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339" name=""/>
          <p:cNvGrpSpPr/>
          <p:nvPr/>
        </p:nvGrpSpPr>
        <p:grpSpPr>
          <a:xfrm>
            <a:off x="533520" y="4038480"/>
            <a:ext cx="5029200" cy="609840"/>
            <a:chOff x="533520" y="4038480"/>
            <a:chExt cx="5029200" cy="609840"/>
          </a:xfrm>
        </p:grpSpPr>
        <p:sp>
          <p:nvSpPr>
            <p:cNvPr id="340" name=""/>
            <p:cNvSpPr/>
            <p:nvPr/>
          </p:nvSpPr>
          <p:spPr>
            <a:xfrm>
              <a:off x="4572000" y="4038480"/>
              <a:ext cx="990720" cy="381240"/>
            </a:xfrm>
            <a:prstGeom prst="ellipse">
              <a:avLst/>
            </a:prstGeom>
            <a:noFill/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3520" y="4648320"/>
              <a:ext cx="335268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95480" y="5105520"/>
            <a:ext cx="624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33"/>
                </a:solidFill>
                <a:latin typeface="Times New Roman"/>
              </a:rPr>
              <a:t>Marquage CE des trousses d’Ag p24 :  seuil &lt; 50 pg VIH/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66680" y="2286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erci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1219320"/>
            <a:ext cx="845820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S. Laperche, 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. Ebel, J. Busson, Laboratoire L C 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anchi (laboratoire Départemental de Bond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B Lecolier, J M Hadjez (Centre d’exploration fonctionnelle, Par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J Lupu (Centre Suchet, Par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JY Mascart, AJ Morvan (Laboratoire Morvan Mascart, Paimpo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99"/>
                </a:solidFill>
                <a:latin typeface="Times New Roman"/>
                <a:ea typeface="Times New Roman"/>
              </a:rPr>
              <a:t>JP Tréguier, JJ Lemoine (Laboratoire Tréguier Lemoine, Lan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.Chesne, </a:t>
            </a:r>
            <a:r>
              <a:rPr b="1" lang="fr-FR" sz="2000" spc="-1" strike="noStrike">
                <a:solidFill>
                  <a:srgbClr val="00ff00"/>
                </a:solidFill>
                <a:latin typeface="Times New Roman"/>
              </a:rPr>
              <a:t>L. Santucci, J.M. Jego (Bio-R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. Devare, P. Leroux,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Catherine Brennan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Abbott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. Paour (bioMérieux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F. Eberle  (Roch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09680" y="1565280"/>
            <a:ext cx="2905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240" y="2133720"/>
            <a:ext cx="79578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ffff"/>
                </a:solidFill>
                <a:latin typeface="Times New Roman"/>
              </a:rPr>
              <a:t>VIDAS HIV DUO  / 3</a:t>
            </a:r>
            <a:r>
              <a:rPr b="1" i="1" lang="en-GB" sz="2200" spc="-1" strike="noStrike" baseline="30000">
                <a:solidFill>
                  <a:srgbClr val="ffffff"/>
                </a:solidFill>
                <a:latin typeface="Times New Roman"/>
              </a:rPr>
              <a:t>ème</a:t>
            </a:r>
            <a:r>
              <a:rPr b="1" i="1" lang="en-GB" sz="2200" spc="-1" strike="noStrike">
                <a:solidFill>
                  <a:srgbClr val="ffffff"/>
                </a:solidFill>
                <a:latin typeface="Times New Roman"/>
              </a:rPr>
              <a:t> Gen EIA</a:t>
            </a:r>
            <a:r>
              <a:rPr b="1" lang="en-GB" sz="2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pos/pos 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pos/nég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GB" sz="2000" spc="-1" strike="noStrike">
                <a:solidFill>
                  <a:srgbClr val="ffff00"/>
                </a:solidFill>
                <a:latin typeface="Times New Roman"/>
              </a:rPr>
              <a:t>    nég/p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453             160             4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Western blot positive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              449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0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p24Ag positive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                                                17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Times New Roman"/>
              </a:rPr>
              <a:t>Suivi en Western blot positive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4/4              17/17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00ff00"/>
                </a:solidFill>
                <a:latin typeface="Times New Roman"/>
              </a:rPr>
              <a:t>          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29 002 négatif avec les deux tes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ff00"/>
                </a:solidFill>
                <a:latin typeface="Times New Roman"/>
              </a:rPr>
              <a:t>17/470 (3.6%) primo-infection détectée grâce à VIDAS HIV DU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5689440"/>
            <a:ext cx="53341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1055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ecificity of VIDAS Duo :  99.51% ;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cificity of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ffff00"/>
                </a:solidFill>
                <a:latin typeface="Times New Roman"/>
              </a:rPr>
              <a:t>rd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Gen EIA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99.8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8720" y="6116760"/>
            <a:ext cx="1295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y et al, Journal of Clinical Microbiology, 2000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“ Contribution of combined detection assays of p24 antigen and anti-human immunodeficiency virus (HIV) antibodies in diagnosis of primary HIV infection by routine testing. 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66680"/>
            <a:ext cx="9144000" cy="11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5 laboratoires en F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29 657 échantillons testés  parallèlement avec les tests de 3</a:t>
            </a:r>
            <a:r>
              <a:rPr b="1" lang="fr-FR" sz="2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génération et VIDAS HIV DU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3809880"/>
            <a:ext cx="1143000" cy="45720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952880"/>
            <a:ext cx="1295280" cy="685800"/>
          </a:xfrm>
          <a:prstGeom prst="ellipse">
            <a:avLst/>
          </a:prstGeom>
          <a:noFill/>
          <a:ln w="572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nsibilité de la détection d’A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990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523880"/>
          <a:ext cx="91440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9144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7 tests de dépistage du VIH en Euro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380880"/>
          <a:ext cx="91440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87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Évaluation des nouvelles trousses Combin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29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tests d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roisième géné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219320"/>
          <a:ext cx="9144000" cy="342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0" y="5762520"/>
          <a:ext cx="9144000" cy="63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62520"/>
                    <a:ext cx="91440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609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2 trousses Combiné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4648320"/>
          <a:ext cx="9144000" cy="355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914400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ensibilité de la détection d’A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533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33"/>
                </a:solidFill>
                <a:latin typeface="Times New Roman"/>
              </a:rPr>
              <a:t>(Panel d’Ag VIH SFTS : LAI sous-type 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1066680"/>
          <a:ext cx="91440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8229600" y="1828800"/>
            <a:ext cx="457200" cy="2514600"/>
            <a:chOff x="8229600" y="1828800"/>
            <a:chExt cx="457200" cy="2514600"/>
          </a:xfrm>
        </p:grpSpPr>
        <p:sp>
          <p:nvSpPr>
            <p:cNvPr id="132" name=""/>
            <p:cNvSpPr/>
            <p:nvPr/>
          </p:nvSpPr>
          <p:spPr>
            <a:xfrm>
              <a:off x="8229600" y="1828800"/>
              <a:ext cx="4572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86800" y="1828800"/>
              <a:ext cx="0" cy="25146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8305920" y="4343400"/>
              <a:ext cx="38088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7391520" y="3429000"/>
            <a:ext cx="1066680" cy="5335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4038480"/>
            <a:ext cx="838440" cy="1219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77120" y="2743200"/>
            <a:ext cx="838080" cy="2286000"/>
            <a:chOff x="6477120" y="2743200"/>
            <a:chExt cx="838080" cy="2286000"/>
          </a:xfrm>
        </p:grpSpPr>
        <p:sp>
          <p:nvSpPr>
            <p:cNvPr id="138" name=""/>
            <p:cNvSpPr/>
            <p:nvPr/>
          </p:nvSpPr>
          <p:spPr>
            <a:xfrm>
              <a:off x="6477120" y="2743200"/>
              <a:ext cx="45720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4320" y="2743200"/>
              <a:ext cx="0" cy="228600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6934320" y="5029200"/>
              <a:ext cx="380880" cy="0"/>
            </a:xfrm>
            <a:prstGeom prst="line">
              <a:avLst/>
            </a:prstGeom>
            <a:ln w="381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8001000" y="2895480"/>
            <a:ext cx="228600" cy="685800"/>
          </a:xfrm>
          <a:custGeom>
            <a:avLst/>
            <a:gdLst>
              <a:gd name="textAreaLeft" fmla="*/ 0 w 228600"/>
              <a:gd name="textAreaRight" fmla="*/ 160560 w 22860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4343400"/>
            <a:ext cx="9144000" cy="2058840"/>
            <a:chOff x="0" y="4343400"/>
            <a:chExt cx="9144000" cy="2058840"/>
          </a:xfrm>
        </p:grpSpPr>
        <p:graphicFrame>
          <p:nvGraphicFramePr>
            <p:cNvPr id="143" name=""/>
            <p:cNvGraphicFramePr/>
            <p:nvPr/>
          </p:nvGraphicFramePr>
          <p:xfrm>
            <a:off x="4114800" y="5791320"/>
            <a:ext cx="3809880" cy="609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4800" y="5791320"/>
                      <a:ext cx="380988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45" name=""/>
            <p:cNvGrpSpPr/>
            <p:nvPr/>
          </p:nvGrpSpPr>
          <p:grpSpPr>
            <a:xfrm>
              <a:off x="0" y="4343400"/>
              <a:ext cx="9144000" cy="1600200"/>
              <a:chOff x="0" y="4343400"/>
              <a:chExt cx="9144000" cy="1600200"/>
            </a:xfrm>
          </p:grpSpPr>
          <p:sp>
            <p:nvSpPr>
              <p:cNvPr id="146" name=""/>
              <p:cNvSpPr/>
              <p:nvPr/>
            </p:nvSpPr>
            <p:spPr>
              <a:xfrm>
                <a:off x="0" y="434340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IDAS HIV DUO Ultra, le seul des tests Combo, permet de différencier les résultats de p24 Ag et d’anticorps dans certains cas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147" name=""/>
              <p:cNvGraphicFramePr/>
              <p:nvPr/>
            </p:nvGraphicFramePr>
            <p:xfrm>
              <a:off x="0" y="5029200"/>
              <a:ext cx="3581280" cy="91440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4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0" y="5029200"/>
                        <a:ext cx="3581280" cy="91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149" name=""/>
            <p:cNvGraphicFramePr/>
            <p:nvPr/>
          </p:nvGraphicFramePr>
          <p:xfrm>
            <a:off x="4114800" y="5029200"/>
            <a:ext cx="3838680" cy="6476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5029200"/>
                      <a:ext cx="383868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59120" y="6033960"/>
              <a:ext cx="296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f0033"/>
                  </a:solidFill>
                  <a:latin typeface="Times New Roman"/>
                </a:rPr>
                <a:t>Ratio (s/co)</a:t>
              </a:r>
              <a:r>
                <a:rPr b="1" i="1" lang="fr-FR" sz="1800" spc="-1" strike="noStrike">
                  <a:solidFill>
                    <a:srgbClr val="ffff00"/>
                  </a:solidFill>
                  <a:latin typeface="Times New Roman"/>
                </a:rPr>
                <a:t>  &gt; 0.25  : Posi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52" name=""/>
          <p:cNvGraphicFramePr/>
          <p:nvPr/>
        </p:nvGraphicFramePr>
        <p:xfrm>
          <a:off x="0" y="0"/>
          <a:ext cx="9144000" cy="43005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257800" y="2209680"/>
            <a:ext cx="457200" cy="457200"/>
          </a:xfrm>
          <a:custGeom>
            <a:avLst/>
            <a:gdLst>
              <a:gd name="textAreaLeft" fmla="*/ 61200 w 457200"/>
              <a:gd name="textAreaRight" fmla="*/ 396000 w 4572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48320" y="2819520"/>
            <a:ext cx="380880" cy="914400"/>
          </a:xfrm>
          <a:custGeom>
            <a:avLst/>
            <a:gdLst>
              <a:gd name="textAreaLeft" fmla="*/ 50760 w 380880"/>
              <a:gd name="textAreaRight" fmla="*/ 330120 w 3808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1600200"/>
            <a:ext cx="8686800" cy="46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31 surnageants de culture de sous-types VIH-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A; 8 CRF01_AE (circulating recombinant ); 7 B;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 C;3 D; 3 F; 1 G; 1 O;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 2 CRF02_A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66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que panel ayant  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 concentrations différentes titrées avec la trousse Innotest HIV Antigen (Innogenetic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4 - 24  pg VIH /m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                             </a:t>
            </a:r>
            <a:r>
              <a:rPr b="1" lang="fr-FR" sz="2800" spc="-1" strike="noStrike">
                <a:solidFill>
                  <a:srgbClr val="ff0033"/>
                </a:solidFill>
                <a:latin typeface="Times New Roman"/>
                <a:ea typeface="Arial"/>
              </a:rPr>
              <a:t>10 – 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22 - 1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61 - 3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</a:rPr>
              <a:t>Sensibilité de détection de l’Ag p24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33"/>
                </a:solidFill>
                <a:latin typeface="Times New Roman"/>
              </a:rPr>
              <a:t>de différents sous-types VIH-1 (n=12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L. C. L.</dc:creator>
  <dc:description/>
  <dc:language>en-US</dc:language>
  <cp:lastModifiedBy>Eric POUSSIN</cp:lastModifiedBy>
  <cp:lastPrinted>2000-02-07T14:07:12Z</cp:lastPrinted>
  <dcterms:modified xsi:type="dcterms:W3CDTF">2005-11-21T19:01:52Z</dcterms:modified>
  <cp:revision>1034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84030873</vt:r8>
  </property>
  <property fmtid="{D5CDD505-2E9C-101B-9397-08002B2CF9AE}" pid="3" name="_AuthorEmail">
    <vt:lpwstr>gaugis@lab-merieux.net</vt:lpwstr>
  </property>
  <property fmtid="{D5CDD505-2E9C-101B-9397-08002B2CF9AE}" pid="4" name="_AuthorEmailDisplayName">
    <vt:lpwstr>AUGIS Graziella</vt:lpwstr>
  </property>
  <property fmtid="{D5CDD505-2E9C-101B-9397-08002B2CF9AE}" pid="5" name="_EmailSubject">
    <vt:lpwstr>Diaporama avec logo LCL en blanc</vt:lpwstr>
  </property>
</Properties>
</file>