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9CFB-FBF6-4A4B-8CAB-6EA45647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ADDE-0AF5-446B-BB69-3603A0C6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5E3-8AEE-45ED-8987-D2D967B9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187-CF5C-4CD9-A09B-A3E770F6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D37-048C-43D8-BEA7-A51F5BC7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345-5C43-4AC3-B91F-4707AF61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425-5408-40D3-9F79-72866902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Arial Blac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1AC-2383-43DC-9848-72FC796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8A5-AEF2-42D0-A155-E9563B26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8AB-2B40-4AB9-8D5E-D90B98C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7BC-88CF-4AF4-9468-632C5BAC7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3AE-07F3-40DC-B103-EAAA3EA4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ff"/>
              </a:solidFill>
              <a:latin typeface="Arial Blac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2940000">
            <a:off x="-2308320" y="-5964120"/>
            <a:ext cx="6441840" cy="1255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327" y="2342"/>
                  <a:pt x="13053" y="5080"/>
                  <a:pt x="13053" y="10800"/>
                </a:cubicBezTo>
                <a:cubicBezTo>
                  <a:pt x="13053" y="16520"/>
                  <a:pt x="17327" y="1925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103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4267080" y="-4038480"/>
            <a:ext cx="4267080" cy="11430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-3733920"/>
            <a:ext cx="8153280" cy="3733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-71280" y="-103320"/>
          <a:ext cx="166680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71280" y="-103320"/>
                    <a:ext cx="1666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00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600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6600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6600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66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6600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66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6600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DAE9-375F-47F2-AF78-EF2D151CA2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2286000"/>
            <a:ext cx="721548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Dépistage Génomique Viral en transfusion sanguine : 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Times New Roman"/>
              </a:rPr>
              <a:t>Etats des lieux et perspectives</a:t>
            </a:r>
            <a:endParaRPr b="0" lang="en-US" sz="36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Azzedine ASSAL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EFS CENTRE ATLANTIQUE / TOURS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Direction médicale et Scientifique / EFS / PARIS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0240" y="304920"/>
            <a:ext cx="584100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è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loque de  Virologie de Versailles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S le 22 novembre 2005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6440" y="1817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52480" y="38088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RESULTATS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305560" cy="4278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0720" y="2666880"/>
            <a:ext cx="7543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3048120"/>
            <a:ext cx="7543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429000"/>
            <a:ext cx="75438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3809880"/>
            <a:ext cx="2057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943600"/>
            <a:ext cx="74674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Busch et al. Relative sensitivities of licensed nucleic acid amplification tests for detection of viremia in early HIV and HCV infection. </a:t>
            </a:r>
            <a:r>
              <a:rPr b="1" i="1" lang="fr-FR" sz="1600" spc="-1" strike="noStrike">
                <a:solidFill>
                  <a:srgbClr val="ffffff"/>
                </a:solidFill>
                <a:latin typeface="Times New Roman"/>
              </a:rPr>
              <a:t>Transfusion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 2005 online.</a:t>
            </a:r>
            <a:endParaRPr b="0" lang="en-US" sz="16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905120" y="457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Automatisation du DGV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447920"/>
            <a:ext cx="914400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L ’automatisation est un pré requis  pour le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DGV  unitaire.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2 types d ’automates 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Un automate intégré :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 Tigris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(GenProbe / Chiron)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Une chaîne modulaire : 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Cobas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S 201 (Roche)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965160"/>
            <a:ext cx="7848720" cy="5257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763120" y="762120"/>
            <a:ext cx="380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Times New Roman"/>
              </a:rPr>
              <a:t>Technologie Roche : Cobas S201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6320" y="5638680"/>
            <a:ext cx="528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ff"/>
                </a:solidFill>
                <a:latin typeface="Imago"/>
              </a:rPr>
              <a:t>Réactif MPX Assay : multiplex 3 virus</a:t>
            </a:r>
            <a:endParaRPr b="0" lang="en-US" sz="22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ff"/>
                </a:solidFill>
                <a:latin typeface="Imago"/>
              </a:rPr>
              <a:t>Pools de 6 échantillons</a:t>
            </a:r>
            <a:endParaRPr b="0" lang="en-US" sz="22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763120" y="762120"/>
            <a:ext cx="380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724800" cy="3495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600200" y="4038480"/>
            <a:ext cx="6705720" cy="24289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38080" y="228600"/>
            <a:ext cx="5867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Times New Roman"/>
              </a:rPr>
              <a:t>COBAS S201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ff"/>
                </a:solidFill>
                <a:latin typeface="Times New Roman"/>
              </a:rPr>
              <a:t>Configurations et cadences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76520" y="6094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Times New Roman"/>
              </a:rPr>
              <a:t>Automate GenProbe / Chiron : Tigris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57" name="gp3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19320" y="1219320"/>
            <a:ext cx="65530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76520" y="6094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Automate GenProbe / Chiron : Tigris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752480"/>
            <a:ext cx="8001000" cy="43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Automate intégré utilisant la même technologie que la plateforme actuelle (TMA + HPA/DKA).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Réactifs : Ultrio (HIV, HCV et HBV) + Test 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iscriminatoires.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adences annoncées :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300 tests en 6 h 30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00 tests en 9 heures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00 tests en 14 heures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1676520"/>
            <a:ext cx="7848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Etude des performances analytiques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Etude de cadence et de « workflow »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ffff"/>
                </a:solidFill>
                <a:latin typeface="Times New Roman"/>
              </a:rPr>
              <a:t>Etude de coût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66ff33"/>
                </a:solidFill>
                <a:latin typeface="Wingdings"/>
                <a:ea typeface="Wingdings"/>
              </a:rPr>
              <a:t></a:t>
            </a: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Tigris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FS Centre Atlantique (Tours)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FS Alpes Méditerranée (Marseille)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ff33"/>
                </a:solidFill>
                <a:latin typeface="Wingdings"/>
                <a:ea typeface="Wingdings"/>
              </a:rPr>
              <a:t></a:t>
            </a: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66ff33"/>
                </a:solidFill>
                <a:latin typeface="Times New Roman"/>
              </a:rPr>
              <a:t>Cobas S 201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FS Rhône Alpes (Metz-Tessy)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FS Bourgogne Franche-Comté (Dijon)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3880" y="3049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ETUDE D ’EVALUATION COMPARATIVE DES </a:t>
            </a: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AUTOMATES DE DGV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3880" y="7621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00"/>
                </a:solidFill>
                <a:latin typeface="Times New Roman"/>
              </a:rPr>
              <a:t>EVALUATION AUTOMATES DE DGV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515960"/>
            <a:ext cx="83059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ffcc"/>
                </a:solidFill>
                <a:latin typeface="Times New Roman"/>
              </a:rPr>
              <a:t>Sensibilité analyt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détermination des seuils de détection de chaque technique pour les 3 virus: 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nels dilutionnels à partir des standards internationaux (WHO) pour les 3 virus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les panels préparés par l ’UPR de l ’EFS (site de Brest)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ffcc"/>
                </a:solidFill>
                <a:latin typeface="Times New Roman"/>
              </a:rPr>
              <a:t>Sensibilité cliniqu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5 panels de séroconversion par virus (pools de 6) + panels pour la détection de génotypes (sous-types)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ffcc"/>
                </a:solidFill>
                <a:latin typeface="Times New Roman"/>
              </a:rPr>
              <a:t>Spécificité (Cobas S 201: configuration routine, pools de 6).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ffcc"/>
                </a:solidFill>
                <a:latin typeface="Times New Roman"/>
              </a:rPr>
              <a:t>Reproductibilité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81080" y="380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MERCIEMENTS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1447920"/>
            <a:ext cx="7238880" cy="47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Syria Laperche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NR Hépatites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Josiane Pillonel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nVS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Responsables QBD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Joliette Coste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FS PM 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Pascal Morel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FS BFC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Michèle Maniez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FS NDF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anielle Rebibo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MS/EFS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Georges Andreu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MS/EFS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écile Cornillot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DMS/EFS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sabelle Dupont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EFS Bretagne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82880" y="76212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épistage génomique viral en transfusion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752480"/>
            <a:ext cx="83818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er Juillet 2001 : Introduction du DGV des ARN du VIH-1 et du VHC dans la qualification biologique des dons de sang homologues.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echnologies sélectionnées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ron: test multiplex en pools de 8 échantillons.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che: tests séparés en pools de 24 échantillons.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M : technologie Chiron en tests unitaires.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2438280"/>
            <a:ext cx="8534520" cy="36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IH-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VH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ons séropositifs-DGV positif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117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77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891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14 / 1 million)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(90 / 1 million)</a:t>
            </a:r>
            <a:endParaRPr b="0" lang="en-US" sz="16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99"/>
                </a:solidFill>
                <a:latin typeface="Arial"/>
              </a:rPr>
              <a:t>Dons séronégatifs-DGV positifs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      5 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9933"/>
                </a:solidFill>
                <a:latin typeface="Arial"/>
              </a:rPr>
              <a:t>      7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(1:4.300.000)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00"/>
                </a:solidFill>
                <a:latin typeface="Arial"/>
              </a:rPr>
              <a:t>(1: 1.700.000)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Dons séropositifs-DGV négatif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      249 *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253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04812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510552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94360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066680"/>
            <a:ext cx="7238880" cy="10620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ésultats du du 1er juillet 2001 au 31 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écembre 2004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mbre de dons testés  =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8.634.590 dons</a:t>
            </a: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791320"/>
            <a:ext cx="86104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baseline="-25000">
                <a:solidFill>
                  <a:srgbClr val="ffcc00"/>
                </a:solidFill>
                <a:latin typeface="Arial"/>
              </a:rPr>
              <a:t>* </a:t>
            </a:r>
            <a:r>
              <a:rPr b="1" lang="fr-FR" sz="1600" spc="-1" strike="noStrike">
                <a:solidFill>
                  <a:srgbClr val="ffcc00"/>
                </a:solidFill>
                <a:latin typeface="Arial"/>
              </a:rPr>
              <a:t>24 % des dons HCV + confirmés  =  infections guéries ou RIBA faux positifs</a:t>
            </a:r>
            <a:endParaRPr b="0" lang="en-US" sz="1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04920"/>
            <a:ext cx="5486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ffff66"/>
                </a:solidFill>
                <a:latin typeface="Times New Roman"/>
              </a:rPr>
              <a:t>RESULTATS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81080" y="304920"/>
            <a:ext cx="5486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800" spc="-1" strike="noStrike">
                <a:solidFill>
                  <a:srgbClr val="ffff66"/>
                </a:solidFill>
                <a:latin typeface="Times New Roman"/>
              </a:rPr>
              <a:t>RESULTATS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998640"/>
            <a:ext cx="800100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ff66"/>
                </a:solidFill>
                <a:latin typeface="Times New Roman"/>
              </a:rPr>
              <a:t>Un don HIV positif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9ff66"/>
                </a:solidFill>
                <a:latin typeface="Times New Roman"/>
              </a:rPr>
              <a:t>séronégatif et DGV négatif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Découverte post-mortem d ’une contamination transfusionnelle par un don en période de pré-séroconversion.</a:t>
            </a:r>
            <a:endParaRPr b="0" lang="en-US" sz="26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Donneur retrouvé et testé: séroconversion prouvée et documentée.</a:t>
            </a:r>
            <a:endParaRPr b="0" lang="en-US" sz="26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Don index, négatif en pools de 24 échantillons en technique Roche. Non testé en unitaire.</a:t>
            </a:r>
            <a:endParaRPr b="0" lang="en-US" sz="26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ffffff"/>
                </a:solidFill>
                <a:latin typeface="Times New Roman"/>
              </a:rPr>
              <a:t>Quantifié par le Monitor Roche (&lt; 200 copies/ml).</a:t>
            </a:r>
            <a:endParaRPr b="0" lang="en-US" sz="2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624852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9ffcc"/>
                </a:solidFill>
                <a:latin typeface="Times New Roman"/>
              </a:rPr>
              <a:t>Najioullah et al. J Med Virol 2004; 73:347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5120" y="3808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Cas de transmission transfusionnelle de VIH par des produits séronégatifs et DGV HIV négatif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57200" y="2057400"/>
            <a:ext cx="8305920" cy="4054320"/>
            <a:chOff x="457200" y="2057400"/>
            <a:chExt cx="8305920" cy="4054320"/>
          </a:xfrm>
        </p:grpSpPr>
        <p:sp>
          <p:nvSpPr>
            <p:cNvPr id="101" name=""/>
            <p:cNvSpPr/>
            <p:nvPr/>
          </p:nvSpPr>
          <p:spPr>
            <a:xfrm>
              <a:off x="3276720" y="2057400"/>
              <a:ext cx="1981080" cy="34992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ffcc"/>
                  </a:solidFill>
                  <a:latin typeface="Times New Roman"/>
                </a:rPr>
                <a:t>DGV en pool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57800" y="2057400"/>
              <a:ext cx="1981440" cy="34992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99ffcc"/>
                  </a:solidFill>
                  <a:latin typeface="Times New Roman"/>
                </a:rPr>
                <a:t>DGV unitaire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39240" y="2057400"/>
              <a:ext cx="1523880" cy="34992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ffcc"/>
                  </a:solidFill>
                  <a:latin typeface="Times New Roman"/>
                </a:rPr>
                <a:t>CV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5145120"/>
              <a:ext cx="2819520" cy="87084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Najiouallah et al.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>
                <a:lnSpc>
                  <a:spcPts val="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ffff"/>
                  </a:solidFill>
                  <a:latin typeface="Times New Roman"/>
                </a:rPr>
                <a:t>J Med Virol 2004;</a:t>
              </a:r>
              <a:r>
                <a:rPr b="0" i="1" lang="fr-FR" sz="1400" spc="-1" strike="noStrike">
                  <a:solidFill>
                    <a:srgbClr val="ffffff"/>
                  </a:solidFill>
                  <a:latin typeface="Times New Roman"/>
                </a:rPr>
                <a:t>73:347</a:t>
              </a:r>
              <a:endParaRPr b="0" lang="en-US" sz="1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3316320"/>
              <a:ext cx="2819520" cy="89496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Phelps et al. 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ffff"/>
                  </a:solidFill>
                  <a:latin typeface="Times New Roman"/>
                </a:rPr>
                <a:t>Transfusion 2004;44:929-933</a:t>
              </a:r>
              <a:r>
                <a:rPr b="1" i="1" lang="fr-FR" sz="18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4226040"/>
              <a:ext cx="2819520" cy="93132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Delwart et al. 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ffff"/>
                  </a:solidFill>
                  <a:latin typeface="Times New Roman"/>
                </a:rPr>
                <a:t>Vox sanguins 2004;86:171-177</a:t>
              </a: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2401920"/>
              <a:ext cx="2819520" cy="90432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Stramer et al. 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800" spc="-1" strike="noStrike">
                  <a:solidFill>
                    <a:srgbClr val="ffffff"/>
                  </a:solidFill>
                  <a:latin typeface="Times New Roman"/>
                </a:rPr>
                <a:t>Transfusion 2003;43:40A.</a:t>
              </a: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2401920"/>
              <a:ext cx="1981080" cy="96660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Négatif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Times New Roman"/>
                </a:rPr>
                <a:t>pool de16 (chiron Procleix</a:t>
              </a: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57800" y="2401920"/>
              <a:ext cx="1981440" cy="91116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T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9240" y="2401920"/>
              <a:ext cx="1523880" cy="91116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T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3313080"/>
              <a:ext cx="1981080" cy="96660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Négatif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Times New Roman"/>
                </a:rPr>
                <a:t>pool de16 (chiron Procleix</a:t>
              </a: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3313080"/>
              <a:ext cx="1981440" cy="91152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T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39240" y="3313080"/>
              <a:ext cx="1523880" cy="91152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T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6720" y="4230720"/>
              <a:ext cx="1981080" cy="96660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Négatif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ool de 24 (PCR « maison »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57800" y="4226040"/>
              <a:ext cx="1981440" cy="91116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</a:rPr>
                <a:t>Unitaire: Pos 4/4</a:t>
              </a:r>
              <a:endParaRPr b="0" lang="en-US" sz="16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</a:rPr>
                <a:t>Au 1/8: pos 11/12</a:t>
              </a:r>
              <a:endParaRPr b="0" lang="en-US" sz="16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</a:rPr>
                <a:t>Au 1/24: pos 3/12</a:t>
              </a:r>
              <a:endParaRPr b="0" lang="en-US" sz="16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39240" y="4230720"/>
              <a:ext cx="1523880" cy="91116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150 cp/ml </a:t>
              </a: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imes New Roman"/>
                </a:rPr>
                <a:t>(NGI)</a:t>
              </a: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76720" y="5145120"/>
              <a:ext cx="1981080" cy="96660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6600"/>
                  </a:solidFill>
                  <a:latin typeface="Times New Roman"/>
                </a:rPr>
                <a:t>Négatif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Times New Roman"/>
                </a:rPr>
                <a:t>pool de 24 (Roche Ampliscreen</a:t>
              </a: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57800" y="5145120"/>
              <a:ext cx="1981440" cy="91116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NT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240" y="5140440"/>
              <a:ext cx="1523880" cy="911160"/>
            </a:xfrm>
            <a:prstGeom prst="rect">
              <a:avLst/>
            </a:prstGeom>
            <a:noFill/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NT </a:t>
              </a: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&lt;200 c/ml, </a:t>
              </a: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Monitor Roche</a:t>
              </a:r>
              <a:endParaRPr b="0" lang="en-US" sz="1800" spc="-1" strike="noStrike">
                <a:solidFill>
                  <a:srgbClr val="66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38080" y="1371600"/>
            <a:ext cx="7772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DGV en pools: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Bénéfice réduit par rapport à la stratégie de dépistage actuelle (AgHBs et HBc)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impact clinique modeste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Rapport coût / bénéfice élevé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286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Faut-il introduire le DGV HBV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Times New Roman"/>
              </a:rPr>
              <a:t>dans la qualification biologique des dons ?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648320"/>
            <a:ext cx="8077320" cy="2030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ffcc"/>
                </a:solidFill>
                <a:latin typeface="Times New Roman"/>
              </a:rPr>
              <a:t>Décision de ne pas introduire le DGV HBVen pools dans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99ffcc"/>
                </a:solidFill>
                <a:latin typeface="Times New Roman"/>
              </a:rPr>
              <a:t>la QBD en  France métropolitaine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99ffcc"/>
                </a:solidFill>
                <a:latin typeface="Times New Roman"/>
              </a:rPr>
              <a:t>DGV introduit dans les DOM (forte prévalence du VHB et dépistage en unitaire).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39625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28800" y="2514600"/>
            <a:ext cx="58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imes New Roman"/>
              </a:rPr>
              <a:t>PERSPECTIVES</a:t>
            </a:r>
            <a:endParaRPr b="0" lang="en-US" sz="5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3581280"/>
            <a:ext cx="5943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DGV unitaire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Automatisation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057400" y="380880"/>
            <a:ext cx="678168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Busch MP et al. Relative sensitivities of licensed nucleic acid amplification tests for detection of viremia in early HIV and HCV infection.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Transfusion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2005 online.</a:t>
            </a:r>
            <a:endParaRPr b="0" lang="en-US" sz="20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6440" y="1817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752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araison des techniques: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Roche Ampliscreen, Multiprep (1 ml échantillon)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nProbe/Chiron, Procleix HIV-1/HCV Assay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panels de séroconversion HIV (116 échantillons)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2 panels de séroconversion HCV (180 échantillons)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Echantillons testés purs et dilués au 1/16 (chiron) et 1/24 (Roche)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0 réplicats en cas de discordances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omparaison des odds ratios (modèle de régression logistique).</a:t>
            </a: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6440" y="1817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22860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RESULTATS</a:t>
            </a:r>
            <a:endParaRPr b="0" lang="en-US" sz="3200" spc="-1" strike="noStrike">
              <a:solidFill>
                <a:srgbClr val="6600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6477120" cy="207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8096040" cy="2552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5943600"/>
            <a:ext cx="74674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Busch et al. Relative sensitivities of licensed nucleic acid amplification tests for detection of viremia in early HIV and HCV infection. </a:t>
            </a:r>
            <a:r>
              <a:rPr b="1" i="1" lang="fr-FR" sz="1600" spc="-1" strike="noStrike">
                <a:solidFill>
                  <a:srgbClr val="ffffff"/>
                </a:solidFill>
                <a:latin typeface="Times New Roman"/>
              </a:rPr>
              <a:t>Transfusion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 2005 online.</a:t>
            </a:r>
            <a:endParaRPr b="0" lang="en-US" sz="16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59040" y="5002200"/>
            <a:ext cx="14479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5141880"/>
            <a:ext cx="14479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86680" y="4991040"/>
            <a:ext cx="14475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83440" y="5141880"/>
            <a:ext cx="14475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00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8T10:41:06Z</dcterms:created>
  <dc:creator>Chassaigne</dc:creator>
  <dc:description/>
  <dc:language>en-US</dc:language>
  <cp:lastModifiedBy>Azzedine Assal</cp:lastModifiedBy>
  <cp:lastPrinted>2004-05-21T14:30:30Z</cp:lastPrinted>
  <dcterms:modified xsi:type="dcterms:W3CDTF">2005-11-22T09:32:15Z</dcterms:modified>
  <cp:revision>655</cp:revision>
  <dc:subject/>
  <dc:title>hémovigilance</dc:title>
</cp:coreProperties>
</file>