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0.wmf" ContentType="image/x-wmf"/>
  <Override PartName="/ppt/media/image5.jpeg" ContentType="image/jpeg"/>
  <Override PartName="/ppt/media/image9.jpeg" ContentType="image/jpe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0288588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16A-955E-4D92-BF1F-4857CAE8A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DB8-D6A5-4D7E-84B5-E74EAFFD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BD23-92A4-44CA-B65F-EA15E90B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EA71-3E6D-4EFE-A990-3A5DC48F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6813-36A5-4B6E-B190-C45859FB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A2AE-AE30-4A6C-A7D0-BB2827AC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3A02-EEA9-4D6B-BE9F-2113FBDE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C6E-84E0-49E1-8972-8338C631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00B7-ACFD-4ADD-9B16-0BFF233B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FC40-111E-49C7-B2D8-81F8E504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8AF-E178-42C9-9172-A4D65E98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A5A6-C1B2-44F0-A43A-9E74367F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308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J. COSTE, EFS Pyrénées-Méditerranée - Site  de Montpellier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XVIIIème Colloque de Virologie de Versailles 22 novembre 2005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69560" y="654048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fld id="{CB915451-AA41-4CCA-BB7A-C5CD16D4FF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417B-C6D7-4652-BCEF-8A95513BA38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"/>
          <p:cNvSpPr/>
          <p:nvPr/>
        </p:nvSpPr>
        <p:spPr>
          <a:xfrm>
            <a:off x="146160" y="640080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package" Target="../embeddings/oleObject1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76640" y="152280"/>
            <a:ext cx="2057400" cy="1143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447920"/>
            <a:ext cx="1028700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Les nanotechnologies :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nouvelle approche pour qualifier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les dons de sang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3287880" y="3854520"/>
            <a:ext cx="3727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C. FOURNIER–WIRTH et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J.COS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2119320" y="4476600"/>
            <a:ext cx="62625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mic Sans MS"/>
              </a:rPr>
              <a:t>Etablissement Français du Sang Pyrénées-Méditerrané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mic Sans MS"/>
              </a:rPr>
              <a:t>34094 Montpellier - FRA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5792760" y="5884920"/>
            <a:ext cx="4373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XVIIIème Colloque de Virologie de Versail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INTS, Par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Comic Sans MS"/>
              </a:rPr>
              <a:t>22 novembre 200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42840" y="730080"/>
            <a:ext cx="10029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723960"/>
            <a:ext cx="1021068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ctr">
              <a:lnSpc>
                <a:spcPct val="100000"/>
              </a:lnSpc>
              <a:tabLst>
                <a:tab algn="l" pos="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  <a:tab algn="l" pos="6400800"/>
                <a:tab algn="l" pos="66675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implifier la QBD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  <a:tab algn="l" pos="5867280"/>
                <a:tab algn="l" pos="61340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s équipements, les technologies, l’acquisition   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s résultats, libération des produits sanguins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  labi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1800" y="6324480"/>
            <a:ext cx="3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3086280" y="-5724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Comic Sans MS"/>
              </a:rPr>
              <a:t>Perspectiv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50760" y="3451320"/>
            <a:ext cx="64771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6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ffff00"/>
                </a:solidFill>
                <a:latin typeface="Comic Sans MS"/>
              </a:rPr>
              <a:t>Diminuer le coû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76320" y="4267080"/>
            <a:ext cx="102106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143496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  <a:tab algn="l" pos="1093464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ffff00"/>
                </a:solidFill>
                <a:latin typeface="Comic Sans MS"/>
              </a:rPr>
              <a:t>Augmenter la flexibilité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"/>
              <a:tabLst>
                <a:tab algn="l" pos="143496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  <a:tab algn="l" pos="1093464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faire face à l’émergence d’un nouvel agent </a:t>
            </a: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infectieux ?</a:t>
            </a:r>
            <a:r>
              <a:rPr b="0" lang="fr-FR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380880" y="2514600"/>
            <a:ext cx="9296640" cy="860400"/>
            <a:chOff x="380880" y="2514600"/>
            <a:chExt cx="9296640" cy="860400"/>
          </a:xfrm>
        </p:grpSpPr>
        <p:sp>
          <p:nvSpPr>
            <p:cNvPr id="172" name=""/>
            <p:cNvSpPr/>
            <p:nvPr/>
          </p:nvSpPr>
          <p:spPr>
            <a:xfrm>
              <a:off x="380880" y="2514600"/>
              <a:ext cx="9296640" cy="860400"/>
            </a:xfrm>
            <a:prstGeom prst="rect">
              <a:avLst/>
            </a:prstGeom>
            <a:gradFill rotWithShape="0">
              <a:gsLst>
                <a:gs pos="0">
                  <a:srgbClr val="808000"/>
                </a:gs>
                <a:gs pos="100000">
                  <a:srgbClr val="555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514600"/>
              <a:ext cx="9144000" cy="825480"/>
            </a:xfrm>
            <a:prstGeom prst="rect">
              <a:avLst/>
            </a:prstGeom>
            <a:gradFill rotWithShape="0">
              <a:gsLst>
                <a:gs pos="0">
                  <a:srgbClr val="808000"/>
                </a:gs>
                <a:gs pos="100000">
                  <a:srgbClr val="555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« RE-EMERGING »</a:t>
              </a:r>
              <a:r>
                <a:rPr b="1" lang="fr-FR" sz="2400" spc="-1" strike="noStrike">
                  <a:solidFill>
                    <a:srgbClr val="cc6600"/>
                  </a:solidFill>
                  <a:latin typeface="Comic Sans MS"/>
                </a:rPr>
                <a:t>	</a:t>
              </a:r>
              <a:r>
                <a:rPr b="1" lang="fr-FR" sz="2400" spc="-1" strike="noStrike">
                  <a:solidFill>
                    <a:srgbClr val="cc6600"/>
                  </a:solidFill>
                  <a:latin typeface="Comic Sans MS"/>
                </a:rPr>
                <a:t>  </a:t>
              </a:r>
              <a:r>
                <a:rPr b="1" lang="fr-FR" sz="2400" spc="-1" strike="noStrike">
                  <a:solidFill>
                    <a:srgbClr val="ffffcc"/>
                  </a:solidFill>
                  <a:latin typeface="Comic Sans MS"/>
                </a:rPr>
                <a:t>WNV, </a:t>
              </a:r>
              <a:r>
                <a:rPr b="1" lang="fr-FR" sz="2400" spc="-1" strike="noStrike">
                  <a:solidFill>
                    <a:srgbClr val="ffffff"/>
                  </a:solidFill>
                  <a:latin typeface="Comic Sans MS"/>
                </a:rPr>
                <a:t>T-Cruzii, Babesia, </a:t>
              </a:r>
              <a:r>
                <a:rPr b="1" lang="fr-FR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fr-FR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fr-FR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fr-FR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fr-FR" sz="24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fr-FR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fr-FR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fr-FR" sz="2400" spc="-1" strike="noStrike">
                  <a:solidFill>
                    <a:srgbClr val="ffffff"/>
                  </a:solidFill>
                  <a:latin typeface="Comic Sans MS"/>
                </a:rPr>
                <a:t>Borrelia, Erlichia</a:t>
              </a:r>
              <a:r>
                <a:rPr b="1" lang="fr-FR" sz="2400" spc="-1" strike="noStrike">
                  <a:solidFill>
                    <a:srgbClr val="ff9900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81280" y="2819520"/>
              <a:ext cx="465120" cy="1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80880" y="3352680"/>
            <a:ext cx="9296640" cy="762120"/>
            <a:chOff x="380880" y="3352680"/>
            <a:chExt cx="9296640" cy="762120"/>
          </a:xfrm>
        </p:grpSpPr>
        <p:sp>
          <p:nvSpPr>
            <p:cNvPr id="176" name=""/>
            <p:cNvSpPr/>
            <p:nvPr/>
          </p:nvSpPr>
          <p:spPr>
            <a:xfrm>
              <a:off x="380880" y="3352680"/>
              <a:ext cx="9296640" cy="762120"/>
            </a:xfrm>
            <a:prstGeom prst="rect">
              <a:avLst/>
            </a:prstGeom>
            <a:gradFill rotWithShape="0">
              <a:gsLst>
                <a:gs pos="0">
                  <a:srgbClr val="808000"/>
                </a:gs>
                <a:gs pos="100000">
                  <a:srgbClr val="555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3520" y="3505320"/>
              <a:ext cx="906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« EMERGING »</a:t>
              </a:r>
              <a:r>
                <a:rPr b="1" lang="fr-FR" sz="2400" spc="-1" strike="noStrike">
                  <a:solidFill>
                    <a:srgbClr val="cc6600"/>
                  </a:solidFill>
                  <a:latin typeface="Comic Sans MS"/>
                </a:rPr>
                <a:t>	</a:t>
              </a:r>
              <a:r>
                <a:rPr b="1" lang="fr-FR" sz="2400" spc="-1" strike="noStrike">
                  <a:solidFill>
                    <a:srgbClr val="cc6600"/>
                  </a:solidFill>
                  <a:latin typeface="Comic Sans MS"/>
                </a:rPr>
                <a:t>  </a:t>
              </a:r>
              <a:r>
                <a:rPr b="1" lang="fr-FR" sz="2400" spc="-1" strike="noStrike">
                  <a:solidFill>
                    <a:srgbClr val="cc6600"/>
                  </a:solidFill>
                  <a:latin typeface="Comic Sans MS"/>
                </a:rPr>
                <a:t>	</a:t>
              </a:r>
              <a:r>
                <a:rPr b="1" lang="fr-FR" sz="2400" spc="-1" strike="noStrike">
                  <a:solidFill>
                    <a:srgbClr val="cc6600"/>
                  </a:solidFill>
                  <a:latin typeface="Comic Sans MS"/>
                </a:rPr>
                <a:t> </a:t>
              </a:r>
              <a:r>
                <a:rPr b="1" lang="fr-FR" sz="2400" spc="-1" strike="noStrike">
                  <a:solidFill>
                    <a:srgbClr val="ffffff"/>
                  </a:solidFill>
                  <a:latin typeface="Comic Sans MS"/>
                </a:rPr>
                <a:t>SRAS, H5N1,</a:t>
              </a:r>
              <a:r>
                <a:rPr b="1" lang="fr-FR" sz="2400" spc="-1" strike="noStrike">
                  <a:solidFill>
                    <a:srgbClr val="ff9900"/>
                  </a:solidFill>
                  <a:latin typeface="Comic Sans MS"/>
                </a:rPr>
                <a:t> </a:t>
              </a:r>
              <a:r>
                <a:rPr b="1" lang="fr-FR" sz="2400" spc="-1" strike="noStrike">
                  <a:solidFill>
                    <a:srgbClr val="ffffcc"/>
                  </a:solidFill>
                  <a:latin typeface="Comic Sans MS"/>
                </a:rPr>
                <a:t>v-MCJ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81280" y="3708360"/>
              <a:ext cx="4572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80880" y="1676520"/>
            <a:ext cx="9296640" cy="838080"/>
            <a:chOff x="380880" y="1676520"/>
            <a:chExt cx="9296640" cy="838080"/>
          </a:xfrm>
        </p:grpSpPr>
        <p:sp>
          <p:nvSpPr>
            <p:cNvPr id="180" name=""/>
            <p:cNvSpPr/>
            <p:nvPr/>
          </p:nvSpPr>
          <p:spPr>
            <a:xfrm>
              <a:off x="380880" y="1676520"/>
              <a:ext cx="9296640" cy="838080"/>
            </a:xfrm>
            <a:prstGeom prst="rect">
              <a:avLst/>
            </a:prstGeom>
            <a:gradFill rotWithShape="0">
              <a:gsLst>
                <a:gs pos="0">
                  <a:srgbClr val="808000"/>
                </a:gs>
                <a:gs pos="100000">
                  <a:srgbClr val="555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880" y="1676520"/>
              <a:ext cx="9296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mic Sans MS"/>
                </a:rPr>
                <a:t>« EMERGED »</a:t>
              </a:r>
              <a:r>
                <a:rPr b="1" lang="en-US" sz="2400" spc="-1" strike="noStrike">
                  <a:solidFill>
                    <a:srgbClr val="cc6600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cc6600"/>
                  </a:solidFill>
                  <a:latin typeface="Comic Sans MS"/>
                </a:rPr>
                <a:t>	</a:t>
              </a:r>
              <a:r>
                <a:rPr b="1" lang="en-US" sz="2400" spc="-1" strike="noStrike">
                  <a:solidFill>
                    <a:srgbClr val="cc6600"/>
                  </a:solidFill>
                  <a:latin typeface="Comic Sans MS"/>
                </a:rPr>
                <a:t>	</a:t>
              </a:r>
              <a:r>
                <a:rPr b="1" lang="en-US" sz="2400" spc="-1" strike="noStrike">
                  <a:solidFill>
                    <a:srgbClr val="cc6600"/>
                  </a:solidFill>
                  <a:latin typeface="Comic Sans MS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VHB, VHC, VIH-1, Plasmodium, 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         CMV, </a:t>
              </a:r>
              <a:r>
                <a:rPr b="1" lang="en-US" sz="2400" spc="-1" strike="noStrike">
                  <a:solidFill>
                    <a:srgbClr val="ffffcc"/>
                  </a:solidFill>
                  <a:latin typeface="Comic Sans MS"/>
                </a:rPr>
                <a:t>bactéries</a:t>
              </a:r>
              <a:r>
                <a:rPr b="1" i="1" lang="en-US" sz="2400" spc="-1" strike="noStrike">
                  <a:solidFill>
                    <a:srgbClr val="ffffff"/>
                  </a:solidFill>
                  <a:latin typeface="Comic Sans MS"/>
                </a:rPr>
                <a:t>, </a:t>
              </a: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B19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1981080"/>
              <a:ext cx="471600" cy="1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80880" y="4114800"/>
            <a:ext cx="9296640" cy="787320"/>
            <a:chOff x="380880" y="4114800"/>
            <a:chExt cx="9296640" cy="787320"/>
          </a:xfrm>
        </p:grpSpPr>
        <p:sp>
          <p:nvSpPr>
            <p:cNvPr id="184" name=""/>
            <p:cNvSpPr/>
            <p:nvPr/>
          </p:nvSpPr>
          <p:spPr>
            <a:xfrm>
              <a:off x="380880" y="4114800"/>
              <a:ext cx="9296640" cy="60948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0880" y="4114800"/>
              <a:ext cx="9296640" cy="787320"/>
            </a:xfrm>
            <a:prstGeom prst="rect">
              <a:avLst/>
            </a:prstGeom>
            <a:gradFill rotWithShape="0">
              <a:gsLst>
                <a:gs pos="0">
                  <a:srgbClr val="808000"/>
                </a:gs>
                <a:gs pos="100000">
                  <a:srgbClr val="555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4229280"/>
              <a:ext cx="861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« SUBMERGING »</a:t>
              </a:r>
              <a:r>
                <a:rPr b="1" lang="fr-FR" sz="2400" spc="-1" strike="noStrike">
                  <a:solidFill>
                    <a:srgbClr val="cc6600"/>
                  </a:solidFill>
                  <a:latin typeface="Comic Sans MS"/>
                </a:rPr>
                <a:t>	</a:t>
              </a:r>
              <a:r>
                <a:rPr b="1" lang="fr-FR" sz="2400" spc="-1" strike="noStrike">
                  <a:solidFill>
                    <a:srgbClr val="cc6600"/>
                  </a:solidFill>
                  <a:latin typeface="Comic Sans MS"/>
                </a:rPr>
                <a:t>  </a:t>
              </a:r>
              <a:r>
                <a:rPr b="1" lang="fr-FR" sz="2400" spc="-1" strike="noStrike">
                  <a:solidFill>
                    <a:srgbClr val="ffffff"/>
                  </a:solidFill>
                  <a:latin typeface="Comic Sans MS"/>
                </a:rPr>
                <a:t>HGV/GBV-C, TTV, Sen-V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81280" y="4495680"/>
              <a:ext cx="4572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0" y="152280"/>
            <a:ext cx="1028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Comic Sans MS"/>
              </a:rPr>
              <a:t>Les différentes formes d’émergenc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5791320" y="548640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cc"/>
                </a:solidFill>
                <a:latin typeface="Comic Sans MS"/>
              </a:rPr>
              <a:t>D’après H. Alter, EPFA, Paris 200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35584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1028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Comic Sans MS"/>
              </a:rPr>
              <a:t>Evolutions technolog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343400" y="2133720"/>
            <a:ext cx="4876920" cy="1101960"/>
            <a:chOff x="4343400" y="2133720"/>
            <a:chExt cx="4876920" cy="1101960"/>
          </a:xfrm>
        </p:grpSpPr>
        <p:sp>
          <p:nvSpPr>
            <p:cNvPr id="193" name=""/>
            <p:cNvSpPr/>
            <p:nvPr/>
          </p:nvSpPr>
          <p:spPr>
            <a:xfrm>
              <a:off x="4343400" y="2133720"/>
              <a:ext cx="487692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88360" y="2160720"/>
              <a:ext cx="2713680" cy="10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Comic Sans MS"/>
                </a:rPr>
                <a:t>            </a:t>
              </a:r>
              <a:r>
                <a:rPr b="1" lang="fr-FR" sz="2800" spc="-1" strike="noStrike">
                  <a:solidFill>
                    <a:srgbClr val="ffff00"/>
                  </a:solidFill>
                  <a:latin typeface="Comic Sans MS"/>
                </a:rPr>
                <a:t>Biopuce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082960" y="10666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0" y="1600200"/>
            <a:ext cx="343080" cy="457200"/>
          </a:xfrm>
          <a:prstGeom prst="downArrow">
            <a:avLst>
              <a:gd name="adj1" fmla="val 50000"/>
              <a:gd name="adj2" fmla="val 3331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3988080" y="10666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1600200"/>
            <a:ext cx="342720" cy="457200"/>
          </a:xfrm>
          <a:prstGeom prst="downArrow">
            <a:avLst>
              <a:gd name="adj1" fmla="val 50000"/>
              <a:gd name="adj2" fmla="val 3335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3140280" y="21826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mic Sans MS"/>
              </a:rPr>
              <a:t>DG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219708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-68040" y="2184480"/>
            <a:ext cx="31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mic Sans MS"/>
              </a:rPr>
              <a:t>Antigène/Anticor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971800"/>
            <a:ext cx="5334120" cy="21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Détection simultanée de  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nombreuses cib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1. Biopuces AD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2. Biopuces proté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ts val="0"/>
              </a:lnSpc>
              <a:spcBef>
                <a:spcPts val="1500"/>
              </a:spcBef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881440" y="2133720"/>
            <a:ext cx="14619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749600" y="762120"/>
            <a:ext cx="2736720" cy="22748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752480" y="3533760"/>
            <a:ext cx="2735280" cy="22748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5638680" y="762120"/>
            <a:ext cx="2737080" cy="22748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5640480" y="3505320"/>
            <a:ext cx="2736720" cy="22748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200400" y="76320"/>
            <a:ext cx="3913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Arial"/>
              </a:rPr>
              <a:t>Les biopuces ADN</a:t>
            </a:r>
            <a:r>
              <a:rPr b="1" lang="fr-FR" sz="1600" spc="-1" strike="noStrike">
                <a:solidFill>
                  <a:srgbClr val="d73647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1828800" y="3048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Fixation des sondes ADN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   Incubatio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583884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Hybridation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   Marquage et détec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000160" y="1066680"/>
            <a:ext cx="2630520" cy="2186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751360" y="1066680"/>
            <a:ext cx="2630520" cy="21862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981080" y="3581280"/>
            <a:ext cx="2632320" cy="2187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789520" y="3581280"/>
            <a:ext cx="2592360" cy="21542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679840" y="76320"/>
            <a:ext cx="5056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7f217"/>
                </a:solidFill>
                <a:latin typeface="Arial"/>
              </a:rPr>
              <a:t>Les biopuces protéines</a:t>
            </a:r>
            <a:r>
              <a:rPr b="1" lang="fr-FR" sz="1600" spc="-1" strike="noStrike">
                <a:solidFill>
                  <a:srgbClr val="d73647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32004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ff"/>
                </a:solidFill>
                <a:latin typeface="Arial"/>
              </a:rPr>
              <a:t>Fixation des sondes Ac</a:t>
            </a:r>
            <a:r>
              <a:rPr b="1" lang="fr-FR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ffff"/>
                </a:solidFill>
                <a:latin typeface="Arial"/>
              </a:rPr>
              <a:t>         Incubation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2133720" y="5724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3647"/>
                </a:solidFill>
                <a:latin typeface="Times New Roman"/>
              </a:rPr>
              <a:t>      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Réaction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Marquage et détectio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2040" y="3924360"/>
            <a:ext cx="259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1" lang="fr-FR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ff00"/>
                </a:solidFill>
                <a:latin typeface="Comic Sans MS"/>
              </a:rPr>
              <a:t>En virolog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930240" y="4541760"/>
            <a:ext cx="8766360" cy="718560"/>
            <a:chOff x="930240" y="4541760"/>
            <a:chExt cx="8766360" cy="718560"/>
          </a:xfrm>
        </p:grpSpPr>
        <p:sp>
          <p:nvSpPr>
            <p:cNvPr id="220" name=""/>
            <p:cNvSpPr/>
            <p:nvPr/>
          </p:nvSpPr>
          <p:spPr>
            <a:xfrm>
              <a:off x="930240" y="4541760"/>
              <a:ext cx="876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1" lang="fr-FR" sz="20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fr-FR" sz="2000" spc="-1" strike="noStrike">
                  <a:solidFill>
                    <a:srgbClr val="ffffff"/>
                  </a:solidFill>
                  <a:latin typeface="Comic Sans MS"/>
                </a:rPr>
                <a:t>Microarray-based detection and genotyping of viral pathogen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09680" y="4923000"/>
              <a:ext cx="695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600" spc="-1" strike="noStrike">
                  <a:solidFill>
                    <a:srgbClr val="ffffff"/>
                  </a:solidFill>
                  <a:latin typeface="Comic Sans MS"/>
                </a:rPr>
                <a:t>Wang D et al. PNAS, 2002 ; 24 : 15687-1569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0" y="0"/>
            <a:ext cx="10287000" cy="1287360"/>
            <a:chOff x="0" y="0"/>
            <a:chExt cx="10287000" cy="1287360"/>
          </a:xfrm>
        </p:grpSpPr>
        <p:sp>
          <p:nvSpPr>
            <p:cNvPr id="223" name=""/>
            <p:cNvSpPr/>
            <p:nvPr/>
          </p:nvSpPr>
          <p:spPr>
            <a:xfrm>
              <a:off x="0" y="0"/>
              <a:ext cx="10287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ffff00"/>
                  </a:solidFill>
                  <a:latin typeface="Comic Sans MS"/>
                </a:rPr>
                <a:t>Biopuce ADN - Applications</a:t>
              </a: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2440" y="766800"/>
              <a:ext cx="993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571680"/>
                  <a:tab algn="l" pos="1143000"/>
                  <a:tab algn="l" pos="1714680"/>
                  <a:tab algn="l" pos="2286000"/>
                  <a:tab algn="l" pos="2857680"/>
                  <a:tab algn="l" pos="3429000"/>
                  <a:tab algn="l" pos="4000680"/>
                  <a:tab algn="l" pos="4572000"/>
                  <a:tab algn="l" pos="5143680"/>
                  <a:tab algn="l" pos="5715000"/>
                  <a:tab algn="l" pos="6286680"/>
                  <a:tab algn="l" pos="6858000"/>
                  <a:tab algn="l" pos="7429680"/>
                  <a:tab algn="l" pos="8001000"/>
                  <a:tab algn="l" pos="8572680"/>
                  <a:tab algn="l" pos="9144000"/>
                  <a:tab algn="l" pos="9715680"/>
                  <a:tab algn="l" pos="10287000"/>
                  <a:tab algn="l" pos="1085868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1" lang="fr-FR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</a:t>
              </a:r>
              <a:r>
                <a:rPr b="1" lang="fr-FR" sz="28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1" lang="fr-FR" sz="2800" spc="-1" strike="noStrike">
                  <a:solidFill>
                    <a:srgbClr val="ffff00"/>
                  </a:solidFill>
                  <a:latin typeface="Comic Sans MS"/>
                </a:rPr>
                <a:t>En Immuno-Hématologie</a:t>
              </a:r>
              <a:r>
                <a:rPr b="1" lang="fr-FR" sz="28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914400" y="2158920"/>
            <a:ext cx="8720280" cy="1014480"/>
            <a:chOff x="914400" y="2158920"/>
            <a:chExt cx="8720280" cy="1014480"/>
          </a:xfrm>
        </p:grpSpPr>
        <p:sp>
          <p:nvSpPr>
            <p:cNvPr id="226" name=""/>
            <p:cNvSpPr/>
            <p:nvPr/>
          </p:nvSpPr>
          <p:spPr>
            <a:xfrm>
              <a:off x="2209680" y="2933640"/>
              <a:ext cx="74250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600" spc="-1" strike="noStrike">
                  <a:solidFill>
                    <a:srgbClr val="ffffff"/>
                  </a:solidFill>
                  <a:latin typeface="Comic Sans MS"/>
                </a:rPr>
                <a:t>Beiboer S et al. Transfusion, 2005 ; 45 : 667-679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14400" y="2158920"/>
              <a:ext cx="86868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1" lang="fr-FR" sz="20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fr-FR" sz="2000" spc="-1" strike="noStrike">
                  <a:solidFill>
                    <a:srgbClr val="ffffff"/>
                  </a:solidFill>
                  <a:latin typeface="Comic Sans MS"/>
                </a:rPr>
                <a:t>Rapid genotyping of blood group antigens by multiplex polymerase </a:t>
              </a:r>
              <a:r>
                <a:rPr b="1" lang="fr-FR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fr-FR" sz="2000" spc="-1" strike="noStrike">
                  <a:solidFill>
                    <a:srgbClr val="ffffff"/>
                  </a:solidFill>
                  <a:latin typeface="Comic Sans MS"/>
                </a:rPr>
                <a:t>chain reaction and DNA microarray hybridization</a:t>
              </a:r>
              <a:r>
                <a:rPr b="1" lang="fr-FR" sz="28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57200" y="1193760"/>
            <a:ext cx="9829800" cy="870840"/>
            <a:chOff x="457200" y="1193760"/>
            <a:chExt cx="9829800" cy="870840"/>
          </a:xfrm>
        </p:grpSpPr>
        <p:sp>
          <p:nvSpPr>
            <p:cNvPr id="229" name=""/>
            <p:cNvSpPr/>
            <p:nvPr/>
          </p:nvSpPr>
          <p:spPr>
            <a:xfrm>
              <a:off x="2209680" y="1727280"/>
              <a:ext cx="545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600" spc="-1" strike="noStrike">
                  <a:solidFill>
                    <a:srgbClr val="ffffff"/>
                  </a:solidFill>
                  <a:latin typeface="Comic Sans MS"/>
                </a:rPr>
                <a:t>Hashimi G et al. Transfusion, 2005 ; 45 : 680-688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193760"/>
              <a:ext cx="98298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lvl="1" marL="457200">
                <a:lnSpc>
                  <a:spcPct val="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1" lang="fr-FR" sz="20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fr-FR" sz="2000" spc="-1" strike="noStrike">
                  <a:solidFill>
                    <a:srgbClr val="ffffff"/>
                  </a:solidFill>
                  <a:latin typeface="Comic Sans MS"/>
                </a:rPr>
                <a:t>A flexible array format for large-scale, rapid blood group DNA typing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927000" y="3251160"/>
            <a:ext cx="8707680" cy="684360"/>
            <a:chOff x="927000" y="3251160"/>
            <a:chExt cx="8707680" cy="684360"/>
          </a:xfrm>
        </p:grpSpPr>
        <p:sp>
          <p:nvSpPr>
            <p:cNvPr id="232" name=""/>
            <p:cNvSpPr/>
            <p:nvPr/>
          </p:nvSpPr>
          <p:spPr>
            <a:xfrm>
              <a:off x="2209680" y="3695760"/>
              <a:ext cx="74250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600" spc="-1" strike="noStrike">
                  <a:solidFill>
                    <a:srgbClr val="ff9900"/>
                  </a:solidFill>
                  <a:latin typeface="Comic Sans MS"/>
                </a:rPr>
                <a:t>Barlet V. EFS Rhône-Alpe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27000" y="3251160"/>
              <a:ext cx="868680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1" lang="fr-FR" sz="2000" spc="-1" strike="noStrike">
                  <a:solidFill>
                    <a:srgbClr val="ff9900"/>
                  </a:solidFill>
                  <a:latin typeface="Symbol"/>
                  <a:ea typeface="Symbol"/>
                </a:rPr>
                <a:t></a:t>
              </a:r>
              <a:r>
                <a:rPr b="1" lang="fr-FR" sz="2000" spc="-1" strike="noStrike">
                  <a:solidFill>
                    <a:srgbClr val="ff9900"/>
                  </a:solidFill>
                  <a:latin typeface="Comic Sans MS"/>
                </a:rPr>
                <a:t> </a:t>
              </a:r>
              <a:r>
                <a:rPr b="1" lang="fr-FR" sz="2000" spc="-1" strike="noStrike">
                  <a:solidFill>
                    <a:srgbClr val="ff9900"/>
                  </a:solidFill>
                  <a:latin typeface="Comic Sans MS"/>
                </a:rPr>
                <a:t>Génotypage des groupes sanguins sur biopuce</a:t>
              </a:r>
              <a:r>
                <a:rPr b="1" lang="fr-FR" sz="2800" spc="-1" strike="noStrike">
                  <a:solidFill>
                    <a:srgbClr val="ff9900"/>
                  </a:solidFill>
                  <a:latin typeface="Comic Sans M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914400" y="5410080"/>
            <a:ext cx="9372600" cy="1014480"/>
            <a:chOff x="914400" y="5410080"/>
            <a:chExt cx="9372600" cy="1014480"/>
          </a:xfrm>
        </p:grpSpPr>
        <p:sp>
          <p:nvSpPr>
            <p:cNvPr id="235" name=""/>
            <p:cNvSpPr/>
            <p:nvPr/>
          </p:nvSpPr>
          <p:spPr>
            <a:xfrm>
              <a:off x="914400" y="5410080"/>
              <a:ext cx="9372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291960"/>
                  <a:tab algn="l" pos="584280"/>
                  <a:tab algn="l" pos="876240"/>
                  <a:tab algn="l" pos="1168560"/>
                  <a:tab algn="l" pos="1460520"/>
                  <a:tab algn="l" pos="1752480"/>
                  <a:tab algn="l" pos="2044800"/>
                  <a:tab algn="l" pos="2336760"/>
                  <a:tab algn="l" pos="2629080"/>
                  <a:tab algn="l" pos="2921040"/>
                  <a:tab algn="l" pos="3213000"/>
                  <a:tab algn="l" pos="3505320"/>
                  <a:tab algn="l" pos="3797280"/>
                  <a:tab algn="l" pos="4089240"/>
                  <a:tab algn="l" pos="4381560"/>
                  <a:tab algn="l" pos="4673520"/>
                  <a:tab algn="l" pos="4965840"/>
                  <a:tab algn="l" pos="5257800"/>
                  <a:tab algn="l" pos="5549760"/>
                  <a:tab algn="l" pos="584208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</a:t>
              </a:r>
              <a:r>
                <a:rPr b="1" lang="fr-FR" sz="20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1" lang="fr-FR" sz="2000" spc="-1" strike="noStrike">
                  <a:solidFill>
                    <a:srgbClr val="ffffff"/>
                  </a:solidFill>
                  <a:latin typeface="Comic Sans MS"/>
                </a:rPr>
                <a:t>Characterization of a novel Coronavirus associated with acute </a:t>
              </a:r>
              <a:r>
                <a:rPr b="1" lang="fr-FR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fr-FR" sz="2000" spc="-1" strike="noStrike">
                  <a:solidFill>
                    <a:srgbClr val="ffffff"/>
                  </a:solidFill>
                  <a:latin typeface="Comic Sans MS"/>
                </a:rPr>
                <a:t>respiratory syndrom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09680" y="6184800"/>
              <a:ext cx="58676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600" spc="-1" strike="noStrike">
                  <a:solidFill>
                    <a:srgbClr val="ffffff"/>
                  </a:solidFill>
                  <a:latin typeface="Comic Sans MS"/>
                </a:rPr>
                <a:t>Rota PA et al. Science, 2003 ; 300 : 1394-1399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84600" y="304920"/>
            <a:ext cx="826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Comic Sans MS"/>
              </a:rPr>
              <a:t>Puce protéines - Appl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1828800"/>
            <a:ext cx="914400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00"/>
                </a:solidFill>
                <a:latin typeface="Symbol"/>
                <a:ea typeface="Symbol"/>
              </a:rPr>
              <a:t></a:t>
            </a:r>
            <a:r>
              <a:rPr b="1" lang="fr-FR" sz="20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ff9900"/>
                </a:solidFill>
                <a:latin typeface="Comic Sans MS"/>
              </a:rPr>
              <a:t>Recherche de biomarqueurs signant la résolution d’une infection à VH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9900"/>
                </a:solidFill>
                <a:latin typeface="Comic Sans MS"/>
              </a:rPr>
              <a:t>Fournier-Wirth C. EFS Pyrénées-Méditerrané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2895480"/>
            <a:ext cx="93726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cc"/>
                </a:solidFill>
                <a:latin typeface="Symbol"/>
                <a:ea typeface="Symbol"/>
              </a:rPr>
              <a:t></a:t>
            </a:r>
            <a:r>
              <a:rPr b="1" lang="fr-FR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ffffcc"/>
                </a:solidFill>
                <a:latin typeface="Comic Sans MS"/>
              </a:rPr>
              <a:t>Antigen Microarrays for Serodiagnosis of Infectious Disea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cc"/>
                </a:solidFill>
                <a:latin typeface="Comic Sans MS"/>
              </a:rPr>
              <a:t>Mezzasoma L. et al. Clin. Chemistry 2002; 48:1, 121-13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857160" y="228600"/>
            <a:ext cx="951552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Comic Sans MS"/>
              </a:rPr>
              <a:t>Antigen Microarrays for Serodiagnosis of Infectious Diseases</a:t>
            </a:r>
            <a:r>
              <a:rPr b="1" lang="fr-FR" sz="2000" spc="-1" strike="noStrike">
                <a:solidFill>
                  <a:srgbClr val="ffff00"/>
                </a:solidFill>
                <a:latin typeface="Comic Sans MS"/>
              </a:rPr>
              <a:t>,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ffff00"/>
                </a:solidFill>
                <a:latin typeface="Comic Sans MS"/>
              </a:rPr>
              <a:t>L. Mezzasoma., et al. Clin. Chemistry 2002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629280" y="1809720"/>
            <a:ext cx="701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Approche génomique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antigènes déposés sur lames de ver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puce protéi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628640" y="3246480"/>
            <a:ext cx="8190360" cy="2644200"/>
            <a:chOff x="1628640" y="3246480"/>
            <a:chExt cx="8190360" cy="2644200"/>
          </a:xfrm>
        </p:grpSpPr>
        <p:sp>
          <p:nvSpPr>
            <p:cNvPr id="243" name=""/>
            <p:cNvSpPr/>
            <p:nvPr/>
          </p:nvSpPr>
          <p:spPr>
            <a:xfrm>
              <a:off x="1628640" y="3246480"/>
              <a:ext cx="771480" cy="766800"/>
            </a:xfrm>
            <a:custGeom>
              <a:avLst/>
              <a:gdLst>
                <a:gd name="textAreaLeft" fmla="*/ 103320 w 771480"/>
                <a:gd name="textAreaRight" fmla="*/ 668160 w 771480"/>
                <a:gd name="textAreaTop" fmla="*/ 133920 h 766800"/>
                <a:gd name="textAreaBottom" fmla="*/ 555840 h 76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gradFill rotWithShape="0">
              <a:gsLst>
                <a:gs pos="0">
                  <a:srgbClr val="462f75"/>
                </a:gs>
                <a:gs pos="100000">
                  <a:srgbClr val="9966ff"/>
                </a:gs>
              </a:gsLst>
              <a:lin ang="5400000"/>
            </a:gradFill>
            <a:ln w="9360">
              <a:solidFill>
                <a:srgbClr val="99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81040" y="3602160"/>
              <a:ext cx="74379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Comic Sans MS"/>
                </a:rPr>
                <a:t>Détection simultanée à partir de sérum humain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Comic Sans MS"/>
                </a:rPr>
                <a:t>des anticorps dirigés contre :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fr-FR" sz="2400" spc="-1" strike="noStrike">
                  <a:solidFill>
                    <a:srgbClr val="ffffff"/>
                  </a:solidFill>
                  <a:latin typeface="Comic Sans MS"/>
                </a:rPr>
                <a:t>- toxoplasma gondii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fr-FR" sz="2400" spc="-1" strike="noStrike">
                  <a:solidFill>
                    <a:srgbClr val="ffffff"/>
                  </a:solidFill>
                  <a:latin typeface="Comic Sans MS"/>
                </a:rPr>
                <a:t>- cytomégalovirus (CMV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fr-FR" sz="2400" spc="-1" strike="noStrike">
                  <a:solidFill>
                    <a:srgbClr val="ffffff"/>
                  </a:solidFill>
                  <a:latin typeface="Comic Sans MS"/>
                </a:rPr>
                <a:t>- rubella viru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fr-FR" sz="2400" spc="-1" strike="noStrike">
                  <a:solidFill>
                    <a:srgbClr val="ffffff"/>
                  </a:solidFill>
                  <a:latin typeface="Comic Sans MS"/>
                </a:rPr>
                <a:t>- herpes simplex virus (HSV1/ HSV2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800" y="6324480"/>
            <a:ext cx="3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63960" y="3606840"/>
            <a:ext cx="18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-152280" y="152280"/>
            <a:ext cx="1043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omparaison ELISA / Pu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048120" y="1371600"/>
            <a:ext cx="4182840" cy="44956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048120" y="4648320"/>
            <a:ext cx="418932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76320"/>
            <a:ext cx="1028700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Comic Sans MS"/>
              </a:rPr>
              <a:t>Biopuces de 1ère génération pour qualifier les dons de sang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528920"/>
            <a:ext cx="952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Symbol" charset="2"/>
              <a:buChar char=""/>
              <a:tabLst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é-requ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676520" y="4800600"/>
            <a:ext cx="754380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Comic Sans MS"/>
              </a:rPr>
              <a:t>- affinit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Comic Sans MS"/>
              </a:rPr>
              <a:t>- stabilit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Comic Sans MS"/>
              </a:rPr>
              <a:t>- faible détection des signau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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Alternatives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1905120" y="20574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Sensibilité et spécificité ++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1892160" y="2590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Biopuces AD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3009960"/>
            <a:ext cx="6172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Comic Sans MS"/>
              </a:rPr>
              <a:t>extraction des acides nucléiq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fr-FR" sz="2400" spc="-1" strike="noStrike">
                <a:solidFill>
                  <a:srgbClr val="ffffff"/>
                </a:solidFill>
                <a:latin typeface="Comic Sans MS"/>
              </a:rPr>
              <a:t>couplage à la PC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Comic Sans MS"/>
              </a:rPr>
              <a:t>- coû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1892160" y="43434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Biopuces protéin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666880" y="2743200"/>
            <a:ext cx="6019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isques immunologiq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isques infectieu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21636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ssurer la sécurité des produits sangui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838080" y="4189320"/>
            <a:ext cx="9448920" cy="1068840"/>
            <a:chOff x="838080" y="4189320"/>
            <a:chExt cx="9448920" cy="1068840"/>
          </a:xfrm>
        </p:grpSpPr>
        <p:sp>
          <p:nvSpPr>
            <p:cNvPr id="50" name=""/>
            <p:cNvSpPr/>
            <p:nvPr/>
          </p:nvSpPr>
          <p:spPr>
            <a:xfrm>
              <a:off x="1371600" y="4189320"/>
              <a:ext cx="8915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Conforter les domaines émergents et les innovations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8080" y="4548600"/>
              <a:ext cx="4572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248000" y="50760"/>
            <a:ext cx="1714680" cy="952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753640" y="1263600"/>
            <a:ext cx="485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</a:t>
            </a:r>
            <a:r>
              <a:rPr b="1" lang="fr-FR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fr-FR" sz="3600" spc="-1" strike="noStrike">
                <a:solidFill>
                  <a:srgbClr val="ffff00"/>
                </a:solidFill>
                <a:latin typeface="Comic Sans MS"/>
              </a:rPr>
              <a:t>Mission prioritai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-152280" y="0"/>
            <a:ext cx="1043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Comic Sans MS"/>
              </a:rPr>
              <a:t>Biopuces de 2ème géné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2193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arlett"/>
                <a:ea typeface="Marlett"/>
              </a:rPr>
              <a:t></a:t>
            </a: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Lab-on-Chip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1676520" y="1816200"/>
            <a:ext cx="8610480" cy="8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ans quelques c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xtraction - amplification - dét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3517920" y="50292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lus de couplage à PC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2577960"/>
            <a:ext cx="87631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00"/>
                </a:solidFill>
                <a:latin typeface="Marlett"/>
                <a:ea typeface="Marlett"/>
              </a:rPr>
              <a:t></a:t>
            </a:r>
            <a:r>
              <a:rPr b="1" lang="fr-FR" sz="2800" spc="-1" strike="noStrike">
                <a:solidFill>
                  <a:srgbClr val="ffcc00"/>
                </a:solidFill>
                <a:latin typeface="Comic Sans MS"/>
              </a:rPr>
              <a:t>Biocapteu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Détection rapide d’une réaction biochimiq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00"/>
                </a:solidFill>
                <a:latin typeface="Marlett"/>
                <a:ea typeface="Marlett"/>
              </a:rPr>
              <a:t></a:t>
            </a:r>
            <a:r>
              <a:rPr b="1" lang="fr-FR" sz="2800" spc="-1" strike="noStrike">
                <a:solidFill>
                  <a:srgbClr val="ffcc00"/>
                </a:solidFill>
                <a:latin typeface="Comic Sans MS"/>
              </a:rPr>
              <a:t>Bio-Barcodes Amplification Assay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3505320" y="372096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optique, électronique,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419720" y="5371200"/>
            <a:ext cx="21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SimSun"/>
              </a:rPr>
              <a:t>solution d ’hybrid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8431200" y="5319000"/>
            <a:ext cx="1398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SimSun"/>
              </a:rPr>
              <a:t>Solution d ’hybrid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7688160" y="4271040"/>
            <a:ext cx="173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SimSun"/>
              </a:rPr>
              <a:t>Solution de rinç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5510160" y="5901480"/>
            <a:ext cx="214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SimSun"/>
              </a:rPr>
              <a:t>Solution de rinçag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6288480" y="2179080"/>
            <a:ext cx="31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4ee88"/>
                </a:solidFill>
                <a:latin typeface="Arial"/>
                <a:ea typeface="SimSun"/>
              </a:rPr>
              <a:t>2) </a:t>
            </a:r>
            <a:r>
              <a:rPr b="1" lang="fr-FR" sz="1800" spc="-1" strike="noStrike" u="sng">
                <a:solidFill>
                  <a:srgbClr val="74ee88"/>
                </a:solidFill>
                <a:uFillTx/>
                <a:latin typeface="Arial"/>
                <a:ea typeface="SimSun"/>
              </a:rPr>
              <a:t>Intégration de chauffag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022800" y="2686680"/>
            <a:ext cx="3575160" cy="1351800"/>
            <a:chOff x="6022800" y="2686680"/>
            <a:chExt cx="3575160" cy="1351800"/>
          </a:xfrm>
        </p:grpSpPr>
        <p:sp>
          <p:nvSpPr>
            <p:cNvPr id="269" name=""/>
            <p:cNvSpPr/>
            <p:nvPr/>
          </p:nvSpPr>
          <p:spPr>
            <a:xfrm>
              <a:off x="6443280" y="2769480"/>
              <a:ext cx="2804040" cy="54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53520" y="2950920"/>
              <a:ext cx="2383560" cy="36252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33040" y="3313440"/>
              <a:ext cx="3224520" cy="12060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35800" y="3252960"/>
              <a:ext cx="490680" cy="60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863760" y="3252960"/>
              <a:ext cx="490680" cy="60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35240" y="3252960"/>
              <a:ext cx="490320" cy="60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022800" y="3373560"/>
              <a:ext cx="2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22800" y="3373560"/>
              <a:ext cx="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22800" y="3857040"/>
              <a:ext cx="13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457560" y="3373560"/>
              <a:ext cx="14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597960" y="3373560"/>
              <a:ext cx="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494840" y="3857040"/>
              <a:ext cx="210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94840" y="3675960"/>
              <a:ext cx="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54800" y="3796560"/>
              <a:ext cx="0" cy="120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63760" y="3011040"/>
              <a:ext cx="324000" cy="14580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44" y="0"/>
                  </a:moveTo>
                  <a:cubicBezTo>
                    <a:pt x="8" y="24"/>
                    <a:pt x="0" y="55"/>
                    <a:pt x="21" y="101"/>
                  </a:cubicBezTo>
                  <a:cubicBezTo>
                    <a:pt x="28" y="116"/>
                    <a:pt x="52" y="111"/>
                    <a:pt x="67" y="116"/>
                  </a:cubicBezTo>
                  <a:cubicBezTo>
                    <a:pt x="85" y="113"/>
                    <a:pt x="104" y="113"/>
                    <a:pt x="121" y="108"/>
                  </a:cubicBezTo>
                  <a:cubicBezTo>
                    <a:pt x="179" y="91"/>
                    <a:pt x="117" y="99"/>
                    <a:pt x="160" y="77"/>
                  </a:cubicBezTo>
                  <a:cubicBezTo>
                    <a:pt x="175" y="70"/>
                    <a:pt x="207" y="62"/>
                    <a:pt x="207" y="62"/>
                  </a:cubicBezTo>
                  <a:cubicBezTo>
                    <a:pt x="215" y="89"/>
                    <a:pt x="208" y="79"/>
                    <a:pt x="222" y="93"/>
                  </a:cubicBezTo>
                </a:path>
              </a:pathLst>
            </a:custGeom>
            <a:noFill/>
            <a:ln w="158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494840" y="3071520"/>
              <a:ext cx="429480" cy="113040"/>
            </a:xfrm>
            <a:custGeom>
              <a:avLst/>
              <a:gdLst/>
              <a:ahLst/>
              <a:rect l="l" t="t" r="r" b="b"/>
              <a:pathLst>
                <a:path w="294" h="90">
                  <a:moveTo>
                    <a:pt x="0" y="74"/>
                  </a:moveTo>
                  <a:cubicBezTo>
                    <a:pt x="45" y="29"/>
                    <a:pt x="21" y="40"/>
                    <a:pt x="62" y="28"/>
                  </a:cubicBezTo>
                  <a:cubicBezTo>
                    <a:pt x="102" y="0"/>
                    <a:pt x="109" y="4"/>
                    <a:pt x="162" y="12"/>
                  </a:cubicBezTo>
                  <a:cubicBezTo>
                    <a:pt x="172" y="50"/>
                    <a:pt x="161" y="76"/>
                    <a:pt x="201" y="90"/>
                  </a:cubicBezTo>
                  <a:cubicBezTo>
                    <a:pt x="219" y="87"/>
                    <a:pt x="238" y="88"/>
                    <a:pt x="255" y="82"/>
                  </a:cubicBezTo>
                  <a:cubicBezTo>
                    <a:pt x="276" y="75"/>
                    <a:pt x="271" y="43"/>
                    <a:pt x="294" y="43"/>
                  </a:cubicBezTo>
                </a:path>
              </a:pathLst>
            </a:custGeom>
            <a:noFill/>
            <a:ln w="158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265960" y="3011040"/>
              <a:ext cx="79920" cy="234360"/>
            </a:xfrm>
            <a:custGeom>
              <a:avLst/>
              <a:gdLst/>
              <a:ahLst/>
              <a:rect l="l" t="t" r="r" b="b"/>
              <a:pathLst>
                <a:path w="55" h="186">
                  <a:moveTo>
                    <a:pt x="55" y="186"/>
                  </a:moveTo>
                  <a:cubicBezTo>
                    <a:pt x="0" y="169"/>
                    <a:pt x="24" y="101"/>
                    <a:pt x="40" y="55"/>
                  </a:cubicBezTo>
                  <a:cubicBezTo>
                    <a:pt x="23" y="5"/>
                    <a:pt x="35" y="20"/>
                    <a:pt x="17" y="0"/>
                  </a:cubicBezTo>
                </a:path>
              </a:pathLst>
            </a:custGeom>
            <a:noFill/>
            <a:ln w="158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628120" y="3023640"/>
              <a:ext cx="141480" cy="20520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0" y="162"/>
                  </a:moveTo>
                  <a:cubicBezTo>
                    <a:pt x="21" y="159"/>
                    <a:pt x="43" y="163"/>
                    <a:pt x="62" y="154"/>
                  </a:cubicBezTo>
                  <a:cubicBezTo>
                    <a:pt x="97" y="136"/>
                    <a:pt x="74" y="73"/>
                    <a:pt x="54" y="54"/>
                  </a:cubicBezTo>
                  <a:cubicBezTo>
                    <a:pt x="48" y="38"/>
                    <a:pt x="38" y="23"/>
                    <a:pt x="54" y="7"/>
                  </a:cubicBezTo>
                  <a:cubicBezTo>
                    <a:pt x="60" y="1"/>
                    <a:pt x="77" y="0"/>
                    <a:pt x="77" y="0"/>
                  </a:cubicBezTo>
                </a:path>
              </a:pathLst>
            </a:custGeom>
            <a:noFill/>
            <a:ln w="158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47880" y="2984760"/>
              <a:ext cx="159120" cy="193680"/>
            </a:xfrm>
            <a:custGeom>
              <a:avLst/>
              <a:gdLst/>
              <a:ahLst/>
              <a:rect l="l" t="t" r="r" b="b"/>
              <a:pathLst>
                <a:path w="109" h="154">
                  <a:moveTo>
                    <a:pt x="109" y="0"/>
                  </a:moveTo>
                  <a:cubicBezTo>
                    <a:pt x="69" y="7"/>
                    <a:pt x="54" y="5"/>
                    <a:pt x="31" y="38"/>
                  </a:cubicBezTo>
                  <a:cubicBezTo>
                    <a:pt x="19" y="79"/>
                    <a:pt x="43" y="135"/>
                    <a:pt x="0" y="154"/>
                  </a:cubicBezTo>
                </a:path>
              </a:pathLst>
            </a:custGeom>
            <a:noFill/>
            <a:ln w="158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65440" y="3257280"/>
              <a:ext cx="37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ITO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33040" y="3434040"/>
              <a:ext cx="3224520" cy="1206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44120" y="3364560"/>
              <a:ext cx="392400" cy="2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SiO</a:t>
              </a:r>
              <a:r>
                <a:rPr b="0" lang="fr-FR" sz="900" spc="-1" strike="noStrike" baseline="-25000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17480" y="2686680"/>
              <a:ext cx="73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hambre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6319800" y="4307040"/>
            <a:ext cx="2421720" cy="1609200"/>
            <a:chOff x="6319800" y="4307040"/>
            <a:chExt cx="2421720" cy="1609200"/>
          </a:xfrm>
        </p:grpSpPr>
        <p:pic>
          <p:nvPicPr>
            <p:cNvPr id="293" name="" descr=""/>
            <p:cNvPicPr/>
            <p:nvPr/>
          </p:nvPicPr>
          <p:blipFill>
            <a:blip r:embed="rId1"/>
            <a:stretch/>
          </p:blipFill>
          <p:spPr>
            <a:xfrm>
              <a:off x="6676920" y="4530960"/>
              <a:ext cx="1747800" cy="138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8387280" y="5205960"/>
              <a:ext cx="354240" cy="113040"/>
            </a:xfrm>
            <a:prstGeom prst="rightArrow">
              <a:avLst>
                <a:gd name="adj1" fmla="val 50000"/>
                <a:gd name="adj2" fmla="val 7834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19800" y="5205960"/>
              <a:ext cx="357120" cy="113040"/>
            </a:xfrm>
            <a:prstGeom prst="rightArrow">
              <a:avLst>
                <a:gd name="adj1" fmla="val 50000"/>
                <a:gd name="adj2" fmla="val 7898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61000" y="4307040"/>
              <a:ext cx="141840" cy="279720"/>
            </a:xfrm>
            <a:prstGeom prst="downArrow">
              <a:avLst>
                <a:gd name="adj1" fmla="val 50000"/>
                <a:gd name="adj2" fmla="val 4930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297" name="" descr=""/>
          <p:cNvPicPr/>
          <p:nvPr/>
        </p:nvPicPr>
        <p:blipFill>
          <a:blip r:embed="rId2"/>
          <a:srcRect l="35873" t="18263" r="28499" b="0"/>
          <a:stretch/>
        </p:blipFill>
        <p:spPr>
          <a:xfrm>
            <a:off x="776160" y="2965320"/>
            <a:ext cx="3249720" cy="10731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rcRect l="81284" t="20045" r="552" b="5735"/>
          <a:stretch/>
        </p:blipFill>
        <p:spPr>
          <a:xfrm>
            <a:off x="1239840" y="4343400"/>
            <a:ext cx="2038320" cy="16556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39840" y="2423520"/>
            <a:ext cx="36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4ee88"/>
                </a:solidFill>
                <a:latin typeface="Arial"/>
                <a:ea typeface="SimSun"/>
              </a:rPr>
              <a:t>1) </a:t>
            </a:r>
            <a:r>
              <a:rPr b="1" lang="fr-FR" sz="1800" spc="-1" strike="noStrike" u="sng">
                <a:solidFill>
                  <a:srgbClr val="74ee88"/>
                </a:solidFill>
                <a:uFillTx/>
                <a:latin typeface="Arial"/>
                <a:ea typeface="SimSun"/>
              </a:rPr>
              <a:t>Micro-chambre d’hybrid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6381720" y="533520"/>
            <a:ext cx="3463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Arial"/>
                <a:ea typeface="SimSun"/>
              </a:rPr>
              <a:t>Objectifs</a:t>
            </a:r>
            <a:r>
              <a:rPr b="1" lang="fr-FR" sz="1800" spc="-1" strike="noStrike">
                <a:solidFill>
                  <a:srgbClr val="ff9900"/>
                </a:solidFill>
                <a:latin typeface="Tahoma"/>
                <a:ea typeface="SimSun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12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SimSun"/>
              </a:rPr>
              <a:t>Échantillon - 1 µ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12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SimSun"/>
              </a:rPr>
              <a:t>Hybridation rapide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190440" indent="-190440">
              <a:lnSpc>
                <a:spcPct val="12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SimSun"/>
              </a:rPr>
              <a:t>Suivi cinétiqu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511200" y="5861160"/>
            <a:ext cx="392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42480" y="-360"/>
            <a:ext cx="8744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Arial"/>
                <a:ea typeface="SimSun"/>
              </a:rPr>
              <a:t>Puce DNA microfluidiq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076640" y="903240"/>
          <a:ext cx="1508040" cy="127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76640" y="903240"/>
                    <a:ext cx="150804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750960" y="990720"/>
          <a:ext cx="1371600" cy="1190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0960" y="990720"/>
                    <a:ext cx="137160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7" name="" descr=""/>
          <p:cNvPicPr/>
          <p:nvPr/>
        </p:nvPicPr>
        <p:blipFill>
          <a:blip r:embed="rId8"/>
          <a:stretch/>
        </p:blipFill>
        <p:spPr>
          <a:xfrm>
            <a:off x="2314440" y="903240"/>
            <a:ext cx="1522440" cy="1278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585720" y="790560"/>
            <a:ext cx="5240520" cy="1495440"/>
          </a:xfrm>
          <a:prstGeom prst="rect">
            <a:avLst/>
          </a:prstGeom>
          <a:noFill/>
          <a:ln w="255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4195080" y="4218840"/>
            <a:ext cx="25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4ee88"/>
                </a:solidFill>
                <a:latin typeface="Arial"/>
                <a:ea typeface="SimSun"/>
              </a:rPr>
              <a:t>3) </a:t>
            </a:r>
            <a:r>
              <a:rPr b="1" lang="fr-FR" sz="1800" spc="-1" strike="noStrike" u="sng">
                <a:solidFill>
                  <a:srgbClr val="74ee88"/>
                </a:solidFill>
                <a:uFillTx/>
                <a:latin typeface="Arial"/>
                <a:ea typeface="SimSun"/>
              </a:rPr>
              <a:t>Circulation forcée</a:t>
            </a:r>
            <a:r>
              <a:rPr b="1" lang="fr-FR" sz="1800" spc="-1" strike="noStrike">
                <a:solidFill>
                  <a:srgbClr val="33ccff"/>
                </a:solidFill>
                <a:latin typeface="Arial"/>
                <a:ea typeface="SimSu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7535880" y="5916600"/>
            <a:ext cx="117360" cy="219240"/>
          </a:xfrm>
          <a:prstGeom prst="downArrow">
            <a:avLst>
              <a:gd name="adj1" fmla="val 50000"/>
              <a:gd name="adj2" fmla="val 467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307120" y="1676520"/>
            <a:ext cx="4543200" cy="30286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33520" y="1677960"/>
            <a:ext cx="4543200" cy="30560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777960" y="4844880"/>
            <a:ext cx="38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73647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Micro canaux (100 µ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5313240" y="4911840"/>
            <a:ext cx="38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73647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NLE  (prototype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04920" y="228600"/>
          <a:ext cx="1371600" cy="973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28600"/>
                    <a:ext cx="13716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1739880" y="304920"/>
            <a:ext cx="824220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73647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llaboration NANOBIOGENE &amp; EFS-BFC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(P. MOREL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914400" y="1704960"/>
            <a:ext cx="3336840" cy="36576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319" name=""/>
          <p:cNvSpPr/>
          <p:nvPr/>
        </p:nvSpPr>
        <p:spPr>
          <a:xfrm>
            <a:off x="3505320" y="5638680"/>
            <a:ext cx="655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Comic Sans MS"/>
              </a:rPr>
              <a:t>J. Nam, S. Thaxton and C. Mirkin.  Science (301) 2003 : 1884-1886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Comic Sans MS"/>
              </a:rPr>
              <a:t>R. Service. Science (301) 2003 : 1827 (comment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4533840" y="2320920"/>
            <a:ext cx="447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Sensibilité : 10</a:t>
            </a:r>
            <a:r>
              <a:rPr b="1" lang="fr-FR" sz="2400" spc="-1" strike="noStrike" baseline="30000">
                <a:solidFill>
                  <a:srgbClr val="ffffff"/>
                </a:solidFill>
                <a:latin typeface="Comic Sans MS"/>
              </a:rPr>
              <a:t>-18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&gt; x10</a:t>
            </a:r>
            <a:r>
              <a:rPr b="1" lang="fr-FR" sz="2400" spc="-1" strike="noStrike" baseline="30000">
                <a:solidFill>
                  <a:srgbClr val="ffffff"/>
                </a:solidFill>
                <a:latin typeface="Comic Sans MS"/>
              </a:rPr>
              <a:t>6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/détections classiqu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-12600"/>
            <a:ext cx="1037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Comic Sans MS"/>
              </a:rPr>
              <a:t>Nanoparticules/Biocapteur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1230480" y="927000"/>
            <a:ext cx="46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- particules de métal (fer et 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228600"/>
            <a:ext cx="10287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Comic Sans MS"/>
              </a:rPr>
              <a:t>Collaborations EFS-PM (J. Coste), </a:t>
            </a:r>
            <a:br>
              <a:rPr sz="3200"/>
            </a:br>
            <a:r>
              <a:rPr b="1" lang="fr-FR" sz="3200" spc="-1" strike="noStrike">
                <a:solidFill>
                  <a:srgbClr val="ffff00"/>
                </a:solidFill>
                <a:latin typeface="Comic Sans MS"/>
              </a:rPr>
              <a:t>EFS-RA (V. Barlet) avec le Laboratoire d’Electronique, Optoélectronique et Microsystèmes (LEOM) de l’École Centrale de Ly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1143000" y="2819520"/>
            <a:ext cx="87440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900"/>
                </a:solidFill>
                <a:latin typeface="Comic Sans MS"/>
              </a:rPr>
              <a:t>Nanoparticules et biocapteu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2 modèles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Groupages érythrocytai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Agent infectieu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395360" y="268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8096400" y="243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7086600" y="40147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80880" y="-47520"/>
            <a:ext cx="8775720" cy="5802120"/>
            <a:chOff x="380880" y="-47520"/>
            <a:chExt cx="8775720" cy="5802120"/>
          </a:xfrm>
        </p:grpSpPr>
        <p:grpSp>
          <p:nvGrpSpPr>
            <p:cNvPr id="329" name=""/>
            <p:cNvGrpSpPr/>
            <p:nvPr/>
          </p:nvGrpSpPr>
          <p:grpSpPr>
            <a:xfrm>
              <a:off x="380880" y="1447920"/>
              <a:ext cx="8775720" cy="2080800"/>
              <a:chOff x="380880" y="1447920"/>
              <a:chExt cx="8775720" cy="2080800"/>
            </a:xfrm>
          </p:grpSpPr>
          <p:sp>
            <p:nvSpPr>
              <p:cNvPr id="330" name=""/>
              <p:cNvSpPr/>
              <p:nvPr/>
            </p:nvSpPr>
            <p:spPr>
              <a:xfrm>
                <a:off x="6234480" y="1449360"/>
                <a:ext cx="87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2010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513480" y="1889280"/>
                <a:ext cx="304920" cy="466560"/>
              </a:xfrm>
              <a:prstGeom prst="downArrow">
                <a:avLst>
                  <a:gd name="adj1" fmla="val 50000"/>
                  <a:gd name="adj2" fmla="val 38253"/>
                </a:avLst>
              </a:prstGeom>
              <a:solidFill>
                <a:srgbClr val="ffff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689480" y="1447920"/>
                <a:ext cx="87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1990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944720" y="1905120"/>
                <a:ext cx="304920" cy="457200"/>
              </a:xfrm>
              <a:prstGeom prst="downArrow">
                <a:avLst>
                  <a:gd name="adj1" fmla="val 50000"/>
                  <a:gd name="adj2" fmla="val 37485"/>
                </a:avLst>
              </a:prstGeom>
              <a:solidFill>
                <a:srgbClr val="ffff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47280" y="2443320"/>
                <a:ext cx="1236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Comic Sans MS"/>
                  </a:rPr>
                  <a:t>Ag / Ac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80880" y="2408400"/>
                <a:ext cx="877572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229280" y="1447920"/>
                <a:ext cx="87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2000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508640" y="1905120"/>
                <a:ext cx="304560" cy="457200"/>
              </a:xfrm>
              <a:prstGeom prst="downArrow">
                <a:avLst>
                  <a:gd name="adj1" fmla="val 50000"/>
                  <a:gd name="adj2" fmla="val 37530"/>
                </a:avLst>
              </a:prstGeom>
              <a:solidFill>
                <a:srgbClr val="ffff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09680" y="2443320"/>
                <a:ext cx="816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NAT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726440" y="2459160"/>
                <a:ext cx="2223000" cy="106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Comic Sans MS"/>
                  </a:rPr>
                  <a:t>Biopuces 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ffffff"/>
                    </a:solidFill>
                    <a:latin typeface="Comic Sans MS"/>
                  </a:rPr>
                  <a:t>1ère génération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3658680" y="-47520"/>
              <a:ext cx="295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Comic Sans MS"/>
                </a:rPr>
                <a:t>Conclusion</a:t>
              </a:r>
              <a:endParaRPr b="0" lang="en-US" sz="4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530280" y="4929120"/>
              <a:ext cx="6196320" cy="825480"/>
              <a:chOff x="530280" y="4929120"/>
              <a:chExt cx="6196320" cy="825480"/>
            </a:xfrm>
          </p:grpSpPr>
          <p:sp>
            <p:nvSpPr>
              <p:cNvPr id="342" name=""/>
              <p:cNvSpPr/>
              <p:nvPr/>
            </p:nvSpPr>
            <p:spPr>
              <a:xfrm>
                <a:off x="530280" y="4978440"/>
                <a:ext cx="1533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ffff"/>
                    </a:solidFill>
                    <a:latin typeface="Comic Sans MS"/>
                  </a:rPr>
                  <a:t>Sérologie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666880" y="4929120"/>
                <a:ext cx="29577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ffff"/>
                    </a:solidFill>
                    <a:latin typeface="Comic Sans MS"/>
                  </a:rPr>
                  <a:t>Biologie moléculaire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865040" y="4975200"/>
                <a:ext cx="186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ffff"/>
                    </a:solidFill>
                    <a:latin typeface="Comic Sans MS"/>
                  </a:rPr>
                  <a:t>Génomique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7086600" y="2490840"/>
            <a:ext cx="3238200" cy="2921760"/>
            <a:chOff x="7086600" y="2490840"/>
            <a:chExt cx="3238200" cy="2921760"/>
          </a:xfrm>
        </p:grpSpPr>
        <p:sp>
          <p:nvSpPr>
            <p:cNvPr id="346" name=""/>
            <p:cNvSpPr/>
            <p:nvPr/>
          </p:nvSpPr>
          <p:spPr>
            <a:xfrm>
              <a:off x="7223040" y="2490840"/>
              <a:ext cx="236160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Biopuces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00"/>
                  </a:solidFill>
                  <a:latin typeface="Comic Sans MS"/>
                </a:rPr>
                <a:t>2ème génération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749720" y="3268800"/>
              <a:ext cx="2575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9900"/>
                  </a:solidFill>
                  <a:latin typeface="Comic Sans MS"/>
                </a:rPr>
                <a:t>Lab-on-chip ?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9900"/>
                  </a:solidFill>
                  <a:latin typeface="Comic Sans MS"/>
                </a:rPr>
                <a:t>Biocapteurs ?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9900"/>
                  </a:solidFill>
                  <a:latin typeface="Comic Sans MS"/>
                </a:rPr>
                <a:t>Nanoparticules ?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9900"/>
                  </a:solidFill>
                  <a:latin typeface="Comic Sans MS"/>
                </a:rPr>
                <a:t>………………</a:t>
              </a:r>
              <a:r>
                <a:rPr b="0" lang="fr-FR" sz="2400" spc="-1" strike="noStrike">
                  <a:solidFill>
                    <a:srgbClr val="ff9900"/>
                  </a:solidFill>
                  <a:latin typeface="Comic Sans MS"/>
                </a:rPr>
                <a:t>..   ???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086600" y="4952880"/>
              <a:ext cx="303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Nanotechnologie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439" t="25600" r="66619" b="30896"/>
          <a:stretch/>
        </p:blipFill>
        <p:spPr>
          <a:xfrm>
            <a:off x="4165560" y="1190520"/>
            <a:ext cx="5505480" cy="5321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724280" y="302904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4724280" y="302904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04812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3029040"/>
            <a:ext cx="10287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2034000" y="0"/>
            <a:ext cx="617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Comic Sans MS"/>
              </a:rPr>
              <a:t>Activités de R&amp;D à l ’E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546120" y="1371600"/>
            <a:ext cx="30859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Recensement 2003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#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90 ETP Recherc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DMS, DR, CR, I, T, …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>
            <a:off x="507960" y="2819520"/>
            <a:ext cx="31622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ffff"/>
                </a:solidFill>
                <a:uFillTx/>
                <a:latin typeface="Comic Sans MS"/>
              </a:rPr>
              <a:t>Activités R&amp;D</a:t>
            </a:r>
            <a:r>
              <a:rPr b="1" i="1" lang="fr-FR" sz="2000" spc="-1" strike="noStrike">
                <a:solidFill>
                  <a:srgbClr val="00ffff"/>
                </a:solidFill>
                <a:latin typeface="Comic Sans MS"/>
              </a:rPr>
              <a:t> :</a:t>
            </a:r>
            <a:r>
              <a:rPr b="1" lang="fr-FR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ffff"/>
                </a:solidFill>
                <a:latin typeface="Comic Sans MS"/>
              </a:rPr>
              <a:t>- IH, ATT, H, TC,</a:t>
            </a:r>
            <a:r>
              <a:rPr b="1" i="1" lang="fr-FR" sz="2000" spc="-1" strike="noStrike">
                <a:solidFill>
                  <a:srgbClr val="9966ff"/>
                </a:solidFill>
                <a:latin typeface="Comic Sans MS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2971800"/>
            <a:ext cx="30456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447920"/>
            <a:ext cx="15228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1371600"/>
            <a:ext cx="2133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295280"/>
            <a:ext cx="2133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07960" y="3447720"/>
            <a:ext cx="7772400" cy="2038680"/>
            <a:chOff x="507960" y="3447720"/>
            <a:chExt cx="7772400" cy="2038680"/>
          </a:xfrm>
        </p:grpSpPr>
        <p:grpSp>
          <p:nvGrpSpPr>
            <p:cNvPr id="67" name=""/>
            <p:cNvGrpSpPr/>
            <p:nvPr/>
          </p:nvGrpSpPr>
          <p:grpSpPr>
            <a:xfrm>
              <a:off x="507960" y="4013280"/>
              <a:ext cx="2286000" cy="761760"/>
              <a:chOff x="507960" y="4013280"/>
              <a:chExt cx="2286000" cy="761760"/>
            </a:xfrm>
          </p:grpSpPr>
          <p:sp>
            <p:nvSpPr>
              <p:cNvPr id="68" name=""/>
              <p:cNvSpPr/>
              <p:nvPr/>
            </p:nvSpPr>
            <p:spPr>
              <a:xfrm>
                <a:off x="507960" y="4013280"/>
                <a:ext cx="1981080" cy="761760"/>
              </a:xfrm>
              <a:prstGeom prst="ellipse">
                <a:avLst/>
              </a:prstGeom>
              <a:gradFill rotWithShape="0">
                <a:gsLst>
                  <a:gs pos="0">
                    <a:srgbClr val="cc00ff"/>
                  </a:gs>
                  <a:gs pos="50000">
                    <a:srgbClr val="fefefe"/>
                  </a:gs>
                  <a:gs pos="100000">
                    <a:srgbClr val="cc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07960" y="4165560"/>
                <a:ext cx="22860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200" spc="-1" strike="noStrike">
                    <a:solidFill>
                      <a:srgbClr val="000099"/>
                    </a:solidFill>
                    <a:latin typeface="Comic Sans MS"/>
                  </a:rPr>
                  <a:t>Réseau Nano</a:t>
                </a:r>
                <a:endParaRPr b="0" lang="en-US" sz="2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 flipV="1">
              <a:off x="2489040" y="3447720"/>
              <a:ext cx="3962520" cy="97164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565360" y="3580920"/>
              <a:ext cx="5181480" cy="83844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489040" y="4419720"/>
              <a:ext cx="4038840" cy="106668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89040" y="4419720"/>
              <a:ext cx="5791320" cy="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397480" y="300996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Arial"/>
              </a:rPr>
              <a:t>Pays de Loi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6261120" y="3048120"/>
            <a:ext cx="102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Arial"/>
              </a:rPr>
              <a:t>Centre Atlantiq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6464160" y="521964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Arial"/>
              </a:rPr>
              <a:t>Pyrénées Méditerrané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"/>
          <p:cNvSpPr/>
          <p:nvPr/>
        </p:nvSpPr>
        <p:spPr>
          <a:xfrm>
            <a:off x="8166240" y="414036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Arial"/>
              </a:rPr>
              <a:t>Rhône Alp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"/>
          <p:cNvSpPr/>
          <p:nvPr/>
        </p:nvSpPr>
        <p:spPr>
          <a:xfrm>
            <a:off x="6045120" y="2895480"/>
            <a:ext cx="228600" cy="2286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6603840" y="3505320"/>
            <a:ext cx="228600" cy="2286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5715000"/>
            <a:ext cx="228600" cy="2286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8305920" y="4572000"/>
            <a:ext cx="228600" cy="2286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6946920" y="1676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Arial"/>
              </a:rPr>
              <a:t>Nord de Fr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5486400" y="2247840"/>
            <a:ext cx="1028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Arial"/>
              </a:rPr>
              <a:t>Normandi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4508640" y="26542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Arial"/>
              </a:rPr>
              <a:t>Bretag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6832440" y="231156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Arial"/>
              </a:rPr>
              <a:t>Ile de Fr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8140680" y="22860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Arial"/>
              </a:rPr>
              <a:t>Lorraine Champag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8915400" y="270504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Arial"/>
              </a:rPr>
              <a:t>Alsa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7518240" y="313704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Arial"/>
              </a:rPr>
              <a:t>Bourgogne Franche Comté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7124760" y="40132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Arial"/>
              </a:rPr>
              <a:t>Auvergne Loi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5651640" y="4673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Arial"/>
              </a:rPr>
              <a:t>Aquitaine Limous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8369280" y="49561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80"/>
                </a:solidFill>
                <a:latin typeface="Arial"/>
              </a:rPr>
              <a:t>Alpes Méditerrané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5257800" y="2743200"/>
            <a:ext cx="2286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6362640" y="2209680"/>
            <a:ext cx="228600" cy="2286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7594560" y="1981080"/>
            <a:ext cx="228600" cy="2286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8229600" y="2666880"/>
            <a:ext cx="228600" cy="2286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4495680"/>
            <a:ext cx="228600" cy="2286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7848720" y="3543480"/>
            <a:ext cx="228600" cy="2286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7543800" y="4495680"/>
            <a:ext cx="228600" cy="2286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8610480" y="5397480"/>
            <a:ext cx="228600" cy="2286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8991720" y="2895480"/>
            <a:ext cx="228600" cy="2286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2400480"/>
            <a:ext cx="228600" cy="2286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7518240" y="1447920"/>
            <a:ext cx="2133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4622760" y="2438280"/>
            <a:ext cx="7632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160" y="0"/>
            <a:ext cx="10287000" cy="16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Comic Sans MS"/>
              </a:rPr>
              <a:t>Réseau EFS pour le développemen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Comic Sans MS"/>
              </a:rPr>
              <a:t>des nanotechnologies </a:t>
            </a:r>
            <a:br>
              <a:rPr sz="4000"/>
            </a:br>
            <a:r>
              <a:rPr b="1" lang="fr-FR" sz="3600" spc="-1" strike="noStrike">
                <a:solidFill>
                  <a:srgbClr val="ffff00"/>
                </a:solidFill>
                <a:latin typeface="Comic Sans MS"/>
              </a:rPr>
              <a:t>(EFS-Nano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981080"/>
            <a:ext cx="9448920" cy="50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8f8f8"/>
                </a:solidFill>
                <a:latin typeface="Comic Sans MS"/>
              </a:rPr>
              <a:t>EFS Bourgogne Franche-Comté </a:t>
            </a:r>
            <a:r>
              <a:rPr b="1" lang="fr-FR" sz="2400" spc="-1" strike="noStrike">
                <a:solidFill>
                  <a:srgbClr val="f8f8f8"/>
                </a:solidFill>
                <a:latin typeface="Comic Sans MS"/>
              </a:rPr>
              <a:t>(P. MORE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8f8f8"/>
                </a:solidFill>
                <a:latin typeface="Comic Sans MS"/>
              </a:rPr>
              <a:t>EFS Centre–Atlantique </a:t>
            </a:r>
            <a:r>
              <a:rPr b="1" lang="fr-FR" sz="2400" spc="-1" strike="noStrike">
                <a:solidFill>
                  <a:srgbClr val="f8f8f8"/>
                </a:solidFill>
                <a:latin typeface="Comic Sans MS"/>
              </a:rPr>
              <a:t>(A. ASS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8f8f8"/>
                </a:solidFill>
                <a:latin typeface="Comic Sans MS"/>
              </a:rPr>
              <a:t>EFS Pyrénées-Méditerranée </a:t>
            </a:r>
            <a:r>
              <a:rPr b="1" lang="fr-FR" sz="2400" spc="-1" strike="noStrike">
                <a:solidFill>
                  <a:srgbClr val="f8f8f8"/>
                </a:solidFill>
                <a:latin typeface="Comic Sans MS"/>
              </a:rPr>
              <a:t>(J. COST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f8f8f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8f8f8"/>
                </a:solidFill>
                <a:latin typeface="Comic Sans MS"/>
              </a:rPr>
              <a:t>EFS Rhône-Alpes </a:t>
            </a:r>
            <a:r>
              <a:rPr b="1" lang="fr-FR" sz="2400" spc="-1" strike="noStrike">
                <a:solidFill>
                  <a:srgbClr val="f8f8f8"/>
                </a:solidFill>
                <a:latin typeface="Comic Sans MS"/>
              </a:rPr>
              <a:t>(V. BARLE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9933"/>
                </a:solidFill>
                <a:latin typeface="Wingdings"/>
                <a:ea typeface="Wingdings"/>
              </a:rPr>
              <a:t></a:t>
            </a:r>
            <a:r>
              <a:rPr b="1" lang="fr-FR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9933"/>
                </a:solidFill>
                <a:latin typeface="Comic Sans MS"/>
              </a:rPr>
              <a:t>Développer des projets de nanotechnologi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9933"/>
                </a:solidFill>
                <a:latin typeface="Wingdings"/>
                <a:ea typeface="Wingdings"/>
              </a:rPr>
              <a:t></a:t>
            </a:r>
            <a:r>
              <a:rPr b="1" lang="fr-FR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9933"/>
                </a:solidFill>
                <a:latin typeface="Comic Sans MS"/>
              </a:rPr>
              <a:t>Veille technologiqu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9933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9933"/>
                </a:solidFill>
                <a:latin typeface="Wingdings"/>
                <a:ea typeface="Wingdings"/>
              </a:rPr>
              <a:t></a:t>
            </a:r>
            <a:r>
              <a:rPr b="1" lang="fr-FR" sz="28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fr-FR" sz="2800" spc="-1" strike="noStrike">
                <a:solidFill>
                  <a:srgbClr val="ff9933"/>
                </a:solidFill>
                <a:latin typeface="Comic Sans MS"/>
              </a:rPr>
              <a:t>Laboratoire d’essais.</a:t>
            </a:r>
            <a:r>
              <a:rPr b="1" lang="fr-FR" sz="2800" spc="-1" strike="noStrike">
                <a:solidFill>
                  <a:srgbClr val="f8f8f8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90600" y="3511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60480"/>
            <a:ext cx="1028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Comic Sans MS"/>
              </a:rPr>
              <a:t>Evolutions technologiqu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2895480"/>
            <a:ext cx="8829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63800" y="1911240"/>
            <a:ext cx="3297960" cy="2968200"/>
            <a:chOff x="163800" y="1911240"/>
            <a:chExt cx="3297960" cy="2968200"/>
          </a:xfrm>
        </p:grpSpPr>
        <p:sp>
          <p:nvSpPr>
            <p:cNvPr id="110" name=""/>
            <p:cNvSpPr/>
            <p:nvPr/>
          </p:nvSpPr>
          <p:spPr>
            <a:xfrm>
              <a:off x="2586240" y="191124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199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76400" y="2368440"/>
              <a:ext cx="343080" cy="457200"/>
            </a:xfrm>
            <a:prstGeom prst="downArrow">
              <a:avLst>
                <a:gd name="adj1" fmla="val 50000"/>
                <a:gd name="adj2" fmla="val 33316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94960" y="441972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Comic Sans MS"/>
                </a:rPr>
                <a:t>Sérologi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3800" y="3030480"/>
              <a:ext cx="31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mic Sans MS"/>
                </a:rPr>
                <a:t>Antigène/Anticorp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412440" y="3041640"/>
            <a:ext cx="3391200" cy="1831320"/>
            <a:chOff x="3412440" y="3041640"/>
            <a:chExt cx="3391200" cy="1831320"/>
          </a:xfrm>
        </p:grpSpPr>
        <p:sp>
          <p:nvSpPr>
            <p:cNvPr id="115" name=""/>
            <p:cNvSpPr/>
            <p:nvPr/>
          </p:nvSpPr>
          <p:spPr>
            <a:xfrm>
              <a:off x="3412440" y="4413240"/>
              <a:ext cx="339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015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Comic Sans MS"/>
                </a:rPr>
                <a:t>Biologie Moléculair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32480" y="304164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mic Sans MS"/>
                </a:rPr>
                <a:t>DGV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504120" y="1911240"/>
            <a:ext cx="2854800" cy="2961720"/>
            <a:chOff x="6504120" y="1911240"/>
            <a:chExt cx="2854800" cy="2961720"/>
          </a:xfrm>
        </p:grpSpPr>
        <p:sp>
          <p:nvSpPr>
            <p:cNvPr id="118" name=""/>
            <p:cNvSpPr/>
            <p:nvPr/>
          </p:nvSpPr>
          <p:spPr>
            <a:xfrm>
              <a:off x="6504120" y="191124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200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64400" y="2368440"/>
              <a:ext cx="342720" cy="457200"/>
            </a:xfrm>
            <a:prstGeom prst="downArrow">
              <a:avLst>
                <a:gd name="adj1" fmla="val 50000"/>
                <a:gd name="adj2" fmla="val 33351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23920" y="4413240"/>
              <a:ext cx="193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cc"/>
                  </a:solidFill>
                  <a:latin typeface="Comic Sans MS"/>
                </a:rPr>
                <a:t>Génomiqu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55920" y="296532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Comic Sans MS"/>
                </a:rPr>
                <a:t>Puce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57640" y="2895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286000"/>
            <a:ext cx="25905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4356360" y="13716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4646520" y="1828800"/>
            <a:ext cx="343080" cy="457200"/>
          </a:xfrm>
          <a:prstGeom prst="downArrow">
            <a:avLst>
              <a:gd name="adj1" fmla="val 50000"/>
              <a:gd name="adj2" fmla="val 3331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>
            <a:off x="2479320" y="25146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Sérologi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3309840"/>
            <a:ext cx="495324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1971 : AgHB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1985 : Ac anti-VIH-1/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1988 : ALAT et Ac anti-HB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1990 : Ac anti-VH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1991 : Ac anti-HTLV-I/I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1118880" y="76320"/>
            <a:ext cx="822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Comic Sans MS"/>
              </a:rPr>
              <a:t>Evolutions technologiqu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35584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90360"/>
            <a:ext cx="1028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Comic Sans MS"/>
              </a:rPr>
              <a:t>Evolutions technologiqu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2751480" y="10666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3041640" y="1523880"/>
            <a:ext cx="343080" cy="457200"/>
          </a:xfrm>
          <a:prstGeom prst="downArrow">
            <a:avLst>
              <a:gd name="adj1" fmla="val 50000"/>
              <a:gd name="adj2" fmla="val 3331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3137040" y="2027160"/>
            <a:ext cx="40384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6669360" y="10666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6929280" y="1523880"/>
            <a:ext cx="343080" cy="457200"/>
          </a:xfrm>
          <a:prstGeom prst="downArrow">
            <a:avLst>
              <a:gd name="adj1" fmla="val 50000"/>
              <a:gd name="adj2" fmla="val 3331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2971800"/>
            <a:ext cx="782964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RN-VHC et ARN VIH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0152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echnologies de 1ère géné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>
            <a:off x="4796640" y="2300400"/>
            <a:ext cx="9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GV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939960" y="2028960"/>
            <a:ext cx="219708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249480" y="2286000"/>
            <a:ext cx="31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mic Sans MS"/>
              </a:rPr>
              <a:t>Antigène/Anticor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4343400"/>
            <a:ext cx="662940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PCR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: Roche Cobas AmpliScreen HIV-1 et HCV Assay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TMA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: Chiron Procleix HIV-1/HCV Ass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675160" y="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>
            <a:off x="2965320" y="457200"/>
            <a:ext cx="343080" cy="457200"/>
          </a:xfrm>
          <a:prstGeom prst="downArrow">
            <a:avLst>
              <a:gd name="adj1" fmla="val 50000"/>
              <a:gd name="adj2" fmla="val 33316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3060720" y="960480"/>
            <a:ext cx="40384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>
            <a:off x="6593040" y="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6853320" y="457200"/>
            <a:ext cx="342720" cy="457200"/>
          </a:xfrm>
          <a:prstGeom prst="downArrow">
            <a:avLst>
              <a:gd name="adj1" fmla="val 50000"/>
              <a:gd name="adj2" fmla="val 3335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971800"/>
            <a:ext cx="5181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1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2f2ec"/>
                </a:solidFill>
                <a:latin typeface="Comic Sans MS"/>
              </a:rPr>
              <a:t>Roche</a:t>
            </a:r>
            <a:r>
              <a:rPr b="1" lang="fr-FR" sz="1800" spc="-1" strike="noStrike">
                <a:solidFill>
                  <a:srgbClr val="02f2ec"/>
                </a:solidFill>
                <a:latin typeface="Comic Sans MS"/>
              </a:rPr>
              <a:t>: TaqMan PCR en temps ré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4720320" y="1066680"/>
            <a:ext cx="9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GV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863640" y="961920"/>
            <a:ext cx="219708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3048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Comic Sans MS"/>
              </a:rPr>
              <a:t>Chiron</a:t>
            </a:r>
            <a:r>
              <a:rPr b="1" lang="en-US" sz="1800" spc="-1" strike="noStrike">
                <a:solidFill>
                  <a:srgbClr val="99ff33"/>
                </a:solidFill>
                <a:latin typeface="Comic Sans MS"/>
              </a:rPr>
              <a:t>: TMA</a:t>
            </a:r>
            <a:r>
              <a:rPr b="0" lang="en-US" sz="1800" spc="-1" strike="noStrike">
                <a:solidFill>
                  <a:srgbClr val="cc00ff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825480" y="3505320"/>
            <a:ext cx="4280040" cy="32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79360"/>
                <a:tab algn="l" pos="558720"/>
                <a:tab algn="l" pos="83808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</a:tabLst>
            </a:pPr>
            <a:r>
              <a:rPr b="0" lang="fr-FR" sz="1800" spc="-1" strike="noStrike">
                <a:solidFill>
                  <a:srgbClr val="02f2ec"/>
                </a:solidFill>
                <a:latin typeface="Comic Sans MS"/>
              </a:rPr>
              <a:t>- </a:t>
            </a:r>
            <a:r>
              <a:rPr b="1" lang="fr-FR" sz="1800" spc="-1" strike="noStrike">
                <a:solidFill>
                  <a:srgbClr val="02f2ec"/>
                </a:solidFill>
                <a:latin typeface="Comic Sans MS"/>
              </a:rPr>
              <a:t>Taq Screen Multiplex Assa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79360"/>
                <a:tab algn="l" pos="558720"/>
                <a:tab algn="l" pos="83808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79360"/>
                <a:tab algn="l" pos="558720"/>
                <a:tab algn="l" pos="83808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79360"/>
                <a:tab algn="l" pos="558720"/>
                <a:tab algn="l" pos="83808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79360"/>
                <a:tab algn="l" pos="558720"/>
                <a:tab algn="l" pos="83808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79360"/>
                <a:tab algn="l" pos="558720"/>
                <a:tab algn="l" pos="83808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              </a:t>
            </a:r>
            <a:r>
              <a:rPr b="0" lang="fr-FR" sz="1600" spc="-1" strike="noStrike">
                <a:solidFill>
                  <a:srgbClr val="02f2ec"/>
                </a:solidFill>
                <a:latin typeface="Comic Sans MS"/>
              </a:rPr>
              <a:t>VIH-2</a:t>
            </a:r>
            <a:r>
              <a:rPr b="0" lang="fr-FR" sz="1600" spc="-1" strike="noStrike">
                <a:solidFill>
                  <a:srgbClr val="02f2ec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buClr>
                <a:srgbClr val="02f2ec"/>
              </a:buClr>
              <a:buFont typeface="Comic Sans MS"/>
              <a:buChar char="-"/>
              <a:tabLst>
                <a:tab algn="l" pos="279360"/>
                <a:tab algn="l" pos="558720"/>
                <a:tab algn="l" pos="83808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</a:tabLst>
            </a:pPr>
            <a:r>
              <a:rPr b="0" lang="fr-FR" sz="1800" spc="-1" strike="noStrike">
                <a:solidFill>
                  <a:srgbClr val="02f2ec"/>
                </a:solidFill>
                <a:latin typeface="Comic Sans MS"/>
              </a:rPr>
              <a:t>Taq Screen Parvovirus B19 et VH</a:t>
            </a:r>
            <a:r>
              <a:rPr b="0" lang="fr-FR" sz="1800" spc="-1" strike="noStrike">
                <a:solidFill>
                  <a:srgbClr val="02f2ec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02f2ec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40000"/>
              </a:lnSpc>
              <a:buClr>
                <a:srgbClr val="ffffff"/>
              </a:buClr>
              <a:buFont typeface="Comic Sans MS"/>
              <a:buChar char="-"/>
              <a:tabLst>
                <a:tab algn="l" pos="279360"/>
                <a:tab algn="l" pos="558720"/>
                <a:tab algn="l" pos="83808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79360"/>
                <a:tab algn="l" pos="558720"/>
                <a:tab algn="l" pos="838080"/>
                <a:tab algn="l" pos="1117440"/>
                <a:tab algn="l" pos="1397160"/>
                <a:tab algn="l" pos="1676520"/>
                <a:tab algn="l" pos="1955880"/>
                <a:tab algn="l" pos="2235240"/>
                <a:tab algn="l" pos="2514600"/>
                <a:tab algn="l" pos="2793960"/>
                <a:tab algn="l" pos="3073320"/>
                <a:tab algn="l" pos="3352680"/>
                <a:tab algn="l" pos="3632040"/>
                <a:tab algn="l" pos="3911760"/>
                <a:tab algn="l" pos="4191120"/>
                <a:tab algn="l" pos="4470480"/>
                <a:tab algn="l" pos="4749840"/>
                <a:tab algn="l" pos="5029200"/>
                <a:tab algn="l" pos="5308560"/>
                <a:tab algn="l" pos="558792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3657600"/>
            <a:ext cx="35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"/>
              </a:lnSpc>
              <a:tabLst>
                <a:tab algn="l" pos="0"/>
                <a:tab algn="l" pos="291960"/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</a:tabLst>
            </a:pPr>
            <a:r>
              <a:rPr b="0" lang="fr-FR" sz="1800" spc="-1" strike="noStrike">
                <a:solidFill>
                  <a:srgbClr val="cc00ff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99ff33"/>
                </a:solidFill>
                <a:latin typeface="Comic Sans MS"/>
              </a:rPr>
              <a:t>- </a:t>
            </a:r>
            <a:r>
              <a:rPr b="1" lang="fr-FR" sz="1800" spc="-1" strike="noStrike">
                <a:solidFill>
                  <a:srgbClr val="99ff33"/>
                </a:solidFill>
                <a:latin typeface="Comic Sans MS"/>
              </a:rPr>
              <a:t>Ultrio Multiplex Assay</a:t>
            </a: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2057400"/>
            <a:ext cx="8534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echnologies de 2ème génération :   multiple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3714840" y="4067280"/>
            <a:ext cx="413388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HB   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:   A - B - C - D - E - F - 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HC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:   1    2    3   4    5    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IH-1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:   groupes M (A B C D E F G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groupe  O</a:t>
            </a: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224280" y="1066680"/>
            <a:ext cx="31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Comic Sans MS"/>
              </a:rPr>
              <a:t>Antigène/Anticor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5346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33"/>
                </a:solidFill>
                <a:latin typeface="Comic Sans MS"/>
              </a:rPr>
              <a:t>groupe 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600876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Virus West Ni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91520" y="2209680"/>
            <a:ext cx="304560" cy="271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1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220920" y="-76320"/>
            <a:ext cx="381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3590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1" lang="fr-FR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ffff00"/>
                </a:solidFill>
                <a:latin typeface="Comic Sans MS"/>
              </a:rPr>
              <a:t>Apports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905120"/>
            <a:ext cx="91440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Haut niveau technolog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omic Sans MS"/>
              </a:rPr>
              <a:t>Automatisation et informatisation +++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4102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1" lang="fr-FR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ffff00"/>
                </a:solidFill>
                <a:latin typeface="Comic Sans MS"/>
              </a:rPr>
              <a:t>Contrepartie 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927000" y="4711680"/>
            <a:ext cx="84582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Marlett" charset="2"/>
              <a:buChar char="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Comic Sans MS"/>
              </a:rPr>
              <a:t>Manque de souples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Font typeface="Marlett" charset="2"/>
              <a:buChar char="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Comic Sans MS"/>
              </a:rPr>
              <a:t>Pas de changement dans le management de   </a:t>
            </a:r>
            <a:r>
              <a:rPr b="1" lang="fr-FR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fr-FR" sz="2800" spc="-1" strike="noStrike">
                <a:solidFill>
                  <a:srgbClr val="ffffcc"/>
                </a:solidFill>
                <a:latin typeface="Comic Sans MS"/>
              </a:rPr>
              <a:t>la chaîne transfusionnel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73656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Comic Sans MS"/>
              </a:rPr>
              <a:t>18 Plateaux de QB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3073320"/>
            <a:ext cx="86868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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700 à 1000 dons/jours pour </a:t>
            </a:r>
            <a:r>
              <a:rPr b="0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8 analys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sécurité transfusionnelle sans précéd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5:27:11Z</dcterms:created>
  <dc:creator>IMVRFC</dc:creator>
  <dc:description/>
  <dc:language>en-US</dc:language>
  <cp:lastModifiedBy>IMVRFC</cp:lastModifiedBy>
  <cp:lastPrinted>2005-06-30T09:17:44Z</cp:lastPrinted>
  <dcterms:modified xsi:type="dcterms:W3CDTF">2005-11-21T16:45:41Z</dcterms:modified>
  <cp:revision>631</cp:revision>
  <dc:subject/>
  <dc:title>Aucun titre de diapositive</dc:title>
</cp:coreProperties>
</file>