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23.wmf" ContentType="image/x-wmf"/>
  <Override PartName="/ppt/media/image6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F185-8798-4261-99C6-81584D331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25640"/>
            <a:ext cx="77724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3FAB-58CB-4E49-9D5A-857A09B8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5640"/>
            <a:ext cx="37926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25640"/>
            <a:ext cx="37926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8085-567F-4F06-8586-4B68DFD6C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25640"/>
            <a:ext cx="250236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25640"/>
            <a:ext cx="250236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25640"/>
            <a:ext cx="250236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437F-3D8D-4611-8B83-5BB5647E5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3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3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3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77880" y="122400"/>
            <a:ext cx="777240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3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725640"/>
            <a:ext cx="37926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3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8E4D-4B7E-4595-9618-FCB0E17B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3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3725640"/>
            <a:ext cx="37926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725640"/>
            <a:ext cx="77724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3725640"/>
            <a:ext cx="77724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3725640"/>
            <a:ext cx="37926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3725640"/>
            <a:ext cx="37926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3725640"/>
            <a:ext cx="250236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3725640"/>
            <a:ext cx="250236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3725640"/>
            <a:ext cx="250236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3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3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3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4F46-85CC-4717-A755-13586D95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677880" y="122400"/>
            <a:ext cx="777240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3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25640"/>
            <a:ext cx="37926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3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68480" y="3725640"/>
            <a:ext cx="37926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725640"/>
            <a:ext cx="77724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85800" y="3725640"/>
            <a:ext cx="77724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25640"/>
            <a:ext cx="37926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68480" y="3725640"/>
            <a:ext cx="37926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85800" y="3725640"/>
            <a:ext cx="250236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13800" y="3725640"/>
            <a:ext cx="250236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941440" y="3725640"/>
            <a:ext cx="250236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C87E-D6FC-4E91-A756-D2B7D7D1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3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1E7B-D848-419A-9B39-381A60E7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B6D4-B838-4CCA-A62E-78BA1563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3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3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746C-6497-4F10-94AA-179289B7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3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3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7E4E-A731-49C3-B238-A29AD485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37A3-B5CE-4D27-9B47-40A4C324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77880" y="122400"/>
            <a:ext cx="777240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4985-1C2F-4379-84EF-185A9000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3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25640"/>
            <a:ext cx="37926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B840-FC71-408A-A673-91A934B9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3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68480" y="3725640"/>
            <a:ext cx="37926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81B1-9ECA-42D1-B89E-CC74F4FF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3725640"/>
            <a:ext cx="77724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8507-D2DD-494D-9276-AB6CFC62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85800" y="3725640"/>
            <a:ext cx="77724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1F6B-EDD3-41D6-AF32-DC11431D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725640"/>
            <a:ext cx="37926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68480" y="3725640"/>
            <a:ext cx="37926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443A-D2C0-4062-B210-18DD50C22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85800" y="3725640"/>
            <a:ext cx="250236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313800" y="3725640"/>
            <a:ext cx="250236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941440" y="3725640"/>
            <a:ext cx="250236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E4B9-2C97-4312-87AE-683845DF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4D38-61D4-48A0-8FB0-7F142326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7880" y="122400"/>
            <a:ext cx="777240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3F32-C63C-44DE-96C6-0CE8A4A8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3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25640"/>
            <a:ext cx="37926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51BC-081F-4B03-97C5-04FFBEB3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3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25640"/>
            <a:ext cx="37926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6B08-D52C-467E-91A8-E1D41C34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25640"/>
            <a:ext cx="7772400" cy="15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926C-D740-4CD2-90F9-7112638A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 algn="just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 algn="just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24D0-8B42-42ED-83CF-5A928DA8872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>
            <a:lum bright="70000" contrast="-70000"/>
          </a:blip>
          <a:srcRect l="0" t="5573" r="0" b="0"/>
          <a:stretch/>
        </p:blipFill>
        <p:spPr>
          <a:xfrm>
            <a:off x="76320" y="1536840"/>
            <a:ext cx="9001080" cy="457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7320" y="6618240"/>
            <a:ext cx="8185320" cy="174240"/>
            <a:chOff x="787320" y="6618240"/>
            <a:chExt cx="8185320" cy="174240"/>
          </a:xfrm>
        </p:grpSpPr>
        <p:sp>
          <p:nvSpPr>
            <p:cNvPr id="42" name=""/>
            <p:cNvSpPr/>
            <p:nvPr/>
          </p:nvSpPr>
          <p:spPr>
            <a:xfrm>
              <a:off x="787320" y="6618240"/>
              <a:ext cx="3505320" cy="17424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omic Sans MS"/>
                </a:rPr>
                <a:t>V.Thibault  CVV_22-11-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638600" y="6708600"/>
              <a:ext cx="66600" cy="6516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248440" y="6708600"/>
              <a:ext cx="66600" cy="6516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57920" y="6708600"/>
              <a:ext cx="65160" cy="6516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467400" y="6708600"/>
              <a:ext cx="66600" cy="6516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77240" y="6708600"/>
              <a:ext cx="68040" cy="6516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688160" y="6708600"/>
              <a:ext cx="66600" cy="6516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98000" y="6708600"/>
              <a:ext cx="66600" cy="6516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907480" y="6708600"/>
              <a:ext cx="65160" cy="6516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03040" y="117360"/>
            <a:ext cx="68400" cy="522360"/>
            <a:chOff x="203040" y="117360"/>
            <a:chExt cx="68400" cy="522360"/>
          </a:xfrm>
        </p:grpSpPr>
        <p:sp>
          <p:nvSpPr>
            <p:cNvPr id="52" name=""/>
            <p:cNvSpPr/>
            <p:nvPr/>
          </p:nvSpPr>
          <p:spPr>
            <a:xfrm>
              <a:off x="203040" y="117360"/>
              <a:ext cx="68400" cy="6696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3040" y="347760"/>
              <a:ext cx="68400" cy="6516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03040" y="574560"/>
              <a:ext cx="68400" cy="6516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99"/>
              </a:gs>
            </a:gsLst>
            <a:lin ang="135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1" i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3397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99"/>
              </a:gs>
            </a:gsLst>
            <a:lin ang="13500000"/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Aft>
                <a:spcPts val="9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 algn="just">
              <a:spcAft>
                <a:spcPts val="901"/>
              </a:spcAft>
              <a:buClr>
                <a:srgbClr val="ffffff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 algn="just">
              <a:spcAft>
                <a:spcPts val="901"/>
              </a:spcAft>
              <a:buClr>
                <a:srgbClr val="ffffff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3" marL="1600200" indent="-228600" algn="just">
              <a:spcAft>
                <a:spcPts val="901"/>
              </a:spcAft>
              <a:buClr>
                <a:srgbClr val="ffffff"/>
              </a:buClr>
              <a:buFont typeface="Monotype Sort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4" marL="2057400" indent="-228600" algn="just">
              <a:spcAft>
                <a:spcPts val="901"/>
              </a:spcAft>
              <a:buClr>
                <a:srgbClr val="ffffff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5" marL="2057400" indent="-228600" algn="just">
              <a:spcAft>
                <a:spcPts val="901"/>
              </a:spcAft>
              <a:buClr>
                <a:srgbClr val="ffffff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6" marL="2057400" indent="-228600" algn="just">
              <a:spcAft>
                <a:spcPts val="901"/>
              </a:spcAft>
              <a:buClr>
                <a:srgbClr val="ffffff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14480" y="1523880"/>
            <a:ext cx="158400" cy="4648320"/>
            <a:chOff x="114480" y="1523880"/>
            <a:chExt cx="158400" cy="4648320"/>
          </a:xfrm>
        </p:grpSpPr>
        <p:sp>
          <p:nvSpPr>
            <p:cNvPr id="58" name=""/>
            <p:cNvSpPr/>
            <p:nvPr/>
          </p:nvSpPr>
          <p:spPr>
            <a:xfrm>
              <a:off x="114480" y="1523880"/>
              <a:ext cx="149760" cy="182880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66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4480" y="3505320"/>
              <a:ext cx="149760" cy="30456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66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4480" y="4095720"/>
              <a:ext cx="149760" cy="30492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66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4480" y="4686480"/>
              <a:ext cx="149760" cy="30456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66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14480" y="5276880"/>
              <a:ext cx="149760" cy="30492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66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3120" y="5867280"/>
              <a:ext cx="149760" cy="30492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66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787320" y="6618240"/>
            <a:ext cx="8185320" cy="174240"/>
            <a:chOff x="787320" y="6618240"/>
            <a:chExt cx="8185320" cy="174240"/>
          </a:xfrm>
        </p:grpSpPr>
        <p:sp>
          <p:nvSpPr>
            <p:cNvPr id="101" name=""/>
            <p:cNvSpPr/>
            <p:nvPr/>
          </p:nvSpPr>
          <p:spPr>
            <a:xfrm>
              <a:off x="787320" y="6618240"/>
              <a:ext cx="3505320" cy="17424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omic Sans MS"/>
                </a:rPr>
                <a:t>V.Thibault  CVV_22-11-0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38600" y="6708600"/>
              <a:ext cx="66600" cy="6516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248440" y="6708600"/>
              <a:ext cx="66600" cy="6516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57920" y="6708600"/>
              <a:ext cx="65160" cy="6516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67400" y="6708600"/>
              <a:ext cx="66600" cy="6516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77240" y="6708600"/>
              <a:ext cx="68040" cy="6516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88160" y="6708600"/>
              <a:ext cx="66600" cy="6516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298000" y="6708600"/>
              <a:ext cx="66600" cy="6516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907480" y="6708600"/>
              <a:ext cx="65160" cy="6516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03040" y="117360"/>
            <a:ext cx="68400" cy="522360"/>
            <a:chOff x="203040" y="117360"/>
            <a:chExt cx="68400" cy="522360"/>
          </a:xfrm>
        </p:grpSpPr>
        <p:sp>
          <p:nvSpPr>
            <p:cNvPr id="111" name=""/>
            <p:cNvSpPr/>
            <p:nvPr/>
          </p:nvSpPr>
          <p:spPr>
            <a:xfrm>
              <a:off x="203040" y="117360"/>
              <a:ext cx="68400" cy="6696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3040" y="347760"/>
              <a:ext cx="68400" cy="6516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3040" y="574560"/>
              <a:ext cx="68400" cy="6516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Comic Sans MS"/>
              </a:rPr>
              <a:t>Click to edit the title text format</a:t>
            </a:r>
            <a:endParaRPr b="1" i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3397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Aft>
                <a:spcPts val="9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spcAft>
                <a:spcPts val="901"/>
              </a:spcAft>
              <a:buClr>
                <a:srgbClr val="000000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2" marL="1143000" indent="-228600" algn="just">
              <a:spcAft>
                <a:spcPts val="901"/>
              </a:spcAft>
              <a:buClr>
                <a:srgbClr val="0000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3" marL="1600200" indent="-228600" algn="just">
              <a:spcAft>
                <a:spcPts val="901"/>
              </a:spcAft>
              <a:buClr>
                <a:srgbClr val="000000"/>
              </a:buClr>
              <a:buFont typeface="Monotype Sort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4" marL="2057400" indent="-228600" algn="just">
              <a:spcAft>
                <a:spcPts val="901"/>
              </a:spcAft>
              <a:buClr>
                <a:srgbClr val="0000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5" marL="2057400" indent="-228600" algn="just">
              <a:spcAft>
                <a:spcPts val="901"/>
              </a:spcAft>
              <a:buClr>
                <a:srgbClr val="ffffff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6" marL="2057400" indent="-228600" algn="just">
              <a:spcAft>
                <a:spcPts val="901"/>
              </a:spcAft>
              <a:buClr>
                <a:srgbClr val="ffffff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14480" y="1523880"/>
            <a:ext cx="158400" cy="4648320"/>
            <a:chOff x="114480" y="1523880"/>
            <a:chExt cx="158400" cy="4648320"/>
          </a:xfrm>
        </p:grpSpPr>
        <p:sp>
          <p:nvSpPr>
            <p:cNvPr id="117" name=""/>
            <p:cNvSpPr/>
            <p:nvPr/>
          </p:nvSpPr>
          <p:spPr>
            <a:xfrm>
              <a:off x="114480" y="1523880"/>
              <a:ext cx="149760" cy="182880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66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4480" y="3505320"/>
              <a:ext cx="149760" cy="30456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66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4480" y="4095720"/>
              <a:ext cx="149760" cy="30492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66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4480" y="4686480"/>
              <a:ext cx="149760" cy="30456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66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4480" y="5276880"/>
              <a:ext cx="149760" cy="30492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66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3120" y="5867280"/>
              <a:ext cx="149760" cy="30492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66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4136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i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4"/>
          </p:nvPr>
        </p:nvSpPr>
        <p:spPr>
          <a:xfrm>
            <a:off x="88920" y="6576840"/>
            <a:ext cx="190512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808080"/>
                </a:solidFill>
                <a:latin typeface="Times New Roman"/>
              </a:rPr>
              <a:t>V. Thibau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6"/>
          </p:nvPr>
        </p:nvSpPr>
        <p:spPr>
          <a:xfrm>
            <a:off x="8645400" y="6497280"/>
            <a:ext cx="324000" cy="1746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10800" bIns="10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CEDC-0073-4233-8279-5AAA5FACC1EB}" type="slidenum">
              <a:rPr b="0" lang="fr-FR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33440" y="291960"/>
            <a:ext cx="83646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Comic Sans MS"/>
              </a:rPr>
              <a:t>Intérêts et limites des techniques de PCR temps réel dans le diagnostic des hépatites virales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62320" y="4722840"/>
            <a:ext cx="29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Comic Sans MS"/>
              </a:rPr>
              <a:t>Vincent THIB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Comic Sans MS"/>
              </a:rPr>
              <a:t>Laboratoire de Virolo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5427720"/>
            <a:ext cx="1220760" cy="14302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286640" y="6216480"/>
            <a:ext cx="22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Comic Sans MS"/>
              </a:rPr>
              <a:t>Groupe Hospital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Comic Sans MS"/>
              </a:rPr>
              <a:t>Pitié-Salpêtriè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1954080" y="1562040"/>
            <a:ext cx="6324840" cy="36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954080" y="4719600"/>
            <a:ext cx="6324840" cy="1800"/>
          </a:xfrm>
          <a:prstGeom prst="line">
            <a:avLst/>
          </a:prstGeom>
          <a:ln w="0">
            <a:solidFill>
              <a:srgbClr val="cc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954080" y="4262400"/>
            <a:ext cx="6324840" cy="1800"/>
          </a:xfrm>
          <a:prstGeom prst="line">
            <a:avLst/>
          </a:prstGeom>
          <a:ln w="0">
            <a:solidFill>
              <a:srgbClr val="cc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54080" y="3816360"/>
            <a:ext cx="6324840" cy="1440"/>
          </a:xfrm>
          <a:prstGeom prst="line">
            <a:avLst/>
          </a:prstGeom>
          <a:ln w="0">
            <a:solidFill>
              <a:srgbClr val="cc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54080" y="3370320"/>
            <a:ext cx="6324840" cy="1440"/>
          </a:xfrm>
          <a:prstGeom prst="line">
            <a:avLst/>
          </a:prstGeom>
          <a:ln w="0">
            <a:solidFill>
              <a:srgbClr val="cc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54080" y="2911320"/>
            <a:ext cx="6324840" cy="1800"/>
          </a:xfrm>
          <a:prstGeom prst="line">
            <a:avLst/>
          </a:prstGeom>
          <a:ln w="0">
            <a:solidFill>
              <a:srgbClr val="cc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954080" y="2467080"/>
            <a:ext cx="6324840" cy="1440"/>
          </a:xfrm>
          <a:prstGeom prst="line">
            <a:avLst/>
          </a:prstGeom>
          <a:ln w="0">
            <a:solidFill>
              <a:srgbClr val="cc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954080" y="2008080"/>
            <a:ext cx="6324840" cy="1800"/>
          </a:xfrm>
          <a:prstGeom prst="line">
            <a:avLst/>
          </a:prstGeom>
          <a:ln w="0">
            <a:solidFill>
              <a:srgbClr val="cc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954080" y="1562040"/>
            <a:ext cx="6324840" cy="1800"/>
          </a:xfrm>
          <a:prstGeom prst="line">
            <a:avLst/>
          </a:prstGeom>
          <a:ln w="0">
            <a:solidFill>
              <a:srgbClr val="cc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954080" y="1562040"/>
            <a:ext cx="6324840" cy="3603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54080" y="1562040"/>
            <a:ext cx="1800" cy="36036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866960" y="5165640"/>
            <a:ext cx="87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866960" y="4719600"/>
            <a:ext cx="87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866960" y="4262400"/>
            <a:ext cx="87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866960" y="3816360"/>
            <a:ext cx="87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866960" y="3370320"/>
            <a:ext cx="87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866960" y="2911320"/>
            <a:ext cx="87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866960" y="2467080"/>
            <a:ext cx="87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866960" y="2008080"/>
            <a:ext cx="87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866960" y="1562040"/>
            <a:ext cx="87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954080" y="5165640"/>
            <a:ext cx="63248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195408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211608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227664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242568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258588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274788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290988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305748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321948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337968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354168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369108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385128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401328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417348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432288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448452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464508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480708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495468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511668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527688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543888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558792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574848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591012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607068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621972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638172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654192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670392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685152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701352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717552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733572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748512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764532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780732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796752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811692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827892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1954080" y="5165280"/>
            <a:ext cx="1800" cy="87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2747880" y="5165280"/>
            <a:ext cx="1800" cy="87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3541680" y="5165280"/>
            <a:ext cx="1800" cy="87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4322880" y="5165280"/>
            <a:ext cx="1440" cy="87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5116680" y="5165280"/>
            <a:ext cx="1440" cy="87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5910120" y="5165280"/>
            <a:ext cx="1800" cy="87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6703920" y="5165280"/>
            <a:ext cx="1800" cy="87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7485120" y="5165280"/>
            <a:ext cx="1440" cy="87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8278920" y="5165280"/>
            <a:ext cx="1440" cy="87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907560" y="4967280"/>
            <a:ext cx="829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1.E+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937800" y="4522680"/>
            <a:ext cx="829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1.E+0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907560" y="4064040"/>
            <a:ext cx="829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1.E+0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907560" y="3618000"/>
            <a:ext cx="829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1.E+0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907560" y="3171960"/>
            <a:ext cx="829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1.E+0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907560" y="2714760"/>
            <a:ext cx="829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1.E+0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907560" y="2268360"/>
            <a:ext cx="829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1.E+0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907560" y="1809720"/>
            <a:ext cx="829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1.E+0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907560" y="1363680"/>
            <a:ext cx="829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1.E+0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876320" y="543888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678400" y="543888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472200" y="543888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237560" y="54388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1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031360" y="54388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1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784480" y="54388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2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577920" y="54388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2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359120" y="54388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2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152920" y="54388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3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627800" y="6032520"/>
            <a:ext cx="601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Mo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rot="16200000">
            <a:off x="188280" y="3408480"/>
            <a:ext cx="775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UI/m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955880" y="1176480"/>
            <a:ext cx="6307200" cy="365040"/>
          </a:xfrm>
          <a:prstGeom prst="rect">
            <a:avLst/>
          </a:prstGeom>
          <a:solidFill>
            <a:srgbClr val="0066cc"/>
          </a:solidFill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mivud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77880" y="334800"/>
            <a:ext cx="7772400" cy="5191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0000cc"/>
              </a:gs>
              <a:gs pos="100000">
                <a:srgbClr val="0066ff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00"/>
                </a:solidFill>
                <a:latin typeface="Comic Sans MS"/>
              </a:rPr>
              <a:t>Test ayant une linéarité restreinte</a:t>
            </a:r>
            <a:endParaRPr b="1" i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03" name=""/>
          <p:cNvSpPr/>
          <p:nvPr/>
        </p:nvSpPr>
        <p:spPr>
          <a:xfrm>
            <a:off x="1943280" y="1585800"/>
            <a:ext cx="2771640" cy="3129120"/>
          </a:xfrm>
          <a:custGeom>
            <a:avLst/>
            <a:gdLst/>
            <a:ahLst/>
            <a:rect l="l" t="t" r="r" b="b"/>
            <a:pathLst>
              <a:path w="1746" h="1971">
                <a:moveTo>
                  <a:pt x="0" y="0"/>
                </a:moveTo>
                <a:lnTo>
                  <a:pt x="99" y="837"/>
                </a:lnTo>
                <a:lnTo>
                  <a:pt x="279" y="1125"/>
                </a:lnTo>
                <a:lnTo>
                  <a:pt x="558" y="1413"/>
                </a:lnTo>
                <a:lnTo>
                  <a:pt x="891" y="1584"/>
                </a:lnTo>
                <a:lnTo>
                  <a:pt x="1233" y="1746"/>
                </a:lnTo>
                <a:lnTo>
                  <a:pt x="1458" y="1845"/>
                </a:lnTo>
                <a:lnTo>
                  <a:pt x="1746" y="1971"/>
                </a:lnTo>
              </a:path>
            </a:pathLst>
          </a:custGeom>
          <a:noFill/>
          <a:ln cap="sq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743360" y="4729320"/>
            <a:ext cx="1543320" cy="1440"/>
          </a:xfrm>
          <a:custGeom>
            <a:avLst/>
            <a:gdLst/>
            <a:ahLst/>
            <a:rect l="l" t="t" r="r" b="b"/>
            <a:pathLst>
              <a:path w="972" h="1">
                <a:moveTo>
                  <a:pt x="0" y="0"/>
                </a:moveTo>
                <a:lnTo>
                  <a:pt x="333" y="0"/>
                </a:lnTo>
                <a:lnTo>
                  <a:pt x="702" y="0"/>
                </a:lnTo>
                <a:lnTo>
                  <a:pt x="972" y="0"/>
                </a:lnTo>
              </a:path>
            </a:pathLst>
          </a:custGeom>
          <a:noFill/>
          <a:ln cap="sq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300720" y="2657520"/>
            <a:ext cx="1971720" cy="2085840"/>
          </a:xfrm>
          <a:custGeom>
            <a:avLst/>
            <a:gdLst/>
            <a:ahLst/>
            <a:rect l="l" t="t" r="r" b="b"/>
            <a:pathLst>
              <a:path w="1242" h="1314">
                <a:moveTo>
                  <a:pt x="0" y="1314"/>
                </a:moveTo>
                <a:lnTo>
                  <a:pt x="324" y="747"/>
                </a:lnTo>
                <a:lnTo>
                  <a:pt x="594" y="162"/>
                </a:lnTo>
                <a:lnTo>
                  <a:pt x="918" y="54"/>
                </a:lnTo>
                <a:lnTo>
                  <a:pt x="1242" y="0"/>
                </a:lnTo>
              </a:path>
            </a:pathLst>
          </a:custGeom>
          <a:noFill/>
          <a:ln cap="sq" w="2844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2448000" y="1590840"/>
            <a:ext cx="1299240" cy="1876320"/>
            <a:chOff x="2448000" y="1590840"/>
            <a:chExt cx="1299240" cy="1876320"/>
          </a:xfrm>
        </p:grpSpPr>
        <p:sp>
          <p:nvSpPr>
            <p:cNvPr id="607" name=""/>
            <p:cNvSpPr/>
            <p:nvPr/>
          </p:nvSpPr>
          <p:spPr>
            <a:xfrm>
              <a:off x="2448000" y="1590840"/>
              <a:ext cx="163440" cy="1876320"/>
            </a:xfrm>
            <a:prstGeom prst="upDownArrow">
              <a:avLst>
                <a:gd name="adj1" fmla="val 50000"/>
                <a:gd name="adj2" fmla="val 228540"/>
              </a:avLst>
            </a:prstGeom>
            <a:solidFill>
              <a:srgbClr val="cc00cc"/>
            </a:solidFill>
            <a:ln cap="sq" w="1260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609280" y="2152800"/>
              <a:ext cx="1137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3-4 Log</a:t>
              </a:r>
              <a:r>
                <a:rPr b="0" lang="fr-FR" sz="1600" spc="-1" strike="noStrike" baseline="-25000">
                  <a:solidFill>
                    <a:srgbClr val="000000"/>
                  </a:solidFill>
                  <a:latin typeface="Comic Sans MS"/>
                </a:rPr>
                <a:t>10 </a:t>
              </a: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1951200" y="1609560"/>
            <a:ext cx="4271760" cy="1925640"/>
          </a:xfrm>
          <a:custGeom>
            <a:avLst/>
            <a:gdLst/>
            <a:ahLst/>
            <a:rect l="l" t="t" r="r" b="b"/>
            <a:pathLst>
              <a:path w="2691" h="1213">
                <a:moveTo>
                  <a:pt x="0" y="0"/>
                </a:moveTo>
                <a:lnTo>
                  <a:pt x="230" y="508"/>
                </a:lnTo>
                <a:lnTo>
                  <a:pt x="410" y="796"/>
                </a:lnTo>
                <a:lnTo>
                  <a:pt x="800" y="955"/>
                </a:lnTo>
                <a:lnTo>
                  <a:pt x="1170" y="1049"/>
                </a:lnTo>
                <a:lnTo>
                  <a:pt x="1565" y="1161"/>
                </a:lnTo>
                <a:lnTo>
                  <a:pt x="2107" y="1204"/>
                </a:lnTo>
                <a:lnTo>
                  <a:pt x="2691" y="1213"/>
                </a:lnTo>
              </a:path>
            </a:pathLst>
          </a:custGeom>
          <a:noFill/>
          <a:ln w="2844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249960" y="1706400"/>
            <a:ext cx="1994040" cy="1828800"/>
          </a:xfrm>
          <a:custGeom>
            <a:avLst/>
            <a:gdLst/>
            <a:ahLst/>
            <a:rect l="l" t="t" r="r" b="b"/>
            <a:pathLst>
              <a:path w="1256" h="1152">
                <a:moveTo>
                  <a:pt x="0" y="1152"/>
                </a:moveTo>
                <a:lnTo>
                  <a:pt x="312" y="609"/>
                </a:lnTo>
                <a:lnTo>
                  <a:pt x="628" y="129"/>
                </a:lnTo>
                <a:lnTo>
                  <a:pt x="912" y="17"/>
                </a:lnTo>
                <a:lnTo>
                  <a:pt x="1256" y="0"/>
                </a:lnTo>
              </a:path>
            </a:pathLst>
          </a:custGeom>
          <a:noFill/>
          <a:ln w="28440">
            <a:solidFill>
              <a:srgbClr val="cc00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6257880" y="4300560"/>
            <a:ext cx="890280" cy="442800"/>
            <a:chOff x="6257880" y="4300560"/>
            <a:chExt cx="890280" cy="442800"/>
          </a:xfrm>
        </p:grpSpPr>
        <p:sp>
          <p:nvSpPr>
            <p:cNvPr id="612" name=""/>
            <p:cNvSpPr/>
            <p:nvPr/>
          </p:nvSpPr>
          <p:spPr>
            <a:xfrm>
              <a:off x="6257880" y="4300560"/>
              <a:ext cx="117360" cy="442800"/>
            </a:xfrm>
            <a:prstGeom prst="upDownArrow">
              <a:avLst>
                <a:gd name="adj1" fmla="val 50000"/>
                <a:gd name="adj2" fmla="val 75111"/>
              </a:avLst>
            </a:prstGeom>
            <a:solidFill>
              <a:srgbClr val="cc00cc"/>
            </a:solidFill>
            <a:ln cap="sq" w="1260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310440" y="4360680"/>
              <a:ext cx="837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1 Log</a:t>
              </a:r>
              <a:r>
                <a:rPr b="0" lang="fr-FR" sz="1600" spc="-1" strike="noStrike" baseline="-25000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6188040" y="3073320"/>
            <a:ext cx="890280" cy="443160"/>
            <a:chOff x="6188040" y="3073320"/>
            <a:chExt cx="890280" cy="443160"/>
          </a:xfrm>
        </p:grpSpPr>
        <p:sp>
          <p:nvSpPr>
            <p:cNvPr id="615" name=""/>
            <p:cNvSpPr/>
            <p:nvPr/>
          </p:nvSpPr>
          <p:spPr>
            <a:xfrm>
              <a:off x="6188040" y="3073320"/>
              <a:ext cx="117360" cy="443160"/>
            </a:xfrm>
            <a:prstGeom prst="upDownArrow">
              <a:avLst>
                <a:gd name="adj1" fmla="val 50000"/>
                <a:gd name="adj2" fmla="val 75172"/>
              </a:avLst>
            </a:prstGeom>
            <a:solidFill>
              <a:srgbClr val="cc00cc"/>
            </a:solidFill>
            <a:ln cap="sq" w="1260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240600" y="3133800"/>
              <a:ext cx="837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1 Log</a:t>
              </a:r>
              <a:r>
                <a:rPr b="0" lang="fr-FR" sz="1600" spc="-1" strike="noStrike" baseline="-25000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1946160" y="1582560"/>
            <a:ext cx="6330960" cy="1582920"/>
          </a:xfrm>
          <a:prstGeom prst="rect">
            <a:avLst/>
          </a:prstGeom>
          <a:solidFill>
            <a:srgbClr val="0000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940040" y="4462560"/>
            <a:ext cx="6330960" cy="703080"/>
          </a:xfrm>
          <a:prstGeom prst="rect">
            <a:avLst/>
          </a:prstGeom>
          <a:solidFill>
            <a:srgbClr val="0000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1954080" y="1562040"/>
            <a:ext cx="6324840" cy="36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954080" y="4719600"/>
            <a:ext cx="6324840" cy="1800"/>
          </a:xfrm>
          <a:prstGeom prst="line">
            <a:avLst/>
          </a:prstGeom>
          <a:ln w="0">
            <a:solidFill>
              <a:srgbClr val="cc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954080" y="4262400"/>
            <a:ext cx="6324840" cy="1800"/>
          </a:xfrm>
          <a:prstGeom prst="line">
            <a:avLst/>
          </a:prstGeom>
          <a:ln w="0">
            <a:solidFill>
              <a:srgbClr val="cc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954080" y="3816360"/>
            <a:ext cx="6324840" cy="1440"/>
          </a:xfrm>
          <a:prstGeom prst="line">
            <a:avLst/>
          </a:prstGeom>
          <a:ln w="0">
            <a:solidFill>
              <a:srgbClr val="cc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954080" y="3370320"/>
            <a:ext cx="6324840" cy="1440"/>
          </a:xfrm>
          <a:prstGeom prst="line">
            <a:avLst/>
          </a:prstGeom>
          <a:ln w="0">
            <a:solidFill>
              <a:srgbClr val="cc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954080" y="2911320"/>
            <a:ext cx="6324840" cy="1800"/>
          </a:xfrm>
          <a:prstGeom prst="line">
            <a:avLst/>
          </a:prstGeom>
          <a:ln w="0">
            <a:solidFill>
              <a:srgbClr val="cc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954080" y="2467080"/>
            <a:ext cx="6324840" cy="1440"/>
          </a:xfrm>
          <a:prstGeom prst="line">
            <a:avLst/>
          </a:prstGeom>
          <a:ln w="0">
            <a:solidFill>
              <a:srgbClr val="cc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54080" y="2008080"/>
            <a:ext cx="6324840" cy="1800"/>
          </a:xfrm>
          <a:prstGeom prst="line">
            <a:avLst/>
          </a:prstGeom>
          <a:ln w="0">
            <a:solidFill>
              <a:srgbClr val="cc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954080" y="1562040"/>
            <a:ext cx="6324840" cy="1800"/>
          </a:xfrm>
          <a:prstGeom prst="line">
            <a:avLst/>
          </a:prstGeom>
          <a:ln w="0">
            <a:solidFill>
              <a:srgbClr val="cc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954080" y="1562040"/>
            <a:ext cx="6324840" cy="3603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954080" y="1562040"/>
            <a:ext cx="1800" cy="36036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866960" y="5165640"/>
            <a:ext cx="87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866960" y="4719600"/>
            <a:ext cx="87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866960" y="4262400"/>
            <a:ext cx="87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866960" y="3816360"/>
            <a:ext cx="87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866960" y="3370320"/>
            <a:ext cx="87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866960" y="2911320"/>
            <a:ext cx="87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866960" y="2467080"/>
            <a:ext cx="87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866960" y="2008080"/>
            <a:ext cx="87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866960" y="1562040"/>
            <a:ext cx="87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954080" y="5165640"/>
            <a:ext cx="63248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195408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211608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227664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242568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258588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274788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290988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05748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321948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337968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354168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369108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385128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401328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417348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432288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448452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464508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480708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495468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511668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527688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543888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558792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574848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591012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607068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621972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638172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654192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670392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685152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701352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717552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733572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748512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764532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780732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796752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V="1">
            <a:off x="811692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827892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1954080" y="5165280"/>
            <a:ext cx="1800" cy="87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2747880" y="5165280"/>
            <a:ext cx="1800" cy="87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3541680" y="5165280"/>
            <a:ext cx="1800" cy="87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4322880" y="5165280"/>
            <a:ext cx="1440" cy="87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5116680" y="5165280"/>
            <a:ext cx="1440" cy="87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5910120" y="5165280"/>
            <a:ext cx="1800" cy="87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6703920" y="5165280"/>
            <a:ext cx="1800" cy="87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7485120" y="5165280"/>
            <a:ext cx="1440" cy="87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8278920" y="5165280"/>
            <a:ext cx="1440" cy="87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907560" y="4967280"/>
            <a:ext cx="829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1.E+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937800" y="4522680"/>
            <a:ext cx="829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1.E+0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907560" y="4064040"/>
            <a:ext cx="829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1.E+0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907560" y="3618000"/>
            <a:ext cx="829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1.E+0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907560" y="3171960"/>
            <a:ext cx="829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1.E+0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907560" y="2714760"/>
            <a:ext cx="829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1.E+0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907560" y="2268360"/>
            <a:ext cx="829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1.E+0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907560" y="1809720"/>
            <a:ext cx="829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1.E+0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907560" y="1363680"/>
            <a:ext cx="829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1.E+0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876320" y="543888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678400" y="543888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472200" y="543888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237560" y="54388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1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031360" y="54388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1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784480" y="54388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2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577920" y="54388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2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359120" y="54388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2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8152920" y="54388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3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627800" y="6032520"/>
            <a:ext cx="601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Mo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rot="16200000">
            <a:off x="188280" y="3408480"/>
            <a:ext cx="775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UI/m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955880" y="1176480"/>
            <a:ext cx="6307200" cy="365040"/>
          </a:xfrm>
          <a:prstGeom prst="rect">
            <a:avLst/>
          </a:prstGeom>
          <a:solidFill>
            <a:srgbClr val="0066cc"/>
          </a:solidFill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mivud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77880" y="334800"/>
            <a:ext cx="7772400" cy="5191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0000cc"/>
              </a:gs>
              <a:gs pos="100000">
                <a:srgbClr val="0066ff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00"/>
                </a:solidFill>
                <a:latin typeface="Comic Sans MS"/>
              </a:rPr>
              <a:t>Test ayant une sensibilité inadaptée</a:t>
            </a:r>
            <a:endParaRPr b="1" i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2" name=""/>
          <p:cNvSpPr/>
          <p:nvPr/>
        </p:nvSpPr>
        <p:spPr>
          <a:xfrm>
            <a:off x="1943280" y="1585800"/>
            <a:ext cx="2771640" cy="3129120"/>
          </a:xfrm>
          <a:custGeom>
            <a:avLst/>
            <a:gdLst/>
            <a:ahLst/>
            <a:rect l="l" t="t" r="r" b="b"/>
            <a:pathLst>
              <a:path w="1746" h="1971">
                <a:moveTo>
                  <a:pt x="0" y="0"/>
                </a:moveTo>
                <a:lnTo>
                  <a:pt x="99" y="837"/>
                </a:lnTo>
                <a:lnTo>
                  <a:pt x="279" y="1125"/>
                </a:lnTo>
                <a:lnTo>
                  <a:pt x="558" y="1413"/>
                </a:lnTo>
                <a:lnTo>
                  <a:pt x="891" y="1584"/>
                </a:lnTo>
                <a:lnTo>
                  <a:pt x="1233" y="1746"/>
                </a:lnTo>
                <a:lnTo>
                  <a:pt x="1458" y="1845"/>
                </a:lnTo>
                <a:lnTo>
                  <a:pt x="1746" y="1971"/>
                </a:lnTo>
              </a:path>
            </a:pathLst>
          </a:custGeom>
          <a:noFill/>
          <a:ln cap="sq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743360" y="4729320"/>
            <a:ext cx="1543320" cy="1440"/>
          </a:xfrm>
          <a:custGeom>
            <a:avLst/>
            <a:gdLst/>
            <a:ahLst/>
            <a:rect l="l" t="t" r="r" b="b"/>
            <a:pathLst>
              <a:path w="972" h="1">
                <a:moveTo>
                  <a:pt x="0" y="0"/>
                </a:moveTo>
                <a:lnTo>
                  <a:pt x="333" y="0"/>
                </a:lnTo>
                <a:lnTo>
                  <a:pt x="702" y="0"/>
                </a:lnTo>
                <a:lnTo>
                  <a:pt x="972" y="0"/>
                </a:lnTo>
              </a:path>
            </a:pathLst>
          </a:custGeom>
          <a:noFill/>
          <a:ln cap="sq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300720" y="2657520"/>
            <a:ext cx="1971720" cy="2085840"/>
          </a:xfrm>
          <a:custGeom>
            <a:avLst/>
            <a:gdLst/>
            <a:ahLst/>
            <a:rect l="l" t="t" r="r" b="b"/>
            <a:pathLst>
              <a:path w="1242" h="1314">
                <a:moveTo>
                  <a:pt x="0" y="1314"/>
                </a:moveTo>
                <a:lnTo>
                  <a:pt x="324" y="747"/>
                </a:lnTo>
                <a:lnTo>
                  <a:pt x="594" y="162"/>
                </a:lnTo>
                <a:lnTo>
                  <a:pt x="918" y="54"/>
                </a:lnTo>
                <a:lnTo>
                  <a:pt x="1242" y="0"/>
                </a:lnTo>
              </a:path>
            </a:pathLst>
          </a:custGeom>
          <a:noFill/>
          <a:ln cap="sq" w="2844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2448000" y="1590840"/>
            <a:ext cx="1299240" cy="1876320"/>
            <a:chOff x="2448000" y="1590840"/>
            <a:chExt cx="1299240" cy="1876320"/>
          </a:xfrm>
        </p:grpSpPr>
        <p:sp>
          <p:nvSpPr>
            <p:cNvPr id="716" name=""/>
            <p:cNvSpPr/>
            <p:nvPr/>
          </p:nvSpPr>
          <p:spPr>
            <a:xfrm>
              <a:off x="2448000" y="1590840"/>
              <a:ext cx="163440" cy="1876320"/>
            </a:xfrm>
            <a:prstGeom prst="upDownArrow">
              <a:avLst>
                <a:gd name="adj1" fmla="val 50000"/>
                <a:gd name="adj2" fmla="val 228540"/>
              </a:avLst>
            </a:prstGeom>
            <a:solidFill>
              <a:srgbClr val="cc00cc"/>
            </a:solidFill>
            <a:ln cap="sq" w="1260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609280" y="2152800"/>
              <a:ext cx="1137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3-4 Log</a:t>
              </a:r>
              <a:r>
                <a:rPr b="0" lang="fr-FR" sz="1600" spc="-1" strike="noStrike" baseline="-25000">
                  <a:solidFill>
                    <a:srgbClr val="000000"/>
                  </a:solidFill>
                  <a:latin typeface="Comic Sans MS"/>
                </a:rPr>
                <a:t>10 </a:t>
              </a: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1951200" y="1609560"/>
            <a:ext cx="4271760" cy="1925640"/>
          </a:xfrm>
          <a:custGeom>
            <a:avLst/>
            <a:gdLst/>
            <a:ahLst/>
            <a:rect l="l" t="t" r="r" b="b"/>
            <a:pathLst>
              <a:path w="2691" h="1213">
                <a:moveTo>
                  <a:pt x="0" y="0"/>
                </a:moveTo>
                <a:lnTo>
                  <a:pt x="230" y="508"/>
                </a:lnTo>
                <a:lnTo>
                  <a:pt x="410" y="796"/>
                </a:lnTo>
                <a:lnTo>
                  <a:pt x="800" y="955"/>
                </a:lnTo>
                <a:lnTo>
                  <a:pt x="1170" y="1049"/>
                </a:lnTo>
                <a:lnTo>
                  <a:pt x="1565" y="1161"/>
                </a:lnTo>
                <a:lnTo>
                  <a:pt x="2107" y="1204"/>
                </a:lnTo>
                <a:lnTo>
                  <a:pt x="2691" y="1213"/>
                </a:lnTo>
              </a:path>
            </a:pathLst>
          </a:custGeom>
          <a:noFill/>
          <a:ln w="2844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249960" y="1706400"/>
            <a:ext cx="1994040" cy="1828800"/>
          </a:xfrm>
          <a:custGeom>
            <a:avLst/>
            <a:gdLst/>
            <a:ahLst/>
            <a:rect l="l" t="t" r="r" b="b"/>
            <a:pathLst>
              <a:path w="1256" h="1152">
                <a:moveTo>
                  <a:pt x="0" y="1152"/>
                </a:moveTo>
                <a:lnTo>
                  <a:pt x="312" y="609"/>
                </a:lnTo>
                <a:lnTo>
                  <a:pt x="628" y="129"/>
                </a:lnTo>
                <a:lnTo>
                  <a:pt x="912" y="17"/>
                </a:lnTo>
                <a:lnTo>
                  <a:pt x="1256" y="0"/>
                </a:lnTo>
              </a:path>
            </a:pathLst>
          </a:custGeom>
          <a:noFill/>
          <a:ln w="28440">
            <a:solidFill>
              <a:srgbClr val="cc00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6257880" y="4300560"/>
            <a:ext cx="890280" cy="442800"/>
            <a:chOff x="6257880" y="4300560"/>
            <a:chExt cx="890280" cy="442800"/>
          </a:xfrm>
        </p:grpSpPr>
        <p:sp>
          <p:nvSpPr>
            <p:cNvPr id="721" name=""/>
            <p:cNvSpPr/>
            <p:nvPr/>
          </p:nvSpPr>
          <p:spPr>
            <a:xfrm>
              <a:off x="6257880" y="4300560"/>
              <a:ext cx="117360" cy="442800"/>
            </a:xfrm>
            <a:prstGeom prst="upDownArrow">
              <a:avLst>
                <a:gd name="adj1" fmla="val 50000"/>
                <a:gd name="adj2" fmla="val 75111"/>
              </a:avLst>
            </a:prstGeom>
            <a:solidFill>
              <a:srgbClr val="cc00cc"/>
            </a:solidFill>
            <a:ln cap="sq" w="1260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310440" y="4360680"/>
              <a:ext cx="837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1 Log</a:t>
              </a:r>
              <a:r>
                <a:rPr b="0" lang="fr-FR" sz="1600" spc="-1" strike="noStrike" baseline="-25000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6188040" y="3073320"/>
            <a:ext cx="890280" cy="443160"/>
            <a:chOff x="6188040" y="3073320"/>
            <a:chExt cx="890280" cy="443160"/>
          </a:xfrm>
        </p:grpSpPr>
        <p:sp>
          <p:nvSpPr>
            <p:cNvPr id="724" name=""/>
            <p:cNvSpPr/>
            <p:nvPr/>
          </p:nvSpPr>
          <p:spPr>
            <a:xfrm>
              <a:off x="6188040" y="3073320"/>
              <a:ext cx="117360" cy="443160"/>
            </a:xfrm>
            <a:prstGeom prst="upDownArrow">
              <a:avLst>
                <a:gd name="adj1" fmla="val 50000"/>
                <a:gd name="adj2" fmla="val 75172"/>
              </a:avLst>
            </a:prstGeom>
            <a:solidFill>
              <a:srgbClr val="cc00cc"/>
            </a:solidFill>
            <a:ln cap="sq" w="1260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240600" y="3133800"/>
              <a:ext cx="837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1 Log</a:t>
              </a:r>
              <a:r>
                <a:rPr b="0" lang="fr-FR" sz="1600" spc="-1" strike="noStrike" baseline="-25000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1940040" y="4075200"/>
            <a:ext cx="6330960" cy="1090440"/>
          </a:xfrm>
          <a:prstGeom prst="rect">
            <a:avLst/>
          </a:prstGeom>
          <a:solidFill>
            <a:srgbClr val="0000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"/>
          <p:cNvGrpSpPr/>
          <p:nvPr/>
        </p:nvGrpSpPr>
        <p:grpSpPr>
          <a:xfrm>
            <a:off x="4641840" y="719280"/>
            <a:ext cx="4502160" cy="3484800"/>
            <a:chOff x="4641840" y="719280"/>
            <a:chExt cx="4502160" cy="3484800"/>
          </a:xfrm>
        </p:grpSpPr>
        <p:sp>
          <p:nvSpPr>
            <p:cNvPr id="728" name=""/>
            <p:cNvSpPr/>
            <p:nvPr/>
          </p:nvSpPr>
          <p:spPr>
            <a:xfrm>
              <a:off x="6960600" y="3735360"/>
              <a:ext cx="2079720" cy="4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cff"/>
                  </a:solidFill>
                  <a:latin typeface="Arial"/>
                  <a:ea typeface="Arial"/>
                </a:rPr>
                <a:t>Locarnini, et al. EASL 2005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cff"/>
                  </a:solidFill>
                  <a:latin typeface="Arial"/>
                  <a:ea typeface="Arial"/>
                </a:rPr>
                <a:t>42:1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9" name="" descr=""/>
            <p:cNvPicPr/>
            <p:nvPr/>
          </p:nvPicPr>
          <p:blipFill>
            <a:blip r:embed="rId1"/>
            <a:stretch/>
          </p:blipFill>
          <p:spPr>
            <a:xfrm>
              <a:off x="4641840" y="719280"/>
              <a:ext cx="4502160" cy="303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96440" y="258840"/>
            <a:ext cx="8386920" cy="519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330099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00"/>
                </a:solidFill>
                <a:latin typeface="Comic Sans MS"/>
              </a:rPr>
              <a:t>Valeur prédictive de la charge virale</a:t>
            </a:r>
            <a:endParaRPr b="1" i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176040" y="728640"/>
            <a:ext cx="4502160" cy="30369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197640" y="3745080"/>
            <a:ext cx="2157480" cy="4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ff"/>
                </a:solidFill>
                <a:latin typeface="Arial"/>
                <a:ea typeface="Arial"/>
              </a:rPr>
              <a:t>Yuen, et al. Hepatology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ff"/>
                </a:solidFill>
                <a:latin typeface="Arial"/>
                <a:ea typeface="Arial"/>
              </a:rPr>
              <a:t>34:7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2405160" y="3610080"/>
            <a:ext cx="6180840" cy="3036960"/>
            <a:chOff x="2405160" y="3610080"/>
            <a:chExt cx="6180840" cy="3036960"/>
          </a:xfrm>
        </p:grpSpPr>
        <p:sp>
          <p:nvSpPr>
            <p:cNvPr id="734" name=""/>
            <p:cNvSpPr/>
            <p:nvPr/>
          </p:nvSpPr>
          <p:spPr>
            <a:xfrm>
              <a:off x="6855480" y="6100920"/>
              <a:ext cx="1730520" cy="4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cff"/>
                  </a:solidFill>
                  <a:latin typeface="Arial"/>
                  <a:ea typeface="Arial"/>
                </a:rPr>
                <a:t>Lai, et al. AASLD 20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95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ccff"/>
                  </a:solidFill>
                  <a:latin typeface="Arial"/>
                  <a:ea typeface="Arial"/>
                </a:rPr>
                <a:t>LB 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5" name="" descr=""/>
            <p:cNvPicPr/>
            <p:nvPr/>
          </p:nvPicPr>
          <p:blipFill>
            <a:blip r:embed="rId3"/>
            <a:stretch/>
          </p:blipFill>
          <p:spPr>
            <a:xfrm>
              <a:off x="2405160" y="3610080"/>
              <a:ext cx="4502160" cy="3036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77880" y="334800"/>
            <a:ext cx="7772400" cy="519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99"/>
              </a:gs>
            </a:gsLst>
            <a:lin ang="135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00"/>
                </a:solidFill>
                <a:latin typeface="Comic Sans MS"/>
              </a:rPr>
              <a:t>Charge virale VHB et traitements</a:t>
            </a:r>
            <a:endParaRPr b="1" i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537840" y="1215720"/>
            <a:ext cx="8288280" cy="50162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99"/>
              </a:gs>
            </a:gsLst>
            <a:lin ang="13500000"/>
          </a:gradFill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lnSpc>
                <a:spcPct val="110000"/>
              </a:lnSpc>
              <a:spcAft>
                <a:spcPts val="75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La détermination du niveau de charge virale est indispensable pour :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 algn="just">
              <a:lnSpc>
                <a:spcPct val="110000"/>
              </a:lnSpc>
              <a:spcAft>
                <a:spcPts val="675"/>
              </a:spcAft>
              <a:buClr>
                <a:srgbClr val="ffffff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apprécier l'efficacité thérapeutiqu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 algn="just">
              <a:lnSpc>
                <a:spcPct val="110000"/>
              </a:lnSpc>
              <a:spcAft>
                <a:spcPts val="675"/>
              </a:spcAft>
              <a:buClr>
                <a:srgbClr val="ffffff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identifier l'émergence de résistanc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0" algn="just">
              <a:lnSpc>
                <a:spcPct val="110000"/>
              </a:lnSpc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 algn="just">
              <a:lnSpc>
                <a:spcPct val="110000"/>
              </a:lnSpc>
              <a:spcAft>
                <a:spcPts val="751"/>
              </a:spcAft>
              <a:buClr>
                <a:srgbClr val="ffccff"/>
              </a:buClr>
              <a:buFont typeface="Webdings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ccff"/>
                </a:solidFill>
                <a:latin typeface="Comic Sans MS"/>
              </a:rPr>
              <a:t>Nécessité d'une plage de linéarité maximale (pré-thérapeutique)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 algn="just">
              <a:lnSpc>
                <a:spcPct val="110000"/>
              </a:lnSpc>
              <a:spcAft>
                <a:spcPts val="751"/>
              </a:spcAft>
              <a:buClr>
                <a:srgbClr val="ffccff"/>
              </a:buClr>
              <a:buFont typeface="Webdings" charset="2"/>
              <a:buChar char="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ccff"/>
                </a:solidFill>
                <a:latin typeface="Comic Sans MS"/>
              </a:rPr>
              <a:t>Nécessité d'une sensibilité optimale (per-traitement)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0" algn="just">
              <a:lnSpc>
                <a:spcPct val="11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339480" algn="just">
              <a:lnSpc>
                <a:spcPct val="110000"/>
              </a:lnSpc>
              <a:spcAft>
                <a:spcPts val="75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Comic Sans MS"/>
              </a:rPr>
              <a:t>Le suivi de la charge virale en cours de traitement pourrait devenir un facteur prédictif de résistance: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1" marL="735480" indent="-282960" algn="just">
              <a:lnSpc>
                <a:spcPct val="110000"/>
              </a:lnSpc>
              <a:spcAft>
                <a:spcPts val="675"/>
              </a:spcAft>
              <a:buClr>
                <a:srgbClr val="ffffff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définition d'un seuil à partir duquel une association thérapeutique serait indispensabl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77880" y="3348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99"/>
                </a:solidFill>
                <a:latin typeface="Comic Sans MS"/>
              </a:rPr>
              <a:t>Les tests disponibles PCR HBV temps réel</a:t>
            </a:r>
            <a:endParaRPr b="1" i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17680" y="1153800"/>
            <a:ext cx="8416800" cy="54295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40000"/>
              </a:lnSpc>
              <a:spcAft>
                <a:spcPts val="75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Comic Sans MS"/>
              </a:rPr>
              <a:t>Les protagonistes commercialement disponibles</a:t>
            </a: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lnSpc>
                <a:spcPct val="140000"/>
              </a:lnSpc>
              <a:spcAft>
                <a:spcPts val="675"/>
              </a:spcAft>
              <a:buClr>
                <a:srgbClr val="000000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Roche Cobas Taqma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40000"/>
              </a:lnSpc>
              <a:spcAft>
                <a:spcPts val="675"/>
              </a:spcAft>
              <a:buClr>
                <a:srgbClr val="000000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rtus Real HBV (Abbot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4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Comic Sans MS"/>
              </a:rPr>
              <a:t>Abbott (prévu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40000"/>
              </a:lnSpc>
              <a:spcAft>
                <a:spcPts val="75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Comic Sans MS"/>
              </a:rPr>
              <a:t>Les performances</a:t>
            </a: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lnSpc>
                <a:spcPct val="140000"/>
              </a:lnSpc>
              <a:spcAft>
                <a:spcPts val="675"/>
              </a:spcAft>
              <a:buClr>
                <a:srgbClr val="000000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Sur le papier : performances comparabl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 algn="just">
              <a:lnSpc>
                <a:spcPct val="140000"/>
              </a:lnSpc>
              <a:spcAft>
                <a:spcPts val="601"/>
              </a:spcAft>
              <a:buClr>
                <a:srgbClr val="000000"/>
              </a:buClr>
              <a:buFont typeface="Monotype Sort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sensibilité : 5 à 15 UI/m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 algn="just">
              <a:lnSpc>
                <a:spcPct val="140000"/>
              </a:lnSpc>
              <a:spcAft>
                <a:spcPts val="601"/>
              </a:spcAft>
              <a:buClr>
                <a:srgbClr val="000000"/>
              </a:buClr>
              <a:buFont typeface="Monotype Sort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Linéarité : 30 à 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omic Sans MS"/>
              </a:rPr>
              <a:t>8-9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UI/m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 algn="just">
              <a:lnSpc>
                <a:spcPct val="140000"/>
              </a:lnSpc>
              <a:spcAft>
                <a:spcPts val="675"/>
              </a:spcAft>
              <a:buClr>
                <a:srgbClr val="000000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En pratique 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 algn="just">
              <a:lnSpc>
                <a:spcPct val="140000"/>
              </a:lnSpc>
              <a:spcAft>
                <a:spcPts val="601"/>
              </a:spcAft>
              <a:buClr>
                <a:srgbClr val="000000"/>
              </a:buClr>
              <a:buFont typeface="Monotype Sort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Système de purification des acides nucléiques : manuel ou automatisé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 algn="just">
              <a:lnSpc>
                <a:spcPct val="140000"/>
              </a:lnSpc>
              <a:spcAft>
                <a:spcPts val="524"/>
              </a:spcAft>
              <a:buClr>
                <a:srgbClr val="000000"/>
              </a:buClr>
              <a:buFont typeface="Monotype Sort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Volume requis </a:t>
            </a:r>
            <a:r>
              <a:rPr b="0" i="1" lang="fr-FR" sz="1600" spc="-1" strike="noStrike">
                <a:solidFill>
                  <a:srgbClr val="000000"/>
                </a:solidFill>
                <a:latin typeface="Comic Sans MS"/>
              </a:rPr>
              <a:t>(volume mort)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/ volume obtenu </a:t>
            </a: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(analyses secondaires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 algn="just">
              <a:lnSpc>
                <a:spcPct val="140000"/>
              </a:lnSpc>
              <a:spcAft>
                <a:spcPts val="601"/>
              </a:spcAft>
              <a:buClr>
                <a:srgbClr val="000000"/>
              </a:buClr>
              <a:buFont typeface="Monotype Sort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Recommandations sur le type de prélèvement 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77880" y="3348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99"/>
                </a:solidFill>
                <a:latin typeface="Comic Sans MS"/>
              </a:rPr>
              <a:t>Prise d'essai et sensibilité</a:t>
            </a:r>
            <a:endParaRPr b="1" i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733320" y="1160640"/>
            <a:ext cx="8182080" cy="11898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lnSpc>
                <a:spcPct val="12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La performance des essais est difficile à apprécier en raison de la diversité des méthodes d'obtention des acides nucléiques (prise d'essai, volume d'élution...)</a:t>
            </a: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</p:txBody>
      </p:sp>
      <p:graphicFrame>
        <p:nvGraphicFramePr>
          <p:cNvPr id="742" name=""/>
          <p:cNvGraphicFramePr/>
          <p:nvPr/>
        </p:nvGraphicFramePr>
        <p:xfrm>
          <a:off x="409680" y="2500200"/>
          <a:ext cx="8512200" cy="3738600"/>
        </p:xfrm>
        <a:graphic>
          <a:graphicData uri="http://schemas.openxmlformats.org/drawingml/2006/table">
            <a:tbl>
              <a:tblPr/>
              <a:tblGrid>
                <a:gridCol w="2344680"/>
                <a:gridCol w="892080"/>
                <a:gridCol w="1015920"/>
                <a:gridCol w="1016280"/>
                <a:gridCol w="1015920"/>
                <a:gridCol w="1253880"/>
                <a:gridCol w="973440"/>
              </a:tblGrid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D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 rowSpan="2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ob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 gridSpan="2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obas Ta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Abbott-Ar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H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QIAG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M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</a:tr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rise d'essai (µ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ensibilité (UI/m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0 </a:t>
                      </a:r>
                      <a:r>
                        <a:rPr b="0" i="1" lang="fr-FR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3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5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UI/ré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2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utilisation de l'éluat en totalité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 </a:t>
                      </a:r>
                      <a:r>
                        <a:rPr b="0" i="1" lang="fr-FR" sz="1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1.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1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2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"/>
          <p:cNvGrpSpPr/>
          <p:nvPr/>
        </p:nvGrpSpPr>
        <p:grpSpPr>
          <a:xfrm>
            <a:off x="48600" y="1400040"/>
            <a:ext cx="1073160" cy="4543560"/>
            <a:chOff x="48600" y="1400040"/>
            <a:chExt cx="1073160" cy="4543560"/>
          </a:xfrm>
        </p:grpSpPr>
        <p:sp>
          <p:nvSpPr>
            <p:cNvPr id="744" name=""/>
            <p:cNvSpPr/>
            <p:nvPr/>
          </p:nvSpPr>
          <p:spPr>
            <a:xfrm>
              <a:off x="414360" y="1828800"/>
              <a:ext cx="338040" cy="4114800"/>
            </a:xfrm>
            <a:prstGeom prst="downArrow">
              <a:avLst>
                <a:gd name="adj1" fmla="val 50000"/>
                <a:gd name="adj2" fmla="val 304313"/>
              </a:avLst>
            </a:prstGeom>
            <a:gradFill rotWithShape="0">
              <a:gsLst>
                <a:gs pos="0">
                  <a:srgbClr val="750000"/>
                </a:gs>
                <a:gs pos="100000">
                  <a:srgbClr val="ff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8600" y="1400040"/>
              <a:ext cx="1073160" cy="2890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7200" bIns="7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66ff33"/>
                  </a:solidFill>
                  <a:latin typeface="Comic Sans MS"/>
                </a:rPr>
                <a:t>Tend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1346760" y="6337440"/>
            <a:ext cx="297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290600" y="5573880"/>
            <a:ext cx="412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255320" y="4809960"/>
            <a:ext cx="479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255320" y="4046400"/>
            <a:ext cx="479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255320" y="3282840"/>
            <a:ext cx="479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255320" y="2519280"/>
            <a:ext cx="479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255320" y="1755720"/>
            <a:ext cx="479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09080" y="6324480"/>
            <a:ext cx="820080" cy="2890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7200" bIns="7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Comic Sans MS"/>
              </a:rPr>
              <a:t>UI / 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255320" y="992160"/>
            <a:ext cx="479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255320" y="228600"/>
            <a:ext cx="479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681200" y="0"/>
            <a:ext cx="301680" cy="6515280"/>
            <a:chOff x="1681200" y="0"/>
            <a:chExt cx="301680" cy="6515280"/>
          </a:xfrm>
        </p:grpSpPr>
        <p:sp>
          <p:nvSpPr>
            <p:cNvPr id="757" name=""/>
            <p:cNvSpPr/>
            <p:nvPr/>
          </p:nvSpPr>
          <p:spPr>
            <a:xfrm>
              <a:off x="1832040" y="0"/>
              <a:ext cx="0" cy="651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681200" y="65023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681200" y="61196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681200" y="573876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681200" y="535608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681200" y="497520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681200" y="4592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681200" y="42116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681200" y="382896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681200" y="344808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681200" y="306540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681200" y="2684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681200" y="23018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681200" y="192096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681200" y="153828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681200" y="115740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681200" y="7747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681200" y="3938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2153880" y="2811240"/>
            <a:ext cx="4144320" cy="2440800"/>
            <a:chOff x="2153880" y="2811240"/>
            <a:chExt cx="4144320" cy="2440800"/>
          </a:xfrm>
        </p:grpSpPr>
        <p:grpSp>
          <p:nvGrpSpPr>
            <p:cNvPr id="776" name=""/>
            <p:cNvGrpSpPr/>
            <p:nvPr/>
          </p:nvGrpSpPr>
          <p:grpSpPr>
            <a:xfrm>
              <a:off x="2153880" y="2811240"/>
              <a:ext cx="4144320" cy="2440800"/>
              <a:chOff x="2153880" y="2811240"/>
              <a:chExt cx="4144320" cy="2440800"/>
            </a:xfrm>
          </p:grpSpPr>
          <p:sp>
            <p:nvSpPr>
              <p:cNvPr id="777" name=""/>
              <p:cNvSpPr/>
              <p:nvPr/>
            </p:nvSpPr>
            <p:spPr>
              <a:xfrm>
                <a:off x="2225880" y="4919760"/>
                <a:ext cx="4072320" cy="3322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ffffff"/>
                    </a:solidFill>
                    <a:latin typeface="Comic Sans MS"/>
                  </a:rPr>
                  <a:t>Monitor Roche COBAS 60 à 38 000 UI/m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 flipV="1">
                <a:off x="2153880" y="2811240"/>
                <a:ext cx="12600" cy="2323800"/>
              </a:xfrm>
              <a:prstGeom prst="line">
                <a:avLst/>
              </a:prstGeom>
              <a:ln w="28440">
                <a:solidFill>
                  <a:srgbClr val="ff00ff"/>
                </a:solidFill>
                <a:prstDash val="dash"/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9" name=""/>
            <p:cNvSpPr/>
            <p:nvPr/>
          </p:nvSpPr>
          <p:spPr>
            <a:xfrm>
              <a:off x="2244960" y="3943440"/>
              <a:ext cx="288360" cy="23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66cc"/>
                  </a:solidFill>
                  <a:latin typeface="Comic Sans MS"/>
                </a:rPr>
                <a:t>2.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0" name=""/>
          <p:cNvGrpSpPr/>
          <p:nvPr/>
        </p:nvGrpSpPr>
        <p:grpSpPr>
          <a:xfrm>
            <a:off x="4111200" y="310680"/>
            <a:ext cx="2083320" cy="3661920"/>
            <a:chOff x="4111200" y="310680"/>
            <a:chExt cx="2083320" cy="3661920"/>
          </a:xfrm>
        </p:grpSpPr>
        <p:sp>
          <p:nvSpPr>
            <p:cNvPr id="781" name=""/>
            <p:cNvSpPr/>
            <p:nvPr/>
          </p:nvSpPr>
          <p:spPr>
            <a:xfrm>
              <a:off x="4111200" y="3396960"/>
              <a:ext cx="2083320" cy="57564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Versant Bayer 3.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357 à 1.8 10</a:t>
              </a:r>
              <a:r>
                <a:rPr b="0" lang="fr-FR" sz="1600" spc="-1" strike="noStrike" baseline="30000">
                  <a:solidFill>
                    <a:srgbClr val="000000"/>
                  </a:solidFill>
                  <a:latin typeface="Comic Sans MS"/>
                </a:rPr>
                <a:t>7</a:t>
              </a: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 UI./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191120" y="2230200"/>
              <a:ext cx="288360" cy="235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99ff33"/>
                  </a:solidFill>
                  <a:latin typeface="Comic Sans MS"/>
                </a:rPr>
                <a:t>4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4151520" y="310680"/>
              <a:ext cx="0" cy="3467160"/>
            </a:xfrm>
            <a:prstGeom prst="line">
              <a:avLst/>
            </a:prstGeom>
            <a:ln w="28440">
              <a:solidFill>
                <a:srgbClr val="33cc33"/>
              </a:solidFill>
              <a:prstDash val="sysDot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6552000" y="0"/>
            <a:ext cx="2599920" cy="6203160"/>
            <a:chOff x="6552000" y="0"/>
            <a:chExt cx="2599920" cy="6203160"/>
          </a:xfrm>
        </p:grpSpPr>
        <p:sp>
          <p:nvSpPr>
            <p:cNvPr id="785" name=""/>
            <p:cNvSpPr/>
            <p:nvPr/>
          </p:nvSpPr>
          <p:spPr>
            <a:xfrm>
              <a:off x="6952680" y="5627520"/>
              <a:ext cx="2034720" cy="5756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Artus HBV Taqma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4 – 9 à 4.10</a:t>
              </a:r>
              <a:r>
                <a:rPr b="0" lang="fr-FR" sz="1600" spc="-1" strike="noStrike" baseline="30000">
                  <a:solidFill>
                    <a:srgbClr val="000000"/>
                  </a:solidFill>
                  <a:latin typeface="Comic Sans MS"/>
                </a:rPr>
                <a:t>9</a:t>
              </a: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 UI/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786720" y="5087880"/>
              <a:ext cx="2365200" cy="5756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Roche COBAS Taqma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12-54 à 1.1 10</a:t>
              </a:r>
              <a:r>
                <a:rPr b="0" lang="fr-FR" sz="1600" spc="-1" strike="noStrike" baseline="30000">
                  <a:solidFill>
                    <a:srgbClr val="000000"/>
                  </a:solidFill>
                  <a:latin typeface="Comic Sans MS"/>
                </a:rPr>
                <a:t>8</a:t>
              </a: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 UI/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6792840" y="0"/>
              <a:ext cx="0" cy="553248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552000" y="2473200"/>
              <a:ext cx="138960" cy="235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Comic Sans MS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9" name=""/>
          <p:cNvSpPr/>
          <p:nvPr/>
        </p:nvSpPr>
        <p:spPr>
          <a:xfrm>
            <a:off x="4480920" y="6056280"/>
            <a:ext cx="2248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WHO-HBV : 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UI/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1 UI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 5 cop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advTm="132000" p14:dur="2000">
        <p:split dir="out" orient="horz"/>
      </p:transition>
    </mc:Choice>
    <mc:Fallback>
      <p:transition spd="slow" advTm="132000">
        <p:split dir="out" orient="horz"/>
      </p:transition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0" name=""/>
          <p:cNvGraphicFramePr/>
          <p:nvPr/>
        </p:nvGraphicFramePr>
        <p:xfrm>
          <a:off x="222120" y="274680"/>
          <a:ext cx="8810640" cy="6075360"/>
        </p:xfrm>
        <a:graphic>
          <a:graphicData uri="http://schemas.openxmlformats.org/drawingml/2006/table">
            <a:tbl>
              <a:tblPr/>
              <a:tblGrid>
                <a:gridCol w="1555920"/>
                <a:gridCol w="1139760"/>
                <a:gridCol w="479520"/>
                <a:gridCol w="1930320"/>
                <a:gridCol w="2274840"/>
                <a:gridCol w="1430280"/>
              </a:tblGrid>
              <a:tr h="363960"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Essa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>
                        <a:alpha val="70000"/>
                      </a:srgbClr>
                    </a:solidFill>
                  </a:tcPr>
                </a:tc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Réfé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>
                        <a:alpha val="70000"/>
                      </a:srgbClr>
                    </a:solidFill>
                  </a:tcPr>
                </a:tc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>
                        <a:alpha val="70000"/>
                      </a:srgbClr>
                    </a:solidFill>
                  </a:tcPr>
                </a:tc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orré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>
                        <a:alpha val="70000"/>
                      </a:srgbClr>
                    </a:solidFill>
                  </a:tcPr>
                </a:tc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ommentai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>
                        <a:alpha val="70000"/>
                      </a:srgbClr>
                    </a:solidFill>
                  </a:tcPr>
                </a:tc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Réf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>
                        <a:alpha val="70000"/>
                      </a:srgbClr>
                    </a:solidFill>
                  </a:tcPr>
                </a:tc>
              </a:tr>
              <a:tr h="818280"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obas Ta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Magnapure, 500µ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ccff">
                        <a:alpha val="70000"/>
                      </a:srgbClr>
                    </a:solidFill>
                  </a:tcPr>
                </a:tc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DNA 3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ccff">
                        <a:alpha val="70000"/>
                      </a:srgbClr>
                    </a:solidFill>
                  </a:tcPr>
                </a:tc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ccff">
                        <a:alpha val="70000"/>
                      </a:srgbClr>
                    </a:solidFill>
                  </a:tcPr>
                </a:tc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r>
                        <a:rPr b="0" lang="fr-FR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0.9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A-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ccff">
                        <a:alpha val="70000"/>
                      </a:srgbClr>
                    </a:solidFill>
                  </a:tcPr>
                </a:tc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DNA&gt;Taq Cob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75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ccff">
                        <a:alpha val="70000"/>
                      </a:srgbClr>
                    </a:solidFill>
                  </a:tcPr>
                </a:tc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Qutub 2005 (May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ccff">
                        <a:alpha val="70000"/>
                      </a:srgbClr>
                    </a:solidFill>
                  </a:tcPr>
                </a:tc>
              </a:tr>
              <a:tr h="605160"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obas Ta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HPS, 500µ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ccff">
                        <a:alpha val="70000"/>
                      </a:srgbClr>
                    </a:solidFill>
                  </a:tcPr>
                </a:tc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DNA 3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ccff">
                        <a:alpha val="70000"/>
                      </a:srgbClr>
                    </a:solidFill>
                  </a:tcPr>
                </a:tc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ccff">
                        <a:alpha val="70000"/>
                      </a:srgbClr>
                    </a:solidFill>
                  </a:tcPr>
                </a:tc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r>
                        <a:rPr b="0" lang="fr-FR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0.9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ccff">
                        <a:alpha val="70000"/>
                      </a:srgbClr>
                    </a:solidFill>
                  </a:tcPr>
                </a:tc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spersion des résultat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ccff">
                        <a:alpha val="70000"/>
                      </a:srgbClr>
                    </a:solidFill>
                  </a:tcPr>
                </a:tc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Konnick 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ARU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ccff">
                        <a:alpha val="70000"/>
                      </a:srgbClr>
                    </a:solidFill>
                  </a:tcPr>
                </a:tc>
              </a:tr>
              <a:tr h="635400"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obas Ta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Qiagen, 500µ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>
                        <a:alpha val="70000"/>
                      </a:srgbClr>
                    </a:solidFill>
                  </a:tcPr>
                </a:tc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ba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plic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>
                        <a:alpha val="70000"/>
                      </a:srgbClr>
                    </a:solidFill>
                  </a:tcPr>
                </a:tc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>
                        <a:alpha val="70000"/>
                      </a:srgbClr>
                    </a:solidFill>
                  </a:tcPr>
                </a:tc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=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>
                        <a:alpha val="70000"/>
                      </a:srgbClr>
                    </a:solidFill>
                  </a:tcPr>
                </a:tc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ff. : 0.31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q &gt; amplic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>
                        <a:alpha val="70000"/>
                      </a:srgbClr>
                    </a:solidFill>
                  </a:tcPr>
                </a:tc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Geahr 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JH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>
                        <a:alpha val="70000"/>
                      </a:srgbClr>
                    </a:solidFill>
                  </a:tcPr>
                </a:tc>
              </a:tr>
              <a:tr h="635400"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obas Ta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HPS, 500µ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ffcc">
                        <a:alpha val="70000"/>
                      </a:srgbClr>
                    </a:solidFill>
                  </a:tcPr>
                </a:tc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ba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plic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ffcc">
                        <a:alpha val="70000"/>
                      </a:srgbClr>
                    </a:solidFill>
                  </a:tcPr>
                </a:tc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ffcc">
                        <a:alpha val="70000"/>
                      </a:srgbClr>
                    </a:solidFill>
                  </a:tcPr>
                </a:tc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r>
                        <a:rPr b="0" lang="fr-FR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0.916 (+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r>
                        <a:rPr b="0" lang="fr-FR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0.984 (-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ffcc">
                        <a:alpha val="70000"/>
                      </a:srgbClr>
                    </a:solidFill>
                  </a:tcPr>
                </a:tc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oche (A-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ff. : 0.1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ffcc">
                        <a:alpha val="70000"/>
                      </a:srgbClr>
                    </a:solidFill>
                  </a:tcPr>
                </a:tc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Weis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JCV 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ffcc">
                        <a:alpha val="70000"/>
                      </a:srgbClr>
                    </a:solidFill>
                  </a:tcPr>
                </a:tc>
              </a:tr>
              <a:tr h="635400"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obas Ta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HPS, 500µ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ffcc">
                        <a:alpha val="70000"/>
                      </a:srgbClr>
                    </a:solidFill>
                  </a:tcPr>
                </a:tc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ba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plic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ffcc">
                        <a:alpha val="70000"/>
                      </a:srgbClr>
                    </a:solidFill>
                  </a:tcPr>
                </a:tc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ffcc">
                        <a:alpha val="70000"/>
                      </a:srgbClr>
                    </a:solidFill>
                  </a:tcPr>
                </a:tc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r>
                        <a:rPr b="0" lang="fr-FR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0.9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ffcc">
                        <a:alpha val="70000"/>
                      </a:srgbClr>
                    </a:solidFill>
                  </a:tcPr>
                </a:tc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ffcc">
                        <a:alpha val="70000"/>
                      </a:srgbClr>
                    </a:solidFill>
                  </a:tcPr>
                </a:tc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Gordill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JCM 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ffcc">
                        <a:alpha val="70000"/>
                      </a:srgbClr>
                    </a:solidFill>
                  </a:tcPr>
                </a:tc>
              </a:tr>
              <a:tr h="791640"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obas Ta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HPS, 500µ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ffcc">
                        <a:alpha val="70000"/>
                      </a:srgbClr>
                    </a:solidFill>
                  </a:tcPr>
                </a:tc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ba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plic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ffcc">
                        <a:alpha val="70000"/>
                      </a:srgbClr>
                    </a:solidFill>
                  </a:tcPr>
                </a:tc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1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ffcc">
                        <a:alpha val="70000"/>
                      </a:srgbClr>
                    </a:solidFill>
                  </a:tcPr>
                </a:tc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=0.9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ffcc">
                        <a:alpha val="70000"/>
                      </a:srgbClr>
                    </a:solidFill>
                  </a:tcPr>
                </a:tc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amme linéarité Amplic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ffcc">
                        <a:alpha val="70000"/>
                      </a:srgbClr>
                    </a:solidFill>
                  </a:tcPr>
                </a:tc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u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J.Med.Virol 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ffcc">
                        <a:alpha val="70000"/>
                      </a:srgbClr>
                    </a:solidFill>
                  </a:tcPr>
                </a:tc>
              </a:tr>
              <a:tr h="635400"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Cobas Ta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HPS, 500µ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ffcc">
                        <a:alpha val="70000"/>
                      </a:srgbClr>
                    </a:solidFill>
                  </a:tcPr>
                </a:tc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ba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plic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ffcc">
                        <a:alpha val="70000"/>
                      </a:srgbClr>
                    </a:solidFill>
                  </a:tcPr>
                </a:tc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ffcc">
                        <a:alpha val="70000"/>
                      </a:srgbClr>
                    </a:solidFill>
                  </a:tcPr>
                </a:tc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r>
                        <a:rPr b="0" lang="fr-FR" sz="16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=0.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ffcc">
                        <a:alpha val="70000"/>
                      </a:srgbClr>
                    </a:solidFill>
                  </a:tcPr>
                </a:tc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ff. : 0.11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q &gt; amplic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ffcc">
                        <a:alpha val="70000"/>
                      </a:srgbClr>
                    </a:solidFill>
                  </a:tcPr>
                </a:tc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Lind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JCM 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ccffcc">
                        <a:alpha val="70000"/>
                      </a:srgbClr>
                    </a:solidFill>
                  </a:tcPr>
                </a:tc>
              </a:tr>
              <a:tr h="955080"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Ar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AMP, 200µ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>
                        <a:alpha val="70000"/>
                      </a:srgbClr>
                    </a:solidFill>
                  </a:tcPr>
                </a:tc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ba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mplic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>
                        <a:alpha val="70000"/>
                      </a:srgbClr>
                    </a:solidFill>
                  </a:tcPr>
                </a:tc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>
                        <a:alpha val="70000"/>
                      </a:srgbClr>
                    </a:solidFill>
                  </a:tcPr>
                </a:tc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7/49 : 0.5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/12 : 0.5-1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: 1-1.3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>
                        <a:alpha val="70000"/>
                      </a:srgbClr>
                    </a:solidFill>
                  </a:tcPr>
                </a:tc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>
                        <a:alpha val="70000"/>
                      </a:srgbClr>
                    </a:solidFill>
                  </a:tcPr>
                </a:tc>
                <a:tc>
                  <a:txBody>
                    <a:bodyPr lIns="36000" rIns="54000" tIns="36000" bIns="36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Stelz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5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JCM 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solidFill>
                      <a:srgbClr val="ffffff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99"/>
              </a:gs>
            </a:gsLst>
            <a:lin ang="135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00"/>
                </a:solidFill>
                <a:latin typeface="Comic Sans MS"/>
              </a:rPr>
              <a:t>Abbott (Artus) HBV – M1000 sp</a:t>
            </a:r>
            <a:br>
              <a:rPr sz="2800"/>
            </a:br>
            <a:r>
              <a:rPr b="1" i="1" lang="fr-FR" sz="2800" spc="-1" strike="noStrike">
                <a:solidFill>
                  <a:srgbClr val="ffffff"/>
                </a:solidFill>
                <a:latin typeface="Comic Sans MS"/>
              </a:rPr>
              <a:t>linéarité</a:t>
            </a:r>
            <a:endParaRPr b="1" i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569880" y="1206360"/>
            <a:ext cx="8058240" cy="514836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6827400" y="6566040"/>
            <a:ext cx="22806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ff"/>
                </a:solidFill>
                <a:latin typeface="Comic Sans MS"/>
              </a:rPr>
              <a:t>Thibault et al., 2005, EM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" descr=""/>
          <p:cNvPicPr/>
          <p:nvPr/>
        </p:nvPicPr>
        <p:blipFill>
          <a:blip r:embed="rId1"/>
          <a:srcRect l="0" t="0" r="16275" b="0"/>
          <a:stretch/>
        </p:blipFill>
        <p:spPr>
          <a:xfrm>
            <a:off x="501480" y="20520"/>
            <a:ext cx="3235320" cy="320364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2"/>
          <a:srcRect l="0" t="0" r="27023" b="0"/>
          <a:stretch/>
        </p:blipFill>
        <p:spPr>
          <a:xfrm>
            <a:off x="4844880" y="-39600"/>
            <a:ext cx="3210120" cy="320652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3"/>
          <a:srcRect l="0" t="0" r="16239" b="0"/>
          <a:stretch/>
        </p:blipFill>
        <p:spPr>
          <a:xfrm>
            <a:off x="503280" y="3359160"/>
            <a:ext cx="3235320" cy="3203640"/>
          </a:xfrm>
          <a:prstGeom prst="rect">
            <a:avLst/>
          </a:prstGeom>
          <a:ln w="0">
            <a:noFill/>
          </a:ln>
        </p:spPr>
      </p:pic>
      <p:pic>
        <p:nvPicPr>
          <p:cNvPr id="797" name="" descr=""/>
          <p:cNvPicPr/>
          <p:nvPr/>
        </p:nvPicPr>
        <p:blipFill>
          <a:blip r:embed="rId4"/>
          <a:srcRect l="0" t="0" r="25181" b="0"/>
          <a:stretch/>
        </p:blipFill>
        <p:spPr>
          <a:xfrm>
            <a:off x="4805280" y="3359160"/>
            <a:ext cx="3292560" cy="3206880"/>
          </a:xfrm>
          <a:prstGeom prst="rect">
            <a:avLst/>
          </a:prstGeom>
          <a:ln w="0">
            <a:noFill/>
          </a:ln>
        </p:spPr>
      </p:pic>
      <p:sp>
        <p:nvSpPr>
          <p:cNvPr id="798" name=""/>
          <p:cNvSpPr/>
          <p:nvPr/>
        </p:nvSpPr>
        <p:spPr>
          <a:xfrm>
            <a:off x="6827400" y="6566040"/>
            <a:ext cx="22806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ff"/>
                </a:solidFill>
                <a:latin typeface="Comic Sans MS"/>
              </a:rPr>
              <a:t>Thibault et al., 2005, EM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048120" y="3085200"/>
            <a:ext cx="2876400" cy="2840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2832120"/>
                <a:tab algn="l" pos="5664240"/>
                <a:tab algn="l" pos="849636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Monitor microplaque</a:t>
            </a:r>
            <a:r>
              <a:rPr b="1" i="1" lang="fr-FR" sz="1400" spc="-1" strike="noStrike">
                <a:solidFill>
                  <a:srgbClr val="ff0000"/>
                </a:solidFill>
                <a:latin typeface="Times New Roman"/>
              </a:rPr>
              <a:t> n=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046320" y="6360120"/>
            <a:ext cx="2876760" cy="2840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2832120"/>
                <a:tab algn="l" pos="5664240"/>
                <a:tab algn="l" pos="849636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Monitor Cobas</a:t>
            </a:r>
            <a:r>
              <a:rPr b="1" i="1" lang="fr-FR" sz="1400" spc="-1" strike="noStrike">
                <a:solidFill>
                  <a:srgbClr val="ff0000"/>
                </a:solidFill>
                <a:latin typeface="Times New Roman"/>
              </a:rPr>
              <a:t> n=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663000" y="1322280"/>
            <a:ext cx="10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= -0.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663000" y="4821120"/>
            <a:ext cx="10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= -0.6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77880" y="3348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99"/>
                </a:solidFill>
                <a:latin typeface="Comic Sans MS"/>
              </a:rPr>
              <a:t>VHB et PCR temps réel</a:t>
            </a:r>
            <a:endParaRPr b="1" i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484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lnSpc>
                <a:spcPct val="120000"/>
              </a:lnSpc>
              <a:spcAft>
                <a:spcPts val="9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Place de la mesure de la charge virale dans le suivi des hépatites B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1" marL="735480" indent="-282960" algn="just">
              <a:lnSpc>
                <a:spcPct val="12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Diagnostic - Pronosti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 algn="just">
              <a:lnSpc>
                <a:spcPct val="12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dications au traite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 algn="just">
              <a:lnSpc>
                <a:spcPct val="12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uivi thérapeutiqu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just">
              <a:lnSpc>
                <a:spcPct val="120000"/>
              </a:lnSpc>
              <a:spcAft>
                <a:spcPts val="9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Les tests disponibles et leurs performances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1" marL="735480" indent="-282960" algn="just">
              <a:lnSpc>
                <a:spcPct val="12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vant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 algn="just">
              <a:lnSpc>
                <a:spcPct val="12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Inconvéni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" descr=""/>
          <p:cNvPicPr/>
          <p:nvPr/>
        </p:nvPicPr>
        <p:blipFill>
          <a:blip r:embed="rId1"/>
          <a:stretch/>
        </p:blipFill>
        <p:spPr>
          <a:xfrm>
            <a:off x="700200" y="-23760"/>
            <a:ext cx="3863880" cy="3203640"/>
          </a:xfrm>
          <a:prstGeom prst="rect">
            <a:avLst/>
          </a:prstGeom>
          <a:ln w="0">
            <a:noFill/>
          </a:ln>
        </p:spPr>
      </p:pic>
      <p:pic>
        <p:nvPicPr>
          <p:cNvPr id="804" name="" descr=""/>
          <p:cNvPicPr/>
          <p:nvPr/>
        </p:nvPicPr>
        <p:blipFill>
          <a:blip r:embed="rId2"/>
          <a:srcRect l="0" t="0" r="24249" b="0"/>
          <a:stretch/>
        </p:blipFill>
        <p:spPr>
          <a:xfrm>
            <a:off x="5156280" y="-23760"/>
            <a:ext cx="3332160" cy="3206520"/>
          </a:xfrm>
          <a:prstGeom prst="rect">
            <a:avLst/>
          </a:prstGeom>
          <a:ln w="0">
            <a:noFill/>
          </a:ln>
        </p:spPr>
      </p:pic>
      <p:pic>
        <p:nvPicPr>
          <p:cNvPr id="805" name="" descr=""/>
          <p:cNvPicPr/>
          <p:nvPr/>
        </p:nvPicPr>
        <p:blipFill>
          <a:blip r:embed="rId3"/>
          <a:stretch/>
        </p:blipFill>
        <p:spPr>
          <a:xfrm>
            <a:off x="700200" y="3376440"/>
            <a:ext cx="3863880" cy="3203640"/>
          </a:xfrm>
          <a:prstGeom prst="rect">
            <a:avLst/>
          </a:prstGeom>
          <a:ln w="0">
            <a:noFill/>
          </a:ln>
        </p:spPr>
      </p:pic>
      <p:pic>
        <p:nvPicPr>
          <p:cNvPr id="806" name="" descr=""/>
          <p:cNvPicPr/>
          <p:nvPr/>
        </p:nvPicPr>
        <p:blipFill>
          <a:blip r:embed="rId4"/>
          <a:srcRect l="0" t="0" r="13151" b="0"/>
          <a:stretch/>
        </p:blipFill>
        <p:spPr>
          <a:xfrm>
            <a:off x="5145120" y="3375000"/>
            <a:ext cx="3355920" cy="3206880"/>
          </a:xfrm>
          <a:prstGeom prst="rect">
            <a:avLst/>
          </a:prstGeom>
          <a:ln w="0">
            <a:noFill/>
          </a:ln>
        </p:spPr>
      </p:pic>
      <p:sp>
        <p:nvSpPr>
          <p:cNvPr id="807" name=""/>
          <p:cNvSpPr/>
          <p:nvPr/>
        </p:nvSpPr>
        <p:spPr>
          <a:xfrm>
            <a:off x="3233880" y="3074040"/>
            <a:ext cx="2876400" cy="2840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2832120"/>
                <a:tab algn="l" pos="5664240"/>
                <a:tab algn="l" pos="849636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Cobas Taqman (HPS)</a:t>
            </a:r>
            <a:r>
              <a:rPr b="1" i="1" lang="fr-FR" sz="1400" spc="-1" strike="noStrike">
                <a:solidFill>
                  <a:srgbClr val="ff0000"/>
                </a:solidFill>
                <a:latin typeface="Times New Roman"/>
              </a:rPr>
              <a:t> n=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235320" y="6373080"/>
            <a:ext cx="2873520" cy="2840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99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2832120"/>
                <a:tab algn="l" pos="5664240"/>
                <a:tab algn="l" pos="849636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Times New Roman"/>
              </a:rPr>
              <a:t>Bayer Versant 3.0 </a:t>
            </a:r>
            <a:r>
              <a:rPr b="1" i="1" lang="fr-FR" sz="1400" spc="-1" strike="noStrike">
                <a:solidFill>
                  <a:srgbClr val="ff0000"/>
                </a:solidFill>
                <a:latin typeface="Times New Roman"/>
              </a:rPr>
              <a:t>n=1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827400" y="6566040"/>
            <a:ext cx="22806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ff"/>
                </a:solidFill>
                <a:latin typeface="Comic Sans MS"/>
              </a:rPr>
              <a:t>Thibault et al., 2005, EM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913920" y="4822920"/>
            <a:ext cx="10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= -1.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913920" y="1322280"/>
            <a:ext cx="10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= -0.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77880" y="227880"/>
            <a:ext cx="7772400" cy="7326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99"/>
              </a:gs>
            </a:gsLst>
            <a:lin ang="135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00"/>
                </a:solidFill>
                <a:latin typeface="Comic Sans MS"/>
              </a:rPr>
              <a:t>Etude sur 16 échantillons génotype F</a:t>
            </a:r>
            <a:br>
              <a:rPr sz="2400"/>
            </a:br>
            <a:r>
              <a:rPr b="1" i="1" lang="fr-FR" sz="1800" spc="-1" strike="noStrike">
                <a:solidFill>
                  <a:srgbClr val="ffffff"/>
                </a:solidFill>
                <a:latin typeface="Comic Sans MS"/>
              </a:rPr>
              <a:t>(S. Laperche - INTS)</a:t>
            </a:r>
            <a:endParaRPr b="1" i="1" lang="en-US" sz="18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813" name="" descr=""/>
          <p:cNvPicPr/>
          <p:nvPr/>
        </p:nvPicPr>
        <p:blipFill>
          <a:blip r:embed="rId1"/>
          <a:srcRect l="0" t="0" r="19029" b="0"/>
          <a:stretch/>
        </p:blipFill>
        <p:spPr>
          <a:xfrm>
            <a:off x="6116760" y="925560"/>
            <a:ext cx="2931840" cy="300348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/>
          <p:cNvPicPr/>
          <p:nvPr/>
        </p:nvPicPr>
        <p:blipFill>
          <a:blip r:embed="rId2"/>
          <a:srcRect l="0" t="0" r="20830" b="0"/>
          <a:stretch/>
        </p:blipFill>
        <p:spPr>
          <a:xfrm>
            <a:off x="3209760" y="925560"/>
            <a:ext cx="2867040" cy="3003480"/>
          </a:xfrm>
          <a:prstGeom prst="rect">
            <a:avLst/>
          </a:prstGeom>
          <a:ln w="0">
            <a:noFill/>
          </a:ln>
        </p:spPr>
      </p:pic>
      <p:pic>
        <p:nvPicPr>
          <p:cNvPr id="815" name="" descr=""/>
          <p:cNvPicPr/>
          <p:nvPr/>
        </p:nvPicPr>
        <p:blipFill>
          <a:blip r:embed="rId3"/>
          <a:srcRect l="0" t="0" r="20472" b="0"/>
          <a:stretch/>
        </p:blipFill>
        <p:spPr>
          <a:xfrm>
            <a:off x="271440" y="3854520"/>
            <a:ext cx="2879640" cy="3003480"/>
          </a:xfrm>
          <a:prstGeom prst="rect">
            <a:avLst/>
          </a:prstGeom>
          <a:ln w="0">
            <a:noFill/>
          </a:ln>
        </p:spPr>
      </p:pic>
      <p:sp>
        <p:nvSpPr>
          <p:cNvPr id="816" name=""/>
          <p:cNvSpPr/>
          <p:nvPr/>
        </p:nvSpPr>
        <p:spPr>
          <a:xfrm>
            <a:off x="6523200" y="6429240"/>
            <a:ext cx="23889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00ff"/>
                </a:solidFill>
                <a:latin typeface="Comic Sans MS"/>
              </a:rPr>
              <a:t>Thibault et al., 2005, EM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4"/>
          <a:srcRect l="0" t="0" r="19029" b="0"/>
          <a:stretch/>
        </p:blipFill>
        <p:spPr>
          <a:xfrm>
            <a:off x="239760" y="925560"/>
            <a:ext cx="2932200" cy="3003480"/>
          </a:xfrm>
          <a:prstGeom prst="rect">
            <a:avLst/>
          </a:prstGeom>
          <a:ln w="0">
            <a:noFill/>
          </a:ln>
        </p:spPr>
      </p:pic>
      <p:sp>
        <p:nvSpPr>
          <p:cNvPr id="818" name=""/>
          <p:cNvSpPr/>
          <p:nvPr/>
        </p:nvSpPr>
        <p:spPr>
          <a:xfrm>
            <a:off x="3352680" y="4195800"/>
            <a:ext cx="5562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Confirmation d'une sous quantification des VHB de génotype F par le Co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Quantification par excès du Cobas Taqman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onne corrélation avec b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77880" y="3348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Comic Sans MS"/>
              </a:rPr>
              <a:t>Conclusions</a:t>
            </a:r>
            <a:endParaRPr b="1" i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19040" y="880560"/>
            <a:ext cx="8469360" cy="60717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2520" indent="-182520" algn="just">
              <a:lnSpc>
                <a:spcPct val="120000"/>
              </a:lnSpc>
              <a:spcAft>
                <a:spcPts val="1125"/>
              </a:spcAft>
              <a:buClr>
                <a:srgbClr val="333333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33"/>
                </a:solidFill>
                <a:latin typeface="Comic Sans MS"/>
              </a:rPr>
              <a:t>Les travaux récents démontrent </a:t>
            </a:r>
            <a:r>
              <a:rPr b="1" lang="fr-FR" sz="1800" spc="-1" strike="noStrike">
                <a:solidFill>
                  <a:srgbClr val="000099"/>
                </a:solidFill>
                <a:latin typeface="Comic Sans MS"/>
              </a:rPr>
              <a:t>l'importance de la charge virale</a:t>
            </a:r>
            <a:r>
              <a:rPr b="0" lang="fr-FR" sz="1800" spc="-1" strike="noStrike">
                <a:solidFill>
                  <a:srgbClr val="333333"/>
                </a:solidFill>
                <a:latin typeface="Comic Sans MS"/>
              </a:rPr>
              <a:t> du VHB dans </a:t>
            </a:r>
            <a:r>
              <a:rPr b="1" lang="fr-FR" sz="1800" spc="-1" strike="noStrike">
                <a:solidFill>
                  <a:srgbClr val="000099"/>
                </a:solidFill>
                <a:latin typeface="Comic Sans MS"/>
              </a:rPr>
              <a:t>l'évolution de la maladie.</a:t>
            </a:r>
            <a:endParaRPr b="0" lang="en-US" sz="1800" spc="-1" strike="noStrike">
              <a:solidFill>
                <a:srgbClr val="000099"/>
              </a:solidFill>
              <a:latin typeface="Comic Sans MS"/>
            </a:endParaRPr>
          </a:p>
          <a:p>
            <a:pPr marL="182520" indent="-182520" algn="just">
              <a:lnSpc>
                <a:spcPct val="120000"/>
              </a:lnSpc>
              <a:spcAft>
                <a:spcPts val="1125"/>
              </a:spcAft>
              <a:buClr>
                <a:srgbClr val="333333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33"/>
                </a:solidFill>
                <a:latin typeface="Comic Sans MS"/>
              </a:rPr>
              <a:t>La détermination de la charge virale permet de poser </a:t>
            </a:r>
            <a:r>
              <a:rPr b="1" lang="fr-FR" sz="1800" spc="-1" strike="noStrike">
                <a:solidFill>
                  <a:srgbClr val="000099"/>
                </a:solidFill>
                <a:latin typeface="Comic Sans MS"/>
              </a:rPr>
              <a:t>l'indication au traitement</a:t>
            </a:r>
            <a:r>
              <a:rPr b="0" lang="fr-FR" sz="1800" spc="-1" strike="noStrike">
                <a:solidFill>
                  <a:srgbClr val="333333"/>
                </a:solidFill>
                <a:latin typeface="Comic Sans MS"/>
              </a:rPr>
              <a:t> (en complément du bilan hépatique et de la clinique).</a:t>
            </a:r>
            <a:endParaRPr b="0" lang="en-US" sz="1800" spc="-1" strike="noStrike">
              <a:solidFill>
                <a:srgbClr val="000099"/>
              </a:solidFill>
              <a:latin typeface="Comic Sans MS"/>
            </a:endParaRPr>
          </a:p>
          <a:p>
            <a:pPr marL="182520" indent="-182520" algn="just">
              <a:lnSpc>
                <a:spcPct val="120000"/>
              </a:lnSpc>
              <a:spcAft>
                <a:spcPts val="1125"/>
              </a:spcAft>
              <a:buClr>
                <a:srgbClr val="333333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33"/>
                </a:solidFill>
                <a:latin typeface="Comic Sans MS"/>
              </a:rPr>
              <a:t>Le </a:t>
            </a:r>
            <a:r>
              <a:rPr b="1" lang="fr-FR" sz="1800" spc="-1" strike="noStrike">
                <a:solidFill>
                  <a:srgbClr val="000099"/>
                </a:solidFill>
                <a:latin typeface="Comic Sans MS"/>
              </a:rPr>
              <a:t>suivi de la charge virale</a:t>
            </a:r>
            <a:r>
              <a:rPr b="0" lang="fr-FR" sz="1800" spc="-1" strike="noStrike">
                <a:solidFill>
                  <a:srgbClr val="333333"/>
                </a:solidFill>
                <a:latin typeface="Comic Sans MS"/>
              </a:rPr>
              <a:t> sous traitement est indispensable pour obtenir les meilleurs chances de succès thérapeutique.</a:t>
            </a:r>
            <a:endParaRPr b="0" lang="en-US" sz="1800" spc="-1" strike="noStrike">
              <a:solidFill>
                <a:srgbClr val="000099"/>
              </a:solidFill>
              <a:latin typeface="Comic Sans MS"/>
            </a:endParaRPr>
          </a:p>
          <a:p>
            <a:pPr marL="182520" indent="-182520" algn="just">
              <a:lnSpc>
                <a:spcPct val="120000"/>
              </a:lnSpc>
              <a:spcAft>
                <a:spcPts val="1125"/>
              </a:spcAft>
              <a:buClr>
                <a:srgbClr val="333333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33"/>
                </a:solidFill>
                <a:latin typeface="Comic Sans MS"/>
              </a:rPr>
              <a:t>Les tests de PCR en temps réel commercialisés à ce jour ont une </a:t>
            </a:r>
            <a:r>
              <a:rPr b="1" lang="fr-FR" sz="1800" spc="-1" strike="noStrike">
                <a:solidFill>
                  <a:srgbClr val="000099"/>
                </a:solidFill>
                <a:latin typeface="Comic Sans MS"/>
              </a:rPr>
              <a:t>sensibilité</a:t>
            </a:r>
            <a:r>
              <a:rPr b="0" lang="fr-FR" sz="1800" spc="-1" strike="noStrike">
                <a:solidFill>
                  <a:srgbClr val="333333"/>
                </a:solidFill>
                <a:latin typeface="Comic Sans MS"/>
              </a:rPr>
              <a:t> et une </a:t>
            </a:r>
            <a:r>
              <a:rPr b="1" lang="fr-FR" sz="1800" spc="-1" strike="noStrike">
                <a:solidFill>
                  <a:srgbClr val="333333"/>
                </a:solidFill>
                <a:latin typeface="Comic Sans MS"/>
              </a:rPr>
              <a:t>linéarité</a:t>
            </a:r>
            <a:r>
              <a:rPr b="0" lang="fr-FR" sz="1800" spc="-1" strike="noStrike">
                <a:solidFill>
                  <a:srgbClr val="333333"/>
                </a:solidFill>
                <a:latin typeface="Comic Sans MS"/>
              </a:rPr>
              <a:t> adaptées au suivi des hépatites B et sont bien </a:t>
            </a:r>
            <a:r>
              <a:rPr b="1" lang="fr-FR" sz="1800" spc="-1" strike="noStrike">
                <a:solidFill>
                  <a:srgbClr val="000099"/>
                </a:solidFill>
                <a:latin typeface="Comic Sans MS"/>
              </a:rPr>
              <a:t>corrélés</a:t>
            </a:r>
            <a:r>
              <a:rPr b="0" lang="fr-FR" sz="1800" spc="-1" strike="noStrike">
                <a:solidFill>
                  <a:srgbClr val="333333"/>
                </a:solidFill>
                <a:latin typeface="Comic Sans MS"/>
              </a:rPr>
              <a:t> aux résultats obtenus avec les tests PCR actuels. Les </a:t>
            </a:r>
            <a:r>
              <a:rPr b="1" lang="fr-FR" sz="1800" spc="-1" strike="noStrike">
                <a:solidFill>
                  <a:srgbClr val="000099"/>
                </a:solidFill>
                <a:latin typeface="Comic Sans MS"/>
              </a:rPr>
              <a:t>différences de quantification</a:t>
            </a:r>
            <a:r>
              <a:rPr b="0" lang="fr-FR" sz="1800" spc="-1" strike="noStrike">
                <a:solidFill>
                  <a:srgbClr val="333333"/>
                </a:solidFill>
                <a:latin typeface="Comic Sans MS"/>
              </a:rPr>
              <a:t> entre ces tests sont faibles (absence de relevance clinique).</a:t>
            </a:r>
            <a:endParaRPr b="0" lang="en-US" sz="1800" spc="-1" strike="noStrike">
              <a:solidFill>
                <a:srgbClr val="000099"/>
              </a:solidFill>
              <a:latin typeface="Comic Sans MS"/>
            </a:endParaRPr>
          </a:p>
          <a:p>
            <a:pPr marL="182520" indent="-182520" algn="just">
              <a:lnSpc>
                <a:spcPct val="120000"/>
              </a:lnSpc>
              <a:spcAft>
                <a:spcPts val="1125"/>
              </a:spcAft>
              <a:buClr>
                <a:srgbClr val="333333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33"/>
                </a:solidFill>
                <a:latin typeface="Comic Sans MS"/>
              </a:rPr>
              <a:t>Les écarts obtenus entre les techniques par hybridation et celles par amplification de la cible, justifient la recommandation de </a:t>
            </a:r>
            <a:r>
              <a:rPr b="1" lang="fr-FR" sz="1800" spc="-1" strike="noStrike">
                <a:solidFill>
                  <a:srgbClr val="000099"/>
                </a:solidFill>
                <a:latin typeface="Comic Sans MS"/>
              </a:rPr>
              <a:t>suivre un patient avec une technique</a:t>
            </a:r>
            <a:r>
              <a:rPr b="0" lang="fr-FR" sz="1800" spc="-1" strike="noStrike">
                <a:solidFill>
                  <a:srgbClr val="333333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000099"/>
                </a:solidFill>
                <a:latin typeface="Comic Sans MS"/>
              </a:rPr>
              <a:t>unique</a:t>
            </a:r>
            <a:r>
              <a:rPr b="0" lang="fr-FR" sz="1800" spc="-1" strike="noStrike">
                <a:solidFill>
                  <a:srgbClr val="333333"/>
                </a:solidFill>
                <a:latin typeface="Comic Sans MS"/>
              </a:rPr>
              <a:t> au cours du temps.</a:t>
            </a:r>
            <a:endParaRPr b="0" lang="en-US" sz="1800" spc="-1" strike="noStrike">
              <a:solidFill>
                <a:srgbClr val="000099"/>
              </a:solidFill>
              <a:latin typeface="Comic Sans MS"/>
            </a:endParaRPr>
          </a:p>
          <a:p>
            <a:pPr marL="182520" indent="-182520" algn="just">
              <a:lnSpc>
                <a:spcPct val="120000"/>
              </a:lnSpc>
              <a:spcAft>
                <a:spcPts val="1125"/>
              </a:spcAft>
              <a:buClr>
                <a:srgbClr val="333333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33"/>
                </a:solidFill>
                <a:latin typeface="Comic Sans MS"/>
              </a:rPr>
              <a:t>Des évaluations complémentaires sont utiles pour </a:t>
            </a:r>
            <a:r>
              <a:rPr b="1" lang="fr-FR" sz="1800" spc="-1" strike="noStrike">
                <a:solidFill>
                  <a:srgbClr val="000099"/>
                </a:solidFill>
                <a:latin typeface="Comic Sans MS"/>
              </a:rPr>
              <a:t>confirmer</a:t>
            </a:r>
            <a:r>
              <a:rPr b="0" lang="fr-FR" sz="1800" spc="-1" strike="noStrike">
                <a:solidFill>
                  <a:srgbClr val="333333"/>
                </a:solidFill>
                <a:latin typeface="Comic Sans MS"/>
              </a:rPr>
              <a:t> la </a:t>
            </a:r>
            <a:r>
              <a:rPr b="1" lang="fr-FR" sz="1800" spc="-1" strike="noStrike">
                <a:solidFill>
                  <a:srgbClr val="000099"/>
                </a:solidFill>
                <a:latin typeface="Comic Sans MS"/>
              </a:rPr>
              <a:t>quantification similaire</a:t>
            </a:r>
            <a:r>
              <a:rPr b="0" lang="fr-FR" sz="1800" spc="-1" strike="noStrike">
                <a:solidFill>
                  <a:srgbClr val="333333"/>
                </a:solidFill>
                <a:latin typeface="Comic Sans MS"/>
              </a:rPr>
              <a:t> des différents génotypes (sous types) du VHB.</a:t>
            </a:r>
            <a:endParaRPr b="0" lang="en-US" sz="1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77880" y="274320"/>
            <a:ext cx="7772400" cy="4582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50000">
                <a:srgbClr val="003399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00"/>
                </a:solidFill>
                <a:latin typeface="Comic Sans MS"/>
              </a:rPr>
              <a:t>Evolution de la charge virale et hépatite B</a:t>
            </a:r>
            <a:endParaRPr b="1" i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01520" y="1984320"/>
          <a:ext cx="835344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1984320"/>
                    <a:ext cx="835344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7223040" y="6281640"/>
            <a:ext cx="1181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66cc"/>
                </a:solidFill>
                <a:latin typeface="Verdana"/>
              </a:rPr>
              <a:t>Tem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898520" y="2322360"/>
            <a:ext cx="986760" cy="2381760"/>
            <a:chOff x="4898520" y="2322360"/>
            <a:chExt cx="986760" cy="2381760"/>
          </a:xfrm>
        </p:grpSpPr>
        <p:sp>
          <p:nvSpPr>
            <p:cNvPr id="211" name=""/>
            <p:cNvSpPr/>
            <p:nvPr/>
          </p:nvSpPr>
          <p:spPr>
            <a:xfrm>
              <a:off x="4965840" y="2322360"/>
              <a:ext cx="85140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Ag HB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61520" y="3139920"/>
              <a:ext cx="861840" cy="337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3300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Ag H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98520" y="3957480"/>
              <a:ext cx="98676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IgM H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916520" y="4366800"/>
              <a:ext cx="9518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IgG H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66920" y="3547800"/>
              <a:ext cx="849600" cy="337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66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Ac H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717360" y="1314360"/>
            <a:ext cx="3246840" cy="3389760"/>
            <a:chOff x="3717360" y="1314360"/>
            <a:chExt cx="3246840" cy="3389760"/>
          </a:xfrm>
        </p:grpSpPr>
        <p:sp>
          <p:nvSpPr>
            <p:cNvPr id="217" name=""/>
            <p:cNvSpPr/>
            <p:nvPr/>
          </p:nvSpPr>
          <p:spPr>
            <a:xfrm>
              <a:off x="4623480" y="1314360"/>
              <a:ext cx="12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Chroniq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3717360" y="2322360"/>
              <a:ext cx="986760" cy="2381760"/>
              <a:chOff x="3717360" y="2322360"/>
              <a:chExt cx="986760" cy="2381760"/>
            </a:xfrm>
          </p:grpSpPr>
          <p:sp>
            <p:nvSpPr>
              <p:cNvPr id="219" name=""/>
              <p:cNvSpPr/>
              <p:nvPr/>
            </p:nvSpPr>
            <p:spPr>
              <a:xfrm>
                <a:off x="3785040" y="2322360"/>
                <a:ext cx="851400" cy="3373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Times New Roman"/>
                  </a:rPr>
                  <a:t>Ag HB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780720" y="3139920"/>
                <a:ext cx="861840" cy="33732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Times New Roman"/>
                  </a:rPr>
                  <a:t>Ag HB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717360" y="3957480"/>
                <a:ext cx="986760" cy="337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9933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Times New Roman"/>
                  </a:rPr>
                  <a:t>IgM HB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735720" y="4366800"/>
                <a:ext cx="95184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Times New Roman"/>
                  </a:rPr>
                  <a:t>IgG HB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3717720" y="1866600"/>
              <a:ext cx="3246480" cy="88920"/>
            </a:xfrm>
            <a:prstGeom prst="rect">
              <a:avLst/>
            </a:prstGeom>
            <a:solidFill>
              <a:srgbClr val="66ff33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7251120" y="1327320"/>
            <a:ext cx="986760" cy="3377160"/>
            <a:chOff x="7251120" y="1327320"/>
            <a:chExt cx="986760" cy="3377160"/>
          </a:xfrm>
        </p:grpSpPr>
        <p:sp>
          <p:nvSpPr>
            <p:cNvPr id="225" name=""/>
            <p:cNvSpPr/>
            <p:nvPr/>
          </p:nvSpPr>
          <p:spPr>
            <a:xfrm>
              <a:off x="7304760" y="1327320"/>
              <a:ext cx="85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Guéri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7251120" y="1847880"/>
              <a:ext cx="986760" cy="2856600"/>
              <a:chOff x="7251120" y="1847880"/>
              <a:chExt cx="986760" cy="2856600"/>
            </a:xfrm>
          </p:grpSpPr>
          <p:grpSp>
            <p:nvGrpSpPr>
              <p:cNvPr id="227" name=""/>
              <p:cNvGrpSpPr/>
              <p:nvPr/>
            </p:nvGrpSpPr>
            <p:grpSpPr>
              <a:xfrm>
                <a:off x="7251120" y="2322720"/>
                <a:ext cx="986760" cy="2381760"/>
                <a:chOff x="7251120" y="2322720"/>
                <a:chExt cx="986760" cy="238176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7319160" y="2322720"/>
                  <a:ext cx="851400" cy="337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0000"/>
                      </a:solidFill>
                      <a:latin typeface="Times New Roman"/>
                    </a:rPr>
                    <a:t>Ag HB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314480" y="3132360"/>
                  <a:ext cx="861840" cy="337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0000"/>
                      </a:solidFill>
                      <a:latin typeface="Times New Roman"/>
                    </a:rPr>
                    <a:t>Ag HB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251120" y="3970440"/>
                  <a:ext cx="986760" cy="3373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0000"/>
                      </a:solidFill>
                      <a:latin typeface="Times New Roman"/>
                    </a:rPr>
                    <a:t>IgM HB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269480" y="4367160"/>
                  <a:ext cx="95184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0000"/>
                      </a:solidFill>
                      <a:latin typeface="Times New Roman"/>
                    </a:rPr>
                    <a:t>IgG HB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319880" y="3543480"/>
                  <a:ext cx="849600" cy="337320"/>
                </a:xfrm>
                <a:prstGeom prst="rect">
                  <a:avLst/>
                </a:prstGeom>
                <a:solidFill>
                  <a:srgbClr val="ff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0000"/>
                      </a:solidFill>
                      <a:latin typeface="Times New Roman"/>
                    </a:rPr>
                    <a:t>Ac HB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326000" y="2721240"/>
                  <a:ext cx="839160" cy="33732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ffff00"/>
                      </a:solidFill>
                      <a:latin typeface="Times New Roman"/>
                    </a:rPr>
                    <a:t>Ac HB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" name=""/>
              <p:cNvSpPr/>
              <p:nvPr/>
            </p:nvSpPr>
            <p:spPr>
              <a:xfrm>
                <a:off x="7372440" y="1847880"/>
                <a:ext cx="668160" cy="88920"/>
              </a:xfrm>
              <a:prstGeom prst="rect">
                <a:avLst/>
              </a:prstGeom>
              <a:solidFill>
                <a:srgbClr val="ff66ff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5" name=""/>
          <p:cNvGrpSpPr/>
          <p:nvPr/>
        </p:nvGrpSpPr>
        <p:grpSpPr>
          <a:xfrm>
            <a:off x="2167920" y="820800"/>
            <a:ext cx="3525120" cy="3883320"/>
            <a:chOff x="2167920" y="820800"/>
            <a:chExt cx="3525120" cy="3883320"/>
          </a:xfrm>
        </p:grpSpPr>
        <p:grpSp>
          <p:nvGrpSpPr>
            <p:cNvPr id="236" name=""/>
            <p:cNvGrpSpPr/>
            <p:nvPr/>
          </p:nvGrpSpPr>
          <p:grpSpPr>
            <a:xfrm>
              <a:off x="2167920" y="1314360"/>
              <a:ext cx="986760" cy="3389760"/>
              <a:chOff x="2167920" y="1314360"/>
              <a:chExt cx="986760" cy="3389760"/>
            </a:xfrm>
          </p:grpSpPr>
          <p:grpSp>
            <p:nvGrpSpPr>
              <p:cNvPr id="237" name=""/>
              <p:cNvGrpSpPr/>
              <p:nvPr/>
            </p:nvGrpSpPr>
            <p:grpSpPr>
              <a:xfrm>
                <a:off x="2167920" y="2322360"/>
                <a:ext cx="986760" cy="2381760"/>
                <a:chOff x="2167920" y="2322360"/>
                <a:chExt cx="986760" cy="238176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2235240" y="2322360"/>
                  <a:ext cx="851400" cy="33732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0000"/>
                      </a:solidFill>
                      <a:latin typeface="Times New Roman"/>
                    </a:rPr>
                    <a:t>Ag HB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230920" y="3139920"/>
                  <a:ext cx="861840" cy="337320"/>
                </a:xfrm>
                <a:prstGeom prst="rect">
                  <a:avLst/>
                </a:prstGeom>
                <a:solidFill>
                  <a:srgbClr val="ff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0000"/>
                      </a:solidFill>
                      <a:latin typeface="Times New Roman"/>
                    </a:rPr>
                    <a:t>Ag HB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167920" y="3957480"/>
                  <a:ext cx="986760" cy="33732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0000"/>
                      </a:solidFill>
                      <a:latin typeface="Times New Roman"/>
                    </a:rPr>
                    <a:t>IgM HB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185920" y="4366800"/>
                  <a:ext cx="95184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0000"/>
                      </a:solidFill>
                      <a:latin typeface="Times New Roman"/>
                    </a:rPr>
                    <a:t>IgG HB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>
                <a:off x="2300040" y="1314360"/>
                <a:ext cx="752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Times New Roman"/>
                  </a:rPr>
                  <a:t>Aiguë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303280" y="1847520"/>
                <a:ext cx="668520" cy="88920"/>
              </a:xfrm>
              <a:prstGeom prst="rect">
                <a:avLst/>
              </a:prstGeom>
              <a:solidFill>
                <a:srgbClr val="ff3399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4622400" y="820800"/>
              <a:ext cx="107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2000" spc="-1" strike="noStrike">
                  <a:solidFill>
                    <a:srgbClr val="ffff00"/>
                  </a:solidFill>
                  <a:latin typeface="Times New Roman"/>
                </a:rPr>
                <a:t>Hépati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2359080" y="1219320"/>
            <a:ext cx="5740200" cy="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079320" y="2322360"/>
            <a:ext cx="986760" cy="2381760"/>
            <a:chOff x="6079320" y="2322360"/>
            <a:chExt cx="986760" cy="2381760"/>
          </a:xfrm>
        </p:grpSpPr>
        <p:sp>
          <p:nvSpPr>
            <p:cNvPr id="247" name=""/>
            <p:cNvSpPr/>
            <p:nvPr/>
          </p:nvSpPr>
          <p:spPr>
            <a:xfrm>
              <a:off x="6147360" y="2322360"/>
              <a:ext cx="851400" cy="337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Ag HB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142680" y="3139920"/>
              <a:ext cx="86184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Ag H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79320" y="3957480"/>
              <a:ext cx="98676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IgM H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97680" y="4366800"/>
              <a:ext cx="9518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IgG H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148080" y="3547800"/>
              <a:ext cx="849600" cy="33732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Ac H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912240" y="1306440"/>
            <a:ext cx="1245960" cy="4751640"/>
            <a:chOff x="912240" y="1306440"/>
            <a:chExt cx="1245960" cy="4751640"/>
          </a:xfrm>
        </p:grpSpPr>
        <p:grpSp>
          <p:nvGrpSpPr>
            <p:cNvPr id="253" name=""/>
            <p:cNvGrpSpPr/>
            <p:nvPr/>
          </p:nvGrpSpPr>
          <p:grpSpPr>
            <a:xfrm>
              <a:off x="912240" y="1306440"/>
              <a:ext cx="1245960" cy="630360"/>
              <a:chOff x="912240" y="1306440"/>
              <a:chExt cx="1245960" cy="630360"/>
            </a:xfrm>
          </p:grpSpPr>
          <p:sp>
            <p:nvSpPr>
              <p:cNvPr id="254" name=""/>
              <p:cNvSpPr/>
              <p:nvPr/>
            </p:nvSpPr>
            <p:spPr>
              <a:xfrm>
                <a:off x="1143000" y="1847880"/>
                <a:ext cx="668160" cy="88920"/>
              </a:xfrm>
              <a:prstGeom prst="rect">
                <a:avLst/>
              </a:prstGeom>
              <a:solidFill>
                <a:srgbClr val="009999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912240" y="1306440"/>
                <a:ext cx="124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Times New Roman"/>
                  </a:rPr>
                  <a:t>Incub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1262520" y="5460840"/>
              <a:ext cx="512640" cy="597240"/>
            </a:xfrm>
            <a:custGeom>
              <a:avLst/>
              <a:gdLst/>
              <a:ahLst/>
              <a:rect l="l" t="t" r="r" b="b"/>
              <a:pathLst>
                <a:path w="536" h="400">
                  <a:moveTo>
                    <a:pt x="0" y="400"/>
                  </a:moveTo>
                  <a:lnTo>
                    <a:pt x="264" y="232"/>
                  </a:lnTo>
                  <a:lnTo>
                    <a:pt x="536" y="0"/>
                  </a:lnTo>
                </a:path>
              </a:pathLst>
            </a:custGeom>
            <a:noFill/>
            <a:ln cap="sq"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774800" y="2044800"/>
            <a:ext cx="1689120" cy="3898800"/>
          </a:xfrm>
          <a:custGeom>
            <a:avLst/>
            <a:gdLst/>
            <a:ahLst/>
            <a:rect l="l" t="t" r="r" b="b"/>
            <a:pathLst>
              <a:path w="1064" h="2456">
                <a:moveTo>
                  <a:pt x="0" y="2152"/>
                </a:moveTo>
                <a:cubicBezTo>
                  <a:pt x="23" y="2100"/>
                  <a:pt x="109" y="2036"/>
                  <a:pt x="144" y="1840"/>
                </a:cubicBezTo>
                <a:cubicBezTo>
                  <a:pt x="179" y="1644"/>
                  <a:pt x="187" y="1224"/>
                  <a:pt x="208" y="976"/>
                </a:cubicBezTo>
                <a:cubicBezTo>
                  <a:pt x="229" y="728"/>
                  <a:pt x="229" y="499"/>
                  <a:pt x="272" y="352"/>
                </a:cubicBezTo>
                <a:cubicBezTo>
                  <a:pt x="315" y="205"/>
                  <a:pt x="385" y="0"/>
                  <a:pt x="464" y="96"/>
                </a:cubicBezTo>
                <a:cubicBezTo>
                  <a:pt x="543" y="192"/>
                  <a:pt x="688" y="735"/>
                  <a:pt x="744" y="928"/>
                </a:cubicBezTo>
                <a:cubicBezTo>
                  <a:pt x="800" y="1121"/>
                  <a:pt x="773" y="1083"/>
                  <a:pt x="800" y="1256"/>
                </a:cubicBezTo>
                <a:cubicBezTo>
                  <a:pt x="827" y="1429"/>
                  <a:pt x="880" y="1783"/>
                  <a:pt x="904" y="1968"/>
                </a:cubicBezTo>
                <a:cubicBezTo>
                  <a:pt x="928" y="2153"/>
                  <a:pt x="917" y="2287"/>
                  <a:pt x="944" y="2368"/>
                </a:cubicBezTo>
                <a:cubicBezTo>
                  <a:pt x="971" y="2449"/>
                  <a:pt x="1044" y="2441"/>
                  <a:pt x="1064" y="2456"/>
                </a:cubicBezTo>
              </a:path>
            </a:pathLst>
          </a:custGeom>
          <a:noFill/>
          <a:ln cap="sq" w="381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87400" y="2052720"/>
            <a:ext cx="2997360" cy="3408120"/>
          </a:xfrm>
          <a:custGeom>
            <a:avLst/>
            <a:gdLst/>
            <a:ahLst/>
            <a:rect l="l" t="t" r="r" b="b"/>
            <a:pathLst>
              <a:path w="1888" h="2147">
                <a:moveTo>
                  <a:pt x="0" y="2147"/>
                </a:moveTo>
                <a:cubicBezTo>
                  <a:pt x="16" y="2083"/>
                  <a:pt x="72" y="1954"/>
                  <a:pt x="96" y="1771"/>
                </a:cubicBezTo>
                <a:cubicBezTo>
                  <a:pt x="120" y="1588"/>
                  <a:pt x="129" y="1288"/>
                  <a:pt x="144" y="1051"/>
                </a:cubicBezTo>
                <a:cubicBezTo>
                  <a:pt x="159" y="814"/>
                  <a:pt x="136" y="515"/>
                  <a:pt x="184" y="347"/>
                </a:cubicBezTo>
                <a:cubicBezTo>
                  <a:pt x="232" y="179"/>
                  <a:pt x="349" y="86"/>
                  <a:pt x="432" y="43"/>
                </a:cubicBezTo>
                <a:cubicBezTo>
                  <a:pt x="515" y="0"/>
                  <a:pt x="597" y="40"/>
                  <a:pt x="680" y="91"/>
                </a:cubicBezTo>
                <a:cubicBezTo>
                  <a:pt x="763" y="142"/>
                  <a:pt x="843" y="292"/>
                  <a:pt x="928" y="347"/>
                </a:cubicBezTo>
                <a:cubicBezTo>
                  <a:pt x="1013" y="402"/>
                  <a:pt x="1101" y="407"/>
                  <a:pt x="1192" y="419"/>
                </a:cubicBezTo>
                <a:cubicBezTo>
                  <a:pt x="1283" y="431"/>
                  <a:pt x="1389" y="422"/>
                  <a:pt x="1472" y="419"/>
                </a:cubicBezTo>
                <a:cubicBezTo>
                  <a:pt x="1555" y="416"/>
                  <a:pt x="1619" y="392"/>
                  <a:pt x="1688" y="403"/>
                </a:cubicBezTo>
                <a:cubicBezTo>
                  <a:pt x="1757" y="414"/>
                  <a:pt x="1846" y="469"/>
                  <a:pt x="1888" y="487"/>
                </a:cubicBezTo>
              </a:path>
            </a:pathLst>
          </a:custGeom>
          <a:noFill/>
          <a:ln cap="sq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84760" y="2635200"/>
            <a:ext cx="1193760" cy="1714680"/>
          </a:xfrm>
          <a:custGeom>
            <a:avLst/>
            <a:gdLst/>
            <a:ahLst/>
            <a:rect l="l" t="t" r="r" b="b"/>
            <a:pathLst>
              <a:path w="752" h="1080">
                <a:moveTo>
                  <a:pt x="0" y="120"/>
                </a:moveTo>
                <a:cubicBezTo>
                  <a:pt x="13" y="138"/>
                  <a:pt x="56" y="185"/>
                  <a:pt x="72" y="228"/>
                </a:cubicBezTo>
                <a:cubicBezTo>
                  <a:pt x="88" y="271"/>
                  <a:pt x="91" y="312"/>
                  <a:pt x="96" y="380"/>
                </a:cubicBezTo>
                <a:cubicBezTo>
                  <a:pt x="101" y="448"/>
                  <a:pt x="99" y="560"/>
                  <a:pt x="104" y="636"/>
                </a:cubicBezTo>
                <a:cubicBezTo>
                  <a:pt x="109" y="712"/>
                  <a:pt x="123" y="773"/>
                  <a:pt x="128" y="836"/>
                </a:cubicBezTo>
                <a:cubicBezTo>
                  <a:pt x="133" y="899"/>
                  <a:pt x="124" y="975"/>
                  <a:pt x="136" y="1012"/>
                </a:cubicBezTo>
                <a:cubicBezTo>
                  <a:pt x="148" y="1049"/>
                  <a:pt x="180" y="1080"/>
                  <a:pt x="200" y="1060"/>
                </a:cubicBezTo>
                <a:cubicBezTo>
                  <a:pt x="220" y="1040"/>
                  <a:pt x="244" y="981"/>
                  <a:pt x="256" y="892"/>
                </a:cubicBezTo>
                <a:cubicBezTo>
                  <a:pt x="268" y="803"/>
                  <a:pt x="269" y="631"/>
                  <a:pt x="272" y="524"/>
                </a:cubicBezTo>
                <a:cubicBezTo>
                  <a:pt x="275" y="417"/>
                  <a:pt x="272" y="317"/>
                  <a:pt x="272" y="252"/>
                </a:cubicBezTo>
                <a:cubicBezTo>
                  <a:pt x="272" y="187"/>
                  <a:pt x="265" y="168"/>
                  <a:pt x="272" y="132"/>
                </a:cubicBezTo>
                <a:cubicBezTo>
                  <a:pt x="279" y="96"/>
                  <a:pt x="295" y="44"/>
                  <a:pt x="312" y="36"/>
                </a:cubicBezTo>
                <a:cubicBezTo>
                  <a:pt x="329" y="28"/>
                  <a:pt x="361" y="48"/>
                  <a:pt x="376" y="84"/>
                </a:cubicBezTo>
                <a:cubicBezTo>
                  <a:pt x="391" y="120"/>
                  <a:pt x="393" y="115"/>
                  <a:pt x="400" y="252"/>
                </a:cubicBezTo>
                <a:cubicBezTo>
                  <a:pt x="407" y="389"/>
                  <a:pt x="411" y="773"/>
                  <a:pt x="416" y="908"/>
                </a:cubicBezTo>
                <a:cubicBezTo>
                  <a:pt x="421" y="1043"/>
                  <a:pt x="416" y="1048"/>
                  <a:pt x="432" y="1060"/>
                </a:cubicBezTo>
                <a:cubicBezTo>
                  <a:pt x="448" y="1072"/>
                  <a:pt x="499" y="1049"/>
                  <a:pt x="512" y="980"/>
                </a:cubicBezTo>
                <a:cubicBezTo>
                  <a:pt x="525" y="911"/>
                  <a:pt x="509" y="764"/>
                  <a:pt x="512" y="644"/>
                </a:cubicBezTo>
                <a:cubicBezTo>
                  <a:pt x="515" y="524"/>
                  <a:pt x="525" y="356"/>
                  <a:pt x="528" y="260"/>
                </a:cubicBezTo>
                <a:cubicBezTo>
                  <a:pt x="531" y="164"/>
                  <a:pt x="513" y="99"/>
                  <a:pt x="528" y="68"/>
                </a:cubicBezTo>
                <a:cubicBezTo>
                  <a:pt x="543" y="37"/>
                  <a:pt x="599" y="0"/>
                  <a:pt x="616" y="76"/>
                </a:cubicBezTo>
                <a:cubicBezTo>
                  <a:pt x="633" y="152"/>
                  <a:pt x="628" y="407"/>
                  <a:pt x="632" y="524"/>
                </a:cubicBezTo>
                <a:cubicBezTo>
                  <a:pt x="636" y="641"/>
                  <a:pt x="620" y="731"/>
                  <a:pt x="640" y="780"/>
                </a:cubicBezTo>
                <a:cubicBezTo>
                  <a:pt x="660" y="829"/>
                  <a:pt x="729" y="812"/>
                  <a:pt x="752" y="820"/>
                </a:cubicBezTo>
              </a:path>
            </a:pathLst>
          </a:custGeom>
          <a:noFill/>
          <a:ln cap="sq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991120" y="3924360"/>
            <a:ext cx="2273400" cy="2114640"/>
          </a:xfrm>
          <a:custGeom>
            <a:avLst/>
            <a:gdLst/>
            <a:ahLst/>
            <a:rect l="l" t="t" r="r" b="b"/>
            <a:pathLst>
              <a:path w="1432" h="1332">
                <a:moveTo>
                  <a:pt x="0" y="8"/>
                </a:moveTo>
                <a:cubicBezTo>
                  <a:pt x="15" y="10"/>
                  <a:pt x="60" y="0"/>
                  <a:pt x="88" y="16"/>
                </a:cubicBezTo>
                <a:cubicBezTo>
                  <a:pt x="116" y="32"/>
                  <a:pt x="136" y="60"/>
                  <a:pt x="168" y="104"/>
                </a:cubicBezTo>
                <a:cubicBezTo>
                  <a:pt x="200" y="148"/>
                  <a:pt x="239" y="223"/>
                  <a:pt x="280" y="280"/>
                </a:cubicBezTo>
                <a:cubicBezTo>
                  <a:pt x="321" y="337"/>
                  <a:pt x="380" y="400"/>
                  <a:pt x="416" y="448"/>
                </a:cubicBezTo>
                <a:cubicBezTo>
                  <a:pt x="452" y="496"/>
                  <a:pt x="463" y="532"/>
                  <a:pt x="496" y="568"/>
                </a:cubicBezTo>
                <a:cubicBezTo>
                  <a:pt x="529" y="604"/>
                  <a:pt x="565" y="619"/>
                  <a:pt x="616" y="664"/>
                </a:cubicBezTo>
                <a:cubicBezTo>
                  <a:pt x="667" y="709"/>
                  <a:pt x="739" y="741"/>
                  <a:pt x="800" y="840"/>
                </a:cubicBezTo>
                <a:cubicBezTo>
                  <a:pt x="861" y="939"/>
                  <a:pt x="913" y="1180"/>
                  <a:pt x="984" y="1256"/>
                </a:cubicBezTo>
                <a:cubicBezTo>
                  <a:pt x="1055" y="1332"/>
                  <a:pt x="1167" y="1288"/>
                  <a:pt x="1224" y="1296"/>
                </a:cubicBezTo>
                <a:cubicBezTo>
                  <a:pt x="1281" y="1304"/>
                  <a:pt x="1293" y="1303"/>
                  <a:pt x="1328" y="1304"/>
                </a:cubicBezTo>
                <a:cubicBezTo>
                  <a:pt x="1363" y="1305"/>
                  <a:pt x="1410" y="1304"/>
                  <a:pt x="1432" y="1304"/>
                </a:cubicBezTo>
              </a:path>
            </a:pathLst>
          </a:custGeom>
          <a:noFill/>
          <a:ln cap="sq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425760" y="5925960"/>
            <a:ext cx="4584600" cy="74880"/>
          </a:xfrm>
          <a:custGeom>
            <a:avLst/>
            <a:gdLst/>
            <a:ahLst/>
            <a:rect l="l" t="t" r="r" b="b"/>
            <a:pathLst>
              <a:path w="2888" h="47">
                <a:moveTo>
                  <a:pt x="0" y="3"/>
                </a:moveTo>
                <a:cubicBezTo>
                  <a:pt x="12" y="1"/>
                  <a:pt x="25" y="0"/>
                  <a:pt x="104" y="3"/>
                </a:cubicBezTo>
                <a:cubicBezTo>
                  <a:pt x="183" y="6"/>
                  <a:pt x="360" y="12"/>
                  <a:pt x="472" y="19"/>
                </a:cubicBezTo>
                <a:cubicBezTo>
                  <a:pt x="584" y="26"/>
                  <a:pt x="632" y="39"/>
                  <a:pt x="776" y="43"/>
                </a:cubicBezTo>
                <a:cubicBezTo>
                  <a:pt x="920" y="47"/>
                  <a:pt x="1092" y="43"/>
                  <a:pt x="1336" y="43"/>
                </a:cubicBezTo>
                <a:cubicBezTo>
                  <a:pt x="1580" y="43"/>
                  <a:pt x="2012" y="44"/>
                  <a:pt x="2240" y="43"/>
                </a:cubicBezTo>
                <a:cubicBezTo>
                  <a:pt x="2468" y="42"/>
                  <a:pt x="2596" y="36"/>
                  <a:pt x="2704" y="35"/>
                </a:cubicBezTo>
                <a:cubicBezTo>
                  <a:pt x="2812" y="34"/>
                  <a:pt x="2850" y="34"/>
                  <a:pt x="2888" y="35"/>
                </a:cubicBezTo>
              </a:path>
            </a:pathLst>
          </a:custGeom>
          <a:noFill/>
          <a:ln cap="sq" w="3816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4360" y="175896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UI/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67520" y="5052960"/>
            <a:ext cx="2019240" cy="647640"/>
          </a:xfrm>
          <a:custGeom>
            <a:avLst/>
            <a:gdLst/>
            <a:ahLst/>
            <a:rect l="l" t="t" r="r" b="b"/>
            <a:pathLst>
              <a:path w="1272" h="408">
                <a:moveTo>
                  <a:pt x="0" y="0"/>
                </a:moveTo>
                <a:cubicBezTo>
                  <a:pt x="48" y="22"/>
                  <a:pt x="96" y="45"/>
                  <a:pt x="129" y="66"/>
                </a:cubicBezTo>
                <a:cubicBezTo>
                  <a:pt x="162" y="87"/>
                  <a:pt x="182" y="104"/>
                  <a:pt x="201" y="123"/>
                </a:cubicBezTo>
                <a:cubicBezTo>
                  <a:pt x="220" y="142"/>
                  <a:pt x="220" y="153"/>
                  <a:pt x="246" y="183"/>
                </a:cubicBezTo>
                <a:cubicBezTo>
                  <a:pt x="272" y="213"/>
                  <a:pt x="321" y="276"/>
                  <a:pt x="357" y="303"/>
                </a:cubicBezTo>
                <a:cubicBezTo>
                  <a:pt x="393" y="330"/>
                  <a:pt x="424" y="337"/>
                  <a:pt x="462" y="345"/>
                </a:cubicBezTo>
                <a:cubicBezTo>
                  <a:pt x="500" y="353"/>
                  <a:pt x="519" y="345"/>
                  <a:pt x="585" y="351"/>
                </a:cubicBezTo>
                <a:cubicBezTo>
                  <a:pt x="651" y="357"/>
                  <a:pt x="744" y="372"/>
                  <a:pt x="858" y="381"/>
                </a:cubicBezTo>
                <a:cubicBezTo>
                  <a:pt x="972" y="390"/>
                  <a:pt x="1186" y="403"/>
                  <a:pt x="1272" y="408"/>
                </a:cubicBezTo>
              </a:path>
            </a:pathLst>
          </a:custGeom>
          <a:noFill/>
          <a:ln w="2844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8342280" y="546480"/>
            <a:ext cx="809640" cy="4159440"/>
            <a:chOff x="8342280" y="546480"/>
            <a:chExt cx="809640" cy="4159440"/>
          </a:xfrm>
        </p:grpSpPr>
        <p:sp>
          <p:nvSpPr>
            <p:cNvPr id="265" name=""/>
            <p:cNvSpPr/>
            <p:nvPr/>
          </p:nvSpPr>
          <p:spPr>
            <a:xfrm rot="16200000">
              <a:off x="8281080" y="828360"/>
              <a:ext cx="9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Occul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92680" y="2324160"/>
              <a:ext cx="70740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Ag HB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388360" y="3133440"/>
              <a:ext cx="71784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Ag H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370720" y="3971880"/>
              <a:ext cx="75312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IgM H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42280" y="4368600"/>
              <a:ext cx="8096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IgG H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70720" y="3544920"/>
              <a:ext cx="754200" cy="3373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Times New Roman"/>
                </a:rPr>
                <a:t>Ac H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375760" y="2722320"/>
              <a:ext cx="744480" cy="3373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00"/>
                  </a:solidFill>
                  <a:latin typeface="Times New Roman"/>
                </a:rPr>
                <a:t>Ac HB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513640" y="1849320"/>
              <a:ext cx="466920" cy="88920"/>
            </a:xfrm>
            <a:prstGeom prst="rect">
              <a:avLst/>
            </a:prstGeom>
            <a:solidFill>
              <a:srgbClr val="ffff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advTm="140000" p14:dur="2000">
        <p:split dir="out" orient="horz"/>
      </p:transition>
    </mc:Choice>
    <mc:Fallback>
      <p:transition spd="slow" advTm="140000">
        <p:split dir="out" orient="horz"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346760" y="6337440"/>
            <a:ext cx="297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290600" y="5573880"/>
            <a:ext cx="412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55320" y="4809960"/>
            <a:ext cx="479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55320" y="4046400"/>
            <a:ext cx="479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55320" y="3282840"/>
            <a:ext cx="479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255320" y="2519280"/>
            <a:ext cx="479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255320" y="1755720"/>
            <a:ext cx="479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16200000">
            <a:off x="511200" y="3186360"/>
            <a:ext cx="964080" cy="3610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Comic Sans MS"/>
              </a:rPr>
              <a:t>UI / 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55320" y="992160"/>
            <a:ext cx="479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55320" y="228600"/>
            <a:ext cx="479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681200" y="0"/>
            <a:ext cx="301680" cy="6515280"/>
            <a:chOff x="1681200" y="0"/>
            <a:chExt cx="301680" cy="6515280"/>
          </a:xfrm>
        </p:grpSpPr>
        <p:sp>
          <p:nvSpPr>
            <p:cNvPr id="284" name=""/>
            <p:cNvSpPr/>
            <p:nvPr/>
          </p:nvSpPr>
          <p:spPr>
            <a:xfrm>
              <a:off x="1832040" y="0"/>
              <a:ext cx="0" cy="6515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681200" y="6502320"/>
              <a:ext cx="301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681200" y="6119640"/>
              <a:ext cx="301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81200" y="5738760"/>
              <a:ext cx="301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681200" y="5356080"/>
              <a:ext cx="301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681200" y="4975200"/>
              <a:ext cx="301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681200" y="4592520"/>
              <a:ext cx="301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681200" y="4211640"/>
              <a:ext cx="301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681200" y="3828960"/>
              <a:ext cx="301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681200" y="3448080"/>
              <a:ext cx="301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681200" y="3065400"/>
              <a:ext cx="301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681200" y="2684520"/>
              <a:ext cx="301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81200" y="2301840"/>
              <a:ext cx="301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681200" y="1920960"/>
              <a:ext cx="301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81200" y="1538280"/>
              <a:ext cx="301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681200" y="1157400"/>
              <a:ext cx="301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681200" y="774720"/>
              <a:ext cx="301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681200" y="393840"/>
              <a:ext cx="301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1984320" y="0"/>
            <a:ext cx="1003320" cy="15368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Comic Sans MS"/>
              </a:rPr>
              <a:t>Chron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Comic Sans MS"/>
              </a:rPr>
              <a:t>immuno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Comic Sans MS"/>
              </a:rPr>
              <a:t>tolé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989440" y="871560"/>
            <a:ext cx="1117440" cy="28195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66cc"/>
                </a:solidFill>
                <a:latin typeface="Comic Sans MS"/>
              </a:rPr>
              <a:t>Chron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66cc"/>
                </a:solidFill>
                <a:latin typeface="Comic Sans MS"/>
              </a:rPr>
              <a:t>séro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66cc"/>
                </a:solidFill>
                <a:latin typeface="Comic Sans MS"/>
              </a:rPr>
              <a:t>conver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67480" y="76320"/>
            <a:ext cx="1181160" cy="64436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Comic Sans MS"/>
              </a:rPr>
              <a:t>Trait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08320" y="1790640"/>
            <a:ext cx="1117800" cy="312264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Comic Sans MS"/>
              </a:rPr>
              <a:t>Chron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Comic Sans MS"/>
              </a:rPr>
              <a:t>Mut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Comic Sans MS"/>
              </a:rPr>
              <a:t>"précore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227560" y="3867120"/>
            <a:ext cx="1117800" cy="2649600"/>
          </a:xfrm>
          <a:prstGeom prst="ellipse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Chron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port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inact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346800" y="4645080"/>
            <a:ext cx="1117800" cy="18702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Comic Sans MS"/>
              </a:rPr>
              <a:t>Guéries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Comic Sans MS"/>
              </a:rPr>
              <a:t>Occultes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873080" y="0"/>
            <a:ext cx="7129800" cy="6505560"/>
            <a:chOff x="1873080" y="0"/>
            <a:chExt cx="7129800" cy="6505560"/>
          </a:xfrm>
        </p:grpSpPr>
        <p:sp>
          <p:nvSpPr>
            <p:cNvPr id="309" name=""/>
            <p:cNvSpPr/>
            <p:nvPr/>
          </p:nvSpPr>
          <p:spPr>
            <a:xfrm>
              <a:off x="1873080" y="0"/>
              <a:ext cx="7129800" cy="3165480"/>
            </a:xfrm>
            <a:prstGeom prst="rect">
              <a:avLst/>
            </a:prstGeom>
            <a:solidFill>
              <a:srgbClr val="00009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873080" y="5251320"/>
              <a:ext cx="7128000" cy="1254240"/>
            </a:xfrm>
            <a:prstGeom prst="rect">
              <a:avLst/>
            </a:prstGeom>
            <a:solidFill>
              <a:srgbClr val="00009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advTm="11000" p14:dur="2000">
        <p:split dir="out" orient="horz"/>
      </p:transition>
    </mc:Choice>
    <mc:Fallback>
      <p:transition spd="slow" advTm="11000">
        <p:split dir="out" orient="horz"/>
      </p:transition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585720" y="600120"/>
            <a:ext cx="81075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1317600"/>
            <a:ext cx="842796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Aft>
                <a:spcPts val="9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REVEAL: étude observationnelle de cohorte, prospective et multicentri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09680" y="6278400"/>
            <a:ext cx="276984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Chen, et al. EASL 2005. Abstract 3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Chen, et al. EASL 2005. Abstract 47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038480" y="5638680"/>
            <a:ext cx="279396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2971800" y="2441520"/>
            <a:ext cx="4470480" cy="733320"/>
            <a:chOff x="2971800" y="2441520"/>
            <a:chExt cx="4470480" cy="733320"/>
          </a:xfrm>
        </p:grpSpPr>
        <p:sp>
          <p:nvSpPr>
            <p:cNvPr id="316" name=""/>
            <p:cNvSpPr/>
            <p:nvPr/>
          </p:nvSpPr>
          <p:spPr>
            <a:xfrm>
              <a:off x="2984400" y="2476440"/>
              <a:ext cx="4445280" cy="685800"/>
            </a:xfrm>
            <a:prstGeom prst="rect">
              <a:avLst/>
            </a:prstGeom>
            <a:solidFill>
              <a:srgbClr val="0099ae"/>
            </a:solidFill>
            <a:ln w="93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971800" y="2441520"/>
              <a:ext cx="4470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7 Régions Taiwanaise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vidus agés de 30-65 a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N = 89,29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5219640" y="4203720"/>
            <a:ext cx="0" cy="266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3797280" y="4532400"/>
            <a:ext cx="2835360" cy="765000"/>
            <a:chOff x="3797280" y="4532400"/>
            <a:chExt cx="2835360" cy="765000"/>
          </a:xfrm>
        </p:grpSpPr>
        <p:sp>
          <p:nvSpPr>
            <p:cNvPr id="320" name=""/>
            <p:cNvSpPr/>
            <p:nvPr/>
          </p:nvSpPr>
          <p:spPr>
            <a:xfrm>
              <a:off x="3805200" y="4532400"/>
              <a:ext cx="2824200" cy="765000"/>
            </a:xfrm>
            <a:prstGeom prst="rect">
              <a:avLst/>
            </a:prstGeom>
            <a:solidFill>
              <a:srgbClr val="e7d812"/>
            </a:solidFill>
            <a:ln w="93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797280" y="4532400"/>
              <a:ext cx="2835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alyse du CH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BsAg+ et HBV DNA renseign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n = 385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5219640" y="5359320"/>
            <a:ext cx="0" cy="266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219640" y="3238560"/>
            <a:ext cx="0" cy="266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314880" y="3581280"/>
            <a:ext cx="3797280" cy="571680"/>
            <a:chOff x="3314880" y="3581280"/>
            <a:chExt cx="3797280" cy="571680"/>
          </a:xfrm>
        </p:grpSpPr>
        <p:sp>
          <p:nvSpPr>
            <p:cNvPr id="325" name=""/>
            <p:cNvSpPr/>
            <p:nvPr/>
          </p:nvSpPr>
          <p:spPr>
            <a:xfrm>
              <a:off x="3314880" y="3581280"/>
              <a:ext cx="3786120" cy="571680"/>
            </a:xfrm>
            <a:prstGeom prst="rect">
              <a:avLst/>
            </a:prstGeom>
            <a:solidFill>
              <a:srgbClr val="00a500"/>
            </a:solidFill>
            <a:ln w="93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325680" y="3622680"/>
              <a:ext cx="3786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tients HB sans CH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n = 23,82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432720" y="2384280"/>
            <a:ext cx="24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1991-1992: Recru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650960" y="2755800"/>
            <a:ext cx="0" cy="323856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6440" y="595296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Juin 2004: suivi 43,993 P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784680" y="5688000"/>
            <a:ext cx="2835360" cy="525600"/>
            <a:chOff x="3784680" y="5688000"/>
            <a:chExt cx="2835360" cy="525600"/>
          </a:xfrm>
        </p:grpSpPr>
        <p:sp>
          <p:nvSpPr>
            <p:cNvPr id="331" name=""/>
            <p:cNvSpPr/>
            <p:nvPr/>
          </p:nvSpPr>
          <p:spPr>
            <a:xfrm>
              <a:off x="3957480" y="5688000"/>
              <a:ext cx="2519640" cy="525600"/>
            </a:xfrm>
            <a:prstGeom prst="rect">
              <a:avLst/>
            </a:prstGeom>
            <a:solidFill>
              <a:srgbClr val="d6d6d6"/>
            </a:solidFill>
            <a:ln w="93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84680" y="5688000"/>
              <a:ext cx="2835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alyse de la cirrho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n = 377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5613480" y="5486400"/>
            <a:ext cx="12319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732720" y="5229360"/>
            <a:ext cx="200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Exclusion si cirrhose dans les 6 mo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77880" y="183600"/>
            <a:ext cx="7772400" cy="8240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99"/>
              </a:gs>
            </a:gsLst>
            <a:lin ang="135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REVEAL: HBV DNA à l'inclusion et progression de la maladie hépatique.</a:t>
            </a:r>
            <a:endParaRPr b="1" i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96440" y="218520"/>
            <a:ext cx="8386920" cy="8240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330099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00"/>
                </a:solidFill>
                <a:latin typeface="Comic Sans MS"/>
              </a:rPr>
              <a:t>Incidence de la cirrhose en fonction de la charge virale initiale et stratifiée pour la présence de l'Ag HBe</a:t>
            </a:r>
            <a:endParaRPr b="1" i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666720" y="1600200"/>
          <a:ext cx="7840800" cy="50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720" y="1600200"/>
                    <a:ext cx="7840800" cy="50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9" name=""/>
          <p:cNvGrpSpPr/>
          <p:nvPr/>
        </p:nvGrpSpPr>
        <p:grpSpPr>
          <a:xfrm>
            <a:off x="1286640" y="1222200"/>
            <a:ext cx="5645880" cy="4264200"/>
            <a:chOff x="1286640" y="1222200"/>
            <a:chExt cx="5645880" cy="4264200"/>
          </a:xfrm>
        </p:grpSpPr>
        <p:sp>
          <p:nvSpPr>
            <p:cNvPr id="340" name=""/>
            <p:cNvSpPr/>
            <p:nvPr/>
          </p:nvSpPr>
          <p:spPr>
            <a:xfrm>
              <a:off x="5545080" y="1317600"/>
              <a:ext cx="9720" cy="415296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61040" y="1333440"/>
              <a:ext cx="9360" cy="415296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86640" y="1344600"/>
              <a:ext cx="14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Risque relati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12920" y="1222200"/>
              <a:ext cx="470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ff00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Comic Sans MS"/>
                </a:rPr>
                <a:t>3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741560" y="1222200"/>
              <a:ext cx="470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ff00"/>
                  </a:solidFill>
                  <a:latin typeface="Comic Sans MS"/>
                </a:rPr>
                <a:t>1.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Comic Sans MS"/>
                </a:rPr>
                <a:t>6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62360" y="1222200"/>
              <a:ext cx="470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ff00"/>
                  </a:solidFill>
                  <a:latin typeface="Comic Sans MS"/>
                </a:rPr>
                <a:t>4.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Comic Sans MS"/>
                </a:rPr>
                <a:t>8.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693520" y="1224000"/>
              <a:ext cx="334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Comic Sans MS"/>
                </a:rPr>
                <a:t>{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14920" y="5557680"/>
            <a:ext cx="184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Ajustement pour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Sexe, âge, anti-HCV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Cigarette, alc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279840" y="6550200"/>
            <a:ext cx="27698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Arial"/>
              </a:rPr>
              <a:t>Chen, et al. EASL 2005. Abstract 47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rcRect l="0" t="0" r="4615" b="3610"/>
          <a:stretch/>
        </p:blipFill>
        <p:spPr>
          <a:xfrm>
            <a:off x="2708280" y="1695600"/>
            <a:ext cx="508320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686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Comic Sans MS"/>
              </a:rPr>
              <a:t>Hépatite B chronique et décision thérapeutique</a:t>
            </a:r>
            <a:endParaRPr b="0" i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4107600" y="102240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g H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973880" y="1552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69160" y="162576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14160" y="196848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DN-VH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387840" y="196704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ADN-VH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0040" y="2527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460680" y="25272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225040" y="2527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351" idx="1"/>
            <a:endCxn id="352" idx="0"/>
          </p:cNvCxnSpPr>
          <p:nvPr/>
        </p:nvCxnSpPr>
        <p:spPr>
          <a:xfrm flipV="1" rot="10800000">
            <a:off x="2129760" y="1206000"/>
            <a:ext cx="1972440" cy="347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0" name=""/>
          <p:cNvCxnSpPr>
            <a:stCxn id="351" idx="3"/>
            <a:endCxn id="353" idx="0"/>
          </p:cNvCxnSpPr>
          <p:nvPr/>
        </p:nvCxnSpPr>
        <p:spPr>
          <a:xfrm>
            <a:off x="5087520" y="1206000"/>
            <a:ext cx="1909080" cy="42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4" idx="1"/>
            <a:endCxn id="356" idx="0"/>
          </p:cNvCxnSpPr>
          <p:nvPr/>
        </p:nvCxnSpPr>
        <p:spPr>
          <a:xfrm flipV="1" rot="10800000">
            <a:off x="835920" y="2152440"/>
            <a:ext cx="645120" cy="375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54" idx="3"/>
            <a:endCxn id="357" idx="0"/>
          </p:cNvCxnSpPr>
          <p:nvPr/>
        </p:nvCxnSpPr>
        <p:spPr>
          <a:xfrm>
            <a:off x="2744640" y="2152800"/>
            <a:ext cx="843840" cy="375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5" idx="1"/>
            <a:endCxn id="358" idx="0"/>
          </p:cNvCxnSpPr>
          <p:nvPr/>
        </p:nvCxnSpPr>
        <p:spPr>
          <a:xfrm flipV="1" rot="10800000">
            <a:off x="5380920" y="2149920"/>
            <a:ext cx="973800" cy="376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4" name=""/>
          <p:cNvCxnSpPr>
            <a:stCxn id="355" idx="3"/>
            <a:endCxn id="365" idx="0"/>
          </p:cNvCxnSpPr>
          <p:nvPr/>
        </p:nvCxnSpPr>
        <p:spPr>
          <a:xfrm>
            <a:off x="7618320" y="2150640"/>
            <a:ext cx="1037520" cy="376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66" name=""/>
          <p:cNvGrpSpPr/>
          <p:nvPr/>
        </p:nvGrpSpPr>
        <p:grpSpPr>
          <a:xfrm>
            <a:off x="126360" y="2711520"/>
            <a:ext cx="1790280" cy="3426120"/>
            <a:chOff x="126360" y="2711520"/>
            <a:chExt cx="1790280" cy="3426120"/>
          </a:xfrm>
        </p:grpSpPr>
        <p:sp>
          <p:nvSpPr>
            <p:cNvPr id="367" name=""/>
            <p:cNvSpPr/>
            <p:nvPr/>
          </p:nvSpPr>
          <p:spPr>
            <a:xfrm>
              <a:off x="179640" y="3108240"/>
              <a:ext cx="1399320" cy="78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ALT&lt;2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cc"/>
                  </a:solidFill>
                  <a:latin typeface="Comic Sans MS"/>
                </a:rPr>
                <a:t>Pas de T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600" spc="-1" strike="noStrike">
                  <a:solidFill>
                    <a:srgbClr val="000000"/>
                  </a:solidFill>
                  <a:latin typeface="Comic Sans MS"/>
                </a:rPr>
                <a:t>*PB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26360" y="4181400"/>
              <a:ext cx="1600200" cy="102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ALT&gt;2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cc"/>
                  </a:solidFill>
                  <a:latin typeface="Comic Sans MS"/>
                </a:rPr>
                <a:t>IF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cc"/>
                  </a:solidFill>
                  <a:latin typeface="Comic Sans MS"/>
                </a:rPr>
                <a:t>Lamivud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cc"/>
                  </a:solidFill>
                  <a:latin typeface="Comic Sans MS"/>
                </a:rPr>
                <a:t>Adéfov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26360" y="5354640"/>
              <a:ext cx="1600200" cy="78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Cirrh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cc"/>
                  </a:solidFill>
                  <a:latin typeface="Comic Sans MS"/>
                </a:rPr>
                <a:t>Lamivud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cc"/>
                  </a:solidFill>
                  <a:latin typeface="Comic Sans MS"/>
                </a:rPr>
                <a:t>Adéfov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0" name=""/>
            <p:cNvCxnSpPr>
              <a:stCxn id="356" idx="3"/>
              <a:endCxn id="367" idx="3"/>
            </p:cNvCxnSpPr>
            <p:nvPr/>
          </p:nvCxnSpPr>
          <p:spPr>
            <a:xfrm>
              <a:off x="982440" y="2711520"/>
              <a:ext cx="611640" cy="791280"/>
            </a:xfrm>
            <a:prstGeom prst="bentConnector3">
              <a:avLst>
                <a:gd name="adj1" fmla="val 152414"/>
              </a:avLst>
            </a:prstGeom>
            <a:ln cap="rnd" w="19080">
              <a:solidFill>
                <a:srgbClr val="0000cc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cxnSp>
          <p:nvCxnSpPr>
            <p:cNvPr id="371" name=""/>
            <p:cNvCxnSpPr>
              <a:stCxn id="356" idx="3"/>
              <a:endCxn id="368" idx="3"/>
            </p:cNvCxnSpPr>
            <p:nvPr/>
          </p:nvCxnSpPr>
          <p:spPr>
            <a:xfrm>
              <a:off x="982800" y="2711520"/>
              <a:ext cx="705240" cy="1986480"/>
            </a:xfrm>
            <a:prstGeom prst="bentConnector3">
              <a:avLst>
                <a:gd name="adj1" fmla="val 132482"/>
              </a:avLst>
            </a:prstGeom>
            <a:ln cap="rnd" w="19080">
              <a:solidFill>
                <a:srgbClr val="0000cc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cxnSp>
          <p:nvCxnSpPr>
            <p:cNvPr id="372" name=""/>
            <p:cNvCxnSpPr>
              <a:stCxn id="356" idx="3"/>
              <a:endCxn id="369" idx="3"/>
            </p:cNvCxnSpPr>
            <p:nvPr/>
          </p:nvCxnSpPr>
          <p:spPr>
            <a:xfrm>
              <a:off x="982800" y="2711520"/>
              <a:ext cx="705240" cy="3037680"/>
            </a:xfrm>
            <a:prstGeom prst="bentConnector3">
              <a:avLst>
                <a:gd name="adj1" fmla="val 132482"/>
              </a:avLst>
            </a:prstGeom>
            <a:ln cap="rnd" w="19080">
              <a:solidFill>
                <a:srgbClr val="0000cc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</p:grpSp>
      <p:grpSp>
        <p:nvGrpSpPr>
          <p:cNvPr id="373" name=""/>
          <p:cNvGrpSpPr/>
          <p:nvPr/>
        </p:nvGrpSpPr>
        <p:grpSpPr>
          <a:xfrm>
            <a:off x="2588400" y="2710440"/>
            <a:ext cx="1643400" cy="3306240"/>
            <a:chOff x="2588400" y="2710440"/>
            <a:chExt cx="1643400" cy="3306240"/>
          </a:xfrm>
        </p:grpSpPr>
        <p:sp>
          <p:nvSpPr>
            <p:cNvPr id="374" name=""/>
            <p:cNvSpPr/>
            <p:nvPr/>
          </p:nvSpPr>
          <p:spPr>
            <a:xfrm>
              <a:off x="2832480" y="3095640"/>
              <a:ext cx="139932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ALT&lt;2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cc"/>
                  </a:solidFill>
                  <a:latin typeface="Comic Sans MS"/>
                </a:rPr>
                <a:t>Pas de T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32480" y="5477040"/>
              <a:ext cx="139932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Cirrh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cc"/>
                  </a:solidFill>
                  <a:latin typeface="Comic Sans MS"/>
                </a:rPr>
                <a:t>Pas de T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6" name=""/>
            <p:cNvCxnSpPr>
              <a:stCxn id="357" idx="1"/>
              <a:endCxn id="374" idx="1"/>
            </p:cNvCxnSpPr>
            <p:nvPr/>
          </p:nvCxnSpPr>
          <p:spPr>
            <a:xfrm flipV="1" rot="10800000">
              <a:off x="2817000" y="2710440"/>
              <a:ext cx="631080" cy="656280"/>
            </a:xfrm>
            <a:prstGeom prst="bentConnector3">
              <a:avLst>
                <a:gd name="adj1" fmla="val 136244"/>
              </a:avLst>
            </a:prstGeom>
            <a:ln cap="rnd" w="19080">
              <a:solidFill>
                <a:srgbClr val="0000cc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cxnSp>
          <p:nvCxnSpPr>
            <p:cNvPr id="377" name=""/>
            <p:cNvCxnSpPr>
              <a:stCxn id="357" idx="1"/>
              <a:endCxn id="375" idx="1"/>
            </p:cNvCxnSpPr>
            <p:nvPr/>
          </p:nvCxnSpPr>
          <p:spPr>
            <a:xfrm flipV="1" rot="10800000">
              <a:off x="2817000" y="2711160"/>
              <a:ext cx="631080" cy="3037680"/>
            </a:xfrm>
            <a:prstGeom prst="bentConnector3">
              <a:avLst>
                <a:gd name="adj1" fmla="val 136244"/>
              </a:avLst>
            </a:prstGeom>
            <a:ln cap="rnd" w="19080">
              <a:solidFill>
                <a:srgbClr val="0000cc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</p:grpSp>
      <p:grpSp>
        <p:nvGrpSpPr>
          <p:cNvPr id="378" name=""/>
          <p:cNvGrpSpPr/>
          <p:nvPr/>
        </p:nvGrpSpPr>
        <p:grpSpPr>
          <a:xfrm>
            <a:off x="4672800" y="2711160"/>
            <a:ext cx="1802880" cy="3426480"/>
            <a:chOff x="4672800" y="2711160"/>
            <a:chExt cx="1802880" cy="3426480"/>
          </a:xfrm>
        </p:grpSpPr>
        <p:sp>
          <p:nvSpPr>
            <p:cNvPr id="379" name=""/>
            <p:cNvSpPr/>
            <p:nvPr/>
          </p:nvSpPr>
          <p:spPr>
            <a:xfrm>
              <a:off x="4726440" y="3067200"/>
              <a:ext cx="1399320" cy="78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ALT&lt;2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cc"/>
                  </a:solidFill>
                  <a:latin typeface="Comic Sans MS"/>
                </a:rPr>
                <a:t>Pas de T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*PB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672800" y="4140360"/>
              <a:ext cx="1600200" cy="102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ALT&gt;2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cc"/>
                  </a:solidFill>
                  <a:latin typeface="Comic Sans MS"/>
                </a:rPr>
                <a:t>IF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cc"/>
                  </a:solidFill>
                  <a:latin typeface="Comic Sans MS"/>
                </a:rPr>
                <a:t>Lamivud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cc"/>
                  </a:solidFill>
                  <a:latin typeface="Comic Sans MS"/>
                </a:rPr>
                <a:t>Adéfov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672800" y="5354640"/>
              <a:ext cx="1600200" cy="78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Cirrh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cc"/>
                  </a:solidFill>
                  <a:latin typeface="Comic Sans MS"/>
                </a:rPr>
                <a:t>Lamivud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cc"/>
                  </a:solidFill>
                  <a:latin typeface="Comic Sans MS"/>
                </a:rPr>
                <a:t>Adéfov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2" name=""/>
            <p:cNvCxnSpPr>
              <a:stCxn id="358" idx="3"/>
              <a:endCxn id="379" idx="3"/>
            </p:cNvCxnSpPr>
            <p:nvPr/>
          </p:nvCxnSpPr>
          <p:spPr>
            <a:xfrm>
              <a:off x="5527800" y="2711160"/>
              <a:ext cx="613440" cy="749880"/>
            </a:xfrm>
            <a:prstGeom prst="bentConnector3">
              <a:avLst>
                <a:gd name="adj1" fmla="val 154609"/>
              </a:avLst>
            </a:prstGeom>
            <a:ln cap="rnd" w="19080">
              <a:solidFill>
                <a:srgbClr val="0000cc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cxnSp>
          <p:nvCxnSpPr>
            <p:cNvPr id="383" name=""/>
            <p:cNvCxnSpPr>
              <a:stCxn id="358" idx="3"/>
              <a:endCxn id="380" idx="3"/>
            </p:cNvCxnSpPr>
            <p:nvPr/>
          </p:nvCxnSpPr>
          <p:spPr>
            <a:xfrm>
              <a:off x="5527800" y="2711520"/>
              <a:ext cx="707040" cy="1945440"/>
            </a:xfrm>
            <a:prstGeom prst="bentConnector3">
              <a:avLst>
                <a:gd name="adj1" fmla="val 132348"/>
              </a:avLst>
            </a:prstGeom>
            <a:ln cap="rnd" w="19080">
              <a:solidFill>
                <a:srgbClr val="0000cc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  <p:cxnSp>
          <p:nvCxnSpPr>
            <p:cNvPr id="384" name=""/>
            <p:cNvCxnSpPr>
              <a:stCxn id="358" idx="3"/>
              <a:endCxn id="381" idx="3"/>
            </p:cNvCxnSpPr>
            <p:nvPr/>
          </p:nvCxnSpPr>
          <p:spPr>
            <a:xfrm>
              <a:off x="5527800" y="2711520"/>
              <a:ext cx="707040" cy="3037680"/>
            </a:xfrm>
            <a:prstGeom prst="bentConnector3">
              <a:avLst>
                <a:gd name="adj1" fmla="val 132348"/>
              </a:avLst>
            </a:prstGeom>
            <a:ln cap="rnd" w="19080">
              <a:solidFill>
                <a:srgbClr val="0000cc"/>
              </a:solidFill>
              <a:custDash>
                <a:ds d="100000" sp="1000"/>
              </a:custDash>
              <a:miter/>
              <a:tailEnd len="med" type="triangle" w="med"/>
            </a:ln>
          </p:spPr>
        </p:cxnSp>
      </p:grpSp>
      <p:sp>
        <p:nvSpPr>
          <p:cNvPr id="365" name=""/>
          <p:cNvSpPr/>
          <p:nvPr/>
        </p:nvSpPr>
        <p:spPr>
          <a:xfrm>
            <a:off x="8528040" y="2527200"/>
            <a:ext cx="2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071520" y="1714680"/>
            <a:ext cx="2786760" cy="337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00"/>
                </a:solidFill>
                <a:latin typeface="Comic Sans MS"/>
              </a:rPr>
              <a:t>Seuil ADN-VHB 10</a:t>
            </a:r>
            <a:r>
              <a:rPr b="0" i="1" lang="fr-FR" sz="1600" spc="-1" strike="noStrike" baseline="30000">
                <a:solidFill>
                  <a:srgbClr val="ffff00"/>
                </a:solidFill>
                <a:latin typeface="Comic Sans MS"/>
              </a:rPr>
              <a:t>5</a:t>
            </a:r>
            <a:r>
              <a:rPr b="0" i="1" lang="fr-FR" sz="1600" spc="-1" strike="noStrike">
                <a:solidFill>
                  <a:srgbClr val="ffff00"/>
                </a:solidFill>
                <a:latin typeface="Comic Sans MS"/>
              </a:rPr>
              <a:t> copies/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232600" y="6283440"/>
            <a:ext cx="37224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D'après Lok et al. 2004 Hepatol. 39: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Comic Sans MS"/>
              </a:rPr>
              <a:t>*Keefe et al. 2004 Clin. Gastro. Hepatol. 2:87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89600" y="2276640"/>
            <a:ext cx="1540080" cy="33732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00"/>
                </a:solidFill>
                <a:latin typeface="Comic Sans MS"/>
              </a:rPr>
              <a:t>*10</a:t>
            </a:r>
            <a:r>
              <a:rPr b="0" i="1" lang="fr-FR" sz="1600" spc="-1" strike="noStrike" baseline="30000">
                <a:solidFill>
                  <a:srgbClr val="ffff00"/>
                </a:solidFill>
                <a:latin typeface="Comic Sans MS"/>
              </a:rPr>
              <a:t>5</a:t>
            </a:r>
            <a:r>
              <a:rPr b="0" i="1" lang="fr-FR" sz="1600" spc="-1" strike="noStrike">
                <a:solidFill>
                  <a:srgbClr val="ffff00"/>
                </a:solidFill>
                <a:latin typeface="Comic Sans MS"/>
              </a:rPr>
              <a:t> copies/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348960" y="2278080"/>
            <a:ext cx="1540080" cy="33732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00"/>
                </a:solidFill>
                <a:latin typeface="Comic Sans MS"/>
              </a:rPr>
              <a:t>*10</a:t>
            </a:r>
            <a:r>
              <a:rPr b="0" i="1" lang="fr-FR" sz="1600" spc="-1" strike="noStrike" baseline="30000">
                <a:solidFill>
                  <a:srgbClr val="ffff00"/>
                </a:solidFill>
                <a:latin typeface="Comic Sans MS"/>
              </a:rPr>
              <a:t>4</a:t>
            </a:r>
            <a:r>
              <a:rPr b="0" i="1" lang="fr-FR" sz="1600" spc="-1" strike="noStrike">
                <a:solidFill>
                  <a:srgbClr val="ffff00"/>
                </a:solidFill>
                <a:latin typeface="Comic Sans MS"/>
              </a:rPr>
              <a:t> copies/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7430400" y="2710440"/>
            <a:ext cx="1643400" cy="3312360"/>
            <a:chOff x="7430400" y="2710440"/>
            <a:chExt cx="1643400" cy="3312360"/>
          </a:xfrm>
        </p:grpSpPr>
        <p:sp>
          <p:nvSpPr>
            <p:cNvPr id="390" name=""/>
            <p:cNvSpPr/>
            <p:nvPr/>
          </p:nvSpPr>
          <p:spPr>
            <a:xfrm>
              <a:off x="7674480" y="5483160"/>
              <a:ext cx="139932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0800" bIns="10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Cirrh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cc"/>
                  </a:solidFill>
                  <a:latin typeface="Comic Sans MS"/>
                </a:rPr>
                <a:t>Pas de T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7430400" y="2710440"/>
              <a:ext cx="1643400" cy="3043440"/>
              <a:chOff x="7430400" y="2710440"/>
              <a:chExt cx="1643400" cy="3043440"/>
            </a:xfrm>
          </p:grpSpPr>
          <p:cxnSp>
            <p:nvCxnSpPr>
              <p:cNvPr id="392" name=""/>
              <p:cNvCxnSpPr>
                <a:stCxn id="365" idx="1"/>
                <a:endCxn id="393" idx="1"/>
              </p:cNvCxnSpPr>
              <p:nvPr/>
            </p:nvCxnSpPr>
            <p:spPr>
              <a:xfrm flipV="1" rot="10800000">
                <a:off x="7659000" y="2710440"/>
                <a:ext cx="856440" cy="662760"/>
              </a:xfrm>
              <a:prstGeom prst="bentConnector3">
                <a:avLst>
                  <a:gd name="adj1" fmla="val 126703"/>
                </a:avLst>
              </a:prstGeom>
              <a:ln cap="rnd" w="19080">
                <a:solidFill>
                  <a:srgbClr val="0000cc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  <p:sp>
            <p:nvSpPr>
              <p:cNvPr id="393" name=""/>
              <p:cNvSpPr/>
              <p:nvPr/>
            </p:nvSpPr>
            <p:spPr>
              <a:xfrm>
                <a:off x="7674480" y="3102120"/>
                <a:ext cx="1399320" cy="53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000" rIns="18000" tIns="10800" bIns="10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ALT&lt;2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0000cc"/>
                    </a:solidFill>
                    <a:latin typeface="Comic Sans MS"/>
                  </a:rPr>
                  <a:t>Pas de T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94" name=""/>
              <p:cNvCxnSpPr>
                <a:stCxn id="365" idx="1"/>
                <a:endCxn id="390" idx="1"/>
              </p:cNvCxnSpPr>
              <p:nvPr/>
            </p:nvCxnSpPr>
            <p:spPr>
              <a:xfrm flipV="1" rot="10800000">
                <a:off x="7659000" y="2710440"/>
                <a:ext cx="856440" cy="3043800"/>
              </a:xfrm>
              <a:prstGeom prst="bentConnector3">
                <a:avLst>
                  <a:gd name="adj1" fmla="val 126703"/>
                </a:avLst>
              </a:prstGeom>
              <a:ln cap="rnd" w="19080">
                <a:solidFill>
                  <a:srgbClr val="0000cc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77880" y="1224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99"/>
                </a:solidFill>
                <a:latin typeface="Comic Sans MS"/>
              </a:rPr>
              <a:t>Charge virale VHB et</a:t>
            </a:r>
            <a:br>
              <a:rPr sz="2800"/>
            </a:br>
            <a:r>
              <a:rPr b="1" i="1" lang="fr-FR" sz="2800" spc="-1" strike="noStrike">
                <a:solidFill>
                  <a:srgbClr val="000099"/>
                </a:solidFill>
                <a:latin typeface="Comic Sans MS"/>
              </a:rPr>
              <a:t>indication au traitement</a:t>
            </a:r>
            <a:endParaRPr b="1" i="1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12240" cy="36644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Aft>
                <a:spcPts val="9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La détermination du niveau de charge virale devient indispensable pour la décision thérapeutique.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 algn="just">
              <a:lnSpc>
                <a:spcPct val="130000"/>
              </a:lnSpc>
              <a:spcAft>
                <a:spcPts val="751"/>
              </a:spcAft>
              <a:buClr>
                <a:srgbClr val="000000"/>
              </a:buClr>
              <a:buFont typeface="Wingdings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volution de l'épidémiologie : majorité de patients anti-HB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130000"/>
              </a:lnSpc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 algn="just">
              <a:lnSpc>
                <a:spcPct val="130000"/>
              </a:lnSpc>
              <a:spcAft>
                <a:spcPts val="901"/>
              </a:spcAft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Cet élément sera pris en compte en association avec la clinique et le bilan hépatique pour choisir le traitement adapté.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1954080" y="1562040"/>
            <a:ext cx="6324840" cy="36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54080" y="4719600"/>
            <a:ext cx="6324840" cy="1800"/>
          </a:xfrm>
          <a:prstGeom prst="line">
            <a:avLst/>
          </a:prstGeom>
          <a:ln w="0">
            <a:solidFill>
              <a:srgbClr val="cc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54080" y="4262400"/>
            <a:ext cx="6324840" cy="1800"/>
          </a:xfrm>
          <a:prstGeom prst="line">
            <a:avLst/>
          </a:prstGeom>
          <a:ln w="0">
            <a:solidFill>
              <a:srgbClr val="cc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54080" y="3816360"/>
            <a:ext cx="6324840" cy="1440"/>
          </a:xfrm>
          <a:prstGeom prst="line">
            <a:avLst/>
          </a:prstGeom>
          <a:ln w="0">
            <a:solidFill>
              <a:srgbClr val="cc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954080" y="3370320"/>
            <a:ext cx="6324840" cy="1440"/>
          </a:xfrm>
          <a:prstGeom prst="line">
            <a:avLst/>
          </a:prstGeom>
          <a:ln w="0">
            <a:solidFill>
              <a:srgbClr val="cc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954080" y="2911320"/>
            <a:ext cx="6324840" cy="1800"/>
          </a:xfrm>
          <a:prstGeom prst="line">
            <a:avLst/>
          </a:prstGeom>
          <a:ln w="0">
            <a:solidFill>
              <a:srgbClr val="cc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954080" y="2467080"/>
            <a:ext cx="6324840" cy="1440"/>
          </a:xfrm>
          <a:prstGeom prst="line">
            <a:avLst/>
          </a:prstGeom>
          <a:ln w="0">
            <a:solidFill>
              <a:srgbClr val="cc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954080" y="2008080"/>
            <a:ext cx="6324840" cy="1800"/>
          </a:xfrm>
          <a:prstGeom prst="line">
            <a:avLst/>
          </a:prstGeom>
          <a:ln w="0">
            <a:solidFill>
              <a:srgbClr val="cc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954080" y="1562040"/>
            <a:ext cx="6324840" cy="1800"/>
          </a:xfrm>
          <a:prstGeom prst="line">
            <a:avLst/>
          </a:prstGeom>
          <a:ln w="0">
            <a:solidFill>
              <a:srgbClr val="cc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954080" y="1562040"/>
            <a:ext cx="6324840" cy="3603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54080" y="1562040"/>
            <a:ext cx="1800" cy="36036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866960" y="5165640"/>
            <a:ext cx="87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66960" y="4719600"/>
            <a:ext cx="87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866960" y="4262400"/>
            <a:ext cx="87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66960" y="3816360"/>
            <a:ext cx="87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866960" y="3370320"/>
            <a:ext cx="87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866960" y="2911320"/>
            <a:ext cx="87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66960" y="2467080"/>
            <a:ext cx="87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866960" y="2008080"/>
            <a:ext cx="87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866960" y="1562040"/>
            <a:ext cx="87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54080" y="5165640"/>
            <a:ext cx="63248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195408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211608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227664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242568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258588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274788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290988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305748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321948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337968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354168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369108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385128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401328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417348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432288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48452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464508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480708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495468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511668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527688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543888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558792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574848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591012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607068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621972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638172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654192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670392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685152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701352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717552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733572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748512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764532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780732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7967520" y="5165640"/>
            <a:ext cx="180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811692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8278920" y="5165640"/>
            <a:ext cx="1440" cy="619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1954080" y="5165280"/>
            <a:ext cx="1800" cy="87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2747880" y="5165280"/>
            <a:ext cx="1800" cy="87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3541680" y="5165280"/>
            <a:ext cx="1800" cy="87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4322880" y="5165280"/>
            <a:ext cx="1440" cy="87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116680" y="5165280"/>
            <a:ext cx="1440" cy="87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5910120" y="5165280"/>
            <a:ext cx="1800" cy="87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6703920" y="5165280"/>
            <a:ext cx="1800" cy="87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7485120" y="5165280"/>
            <a:ext cx="1440" cy="87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8278920" y="5165280"/>
            <a:ext cx="1440" cy="87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07560" y="4967280"/>
            <a:ext cx="829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1.E+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937800" y="4522680"/>
            <a:ext cx="829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1.E+0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907560" y="4064040"/>
            <a:ext cx="829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1.E+0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07560" y="3618000"/>
            <a:ext cx="829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1.E+0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07560" y="3171960"/>
            <a:ext cx="829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1.E+0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07560" y="2714760"/>
            <a:ext cx="829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1.E+0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907560" y="2268360"/>
            <a:ext cx="829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1.E+0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907560" y="1809720"/>
            <a:ext cx="829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1.E+0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907560" y="1363680"/>
            <a:ext cx="829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1.E+0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876320" y="543888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678400" y="543888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472200" y="5438880"/>
            <a:ext cx="15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237560" y="54388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1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031360" y="54388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1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784480" y="54388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2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577920" y="54388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2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59120" y="54388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2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152920" y="5438880"/>
            <a:ext cx="305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3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627800" y="6032520"/>
            <a:ext cx="601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Moi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rot="16200000">
            <a:off x="188280" y="3408480"/>
            <a:ext cx="775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UI/m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325840" y="2097000"/>
            <a:ext cx="301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Comic Sans MS"/>
              </a:rPr>
              <a:t>3- Pharmacologie/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268720" y="2646360"/>
            <a:ext cx="338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66ff33"/>
                </a:solidFill>
                <a:latin typeface="Comic Sans MS"/>
              </a:rPr>
              <a:t>1- Contrôle de la réplication vir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031720" y="3743280"/>
            <a:ext cx="17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ff"/>
                </a:solidFill>
                <a:latin typeface="Comic Sans MS"/>
              </a:rPr>
              <a:t>2- Echapp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955880" y="1176480"/>
            <a:ext cx="6307200" cy="365040"/>
          </a:xfrm>
          <a:prstGeom prst="rect">
            <a:avLst/>
          </a:prstGeom>
          <a:solidFill>
            <a:srgbClr val="0066cc"/>
          </a:solidFill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mivud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77880" y="151920"/>
            <a:ext cx="7772400" cy="88488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50000">
                <a:srgbClr val="0000cc"/>
              </a:gs>
              <a:gs pos="100000">
                <a:srgbClr val="0066ff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00"/>
                </a:solidFill>
                <a:latin typeface="Comic Sans MS"/>
              </a:rPr>
              <a:t>Traitement antiviral :</a:t>
            </a:r>
            <a:br>
              <a:rPr sz="2800"/>
            </a:br>
            <a:r>
              <a:rPr b="1" i="1" lang="fr-FR" sz="2400" spc="-1" strike="noStrike">
                <a:solidFill>
                  <a:srgbClr val="ffff00"/>
                </a:solidFill>
                <a:latin typeface="Comic Sans MS"/>
              </a:rPr>
              <a:t>Cinétique de la réplication virale</a:t>
            </a:r>
            <a:endParaRPr b="1" i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3" name=""/>
          <p:cNvSpPr/>
          <p:nvPr/>
        </p:nvSpPr>
        <p:spPr>
          <a:xfrm>
            <a:off x="1943280" y="1585800"/>
            <a:ext cx="2771640" cy="3129120"/>
          </a:xfrm>
          <a:custGeom>
            <a:avLst/>
            <a:gdLst/>
            <a:ahLst/>
            <a:rect l="l" t="t" r="r" b="b"/>
            <a:pathLst>
              <a:path w="1746" h="1971">
                <a:moveTo>
                  <a:pt x="0" y="0"/>
                </a:moveTo>
                <a:lnTo>
                  <a:pt x="99" y="837"/>
                </a:lnTo>
                <a:lnTo>
                  <a:pt x="279" y="1125"/>
                </a:lnTo>
                <a:lnTo>
                  <a:pt x="558" y="1413"/>
                </a:lnTo>
                <a:lnTo>
                  <a:pt x="891" y="1584"/>
                </a:lnTo>
                <a:lnTo>
                  <a:pt x="1233" y="1746"/>
                </a:lnTo>
                <a:lnTo>
                  <a:pt x="1458" y="1845"/>
                </a:lnTo>
                <a:lnTo>
                  <a:pt x="1746" y="1971"/>
                </a:lnTo>
              </a:path>
            </a:pathLst>
          </a:custGeom>
          <a:noFill/>
          <a:ln cap="sq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43360" y="4729320"/>
            <a:ext cx="1543320" cy="1440"/>
          </a:xfrm>
          <a:custGeom>
            <a:avLst/>
            <a:gdLst/>
            <a:ahLst/>
            <a:rect l="l" t="t" r="r" b="b"/>
            <a:pathLst>
              <a:path w="972" h="1">
                <a:moveTo>
                  <a:pt x="0" y="0"/>
                </a:moveTo>
                <a:lnTo>
                  <a:pt x="333" y="0"/>
                </a:lnTo>
                <a:lnTo>
                  <a:pt x="702" y="0"/>
                </a:lnTo>
                <a:lnTo>
                  <a:pt x="972" y="0"/>
                </a:lnTo>
              </a:path>
            </a:pathLst>
          </a:custGeom>
          <a:noFill/>
          <a:ln cap="sq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300720" y="2657520"/>
            <a:ext cx="1971720" cy="2085840"/>
          </a:xfrm>
          <a:custGeom>
            <a:avLst/>
            <a:gdLst/>
            <a:ahLst/>
            <a:rect l="l" t="t" r="r" b="b"/>
            <a:pathLst>
              <a:path w="1242" h="1314">
                <a:moveTo>
                  <a:pt x="0" y="1314"/>
                </a:moveTo>
                <a:lnTo>
                  <a:pt x="324" y="747"/>
                </a:lnTo>
                <a:lnTo>
                  <a:pt x="594" y="162"/>
                </a:lnTo>
                <a:lnTo>
                  <a:pt x="918" y="54"/>
                </a:lnTo>
                <a:lnTo>
                  <a:pt x="1242" y="0"/>
                </a:lnTo>
              </a:path>
            </a:pathLst>
          </a:custGeom>
          <a:noFill/>
          <a:ln cap="sq" w="2844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7543800" y="3086280"/>
            <a:ext cx="1432440" cy="1643040"/>
            <a:chOff x="7543800" y="3086280"/>
            <a:chExt cx="1432440" cy="1643040"/>
          </a:xfrm>
        </p:grpSpPr>
        <p:sp>
          <p:nvSpPr>
            <p:cNvPr id="497" name=""/>
            <p:cNvSpPr/>
            <p:nvPr/>
          </p:nvSpPr>
          <p:spPr>
            <a:xfrm>
              <a:off x="7543800" y="3086280"/>
              <a:ext cx="714240" cy="1643040"/>
            </a:xfrm>
            <a:custGeom>
              <a:avLst/>
              <a:gdLst/>
              <a:ahLst/>
              <a:rect l="l" t="t" r="r" b="b"/>
              <a:pathLst>
                <a:path w="450" h="1035">
                  <a:moveTo>
                    <a:pt x="0" y="1035"/>
                  </a:moveTo>
                  <a:cubicBezTo>
                    <a:pt x="0" y="1035"/>
                    <a:pt x="225" y="517"/>
                    <a:pt x="450" y="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798680" y="4299120"/>
              <a:ext cx="117756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Comic Sans MS"/>
                </a:rPr>
                <a:t>Cytoly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2448000" y="1590840"/>
            <a:ext cx="1299240" cy="1876320"/>
            <a:chOff x="2448000" y="1590840"/>
            <a:chExt cx="1299240" cy="1876320"/>
          </a:xfrm>
        </p:grpSpPr>
        <p:sp>
          <p:nvSpPr>
            <p:cNvPr id="500" name=""/>
            <p:cNvSpPr/>
            <p:nvPr/>
          </p:nvSpPr>
          <p:spPr>
            <a:xfrm>
              <a:off x="2448000" y="1590840"/>
              <a:ext cx="163440" cy="1876320"/>
            </a:xfrm>
            <a:prstGeom prst="upDownArrow">
              <a:avLst>
                <a:gd name="adj1" fmla="val 50000"/>
                <a:gd name="adj2" fmla="val 228540"/>
              </a:avLst>
            </a:prstGeom>
            <a:solidFill>
              <a:srgbClr val="cc00cc"/>
            </a:solidFill>
            <a:ln cap="sq" w="1260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609280" y="2152800"/>
              <a:ext cx="1137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3-4 Log</a:t>
              </a:r>
              <a:r>
                <a:rPr b="0" lang="fr-FR" sz="1600" spc="-1" strike="noStrike" baseline="-25000">
                  <a:solidFill>
                    <a:srgbClr val="000000"/>
                  </a:solidFill>
                  <a:latin typeface="Comic Sans MS"/>
                </a:rPr>
                <a:t>10 </a:t>
              </a: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1951200" y="1609560"/>
            <a:ext cx="4271760" cy="1925640"/>
          </a:xfrm>
          <a:custGeom>
            <a:avLst/>
            <a:gdLst/>
            <a:ahLst/>
            <a:rect l="l" t="t" r="r" b="b"/>
            <a:pathLst>
              <a:path w="2691" h="1213">
                <a:moveTo>
                  <a:pt x="0" y="0"/>
                </a:moveTo>
                <a:lnTo>
                  <a:pt x="230" y="508"/>
                </a:lnTo>
                <a:lnTo>
                  <a:pt x="410" y="796"/>
                </a:lnTo>
                <a:lnTo>
                  <a:pt x="800" y="955"/>
                </a:lnTo>
                <a:lnTo>
                  <a:pt x="1170" y="1049"/>
                </a:lnTo>
                <a:lnTo>
                  <a:pt x="1565" y="1161"/>
                </a:lnTo>
                <a:lnTo>
                  <a:pt x="2107" y="1204"/>
                </a:lnTo>
                <a:lnTo>
                  <a:pt x="2691" y="1213"/>
                </a:lnTo>
              </a:path>
            </a:pathLst>
          </a:custGeom>
          <a:noFill/>
          <a:ln w="2844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249960" y="1706400"/>
            <a:ext cx="1994040" cy="1828800"/>
          </a:xfrm>
          <a:custGeom>
            <a:avLst/>
            <a:gdLst/>
            <a:ahLst/>
            <a:rect l="l" t="t" r="r" b="b"/>
            <a:pathLst>
              <a:path w="1256" h="1152">
                <a:moveTo>
                  <a:pt x="0" y="1152"/>
                </a:moveTo>
                <a:lnTo>
                  <a:pt x="312" y="609"/>
                </a:lnTo>
                <a:lnTo>
                  <a:pt x="628" y="129"/>
                </a:lnTo>
                <a:lnTo>
                  <a:pt x="912" y="17"/>
                </a:lnTo>
                <a:lnTo>
                  <a:pt x="1256" y="0"/>
                </a:lnTo>
              </a:path>
            </a:pathLst>
          </a:custGeom>
          <a:noFill/>
          <a:ln w="28440">
            <a:solidFill>
              <a:srgbClr val="cc00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6257880" y="4300560"/>
            <a:ext cx="890280" cy="442800"/>
            <a:chOff x="6257880" y="4300560"/>
            <a:chExt cx="890280" cy="442800"/>
          </a:xfrm>
        </p:grpSpPr>
        <p:sp>
          <p:nvSpPr>
            <p:cNvPr id="505" name=""/>
            <p:cNvSpPr/>
            <p:nvPr/>
          </p:nvSpPr>
          <p:spPr>
            <a:xfrm>
              <a:off x="6257880" y="4300560"/>
              <a:ext cx="117360" cy="442800"/>
            </a:xfrm>
            <a:prstGeom prst="upDownArrow">
              <a:avLst>
                <a:gd name="adj1" fmla="val 50000"/>
                <a:gd name="adj2" fmla="val 75111"/>
              </a:avLst>
            </a:prstGeom>
            <a:solidFill>
              <a:srgbClr val="cc00cc"/>
            </a:solidFill>
            <a:ln cap="sq" w="1260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310440" y="4360680"/>
              <a:ext cx="837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1 Log</a:t>
              </a:r>
              <a:r>
                <a:rPr b="0" lang="fr-FR" sz="1600" spc="-1" strike="noStrike" baseline="-25000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6188040" y="3073320"/>
            <a:ext cx="890280" cy="443160"/>
            <a:chOff x="6188040" y="3073320"/>
            <a:chExt cx="890280" cy="443160"/>
          </a:xfrm>
        </p:grpSpPr>
        <p:sp>
          <p:nvSpPr>
            <p:cNvPr id="508" name=""/>
            <p:cNvSpPr/>
            <p:nvPr/>
          </p:nvSpPr>
          <p:spPr>
            <a:xfrm>
              <a:off x="6188040" y="3073320"/>
              <a:ext cx="117360" cy="443160"/>
            </a:xfrm>
            <a:prstGeom prst="upDownArrow">
              <a:avLst>
                <a:gd name="adj1" fmla="val 50000"/>
                <a:gd name="adj2" fmla="val 75172"/>
              </a:avLst>
            </a:prstGeom>
            <a:solidFill>
              <a:srgbClr val="cc00cc"/>
            </a:solidFill>
            <a:ln cap="sq" w="1260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240600" y="3133800"/>
              <a:ext cx="837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Comic Sans MS"/>
                </a:rPr>
                <a:t>1 Log</a:t>
              </a:r>
              <a:r>
                <a:rPr b="0" lang="fr-FR" sz="1600" spc="-1" strike="noStrike" baseline="-25000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5T12:58:39Z</dcterms:created>
  <dc:creator>Vincent</dc:creator>
  <dc:description/>
  <dc:language>en-US</dc:language>
  <cp:lastModifiedBy>Vincent Thibault</cp:lastModifiedBy>
  <cp:lastPrinted>2003-06-23T09:06:21Z</cp:lastPrinted>
  <dcterms:modified xsi:type="dcterms:W3CDTF">2005-11-21T22:37:27Z</dcterms:modified>
  <cp:revision>2280</cp:revision>
  <dc:subject/>
  <dc:title>Les Hépatites de A à ...</dc:title>
</cp:coreProperties>
</file>