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png" ContentType="image/png"/>
  <Override PartName="/ppt/media/image3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B0C-C959-47F0-B3F9-01F3E6971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7FE-8DBB-4D7F-9C3F-F1D49C52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2A5D-14BA-4F47-90CE-7BDA84E7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2D7B-C147-4E7A-A509-D61C4195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AF19-F66E-4930-9706-EDB28A54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5D3E-9446-442B-8FA0-2721C288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B5DD-6C6E-46B4-8A11-4313D9FC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DC3A-32F5-469A-83CF-91CFC666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E992-BC10-488A-8E27-895C3799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B97A-C1FA-4FF3-BEB2-1D37E62A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DA42-C5BA-4261-8094-C3E6A3E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685-E0EF-4EE7-AD30-253C9F8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B077-E3FB-4215-94C8-926F0A5A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75C4-2CC8-4EE6-BB28-3AC6AC68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76BB-3DE7-4134-9444-670E3AF5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D322-0177-4CC4-A403-674273D5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32B2-348D-4993-95D5-823E46E8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564C-AC08-4258-A06C-5BE73329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F106-C9E7-4F84-B0BE-2E3CE64A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95DA-A178-4042-9025-C1FD311B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98A5A-E21D-4D7A-BD43-2AD776CC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D5FE-AEC4-4318-805D-224311B2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A96-07D1-4D8E-9EDB-0442AC23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1F307-8528-415F-864A-861B122A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1363-63EC-42FC-99DA-8655854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3558A-32E8-46C2-A3D2-CE23D575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F722-8CCB-421E-8295-A9C5D094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D781-F8CC-49A5-8970-4CD1DA15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07BF-76F6-470B-911B-D1BD8F713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4793A-0628-4DFB-A40D-737C9D29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3286-95ED-4CD2-9706-15FFF084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B644A-09B1-4432-B0AB-177297A3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ACAE0-99B4-4902-9733-B1D944CE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32BF-E32E-45F9-BDE2-D40834C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61471-742F-475B-8B44-17EFDDC4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8875-C47D-40CB-BA8F-66A89610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15056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23518-66D9-4FC8-8FA0-42D98367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4FE5D-45E5-49F1-A915-544A3DC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AE2E-146F-422D-BA08-19229512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C23C5-8279-4F9D-881D-FC41397A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A113-8C8E-4F3D-86A1-7B511B22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F1F1-C4DB-4E3D-A8F3-D1BD0DB0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97B13-5074-4336-85F2-79F29EF0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7FF-3579-41A2-A9DB-55482A8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50560" y="-1526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993-F381-484A-8D45-D0192D10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5248-E666-429F-96B7-AD9EC476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C15-3C8E-4787-8285-E6C2B66F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7B8-EE3E-43DE-AD48-D6FF5B99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525600"/>
            <a:ext cx="3286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830160"/>
            <a:ext cx="3841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9a6a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77880"/>
            <a:ext cx="3063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460440" y="10584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ea0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0560" y="-15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a6a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9673-DBE1-46A9-98BE-43B861F9A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6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59a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9a6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49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7e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ea0d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ea0d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ea0d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ea0d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ea0d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37A-21FA-4455-B8FF-1B901CC27359}" type="slidenum">
              <a:rPr b="0" lang="en-US" sz="1400" spc="-1" strike="noStrike">
                <a:solidFill>
                  <a:srgbClr val="7ea0d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ea0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59a6a2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9a6a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43B7-7D88-489C-9F1D-D7441271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137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59a6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9a6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140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7e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ea0d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ea0d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ea0d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ea0d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ea0d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FAA1-EAB6-417E-9FF7-E9F1C0DD62D0}" type="slidenum">
              <a:rPr b="0" lang="en-US" sz="1400" spc="-1" strike="noStrike">
                <a:solidFill>
                  <a:srgbClr val="7ea0d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ea0d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package" Target="../embeddings/oleObject1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Mise au point d’une technique de typage des papillomavirus humains impliqués dans le cancer du col de l’utérus :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333399"/>
                </a:solidFill>
                <a:latin typeface="Arial"/>
              </a:rPr>
              <a:t>Hybridation moléculaire sur biopuces à ADN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ésumé de notre approche diagnostiqu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96960" y="2209680"/>
          <a:ext cx="7748640" cy="24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6960" y="2209680"/>
                    <a:ext cx="7748640" cy="24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Principe du typage sur biopu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191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mplification d’un fragment spécifique du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genr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pillomaviru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vec des oligonucléotides </a:t>
            </a:r>
            <a:r>
              <a:rPr b="0" lang="fr-FR" sz="1400" spc="-1" strike="noStrike">
                <a:solidFill>
                  <a:srgbClr val="ff0000"/>
                </a:solidFill>
                <a:latin typeface="Arial"/>
              </a:rPr>
              <a:t>FLUORESC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MY09 et MY11 modifié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tilisation de dUTP (A, C, G, T ) et d’UNG afin d’éliminer une contamination par des produits PCR antérieu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ybridation moléculaire sur des oligonucléotides complémentaires de région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spécifiques des typ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015520" y="1901880"/>
            <a:ext cx="3683880" cy="612720"/>
            <a:chOff x="5015520" y="1901880"/>
            <a:chExt cx="3683880" cy="612720"/>
          </a:xfrm>
        </p:grpSpPr>
        <p:sp>
          <p:nvSpPr>
            <p:cNvPr id="192" name=""/>
            <p:cNvSpPr/>
            <p:nvPr/>
          </p:nvSpPr>
          <p:spPr>
            <a:xfrm>
              <a:off x="5181480" y="2031840"/>
              <a:ext cx="3505320" cy="393840"/>
            </a:xfrm>
            <a:custGeom>
              <a:avLst/>
              <a:gdLst/>
              <a:ahLst/>
              <a:rect l="l" t="t" r="r" b="b"/>
              <a:pathLst>
                <a:path w="2208" h="248">
                  <a:moveTo>
                    <a:pt x="0" y="168"/>
                  </a:moveTo>
                  <a:cubicBezTo>
                    <a:pt x="64" y="148"/>
                    <a:pt x="128" y="128"/>
                    <a:pt x="192" y="120"/>
                  </a:cubicBezTo>
                  <a:cubicBezTo>
                    <a:pt x="256" y="112"/>
                    <a:pt x="320" y="104"/>
                    <a:pt x="384" y="120"/>
                  </a:cubicBezTo>
                  <a:cubicBezTo>
                    <a:pt x="448" y="136"/>
                    <a:pt x="496" y="200"/>
                    <a:pt x="576" y="216"/>
                  </a:cubicBezTo>
                  <a:cubicBezTo>
                    <a:pt x="656" y="232"/>
                    <a:pt x="760" y="248"/>
                    <a:pt x="864" y="216"/>
                  </a:cubicBezTo>
                  <a:cubicBezTo>
                    <a:pt x="968" y="184"/>
                    <a:pt x="1088" y="48"/>
                    <a:pt x="1200" y="24"/>
                  </a:cubicBezTo>
                  <a:cubicBezTo>
                    <a:pt x="1312" y="0"/>
                    <a:pt x="1448" y="56"/>
                    <a:pt x="1536" y="72"/>
                  </a:cubicBezTo>
                  <a:cubicBezTo>
                    <a:pt x="1624" y="88"/>
                    <a:pt x="1672" y="96"/>
                    <a:pt x="1728" y="120"/>
                  </a:cubicBezTo>
                  <a:cubicBezTo>
                    <a:pt x="1784" y="144"/>
                    <a:pt x="1808" y="200"/>
                    <a:pt x="1872" y="216"/>
                  </a:cubicBezTo>
                  <a:cubicBezTo>
                    <a:pt x="1936" y="232"/>
                    <a:pt x="2056" y="232"/>
                    <a:pt x="2112" y="216"/>
                  </a:cubicBezTo>
                  <a:cubicBezTo>
                    <a:pt x="2168" y="200"/>
                    <a:pt x="2188" y="160"/>
                    <a:pt x="2208" y="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94440" y="2120760"/>
              <a:ext cx="3504960" cy="393840"/>
            </a:xfrm>
            <a:custGeom>
              <a:avLst/>
              <a:gdLst/>
              <a:ahLst/>
              <a:rect l="l" t="t" r="r" b="b"/>
              <a:pathLst>
                <a:path w="2208" h="248">
                  <a:moveTo>
                    <a:pt x="0" y="168"/>
                  </a:moveTo>
                  <a:cubicBezTo>
                    <a:pt x="64" y="148"/>
                    <a:pt x="128" y="128"/>
                    <a:pt x="192" y="120"/>
                  </a:cubicBezTo>
                  <a:cubicBezTo>
                    <a:pt x="256" y="112"/>
                    <a:pt x="320" y="104"/>
                    <a:pt x="384" y="120"/>
                  </a:cubicBezTo>
                  <a:cubicBezTo>
                    <a:pt x="448" y="136"/>
                    <a:pt x="496" y="200"/>
                    <a:pt x="576" y="216"/>
                  </a:cubicBezTo>
                  <a:cubicBezTo>
                    <a:pt x="656" y="232"/>
                    <a:pt x="760" y="248"/>
                    <a:pt x="864" y="216"/>
                  </a:cubicBezTo>
                  <a:cubicBezTo>
                    <a:pt x="968" y="184"/>
                    <a:pt x="1088" y="48"/>
                    <a:pt x="1200" y="24"/>
                  </a:cubicBezTo>
                  <a:cubicBezTo>
                    <a:pt x="1312" y="0"/>
                    <a:pt x="1448" y="56"/>
                    <a:pt x="1536" y="72"/>
                  </a:cubicBezTo>
                  <a:cubicBezTo>
                    <a:pt x="1624" y="88"/>
                    <a:pt x="1672" y="96"/>
                    <a:pt x="1728" y="120"/>
                  </a:cubicBezTo>
                  <a:cubicBezTo>
                    <a:pt x="1784" y="144"/>
                    <a:pt x="1808" y="200"/>
                    <a:pt x="1872" y="216"/>
                  </a:cubicBezTo>
                  <a:cubicBezTo>
                    <a:pt x="1936" y="232"/>
                    <a:pt x="2056" y="232"/>
                    <a:pt x="2112" y="216"/>
                  </a:cubicBezTo>
                  <a:cubicBezTo>
                    <a:pt x="2168" y="200"/>
                    <a:pt x="2188" y="160"/>
                    <a:pt x="2208" y="1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520" y="19018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AD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952880" y="4572000"/>
            <a:ext cx="3886200" cy="1219320"/>
            <a:chOff x="4952880" y="4572000"/>
            <a:chExt cx="3886200" cy="1219320"/>
          </a:xfrm>
        </p:grpSpPr>
        <p:sp>
          <p:nvSpPr>
            <p:cNvPr id="196" name=""/>
            <p:cNvSpPr/>
            <p:nvPr/>
          </p:nvSpPr>
          <p:spPr>
            <a:xfrm>
              <a:off x="4952880" y="5257800"/>
              <a:ext cx="3886200" cy="533520"/>
            </a:xfrm>
            <a:prstGeom prst="parallelogram">
              <a:avLst>
                <a:gd name="adj" fmla="val 161868"/>
              </a:avLst>
            </a:prstGeom>
            <a:solidFill>
              <a:srgbClr val="7ea0d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291720" y="5499000"/>
              <a:ext cx="497520" cy="158760"/>
              <a:chOff x="6291720" y="5499000"/>
              <a:chExt cx="497520" cy="158760"/>
            </a:xfrm>
          </p:grpSpPr>
          <p:sp>
            <p:nvSpPr>
              <p:cNvPr id="198" name=""/>
              <p:cNvSpPr/>
              <p:nvPr/>
            </p:nvSpPr>
            <p:spPr>
              <a:xfrm rot="19388400">
                <a:off x="6298920" y="553680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388400">
                <a:off x="6470640" y="5537160"/>
                <a:ext cx="15192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9388400">
                <a:off x="6629400" y="5543280"/>
                <a:ext cx="15192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444000" y="5346720"/>
              <a:ext cx="498240" cy="158760"/>
              <a:chOff x="6444000" y="5346720"/>
              <a:chExt cx="498240" cy="158760"/>
            </a:xfrm>
          </p:grpSpPr>
          <p:sp>
            <p:nvSpPr>
              <p:cNvPr id="202" name=""/>
              <p:cNvSpPr/>
              <p:nvPr/>
            </p:nvSpPr>
            <p:spPr>
              <a:xfrm rot="19388400">
                <a:off x="6451200" y="5384520"/>
                <a:ext cx="15264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9388400">
                <a:off x="6622920" y="538452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9388400">
                <a:off x="6782040" y="5390640"/>
                <a:ext cx="15228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6799680" y="5499000"/>
              <a:ext cx="497520" cy="158760"/>
              <a:chOff x="6799680" y="5499000"/>
              <a:chExt cx="497520" cy="158760"/>
            </a:xfrm>
          </p:grpSpPr>
          <p:sp>
            <p:nvSpPr>
              <p:cNvPr id="206" name=""/>
              <p:cNvSpPr/>
              <p:nvPr/>
            </p:nvSpPr>
            <p:spPr>
              <a:xfrm rot="19388400">
                <a:off x="6806880" y="553680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9388400">
                <a:off x="6978600" y="5537160"/>
                <a:ext cx="15192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9388400">
                <a:off x="7137360" y="5543280"/>
                <a:ext cx="15192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6951960" y="5346720"/>
              <a:ext cx="498240" cy="158760"/>
              <a:chOff x="6951960" y="5346720"/>
              <a:chExt cx="498240" cy="158760"/>
            </a:xfrm>
          </p:grpSpPr>
          <p:sp>
            <p:nvSpPr>
              <p:cNvPr id="210" name=""/>
              <p:cNvSpPr/>
              <p:nvPr/>
            </p:nvSpPr>
            <p:spPr>
              <a:xfrm rot="19388400">
                <a:off x="6959160" y="5384520"/>
                <a:ext cx="15264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9388400">
                <a:off x="7130880" y="538452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9388400">
                <a:off x="7290000" y="5390640"/>
                <a:ext cx="15228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7307640" y="5499000"/>
              <a:ext cx="498240" cy="158760"/>
              <a:chOff x="7307640" y="5499000"/>
              <a:chExt cx="498240" cy="158760"/>
            </a:xfrm>
          </p:grpSpPr>
          <p:sp>
            <p:nvSpPr>
              <p:cNvPr id="214" name=""/>
              <p:cNvSpPr/>
              <p:nvPr/>
            </p:nvSpPr>
            <p:spPr>
              <a:xfrm rot="19388400">
                <a:off x="7314840" y="5536800"/>
                <a:ext cx="15264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9388400">
                <a:off x="7486560" y="553680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9388400">
                <a:off x="7645680" y="5542920"/>
                <a:ext cx="15228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459920" y="5346720"/>
              <a:ext cx="498240" cy="158760"/>
              <a:chOff x="7459920" y="5346720"/>
              <a:chExt cx="498240" cy="158760"/>
            </a:xfrm>
          </p:grpSpPr>
          <p:sp>
            <p:nvSpPr>
              <p:cNvPr id="218" name=""/>
              <p:cNvSpPr/>
              <p:nvPr/>
            </p:nvSpPr>
            <p:spPr>
              <a:xfrm rot="19388400">
                <a:off x="7467120" y="5384520"/>
                <a:ext cx="15264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9388400">
                <a:off x="7638840" y="538452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9388400">
                <a:off x="7797960" y="5390640"/>
                <a:ext cx="15228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5777280" y="5492520"/>
              <a:ext cx="498240" cy="158760"/>
              <a:chOff x="5777280" y="5492520"/>
              <a:chExt cx="498240" cy="158760"/>
            </a:xfrm>
          </p:grpSpPr>
          <p:sp>
            <p:nvSpPr>
              <p:cNvPr id="222" name=""/>
              <p:cNvSpPr/>
              <p:nvPr/>
            </p:nvSpPr>
            <p:spPr>
              <a:xfrm rot="19388400">
                <a:off x="5784480" y="5530320"/>
                <a:ext cx="15264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9388400">
                <a:off x="5956200" y="553032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9388400">
                <a:off x="6115320" y="5536440"/>
                <a:ext cx="15228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929560" y="5340240"/>
              <a:ext cx="498240" cy="158760"/>
              <a:chOff x="5929560" y="5340240"/>
              <a:chExt cx="498240" cy="158760"/>
            </a:xfrm>
          </p:grpSpPr>
          <p:sp>
            <p:nvSpPr>
              <p:cNvPr id="226" name=""/>
              <p:cNvSpPr/>
              <p:nvPr/>
            </p:nvSpPr>
            <p:spPr>
              <a:xfrm rot="19388400">
                <a:off x="5936760" y="5378040"/>
                <a:ext cx="15264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388400">
                <a:off x="6108480" y="5378040"/>
                <a:ext cx="152280" cy="7596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9388400">
                <a:off x="6267600" y="5384160"/>
                <a:ext cx="152280" cy="76320"/>
              </a:xfrm>
              <a:prstGeom prst="ellipse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48520" y="4797360"/>
              <a:ext cx="380880" cy="863280"/>
              <a:chOff x="6248520" y="4797360"/>
              <a:chExt cx="380880" cy="863280"/>
            </a:xfrm>
          </p:grpSpPr>
          <p:sp>
            <p:nvSpPr>
              <p:cNvPr id="230" name=""/>
              <p:cNvSpPr/>
              <p:nvPr/>
            </p:nvSpPr>
            <p:spPr>
              <a:xfrm>
                <a:off x="6248520" y="4797360"/>
                <a:ext cx="380880" cy="838080"/>
              </a:xfrm>
              <a:custGeom>
                <a:avLst/>
                <a:gdLst/>
                <a:ahLst/>
                <a:rect l="l" t="t" r="r" b="b"/>
                <a:pathLst>
                  <a:path w="240" h="336">
                    <a:moveTo>
                      <a:pt x="48" y="0"/>
                    </a:moveTo>
                    <a:cubicBezTo>
                      <a:pt x="24" y="32"/>
                      <a:pt x="0" y="64"/>
                      <a:pt x="0" y="96"/>
                    </a:cubicBezTo>
                    <a:cubicBezTo>
                      <a:pt x="0" y="128"/>
                      <a:pt x="24" y="168"/>
                      <a:pt x="48" y="192"/>
                    </a:cubicBezTo>
                    <a:cubicBezTo>
                      <a:pt x="72" y="216"/>
                      <a:pt x="112" y="216"/>
                      <a:pt x="144" y="240"/>
                    </a:cubicBezTo>
                    <a:cubicBezTo>
                      <a:pt x="176" y="264"/>
                      <a:pt x="208" y="300"/>
                      <a:pt x="240" y="336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6461640" y="5461200"/>
                <a:ext cx="62640" cy="43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6553800" y="5616720"/>
                <a:ext cx="62640" cy="43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528240" y="5578560"/>
                <a:ext cx="62640" cy="43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6509160" y="5540760"/>
                <a:ext cx="62280" cy="43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483960" y="5502240"/>
                <a:ext cx="62640" cy="43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6248520" y="4572000"/>
              <a:ext cx="304560" cy="3049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4572000"/>
              <a:ext cx="97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Biop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015160" y="2781360"/>
            <a:ext cx="3663720" cy="1498680"/>
            <a:chOff x="5015160" y="2781360"/>
            <a:chExt cx="3663720" cy="1498680"/>
          </a:xfrm>
        </p:grpSpPr>
        <p:sp>
          <p:nvSpPr>
            <p:cNvPr id="239" name=""/>
            <p:cNvSpPr/>
            <p:nvPr/>
          </p:nvSpPr>
          <p:spPr>
            <a:xfrm>
              <a:off x="6019920" y="3035160"/>
              <a:ext cx="129528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2200" y="3187800"/>
              <a:ext cx="129528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3340080"/>
              <a:ext cx="129564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77120" y="3492360"/>
              <a:ext cx="129528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3645000"/>
              <a:ext cx="129528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781680" y="3797280"/>
              <a:ext cx="129564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4320" y="3949560"/>
              <a:ext cx="129528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86600" y="4102200"/>
              <a:ext cx="1295280" cy="177840"/>
            </a:xfrm>
            <a:custGeom>
              <a:avLst/>
              <a:gdLst/>
              <a:ahLst/>
              <a:rect l="l" t="t" r="r" b="b"/>
              <a:pathLst>
                <a:path w="816" h="112">
                  <a:moveTo>
                    <a:pt x="0" y="56"/>
                  </a:moveTo>
                  <a:cubicBezTo>
                    <a:pt x="52" y="36"/>
                    <a:pt x="104" y="16"/>
                    <a:pt x="144" y="8"/>
                  </a:cubicBezTo>
                  <a:cubicBezTo>
                    <a:pt x="184" y="0"/>
                    <a:pt x="192" y="0"/>
                    <a:pt x="240" y="8"/>
                  </a:cubicBezTo>
                  <a:cubicBezTo>
                    <a:pt x="288" y="16"/>
                    <a:pt x="368" y="40"/>
                    <a:pt x="432" y="56"/>
                  </a:cubicBezTo>
                  <a:cubicBezTo>
                    <a:pt x="496" y="72"/>
                    <a:pt x="560" y="112"/>
                    <a:pt x="624" y="104"/>
                  </a:cubicBezTo>
                  <a:cubicBezTo>
                    <a:pt x="688" y="96"/>
                    <a:pt x="784" y="24"/>
                    <a:pt x="816" y="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15160" y="301608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PC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034400">
              <a:off x="7421040" y="2989440"/>
              <a:ext cx="304920" cy="30456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034400">
              <a:off x="7238520" y="2819520"/>
              <a:ext cx="304920" cy="30456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034400">
              <a:off x="7573680" y="3141720"/>
              <a:ext cx="304560" cy="3049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034400">
              <a:off x="7725960" y="3294000"/>
              <a:ext cx="304920" cy="3049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34400">
              <a:off x="7878240" y="3446640"/>
              <a:ext cx="304920" cy="30456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34400">
              <a:off x="8030880" y="3598920"/>
              <a:ext cx="304560" cy="3049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034400">
              <a:off x="8183160" y="3751200"/>
              <a:ext cx="304920" cy="30492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034400">
              <a:off x="8335440" y="3903840"/>
              <a:ext cx="304920" cy="304560"/>
            </a:xfrm>
            <a:prstGeom prst="irregularSeal2">
              <a:avLst/>
            </a:prstGeom>
            <a:solidFill>
              <a:srgbClr val="ffcf01"/>
            </a:solidFill>
            <a:ln w="936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38560" y="3530160"/>
            <a:ext cx="304560" cy="228600"/>
            <a:chOff x="3238560" y="3530160"/>
            <a:chExt cx="304560" cy="228600"/>
          </a:xfrm>
        </p:grpSpPr>
        <p:sp>
          <p:nvSpPr>
            <p:cNvPr id="257" name=""/>
            <p:cNvSpPr/>
            <p:nvPr/>
          </p:nvSpPr>
          <p:spPr>
            <a:xfrm>
              <a:off x="3238560" y="3556080"/>
              <a:ext cx="304560" cy="152280"/>
            </a:xfrm>
            <a:prstGeom prst="line">
              <a:avLst/>
            </a:prstGeom>
            <a:ln w="38160">
              <a:solidFill>
                <a:srgbClr val="e8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3238560" y="3530160"/>
              <a:ext cx="228600" cy="228600"/>
            </a:xfrm>
            <a:prstGeom prst="line">
              <a:avLst/>
            </a:prstGeom>
            <a:ln w="38160">
              <a:solidFill>
                <a:srgbClr val="e8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Mise au point de la technique de typage sur biopu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PCR de genre HP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l’hybridation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ntre le fragment PCR et les oligonucléotides fixés sur la biopuce HP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tampon d’hybridation : concentration de formamide désionis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e fluorochrome : Cy5 et Cy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713120" y="3962520"/>
          <a:ext cx="4125960" cy="222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3120" y="3962520"/>
                    <a:ext cx="412596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711680" y="1676520"/>
          <a:ext cx="4124520" cy="222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1680" y="1676520"/>
                    <a:ext cx="412452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sibilité de l’hybrid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ilutions en cascade des produits PCR (jusqu’au 1/256</a:t>
            </a:r>
            <a:r>
              <a:rPr b="0" lang="fr-FR" sz="1600" spc="-1" strike="noStrike" baseline="30000">
                <a:solidFill>
                  <a:srgbClr val="000000"/>
                </a:solidFill>
                <a:latin typeface="Arial"/>
              </a:rPr>
              <a:t>ém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Arial"/>
              </a:rPr>
              <a:t>26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des PCR non dilu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50 ng/µl pour l’HPV 1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0 ng/µl pour l’HPV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5092560" y="1295280"/>
          <a:ext cx="3705480" cy="541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2560" y="1295280"/>
                    <a:ext cx="37054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’hybridation sur biopuces : HPV 16 et 18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26957" t="0" r="30001" b="46814"/>
          <a:stretch/>
        </p:blipFill>
        <p:spPr>
          <a:xfrm>
            <a:off x="6726240" y="1960560"/>
            <a:ext cx="1351080" cy="15368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rcRect l="30959" t="13856" r="25042" b="31599"/>
          <a:stretch/>
        </p:blipFill>
        <p:spPr>
          <a:xfrm>
            <a:off x="5281560" y="196056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rcRect l="28958" t="15897" r="30001" b="48648"/>
          <a:stretch/>
        </p:blipFill>
        <p:spPr>
          <a:xfrm>
            <a:off x="5281560" y="2414520"/>
            <a:ext cx="1289160" cy="1023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rcRect l="30664" t="0" r="26967" b="45455"/>
          <a:stretch/>
        </p:blipFill>
        <p:spPr>
          <a:xfrm>
            <a:off x="5294160" y="3616200"/>
            <a:ext cx="1381320" cy="15368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rcRect l="25626" t="0" r="32376" b="45455"/>
          <a:stretch/>
        </p:blipFill>
        <p:spPr>
          <a:xfrm>
            <a:off x="6757920" y="3616200"/>
            <a:ext cx="1319400" cy="153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"/>
          <p:cNvGraphicFramePr/>
          <p:nvPr/>
        </p:nvGraphicFramePr>
        <p:xfrm>
          <a:off x="1752480" y="1762200"/>
          <a:ext cx="1982880" cy="343224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52480" y="1762200"/>
                    <a:ext cx="198288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7" name=""/>
          <p:cNvGrpSpPr/>
          <p:nvPr/>
        </p:nvGrpSpPr>
        <p:grpSpPr>
          <a:xfrm>
            <a:off x="1752480" y="2001960"/>
            <a:ext cx="1312920" cy="367920"/>
            <a:chOff x="1752480" y="2001960"/>
            <a:chExt cx="1312920" cy="367920"/>
          </a:xfrm>
        </p:grpSpPr>
        <p:sp>
          <p:nvSpPr>
            <p:cNvPr id="278" name=""/>
            <p:cNvSpPr/>
            <p:nvPr/>
          </p:nvSpPr>
          <p:spPr>
            <a:xfrm>
              <a:off x="2409480" y="2001960"/>
              <a:ext cx="655920" cy="12276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52480" y="2124720"/>
              <a:ext cx="657000" cy="24516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403360" y="1884240"/>
            <a:ext cx="1320840" cy="244080"/>
            <a:chOff x="2403360" y="1884240"/>
            <a:chExt cx="1320840" cy="244080"/>
          </a:xfrm>
        </p:grpSpPr>
        <p:sp>
          <p:nvSpPr>
            <p:cNvPr id="281" name=""/>
            <p:cNvSpPr/>
            <p:nvPr/>
          </p:nvSpPr>
          <p:spPr>
            <a:xfrm>
              <a:off x="2403360" y="1884240"/>
              <a:ext cx="1320840" cy="122040"/>
            </a:xfrm>
            <a:prstGeom prst="rect">
              <a:avLst/>
            </a:prstGeom>
            <a:solidFill>
              <a:srgbClr val="59a6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65400" y="2006280"/>
              <a:ext cx="656280" cy="122040"/>
            </a:xfrm>
            <a:prstGeom prst="rect">
              <a:avLst/>
            </a:prstGeom>
            <a:solidFill>
              <a:srgbClr val="59a6a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752480" y="1889280"/>
            <a:ext cx="657360" cy="607320"/>
            <a:chOff x="1752480" y="1889280"/>
            <a:chExt cx="657360" cy="607320"/>
          </a:xfrm>
        </p:grpSpPr>
        <p:sp>
          <p:nvSpPr>
            <p:cNvPr id="284" name=""/>
            <p:cNvSpPr/>
            <p:nvPr/>
          </p:nvSpPr>
          <p:spPr>
            <a:xfrm>
              <a:off x="1752480" y="2374560"/>
              <a:ext cx="652680" cy="12204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52480" y="1889280"/>
              <a:ext cx="657360" cy="2448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752480" y="1752480"/>
            <a:ext cx="1973520" cy="123840"/>
          </a:xfrm>
          <a:prstGeom prst="rect">
            <a:avLst/>
          </a:prstGeom>
          <a:solidFill>
            <a:srgbClr val="e8131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30545" t="0" r="49654" b="58821"/>
          <a:stretch/>
        </p:blipFill>
        <p:spPr>
          <a:xfrm>
            <a:off x="1392120" y="3978360"/>
            <a:ext cx="735120" cy="1643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rcRect l="26810" t="0" r="48263" b="44655"/>
          <a:stretch/>
        </p:blipFill>
        <p:spPr>
          <a:xfrm>
            <a:off x="2176560" y="1217520"/>
            <a:ext cx="742680" cy="16606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rcRect l="46650" t="0" r="28377" b="46673"/>
          <a:stretch/>
        </p:blipFill>
        <p:spPr>
          <a:xfrm>
            <a:off x="2184480" y="3987720"/>
            <a:ext cx="734760" cy="1650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rcRect l="14730" t="5333" r="48457" b="5556"/>
          <a:stretch/>
        </p:blipFill>
        <p:spPr>
          <a:xfrm>
            <a:off x="2975040" y="3992400"/>
            <a:ext cx="735120" cy="1646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rcRect l="14113" t="10944" r="46010" b="-498"/>
          <a:stretch/>
        </p:blipFill>
        <p:spPr>
          <a:xfrm>
            <a:off x="2965320" y="1217520"/>
            <a:ext cx="744840" cy="1663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>
            <a:lum contrast="18000"/>
          </a:blip>
          <a:srcRect l="53537" t="20925" r="26692" b="36889"/>
          <a:stretch/>
        </p:blipFill>
        <p:spPr>
          <a:xfrm>
            <a:off x="3767040" y="1217520"/>
            <a:ext cx="741600" cy="16606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>
            <a:lum contrast="42000"/>
          </a:blip>
          <a:srcRect l="35534" t="35357" r="43353" b="19459"/>
          <a:stretch/>
        </p:blipFill>
        <p:spPr>
          <a:xfrm>
            <a:off x="3767040" y="3987720"/>
            <a:ext cx="746280" cy="1650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"/>
          <a:srcRect l="29192" t="570" r="51072" b="57992"/>
          <a:stretch/>
        </p:blipFill>
        <p:spPr>
          <a:xfrm>
            <a:off x="1392120" y="1217520"/>
            <a:ext cx="744480" cy="1660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9">
            <a:lum contrast="36000"/>
          </a:blip>
          <a:srcRect l="7942" t="3563" r="54172" b="20210"/>
          <a:stretch/>
        </p:blipFill>
        <p:spPr>
          <a:xfrm>
            <a:off x="4565520" y="1214280"/>
            <a:ext cx="747720" cy="16671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0"/>
          <a:srcRect l="42750" t="37414" r="31602" b="10674"/>
          <a:stretch/>
        </p:blipFill>
        <p:spPr>
          <a:xfrm>
            <a:off x="5367240" y="1219320"/>
            <a:ext cx="746280" cy="16621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1"/>
          <a:srcRect l="26370" t="26595" r="53222" b="26728"/>
          <a:stretch/>
        </p:blipFill>
        <p:spPr>
          <a:xfrm>
            <a:off x="6180120" y="1219320"/>
            <a:ext cx="741240" cy="1663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2"/>
          <a:srcRect l="25009" t="26575" r="52409" b="27351"/>
          <a:stretch/>
        </p:blipFill>
        <p:spPr>
          <a:xfrm>
            <a:off x="6999120" y="1211400"/>
            <a:ext cx="744840" cy="1670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3"/>
          <a:srcRect l="0" t="7609" r="47283" b="5422"/>
          <a:stretch/>
        </p:blipFill>
        <p:spPr>
          <a:xfrm>
            <a:off x="4578480" y="3998880"/>
            <a:ext cx="744480" cy="16398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4"/>
          <a:srcRect l="28860" t="9902" r="48454" b="44702"/>
          <a:stretch/>
        </p:blipFill>
        <p:spPr>
          <a:xfrm>
            <a:off x="6205680" y="3992400"/>
            <a:ext cx="747720" cy="16462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5"/>
          <a:srcRect l="25157" t="1630" r="48900" b="46074"/>
          <a:stretch/>
        </p:blipFill>
        <p:spPr>
          <a:xfrm>
            <a:off x="7018200" y="3992400"/>
            <a:ext cx="744840" cy="16434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388120" y="3998880"/>
            <a:ext cx="744480" cy="163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422360" y="3672000"/>
            <a:ext cx="73915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V16      HPV18       HPV31        HPV33        HPV35        HPV45       HPV58        HPV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914400"/>
            <a:ext cx="7391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V16      HPV18       HPV31        HPV33        HPV35       HPV45      HPV58          HPV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Arial"/>
              </a:rPr>
              <a:t>Les co-infections HPV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5410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épistage de 2 génotypes différ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9a6a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 séquençage ne détectant que la population majori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828800" y="1631880"/>
          <a:ext cx="1889280" cy="32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31880"/>
                    <a:ext cx="188928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9" name=""/>
          <p:cNvGrpSpPr/>
          <p:nvPr/>
        </p:nvGrpSpPr>
        <p:grpSpPr>
          <a:xfrm>
            <a:off x="1841400" y="3479760"/>
            <a:ext cx="1866600" cy="345600"/>
            <a:chOff x="1841400" y="3479760"/>
            <a:chExt cx="1866600" cy="345600"/>
          </a:xfrm>
        </p:grpSpPr>
        <p:sp>
          <p:nvSpPr>
            <p:cNvPr id="310" name=""/>
            <p:cNvSpPr/>
            <p:nvPr/>
          </p:nvSpPr>
          <p:spPr>
            <a:xfrm>
              <a:off x="3087720" y="3594960"/>
              <a:ext cx="620280" cy="11484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41400" y="3479760"/>
              <a:ext cx="620280" cy="115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41400" y="3710160"/>
              <a:ext cx="620280" cy="115200"/>
            </a:xfrm>
            <a:prstGeom prst="rect">
              <a:avLst/>
            </a:prstGeom>
            <a:solidFill>
              <a:srgbClr val="ffcf01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3"/>
          <a:srcRect l="29575" t="0" r="30818" b="42433"/>
          <a:stretch/>
        </p:blipFill>
        <p:spPr>
          <a:xfrm>
            <a:off x="5715000" y="1708200"/>
            <a:ext cx="2065320" cy="286236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1828800" y="1741320"/>
            <a:ext cx="635040" cy="582480"/>
            <a:chOff x="1828800" y="1741320"/>
            <a:chExt cx="635040" cy="582480"/>
          </a:xfrm>
        </p:grpSpPr>
        <p:sp>
          <p:nvSpPr>
            <p:cNvPr id="315" name=""/>
            <p:cNvSpPr/>
            <p:nvPr/>
          </p:nvSpPr>
          <p:spPr>
            <a:xfrm>
              <a:off x="1828800" y="2206800"/>
              <a:ext cx="630720" cy="11700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28800" y="1741320"/>
              <a:ext cx="635040" cy="234720"/>
            </a:xfrm>
            <a:prstGeom prst="rect">
              <a:avLst/>
            </a:prstGeom>
            <a:solidFill>
              <a:srgbClr val="00e4a8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3:09:30Z</dcterms:created>
  <dc:creator>valerie albrecht</dc:creator>
  <dc:description/>
  <dc:language>en-US</dc:language>
  <cp:lastModifiedBy>FORMATION</cp:lastModifiedBy>
  <dcterms:modified xsi:type="dcterms:W3CDTF">2005-11-22T12:31:17Z</dcterms:modified>
  <cp:revision>137</cp:revision>
  <dc:subject/>
  <dc:title>Mise au point d’une technique de génotypage des papillomavirus humains impliqués dans le cancer du col de l’utérus: hybridation moléculaire sur biopuces à ADN</dc:title>
</cp:coreProperties>
</file>