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7716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Bookman Old Styl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03240" y="4703760"/>
            <a:ext cx="49658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Bookman Old Styl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EE06-7E9B-461A-BE50-DA0C3BF21129}" type="slidenum">
              <a:rPr b="1" lang="fr-FR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3688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098-2417-40B6-9FC7-EB1CF14D9D1E}" type="slidenum">
              <a:rPr b="1" lang="fr-FR" sz="1200" spc="-1" strike="noStrike">
                <a:solidFill>
                  <a:srgbClr val="ffffff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940752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Bookman Old Styl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Bookman Old Styl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36880" y="0"/>
            <a:ext cx="2935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071720" y="231840"/>
            <a:ext cx="4627440" cy="34700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3240" y="4719600"/>
            <a:ext cx="496584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0E8-1614-462B-AD73-889BCB23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BFD-CE79-45F3-9B52-FB3F8425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7A4-97D7-46C4-AA57-D54807EC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469-8F8A-4D33-97ED-BC2AA4A43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A89E-ECC5-437E-B3EF-280BC7883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A53D-E3C3-4F97-946E-21A0C2B5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5E87-5CAC-4A62-B486-BC27C487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5DF9-474D-4DE4-8069-11CFF073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C51C-953B-4D85-ABC1-C44EF195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9B43-48E2-4ADC-8FEF-C9E8555C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01F3-A725-444C-8EC1-0DA580FE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3A8-8AE7-4D53-9293-34F9C0B4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066A-54AE-418A-9C77-7A76A491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3C5B-19EB-4D45-8E2B-00F6DDA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D70-F09D-4B86-BFBC-8402E4CF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BAB1-E359-4C02-B9EE-5B3AFD0F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0986-72C6-4095-9CD3-BDC0F7F9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F4B-4198-46EC-9EC9-5F1592A3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57E-82D8-4376-837E-9EC9D393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664-CF9D-4DB8-AABC-613283D4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E28-253F-4F16-B340-3DC2C053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330-1B92-4D14-8A7A-E363D237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6B3-F37A-42EA-8A9B-CCF4E21D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BE6-9FB2-4FBC-8C7C-310E0E3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202C-9ADD-4169-9DDF-5FA801F27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FC4D-307D-4166-ADE5-55EC6091F9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04640" y="4572000"/>
            <a:ext cx="4874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ffff"/>
                </a:solidFill>
                <a:latin typeface="Times New Roman"/>
              </a:rPr>
              <a:t>Syria LAPER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Centre National de Référence pour la surveil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des Hépatites B et C en Transfu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Institut National de la Transfusion Sanguine, Par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219320"/>
            <a:ext cx="7696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épistage combiné des anticorps et de l’antigène de capside du VHC : alternative au dépistage génomique vira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228600"/>
            <a:ext cx="30812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9933"/>
                </a:solidFill>
                <a:latin typeface="Times New Roman"/>
              </a:rPr>
              <a:t>CVV, Paris le 22 novembre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094-55CD-4BF5-8E68-42F3E9961D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95280" y="1143000"/>
            <a:ext cx="76964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Le dépistage des anti-HCV doit être  poursuivi même en cas de DGV unitai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304812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ffff"/>
                </a:solidFill>
                <a:latin typeface="Times New Roman"/>
              </a:rPr>
              <a:t>La  détection simultanée de l’antigène de capside et des anticorps HCV peut elle être une alternative au DGV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1E2A-D069-4F1C-9DA2-A2F7C389D7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HCV%20reaction%20sans%20génome" descr=""/>
          <p:cNvPicPr/>
          <p:nvPr/>
        </p:nvPicPr>
        <p:blipFill>
          <a:blip r:embed="rId1"/>
          <a:stretch/>
        </p:blipFill>
        <p:spPr>
          <a:xfrm>
            <a:off x="1371600" y="344520"/>
            <a:ext cx="7162920" cy="607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845-B187-4CBE-A431-B8BA83E9E5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Objectifs du travai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90720" y="1905120"/>
            <a:ext cx="7696080" cy="39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er les performances de Monolisa HCV Ag-Ab Ultra dans la détection de l’infection précoce (fenêtre sérologiq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r ces performances avec le DGV en pool utilisé en routine en Fr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er la spécificité de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lisa HCV Ag-Ab Ultra assay dans la population des donneurs de sa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2FE-7F7A-43B7-A95F-517875850B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066680" y="1752480"/>
            <a:ext cx="769644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fr-FR" sz="3200" spc="-1" strike="noStrike">
                <a:solidFill>
                  <a:srgbClr val="00ffff"/>
                </a:solidFill>
                <a:latin typeface="Times New Roman"/>
              </a:rPr>
              <a:t>Sensibilit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RN HCV positifs/anti-HCV négatifs provenant de 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7 échantillons de 10 panels commerciaux de séroconversion HCV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049"/>
              </a:spcBef>
              <a:buClr>
                <a:srgbClr val="cc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1 pré-seroconver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049"/>
              </a:spcBef>
              <a:buClr>
                <a:srgbClr val="cc99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 post-seroconver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049"/>
              </a:spcBef>
              <a:buClr>
                <a:srgbClr val="cc99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Panels (1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09E-CEE2-43E8-9143-CA69893ABF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66680" y="1981080"/>
            <a:ext cx="769644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ffff"/>
                </a:solidFill>
                <a:latin typeface="Times New Roman"/>
              </a:rPr>
              <a:t>Spécificité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50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ns de sang consécutif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s résultats obtenus ont été comparés avec ceux du réactif EIA de dépistage utilisé en routine (Prism HCV, Abbot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Panels (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5B0-2686-46F8-A194-5AFAD966B1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Méthod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733400"/>
            <a:ext cx="769608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lisa HCV Ag-Ab Ultra assay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876"/>
              </a:spcBef>
              <a:buClr>
                <a:srgbClr val="cc99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f : DO/cut-off ratio &gt; ou = égal à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876"/>
              </a:spcBef>
              <a:buClr>
                <a:srgbClr val="cc99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ne Grise : 1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876"/>
              </a:spcBef>
              <a:buClr>
                <a:srgbClr val="cc99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réactifs de dépistage des anti- HCV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876"/>
              </a:spcBef>
              <a:buClr>
                <a:srgbClr val="cc99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lisa anti-HCV Plus version 2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Bior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876"/>
              </a:spcBef>
              <a:buClr>
                <a:srgbClr val="cc99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sm HCV (Abbot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procédures de DGV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876"/>
              </a:spcBef>
              <a:buClr>
                <a:srgbClr val="cc99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MA Chiron en pools de 8 don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876"/>
              </a:spcBef>
              <a:buClr>
                <a:srgbClr val="cc99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che molecular system en pools de 24 d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EE23-0BBB-440B-B7A7-E72DD21947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609480" y="1219320"/>
          <a:ext cx="8077320" cy="4566960"/>
        </p:xfrm>
        <a:graphic>
          <a:graphicData uri="http://schemas.openxmlformats.org/drawingml/2006/table">
            <a:tbl>
              <a:tblPr/>
              <a:tblGrid>
                <a:gridCol w="609840"/>
                <a:gridCol w="1066680"/>
                <a:gridCol w="838080"/>
                <a:gridCol w="876600"/>
                <a:gridCol w="1638000"/>
                <a:gridCol w="1295640"/>
                <a:gridCol w="17524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C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Contexte cliniq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Génoty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ARN 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CV (IU/ml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CV core Ag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blood screening ass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(S/C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trak-C assa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(pg/mL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Monolisa HCV Ag/A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ULT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(S/CO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P</a:t>
                      </a:r>
                      <a:r>
                        <a:rPr b="0" i="1" lang="en-US" sz="900" spc="-1" strike="noStrike">
                          <a:solidFill>
                            <a:srgbClr val="ff28b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6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20.6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183.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5.9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</a:t>
                      </a:r>
                      <a:r>
                        <a:rPr b="0" i="1" lang="en-US" sz="900" spc="-1" strike="noStrike">
                          <a:solidFill>
                            <a:srgbClr val="ff28b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x 10</a:t>
                      </a:r>
                      <a:r>
                        <a:rPr b="0" lang="nl-NL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2.1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48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(0.6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P</a:t>
                      </a:r>
                      <a:r>
                        <a:rPr b="0" i="1" lang="en-US" sz="900" spc="-1" strike="noStrike">
                          <a:solidFill>
                            <a:srgbClr val="ff28b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a/2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20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&gt;21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 grise (0.9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P</a:t>
                      </a:r>
                      <a:r>
                        <a:rPr b="0" i="1" lang="en-US" sz="900" spc="-1" strike="noStrike">
                          <a:solidFill>
                            <a:srgbClr val="ff28b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5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3.0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51.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(0.4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P</a:t>
                      </a:r>
                      <a:r>
                        <a:rPr b="0" i="1" lang="en-US" sz="900" spc="-1" strike="noStrike">
                          <a:solidFill>
                            <a:srgbClr val="ff28b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6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(0.2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2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(0.1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P</a:t>
                      </a:r>
                      <a:r>
                        <a:rPr b="0" i="1" lang="en-US" sz="900" spc="-1" strike="noStrike">
                          <a:solidFill>
                            <a:srgbClr val="ff28b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&gt;53.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&gt;21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&gt;6.6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P</a:t>
                      </a:r>
                      <a:r>
                        <a:rPr b="0" i="1" lang="en-US" sz="9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7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49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&gt;21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ne grise (0.9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</a:t>
                      </a:r>
                      <a:r>
                        <a:rPr b="0" i="1" lang="en-US" sz="900" spc="-1" strike="noStrike">
                          <a:solidFill>
                            <a:srgbClr val="ff28b8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7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&gt;217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1.2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P</a:t>
                      </a:r>
                      <a:r>
                        <a:rPr b="0" i="1" lang="en-US" sz="9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2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(0.4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15.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(0.1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</a:t>
                      </a:r>
                      <a:r>
                        <a:rPr b="0" i="1" lang="en-US" sz="9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5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9.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&gt;27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2.5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? </a:t>
                      </a:r>
                      <a:r>
                        <a:rPr b="0" i="1" lang="en-US" sz="9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1.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10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(0.1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P</a:t>
                      </a:r>
                      <a:r>
                        <a:rPr b="0" i="1" lang="en-US" sz="9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8 x 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38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(&gt;24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(0,5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? </a:t>
                      </a:r>
                      <a:r>
                        <a:rPr b="0" i="1" lang="en-US" sz="9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1x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2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(1.0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(0.23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0666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ffff"/>
                </a:solidFill>
                <a:latin typeface="Times New Roman"/>
              </a:rPr>
              <a:t>Résultats (1)</a:t>
            </a:r>
            <a:br>
              <a:rPr sz="4400"/>
            </a:br>
            <a:r>
              <a:rPr b="0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chantillons de13 dons ARN HCV positifs/anti-HCV négati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28b8"/>
                </a:solidFill>
                <a:latin typeface="Times New Roman"/>
                <a:ea typeface="Times New Roman"/>
              </a:rPr>
              <a:t>*  identifié par DGV HCV sur pools de plasmas destinés au fractionnement  </a:t>
            </a:r>
            <a:r>
              <a:rPr b="0" i="1" lang="en-US" sz="1800" spc="-1" strike="noStrike">
                <a:solidFill>
                  <a:srgbClr val="ff28b8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i="1" lang="en-US" sz="1400" spc="-1" strike="noStrike">
                <a:solidFill>
                  <a:srgbClr val="99ff66"/>
                </a:solidFill>
                <a:latin typeface="Times New Roman"/>
                <a:ea typeface="Times New Roman"/>
              </a:rPr>
              <a:t>** identifiés par DGV en rout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6320" y="5943600"/>
            <a:ext cx="50076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9/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23520" y="5943600"/>
            <a:ext cx="59076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/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48200" y="5943600"/>
            <a:ext cx="500760" cy="307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6/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125-69D2-44E4-B8DC-C2FAB75499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Relation entre les ratios Ag-Ab assay et l’ARN-HCV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170000" y="1676520"/>
          <a:ext cx="7772400" cy="43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676520"/>
                    <a:ext cx="7772400" cy="43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 rot="16200000">
            <a:off x="534600" y="297504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OD/cut 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77120" y="60199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NA HCV IU/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C22-2CA9-4FAC-AD65-AB163C7EF6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0666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ffff"/>
                </a:solidFill>
                <a:latin typeface="Times New Roman"/>
              </a:rPr>
              <a:t>Résultats (2)</a:t>
            </a:r>
            <a:br>
              <a:rPr sz="4400"/>
            </a:br>
            <a:r>
              <a:rPr b="0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panels de SC : échantillons prélevés après la séroconversion (n =2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80880" y="1295280"/>
          <a:ext cx="8610840" cy="4645080"/>
        </p:xfrm>
        <a:graphic>
          <a:graphicData uri="http://schemas.openxmlformats.org/drawingml/2006/table">
            <a:tbl>
              <a:tblPr/>
              <a:tblGrid>
                <a:gridCol w="1133640"/>
                <a:gridCol w="1066680"/>
                <a:gridCol w="1068480"/>
                <a:gridCol w="1069920"/>
                <a:gridCol w="1066680"/>
                <a:gridCol w="1068480"/>
                <a:gridCol w="765360"/>
                <a:gridCol w="182520"/>
                <a:gridCol w="182520"/>
                <a:gridCol w="1006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Pane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Génoty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N éch testé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N éch. anti HC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positif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N éch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MP DGV positif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N éch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CV Ag-A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ris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onoli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Positif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90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90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90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BI 9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b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</a:t>
                      </a: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</a:t>
                      </a: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BI 9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04920" y="594360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1) 1 échantillon prélevé 61 jours après la séroconversion non détecté : CV &lt;400IU/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) 2 échantillons prélevés 61 jours et 67 jours après la séroconversion non détecté : CV &lt;400IU/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67A5-3C70-49E2-A1D2-2A3FB3C869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5800" y="1119240"/>
          <a:ext cx="8001000" cy="528156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Pane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Anti- HCV ne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P DGV positif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CV Ag-Ab </a:t>
                      </a:r>
                      <a:r>
                        <a:rPr b="0" lang="fr-FR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positif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Déla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ent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P x8 (TM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P x24 (Roch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Biorad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MP DG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et HC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Ag -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HCV Ag-Ab et anti-HCV E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62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 j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90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90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 j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CP 90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BI 9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2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BI 9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j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70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Délai moy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5.11 jo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Délai moy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FR" sz="14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26.8 jou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609480" y="6553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Panels exclus du cacul de la moyenne du à une séquence dans les prélèvements non opti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ffff"/>
                </a:solidFill>
                <a:latin typeface="Times New Roman"/>
              </a:rPr>
              <a:t>Résultats (3)</a:t>
            </a:r>
            <a:br>
              <a:rPr sz="4400"/>
            </a:br>
            <a:r>
              <a:rPr b="0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nels de SC : échantillons prélevés avant la séroconversion (n=8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BDAD-FACB-4A20-879A-52494B2A37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380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Prévention du risque viral  transfusionnel en France</a:t>
            </a:r>
            <a:r>
              <a:rPr b="0" i="1" lang="en-GB" sz="1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95320" y="1371600"/>
            <a:ext cx="89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133668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1971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gHBs E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95320" y="2057400"/>
            <a:ext cx="89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133668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1985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anti-HIV-1 E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95320" y="2666880"/>
            <a:ext cx="89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1336680"/>
                <a:tab algn="r" pos="80010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1988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anti-HBc + AL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suspendu en Dec 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95320" y="3352680"/>
            <a:ext cx="89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133668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1989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anti-HIV-1/-2 E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95320" y="3962520"/>
            <a:ext cx="89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133668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1990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ti-HCV E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5320" y="4648320"/>
            <a:ext cx="89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1336680"/>
                <a:tab algn="l" pos="695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1991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anti-HTLV-I E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95320" y="5257800"/>
            <a:ext cx="93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1336680"/>
                <a:tab algn="l" pos="64771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(1998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Déleucocyt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95320" y="5867280"/>
            <a:ext cx="93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7200"/>
                <a:tab algn="l" pos="1336680"/>
                <a:tab algn="l" pos="695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2001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DGV  HIV-1  HC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C52-1A79-4437-8805-25A98D3947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53960" y="1211400"/>
          <a:ext cx="8088480" cy="457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1211400"/>
                    <a:ext cx="8088480" cy="45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 rot="16200000">
            <a:off x="-174600" y="3006720"/>
            <a:ext cx="109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OD/cut o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7674120" y="2997360"/>
            <a:ext cx="212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CV-RNA log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IU/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24240" y="571500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élai (jour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2895480"/>
            <a:ext cx="152640" cy="838440"/>
          </a:xfrm>
          <a:prstGeom prst="downArrow">
            <a:avLst>
              <a:gd name="adj1" fmla="val 50000"/>
              <a:gd name="adj2" fmla="val 137323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85600" y="152280"/>
            <a:ext cx="32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ffff"/>
                </a:solidFill>
                <a:latin typeface="Times New Roman"/>
              </a:rPr>
              <a:t>Panel BCP 622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4343400"/>
            <a:ext cx="647712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190512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</a:rPr>
              <a:t>ARN - HC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2920" y="28954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28b8"/>
                </a:solidFill>
                <a:latin typeface="Times New Roman"/>
              </a:rPr>
              <a:t>HCV Ag-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174720" y="396252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HCV 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48C-3CA9-450F-8334-12CD4FF170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143000" y="1319040"/>
          <a:ext cx="7391520" cy="508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19040"/>
                    <a:ext cx="7391520" cy="5081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c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7315200" y="601992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OD/cut of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6536160" y="4356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6816960" y="4356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=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7140960" y="4356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=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ffff"/>
                </a:solidFill>
                <a:latin typeface="Times New Roman"/>
              </a:rPr>
              <a:t>Résultats (4)</a:t>
            </a:r>
            <a:br>
              <a:rPr sz="4400"/>
            </a:br>
            <a:r>
              <a:rPr b="0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pécificité (2503 dons anti HCV négatif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226200" y="3225960"/>
            <a:ext cx="2082600" cy="888840"/>
            <a:chOff x="6226200" y="3225960"/>
            <a:chExt cx="2082600" cy="888840"/>
          </a:xfrm>
        </p:grpSpPr>
        <p:sp>
          <p:nvSpPr>
            <p:cNvPr id="257" name=""/>
            <p:cNvSpPr/>
            <p:nvPr/>
          </p:nvSpPr>
          <p:spPr>
            <a:xfrm>
              <a:off x="6226200" y="3225960"/>
              <a:ext cx="2082600" cy="550440"/>
            </a:xfrm>
            <a:prstGeom prst="rect">
              <a:avLst/>
            </a:prstGeom>
            <a:noFill/>
            <a:ln w="1908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9.80%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95%IC: 99.63%-99.97%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7124400" y="361944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219320" y="15238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6231240" y="2463840"/>
            <a:ext cx="1948680" cy="1574640"/>
            <a:chOff x="6231240" y="2463840"/>
            <a:chExt cx="1948680" cy="1574640"/>
          </a:xfrm>
        </p:grpSpPr>
        <p:sp>
          <p:nvSpPr>
            <p:cNvPr id="261" name=""/>
            <p:cNvSpPr/>
            <p:nvPr/>
          </p:nvSpPr>
          <p:spPr>
            <a:xfrm>
              <a:off x="6231240" y="2463840"/>
              <a:ext cx="1948680" cy="55044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9.88%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95%IC: 99.74%-100%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67480" y="3048120"/>
              <a:ext cx="152640" cy="990360"/>
            </a:xfrm>
            <a:prstGeom prst="upArrow">
              <a:avLst>
                <a:gd name="adj1" fmla="val 50000"/>
                <a:gd name="adj2" fmla="val 162205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284-0057-4809-9374-C6C962B7AE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2240" y="380520"/>
            <a:ext cx="49276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066680"/>
            <a:ext cx="7696080" cy="45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olisa HCV Ag-Ab Ultra présente une très bonne spécificit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éduction notable de la fenêtre anticorps dans la phase précoce de l’infection  : 27 jours soit 41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buClr>
                <a:srgbClr val="23f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oiq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ins sensible que le DGV 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(70% des ARN - HCV positifs en FS, 46% des dons de sang anticorps negatifs et ARN positifs de routine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e réactif est une alternative pour le screening des dons de sang, en particulier dans les pays où la mise en place du DGV est difficile ou impossi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6324480"/>
            <a:ext cx="6172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Times New Roman"/>
              </a:rPr>
              <a:t>Etudes</a:t>
            </a:r>
            <a:r>
              <a:rPr b="0" i="1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Times New Roman"/>
              </a:rPr>
              <a:t>publiées dans J.Clin.Microbiol 2005;43:3877</a:t>
            </a:r>
            <a:br>
              <a:rPr sz="1600"/>
            </a:br>
            <a:r>
              <a:rPr b="0" i="1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Times New Roman"/>
              </a:rPr>
              <a:t>sous presse dans Transfusion 200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4938-27DC-469A-A7C8-497CDD2EFA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Remerciement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1809720"/>
            <a:ext cx="472428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FS Ile de France, Rung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ie-Hélène Elghouzzi, Marianne Asso-Bonn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FS Bourgogne Franche Comté, Dij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cal Morel, Marie Deschase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FS Aquitaine Limousin, Borde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ves Pique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FS Alpes Méditerranée, Marseil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erre Galli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FS Nord de France, Lil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hèle Maniez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700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FS Pyrénées Méditerranée, Montpell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erry Levayer, Joliette Cost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1835280"/>
            <a:ext cx="26668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ine Le Marr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ie Gira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abelle Servant-Delm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çoise Bouchardeau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nV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siane Pillon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952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E329-6E90-4D4B-9C30-D801CF9630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71440" y="2514600"/>
            <a:ext cx="85345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523880"/>
            <a:ext cx="2743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as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ciden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819520"/>
            <a:ext cx="10666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e411"/>
                </a:solidFill>
                <a:latin typeface="Times New Roman"/>
              </a:rPr>
              <a:t>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17800" y="2666880"/>
            <a:ext cx="121932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0.48 - 1.2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2832120"/>
            <a:ext cx="22860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26668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/3 950 000</a:t>
            </a:r>
            <a:r>
              <a:rPr b="0" lang="en-US" sz="2400" spc="-1" strike="noStrike">
                <a:solidFill>
                  <a:srgbClr val="fff86e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1440" y="4648320"/>
            <a:ext cx="85345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4935600"/>
            <a:ext cx="1117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HB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1440" y="3530520"/>
            <a:ext cx="85201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17800" y="4808520"/>
            <a:ext cx="121932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. 27</a:t>
            </a:r>
            <a:r>
              <a:rPr b="0" lang="en-US" sz="2800" spc="-1" strike="noStrike">
                <a:solidFill>
                  <a:srgbClr val="fff86e"/>
                </a:solidFill>
                <a:latin typeface="Times New Roman"/>
              </a:rPr>
              <a:t>*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Times New Roman"/>
              </a:rPr>
              <a:t>(0.11 - 0.6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3843360"/>
            <a:ext cx="9903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e411"/>
                </a:solidFill>
                <a:latin typeface="Times New Roman"/>
              </a:rPr>
              <a:t>HC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3763800"/>
            <a:ext cx="12956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0.35- 1.0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1536840"/>
            <a:ext cx="285264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I /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C 95 %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21320" y="1523880"/>
            <a:ext cx="30891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isque résidu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stimé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98720" y="2781360"/>
            <a:ext cx="7444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4800600"/>
            <a:ext cx="1371600" cy="8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(AgHB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43600" y="4973760"/>
            <a:ext cx="22860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/2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400</a:t>
            </a:r>
            <a:r>
              <a:rPr b="0" lang="fr-FR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1440" y="5697360"/>
            <a:ext cx="85345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5760" y="5719680"/>
            <a:ext cx="23450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ffff99"/>
                </a:solidFill>
                <a:latin typeface="Times New Roman"/>
              </a:rPr>
              <a:t>* Avec DG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600" spc="-1" strike="noStrike">
                <a:solidFill>
                  <a:srgbClr val="ffff99"/>
                </a:solidFill>
                <a:latin typeface="Times New Roman"/>
              </a:rPr>
              <a:t>** </a:t>
            </a:r>
            <a:r>
              <a:rPr b="0" i="1" lang="fr-FR" sz="1600" spc="-1" strike="noStrike">
                <a:solidFill>
                  <a:srgbClr val="ffff99"/>
                </a:solidFill>
                <a:latin typeface="Times New Roman"/>
              </a:rPr>
              <a:t>ajusté (Koralit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98720" y="3900600"/>
            <a:ext cx="7444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3925800"/>
            <a:ext cx="22860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80880"/>
                <a:tab algn="l" pos="266688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/6 000 000</a:t>
            </a:r>
            <a:r>
              <a:rPr b="0" lang="en-US" sz="2400" spc="-1" strike="noStrike">
                <a:solidFill>
                  <a:srgbClr val="fff86e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ffff"/>
                </a:solidFill>
                <a:latin typeface="Times New Roman"/>
              </a:rPr>
              <a:t>Risque résiduel en France 2002-04</a:t>
            </a:r>
            <a:br>
              <a:rPr sz="4000"/>
            </a:br>
            <a:r>
              <a:rPr b="0" i="1" lang="fr-FR" sz="1400" spc="-1" strike="noStrike">
                <a:solidFill>
                  <a:srgbClr val="ffff00"/>
                </a:solidFill>
                <a:latin typeface="Times New Roman"/>
              </a:rPr>
              <a:t>Schreiber et al. N Eng J.Med 1996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635-1C84-4E89-A80A-6ADD5CBA5B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90720" y="1951200"/>
            <a:ext cx="76960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ffff"/>
                </a:solidFill>
                <a:latin typeface="Times New Roman"/>
              </a:rPr>
              <a:t>La stratégie de dépistage de l’infection par le HCV dans les dons de sang doit-elle être modifiée du fait de l’introduction du DGV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C72-660B-4523-8EBE-D042077607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3581280"/>
            <a:ext cx="7239240" cy="60984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1981080"/>
            <a:ext cx="853416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GV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ticorp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 = 1028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itif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itif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7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itif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égatif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égatif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positif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49 (24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négatifs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 négatifs 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5943600"/>
            <a:ext cx="685800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590920"/>
            <a:ext cx="693432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28600"/>
            <a:ext cx="8077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Résultats du screening HCV de Juillet 2001 à Décembre 2004  sur 8.6 millions de d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0320" y="609588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ff00"/>
                </a:solidFill>
                <a:latin typeface="Times New Roman"/>
              </a:rPr>
              <a:t>1 ALT, 2 FS, 1 immunosilencieux, 1non investigué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51440" y="6603840"/>
            <a:ext cx="2309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99"/>
                </a:solidFill>
                <a:latin typeface="Times New Roman"/>
              </a:rPr>
              <a:t>source:  InVS, INTS, EF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BCB-363E-41AA-9A01-4A1C0B2AB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380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ffff"/>
                </a:solidFill>
                <a:latin typeface="Times New Roman"/>
              </a:rPr>
              <a:t>Efficacité du DGV HCV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-95400" y="1430280"/>
          <a:ext cx="9315720" cy="527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95400" y="1430280"/>
                    <a:ext cx="9315720" cy="52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557040" y="6019920"/>
            <a:ext cx="227016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ffff"/>
                </a:solidFill>
                <a:latin typeface="Times New Roman"/>
              </a:rPr>
              <a:t>Eurosurveillance 2005;1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ffff"/>
                </a:solidFill>
                <a:latin typeface="Times New Roman"/>
              </a:rPr>
              <a:t>Vox Sang 2005; 86: 28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ffff"/>
                </a:solidFill>
                <a:latin typeface="Times New Roman"/>
              </a:rPr>
              <a:t>Vox Sang 2005; 89:1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-189000" y="2399760"/>
            <a:ext cx="1828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 million de d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473-CB9B-427B-9EA3-3021ADB31C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90720" y="4419720"/>
            <a:ext cx="7238880" cy="6094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981080"/>
            <a:ext cx="85345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GV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ticorp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 = 1028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itif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itif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77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sitif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égatif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égatif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positif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49 (24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571680"/>
                <a:tab algn="l" pos="3048120"/>
                <a:tab algn="l" pos="590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négatifs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 négatifs 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99ff66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5943600"/>
            <a:ext cx="685800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2590920"/>
            <a:ext cx="693396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228600"/>
            <a:ext cx="8077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ffff"/>
                </a:solidFill>
                <a:latin typeface="Times New Roman"/>
              </a:rPr>
              <a:t>Résultats du screening HCV de Juillet 2001 à Décembre 2004  sur 8.6 millions de d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440" y="609588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ff00"/>
                </a:solidFill>
                <a:latin typeface="Times New Roman"/>
              </a:rPr>
              <a:t>1 ALT, 2 FS, 1 immunosilencieux, 1non investigué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70560" y="6603840"/>
            <a:ext cx="2309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200" spc="-1" strike="noStrike">
                <a:solidFill>
                  <a:srgbClr val="ffff99"/>
                </a:solidFill>
                <a:latin typeface="Times New Roman"/>
              </a:rPr>
              <a:t>source:  InVS, INTS, EF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237-B56D-4880-947D-A287196697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09480" y="990720"/>
            <a:ext cx="853452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99ff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cc99ff"/>
                </a:solidFill>
                <a:latin typeface="Times New Roman"/>
              </a:rPr>
              <a:t>1) Donneurs de sa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419040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4% des dons HCV positifs en France sont MP-DGV négati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19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.4% (1/42) ont une CV détectable uniquement par DGV unitai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19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ffff"/>
                </a:solidFill>
                <a:latin typeface="Times New Roman"/>
              </a:rPr>
              <a:t>(Laperche et al. Vox Sang 2004;86:19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419040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0 % des dons HCV positifs aux USA sont MP-DGV négati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19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2.1% sont DGV pos répétables lors d’un retest (50% CV &lt;100 cp/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19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ffff"/>
                </a:solidFill>
                <a:latin typeface="Times New Roman"/>
              </a:rPr>
              <a:t>(Stramer S. Vox Sang 2004;87: S180)</a:t>
            </a:r>
            <a:r>
              <a:rPr b="0" i="1" lang="en-GB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581280"/>
            <a:ext cx="8534520" cy="28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09520" indent="19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cc99ff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cc99ff"/>
                </a:solidFill>
                <a:latin typeface="Times New Roman"/>
              </a:rPr>
              <a:t>2) Evidence d’une persistence virale chez des patients anti-HCV pos et ARN né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419040">
              <a:lnSpc>
                <a:spcPct val="100000"/>
              </a:lnSpc>
              <a:spcBef>
                <a:spcPts val="1125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80% (4/5 guérison spontanée)  : CV  =  5x10</a:t>
            </a:r>
            <a:r>
              <a:rPr b="0" lang="en-GB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geq/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19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ffff"/>
                </a:solidFill>
                <a:latin typeface="Times New Roman"/>
              </a:rPr>
              <a:t>(Pham et al. J Virol 2004;78:586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41904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Font typeface="Wingdings" charset="2"/>
              <a:buChar char=""/>
              <a:tabLst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55% (6/11 patients asymptomatiques) : CV &lt;10 to 120 viral geq/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19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en-GB" sz="1600" spc="-1" strike="noStrike">
                <a:solidFill>
                  <a:srgbClr val="00ffff"/>
                </a:solidFill>
                <a:latin typeface="Times New Roman"/>
              </a:rPr>
              <a:t>(Radkowki et al. JID 2005;191:173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209520" indent="19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36504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080">
              <a:spcBef>
                <a:spcPts val="1250"/>
              </a:spcBef>
              <a:buClr>
                <a:srgbClr val="00ffff"/>
              </a:buClr>
              <a:buFont typeface="Times New Roman"/>
              <a:buChar char="•"/>
              <a:tabLst>
                <a:tab algn="l" pos="380880"/>
                <a:tab algn="l" pos="76212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s dons anti- HCV positifs mais DGV négatifs sont-ils  viremiqu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52D7-84E6-4E99-AE27-CEE8F8BC41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457200"/>
            <a:ext cx="8991720" cy="35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spcBef>
                <a:spcPts val="1250"/>
              </a:spcBef>
              <a:buClr>
                <a:srgbClr val="00ffff"/>
              </a:buClr>
              <a:buFont typeface="Times New Roman"/>
              <a:buChar char="•"/>
              <a:tabLst>
                <a:tab algn="l" pos="5716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s dons  HCV MP-DGV neg/Ac pos peuvent-ils être infectieux ?</a:t>
            </a:r>
            <a:br>
              <a:rPr sz="2000"/>
            </a:b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lnSpc>
                <a:spcPct val="75000"/>
              </a:lnSpc>
              <a:spcBef>
                <a:spcPts val="125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5716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cc99ff"/>
                </a:solidFill>
                <a:latin typeface="Times New Roman"/>
              </a:rPr>
              <a:t>OUI  lors de l’infection préco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5716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Avant la « ramp-up phase » avec très faible CV (&lt;10 geq/m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5716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ffff"/>
                </a:solidFill>
                <a:latin typeface="Times New Roman"/>
              </a:rPr>
              <a:t>(Schüttler et al. Lancet 2000; 355:41)</a:t>
            </a:r>
            <a:r>
              <a:rPr b="0" i="1" lang="fr-FR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5716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ffff"/>
                </a:solidFill>
                <a:latin typeface="Times New Roman"/>
              </a:rPr>
              <a:t>(Busch et al. Transfusion 2003; 43:117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571680"/>
                <a:tab algn="r" pos="76201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lnSpc>
                <a:spcPct val="75000"/>
              </a:lnSpc>
              <a:spcBef>
                <a:spcPts val="1250"/>
              </a:spcBef>
              <a:buClr>
                <a:srgbClr val="00ffff"/>
              </a:buClr>
              <a:buFont typeface="Wingdings" charset="2"/>
              <a:buChar char=""/>
              <a:tabLst>
                <a:tab algn="l" pos="5716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cc99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cc99ff"/>
                </a:solidFill>
                <a:latin typeface="Times New Roman"/>
              </a:rPr>
              <a:t>OUI dans la phase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cc99ff"/>
                </a:solidFill>
                <a:latin typeface="Times New Roman"/>
              </a:rPr>
              <a:t>chro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168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back study : 1 receveur infecté par un don HCV Ac positif/TMA négatif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2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ffff"/>
                </a:solidFill>
                <a:latin typeface="Times New Roman"/>
              </a:rPr>
              <a:t>(Operskalski et al. Transfusion 2003; 43:143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4191120"/>
            <a:ext cx="89917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90440">
              <a:lnSpc>
                <a:spcPct val="75000"/>
              </a:lnSpc>
              <a:spcBef>
                <a:spcPts val="1125"/>
              </a:spcBef>
              <a:tabLst>
                <a:tab algn="l" pos="0"/>
                <a:tab algn="r" pos="76201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spcBef>
                <a:spcPts val="1250"/>
              </a:spcBef>
              <a:buClr>
                <a:srgbClr val="00ffff"/>
              </a:buClr>
              <a:buFont typeface="Times New Roman"/>
              <a:buChar char="•"/>
              <a:tabLst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ffffff"/>
                </a:solidFill>
                <a:uFillTx/>
                <a:latin typeface="Times New Roman"/>
              </a:rPr>
              <a:t>Infectiosité des échantillons négatifs pour HCV : 2.4 geq/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spcBef>
                <a:spcPts val="1125"/>
              </a:spcBef>
              <a:tabLst>
                <a:tab algn="l" pos="0"/>
                <a:tab algn="r" pos="762012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1800" spc="-1" strike="noStrike">
                <a:solidFill>
                  <a:srgbClr val="00ffff"/>
                </a:solidFill>
                <a:latin typeface="Times New Roman"/>
              </a:rPr>
              <a:t>(Busch MP. EPFA Paris May 200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75000"/>
              </a:lnSpc>
              <a:spcBef>
                <a:spcPts val="1125"/>
              </a:spcBef>
              <a:tabLst>
                <a:tab algn="l" pos="0"/>
                <a:tab algn="r" pos="762012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2F3-57A6-44C1-984B-D5E7579342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14:03:12Z</dcterms:created>
  <dc:creator>ASSAL Azzedine</dc:creator>
  <dc:description/>
  <dc:language>en-US</dc:language>
  <cp:lastModifiedBy>Eric POUSSIN</cp:lastModifiedBy>
  <cp:lastPrinted>2004-06-03T13:26:49Z</cp:lastPrinted>
  <dcterms:modified xsi:type="dcterms:W3CDTF">2005-11-17T08:17:10Z</dcterms:modified>
  <cp:revision>628</cp:revision>
  <dc:subject/>
  <dc:title>Aucun titre de diapositive</dc:title>
</cp:coreProperties>
</file>