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21.png" ContentType="image/png"/>
  <Override PartName="/ppt/media/image19.jpeg" ContentType="image/jpeg"/>
  <Override PartName="/ppt/media/image18.jpeg" ContentType="image/jpeg"/>
  <Override PartName="/ppt/media/image14.wmf" ContentType="image/x-wmf"/>
  <Override PartName="/ppt/media/image20.wmf" ContentType="image/x-wmf"/>
  <Override PartName="/ppt/media/image5.jpeg" ContentType="image/jpeg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381360"/>
            <a:ext cx="8153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0" i="1" lang="fr-FR" sz="1200" spc="-1" strike="noStrike" baseline="30000">
                <a:solidFill>
                  <a:srgbClr val="ffffff"/>
                </a:solidFill>
                <a:latin typeface="Arial"/>
              </a:rPr>
              <a:t>ème</a:t>
            </a:r>
            <a:r>
              <a:rPr b="0" i="1" lang="fr-FR" sz="1200" spc="-1" strike="noStrike">
                <a:solidFill>
                  <a:srgbClr val="ffffff"/>
                </a:solidFill>
                <a:latin typeface="Arial"/>
              </a:rPr>
              <a:t> Colloque de Virologie de Versailles, Novembre 200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4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package" Target="../embeddings/oleObject3.xlsx"/><Relationship Id="rId10" Type="http://schemas.openxmlformats.org/officeDocument/2006/relationships/image" Target="../media/image15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wmf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533520" y="1600200"/>
            <a:ext cx="8064360" cy="166536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lin ang="5400000"/>
          </a:gradFill>
          <a:ln w="60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ahoma"/>
                <a:ea typeface="Times New Roman"/>
              </a:rPr>
              <a:t>Application des Puces à ADN pour le 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Tahoma"/>
                <a:ea typeface="Times New Roman"/>
              </a:rPr>
              <a:t>Génotypage Érythrocytaire</a:t>
            </a:r>
            <a:br>
              <a:rPr sz="2600"/>
            </a:br>
            <a:r>
              <a:rPr b="1" lang="fr-FR" sz="2600" spc="-1" strike="noStrike">
                <a:solidFill>
                  <a:srgbClr val="ffff00"/>
                </a:solidFill>
                <a:latin typeface="Tahoma"/>
                <a:ea typeface="Times New Roman"/>
              </a:rPr>
              <a:t>en Qualification Biologique des Dons</a:t>
            </a:r>
            <a:br>
              <a:rPr sz="500"/>
            </a:b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838080" y="3657600"/>
            <a:ext cx="769644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rès JC, Barlet V, Mérieux Y, Rigal D, Guitton C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Bensa JC, Coudurier 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Etablissement Français du Sang Rhône-Alp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33520" y="380880"/>
            <a:ext cx="990360" cy="764640"/>
            <a:chOff x="533520" y="380880"/>
            <a:chExt cx="990360" cy="764640"/>
          </a:xfrm>
        </p:grpSpPr>
        <p:pic>
          <p:nvPicPr>
            <p:cNvPr id="42" name="EFS%20logo" descr=""/>
            <p:cNvPicPr/>
            <p:nvPr/>
          </p:nvPicPr>
          <p:blipFill>
            <a:blip r:embed="rId1"/>
            <a:stretch/>
          </p:blipFill>
          <p:spPr>
            <a:xfrm>
              <a:off x="533520" y="380880"/>
              <a:ext cx="99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33520" y="914400"/>
              <a:ext cx="99036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99"/>
                  </a:solidFill>
                  <a:latin typeface="Times New Roman"/>
                </a:rPr>
                <a:t>RHÔNE-ALPES</a:t>
              </a:r>
              <a:endParaRPr b="0" lang="en-US" sz="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76320" y="1981080"/>
            <a:ext cx="2815920" cy="1777680"/>
            <a:chOff x="76320" y="1981080"/>
            <a:chExt cx="2815920" cy="1777680"/>
          </a:xfrm>
        </p:grpSpPr>
        <p:graphicFrame>
          <p:nvGraphicFramePr>
            <p:cNvPr id="355" name=""/>
            <p:cNvGraphicFramePr/>
            <p:nvPr/>
          </p:nvGraphicFramePr>
          <p:xfrm>
            <a:off x="76320" y="1989360"/>
            <a:ext cx="2815920" cy="1769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320" y="1989360"/>
                      <a:ext cx="2815920" cy="176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300600" y="2385000"/>
              <a:ext cx="266760" cy="53568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92240" y="2368440"/>
              <a:ext cx="359280" cy="53604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83920" y="1981080"/>
              <a:ext cx="538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Times New Roman"/>
                </a:rPr>
                <a:t>Fluorescence</a:t>
              </a:r>
              <a:endParaRPr b="0" lang="en-US" sz="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26040" y="3575160"/>
              <a:ext cx="424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Times New Roman"/>
                </a:rPr>
                <a:t>Ln (A/B)</a:t>
              </a:r>
              <a:endParaRPr b="0" lang="en-US" sz="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3"/>
            <a:stretch/>
          </p:blipFill>
          <p:spPr>
            <a:xfrm>
              <a:off x="2531160" y="3469320"/>
              <a:ext cx="258840" cy="1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" descr=""/>
            <p:cNvPicPr/>
            <p:nvPr/>
          </p:nvPicPr>
          <p:blipFill>
            <a:blip r:embed="rId4"/>
            <a:stretch/>
          </p:blipFill>
          <p:spPr>
            <a:xfrm>
              <a:off x="1486440" y="2032200"/>
              <a:ext cx="130320" cy="28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3" name=""/>
          <p:cNvGrpSpPr/>
          <p:nvPr/>
        </p:nvGrpSpPr>
        <p:grpSpPr>
          <a:xfrm>
            <a:off x="3121200" y="1996920"/>
            <a:ext cx="2817360" cy="1777680"/>
            <a:chOff x="3121200" y="1996920"/>
            <a:chExt cx="2817360" cy="1777680"/>
          </a:xfrm>
        </p:grpSpPr>
        <p:graphicFrame>
          <p:nvGraphicFramePr>
            <p:cNvPr id="364" name=""/>
            <p:cNvGraphicFramePr/>
            <p:nvPr/>
          </p:nvGraphicFramePr>
          <p:xfrm>
            <a:off x="3121200" y="2000520"/>
            <a:ext cx="2817360" cy="17740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3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21200" y="2000520"/>
                      <a:ext cx="2817360" cy="177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6" name=""/>
            <p:cNvSpPr/>
            <p:nvPr/>
          </p:nvSpPr>
          <p:spPr>
            <a:xfrm rot="21400200">
              <a:off x="4496760" y="2318400"/>
              <a:ext cx="279000" cy="45252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905000">
              <a:off x="4857840" y="2687040"/>
              <a:ext cx="401040" cy="17928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72000" y="3580920"/>
              <a:ext cx="424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Times New Roman"/>
                </a:rPr>
                <a:t>Ln (A/B)</a:t>
              </a:r>
              <a:endParaRPr b="0" lang="en-US" sz="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pic>
          <p:nvPicPr>
            <p:cNvPr id="369" name="" descr=""/>
            <p:cNvPicPr/>
            <p:nvPr/>
          </p:nvPicPr>
          <p:blipFill>
            <a:blip r:embed="rId7"/>
            <a:stretch/>
          </p:blipFill>
          <p:spPr>
            <a:xfrm>
              <a:off x="5567400" y="3472560"/>
              <a:ext cx="258840" cy="13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4517280" y="1996920"/>
              <a:ext cx="538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Times New Roman"/>
                </a:rPr>
                <a:t>Fluorescence</a:t>
              </a:r>
              <a:endParaRPr b="0" lang="en-US" sz="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8"/>
            <a:stretch/>
          </p:blipFill>
          <p:spPr>
            <a:xfrm>
              <a:off x="4521600" y="2051640"/>
              <a:ext cx="132480" cy="28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2" name=""/>
          <p:cNvGrpSpPr/>
          <p:nvPr/>
        </p:nvGrpSpPr>
        <p:grpSpPr>
          <a:xfrm>
            <a:off x="6114960" y="2013120"/>
            <a:ext cx="2800080" cy="1761480"/>
            <a:chOff x="6114960" y="2013120"/>
            <a:chExt cx="2800080" cy="1761480"/>
          </a:xfrm>
        </p:grpSpPr>
        <p:graphicFrame>
          <p:nvGraphicFramePr>
            <p:cNvPr id="373" name=""/>
            <p:cNvGraphicFramePr/>
            <p:nvPr/>
          </p:nvGraphicFramePr>
          <p:xfrm>
            <a:off x="6114960" y="2013120"/>
            <a:ext cx="2800080" cy="176148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37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14960" y="2013120"/>
                      <a:ext cx="2800080" cy="176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5" name=""/>
            <p:cNvSpPr/>
            <p:nvPr/>
          </p:nvSpPr>
          <p:spPr>
            <a:xfrm>
              <a:off x="7267680" y="2405520"/>
              <a:ext cx="265320" cy="408960"/>
            </a:xfrm>
            <a:prstGeom prst="ellipse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21073800">
              <a:off x="6284520" y="2332080"/>
              <a:ext cx="277200" cy="581400"/>
            </a:xfrm>
            <a:prstGeom prst="ellipse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61440" y="3574440"/>
              <a:ext cx="424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Times New Roman"/>
                </a:rPr>
                <a:t>Ln (A/B)</a:t>
              </a:r>
              <a:endParaRPr b="0" lang="en-US" sz="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11"/>
            <a:stretch/>
          </p:blipFill>
          <p:spPr>
            <a:xfrm>
              <a:off x="8564400" y="3497400"/>
              <a:ext cx="259560" cy="1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7546320" y="2013120"/>
              <a:ext cx="538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Times New Roman"/>
                </a:rPr>
                <a:t>Fluorescence</a:t>
              </a:r>
              <a:endParaRPr b="0" lang="en-US" sz="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pic>
          <p:nvPicPr>
            <p:cNvPr id="380" name="" descr=""/>
            <p:cNvPicPr/>
            <p:nvPr/>
          </p:nvPicPr>
          <p:blipFill>
            <a:blip r:embed="rId12"/>
            <a:stretch/>
          </p:blipFill>
          <p:spPr>
            <a:xfrm>
              <a:off x="7504920" y="2065320"/>
              <a:ext cx="12924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6201720" y="3557880"/>
              <a:ext cx="2382840" cy="2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148320" y="1295280"/>
            <a:ext cx="16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Kell,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Times New Roman"/>
              </a:rPr>
              <a:t> Kidd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111240" y="57240"/>
            <a:ext cx="8881920" cy="9349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e Projet :Résultats (3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63360" y="990720"/>
            <a:ext cx="8936280" cy="79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63360" y="99072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63360" y="106524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8991720" y="9907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431640" y="370836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KEL: -1, 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;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6600"/>
                </a:solidFill>
                <a:latin typeface="Times New Roman"/>
              </a:rPr>
              <a:t>JK: 1, -2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3552120" y="3720960"/>
            <a:ext cx="189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KEL: 1, -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;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6600"/>
                </a:solidFill>
                <a:latin typeface="Times New Roman"/>
              </a:rPr>
              <a:t>JK: 1, 2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6568200" y="373212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KEL: 1, 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;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6600"/>
                </a:solidFill>
                <a:latin typeface="Times New Roman"/>
              </a:rPr>
              <a:t>JK: -1, 2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2981880" y="4267080"/>
            <a:ext cx="25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nne discrimin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2374920" y="4419720"/>
            <a:ext cx="609480" cy="171360"/>
          </a:xfrm>
          <a:prstGeom prst="rightArrow">
            <a:avLst>
              <a:gd name="adj1" fmla="val 50000"/>
              <a:gd name="adj2" fmla="val 889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>
            <a:off x="2995200" y="4721400"/>
            <a:ext cx="29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étermination Génotyp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2374920" y="487692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>
            <a:off x="1463400" y="5486400"/>
            <a:ext cx="53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Kell, Kidd :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Génotypage Possible Puces 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Ex Situ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6" name=""/>
          <p:cNvSpPr/>
          <p:nvPr/>
        </p:nvSpPr>
        <p:spPr>
          <a:xfrm>
            <a:off x="838080" y="5638680"/>
            <a:ext cx="609840" cy="152640"/>
          </a:xfrm>
          <a:prstGeom prst="rightArrow">
            <a:avLst>
              <a:gd name="adj1" fmla="val 50000"/>
              <a:gd name="adj2" fmla="val 99882"/>
            </a:avLst>
          </a:prstGeom>
          <a:solidFill>
            <a:srgbClr val="ffff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28600" y="152280"/>
            <a:ext cx="990720" cy="764640"/>
            <a:chOff x="228600" y="152280"/>
            <a:chExt cx="990720" cy="764640"/>
          </a:xfrm>
        </p:grpSpPr>
        <p:pic>
          <p:nvPicPr>
            <p:cNvPr id="398" name="EFS%20logo" descr=""/>
            <p:cNvPicPr/>
            <p:nvPr/>
          </p:nvPicPr>
          <p:blipFill>
            <a:blip r:embed="rId13"/>
            <a:stretch/>
          </p:blipFill>
          <p:spPr>
            <a:xfrm>
              <a:off x="228600" y="152280"/>
              <a:ext cx="9907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228600" y="685800"/>
              <a:ext cx="9907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99"/>
                  </a:solidFill>
                  <a:latin typeface="Times New Roman"/>
                </a:rPr>
                <a:t>RHÔNE-ALPES</a:t>
              </a:r>
              <a:endParaRPr b="0" lang="en-US" sz="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11240" y="57240"/>
            <a:ext cx="8881920" cy="9349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e Projet :Résultats (4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63360" y="990720"/>
            <a:ext cx="8936280" cy="79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63360" y="99072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>
            <a:off x="63360" y="106524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8991720" y="9907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4038480" y="2362320"/>
            <a:ext cx="3583800" cy="368280"/>
            <a:chOff x="4038480" y="2362320"/>
            <a:chExt cx="3583800" cy="368280"/>
          </a:xfrm>
        </p:grpSpPr>
        <p:sp>
          <p:nvSpPr>
            <p:cNvPr id="406" name=""/>
            <p:cNvSpPr/>
            <p:nvPr/>
          </p:nvSpPr>
          <p:spPr>
            <a:xfrm>
              <a:off x="4038480" y="2362320"/>
              <a:ext cx="381240" cy="30456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mic Sans MS"/>
                </a:rPr>
                <a:t>!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7920" y="2362320"/>
              <a:ext cx="32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blème Hétérozygote FY:1,2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165640" y="2838600"/>
            <a:ext cx="1539720" cy="1478880"/>
            <a:chOff x="5165640" y="2838600"/>
            <a:chExt cx="1539720" cy="1478880"/>
          </a:xfrm>
        </p:grpSpPr>
        <p:sp>
          <p:nvSpPr>
            <p:cNvPr id="409" name=""/>
            <p:cNvSpPr/>
            <p:nvPr/>
          </p:nvSpPr>
          <p:spPr>
            <a:xfrm>
              <a:off x="5165640" y="3400560"/>
              <a:ext cx="1539720" cy="91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Support ?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Sondes ?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CR MPX ?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2240" y="2838600"/>
              <a:ext cx="86040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3137040" y="510552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abrication Nouvelles Puces AD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3590640" y="5397480"/>
            <a:ext cx="21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himie de Surfac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ouvelles Sond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0" y="51055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33200" y="1816200"/>
            <a:ext cx="3600360" cy="2374560"/>
            <a:chOff x="133200" y="1816200"/>
            <a:chExt cx="3600360" cy="2374560"/>
          </a:xfrm>
        </p:grpSpPr>
        <p:sp>
          <p:nvSpPr>
            <p:cNvPr id="415" name=""/>
            <p:cNvSpPr/>
            <p:nvPr/>
          </p:nvSpPr>
          <p:spPr>
            <a:xfrm>
              <a:off x="1075680" y="3473640"/>
              <a:ext cx="1136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33cc"/>
                  </a:solidFill>
                  <a:latin typeface="Comic Sans MS"/>
                </a:rPr>
                <a:t>3 Donors (</a:t>
              </a:r>
              <a:r>
                <a:rPr b="1" lang="en-US" sz="700" spc="-1" strike="noStrike" u="sng">
                  <a:solidFill>
                    <a:srgbClr val="ff33cc"/>
                  </a:solidFill>
                  <a:uFillTx/>
                  <a:latin typeface="Comic Sans MS"/>
                </a:rPr>
                <a:t>1</a:t>
              </a:r>
              <a:r>
                <a:rPr b="1" lang="en-US" sz="700" spc="-1" strike="noStrike">
                  <a:solidFill>
                    <a:srgbClr val="ff33cc"/>
                  </a:solidFill>
                  <a:latin typeface="Comic Sans MS"/>
                </a:rPr>
                <a:t>,</a:t>
              </a:r>
              <a:r>
                <a:rPr b="1" lang="en-US" sz="700" spc="-1" strike="noStrike" u="sng">
                  <a:solidFill>
                    <a:srgbClr val="ff33cc"/>
                  </a:solidFill>
                  <a:uFillTx/>
                  <a:latin typeface="Comic Sans MS"/>
                </a:rPr>
                <a:t>2</a:t>
              </a:r>
              <a:r>
                <a:rPr b="1" lang="en-US" sz="700" spc="-1" strike="noStrike">
                  <a:solidFill>
                    <a:srgbClr val="ff33cc"/>
                  </a:solidFill>
                  <a:latin typeface="Comic Sans MS"/>
                </a:rPr>
                <a:t>,</a:t>
              </a:r>
              <a:r>
                <a:rPr b="1" lang="en-US" sz="700" spc="-1" strike="noStrike" u="sng">
                  <a:solidFill>
                    <a:srgbClr val="ff33cc"/>
                  </a:solidFill>
                  <a:uFillTx/>
                  <a:latin typeface="Comic Sans MS"/>
                </a:rPr>
                <a:t>3</a:t>
              </a:r>
              <a:r>
                <a:rPr b="1" lang="en-US" sz="700" spc="-1" strike="noStrike">
                  <a:solidFill>
                    <a:srgbClr val="ff33cc"/>
                  </a:solidFill>
                  <a:latin typeface="Comic Sans MS"/>
                </a:rPr>
                <a:t>) FY:1,2</a:t>
              </a:r>
              <a:endParaRPr b="0" lang="en-US" sz="7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aphicFrame>
          <p:nvGraphicFramePr>
            <p:cNvPr id="416" name=""/>
            <p:cNvGraphicFramePr/>
            <p:nvPr/>
          </p:nvGraphicFramePr>
          <p:xfrm>
            <a:off x="133200" y="1816200"/>
            <a:ext cx="3600360" cy="2374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" y="1816200"/>
                      <a:ext cx="3600360" cy="23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18" name=""/>
            <p:cNvSpPr/>
            <p:nvPr/>
          </p:nvSpPr>
          <p:spPr>
            <a:xfrm>
              <a:off x="3183480" y="3975840"/>
              <a:ext cx="4244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Times New Roman"/>
                </a:rPr>
                <a:t>Ln (A/B)</a:t>
              </a:r>
              <a:endParaRPr b="0" lang="en-US" sz="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35280" y="1913400"/>
              <a:ext cx="53892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00" spc="-1" strike="noStrike">
                  <a:solidFill>
                    <a:srgbClr val="000000"/>
                  </a:solidFill>
                  <a:latin typeface="Times New Roman"/>
                </a:rPr>
                <a:t>Fluorescence</a:t>
              </a:r>
              <a:endParaRPr b="0" lang="en-US" sz="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89560" y="3079440"/>
              <a:ext cx="349560" cy="443880"/>
            </a:xfrm>
            <a:prstGeom prst="ellipse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7240" y="2373120"/>
              <a:ext cx="454320" cy="938880"/>
            </a:xfrm>
            <a:prstGeom prst="ellipse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45560" y="3631680"/>
              <a:ext cx="513000" cy="260640"/>
            </a:xfrm>
            <a:prstGeom prst="ellipse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1864440" y="1950840"/>
              <a:ext cx="0" cy="19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94560" y="3924360"/>
              <a:ext cx="134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17280" y="2327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ff"/>
                  </a:solidFill>
                  <a:uFillTx/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9320" y="3264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ff"/>
                  </a:solidFill>
                  <a:uFillTx/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77120" y="2752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ff"/>
                  </a:solidFill>
                  <a:uFillTx/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232200" y="4267080"/>
            <a:ext cx="328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Hybridation 3 Donneurs Hétérozygotes FY: 1, 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"/>
          <p:cNvSpPr/>
          <p:nvPr/>
        </p:nvSpPr>
        <p:spPr>
          <a:xfrm>
            <a:off x="148680" y="129240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ff00ff"/>
                </a:solidFill>
                <a:uFillTx/>
                <a:latin typeface="Times New Roman"/>
              </a:rPr>
              <a:t>Duff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28600" y="152280"/>
            <a:ext cx="990720" cy="764640"/>
            <a:chOff x="228600" y="152280"/>
            <a:chExt cx="990720" cy="764640"/>
          </a:xfrm>
        </p:grpSpPr>
        <p:pic>
          <p:nvPicPr>
            <p:cNvPr id="431" name="EFS%20logo" descr=""/>
            <p:cNvPicPr/>
            <p:nvPr/>
          </p:nvPicPr>
          <p:blipFill>
            <a:blip r:embed="rId3"/>
            <a:stretch/>
          </p:blipFill>
          <p:spPr>
            <a:xfrm>
              <a:off x="228600" y="152280"/>
              <a:ext cx="9907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228600" y="685800"/>
              <a:ext cx="9907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99"/>
                  </a:solidFill>
                  <a:latin typeface="Times New Roman"/>
                </a:rPr>
                <a:t>RHÔNE-ALPES</a:t>
              </a:r>
              <a:endParaRPr b="0" lang="en-US" sz="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11240" y="57240"/>
            <a:ext cx="8881920" cy="9349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e Projet :Résultats (5)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"/>
          <p:cNvSpPr/>
          <p:nvPr/>
        </p:nvSpPr>
        <p:spPr>
          <a:xfrm>
            <a:off x="63360" y="990720"/>
            <a:ext cx="8936280" cy="79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63360" y="99072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"/>
          <p:cNvSpPr/>
          <p:nvPr/>
        </p:nvSpPr>
        <p:spPr>
          <a:xfrm>
            <a:off x="63360" y="106524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8991720" y="9907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609480" y="3048120"/>
            <a:ext cx="4267440" cy="2514600"/>
            <a:chOff x="609480" y="3048120"/>
            <a:chExt cx="4267440" cy="2514600"/>
          </a:xfrm>
        </p:grpSpPr>
        <p:graphicFrame>
          <p:nvGraphicFramePr>
            <p:cNvPr id="439" name=""/>
            <p:cNvGraphicFramePr/>
            <p:nvPr/>
          </p:nvGraphicFramePr>
          <p:xfrm>
            <a:off x="654840" y="3048120"/>
            <a:ext cx="4150440" cy="2451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4840" y="3048120"/>
                      <a:ext cx="4150440" cy="245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1" name=""/>
            <p:cNvSpPr/>
            <p:nvPr/>
          </p:nvSpPr>
          <p:spPr>
            <a:xfrm>
              <a:off x="2918880" y="3171600"/>
              <a:ext cx="672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Times New Roman"/>
                </a:rPr>
                <a:t>Fluorescence</a:t>
              </a:r>
              <a:endParaRPr b="0" lang="en-US" sz="7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09920" y="5232600"/>
              <a:ext cx="517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700" spc="-1" strike="noStrike">
                  <a:solidFill>
                    <a:srgbClr val="000000"/>
                  </a:solidFill>
                  <a:latin typeface="Times New Roman"/>
                </a:rPr>
                <a:t>Ln (A/B)</a:t>
              </a:r>
              <a:endParaRPr b="0" lang="en-US" sz="7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21025800">
              <a:off x="846000" y="3470040"/>
              <a:ext cx="481320" cy="1481760"/>
            </a:xfrm>
            <a:prstGeom prst="ellipse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95280" y="4730400"/>
              <a:ext cx="86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00"/>
                  </a:solidFill>
                  <a:latin typeface="Times New Roman"/>
                </a:rPr>
                <a:t>Homozygote</a:t>
              </a:r>
              <a:endParaRPr b="0" lang="en-US" sz="1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00"/>
                  </a:solidFill>
                  <a:latin typeface="Times New Roman"/>
                </a:rPr>
                <a:t>FY: -1, 2</a:t>
              </a:r>
              <a:endParaRPr b="0" lang="en-US" sz="1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16240" y="3647520"/>
              <a:ext cx="781920" cy="148572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0695800">
              <a:off x="3484800" y="4053600"/>
              <a:ext cx="651600" cy="10742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81480" y="3757680"/>
              <a:ext cx="860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Homozygote</a:t>
              </a:r>
              <a:endParaRPr b="0" lang="en-US" sz="1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Times New Roman"/>
                </a:rPr>
                <a:t>FY: 1, -2</a:t>
              </a:r>
              <a:endParaRPr b="0" lang="en-US" sz="1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95320" y="3503160"/>
              <a:ext cx="903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ff"/>
                  </a:solidFill>
                  <a:latin typeface="Times New Roman"/>
                </a:rPr>
                <a:t>Heterozygote</a:t>
              </a:r>
              <a:endParaRPr b="0" lang="en-US" sz="1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ffff"/>
                  </a:solidFill>
                  <a:latin typeface="Times New Roman"/>
                </a:rPr>
                <a:t>FY:1,2</a:t>
              </a:r>
              <a:endParaRPr b="0" lang="en-US" sz="1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9480" y="3048120"/>
              <a:ext cx="4267440" cy="25146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18040" y="5177520"/>
              <a:ext cx="25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923920" y="3200400"/>
              <a:ext cx="0" cy="23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225000" y="114300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ff00ff"/>
                </a:solidFill>
                <a:uFillTx/>
                <a:latin typeface="Times New Roman"/>
              </a:rPr>
              <a:t>Duff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758880" y="1523880"/>
            <a:ext cx="6568920" cy="1496160"/>
            <a:chOff x="758880" y="1523880"/>
            <a:chExt cx="6568920" cy="1496160"/>
          </a:xfrm>
        </p:grpSpPr>
        <p:sp>
          <p:nvSpPr>
            <p:cNvPr id="454" name=""/>
            <p:cNvSpPr/>
            <p:nvPr/>
          </p:nvSpPr>
          <p:spPr>
            <a:xfrm>
              <a:off x="758880" y="1523880"/>
              <a:ext cx="656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fr-FR" sz="1800" spc="-1" strike="noStrike">
                  <a:solidFill>
                    <a:srgbClr val="ffffff"/>
                  </a:solidFill>
                  <a:latin typeface="Times New Roman"/>
                </a:rPr>
                <a:t>Lame RosaSlides, Schott (H et AL), Telechem SuperAldehyde2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fr-FR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Sondes :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81800" y="1828800"/>
              <a:ext cx="105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7 mère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7+10dT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7+15dT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7+20dT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77080" y="1828800"/>
              <a:ext cx="105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9 mère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9+10dT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9+15dT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9+20dT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600200" y="5715000"/>
            <a:ext cx="5475240" cy="398880"/>
            <a:chOff x="1600200" y="5715000"/>
            <a:chExt cx="5475240" cy="398880"/>
          </a:xfrm>
        </p:grpSpPr>
        <p:sp>
          <p:nvSpPr>
            <p:cNvPr id="458" name=""/>
            <p:cNvSpPr/>
            <p:nvPr/>
          </p:nvSpPr>
          <p:spPr>
            <a:xfrm>
              <a:off x="2276640" y="5715000"/>
              <a:ext cx="47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Duffy :</a:t>
              </a: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fr-FR" sz="2000" spc="-1" strike="noStrike">
                  <a:solidFill>
                    <a:srgbClr val="ffff00"/>
                  </a:solidFill>
                  <a:latin typeface="Times New Roman"/>
                </a:rPr>
                <a:t>Génotypage Possible Puces </a:t>
              </a:r>
              <a:r>
                <a:rPr b="1" i="1" lang="fr-FR" sz="2000" spc="-1" strike="noStrike">
                  <a:solidFill>
                    <a:srgbClr val="ffff00"/>
                  </a:solidFill>
                  <a:latin typeface="Times New Roman"/>
                </a:rPr>
                <a:t>Ex Situ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00200" y="5867280"/>
              <a:ext cx="609480" cy="151920"/>
            </a:xfrm>
            <a:prstGeom prst="rightArrow">
              <a:avLst>
                <a:gd name="adj1" fmla="val 50000"/>
                <a:gd name="adj2" fmla="val 100296"/>
              </a:avLst>
            </a:prstGeom>
            <a:solidFill>
              <a:srgbClr val="ffff00"/>
            </a:solidFill>
            <a:ln w="158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5636160" y="4495680"/>
            <a:ext cx="25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nne discriminatio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5029200" y="464832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5649480" y="4967280"/>
            <a:ext cx="29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étermination Génotyp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5105520"/>
            <a:ext cx="609480" cy="15228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ffff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5635440" y="3276720"/>
            <a:ext cx="32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uvelle Chimie de Surfac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33847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5649480" y="371808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uvelles Sond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5041800" y="38257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28600" y="152280"/>
            <a:ext cx="990720" cy="764640"/>
            <a:chOff x="228600" y="152280"/>
            <a:chExt cx="990720" cy="764640"/>
          </a:xfrm>
        </p:grpSpPr>
        <p:pic>
          <p:nvPicPr>
            <p:cNvPr id="469" name="EFS%20logo" descr=""/>
            <p:cNvPicPr/>
            <p:nvPr/>
          </p:nvPicPr>
          <p:blipFill>
            <a:blip r:embed="rId3"/>
            <a:stretch/>
          </p:blipFill>
          <p:spPr>
            <a:xfrm>
              <a:off x="228600" y="152280"/>
              <a:ext cx="9907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228600" y="685800"/>
              <a:ext cx="9907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99"/>
                  </a:solidFill>
                  <a:latin typeface="Times New Roman"/>
                </a:rPr>
                <a:t>RHÔNE-ALPES</a:t>
              </a:r>
              <a:endParaRPr b="0" lang="en-US" sz="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11240" y="57240"/>
            <a:ext cx="8881920" cy="9349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clusion et Perspectiv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"/>
          <p:cNvSpPr/>
          <p:nvPr/>
        </p:nvSpPr>
        <p:spPr>
          <a:xfrm>
            <a:off x="63360" y="990720"/>
            <a:ext cx="8936280" cy="79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63360" y="99072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63360" y="106524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"/>
          <p:cNvSpPr/>
          <p:nvPr/>
        </p:nvSpPr>
        <p:spPr>
          <a:xfrm>
            <a:off x="8991720" y="9907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905200" y="2743200"/>
            <a:ext cx="3187440" cy="1404720"/>
            <a:chOff x="2905200" y="2743200"/>
            <a:chExt cx="3187440" cy="1404720"/>
          </a:xfrm>
        </p:grpSpPr>
        <p:sp>
          <p:nvSpPr>
            <p:cNvPr id="477" name=""/>
            <p:cNvSpPr/>
            <p:nvPr/>
          </p:nvSpPr>
          <p:spPr>
            <a:xfrm>
              <a:off x="4267080" y="2743200"/>
              <a:ext cx="560520" cy="609480"/>
            </a:xfrm>
            <a:prstGeom prst="downArrow">
              <a:avLst>
                <a:gd name="adj1" fmla="val 50000"/>
                <a:gd name="adj2" fmla="val 27184"/>
              </a:avLst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905200" y="3505320"/>
              <a:ext cx="3187440" cy="64260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ff00"/>
                  </a:solidFill>
                  <a:uFillTx/>
                  <a:latin typeface="Times New Roman"/>
                </a:rPr>
                <a:t>VALIDATION :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</a:rPr>
                <a:t>Test Grande Échelle Donneur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1748880" y="2209680"/>
            <a:ext cx="5868360" cy="398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Puces à ADN 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Outils de Génotypage Érythrocytair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>
            <a:off x="1066680" y="22860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28800" y="1371600"/>
            <a:ext cx="877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Conception d’une biopuce sur trois systèmes érythrocytaires (Kidd, Kell,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Duffy) 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: en cours de validation sur un nombre important d’échantillo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2" name=""/>
          <p:cNvSpPr/>
          <p:nvPr/>
        </p:nvSpPr>
        <p:spPr>
          <a:xfrm>
            <a:off x="163440" y="4495680"/>
            <a:ext cx="9000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2) Extension aux autres systèmes érythrocytaires (MN, Ss, Luthéran, …ABO Rh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Times New Roman"/>
              </a:rPr>
              <a:t>3) Transfert technologique sur support adapté à la grande cadence (µplaques,..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artenariat structures académiques et/ou industrielles (région Rhône-Alpe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85800" y="5562720"/>
            <a:ext cx="533520" cy="228600"/>
            <a:chOff x="685800" y="5562720"/>
            <a:chExt cx="533520" cy="228600"/>
          </a:xfrm>
        </p:grpSpPr>
        <p:sp>
          <p:nvSpPr>
            <p:cNvPr id="484" name=""/>
            <p:cNvSpPr/>
            <p:nvPr/>
          </p:nvSpPr>
          <p:spPr>
            <a:xfrm>
              <a:off x="685800" y="5562720"/>
              <a:ext cx="0" cy="228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5800" y="5791320"/>
              <a:ext cx="533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228600" y="152280"/>
            <a:ext cx="990720" cy="764640"/>
            <a:chOff x="228600" y="152280"/>
            <a:chExt cx="990720" cy="764640"/>
          </a:xfrm>
        </p:grpSpPr>
        <p:pic>
          <p:nvPicPr>
            <p:cNvPr id="487" name="EFS%20logo" descr="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9907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228600" y="685800"/>
              <a:ext cx="9907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99"/>
                  </a:solidFill>
                  <a:latin typeface="Times New Roman"/>
                </a:rPr>
                <a:t>RHÔNE-ALPES</a:t>
              </a:r>
              <a:endParaRPr b="0" lang="en-US" sz="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11240" y="57240"/>
            <a:ext cx="8881920" cy="9349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Remerciements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63360" y="990720"/>
            <a:ext cx="8936280" cy="79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1" name=""/>
          <p:cNvSpPr/>
          <p:nvPr/>
        </p:nvSpPr>
        <p:spPr>
          <a:xfrm>
            <a:off x="63360" y="99072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"/>
          <p:cNvSpPr/>
          <p:nvPr/>
        </p:nvSpPr>
        <p:spPr>
          <a:xfrm>
            <a:off x="63360" y="106524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3" name=""/>
          <p:cNvSpPr/>
          <p:nvPr/>
        </p:nvSpPr>
        <p:spPr>
          <a:xfrm>
            <a:off x="8991720" y="9907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5440" y="47520"/>
            <a:ext cx="1220760" cy="1007280"/>
            <a:chOff x="55440" y="47520"/>
            <a:chExt cx="1220760" cy="1007280"/>
          </a:xfrm>
        </p:grpSpPr>
        <p:pic>
          <p:nvPicPr>
            <p:cNvPr id="495" name="EFS%20logo" descr=""/>
            <p:cNvPicPr/>
            <p:nvPr/>
          </p:nvPicPr>
          <p:blipFill>
            <a:blip r:embed="rId1"/>
            <a:stretch/>
          </p:blipFill>
          <p:spPr>
            <a:xfrm>
              <a:off x="55440" y="47520"/>
              <a:ext cx="12193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5440" y="793440"/>
              <a:ext cx="12207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99"/>
                  </a:solidFill>
                  <a:latin typeface="Times New Roman"/>
                </a:rPr>
                <a:t>RHÔNE-ALPES</a:t>
              </a:r>
              <a:endParaRPr b="0" lang="en-US" sz="11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71360" y="992160"/>
              <a:ext cx="990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3360" y="39600"/>
            <a:ext cx="1219320" cy="102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4038480" y="2009880"/>
            <a:ext cx="138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Times New Roman"/>
              </a:rPr>
              <a:t>LEOM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J.-P. Cloarec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Y. Chevolot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E. Vnuk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"/>
          <p:cNvSpPr/>
          <p:nvPr/>
        </p:nvSpPr>
        <p:spPr>
          <a:xfrm>
            <a:off x="536400" y="1981080"/>
            <a:ext cx="1718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Times New Roman"/>
              </a:rPr>
              <a:t>EFS Rhône-Alp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JC Brè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Y. Mérieux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D. Riga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C. Guitt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J.-C. Bens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N. Coudurier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"/>
          <p:cNvSpPr/>
          <p:nvPr/>
        </p:nvSpPr>
        <p:spPr>
          <a:xfrm>
            <a:off x="557640" y="4495680"/>
            <a:ext cx="142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Times New Roman"/>
              </a:rPr>
              <a:t>RosaTech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V. Duga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J. Brouti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E. Souteyran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209680" y="1905120"/>
            <a:ext cx="990720" cy="619920"/>
            <a:chOff x="2209680" y="1905120"/>
            <a:chExt cx="990720" cy="619920"/>
          </a:xfrm>
        </p:grpSpPr>
        <p:pic>
          <p:nvPicPr>
            <p:cNvPr id="503" name="EFS%20logo" descr=""/>
            <p:cNvPicPr/>
            <p:nvPr/>
          </p:nvPicPr>
          <p:blipFill>
            <a:blip r:embed="rId2"/>
            <a:stretch/>
          </p:blipFill>
          <p:spPr>
            <a:xfrm>
              <a:off x="2338200" y="1905120"/>
              <a:ext cx="754200" cy="43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2338200" y="2340000"/>
              <a:ext cx="754200" cy="15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09680" y="2293920"/>
              <a:ext cx="990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Times New Roman"/>
                </a:rPr>
                <a:t>Rhône-Alpes</a:t>
              </a:r>
              <a:endParaRPr b="0" lang="en-US" sz="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388960" y="2463840"/>
              <a:ext cx="622440" cy="1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2582640" cy="558720"/>
          </a:xfrm>
          <a:prstGeom prst="rect">
            <a:avLst/>
          </a:prstGeom>
          <a:ln w="0">
            <a:noFill/>
          </a:ln>
        </p:spPr>
      </p:pic>
      <p:grpSp>
        <p:nvGrpSpPr>
          <p:cNvPr id="508" name=""/>
          <p:cNvGrpSpPr/>
          <p:nvPr/>
        </p:nvGrpSpPr>
        <p:grpSpPr>
          <a:xfrm>
            <a:off x="2286000" y="4495680"/>
            <a:ext cx="2454120" cy="533160"/>
            <a:chOff x="2286000" y="4495680"/>
            <a:chExt cx="2454120" cy="533160"/>
          </a:xfrm>
        </p:grpSpPr>
        <p:pic>
          <p:nvPicPr>
            <p:cNvPr id="509" name="banner" descr=""/>
            <p:cNvPicPr/>
            <p:nvPr/>
          </p:nvPicPr>
          <p:blipFill>
            <a:blip r:embed="rId4"/>
            <a:stretch/>
          </p:blipFill>
          <p:spPr>
            <a:xfrm>
              <a:off x="2286000" y="4571640"/>
              <a:ext cx="228600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3292200" y="4495680"/>
              <a:ext cx="14479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pic>
        <p:nvPicPr>
          <p:cNvPr id="511" name="" descr=""/>
          <p:cNvPicPr/>
          <p:nvPr/>
        </p:nvPicPr>
        <p:blipFill>
          <a:blip r:embed="rId5"/>
          <a:stretch/>
        </p:blipFill>
        <p:spPr>
          <a:xfrm>
            <a:off x="6629400" y="25909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4038480" y="449280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Times New Roman"/>
              </a:rPr>
              <a:t>DTAMB Génopole Ly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J. Bernill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13" name="ucbl" descr=""/>
          <p:cNvPicPr/>
          <p:nvPr/>
        </p:nvPicPr>
        <p:blipFill>
          <a:blip r:embed="rId6"/>
          <a:stretch/>
        </p:blipFill>
        <p:spPr>
          <a:xfrm>
            <a:off x="6629400" y="4419720"/>
            <a:ext cx="100980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228600"/>
            <a:ext cx="7315200" cy="68580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étermination Groupes Sangui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8935920" cy="79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63360" y="99072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"/>
          <p:cNvSpPr/>
          <p:nvPr/>
        </p:nvSpPr>
        <p:spPr>
          <a:xfrm>
            <a:off x="63360" y="106524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8991720" y="9907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"/>
          <p:cNvSpPr/>
          <p:nvPr/>
        </p:nvSpPr>
        <p:spPr>
          <a:xfrm>
            <a:off x="436320" y="1643040"/>
            <a:ext cx="571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 Hémaglutination : </a:t>
            </a:r>
            <a:r>
              <a:rPr b="1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action Antigènes/Anticorp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3200400"/>
            <a:ext cx="2743200" cy="13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Automates Olympus PK7200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Support µplaques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1814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1523520" y="5105520"/>
            <a:ext cx="69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ff00"/>
                </a:solidFill>
                <a:latin typeface="Times New Roman"/>
              </a:rPr>
              <a:t>Difficulté d’obtention d’anticorps monoclonaux stables et spécifiqu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1598760" y="5486400"/>
            <a:ext cx="39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ff00"/>
                </a:solidFill>
                <a:latin typeface="Times New Roman"/>
              </a:rPr>
              <a:t>Diversité des systèmes érythrocytaires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5627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2512440" y="5943600"/>
            <a:ext cx="52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Phénotypage étendu : Méthode longue et fastidieus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617220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6019920"/>
            <a:ext cx="0" cy="152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2438280"/>
            <a:ext cx="3733560" cy="2209680"/>
            <a:chOff x="990720" y="2438280"/>
            <a:chExt cx="3733560" cy="2209680"/>
          </a:xfrm>
        </p:grpSpPr>
        <p:sp>
          <p:nvSpPr>
            <p:cNvPr id="59" name=""/>
            <p:cNvSpPr/>
            <p:nvPr/>
          </p:nvSpPr>
          <p:spPr>
            <a:xfrm>
              <a:off x="990720" y="2444400"/>
              <a:ext cx="3733560" cy="2203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92040" y="2584800"/>
              <a:ext cx="91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Gel Test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61360" y="2438280"/>
              <a:ext cx="0" cy="220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pic>
          <p:nvPicPr>
            <p:cNvPr id="62" name="p4g2" descr=""/>
            <p:cNvPicPr/>
            <p:nvPr/>
          </p:nvPicPr>
          <p:blipFill>
            <a:blip r:embed="rId1"/>
            <a:stretch/>
          </p:blipFill>
          <p:spPr>
            <a:xfrm>
              <a:off x="3092040" y="3172680"/>
              <a:ext cx="1501560" cy="13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 flipV="1">
              <a:off x="1002960" y="2952360"/>
              <a:ext cx="3720960" cy="5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pic>
          <p:nvPicPr>
            <p:cNvPr id="64" name="glas_negativ" descr=""/>
            <p:cNvPicPr/>
            <p:nvPr/>
          </p:nvPicPr>
          <p:blipFill>
            <a:blip r:embed="rId2"/>
            <a:stretch/>
          </p:blipFill>
          <p:spPr>
            <a:xfrm>
              <a:off x="1224720" y="3295080"/>
              <a:ext cx="626760" cy="112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glas_positiv" descr=""/>
            <p:cNvPicPr/>
            <p:nvPr/>
          </p:nvPicPr>
          <p:blipFill>
            <a:blip r:embed="rId3"/>
            <a:stretch/>
          </p:blipFill>
          <p:spPr>
            <a:xfrm>
              <a:off x="2112480" y="3319560"/>
              <a:ext cx="58752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068120" y="2584800"/>
              <a:ext cx="176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Plaque d’Opaline</a:t>
              </a:r>
              <a:endParaRPr b="0" lang="en-US" sz="12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638680" y="3048120"/>
            <a:ext cx="2438640" cy="609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3809880"/>
            <a:ext cx="0" cy="3812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5075280" y="236232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lification Biologique des Don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28600" y="152280"/>
            <a:ext cx="990720" cy="764640"/>
            <a:chOff x="228600" y="152280"/>
            <a:chExt cx="990720" cy="764640"/>
          </a:xfrm>
        </p:grpSpPr>
        <p:pic>
          <p:nvPicPr>
            <p:cNvPr id="71" name="EFS%20logo" descr=""/>
            <p:cNvPicPr/>
            <p:nvPr/>
          </p:nvPicPr>
          <p:blipFill>
            <a:blip r:embed="rId4"/>
            <a:stretch/>
          </p:blipFill>
          <p:spPr>
            <a:xfrm>
              <a:off x="228600" y="152280"/>
              <a:ext cx="9907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28600" y="685800"/>
              <a:ext cx="9907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99"/>
                  </a:solidFill>
                  <a:latin typeface="Times New Roman"/>
                </a:rPr>
                <a:t>RHÔNE-ALPES</a:t>
              </a:r>
              <a:endParaRPr b="0" lang="en-US" sz="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14400" y="152280"/>
            <a:ext cx="8001000" cy="93528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étermination Groupes Sanguin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066680"/>
            <a:ext cx="8935920" cy="79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63360" y="99072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63360" y="106524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9907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303120" y="1752480"/>
            <a:ext cx="38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gènes : Surface Érythrocytai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473040" y="481320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"Molecular Basis and Investigation of Blood Group Genes", Jill R. Storry</a:t>
            </a: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0" name="globule" descr=""/>
          <p:cNvPicPr/>
          <p:nvPr/>
        </p:nvPicPr>
        <p:blipFill>
          <a:blip r:embed="rId1"/>
          <a:stretch/>
        </p:blipFill>
        <p:spPr>
          <a:xfrm>
            <a:off x="304920" y="2459160"/>
            <a:ext cx="3971880" cy="2342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93680" y="30542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Clonage / Séquençage Gèn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4694760" y="3625920"/>
            <a:ext cx="35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Polymorphisme Nucléotide : SN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846040" y="4186080"/>
            <a:ext cx="1752120" cy="1688040"/>
            <a:chOff x="5846040" y="4186080"/>
            <a:chExt cx="1752120" cy="1688040"/>
          </a:xfrm>
        </p:grpSpPr>
        <p:sp>
          <p:nvSpPr>
            <p:cNvPr id="84" name=""/>
            <p:cNvSpPr/>
            <p:nvPr/>
          </p:nvSpPr>
          <p:spPr>
            <a:xfrm>
              <a:off x="6019920" y="4186080"/>
              <a:ext cx="1371600" cy="7621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46040" y="5170320"/>
              <a:ext cx="1752120" cy="70380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Times New Roman"/>
                </a:rPr>
                <a:t>Génotypage 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Times New Roman"/>
                </a:rPr>
                <a:t>erythrocytair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28600" y="152280"/>
            <a:ext cx="990720" cy="764640"/>
            <a:chOff x="228600" y="152280"/>
            <a:chExt cx="990720" cy="764640"/>
          </a:xfrm>
        </p:grpSpPr>
        <p:pic>
          <p:nvPicPr>
            <p:cNvPr id="87" name="EFS%20logo" descr=""/>
            <p:cNvPicPr/>
            <p:nvPr/>
          </p:nvPicPr>
          <p:blipFill>
            <a:blip r:embed="rId2"/>
            <a:stretch/>
          </p:blipFill>
          <p:spPr>
            <a:xfrm>
              <a:off x="228600" y="152280"/>
              <a:ext cx="9907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28600" y="685800"/>
              <a:ext cx="9907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99"/>
                  </a:solidFill>
                  <a:latin typeface="Times New Roman"/>
                </a:rPr>
                <a:t>RHÔNE-ALPES</a:t>
              </a:r>
              <a:endParaRPr b="0" lang="en-US" sz="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1240" y="57240"/>
            <a:ext cx="8881920" cy="9349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e Projet : Objectif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63360" y="990720"/>
            <a:ext cx="8936280" cy="79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63360" y="99072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3360" y="106524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8991720" y="9907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28600" y="152280"/>
            <a:ext cx="990720" cy="764640"/>
            <a:chOff x="228600" y="152280"/>
            <a:chExt cx="990720" cy="764640"/>
          </a:xfrm>
        </p:grpSpPr>
        <p:pic>
          <p:nvPicPr>
            <p:cNvPr id="95" name="EFS%20logo" descr="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9907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28600" y="685800"/>
              <a:ext cx="9907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99"/>
                  </a:solidFill>
                  <a:latin typeface="Times New Roman"/>
                </a:rPr>
                <a:t>RHÔNE-ALPES</a:t>
              </a:r>
              <a:endParaRPr b="0" lang="en-US" sz="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04400" y="1523880"/>
            <a:ext cx="879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développement des micro ou nanotechnologies permettant, par la miniaturisation d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iques, la </a:t>
            </a:r>
            <a:r>
              <a:rPr b="1" lang="fr-FR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étection simultanée de plusieurs systèmes en une seule réaction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mble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culièrement prometteuse dans ce domaine d’analyse </a:t>
            </a:r>
            <a:r>
              <a:rPr b="1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mmuno-hématologie)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jectif :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évelopper une méthode de détermination des groupes sanguins par l’emploi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puces à ADN et évaluer la pertinence de ces nouvelles technologies en Qualification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logique des Dons (QBD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681480" y="3962520"/>
            <a:ext cx="814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tention de résultats rapides et complets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élioration de la sécurité transfusionnelle (disponibilité de CGR phénotypé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éponse aux exigences de haute cadenc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gences économiques (simplification de l’automation et des charges associée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240" y="57240"/>
            <a:ext cx="8881920" cy="9349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Le Projet : Les différentes étap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63360" y="990720"/>
            <a:ext cx="8936280" cy="79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63360" y="99072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63360" y="106524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8991720" y="9907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6300000" y="3489480"/>
            <a:ext cx="15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- Bialléliqu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398640" y="2538360"/>
            <a:ext cx="2653560" cy="1167840"/>
            <a:chOff x="6398640" y="2538360"/>
            <a:chExt cx="2653560" cy="1167840"/>
          </a:xfrm>
        </p:grpSpPr>
        <p:sp>
          <p:nvSpPr>
            <p:cNvPr id="106" name=""/>
            <p:cNvSpPr/>
            <p:nvPr/>
          </p:nvSpPr>
          <p:spPr>
            <a:xfrm>
              <a:off x="6445080" y="330732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- Systèmes Simples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51200" y="2977920"/>
              <a:ext cx="260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- Importance Cliniqu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8640" y="3076200"/>
              <a:ext cx="130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Bialléliques</a:t>
              </a:r>
              <a:endParaRPr b="0" lang="en-US" sz="1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99720" y="2807280"/>
              <a:ext cx="24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Faiblement polymorphes</a:t>
              </a:r>
              <a:endParaRPr b="0" lang="en-US" sz="1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99360" y="2538360"/>
              <a:ext cx="210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- Importance Clinique</a:t>
              </a:r>
              <a:endParaRPr b="0" lang="en-US" sz="1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13716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Etape 1 :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Conception des puces à ADN sur 3 premiers Systèmes Érythrocytair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" y="152280"/>
            <a:ext cx="990720" cy="764640"/>
            <a:chOff x="228600" y="152280"/>
            <a:chExt cx="990720" cy="764640"/>
          </a:xfrm>
        </p:grpSpPr>
        <p:pic>
          <p:nvPicPr>
            <p:cNvPr id="113" name="EFS%20logo" descr="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9907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28600" y="685800"/>
              <a:ext cx="9907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99"/>
                  </a:solidFill>
                  <a:latin typeface="Times New Roman"/>
                </a:rPr>
                <a:t>RHÔNE-ALPES</a:t>
              </a:r>
              <a:endParaRPr b="0" lang="en-US" sz="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62120" y="1981080"/>
            <a:ext cx="5333760" cy="1681200"/>
            <a:chOff x="762120" y="1981080"/>
            <a:chExt cx="5333760" cy="1681200"/>
          </a:xfrm>
        </p:grpSpPr>
        <p:sp>
          <p:nvSpPr>
            <p:cNvPr id="116" name=""/>
            <p:cNvSpPr/>
            <p:nvPr/>
          </p:nvSpPr>
          <p:spPr>
            <a:xfrm>
              <a:off x="762120" y="2366640"/>
              <a:ext cx="5333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11120" y="198576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Antigène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2120" y="2747880"/>
              <a:ext cx="5333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92640" y="19810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SNP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14040" y="2366640"/>
              <a:ext cx="5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</a:rPr>
                <a:t>Kell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8600" y="2366640"/>
              <a:ext cx="172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</a:rPr>
                <a:t>K1 (K) / K2 (k)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97680" y="2366640"/>
              <a:ext cx="73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</a:rPr>
                <a:t>T / C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15480" y="2844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Kidd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21200" y="2823840"/>
              <a:ext cx="230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JK1 (Jk</a:t>
              </a:r>
              <a:r>
                <a:rPr b="1" lang="en-US" sz="1800" spc="-1" strike="noStrike" baseline="30000">
                  <a:solidFill>
                    <a:srgbClr val="ff6600"/>
                  </a:solidFill>
                  <a:latin typeface="Times New Roman"/>
                </a:rPr>
                <a:t> a</a:t>
              </a: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) / JK2 (Jk </a:t>
              </a:r>
              <a:r>
                <a:rPr b="1" lang="en-US" sz="1800" spc="-1" strike="noStrike" baseline="30000">
                  <a:solidFill>
                    <a:srgbClr val="ff6600"/>
                  </a:solidFill>
                  <a:latin typeface="Times New Roman"/>
                </a:rPr>
                <a:t>b</a:t>
              </a: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840" y="282384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G / A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6200" y="328284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Duffy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62600" y="3281040"/>
              <a:ext cx="239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FY1 (Fy</a:t>
              </a:r>
              <a:r>
                <a:rPr b="1" lang="en-US" sz="1800" spc="-1" strike="noStrike" baseline="30000">
                  <a:solidFill>
                    <a:srgbClr val="ff00ff"/>
                  </a:solidFill>
                  <a:latin typeface="Times New Roman"/>
                </a:rPr>
                <a:t> a</a:t>
              </a: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) / FY2 (Fy</a:t>
              </a:r>
              <a:r>
                <a:rPr b="1" lang="en-US" sz="1800" spc="-1" strike="noStrike" baseline="30000">
                  <a:solidFill>
                    <a:srgbClr val="ff00ff"/>
                  </a:solidFill>
                  <a:latin typeface="Times New Roman"/>
                </a:rPr>
                <a:t> b</a:t>
              </a: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) 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840" y="328104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G / A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2120" y="3205080"/>
              <a:ext cx="5333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120" y="3662280"/>
              <a:ext cx="5333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28600" y="39625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Etape 2 :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Extension de la technologie à d’autres systèmes érythrocytai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(MN, Ss, Luthéran,…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4876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Etape 3 :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transfert technologique sur des supports adaptés aux spécifications des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    laboratoires QB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support type µplaques ?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6386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1600200" y="59436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52280"/>
            <a:ext cx="8881920" cy="93528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Le Projet : Méthodologie (1)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PCR Multiplex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8935920" cy="79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63360" y="99072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63360" y="106524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8991720" y="9907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600" y="152280"/>
            <a:ext cx="990720" cy="764640"/>
            <a:chOff x="228600" y="152280"/>
            <a:chExt cx="990720" cy="764640"/>
          </a:xfrm>
        </p:grpSpPr>
        <p:pic>
          <p:nvPicPr>
            <p:cNvPr id="141" name="EFS%20logo" descr=""/>
            <p:cNvPicPr/>
            <p:nvPr/>
          </p:nvPicPr>
          <p:blipFill>
            <a:blip r:embed="rId1"/>
            <a:stretch/>
          </p:blipFill>
          <p:spPr>
            <a:xfrm>
              <a:off x="228600" y="152280"/>
              <a:ext cx="9907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28600" y="685800"/>
              <a:ext cx="9907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99"/>
                  </a:solidFill>
                  <a:latin typeface="Times New Roman"/>
                </a:rPr>
                <a:t>RHÔNE-ALPES</a:t>
              </a:r>
              <a:endParaRPr b="0" lang="en-US" sz="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96840" y="325116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5’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87120" y="340344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3’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3716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ise au Point Protocole 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1067400" y="1752480"/>
            <a:ext cx="27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élection des Amorce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nditions Amplificatio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1134360" y="2870280"/>
            <a:ext cx="746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GCAA</a:t>
            </a: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TG</a:t>
            </a: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135800" y="3021120"/>
            <a:ext cx="75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GTT</a:t>
            </a: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AAC</a:t>
            </a: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235080" y="2981160"/>
            <a:ext cx="96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3132000"/>
            <a:ext cx="96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1806480" y="2986200"/>
            <a:ext cx="56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080880" y="2862360"/>
            <a:ext cx="77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GGAT</a:t>
            </a: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CA</a:t>
            </a: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082320" y="3013200"/>
            <a:ext cx="75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CTA</a:t>
            </a: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GGT</a:t>
            </a: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5897160" y="2870280"/>
            <a:ext cx="77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GCC</a:t>
            </a: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GAC</a:t>
            </a: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5889240" y="3013200"/>
            <a:ext cx="77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ACGG</a:t>
            </a: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C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CTG</a:t>
            </a: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6600960" y="2986200"/>
            <a:ext cx="13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603840" y="3132000"/>
            <a:ext cx="135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662040" y="2533680"/>
            <a:ext cx="1679400" cy="756720"/>
            <a:chOff x="662040" y="2533680"/>
            <a:chExt cx="1679400" cy="756720"/>
          </a:xfrm>
        </p:grpSpPr>
        <p:sp>
          <p:nvSpPr>
            <p:cNvPr id="159" name=""/>
            <p:cNvSpPr/>
            <p:nvPr/>
          </p:nvSpPr>
          <p:spPr>
            <a:xfrm>
              <a:off x="925560" y="2804760"/>
              <a:ext cx="460440" cy="84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817560" y="2845440"/>
              <a:ext cx="108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7560" y="2724480"/>
              <a:ext cx="0" cy="12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2040" y="2533680"/>
              <a:ext cx="289080" cy="1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Comic Sans MS"/>
                </a:rPr>
                <a:t>Cy-3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81360" y="3206160"/>
              <a:ext cx="460080" cy="842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263960" y="32734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Kel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681280" y="2514600"/>
            <a:ext cx="1784160" cy="767880"/>
            <a:chOff x="2681280" y="2514600"/>
            <a:chExt cx="1784160" cy="767880"/>
          </a:xfrm>
        </p:grpSpPr>
        <p:sp>
          <p:nvSpPr>
            <p:cNvPr id="166" name=""/>
            <p:cNvSpPr/>
            <p:nvPr/>
          </p:nvSpPr>
          <p:spPr>
            <a:xfrm>
              <a:off x="2944800" y="2786400"/>
              <a:ext cx="460440" cy="83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836800" y="2826720"/>
              <a:ext cx="108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36800" y="2705760"/>
              <a:ext cx="0" cy="12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81280" y="2514600"/>
              <a:ext cx="288720" cy="1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Comic Sans MS"/>
                </a:rPr>
                <a:t>Cy-3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05000" y="3198600"/>
              <a:ext cx="460440" cy="83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198600" y="32828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Times New Roman"/>
              </a:rPr>
              <a:t>Kid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897440" y="2844720"/>
            <a:ext cx="2266920" cy="747000"/>
            <a:chOff x="4897440" y="2844720"/>
            <a:chExt cx="2266920" cy="747000"/>
          </a:xfrm>
        </p:grpSpPr>
        <p:sp>
          <p:nvSpPr>
            <p:cNvPr id="173" name=""/>
            <p:cNvSpPr/>
            <p:nvPr/>
          </p:nvSpPr>
          <p:spPr>
            <a:xfrm>
              <a:off x="6448320" y="3207240"/>
              <a:ext cx="460440" cy="83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6875640" y="3250800"/>
              <a:ext cx="288720" cy="340920"/>
              <a:chOff x="6875640" y="3250800"/>
              <a:chExt cx="288720" cy="34092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6918480" y="3250800"/>
                <a:ext cx="108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27920" y="3259800"/>
                <a:ext cx="0" cy="120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875640" y="3392640"/>
                <a:ext cx="288720" cy="1990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Comic Sans MS"/>
                  </a:rPr>
                  <a:t>Cy-3</a:t>
                </a:r>
                <a:endParaRPr b="0" lang="en-US" sz="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897440" y="2844720"/>
              <a:ext cx="460440" cy="8388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000120" y="32716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Times New Roman"/>
              </a:rPr>
              <a:t>Duffy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2338560" y="2979720"/>
            <a:ext cx="564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2881440" y="2979720"/>
            <a:ext cx="277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808280" y="3133800"/>
            <a:ext cx="56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2347920" y="3135240"/>
            <a:ext cx="565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3135240"/>
            <a:ext cx="27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3786120" y="2979720"/>
            <a:ext cx="709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4491000" y="2981160"/>
            <a:ext cx="349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4871880" y="2981160"/>
            <a:ext cx="110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3776760" y="3135240"/>
            <a:ext cx="709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4481640" y="3127320"/>
            <a:ext cx="349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4862520" y="3127320"/>
            <a:ext cx="1104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7940520" y="283356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3’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7931160" y="3002040"/>
            <a:ext cx="28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5’</a:t>
            </a:r>
            <a:endParaRPr b="0" lang="en-US" sz="1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10040" y="3800520"/>
            <a:ext cx="3612600" cy="2282760"/>
            <a:chOff x="2210040" y="3800520"/>
            <a:chExt cx="3612600" cy="2282760"/>
          </a:xfrm>
        </p:grpSpPr>
        <p:sp>
          <p:nvSpPr>
            <p:cNvPr id="194" name=""/>
            <p:cNvSpPr/>
            <p:nvPr/>
          </p:nvSpPr>
          <p:spPr>
            <a:xfrm>
              <a:off x="3809880" y="3800520"/>
              <a:ext cx="0" cy="695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5480" y="3809880"/>
              <a:ext cx="124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CR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ultiplex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10040" y="5715000"/>
              <a:ext cx="361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</a:rPr>
                <a:t>Mélange Amplicons des 3 Système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8229600" y="3886200"/>
            <a:ext cx="652680" cy="2241720"/>
            <a:chOff x="8229600" y="3886200"/>
            <a:chExt cx="652680" cy="2241720"/>
          </a:xfrm>
        </p:grpSpPr>
        <p:pic>
          <p:nvPicPr>
            <p:cNvPr id="198" name="Sans%20titre-1%20copier" descr=""/>
            <p:cNvPicPr/>
            <p:nvPr/>
          </p:nvPicPr>
          <p:blipFill>
            <a:blip r:embed="rId2"/>
            <a:stretch/>
          </p:blipFill>
          <p:spPr>
            <a:xfrm>
              <a:off x="8229600" y="3886200"/>
              <a:ext cx="255600" cy="22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8453160" y="4222800"/>
              <a:ext cx="429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Times New Roman"/>
                </a:rPr>
                <a:t>Kidd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ff00"/>
                  </a:solidFill>
                  <a:latin typeface="Times New Roman"/>
                </a:rPr>
                <a:t>Kell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00ff"/>
                  </a:solidFill>
                  <a:latin typeface="Times New Roman"/>
                </a:rPr>
                <a:t>Duffy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72680" y="4572000"/>
            <a:ext cx="7512480" cy="1093320"/>
            <a:chOff x="472680" y="4572000"/>
            <a:chExt cx="7512480" cy="1093320"/>
          </a:xfrm>
        </p:grpSpPr>
        <p:sp>
          <p:nvSpPr>
            <p:cNvPr id="201" name=""/>
            <p:cNvSpPr/>
            <p:nvPr/>
          </p:nvSpPr>
          <p:spPr>
            <a:xfrm>
              <a:off x="2560680" y="4572000"/>
              <a:ext cx="360360" cy="2379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2835000" y="4795920"/>
              <a:ext cx="73080" cy="79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30080" y="457200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Comic Sans MS"/>
                </a:rPr>
                <a:t>Cy-3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03400" y="4865760"/>
              <a:ext cx="773280" cy="68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75240" y="4865760"/>
              <a:ext cx="1011240" cy="6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03400" y="4984920"/>
              <a:ext cx="1011240" cy="6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4760" y="4984920"/>
              <a:ext cx="801720" cy="68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2120" y="4876920"/>
              <a:ext cx="0" cy="68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32120" y="4987800"/>
              <a:ext cx="1800" cy="76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5360" y="5067360"/>
              <a:ext cx="360360" cy="2379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2680" y="5076720"/>
              <a:ext cx="39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Comic Sans MS"/>
                </a:rPr>
                <a:t>Cy-3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8080" y="5316480"/>
              <a:ext cx="773280" cy="68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09560" y="5316480"/>
              <a:ext cx="1413000" cy="6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8080" y="5435640"/>
              <a:ext cx="1413000" cy="6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17600" y="5435640"/>
              <a:ext cx="801720" cy="68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8480" y="5319720"/>
              <a:ext cx="0" cy="68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98480" y="5438880"/>
              <a:ext cx="0" cy="68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761760" y="5284440"/>
              <a:ext cx="7596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7584840" y="5395680"/>
              <a:ext cx="400320" cy="269640"/>
              <a:chOff x="7584840" y="5395680"/>
              <a:chExt cx="400320" cy="269640"/>
            </a:xfrm>
          </p:grpSpPr>
          <p:sp>
            <p:nvSpPr>
              <p:cNvPr id="220" name=""/>
              <p:cNvSpPr/>
              <p:nvPr/>
            </p:nvSpPr>
            <p:spPr>
              <a:xfrm>
                <a:off x="7619760" y="5427360"/>
                <a:ext cx="360000" cy="23796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flipV="1">
                <a:off x="7584840" y="5395680"/>
                <a:ext cx="72720" cy="7884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89520" y="5427360"/>
                <a:ext cx="395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Comic Sans MS"/>
                  </a:rPr>
                  <a:t>Cy-3</a:t>
                </a:r>
                <a:endParaRPr b="0" lang="en-US" sz="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4849920" y="5268960"/>
              <a:ext cx="774720" cy="68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22840" y="5268960"/>
              <a:ext cx="1995480" cy="6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49920" y="5388120"/>
              <a:ext cx="1995480" cy="6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15160" y="5388120"/>
              <a:ext cx="803160" cy="6804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37400" y="5272200"/>
              <a:ext cx="0" cy="68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37400" y="5391000"/>
              <a:ext cx="1440" cy="76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8242560" y="28368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ADN</a:t>
            </a: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Génomique</a:t>
            </a:r>
            <a:endParaRPr b="0" lang="en-US" sz="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1240" y="57240"/>
            <a:ext cx="8881920" cy="9349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Le Projet : Méthodologie (2)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Conception Puces à ADN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63360" y="990720"/>
            <a:ext cx="8936280" cy="79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63360" y="99072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63360" y="106524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8991720" y="9907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4479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Puce </a:t>
            </a: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n Situ et Ex Situ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RosaSlides (RosaTech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19051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Sondes 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066680" y="2286000"/>
            <a:ext cx="6486840" cy="1216080"/>
            <a:chOff x="1066680" y="2286000"/>
            <a:chExt cx="6486840" cy="1216080"/>
          </a:xfrm>
        </p:grpSpPr>
        <p:sp>
          <p:nvSpPr>
            <p:cNvPr id="238" name=""/>
            <p:cNvSpPr/>
            <p:nvPr/>
          </p:nvSpPr>
          <p:spPr>
            <a:xfrm>
              <a:off x="1066680" y="2311200"/>
              <a:ext cx="571500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</a:rPr>
                <a:t>Kell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ff00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ff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00ff"/>
                  </a:solidFill>
                  <a:latin typeface="Times New Roman"/>
                </a:rPr>
                <a:t>Duffy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ff66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Kidd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44400" y="2553840"/>
              <a:ext cx="168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5, 17, 19mère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57400" y="2350440"/>
              <a:ext cx="152280" cy="7117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8360 h 711720"/>
                <a:gd name="textAreaBottom" fmla="*/ 693360 h 71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43680" y="3110400"/>
              <a:ext cx="202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15, 17, 19, 21mères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72000" y="2286000"/>
              <a:ext cx="228600" cy="11426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9520 h 1142640"/>
                <a:gd name="textAreaBottom" fmla="*/ 1113120 h 114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37400" y="2678040"/>
              <a:ext cx="261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Times New Roman"/>
                </a:rPr>
                <a:t>SNP Position Centrale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28600" y="3657600"/>
            <a:ext cx="9829800" cy="2349360"/>
            <a:chOff x="228600" y="3657600"/>
            <a:chExt cx="9829800" cy="2349360"/>
          </a:xfrm>
        </p:grpSpPr>
        <p:sp>
          <p:nvSpPr>
            <p:cNvPr id="245" name=""/>
            <p:cNvSpPr/>
            <p:nvPr/>
          </p:nvSpPr>
          <p:spPr>
            <a:xfrm>
              <a:off x="228600" y="4419360"/>
              <a:ext cx="876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fr-FR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Hybridation :</a:t>
              </a:r>
              <a:r>
                <a:rPr b="1" lang="fr-FR" sz="1800" spc="-1" strike="noStrike">
                  <a:solidFill>
                    <a:srgbClr val="ffffff"/>
                  </a:solidFill>
                  <a:latin typeface="Times New Roman"/>
                </a:rPr>
                <a:t> Chambre Hybridation RosaMix</a:t>
              </a:r>
              <a:r>
                <a:rPr b="1" lang="fr-FR" sz="1800" spc="-1" strike="noStrike" baseline="30000">
                  <a:solidFill>
                    <a:srgbClr val="ffffff"/>
                  </a:solidFill>
                  <a:latin typeface="Times New Roman"/>
                </a:rPr>
                <a:t>TM </a:t>
              </a:r>
              <a:r>
                <a:rPr b="1" lang="fr-FR" sz="1800" spc="-1" strike="noStrike">
                  <a:solidFill>
                    <a:srgbClr val="ffffff"/>
                  </a:solidFill>
                  <a:latin typeface="Times New Roman"/>
                </a:rPr>
                <a:t>(RosaTech)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" y="3657600"/>
              <a:ext cx="982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Cibles :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Cibles Synthétiques, Amplicons PCR Simplex, PCR MPX "Artificielle",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    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CR MPX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600" y="5029200"/>
              <a:ext cx="952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fr-FR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Détection :</a:t>
              </a:r>
              <a:r>
                <a:rPr b="1" lang="fr-FR" sz="1800" spc="-1" strike="noStrike">
                  <a:solidFill>
                    <a:srgbClr val="ffffff"/>
                  </a:solidFill>
                  <a:latin typeface="Times New Roman"/>
                </a:rPr>
                <a:t> Scanner Fluorescence GenePix 4000B (LEOM, École Centrale de Lyon)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" y="5638680"/>
              <a:ext cx="952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nalyse :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 Logiciel Target (LEOM, École Centrale de Lyon)</a:t>
              </a: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pic>
        <p:nvPicPr>
          <p:cNvPr id="249" name="Sans%20titre-1%20copier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1295280" cy="914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250" name=""/>
          <p:cNvGrpSpPr/>
          <p:nvPr/>
        </p:nvGrpSpPr>
        <p:grpSpPr>
          <a:xfrm>
            <a:off x="228600" y="152280"/>
            <a:ext cx="990720" cy="764640"/>
            <a:chOff x="228600" y="152280"/>
            <a:chExt cx="990720" cy="764640"/>
          </a:xfrm>
        </p:grpSpPr>
        <p:pic>
          <p:nvPicPr>
            <p:cNvPr id="251" name="EFS%20logo" descr=""/>
            <p:cNvPicPr/>
            <p:nvPr/>
          </p:nvPicPr>
          <p:blipFill>
            <a:blip r:embed="rId2"/>
            <a:stretch/>
          </p:blipFill>
          <p:spPr>
            <a:xfrm>
              <a:off x="228600" y="152280"/>
              <a:ext cx="9907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228600" y="685800"/>
              <a:ext cx="9907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99"/>
                  </a:solidFill>
                  <a:latin typeface="Times New Roman"/>
                </a:rPr>
                <a:t>RHÔNE-ALPES</a:t>
              </a:r>
              <a:endParaRPr b="0" lang="en-US" sz="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11240" y="57240"/>
            <a:ext cx="8881920" cy="9349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00"/>
                </a:solidFill>
                <a:latin typeface="Times New Roman"/>
              </a:rPr>
              <a:t>Le Projet :Résultats (1)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00"/>
                </a:solidFill>
                <a:latin typeface="Times New Roman"/>
              </a:rPr>
              <a:t>Exemples de spotting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63360" y="990720"/>
            <a:ext cx="8936280" cy="79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63360" y="99072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63360" y="106524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8991720" y="9907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12952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Puce </a:t>
            </a: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n Situ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RosaSlides (RosaTech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16765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Cibles 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PCR MPX, Donneur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KEL: 1, 2 ;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Times New Roman"/>
              </a:rPr>
              <a:t>JK: 1, -2 ;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</a:rPr>
              <a:t>FY: -1, 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33520" y="2209680"/>
            <a:ext cx="8211960" cy="4038840"/>
            <a:chOff x="533520" y="2209680"/>
            <a:chExt cx="8211960" cy="403884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533520" y="2209680"/>
              <a:ext cx="1853280" cy="403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3203280" y="3346920"/>
              <a:ext cx="4714200" cy="204948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sp>
          <p:nvSpPr>
            <p:cNvPr id="263" name=""/>
            <p:cNvSpPr/>
            <p:nvPr/>
          </p:nvSpPr>
          <p:spPr>
            <a:xfrm>
              <a:off x="538920" y="2353680"/>
              <a:ext cx="1850760" cy="6742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56200" y="4583880"/>
              <a:ext cx="1206360" cy="73440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4515840" y="3711240"/>
              <a:ext cx="780480" cy="1624680"/>
              <a:chOff x="4515840" y="3711240"/>
              <a:chExt cx="780480" cy="1624680"/>
            </a:xfrm>
          </p:grpSpPr>
          <p:sp>
            <p:nvSpPr>
              <p:cNvPr id="266" name=""/>
              <p:cNvSpPr/>
              <p:nvPr/>
            </p:nvSpPr>
            <p:spPr>
              <a:xfrm>
                <a:off x="4529520" y="3720960"/>
                <a:ext cx="0" cy="161496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285520" y="3711240"/>
                <a:ext cx="1440" cy="161136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29520" y="3720960"/>
                <a:ext cx="75132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15840" y="5319000"/>
                <a:ext cx="780480" cy="14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3256200" y="3708360"/>
              <a:ext cx="1206360" cy="7344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15880" y="3363480"/>
              <a:ext cx="37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44280" y="3368160"/>
              <a:ext cx="37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17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61880" y="3368160"/>
              <a:ext cx="857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15mères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96320" y="4573440"/>
              <a:ext cx="37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96320" y="4153680"/>
              <a:ext cx="37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17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96320" y="3760920"/>
              <a:ext cx="37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03160" y="5011560"/>
              <a:ext cx="37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39240" y="4591440"/>
              <a:ext cx="424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ff00"/>
                  </a:solidFill>
                  <a:latin typeface="Times New Roman"/>
                </a:rPr>
                <a:t>K1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37440" y="5034240"/>
              <a:ext cx="424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ff00"/>
                  </a:solidFill>
                  <a:latin typeface="Times New Roman"/>
                </a:rPr>
                <a:t>K2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4000" y="3715920"/>
              <a:ext cx="529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Times New Roman"/>
                </a:rPr>
                <a:t>FY2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64000" y="4138560"/>
              <a:ext cx="529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00ff"/>
                  </a:solidFill>
                  <a:latin typeface="Times New Roman"/>
                </a:rPr>
                <a:t>FY1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02120" y="4583880"/>
              <a:ext cx="1206000" cy="734400"/>
            </a:xfrm>
            <a:prstGeom prst="rect">
              <a:avLst/>
            </a:prstGeom>
            <a:noFill/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7061760" y="3699000"/>
              <a:ext cx="780120" cy="1625040"/>
              <a:chOff x="7061760" y="3699000"/>
              <a:chExt cx="780120" cy="1625040"/>
            </a:xfrm>
          </p:grpSpPr>
          <p:sp>
            <p:nvSpPr>
              <p:cNvPr id="284" name=""/>
              <p:cNvSpPr/>
              <p:nvPr/>
            </p:nvSpPr>
            <p:spPr>
              <a:xfrm>
                <a:off x="7075440" y="3708720"/>
                <a:ext cx="0" cy="161532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831080" y="3699000"/>
                <a:ext cx="1440" cy="161172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075440" y="3708720"/>
                <a:ext cx="75096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061760" y="5307120"/>
                <a:ext cx="780120" cy="14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5802120" y="3708360"/>
              <a:ext cx="1206000" cy="73440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79080" y="3372480"/>
              <a:ext cx="37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07840" y="3378600"/>
              <a:ext cx="37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17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25800" y="3378600"/>
              <a:ext cx="37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87240" y="4573440"/>
              <a:ext cx="37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19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87240" y="4153680"/>
              <a:ext cx="37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17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87960" y="3772800"/>
              <a:ext cx="857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15mères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894080" y="5011560"/>
              <a:ext cx="372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imes New Roman"/>
                </a:rPr>
                <a:t>21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13600" y="5369760"/>
              <a:ext cx="520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6600"/>
                  </a:solidFill>
                  <a:latin typeface="Times New Roman"/>
                </a:rPr>
                <a:t>JK1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56400" y="5372640"/>
              <a:ext cx="520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6600"/>
                  </a:solidFill>
                  <a:latin typeface="Times New Roman"/>
                </a:rPr>
                <a:t>JK2</a:t>
              </a:r>
              <a:endParaRPr b="0" lang="en-US" sz="15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41880" y="2673000"/>
              <a:ext cx="653400" cy="59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28600" y="152280"/>
            <a:ext cx="990720" cy="764640"/>
            <a:chOff x="228600" y="152280"/>
            <a:chExt cx="990720" cy="764640"/>
          </a:xfrm>
        </p:grpSpPr>
        <p:pic>
          <p:nvPicPr>
            <p:cNvPr id="300" name="EFS%20logo" descr=""/>
            <p:cNvPicPr/>
            <p:nvPr/>
          </p:nvPicPr>
          <p:blipFill>
            <a:blip r:embed="rId3"/>
            <a:stretch/>
          </p:blipFill>
          <p:spPr>
            <a:xfrm>
              <a:off x="228600" y="152280"/>
              <a:ext cx="9907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28600" y="685800"/>
              <a:ext cx="9907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99"/>
                  </a:solidFill>
                  <a:latin typeface="Times New Roman"/>
                </a:rPr>
                <a:t>RHÔNE-ALPES</a:t>
              </a:r>
              <a:endParaRPr b="0" lang="en-US" sz="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1240" y="57240"/>
            <a:ext cx="8881920" cy="934920"/>
          </a:xfrm>
          <a:prstGeom prst="rect">
            <a:avLst/>
          </a:pr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Le Projet :Résultats (2)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Expression des résultats</a:t>
            </a:r>
            <a:endParaRPr b="0" lang="en-US" sz="2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63360" y="990720"/>
            <a:ext cx="8936280" cy="79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63360" y="99072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63360" y="1065240"/>
            <a:ext cx="893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8991720" y="99072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8083440" y="2905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A ; -B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8079120" y="5315040"/>
            <a:ext cx="575280" cy="307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en-US" sz="1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7962840" y="3816360"/>
            <a:ext cx="72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ff00"/>
                </a:solidFill>
                <a:latin typeface="Times New Roman"/>
              </a:rPr>
              <a:t>-A ; B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52280" y="2362320"/>
            <a:ext cx="4852800" cy="3040920"/>
            <a:chOff x="152280" y="2362320"/>
            <a:chExt cx="4852800" cy="3040920"/>
          </a:xfrm>
        </p:grpSpPr>
        <p:graphicFrame>
          <p:nvGraphicFramePr>
            <p:cNvPr id="311" name=""/>
            <p:cNvGraphicFramePr/>
            <p:nvPr/>
          </p:nvGraphicFramePr>
          <p:xfrm>
            <a:off x="152280" y="2362320"/>
            <a:ext cx="4828320" cy="3038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2362320"/>
                      <a:ext cx="4828320" cy="30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3" name=""/>
            <p:cNvSpPr/>
            <p:nvPr/>
          </p:nvSpPr>
          <p:spPr>
            <a:xfrm>
              <a:off x="348480" y="2607840"/>
              <a:ext cx="1409760" cy="244620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69240" y="2609280"/>
              <a:ext cx="1410120" cy="24462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17880" y="2607840"/>
              <a:ext cx="900000" cy="2446200"/>
            </a:xfrm>
            <a:prstGeom prst="rect">
              <a:avLst/>
            </a:prstGeom>
            <a:solidFill>
              <a:srgbClr val="00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43400" y="2373840"/>
              <a:ext cx="977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V de Fluorescence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6560" y="2362320"/>
              <a:ext cx="4735800" cy="7920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25880" y="2363760"/>
              <a:ext cx="79200" cy="30020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90880" y="5073840"/>
              <a:ext cx="194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571120" y="2396880"/>
              <a:ext cx="0" cy="194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35560" y="5187600"/>
              <a:ext cx="569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Ln (A/B)</a:t>
              </a:r>
              <a:endParaRPr b="0" lang="en-US" sz="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6960" y="3785760"/>
              <a:ext cx="141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Homozygote BB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41760" y="2993760"/>
              <a:ext cx="148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ffff"/>
                  </a:solidFill>
                  <a:latin typeface="Times New Roman"/>
                </a:rPr>
                <a:t>Hétérozygote 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r>
                <a:rPr b="1" lang="en-US" sz="1400" spc="-1" strike="noStrike">
                  <a:solidFill>
                    <a:srgbClr val="00ff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63120" y="3768840"/>
              <a:ext cx="143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Homozygote AA</a:t>
              </a:r>
              <a:endParaRPr b="0" lang="en-US" sz="1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788080" y="2868480"/>
            <a:ext cx="711000" cy="428760"/>
          </a:xfrm>
          <a:prstGeom prst="rightArrow">
            <a:avLst>
              <a:gd name="adj1" fmla="val 50000"/>
              <a:gd name="adj2" fmla="val 4145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5257800" y="226224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mozygot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6502680" y="2892600"/>
            <a:ext cx="45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6975360" y="2822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6982920" y="3071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6978600" y="3114720"/>
            <a:ext cx="3016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7317000" y="2935440"/>
            <a:ext cx="4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&gt; 0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797440" y="261936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6564600" y="3762360"/>
            <a:ext cx="45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7037280" y="3692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7044840" y="3957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7040520" y="3984480"/>
            <a:ext cx="3016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7382160" y="3836880"/>
            <a:ext cx="4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&lt; 0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5791320" y="3740040"/>
            <a:ext cx="760320" cy="428760"/>
          </a:xfrm>
          <a:prstGeom prst="rightArrow">
            <a:avLst>
              <a:gd name="adj1" fmla="val 50000"/>
              <a:gd name="adj2" fmla="val 44332"/>
            </a:avLst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5815800" y="349092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B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5261760" y="4548240"/>
            <a:ext cx="16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étérozygot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5788080" y="5238720"/>
            <a:ext cx="711000" cy="428760"/>
          </a:xfrm>
          <a:prstGeom prst="rightArrow">
            <a:avLst>
              <a:gd name="adj1" fmla="val 50000"/>
              <a:gd name="adj2" fmla="val 41457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5860440" y="49528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ff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>
            <a:off x="6554880" y="5232240"/>
            <a:ext cx="45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n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7027920" y="5162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7035480" y="5411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7031160" y="5454720"/>
            <a:ext cx="3016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>
            <a:off x="7332840" y="5276880"/>
            <a:ext cx="49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ff"/>
                </a:solidFill>
                <a:latin typeface="Symbol"/>
                <a:ea typeface="Symbol"/>
              </a:rPr>
              <a:t></a:t>
            </a:r>
            <a:r>
              <a:rPr b="1" lang="en-US" sz="1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cc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8045280" y="2913120"/>
            <a:ext cx="685800" cy="3049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8045280" y="3824280"/>
            <a:ext cx="685800" cy="304920"/>
          </a:xfrm>
          <a:prstGeom prst="rect">
            <a:avLst/>
          </a:prstGeom>
          <a:noFill/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156600" y="5511960"/>
            <a:ext cx="48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Expression graphique : régression logarithmique du  rapport d’intensité du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ignal de l’Allèle A / Allèle B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28600" y="152280"/>
            <a:ext cx="990720" cy="764640"/>
            <a:chOff x="228600" y="152280"/>
            <a:chExt cx="990720" cy="764640"/>
          </a:xfrm>
        </p:grpSpPr>
        <p:pic>
          <p:nvPicPr>
            <p:cNvPr id="352" name="EFS%20logo" descr=""/>
            <p:cNvPicPr/>
            <p:nvPr/>
          </p:nvPicPr>
          <p:blipFill>
            <a:blip r:embed="rId3"/>
            <a:stretch/>
          </p:blipFill>
          <p:spPr>
            <a:xfrm>
              <a:off x="228600" y="152280"/>
              <a:ext cx="9907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28600" y="685800"/>
              <a:ext cx="9907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99"/>
                  </a:solidFill>
                  <a:latin typeface="Times New Roman"/>
                </a:rPr>
                <a:t>RHÔNE-ALPES</a:t>
              </a:r>
              <a:endParaRPr b="0" lang="en-US" sz="9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11:30:32Z</dcterms:created>
  <dc:creator>J.-C. Brès</dc:creator>
  <dc:description/>
  <dc:language>en-US</dc:language>
  <cp:lastModifiedBy>EFS Rhône Alpes</cp:lastModifiedBy>
  <dcterms:modified xsi:type="dcterms:W3CDTF">2005-11-21T21:04:03Z</dcterms:modified>
  <cp:revision>229</cp:revision>
  <dc:subject/>
  <dc:title>Diapositive 1</dc:title>
</cp:coreProperties>
</file>