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533520"/>
            <a:ext cx="6781680" cy="45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305920" y="63244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17B-EF07-4B1A-9D93-69F3B9487C39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logocoul" descr=""/>
          <p:cNvPicPr/>
          <p:nvPr/>
        </p:nvPicPr>
        <p:blipFill>
          <a:blip r:embed="rId3"/>
          <a:stretch/>
        </p:blipFill>
        <p:spPr>
          <a:xfrm>
            <a:off x="7848720" y="228600"/>
            <a:ext cx="834840" cy="93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371600"/>
            <a:ext cx="853416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Détection des Papillomavirus humains potentiellement oncogènes</a:t>
            </a:r>
            <a:br>
              <a:rPr sz="2200"/>
            </a:br>
            <a:br>
              <a:rPr sz="2200"/>
            </a:br>
            <a:r>
              <a:rPr b="1" i="1" lang="fr-FR" sz="2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Evaluation du test Hybrid-capture (Digene) </a:t>
            </a:r>
            <a:br>
              <a:rPr sz="2200"/>
            </a:br>
            <a:r>
              <a:rPr b="1" i="1" lang="fr-FR" sz="2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en pratique quotidienne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808080"/>
                </a:solidFill>
                <a:latin typeface="Times New Roman"/>
              </a:rPr>
              <a:t>Jean-Dominique POVEDA</a:t>
            </a:r>
            <a:br>
              <a:rPr sz="2000"/>
            </a:br>
            <a:r>
              <a:rPr b="0" i="1" lang="fr-FR" sz="2000" spc="-1" strike="noStrike">
                <a:solidFill>
                  <a:srgbClr val="808080"/>
                </a:solidFill>
                <a:latin typeface="Times New Roman"/>
              </a:rPr>
              <a:t>Laboratoire Pasteur Cerba</a:t>
            </a:r>
            <a:r>
              <a:rPr b="1" i="1" lang="fr-FR" sz="20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 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04920"/>
            <a:ext cx="73911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57913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</a:rPr>
              <a:t>Colloque de virologie de Versailles – INTS - 22 Novembre 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Utilisation du test hybrid-capture en routine au Laboratoire Pasteur Cerba : </a:t>
            </a:r>
            <a:br>
              <a:rPr sz="2400"/>
            </a:b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Les milieux reç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98560" y="1386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981080"/>
            <a:ext cx="733104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Février 2004 – Juillet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15.910 échantill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Utilisation des protocoles de traitement d’échantillon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  validés publi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3520" y="4267080"/>
          <a:ext cx="7797600" cy="1699920"/>
        </p:xfrm>
        <a:graphic>
          <a:graphicData uri="http://schemas.openxmlformats.org/drawingml/2006/table">
            <a:tbl>
              <a:tblPr/>
              <a:tblGrid>
                <a:gridCol w="1752480"/>
                <a:gridCol w="1295280"/>
                <a:gridCol w="1143000"/>
                <a:gridCol w="1123920"/>
                <a:gridCol w="1168560"/>
                <a:gridCol w="13143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lieu de transport ou de conser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ytoscreen (Sero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M (Dige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re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Tripat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inpre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Cyty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asyf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Labonor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.420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(40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.8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36,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4,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04</a:t>
                      </a: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4,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6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4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Utilisation du test hybrid-capture en routine au Laboratoire Pasteur Cerba : </a:t>
            </a:r>
            <a:br>
              <a:rPr sz="2400"/>
            </a:b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Les ind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2108160"/>
          <a:ext cx="800100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190512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ytolo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mb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.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S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S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ég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u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nconn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.4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7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Utilisation du test hybrid-capture en routine au Laboratoire Pasteur Ce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3520" y="3505320"/>
          <a:ext cx="8394480" cy="1936800"/>
        </p:xfrm>
        <a:graphic>
          <a:graphicData uri="http://schemas.openxmlformats.org/drawingml/2006/table">
            <a:tbl>
              <a:tblPr/>
              <a:tblGrid>
                <a:gridCol w="2349360"/>
                <a:gridCol w="1295280"/>
                <a:gridCol w="1143000"/>
                <a:gridCol w="1123920"/>
                <a:gridCol w="1168560"/>
                <a:gridCol w="13143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lieu de transp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ou de conservatio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ytoscreen (6.42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M (5.86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re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6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hinpre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7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asyfi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6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SC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.5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.2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PV positif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8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40,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35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36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860400" y="1820880"/>
            <a:ext cx="75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ourcentage de positivité du test hybrid-capture dans le cas d’une cytologie ASCUS selon le milieu de transport ou de conservation,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avec une cellularité suffisa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urcentage de tests HPV demandé par tranche d'âge chez des patientes avec un diagnostic ASCUS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(N = 3 04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676520"/>
          <a:ext cx="83548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676520"/>
                    <a:ext cx="8354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Pourcentage de tests HPV positifs par tranche d'âge chez des patientes avec un diagnostic d’ASCUS </a:t>
            </a: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(N = 3 047)</a:t>
            </a: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7644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49280" y="1523880"/>
          <a:ext cx="845028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280" y="1523880"/>
                    <a:ext cx="845028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eu STM  ou milieu de conservation pour cytologi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420920"/>
            <a:ext cx="7924680" cy="52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ilieu STM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Technique plus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Automatisation plus facile (R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Standardisation  du prélèvement plus fac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cc99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Utilisation d’un résultat semi-quantita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Clr>
                <a:srgbClr val="00cc99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Times New Roman"/>
                <a:ea typeface="Arial"/>
              </a:rPr>
              <a:t>Suivi sur le résultat quantitatif : prédictivité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601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Milieux de conservation pour cy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Un seul prélè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Demande conditionnelle fac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Cytologie et test HPV obtenus sur le même échant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eu STM  ou milieu de conservation pour cytologie ?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mportance de la validat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66880"/>
            <a:ext cx="75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Extraction d’ADN à partir du milieu  Cytoscreen pour PCR HPV. Utilisation d’un témoin positif : cellules HeLa exprimant HPV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3124080"/>
          <a:ext cx="8076960" cy="2749680"/>
        </p:xfrm>
        <a:graphic>
          <a:graphicData uri="http://schemas.openxmlformats.org/drawingml/2006/table">
            <a:tbl>
              <a:tblPr/>
              <a:tblGrid>
                <a:gridCol w="2057400"/>
                <a:gridCol w="1218960"/>
                <a:gridCol w="1570320"/>
                <a:gridCol w="1401480"/>
                <a:gridCol w="1828800"/>
              </a:tblGrid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echnique d’extraction d’AD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lieu Cytoscre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ilieu de transport virolo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CR H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C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P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CR H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C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P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Qi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he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644280" y="6248520"/>
            <a:ext cx="49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Poveda J-D et al : Journées francophones de virologie Par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ieu STM  ou milieu de conservation pour cytologie ?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mportance de la validation init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812960"/>
            <a:ext cx="752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Comparaison du pourcentage de positivité des ASCUS reçus sur milieu  Cytoscreen SeroA selon la cellularité du prélèvement init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895480"/>
          <a:ext cx="7086600" cy="3184560"/>
        </p:xfrm>
        <a:graphic>
          <a:graphicData uri="http://schemas.openxmlformats.org/drawingml/2006/table">
            <a:tbl>
              <a:tblPr/>
              <a:tblGrid>
                <a:gridCol w="3022560"/>
                <a:gridCol w="2032200"/>
                <a:gridCol w="2031840"/>
              </a:tblGrid>
              <a:tr h="114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US sur mili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ytoscreen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n : 6.420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mb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PV positif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ularité suffis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1,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ularit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6,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92504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Intérêt de la technique Hybrid-capture pour la recherche d’HPV </a:t>
            </a:r>
            <a:br>
              <a:rPr sz="2000"/>
            </a:b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  dans le suivi des ASCUS selon les recommandations actuel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Importance de la standardisation des méthodes pour une meilleure </a:t>
            </a:r>
            <a:br>
              <a:rPr sz="2000"/>
            </a:b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  fiabilité du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Méthodologie de prélè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Méthodologie de traitement d’échanti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Vérification de la cellularité du prélèv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Intérêt de mettre en place un standard inter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Evaluation de la quantité de matériel cellulaire présen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Obligatoire à la possibilité d’une quantification rée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Typage secondaire par hybrid-capture ou par PC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001"/>
              </a:spcBef>
              <a:spcAft>
                <a:spcPts val="400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Times New Roman"/>
                <a:ea typeface="Arial"/>
              </a:rPr>
              <a:t>Importance de la validation initiale des méthodes pour l’extraction d’ADN à partir des milieux de conservation de cytolog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42800" y="1571760"/>
            <a:ext cx="1081800" cy="400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SC-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12040" y="5838840"/>
            <a:ext cx="1506960" cy="400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Colposco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611520"/>
            <a:ext cx="2133720" cy="4003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Test HP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2438280"/>
            <a:ext cx="11160" cy="30798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629160"/>
            <a:ext cx="2895480" cy="70524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Répéter le frot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à 4 - 6 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90320" y="2365200"/>
            <a:ext cx="1343160" cy="946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30680" y="2365200"/>
            <a:ext cx="1343160" cy="9464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335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Suivi chez des femmes avec un résultat initial d’ASCUS </a:t>
            </a: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(ANAES 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La technique Hybrid-capture : </a:t>
            </a:r>
            <a:br>
              <a:rPr sz="2400"/>
            </a:br>
            <a:r>
              <a:rPr b="0" lang="fr-FR" sz="1600" spc="-1" strike="noStrike">
                <a:solidFill>
                  <a:srgbClr val="000000"/>
                </a:solidFill>
                <a:latin typeface="Arial Black"/>
              </a:rPr>
              <a:t>Traitement d’échanti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447920"/>
            <a:ext cx="7924680" cy="53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 u="sng">
                <a:solidFill>
                  <a:srgbClr val="3333cc"/>
                </a:solidFill>
                <a:uFillTx/>
                <a:latin typeface="Times New Roman"/>
                <a:ea typeface="Arial"/>
              </a:rPr>
              <a:t>LES TECHNIQUES VALIDE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Pour le milieu STM  (Digene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Dénaturation directe avant hybrid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Pour les milieux Thinprep (Cytyc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Reprise avec le sample conversion kit avant dénatu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Pour les milieux SurePath (Tripath imaging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Reprise du culot cellulaire en STM avant dénatu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Pour les milieux Easyfix (Labonord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Lavages en PBS avant dénatur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Pour les milieux Cytoscreen (Sero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88"/>
              </a:spcBef>
              <a:spcAft>
                <a:spcPts val="476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1900" spc="-1" strike="noStrike">
                <a:solidFill>
                  <a:srgbClr val="3333cc"/>
                </a:solidFill>
                <a:latin typeface="Times New Roman"/>
                <a:ea typeface="Arial"/>
              </a:rPr>
              <a:t>Digestion par la protéinase K avant dénaturation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idation de l’utilis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 milieu Cyto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05040"/>
            <a:ext cx="7925040" cy="36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601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Etude de faisabilité init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Comparaison de trois techniques de traitement d’échant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Tests de stabilité avant réalisation du test hybrid-capture </a:t>
            </a:r>
            <a:br>
              <a:rPr sz="2000"/>
            </a:b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(28, 60 et 90 jours) sur échantillons faiblement positi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Corrélation aux résultats de cytologie et au suivi histologique sur  des échantillons sélectionnés (LSIL, HS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601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Etude rétrospective en corrélation avec la cytologie </a:t>
            </a:r>
            <a:br>
              <a:rPr sz="2400"/>
            </a:b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  sur 995 échantill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87080" y="6095880"/>
            <a:ext cx="49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Poveda J-D et al : Journées francophones de virologie Par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Bergeron et al, Acta Cytologica,  2005, 49, sous p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idation de l’utilis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 milieu Cytoscreen :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mparaison de trois méthodes de traitement d’échanti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296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7480" y="1676520"/>
          <a:ext cx="662940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1676520"/>
                    <a:ext cx="662940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95280" y="5257800"/>
            <a:ext cx="64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écroissance de la valeur moyenne de l’index de positivité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en log)  en fonction de la dilution de l’échantill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86320" y="6095880"/>
            <a:ext cx="41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Bergeron et al, Acta Cytologica,  2005, 49, sous p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idation de l’utilis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 milieu Cytoscreen :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tude de stabilité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9246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Etude de stabilité  sur échantillons sélectionnés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0-28 jours et 29-60 jours :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60-90 jours  : perte de sensibil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Comparaison des résultats obtenus en routine en fonction du délai entre prélèvement et réalisation du test hybrid-cap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Clr>
                <a:srgbClr val="00cc99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Différence significative des taux de positivité des ASCUS </a:t>
            </a:r>
            <a:br>
              <a:rPr sz="2000"/>
            </a:br>
            <a:r>
              <a:rPr b="0" lang="fr-FR" sz="2000" spc="-1" strike="noStrike">
                <a:solidFill>
                  <a:srgbClr val="3333cc"/>
                </a:solidFill>
                <a:latin typeface="Times New Roman"/>
                <a:ea typeface="Arial"/>
              </a:rPr>
              <a:t>    entre 0-28 jours (50,4 %) et 29-60 jours (37,8 %). p 0,0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09520">
              <a:lnSpc>
                <a:spcPct val="10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cc99"/>
                </a:solidFill>
                <a:latin typeface="Symbol"/>
                <a:ea typeface="Symbol"/>
              </a:rPr>
              <a:t>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Délai de conservation maximum de 28 j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54080" y="6095880"/>
            <a:ext cx="40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Times New Roman"/>
              </a:rPr>
              <a:t>Bergeron C et al : Acta Cytologica sous pr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idation de l’utilis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 milieu Cytoscreen :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tude sur échantillons sélectionné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14400" y="2514600"/>
          <a:ext cx="6781680" cy="233676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71800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ytolo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PV Positifs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S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 (9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S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5 (7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or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 (1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796560" y="6248520"/>
            <a:ext cx="494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Poveda J-D et al : Journées francophones de virologie Paris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idation de l’utilis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 milieu Cytoscreen 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tude sur échantillons avec suivi histolog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819520"/>
          <a:ext cx="8128080" cy="1650960"/>
        </p:xfrm>
        <a:graphic>
          <a:graphicData uri="http://schemas.openxmlformats.org/drawingml/2006/table">
            <a:tbl>
              <a:tblPr/>
              <a:tblGrid>
                <a:gridCol w="2286000"/>
                <a:gridCol w="1778040"/>
                <a:gridCol w="2032200"/>
                <a:gridCol w="203184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ytologie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N 2 ou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PV + (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nsibilit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SIL (5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SIL (4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4332240" y="5913360"/>
            <a:ext cx="41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Bergeron et al, Acta Cytologica,  2005, 49, sous p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alidation de l’utilis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u milieu Cytoscreen 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tude rétrospective sur 995 échantil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32240" y="6095880"/>
            <a:ext cx="41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Bergeron et al, Acta Cytologica,  2005, 49, sous pre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8920" y="890424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73560" y="8429760"/>
            <a:ext cx="68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3480" y="895824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17760" y="8483760"/>
            <a:ext cx="68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4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1879560"/>
          <a:ext cx="6095880" cy="406404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  <a:gridCol w="19810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SC-US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78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22 (43.9)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ASC-H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8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2 (66.7)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LSIL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37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03 (75.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HSIL</a:t>
                      </a:r>
                      <a:r>
                        <a:rPr b="0" lang="fr-FR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8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27 (96.4)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égatif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30 ans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187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54 (28.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Négatif &gt;30 ans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347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63 (18.1)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08:16:14Z</dcterms:created>
  <dc:creator>Pasteur-Cerba</dc:creator>
  <dc:description/>
  <dc:language>en-US</dc:language>
  <cp:lastModifiedBy>Eric POUSSIN</cp:lastModifiedBy>
  <dcterms:modified xsi:type="dcterms:W3CDTF">2005-11-17T21:36:32Z</dcterms:modified>
  <cp:revision>167</cp:revision>
  <dc:subject/>
  <dc:title>Présentation PowerPoint</dc:title>
</cp:coreProperties>
</file>