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6.png" ContentType="image/png"/>
  <Override PartName="/ppt/media/image1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6080" y="-116280"/>
            <a:ext cx="89391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3560" y="1068120"/>
            <a:ext cx="985212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3560" y="3965400"/>
            <a:ext cx="985212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6080" y="-116280"/>
            <a:ext cx="89391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3560" y="1068120"/>
            <a:ext cx="48078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2200" y="1068120"/>
            <a:ext cx="48078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3560" y="3965400"/>
            <a:ext cx="48078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72200" y="3965400"/>
            <a:ext cx="48078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76080" y="-116280"/>
            <a:ext cx="89391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3560" y="1068120"/>
            <a:ext cx="317196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54640" y="1068120"/>
            <a:ext cx="317196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85360" y="1068120"/>
            <a:ext cx="317196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3560" y="3965400"/>
            <a:ext cx="317196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54640" y="3965400"/>
            <a:ext cx="317196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885360" y="3965400"/>
            <a:ext cx="317196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76080" y="-116280"/>
            <a:ext cx="89391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3560" y="1068120"/>
            <a:ext cx="9852120" cy="55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6080" y="-116280"/>
            <a:ext cx="89391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3560" y="1068120"/>
            <a:ext cx="985212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6080" y="-116280"/>
            <a:ext cx="89391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3560" y="1068120"/>
            <a:ext cx="48078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72200" y="1068120"/>
            <a:ext cx="48078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6080" y="-116280"/>
            <a:ext cx="89391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76080" y="-116280"/>
            <a:ext cx="893916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6080" y="-116280"/>
            <a:ext cx="89391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3560" y="1068120"/>
            <a:ext cx="48078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2200" y="1068120"/>
            <a:ext cx="48078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3560" y="3965400"/>
            <a:ext cx="48078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6080" y="-116280"/>
            <a:ext cx="89391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3560" y="1068120"/>
            <a:ext cx="48078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2200" y="1068120"/>
            <a:ext cx="48078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72200" y="3965400"/>
            <a:ext cx="48078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6080" y="-116280"/>
            <a:ext cx="89391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3560" y="1068120"/>
            <a:ext cx="48078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2200" y="1068120"/>
            <a:ext cx="480780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3560" y="3965400"/>
            <a:ext cx="9852120" cy="264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6080" y="-116280"/>
            <a:ext cx="89391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3560" y="1068120"/>
            <a:ext cx="985212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8911800" y="6508800"/>
            <a:ext cx="148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ffff"/>
                </a:solidFill>
                <a:latin typeface="Tahoma"/>
              </a:rPr>
              <a:t>XVIII</a:t>
            </a:r>
            <a:r>
              <a:rPr b="0" lang="fr-FR" sz="800" spc="-1" strike="noStrike" baseline="30000">
                <a:solidFill>
                  <a:srgbClr val="00ffff"/>
                </a:solidFill>
                <a:latin typeface="Tahoma"/>
              </a:rPr>
              <a:t>e</a:t>
            </a:r>
            <a:r>
              <a:rPr b="0" lang="fr-FR" sz="800" spc="-1" strike="noStrike">
                <a:solidFill>
                  <a:srgbClr val="00ffff"/>
                </a:solidFill>
                <a:latin typeface="Tahoma"/>
              </a:rPr>
              <a:t> Colloque de Virolog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ffff"/>
                </a:solidFill>
                <a:latin typeface="Tahoma"/>
              </a:rPr>
              <a:t>de Versailles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3040" y="1785600"/>
            <a:ext cx="986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ffff"/>
                </a:solidFill>
                <a:latin typeface="Tahoma"/>
              </a:rPr>
              <a:t>Pouvoir pathogène des papillomavirus</a:t>
            </a: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727200" y="3386160"/>
            <a:ext cx="908496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Professeur Christiane MOUGIN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EA 3181 – IFR133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Laboratoire de Biologie Cellulaire et Moléculaire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CHU Jean Minjoz - 25000 Besançon</a:t>
            </a: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76080" y="-116280"/>
            <a:ext cx="89391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ffff"/>
                </a:solidFill>
                <a:latin typeface="Tahoma"/>
              </a:rPr>
              <a:t>Régulation du cycle cellulaire</a:t>
            </a: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7" name=""/>
          <p:cNvSpPr/>
          <p:nvPr/>
        </p:nvSpPr>
        <p:spPr>
          <a:xfrm>
            <a:off x="1238400" y="3330720"/>
            <a:ext cx="930240" cy="47916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E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36400" y="2798640"/>
            <a:ext cx="716040" cy="7178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ccecff"/>
              </a:gs>
              <a:gs pos="100000">
                <a:srgbClr val="00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255920" y="3330720"/>
            <a:ext cx="930600" cy="47916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E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568680" y="2798640"/>
            <a:ext cx="716040" cy="7178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424320" y="2593800"/>
            <a:ext cx="315720" cy="31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135320" y="2593800"/>
            <a:ext cx="316080" cy="31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473880" y="2798640"/>
            <a:ext cx="716040" cy="7178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329520" y="2593800"/>
            <a:ext cx="315720" cy="31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040520" y="2593800"/>
            <a:ext cx="316080" cy="312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329520" y="3408480"/>
            <a:ext cx="315720" cy="312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040520" y="3408480"/>
            <a:ext cx="316080" cy="312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991200" y="3932280"/>
            <a:ext cx="932040" cy="4795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E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89840" y="1209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Phase 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846560" y="120960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Phase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700680" y="11318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336600" y="1536840"/>
            <a:ext cx="9765720" cy="376200"/>
            <a:chOff x="336600" y="1536840"/>
            <a:chExt cx="9765720" cy="376200"/>
          </a:xfrm>
        </p:grpSpPr>
        <p:sp>
          <p:nvSpPr>
            <p:cNvPr id="1043" name=""/>
            <p:cNvSpPr/>
            <p:nvPr/>
          </p:nvSpPr>
          <p:spPr>
            <a:xfrm>
              <a:off x="336600" y="1724040"/>
              <a:ext cx="9765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890040" y="1536840"/>
              <a:ext cx="0" cy="376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2828160" y="1893960"/>
            <a:ext cx="19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Cycline D/cdk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829480" y="189396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Cycline E/cd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8169480" y="189396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Cycline A/cd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959280" y="2305080"/>
            <a:ext cx="0" cy="387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-35640" y="6014880"/>
            <a:ext cx="58024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Rb est un inhibiteur du cycle cellu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E2F déclenche la phase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017720" y="4672080"/>
            <a:ext cx="633240" cy="3254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ahoma"/>
              </a:rPr>
              <a:t>E2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98600" y="4276800"/>
            <a:ext cx="618840" cy="53964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ahoma"/>
              </a:rPr>
              <a:t>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808200" y="5257800"/>
            <a:ext cx="1141200" cy="2127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99ff99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946160" y="5257800"/>
            <a:ext cx="1141560" cy="21276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50000">
                <a:srgbClr val="00cc00"/>
              </a:gs>
              <a:gs pos="100000">
                <a:srgbClr val="ccff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976320" y="5019840"/>
            <a:ext cx="762120" cy="676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976320" y="5019840"/>
            <a:ext cx="762120" cy="676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6" name=""/>
          <p:cNvGrpSpPr/>
          <p:nvPr/>
        </p:nvGrpSpPr>
        <p:grpSpPr>
          <a:xfrm>
            <a:off x="1933560" y="4832280"/>
            <a:ext cx="620280" cy="425520"/>
            <a:chOff x="1933560" y="4832280"/>
            <a:chExt cx="620280" cy="425520"/>
          </a:xfrm>
        </p:grpSpPr>
        <p:sp>
          <p:nvSpPr>
            <p:cNvPr id="1057" name=""/>
            <p:cNvSpPr/>
            <p:nvPr/>
          </p:nvSpPr>
          <p:spPr>
            <a:xfrm flipV="1">
              <a:off x="1947600" y="4832280"/>
              <a:ext cx="0" cy="425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933560" y="4844880"/>
              <a:ext cx="620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9" name=""/>
          <p:cNvSpPr/>
          <p:nvPr/>
        </p:nvSpPr>
        <p:spPr>
          <a:xfrm>
            <a:off x="3405240" y="5345280"/>
            <a:ext cx="34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257960" y="5257800"/>
            <a:ext cx="1141560" cy="21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397720" y="5257800"/>
            <a:ext cx="1141560" cy="21276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50000">
                <a:srgbClr val="00cc00"/>
              </a:gs>
              <a:gs pos="100000">
                <a:srgbClr val="ccff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8399520" y="4832280"/>
            <a:ext cx="0" cy="425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8385120" y="4844880"/>
            <a:ext cx="6206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523280" y="4925880"/>
            <a:ext cx="631800" cy="3254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ahoma"/>
              </a:rPr>
              <a:t>E2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8464680" y="4575240"/>
            <a:ext cx="223200" cy="190440"/>
            <a:chOff x="8464680" y="4575240"/>
            <a:chExt cx="223200" cy="190440"/>
          </a:xfrm>
        </p:grpSpPr>
        <p:sp>
          <p:nvSpPr>
            <p:cNvPr id="1066" name=""/>
            <p:cNvSpPr/>
            <p:nvPr/>
          </p:nvSpPr>
          <p:spPr>
            <a:xfrm>
              <a:off x="8464680" y="4575240"/>
              <a:ext cx="223200" cy="1904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575920" y="45943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8487360" y="4667400"/>
              <a:ext cx="177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9" name=""/>
          <p:cNvSpPr/>
          <p:nvPr/>
        </p:nvSpPr>
        <p:spPr>
          <a:xfrm>
            <a:off x="1989000" y="4575240"/>
            <a:ext cx="225720" cy="19044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013120" y="4667400"/>
            <a:ext cx="177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337440" y="5553000"/>
            <a:ext cx="36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Synthèse et activation des gènes</a:t>
            </a:r>
            <a:br>
              <a:rPr sz="1800"/>
            </a:b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e la phase S (ADN polymér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05520" y="2305080"/>
            <a:ext cx="0" cy="387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76080" y="-116280"/>
            <a:ext cx="89391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ffff"/>
                </a:solidFill>
                <a:latin typeface="Tahoma"/>
              </a:rPr>
              <a:t>Maintien de l’intégrité du génome</a:t>
            </a: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4" name=""/>
          <p:cNvSpPr/>
          <p:nvPr/>
        </p:nvSpPr>
        <p:spPr>
          <a:xfrm>
            <a:off x="50400" y="1209600"/>
            <a:ext cx="2255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ommages à l’A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072240" y="1209600"/>
            <a:ext cx="3352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Activation de p53 </a:t>
            </a:r>
            <a:r>
              <a:rPr b="0" i="1" lang="fr-FR" sz="1600" spc="-1" strike="noStrike">
                <a:solidFill>
                  <a:srgbClr val="ffffff"/>
                </a:solidFill>
                <a:latin typeface="Tahoma"/>
              </a:rPr>
              <a:t>(effecteu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(phosphorylation/acétyl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7246800" y="1209600"/>
            <a:ext cx="279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Inhibiteurs du cycle </a:t>
            </a:r>
            <a:br>
              <a:rPr sz="2000"/>
            </a:b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cellulaire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KI : p21, p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897200" y="1433520"/>
            <a:ext cx="1054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334200" y="1434960"/>
            <a:ext cx="1055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399120" y="2325600"/>
            <a:ext cx="270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hk1/chk2 </a:t>
            </a:r>
            <a:r>
              <a:rPr b="0" i="1" lang="fr-FR" sz="1600" spc="-1" strike="noStrike">
                <a:solidFill>
                  <a:srgbClr val="ffffff"/>
                </a:solidFill>
                <a:latin typeface="Tahoma"/>
              </a:rPr>
              <a:t>(transduct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ATM/ATR </a:t>
            </a:r>
            <a:r>
              <a:rPr b="0" i="1" lang="fr-FR" sz="1600" spc="-1" strike="noStrike">
                <a:solidFill>
                  <a:srgbClr val="ffffff"/>
                </a:solidFill>
                <a:latin typeface="Tahoma"/>
              </a:rPr>
              <a:t>(senseu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4735440" y="1900080"/>
            <a:ext cx="0" cy="387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846200" y="314964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yclines/CD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2" name=""/>
          <p:cNvGrpSpPr/>
          <p:nvPr/>
        </p:nvGrpSpPr>
        <p:grpSpPr>
          <a:xfrm>
            <a:off x="8128080" y="1996920"/>
            <a:ext cx="1028160" cy="923760"/>
            <a:chOff x="8128080" y="1996920"/>
            <a:chExt cx="1028160" cy="923760"/>
          </a:xfrm>
        </p:grpSpPr>
        <p:sp>
          <p:nvSpPr>
            <p:cNvPr id="1083" name=""/>
            <p:cNvSpPr/>
            <p:nvPr/>
          </p:nvSpPr>
          <p:spPr>
            <a:xfrm>
              <a:off x="8642160" y="1996920"/>
              <a:ext cx="0" cy="923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8128080" y="2920680"/>
              <a:ext cx="1028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8653320" y="3490920"/>
            <a:ext cx="0" cy="387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538440" y="6294600"/>
            <a:ext cx="14990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Rép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8247240" y="6294600"/>
            <a:ext cx="13222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Apopt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399440" y="5392800"/>
            <a:ext cx="973080" cy="857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350880" y="3929040"/>
            <a:ext cx="58636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Rb maintenue sous forme hypophosphorylée (ac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2F inac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929480" y="4930920"/>
            <a:ext cx="323028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ahoma"/>
              </a:rPr>
              <a:t>Arrêt du cycle cellul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729480" y="4602240"/>
            <a:ext cx="0" cy="317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4933800" y="5392800"/>
            <a:ext cx="974880" cy="857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8389800" y="5475240"/>
            <a:ext cx="85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 3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B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Wingdings 3"/>
                <a:ea typeface="Wingdings 3"/>
              </a:rPr>
              <a:t>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Bc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304280" y="5907240"/>
            <a:ext cx="10202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XRCC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303560" y="5484960"/>
            <a:ext cx="38714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ADN O6-méthyl-guanyl-transfér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1293120" y="5086440"/>
            <a:ext cx="112680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GADD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4735440" y="2692440"/>
            <a:ext cx="0" cy="387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76080" y="-116280"/>
            <a:ext cx="89391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ffff"/>
                </a:solidFill>
                <a:latin typeface="Tahoma"/>
              </a:rPr>
              <a:t>Inactivation de pRb par E7</a:t>
            </a: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9" name=""/>
          <p:cNvSpPr/>
          <p:nvPr/>
        </p:nvSpPr>
        <p:spPr>
          <a:xfrm>
            <a:off x="1646280" y="3743280"/>
            <a:ext cx="930240" cy="4795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E2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930240" y="2657520"/>
            <a:ext cx="716040" cy="730080"/>
          </a:xfrm>
          <a:prstGeom prst="ellipse">
            <a:avLst/>
          </a:prstGeom>
          <a:gradFill rotWithShape="0">
            <a:gsLst>
              <a:gs pos="0">
                <a:srgbClr val="ccec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80200" y="1209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Phase 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923960" y="120960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Phase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014880" y="11318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36600" y="1724040"/>
            <a:ext cx="97660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203880" y="1536840"/>
            <a:ext cx="0" cy="376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5143680" y="2490840"/>
            <a:ext cx="18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Cycline E/cd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8169480" y="249084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Cycline A/cd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213080" y="1866960"/>
            <a:ext cx="719280" cy="71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8764560" y="4686480"/>
            <a:ext cx="719280" cy="71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727600" y="4686480"/>
            <a:ext cx="719280" cy="71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451640" y="1866960"/>
            <a:ext cx="719280" cy="71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14280" y="2668680"/>
            <a:ext cx="719280" cy="71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923000" y="2254320"/>
            <a:ext cx="425160" cy="2127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155080" y="2254320"/>
            <a:ext cx="425520" cy="2127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5918040" y="2940480"/>
            <a:ext cx="338400" cy="675720"/>
            <a:chOff x="5918040" y="2940480"/>
            <a:chExt cx="338400" cy="675720"/>
          </a:xfrm>
        </p:grpSpPr>
        <p:sp>
          <p:nvSpPr>
            <p:cNvPr id="1116" name=""/>
            <p:cNvSpPr/>
            <p:nvPr/>
          </p:nvSpPr>
          <p:spPr>
            <a:xfrm flipV="1">
              <a:off x="6087240" y="2940480"/>
              <a:ext cx="0" cy="67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918040" y="2940480"/>
              <a:ext cx="338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8955000" y="2940480"/>
            <a:ext cx="338400" cy="675720"/>
            <a:chOff x="8955000" y="2940480"/>
            <a:chExt cx="338400" cy="675720"/>
          </a:xfrm>
        </p:grpSpPr>
        <p:sp>
          <p:nvSpPr>
            <p:cNvPr id="1119" name=""/>
            <p:cNvSpPr/>
            <p:nvPr/>
          </p:nvSpPr>
          <p:spPr>
            <a:xfrm flipV="1">
              <a:off x="9124200" y="2940480"/>
              <a:ext cx="0" cy="675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8955000" y="2940480"/>
              <a:ext cx="338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5918040" y="4181040"/>
            <a:ext cx="338400" cy="451080"/>
            <a:chOff x="5918040" y="4181040"/>
            <a:chExt cx="338400" cy="451080"/>
          </a:xfrm>
        </p:grpSpPr>
        <p:sp>
          <p:nvSpPr>
            <p:cNvPr id="1122" name=""/>
            <p:cNvSpPr/>
            <p:nvPr/>
          </p:nvSpPr>
          <p:spPr>
            <a:xfrm flipV="1">
              <a:off x="6087240" y="4181040"/>
              <a:ext cx="0" cy="4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918040" y="4181040"/>
              <a:ext cx="338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8955000" y="4181040"/>
            <a:ext cx="338400" cy="451080"/>
            <a:chOff x="8955000" y="4181040"/>
            <a:chExt cx="338400" cy="451080"/>
          </a:xfrm>
        </p:grpSpPr>
        <p:sp>
          <p:nvSpPr>
            <p:cNvPr id="1125" name=""/>
            <p:cNvSpPr/>
            <p:nvPr/>
          </p:nvSpPr>
          <p:spPr>
            <a:xfrm flipV="1">
              <a:off x="9124200" y="4181040"/>
              <a:ext cx="0" cy="4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955000" y="4181040"/>
              <a:ext cx="338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5755680" y="36702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C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8790840" y="36702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C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800800" y="6066000"/>
            <a:ext cx="46947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Déclenchement précoce de la phase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017720" y="4925880"/>
            <a:ext cx="633240" cy="3254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Tahoma"/>
              </a:rPr>
              <a:t>E2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1933560" y="4832280"/>
            <a:ext cx="620280" cy="425520"/>
            <a:chOff x="1933560" y="4832280"/>
            <a:chExt cx="620280" cy="425520"/>
          </a:xfrm>
        </p:grpSpPr>
        <p:sp>
          <p:nvSpPr>
            <p:cNvPr id="1132" name=""/>
            <p:cNvSpPr/>
            <p:nvPr/>
          </p:nvSpPr>
          <p:spPr>
            <a:xfrm flipV="1">
              <a:off x="1947600" y="4832280"/>
              <a:ext cx="0" cy="425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933560" y="4844880"/>
              <a:ext cx="620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808200" y="5257800"/>
            <a:ext cx="1141200" cy="2127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99ff99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46160" y="5257800"/>
            <a:ext cx="1141560" cy="21276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50000">
                <a:srgbClr val="00cc00"/>
              </a:gs>
              <a:gs pos="100000">
                <a:srgbClr val="ccff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5030640" y="2019240"/>
            <a:ext cx="223560" cy="190440"/>
            <a:chOff x="5030640" y="2019240"/>
            <a:chExt cx="223560" cy="190440"/>
          </a:xfrm>
        </p:grpSpPr>
        <p:sp>
          <p:nvSpPr>
            <p:cNvPr id="1137" name=""/>
            <p:cNvSpPr/>
            <p:nvPr/>
          </p:nvSpPr>
          <p:spPr>
            <a:xfrm>
              <a:off x="5030640" y="2019240"/>
              <a:ext cx="223560" cy="1904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142240" y="20383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053320" y="2111400"/>
              <a:ext cx="177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0" name=""/>
          <p:cNvGrpSpPr/>
          <p:nvPr/>
        </p:nvGrpSpPr>
        <p:grpSpPr>
          <a:xfrm>
            <a:off x="8291520" y="2019240"/>
            <a:ext cx="223560" cy="190440"/>
            <a:chOff x="8291520" y="2019240"/>
            <a:chExt cx="223560" cy="190440"/>
          </a:xfrm>
        </p:grpSpPr>
        <p:sp>
          <p:nvSpPr>
            <p:cNvPr id="1141" name=""/>
            <p:cNvSpPr/>
            <p:nvPr/>
          </p:nvSpPr>
          <p:spPr>
            <a:xfrm>
              <a:off x="8291520" y="2019240"/>
              <a:ext cx="223560" cy="1904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403120" y="20383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314200" y="2111400"/>
              <a:ext cx="177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2030400" y="4591080"/>
            <a:ext cx="223560" cy="190440"/>
            <a:chOff x="2030400" y="4591080"/>
            <a:chExt cx="223560" cy="190440"/>
          </a:xfrm>
        </p:grpSpPr>
        <p:sp>
          <p:nvSpPr>
            <p:cNvPr id="1145" name=""/>
            <p:cNvSpPr/>
            <p:nvPr/>
          </p:nvSpPr>
          <p:spPr>
            <a:xfrm>
              <a:off x="2030400" y="4591080"/>
              <a:ext cx="223560" cy="1904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42000" y="461016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053080" y="4683240"/>
              <a:ext cx="1778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2212920" y="2752560"/>
            <a:ext cx="202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Rb dégradée</a:t>
            </a:r>
            <a:br>
              <a:rPr sz="2000"/>
            </a:b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via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protéas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690560" y="3056040"/>
            <a:ext cx="6271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61640" y="-116280"/>
            <a:ext cx="10125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ffff"/>
                </a:solidFill>
                <a:latin typeface="Tahoma"/>
              </a:rPr>
              <a:t>Inactivation de protéines cellulaires par E6</a:t>
            </a: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1" name=""/>
          <p:cNvSpPr/>
          <p:nvPr/>
        </p:nvSpPr>
        <p:spPr>
          <a:xfrm>
            <a:off x="67320" y="1692360"/>
            <a:ext cx="2255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ommages à l’AD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089520" y="1692360"/>
            <a:ext cx="3352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Activation de p53 </a:t>
            </a:r>
            <a:r>
              <a:rPr b="0" i="1" lang="fr-FR" sz="1600" spc="-1" strike="noStrike">
                <a:solidFill>
                  <a:srgbClr val="ffffff"/>
                </a:solidFill>
                <a:latin typeface="Tahoma"/>
              </a:rPr>
              <a:t>(effecteu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(phosphorylation/acétyl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264080" y="1692360"/>
            <a:ext cx="279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Inhibiteurs du cycle </a:t>
            </a:r>
            <a:br>
              <a:rPr sz="2000"/>
            </a:b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cellulaire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KI : p21, p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016000" y="1916280"/>
            <a:ext cx="1054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364440" y="1917720"/>
            <a:ext cx="1055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863840" y="314964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yclines/CD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8145360" y="2373480"/>
            <a:ext cx="1028520" cy="674640"/>
            <a:chOff x="8145360" y="2373480"/>
            <a:chExt cx="1028520" cy="674640"/>
          </a:xfrm>
        </p:grpSpPr>
        <p:sp>
          <p:nvSpPr>
            <p:cNvPr id="1158" name=""/>
            <p:cNvSpPr/>
            <p:nvPr/>
          </p:nvSpPr>
          <p:spPr>
            <a:xfrm>
              <a:off x="8659440" y="2373480"/>
              <a:ext cx="0" cy="674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145360" y="3048120"/>
              <a:ext cx="1028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0" name=""/>
          <p:cNvSpPr/>
          <p:nvPr/>
        </p:nvSpPr>
        <p:spPr>
          <a:xfrm>
            <a:off x="8670960" y="3490920"/>
            <a:ext cx="0" cy="387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56080" y="6294600"/>
            <a:ext cx="149904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Rép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264520" y="6294600"/>
            <a:ext cx="132228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Apopt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416720" y="5392800"/>
            <a:ext cx="973080" cy="857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368160" y="3929040"/>
            <a:ext cx="58636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Rb maintenue sous forme hypophosphorylée (ac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2F inac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946760" y="4930920"/>
            <a:ext cx="3230280" cy="429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Tahoma"/>
              </a:rPr>
              <a:t>Arrêt du cycle cellula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746760" y="4602240"/>
            <a:ext cx="0" cy="317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4951080" y="5392800"/>
            <a:ext cx="974520" cy="857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07080" y="5475240"/>
            <a:ext cx="85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 3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B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Wingdings 3"/>
                <a:ea typeface="Wingdings 3"/>
              </a:rPr>
              <a:t>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Bc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9159840" y="5403960"/>
            <a:ext cx="901800" cy="425520"/>
            <a:chOff x="9159840" y="5403960"/>
            <a:chExt cx="901800" cy="425520"/>
          </a:xfrm>
        </p:grpSpPr>
        <p:grpSp>
          <p:nvGrpSpPr>
            <p:cNvPr id="1170" name=""/>
            <p:cNvGrpSpPr/>
            <p:nvPr/>
          </p:nvGrpSpPr>
          <p:grpSpPr>
            <a:xfrm>
              <a:off x="9159840" y="5459400"/>
              <a:ext cx="388800" cy="314280"/>
              <a:chOff x="9159840" y="5459400"/>
              <a:chExt cx="388800" cy="314280"/>
            </a:xfrm>
          </p:grpSpPr>
          <p:sp>
            <p:nvSpPr>
              <p:cNvPr id="1171" name=""/>
              <p:cNvSpPr/>
              <p:nvPr/>
            </p:nvSpPr>
            <p:spPr>
              <a:xfrm flipH="1">
                <a:off x="9159840" y="5616720"/>
                <a:ext cx="388800" cy="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9159840" y="5459400"/>
                <a:ext cx="0" cy="31428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3" name=""/>
            <p:cNvSpPr/>
            <p:nvPr/>
          </p:nvSpPr>
          <p:spPr>
            <a:xfrm>
              <a:off x="9536040" y="5403960"/>
              <a:ext cx="525600" cy="4255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cc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66"/>
                  </a:solidFill>
                  <a:latin typeface="Tahoma"/>
                </a:rPr>
                <a:t>E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4502160" y="957240"/>
            <a:ext cx="525600" cy="799920"/>
            <a:chOff x="4502160" y="957240"/>
            <a:chExt cx="525600" cy="799920"/>
          </a:xfrm>
        </p:grpSpPr>
        <p:grpSp>
          <p:nvGrpSpPr>
            <p:cNvPr id="1175" name=""/>
            <p:cNvGrpSpPr/>
            <p:nvPr/>
          </p:nvGrpSpPr>
          <p:grpSpPr>
            <a:xfrm>
              <a:off x="4608720" y="1368360"/>
              <a:ext cx="314280" cy="388800"/>
              <a:chOff x="4608720" y="1368360"/>
              <a:chExt cx="314280" cy="388800"/>
            </a:xfrm>
          </p:grpSpPr>
          <p:sp>
            <p:nvSpPr>
              <p:cNvPr id="1176" name=""/>
              <p:cNvSpPr/>
              <p:nvPr/>
            </p:nvSpPr>
            <p:spPr>
              <a:xfrm>
                <a:off x="4766040" y="1368360"/>
                <a:ext cx="0" cy="38880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608720" y="1757160"/>
                <a:ext cx="314280" cy="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>
              <a:off x="4502160" y="957240"/>
              <a:ext cx="525600" cy="42552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cc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66"/>
                  </a:solidFill>
                  <a:latin typeface="Tahoma"/>
                </a:rPr>
                <a:t>E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266760" y="5880240"/>
            <a:ext cx="2057760" cy="425160"/>
            <a:chOff x="266760" y="5880240"/>
            <a:chExt cx="2057760" cy="425160"/>
          </a:xfrm>
        </p:grpSpPr>
        <p:sp>
          <p:nvSpPr>
            <p:cNvPr id="1180" name=""/>
            <p:cNvSpPr/>
            <p:nvPr/>
          </p:nvSpPr>
          <p:spPr>
            <a:xfrm>
              <a:off x="1304280" y="5907240"/>
              <a:ext cx="102024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buClr>
                  <a:srgbClr val="ffff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fr-FR" sz="1600" spc="-1" strike="noStrike">
                  <a:solidFill>
                    <a:srgbClr val="ffffff"/>
                  </a:solidFill>
                  <a:latin typeface="Tahoma"/>
                </a:rPr>
                <a:t>XRCC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1" name=""/>
            <p:cNvGrpSpPr/>
            <p:nvPr/>
          </p:nvGrpSpPr>
          <p:grpSpPr>
            <a:xfrm>
              <a:off x="266760" y="5880240"/>
              <a:ext cx="863640" cy="425160"/>
              <a:chOff x="266760" y="5880240"/>
              <a:chExt cx="863640" cy="425160"/>
            </a:xfrm>
          </p:grpSpPr>
          <p:grpSp>
            <p:nvGrpSpPr>
              <p:cNvPr id="1182" name=""/>
              <p:cNvGrpSpPr/>
              <p:nvPr/>
            </p:nvGrpSpPr>
            <p:grpSpPr>
              <a:xfrm>
                <a:off x="741600" y="5935320"/>
                <a:ext cx="388800" cy="314280"/>
                <a:chOff x="741600" y="5935320"/>
                <a:chExt cx="388800" cy="31428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741600" y="6092280"/>
                  <a:ext cx="388800" cy="0"/>
                </a:xfrm>
                <a:prstGeom prst="line">
                  <a:avLst/>
                </a:prstGeom>
                <a:ln w="381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 flipV="1">
                  <a:off x="1130400" y="5935320"/>
                  <a:ext cx="0" cy="314280"/>
                </a:xfrm>
                <a:prstGeom prst="line">
                  <a:avLst/>
                </a:prstGeom>
                <a:ln w="381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5" name=""/>
              <p:cNvSpPr/>
              <p:nvPr/>
            </p:nvSpPr>
            <p:spPr>
              <a:xfrm>
                <a:off x="266760" y="5880240"/>
                <a:ext cx="525600" cy="425160"/>
              </a:xfrm>
              <a:prstGeom prst="octagon">
                <a:avLst>
                  <a:gd name="adj" fmla="val 29287"/>
                </a:avLst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cc"/>
                  </a:gs>
                  <a:gs pos="100000">
                    <a:srgbClr val="ff9933"/>
                  </a:gs>
                </a:gsLst>
                <a:lin ang="13500000"/>
              </a:gradFill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0066"/>
                    </a:solidFill>
                    <a:latin typeface="Tahoma"/>
                  </a:rPr>
                  <a:t>E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6" name=""/>
          <p:cNvGrpSpPr/>
          <p:nvPr/>
        </p:nvGrpSpPr>
        <p:grpSpPr>
          <a:xfrm>
            <a:off x="266760" y="5457960"/>
            <a:ext cx="863640" cy="425160"/>
            <a:chOff x="266760" y="5457960"/>
            <a:chExt cx="863640" cy="425160"/>
          </a:xfrm>
        </p:grpSpPr>
        <p:grpSp>
          <p:nvGrpSpPr>
            <p:cNvPr id="1187" name=""/>
            <p:cNvGrpSpPr/>
            <p:nvPr/>
          </p:nvGrpSpPr>
          <p:grpSpPr>
            <a:xfrm>
              <a:off x="741600" y="5513040"/>
              <a:ext cx="388800" cy="314280"/>
              <a:chOff x="741600" y="5513040"/>
              <a:chExt cx="388800" cy="314280"/>
            </a:xfrm>
          </p:grpSpPr>
          <p:sp>
            <p:nvSpPr>
              <p:cNvPr id="1188" name=""/>
              <p:cNvSpPr/>
              <p:nvPr/>
            </p:nvSpPr>
            <p:spPr>
              <a:xfrm>
                <a:off x="741600" y="5670000"/>
                <a:ext cx="388800" cy="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V="1">
                <a:off x="1130400" y="5513040"/>
                <a:ext cx="0" cy="314280"/>
              </a:xfrm>
              <a:prstGeom prst="line">
                <a:avLst/>
              </a:prstGeom>
              <a:ln w="381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>
              <a:off x="266760" y="5457960"/>
              <a:ext cx="525600" cy="42516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ff9933"/>
                </a:gs>
                <a:gs pos="50000">
                  <a:srgbClr val="ffffcc"/>
                </a:gs>
                <a:gs pos="100000">
                  <a:srgbClr val="ff9933"/>
                </a:gs>
              </a:gsLst>
              <a:lin ang="1350000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66"/>
                  </a:solidFill>
                  <a:latin typeface="Tahoma"/>
                </a:rPr>
                <a:t>E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1" name=""/>
          <p:cNvSpPr/>
          <p:nvPr/>
        </p:nvSpPr>
        <p:spPr>
          <a:xfrm>
            <a:off x="1303560" y="5484960"/>
            <a:ext cx="387144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ADN O6-méthyl-guanyl-transfér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293120" y="5086440"/>
            <a:ext cx="112680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GADD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237960" y="-116280"/>
            <a:ext cx="98028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ffff"/>
                </a:solidFill>
                <a:latin typeface="Tahoma"/>
              </a:rPr>
              <a:t>Autres activités des oncoprotéines virales</a:t>
            </a: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4" name=""/>
          <p:cNvSpPr/>
          <p:nvPr/>
        </p:nvSpPr>
        <p:spPr>
          <a:xfrm>
            <a:off x="-75600" y="1220760"/>
            <a:ext cx="214380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Prolifération +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Potentiel réplicatif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illim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 3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Angiogenè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Phénotype invasif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métastasi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Échappement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au système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immunit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43360" y="1244520"/>
            <a:ext cx="29682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Inactivation des récepteurs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de mort (R-TNF et F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 3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Télomér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 3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 3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 3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 3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VEGF (p53 indépenda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 3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interaction avec paxilline 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et zyx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dégradation hDlg (J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994920" y="78264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ahoma"/>
              </a:rPr>
              <a:t>E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192280" y="1244520"/>
            <a:ext cx="3237480" cy="38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Wingdings 3"/>
                <a:ea typeface="Wingdings 3"/>
              </a:rPr>
              <a:t>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expression fibrone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inhibe polymérisation ac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Wingdings 3"/>
                <a:ea typeface="Wingdings 3"/>
              </a:rPr>
              <a:t>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MT-1 MMP, catheps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627240" y="78264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ahoma"/>
              </a:rPr>
              <a:t>E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8441640" y="1244520"/>
            <a:ext cx="18921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Stimulation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REGF-RPDG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Défaut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d’apprêtement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Ag vir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Wingdings 3"/>
                <a:ea typeface="Wingdings 3"/>
              </a:rPr>
              <a:t>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CMH1 </a:t>
            </a:r>
            <a:r>
              <a:rPr b="1" lang="fr-FR" sz="1600" spc="-1" strike="noStrike">
                <a:solidFill>
                  <a:srgbClr val="ffffff"/>
                </a:solidFill>
                <a:latin typeface="Wingdings 3"/>
                <a:ea typeface="Wingdings 3"/>
              </a:rPr>
              <a:t>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TAP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940240" y="78264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ahoma"/>
              </a:rPr>
              <a:t>E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0" y="1963800"/>
            <a:ext cx="10287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0" y="1227240"/>
            <a:ext cx="10287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0" y="2809800"/>
            <a:ext cx="10287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0" y="5129280"/>
            <a:ext cx="10287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0" y="3603600"/>
            <a:ext cx="1028700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2016000" y="841320"/>
            <a:ext cx="0" cy="5450040"/>
          </a:xfrm>
          <a:prstGeom prst="line">
            <a:avLst/>
          </a:prstGeom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8358120" y="841320"/>
            <a:ext cx="0" cy="5537160"/>
          </a:xfrm>
          <a:prstGeom prst="line">
            <a:avLst/>
          </a:prstGeom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538360" y="3181320"/>
            <a:ext cx="547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 3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Thrombospondine-1 et Masp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 3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ahoma"/>
              </a:rPr>
              <a:t>Altération adhérence cellule/MEC et cellule/cell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143680" y="841320"/>
            <a:ext cx="0" cy="2274840"/>
          </a:xfrm>
          <a:prstGeom prst="line">
            <a:avLst/>
          </a:prstGeom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143680" y="4175280"/>
            <a:ext cx="0" cy="2111400"/>
          </a:xfrm>
          <a:prstGeom prst="line">
            <a:avLst/>
          </a:prstGeom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-360" y="98280"/>
            <a:ext cx="102870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ffff"/>
                </a:solidFill>
                <a:latin typeface="Tahoma"/>
              </a:rPr>
              <a:t>Papillomavirus humains et cancers</a:t>
            </a: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2" name=""/>
          <p:cNvSpPr/>
          <p:nvPr/>
        </p:nvSpPr>
        <p:spPr>
          <a:xfrm>
            <a:off x="1513440" y="1590840"/>
            <a:ext cx="38581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l uté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nal anal, marge a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u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é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opharyn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Œsop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SC p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SC p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946480" y="1590840"/>
            <a:ext cx="2791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évalence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7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0-3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0-9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0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95040"/>
            <a:ext cx="925992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ffff"/>
                </a:solidFill>
                <a:latin typeface="Tahoma"/>
              </a:rPr>
              <a:t>Distribution des types d'HPV </a:t>
            </a:r>
            <a:br>
              <a:rPr sz="3600"/>
            </a:br>
            <a:r>
              <a:rPr b="1" lang="fr-FR" sz="3600" spc="-1" strike="noStrike">
                <a:solidFill>
                  <a:srgbClr val="ccffff"/>
                </a:solidFill>
                <a:latin typeface="Tahoma"/>
              </a:rPr>
              <a:t>dans le cancer du col utérin</a:t>
            </a: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2060280" y="5560920"/>
            <a:ext cx="607356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ahoma"/>
              </a:rPr>
              <a:t>Prévalence cumulative des </a:t>
            </a:r>
            <a:br>
              <a:rPr sz="2400"/>
            </a:br>
            <a:r>
              <a:rPr b="1" lang="fr-FR" sz="2400" spc="-1" strike="noStrike">
                <a:solidFill>
                  <a:srgbClr val="ffff00"/>
                </a:solidFill>
                <a:latin typeface="Tahoma"/>
              </a:rPr>
              <a:t>différents types d'HPV (IARC)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6" name=""/>
          <p:cNvSpPr/>
          <p:nvPr/>
        </p:nvSpPr>
        <p:spPr>
          <a:xfrm>
            <a:off x="7061040" y="3395520"/>
            <a:ext cx="38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125120" y="3778200"/>
            <a:ext cx="45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9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164360" y="4094280"/>
            <a:ext cx="388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228440" y="4129200"/>
            <a:ext cx="45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2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205760" y="4424400"/>
            <a:ext cx="3920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271280" y="4459320"/>
            <a:ext cx="45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4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222720" y="3776760"/>
            <a:ext cx="725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818080" y="3733920"/>
            <a:ext cx="110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+18+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002040" y="4167360"/>
            <a:ext cx="94608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412720" y="4125960"/>
            <a:ext cx="15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+18+45+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781360" y="4519440"/>
            <a:ext cx="116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07360" y="44766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+18+45+59+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835440" y="2276640"/>
            <a:ext cx="112680" cy="2485800"/>
          </a:xfrm>
          <a:custGeom>
            <a:avLst/>
            <a:gdLst/>
            <a:ahLst/>
            <a:rect l="l" t="t" r="r" b="b"/>
            <a:pathLst>
              <a:path w="179" h="3915">
                <a:moveTo>
                  <a:pt x="0" y="3915"/>
                </a:moveTo>
                <a:lnTo>
                  <a:pt x="179" y="3779"/>
                </a:lnTo>
                <a:lnTo>
                  <a:pt x="179" y="0"/>
                </a:lnTo>
                <a:lnTo>
                  <a:pt x="0" y="136"/>
                </a:lnTo>
                <a:lnTo>
                  <a:pt x="0" y="391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075200" y="4675320"/>
            <a:ext cx="3276360" cy="87120"/>
          </a:xfrm>
          <a:custGeom>
            <a:avLst/>
            <a:gdLst/>
            <a:ahLst/>
            <a:rect l="l" t="t" r="r" b="b"/>
            <a:pathLst>
              <a:path w="5160" h="136">
                <a:moveTo>
                  <a:pt x="0" y="136"/>
                </a:moveTo>
                <a:lnTo>
                  <a:pt x="4981" y="136"/>
                </a:lnTo>
                <a:lnTo>
                  <a:pt x="5160" y="0"/>
                </a:lnTo>
                <a:lnTo>
                  <a:pt x="179" y="0"/>
                </a:lnTo>
                <a:lnTo>
                  <a:pt x="0" y="1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187880" y="2276640"/>
            <a:ext cx="3163680" cy="23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835440" y="2276640"/>
            <a:ext cx="112680" cy="2485800"/>
          </a:xfrm>
          <a:custGeom>
            <a:avLst/>
            <a:gdLst/>
            <a:ahLst/>
            <a:rect l="l" t="t" r="r" b="b"/>
            <a:pathLst>
              <a:path w="179" h="3915">
                <a:moveTo>
                  <a:pt x="179" y="0"/>
                </a:moveTo>
                <a:lnTo>
                  <a:pt x="0" y="136"/>
                </a:lnTo>
                <a:lnTo>
                  <a:pt x="0" y="3915"/>
                </a:lnTo>
                <a:lnTo>
                  <a:pt x="179" y="3779"/>
                </a:lnTo>
                <a:lnTo>
                  <a:pt x="179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075200" y="4675320"/>
            <a:ext cx="3276360" cy="87120"/>
          </a:xfrm>
          <a:custGeom>
            <a:avLst/>
            <a:gdLst/>
            <a:ahLst/>
            <a:rect l="l" t="t" r="r" b="b"/>
            <a:pathLst>
              <a:path w="5160" h="136">
                <a:moveTo>
                  <a:pt x="0" y="136"/>
                </a:moveTo>
                <a:lnTo>
                  <a:pt x="4981" y="136"/>
                </a:lnTo>
                <a:lnTo>
                  <a:pt x="5160" y="0"/>
                </a:lnTo>
                <a:lnTo>
                  <a:pt x="179" y="0"/>
                </a:lnTo>
                <a:lnTo>
                  <a:pt x="0" y="13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187880" y="2276640"/>
            <a:ext cx="3163680" cy="23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075200" y="4762440"/>
            <a:ext cx="3162240" cy="0"/>
          </a:xfrm>
          <a:prstGeom prst="line">
            <a:avLst/>
          </a:prstGeom>
          <a:ln w="5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4071960" y="4762440"/>
            <a:ext cx="0" cy="36720"/>
          </a:xfrm>
          <a:prstGeom prst="line">
            <a:avLst/>
          </a:prstGeom>
          <a:ln w="5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708440" y="4762440"/>
            <a:ext cx="0" cy="36720"/>
          </a:xfrm>
          <a:prstGeom prst="line">
            <a:avLst/>
          </a:prstGeom>
          <a:ln w="5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342040" y="4762440"/>
            <a:ext cx="1440" cy="36720"/>
          </a:xfrm>
          <a:prstGeom prst="line">
            <a:avLst/>
          </a:prstGeom>
          <a:ln w="5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970600" y="4762440"/>
            <a:ext cx="0" cy="36720"/>
          </a:xfrm>
          <a:prstGeom prst="line">
            <a:avLst/>
          </a:prstGeom>
          <a:ln w="5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603840" y="4762440"/>
            <a:ext cx="0" cy="36720"/>
          </a:xfrm>
          <a:prstGeom prst="line">
            <a:avLst/>
          </a:prstGeom>
          <a:ln w="5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237440" y="4762440"/>
            <a:ext cx="0" cy="36720"/>
          </a:xfrm>
          <a:prstGeom prst="line">
            <a:avLst/>
          </a:prstGeom>
          <a:ln w="5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041720" y="48308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637520" y="48308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271120" y="48308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897880" y="48308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531480" y="48308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133400" y="483084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213080" y="3510000"/>
            <a:ext cx="13161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273200" y="3433680"/>
            <a:ext cx="204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Adénocarcin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222720" y="2343240"/>
            <a:ext cx="725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94320" y="2276640"/>
            <a:ext cx="110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+18+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002040" y="2684520"/>
            <a:ext cx="9460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388960" y="2614680"/>
            <a:ext cx="15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+18+45+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781360" y="3046320"/>
            <a:ext cx="1166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983600" y="297828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6+18+45+31+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224240" y="2036880"/>
            <a:ext cx="79848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280040" y="1946160"/>
            <a:ext cx="253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ffff"/>
                </a:solidFill>
                <a:latin typeface="Tahoma"/>
              </a:rPr>
              <a:t>Cancers épidermoï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540480" y="2266920"/>
            <a:ext cx="3906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604560" y="2300400"/>
            <a:ext cx="45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3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649920" y="2610000"/>
            <a:ext cx="3906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14000" y="2643120"/>
            <a:ext cx="45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6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753240" y="2954160"/>
            <a:ext cx="3920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818760" y="2987640"/>
            <a:ext cx="45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068720" y="2259000"/>
            <a:ext cx="2398680" cy="29052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068720" y="2616120"/>
            <a:ext cx="2506680" cy="28908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068720" y="2975040"/>
            <a:ext cx="2621160" cy="28872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068720" y="3714840"/>
            <a:ext cx="2936880" cy="29052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068720" y="4065480"/>
            <a:ext cx="3032280" cy="28908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068720" y="4414680"/>
            <a:ext cx="3079800" cy="290520"/>
          </a:xfrm>
          <a:prstGeom prst="cube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464160" y="2978280"/>
            <a:ext cx="225720" cy="28872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686640" y="3713040"/>
            <a:ext cx="323640" cy="28764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885000" y="4068720"/>
            <a:ext cx="216000" cy="2872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975360" y="4417920"/>
            <a:ext cx="169920" cy="287280"/>
          </a:xfrm>
          <a:prstGeom prst="cube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234120" y="2333520"/>
            <a:ext cx="162000" cy="21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396120" y="2687760"/>
            <a:ext cx="108000" cy="215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232680" y="2260440"/>
            <a:ext cx="223560" cy="73080"/>
          </a:xfrm>
          <a:prstGeom prst="parallelogram">
            <a:avLst>
              <a:gd name="adj" fmla="val 7647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 flipV="1">
            <a:off x="6396120" y="2627280"/>
            <a:ext cx="6984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408720" y="2610000"/>
            <a:ext cx="168120" cy="85680"/>
          </a:xfrm>
          <a:custGeom>
            <a:avLst/>
            <a:gdLst/>
            <a:ahLst/>
            <a:rect l="l" t="t" r="r" b="b"/>
            <a:pathLst>
              <a:path w="265" h="136">
                <a:moveTo>
                  <a:pt x="121" y="16"/>
                </a:moveTo>
                <a:cubicBezTo>
                  <a:pt x="111" y="31"/>
                  <a:pt x="91" y="45"/>
                  <a:pt x="76" y="55"/>
                </a:cubicBezTo>
                <a:cubicBezTo>
                  <a:pt x="69" y="66"/>
                  <a:pt x="57" y="78"/>
                  <a:pt x="46" y="85"/>
                </a:cubicBezTo>
                <a:cubicBezTo>
                  <a:pt x="39" y="96"/>
                  <a:pt x="33" y="96"/>
                  <a:pt x="22" y="103"/>
                </a:cubicBezTo>
                <a:cubicBezTo>
                  <a:pt x="0" y="136"/>
                  <a:pt x="139" y="112"/>
                  <a:pt x="139" y="112"/>
                </a:cubicBezTo>
                <a:cubicBezTo>
                  <a:pt x="161" y="108"/>
                  <a:pt x="166" y="100"/>
                  <a:pt x="184" y="88"/>
                </a:cubicBezTo>
                <a:cubicBezTo>
                  <a:pt x="190" y="79"/>
                  <a:pt x="208" y="67"/>
                  <a:pt x="208" y="67"/>
                </a:cubicBezTo>
                <a:cubicBezTo>
                  <a:pt x="214" y="58"/>
                  <a:pt x="229" y="46"/>
                  <a:pt x="238" y="40"/>
                </a:cubicBezTo>
                <a:cubicBezTo>
                  <a:pt x="265" y="0"/>
                  <a:pt x="190" y="17"/>
                  <a:pt x="160" y="16"/>
                </a:cubicBezTo>
                <a:cubicBezTo>
                  <a:pt x="138" y="12"/>
                  <a:pt x="135" y="10"/>
                  <a:pt x="109" y="16"/>
                </a:cubicBezTo>
                <a:cubicBezTo>
                  <a:pt x="78" y="23"/>
                  <a:pt x="109" y="22"/>
                  <a:pt x="97" y="22"/>
                </a:cubicBezTo>
                <a:lnTo>
                  <a:pt x="109" y="16"/>
                </a:lnTo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281160" y="1900080"/>
            <a:ext cx="5856120" cy="33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fr-FR" sz="2400" spc="-1" strike="noStrike" baseline="30000">
                <a:solidFill>
                  <a:srgbClr val="ffffcc"/>
                </a:solidFill>
                <a:latin typeface="Tahoma"/>
              </a:rPr>
              <a:t>ème</a:t>
            </a: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 cancer fémin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4 millions de femmes attei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471 000 nouveaux cas/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233 000 décès/an </a:t>
            </a:r>
            <a:r>
              <a:rPr b="1" lang="fr-FR" sz="1400" spc="-1" strike="noStrike">
                <a:solidFill>
                  <a:srgbClr val="00ffff"/>
                </a:solidFill>
                <a:latin typeface="Tahoma"/>
              </a:rPr>
              <a:t>(Parkin 2001)</a:t>
            </a:r>
            <a:r>
              <a:rPr b="1" lang="fr-FR" sz="1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Incidence : 4 à 94 / 100 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En France : 8 / 100 000 </a:t>
            </a:r>
            <a:r>
              <a:rPr b="1" lang="fr-FR" sz="1400" spc="-1" strike="noStrike">
                <a:solidFill>
                  <a:srgbClr val="00ffff"/>
                </a:solidFill>
                <a:latin typeface="Tahoma"/>
              </a:rPr>
              <a:t>(INVS 200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280" y="33480"/>
            <a:ext cx="6597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Le cancer du col de l’utér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5192640" y="647640"/>
            <a:ext cx="4915080" cy="5827680"/>
            <a:chOff x="5192640" y="647640"/>
            <a:chExt cx="4915080" cy="5827680"/>
          </a:xfrm>
        </p:grpSpPr>
        <p:pic>
          <p:nvPicPr>
            <p:cNvPr id="1281" name="" descr=""/>
            <p:cNvPicPr/>
            <p:nvPr/>
          </p:nvPicPr>
          <p:blipFill>
            <a:blip r:embed="rId2"/>
            <a:stretch/>
          </p:blipFill>
          <p:spPr>
            <a:xfrm>
              <a:off x="6407280" y="647640"/>
              <a:ext cx="3700440" cy="3060360"/>
            </a:xfrm>
            <a:prstGeom prst="rect">
              <a:avLst/>
            </a:prstGeom>
            <a:ln w="9360">
              <a:solidFill>
                <a:srgbClr val="00ffff"/>
              </a:solidFill>
              <a:miter/>
            </a:ln>
          </p:spPr>
        </p:pic>
        <p:sp>
          <p:nvSpPr>
            <p:cNvPr id="1282" name=""/>
            <p:cNvSpPr/>
            <p:nvPr/>
          </p:nvSpPr>
          <p:spPr>
            <a:xfrm>
              <a:off x="8055000" y="706320"/>
              <a:ext cx="1774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Trompes de Fallo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546960" y="2044440"/>
              <a:ext cx="7887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va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9150480" y="2052360"/>
              <a:ext cx="7887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Ova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9066240" y="2517480"/>
              <a:ext cx="102852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ahoma"/>
                </a:rPr>
                <a:t>Canal endo cerv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400800" y="2382480"/>
              <a:ext cx="10587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Utér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607080" y="2624040"/>
              <a:ext cx="7891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76840" y="2914560"/>
              <a:ext cx="7891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Vag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9" name="" descr=""/>
            <p:cNvPicPr/>
            <p:nvPr/>
          </p:nvPicPr>
          <p:blipFill>
            <a:blip r:embed="rId3"/>
            <a:srcRect l="13203" t="18937" r="17697" b="0"/>
            <a:stretch/>
          </p:blipFill>
          <p:spPr>
            <a:xfrm>
              <a:off x="6726240" y="4046400"/>
              <a:ext cx="3060720" cy="2428920"/>
            </a:xfrm>
            <a:prstGeom prst="rect">
              <a:avLst/>
            </a:prstGeom>
            <a:ln w="9360">
              <a:solidFill>
                <a:srgbClr val="00ffff"/>
              </a:solidFill>
              <a:miter/>
            </a:ln>
          </p:spPr>
        </p:pic>
        <p:sp>
          <p:nvSpPr>
            <p:cNvPr id="1290" name=""/>
            <p:cNvSpPr/>
            <p:nvPr/>
          </p:nvSpPr>
          <p:spPr>
            <a:xfrm flipH="1">
              <a:off x="7824240" y="2550960"/>
              <a:ext cx="819000" cy="291960"/>
            </a:xfrm>
            <a:prstGeom prst="ellipse">
              <a:avLst/>
            </a:prstGeom>
            <a:noFill/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 rot="1809600">
              <a:off x="5701680" y="2045520"/>
              <a:ext cx="1657080" cy="2475360"/>
            </a:xfrm>
            <a:custGeom>
              <a:avLst/>
              <a:gdLst>
                <a:gd name="textAreaLeft" fmla="*/ 221760 w 1657080"/>
                <a:gd name="textAreaRight" fmla="*/ 1435320 w 1657080"/>
                <a:gd name="textAreaTop" fmla="*/ 530280 h 2475360"/>
                <a:gd name="textAreaBottom" fmla="*/ 1697760 h 247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9255" stAng="-5400000" swAng="5400000"/>
                  <a:lnTo>
                    <a:pt x="21600" y="10186"/>
                  </a:lnTo>
                  <a:arcTo wR="21600" hR="9255" stAng="0" swAng="3028246"/>
                  <a:lnTo>
                    <a:pt x="7200" y="21071"/>
                  </a:lnTo>
                  <a:lnTo>
                    <a:pt x="0" y="18975"/>
                  </a:lnTo>
                  <a:lnTo>
                    <a:pt x="7200" y="15820"/>
                  </a:lnTo>
                  <a:lnTo>
                    <a:pt x="7200" y="17980"/>
                  </a:lnTo>
                  <a:arcTo wR="21600" hR="9255" stAng="3028246" swAng="-2954077"/>
                  <a:lnTo>
                    <a:pt x="21573" y="9720"/>
                  </a:lnTo>
                  <a:arcTo wR="21600" hR="9255" stAng="-74169" swAng="-5325831"/>
                  <a:close/>
                </a:path>
                <a:path fill="darkenLess" w="21600" h="21600">
                  <a:moveTo>
                    <a:pt x="0" y="0"/>
                  </a:moveTo>
                  <a:arcTo wR="21600" hR="9255" stAng="-5400000" swAng="5400000"/>
                  <a:lnTo>
                    <a:pt x="21600" y="10186"/>
                  </a:lnTo>
                  <a:arcTo wR="21600" hR="9255" stAng="0" swAng="-74169"/>
                  <a:lnTo>
                    <a:pt x="21573" y="9720"/>
                  </a:lnTo>
                  <a:arcTo wR="21600" hR="9255" stAng="-74169" swAng="-5325831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74520" y="17640"/>
            <a:ext cx="1011888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Incidence et mortalité en France en 2000</a:t>
            </a:r>
            <a:br>
              <a:rPr sz="3600"/>
            </a:br>
            <a:r>
              <a:rPr b="1" lang="en-US" sz="1400" spc="-1" strike="noStrike">
                <a:solidFill>
                  <a:srgbClr val="00ffff"/>
                </a:solidFill>
                <a:latin typeface="Tahoma"/>
              </a:rPr>
              <a:t>(données INVS 200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905520" y="6134040"/>
            <a:ext cx="56376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905520" y="6450120"/>
            <a:ext cx="56376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422840" y="5946840"/>
            <a:ext cx="22168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aux d’inc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aux de mortal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019160" y="4438800"/>
            <a:ext cx="7610400" cy="1440"/>
          </a:xfrm>
          <a:prstGeom prst="line">
            <a:avLst/>
          </a:prstGeom>
          <a:ln w="0">
            <a:solidFill>
              <a:srgbClr val="ffffff">
                <a:alpha val="50000"/>
              </a:srgbClr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019160" y="3782880"/>
            <a:ext cx="7610400" cy="1800"/>
          </a:xfrm>
          <a:prstGeom prst="line">
            <a:avLst/>
          </a:prstGeom>
          <a:ln w="0">
            <a:solidFill>
              <a:srgbClr val="ffffff">
                <a:alpha val="50000"/>
              </a:srgbClr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19160" y="3108240"/>
            <a:ext cx="7610400" cy="1800"/>
          </a:xfrm>
          <a:prstGeom prst="line">
            <a:avLst/>
          </a:prstGeom>
          <a:ln w="3240">
            <a:solidFill>
              <a:srgbClr val="ffffff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019160" y="2452680"/>
            <a:ext cx="7610400" cy="1440"/>
          </a:xfrm>
          <a:prstGeom prst="line">
            <a:avLst/>
          </a:prstGeom>
          <a:ln w="3240">
            <a:solidFill>
              <a:srgbClr val="ffffff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019160" y="1797120"/>
            <a:ext cx="7610400" cy="1440"/>
          </a:xfrm>
          <a:prstGeom prst="line">
            <a:avLst/>
          </a:prstGeom>
          <a:ln w="0">
            <a:solidFill>
              <a:srgbClr val="ffffff">
                <a:alpha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019160" y="1797120"/>
            <a:ext cx="1440" cy="3297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933480" y="5094360"/>
            <a:ext cx="85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933480" y="4438800"/>
            <a:ext cx="85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933480" y="3782880"/>
            <a:ext cx="85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933480" y="3108240"/>
            <a:ext cx="85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933480" y="2452680"/>
            <a:ext cx="85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933480" y="1797120"/>
            <a:ext cx="85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019160" y="5094360"/>
            <a:ext cx="7610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1019160" y="5094000"/>
            <a:ext cx="1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1552680" y="5094000"/>
            <a:ext cx="1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2109960" y="5094000"/>
            <a:ext cx="1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2643120" y="5094000"/>
            <a:ext cx="32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3198960" y="5094000"/>
            <a:ext cx="1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3733920" y="5094000"/>
            <a:ext cx="1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4289400" y="5094000"/>
            <a:ext cx="1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4824360" y="5094000"/>
            <a:ext cx="180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5359320" y="5094000"/>
            <a:ext cx="180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5915160" y="5094000"/>
            <a:ext cx="1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6448320" y="5094000"/>
            <a:ext cx="180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7004160" y="5094000"/>
            <a:ext cx="1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7540560" y="5094000"/>
            <a:ext cx="180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V="1">
            <a:off x="8096400" y="5094000"/>
            <a:ext cx="1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V="1">
            <a:off x="8629560" y="5094000"/>
            <a:ext cx="180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V="1">
            <a:off x="1297080" y="4287960"/>
            <a:ext cx="534960" cy="6364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 flipV="1">
            <a:off x="1832040" y="3314520"/>
            <a:ext cx="554040" cy="973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2386080" y="2677680"/>
            <a:ext cx="534960" cy="63684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V="1">
            <a:off x="2921040" y="2490840"/>
            <a:ext cx="534960" cy="18720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456000" y="2490840"/>
            <a:ext cx="555480" cy="33660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011480" y="2827440"/>
            <a:ext cx="534960" cy="18720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4546440" y="2976480"/>
            <a:ext cx="555840" cy="3816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5102280" y="2921040"/>
            <a:ext cx="533520" cy="5544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5635800" y="2771280"/>
            <a:ext cx="555480" cy="14940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191280" y="2771640"/>
            <a:ext cx="536400" cy="13032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6727680" y="2827080"/>
            <a:ext cx="533520" cy="7452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7261200" y="2789280"/>
            <a:ext cx="555480" cy="3816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816680" y="2789280"/>
            <a:ext cx="536760" cy="9360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1297080" y="5056200"/>
            <a:ext cx="534960" cy="381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1832040" y="4943160"/>
            <a:ext cx="554040" cy="1126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2386080" y="4756320"/>
            <a:ext cx="534960" cy="18720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2921040" y="4606560"/>
            <a:ext cx="534960" cy="14940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3456000" y="4455720"/>
            <a:ext cx="555480" cy="15084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4011480" y="4419360"/>
            <a:ext cx="534960" cy="363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546440" y="4419720"/>
            <a:ext cx="555840" cy="7452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5102280" y="4474800"/>
            <a:ext cx="533520" cy="19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5635800" y="4400280"/>
            <a:ext cx="555480" cy="7452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6191280" y="4212720"/>
            <a:ext cx="536400" cy="1875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6727680" y="3912840"/>
            <a:ext cx="533520" cy="2998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7261200" y="3557520"/>
            <a:ext cx="555480" cy="3556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7816680" y="3108240"/>
            <a:ext cx="536760" cy="4492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32960" y="4943520"/>
            <a:ext cx="1378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732960" y="4287960"/>
            <a:ext cx="1378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91120" y="3632040"/>
            <a:ext cx="2750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91120" y="2959200"/>
            <a:ext cx="2750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91120" y="2303640"/>
            <a:ext cx="2750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91120" y="1647720"/>
            <a:ext cx="27504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rot="16200000">
            <a:off x="936000" y="5372280"/>
            <a:ext cx="6271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20-2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rot="16200000">
            <a:off x="1470960" y="5372280"/>
            <a:ext cx="6271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25-2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rot="16200000">
            <a:off x="2026440" y="5372280"/>
            <a:ext cx="6271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30-3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rot="16200000">
            <a:off x="2561400" y="5372280"/>
            <a:ext cx="6271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35-3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rot="16200000">
            <a:off x="3094920" y="5372280"/>
            <a:ext cx="6271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40-4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16200000">
            <a:off x="3652200" y="5372280"/>
            <a:ext cx="6271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45-4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rot="16200000">
            <a:off x="4188600" y="5372280"/>
            <a:ext cx="6271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50-5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 rot="16200000">
            <a:off x="4742640" y="5372280"/>
            <a:ext cx="6271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55-5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rot="16200000">
            <a:off x="5276160" y="5372280"/>
            <a:ext cx="6271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60-6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rot="16200000">
            <a:off x="5833440" y="5372280"/>
            <a:ext cx="6271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65-6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rot="16200000">
            <a:off x="6368400" y="5372280"/>
            <a:ext cx="6271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70-7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rot="16200000">
            <a:off x="6903360" y="5372280"/>
            <a:ext cx="6271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75-7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 rot="16200000">
            <a:off x="7460640" y="5372280"/>
            <a:ext cx="6271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80-8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rot="16200000">
            <a:off x="8102880" y="5261040"/>
            <a:ext cx="4122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85+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949680" y="5964120"/>
            <a:ext cx="468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3 387 cas (400 avant 35 a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1 000 décès (une 3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ahoma"/>
              </a:rPr>
              <a:t>aine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avant 35 a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14440" y="101520"/>
            <a:ext cx="9259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Prévalence de l’infection à HPV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en fonction de l’âge</a:t>
            </a: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265320" y="1728720"/>
            <a:ext cx="9726840" cy="4650840"/>
            <a:chOff x="265320" y="1728720"/>
            <a:chExt cx="9726840" cy="4650840"/>
          </a:xfrm>
        </p:grpSpPr>
        <p:sp>
          <p:nvSpPr>
            <p:cNvPr id="1373" name=""/>
            <p:cNvSpPr/>
            <p:nvPr/>
          </p:nvSpPr>
          <p:spPr>
            <a:xfrm>
              <a:off x="3060720" y="2517840"/>
              <a:ext cx="0" cy="3357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4" name=""/>
            <p:cNvGrpSpPr/>
            <p:nvPr/>
          </p:nvGrpSpPr>
          <p:grpSpPr>
            <a:xfrm>
              <a:off x="265320" y="1728720"/>
              <a:ext cx="9726840" cy="4650840"/>
              <a:chOff x="265320" y="1728720"/>
              <a:chExt cx="9726840" cy="4650840"/>
            </a:xfrm>
          </p:grpSpPr>
          <p:sp>
            <p:nvSpPr>
              <p:cNvPr id="1375" name=""/>
              <p:cNvSpPr/>
              <p:nvPr/>
            </p:nvSpPr>
            <p:spPr>
              <a:xfrm>
                <a:off x="1398600" y="5883120"/>
                <a:ext cx="0" cy="152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6" name=""/>
              <p:cNvGrpSpPr/>
              <p:nvPr/>
            </p:nvGrpSpPr>
            <p:grpSpPr>
              <a:xfrm>
                <a:off x="1353960" y="2765520"/>
                <a:ext cx="6712200" cy="2367000"/>
                <a:chOff x="1353960" y="2765520"/>
                <a:chExt cx="6712200" cy="236700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1353960" y="2765520"/>
                  <a:ext cx="88920" cy="889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7977240" y="4668840"/>
                  <a:ext cx="88920" cy="889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6316560" y="5043600"/>
                  <a:ext cx="88920" cy="889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676760" y="4803840"/>
                  <a:ext cx="88920" cy="889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013200" y="4159080"/>
                  <a:ext cx="88920" cy="88920"/>
                </a:xfrm>
                <a:prstGeom prst="ellipse">
                  <a:avLst/>
                </a:prstGeom>
                <a:solidFill>
                  <a:srgbClr val="00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1405080" y="2808360"/>
                  <a:ext cx="1652400" cy="138888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3052800" y="4195800"/>
                  <a:ext cx="1668600" cy="65412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4721400" y="4843440"/>
                  <a:ext cx="1644480" cy="24768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V="1">
                  <a:off x="6364440" y="4718160"/>
                  <a:ext cx="1660320" cy="372960"/>
                </a:xfrm>
                <a:prstGeom prst="line">
                  <a:avLst/>
                </a:prstGeom>
                <a:ln w="284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6" name=""/>
              <p:cNvGrpSpPr/>
              <p:nvPr/>
            </p:nvGrpSpPr>
            <p:grpSpPr>
              <a:xfrm>
                <a:off x="1353960" y="3637080"/>
                <a:ext cx="8367840" cy="1939680"/>
                <a:chOff x="1353960" y="3637080"/>
                <a:chExt cx="8367840" cy="1939680"/>
              </a:xfrm>
            </p:grpSpPr>
            <p:sp>
              <p:nvSpPr>
                <p:cNvPr id="1387" name=""/>
                <p:cNvSpPr/>
                <p:nvPr/>
              </p:nvSpPr>
              <p:spPr>
                <a:xfrm>
                  <a:off x="1353960" y="3637080"/>
                  <a:ext cx="88920" cy="8892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9632880" y="4765680"/>
                  <a:ext cx="88920" cy="8892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7977240" y="5487840"/>
                  <a:ext cx="88920" cy="8892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6315120" y="5205240"/>
                  <a:ext cx="88920" cy="8892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676760" y="5102280"/>
                  <a:ext cx="88920" cy="8892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3013200" y="4530600"/>
                  <a:ext cx="88920" cy="8892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1390680" y="3678120"/>
                  <a:ext cx="1666800" cy="895320"/>
                </a:xfrm>
                <a:prstGeom prst="line">
                  <a:avLst/>
                </a:prstGeom>
                <a:ln w="284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3054240" y="4578480"/>
                  <a:ext cx="1657440" cy="561960"/>
                </a:xfrm>
                <a:prstGeom prst="line">
                  <a:avLst/>
                </a:prstGeom>
                <a:ln w="284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707000" y="5145120"/>
                  <a:ext cx="1647720" cy="100080"/>
                </a:xfrm>
                <a:prstGeom prst="line">
                  <a:avLst/>
                </a:prstGeom>
                <a:ln w="284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6364440" y="5254560"/>
                  <a:ext cx="1657080" cy="285840"/>
                </a:xfrm>
                <a:prstGeom prst="line">
                  <a:avLst/>
                </a:prstGeom>
                <a:ln w="284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 flipV="1">
                  <a:off x="8021520" y="4807080"/>
                  <a:ext cx="1652760" cy="738000"/>
                </a:xfrm>
                <a:prstGeom prst="line">
                  <a:avLst/>
                </a:prstGeom>
                <a:ln w="284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8" name=""/>
              <p:cNvGrpSpPr/>
              <p:nvPr/>
            </p:nvGrpSpPr>
            <p:grpSpPr>
              <a:xfrm>
                <a:off x="1353960" y="4311720"/>
                <a:ext cx="6712200" cy="1192320"/>
                <a:chOff x="1353960" y="4311720"/>
                <a:chExt cx="6712200" cy="1192320"/>
              </a:xfrm>
            </p:grpSpPr>
            <p:sp>
              <p:nvSpPr>
                <p:cNvPr id="1399" name=""/>
                <p:cNvSpPr/>
                <p:nvPr/>
              </p:nvSpPr>
              <p:spPr>
                <a:xfrm>
                  <a:off x="1353960" y="4311720"/>
                  <a:ext cx="88920" cy="88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7977240" y="5415120"/>
                  <a:ext cx="88920" cy="88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6315120" y="5327640"/>
                  <a:ext cx="88920" cy="88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4676760" y="5327640"/>
                  <a:ext cx="88920" cy="88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3013200" y="4762440"/>
                  <a:ext cx="88920" cy="88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1397160" y="4359240"/>
                  <a:ext cx="1657080" cy="44784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3059280" y="4807080"/>
                  <a:ext cx="1666800" cy="56664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4716360" y="5369040"/>
                  <a:ext cx="1643040" cy="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359400" y="5373720"/>
                  <a:ext cx="1657440" cy="81000"/>
                </a:xfrm>
                <a:prstGeom prst="line">
                  <a:avLst/>
                </a:prstGeom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8" name=""/>
              <p:cNvGrpSpPr/>
              <p:nvPr/>
            </p:nvGrpSpPr>
            <p:grpSpPr>
              <a:xfrm>
                <a:off x="265320" y="1768320"/>
                <a:ext cx="9726840" cy="4611240"/>
                <a:chOff x="265320" y="1768320"/>
                <a:chExt cx="9726840" cy="461124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1120680" y="5883120"/>
                  <a:ext cx="87966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1120680" y="2100240"/>
                  <a:ext cx="0" cy="378288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3057480" y="588312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4711680" y="588312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8018640" y="588312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9672480" y="588312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6364440" y="5883120"/>
                  <a:ext cx="0" cy="15264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933480" y="2263680"/>
                  <a:ext cx="1872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933480" y="2982960"/>
                  <a:ext cx="1872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933480" y="5140440"/>
                  <a:ext cx="1872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933480" y="3701880"/>
                  <a:ext cx="1872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933480" y="4421160"/>
                  <a:ext cx="18720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419760" y="2806560"/>
                  <a:ext cx="44280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ffffff"/>
                      </a:solidFill>
                      <a:latin typeface="Tahoma"/>
                    </a:rPr>
                    <a:t>4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419760" y="4246560"/>
                  <a:ext cx="44280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ffffff"/>
                      </a:solidFill>
                      <a:latin typeface="Tahoma"/>
                    </a:rPr>
                    <a:t>2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419760" y="3525840"/>
                  <a:ext cx="44280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ffffff"/>
                      </a:solidFill>
                      <a:latin typeface="Tahoma"/>
                    </a:rPr>
                    <a:t>3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419760" y="4967280"/>
                  <a:ext cx="44280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ffffff"/>
                      </a:solidFill>
                      <a:latin typeface="Tahoma"/>
                    </a:rPr>
                    <a:t>1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265320" y="1768320"/>
                  <a:ext cx="170172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ffffff"/>
                      </a:solidFill>
                      <a:latin typeface="Tahoma"/>
                    </a:rPr>
                    <a:t>% HPV positi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1077120" y="6039000"/>
                  <a:ext cx="63324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ffffff"/>
                      </a:solidFill>
                      <a:latin typeface="Tahoma"/>
                    </a:rPr>
                    <a:t>&lt; 2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2619360" y="6039000"/>
                  <a:ext cx="77796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ffffff"/>
                      </a:solidFill>
                      <a:latin typeface="Tahoma"/>
                    </a:rPr>
                    <a:t>25-3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4303440" y="6039000"/>
                  <a:ext cx="77796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ffffff"/>
                      </a:solidFill>
                      <a:latin typeface="Tahoma"/>
                    </a:rPr>
                    <a:t>35-4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5986440" y="6039000"/>
                  <a:ext cx="77796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ffffff"/>
                      </a:solidFill>
                      <a:latin typeface="Tahoma"/>
                    </a:rPr>
                    <a:t>45-5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7670520" y="6039000"/>
                  <a:ext cx="77796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ffffff"/>
                      </a:solidFill>
                      <a:latin typeface="Tahoma"/>
                    </a:rPr>
                    <a:t>55-6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9358920" y="6039000"/>
                  <a:ext cx="633240" cy="34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ffffff"/>
                      </a:solidFill>
                      <a:latin typeface="Tahoma"/>
                    </a:rPr>
                    <a:t>&gt; 6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2" name=""/>
              <p:cNvSpPr/>
              <p:nvPr/>
            </p:nvSpPr>
            <p:spPr>
              <a:xfrm>
                <a:off x="6805440" y="1903320"/>
                <a:ext cx="438480" cy="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805440" y="2198520"/>
                <a:ext cx="438480" cy="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805440" y="2495520"/>
                <a:ext cx="43848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381080" y="1728720"/>
                <a:ext cx="1704600" cy="94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ffff"/>
                    </a:solidFill>
                    <a:latin typeface="Tahoma"/>
                  </a:rPr>
                  <a:t>Royaume Un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00ff"/>
                    </a:solidFill>
                    <a:latin typeface="Tahoma"/>
                  </a:rPr>
                  <a:t>Besanç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ffff00"/>
                    </a:solidFill>
                    <a:latin typeface="Tahoma"/>
                  </a:rPr>
                  <a:t>Costa-Ric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25560"/>
            <a:ext cx="102870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ffff"/>
                </a:solidFill>
                <a:latin typeface="Tahoma"/>
              </a:rPr>
              <a:t>Papillomavirus : famille </a:t>
            </a:r>
            <a:r>
              <a:rPr b="1" i="1" lang="fr-FR" sz="3600" spc="-1" strike="noStrike">
                <a:solidFill>
                  <a:srgbClr val="ccffff"/>
                </a:solidFill>
                <a:latin typeface="Tahoma"/>
              </a:rPr>
              <a:t>papillomaviridae</a:t>
            </a:r>
            <a:br>
              <a:rPr sz="3600"/>
            </a:br>
            <a:r>
              <a:rPr b="1" lang="fr-FR" sz="3200" spc="-1" strike="noStrike">
                <a:solidFill>
                  <a:srgbClr val="ccffff"/>
                </a:solidFill>
                <a:latin typeface="Tahoma"/>
              </a:rPr>
              <a:t>une famille officiellement reconnue en 2004</a:t>
            </a:r>
            <a:endParaRPr b="1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846440" y="3063960"/>
            <a:ext cx="757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82600" y="1751040"/>
            <a:ext cx="2489040" cy="4341960"/>
            <a:chOff x="282600" y="1751040"/>
            <a:chExt cx="2489040" cy="4341960"/>
          </a:xfrm>
        </p:grpSpPr>
        <p:sp>
          <p:nvSpPr>
            <p:cNvPr id="44" name=""/>
            <p:cNvSpPr/>
            <p:nvPr/>
          </p:nvSpPr>
          <p:spPr>
            <a:xfrm>
              <a:off x="453960" y="1751040"/>
              <a:ext cx="209880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ahoma"/>
                </a:rPr>
                <a:t>Virio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45-55 nm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2600" y="3403800"/>
              <a:ext cx="248904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lnSpc>
                  <a:spcPct val="11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ahoma"/>
                </a:rPr>
                <a:t>Capsid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72 capsomè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2600" y="4996080"/>
              <a:ext cx="243036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Tahoma"/>
                </a:rPr>
                <a:t>AD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Tahoma"/>
                </a:rPr>
                <a:t>~ 8000 p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Tahoma"/>
                </a:rPr>
                <a:t>bicaténai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2"/>
          <a:srcRect l="29627" t="1619" r="34454" b="54536"/>
          <a:stretch/>
        </p:blipFill>
        <p:spPr>
          <a:xfrm>
            <a:off x="2951280" y="3160800"/>
            <a:ext cx="1457280" cy="14475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graphicFrame>
        <p:nvGraphicFramePr>
          <p:cNvPr id="48" name=""/>
          <p:cNvGraphicFramePr/>
          <p:nvPr/>
        </p:nvGraphicFramePr>
        <p:xfrm>
          <a:off x="2951280" y="4816440"/>
          <a:ext cx="145404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51280" y="4816440"/>
                    <a:ext cx="1454040" cy="1447920"/>
                  </a:xfrm>
                  <a:prstGeom prst="rect">
                    <a:avLst/>
                  </a:prstGeom>
                  <a:ln w="936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65720" y="2409840"/>
            <a:ext cx="5594400" cy="28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Virus nus à ADN circula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trictement épithéliotro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pécifiques d’espè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2951280" y="1625760"/>
            <a:ext cx="1457280" cy="13334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76080" y="145800"/>
            <a:ext cx="898668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Histoire naturelle de l’infection génitale par les HPV muqueux HR</a:t>
            </a: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37" name="" descr=""/>
          <p:cNvPicPr/>
          <p:nvPr/>
        </p:nvPicPr>
        <p:blipFill>
          <a:blip r:embed="rId2"/>
          <a:srcRect l="18987" t="0" r="6803" b="0"/>
          <a:stretch/>
        </p:blipFill>
        <p:spPr>
          <a:xfrm>
            <a:off x="1216080" y="5405400"/>
            <a:ext cx="1297080" cy="1274760"/>
          </a:xfrm>
          <a:prstGeom prst="rect">
            <a:avLst/>
          </a:prstGeom>
          <a:ln w="0">
            <a:noFill/>
          </a:ln>
        </p:spPr>
      </p:pic>
      <p:pic>
        <p:nvPicPr>
          <p:cNvPr id="1438" name="" descr=""/>
          <p:cNvPicPr/>
          <p:nvPr/>
        </p:nvPicPr>
        <p:blipFill>
          <a:blip r:embed="rId3"/>
          <a:srcRect l="31393" t="0" r="13007" b="18720"/>
          <a:stretch/>
        </p:blipFill>
        <p:spPr>
          <a:xfrm>
            <a:off x="8685360" y="5405400"/>
            <a:ext cx="1287360" cy="121932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/>
          <p:nvPr/>
        </p:nvSpPr>
        <p:spPr>
          <a:xfrm>
            <a:off x="308880" y="2674800"/>
            <a:ext cx="3024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fection asymptomat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986840" y="20746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&gt;9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657240" y="1770120"/>
            <a:ext cx="25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fection à HPV 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299280" y="1994040"/>
            <a:ext cx="1173240" cy="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462800" y="1998720"/>
            <a:ext cx="0" cy="5335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660680" y="3309120"/>
            <a:ext cx="2725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Élimination du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système immunitai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4311720" y="2817720"/>
            <a:ext cx="1520640" cy="701640"/>
          </a:xfrm>
          <a:prstGeom prst="line">
            <a:avLst/>
          </a:prstGeom>
          <a:ln w="7632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471920" y="3361320"/>
            <a:ext cx="171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Régression des lé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547880" y="2900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Tahoma"/>
              </a:rPr>
              <a:t>6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 flipV="1">
            <a:off x="4371480" y="3938400"/>
            <a:ext cx="1575000" cy="685800"/>
          </a:xfrm>
          <a:prstGeom prst="line">
            <a:avLst/>
          </a:prstGeom>
          <a:ln w="31680">
            <a:solidFill>
              <a:srgbClr val="cc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475160" y="443700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ff"/>
                </a:solidFill>
                <a:latin typeface="Tahoma"/>
              </a:rPr>
              <a:t>20- 3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046920" y="4386240"/>
            <a:ext cx="2784240" cy="3682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Lésion de haut grade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>
            <a:off x="1709280" y="1992240"/>
            <a:ext cx="16909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720800" y="1998720"/>
            <a:ext cx="0" cy="527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662160" y="20728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Tahoma"/>
              </a:rPr>
              <a:t>&lt;1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084720" y="2637000"/>
            <a:ext cx="2749680" cy="3682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Lésion de bas gr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450200" y="3135240"/>
            <a:ext cx="0" cy="10778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432560" y="3303000"/>
            <a:ext cx="19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ffff"/>
                </a:solidFill>
                <a:latin typeface="Tahoma"/>
              </a:rPr>
              <a:t>Persistance</a:t>
            </a:r>
            <a:r>
              <a:rPr b="1" lang="fr-FR" sz="18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ffff"/>
                </a:solidFill>
                <a:latin typeface="Tahoma"/>
              </a:rPr>
              <a:t>HP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ffff"/>
                </a:solidFill>
                <a:latin typeface="Tahoma"/>
              </a:rPr>
              <a:t>Co-fac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553080" y="3522600"/>
            <a:ext cx="7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Tahoma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513120" y="5931360"/>
            <a:ext cx="1794600" cy="36828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Cancer invas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448400" y="4960800"/>
            <a:ext cx="0" cy="866880"/>
          </a:xfrm>
          <a:prstGeom prst="line">
            <a:avLst/>
          </a:prstGeom>
          <a:ln w="763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399440" y="498420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ffff"/>
                </a:solidFill>
                <a:latin typeface="Tahoma"/>
              </a:rPr>
              <a:t>Persistance HP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ffff"/>
                </a:solidFill>
                <a:latin typeface="Tahoma"/>
              </a:rPr>
              <a:t>Co-fac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531120" y="5200560"/>
            <a:ext cx="750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Tahoma"/>
              </a:rPr>
              <a:t>1-1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>
            <a:off x="7469280" y="1984320"/>
            <a:ext cx="1869840" cy="0"/>
          </a:xfrm>
          <a:prstGeom prst="line">
            <a:avLst/>
          </a:prstGeom>
          <a:ln w="2844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8893080" y="4573440"/>
            <a:ext cx="433440" cy="12960"/>
          </a:xfrm>
          <a:prstGeom prst="line">
            <a:avLst/>
          </a:prstGeom>
          <a:ln w="28440">
            <a:solidFill>
              <a:srgbClr val="00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353520" y="1982880"/>
            <a:ext cx="11160" cy="2603520"/>
          </a:xfrm>
          <a:prstGeom prst="line">
            <a:avLst/>
          </a:prstGeom>
          <a:ln w="2844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169280" y="4618080"/>
            <a:ext cx="1358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720800" y="3193920"/>
            <a:ext cx="0" cy="1227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7432560" y="206316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Tahoma"/>
              </a:rPr>
              <a:t>Persistance</a:t>
            </a: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Tahoma"/>
              </a:rPr>
              <a:t>HP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/>
          <p:nvPr/>
        </p:nvSpPr>
        <p:spPr>
          <a:xfrm>
            <a:off x="328680" y="-36360"/>
            <a:ext cx="96156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Facteurs influençant la persis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51000" y="1192320"/>
            <a:ext cx="957888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Génotyp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Varia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HPV 16 : 5 branches : prototypes E et non prototypes Af1, Af2, As et 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87280">
              <a:lnSpc>
                <a:spcPct val="90000"/>
              </a:lnSpc>
              <a:spcBef>
                <a:spcPts val="24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872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Variants non E persistent davantage que variants E </a:t>
            </a:r>
            <a:br>
              <a:rPr sz="2400"/>
            </a:br>
            <a:r>
              <a:rPr b="1" lang="fr-FR" sz="1400" spc="-1" strike="noStrike">
                <a:solidFill>
                  <a:srgbClr val="00ffff"/>
                </a:solidFill>
                <a:latin typeface="Tahoma"/>
              </a:rPr>
              <a:t>(Villa 2000, étude de 6000 femmes au Brés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376360" y="1697040"/>
            <a:ext cx="0" cy="2743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2895480" y="2220840"/>
            <a:ext cx="989280" cy="223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ahoma"/>
              </a:rPr>
              <a:t>31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859120" y="183996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HPV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462560" y="3373560"/>
            <a:ext cx="988920" cy="1079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ahoma"/>
              </a:rPr>
              <a:t>1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390920" y="2448000"/>
            <a:ext cx="113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HPV HR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autr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que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045120" y="3660840"/>
            <a:ext cx="988920" cy="792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Tahoma"/>
              </a:rPr>
              <a:t>11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987520" y="328464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ahoma"/>
              </a:rPr>
              <a:t>HPV 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376360" y="4440240"/>
            <a:ext cx="5435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344000" y="2290680"/>
            <a:ext cx="23691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cc"/>
                </a:solidFill>
                <a:latin typeface="Tahoma"/>
              </a:rPr>
              <a:t>Persistance </a:t>
            </a:r>
            <a:br>
              <a:rPr sz="2800"/>
            </a:br>
            <a:r>
              <a:rPr b="1" lang="fr-FR" sz="2800" spc="-1" strike="noStrike">
                <a:solidFill>
                  <a:srgbClr val="ffffcc"/>
                </a:solidFill>
                <a:latin typeface="Tahoma"/>
              </a:rPr>
              <a:t>sur 5 à 7 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8012520" y="4168800"/>
            <a:ext cx="1960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ffff"/>
                </a:solidFill>
                <a:latin typeface="Tahoma"/>
              </a:rPr>
              <a:t>Schiffman, NCI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"/>
          <p:cNvSpPr/>
          <p:nvPr/>
        </p:nvSpPr>
        <p:spPr>
          <a:xfrm>
            <a:off x="603360" y="69840"/>
            <a:ext cx="908028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ffff"/>
                </a:solidFill>
                <a:latin typeface="Tahoma"/>
              </a:rPr>
              <a:t>Facteurs influençant la persistance</a:t>
            </a:r>
            <a:br>
              <a:rPr sz="3600"/>
            </a:br>
            <a:r>
              <a:rPr b="1" lang="fr-FR" sz="3200" spc="-1" strike="noStrike">
                <a:solidFill>
                  <a:srgbClr val="ccffff"/>
                </a:solidFill>
                <a:latin typeface="Tahoma"/>
              </a:rPr>
              <a:t>la charge virale</a:t>
            </a:r>
            <a:r>
              <a:rPr b="1" lang="fr-FR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ffff"/>
                </a:solidFill>
                <a:latin typeface="Tahoma"/>
              </a:rPr>
              <a:t>van Duin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864400" y="4683240"/>
            <a:ext cx="468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376440" y="1684440"/>
            <a:ext cx="4464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376440" y="1684440"/>
            <a:ext cx="4464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376440" y="1684440"/>
            <a:ext cx="4464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752560" y="4168800"/>
            <a:ext cx="241560" cy="25200"/>
          </a:xfrm>
          <a:custGeom>
            <a:avLst/>
            <a:gdLst/>
            <a:ahLst/>
            <a:rect l="l" t="t" r="r" b="b"/>
            <a:pathLst>
              <a:path w="245" h="25">
                <a:moveTo>
                  <a:pt x="0" y="2"/>
                </a:moveTo>
                <a:lnTo>
                  <a:pt x="0" y="25"/>
                </a:lnTo>
                <a:lnTo>
                  <a:pt x="245" y="23"/>
                </a:lnTo>
                <a:lnTo>
                  <a:pt x="245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3105000" y="2806560"/>
            <a:ext cx="3026520" cy="1241280"/>
            <a:chOff x="3105000" y="2806560"/>
            <a:chExt cx="3026520" cy="1241280"/>
          </a:xfrm>
        </p:grpSpPr>
        <p:sp>
          <p:nvSpPr>
            <p:cNvPr id="1487" name=""/>
            <p:cNvSpPr/>
            <p:nvPr/>
          </p:nvSpPr>
          <p:spPr>
            <a:xfrm>
              <a:off x="3105000" y="4022280"/>
              <a:ext cx="74160" cy="25560"/>
            </a:xfrm>
            <a:custGeom>
              <a:avLst/>
              <a:gdLst/>
              <a:ahLst/>
              <a:rect l="l" t="t" r="r" b="b"/>
              <a:pathLst>
                <a:path w="75" h="25">
                  <a:moveTo>
                    <a:pt x="0" y="2"/>
                  </a:moveTo>
                  <a:lnTo>
                    <a:pt x="0" y="25"/>
                  </a:lnTo>
                  <a:lnTo>
                    <a:pt x="75" y="23"/>
                  </a:lnTo>
                  <a:lnTo>
                    <a:pt x="7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167640" y="3985920"/>
              <a:ext cx="25200" cy="4932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47"/>
                  </a:moveTo>
                  <a:lnTo>
                    <a:pt x="22" y="47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177360" y="3968640"/>
              <a:ext cx="21240" cy="2736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0" y="3"/>
                  </a:moveTo>
                  <a:lnTo>
                    <a:pt x="4" y="26"/>
                  </a:lnTo>
                  <a:lnTo>
                    <a:pt x="23" y="22"/>
                  </a:lnTo>
                  <a:lnTo>
                    <a:pt x="1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87080" y="3932280"/>
              <a:ext cx="23400" cy="5328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0" y="51"/>
                  </a:moveTo>
                  <a:lnTo>
                    <a:pt x="23" y="51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197160" y="3917160"/>
              <a:ext cx="158760" cy="25560"/>
            </a:xfrm>
            <a:custGeom>
              <a:avLst/>
              <a:gdLst/>
              <a:ahLst/>
              <a:rect l="l" t="t" r="r" b="b"/>
              <a:pathLst>
                <a:path w="161" h="24">
                  <a:moveTo>
                    <a:pt x="0" y="2"/>
                  </a:moveTo>
                  <a:lnTo>
                    <a:pt x="0" y="24"/>
                  </a:lnTo>
                  <a:lnTo>
                    <a:pt x="161" y="22"/>
                  </a:lnTo>
                  <a:lnTo>
                    <a:pt x="16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344400" y="3866040"/>
              <a:ext cx="25200" cy="66240"/>
            </a:xfrm>
            <a:custGeom>
              <a:avLst/>
              <a:gdLst/>
              <a:ahLst/>
              <a:rect l="l" t="t" r="r" b="b"/>
              <a:pathLst>
                <a:path w="24" h="60">
                  <a:moveTo>
                    <a:pt x="0" y="60"/>
                  </a:moveTo>
                  <a:lnTo>
                    <a:pt x="22" y="60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355920" y="3853440"/>
              <a:ext cx="37080" cy="25560"/>
            </a:xfrm>
            <a:custGeom>
              <a:avLst/>
              <a:gdLst/>
              <a:ahLst/>
              <a:rect l="l" t="t" r="r" b="b"/>
              <a:pathLst>
                <a:path w="38" h="24">
                  <a:moveTo>
                    <a:pt x="0" y="2"/>
                  </a:moveTo>
                  <a:lnTo>
                    <a:pt x="2" y="24"/>
                  </a:lnTo>
                  <a:lnTo>
                    <a:pt x="38" y="22"/>
                  </a:lnTo>
                  <a:lnTo>
                    <a:pt x="3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379680" y="3810600"/>
              <a:ext cx="23400" cy="5508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53"/>
                  </a:moveTo>
                  <a:lnTo>
                    <a:pt x="23" y="53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5" name=""/>
            <p:cNvGrpSpPr/>
            <p:nvPr/>
          </p:nvGrpSpPr>
          <p:grpSpPr>
            <a:xfrm>
              <a:off x="3391200" y="2806560"/>
              <a:ext cx="2740320" cy="1016280"/>
              <a:chOff x="3391200" y="2806560"/>
              <a:chExt cx="2740320" cy="1016280"/>
            </a:xfrm>
          </p:grpSpPr>
          <p:sp>
            <p:nvSpPr>
              <p:cNvPr id="1496" name=""/>
              <p:cNvSpPr/>
              <p:nvPr/>
            </p:nvSpPr>
            <p:spPr>
              <a:xfrm>
                <a:off x="3391200" y="379728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2"/>
                    </a:moveTo>
                    <a:lnTo>
                      <a:pt x="2" y="25"/>
                    </a:lnTo>
                    <a:lnTo>
                      <a:pt x="17" y="23"/>
                    </a:lnTo>
                    <a:lnTo>
                      <a:pt x="1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395160" y="3745800"/>
                <a:ext cx="23400" cy="64440"/>
              </a:xfrm>
              <a:custGeom>
                <a:avLst/>
                <a:gdLst/>
                <a:ahLst/>
                <a:rect l="l" t="t" r="r" b="b"/>
                <a:pathLst>
                  <a:path w="25" h="60">
                    <a:moveTo>
                      <a:pt x="0" y="60"/>
                    </a:moveTo>
                    <a:lnTo>
                      <a:pt x="23" y="60"/>
                    </a:lnTo>
                    <a:lnTo>
                      <a:pt x="25" y="0"/>
                    </a:lnTo>
                    <a:lnTo>
                      <a:pt x="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404880" y="3733200"/>
                <a:ext cx="484560" cy="25560"/>
              </a:xfrm>
              <a:custGeom>
                <a:avLst/>
                <a:gdLst/>
                <a:ahLst/>
                <a:rect l="l" t="t" r="r" b="b"/>
                <a:pathLst>
                  <a:path w="493" h="25">
                    <a:moveTo>
                      <a:pt x="0" y="2"/>
                    </a:moveTo>
                    <a:lnTo>
                      <a:pt x="0" y="25"/>
                    </a:lnTo>
                    <a:lnTo>
                      <a:pt x="493" y="23"/>
                    </a:lnTo>
                    <a:lnTo>
                      <a:pt x="49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878280" y="3675240"/>
                <a:ext cx="25200" cy="70200"/>
              </a:xfrm>
              <a:custGeom>
                <a:avLst/>
                <a:gdLst/>
                <a:ahLst/>
                <a:rect l="l" t="t" r="r" b="b"/>
                <a:pathLst>
                  <a:path w="24" h="65">
                    <a:moveTo>
                      <a:pt x="0" y="65"/>
                    </a:moveTo>
                    <a:lnTo>
                      <a:pt x="22" y="65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884040" y="3662280"/>
                <a:ext cx="19440" cy="2376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3"/>
                    </a:moveTo>
                    <a:lnTo>
                      <a:pt x="14" y="22"/>
                    </a:lnTo>
                    <a:lnTo>
                      <a:pt x="19" y="18"/>
                    </a:lnTo>
                    <a:lnTo>
                      <a:pt x="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884040" y="3602520"/>
                <a:ext cx="23400" cy="72720"/>
              </a:xfrm>
              <a:custGeom>
                <a:avLst/>
                <a:gdLst/>
                <a:ahLst/>
                <a:rect l="l" t="t" r="r" b="b"/>
                <a:pathLst>
                  <a:path w="25" h="70">
                    <a:moveTo>
                      <a:pt x="0" y="70"/>
                    </a:moveTo>
                    <a:lnTo>
                      <a:pt x="23" y="70"/>
                    </a:lnTo>
                    <a:lnTo>
                      <a:pt x="25" y="0"/>
                    </a:lnTo>
                    <a:lnTo>
                      <a:pt x="2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895920" y="3585240"/>
                <a:ext cx="56880" cy="2808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4"/>
                    </a:moveTo>
                    <a:lnTo>
                      <a:pt x="2" y="27"/>
                    </a:lnTo>
                    <a:lnTo>
                      <a:pt x="58" y="23"/>
                    </a:lnTo>
                    <a:lnTo>
                      <a:pt x="5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39120" y="3523680"/>
                <a:ext cx="25200" cy="78840"/>
              </a:xfrm>
              <a:custGeom>
                <a:avLst/>
                <a:gdLst/>
                <a:ahLst/>
                <a:rect l="l" t="t" r="r" b="b"/>
                <a:pathLst>
                  <a:path w="24" h="73">
                    <a:moveTo>
                      <a:pt x="0" y="73"/>
                    </a:moveTo>
                    <a:lnTo>
                      <a:pt x="22" y="73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4" name=""/>
              <p:cNvGrpSpPr/>
              <p:nvPr/>
            </p:nvGrpSpPr>
            <p:grpSpPr>
              <a:xfrm>
                <a:off x="3950640" y="2806560"/>
                <a:ext cx="2180880" cy="729360"/>
                <a:chOff x="3950640" y="2806560"/>
                <a:chExt cx="2180880" cy="729360"/>
              </a:xfrm>
            </p:grpSpPr>
            <p:sp>
              <p:nvSpPr>
                <p:cNvPr id="1505" name=""/>
                <p:cNvSpPr/>
                <p:nvPr/>
              </p:nvSpPr>
              <p:spPr>
                <a:xfrm>
                  <a:off x="3950640" y="3510360"/>
                  <a:ext cx="82080" cy="25560"/>
                </a:xfrm>
                <a:custGeom>
                  <a:avLst/>
                  <a:gdLst/>
                  <a:ahLst/>
                  <a:rect l="l" t="t" r="r" b="b"/>
                  <a:pathLst>
                    <a:path w="84" h="24">
                      <a:moveTo>
                        <a:pt x="0" y="2"/>
                      </a:moveTo>
                      <a:lnTo>
                        <a:pt x="0" y="24"/>
                      </a:lnTo>
                      <a:lnTo>
                        <a:pt x="84" y="23"/>
                      </a:lnTo>
                      <a:lnTo>
                        <a:pt x="84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4023000" y="3446280"/>
                  <a:ext cx="23400" cy="77040"/>
                </a:xfrm>
                <a:custGeom>
                  <a:avLst/>
                  <a:gdLst/>
                  <a:ahLst/>
                  <a:rect l="l" t="t" r="r" b="b"/>
                  <a:pathLst>
                    <a:path w="24" h="71">
                      <a:moveTo>
                        <a:pt x="0" y="71"/>
                      </a:moveTo>
                      <a:lnTo>
                        <a:pt x="23" y="71"/>
                      </a:lnTo>
                      <a:lnTo>
                        <a:pt x="24" y="0"/>
                      </a:lnTo>
                      <a:lnTo>
                        <a:pt x="2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4032720" y="3432960"/>
                  <a:ext cx="178920" cy="25560"/>
                </a:xfrm>
                <a:custGeom>
                  <a:avLst/>
                  <a:gdLst/>
                  <a:ahLst/>
                  <a:rect l="l" t="t" r="r" b="b"/>
                  <a:pathLst>
                    <a:path w="182" h="24">
                      <a:moveTo>
                        <a:pt x="0" y="2"/>
                      </a:moveTo>
                      <a:lnTo>
                        <a:pt x="0" y="24"/>
                      </a:lnTo>
                      <a:lnTo>
                        <a:pt x="182" y="22"/>
                      </a:lnTo>
                      <a:lnTo>
                        <a:pt x="182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4201920" y="3354120"/>
                  <a:ext cx="23040" cy="92160"/>
                </a:xfrm>
                <a:custGeom>
                  <a:avLst/>
                  <a:gdLst/>
                  <a:ahLst/>
                  <a:rect l="l" t="t" r="r" b="b"/>
                  <a:pathLst>
                    <a:path w="24" h="86">
                      <a:moveTo>
                        <a:pt x="0" y="86"/>
                      </a:moveTo>
                      <a:lnTo>
                        <a:pt x="23" y="86"/>
                      </a:lnTo>
                      <a:lnTo>
                        <a:pt x="24" y="0"/>
                      </a:lnTo>
                      <a:lnTo>
                        <a:pt x="2" y="0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4211640" y="3341520"/>
                  <a:ext cx="58680" cy="25560"/>
                </a:xfrm>
                <a:custGeom>
                  <a:avLst/>
                  <a:gdLst/>
                  <a:ahLst/>
                  <a:rect l="l" t="t" r="r" b="b"/>
                  <a:pathLst>
                    <a:path w="60" h="25">
                      <a:moveTo>
                        <a:pt x="0" y="2"/>
                      </a:moveTo>
                      <a:lnTo>
                        <a:pt x="0" y="25"/>
                      </a:lnTo>
                      <a:lnTo>
                        <a:pt x="60" y="23"/>
                      </a:lnTo>
                      <a:lnTo>
                        <a:pt x="6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4260960" y="3258000"/>
                  <a:ext cx="23400" cy="95760"/>
                </a:xfrm>
                <a:custGeom>
                  <a:avLst/>
                  <a:gdLst/>
                  <a:ahLst/>
                  <a:rect l="l" t="t" r="r" b="b"/>
                  <a:pathLst>
                    <a:path w="24" h="90">
                      <a:moveTo>
                        <a:pt x="0" y="90"/>
                      </a:moveTo>
                      <a:lnTo>
                        <a:pt x="23" y="90"/>
                      </a:lnTo>
                      <a:lnTo>
                        <a:pt x="24" y="0"/>
                      </a:lnTo>
                      <a:lnTo>
                        <a:pt x="2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4270680" y="3245040"/>
                  <a:ext cx="211680" cy="25560"/>
                </a:xfrm>
                <a:custGeom>
                  <a:avLst/>
                  <a:gdLst/>
                  <a:ahLst/>
                  <a:rect l="l" t="t" r="r" b="b"/>
                  <a:pathLst>
                    <a:path w="216" h="25">
                      <a:moveTo>
                        <a:pt x="0" y="2"/>
                      </a:moveTo>
                      <a:lnTo>
                        <a:pt x="0" y="25"/>
                      </a:lnTo>
                      <a:lnTo>
                        <a:pt x="216" y="23"/>
                      </a:lnTo>
                      <a:lnTo>
                        <a:pt x="21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4470840" y="3155040"/>
                  <a:ext cx="25200" cy="102600"/>
                </a:xfrm>
                <a:custGeom>
                  <a:avLst/>
                  <a:gdLst/>
                  <a:ahLst/>
                  <a:rect l="l" t="t" r="r" b="b"/>
                  <a:pathLst>
                    <a:path w="24" h="98">
                      <a:moveTo>
                        <a:pt x="0" y="98"/>
                      </a:moveTo>
                      <a:lnTo>
                        <a:pt x="22" y="98"/>
                      </a:lnTo>
                      <a:lnTo>
                        <a:pt x="24" y="0"/>
                      </a:lnTo>
                      <a:lnTo>
                        <a:pt x="2" y="0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4482360" y="3138120"/>
                  <a:ext cx="194400" cy="27360"/>
                </a:xfrm>
                <a:custGeom>
                  <a:avLst/>
                  <a:gdLst/>
                  <a:ahLst/>
                  <a:rect l="l" t="t" r="r" b="b"/>
                  <a:pathLst>
                    <a:path w="197" h="26">
                      <a:moveTo>
                        <a:pt x="0" y="4"/>
                      </a:moveTo>
                      <a:lnTo>
                        <a:pt x="0" y="26"/>
                      </a:lnTo>
                      <a:lnTo>
                        <a:pt x="197" y="23"/>
                      </a:lnTo>
                      <a:lnTo>
                        <a:pt x="197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4664880" y="3041640"/>
                  <a:ext cx="23400" cy="113400"/>
                </a:xfrm>
                <a:custGeom>
                  <a:avLst/>
                  <a:gdLst/>
                  <a:ahLst/>
                  <a:rect l="l" t="t" r="r" b="b"/>
                  <a:pathLst>
                    <a:path w="24" h="105">
                      <a:moveTo>
                        <a:pt x="0" y="105"/>
                      </a:moveTo>
                      <a:lnTo>
                        <a:pt x="22" y="105"/>
                      </a:lnTo>
                      <a:lnTo>
                        <a:pt x="24" y="0"/>
                      </a:lnTo>
                      <a:lnTo>
                        <a:pt x="2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4677120" y="3024720"/>
                  <a:ext cx="47160" cy="29880"/>
                </a:xfrm>
                <a:custGeom>
                  <a:avLst/>
                  <a:gdLst/>
                  <a:ahLst/>
                  <a:rect l="l" t="t" r="r" b="b"/>
                  <a:pathLst>
                    <a:path w="49" h="26">
                      <a:moveTo>
                        <a:pt x="0" y="4"/>
                      </a:moveTo>
                      <a:lnTo>
                        <a:pt x="2" y="26"/>
                      </a:lnTo>
                      <a:lnTo>
                        <a:pt x="49" y="22"/>
                      </a:lnTo>
                      <a:lnTo>
                        <a:pt x="47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4710600" y="2930400"/>
                  <a:ext cx="25200" cy="110880"/>
                </a:xfrm>
                <a:custGeom>
                  <a:avLst/>
                  <a:gdLst/>
                  <a:ahLst/>
                  <a:rect l="l" t="t" r="r" b="b"/>
                  <a:pathLst>
                    <a:path w="24" h="103">
                      <a:moveTo>
                        <a:pt x="0" y="103"/>
                      </a:moveTo>
                      <a:lnTo>
                        <a:pt x="22" y="103"/>
                      </a:lnTo>
                      <a:lnTo>
                        <a:pt x="24" y="0"/>
                      </a:lnTo>
                      <a:lnTo>
                        <a:pt x="2" y="0"/>
                      </a:lnTo>
                      <a:lnTo>
                        <a:pt x="0" y="1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4722120" y="2917800"/>
                  <a:ext cx="78480" cy="25560"/>
                </a:xfrm>
                <a:custGeom>
                  <a:avLst/>
                  <a:gdLst/>
                  <a:ahLst/>
                  <a:rect l="l" t="t" r="r" b="b"/>
                  <a:pathLst>
                    <a:path w="81" h="24">
                      <a:moveTo>
                        <a:pt x="0" y="2"/>
                      </a:moveTo>
                      <a:lnTo>
                        <a:pt x="0" y="24"/>
                      </a:lnTo>
                      <a:lnTo>
                        <a:pt x="81" y="22"/>
                      </a:lnTo>
                      <a:lnTo>
                        <a:pt x="8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4790520" y="2808720"/>
                  <a:ext cx="23400" cy="121680"/>
                </a:xfrm>
                <a:custGeom>
                  <a:avLst/>
                  <a:gdLst/>
                  <a:ahLst/>
                  <a:rect l="l" t="t" r="r" b="b"/>
                  <a:pathLst>
                    <a:path w="25" h="115">
                      <a:moveTo>
                        <a:pt x="0" y="115"/>
                      </a:moveTo>
                      <a:lnTo>
                        <a:pt x="23" y="115"/>
                      </a:lnTo>
                      <a:lnTo>
                        <a:pt x="25" y="0"/>
                      </a:lnTo>
                      <a:lnTo>
                        <a:pt x="2" y="0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4800960" y="2806560"/>
                  <a:ext cx="1330560" cy="23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20" name=""/>
          <p:cNvSpPr/>
          <p:nvPr/>
        </p:nvSpPr>
        <p:spPr>
          <a:xfrm>
            <a:off x="6033960" y="3825720"/>
            <a:ext cx="154152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080040" y="4118040"/>
            <a:ext cx="12686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663560" y="4122720"/>
            <a:ext cx="447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587960" y="4078440"/>
            <a:ext cx="45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576800" y="3017880"/>
            <a:ext cx="45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663560" y="1979640"/>
            <a:ext cx="4478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587960" y="1935000"/>
            <a:ext cx="45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241720" y="4421160"/>
            <a:ext cx="2880" cy="9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H="1" flipV="1">
            <a:off x="2063880" y="2080800"/>
            <a:ext cx="69840" cy="32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H="1" flipV="1">
            <a:off x="2063880" y="3156120"/>
            <a:ext cx="6984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 flipV="1">
            <a:off x="2063880" y="4223880"/>
            <a:ext cx="69840" cy="32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133720" y="2006640"/>
            <a:ext cx="1440" cy="24145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2" name=""/>
          <p:cNvGrpSpPr/>
          <p:nvPr/>
        </p:nvGrpSpPr>
        <p:grpSpPr>
          <a:xfrm>
            <a:off x="2795760" y="4164120"/>
            <a:ext cx="244080" cy="27720"/>
            <a:chOff x="2795760" y="4164120"/>
            <a:chExt cx="244080" cy="27720"/>
          </a:xfrm>
        </p:grpSpPr>
        <p:sp>
          <p:nvSpPr>
            <p:cNvPr id="1533" name=""/>
            <p:cNvSpPr/>
            <p:nvPr/>
          </p:nvSpPr>
          <p:spPr>
            <a:xfrm>
              <a:off x="2795760" y="4166280"/>
              <a:ext cx="88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951640" y="4164120"/>
              <a:ext cx="88200" cy="2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5" name=""/>
          <p:cNvSpPr/>
          <p:nvPr/>
        </p:nvSpPr>
        <p:spPr>
          <a:xfrm>
            <a:off x="3306600" y="4059360"/>
            <a:ext cx="24120" cy="64800"/>
          </a:xfrm>
          <a:custGeom>
            <a:avLst/>
            <a:gdLst/>
            <a:ahLst/>
            <a:rect l="l" t="t" r="r" b="b"/>
            <a:pathLst>
              <a:path w="25" h="60">
                <a:moveTo>
                  <a:pt x="0" y="60"/>
                </a:moveTo>
                <a:lnTo>
                  <a:pt x="23" y="60"/>
                </a:lnTo>
                <a:lnTo>
                  <a:pt x="25" y="0"/>
                </a:lnTo>
                <a:lnTo>
                  <a:pt x="2" y="0"/>
                </a:lnTo>
                <a:lnTo>
                  <a:pt x="0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" name=""/>
          <p:cNvGrpSpPr/>
          <p:nvPr/>
        </p:nvGrpSpPr>
        <p:grpSpPr>
          <a:xfrm>
            <a:off x="3076560" y="4108320"/>
            <a:ext cx="239040" cy="25200"/>
            <a:chOff x="3076560" y="4108320"/>
            <a:chExt cx="239040" cy="25200"/>
          </a:xfrm>
        </p:grpSpPr>
        <p:sp>
          <p:nvSpPr>
            <p:cNvPr id="1537" name=""/>
            <p:cNvSpPr/>
            <p:nvPr/>
          </p:nvSpPr>
          <p:spPr>
            <a:xfrm>
              <a:off x="3076560" y="4110480"/>
              <a:ext cx="8748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228120" y="4108320"/>
              <a:ext cx="8748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3316320" y="4044960"/>
            <a:ext cx="2045880" cy="25200"/>
            <a:chOff x="3316320" y="4044960"/>
            <a:chExt cx="2045880" cy="25200"/>
          </a:xfrm>
        </p:grpSpPr>
        <p:sp>
          <p:nvSpPr>
            <p:cNvPr id="1540" name=""/>
            <p:cNvSpPr/>
            <p:nvPr/>
          </p:nvSpPr>
          <p:spPr>
            <a:xfrm>
              <a:off x="3316320" y="4047120"/>
              <a:ext cx="8784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471120" y="4047120"/>
              <a:ext cx="882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626280" y="4047120"/>
              <a:ext cx="8784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781080" y="4047120"/>
              <a:ext cx="8784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934080" y="4047120"/>
              <a:ext cx="8784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088880" y="4047120"/>
              <a:ext cx="882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244400" y="4047120"/>
              <a:ext cx="8784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399200" y="4044960"/>
              <a:ext cx="8784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554000" y="4044960"/>
              <a:ext cx="882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4707000" y="4044960"/>
              <a:ext cx="882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862160" y="4044960"/>
              <a:ext cx="8784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016960" y="4044960"/>
              <a:ext cx="8784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171760" y="4044960"/>
              <a:ext cx="882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327280" y="4044960"/>
              <a:ext cx="3492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4" name=""/>
          <p:cNvSpPr/>
          <p:nvPr/>
        </p:nvSpPr>
        <p:spPr>
          <a:xfrm>
            <a:off x="5354640" y="3962520"/>
            <a:ext cx="22320" cy="96840"/>
          </a:xfrm>
          <a:custGeom>
            <a:avLst/>
            <a:gdLst/>
            <a:ahLst/>
            <a:rect l="l" t="t" r="r" b="b"/>
            <a:pathLst>
              <a:path w="25" h="90">
                <a:moveTo>
                  <a:pt x="0" y="90"/>
                </a:moveTo>
                <a:lnTo>
                  <a:pt x="23" y="90"/>
                </a:lnTo>
                <a:lnTo>
                  <a:pt x="25" y="0"/>
                </a:lnTo>
                <a:lnTo>
                  <a:pt x="2" y="0"/>
                </a:lnTo>
                <a:lnTo>
                  <a:pt x="0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5" name=""/>
          <p:cNvGrpSpPr/>
          <p:nvPr/>
        </p:nvGrpSpPr>
        <p:grpSpPr>
          <a:xfrm>
            <a:off x="5362560" y="3906720"/>
            <a:ext cx="778680" cy="25200"/>
            <a:chOff x="5362560" y="3906720"/>
            <a:chExt cx="778680" cy="25200"/>
          </a:xfrm>
        </p:grpSpPr>
        <p:sp>
          <p:nvSpPr>
            <p:cNvPr id="1556" name=""/>
            <p:cNvSpPr/>
            <p:nvPr/>
          </p:nvSpPr>
          <p:spPr>
            <a:xfrm>
              <a:off x="5362560" y="3908520"/>
              <a:ext cx="8856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518080" y="3908520"/>
              <a:ext cx="882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673600" y="3906720"/>
              <a:ext cx="88200" cy="25200"/>
            </a:xfrm>
            <a:custGeom>
              <a:avLst/>
              <a:gdLst/>
              <a:ahLst/>
              <a:rect l="l" t="t" r="r" b="b"/>
              <a:pathLst>
                <a:path w="90" h="25">
                  <a:moveTo>
                    <a:pt x="0" y="2"/>
                  </a:moveTo>
                  <a:lnTo>
                    <a:pt x="0" y="25"/>
                  </a:lnTo>
                  <a:lnTo>
                    <a:pt x="90" y="23"/>
                  </a:lnTo>
                  <a:lnTo>
                    <a:pt x="9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828760" y="3906720"/>
              <a:ext cx="8856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982480" y="3906720"/>
              <a:ext cx="8856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138000" y="3906720"/>
              <a:ext cx="324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2" name=""/>
          <p:cNvGrpSpPr/>
          <p:nvPr/>
        </p:nvGrpSpPr>
        <p:grpSpPr>
          <a:xfrm>
            <a:off x="3699000" y="3575160"/>
            <a:ext cx="2426040" cy="575640"/>
            <a:chOff x="3699000" y="3575160"/>
            <a:chExt cx="2426040" cy="575640"/>
          </a:xfrm>
        </p:grpSpPr>
        <p:sp>
          <p:nvSpPr>
            <p:cNvPr id="1563" name=""/>
            <p:cNvSpPr/>
            <p:nvPr/>
          </p:nvSpPr>
          <p:spPr>
            <a:xfrm>
              <a:off x="3699000" y="4125240"/>
              <a:ext cx="37080" cy="25560"/>
            </a:xfrm>
            <a:custGeom>
              <a:avLst/>
              <a:gdLst/>
              <a:ahLst/>
              <a:rect l="l" t="t" r="r" b="b"/>
              <a:pathLst>
                <a:path w="39" h="24">
                  <a:moveTo>
                    <a:pt x="0" y="2"/>
                  </a:moveTo>
                  <a:lnTo>
                    <a:pt x="2" y="24"/>
                  </a:lnTo>
                  <a:lnTo>
                    <a:pt x="39" y="23"/>
                  </a:lnTo>
                  <a:lnTo>
                    <a:pt x="3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4" name=""/>
            <p:cNvGrpSpPr/>
            <p:nvPr/>
          </p:nvGrpSpPr>
          <p:grpSpPr>
            <a:xfrm>
              <a:off x="3724560" y="3575160"/>
              <a:ext cx="2400480" cy="562320"/>
              <a:chOff x="3724560" y="3575160"/>
              <a:chExt cx="2400480" cy="562320"/>
            </a:xfrm>
          </p:grpSpPr>
          <p:sp>
            <p:nvSpPr>
              <p:cNvPr id="1565" name=""/>
              <p:cNvSpPr/>
              <p:nvPr/>
            </p:nvSpPr>
            <p:spPr>
              <a:xfrm>
                <a:off x="3724560" y="4052160"/>
                <a:ext cx="23400" cy="85320"/>
              </a:xfrm>
              <a:custGeom>
                <a:avLst/>
                <a:gdLst/>
                <a:ahLst/>
                <a:rect l="l" t="t" r="r" b="b"/>
                <a:pathLst>
                  <a:path w="25" h="80">
                    <a:moveTo>
                      <a:pt x="0" y="80"/>
                    </a:moveTo>
                    <a:lnTo>
                      <a:pt x="23" y="80"/>
                    </a:lnTo>
                    <a:lnTo>
                      <a:pt x="25" y="0"/>
                    </a:lnTo>
                    <a:lnTo>
                      <a:pt x="2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757680" y="3960000"/>
                <a:ext cx="23040" cy="91800"/>
              </a:xfrm>
              <a:custGeom>
                <a:avLst/>
                <a:gdLst/>
                <a:ahLst/>
                <a:rect l="l" t="t" r="r" b="b"/>
                <a:pathLst>
                  <a:path w="24" h="87">
                    <a:moveTo>
                      <a:pt x="0" y="87"/>
                    </a:moveTo>
                    <a:lnTo>
                      <a:pt x="23" y="87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767400" y="3944880"/>
                <a:ext cx="176040" cy="25560"/>
              </a:xfrm>
              <a:custGeom>
                <a:avLst/>
                <a:gdLst/>
                <a:ahLst/>
                <a:rect l="l" t="t" r="r" b="b"/>
                <a:pathLst>
                  <a:path w="180" h="25">
                    <a:moveTo>
                      <a:pt x="0" y="2"/>
                    </a:moveTo>
                    <a:lnTo>
                      <a:pt x="0" y="25"/>
                    </a:lnTo>
                    <a:lnTo>
                      <a:pt x="180" y="23"/>
                    </a:lnTo>
                    <a:lnTo>
                      <a:pt x="18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967200" y="3863880"/>
                <a:ext cx="25560" cy="95760"/>
              </a:xfrm>
              <a:custGeom>
                <a:avLst/>
                <a:gdLst/>
                <a:ahLst/>
                <a:rect l="l" t="t" r="r" b="b"/>
                <a:pathLst>
                  <a:path w="24" h="90">
                    <a:moveTo>
                      <a:pt x="0" y="90"/>
                    </a:moveTo>
                    <a:lnTo>
                      <a:pt x="22" y="90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9" name=""/>
              <p:cNvGrpSpPr/>
              <p:nvPr/>
            </p:nvGrpSpPr>
            <p:grpSpPr>
              <a:xfrm>
                <a:off x="3979440" y="3846600"/>
                <a:ext cx="848880" cy="27720"/>
                <a:chOff x="3979440" y="3846600"/>
                <a:chExt cx="848880" cy="2772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3979440" y="3850920"/>
                  <a:ext cx="176400" cy="23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4222440" y="3848760"/>
                  <a:ext cx="176400" cy="23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4465440" y="3846600"/>
                  <a:ext cx="176400" cy="25200"/>
                </a:xfrm>
                <a:custGeom>
                  <a:avLst/>
                  <a:gdLst/>
                  <a:ahLst/>
                  <a:rect l="l" t="t" r="r" b="b"/>
                  <a:pathLst>
                    <a:path w="180" h="25">
                      <a:moveTo>
                        <a:pt x="0" y="2"/>
                      </a:moveTo>
                      <a:lnTo>
                        <a:pt x="0" y="25"/>
                      </a:lnTo>
                      <a:lnTo>
                        <a:pt x="180" y="23"/>
                      </a:lnTo>
                      <a:lnTo>
                        <a:pt x="18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4707000" y="3846600"/>
                  <a:ext cx="121320" cy="23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4" name=""/>
              <p:cNvSpPr/>
              <p:nvPr/>
            </p:nvSpPr>
            <p:spPr>
              <a:xfrm>
                <a:off x="4818960" y="3737880"/>
                <a:ext cx="23400" cy="126000"/>
              </a:xfrm>
              <a:custGeom>
                <a:avLst/>
                <a:gdLst/>
                <a:ahLst/>
                <a:rect l="l" t="t" r="r" b="b"/>
                <a:pathLst>
                  <a:path w="25" h="118">
                    <a:moveTo>
                      <a:pt x="0" y="118"/>
                    </a:moveTo>
                    <a:lnTo>
                      <a:pt x="23" y="118"/>
                    </a:lnTo>
                    <a:lnTo>
                      <a:pt x="25" y="0"/>
                    </a:lnTo>
                    <a:lnTo>
                      <a:pt x="2" y="0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828680" y="3722760"/>
                <a:ext cx="137160" cy="25560"/>
              </a:xfrm>
              <a:custGeom>
                <a:avLst/>
                <a:gdLst/>
                <a:ahLst/>
                <a:rect l="l" t="t" r="r" b="b"/>
                <a:pathLst>
                  <a:path w="139" h="24">
                    <a:moveTo>
                      <a:pt x="0" y="2"/>
                    </a:moveTo>
                    <a:lnTo>
                      <a:pt x="0" y="24"/>
                    </a:lnTo>
                    <a:lnTo>
                      <a:pt x="139" y="22"/>
                    </a:lnTo>
                    <a:lnTo>
                      <a:pt x="13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954680" y="3588120"/>
                <a:ext cx="23040" cy="149760"/>
              </a:xfrm>
              <a:custGeom>
                <a:avLst/>
                <a:gdLst/>
                <a:ahLst/>
                <a:rect l="l" t="t" r="r" b="b"/>
                <a:pathLst>
                  <a:path w="25" h="139">
                    <a:moveTo>
                      <a:pt x="0" y="139"/>
                    </a:moveTo>
                    <a:lnTo>
                      <a:pt x="23" y="139"/>
                    </a:lnTo>
                    <a:lnTo>
                      <a:pt x="25" y="0"/>
                    </a:lnTo>
                    <a:lnTo>
                      <a:pt x="2" y="0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7" name=""/>
              <p:cNvGrpSpPr/>
              <p:nvPr/>
            </p:nvGrpSpPr>
            <p:grpSpPr>
              <a:xfrm>
                <a:off x="4975920" y="3575160"/>
                <a:ext cx="1149120" cy="23400"/>
                <a:chOff x="4975920" y="3575160"/>
                <a:chExt cx="1149120" cy="23400"/>
              </a:xfrm>
            </p:grpSpPr>
            <p:sp>
              <p:nvSpPr>
                <p:cNvPr id="1578" name=""/>
                <p:cNvSpPr/>
                <p:nvPr/>
              </p:nvSpPr>
              <p:spPr>
                <a:xfrm>
                  <a:off x="4975920" y="3575160"/>
                  <a:ext cx="176400" cy="23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5218920" y="3575160"/>
                  <a:ext cx="176400" cy="23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5462280" y="3575160"/>
                  <a:ext cx="176040" cy="23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5705280" y="3575160"/>
                  <a:ext cx="176400" cy="23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5948640" y="3575160"/>
                  <a:ext cx="176400" cy="23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83" name=""/>
          <p:cNvSpPr/>
          <p:nvPr/>
        </p:nvSpPr>
        <p:spPr>
          <a:xfrm>
            <a:off x="5989680" y="3486240"/>
            <a:ext cx="17715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989680" y="2728800"/>
            <a:ext cx="1650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146400" y="4421160"/>
            <a:ext cx="3240" cy="9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052880" y="4421160"/>
            <a:ext cx="3240" cy="9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960800" y="4421160"/>
            <a:ext cx="0" cy="9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865840" y="4421160"/>
            <a:ext cx="1440" cy="9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2752560" y="4168800"/>
            <a:ext cx="241560" cy="25200"/>
          </a:xfrm>
          <a:custGeom>
            <a:avLst/>
            <a:gdLst/>
            <a:ahLst/>
            <a:rect l="l" t="t" r="r" b="b"/>
            <a:pathLst>
              <a:path w="245" h="25">
                <a:moveTo>
                  <a:pt x="0" y="2"/>
                </a:moveTo>
                <a:lnTo>
                  <a:pt x="0" y="25"/>
                </a:lnTo>
                <a:lnTo>
                  <a:pt x="245" y="23"/>
                </a:lnTo>
                <a:lnTo>
                  <a:pt x="245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0" name=""/>
          <p:cNvGrpSpPr/>
          <p:nvPr/>
        </p:nvGrpSpPr>
        <p:grpSpPr>
          <a:xfrm>
            <a:off x="3105000" y="2806560"/>
            <a:ext cx="3026520" cy="1241280"/>
            <a:chOff x="3105000" y="2806560"/>
            <a:chExt cx="3026520" cy="1241280"/>
          </a:xfrm>
        </p:grpSpPr>
        <p:sp>
          <p:nvSpPr>
            <p:cNvPr id="1591" name=""/>
            <p:cNvSpPr/>
            <p:nvPr/>
          </p:nvSpPr>
          <p:spPr>
            <a:xfrm>
              <a:off x="3105000" y="4022280"/>
              <a:ext cx="74160" cy="25560"/>
            </a:xfrm>
            <a:custGeom>
              <a:avLst/>
              <a:gdLst/>
              <a:ahLst/>
              <a:rect l="l" t="t" r="r" b="b"/>
              <a:pathLst>
                <a:path w="75" h="25">
                  <a:moveTo>
                    <a:pt x="0" y="2"/>
                  </a:moveTo>
                  <a:lnTo>
                    <a:pt x="0" y="25"/>
                  </a:lnTo>
                  <a:lnTo>
                    <a:pt x="75" y="23"/>
                  </a:lnTo>
                  <a:lnTo>
                    <a:pt x="7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167640" y="3985920"/>
              <a:ext cx="25200" cy="4932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47"/>
                  </a:moveTo>
                  <a:lnTo>
                    <a:pt x="22" y="47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177360" y="3968640"/>
              <a:ext cx="21240" cy="27360"/>
            </a:xfrm>
            <a:custGeom>
              <a:avLst/>
              <a:gdLst/>
              <a:ahLst/>
              <a:rect l="l" t="t" r="r" b="b"/>
              <a:pathLst>
                <a:path w="23" h="26">
                  <a:moveTo>
                    <a:pt x="0" y="3"/>
                  </a:moveTo>
                  <a:lnTo>
                    <a:pt x="4" y="26"/>
                  </a:lnTo>
                  <a:lnTo>
                    <a:pt x="23" y="22"/>
                  </a:lnTo>
                  <a:lnTo>
                    <a:pt x="19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187080" y="3932280"/>
              <a:ext cx="23400" cy="5328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0" y="51"/>
                  </a:moveTo>
                  <a:lnTo>
                    <a:pt x="23" y="51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197160" y="3917160"/>
              <a:ext cx="158760" cy="25560"/>
            </a:xfrm>
            <a:custGeom>
              <a:avLst/>
              <a:gdLst/>
              <a:ahLst/>
              <a:rect l="l" t="t" r="r" b="b"/>
              <a:pathLst>
                <a:path w="161" h="24">
                  <a:moveTo>
                    <a:pt x="0" y="2"/>
                  </a:moveTo>
                  <a:lnTo>
                    <a:pt x="0" y="24"/>
                  </a:lnTo>
                  <a:lnTo>
                    <a:pt x="161" y="22"/>
                  </a:lnTo>
                  <a:lnTo>
                    <a:pt x="16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344400" y="3866040"/>
              <a:ext cx="25200" cy="66240"/>
            </a:xfrm>
            <a:custGeom>
              <a:avLst/>
              <a:gdLst/>
              <a:ahLst/>
              <a:rect l="l" t="t" r="r" b="b"/>
              <a:pathLst>
                <a:path w="24" h="60">
                  <a:moveTo>
                    <a:pt x="0" y="60"/>
                  </a:moveTo>
                  <a:lnTo>
                    <a:pt x="22" y="60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355920" y="3853440"/>
              <a:ext cx="37080" cy="25560"/>
            </a:xfrm>
            <a:custGeom>
              <a:avLst/>
              <a:gdLst/>
              <a:ahLst/>
              <a:rect l="l" t="t" r="r" b="b"/>
              <a:pathLst>
                <a:path w="38" h="24">
                  <a:moveTo>
                    <a:pt x="0" y="2"/>
                  </a:moveTo>
                  <a:lnTo>
                    <a:pt x="2" y="24"/>
                  </a:lnTo>
                  <a:lnTo>
                    <a:pt x="38" y="22"/>
                  </a:lnTo>
                  <a:lnTo>
                    <a:pt x="3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379680" y="3810600"/>
              <a:ext cx="23400" cy="5508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53"/>
                  </a:moveTo>
                  <a:lnTo>
                    <a:pt x="23" y="53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9" name=""/>
            <p:cNvGrpSpPr/>
            <p:nvPr/>
          </p:nvGrpSpPr>
          <p:grpSpPr>
            <a:xfrm>
              <a:off x="3391200" y="2806560"/>
              <a:ext cx="2740320" cy="1016280"/>
              <a:chOff x="3391200" y="2806560"/>
              <a:chExt cx="2740320" cy="1016280"/>
            </a:xfrm>
          </p:grpSpPr>
          <p:sp>
            <p:nvSpPr>
              <p:cNvPr id="1600" name=""/>
              <p:cNvSpPr/>
              <p:nvPr/>
            </p:nvSpPr>
            <p:spPr>
              <a:xfrm>
                <a:off x="3391200" y="379728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0" y="2"/>
                    </a:moveTo>
                    <a:lnTo>
                      <a:pt x="2" y="25"/>
                    </a:lnTo>
                    <a:lnTo>
                      <a:pt x="17" y="23"/>
                    </a:lnTo>
                    <a:lnTo>
                      <a:pt x="1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395160" y="3745800"/>
                <a:ext cx="23400" cy="64440"/>
              </a:xfrm>
              <a:custGeom>
                <a:avLst/>
                <a:gdLst/>
                <a:ahLst/>
                <a:rect l="l" t="t" r="r" b="b"/>
                <a:pathLst>
                  <a:path w="25" h="60">
                    <a:moveTo>
                      <a:pt x="0" y="60"/>
                    </a:moveTo>
                    <a:lnTo>
                      <a:pt x="23" y="60"/>
                    </a:lnTo>
                    <a:lnTo>
                      <a:pt x="25" y="0"/>
                    </a:lnTo>
                    <a:lnTo>
                      <a:pt x="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404880" y="3733200"/>
                <a:ext cx="484560" cy="25560"/>
              </a:xfrm>
              <a:custGeom>
                <a:avLst/>
                <a:gdLst/>
                <a:ahLst/>
                <a:rect l="l" t="t" r="r" b="b"/>
                <a:pathLst>
                  <a:path w="493" h="25">
                    <a:moveTo>
                      <a:pt x="0" y="2"/>
                    </a:moveTo>
                    <a:lnTo>
                      <a:pt x="0" y="25"/>
                    </a:lnTo>
                    <a:lnTo>
                      <a:pt x="493" y="23"/>
                    </a:lnTo>
                    <a:lnTo>
                      <a:pt x="49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878280" y="3675240"/>
                <a:ext cx="25200" cy="70200"/>
              </a:xfrm>
              <a:custGeom>
                <a:avLst/>
                <a:gdLst/>
                <a:ahLst/>
                <a:rect l="l" t="t" r="r" b="b"/>
                <a:pathLst>
                  <a:path w="24" h="65">
                    <a:moveTo>
                      <a:pt x="0" y="65"/>
                    </a:moveTo>
                    <a:lnTo>
                      <a:pt x="22" y="65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884040" y="3662280"/>
                <a:ext cx="19440" cy="2376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3"/>
                    </a:moveTo>
                    <a:lnTo>
                      <a:pt x="14" y="22"/>
                    </a:lnTo>
                    <a:lnTo>
                      <a:pt x="19" y="18"/>
                    </a:lnTo>
                    <a:lnTo>
                      <a:pt x="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884040" y="3602520"/>
                <a:ext cx="23400" cy="72720"/>
              </a:xfrm>
              <a:custGeom>
                <a:avLst/>
                <a:gdLst/>
                <a:ahLst/>
                <a:rect l="l" t="t" r="r" b="b"/>
                <a:pathLst>
                  <a:path w="25" h="70">
                    <a:moveTo>
                      <a:pt x="0" y="70"/>
                    </a:moveTo>
                    <a:lnTo>
                      <a:pt x="23" y="70"/>
                    </a:lnTo>
                    <a:lnTo>
                      <a:pt x="25" y="0"/>
                    </a:lnTo>
                    <a:lnTo>
                      <a:pt x="2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895920" y="3585240"/>
                <a:ext cx="56880" cy="2808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4"/>
                    </a:moveTo>
                    <a:lnTo>
                      <a:pt x="2" y="27"/>
                    </a:lnTo>
                    <a:lnTo>
                      <a:pt x="58" y="23"/>
                    </a:lnTo>
                    <a:lnTo>
                      <a:pt x="5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939120" y="3523680"/>
                <a:ext cx="25200" cy="78840"/>
              </a:xfrm>
              <a:custGeom>
                <a:avLst/>
                <a:gdLst/>
                <a:ahLst/>
                <a:rect l="l" t="t" r="r" b="b"/>
                <a:pathLst>
                  <a:path w="24" h="73">
                    <a:moveTo>
                      <a:pt x="0" y="73"/>
                    </a:moveTo>
                    <a:lnTo>
                      <a:pt x="22" y="73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8" name=""/>
              <p:cNvGrpSpPr/>
              <p:nvPr/>
            </p:nvGrpSpPr>
            <p:grpSpPr>
              <a:xfrm>
                <a:off x="3950640" y="2806560"/>
                <a:ext cx="2180880" cy="729360"/>
                <a:chOff x="3950640" y="2806560"/>
                <a:chExt cx="2180880" cy="72936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3950640" y="3510360"/>
                  <a:ext cx="82080" cy="25560"/>
                </a:xfrm>
                <a:custGeom>
                  <a:avLst/>
                  <a:gdLst/>
                  <a:ahLst/>
                  <a:rect l="l" t="t" r="r" b="b"/>
                  <a:pathLst>
                    <a:path w="84" h="24">
                      <a:moveTo>
                        <a:pt x="0" y="2"/>
                      </a:moveTo>
                      <a:lnTo>
                        <a:pt x="0" y="24"/>
                      </a:lnTo>
                      <a:lnTo>
                        <a:pt x="84" y="23"/>
                      </a:lnTo>
                      <a:lnTo>
                        <a:pt x="84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4023000" y="3446280"/>
                  <a:ext cx="23400" cy="77040"/>
                </a:xfrm>
                <a:custGeom>
                  <a:avLst/>
                  <a:gdLst/>
                  <a:ahLst/>
                  <a:rect l="l" t="t" r="r" b="b"/>
                  <a:pathLst>
                    <a:path w="24" h="71">
                      <a:moveTo>
                        <a:pt x="0" y="71"/>
                      </a:moveTo>
                      <a:lnTo>
                        <a:pt x="23" y="71"/>
                      </a:lnTo>
                      <a:lnTo>
                        <a:pt x="24" y="0"/>
                      </a:lnTo>
                      <a:lnTo>
                        <a:pt x="2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4032720" y="3432960"/>
                  <a:ext cx="178920" cy="25560"/>
                </a:xfrm>
                <a:custGeom>
                  <a:avLst/>
                  <a:gdLst/>
                  <a:ahLst/>
                  <a:rect l="l" t="t" r="r" b="b"/>
                  <a:pathLst>
                    <a:path w="182" h="24">
                      <a:moveTo>
                        <a:pt x="0" y="2"/>
                      </a:moveTo>
                      <a:lnTo>
                        <a:pt x="0" y="24"/>
                      </a:lnTo>
                      <a:lnTo>
                        <a:pt x="182" y="22"/>
                      </a:lnTo>
                      <a:lnTo>
                        <a:pt x="182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4201920" y="3354120"/>
                  <a:ext cx="23040" cy="92160"/>
                </a:xfrm>
                <a:custGeom>
                  <a:avLst/>
                  <a:gdLst/>
                  <a:ahLst/>
                  <a:rect l="l" t="t" r="r" b="b"/>
                  <a:pathLst>
                    <a:path w="24" h="86">
                      <a:moveTo>
                        <a:pt x="0" y="86"/>
                      </a:moveTo>
                      <a:lnTo>
                        <a:pt x="23" y="86"/>
                      </a:lnTo>
                      <a:lnTo>
                        <a:pt x="24" y="0"/>
                      </a:lnTo>
                      <a:lnTo>
                        <a:pt x="2" y="0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4211640" y="3341520"/>
                  <a:ext cx="58680" cy="25560"/>
                </a:xfrm>
                <a:custGeom>
                  <a:avLst/>
                  <a:gdLst/>
                  <a:ahLst/>
                  <a:rect l="l" t="t" r="r" b="b"/>
                  <a:pathLst>
                    <a:path w="60" h="25">
                      <a:moveTo>
                        <a:pt x="0" y="2"/>
                      </a:moveTo>
                      <a:lnTo>
                        <a:pt x="0" y="25"/>
                      </a:lnTo>
                      <a:lnTo>
                        <a:pt x="60" y="23"/>
                      </a:lnTo>
                      <a:lnTo>
                        <a:pt x="6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4260960" y="3258000"/>
                  <a:ext cx="23400" cy="95760"/>
                </a:xfrm>
                <a:custGeom>
                  <a:avLst/>
                  <a:gdLst/>
                  <a:ahLst/>
                  <a:rect l="l" t="t" r="r" b="b"/>
                  <a:pathLst>
                    <a:path w="24" h="90">
                      <a:moveTo>
                        <a:pt x="0" y="90"/>
                      </a:moveTo>
                      <a:lnTo>
                        <a:pt x="23" y="90"/>
                      </a:lnTo>
                      <a:lnTo>
                        <a:pt x="24" y="0"/>
                      </a:lnTo>
                      <a:lnTo>
                        <a:pt x="2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4270680" y="3245040"/>
                  <a:ext cx="211680" cy="25560"/>
                </a:xfrm>
                <a:custGeom>
                  <a:avLst/>
                  <a:gdLst/>
                  <a:ahLst/>
                  <a:rect l="l" t="t" r="r" b="b"/>
                  <a:pathLst>
                    <a:path w="216" h="25">
                      <a:moveTo>
                        <a:pt x="0" y="2"/>
                      </a:moveTo>
                      <a:lnTo>
                        <a:pt x="0" y="25"/>
                      </a:lnTo>
                      <a:lnTo>
                        <a:pt x="216" y="23"/>
                      </a:lnTo>
                      <a:lnTo>
                        <a:pt x="216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4470840" y="3155040"/>
                  <a:ext cx="25200" cy="102600"/>
                </a:xfrm>
                <a:custGeom>
                  <a:avLst/>
                  <a:gdLst/>
                  <a:ahLst/>
                  <a:rect l="l" t="t" r="r" b="b"/>
                  <a:pathLst>
                    <a:path w="24" h="98">
                      <a:moveTo>
                        <a:pt x="0" y="98"/>
                      </a:moveTo>
                      <a:lnTo>
                        <a:pt x="22" y="98"/>
                      </a:lnTo>
                      <a:lnTo>
                        <a:pt x="24" y="0"/>
                      </a:lnTo>
                      <a:lnTo>
                        <a:pt x="2" y="0"/>
                      </a:lnTo>
                      <a:lnTo>
                        <a:pt x="0" y="9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4482360" y="3138120"/>
                  <a:ext cx="194400" cy="27360"/>
                </a:xfrm>
                <a:custGeom>
                  <a:avLst/>
                  <a:gdLst/>
                  <a:ahLst/>
                  <a:rect l="l" t="t" r="r" b="b"/>
                  <a:pathLst>
                    <a:path w="197" h="26">
                      <a:moveTo>
                        <a:pt x="0" y="4"/>
                      </a:moveTo>
                      <a:lnTo>
                        <a:pt x="0" y="26"/>
                      </a:lnTo>
                      <a:lnTo>
                        <a:pt x="197" y="23"/>
                      </a:lnTo>
                      <a:lnTo>
                        <a:pt x="197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4664880" y="3041640"/>
                  <a:ext cx="23400" cy="113400"/>
                </a:xfrm>
                <a:custGeom>
                  <a:avLst/>
                  <a:gdLst/>
                  <a:ahLst/>
                  <a:rect l="l" t="t" r="r" b="b"/>
                  <a:pathLst>
                    <a:path w="24" h="105">
                      <a:moveTo>
                        <a:pt x="0" y="105"/>
                      </a:moveTo>
                      <a:lnTo>
                        <a:pt x="22" y="105"/>
                      </a:lnTo>
                      <a:lnTo>
                        <a:pt x="24" y="0"/>
                      </a:lnTo>
                      <a:lnTo>
                        <a:pt x="2" y="0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4677120" y="3024720"/>
                  <a:ext cx="47160" cy="29880"/>
                </a:xfrm>
                <a:custGeom>
                  <a:avLst/>
                  <a:gdLst/>
                  <a:ahLst/>
                  <a:rect l="l" t="t" r="r" b="b"/>
                  <a:pathLst>
                    <a:path w="49" h="26">
                      <a:moveTo>
                        <a:pt x="0" y="4"/>
                      </a:moveTo>
                      <a:lnTo>
                        <a:pt x="2" y="26"/>
                      </a:lnTo>
                      <a:lnTo>
                        <a:pt x="49" y="22"/>
                      </a:lnTo>
                      <a:lnTo>
                        <a:pt x="47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4710600" y="2930400"/>
                  <a:ext cx="25200" cy="110880"/>
                </a:xfrm>
                <a:custGeom>
                  <a:avLst/>
                  <a:gdLst/>
                  <a:ahLst/>
                  <a:rect l="l" t="t" r="r" b="b"/>
                  <a:pathLst>
                    <a:path w="24" h="103">
                      <a:moveTo>
                        <a:pt x="0" y="103"/>
                      </a:moveTo>
                      <a:lnTo>
                        <a:pt x="22" y="103"/>
                      </a:lnTo>
                      <a:lnTo>
                        <a:pt x="24" y="0"/>
                      </a:lnTo>
                      <a:lnTo>
                        <a:pt x="2" y="0"/>
                      </a:lnTo>
                      <a:lnTo>
                        <a:pt x="0" y="1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4722120" y="2917800"/>
                  <a:ext cx="78480" cy="25560"/>
                </a:xfrm>
                <a:custGeom>
                  <a:avLst/>
                  <a:gdLst/>
                  <a:ahLst/>
                  <a:rect l="l" t="t" r="r" b="b"/>
                  <a:pathLst>
                    <a:path w="81" h="24">
                      <a:moveTo>
                        <a:pt x="0" y="2"/>
                      </a:moveTo>
                      <a:lnTo>
                        <a:pt x="0" y="24"/>
                      </a:lnTo>
                      <a:lnTo>
                        <a:pt x="81" y="22"/>
                      </a:lnTo>
                      <a:lnTo>
                        <a:pt x="8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4790520" y="2808720"/>
                  <a:ext cx="23400" cy="121680"/>
                </a:xfrm>
                <a:custGeom>
                  <a:avLst/>
                  <a:gdLst/>
                  <a:ahLst/>
                  <a:rect l="l" t="t" r="r" b="b"/>
                  <a:pathLst>
                    <a:path w="25" h="115">
                      <a:moveTo>
                        <a:pt x="0" y="115"/>
                      </a:moveTo>
                      <a:lnTo>
                        <a:pt x="23" y="115"/>
                      </a:lnTo>
                      <a:lnTo>
                        <a:pt x="25" y="0"/>
                      </a:lnTo>
                      <a:lnTo>
                        <a:pt x="2" y="0"/>
                      </a:lnTo>
                      <a:lnTo>
                        <a:pt x="0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4800960" y="2806560"/>
                  <a:ext cx="1330560" cy="237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24" name=""/>
          <p:cNvSpPr/>
          <p:nvPr/>
        </p:nvSpPr>
        <p:spPr>
          <a:xfrm>
            <a:off x="6058080" y="3735360"/>
            <a:ext cx="153972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080040" y="4118040"/>
            <a:ext cx="12686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663560" y="4122720"/>
            <a:ext cx="447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663560" y="1979640"/>
            <a:ext cx="4478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2241720" y="4421160"/>
            <a:ext cx="2880" cy="9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 flipV="1">
            <a:off x="2063880" y="2080800"/>
            <a:ext cx="69840" cy="32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H="1" flipV="1">
            <a:off x="2063880" y="3156120"/>
            <a:ext cx="6984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H="1" flipV="1">
            <a:off x="2063880" y="4223880"/>
            <a:ext cx="69840" cy="32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2133720" y="2006640"/>
            <a:ext cx="1440" cy="24145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2795760" y="4164120"/>
            <a:ext cx="244080" cy="27720"/>
            <a:chOff x="2795760" y="4164120"/>
            <a:chExt cx="244080" cy="27720"/>
          </a:xfrm>
        </p:grpSpPr>
        <p:sp>
          <p:nvSpPr>
            <p:cNvPr id="1634" name=""/>
            <p:cNvSpPr/>
            <p:nvPr/>
          </p:nvSpPr>
          <p:spPr>
            <a:xfrm>
              <a:off x="2795760" y="4166280"/>
              <a:ext cx="885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951640" y="4164120"/>
              <a:ext cx="88200" cy="26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6" name=""/>
          <p:cNvSpPr/>
          <p:nvPr/>
        </p:nvSpPr>
        <p:spPr>
          <a:xfrm>
            <a:off x="3306600" y="4059360"/>
            <a:ext cx="24120" cy="64800"/>
          </a:xfrm>
          <a:custGeom>
            <a:avLst/>
            <a:gdLst/>
            <a:ahLst/>
            <a:rect l="l" t="t" r="r" b="b"/>
            <a:pathLst>
              <a:path w="25" h="60">
                <a:moveTo>
                  <a:pt x="0" y="60"/>
                </a:moveTo>
                <a:lnTo>
                  <a:pt x="23" y="60"/>
                </a:lnTo>
                <a:lnTo>
                  <a:pt x="25" y="0"/>
                </a:lnTo>
                <a:lnTo>
                  <a:pt x="2" y="0"/>
                </a:lnTo>
                <a:lnTo>
                  <a:pt x="0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7" name=""/>
          <p:cNvGrpSpPr/>
          <p:nvPr/>
        </p:nvGrpSpPr>
        <p:grpSpPr>
          <a:xfrm>
            <a:off x="3076560" y="4108320"/>
            <a:ext cx="239040" cy="25200"/>
            <a:chOff x="3076560" y="4108320"/>
            <a:chExt cx="239040" cy="25200"/>
          </a:xfrm>
        </p:grpSpPr>
        <p:sp>
          <p:nvSpPr>
            <p:cNvPr id="1638" name=""/>
            <p:cNvSpPr/>
            <p:nvPr/>
          </p:nvSpPr>
          <p:spPr>
            <a:xfrm>
              <a:off x="3076560" y="4110480"/>
              <a:ext cx="8748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228120" y="4108320"/>
              <a:ext cx="8748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0" name=""/>
          <p:cNvGrpSpPr/>
          <p:nvPr/>
        </p:nvGrpSpPr>
        <p:grpSpPr>
          <a:xfrm>
            <a:off x="3316320" y="4044960"/>
            <a:ext cx="2045880" cy="25200"/>
            <a:chOff x="3316320" y="4044960"/>
            <a:chExt cx="2045880" cy="25200"/>
          </a:xfrm>
        </p:grpSpPr>
        <p:sp>
          <p:nvSpPr>
            <p:cNvPr id="1641" name=""/>
            <p:cNvSpPr/>
            <p:nvPr/>
          </p:nvSpPr>
          <p:spPr>
            <a:xfrm>
              <a:off x="3316320" y="4047120"/>
              <a:ext cx="8784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471120" y="4047120"/>
              <a:ext cx="882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626280" y="4047120"/>
              <a:ext cx="8784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781080" y="4047120"/>
              <a:ext cx="8784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34080" y="4047120"/>
              <a:ext cx="8784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088880" y="4047120"/>
              <a:ext cx="882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244400" y="4047120"/>
              <a:ext cx="8784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399200" y="4044960"/>
              <a:ext cx="8784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554000" y="4044960"/>
              <a:ext cx="882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707000" y="4044960"/>
              <a:ext cx="882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862160" y="4044960"/>
              <a:ext cx="8784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016960" y="4044960"/>
              <a:ext cx="8784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171760" y="4044960"/>
              <a:ext cx="882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327280" y="4044960"/>
              <a:ext cx="3492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5" name=""/>
          <p:cNvSpPr/>
          <p:nvPr/>
        </p:nvSpPr>
        <p:spPr>
          <a:xfrm>
            <a:off x="5354640" y="3962520"/>
            <a:ext cx="22320" cy="96840"/>
          </a:xfrm>
          <a:custGeom>
            <a:avLst/>
            <a:gdLst/>
            <a:ahLst/>
            <a:rect l="l" t="t" r="r" b="b"/>
            <a:pathLst>
              <a:path w="25" h="90">
                <a:moveTo>
                  <a:pt x="0" y="90"/>
                </a:moveTo>
                <a:lnTo>
                  <a:pt x="23" y="90"/>
                </a:lnTo>
                <a:lnTo>
                  <a:pt x="25" y="0"/>
                </a:lnTo>
                <a:lnTo>
                  <a:pt x="2" y="0"/>
                </a:lnTo>
                <a:lnTo>
                  <a:pt x="0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5362560" y="3906720"/>
            <a:ext cx="778680" cy="25200"/>
            <a:chOff x="5362560" y="3906720"/>
            <a:chExt cx="778680" cy="25200"/>
          </a:xfrm>
        </p:grpSpPr>
        <p:sp>
          <p:nvSpPr>
            <p:cNvPr id="1657" name=""/>
            <p:cNvSpPr/>
            <p:nvPr/>
          </p:nvSpPr>
          <p:spPr>
            <a:xfrm>
              <a:off x="5362560" y="3908520"/>
              <a:ext cx="8856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518080" y="3908520"/>
              <a:ext cx="882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673600" y="3906720"/>
              <a:ext cx="88200" cy="25200"/>
            </a:xfrm>
            <a:custGeom>
              <a:avLst/>
              <a:gdLst/>
              <a:ahLst/>
              <a:rect l="l" t="t" r="r" b="b"/>
              <a:pathLst>
                <a:path w="90" h="25">
                  <a:moveTo>
                    <a:pt x="0" y="2"/>
                  </a:moveTo>
                  <a:lnTo>
                    <a:pt x="0" y="25"/>
                  </a:lnTo>
                  <a:lnTo>
                    <a:pt x="90" y="23"/>
                  </a:lnTo>
                  <a:lnTo>
                    <a:pt x="9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828760" y="3906720"/>
              <a:ext cx="8856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982480" y="3906720"/>
              <a:ext cx="8856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138000" y="3906720"/>
              <a:ext cx="324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3" name=""/>
          <p:cNvGrpSpPr/>
          <p:nvPr/>
        </p:nvGrpSpPr>
        <p:grpSpPr>
          <a:xfrm>
            <a:off x="3699000" y="3575160"/>
            <a:ext cx="2426040" cy="575640"/>
            <a:chOff x="3699000" y="3575160"/>
            <a:chExt cx="2426040" cy="575640"/>
          </a:xfrm>
        </p:grpSpPr>
        <p:sp>
          <p:nvSpPr>
            <p:cNvPr id="1664" name=""/>
            <p:cNvSpPr/>
            <p:nvPr/>
          </p:nvSpPr>
          <p:spPr>
            <a:xfrm>
              <a:off x="3699000" y="4125240"/>
              <a:ext cx="37080" cy="25560"/>
            </a:xfrm>
            <a:custGeom>
              <a:avLst/>
              <a:gdLst/>
              <a:ahLst/>
              <a:rect l="l" t="t" r="r" b="b"/>
              <a:pathLst>
                <a:path w="39" h="24">
                  <a:moveTo>
                    <a:pt x="0" y="2"/>
                  </a:moveTo>
                  <a:lnTo>
                    <a:pt x="2" y="24"/>
                  </a:lnTo>
                  <a:lnTo>
                    <a:pt x="39" y="23"/>
                  </a:lnTo>
                  <a:lnTo>
                    <a:pt x="3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5" name=""/>
            <p:cNvGrpSpPr/>
            <p:nvPr/>
          </p:nvGrpSpPr>
          <p:grpSpPr>
            <a:xfrm>
              <a:off x="3724560" y="3575160"/>
              <a:ext cx="2400480" cy="562320"/>
              <a:chOff x="3724560" y="3575160"/>
              <a:chExt cx="2400480" cy="562320"/>
            </a:xfrm>
          </p:grpSpPr>
          <p:sp>
            <p:nvSpPr>
              <p:cNvPr id="1666" name=""/>
              <p:cNvSpPr/>
              <p:nvPr/>
            </p:nvSpPr>
            <p:spPr>
              <a:xfrm>
                <a:off x="3724560" y="4052160"/>
                <a:ext cx="23400" cy="85320"/>
              </a:xfrm>
              <a:custGeom>
                <a:avLst/>
                <a:gdLst/>
                <a:ahLst/>
                <a:rect l="l" t="t" r="r" b="b"/>
                <a:pathLst>
                  <a:path w="25" h="80">
                    <a:moveTo>
                      <a:pt x="0" y="80"/>
                    </a:moveTo>
                    <a:lnTo>
                      <a:pt x="23" y="80"/>
                    </a:lnTo>
                    <a:lnTo>
                      <a:pt x="25" y="0"/>
                    </a:lnTo>
                    <a:lnTo>
                      <a:pt x="2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757680" y="3960000"/>
                <a:ext cx="23040" cy="91800"/>
              </a:xfrm>
              <a:custGeom>
                <a:avLst/>
                <a:gdLst/>
                <a:ahLst/>
                <a:rect l="l" t="t" r="r" b="b"/>
                <a:pathLst>
                  <a:path w="24" h="87">
                    <a:moveTo>
                      <a:pt x="0" y="87"/>
                    </a:moveTo>
                    <a:lnTo>
                      <a:pt x="23" y="87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767400" y="3944880"/>
                <a:ext cx="176040" cy="25560"/>
              </a:xfrm>
              <a:custGeom>
                <a:avLst/>
                <a:gdLst/>
                <a:ahLst/>
                <a:rect l="l" t="t" r="r" b="b"/>
                <a:pathLst>
                  <a:path w="180" h="25">
                    <a:moveTo>
                      <a:pt x="0" y="2"/>
                    </a:moveTo>
                    <a:lnTo>
                      <a:pt x="0" y="25"/>
                    </a:lnTo>
                    <a:lnTo>
                      <a:pt x="180" y="23"/>
                    </a:lnTo>
                    <a:lnTo>
                      <a:pt x="18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967200" y="3863880"/>
                <a:ext cx="25560" cy="95760"/>
              </a:xfrm>
              <a:custGeom>
                <a:avLst/>
                <a:gdLst/>
                <a:ahLst/>
                <a:rect l="l" t="t" r="r" b="b"/>
                <a:pathLst>
                  <a:path w="24" h="90">
                    <a:moveTo>
                      <a:pt x="0" y="90"/>
                    </a:moveTo>
                    <a:lnTo>
                      <a:pt x="22" y="90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0" name=""/>
              <p:cNvGrpSpPr/>
              <p:nvPr/>
            </p:nvGrpSpPr>
            <p:grpSpPr>
              <a:xfrm>
                <a:off x="3979440" y="3846600"/>
                <a:ext cx="848880" cy="27720"/>
                <a:chOff x="3979440" y="3846600"/>
                <a:chExt cx="848880" cy="2772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3979440" y="3850920"/>
                  <a:ext cx="176400" cy="23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4222440" y="3848760"/>
                  <a:ext cx="176400" cy="23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4465440" y="3846600"/>
                  <a:ext cx="176400" cy="25200"/>
                </a:xfrm>
                <a:custGeom>
                  <a:avLst/>
                  <a:gdLst/>
                  <a:ahLst/>
                  <a:rect l="l" t="t" r="r" b="b"/>
                  <a:pathLst>
                    <a:path w="180" h="25">
                      <a:moveTo>
                        <a:pt x="0" y="2"/>
                      </a:moveTo>
                      <a:lnTo>
                        <a:pt x="0" y="25"/>
                      </a:lnTo>
                      <a:lnTo>
                        <a:pt x="180" y="23"/>
                      </a:lnTo>
                      <a:lnTo>
                        <a:pt x="18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4707000" y="3846600"/>
                  <a:ext cx="121320" cy="23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5" name=""/>
              <p:cNvSpPr/>
              <p:nvPr/>
            </p:nvSpPr>
            <p:spPr>
              <a:xfrm>
                <a:off x="4818960" y="3737880"/>
                <a:ext cx="23400" cy="126000"/>
              </a:xfrm>
              <a:custGeom>
                <a:avLst/>
                <a:gdLst/>
                <a:ahLst/>
                <a:rect l="l" t="t" r="r" b="b"/>
                <a:pathLst>
                  <a:path w="25" h="118">
                    <a:moveTo>
                      <a:pt x="0" y="118"/>
                    </a:moveTo>
                    <a:lnTo>
                      <a:pt x="23" y="118"/>
                    </a:lnTo>
                    <a:lnTo>
                      <a:pt x="25" y="0"/>
                    </a:lnTo>
                    <a:lnTo>
                      <a:pt x="2" y="0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828680" y="3722760"/>
                <a:ext cx="137160" cy="25560"/>
              </a:xfrm>
              <a:custGeom>
                <a:avLst/>
                <a:gdLst/>
                <a:ahLst/>
                <a:rect l="l" t="t" r="r" b="b"/>
                <a:pathLst>
                  <a:path w="139" h="24">
                    <a:moveTo>
                      <a:pt x="0" y="2"/>
                    </a:moveTo>
                    <a:lnTo>
                      <a:pt x="0" y="24"/>
                    </a:lnTo>
                    <a:lnTo>
                      <a:pt x="139" y="22"/>
                    </a:lnTo>
                    <a:lnTo>
                      <a:pt x="13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954680" y="3588120"/>
                <a:ext cx="23040" cy="149760"/>
              </a:xfrm>
              <a:custGeom>
                <a:avLst/>
                <a:gdLst/>
                <a:ahLst/>
                <a:rect l="l" t="t" r="r" b="b"/>
                <a:pathLst>
                  <a:path w="25" h="139">
                    <a:moveTo>
                      <a:pt x="0" y="139"/>
                    </a:moveTo>
                    <a:lnTo>
                      <a:pt x="23" y="139"/>
                    </a:lnTo>
                    <a:lnTo>
                      <a:pt x="25" y="0"/>
                    </a:lnTo>
                    <a:lnTo>
                      <a:pt x="2" y="0"/>
                    </a:lnTo>
                    <a:lnTo>
                      <a:pt x="0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4975920" y="3575160"/>
                <a:ext cx="1149120" cy="23400"/>
                <a:chOff x="4975920" y="3575160"/>
                <a:chExt cx="1149120" cy="2340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4975920" y="3575160"/>
                  <a:ext cx="176400" cy="23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218920" y="3575160"/>
                  <a:ext cx="176400" cy="23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462280" y="3575160"/>
                  <a:ext cx="176040" cy="23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5705280" y="3575160"/>
                  <a:ext cx="176400" cy="23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5948640" y="3575160"/>
                  <a:ext cx="176400" cy="234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84" name=""/>
          <p:cNvSpPr/>
          <p:nvPr/>
        </p:nvSpPr>
        <p:spPr>
          <a:xfrm>
            <a:off x="5989680" y="3486240"/>
            <a:ext cx="177156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989680" y="2728800"/>
            <a:ext cx="1650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146400" y="4421160"/>
            <a:ext cx="3240" cy="9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4052880" y="4421160"/>
            <a:ext cx="3240" cy="9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960800" y="4421160"/>
            <a:ext cx="0" cy="9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865840" y="4421160"/>
            <a:ext cx="1440" cy="9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2752560" y="4168800"/>
            <a:ext cx="241560" cy="25200"/>
          </a:xfrm>
          <a:custGeom>
            <a:avLst/>
            <a:gdLst/>
            <a:ahLst/>
            <a:rect l="l" t="t" r="r" b="b"/>
            <a:pathLst>
              <a:path w="245" h="25">
                <a:moveTo>
                  <a:pt x="0" y="2"/>
                </a:moveTo>
                <a:lnTo>
                  <a:pt x="0" y="25"/>
                </a:lnTo>
                <a:lnTo>
                  <a:pt x="245" y="23"/>
                </a:lnTo>
                <a:lnTo>
                  <a:pt x="245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176640" y="3968640"/>
            <a:ext cx="22320" cy="28800"/>
          </a:xfrm>
          <a:custGeom>
            <a:avLst/>
            <a:gdLst/>
            <a:ahLst/>
            <a:rect l="l" t="t" r="r" b="b"/>
            <a:pathLst>
              <a:path w="23" h="26">
                <a:moveTo>
                  <a:pt x="0" y="3"/>
                </a:moveTo>
                <a:lnTo>
                  <a:pt x="4" y="26"/>
                </a:lnTo>
                <a:lnTo>
                  <a:pt x="23" y="22"/>
                </a:lnTo>
                <a:lnTo>
                  <a:pt x="19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186000" y="3932280"/>
            <a:ext cx="23760" cy="54000"/>
          </a:xfrm>
          <a:custGeom>
            <a:avLst/>
            <a:gdLst/>
            <a:ahLst/>
            <a:rect l="l" t="t" r="r" b="b"/>
            <a:pathLst>
              <a:path w="25" h="51">
                <a:moveTo>
                  <a:pt x="0" y="51"/>
                </a:moveTo>
                <a:lnTo>
                  <a:pt x="23" y="51"/>
                </a:lnTo>
                <a:lnTo>
                  <a:pt x="25" y="0"/>
                </a:lnTo>
                <a:lnTo>
                  <a:pt x="2" y="0"/>
                </a:lnTo>
                <a:lnTo>
                  <a:pt x="0" y="5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197160" y="3917880"/>
            <a:ext cx="157320" cy="25560"/>
          </a:xfrm>
          <a:custGeom>
            <a:avLst/>
            <a:gdLst/>
            <a:ahLst/>
            <a:rect l="l" t="t" r="r" b="b"/>
            <a:pathLst>
              <a:path w="161" h="24">
                <a:moveTo>
                  <a:pt x="0" y="2"/>
                </a:moveTo>
                <a:lnTo>
                  <a:pt x="0" y="24"/>
                </a:lnTo>
                <a:lnTo>
                  <a:pt x="161" y="22"/>
                </a:lnTo>
                <a:lnTo>
                  <a:pt x="161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354480" y="3852720"/>
            <a:ext cx="38160" cy="25560"/>
          </a:xfrm>
          <a:custGeom>
            <a:avLst/>
            <a:gdLst/>
            <a:ahLst/>
            <a:rect l="l" t="t" r="r" b="b"/>
            <a:pathLst>
              <a:path w="38" h="24">
                <a:moveTo>
                  <a:pt x="0" y="2"/>
                </a:moveTo>
                <a:lnTo>
                  <a:pt x="2" y="24"/>
                </a:lnTo>
                <a:lnTo>
                  <a:pt x="38" y="22"/>
                </a:lnTo>
                <a:lnTo>
                  <a:pt x="36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379680" y="3809880"/>
            <a:ext cx="22320" cy="55800"/>
          </a:xfrm>
          <a:custGeom>
            <a:avLst/>
            <a:gdLst/>
            <a:ahLst/>
            <a:rect l="l" t="t" r="r" b="b"/>
            <a:pathLst>
              <a:path w="25" h="53">
                <a:moveTo>
                  <a:pt x="0" y="53"/>
                </a:moveTo>
                <a:lnTo>
                  <a:pt x="23" y="53"/>
                </a:lnTo>
                <a:lnTo>
                  <a:pt x="25" y="0"/>
                </a:lnTo>
                <a:lnTo>
                  <a:pt x="2" y="0"/>
                </a:lnTo>
                <a:lnTo>
                  <a:pt x="0" y="53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3390840" y="2806560"/>
            <a:ext cx="2741040" cy="1015920"/>
            <a:chOff x="3390840" y="2806560"/>
            <a:chExt cx="2741040" cy="1015920"/>
          </a:xfrm>
        </p:grpSpPr>
        <p:sp>
          <p:nvSpPr>
            <p:cNvPr id="1697" name=""/>
            <p:cNvSpPr/>
            <p:nvPr/>
          </p:nvSpPr>
          <p:spPr>
            <a:xfrm>
              <a:off x="3390840" y="3796920"/>
              <a:ext cx="15840" cy="25560"/>
            </a:xfrm>
            <a:custGeom>
              <a:avLst/>
              <a:gdLst/>
              <a:ahLst/>
              <a:rect l="l" t="t" r="r" b="b"/>
              <a:pathLst>
                <a:path w="17" h="25">
                  <a:moveTo>
                    <a:pt x="0" y="2"/>
                  </a:moveTo>
                  <a:lnTo>
                    <a:pt x="2" y="25"/>
                  </a:lnTo>
                  <a:lnTo>
                    <a:pt x="17" y="23"/>
                  </a:lnTo>
                  <a:lnTo>
                    <a:pt x="1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394800" y="3745440"/>
              <a:ext cx="23400" cy="64440"/>
            </a:xfrm>
            <a:custGeom>
              <a:avLst/>
              <a:gdLst/>
              <a:ahLst/>
              <a:rect l="l" t="t" r="r" b="b"/>
              <a:pathLst>
                <a:path w="25" h="60">
                  <a:moveTo>
                    <a:pt x="0" y="60"/>
                  </a:moveTo>
                  <a:lnTo>
                    <a:pt x="23" y="60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404520" y="3732840"/>
              <a:ext cx="484920" cy="25560"/>
            </a:xfrm>
            <a:custGeom>
              <a:avLst/>
              <a:gdLst/>
              <a:ahLst/>
              <a:rect l="l" t="t" r="r" b="b"/>
              <a:pathLst>
                <a:path w="493" h="25">
                  <a:moveTo>
                    <a:pt x="0" y="2"/>
                  </a:moveTo>
                  <a:lnTo>
                    <a:pt x="0" y="25"/>
                  </a:lnTo>
                  <a:lnTo>
                    <a:pt x="493" y="23"/>
                  </a:lnTo>
                  <a:lnTo>
                    <a:pt x="49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877920" y="3675240"/>
              <a:ext cx="25200" cy="70200"/>
            </a:xfrm>
            <a:custGeom>
              <a:avLst/>
              <a:gdLst/>
              <a:ahLst/>
              <a:rect l="l" t="t" r="r" b="b"/>
              <a:pathLst>
                <a:path w="24" h="65">
                  <a:moveTo>
                    <a:pt x="0" y="65"/>
                  </a:moveTo>
                  <a:lnTo>
                    <a:pt x="22" y="65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883680" y="3661920"/>
              <a:ext cx="19440" cy="237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0" y="3"/>
                  </a:moveTo>
                  <a:lnTo>
                    <a:pt x="14" y="22"/>
                  </a:lnTo>
                  <a:lnTo>
                    <a:pt x="19" y="18"/>
                  </a:lnTo>
                  <a:lnTo>
                    <a:pt x="6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883680" y="3602160"/>
              <a:ext cx="23400" cy="7272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0" y="70"/>
                  </a:moveTo>
                  <a:lnTo>
                    <a:pt x="23" y="70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895560" y="3584880"/>
              <a:ext cx="56880" cy="2808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0" y="4"/>
                  </a:moveTo>
                  <a:lnTo>
                    <a:pt x="2" y="27"/>
                  </a:lnTo>
                  <a:lnTo>
                    <a:pt x="58" y="23"/>
                  </a:lnTo>
                  <a:lnTo>
                    <a:pt x="5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938760" y="3523320"/>
              <a:ext cx="25200" cy="7884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73"/>
                  </a:moveTo>
                  <a:lnTo>
                    <a:pt x="22" y="73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5" name=""/>
            <p:cNvGrpSpPr/>
            <p:nvPr/>
          </p:nvGrpSpPr>
          <p:grpSpPr>
            <a:xfrm>
              <a:off x="3950640" y="2806560"/>
              <a:ext cx="2181240" cy="729000"/>
              <a:chOff x="3950640" y="2806560"/>
              <a:chExt cx="2181240" cy="7290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50640" y="3510000"/>
                <a:ext cx="82080" cy="25560"/>
              </a:xfrm>
              <a:custGeom>
                <a:avLst/>
                <a:gdLst/>
                <a:ahLst/>
                <a:rect l="l" t="t" r="r" b="b"/>
                <a:pathLst>
                  <a:path w="84" h="24">
                    <a:moveTo>
                      <a:pt x="0" y="2"/>
                    </a:moveTo>
                    <a:lnTo>
                      <a:pt x="0" y="24"/>
                    </a:lnTo>
                    <a:lnTo>
                      <a:pt x="84" y="23"/>
                    </a:lnTo>
                    <a:lnTo>
                      <a:pt x="84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023000" y="3445920"/>
                <a:ext cx="23400" cy="77040"/>
              </a:xfrm>
              <a:custGeom>
                <a:avLst/>
                <a:gdLst/>
                <a:ahLst/>
                <a:rect l="l" t="t" r="r" b="b"/>
                <a:pathLst>
                  <a:path w="24" h="71">
                    <a:moveTo>
                      <a:pt x="0" y="71"/>
                    </a:moveTo>
                    <a:lnTo>
                      <a:pt x="23" y="71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4032720" y="3432960"/>
                <a:ext cx="178920" cy="25560"/>
              </a:xfrm>
              <a:custGeom>
                <a:avLst/>
                <a:gdLst/>
                <a:ahLst/>
                <a:rect l="l" t="t" r="r" b="b"/>
                <a:pathLst>
                  <a:path w="182" h="24">
                    <a:moveTo>
                      <a:pt x="0" y="2"/>
                    </a:moveTo>
                    <a:lnTo>
                      <a:pt x="0" y="24"/>
                    </a:lnTo>
                    <a:lnTo>
                      <a:pt x="182" y="22"/>
                    </a:lnTo>
                    <a:lnTo>
                      <a:pt x="18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4201920" y="3353760"/>
                <a:ext cx="23040" cy="91800"/>
              </a:xfrm>
              <a:custGeom>
                <a:avLst/>
                <a:gdLst/>
                <a:ahLst/>
                <a:rect l="l" t="t" r="r" b="b"/>
                <a:pathLst>
                  <a:path w="24" h="86">
                    <a:moveTo>
                      <a:pt x="0" y="86"/>
                    </a:moveTo>
                    <a:lnTo>
                      <a:pt x="23" y="86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4212000" y="3341160"/>
                <a:ext cx="58680" cy="25560"/>
              </a:xfrm>
              <a:custGeom>
                <a:avLst/>
                <a:gdLst/>
                <a:ahLst/>
                <a:rect l="l" t="t" r="r" b="b"/>
                <a:pathLst>
                  <a:path w="60" h="25">
                    <a:moveTo>
                      <a:pt x="0" y="2"/>
                    </a:moveTo>
                    <a:lnTo>
                      <a:pt x="0" y="25"/>
                    </a:lnTo>
                    <a:lnTo>
                      <a:pt x="60" y="23"/>
                    </a:lnTo>
                    <a:lnTo>
                      <a:pt x="6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260960" y="3257640"/>
                <a:ext cx="23400" cy="95760"/>
              </a:xfrm>
              <a:custGeom>
                <a:avLst/>
                <a:gdLst/>
                <a:ahLst/>
                <a:rect l="l" t="t" r="r" b="b"/>
                <a:pathLst>
                  <a:path w="24" h="90">
                    <a:moveTo>
                      <a:pt x="0" y="90"/>
                    </a:moveTo>
                    <a:lnTo>
                      <a:pt x="23" y="90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270680" y="3244680"/>
                <a:ext cx="211680" cy="25560"/>
              </a:xfrm>
              <a:custGeom>
                <a:avLst/>
                <a:gdLst/>
                <a:ahLst/>
                <a:rect l="l" t="t" r="r" b="b"/>
                <a:pathLst>
                  <a:path w="216" h="25">
                    <a:moveTo>
                      <a:pt x="0" y="2"/>
                    </a:moveTo>
                    <a:lnTo>
                      <a:pt x="0" y="25"/>
                    </a:lnTo>
                    <a:lnTo>
                      <a:pt x="216" y="23"/>
                    </a:lnTo>
                    <a:lnTo>
                      <a:pt x="216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470840" y="3155040"/>
                <a:ext cx="25200" cy="102600"/>
              </a:xfrm>
              <a:custGeom>
                <a:avLst/>
                <a:gdLst/>
                <a:ahLst/>
                <a:rect l="l" t="t" r="r" b="b"/>
                <a:pathLst>
                  <a:path w="24" h="98">
                    <a:moveTo>
                      <a:pt x="0" y="98"/>
                    </a:moveTo>
                    <a:lnTo>
                      <a:pt x="22" y="98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482720" y="3138120"/>
                <a:ext cx="194400" cy="27360"/>
              </a:xfrm>
              <a:custGeom>
                <a:avLst/>
                <a:gdLst/>
                <a:ahLst/>
                <a:rect l="l" t="t" r="r" b="b"/>
                <a:pathLst>
                  <a:path w="197" h="26">
                    <a:moveTo>
                      <a:pt x="0" y="4"/>
                    </a:moveTo>
                    <a:lnTo>
                      <a:pt x="0" y="26"/>
                    </a:lnTo>
                    <a:lnTo>
                      <a:pt x="197" y="23"/>
                    </a:lnTo>
                    <a:lnTo>
                      <a:pt x="19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665240" y="3041640"/>
                <a:ext cx="23400" cy="113400"/>
              </a:xfrm>
              <a:custGeom>
                <a:avLst/>
                <a:gdLst/>
                <a:ahLst/>
                <a:rect l="l" t="t" r="r" b="b"/>
                <a:pathLst>
                  <a:path w="24" h="105">
                    <a:moveTo>
                      <a:pt x="0" y="105"/>
                    </a:moveTo>
                    <a:lnTo>
                      <a:pt x="22" y="105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4677120" y="3024720"/>
                <a:ext cx="47160" cy="29880"/>
              </a:xfrm>
              <a:custGeom>
                <a:avLst/>
                <a:gdLst/>
                <a:ahLst/>
                <a:rect l="l" t="t" r="r" b="b"/>
                <a:pathLst>
                  <a:path w="49" h="26">
                    <a:moveTo>
                      <a:pt x="0" y="4"/>
                    </a:moveTo>
                    <a:lnTo>
                      <a:pt x="2" y="26"/>
                    </a:lnTo>
                    <a:lnTo>
                      <a:pt x="49" y="22"/>
                    </a:lnTo>
                    <a:lnTo>
                      <a:pt x="4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710600" y="2930400"/>
                <a:ext cx="25200" cy="110880"/>
              </a:xfrm>
              <a:custGeom>
                <a:avLst/>
                <a:gdLst/>
                <a:ahLst/>
                <a:rect l="l" t="t" r="r" b="b"/>
                <a:pathLst>
                  <a:path w="24" h="103">
                    <a:moveTo>
                      <a:pt x="0" y="103"/>
                    </a:moveTo>
                    <a:lnTo>
                      <a:pt x="22" y="103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722120" y="2917800"/>
                <a:ext cx="78480" cy="25560"/>
              </a:xfrm>
              <a:custGeom>
                <a:avLst/>
                <a:gdLst/>
                <a:ahLst/>
                <a:rect l="l" t="t" r="r" b="b"/>
                <a:pathLst>
                  <a:path w="81" h="24">
                    <a:moveTo>
                      <a:pt x="0" y="2"/>
                    </a:moveTo>
                    <a:lnTo>
                      <a:pt x="0" y="24"/>
                    </a:lnTo>
                    <a:lnTo>
                      <a:pt x="81" y="22"/>
                    </a:lnTo>
                    <a:lnTo>
                      <a:pt x="8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790880" y="2808720"/>
                <a:ext cx="23400" cy="121680"/>
              </a:xfrm>
              <a:custGeom>
                <a:avLst/>
                <a:gdLst/>
                <a:ahLst/>
                <a:rect l="l" t="t" r="r" b="b"/>
                <a:pathLst>
                  <a:path w="25" h="115">
                    <a:moveTo>
                      <a:pt x="0" y="115"/>
                    </a:moveTo>
                    <a:lnTo>
                      <a:pt x="23" y="115"/>
                    </a:lnTo>
                    <a:lnTo>
                      <a:pt x="25" y="0"/>
                    </a:lnTo>
                    <a:lnTo>
                      <a:pt x="2" y="0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800960" y="2806560"/>
                <a:ext cx="1330920" cy="2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1" name=""/>
          <p:cNvSpPr/>
          <p:nvPr/>
        </p:nvSpPr>
        <p:spPr>
          <a:xfrm>
            <a:off x="3176640" y="3968640"/>
            <a:ext cx="22320" cy="28800"/>
          </a:xfrm>
          <a:custGeom>
            <a:avLst/>
            <a:gdLst/>
            <a:ahLst/>
            <a:rect l="l" t="t" r="r" b="b"/>
            <a:pathLst>
              <a:path w="23" h="26">
                <a:moveTo>
                  <a:pt x="0" y="3"/>
                </a:moveTo>
                <a:lnTo>
                  <a:pt x="4" y="26"/>
                </a:lnTo>
                <a:lnTo>
                  <a:pt x="23" y="22"/>
                </a:lnTo>
                <a:lnTo>
                  <a:pt x="19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3186000" y="3933720"/>
            <a:ext cx="23760" cy="52560"/>
          </a:xfrm>
          <a:custGeom>
            <a:avLst/>
            <a:gdLst/>
            <a:ahLst/>
            <a:rect l="l" t="t" r="r" b="b"/>
            <a:pathLst>
              <a:path w="25" h="51">
                <a:moveTo>
                  <a:pt x="0" y="51"/>
                </a:moveTo>
                <a:lnTo>
                  <a:pt x="23" y="51"/>
                </a:lnTo>
                <a:lnTo>
                  <a:pt x="25" y="0"/>
                </a:lnTo>
                <a:lnTo>
                  <a:pt x="2" y="0"/>
                </a:lnTo>
                <a:lnTo>
                  <a:pt x="0" y="5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197160" y="3917880"/>
            <a:ext cx="157320" cy="25560"/>
          </a:xfrm>
          <a:custGeom>
            <a:avLst/>
            <a:gdLst/>
            <a:ahLst/>
            <a:rect l="l" t="t" r="r" b="b"/>
            <a:pathLst>
              <a:path w="161" h="24">
                <a:moveTo>
                  <a:pt x="0" y="2"/>
                </a:moveTo>
                <a:lnTo>
                  <a:pt x="0" y="24"/>
                </a:lnTo>
                <a:lnTo>
                  <a:pt x="161" y="22"/>
                </a:lnTo>
                <a:lnTo>
                  <a:pt x="161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354480" y="3854520"/>
            <a:ext cx="38160" cy="25200"/>
          </a:xfrm>
          <a:custGeom>
            <a:avLst/>
            <a:gdLst/>
            <a:ahLst/>
            <a:rect l="l" t="t" r="r" b="b"/>
            <a:pathLst>
              <a:path w="38" h="24">
                <a:moveTo>
                  <a:pt x="0" y="2"/>
                </a:moveTo>
                <a:lnTo>
                  <a:pt x="2" y="24"/>
                </a:lnTo>
                <a:lnTo>
                  <a:pt x="38" y="22"/>
                </a:lnTo>
                <a:lnTo>
                  <a:pt x="36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3379680" y="3811680"/>
            <a:ext cx="22320" cy="55440"/>
          </a:xfrm>
          <a:custGeom>
            <a:avLst/>
            <a:gdLst/>
            <a:ahLst/>
            <a:rect l="l" t="t" r="r" b="b"/>
            <a:pathLst>
              <a:path w="25" h="53">
                <a:moveTo>
                  <a:pt x="0" y="53"/>
                </a:moveTo>
                <a:lnTo>
                  <a:pt x="23" y="53"/>
                </a:lnTo>
                <a:lnTo>
                  <a:pt x="25" y="0"/>
                </a:lnTo>
                <a:lnTo>
                  <a:pt x="2" y="0"/>
                </a:lnTo>
                <a:lnTo>
                  <a:pt x="0" y="53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390840" y="3798720"/>
            <a:ext cx="15840" cy="2556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2"/>
                </a:moveTo>
                <a:lnTo>
                  <a:pt x="2" y="25"/>
                </a:lnTo>
                <a:lnTo>
                  <a:pt x="17" y="23"/>
                </a:lnTo>
                <a:lnTo>
                  <a:pt x="15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7" name=""/>
          <p:cNvGrpSpPr/>
          <p:nvPr/>
        </p:nvGrpSpPr>
        <p:grpSpPr>
          <a:xfrm>
            <a:off x="3951360" y="2806560"/>
            <a:ext cx="2180880" cy="730080"/>
            <a:chOff x="3951360" y="2806560"/>
            <a:chExt cx="2180880" cy="730080"/>
          </a:xfrm>
        </p:grpSpPr>
        <p:sp>
          <p:nvSpPr>
            <p:cNvPr id="1728" name=""/>
            <p:cNvSpPr/>
            <p:nvPr/>
          </p:nvSpPr>
          <p:spPr>
            <a:xfrm>
              <a:off x="3951360" y="3511080"/>
              <a:ext cx="82080" cy="25560"/>
            </a:xfrm>
            <a:custGeom>
              <a:avLst/>
              <a:gdLst/>
              <a:ahLst/>
              <a:rect l="l" t="t" r="r" b="b"/>
              <a:pathLst>
                <a:path w="84" h="24">
                  <a:moveTo>
                    <a:pt x="0" y="2"/>
                  </a:moveTo>
                  <a:lnTo>
                    <a:pt x="0" y="24"/>
                  </a:lnTo>
                  <a:lnTo>
                    <a:pt x="84" y="23"/>
                  </a:lnTo>
                  <a:lnTo>
                    <a:pt x="8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023720" y="3447000"/>
              <a:ext cx="23400" cy="77040"/>
            </a:xfrm>
            <a:custGeom>
              <a:avLst/>
              <a:gdLst/>
              <a:ahLst/>
              <a:rect l="l" t="t" r="r" b="b"/>
              <a:pathLst>
                <a:path w="24" h="71">
                  <a:moveTo>
                    <a:pt x="0" y="71"/>
                  </a:moveTo>
                  <a:lnTo>
                    <a:pt x="23" y="71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033440" y="3433680"/>
              <a:ext cx="178920" cy="25560"/>
            </a:xfrm>
            <a:custGeom>
              <a:avLst/>
              <a:gdLst/>
              <a:ahLst/>
              <a:rect l="l" t="t" r="r" b="b"/>
              <a:pathLst>
                <a:path w="182" h="24">
                  <a:moveTo>
                    <a:pt x="0" y="2"/>
                  </a:moveTo>
                  <a:lnTo>
                    <a:pt x="0" y="24"/>
                  </a:lnTo>
                  <a:lnTo>
                    <a:pt x="182" y="22"/>
                  </a:lnTo>
                  <a:lnTo>
                    <a:pt x="18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202640" y="3354480"/>
              <a:ext cx="23040" cy="92160"/>
            </a:xfrm>
            <a:custGeom>
              <a:avLst/>
              <a:gdLst/>
              <a:ahLst/>
              <a:rect l="l" t="t" r="r" b="b"/>
              <a:pathLst>
                <a:path w="24" h="86">
                  <a:moveTo>
                    <a:pt x="0" y="86"/>
                  </a:moveTo>
                  <a:lnTo>
                    <a:pt x="23" y="86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212360" y="3341880"/>
              <a:ext cx="58680" cy="255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0" y="2"/>
                  </a:moveTo>
                  <a:lnTo>
                    <a:pt x="0" y="25"/>
                  </a:lnTo>
                  <a:lnTo>
                    <a:pt x="60" y="23"/>
                  </a:lnTo>
                  <a:lnTo>
                    <a:pt x="6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261680" y="3258360"/>
              <a:ext cx="23400" cy="9612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lnTo>
                    <a:pt x="23" y="90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271400" y="3245400"/>
              <a:ext cx="211680" cy="25560"/>
            </a:xfrm>
            <a:custGeom>
              <a:avLst/>
              <a:gdLst/>
              <a:ahLst/>
              <a:rect l="l" t="t" r="r" b="b"/>
              <a:pathLst>
                <a:path w="216" h="25">
                  <a:moveTo>
                    <a:pt x="0" y="2"/>
                  </a:moveTo>
                  <a:lnTo>
                    <a:pt x="0" y="25"/>
                  </a:lnTo>
                  <a:lnTo>
                    <a:pt x="216" y="23"/>
                  </a:lnTo>
                  <a:lnTo>
                    <a:pt x="21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471560" y="3155400"/>
              <a:ext cx="25200" cy="102600"/>
            </a:xfrm>
            <a:custGeom>
              <a:avLst/>
              <a:gdLst/>
              <a:ahLst/>
              <a:rect l="l" t="t" r="r" b="b"/>
              <a:pathLst>
                <a:path w="24" h="98">
                  <a:moveTo>
                    <a:pt x="0" y="98"/>
                  </a:moveTo>
                  <a:lnTo>
                    <a:pt x="22" y="98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483080" y="3138480"/>
              <a:ext cx="194400" cy="27360"/>
            </a:xfrm>
            <a:custGeom>
              <a:avLst/>
              <a:gdLst/>
              <a:ahLst/>
              <a:rect l="l" t="t" r="r" b="b"/>
              <a:pathLst>
                <a:path w="197" h="26">
                  <a:moveTo>
                    <a:pt x="0" y="4"/>
                  </a:moveTo>
                  <a:lnTo>
                    <a:pt x="0" y="26"/>
                  </a:lnTo>
                  <a:lnTo>
                    <a:pt x="197" y="23"/>
                  </a:lnTo>
                  <a:lnTo>
                    <a:pt x="19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665600" y="3042000"/>
              <a:ext cx="23400" cy="113400"/>
            </a:xfrm>
            <a:custGeom>
              <a:avLst/>
              <a:gdLst/>
              <a:ahLst/>
              <a:rect l="l" t="t" r="r" b="b"/>
              <a:pathLst>
                <a:path w="24" h="105">
                  <a:moveTo>
                    <a:pt x="0" y="105"/>
                  </a:moveTo>
                  <a:lnTo>
                    <a:pt x="22" y="105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677840" y="3024720"/>
              <a:ext cx="47160" cy="29880"/>
            </a:xfrm>
            <a:custGeom>
              <a:avLst/>
              <a:gdLst/>
              <a:ahLst/>
              <a:rect l="l" t="t" r="r" b="b"/>
              <a:pathLst>
                <a:path w="49" h="26">
                  <a:moveTo>
                    <a:pt x="0" y="4"/>
                  </a:moveTo>
                  <a:lnTo>
                    <a:pt x="2" y="26"/>
                  </a:lnTo>
                  <a:lnTo>
                    <a:pt x="49" y="22"/>
                  </a:lnTo>
                  <a:lnTo>
                    <a:pt x="47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711320" y="2930760"/>
              <a:ext cx="25200" cy="110880"/>
            </a:xfrm>
            <a:custGeom>
              <a:avLst/>
              <a:gdLst/>
              <a:ahLst/>
              <a:rect l="l" t="t" r="r" b="b"/>
              <a:pathLst>
                <a:path w="24" h="103">
                  <a:moveTo>
                    <a:pt x="0" y="103"/>
                  </a:moveTo>
                  <a:lnTo>
                    <a:pt x="22" y="103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722840" y="2918160"/>
              <a:ext cx="78480" cy="25560"/>
            </a:xfrm>
            <a:custGeom>
              <a:avLst/>
              <a:gdLst/>
              <a:ahLst/>
              <a:rect l="l" t="t" r="r" b="b"/>
              <a:pathLst>
                <a:path w="81" h="24">
                  <a:moveTo>
                    <a:pt x="0" y="2"/>
                  </a:moveTo>
                  <a:lnTo>
                    <a:pt x="0" y="24"/>
                  </a:lnTo>
                  <a:lnTo>
                    <a:pt x="81" y="22"/>
                  </a:lnTo>
                  <a:lnTo>
                    <a:pt x="8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791240" y="2808720"/>
              <a:ext cx="23400" cy="12168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115"/>
                  </a:moveTo>
                  <a:lnTo>
                    <a:pt x="23" y="115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801680" y="2806560"/>
              <a:ext cx="1330560" cy="23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3" name=""/>
          <p:cNvSpPr/>
          <p:nvPr/>
        </p:nvSpPr>
        <p:spPr>
          <a:xfrm>
            <a:off x="3105000" y="4024440"/>
            <a:ext cx="74880" cy="23760"/>
          </a:xfrm>
          <a:custGeom>
            <a:avLst/>
            <a:gdLst/>
            <a:ahLst/>
            <a:rect l="l" t="t" r="r" b="b"/>
            <a:pathLst>
              <a:path w="75" h="25">
                <a:moveTo>
                  <a:pt x="0" y="2"/>
                </a:moveTo>
                <a:lnTo>
                  <a:pt x="0" y="25"/>
                </a:lnTo>
                <a:lnTo>
                  <a:pt x="75" y="23"/>
                </a:lnTo>
                <a:lnTo>
                  <a:pt x="75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176640" y="3968640"/>
            <a:ext cx="22320" cy="28800"/>
          </a:xfrm>
          <a:custGeom>
            <a:avLst/>
            <a:gdLst/>
            <a:ahLst/>
            <a:rect l="l" t="t" r="r" b="b"/>
            <a:pathLst>
              <a:path w="23" h="26">
                <a:moveTo>
                  <a:pt x="0" y="3"/>
                </a:moveTo>
                <a:lnTo>
                  <a:pt x="4" y="26"/>
                </a:lnTo>
                <a:lnTo>
                  <a:pt x="23" y="22"/>
                </a:lnTo>
                <a:lnTo>
                  <a:pt x="19" y="0"/>
                </a:lnTo>
                <a:lnTo>
                  <a:pt x="0" y="3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186000" y="3933720"/>
            <a:ext cx="23760" cy="52560"/>
          </a:xfrm>
          <a:custGeom>
            <a:avLst/>
            <a:gdLst/>
            <a:ahLst/>
            <a:rect l="l" t="t" r="r" b="b"/>
            <a:pathLst>
              <a:path w="25" h="51">
                <a:moveTo>
                  <a:pt x="0" y="51"/>
                </a:moveTo>
                <a:lnTo>
                  <a:pt x="23" y="51"/>
                </a:lnTo>
                <a:lnTo>
                  <a:pt x="25" y="0"/>
                </a:lnTo>
                <a:lnTo>
                  <a:pt x="2" y="0"/>
                </a:lnTo>
                <a:lnTo>
                  <a:pt x="0" y="5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197160" y="3917880"/>
            <a:ext cx="157320" cy="25560"/>
          </a:xfrm>
          <a:custGeom>
            <a:avLst/>
            <a:gdLst/>
            <a:ahLst/>
            <a:rect l="l" t="t" r="r" b="b"/>
            <a:pathLst>
              <a:path w="161" h="24">
                <a:moveTo>
                  <a:pt x="0" y="2"/>
                </a:moveTo>
                <a:lnTo>
                  <a:pt x="0" y="24"/>
                </a:lnTo>
                <a:lnTo>
                  <a:pt x="161" y="22"/>
                </a:lnTo>
                <a:lnTo>
                  <a:pt x="161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354480" y="3854520"/>
            <a:ext cx="38160" cy="25200"/>
          </a:xfrm>
          <a:custGeom>
            <a:avLst/>
            <a:gdLst/>
            <a:ahLst/>
            <a:rect l="l" t="t" r="r" b="b"/>
            <a:pathLst>
              <a:path w="38" h="24">
                <a:moveTo>
                  <a:pt x="0" y="2"/>
                </a:moveTo>
                <a:lnTo>
                  <a:pt x="2" y="24"/>
                </a:lnTo>
                <a:lnTo>
                  <a:pt x="38" y="22"/>
                </a:lnTo>
                <a:lnTo>
                  <a:pt x="36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379680" y="3811680"/>
            <a:ext cx="22320" cy="55440"/>
          </a:xfrm>
          <a:custGeom>
            <a:avLst/>
            <a:gdLst/>
            <a:ahLst/>
            <a:rect l="l" t="t" r="r" b="b"/>
            <a:pathLst>
              <a:path w="25" h="53">
                <a:moveTo>
                  <a:pt x="0" y="53"/>
                </a:moveTo>
                <a:lnTo>
                  <a:pt x="23" y="53"/>
                </a:lnTo>
                <a:lnTo>
                  <a:pt x="25" y="0"/>
                </a:lnTo>
                <a:lnTo>
                  <a:pt x="2" y="0"/>
                </a:lnTo>
                <a:lnTo>
                  <a:pt x="0" y="53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390840" y="3797280"/>
            <a:ext cx="14400" cy="270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2"/>
                </a:moveTo>
                <a:lnTo>
                  <a:pt x="2" y="25"/>
                </a:lnTo>
                <a:lnTo>
                  <a:pt x="17" y="23"/>
                </a:lnTo>
                <a:lnTo>
                  <a:pt x="15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390840" y="3797280"/>
            <a:ext cx="14400" cy="270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2"/>
                </a:moveTo>
                <a:lnTo>
                  <a:pt x="2" y="25"/>
                </a:lnTo>
                <a:lnTo>
                  <a:pt x="17" y="23"/>
                </a:lnTo>
                <a:lnTo>
                  <a:pt x="15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565320" y="4508640"/>
            <a:ext cx="51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080040" y="4118040"/>
            <a:ext cx="12686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2192400" y="45086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084480" y="450864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5750280" y="45086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663560" y="4122720"/>
            <a:ext cx="447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663560" y="1979640"/>
            <a:ext cx="4478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241720" y="4421160"/>
            <a:ext cx="2880" cy="9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H="1" flipV="1">
            <a:off x="2063880" y="2080800"/>
            <a:ext cx="69840" cy="32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H="1" flipV="1">
            <a:off x="2063880" y="3156120"/>
            <a:ext cx="69840" cy="1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 flipH="1" flipV="1">
            <a:off x="2063880" y="4223880"/>
            <a:ext cx="69840" cy="32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133720" y="2006640"/>
            <a:ext cx="1440" cy="2414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795760" y="4167360"/>
            <a:ext cx="8712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3305160" y="4059360"/>
            <a:ext cx="25560" cy="63360"/>
          </a:xfrm>
          <a:custGeom>
            <a:avLst/>
            <a:gdLst/>
            <a:ahLst/>
            <a:rect l="l" t="t" r="r" b="b"/>
            <a:pathLst>
              <a:path w="25" h="60">
                <a:moveTo>
                  <a:pt x="0" y="60"/>
                </a:moveTo>
                <a:lnTo>
                  <a:pt x="23" y="60"/>
                </a:lnTo>
                <a:lnTo>
                  <a:pt x="25" y="0"/>
                </a:lnTo>
                <a:lnTo>
                  <a:pt x="2" y="0"/>
                </a:lnTo>
                <a:lnTo>
                  <a:pt x="0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3076560" y="4110120"/>
            <a:ext cx="88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3227400" y="4108320"/>
            <a:ext cx="88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7" name=""/>
          <p:cNvGrpSpPr/>
          <p:nvPr/>
        </p:nvGrpSpPr>
        <p:grpSpPr>
          <a:xfrm>
            <a:off x="2752560" y="2806560"/>
            <a:ext cx="3379320" cy="1387440"/>
            <a:chOff x="2752560" y="2806560"/>
            <a:chExt cx="3379320" cy="1387440"/>
          </a:xfrm>
        </p:grpSpPr>
        <p:sp>
          <p:nvSpPr>
            <p:cNvPr id="1768" name=""/>
            <p:cNvSpPr/>
            <p:nvPr/>
          </p:nvSpPr>
          <p:spPr>
            <a:xfrm>
              <a:off x="2983320" y="4133880"/>
              <a:ext cx="24480" cy="4932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0" y="46"/>
                  </a:moveTo>
                  <a:lnTo>
                    <a:pt x="23" y="46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993040" y="4121280"/>
              <a:ext cx="37440" cy="2520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0" y="2"/>
                  </a:moveTo>
                  <a:lnTo>
                    <a:pt x="2" y="25"/>
                  </a:lnTo>
                  <a:lnTo>
                    <a:pt x="38" y="23"/>
                  </a:lnTo>
                  <a:lnTo>
                    <a:pt x="3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017880" y="4087800"/>
              <a:ext cx="23040" cy="46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983320" y="4133880"/>
              <a:ext cx="24480" cy="4932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0" y="46"/>
                  </a:moveTo>
                  <a:lnTo>
                    <a:pt x="23" y="46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993040" y="4121280"/>
              <a:ext cx="37440" cy="2520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0" y="2"/>
                  </a:moveTo>
                  <a:lnTo>
                    <a:pt x="2" y="25"/>
                  </a:lnTo>
                  <a:lnTo>
                    <a:pt x="38" y="23"/>
                  </a:lnTo>
                  <a:lnTo>
                    <a:pt x="3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017880" y="4087800"/>
              <a:ext cx="23040" cy="46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983320" y="4133880"/>
              <a:ext cx="22680" cy="5076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0" y="46"/>
                  </a:moveTo>
                  <a:lnTo>
                    <a:pt x="23" y="46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993040" y="4122720"/>
              <a:ext cx="37440" cy="2376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0" y="2"/>
                  </a:moveTo>
                  <a:lnTo>
                    <a:pt x="2" y="25"/>
                  </a:lnTo>
                  <a:lnTo>
                    <a:pt x="38" y="23"/>
                  </a:lnTo>
                  <a:lnTo>
                    <a:pt x="3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017880" y="4087800"/>
              <a:ext cx="23040" cy="46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983320" y="4133880"/>
              <a:ext cx="22680" cy="50760"/>
            </a:xfrm>
            <a:custGeom>
              <a:avLst/>
              <a:gdLst/>
              <a:ahLst/>
              <a:rect l="l" t="t" r="r" b="b"/>
              <a:pathLst>
                <a:path w="25" h="46">
                  <a:moveTo>
                    <a:pt x="0" y="46"/>
                  </a:moveTo>
                  <a:lnTo>
                    <a:pt x="23" y="46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993040" y="4122720"/>
              <a:ext cx="37440" cy="23760"/>
            </a:xfrm>
            <a:custGeom>
              <a:avLst/>
              <a:gdLst/>
              <a:ahLst/>
              <a:rect l="l" t="t" r="r" b="b"/>
              <a:pathLst>
                <a:path w="38" h="25">
                  <a:moveTo>
                    <a:pt x="0" y="2"/>
                  </a:moveTo>
                  <a:lnTo>
                    <a:pt x="2" y="25"/>
                  </a:lnTo>
                  <a:lnTo>
                    <a:pt x="38" y="23"/>
                  </a:lnTo>
                  <a:lnTo>
                    <a:pt x="3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09840" y="3341520"/>
              <a:ext cx="59400" cy="255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0" y="2"/>
                  </a:moveTo>
                  <a:lnTo>
                    <a:pt x="0" y="25"/>
                  </a:lnTo>
                  <a:lnTo>
                    <a:pt x="60" y="23"/>
                  </a:lnTo>
                  <a:lnTo>
                    <a:pt x="6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09840" y="3341520"/>
              <a:ext cx="59400" cy="255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0" y="2"/>
                  </a:moveTo>
                  <a:lnTo>
                    <a:pt x="0" y="25"/>
                  </a:lnTo>
                  <a:lnTo>
                    <a:pt x="60" y="23"/>
                  </a:lnTo>
                  <a:lnTo>
                    <a:pt x="6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209840" y="3341520"/>
              <a:ext cx="59400" cy="255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0" y="2"/>
                  </a:moveTo>
                  <a:lnTo>
                    <a:pt x="0" y="25"/>
                  </a:lnTo>
                  <a:lnTo>
                    <a:pt x="60" y="23"/>
                  </a:lnTo>
                  <a:lnTo>
                    <a:pt x="6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950200" y="4165560"/>
              <a:ext cx="87480" cy="25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3" name=""/>
            <p:cNvGrpSpPr/>
            <p:nvPr/>
          </p:nvGrpSpPr>
          <p:grpSpPr>
            <a:xfrm>
              <a:off x="2752560" y="2806560"/>
              <a:ext cx="3379320" cy="1387440"/>
              <a:chOff x="2752560" y="2806560"/>
              <a:chExt cx="3379320" cy="1387440"/>
            </a:xfrm>
          </p:grpSpPr>
          <p:sp>
            <p:nvSpPr>
              <p:cNvPr id="1784" name=""/>
              <p:cNvSpPr/>
              <p:nvPr/>
            </p:nvSpPr>
            <p:spPr>
              <a:xfrm>
                <a:off x="3030840" y="4070520"/>
                <a:ext cx="74160" cy="26640"/>
              </a:xfrm>
              <a:custGeom>
                <a:avLst/>
                <a:gdLst/>
                <a:ahLst/>
                <a:rect l="l" t="t" r="r" b="b"/>
                <a:pathLst>
                  <a:path w="77" h="27">
                    <a:moveTo>
                      <a:pt x="0" y="4"/>
                    </a:moveTo>
                    <a:lnTo>
                      <a:pt x="0" y="27"/>
                    </a:lnTo>
                    <a:lnTo>
                      <a:pt x="77" y="23"/>
                    </a:lnTo>
                    <a:lnTo>
                      <a:pt x="7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093840" y="4035600"/>
                <a:ext cx="23040" cy="52200"/>
              </a:xfrm>
              <a:custGeom>
                <a:avLst/>
                <a:gdLst/>
                <a:ahLst/>
                <a:rect l="l" t="t" r="r" b="b"/>
                <a:pathLst>
                  <a:path w="24" h="46">
                    <a:moveTo>
                      <a:pt x="0" y="46"/>
                    </a:moveTo>
                    <a:lnTo>
                      <a:pt x="22" y="46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030840" y="4070520"/>
                <a:ext cx="74160" cy="26640"/>
              </a:xfrm>
              <a:custGeom>
                <a:avLst/>
                <a:gdLst/>
                <a:ahLst/>
                <a:rect l="l" t="t" r="r" b="b"/>
                <a:pathLst>
                  <a:path w="77" h="27">
                    <a:moveTo>
                      <a:pt x="0" y="4"/>
                    </a:moveTo>
                    <a:lnTo>
                      <a:pt x="0" y="27"/>
                    </a:lnTo>
                    <a:lnTo>
                      <a:pt x="77" y="23"/>
                    </a:lnTo>
                    <a:lnTo>
                      <a:pt x="7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093840" y="4035600"/>
                <a:ext cx="23040" cy="52200"/>
              </a:xfrm>
              <a:custGeom>
                <a:avLst/>
                <a:gdLst/>
                <a:ahLst/>
                <a:rect l="l" t="t" r="r" b="b"/>
                <a:pathLst>
                  <a:path w="24" h="46">
                    <a:moveTo>
                      <a:pt x="0" y="46"/>
                    </a:moveTo>
                    <a:lnTo>
                      <a:pt x="22" y="46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30840" y="4070520"/>
                <a:ext cx="74160" cy="28440"/>
              </a:xfrm>
              <a:custGeom>
                <a:avLst/>
                <a:gdLst/>
                <a:ahLst/>
                <a:rect l="l" t="t" r="r" b="b"/>
                <a:pathLst>
                  <a:path w="77" h="27">
                    <a:moveTo>
                      <a:pt x="0" y="4"/>
                    </a:moveTo>
                    <a:lnTo>
                      <a:pt x="0" y="27"/>
                    </a:lnTo>
                    <a:lnTo>
                      <a:pt x="77" y="23"/>
                    </a:lnTo>
                    <a:lnTo>
                      <a:pt x="7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93840" y="4035600"/>
                <a:ext cx="26280" cy="52200"/>
              </a:xfrm>
              <a:custGeom>
                <a:avLst/>
                <a:gdLst/>
                <a:ahLst/>
                <a:rect l="l" t="t" r="r" b="b"/>
                <a:pathLst>
                  <a:path w="24" h="46">
                    <a:moveTo>
                      <a:pt x="0" y="46"/>
                    </a:moveTo>
                    <a:lnTo>
                      <a:pt x="22" y="46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105360" y="4022640"/>
                <a:ext cx="73800" cy="2556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0" y="2"/>
                    </a:moveTo>
                    <a:lnTo>
                      <a:pt x="0" y="25"/>
                    </a:lnTo>
                    <a:lnTo>
                      <a:pt x="75" y="23"/>
                    </a:lnTo>
                    <a:lnTo>
                      <a:pt x="7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166200" y="3986280"/>
                <a:ext cx="27720" cy="49320"/>
              </a:xfrm>
              <a:custGeom>
                <a:avLst/>
                <a:gdLst/>
                <a:ahLst/>
                <a:rect l="l" t="t" r="r" b="b"/>
                <a:pathLst>
                  <a:path w="24" h="47">
                    <a:moveTo>
                      <a:pt x="0" y="47"/>
                    </a:moveTo>
                    <a:lnTo>
                      <a:pt x="22" y="47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342600" y="3865680"/>
                <a:ext cx="25920" cy="66600"/>
              </a:xfrm>
              <a:custGeom>
                <a:avLst/>
                <a:gdLst/>
                <a:ahLst/>
                <a:rect l="l" t="t" r="r" b="b"/>
                <a:pathLst>
                  <a:path w="24" h="60">
                    <a:moveTo>
                      <a:pt x="0" y="60"/>
                    </a:moveTo>
                    <a:lnTo>
                      <a:pt x="22" y="60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752560" y="4168800"/>
                <a:ext cx="240480" cy="25200"/>
              </a:xfrm>
              <a:custGeom>
                <a:avLst/>
                <a:gdLst/>
                <a:ahLst/>
                <a:rect l="l" t="t" r="r" b="b"/>
                <a:pathLst>
                  <a:path w="245" h="25">
                    <a:moveTo>
                      <a:pt x="0" y="2"/>
                    </a:moveTo>
                    <a:lnTo>
                      <a:pt x="0" y="25"/>
                    </a:lnTo>
                    <a:lnTo>
                      <a:pt x="245" y="23"/>
                    </a:lnTo>
                    <a:lnTo>
                      <a:pt x="24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3017880" y="4087800"/>
                <a:ext cx="23040" cy="4608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030840" y="4070520"/>
                <a:ext cx="74160" cy="28440"/>
              </a:xfrm>
              <a:custGeom>
                <a:avLst/>
                <a:gdLst/>
                <a:ahLst/>
                <a:rect l="l" t="t" r="r" b="b"/>
                <a:pathLst>
                  <a:path w="77" h="27">
                    <a:moveTo>
                      <a:pt x="0" y="4"/>
                    </a:moveTo>
                    <a:lnTo>
                      <a:pt x="0" y="27"/>
                    </a:lnTo>
                    <a:lnTo>
                      <a:pt x="77" y="23"/>
                    </a:lnTo>
                    <a:lnTo>
                      <a:pt x="7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093840" y="4035600"/>
                <a:ext cx="26280" cy="52200"/>
              </a:xfrm>
              <a:custGeom>
                <a:avLst/>
                <a:gdLst/>
                <a:ahLst/>
                <a:rect l="l" t="t" r="r" b="b"/>
                <a:pathLst>
                  <a:path w="24" h="46">
                    <a:moveTo>
                      <a:pt x="0" y="46"/>
                    </a:moveTo>
                    <a:lnTo>
                      <a:pt x="22" y="46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105360" y="4024440"/>
                <a:ext cx="73800" cy="23760"/>
              </a:xfrm>
              <a:custGeom>
                <a:avLst/>
                <a:gdLst/>
                <a:ahLst/>
                <a:rect l="l" t="t" r="r" b="b"/>
                <a:pathLst>
                  <a:path w="75" h="25">
                    <a:moveTo>
                      <a:pt x="0" y="2"/>
                    </a:moveTo>
                    <a:lnTo>
                      <a:pt x="0" y="25"/>
                    </a:lnTo>
                    <a:lnTo>
                      <a:pt x="75" y="23"/>
                    </a:lnTo>
                    <a:lnTo>
                      <a:pt x="7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66200" y="3986280"/>
                <a:ext cx="27720" cy="49320"/>
              </a:xfrm>
              <a:custGeom>
                <a:avLst/>
                <a:gdLst/>
                <a:ahLst/>
                <a:rect l="l" t="t" r="r" b="b"/>
                <a:pathLst>
                  <a:path w="24" h="47">
                    <a:moveTo>
                      <a:pt x="0" y="47"/>
                    </a:moveTo>
                    <a:lnTo>
                      <a:pt x="22" y="47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342600" y="3867120"/>
                <a:ext cx="24480" cy="66600"/>
              </a:xfrm>
              <a:custGeom>
                <a:avLst/>
                <a:gdLst/>
                <a:ahLst/>
                <a:rect l="l" t="t" r="r" b="b"/>
                <a:pathLst>
                  <a:path w="24" h="60">
                    <a:moveTo>
                      <a:pt x="0" y="60"/>
                    </a:moveTo>
                    <a:lnTo>
                      <a:pt x="22" y="60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394080" y="3746520"/>
                <a:ext cx="24480" cy="65160"/>
              </a:xfrm>
              <a:custGeom>
                <a:avLst/>
                <a:gdLst/>
                <a:ahLst/>
                <a:rect l="l" t="t" r="r" b="b"/>
                <a:pathLst>
                  <a:path w="25" h="60">
                    <a:moveTo>
                      <a:pt x="0" y="60"/>
                    </a:moveTo>
                    <a:lnTo>
                      <a:pt x="23" y="60"/>
                    </a:lnTo>
                    <a:lnTo>
                      <a:pt x="25" y="0"/>
                    </a:lnTo>
                    <a:lnTo>
                      <a:pt x="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403800" y="3733920"/>
                <a:ext cx="484560" cy="27000"/>
              </a:xfrm>
              <a:custGeom>
                <a:avLst/>
                <a:gdLst/>
                <a:ahLst/>
                <a:rect l="l" t="t" r="r" b="b"/>
                <a:pathLst>
                  <a:path w="493" h="25">
                    <a:moveTo>
                      <a:pt x="0" y="2"/>
                    </a:moveTo>
                    <a:lnTo>
                      <a:pt x="0" y="25"/>
                    </a:lnTo>
                    <a:lnTo>
                      <a:pt x="493" y="23"/>
                    </a:lnTo>
                    <a:lnTo>
                      <a:pt x="49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876840" y="3676680"/>
                <a:ext cx="25920" cy="69840"/>
              </a:xfrm>
              <a:custGeom>
                <a:avLst/>
                <a:gdLst/>
                <a:ahLst/>
                <a:rect l="l" t="t" r="r" b="b"/>
                <a:pathLst>
                  <a:path w="24" h="65">
                    <a:moveTo>
                      <a:pt x="0" y="65"/>
                    </a:moveTo>
                    <a:lnTo>
                      <a:pt x="22" y="65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883320" y="3664080"/>
                <a:ext cx="19800" cy="2376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3"/>
                    </a:moveTo>
                    <a:lnTo>
                      <a:pt x="14" y="22"/>
                    </a:lnTo>
                    <a:lnTo>
                      <a:pt x="19" y="18"/>
                    </a:lnTo>
                    <a:lnTo>
                      <a:pt x="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3883320" y="3603600"/>
                <a:ext cx="23040" cy="73080"/>
              </a:xfrm>
              <a:custGeom>
                <a:avLst/>
                <a:gdLst/>
                <a:ahLst/>
                <a:rect l="l" t="t" r="r" b="b"/>
                <a:pathLst>
                  <a:path w="25" h="70">
                    <a:moveTo>
                      <a:pt x="0" y="70"/>
                    </a:moveTo>
                    <a:lnTo>
                      <a:pt x="23" y="70"/>
                    </a:lnTo>
                    <a:lnTo>
                      <a:pt x="25" y="0"/>
                    </a:lnTo>
                    <a:lnTo>
                      <a:pt x="2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894840" y="3586320"/>
                <a:ext cx="55800" cy="284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4"/>
                    </a:moveTo>
                    <a:lnTo>
                      <a:pt x="2" y="27"/>
                    </a:lnTo>
                    <a:lnTo>
                      <a:pt x="58" y="23"/>
                    </a:lnTo>
                    <a:lnTo>
                      <a:pt x="5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3938040" y="3524400"/>
                <a:ext cx="24480" cy="79200"/>
              </a:xfrm>
              <a:custGeom>
                <a:avLst/>
                <a:gdLst/>
                <a:ahLst/>
                <a:rect l="l" t="t" r="r" b="b"/>
                <a:pathLst>
                  <a:path w="24" h="73">
                    <a:moveTo>
                      <a:pt x="0" y="73"/>
                    </a:moveTo>
                    <a:lnTo>
                      <a:pt x="22" y="73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3166200" y="3986280"/>
                <a:ext cx="27720" cy="49320"/>
              </a:xfrm>
              <a:custGeom>
                <a:avLst/>
                <a:gdLst/>
                <a:ahLst/>
                <a:rect l="l" t="t" r="r" b="b"/>
                <a:pathLst>
                  <a:path w="24" h="47">
                    <a:moveTo>
                      <a:pt x="0" y="47"/>
                    </a:moveTo>
                    <a:lnTo>
                      <a:pt x="22" y="47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3342600" y="3867120"/>
                <a:ext cx="24480" cy="66600"/>
              </a:xfrm>
              <a:custGeom>
                <a:avLst/>
                <a:gdLst/>
                <a:ahLst/>
                <a:rect l="l" t="t" r="r" b="b"/>
                <a:pathLst>
                  <a:path w="24" h="60">
                    <a:moveTo>
                      <a:pt x="0" y="60"/>
                    </a:moveTo>
                    <a:lnTo>
                      <a:pt x="22" y="60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394080" y="3746520"/>
                <a:ext cx="22680" cy="65160"/>
              </a:xfrm>
              <a:custGeom>
                <a:avLst/>
                <a:gdLst/>
                <a:ahLst/>
                <a:rect l="l" t="t" r="r" b="b"/>
                <a:pathLst>
                  <a:path w="25" h="60">
                    <a:moveTo>
                      <a:pt x="0" y="60"/>
                    </a:moveTo>
                    <a:lnTo>
                      <a:pt x="23" y="60"/>
                    </a:lnTo>
                    <a:lnTo>
                      <a:pt x="25" y="0"/>
                    </a:lnTo>
                    <a:lnTo>
                      <a:pt x="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403800" y="3733920"/>
                <a:ext cx="484560" cy="25200"/>
              </a:xfrm>
              <a:custGeom>
                <a:avLst/>
                <a:gdLst/>
                <a:ahLst/>
                <a:rect l="l" t="t" r="r" b="b"/>
                <a:pathLst>
                  <a:path w="493" h="25">
                    <a:moveTo>
                      <a:pt x="0" y="2"/>
                    </a:moveTo>
                    <a:lnTo>
                      <a:pt x="0" y="25"/>
                    </a:lnTo>
                    <a:lnTo>
                      <a:pt x="493" y="23"/>
                    </a:lnTo>
                    <a:lnTo>
                      <a:pt x="49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876840" y="3675240"/>
                <a:ext cx="25920" cy="71280"/>
              </a:xfrm>
              <a:custGeom>
                <a:avLst/>
                <a:gdLst/>
                <a:ahLst/>
                <a:rect l="l" t="t" r="r" b="b"/>
                <a:pathLst>
                  <a:path w="24" h="65">
                    <a:moveTo>
                      <a:pt x="0" y="65"/>
                    </a:moveTo>
                    <a:lnTo>
                      <a:pt x="22" y="65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883320" y="3662280"/>
                <a:ext cx="19800" cy="2376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3"/>
                    </a:moveTo>
                    <a:lnTo>
                      <a:pt x="14" y="22"/>
                    </a:lnTo>
                    <a:lnTo>
                      <a:pt x="19" y="18"/>
                    </a:lnTo>
                    <a:lnTo>
                      <a:pt x="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883320" y="3603600"/>
                <a:ext cx="23040" cy="71640"/>
              </a:xfrm>
              <a:custGeom>
                <a:avLst/>
                <a:gdLst/>
                <a:ahLst/>
                <a:rect l="l" t="t" r="r" b="b"/>
                <a:pathLst>
                  <a:path w="25" h="70">
                    <a:moveTo>
                      <a:pt x="0" y="70"/>
                    </a:moveTo>
                    <a:lnTo>
                      <a:pt x="23" y="70"/>
                    </a:lnTo>
                    <a:lnTo>
                      <a:pt x="25" y="0"/>
                    </a:lnTo>
                    <a:lnTo>
                      <a:pt x="2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894840" y="3586320"/>
                <a:ext cx="55800" cy="2700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4"/>
                    </a:moveTo>
                    <a:lnTo>
                      <a:pt x="2" y="27"/>
                    </a:lnTo>
                    <a:lnTo>
                      <a:pt x="58" y="23"/>
                    </a:lnTo>
                    <a:lnTo>
                      <a:pt x="5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938040" y="3522600"/>
                <a:ext cx="24480" cy="81000"/>
              </a:xfrm>
              <a:custGeom>
                <a:avLst/>
                <a:gdLst/>
                <a:ahLst/>
                <a:rect l="l" t="t" r="r" b="b"/>
                <a:pathLst>
                  <a:path w="24" h="73">
                    <a:moveTo>
                      <a:pt x="0" y="73"/>
                    </a:moveTo>
                    <a:lnTo>
                      <a:pt x="22" y="73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951000" y="3511440"/>
                <a:ext cx="80640" cy="25560"/>
              </a:xfrm>
              <a:custGeom>
                <a:avLst/>
                <a:gdLst/>
                <a:ahLst/>
                <a:rect l="l" t="t" r="r" b="b"/>
                <a:pathLst>
                  <a:path w="84" h="24">
                    <a:moveTo>
                      <a:pt x="0" y="2"/>
                    </a:moveTo>
                    <a:lnTo>
                      <a:pt x="0" y="24"/>
                    </a:lnTo>
                    <a:lnTo>
                      <a:pt x="84" y="23"/>
                    </a:lnTo>
                    <a:lnTo>
                      <a:pt x="84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021920" y="3446640"/>
                <a:ext cx="22680" cy="77760"/>
              </a:xfrm>
              <a:custGeom>
                <a:avLst/>
                <a:gdLst/>
                <a:ahLst/>
                <a:rect l="l" t="t" r="r" b="b"/>
                <a:pathLst>
                  <a:path w="24" h="71">
                    <a:moveTo>
                      <a:pt x="0" y="71"/>
                    </a:moveTo>
                    <a:lnTo>
                      <a:pt x="23" y="71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031640" y="3433680"/>
                <a:ext cx="177840" cy="25560"/>
              </a:xfrm>
              <a:custGeom>
                <a:avLst/>
                <a:gdLst/>
                <a:ahLst/>
                <a:rect l="l" t="t" r="r" b="b"/>
                <a:pathLst>
                  <a:path w="182" h="24">
                    <a:moveTo>
                      <a:pt x="0" y="2"/>
                    </a:moveTo>
                    <a:lnTo>
                      <a:pt x="0" y="24"/>
                    </a:lnTo>
                    <a:lnTo>
                      <a:pt x="182" y="22"/>
                    </a:lnTo>
                    <a:lnTo>
                      <a:pt x="18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200120" y="3354480"/>
                <a:ext cx="24480" cy="92160"/>
              </a:xfrm>
              <a:custGeom>
                <a:avLst/>
                <a:gdLst/>
                <a:ahLst/>
                <a:rect l="l" t="t" r="r" b="b"/>
                <a:pathLst>
                  <a:path w="24" h="86">
                    <a:moveTo>
                      <a:pt x="0" y="86"/>
                    </a:moveTo>
                    <a:lnTo>
                      <a:pt x="23" y="86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259520" y="3259080"/>
                <a:ext cx="22680" cy="95400"/>
              </a:xfrm>
              <a:custGeom>
                <a:avLst/>
                <a:gdLst/>
                <a:ahLst/>
                <a:rect l="l" t="t" r="r" b="b"/>
                <a:pathLst>
                  <a:path w="24" h="90">
                    <a:moveTo>
                      <a:pt x="0" y="90"/>
                    </a:moveTo>
                    <a:lnTo>
                      <a:pt x="23" y="90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4269240" y="3246480"/>
                <a:ext cx="210960" cy="25200"/>
              </a:xfrm>
              <a:custGeom>
                <a:avLst/>
                <a:gdLst/>
                <a:ahLst/>
                <a:rect l="l" t="t" r="r" b="b"/>
                <a:pathLst>
                  <a:path w="216" h="25">
                    <a:moveTo>
                      <a:pt x="0" y="2"/>
                    </a:moveTo>
                    <a:lnTo>
                      <a:pt x="0" y="25"/>
                    </a:lnTo>
                    <a:lnTo>
                      <a:pt x="216" y="23"/>
                    </a:lnTo>
                    <a:lnTo>
                      <a:pt x="216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470120" y="3156120"/>
                <a:ext cx="24480" cy="102960"/>
              </a:xfrm>
              <a:custGeom>
                <a:avLst/>
                <a:gdLst/>
                <a:ahLst/>
                <a:rect l="l" t="t" r="r" b="b"/>
                <a:pathLst>
                  <a:path w="24" h="98">
                    <a:moveTo>
                      <a:pt x="0" y="98"/>
                    </a:moveTo>
                    <a:lnTo>
                      <a:pt x="22" y="98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480200" y="3138480"/>
                <a:ext cx="194400" cy="28440"/>
              </a:xfrm>
              <a:custGeom>
                <a:avLst/>
                <a:gdLst/>
                <a:ahLst/>
                <a:rect l="l" t="t" r="r" b="b"/>
                <a:pathLst>
                  <a:path w="197" h="26">
                    <a:moveTo>
                      <a:pt x="0" y="4"/>
                    </a:moveTo>
                    <a:lnTo>
                      <a:pt x="0" y="26"/>
                    </a:lnTo>
                    <a:lnTo>
                      <a:pt x="197" y="23"/>
                    </a:lnTo>
                    <a:lnTo>
                      <a:pt x="19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663080" y="3041640"/>
                <a:ext cx="23040" cy="114480"/>
              </a:xfrm>
              <a:custGeom>
                <a:avLst/>
                <a:gdLst/>
                <a:ahLst/>
                <a:rect l="l" t="t" r="r" b="b"/>
                <a:pathLst>
                  <a:path w="24" h="105">
                    <a:moveTo>
                      <a:pt x="0" y="105"/>
                    </a:moveTo>
                    <a:lnTo>
                      <a:pt x="22" y="105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674600" y="3025800"/>
                <a:ext cx="47520" cy="28440"/>
              </a:xfrm>
              <a:custGeom>
                <a:avLst/>
                <a:gdLst/>
                <a:ahLst/>
                <a:rect l="l" t="t" r="r" b="b"/>
                <a:pathLst>
                  <a:path w="49" h="26">
                    <a:moveTo>
                      <a:pt x="0" y="4"/>
                    </a:moveTo>
                    <a:lnTo>
                      <a:pt x="2" y="26"/>
                    </a:lnTo>
                    <a:lnTo>
                      <a:pt x="49" y="22"/>
                    </a:lnTo>
                    <a:lnTo>
                      <a:pt x="4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707720" y="2930400"/>
                <a:ext cx="26280" cy="111240"/>
              </a:xfrm>
              <a:custGeom>
                <a:avLst/>
                <a:gdLst/>
                <a:ahLst/>
                <a:rect l="l" t="t" r="r" b="b"/>
                <a:pathLst>
                  <a:path w="24" h="103">
                    <a:moveTo>
                      <a:pt x="0" y="103"/>
                    </a:moveTo>
                    <a:lnTo>
                      <a:pt x="22" y="103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722480" y="2917800"/>
                <a:ext cx="75600" cy="25560"/>
              </a:xfrm>
              <a:custGeom>
                <a:avLst/>
                <a:gdLst/>
                <a:ahLst/>
                <a:rect l="l" t="t" r="r" b="b"/>
                <a:pathLst>
                  <a:path w="81" h="24">
                    <a:moveTo>
                      <a:pt x="0" y="2"/>
                    </a:moveTo>
                    <a:lnTo>
                      <a:pt x="0" y="24"/>
                    </a:lnTo>
                    <a:lnTo>
                      <a:pt x="81" y="22"/>
                    </a:lnTo>
                    <a:lnTo>
                      <a:pt x="8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788360" y="2808360"/>
                <a:ext cx="24480" cy="122040"/>
              </a:xfrm>
              <a:custGeom>
                <a:avLst/>
                <a:gdLst/>
                <a:ahLst/>
                <a:rect l="l" t="t" r="r" b="b"/>
                <a:pathLst>
                  <a:path w="25" h="115">
                    <a:moveTo>
                      <a:pt x="0" y="115"/>
                    </a:moveTo>
                    <a:lnTo>
                      <a:pt x="23" y="115"/>
                    </a:lnTo>
                    <a:lnTo>
                      <a:pt x="25" y="0"/>
                    </a:lnTo>
                    <a:lnTo>
                      <a:pt x="2" y="0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798440" y="2806560"/>
                <a:ext cx="1333440" cy="241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3394080" y="3746520"/>
                <a:ext cx="22680" cy="65160"/>
              </a:xfrm>
              <a:custGeom>
                <a:avLst/>
                <a:gdLst/>
                <a:ahLst/>
                <a:rect l="l" t="t" r="r" b="b"/>
                <a:pathLst>
                  <a:path w="25" h="60">
                    <a:moveTo>
                      <a:pt x="0" y="60"/>
                    </a:moveTo>
                    <a:lnTo>
                      <a:pt x="23" y="60"/>
                    </a:lnTo>
                    <a:lnTo>
                      <a:pt x="25" y="0"/>
                    </a:lnTo>
                    <a:lnTo>
                      <a:pt x="2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3403800" y="3733920"/>
                <a:ext cx="484560" cy="25200"/>
              </a:xfrm>
              <a:custGeom>
                <a:avLst/>
                <a:gdLst/>
                <a:ahLst/>
                <a:rect l="l" t="t" r="r" b="b"/>
                <a:pathLst>
                  <a:path w="493" h="25">
                    <a:moveTo>
                      <a:pt x="0" y="2"/>
                    </a:moveTo>
                    <a:lnTo>
                      <a:pt x="0" y="25"/>
                    </a:lnTo>
                    <a:lnTo>
                      <a:pt x="493" y="23"/>
                    </a:lnTo>
                    <a:lnTo>
                      <a:pt x="49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3876840" y="3675240"/>
                <a:ext cx="25920" cy="71280"/>
              </a:xfrm>
              <a:custGeom>
                <a:avLst/>
                <a:gdLst/>
                <a:ahLst/>
                <a:rect l="l" t="t" r="r" b="b"/>
                <a:pathLst>
                  <a:path w="24" h="65">
                    <a:moveTo>
                      <a:pt x="0" y="65"/>
                    </a:moveTo>
                    <a:lnTo>
                      <a:pt x="22" y="65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3883320" y="3662280"/>
                <a:ext cx="19800" cy="2376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3"/>
                    </a:moveTo>
                    <a:lnTo>
                      <a:pt x="14" y="22"/>
                    </a:lnTo>
                    <a:lnTo>
                      <a:pt x="19" y="18"/>
                    </a:lnTo>
                    <a:lnTo>
                      <a:pt x="6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3883320" y="3603600"/>
                <a:ext cx="23040" cy="71640"/>
              </a:xfrm>
              <a:custGeom>
                <a:avLst/>
                <a:gdLst/>
                <a:ahLst/>
                <a:rect l="l" t="t" r="r" b="b"/>
                <a:pathLst>
                  <a:path w="25" h="70">
                    <a:moveTo>
                      <a:pt x="0" y="70"/>
                    </a:moveTo>
                    <a:lnTo>
                      <a:pt x="23" y="70"/>
                    </a:lnTo>
                    <a:lnTo>
                      <a:pt x="25" y="0"/>
                    </a:lnTo>
                    <a:lnTo>
                      <a:pt x="2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3894840" y="3586320"/>
                <a:ext cx="55800" cy="2700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4"/>
                    </a:moveTo>
                    <a:lnTo>
                      <a:pt x="2" y="27"/>
                    </a:lnTo>
                    <a:lnTo>
                      <a:pt x="58" y="23"/>
                    </a:lnTo>
                    <a:lnTo>
                      <a:pt x="56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3938040" y="3522600"/>
                <a:ext cx="24480" cy="81000"/>
              </a:xfrm>
              <a:custGeom>
                <a:avLst/>
                <a:gdLst/>
                <a:ahLst/>
                <a:rect l="l" t="t" r="r" b="b"/>
                <a:pathLst>
                  <a:path w="24" h="73">
                    <a:moveTo>
                      <a:pt x="0" y="73"/>
                    </a:moveTo>
                    <a:lnTo>
                      <a:pt x="22" y="73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3951000" y="3510000"/>
                <a:ext cx="80640" cy="27000"/>
              </a:xfrm>
              <a:custGeom>
                <a:avLst/>
                <a:gdLst/>
                <a:ahLst/>
                <a:rect l="l" t="t" r="r" b="b"/>
                <a:pathLst>
                  <a:path w="84" h="24">
                    <a:moveTo>
                      <a:pt x="0" y="2"/>
                    </a:moveTo>
                    <a:lnTo>
                      <a:pt x="0" y="24"/>
                    </a:lnTo>
                    <a:lnTo>
                      <a:pt x="84" y="23"/>
                    </a:lnTo>
                    <a:lnTo>
                      <a:pt x="84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021920" y="3446640"/>
                <a:ext cx="24480" cy="75960"/>
              </a:xfrm>
              <a:custGeom>
                <a:avLst/>
                <a:gdLst/>
                <a:ahLst/>
                <a:rect l="l" t="t" r="r" b="b"/>
                <a:pathLst>
                  <a:path w="24" h="71">
                    <a:moveTo>
                      <a:pt x="0" y="71"/>
                    </a:moveTo>
                    <a:lnTo>
                      <a:pt x="23" y="71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031640" y="3432240"/>
                <a:ext cx="177840" cy="27000"/>
              </a:xfrm>
              <a:custGeom>
                <a:avLst/>
                <a:gdLst/>
                <a:ahLst/>
                <a:rect l="l" t="t" r="r" b="b"/>
                <a:pathLst>
                  <a:path w="182" h="24">
                    <a:moveTo>
                      <a:pt x="0" y="2"/>
                    </a:moveTo>
                    <a:lnTo>
                      <a:pt x="0" y="24"/>
                    </a:lnTo>
                    <a:lnTo>
                      <a:pt x="182" y="22"/>
                    </a:lnTo>
                    <a:lnTo>
                      <a:pt x="18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203360" y="3354480"/>
                <a:ext cx="21240" cy="92160"/>
              </a:xfrm>
              <a:custGeom>
                <a:avLst/>
                <a:gdLst/>
                <a:ahLst/>
                <a:rect l="l" t="t" r="r" b="b"/>
                <a:pathLst>
                  <a:path w="24" h="86">
                    <a:moveTo>
                      <a:pt x="0" y="86"/>
                    </a:moveTo>
                    <a:lnTo>
                      <a:pt x="23" y="86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259520" y="3257640"/>
                <a:ext cx="24480" cy="96840"/>
              </a:xfrm>
              <a:custGeom>
                <a:avLst/>
                <a:gdLst/>
                <a:ahLst/>
                <a:rect l="l" t="t" r="r" b="b"/>
                <a:pathLst>
                  <a:path w="24" h="90">
                    <a:moveTo>
                      <a:pt x="0" y="90"/>
                    </a:moveTo>
                    <a:lnTo>
                      <a:pt x="23" y="90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269240" y="3244680"/>
                <a:ext cx="212400" cy="25560"/>
              </a:xfrm>
              <a:custGeom>
                <a:avLst/>
                <a:gdLst/>
                <a:ahLst/>
                <a:rect l="l" t="t" r="r" b="b"/>
                <a:pathLst>
                  <a:path w="216" h="25">
                    <a:moveTo>
                      <a:pt x="0" y="2"/>
                    </a:moveTo>
                    <a:lnTo>
                      <a:pt x="0" y="25"/>
                    </a:lnTo>
                    <a:lnTo>
                      <a:pt x="216" y="23"/>
                    </a:lnTo>
                    <a:lnTo>
                      <a:pt x="216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470120" y="3156120"/>
                <a:ext cx="24480" cy="101520"/>
              </a:xfrm>
              <a:custGeom>
                <a:avLst/>
                <a:gdLst/>
                <a:ahLst/>
                <a:rect l="l" t="t" r="r" b="b"/>
                <a:pathLst>
                  <a:path w="24" h="98">
                    <a:moveTo>
                      <a:pt x="0" y="98"/>
                    </a:moveTo>
                    <a:lnTo>
                      <a:pt x="22" y="98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482000" y="3137040"/>
                <a:ext cx="196200" cy="28440"/>
              </a:xfrm>
              <a:custGeom>
                <a:avLst/>
                <a:gdLst/>
                <a:ahLst/>
                <a:rect l="l" t="t" r="r" b="b"/>
                <a:pathLst>
                  <a:path w="197" h="26">
                    <a:moveTo>
                      <a:pt x="0" y="4"/>
                    </a:moveTo>
                    <a:lnTo>
                      <a:pt x="0" y="26"/>
                    </a:lnTo>
                    <a:lnTo>
                      <a:pt x="197" y="23"/>
                    </a:lnTo>
                    <a:lnTo>
                      <a:pt x="19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63080" y="3041640"/>
                <a:ext cx="24480" cy="114480"/>
              </a:xfrm>
              <a:custGeom>
                <a:avLst/>
                <a:gdLst/>
                <a:ahLst/>
                <a:rect l="l" t="t" r="r" b="b"/>
                <a:pathLst>
                  <a:path w="24" h="105">
                    <a:moveTo>
                      <a:pt x="0" y="105"/>
                    </a:moveTo>
                    <a:lnTo>
                      <a:pt x="22" y="105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678200" y="3024360"/>
                <a:ext cx="44280" cy="29880"/>
              </a:xfrm>
              <a:custGeom>
                <a:avLst/>
                <a:gdLst/>
                <a:ahLst/>
                <a:rect l="l" t="t" r="r" b="b"/>
                <a:pathLst>
                  <a:path w="49" h="26">
                    <a:moveTo>
                      <a:pt x="0" y="4"/>
                    </a:moveTo>
                    <a:lnTo>
                      <a:pt x="2" y="26"/>
                    </a:lnTo>
                    <a:lnTo>
                      <a:pt x="49" y="22"/>
                    </a:lnTo>
                    <a:lnTo>
                      <a:pt x="4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709520" y="2928960"/>
                <a:ext cx="24480" cy="112680"/>
              </a:xfrm>
              <a:custGeom>
                <a:avLst/>
                <a:gdLst/>
                <a:ahLst/>
                <a:rect l="l" t="t" r="r" b="b"/>
                <a:pathLst>
                  <a:path w="24" h="103">
                    <a:moveTo>
                      <a:pt x="0" y="103"/>
                    </a:moveTo>
                    <a:lnTo>
                      <a:pt x="22" y="103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722480" y="2917800"/>
                <a:ext cx="77040" cy="23760"/>
              </a:xfrm>
              <a:custGeom>
                <a:avLst/>
                <a:gdLst/>
                <a:ahLst/>
                <a:rect l="l" t="t" r="r" b="b"/>
                <a:pathLst>
                  <a:path w="81" h="24">
                    <a:moveTo>
                      <a:pt x="0" y="2"/>
                    </a:moveTo>
                    <a:lnTo>
                      <a:pt x="0" y="24"/>
                    </a:lnTo>
                    <a:lnTo>
                      <a:pt x="81" y="22"/>
                    </a:lnTo>
                    <a:lnTo>
                      <a:pt x="8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788360" y="2808360"/>
                <a:ext cx="24480" cy="120600"/>
              </a:xfrm>
              <a:custGeom>
                <a:avLst/>
                <a:gdLst/>
                <a:ahLst/>
                <a:rect l="l" t="t" r="r" b="b"/>
                <a:pathLst>
                  <a:path w="25" h="115">
                    <a:moveTo>
                      <a:pt x="0" y="115"/>
                    </a:moveTo>
                    <a:lnTo>
                      <a:pt x="23" y="115"/>
                    </a:lnTo>
                    <a:lnTo>
                      <a:pt x="25" y="0"/>
                    </a:lnTo>
                    <a:lnTo>
                      <a:pt x="2" y="0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4799880" y="2806560"/>
                <a:ext cx="1332000" cy="2232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951000" y="3510000"/>
                <a:ext cx="80640" cy="27000"/>
              </a:xfrm>
              <a:custGeom>
                <a:avLst/>
                <a:gdLst/>
                <a:ahLst/>
                <a:rect l="l" t="t" r="r" b="b"/>
                <a:pathLst>
                  <a:path w="84" h="24">
                    <a:moveTo>
                      <a:pt x="0" y="2"/>
                    </a:moveTo>
                    <a:lnTo>
                      <a:pt x="0" y="24"/>
                    </a:lnTo>
                    <a:lnTo>
                      <a:pt x="84" y="23"/>
                    </a:lnTo>
                    <a:lnTo>
                      <a:pt x="84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4021920" y="3446640"/>
                <a:ext cx="24480" cy="75960"/>
              </a:xfrm>
              <a:custGeom>
                <a:avLst/>
                <a:gdLst/>
                <a:ahLst/>
                <a:rect l="l" t="t" r="r" b="b"/>
                <a:pathLst>
                  <a:path w="24" h="71">
                    <a:moveTo>
                      <a:pt x="0" y="71"/>
                    </a:moveTo>
                    <a:lnTo>
                      <a:pt x="23" y="71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4031640" y="3432240"/>
                <a:ext cx="177840" cy="27000"/>
              </a:xfrm>
              <a:custGeom>
                <a:avLst/>
                <a:gdLst/>
                <a:ahLst/>
                <a:rect l="l" t="t" r="r" b="b"/>
                <a:pathLst>
                  <a:path w="182" h="24">
                    <a:moveTo>
                      <a:pt x="0" y="2"/>
                    </a:moveTo>
                    <a:lnTo>
                      <a:pt x="0" y="24"/>
                    </a:lnTo>
                    <a:lnTo>
                      <a:pt x="182" y="22"/>
                    </a:lnTo>
                    <a:lnTo>
                      <a:pt x="18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203360" y="3354480"/>
                <a:ext cx="21240" cy="92160"/>
              </a:xfrm>
              <a:custGeom>
                <a:avLst/>
                <a:gdLst/>
                <a:ahLst/>
                <a:rect l="l" t="t" r="r" b="b"/>
                <a:pathLst>
                  <a:path w="24" h="86">
                    <a:moveTo>
                      <a:pt x="0" y="86"/>
                    </a:moveTo>
                    <a:lnTo>
                      <a:pt x="23" y="86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4259520" y="3257640"/>
                <a:ext cx="24480" cy="96840"/>
              </a:xfrm>
              <a:custGeom>
                <a:avLst/>
                <a:gdLst/>
                <a:ahLst/>
                <a:rect l="l" t="t" r="r" b="b"/>
                <a:pathLst>
                  <a:path w="24" h="90">
                    <a:moveTo>
                      <a:pt x="0" y="90"/>
                    </a:moveTo>
                    <a:lnTo>
                      <a:pt x="23" y="90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4269240" y="3244680"/>
                <a:ext cx="212400" cy="25560"/>
              </a:xfrm>
              <a:custGeom>
                <a:avLst/>
                <a:gdLst/>
                <a:ahLst/>
                <a:rect l="l" t="t" r="r" b="b"/>
                <a:pathLst>
                  <a:path w="216" h="25">
                    <a:moveTo>
                      <a:pt x="0" y="2"/>
                    </a:moveTo>
                    <a:lnTo>
                      <a:pt x="0" y="25"/>
                    </a:lnTo>
                    <a:lnTo>
                      <a:pt x="216" y="23"/>
                    </a:lnTo>
                    <a:lnTo>
                      <a:pt x="216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470120" y="3156120"/>
                <a:ext cx="24480" cy="101520"/>
              </a:xfrm>
              <a:custGeom>
                <a:avLst/>
                <a:gdLst/>
                <a:ahLst/>
                <a:rect l="l" t="t" r="r" b="b"/>
                <a:pathLst>
                  <a:path w="24" h="98">
                    <a:moveTo>
                      <a:pt x="0" y="98"/>
                    </a:moveTo>
                    <a:lnTo>
                      <a:pt x="22" y="98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4482000" y="3137040"/>
                <a:ext cx="196200" cy="28440"/>
              </a:xfrm>
              <a:custGeom>
                <a:avLst/>
                <a:gdLst/>
                <a:ahLst/>
                <a:rect l="l" t="t" r="r" b="b"/>
                <a:pathLst>
                  <a:path w="197" h="26">
                    <a:moveTo>
                      <a:pt x="0" y="4"/>
                    </a:moveTo>
                    <a:lnTo>
                      <a:pt x="0" y="26"/>
                    </a:lnTo>
                    <a:lnTo>
                      <a:pt x="197" y="23"/>
                    </a:lnTo>
                    <a:lnTo>
                      <a:pt x="19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4663080" y="3041640"/>
                <a:ext cx="24480" cy="114480"/>
              </a:xfrm>
              <a:custGeom>
                <a:avLst/>
                <a:gdLst/>
                <a:ahLst/>
                <a:rect l="l" t="t" r="r" b="b"/>
                <a:pathLst>
                  <a:path w="24" h="105">
                    <a:moveTo>
                      <a:pt x="0" y="105"/>
                    </a:moveTo>
                    <a:lnTo>
                      <a:pt x="22" y="105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4678200" y="3024360"/>
                <a:ext cx="44280" cy="29880"/>
              </a:xfrm>
              <a:custGeom>
                <a:avLst/>
                <a:gdLst/>
                <a:ahLst/>
                <a:rect l="l" t="t" r="r" b="b"/>
                <a:pathLst>
                  <a:path w="49" h="26">
                    <a:moveTo>
                      <a:pt x="0" y="4"/>
                    </a:moveTo>
                    <a:lnTo>
                      <a:pt x="2" y="26"/>
                    </a:lnTo>
                    <a:lnTo>
                      <a:pt x="49" y="22"/>
                    </a:lnTo>
                    <a:lnTo>
                      <a:pt x="4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709520" y="2928960"/>
                <a:ext cx="24480" cy="112680"/>
              </a:xfrm>
              <a:custGeom>
                <a:avLst/>
                <a:gdLst/>
                <a:ahLst/>
                <a:rect l="l" t="t" r="r" b="b"/>
                <a:pathLst>
                  <a:path w="24" h="103">
                    <a:moveTo>
                      <a:pt x="0" y="103"/>
                    </a:moveTo>
                    <a:lnTo>
                      <a:pt x="22" y="103"/>
                    </a:lnTo>
                    <a:lnTo>
                      <a:pt x="24" y="0"/>
                    </a:lnTo>
                    <a:lnTo>
                      <a:pt x="2" y="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722480" y="2917800"/>
                <a:ext cx="77040" cy="23760"/>
              </a:xfrm>
              <a:custGeom>
                <a:avLst/>
                <a:gdLst/>
                <a:ahLst/>
                <a:rect l="l" t="t" r="r" b="b"/>
                <a:pathLst>
                  <a:path w="81" h="24">
                    <a:moveTo>
                      <a:pt x="0" y="2"/>
                    </a:moveTo>
                    <a:lnTo>
                      <a:pt x="0" y="24"/>
                    </a:lnTo>
                    <a:lnTo>
                      <a:pt x="81" y="22"/>
                    </a:lnTo>
                    <a:lnTo>
                      <a:pt x="81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788360" y="2808360"/>
                <a:ext cx="24480" cy="120600"/>
              </a:xfrm>
              <a:custGeom>
                <a:avLst/>
                <a:gdLst/>
                <a:ahLst/>
                <a:rect l="l" t="t" r="r" b="b"/>
                <a:pathLst>
                  <a:path w="25" h="115">
                    <a:moveTo>
                      <a:pt x="0" y="115"/>
                    </a:moveTo>
                    <a:lnTo>
                      <a:pt x="23" y="115"/>
                    </a:lnTo>
                    <a:lnTo>
                      <a:pt x="25" y="0"/>
                    </a:lnTo>
                    <a:lnTo>
                      <a:pt x="2" y="0"/>
                    </a:lnTo>
                    <a:lnTo>
                      <a:pt x="0" y="115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799880" y="2806560"/>
                <a:ext cx="1332000" cy="2232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3316320" y="4046400"/>
                <a:ext cx="88920" cy="241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6" name=""/>
          <p:cNvSpPr/>
          <p:nvPr/>
        </p:nvSpPr>
        <p:spPr>
          <a:xfrm>
            <a:off x="3471840" y="4046400"/>
            <a:ext cx="88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3627360" y="4046400"/>
            <a:ext cx="88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936960" y="4046400"/>
            <a:ext cx="85680" cy="24120"/>
          </a:xfrm>
          <a:prstGeom prst="rect">
            <a:avLst/>
          </a:prstGeom>
          <a:solidFill>
            <a:srgbClr val="000000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089240" y="4046400"/>
            <a:ext cx="87480" cy="24120"/>
          </a:xfrm>
          <a:prstGeom prst="rect">
            <a:avLst/>
          </a:prstGeom>
          <a:solidFill>
            <a:srgbClr val="000000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245120" y="4046400"/>
            <a:ext cx="87120" cy="24120"/>
          </a:xfrm>
          <a:prstGeom prst="rect">
            <a:avLst/>
          </a:prstGeom>
          <a:solidFill>
            <a:srgbClr val="000000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400640" y="4044960"/>
            <a:ext cx="87120" cy="23760"/>
          </a:xfrm>
          <a:prstGeom prst="rect">
            <a:avLst/>
          </a:prstGeom>
          <a:solidFill>
            <a:srgbClr val="000000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554360" y="4044960"/>
            <a:ext cx="87480" cy="23760"/>
          </a:xfrm>
          <a:prstGeom prst="rect">
            <a:avLst/>
          </a:prstGeom>
          <a:solidFill>
            <a:srgbClr val="000000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4708440" y="4044960"/>
            <a:ext cx="88920" cy="23760"/>
          </a:xfrm>
          <a:prstGeom prst="rect">
            <a:avLst/>
          </a:prstGeom>
          <a:solidFill>
            <a:srgbClr val="000000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862520" y="4044960"/>
            <a:ext cx="87480" cy="23760"/>
          </a:xfrm>
          <a:prstGeom prst="rect">
            <a:avLst/>
          </a:prstGeom>
          <a:solidFill>
            <a:srgbClr val="000000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5019840" y="4044960"/>
            <a:ext cx="85680" cy="23760"/>
          </a:xfrm>
          <a:prstGeom prst="rect">
            <a:avLst/>
          </a:prstGeom>
          <a:solidFill>
            <a:srgbClr val="000000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5173560" y="4044960"/>
            <a:ext cx="87480" cy="23760"/>
          </a:xfrm>
          <a:prstGeom prst="rect">
            <a:avLst/>
          </a:prstGeom>
          <a:solidFill>
            <a:srgbClr val="000000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5327640" y="4044960"/>
            <a:ext cx="34920" cy="23760"/>
          </a:xfrm>
          <a:prstGeom prst="rect">
            <a:avLst/>
          </a:prstGeom>
          <a:solidFill>
            <a:srgbClr val="000000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353200" y="3962520"/>
            <a:ext cx="21960" cy="96840"/>
          </a:xfrm>
          <a:custGeom>
            <a:avLst/>
            <a:gdLst/>
            <a:ahLst/>
            <a:rect l="l" t="t" r="r" b="b"/>
            <a:pathLst>
              <a:path w="25" h="90">
                <a:moveTo>
                  <a:pt x="0" y="90"/>
                </a:moveTo>
                <a:lnTo>
                  <a:pt x="23" y="90"/>
                </a:lnTo>
                <a:lnTo>
                  <a:pt x="25" y="0"/>
                </a:lnTo>
                <a:lnTo>
                  <a:pt x="2" y="0"/>
                </a:lnTo>
                <a:lnTo>
                  <a:pt x="0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362560" y="3908520"/>
            <a:ext cx="8892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5518080" y="3908520"/>
            <a:ext cx="8892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5673600" y="3906720"/>
            <a:ext cx="88920" cy="27000"/>
          </a:xfrm>
          <a:custGeom>
            <a:avLst/>
            <a:gdLst/>
            <a:ahLst/>
            <a:rect l="l" t="t" r="r" b="b"/>
            <a:pathLst>
              <a:path w="90" h="25">
                <a:moveTo>
                  <a:pt x="0" y="2"/>
                </a:moveTo>
                <a:lnTo>
                  <a:pt x="0" y="25"/>
                </a:lnTo>
                <a:lnTo>
                  <a:pt x="90" y="23"/>
                </a:lnTo>
                <a:lnTo>
                  <a:pt x="9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5829480" y="3906720"/>
            <a:ext cx="8856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985000" y="3906720"/>
            <a:ext cx="8892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3305160" y="4059360"/>
            <a:ext cx="25560" cy="63360"/>
          </a:xfrm>
          <a:custGeom>
            <a:avLst/>
            <a:gdLst/>
            <a:ahLst/>
            <a:rect l="l" t="t" r="r" b="b"/>
            <a:pathLst>
              <a:path w="25" h="60">
                <a:moveTo>
                  <a:pt x="0" y="60"/>
                </a:moveTo>
                <a:lnTo>
                  <a:pt x="23" y="60"/>
                </a:lnTo>
                <a:lnTo>
                  <a:pt x="25" y="0"/>
                </a:lnTo>
                <a:lnTo>
                  <a:pt x="2" y="0"/>
                </a:lnTo>
                <a:lnTo>
                  <a:pt x="0" y="6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3722760" y="3575160"/>
            <a:ext cx="2402280" cy="563040"/>
            <a:chOff x="3722760" y="3575160"/>
            <a:chExt cx="2402280" cy="563040"/>
          </a:xfrm>
        </p:grpSpPr>
        <p:sp>
          <p:nvSpPr>
            <p:cNvPr id="1886" name=""/>
            <p:cNvSpPr/>
            <p:nvPr/>
          </p:nvSpPr>
          <p:spPr>
            <a:xfrm>
              <a:off x="3722760" y="4052880"/>
              <a:ext cx="23400" cy="85320"/>
            </a:xfrm>
            <a:custGeom>
              <a:avLst/>
              <a:gdLst/>
              <a:ahLst/>
              <a:rect l="l" t="t" r="r" b="b"/>
              <a:pathLst>
                <a:path w="25" h="80">
                  <a:moveTo>
                    <a:pt x="0" y="80"/>
                  </a:moveTo>
                  <a:lnTo>
                    <a:pt x="23" y="80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755880" y="3960360"/>
              <a:ext cx="23040" cy="92160"/>
            </a:xfrm>
            <a:custGeom>
              <a:avLst/>
              <a:gdLst/>
              <a:ahLst/>
              <a:rect l="l" t="t" r="r" b="b"/>
              <a:pathLst>
                <a:path w="24" h="87">
                  <a:moveTo>
                    <a:pt x="0" y="87"/>
                  </a:moveTo>
                  <a:lnTo>
                    <a:pt x="23" y="87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765600" y="3945600"/>
              <a:ext cx="176040" cy="25560"/>
            </a:xfrm>
            <a:custGeom>
              <a:avLst/>
              <a:gdLst/>
              <a:ahLst/>
              <a:rect l="l" t="t" r="r" b="b"/>
              <a:pathLst>
                <a:path w="180" h="25">
                  <a:moveTo>
                    <a:pt x="0" y="2"/>
                  </a:moveTo>
                  <a:lnTo>
                    <a:pt x="0" y="25"/>
                  </a:lnTo>
                  <a:lnTo>
                    <a:pt x="180" y="23"/>
                  </a:lnTo>
                  <a:lnTo>
                    <a:pt x="18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965760" y="3864240"/>
              <a:ext cx="25560" cy="9612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lnTo>
                    <a:pt x="22" y="90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0" name=""/>
            <p:cNvGrpSpPr/>
            <p:nvPr/>
          </p:nvGrpSpPr>
          <p:grpSpPr>
            <a:xfrm>
              <a:off x="3977640" y="3846960"/>
              <a:ext cx="849600" cy="27720"/>
              <a:chOff x="3977640" y="3846960"/>
              <a:chExt cx="849600" cy="27720"/>
            </a:xfrm>
          </p:grpSpPr>
          <p:sp>
            <p:nvSpPr>
              <p:cNvPr id="1891" name=""/>
              <p:cNvSpPr/>
              <p:nvPr/>
            </p:nvSpPr>
            <p:spPr>
              <a:xfrm>
                <a:off x="3977640" y="3851280"/>
                <a:ext cx="176400" cy="2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4221000" y="3849120"/>
                <a:ext cx="176400" cy="23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464000" y="3846960"/>
                <a:ext cx="176400" cy="25200"/>
              </a:xfrm>
              <a:custGeom>
                <a:avLst/>
                <a:gdLst/>
                <a:ahLst/>
                <a:rect l="l" t="t" r="r" b="b"/>
                <a:pathLst>
                  <a:path w="180" h="25">
                    <a:moveTo>
                      <a:pt x="0" y="2"/>
                    </a:moveTo>
                    <a:lnTo>
                      <a:pt x="0" y="25"/>
                    </a:lnTo>
                    <a:lnTo>
                      <a:pt x="180" y="23"/>
                    </a:lnTo>
                    <a:lnTo>
                      <a:pt x="18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4705920" y="3846960"/>
                <a:ext cx="121320" cy="2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5" name=""/>
            <p:cNvSpPr/>
            <p:nvPr/>
          </p:nvSpPr>
          <p:spPr>
            <a:xfrm>
              <a:off x="4817880" y="3738240"/>
              <a:ext cx="23400" cy="126000"/>
            </a:xfrm>
            <a:custGeom>
              <a:avLst/>
              <a:gdLst/>
              <a:ahLst/>
              <a:rect l="l" t="t" r="r" b="b"/>
              <a:pathLst>
                <a:path w="25" h="118">
                  <a:moveTo>
                    <a:pt x="0" y="118"/>
                  </a:moveTo>
                  <a:lnTo>
                    <a:pt x="23" y="118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827960" y="3723120"/>
              <a:ext cx="137520" cy="25560"/>
            </a:xfrm>
            <a:custGeom>
              <a:avLst/>
              <a:gdLst/>
              <a:ahLst/>
              <a:rect l="l" t="t" r="r" b="b"/>
              <a:pathLst>
                <a:path w="139" h="24">
                  <a:moveTo>
                    <a:pt x="0" y="2"/>
                  </a:moveTo>
                  <a:lnTo>
                    <a:pt x="0" y="24"/>
                  </a:lnTo>
                  <a:lnTo>
                    <a:pt x="139" y="22"/>
                  </a:lnTo>
                  <a:lnTo>
                    <a:pt x="13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953960" y="3588120"/>
              <a:ext cx="23040" cy="14976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139"/>
                  </a:moveTo>
                  <a:lnTo>
                    <a:pt x="23" y="139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8" name=""/>
            <p:cNvGrpSpPr/>
            <p:nvPr/>
          </p:nvGrpSpPr>
          <p:grpSpPr>
            <a:xfrm>
              <a:off x="4975200" y="3575160"/>
              <a:ext cx="1149840" cy="23400"/>
              <a:chOff x="4975200" y="3575160"/>
              <a:chExt cx="1149840" cy="23400"/>
            </a:xfrm>
          </p:grpSpPr>
          <p:sp>
            <p:nvSpPr>
              <p:cNvPr id="1899" name=""/>
              <p:cNvSpPr/>
              <p:nvPr/>
            </p:nvSpPr>
            <p:spPr>
              <a:xfrm>
                <a:off x="4975200" y="3575160"/>
                <a:ext cx="176400" cy="2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218560" y="3575160"/>
                <a:ext cx="176400" cy="2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462280" y="3575160"/>
                <a:ext cx="176040" cy="2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5705280" y="3575160"/>
                <a:ext cx="176400" cy="2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948640" y="3575160"/>
                <a:ext cx="176400" cy="2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4" name=""/>
          <p:cNvGrpSpPr/>
          <p:nvPr/>
        </p:nvGrpSpPr>
        <p:grpSpPr>
          <a:xfrm>
            <a:off x="2795760" y="3906720"/>
            <a:ext cx="3345120" cy="285840"/>
            <a:chOff x="2795760" y="3906720"/>
            <a:chExt cx="3345120" cy="285840"/>
          </a:xfrm>
        </p:grpSpPr>
        <p:grpSp>
          <p:nvGrpSpPr>
            <p:cNvPr id="1905" name=""/>
            <p:cNvGrpSpPr/>
            <p:nvPr/>
          </p:nvGrpSpPr>
          <p:grpSpPr>
            <a:xfrm>
              <a:off x="2795760" y="3906720"/>
              <a:ext cx="3345120" cy="285840"/>
              <a:chOff x="2795760" y="3906720"/>
              <a:chExt cx="3345120" cy="285840"/>
            </a:xfrm>
          </p:grpSpPr>
          <p:sp>
            <p:nvSpPr>
              <p:cNvPr id="1906" name=""/>
              <p:cNvSpPr/>
              <p:nvPr/>
            </p:nvSpPr>
            <p:spPr>
              <a:xfrm>
                <a:off x="5326920" y="4044960"/>
                <a:ext cx="34560" cy="23760"/>
              </a:xfrm>
              <a:prstGeom prst="rect">
                <a:avLst/>
              </a:prstGeom>
              <a:solidFill>
                <a:srgbClr val="ff3300"/>
              </a:solidFill>
              <a:ln w="284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7" name=""/>
              <p:cNvGrpSpPr/>
              <p:nvPr/>
            </p:nvGrpSpPr>
            <p:grpSpPr>
              <a:xfrm>
                <a:off x="2795760" y="3906720"/>
                <a:ext cx="3345120" cy="285840"/>
                <a:chOff x="2795760" y="3906720"/>
                <a:chExt cx="3345120" cy="285840"/>
              </a:xfrm>
            </p:grpSpPr>
            <p:sp>
              <p:nvSpPr>
                <p:cNvPr id="1908" name=""/>
                <p:cNvSpPr/>
                <p:nvPr/>
              </p:nvSpPr>
              <p:spPr>
                <a:xfrm>
                  <a:off x="2795760" y="4167360"/>
                  <a:ext cx="87120" cy="25200"/>
                </a:xfrm>
                <a:prstGeom prst="rect">
                  <a:avLst/>
                </a:prstGeom>
                <a:solidFill>
                  <a:srgbClr val="ff3300"/>
                </a:solidFill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2950200" y="4165560"/>
                  <a:ext cx="87120" cy="25560"/>
                </a:xfrm>
                <a:prstGeom prst="rect">
                  <a:avLst/>
                </a:prstGeom>
                <a:solidFill>
                  <a:srgbClr val="ff3300"/>
                </a:solidFill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3075840" y="4110120"/>
                  <a:ext cx="88920" cy="23760"/>
                </a:xfrm>
                <a:prstGeom prst="rect">
                  <a:avLst/>
                </a:prstGeom>
                <a:solidFill>
                  <a:srgbClr val="ff3300"/>
                </a:solidFill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3227040" y="4108320"/>
                  <a:ext cx="88920" cy="24120"/>
                </a:xfrm>
                <a:prstGeom prst="rect">
                  <a:avLst/>
                </a:prstGeom>
                <a:solidFill>
                  <a:srgbClr val="ff3300"/>
                </a:solidFill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3316320" y="4046400"/>
                  <a:ext cx="88920" cy="24120"/>
                </a:xfrm>
                <a:prstGeom prst="rect">
                  <a:avLst/>
                </a:prstGeom>
                <a:solidFill>
                  <a:srgbClr val="ff3300"/>
                </a:solidFill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3471120" y="4046400"/>
                  <a:ext cx="88920" cy="24120"/>
                </a:xfrm>
                <a:prstGeom prst="rect">
                  <a:avLst/>
                </a:prstGeom>
                <a:solidFill>
                  <a:srgbClr val="ff3300"/>
                </a:solidFill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3625920" y="4046400"/>
                  <a:ext cx="89280" cy="24120"/>
                </a:xfrm>
                <a:prstGeom prst="rect">
                  <a:avLst/>
                </a:prstGeom>
                <a:solidFill>
                  <a:srgbClr val="ff3300"/>
                </a:solidFill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3781080" y="4046400"/>
                  <a:ext cx="88920" cy="24120"/>
                </a:xfrm>
                <a:prstGeom prst="rect">
                  <a:avLst/>
                </a:prstGeom>
                <a:solidFill>
                  <a:srgbClr val="ff3300"/>
                </a:solidFill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3935880" y="4046400"/>
                  <a:ext cx="85680" cy="24120"/>
                </a:xfrm>
                <a:prstGeom prst="rect">
                  <a:avLst/>
                </a:prstGeom>
                <a:solidFill>
                  <a:srgbClr val="ff3300"/>
                </a:solidFill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4089240" y="4046400"/>
                  <a:ext cx="86760" cy="24120"/>
                </a:xfrm>
                <a:prstGeom prst="rect">
                  <a:avLst/>
                </a:prstGeom>
                <a:solidFill>
                  <a:srgbClr val="ff3300"/>
                </a:solidFill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4244040" y="4046400"/>
                  <a:ext cx="87120" cy="24120"/>
                </a:xfrm>
                <a:prstGeom prst="rect">
                  <a:avLst/>
                </a:prstGeom>
                <a:solidFill>
                  <a:srgbClr val="ff3300"/>
                </a:solidFill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4399200" y="4044960"/>
                  <a:ext cx="86760" cy="23760"/>
                </a:xfrm>
                <a:prstGeom prst="rect">
                  <a:avLst/>
                </a:prstGeom>
                <a:solidFill>
                  <a:srgbClr val="ff3300"/>
                </a:solidFill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4554000" y="4044960"/>
                  <a:ext cx="87120" cy="23760"/>
                </a:xfrm>
                <a:prstGeom prst="rect">
                  <a:avLst/>
                </a:prstGeom>
                <a:solidFill>
                  <a:srgbClr val="ff3300"/>
                </a:solidFill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4707000" y="4044960"/>
                  <a:ext cx="88920" cy="23760"/>
                </a:xfrm>
                <a:prstGeom prst="rect">
                  <a:avLst/>
                </a:prstGeom>
                <a:solidFill>
                  <a:srgbClr val="ff3300"/>
                </a:solidFill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4862160" y="4044960"/>
                  <a:ext cx="86760" cy="23760"/>
                </a:xfrm>
                <a:prstGeom prst="rect">
                  <a:avLst/>
                </a:prstGeom>
                <a:solidFill>
                  <a:srgbClr val="ff3300"/>
                </a:solidFill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5018760" y="4044960"/>
                  <a:ext cx="85320" cy="23760"/>
                </a:xfrm>
                <a:prstGeom prst="rect">
                  <a:avLst/>
                </a:prstGeom>
                <a:solidFill>
                  <a:srgbClr val="ff3300"/>
                </a:solidFill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5172120" y="4044960"/>
                  <a:ext cx="86760" cy="23760"/>
                </a:xfrm>
                <a:prstGeom prst="rect">
                  <a:avLst/>
                </a:prstGeom>
                <a:solidFill>
                  <a:srgbClr val="ff3300"/>
                </a:solidFill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5351400" y="3962520"/>
                  <a:ext cx="23040" cy="96840"/>
                </a:xfrm>
                <a:custGeom>
                  <a:avLst/>
                  <a:gdLst/>
                  <a:ahLst/>
                  <a:rect l="l" t="t" r="r" b="b"/>
                  <a:pathLst>
                    <a:path w="25" h="90">
                      <a:moveTo>
                        <a:pt x="0" y="90"/>
                      </a:moveTo>
                      <a:lnTo>
                        <a:pt x="23" y="90"/>
                      </a:lnTo>
                      <a:lnTo>
                        <a:pt x="25" y="0"/>
                      </a:lnTo>
                      <a:lnTo>
                        <a:pt x="2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2844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5361480" y="3908520"/>
                  <a:ext cx="88920" cy="25200"/>
                </a:xfrm>
                <a:prstGeom prst="rect">
                  <a:avLst/>
                </a:prstGeom>
                <a:solidFill>
                  <a:srgbClr val="ff3300"/>
                </a:solidFill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5516280" y="3908520"/>
                  <a:ext cx="88920" cy="25200"/>
                </a:xfrm>
                <a:prstGeom prst="rect">
                  <a:avLst/>
                </a:prstGeom>
                <a:solidFill>
                  <a:srgbClr val="ff3300"/>
                </a:solidFill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5672880" y="3906720"/>
                  <a:ext cx="88920" cy="27000"/>
                </a:xfrm>
                <a:custGeom>
                  <a:avLst/>
                  <a:gdLst/>
                  <a:ahLst/>
                  <a:rect l="l" t="t" r="r" b="b"/>
                  <a:pathLst>
                    <a:path w="90" h="25">
                      <a:moveTo>
                        <a:pt x="0" y="2"/>
                      </a:moveTo>
                      <a:lnTo>
                        <a:pt x="0" y="25"/>
                      </a:lnTo>
                      <a:lnTo>
                        <a:pt x="90" y="23"/>
                      </a:lnTo>
                      <a:lnTo>
                        <a:pt x="90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28440">
                  <a:solidFill>
                    <a:srgbClr val="ff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5828040" y="3906720"/>
                  <a:ext cx="88920" cy="27000"/>
                </a:xfrm>
                <a:prstGeom prst="rect">
                  <a:avLst/>
                </a:prstGeom>
                <a:solidFill>
                  <a:srgbClr val="ff3300"/>
                </a:solidFill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5982480" y="3906720"/>
                  <a:ext cx="88920" cy="27000"/>
                </a:xfrm>
                <a:prstGeom prst="rect">
                  <a:avLst/>
                </a:prstGeom>
                <a:solidFill>
                  <a:srgbClr val="ff3300"/>
                </a:solidFill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6137640" y="3906720"/>
                  <a:ext cx="3240" cy="27000"/>
                </a:xfrm>
                <a:prstGeom prst="rect">
                  <a:avLst/>
                </a:prstGeom>
                <a:solidFill>
                  <a:srgbClr val="ff3300"/>
                </a:solidFill>
                <a:ln w="284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32" name=""/>
            <p:cNvSpPr/>
            <p:nvPr/>
          </p:nvSpPr>
          <p:spPr>
            <a:xfrm>
              <a:off x="3781440" y="4046400"/>
              <a:ext cx="88920" cy="24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3" name=""/>
          <p:cNvGrpSpPr/>
          <p:nvPr/>
        </p:nvGrpSpPr>
        <p:grpSpPr>
          <a:xfrm>
            <a:off x="3699000" y="3575160"/>
            <a:ext cx="2426760" cy="576000"/>
            <a:chOff x="3699000" y="3575160"/>
            <a:chExt cx="2426760" cy="576000"/>
          </a:xfrm>
        </p:grpSpPr>
        <p:sp>
          <p:nvSpPr>
            <p:cNvPr id="1934" name=""/>
            <p:cNvSpPr/>
            <p:nvPr/>
          </p:nvSpPr>
          <p:spPr>
            <a:xfrm>
              <a:off x="3732120" y="4035600"/>
              <a:ext cx="37440" cy="2844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0" y="3"/>
                  </a:moveTo>
                  <a:lnTo>
                    <a:pt x="1" y="26"/>
                  </a:lnTo>
                  <a:lnTo>
                    <a:pt x="37" y="22"/>
                  </a:lnTo>
                  <a:lnTo>
                    <a:pt x="3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732120" y="4035600"/>
              <a:ext cx="37440" cy="2844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0" y="3"/>
                  </a:moveTo>
                  <a:lnTo>
                    <a:pt x="1" y="26"/>
                  </a:lnTo>
                  <a:lnTo>
                    <a:pt x="37" y="22"/>
                  </a:lnTo>
                  <a:lnTo>
                    <a:pt x="3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732120" y="4035600"/>
              <a:ext cx="36000" cy="2844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0" y="3"/>
                  </a:moveTo>
                  <a:lnTo>
                    <a:pt x="1" y="26"/>
                  </a:lnTo>
                  <a:lnTo>
                    <a:pt x="37" y="22"/>
                  </a:lnTo>
                  <a:lnTo>
                    <a:pt x="3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699000" y="4125960"/>
              <a:ext cx="36000" cy="25200"/>
            </a:xfrm>
            <a:custGeom>
              <a:avLst/>
              <a:gdLst/>
              <a:ahLst/>
              <a:rect l="l" t="t" r="r" b="b"/>
              <a:pathLst>
                <a:path w="39" h="24">
                  <a:moveTo>
                    <a:pt x="0" y="2"/>
                  </a:moveTo>
                  <a:lnTo>
                    <a:pt x="2" y="24"/>
                  </a:lnTo>
                  <a:lnTo>
                    <a:pt x="39" y="23"/>
                  </a:lnTo>
                  <a:lnTo>
                    <a:pt x="3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732120" y="4035600"/>
              <a:ext cx="36000" cy="2844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0" y="3"/>
                  </a:moveTo>
                  <a:lnTo>
                    <a:pt x="1" y="26"/>
                  </a:lnTo>
                  <a:lnTo>
                    <a:pt x="37" y="22"/>
                  </a:lnTo>
                  <a:lnTo>
                    <a:pt x="35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699000" y="4125960"/>
              <a:ext cx="34560" cy="25200"/>
            </a:xfrm>
            <a:custGeom>
              <a:avLst/>
              <a:gdLst/>
              <a:ahLst/>
              <a:rect l="l" t="t" r="r" b="b"/>
              <a:pathLst>
                <a:path w="39" h="24">
                  <a:moveTo>
                    <a:pt x="0" y="2"/>
                  </a:moveTo>
                  <a:lnTo>
                    <a:pt x="2" y="24"/>
                  </a:lnTo>
                  <a:lnTo>
                    <a:pt x="39" y="23"/>
                  </a:lnTo>
                  <a:lnTo>
                    <a:pt x="3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722040" y="4052880"/>
              <a:ext cx="23040" cy="85680"/>
            </a:xfrm>
            <a:custGeom>
              <a:avLst/>
              <a:gdLst/>
              <a:ahLst/>
              <a:rect l="l" t="t" r="r" b="b"/>
              <a:pathLst>
                <a:path w="25" h="80">
                  <a:moveTo>
                    <a:pt x="0" y="80"/>
                  </a:moveTo>
                  <a:lnTo>
                    <a:pt x="23" y="80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754800" y="3960720"/>
              <a:ext cx="24480" cy="92160"/>
            </a:xfrm>
            <a:custGeom>
              <a:avLst/>
              <a:gdLst/>
              <a:ahLst/>
              <a:rect l="l" t="t" r="r" b="b"/>
              <a:pathLst>
                <a:path w="24" h="87">
                  <a:moveTo>
                    <a:pt x="0" y="87"/>
                  </a:moveTo>
                  <a:lnTo>
                    <a:pt x="23" y="87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764880" y="3946680"/>
              <a:ext cx="176400" cy="25200"/>
            </a:xfrm>
            <a:custGeom>
              <a:avLst/>
              <a:gdLst/>
              <a:ahLst/>
              <a:rect l="l" t="t" r="r" b="b"/>
              <a:pathLst>
                <a:path w="180" h="25">
                  <a:moveTo>
                    <a:pt x="0" y="2"/>
                  </a:moveTo>
                  <a:lnTo>
                    <a:pt x="0" y="25"/>
                  </a:lnTo>
                  <a:lnTo>
                    <a:pt x="180" y="23"/>
                  </a:lnTo>
                  <a:lnTo>
                    <a:pt x="18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966120" y="3863880"/>
              <a:ext cx="24480" cy="9684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lnTo>
                    <a:pt x="22" y="90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4" name=""/>
            <p:cNvGrpSpPr/>
            <p:nvPr/>
          </p:nvGrpSpPr>
          <p:grpSpPr>
            <a:xfrm>
              <a:off x="3977640" y="3846600"/>
              <a:ext cx="848520" cy="28080"/>
              <a:chOff x="3977640" y="3846600"/>
              <a:chExt cx="848520" cy="28080"/>
            </a:xfrm>
          </p:grpSpPr>
          <p:sp>
            <p:nvSpPr>
              <p:cNvPr id="1945" name=""/>
              <p:cNvSpPr/>
              <p:nvPr/>
            </p:nvSpPr>
            <p:spPr>
              <a:xfrm>
                <a:off x="3977640" y="3850920"/>
                <a:ext cx="176400" cy="2376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220640" y="3848760"/>
                <a:ext cx="176400" cy="234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463280" y="3846600"/>
                <a:ext cx="176400" cy="25560"/>
              </a:xfrm>
              <a:custGeom>
                <a:avLst/>
                <a:gdLst/>
                <a:ahLst/>
                <a:rect l="l" t="t" r="r" b="b"/>
                <a:pathLst>
                  <a:path w="180" h="25">
                    <a:moveTo>
                      <a:pt x="0" y="2"/>
                    </a:moveTo>
                    <a:lnTo>
                      <a:pt x="0" y="25"/>
                    </a:lnTo>
                    <a:lnTo>
                      <a:pt x="180" y="23"/>
                    </a:lnTo>
                    <a:lnTo>
                      <a:pt x="18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ffcc"/>
              </a:solidFill>
              <a:ln w="936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4704840" y="3846600"/>
                <a:ext cx="121320" cy="2376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9" name=""/>
            <p:cNvSpPr/>
            <p:nvPr/>
          </p:nvSpPr>
          <p:spPr>
            <a:xfrm>
              <a:off x="4816800" y="3738600"/>
              <a:ext cx="24480" cy="125280"/>
            </a:xfrm>
            <a:custGeom>
              <a:avLst/>
              <a:gdLst/>
              <a:ahLst/>
              <a:rect l="l" t="t" r="r" b="b"/>
              <a:pathLst>
                <a:path w="25" h="118">
                  <a:moveTo>
                    <a:pt x="0" y="118"/>
                  </a:moveTo>
                  <a:lnTo>
                    <a:pt x="23" y="118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826880" y="3722760"/>
              <a:ext cx="136800" cy="25200"/>
            </a:xfrm>
            <a:custGeom>
              <a:avLst/>
              <a:gdLst/>
              <a:ahLst/>
              <a:rect l="l" t="t" r="r" b="b"/>
              <a:pathLst>
                <a:path w="139" h="24">
                  <a:moveTo>
                    <a:pt x="0" y="2"/>
                  </a:moveTo>
                  <a:lnTo>
                    <a:pt x="0" y="24"/>
                  </a:lnTo>
                  <a:lnTo>
                    <a:pt x="139" y="22"/>
                  </a:lnTo>
                  <a:lnTo>
                    <a:pt x="13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952160" y="3587760"/>
              <a:ext cx="24480" cy="15084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139"/>
                  </a:moveTo>
                  <a:lnTo>
                    <a:pt x="23" y="139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2" name=""/>
            <p:cNvGrpSpPr/>
            <p:nvPr/>
          </p:nvGrpSpPr>
          <p:grpSpPr>
            <a:xfrm>
              <a:off x="4975200" y="3575160"/>
              <a:ext cx="1149840" cy="23400"/>
              <a:chOff x="4975200" y="3575160"/>
              <a:chExt cx="1149840" cy="23400"/>
            </a:xfrm>
          </p:grpSpPr>
          <p:sp>
            <p:nvSpPr>
              <p:cNvPr id="1953" name=""/>
              <p:cNvSpPr/>
              <p:nvPr/>
            </p:nvSpPr>
            <p:spPr>
              <a:xfrm>
                <a:off x="4975200" y="3575160"/>
                <a:ext cx="176400" cy="234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218560" y="3575160"/>
                <a:ext cx="176400" cy="234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462280" y="3575160"/>
                <a:ext cx="176040" cy="234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705280" y="3575160"/>
                <a:ext cx="176400" cy="234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948640" y="3575160"/>
                <a:ext cx="176400" cy="234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8" name=""/>
            <p:cNvSpPr/>
            <p:nvPr/>
          </p:nvSpPr>
          <p:spPr>
            <a:xfrm>
              <a:off x="3699000" y="4125960"/>
              <a:ext cx="34560" cy="25200"/>
            </a:xfrm>
            <a:custGeom>
              <a:avLst/>
              <a:gdLst/>
              <a:ahLst/>
              <a:rect l="l" t="t" r="r" b="b"/>
              <a:pathLst>
                <a:path w="39" h="24">
                  <a:moveTo>
                    <a:pt x="0" y="2"/>
                  </a:moveTo>
                  <a:lnTo>
                    <a:pt x="2" y="24"/>
                  </a:lnTo>
                  <a:lnTo>
                    <a:pt x="39" y="23"/>
                  </a:lnTo>
                  <a:lnTo>
                    <a:pt x="38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722040" y="4052880"/>
              <a:ext cx="23040" cy="85680"/>
            </a:xfrm>
            <a:custGeom>
              <a:avLst/>
              <a:gdLst/>
              <a:ahLst/>
              <a:rect l="l" t="t" r="r" b="b"/>
              <a:pathLst>
                <a:path w="25" h="80">
                  <a:moveTo>
                    <a:pt x="0" y="80"/>
                  </a:moveTo>
                  <a:lnTo>
                    <a:pt x="23" y="80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754800" y="3960720"/>
              <a:ext cx="23040" cy="92160"/>
            </a:xfrm>
            <a:custGeom>
              <a:avLst/>
              <a:gdLst/>
              <a:ahLst/>
              <a:rect l="l" t="t" r="r" b="b"/>
              <a:pathLst>
                <a:path w="24" h="87">
                  <a:moveTo>
                    <a:pt x="0" y="87"/>
                  </a:moveTo>
                  <a:lnTo>
                    <a:pt x="23" y="87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764880" y="3946680"/>
              <a:ext cx="176400" cy="25200"/>
            </a:xfrm>
            <a:custGeom>
              <a:avLst/>
              <a:gdLst/>
              <a:ahLst/>
              <a:rect l="l" t="t" r="r" b="b"/>
              <a:pathLst>
                <a:path w="180" h="25">
                  <a:moveTo>
                    <a:pt x="0" y="2"/>
                  </a:moveTo>
                  <a:lnTo>
                    <a:pt x="0" y="25"/>
                  </a:lnTo>
                  <a:lnTo>
                    <a:pt x="180" y="23"/>
                  </a:lnTo>
                  <a:lnTo>
                    <a:pt x="18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966120" y="3863880"/>
              <a:ext cx="24480" cy="9684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lnTo>
                    <a:pt x="22" y="90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977640" y="3852720"/>
              <a:ext cx="176400" cy="2232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219920" y="3849840"/>
              <a:ext cx="177840" cy="237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464000" y="3848040"/>
              <a:ext cx="176040" cy="25560"/>
            </a:xfrm>
            <a:custGeom>
              <a:avLst/>
              <a:gdLst/>
              <a:ahLst/>
              <a:rect l="l" t="t" r="r" b="b"/>
              <a:pathLst>
                <a:path w="180" h="25">
                  <a:moveTo>
                    <a:pt x="0" y="2"/>
                  </a:moveTo>
                  <a:lnTo>
                    <a:pt x="0" y="25"/>
                  </a:lnTo>
                  <a:lnTo>
                    <a:pt x="180" y="23"/>
                  </a:lnTo>
                  <a:lnTo>
                    <a:pt x="18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704480" y="3848040"/>
              <a:ext cx="122040" cy="2232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4816800" y="3738600"/>
              <a:ext cx="24480" cy="125280"/>
            </a:xfrm>
            <a:custGeom>
              <a:avLst/>
              <a:gdLst/>
              <a:ahLst/>
              <a:rect l="l" t="t" r="r" b="b"/>
              <a:pathLst>
                <a:path w="25" h="118">
                  <a:moveTo>
                    <a:pt x="0" y="118"/>
                  </a:moveTo>
                  <a:lnTo>
                    <a:pt x="23" y="118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826880" y="3722760"/>
              <a:ext cx="136800" cy="27000"/>
            </a:xfrm>
            <a:custGeom>
              <a:avLst/>
              <a:gdLst/>
              <a:ahLst/>
              <a:rect l="l" t="t" r="r" b="b"/>
              <a:pathLst>
                <a:path w="139" h="24">
                  <a:moveTo>
                    <a:pt x="0" y="2"/>
                  </a:moveTo>
                  <a:lnTo>
                    <a:pt x="0" y="24"/>
                  </a:lnTo>
                  <a:lnTo>
                    <a:pt x="139" y="22"/>
                  </a:lnTo>
                  <a:lnTo>
                    <a:pt x="13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4952160" y="3587760"/>
              <a:ext cx="23040" cy="15084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139"/>
                  </a:moveTo>
                  <a:lnTo>
                    <a:pt x="23" y="139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975200" y="3575160"/>
              <a:ext cx="177840" cy="237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217480" y="3575160"/>
              <a:ext cx="177840" cy="237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461200" y="3575160"/>
              <a:ext cx="176400" cy="237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705280" y="3575160"/>
              <a:ext cx="177840" cy="237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949360" y="3575160"/>
              <a:ext cx="176400" cy="237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722040" y="4052880"/>
              <a:ext cx="23040" cy="85680"/>
            </a:xfrm>
            <a:custGeom>
              <a:avLst/>
              <a:gdLst/>
              <a:ahLst/>
              <a:rect l="l" t="t" r="r" b="b"/>
              <a:pathLst>
                <a:path w="25" h="80">
                  <a:moveTo>
                    <a:pt x="0" y="80"/>
                  </a:moveTo>
                  <a:lnTo>
                    <a:pt x="23" y="80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754800" y="3960720"/>
              <a:ext cx="23040" cy="92160"/>
            </a:xfrm>
            <a:custGeom>
              <a:avLst/>
              <a:gdLst/>
              <a:ahLst/>
              <a:rect l="l" t="t" r="r" b="b"/>
              <a:pathLst>
                <a:path w="24" h="87">
                  <a:moveTo>
                    <a:pt x="0" y="87"/>
                  </a:moveTo>
                  <a:lnTo>
                    <a:pt x="23" y="87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764880" y="3946680"/>
              <a:ext cx="176400" cy="25200"/>
            </a:xfrm>
            <a:custGeom>
              <a:avLst/>
              <a:gdLst/>
              <a:ahLst/>
              <a:rect l="l" t="t" r="r" b="b"/>
              <a:pathLst>
                <a:path w="180" h="25">
                  <a:moveTo>
                    <a:pt x="0" y="2"/>
                  </a:moveTo>
                  <a:lnTo>
                    <a:pt x="0" y="25"/>
                  </a:lnTo>
                  <a:lnTo>
                    <a:pt x="180" y="23"/>
                  </a:lnTo>
                  <a:lnTo>
                    <a:pt x="18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966120" y="3863880"/>
              <a:ext cx="24480" cy="9684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lnTo>
                    <a:pt x="22" y="90"/>
                  </a:lnTo>
                  <a:lnTo>
                    <a:pt x="24" y="0"/>
                  </a:lnTo>
                  <a:lnTo>
                    <a:pt x="2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977640" y="3852720"/>
              <a:ext cx="176400" cy="2232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219920" y="3849840"/>
              <a:ext cx="177840" cy="237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464000" y="3848040"/>
              <a:ext cx="176040" cy="25560"/>
            </a:xfrm>
            <a:custGeom>
              <a:avLst/>
              <a:gdLst/>
              <a:ahLst/>
              <a:rect l="l" t="t" r="r" b="b"/>
              <a:pathLst>
                <a:path w="180" h="25">
                  <a:moveTo>
                    <a:pt x="0" y="2"/>
                  </a:moveTo>
                  <a:lnTo>
                    <a:pt x="0" y="25"/>
                  </a:lnTo>
                  <a:lnTo>
                    <a:pt x="180" y="23"/>
                  </a:lnTo>
                  <a:lnTo>
                    <a:pt x="18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704480" y="3848040"/>
              <a:ext cx="122040" cy="2232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816800" y="3738600"/>
              <a:ext cx="24480" cy="125280"/>
            </a:xfrm>
            <a:custGeom>
              <a:avLst/>
              <a:gdLst/>
              <a:ahLst/>
              <a:rect l="l" t="t" r="r" b="b"/>
              <a:pathLst>
                <a:path w="25" h="118">
                  <a:moveTo>
                    <a:pt x="0" y="118"/>
                  </a:moveTo>
                  <a:lnTo>
                    <a:pt x="23" y="118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826880" y="3722760"/>
              <a:ext cx="136800" cy="27000"/>
            </a:xfrm>
            <a:custGeom>
              <a:avLst/>
              <a:gdLst/>
              <a:ahLst/>
              <a:rect l="l" t="t" r="r" b="b"/>
              <a:pathLst>
                <a:path w="139" h="24">
                  <a:moveTo>
                    <a:pt x="0" y="2"/>
                  </a:moveTo>
                  <a:lnTo>
                    <a:pt x="0" y="24"/>
                  </a:lnTo>
                  <a:lnTo>
                    <a:pt x="139" y="22"/>
                  </a:lnTo>
                  <a:lnTo>
                    <a:pt x="13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952160" y="3587760"/>
              <a:ext cx="23040" cy="15084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139"/>
                  </a:moveTo>
                  <a:lnTo>
                    <a:pt x="23" y="139"/>
                  </a:lnTo>
                  <a:lnTo>
                    <a:pt x="25" y="0"/>
                  </a:lnTo>
                  <a:lnTo>
                    <a:pt x="2" y="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ffcc"/>
            </a:solidFill>
            <a:ln w="936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4975200" y="3575160"/>
              <a:ext cx="177840" cy="237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217480" y="3575160"/>
              <a:ext cx="177840" cy="237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461200" y="3575160"/>
              <a:ext cx="176400" cy="237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705280" y="3575160"/>
              <a:ext cx="177840" cy="237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949360" y="3575160"/>
              <a:ext cx="176400" cy="237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6302520" y="3433680"/>
            <a:ext cx="349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ffcc"/>
                </a:solidFill>
                <a:latin typeface="Tahoma"/>
              </a:rPr>
              <a:t>HPV 11-100 pg/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989680" y="2728800"/>
            <a:ext cx="16509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6328080" y="2649600"/>
            <a:ext cx="212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Tahoma"/>
              </a:rPr>
              <a:t>HPV &gt; 100 pg/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3146400" y="4421160"/>
            <a:ext cx="3240" cy="9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052880" y="4421160"/>
            <a:ext cx="3240" cy="9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960800" y="4421160"/>
            <a:ext cx="0" cy="9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865840" y="4421160"/>
            <a:ext cx="1440" cy="9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951720" y="45086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850280" y="45068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6302520" y="3759120"/>
            <a:ext cx="3066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cc"/>
                </a:solidFill>
                <a:latin typeface="Tahoma"/>
              </a:rPr>
              <a:t>HPV 1-10 pg/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6302520" y="4071960"/>
            <a:ext cx="171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ahoma"/>
              </a:rPr>
              <a:t>HPV nég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144880" y="4425840"/>
            <a:ext cx="44319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-15120" y="1511280"/>
            <a:ext cx="25200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cidence cumulat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IN 2/3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403080" y="2054160"/>
            <a:ext cx="1293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p&lt;0.0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7120800" y="1951200"/>
            <a:ext cx="25034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ffff"/>
                </a:solidFill>
                <a:latin typeface="Tahoma"/>
              </a:rPr>
              <a:t>Dalstein, Int J Cancer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757600" y="4206960"/>
            <a:ext cx="3343320" cy="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PlaceHolder 1"/>
          <p:cNvSpPr>
            <a:spLocks noGrp="1"/>
          </p:cNvSpPr>
          <p:nvPr>
            <p:ph/>
          </p:nvPr>
        </p:nvSpPr>
        <p:spPr>
          <a:xfrm>
            <a:off x="271080" y="5275440"/>
            <a:ext cx="10015560" cy="13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2760" indent="-4827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Charge virale élevée (PCR Q)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952560" indent="-279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Facteur de risque de CIN 3 (OR &gt; 5)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Rajeevan, Int J Cancer 200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279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Marqueur pronostique de HGSIL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Lillo, Clin Infect Dis 2005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72840" y="202680"/>
            <a:ext cx="89391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ffff"/>
                </a:solidFill>
                <a:latin typeface="Tahoma"/>
              </a:rPr>
              <a:t>Relation charge virale / intégration</a:t>
            </a: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pSp>
        <p:nvGrpSpPr>
          <p:cNvPr id="2009" name=""/>
          <p:cNvGrpSpPr/>
          <p:nvPr/>
        </p:nvGrpSpPr>
        <p:grpSpPr>
          <a:xfrm>
            <a:off x="660240" y="3247920"/>
            <a:ext cx="3929040" cy="3401280"/>
            <a:chOff x="660240" y="3247920"/>
            <a:chExt cx="3929040" cy="3401280"/>
          </a:xfrm>
        </p:grpSpPr>
        <p:grpSp>
          <p:nvGrpSpPr>
            <p:cNvPr id="2010" name=""/>
            <p:cNvGrpSpPr/>
            <p:nvPr/>
          </p:nvGrpSpPr>
          <p:grpSpPr>
            <a:xfrm>
              <a:off x="725760" y="3641760"/>
              <a:ext cx="3250800" cy="2660400"/>
              <a:chOff x="725760" y="3641760"/>
              <a:chExt cx="3250800" cy="2660400"/>
            </a:xfrm>
          </p:grpSpPr>
          <p:grpSp>
            <p:nvGrpSpPr>
              <p:cNvPr id="2011" name=""/>
              <p:cNvGrpSpPr/>
              <p:nvPr/>
            </p:nvGrpSpPr>
            <p:grpSpPr>
              <a:xfrm>
                <a:off x="1023840" y="3751200"/>
                <a:ext cx="33480" cy="1938240"/>
                <a:chOff x="1023840" y="3751200"/>
                <a:chExt cx="33480" cy="1938240"/>
              </a:xfrm>
            </p:grpSpPr>
            <p:sp>
              <p:nvSpPr>
                <p:cNvPr id="2012" name=""/>
                <p:cNvSpPr/>
                <p:nvPr/>
              </p:nvSpPr>
              <p:spPr>
                <a:xfrm>
                  <a:off x="1023840" y="568800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1023840" y="375120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1023840" y="4027320"/>
                  <a:ext cx="3348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1023840" y="430380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1023840" y="4581360"/>
                  <a:ext cx="3348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1023840" y="485784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1023840" y="513396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1023840" y="5410080"/>
                  <a:ext cx="3348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0" name=""/>
              <p:cNvSpPr/>
              <p:nvPr/>
            </p:nvSpPr>
            <p:spPr>
              <a:xfrm>
                <a:off x="725760" y="364788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888480" y="3641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052640" y="3744720"/>
                <a:ext cx="1440" cy="2557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047600" y="6297480"/>
                <a:ext cx="292896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244520" y="6222960"/>
                <a:ext cx="18900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V="1">
                <a:off x="1338120" y="5705280"/>
                <a:ext cx="1800" cy="51768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flipV="1">
                <a:off x="1522440" y="5249520"/>
                <a:ext cx="1440" cy="4554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>
                <a:off x="1147320" y="5249880"/>
                <a:ext cx="38124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154160" y="5249880"/>
                <a:ext cx="1440" cy="4554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147680" y="5705280"/>
                <a:ext cx="38124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147680" y="5395680"/>
                <a:ext cx="38124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V="1">
                <a:off x="1338120" y="4662360"/>
                <a:ext cx="1800" cy="58752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244520" y="4662360"/>
                <a:ext cx="18900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812960" y="6005520"/>
                <a:ext cx="18900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V="1">
                <a:off x="1908360" y="5503680"/>
                <a:ext cx="1440" cy="5018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V="1">
                <a:off x="2095560" y="5029200"/>
                <a:ext cx="1440" cy="47448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>
                <a:off x="1717560" y="5029200"/>
                <a:ext cx="37800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717560" y="5029200"/>
                <a:ext cx="1800" cy="47448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717560" y="5503680"/>
                <a:ext cx="37800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717560" y="5276880"/>
                <a:ext cx="37800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1908360" y="4530240"/>
                <a:ext cx="1440" cy="4986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812960" y="4530600"/>
                <a:ext cx="18900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889280" y="4243320"/>
                <a:ext cx="37800" cy="42840"/>
              </a:xfrm>
              <a:prstGeom prst="ellipse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889280" y="3859200"/>
                <a:ext cx="37800" cy="44280"/>
              </a:xfrm>
              <a:prstGeom prst="ellipse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889280" y="4179960"/>
                <a:ext cx="37800" cy="44280"/>
              </a:xfrm>
              <a:prstGeom prst="ellipse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889280" y="4127400"/>
                <a:ext cx="37800" cy="44640"/>
              </a:xfrm>
              <a:prstGeom prst="ellipse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381400" y="5780160"/>
                <a:ext cx="19044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flipV="1">
                <a:off x="2476440" y="5290560"/>
                <a:ext cx="1800" cy="4892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V="1">
                <a:off x="2665440" y="4635000"/>
                <a:ext cx="1440" cy="65556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H="1">
                <a:off x="2287440" y="4635360"/>
                <a:ext cx="37800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287440" y="4635360"/>
                <a:ext cx="1800" cy="65556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287440" y="5290920"/>
                <a:ext cx="37800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287440" y="4803840"/>
                <a:ext cx="37800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2476440" y="4030560"/>
                <a:ext cx="1800" cy="604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2381400" y="4030560"/>
                <a:ext cx="19044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951280" y="5500440"/>
                <a:ext cx="18720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flipV="1">
                <a:off x="3044880" y="5135400"/>
                <a:ext cx="1440" cy="3650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V="1">
                <a:off x="3235320" y="4591080"/>
                <a:ext cx="1440" cy="54432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H="1">
                <a:off x="2855880" y="4591080"/>
                <a:ext cx="37944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855880" y="4591080"/>
                <a:ext cx="1800" cy="54432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855880" y="5135400"/>
                <a:ext cx="37944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855880" y="4643280"/>
                <a:ext cx="37944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3044880" y="4347720"/>
                <a:ext cx="1440" cy="2430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951280" y="4348080"/>
                <a:ext cx="18720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519360" y="5883120"/>
                <a:ext cx="18900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V="1">
                <a:off x="3614760" y="5300640"/>
                <a:ext cx="1440" cy="58248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V="1">
                <a:off x="3803760" y="4895280"/>
                <a:ext cx="1440" cy="4050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H="1">
                <a:off x="3424320" y="4895640"/>
                <a:ext cx="37944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424320" y="4895640"/>
                <a:ext cx="1440" cy="4050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424320" y="5300640"/>
                <a:ext cx="37944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3424320" y="5126040"/>
                <a:ext cx="37944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V="1">
                <a:off x="3614760" y="4367160"/>
                <a:ext cx="1440" cy="52848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519360" y="4367160"/>
                <a:ext cx="18900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3594240" y="5987880"/>
                <a:ext cx="39600" cy="44640"/>
              </a:xfrm>
              <a:prstGeom prst="ellipse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25760" y="392904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888480" y="392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25760" y="420984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888480" y="420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25760" y="449100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888480" y="4486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725760" y="477360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888480" y="4767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725760" y="505440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888480" y="5048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25760" y="533700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888480" y="533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725760" y="561816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888480" y="5611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8" name=""/>
              <p:cNvGrpSpPr/>
              <p:nvPr/>
            </p:nvGrpSpPr>
            <p:grpSpPr>
              <a:xfrm>
                <a:off x="725760" y="3641760"/>
                <a:ext cx="3250800" cy="2660400"/>
                <a:chOff x="725760" y="3641760"/>
                <a:chExt cx="3250800" cy="2660400"/>
              </a:xfrm>
            </p:grpSpPr>
            <p:sp>
              <p:nvSpPr>
                <p:cNvPr id="2089" name=""/>
                <p:cNvSpPr/>
                <p:nvPr/>
              </p:nvSpPr>
              <p:spPr>
                <a:xfrm>
                  <a:off x="1023840" y="568800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1023840" y="375120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1023840" y="4027320"/>
                  <a:ext cx="3348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1023840" y="430380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1023840" y="4581360"/>
                  <a:ext cx="3348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1023840" y="485784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1023840" y="513396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1023840" y="5410080"/>
                  <a:ext cx="3348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1023840" y="568800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1023840" y="375120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1023840" y="4027320"/>
                  <a:ext cx="3348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>
                  <a:off x="1023840" y="430380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1023840" y="4581360"/>
                  <a:ext cx="3348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1023840" y="485784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1023840" y="513396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023840" y="5410080"/>
                  <a:ext cx="3348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725760" y="3647880"/>
                  <a:ext cx="183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3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888480" y="364176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ffff"/>
                      </a:solidFill>
                      <a:latin typeface="Arial"/>
                    </a:rPr>
                    <a:t>8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052640" y="3744720"/>
                  <a:ext cx="1440" cy="2557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047600" y="6297480"/>
                  <a:ext cx="292896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244520" y="6222960"/>
                  <a:ext cx="18900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 flipV="1">
                  <a:off x="1338120" y="5705280"/>
                  <a:ext cx="1800" cy="51768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 flipV="1">
                  <a:off x="1522440" y="5249520"/>
                  <a:ext cx="1440" cy="4554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 flipH="1">
                  <a:off x="1147320" y="5249880"/>
                  <a:ext cx="38124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154160" y="5249880"/>
                  <a:ext cx="1440" cy="4554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147680" y="5705280"/>
                  <a:ext cx="38124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1147680" y="5395680"/>
                  <a:ext cx="38124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 flipV="1">
                  <a:off x="1338120" y="4662360"/>
                  <a:ext cx="1800" cy="58752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1244520" y="4662360"/>
                  <a:ext cx="18900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1812960" y="6005520"/>
                  <a:ext cx="18900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 flipV="1">
                  <a:off x="1908360" y="5503680"/>
                  <a:ext cx="1440" cy="5018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 flipV="1">
                  <a:off x="2095560" y="5029200"/>
                  <a:ext cx="1440" cy="47448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 flipH="1">
                  <a:off x="1717560" y="5029200"/>
                  <a:ext cx="37800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1717560" y="5029200"/>
                  <a:ext cx="1800" cy="47448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1717560" y="5503680"/>
                  <a:ext cx="37800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1717560" y="5276880"/>
                  <a:ext cx="37800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 flipV="1">
                  <a:off x="1908360" y="4530240"/>
                  <a:ext cx="1440" cy="4986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1812960" y="4530600"/>
                  <a:ext cx="18900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1889280" y="4243320"/>
                  <a:ext cx="37800" cy="42840"/>
                </a:xfrm>
                <a:prstGeom prst="ellipse">
                  <a:avLst/>
                </a:prstGeom>
                <a:noFill/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1889280" y="3859200"/>
                  <a:ext cx="37800" cy="44280"/>
                </a:xfrm>
                <a:prstGeom prst="ellipse">
                  <a:avLst/>
                </a:prstGeom>
                <a:noFill/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1889280" y="4179960"/>
                  <a:ext cx="37800" cy="44280"/>
                </a:xfrm>
                <a:prstGeom prst="ellipse">
                  <a:avLst/>
                </a:prstGeom>
                <a:noFill/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1889280" y="4127400"/>
                  <a:ext cx="37800" cy="44640"/>
                </a:xfrm>
                <a:prstGeom prst="ellipse">
                  <a:avLst/>
                </a:prstGeom>
                <a:noFill/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381400" y="5780160"/>
                  <a:ext cx="19044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 flipV="1">
                  <a:off x="2476440" y="5290560"/>
                  <a:ext cx="1800" cy="4892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 flipV="1">
                  <a:off x="2665440" y="4635000"/>
                  <a:ext cx="1440" cy="65556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 flipH="1">
                  <a:off x="2287440" y="4635360"/>
                  <a:ext cx="37800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287440" y="4635360"/>
                  <a:ext cx="1800" cy="65556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287440" y="5290920"/>
                  <a:ext cx="37800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287440" y="4803840"/>
                  <a:ext cx="37800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 flipV="1">
                  <a:off x="2476440" y="4030560"/>
                  <a:ext cx="1800" cy="604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381400" y="4030560"/>
                  <a:ext cx="19044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951280" y="5500440"/>
                  <a:ext cx="18720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 flipV="1">
                  <a:off x="3044880" y="5135400"/>
                  <a:ext cx="1440" cy="3650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 flipV="1">
                  <a:off x="3235320" y="4591080"/>
                  <a:ext cx="1440" cy="54432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H="1">
                  <a:off x="2855880" y="4591080"/>
                  <a:ext cx="37944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855880" y="4591080"/>
                  <a:ext cx="1800" cy="54432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855880" y="5135400"/>
                  <a:ext cx="37944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855880" y="4643280"/>
                  <a:ext cx="37944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 flipV="1">
                  <a:off x="3044880" y="4347720"/>
                  <a:ext cx="1440" cy="2430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951280" y="4348080"/>
                  <a:ext cx="18720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3519360" y="5883120"/>
                  <a:ext cx="18900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 flipV="1">
                  <a:off x="3614760" y="5300640"/>
                  <a:ext cx="1440" cy="58248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 flipV="1">
                  <a:off x="3803760" y="4895280"/>
                  <a:ext cx="1440" cy="4050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 flipH="1">
                  <a:off x="3424320" y="4895640"/>
                  <a:ext cx="37944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424320" y="4895640"/>
                  <a:ext cx="1440" cy="4050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424320" y="5300640"/>
                  <a:ext cx="37944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424320" y="5126040"/>
                  <a:ext cx="37944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 flipV="1">
                  <a:off x="3614760" y="4367160"/>
                  <a:ext cx="1440" cy="52848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519360" y="4367160"/>
                  <a:ext cx="18900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594240" y="5987880"/>
                  <a:ext cx="39600" cy="44640"/>
                </a:xfrm>
                <a:prstGeom prst="ellipse">
                  <a:avLst/>
                </a:prstGeom>
                <a:noFill/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725760" y="3929040"/>
                  <a:ext cx="183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3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888480" y="392436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ffff"/>
                      </a:solidFill>
                      <a:latin typeface="Arial"/>
                    </a:rPr>
                    <a:t>7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725760" y="4209840"/>
                  <a:ext cx="183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3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888480" y="420516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ffff"/>
                      </a:solidFill>
                      <a:latin typeface="Arial"/>
                    </a:rPr>
                    <a:t>6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725760" y="4491000"/>
                  <a:ext cx="183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3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888480" y="448632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725760" y="4773600"/>
                  <a:ext cx="183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3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888480" y="476712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725760" y="5054400"/>
                  <a:ext cx="183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3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888480" y="504828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725760" y="5337000"/>
                  <a:ext cx="183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3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888480" y="533088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725760" y="5618160"/>
                  <a:ext cx="183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3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888480" y="561168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73" name=""/>
            <p:cNvSpPr/>
            <p:nvPr/>
          </p:nvSpPr>
          <p:spPr>
            <a:xfrm>
              <a:off x="1267920" y="64054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778400" y="6405480"/>
              <a:ext cx="270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L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325960" y="6405480"/>
              <a:ext cx="30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H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968200" y="64054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272040" y="640548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ASC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8" name=""/>
            <p:cNvGrpSpPr/>
            <p:nvPr/>
          </p:nvGrpSpPr>
          <p:grpSpPr>
            <a:xfrm>
              <a:off x="725760" y="3641760"/>
              <a:ext cx="3250800" cy="2660400"/>
              <a:chOff x="725760" y="3641760"/>
              <a:chExt cx="3250800" cy="2660400"/>
            </a:xfrm>
          </p:grpSpPr>
          <p:grpSp>
            <p:nvGrpSpPr>
              <p:cNvPr id="2179" name=""/>
              <p:cNvGrpSpPr/>
              <p:nvPr/>
            </p:nvGrpSpPr>
            <p:grpSpPr>
              <a:xfrm>
                <a:off x="1023840" y="3751200"/>
                <a:ext cx="33480" cy="1938240"/>
                <a:chOff x="1023840" y="3751200"/>
                <a:chExt cx="33480" cy="1938240"/>
              </a:xfrm>
            </p:grpSpPr>
            <p:sp>
              <p:nvSpPr>
                <p:cNvPr id="2180" name=""/>
                <p:cNvSpPr/>
                <p:nvPr/>
              </p:nvSpPr>
              <p:spPr>
                <a:xfrm>
                  <a:off x="1023840" y="568800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1023840" y="375120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1023840" y="4027320"/>
                  <a:ext cx="3348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1023840" y="430380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1023840" y="4581360"/>
                  <a:ext cx="3348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1023840" y="485784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1023840" y="513396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1023840" y="5410080"/>
                  <a:ext cx="3348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8" name=""/>
              <p:cNvSpPr/>
              <p:nvPr/>
            </p:nvSpPr>
            <p:spPr>
              <a:xfrm>
                <a:off x="725760" y="364788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888480" y="36417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1052640" y="3744720"/>
                <a:ext cx="1440" cy="2557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1047600" y="6297480"/>
                <a:ext cx="292896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1244520" y="6222960"/>
                <a:ext cx="18900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flipV="1">
                <a:off x="1338120" y="5705280"/>
                <a:ext cx="1800" cy="51768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V="1">
                <a:off x="1522440" y="5249520"/>
                <a:ext cx="1440" cy="4554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H="1">
                <a:off x="1147320" y="5249880"/>
                <a:ext cx="38124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1154160" y="5249880"/>
                <a:ext cx="1440" cy="4554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1147680" y="5705280"/>
                <a:ext cx="38124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1147680" y="5395680"/>
                <a:ext cx="38124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V="1">
                <a:off x="1338120" y="4662360"/>
                <a:ext cx="1800" cy="58752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1244520" y="4662360"/>
                <a:ext cx="18900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1812960" y="6005520"/>
                <a:ext cx="18900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V="1">
                <a:off x="1908360" y="5503680"/>
                <a:ext cx="1440" cy="5018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V="1">
                <a:off x="2095560" y="5029200"/>
                <a:ext cx="1440" cy="47448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H="1">
                <a:off x="1717560" y="5029200"/>
                <a:ext cx="37800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1717560" y="5029200"/>
                <a:ext cx="1800" cy="47448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1717560" y="5503680"/>
                <a:ext cx="37800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1717560" y="5276880"/>
                <a:ext cx="37800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V="1">
                <a:off x="1908360" y="4530240"/>
                <a:ext cx="1440" cy="4986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1812960" y="4530600"/>
                <a:ext cx="18900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1889280" y="4243320"/>
                <a:ext cx="37800" cy="42840"/>
              </a:xfrm>
              <a:prstGeom prst="ellipse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1889280" y="3859200"/>
                <a:ext cx="37800" cy="44280"/>
              </a:xfrm>
              <a:prstGeom prst="ellipse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1889280" y="4179960"/>
                <a:ext cx="37800" cy="44280"/>
              </a:xfrm>
              <a:prstGeom prst="ellipse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889280" y="4127400"/>
                <a:ext cx="37800" cy="44640"/>
              </a:xfrm>
              <a:prstGeom prst="ellipse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2381400" y="5780160"/>
                <a:ext cx="19044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flipV="1">
                <a:off x="2476440" y="5290560"/>
                <a:ext cx="1800" cy="4892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V="1">
                <a:off x="2665440" y="4635000"/>
                <a:ext cx="1440" cy="65556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H="1">
                <a:off x="2287440" y="4635360"/>
                <a:ext cx="37800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2287440" y="4635360"/>
                <a:ext cx="1800" cy="65556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2287440" y="5290920"/>
                <a:ext cx="37800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2287440" y="4803840"/>
                <a:ext cx="37800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flipV="1">
                <a:off x="2476440" y="4030560"/>
                <a:ext cx="1800" cy="604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2381400" y="4030560"/>
                <a:ext cx="19044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2951280" y="5500440"/>
                <a:ext cx="18720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flipV="1">
                <a:off x="3044880" y="5135400"/>
                <a:ext cx="1440" cy="3650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V="1">
                <a:off x="3235320" y="4591080"/>
                <a:ext cx="1440" cy="54432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flipH="1">
                <a:off x="2855880" y="4591080"/>
                <a:ext cx="37944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2855880" y="4591080"/>
                <a:ext cx="1800" cy="54432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2855880" y="5135400"/>
                <a:ext cx="37944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2855880" y="4643280"/>
                <a:ext cx="37944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flipV="1">
                <a:off x="3044880" y="4347720"/>
                <a:ext cx="1440" cy="2430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951280" y="4348080"/>
                <a:ext cx="18720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3519360" y="5883120"/>
                <a:ext cx="18900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flipV="1">
                <a:off x="3614760" y="5300640"/>
                <a:ext cx="1440" cy="58248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 flipV="1">
                <a:off x="3803760" y="4895280"/>
                <a:ext cx="1440" cy="4050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>
                <a:off x="3424320" y="4895640"/>
                <a:ext cx="379440" cy="18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3424320" y="4895640"/>
                <a:ext cx="1440" cy="40500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3424320" y="5300640"/>
                <a:ext cx="37944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3424320" y="5126040"/>
                <a:ext cx="37944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flipV="1">
                <a:off x="3614760" y="4367160"/>
                <a:ext cx="1440" cy="52848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3519360" y="4367160"/>
                <a:ext cx="189000" cy="1440"/>
              </a:xfrm>
              <a:prstGeom prst="line">
                <a:avLst/>
              </a:prstGeom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3594240" y="5987880"/>
                <a:ext cx="39600" cy="44640"/>
              </a:xfrm>
              <a:prstGeom prst="ellipse">
                <a:avLst/>
              </a:prstGeom>
              <a:noFill/>
              <a:ln w="14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725760" y="392904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888480" y="39243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725760" y="420984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888480" y="420516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25760" y="449100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888480" y="44863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25760" y="477360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888480" y="4767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25760" y="505440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888480" y="50482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25760" y="533700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888480" y="53308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25760" y="5618160"/>
                <a:ext cx="18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888480" y="56116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9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6" name=""/>
              <p:cNvGrpSpPr/>
              <p:nvPr/>
            </p:nvGrpSpPr>
            <p:grpSpPr>
              <a:xfrm>
                <a:off x="725760" y="3641760"/>
                <a:ext cx="3250800" cy="2660400"/>
                <a:chOff x="725760" y="3641760"/>
                <a:chExt cx="3250800" cy="2660400"/>
              </a:xfrm>
            </p:grpSpPr>
            <p:sp>
              <p:nvSpPr>
                <p:cNvPr id="2257" name=""/>
                <p:cNvSpPr/>
                <p:nvPr/>
              </p:nvSpPr>
              <p:spPr>
                <a:xfrm>
                  <a:off x="1023840" y="568800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1023840" y="375120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>
                  <a:off x="1023840" y="4027320"/>
                  <a:ext cx="3348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1023840" y="430380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1023840" y="4581360"/>
                  <a:ext cx="3348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1023840" y="485784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1023840" y="513396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1023840" y="5410080"/>
                  <a:ext cx="3348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1023840" y="568800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1023840" y="375120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1023840" y="4027320"/>
                  <a:ext cx="3348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1023840" y="430380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1023840" y="4581360"/>
                  <a:ext cx="3348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1023840" y="485784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1023840" y="5133960"/>
                  <a:ext cx="3348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1023840" y="5410080"/>
                  <a:ext cx="3348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725760" y="3647880"/>
                  <a:ext cx="183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3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888480" y="364176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ffff"/>
                      </a:solidFill>
                      <a:latin typeface="Arial"/>
                    </a:rPr>
                    <a:t>8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1052640" y="3744720"/>
                  <a:ext cx="1440" cy="2557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1047600" y="6297480"/>
                  <a:ext cx="292896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1244520" y="6222960"/>
                  <a:ext cx="18900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flipV="1">
                  <a:off x="1338120" y="5705280"/>
                  <a:ext cx="1800" cy="51768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 flipV="1">
                  <a:off x="1522440" y="5249520"/>
                  <a:ext cx="1440" cy="4554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 flipH="1">
                  <a:off x="1147320" y="5249880"/>
                  <a:ext cx="38124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1154160" y="5249880"/>
                  <a:ext cx="1440" cy="4554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1147680" y="5705280"/>
                  <a:ext cx="38124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1147680" y="5395680"/>
                  <a:ext cx="38124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 flipV="1">
                  <a:off x="1338120" y="4662360"/>
                  <a:ext cx="1800" cy="58752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1244520" y="4662360"/>
                  <a:ext cx="18900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1812960" y="6005520"/>
                  <a:ext cx="18900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 flipV="1">
                  <a:off x="1908360" y="5503680"/>
                  <a:ext cx="1440" cy="5018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 flipV="1">
                  <a:off x="2095560" y="5029200"/>
                  <a:ext cx="1440" cy="47448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 flipH="1">
                  <a:off x="1717560" y="5029200"/>
                  <a:ext cx="37800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1717560" y="5029200"/>
                  <a:ext cx="1800" cy="47448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1717560" y="5503680"/>
                  <a:ext cx="37800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>
                  <a:off x="1717560" y="5276880"/>
                  <a:ext cx="37800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 flipV="1">
                  <a:off x="1908360" y="4530240"/>
                  <a:ext cx="1440" cy="4986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1812960" y="4530600"/>
                  <a:ext cx="18900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1889280" y="4243320"/>
                  <a:ext cx="37800" cy="42840"/>
                </a:xfrm>
                <a:prstGeom prst="ellipse">
                  <a:avLst/>
                </a:prstGeom>
                <a:noFill/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1889280" y="3859200"/>
                  <a:ext cx="37800" cy="44280"/>
                </a:xfrm>
                <a:prstGeom prst="ellipse">
                  <a:avLst/>
                </a:prstGeom>
                <a:noFill/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1889280" y="4179960"/>
                  <a:ext cx="37800" cy="44280"/>
                </a:xfrm>
                <a:prstGeom prst="ellipse">
                  <a:avLst/>
                </a:prstGeom>
                <a:noFill/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>
                  <a:off x="1889280" y="4127400"/>
                  <a:ext cx="37800" cy="44640"/>
                </a:xfrm>
                <a:prstGeom prst="ellipse">
                  <a:avLst/>
                </a:prstGeom>
                <a:noFill/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>
                  <a:off x="2381400" y="5780160"/>
                  <a:ext cx="19044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flipV="1">
                  <a:off x="2476440" y="5290560"/>
                  <a:ext cx="1800" cy="4892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 flipV="1">
                  <a:off x="2665440" y="4635000"/>
                  <a:ext cx="1440" cy="65556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 flipH="1">
                  <a:off x="2287440" y="4635360"/>
                  <a:ext cx="37800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2287440" y="4635360"/>
                  <a:ext cx="1800" cy="65556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2287440" y="5290920"/>
                  <a:ext cx="37800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2287440" y="4803840"/>
                  <a:ext cx="37800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 flipV="1">
                  <a:off x="2476440" y="4030560"/>
                  <a:ext cx="1800" cy="604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>
                  <a:off x="2381400" y="4030560"/>
                  <a:ext cx="19044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2951280" y="5500440"/>
                  <a:ext cx="18720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 flipV="1">
                  <a:off x="3044880" y="5135400"/>
                  <a:ext cx="1440" cy="3650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 flipV="1">
                  <a:off x="3235320" y="4591080"/>
                  <a:ext cx="1440" cy="54432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 flipH="1">
                  <a:off x="2855880" y="4591080"/>
                  <a:ext cx="37944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2855880" y="4591080"/>
                  <a:ext cx="1800" cy="54432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2855880" y="5135400"/>
                  <a:ext cx="37944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>
                  <a:off x="2855880" y="4643280"/>
                  <a:ext cx="37944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 flipV="1">
                  <a:off x="3044880" y="4347720"/>
                  <a:ext cx="1440" cy="2430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2951280" y="4348080"/>
                  <a:ext cx="18720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3519360" y="5883120"/>
                  <a:ext cx="18900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 flipV="1">
                  <a:off x="3614760" y="5300640"/>
                  <a:ext cx="1440" cy="58248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 flipV="1">
                  <a:off x="3803760" y="4895280"/>
                  <a:ext cx="1440" cy="4050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 flipH="1">
                  <a:off x="3424320" y="4895640"/>
                  <a:ext cx="379440" cy="18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3424320" y="4895640"/>
                  <a:ext cx="1440" cy="40500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>
                  <a:off x="3424320" y="5300640"/>
                  <a:ext cx="37944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3424320" y="5126040"/>
                  <a:ext cx="37944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 flipV="1">
                  <a:off x="3614760" y="4367160"/>
                  <a:ext cx="1440" cy="52848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3519360" y="4367160"/>
                  <a:ext cx="189000" cy="1440"/>
                </a:xfrm>
                <a:prstGeom prst="line">
                  <a:avLst/>
                </a:prstGeom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3594240" y="5987880"/>
                  <a:ext cx="39600" cy="44640"/>
                </a:xfrm>
                <a:prstGeom prst="ellipse">
                  <a:avLst/>
                </a:prstGeom>
                <a:noFill/>
                <a:ln w="144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725760" y="3929040"/>
                  <a:ext cx="183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3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>
                  <a:off x="888480" y="392436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ffff"/>
                      </a:solidFill>
                      <a:latin typeface="Arial"/>
                    </a:rPr>
                    <a:t>7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>
                  <a:off x="725760" y="4209840"/>
                  <a:ext cx="183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3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888480" y="420516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ffff"/>
                      </a:solidFill>
                      <a:latin typeface="Arial"/>
                    </a:rPr>
                    <a:t>6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>
                  <a:off x="725760" y="4491000"/>
                  <a:ext cx="183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3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>
                  <a:off x="888480" y="448632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725760" y="4773600"/>
                  <a:ext cx="183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3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>
                  <a:off x="888480" y="476712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725760" y="5054400"/>
                  <a:ext cx="183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3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888480" y="504828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725760" y="5337000"/>
                  <a:ext cx="183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3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888480" y="533088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725760" y="5618160"/>
                  <a:ext cx="18360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3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888480" y="5611680"/>
                  <a:ext cx="648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9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341" name="" descr=""/>
            <p:cNvPicPr/>
            <p:nvPr/>
          </p:nvPicPr>
          <p:blipFill>
            <a:blip r:embed="rId2"/>
            <a:stretch/>
          </p:blipFill>
          <p:spPr>
            <a:xfrm>
              <a:off x="660240" y="3600360"/>
              <a:ext cx="333864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2" name=""/>
            <p:cNvSpPr/>
            <p:nvPr/>
          </p:nvSpPr>
          <p:spPr>
            <a:xfrm>
              <a:off x="778320" y="3247920"/>
              <a:ext cx="381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00"/>
                  </a:solidFill>
                  <a:latin typeface="Tahoma"/>
                </a:rPr>
                <a:t>Charge virale HPV16 copies/10</a:t>
              </a:r>
              <a:r>
                <a:rPr b="1" lang="fr-FR" sz="1600" spc="-1" strike="noStrike" baseline="30000">
                  <a:solidFill>
                    <a:srgbClr val="ffff00"/>
                  </a:solidFill>
                  <a:latin typeface="Tahoma"/>
                </a:rPr>
                <a:t>3</a:t>
              </a:r>
              <a:r>
                <a:rPr b="1" lang="fr-FR" sz="1600" spc="-1" strike="noStrike">
                  <a:solidFill>
                    <a:srgbClr val="ffff00"/>
                  </a:solidFill>
                  <a:latin typeface="Tahoma"/>
                </a:rPr>
                <a:t> ce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3" name=""/>
          <p:cNvSpPr/>
          <p:nvPr/>
        </p:nvSpPr>
        <p:spPr>
          <a:xfrm>
            <a:off x="368280" y="1263600"/>
            <a:ext cx="42480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60200" indent="-160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CR temps ré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800" indent="-194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6 et E2 d’HPV 1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800" indent="-194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ccff"/>
                </a:solidFill>
                <a:latin typeface="Tahoma"/>
              </a:rPr>
              <a:t>albu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4" name=""/>
          <p:cNvGrpSpPr/>
          <p:nvPr/>
        </p:nvGrpSpPr>
        <p:grpSpPr>
          <a:xfrm>
            <a:off x="5517000" y="3666960"/>
            <a:ext cx="3488040" cy="2831400"/>
            <a:chOff x="5517000" y="3666960"/>
            <a:chExt cx="3488040" cy="2831400"/>
          </a:xfrm>
        </p:grpSpPr>
        <p:sp>
          <p:nvSpPr>
            <p:cNvPr id="2345" name=""/>
            <p:cNvSpPr/>
            <p:nvPr/>
          </p:nvSpPr>
          <p:spPr>
            <a:xfrm>
              <a:off x="6151320" y="4338360"/>
              <a:ext cx="0" cy="1884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146640" y="6242040"/>
              <a:ext cx="28256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6110280" y="5251320"/>
              <a:ext cx="410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>
              <a:off x="6110280" y="5707080"/>
              <a:ext cx="410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 flipH="1">
              <a:off x="6110280" y="4794120"/>
              <a:ext cx="410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H="1">
              <a:off x="6110280" y="6164280"/>
              <a:ext cx="410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896800" y="6070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H="1">
              <a:off x="6110280" y="4338360"/>
              <a:ext cx="410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761080" y="42307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360840" y="6284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340320" y="6164280"/>
              <a:ext cx="187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435720" y="6164280"/>
              <a:ext cx="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V="1">
              <a:off x="6622920" y="5641560"/>
              <a:ext cx="1440" cy="522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H="1">
              <a:off x="6246360" y="5641920"/>
              <a:ext cx="3762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246720" y="5641920"/>
              <a:ext cx="0" cy="522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6246720" y="6164280"/>
              <a:ext cx="376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246720" y="6164280"/>
              <a:ext cx="376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V="1">
              <a:off x="6435720" y="5204880"/>
              <a:ext cx="0" cy="436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340320" y="5205240"/>
              <a:ext cx="1872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418080" y="4340160"/>
              <a:ext cx="33480" cy="331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418080" y="4384440"/>
              <a:ext cx="33480" cy="334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418080" y="4387680"/>
              <a:ext cx="33480" cy="316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898680" y="628488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905520" y="6164280"/>
              <a:ext cx="189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6997680" y="6164280"/>
              <a:ext cx="14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V="1">
              <a:off x="7186320" y="5151240"/>
              <a:ext cx="1800" cy="1013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6811920" y="5151240"/>
              <a:ext cx="3744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6811920" y="5151240"/>
              <a:ext cx="1440" cy="1013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811920" y="6164280"/>
              <a:ext cx="374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811920" y="5494320"/>
              <a:ext cx="3744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V="1">
              <a:off x="6997680" y="4339800"/>
              <a:ext cx="1440" cy="811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905520" y="4340160"/>
              <a:ext cx="1890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432200" y="6284880"/>
              <a:ext cx="26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470720" y="5962680"/>
              <a:ext cx="189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V="1">
              <a:off x="7564320" y="5381640"/>
              <a:ext cx="1440" cy="5810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V="1">
              <a:off x="7751520" y="4990680"/>
              <a:ext cx="1800" cy="390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>
              <a:off x="7374960" y="4991040"/>
              <a:ext cx="376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7375320" y="4991040"/>
              <a:ext cx="1800" cy="390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375320" y="5381640"/>
              <a:ext cx="3762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375320" y="5184720"/>
              <a:ext cx="3762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V="1">
              <a:off x="7564320" y="4411440"/>
              <a:ext cx="1440" cy="579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470720" y="4411440"/>
              <a:ext cx="189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548480" y="6000480"/>
              <a:ext cx="31680" cy="3204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7548480" y="6146640"/>
              <a:ext cx="31680" cy="334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548480" y="6146640"/>
              <a:ext cx="31680" cy="334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8064360" y="6284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034120" y="6164280"/>
              <a:ext cx="189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8129520" y="5470200"/>
              <a:ext cx="1440" cy="693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8318520" y="4338000"/>
              <a:ext cx="0" cy="1132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>
              <a:off x="7941960" y="4338360"/>
              <a:ext cx="3762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7942320" y="4338360"/>
              <a:ext cx="0" cy="1132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942320" y="5470560"/>
              <a:ext cx="376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942320" y="4987800"/>
              <a:ext cx="3762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129520" y="4338360"/>
              <a:ext cx="14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034120" y="4338360"/>
              <a:ext cx="1890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391600" y="6284880"/>
              <a:ext cx="61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SC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599320" y="6164280"/>
              <a:ext cx="189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V="1">
              <a:off x="8694720" y="5638680"/>
              <a:ext cx="1440" cy="525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V="1">
              <a:off x="8883360" y="5031720"/>
              <a:ext cx="1800" cy="606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>
              <a:off x="8506800" y="5032080"/>
              <a:ext cx="3762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507160" y="5032080"/>
              <a:ext cx="0" cy="606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507160" y="5638680"/>
              <a:ext cx="3762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507160" y="5333760"/>
              <a:ext cx="376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V="1">
              <a:off x="8694720" y="4338000"/>
              <a:ext cx="1440" cy="693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599320" y="4338360"/>
              <a:ext cx="1890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828400" y="55990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828400" y="5143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828400" y="46861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517000" y="3666960"/>
              <a:ext cx="179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ahoma"/>
                </a:rPr>
                <a:t>% d’ integ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4" name=""/>
          <p:cNvSpPr/>
          <p:nvPr/>
        </p:nvSpPr>
        <p:spPr>
          <a:xfrm>
            <a:off x="4419720" y="1257480"/>
            <a:ext cx="1888920" cy="18889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4648320" y="1486080"/>
            <a:ext cx="1430280" cy="14302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 flipH="1">
            <a:off x="4927320" y="2841480"/>
            <a:ext cx="127080" cy="196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5807160" y="2771640"/>
            <a:ext cx="120600" cy="169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 flipH="1">
            <a:off x="5579640" y="1305000"/>
            <a:ext cx="74520" cy="201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5957640" y="1641600"/>
            <a:ext cx="158760" cy="150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5640120" y="136044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E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222880" y="28684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6581880" y="2027160"/>
            <a:ext cx="731880" cy="254160"/>
          </a:xfrm>
          <a:custGeom>
            <a:avLst/>
            <a:gdLst/>
            <a:ahLst/>
            <a:rect l="l" t="t" r="r" b="b"/>
            <a:pathLst>
              <a:path w="336" h="117">
                <a:moveTo>
                  <a:pt x="0" y="89"/>
                </a:moveTo>
                <a:cubicBezTo>
                  <a:pt x="17" y="44"/>
                  <a:pt x="35" y="0"/>
                  <a:pt x="57" y="2"/>
                </a:cubicBezTo>
                <a:cubicBezTo>
                  <a:pt x="79" y="4"/>
                  <a:pt x="111" y="101"/>
                  <a:pt x="135" y="101"/>
                </a:cubicBezTo>
                <a:cubicBezTo>
                  <a:pt x="159" y="101"/>
                  <a:pt x="178" y="1"/>
                  <a:pt x="201" y="2"/>
                </a:cubicBezTo>
                <a:cubicBezTo>
                  <a:pt x="224" y="3"/>
                  <a:pt x="254" y="103"/>
                  <a:pt x="276" y="110"/>
                </a:cubicBezTo>
                <a:cubicBezTo>
                  <a:pt x="298" y="117"/>
                  <a:pt x="317" y="80"/>
                  <a:pt x="336" y="44"/>
                </a:cubicBezTo>
              </a:path>
            </a:pathLst>
          </a:custGeom>
          <a:noFill/>
          <a:ln w="284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6595920" y="2247840"/>
            <a:ext cx="730440" cy="255600"/>
          </a:xfrm>
          <a:custGeom>
            <a:avLst/>
            <a:gdLst/>
            <a:ahLst/>
            <a:rect l="l" t="t" r="r" b="b"/>
            <a:pathLst>
              <a:path w="336" h="117">
                <a:moveTo>
                  <a:pt x="0" y="89"/>
                </a:moveTo>
                <a:cubicBezTo>
                  <a:pt x="17" y="44"/>
                  <a:pt x="35" y="0"/>
                  <a:pt x="57" y="2"/>
                </a:cubicBezTo>
                <a:cubicBezTo>
                  <a:pt x="79" y="4"/>
                  <a:pt x="111" y="101"/>
                  <a:pt x="135" y="101"/>
                </a:cubicBezTo>
                <a:cubicBezTo>
                  <a:pt x="159" y="101"/>
                  <a:pt x="178" y="1"/>
                  <a:pt x="201" y="2"/>
                </a:cubicBezTo>
                <a:cubicBezTo>
                  <a:pt x="224" y="3"/>
                  <a:pt x="254" y="103"/>
                  <a:pt x="276" y="110"/>
                </a:cubicBezTo>
                <a:cubicBezTo>
                  <a:pt x="298" y="117"/>
                  <a:pt x="317" y="80"/>
                  <a:pt x="336" y="44"/>
                </a:cubicBezTo>
              </a:path>
            </a:pathLst>
          </a:custGeom>
          <a:noFill/>
          <a:ln w="284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9315360" y="1955880"/>
            <a:ext cx="730440" cy="253800"/>
          </a:xfrm>
          <a:custGeom>
            <a:avLst/>
            <a:gdLst/>
            <a:ahLst/>
            <a:rect l="l" t="t" r="r" b="b"/>
            <a:pathLst>
              <a:path w="336" h="117">
                <a:moveTo>
                  <a:pt x="0" y="89"/>
                </a:moveTo>
                <a:cubicBezTo>
                  <a:pt x="17" y="44"/>
                  <a:pt x="35" y="0"/>
                  <a:pt x="57" y="2"/>
                </a:cubicBezTo>
                <a:cubicBezTo>
                  <a:pt x="79" y="4"/>
                  <a:pt x="111" y="101"/>
                  <a:pt x="135" y="101"/>
                </a:cubicBezTo>
                <a:cubicBezTo>
                  <a:pt x="159" y="101"/>
                  <a:pt x="178" y="1"/>
                  <a:pt x="201" y="2"/>
                </a:cubicBezTo>
                <a:cubicBezTo>
                  <a:pt x="224" y="3"/>
                  <a:pt x="254" y="103"/>
                  <a:pt x="276" y="110"/>
                </a:cubicBezTo>
                <a:cubicBezTo>
                  <a:pt x="298" y="117"/>
                  <a:pt x="317" y="80"/>
                  <a:pt x="336" y="44"/>
                </a:cubicBezTo>
              </a:path>
            </a:pathLst>
          </a:custGeom>
          <a:noFill/>
          <a:ln w="284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9334440" y="2176560"/>
            <a:ext cx="730440" cy="253800"/>
          </a:xfrm>
          <a:custGeom>
            <a:avLst/>
            <a:gdLst/>
            <a:ahLst/>
            <a:rect l="l" t="t" r="r" b="b"/>
            <a:pathLst>
              <a:path w="336" h="117">
                <a:moveTo>
                  <a:pt x="0" y="89"/>
                </a:moveTo>
                <a:cubicBezTo>
                  <a:pt x="17" y="44"/>
                  <a:pt x="35" y="0"/>
                  <a:pt x="57" y="2"/>
                </a:cubicBezTo>
                <a:cubicBezTo>
                  <a:pt x="79" y="4"/>
                  <a:pt x="111" y="101"/>
                  <a:pt x="135" y="101"/>
                </a:cubicBezTo>
                <a:cubicBezTo>
                  <a:pt x="159" y="101"/>
                  <a:pt x="178" y="1"/>
                  <a:pt x="201" y="2"/>
                </a:cubicBezTo>
                <a:cubicBezTo>
                  <a:pt x="224" y="3"/>
                  <a:pt x="254" y="103"/>
                  <a:pt x="276" y="110"/>
                </a:cubicBezTo>
                <a:cubicBezTo>
                  <a:pt x="298" y="117"/>
                  <a:pt x="317" y="80"/>
                  <a:pt x="336" y="44"/>
                </a:cubicBezTo>
              </a:path>
            </a:pathLst>
          </a:custGeom>
          <a:noFill/>
          <a:ln w="28440">
            <a:solidFill>
              <a:srgbClr val="ff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7292880" y="2135160"/>
            <a:ext cx="20354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7319880" y="2357280"/>
            <a:ext cx="20336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7305840" y="21286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7567560" y="21286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8010360" y="21286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8440560" y="213516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9053640" y="21286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9315360" y="21286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8018280" y="209556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E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7254720" y="20908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8989920" y="20908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00"/>
                </a:solidFill>
                <a:latin typeface="Arial"/>
              </a:rPr>
              <a:t>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/>
          </p:nvPr>
        </p:nvSpPr>
        <p:spPr>
          <a:xfrm>
            <a:off x="-360" y="1747440"/>
            <a:ext cx="1028700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6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Régression de la majorité des lésions pré-invasives médiée par immunité cellulaire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176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Etudes de Palefsky (femmes VIH+)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1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charge HPV très augmenté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&gt; 9 types différe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risque accru de développer lésions cervic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1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éfaut de clairance des HPV </a:t>
            </a:r>
            <a:r>
              <a:rPr b="0" lang="fr-FR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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persist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1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apparition précoce des lés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1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progression rapide vers HGS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1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récidive après trait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76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CDC : cancer invasif : maladie SIDA (1993)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38" name=""/>
          <p:cNvSpPr/>
          <p:nvPr/>
        </p:nvSpPr>
        <p:spPr>
          <a:xfrm>
            <a:off x="603360" y="19080"/>
            <a:ext cx="908028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ffff"/>
                </a:solidFill>
                <a:latin typeface="Tahoma"/>
              </a:rPr>
              <a:t>Facteurs influençant la persistance</a:t>
            </a:r>
            <a:br>
              <a:rPr sz="3600"/>
            </a:br>
            <a:r>
              <a:rPr b="1" lang="fr-FR" sz="3200" spc="-1" strike="noStrike">
                <a:solidFill>
                  <a:srgbClr val="ccffff"/>
                </a:solidFill>
                <a:latin typeface="Tahoma"/>
              </a:rPr>
              <a:t>l’immun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9" name="clip141" descr=""/>
          <p:cNvPicPr/>
          <p:nvPr/>
        </p:nvPicPr>
        <p:blipFill>
          <a:blip r:embed="rId2"/>
          <a:stretch/>
        </p:blipFill>
        <p:spPr>
          <a:xfrm>
            <a:off x="9269280" y="3454560"/>
            <a:ext cx="45432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78840" y="545760"/>
            <a:ext cx="10128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ffff"/>
                </a:solidFill>
                <a:latin typeface="Tahoma"/>
              </a:rPr>
              <a:t>Synthèse : mécanismes de carcinogenèse</a:t>
            </a: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879120" y="2135160"/>
            <a:ext cx="8528040" cy="38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SzPct val="9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Dérégulation de la prolifération cellulaire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9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Dérégulation de la senescence cellulaire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9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Perte de contrôle de l’intégrité du génome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4.  Échappement à l’apoptose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2" name="couverture" descr=""/>
          <p:cNvPicPr/>
          <p:nvPr/>
        </p:nvPicPr>
        <p:blipFill>
          <a:blip r:embed="rId2"/>
          <a:stretch/>
        </p:blipFill>
        <p:spPr>
          <a:xfrm>
            <a:off x="3246480" y="1224000"/>
            <a:ext cx="3765600" cy="5403960"/>
          </a:xfrm>
          <a:prstGeom prst="rect">
            <a:avLst/>
          </a:prstGeom>
          <a:ln w="0">
            <a:noFill/>
          </a:ln>
        </p:spPr>
      </p:pic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2417400" y="-360"/>
            <a:ext cx="5451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ffff"/>
                </a:solidFill>
                <a:latin typeface="Tahoma"/>
              </a:rPr>
              <a:t>Pour en savoir plus …</a:t>
            </a: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8240" y="-7920"/>
            <a:ext cx="10002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Arbre phylogénétique des papillomavir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5502240"/>
            <a:ext cx="5410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Tahoma"/>
              </a:rPr>
              <a:t>106 génotypes séquenc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fr-FR" sz="2400" spc="-1" strike="noStrike">
                <a:solidFill>
                  <a:srgbClr val="ffff00"/>
                </a:solidFill>
                <a:latin typeface="Tahoma"/>
              </a:rPr>
              <a:t>100 génotypes supplémentaires</a:t>
            </a:r>
            <a:br>
              <a:rPr sz="2400"/>
            </a:br>
            <a:r>
              <a:rPr b="1" lang="fr-FR" sz="1400" spc="-1" strike="noStrike">
                <a:solidFill>
                  <a:srgbClr val="00ffff"/>
                </a:solidFill>
                <a:latin typeface="Tahoma"/>
              </a:rPr>
              <a:t>(de Villiers, 200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04640" y="825480"/>
            <a:ext cx="8630640" cy="5305680"/>
            <a:chOff x="404640" y="825480"/>
            <a:chExt cx="8630640" cy="5305680"/>
          </a:xfrm>
        </p:grpSpPr>
        <p:sp>
          <p:nvSpPr>
            <p:cNvPr id="55" name=""/>
            <p:cNvSpPr/>
            <p:nvPr/>
          </p:nvSpPr>
          <p:spPr>
            <a:xfrm>
              <a:off x="3700440" y="3181320"/>
              <a:ext cx="5059080" cy="637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52680" y="3238200"/>
              <a:ext cx="3078360" cy="171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19520" y="3171600"/>
              <a:ext cx="3049560" cy="9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64120" y="308592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897960" y="30859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4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407000" y="3314520"/>
              <a:ext cx="2858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449120" y="3314520"/>
              <a:ext cx="2858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EQP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73680" y="2760480"/>
              <a:ext cx="26676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17960" y="2760480"/>
              <a:ext cx="2628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BPV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35520" y="2895480"/>
              <a:ext cx="2574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79800" y="2895480"/>
              <a:ext cx="2628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BPV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97360" y="2455560"/>
              <a:ext cx="3240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44520" y="2455560"/>
              <a:ext cx="325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OvPV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88000" y="2589120"/>
              <a:ext cx="3240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34800" y="2589120"/>
              <a:ext cx="325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OvPV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54640" y="2093760"/>
              <a:ext cx="2095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96760" y="2093760"/>
              <a:ext cx="21096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RP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87840" y="2226960"/>
              <a:ext cx="276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31400" y="2226960"/>
              <a:ext cx="2750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EEP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21080" y="1941480"/>
              <a:ext cx="2098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63560" y="1941480"/>
              <a:ext cx="21096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DP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78520" y="1731960"/>
              <a:ext cx="25704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022440" y="1731960"/>
              <a:ext cx="2628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BPV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3566880" y="1655640"/>
              <a:ext cx="3021120" cy="1611360"/>
              <a:chOff x="3566880" y="1655640"/>
              <a:chExt cx="3021120" cy="1611360"/>
            </a:xfrm>
          </p:grpSpPr>
          <p:sp>
            <p:nvSpPr>
              <p:cNvPr id="79" name=""/>
              <p:cNvSpPr/>
              <p:nvPr/>
            </p:nvSpPr>
            <p:spPr>
              <a:xfrm>
                <a:off x="6016320" y="2855880"/>
                <a:ext cx="514440" cy="9684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6320" y="2855880"/>
                <a:ext cx="571680" cy="108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121000" y="2779560"/>
                <a:ext cx="885960" cy="763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825880" y="2703240"/>
                <a:ext cx="676440" cy="97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5844960" y="2579400"/>
                <a:ext cx="676440" cy="12384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5149800" y="2702880"/>
                <a:ext cx="676080" cy="5724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5159160" y="2246040"/>
                <a:ext cx="1171800" cy="505080"/>
                <a:chOff x="5159160" y="2246040"/>
                <a:chExt cx="1171800" cy="505080"/>
              </a:xfrm>
            </p:grpSpPr>
            <p:sp>
              <p:nvSpPr>
                <p:cNvPr id="86" name=""/>
                <p:cNvSpPr/>
                <p:nvPr/>
              </p:nvSpPr>
              <p:spPr>
                <a:xfrm flipV="1">
                  <a:off x="5416560" y="2246040"/>
                  <a:ext cx="790560" cy="40968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V="1">
                  <a:off x="5435280" y="2350440"/>
                  <a:ext cx="895680" cy="29556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flipV="1">
                  <a:off x="5159160" y="2636640"/>
                  <a:ext cx="285840" cy="11448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" name=""/>
              <p:cNvSpPr/>
              <p:nvPr/>
            </p:nvSpPr>
            <p:spPr>
              <a:xfrm flipV="1">
                <a:off x="5111640" y="2065320"/>
                <a:ext cx="961920" cy="71424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4281480" y="2788920"/>
                <a:ext cx="820440" cy="1828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4281480" y="1865160"/>
                <a:ext cx="1658880" cy="110664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3681360" y="2971800"/>
                <a:ext cx="590400" cy="2095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3566880" y="1655640"/>
                <a:ext cx="2011320" cy="16113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5616360" y="1522080"/>
              <a:ext cx="276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57040" y="1522080"/>
              <a:ext cx="2797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MnP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452760" y="2664720"/>
              <a:ext cx="485640" cy="7448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948120" y="1636200"/>
              <a:ext cx="733320" cy="10191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948120" y="1712520"/>
              <a:ext cx="1058760" cy="9428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35320" y="1579320"/>
              <a:ext cx="572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68800" y="157932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90800" y="1473120"/>
              <a:ext cx="11592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4640" y="14745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6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862080" y="1712880"/>
              <a:ext cx="476280" cy="1056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90840" y="1501560"/>
              <a:ext cx="2952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36560" y="1493640"/>
              <a:ext cx="29016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COP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3776400" y="1693800"/>
              <a:ext cx="257400" cy="12110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3757320" y="1807920"/>
              <a:ext cx="66960" cy="8193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19320" y="1522080"/>
              <a:ext cx="276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63240" y="1522080"/>
              <a:ext cx="2840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CRP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43200" y="1626840"/>
              <a:ext cx="285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88560" y="1617480"/>
              <a:ext cx="29016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ROP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3280680" y="3304800"/>
              <a:ext cx="171720" cy="114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3052080" y="2036160"/>
              <a:ext cx="419760" cy="1258920"/>
              <a:chOff x="3052080" y="2036160"/>
              <a:chExt cx="419760" cy="1258920"/>
            </a:xfrm>
          </p:grpSpPr>
          <p:sp>
            <p:nvSpPr>
              <p:cNvPr id="114" name=""/>
              <p:cNvSpPr/>
              <p:nvPr/>
            </p:nvSpPr>
            <p:spPr>
              <a:xfrm flipV="1">
                <a:off x="3271680" y="2036160"/>
                <a:ext cx="1440" cy="12589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281040" y="2065320"/>
                <a:ext cx="190800" cy="7617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3052080" y="2064960"/>
                <a:ext cx="219240" cy="8110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367080" y="1855440"/>
              <a:ext cx="2570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411000" y="1855440"/>
              <a:ext cx="2628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BPV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09680" y="1693800"/>
              <a:ext cx="2574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53960" y="1693800"/>
              <a:ext cx="2628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BPV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09880" y="1874520"/>
              <a:ext cx="2664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53800" y="1874520"/>
              <a:ext cx="2628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BPV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3166560" y="3276000"/>
              <a:ext cx="104760" cy="19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19080" y="194148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52920" y="19414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23880" y="1960560"/>
              <a:ext cx="11448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57720" y="19605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2985480" y="3123720"/>
              <a:ext cx="181080" cy="142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2538000" y="2131560"/>
              <a:ext cx="438120" cy="9824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2814120" y="2140920"/>
              <a:ext cx="104760" cy="8305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2052000" y="2427120"/>
              <a:ext cx="924120" cy="696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2452320" y="2522520"/>
              <a:ext cx="523800" cy="5918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2300040" y="2255400"/>
              <a:ext cx="162000" cy="266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2118960" y="2264760"/>
              <a:ext cx="323640" cy="2574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24080" y="2046240"/>
              <a:ext cx="568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57200" y="204624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09440" y="232236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43280" y="23223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47600" y="214128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81440" y="21412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6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795400" y="3276360"/>
              <a:ext cx="362160" cy="18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299600" y="3276360"/>
              <a:ext cx="1476360" cy="7812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2376360" y="3171240"/>
              <a:ext cx="409680" cy="104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2147760" y="2981160"/>
              <a:ext cx="247680" cy="2001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1728360" y="2512440"/>
              <a:ext cx="390600" cy="4208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1814400" y="2446200"/>
              <a:ext cx="342720" cy="534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604880" y="2550600"/>
              <a:ext cx="542880" cy="4208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28720" y="225576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62200" y="22557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47640" y="226512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81480" y="22651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3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52240" y="239868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86080" y="23986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1366560" y="3000240"/>
              <a:ext cx="990720" cy="1713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1490040" y="2885760"/>
              <a:ext cx="19044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1442880" y="2943000"/>
              <a:ext cx="257040" cy="288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1680480" y="2971800"/>
              <a:ext cx="352440" cy="950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1604520" y="2760480"/>
              <a:ext cx="514440" cy="3636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1490400" y="2807640"/>
              <a:ext cx="486000" cy="211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42880" y="258912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76720" y="25891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09680" y="2617560"/>
              <a:ext cx="1141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43160" y="26082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3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28760" y="2741400"/>
              <a:ext cx="11412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62240" y="27414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33360" y="2817720"/>
              <a:ext cx="11412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67200" y="28191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23640" y="2933640"/>
              <a:ext cx="5724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57120" y="292392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19040" y="3114360"/>
              <a:ext cx="1047600" cy="123840"/>
            </a:xfrm>
            <a:custGeom>
              <a:avLst/>
              <a:gdLst/>
              <a:ahLst/>
              <a:rect l="l" t="t" r="r" b="b"/>
              <a:pathLst>
                <a:path w="660" h="78">
                  <a:moveTo>
                    <a:pt x="660" y="30"/>
                  </a:moveTo>
                  <a:lnTo>
                    <a:pt x="480" y="60"/>
                  </a:lnTo>
                  <a:lnTo>
                    <a:pt x="336" y="78"/>
                  </a:lnTo>
                  <a:lnTo>
                    <a:pt x="174" y="72"/>
                  </a:lnTo>
                  <a:lnTo>
                    <a:pt x="120" y="6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280880" y="3181320"/>
              <a:ext cx="333360" cy="475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80880" y="3238200"/>
              <a:ext cx="419040" cy="19080"/>
            </a:xfrm>
            <a:custGeom>
              <a:avLst/>
              <a:gdLst/>
              <a:ahLst/>
              <a:rect l="l" t="t" r="r" b="b"/>
              <a:pathLst>
                <a:path w="264" h="12">
                  <a:moveTo>
                    <a:pt x="264" y="0"/>
                  </a:moveTo>
                  <a:lnTo>
                    <a:pt x="15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52440" y="3247920"/>
              <a:ext cx="609480" cy="85680"/>
            </a:xfrm>
            <a:custGeom>
              <a:avLst/>
              <a:gdLst/>
              <a:ahLst/>
              <a:rect l="l" t="t" r="r" b="b"/>
              <a:pathLst>
                <a:path w="384" h="54">
                  <a:moveTo>
                    <a:pt x="384" y="0"/>
                  </a:moveTo>
                  <a:lnTo>
                    <a:pt x="276" y="30"/>
                  </a:ln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242720" y="3295440"/>
              <a:ext cx="457200" cy="1144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42720" y="3219120"/>
              <a:ext cx="800280" cy="247680"/>
            </a:xfrm>
            <a:custGeom>
              <a:avLst/>
              <a:gdLst/>
              <a:ahLst/>
              <a:rect l="l" t="t" r="r" b="b"/>
              <a:pathLst>
                <a:path w="504" h="156">
                  <a:moveTo>
                    <a:pt x="504" y="0"/>
                  </a:moveTo>
                  <a:lnTo>
                    <a:pt x="432" y="36"/>
                  </a:lnTo>
                  <a:lnTo>
                    <a:pt x="210" y="102"/>
                  </a:lnTo>
                  <a:lnTo>
                    <a:pt x="0" y="156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42720" y="3228840"/>
              <a:ext cx="809640" cy="323640"/>
            </a:xfrm>
            <a:custGeom>
              <a:avLst/>
              <a:gdLst/>
              <a:ahLst/>
              <a:rect l="l" t="t" r="r" b="b"/>
              <a:pathLst>
                <a:path w="510" h="204">
                  <a:moveTo>
                    <a:pt x="510" y="0"/>
                  </a:moveTo>
                  <a:lnTo>
                    <a:pt x="264" y="102"/>
                  </a:lnTo>
                  <a:lnTo>
                    <a:pt x="0" y="204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242360" y="3209760"/>
              <a:ext cx="847800" cy="3906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1242360" y="3209760"/>
              <a:ext cx="847800" cy="4478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242720" y="3190680"/>
              <a:ext cx="1038240" cy="5428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242360" y="3190680"/>
              <a:ext cx="1057320" cy="6094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42720" y="3181320"/>
              <a:ext cx="114300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720" y="0"/>
                  </a:moveTo>
                  <a:lnTo>
                    <a:pt x="516" y="150"/>
                  </a:lnTo>
                  <a:lnTo>
                    <a:pt x="246" y="318"/>
                  </a:lnTo>
                  <a:lnTo>
                    <a:pt x="0" y="432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261800" y="3657600"/>
              <a:ext cx="409680" cy="2854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280520" y="3400200"/>
              <a:ext cx="800280" cy="600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71360" y="295272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05200" y="29527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57040" y="307656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90880" y="30765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04760" y="313344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38600" y="313344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18880" y="322884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52720" y="322884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23840" y="330516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57320" y="33051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81080" y="338112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14560" y="33811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85680" y="3466800"/>
              <a:ext cx="572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19160" y="346680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81080" y="351468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14560" y="35146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3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66600" y="360972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00440" y="36097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4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37960" y="3657600"/>
              <a:ext cx="5724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71440" y="365760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76320" y="373356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09800" y="37335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09520" y="379080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43360" y="37908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23840" y="387648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57320" y="38764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7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47680" y="394308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81160" y="39430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4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04760" y="4066920"/>
              <a:ext cx="3427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55160" y="4066920"/>
              <a:ext cx="3466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HaOP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338280" y="3419280"/>
              <a:ext cx="114480" cy="4096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38280" y="3828960"/>
              <a:ext cx="28800" cy="190440"/>
            </a:xfrm>
            <a:custGeom>
              <a:avLst/>
              <a:gdLst/>
              <a:ahLst/>
              <a:rect l="l" t="t" r="r" b="b"/>
              <a:pathLst>
                <a:path w="18" h="120">
                  <a:moveTo>
                    <a:pt x="0" y="0"/>
                  </a:moveTo>
                  <a:lnTo>
                    <a:pt x="18" y="24"/>
                  </a:lnTo>
                  <a:lnTo>
                    <a:pt x="0" y="54"/>
                  </a:lnTo>
                  <a:lnTo>
                    <a:pt x="18" y="84"/>
                  </a:lnTo>
                  <a:lnTo>
                    <a:pt x="18" y="120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9920" y="3914640"/>
              <a:ext cx="1638360" cy="218880"/>
            </a:xfrm>
            <a:custGeom>
              <a:avLst/>
              <a:gdLst/>
              <a:ahLst/>
              <a:rect l="l" t="t" r="r" b="b"/>
              <a:pathLst>
                <a:path w="1032" h="138">
                  <a:moveTo>
                    <a:pt x="1032" y="0"/>
                  </a:moveTo>
                  <a:lnTo>
                    <a:pt x="996" y="30"/>
                  </a:lnTo>
                  <a:lnTo>
                    <a:pt x="930" y="48"/>
                  </a:lnTo>
                  <a:lnTo>
                    <a:pt x="510" y="138"/>
                  </a:lnTo>
                  <a:lnTo>
                    <a:pt x="0" y="108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709640" y="4114800"/>
              <a:ext cx="419040" cy="378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28720" y="4133520"/>
              <a:ext cx="790560" cy="87480"/>
            </a:xfrm>
            <a:custGeom>
              <a:avLst/>
              <a:gdLst/>
              <a:ahLst/>
              <a:rect l="l" t="t" r="r" b="b"/>
              <a:pathLst>
                <a:path w="498" h="55">
                  <a:moveTo>
                    <a:pt x="498" y="0"/>
                  </a:moveTo>
                  <a:lnTo>
                    <a:pt x="246" y="48"/>
                  </a:lnTo>
                  <a:lnTo>
                    <a:pt x="0" y="55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747800" y="4209840"/>
              <a:ext cx="371520" cy="684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95320" y="3981240"/>
              <a:ext cx="1409760" cy="382680"/>
            </a:xfrm>
            <a:custGeom>
              <a:avLst/>
              <a:gdLst/>
              <a:ahLst/>
              <a:rect l="l" t="t" r="r" b="b"/>
              <a:pathLst>
                <a:path w="888" h="241">
                  <a:moveTo>
                    <a:pt x="888" y="0"/>
                  </a:moveTo>
                  <a:lnTo>
                    <a:pt x="408" y="199"/>
                  </a:lnTo>
                  <a:lnTo>
                    <a:pt x="228" y="235"/>
                  </a:lnTo>
                  <a:lnTo>
                    <a:pt x="0" y="241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1833480" y="4354200"/>
              <a:ext cx="342720" cy="954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1871640" y="4325760"/>
              <a:ext cx="457200" cy="1620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19160" y="4316400"/>
              <a:ext cx="495360" cy="218880"/>
            </a:xfrm>
            <a:custGeom>
              <a:avLst/>
              <a:gdLst/>
              <a:ahLst/>
              <a:rect l="l" t="t" r="r" b="b"/>
              <a:pathLst>
                <a:path w="312" h="138">
                  <a:moveTo>
                    <a:pt x="312" y="0"/>
                  </a:moveTo>
                  <a:lnTo>
                    <a:pt x="150" y="90"/>
                  </a:lnTo>
                  <a:lnTo>
                    <a:pt x="0" y="138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957320" y="4458960"/>
              <a:ext cx="180720" cy="104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985760" y="4306680"/>
              <a:ext cx="457200" cy="2858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62080" y="3981240"/>
              <a:ext cx="1133280" cy="696960"/>
            </a:xfrm>
            <a:custGeom>
              <a:avLst/>
              <a:gdLst/>
              <a:ahLst/>
              <a:rect l="l" t="t" r="r" b="b"/>
              <a:pathLst>
                <a:path w="714" h="439">
                  <a:moveTo>
                    <a:pt x="714" y="0"/>
                  </a:moveTo>
                  <a:lnTo>
                    <a:pt x="564" y="126"/>
                  </a:lnTo>
                  <a:lnTo>
                    <a:pt x="432" y="193"/>
                  </a:lnTo>
                  <a:lnTo>
                    <a:pt x="210" y="337"/>
                  </a:lnTo>
                  <a:lnTo>
                    <a:pt x="0" y="439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128680" y="4535280"/>
              <a:ext cx="247680" cy="1713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204640" y="4306680"/>
              <a:ext cx="523800" cy="428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2433240" y="4200480"/>
              <a:ext cx="523800" cy="610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366640" y="4363920"/>
              <a:ext cx="438480" cy="438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290680" y="4306680"/>
              <a:ext cx="590400" cy="466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490480" y="4200480"/>
              <a:ext cx="457200" cy="649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566440" y="4181400"/>
              <a:ext cx="390600" cy="6778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2681280" y="3962160"/>
              <a:ext cx="590400" cy="9064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19040" y="4230360"/>
              <a:ext cx="1144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52880" y="42303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2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52880" y="43542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6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52880" y="44686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5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52880" y="45925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8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28560" y="4601880"/>
              <a:ext cx="1144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62400" y="46018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62040" y="471636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62400" y="48402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2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2400" y="496404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2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62400" y="50878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7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62400" y="52117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7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38240" y="460188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971720" y="46018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3920" y="468756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57760" y="46875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28680" y="470664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62520" y="470664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5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14360" y="4944960"/>
              <a:ext cx="11448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48200" y="49449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48200" y="50688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6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48200" y="519264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48200" y="53164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8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48200" y="54403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5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57440" y="487836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90920" y="48783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7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90440" y="4019400"/>
              <a:ext cx="476280" cy="858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804760" y="4630680"/>
              <a:ext cx="228600" cy="237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90640" y="484956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24480" y="48495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3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57240" y="495432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91080" y="49543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7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04920" y="4028760"/>
              <a:ext cx="362160" cy="858960"/>
            </a:xfrm>
            <a:custGeom>
              <a:avLst/>
              <a:gdLst/>
              <a:ahLst/>
              <a:rect l="l" t="t" r="r" b="b"/>
              <a:pathLst>
                <a:path w="228" h="541">
                  <a:moveTo>
                    <a:pt x="228" y="0"/>
                  </a:moveTo>
                  <a:lnTo>
                    <a:pt x="222" y="96"/>
                  </a:lnTo>
                  <a:lnTo>
                    <a:pt x="0" y="541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071160" y="4573440"/>
              <a:ext cx="104760" cy="3240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138120" y="4440240"/>
              <a:ext cx="104760" cy="4665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205080" y="4335120"/>
              <a:ext cx="85680" cy="562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3290400" y="4230360"/>
              <a:ext cx="57240" cy="667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8000" y="4221000"/>
              <a:ext cx="1440" cy="666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48000" y="4209840"/>
              <a:ext cx="75960" cy="6685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67080" y="4105080"/>
              <a:ext cx="133200" cy="7732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09880" y="4916160"/>
              <a:ext cx="1141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43360" y="49068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3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47680" y="503064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981520" y="503064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5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52440" y="4916160"/>
              <a:ext cx="114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86280" y="49068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6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47840" y="502092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81680" y="50209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43240" y="4916160"/>
              <a:ext cx="1141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76720" y="49068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3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19200" y="502092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53040" y="50209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86160" y="4897440"/>
              <a:ext cx="1141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19640" y="48877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3394440" y="5144040"/>
              <a:ext cx="3236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RhPV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376440" y="3971880"/>
              <a:ext cx="228600" cy="3445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76600" y="4306680"/>
              <a:ext cx="47520" cy="542880"/>
            </a:xfrm>
            <a:custGeom>
              <a:avLst/>
              <a:gdLst/>
              <a:ahLst/>
              <a:rect l="l" t="t" r="r" b="b"/>
              <a:pathLst>
                <a:path w="30" h="342">
                  <a:moveTo>
                    <a:pt x="12" y="0"/>
                  </a:moveTo>
                  <a:lnTo>
                    <a:pt x="30" y="204"/>
                  </a:lnTo>
                  <a:lnTo>
                    <a:pt x="0" y="342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24120" y="4620960"/>
              <a:ext cx="38160" cy="2192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3604680" y="4325400"/>
              <a:ext cx="399960" cy="428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05040" y="4325760"/>
              <a:ext cx="295200" cy="457200"/>
            </a:xfrm>
            <a:custGeom>
              <a:avLst/>
              <a:gdLst/>
              <a:ahLst/>
              <a:rect l="l" t="t" r="r" b="b"/>
              <a:pathLst>
                <a:path w="186" h="288">
                  <a:moveTo>
                    <a:pt x="0" y="0"/>
                  </a:moveTo>
                  <a:lnTo>
                    <a:pt x="54" y="108"/>
                  </a:lnTo>
                  <a:lnTo>
                    <a:pt x="186" y="288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81360" y="4497120"/>
              <a:ext cx="171360" cy="304920"/>
            </a:xfrm>
            <a:custGeom>
              <a:avLst/>
              <a:gdLst/>
              <a:ahLst/>
              <a:rect l="l" t="t" r="r" b="b"/>
              <a:pathLst>
                <a:path w="108" h="192">
                  <a:moveTo>
                    <a:pt x="0" y="0"/>
                  </a:moveTo>
                  <a:lnTo>
                    <a:pt x="36" y="78"/>
                  </a:lnTo>
                  <a:lnTo>
                    <a:pt x="108" y="192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28880" y="4611600"/>
              <a:ext cx="9360" cy="228600"/>
            </a:xfrm>
            <a:custGeom>
              <a:avLst/>
              <a:gdLst/>
              <a:ahLst/>
              <a:rect l="l" t="t" r="r" b="b"/>
              <a:pathLst>
                <a:path w="6" h="144">
                  <a:moveTo>
                    <a:pt x="0" y="0"/>
                  </a:moveTo>
                  <a:lnTo>
                    <a:pt x="6" y="66"/>
                  </a:lnTo>
                  <a:lnTo>
                    <a:pt x="6" y="144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738240" y="4725720"/>
              <a:ext cx="47880" cy="104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528720" y="4840200"/>
              <a:ext cx="11448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62560" y="48304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43200" y="4849560"/>
              <a:ext cx="572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676320" y="484956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5400000">
              <a:off x="3585240" y="5153400"/>
              <a:ext cx="3236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ChPV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3674160" y="5071680"/>
              <a:ext cx="3358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PCPV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3360" y="479232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76840" y="47923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57480" y="482112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91320" y="48211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7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29040" y="4668840"/>
              <a:ext cx="19080" cy="950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38400" y="471636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972240" y="47163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4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3357360" y="3647520"/>
              <a:ext cx="1906560" cy="181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86160" y="3971880"/>
              <a:ext cx="475920" cy="411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3862080" y="4373280"/>
              <a:ext cx="238320" cy="3621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62080" y="4383000"/>
              <a:ext cx="304920" cy="276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76440" y="3971880"/>
              <a:ext cx="1000080" cy="649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52880" y="4411440"/>
              <a:ext cx="237960" cy="2476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05040" y="4114800"/>
              <a:ext cx="942840" cy="372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90680" y="471636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24520" y="47163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3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67000" y="4649760"/>
              <a:ext cx="11448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00840" y="464004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4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00560" y="464004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34040" y="464004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95600" y="4582800"/>
              <a:ext cx="572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29080" y="458280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929040" y="4240080"/>
              <a:ext cx="514080" cy="3142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471920" y="455436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05400" y="45543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4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57600" y="445896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91080" y="44589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7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67080" y="3876480"/>
              <a:ext cx="838080" cy="238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05160" y="4114800"/>
              <a:ext cx="515880" cy="3632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86240" y="4240080"/>
              <a:ext cx="420480" cy="1713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05160" y="4114800"/>
              <a:ext cx="772920" cy="1443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00560" y="4133520"/>
              <a:ext cx="620640" cy="1922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40120" y="442116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73960" y="44211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25800" y="434484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59640" y="434484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5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30560" y="427824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64400" y="427824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5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45040" y="4209840"/>
              <a:ext cx="11412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078520" y="421164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6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81360" y="3800160"/>
              <a:ext cx="1515960" cy="2001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16440" y="4009680"/>
              <a:ext cx="333360" cy="572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43280" y="3933720"/>
              <a:ext cx="430200" cy="1998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121000" y="4086000"/>
              <a:ext cx="57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54480" y="407664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44840" y="392400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78680" y="39240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5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92720" y="346680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26200" y="34668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8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06680" y="403848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40520" y="40384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4290840" y="3685680"/>
              <a:ext cx="963720" cy="572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290840" y="3714480"/>
              <a:ext cx="973080" cy="288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281480" y="3733200"/>
              <a:ext cx="973080" cy="9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271760" y="3743280"/>
              <a:ext cx="982800" cy="284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06840" y="350496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40680" y="35049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8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11800" y="360036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345280" y="36003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8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35280" y="3657600"/>
              <a:ext cx="11448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469120" y="36576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7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30520" y="371448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64360" y="37144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6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064280" y="2876400"/>
              <a:ext cx="1332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99200" y="287640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C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21360" y="2112840"/>
              <a:ext cx="1332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56280" y="211284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C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83160" y="2093760"/>
              <a:ext cx="763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17720" y="2093760"/>
              <a:ext cx="738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435720" y="1769760"/>
              <a:ext cx="542880" cy="905040"/>
            </a:xfrm>
            <a:custGeom>
              <a:avLst/>
              <a:gdLst/>
              <a:ahLst/>
              <a:rect l="l" t="t" r="r" b="b"/>
              <a:pathLst>
                <a:path w="57" h="95">
                  <a:moveTo>
                    <a:pt x="0" y="0"/>
                  </a:moveTo>
                  <a:cubicBezTo>
                    <a:pt x="27" y="11"/>
                    <a:pt x="48" y="42"/>
                    <a:pt x="55" y="80"/>
                  </a:cubicBezTo>
                  <a:cubicBezTo>
                    <a:pt x="56" y="85"/>
                    <a:pt x="57" y="90"/>
                    <a:pt x="57" y="95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88000" y="1444320"/>
              <a:ext cx="790560" cy="1584360"/>
            </a:xfrm>
            <a:custGeom>
              <a:avLst/>
              <a:gdLst/>
              <a:ahLst/>
              <a:rect l="l" t="t" r="r" b="b"/>
              <a:pathLst>
                <a:path w="83" h="166">
                  <a:moveTo>
                    <a:pt x="0" y="0"/>
                  </a:moveTo>
                  <a:cubicBezTo>
                    <a:pt x="32" y="10"/>
                    <a:pt x="64" y="58"/>
                    <a:pt x="77" y="117"/>
                  </a:cubicBezTo>
                  <a:cubicBezTo>
                    <a:pt x="80" y="133"/>
                    <a:pt x="82" y="150"/>
                    <a:pt x="83" y="166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87960" y="2817720"/>
              <a:ext cx="19080" cy="25884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0" y="0"/>
                  </a:moveTo>
                  <a:cubicBezTo>
                    <a:pt x="2" y="11"/>
                    <a:pt x="2" y="21"/>
                    <a:pt x="0" y="27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97360" y="1444320"/>
              <a:ext cx="333360" cy="9684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0" y="0"/>
                  </a:moveTo>
                  <a:cubicBezTo>
                    <a:pt x="15" y="0"/>
                    <a:pt x="28" y="4"/>
                    <a:pt x="35" y="1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71760" y="1396800"/>
              <a:ext cx="304920" cy="3816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0" y="3"/>
                  </a:moveTo>
                  <a:cubicBezTo>
                    <a:pt x="13" y="0"/>
                    <a:pt x="24" y="0"/>
                    <a:pt x="32" y="4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33480" y="1434960"/>
              <a:ext cx="533520" cy="144360"/>
            </a:xfrm>
            <a:custGeom>
              <a:avLst/>
              <a:gdLst/>
              <a:ahLst/>
              <a:rect l="l" t="t" r="r" b="b"/>
              <a:pathLst>
                <a:path w="56" h="15">
                  <a:moveTo>
                    <a:pt x="0" y="15"/>
                  </a:moveTo>
                  <a:cubicBezTo>
                    <a:pt x="1" y="14"/>
                    <a:pt x="2" y="14"/>
                    <a:pt x="3" y="13"/>
                  </a:cubicBezTo>
                  <a:cubicBezTo>
                    <a:pt x="23" y="5"/>
                    <a:pt x="43" y="0"/>
                    <a:pt x="56" y="1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47680" y="1617480"/>
              <a:ext cx="600120" cy="57240"/>
            </a:xfrm>
            <a:custGeom>
              <a:avLst/>
              <a:gdLst/>
              <a:ahLst/>
              <a:rect l="l" t="t" r="r" b="b"/>
              <a:pathLst>
                <a:path w="63" h="6">
                  <a:moveTo>
                    <a:pt x="0" y="6"/>
                  </a:moveTo>
                  <a:cubicBezTo>
                    <a:pt x="26" y="0"/>
                    <a:pt x="50" y="0"/>
                    <a:pt x="63" y="6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47800" y="1063440"/>
              <a:ext cx="1611360" cy="18108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0" y="19"/>
                  </a:moveTo>
                  <a:cubicBezTo>
                    <a:pt x="27" y="7"/>
                    <a:pt x="63" y="0"/>
                    <a:pt x="101" y="0"/>
                  </a:cubicBezTo>
                  <a:cubicBezTo>
                    <a:pt x="125" y="0"/>
                    <a:pt x="148" y="3"/>
                    <a:pt x="169" y="8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30560" y="1244520"/>
              <a:ext cx="1238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67280" y="1244520"/>
              <a:ext cx="1256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E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7440" y="1187280"/>
              <a:ext cx="1238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94160" y="1187280"/>
              <a:ext cx="1256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E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57320" y="127296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94040" y="1263600"/>
              <a:ext cx="1256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E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62400" y="825480"/>
              <a:ext cx="759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93360" y="825480"/>
              <a:ext cx="694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33520" y="1406520"/>
              <a:ext cx="6660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68080" y="1406520"/>
              <a:ext cx="738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71640" y="1731960"/>
              <a:ext cx="876240" cy="447480"/>
            </a:xfrm>
            <a:custGeom>
              <a:avLst/>
              <a:gdLst/>
              <a:ahLst/>
              <a:rect l="l" t="t" r="r" b="b"/>
              <a:pathLst>
                <a:path w="92" h="47">
                  <a:moveTo>
                    <a:pt x="0" y="47"/>
                  </a:moveTo>
                  <a:cubicBezTo>
                    <a:pt x="6" y="42"/>
                    <a:pt x="20" y="24"/>
                    <a:pt x="36" y="16"/>
                  </a:cubicBezTo>
                  <a:cubicBezTo>
                    <a:pt x="51" y="9"/>
                    <a:pt x="81" y="4"/>
                    <a:pt x="92" y="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7080" y="2236680"/>
              <a:ext cx="790560" cy="1792080"/>
            </a:xfrm>
            <a:custGeom>
              <a:avLst/>
              <a:gdLst/>
              <a:ahLst/>
              <a:rect l="l" t="t" r="r" b="b"/>
              <a:pathLst>
                <a:path w="83" h="188">
                  <a:moveTo>
                    <a:pt x="5" y="188"/>
                  </a:moveTo>
                  <a:cubicBezTo>
                    <a:pt x="5" y="174"/>
                    <a:pt x="0" y="127"/>
                    <a:pt x="5" y="103"/>
                  </a:cubicBezTo>
                  <a:cubicBezTo>
                    <a:pt x="10" y="78"/>
                    <a:pt x="22" y="55"/>
                    <a:pt x="35" y="38"/>
                  </a:cubicBezTo>
                  <a:cubicBezTo>
                    <a:pt x="48" y="21"/>
                    <a:pt x="73" y="8"/>
                    <a:pt x="83" y="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61840" y="4171680"/>
              <a:ext cx="66600" cy="1256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cubicBezTo>
                    <a:pt x="0" y="1"/>
                    <a:pt x="0" y="6"/>
                    <a:pt x="1" y="8"/>
                  </a:cubicBezTo>
                  <a:cubicBezTo>
                    <a:pt x="2" y="10"/>
                    <a:pt x="6" y="12"/>
                    <a:pt x="7" y="13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57120" y="1569960"/>
              <a:ext cx="1335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92040" y="156996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B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57080" y="2722320"/>
              <a:ext cx="1238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2000" y="272232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B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61680" y="4209840"/>
              <a:ext cx="13356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6600" y="421164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B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4640" y="1320480"/>
              <a:ext cx="2143080" cy="3090960"/>
            </a:xfrm>
            <a:custGeom>
              <a:avLst/>
              <a:gdLst/>
              <a:ahLst/>
              <a:rect l="l" t="t" r="r" b="b"/>
              <a:pathLst>
                <a:path w="225" h="324">
                  <a:moveTo>
                    <a:pt x="225" y="0"/>
                  </a:moveTo>
                  <a:cubicBezTo>
                    <a:pt x="213" y="4"/>
                    <a:pt x="174" y="12"/>
                    <a:pt x="152" y="22"/>
                  </a:cubicBezTo>
                  <a:cubicBezTo>
                    <a:pt x="130" y="32"/>
                    <a:pt x="112" y="42"/>
                    <a:pt x="92" y="59"/>
                  </a:cubicBezTo>
                  <a:cubicBezTo>
                    <a:pt x="72" y="75"/>
                    <a:pt x="47" y="100"/>
                    <a:pt x="32" y="122"/>
                  </a:cubicBezTo>
                  <a:cubicBezTo>
                    <a:pt x="18" y="144"/>
                    <a:pt x="10" y="165"/>
                    <a:pt x="5" y="191"/>
                  </a:cubicBezTo>
                  <a:cubicBezTo>
                    <a:pt x="0" y="218"/>
                    <a:pt x="1" y="261"/>
                    <a:pt x="2" y="283"/>
                  </a:cubicBezTo>
                  <a:cubicBezTo>
                    <a:pt x="3" y="305"/>
                    <a:pt x="11" y="315"/>
                    <a:pt x="13" y="324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8480" y="2341440"/>
              <a:ext cx="763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3040" y="2341440"/>
              <a:ext cx="738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5240" y="3628800"/>
              <a:ext cx="5268960" cy="2355840"/>
            </a:xfrm>
            <a:custGeom>
              <a:avLst/>
              <a:gdLst/>
              <a:ahLst/>
              <a:rect l="l" t="t" r="r" b="b"/>
              <a:pathLst>
                <a:path w="553" h="247">
                  <a:moveTo>
                    <a:pt x="0" y="120"/>
                  </a:moveTo>
                  <a:cubicBezTo>
                    <a:pt x="10" y="132"/>
                    <a:pt x="34" y="175"/>
                    <a:pt x="63" y="194"/>
                  </a:cubicBezTo>
                  <a:cubicBezTo>
                    <a:pt x="92" y="214"/>
                    <a:pt x="132" y="231"/>
                    <a:pt x="174" y="237"/>
                  </a:cubicBezTo>
                  <a:cubicBezTo>
                    <a:pt x="216" y="244"/>
                    <a:pt x="267" y="247"/>
                    <a:pt x="316" y="233"/>
                  </a:cubicBezTo>
                  <a:cubicBezTo>
                    <a:pt x="366" y="219"/>
                    <a:pt x="435" y="180"/>
                    <a:pt x="472" y="153"/>
                  </a:cubicBezTo>
                  <a:cubicBezTo>
                    <a:pt x="508" y="125"/>
                    <a:pt x="521" y="93"/>
                    <a:pt x="535" y="67"/>
                  </a:cubicBezTo>
                  <a:cubicBezTo>
                    <a:pt x="549" y="42"/>
                    <a:pt x="550" y="14"/>
                    <a:pt x="553" y="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23960" y="4105080"/>
              <a:ext cx="56880" cy="2113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1" y="0"/>
                  </a:moveTo>
                  <a:cubicBezTo>
                    <a:pt x="1" y="2"/>
                    <a:pt x="0" y="9"/>
                    <a:pt x="1" y="13"/>
                  </a:cubicBezTo>
                  <a:cubicBezTo>
                    <a:pt x="2" y="17"/>
                    <a:pt x="5" y="20"/>
                    <a:pt x="6" y="22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81040" y="4114800"/>
              <a:ext cx="12384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15960" y="411480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47800" y="4383000"/>
              <a:ext cx="161640" cy="2570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cubicBezTo>
                    <a:pt x="1" y="3"/>
                    <a:pt x="1" y="14"/>
                    <a:pt x="4" y="18"/>
                  </a:cubicBezTo>
                  <a:cubicBezTo>
                    <a:pt x="7" y="23"/>
                    <a:pt x="15" y="25"/>
                    <a:pt x="17" y="27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04880" y="4449600"/>
              <a:ext cx="1238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39800" y="444960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49760" y="3552480"/>
              <a:ext cx="76320" cy="343080"/>
            </a:xfrm>
            <a:custGeom>
              <a:avLst/>
              <a:gdLst/>
              <a:ahLst/>
              <a:rect l="l" t="t" r="r" b="b"/>
              <a:pathLst>
                <a:path w="8" h="36">
                  <a:moveTo>
                    <a:pt x="0" y="0"/>
                  </a:moveTo>
                  <a:cubicBezTo>
                    <a:pt x="1" y="3"/>
                    <a:pt x="8" y="14"/>
                    <a:pt x="8" y="20"/>
                  </a:cubicBezTo>
                  <a:cubicBezTo>
                    <a:pt x="8" y="26"/>
                    <a:pt x="3" y="33"/>
                    <a:pt x="2" y="36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92680" y="3666960"/>
              <a:ext cx="1332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27600" y="366696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263920" y="3981240"/>
              <a:ext cx="114480" cy="268200"/>
            </a:xfrm>
            <a:custGeom>
              <a:avLst/>
              <a:gdLst/>
              <a:ahLst/>
              <a:rect l="l" t="t" r="r" b="b"/>
              <a:pathLst>
                <a:path w="12" h="28">
                  <a:moveTo>
                    <a:pt x="12" y="0"/>
                  </a:moveTo>
                  <a:cubicBezTo>
                    <a:pt x="12" y="3"/>
                    <a:pt x="12" y="13"/>
                    <a:pt x="11" y="18"/>
                  </a:cubicBezTo>
                  <a:cubicBezTo>
                    <a:pt x="9" y="23"/>
                    <a:pt x="3" y="26"/>
                    <a:pt x="0" y="28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35280" y="4057560"/>
              <a:ext cx="1335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70200" y="405756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44880" y="4297320"/>
              <a:ext cx="361800" cy="31428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38" y="0"/>
                  </a:moveTo>
                  <a:cubicBezTo>
                    <a:pt x="36" y="4"/>
                    <a:pt x="31" y="17"/>
                    <a:pt x="25" y="22"/>
                  </a:cubicBezTo>
                  <a:cubicBezTo>
                    <a:pt x="18" y="28"/>
                    <a:pt x="5" y="31"/>
                    <a:pt x="0" y="33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187960" y="4440240"/>
              <a:ext cx="12384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22880" y="444024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95600" y="4620960"/>
              <a:ext cx="247680" cy="2383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0"/>
                  </a:moveTo>
                  <a:cubicBezTo>
                    <a:pt x="26" y="3"/>
                    <a:pt x="24" y="11"/>
                    <a:pt x="20" y="15"/>
                  </a:cubicBezTo>
                  <a:cubicBezTo>
                    <a:pt x="16" y="19"/>
                    <a:pt x="4" y="23"/>
                    <a:pt x="0" y="25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614840" y="4744800"/>
              <a:ext cx="1252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49760" y="474480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67000" y="4849560"/>
              <a:ext cx="133560" cy="954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0"/>
                  </a:moveTo>
                  <a:cubicBezTo>
                    <a:pt x="13" y="1"/>
                    <a:pt x="10" y="6"/>
                    <a:pt x="7" y="7"/>
                  </a:cubicBezTo>
                  <a:cubicBezTo>
                    <a:pt x="5" y="9"/>
                    <a:pt x="2" y="10"/>
                    <a:pt x="0" y="1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52680" y="4897440"/>
              <a:ext cx="12384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87600" y="489744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33480" y="5020920"/>
              <a:ext cx="514440" cy="3524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54" y="0"/>
                  </a:moveTo>
                  <a:cubicBezTo>
                    <a:pt x="52" y="3"/>
                    <a:pt x="49" y="14"/>
                    <a:pt x="44" y="19"/>
                  </a:cubicBezTo>
                  <a:cubicBezTo>
                    <a:pt x="39" y="25"/>
                    <a:pt x="31" y="29"/>
                    <a:pt x="24" y="32"/>
                  </a:cubicBezTo>
                  <a:cubicBezTo>
                    <a:pt x="17" y="35"/>
                    <a:pt x="5" y="36"/>
                    <a:pt x="0" y="37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995640" y="5249520"/>
              <a:ext cx="1904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30920" y="5249520"/>
              <a:ext cx="1864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900160" y="5364000"/>
              <a:ext cx="638280" cy="1332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2"/>
                  </a:moveTo>
                  <a:cubicBezTo>
                    <a:pt x="64" y="4"/>
                    <a:pt x="53" y="11"/>
                    <a:pt x="45" y="13"/>
                  </a:cubicBezTo>
                  <a:cubicBezTo>
                    <a:pt x="37" y="14"/>
                    <a:pt x="25" y="14"/>
                    <a:pt x="18" y="12"/>
                  </a:cubicBezTo>
                  <a:cubicBezTo>
                    <a:pt x="10" y="9"/>
                    <a:pt x="4" y="3"/>
                    <a:pt x="0" y="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90600" y="5526000"/>
              <a:ext cx="13356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125520" y="552744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52480" y="5106960"/>
              <a:ext cx="162000" cy="568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6"/>
                  </a:moveTo>
                  <a:cubicBezTo>
                    <a:pt x="15" y="6"/>
                    <a:pt x="10" y="6"/>
                    <a:pt x="7" y="5"/>
                  </a:cubicBezTo>
                  <a:cubicBezTo>
                    <a:pt x="4" y="4"/>
                    <a:pt x="1" y="1"/>
                    <a:pt x="0" y="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52480" y="5163840"/>
              <a:ext cx="1904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87760" y="5163840"/>
              <a:ext cx="1864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538360" y="5011560"/>
              <a:ext cx="85680" cy="666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6"/>
                  </a:moveTo>
                  <a:cubicBezTo>
                    <a:pt x="8" y="6"/>
                    <a:pt x="5" y="7"/>
                    <a:pt x="4" y="6"/>
                  </a:cubicBezTo>
                  <a:cubicBezTo>
                    <a:pt x="2" y="5"/>
                    <a:pt x="1" y="1"/>
                    <a:pt x="0" y="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00080" y="4716360"/>
              <a:ext cx="619200" cy="247680"/>
            </a:xfrm>
            <a:custGeom>
              <a:avLst/>
              <a:gdLst/>
              <a:ahLst/>
              <a:rect l="l" t="t" r="r" b="b"/>
              <a:pathLst>
                <a:path w="65" h="26">
                  <a:moveTo>
                    <a:pt x="0" y="0"/>
                  </a:moveTo>
                  <a:cubicBezTo>
                    <a:pt x="2" y="3"/>
                    <a:pt x="6" y="15"/>
                    <a:pt x="14" y="19"/>
                  </a:cubicBezTo>
                  <a:cubicBezTo>
                    <a:pt x="22" y="23"/>
                    <a:pt x="39" y="25"/>
                    <a:pt x="47" y="26"/>
                  </a:cubicBezTo>
                  <a:cubicBezTo>
                    <a:pt x="56" y="26"/>
                    <a:pt x="62" y="25"/>
                    <a:pt x="65" y="25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28520" y="4935240"/>
              <a:ext cx="123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63440" y="492588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33600" y="5040000"/>
              <a:ext cx="1332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464560" y="5040000"/>
              <a:ext cx="136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797680" y="3724200"/>
              <a:ext cx="2001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834760" y="3724200"/>
              <a:ext cx="2005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FP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00440" y="3181320"/>
              <a:ext cx="5059080" cy="637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52680" y="3238200"/>
              <a:ext cx="3078360" cy="171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19520" y="3171600"/>
              <a:ext cx="3049560" cy="9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864120" y="308592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97960" y="30859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4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07000" y="3314520"/>
              <a:ext cx="2858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49120" y="3314520"/>
              <a:ext cx="2858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EQP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73680" y="2760480"/>
              <a:ext cx="26676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17960" y="2760480"/>
              <a:ext cx="2628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BPV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635520" y="2895480"/>
              <a:ext cx="2574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679800" y="2895480"/>
              <a:ext cx="2628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BPV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597360" y="2455560"/>
              <a:ext cx="3240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44520" y="2455560"/>
              <a:ext cx="325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OvPV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588000" y="2589120"/>
              <a:ext cx="3240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34800" y="2589120"/>
              <a:ext cx="325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OvPV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54640" y="2093760"/>
              <a:ext cx="2095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96760" y="2093760"/>
              <a:ext cx="21096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RP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87840" y="2226960"/>
              <a:ext cx="276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31400" y="2226960"/>
              <a:ext cx="2750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EEP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21080" y="1941480"/>
              <a:ext cx="2098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63560" y="1941480"/>
              <a:ext cx="21096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DP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78520" y="1731960"/>
              <a:ext cx="25704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22440" y="1731960"/>
              <a:ext cx="2628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BPV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16320" y="2855880"/>
              <a:ext cx="514440" cy="968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16320" y="2855880"/>
              <a:ext cx="571680" cy="108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121000" y="2779560"/>
              <a:ext cx="8859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25880" y="2703240"/>
              <a:ext cx="676440" cy="9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5844960" y="2579400"/>
              <a:ext cx="676440" cy="1238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5149800" y="2702880"/>
              <a:ext cx="676080" cy="572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5159160" y="2246040"/>
              <a:ext cx="1171800" cy="505080"/>
              <a:chOff x="5159160" y="2246040"/>
              <a:chExt cx="1171800" cy="505080"/>
            </a:xfrm>
          </p:grpSpPr>
          <p:sp>
            <p:nvSpPr>
              <p:cNvPr id="472" name=""/>
              <p:cNvSpPr/>
              <p:nvPr/>
            </p:nvSpPr>
            <p:spPr>
              <a:xfrm flipV="1">
                <a:off x="5416560" y="2246040"/>
                <a:ext cx="790560" cy="4096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5435280" y="2350440"/>
                <a:ext cx="895680" cy="2955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159160" y="2636640"/>
                <a:ext cx="285840" cy="1144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 flipV="1">
              <a:off x="5111640" y="2065320"/>
              <a:ext cx="961920" cy="7142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4281480" y="2788920"/>
              <a:ext cx="820440" cy="1828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4281480" y="1865160"/>
              <a:ext cx="1658880" cy="1106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3681360" y="2971800"/>
              <a:ext cx="590400" cy="2095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566880" y="1655640"/>
              <a:ext cx="2011320" cy="16113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16320" y="2855880"/>
              <a:ext cx="514440" cy="968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16320" y="2855880"/>
              <a:ext cx="571680" cy="108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121000" y="2779560"/>
              <a:ext cx="8859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25880" y="2703240"/>
              <a:ext cx="676440" cy="9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5844960" y="2579400"/>
              <a:ext cx="676440" cy="1238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5149800" y="2702880"/>
              <a:ext cx="676080" cy="572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5416560" y="2246040"/>
              <a:ext cx="790560" cy="4096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5435280" y="2350440"/>
              <a:ext cx="895680" cy="2955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5159160" y="2636640"/>
              <a:ext cx="285840" cy="1144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5416560" y="2246040"/>
              <a:ext cx="790560" cy="4096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5435280" y="2350440"/>
              <a:ext cx="895680" cy="2955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5159160" y="2636640"/>
              <a:ext cx="285840" cy="1144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111640" y="2065320"/>
              <a:ext cx="961920" cy="7142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4281480" y="2788920"/>
              <a:ext cx="820440" cy="1828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4281480" y="1865160"/>
              <a:ext cx="1658880" cy="11066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3681360" y="2971800"/>
              <a:ext cx="590400" cy="2095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3566880" y="1655640"/>
              <a:ext cx="2011320" cy="16113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16360" y="1522080"/>
              <a:ext cx="276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57040" y="1522080"/>
              <a:ext cx="2797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MnP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3452760" y="2664720"/>
              <a:ext cx="485640" cy="7448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948120" y="1636200"/>
              <a:ext cx="733320" cy="10191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3948120" y="1712520"/>
              <a:ext cx="1058760" cy="9428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035320" y="1579320"/>
              <a:ext cx="572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68800" y="157932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90800" y="1473120"/>
              <a:ext cx="11592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24640" y="14745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6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862080" y="1712880"/>
              <a:ext cx="476280" cy="1056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290840" y="1501560"/>
              <a:ext cx="29520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336560" y="1493640"/>
              <a:ext cx="29016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COP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3776400" y="1693800"/>
              <a:ext cx="257400" cy="12110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3757320" y="1807920"/>
              <a:ext cx="66960" cy="8193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19320" y="1522080"/>
              <a:ext cx="276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3240" y="1522080"/>
              <a:ext cx="2840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CRP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643200" y="1626840"/>
              <a:ext cx="285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88560" y="1617480"/>
              <a:ext cx="29016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ROP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 flipV="1">
              <a:off x="3280680" y="3304800"/>
              <a:ext cx="171720" cy="114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3271680" y="2036160"/>
              <a:ext cx="1440" cy="1258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3281040" y="2065320"/>
              <a:ext cx="190800" cy="761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flipV="1">
              <a:off x="3052080" y="2064960"/>
              <a:ext cx="219240" cy="811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3271680" y="2036160"/>
              <a:ext cx="1440" cy="1258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3281040" y="2065320"/>
              <a:ext cx="190800" cy="761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3052080" y="2064960"/>
              <a:ext cx="219240" cy="811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67080" y="1855440"/>
              <a:ext cx="2570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11000" y="1855440"/>
              <a:ext cx="2628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BPV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09680" y="1693800"/>
              <a:ext cx="2574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53960" y="1693800"/>
              <a:ext cx="2628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BPV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09880" y="1874520"/>
              <a:ext cx="2664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53800" y="1874520"/>
              <a:ext cx="2628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BPV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 flipV="1">
              <a:off x="3166560" y="3276000"/>
              <a:ext cx="104760" cy="19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19080" y="194148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52920" y="19414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4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423880" y="1960560"/>
              <a:ext cx="11448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57720" y="19605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flipV="1">
              <a:off x="2985480" y="3123720"/>
              <a:ext cx="181080" cy="142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flipV="1">
              <a:off x="2538000" y="2131560"/>
              <a:ext cx="438120" cy="9824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2814120" y="2140920"/>
              <a:ext cx="104760" cy="8305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2052000" y="2427120"/>
              <a:ext cx="924120" cy="696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2452320" y="2522520"/>
              <a:ext cx="523800" cy="5918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2300040" y="2255400"/>
              <a:ext cx="162000" cy="266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2118960" y="2264760"/>
              <a:ext cx="323640" cy="2574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24080" y="2046240"/>
              <a:ext cx="568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257200" y="204624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09440" y="232236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943280" y="23223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47600" y="214128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81440" y="21412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6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2795400" y="3276360"/>
              <a:ext cx="362160" cy="18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1299600" y="3276360"/>
              <a:ext cx="1476360" cy="7812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 flipV="1">
              <a:off x="2376360" y="3171240"/>
              <a:ext cx="409680" cy="104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 flipV="1">
              <a:off x="2147760" y="2981160"/>
              <a:ext cx="247680" cy="2001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flipV="1">
              <a:off x="1728360" y="2512440"/>
              <a:ext cx="390600" cy="4208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1814400" y="2446200"/>
              <a:ext cx="342720" cy="534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flipV="1">
              <a:off x="1604880" y="2550600"/>
              <a:ext cx="542880" cy="4208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28720" y="225576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62200" y="22557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2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547640" y="226512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81480" y="22651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3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452240" y="239868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486080" y="23986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2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flipV="1">
              <a:off x="1366560" y="3000240"/>
              <a:ext cx="990720" cy="1713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 flipV="1">
              <a:off x="1490040" y="2885760"/>
              <a:ext cx="19044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flipV="1">
              <a:off x="1442880" y="2943000"/>
              <a:ext cx="257040" cy="288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 flipV="1">
              <a:off x="1680480" y="2971800"/>
              <a:ext cx="352440" cy="950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flipV="1">
              <a:off x="1604520" y="2760480"/>
              <a:ext cx="514440" cy="3636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>
              <a:off x="1490400" y="2807640"/>
              <a:ext cx="486000" cy="211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442880" y="258912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476720" y="25891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09680" y="2617560"/>
              <a:ext cx="1141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43160" y="26082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3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328760" y="2741400"/>
              <a:ext cx="11412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62240" y="27414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233360" y="2817720"/>
              <a:ext cx="11412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267200" y="28191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23640" y="2933640"/>
              <a:ext cx="5724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257120" y="292392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319040" y="3114360"/>
              <a:ext cx="1047600" cy="123840"/>
            </a:xfrm>
            <a:custGeom>
              <a:avLst/>
              <a:gdLst/>
              <a:ahLst/>
              <a:rect l="l" t="t" r="r" b="b"/>
              <a:pathLst>
                <a:path w="660" h="78">
                  <a:moveTo>
                    <a:pt x="660" y="30"/>
                  </a:moveTo>
                  <a:lnTo>
                    <a:pt x="480" y="60"/>
                  </a:lnTo>
                  <a:lnTo>
                    <a:pt x="336" y="78"/>
                  </a:lnTo>
                  <a:lnTo>
                    <a:pt x="174" y="72"/>
                  </a:lnTo>
                  <a:lnTo>
                    <a:pt x="120" y="6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 flipV="1">
              <a:off x="1280880" y="3181320"/>
              <a:ext cx="333360" cy="475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280880" y="3238200"/>
              <a:ext cx="419040" cy="19080"/>
            </a:xfrm>
            <a:custGeom>
              <a:avLst/>
              <a:gdLst/>
              <a:ahLst/>
              <a:rect l="l" t="t" r="r" b="b"/>
              <a:pathLst>
                <a:path w="264" h="12">
                  <a:moveTo>
                    <a:pt x="264" y="0"/>
                  </a:moveTo>
                  <a:lnTo>
                    <a:pt x="150" y="12"/>
                  </a:lnTo>
                  <a:lnTo>
                    <a:pt x="0" y="12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52440" y="3247920"/>
              <a:ext cx="609480" cy="85680"/>
            </a:xfrm>
            <a:custGeom>
              <a:avLst/>
              <a:gdLst/>
              <a:ahLst/>
              <a:rect l="l" t="t" r="r" b="b"/>
              <a:pathLst>
                <a:path w="384" h="54">
                  <a:moveTo>
                    <a:pt x="384" y="0"/>
                  </a:moveTo>
                  <a:lnTo>
                    <a:pt x="276" y="30"/>
                  </a:lnTo>
                  <a:lnTo>
                    <a:pt x="0" y="54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1242720" y="3295440"/>
              <a:ext cx="457200" cy="1144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42720" y="3219120"/>
              <a:ext cx="800280" cy="247680"/>
            </a:xfrm>
            <a:custGeom>
              <a:avLst/>
              <a:gdLst/>
              <a:ahLst/>
              <a:rect l="l" t="t" r="r" b="b"/>
              <a:pathLst>
                <a:path w="504" h="156">
                  <a:moveTo>
                    <a:pt x="504" y="0"/>
                  </a:moveTo>
                  <a:lnTo>
                    <a:pt x="432" y="36"/>
                  </a:lnTo>
                  <a:lnTo>
                    <a:pt x="210" y="102"/>
                  </a:lnTo>
                  <a:lnTo>
                    <a:pt x="0" y="156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242720" y="3228840"/>
              <a:ext cx="809640" cy="323640"/>
            </a:xfrm>
            <a:custGeom>
              <a:avLst/>
              <a:gdLst/>
              <a:ahLst/>
              <a:rect l="l" t="t" r="r" b="b"/>
              <a:pathLst>
                <a:path w="510" h="204">
                  <a:moveTo>
                    <a:pt x="510" y="0"/>
                  </a:moveTo>
                  <a:lnTo>
                    <a:pt x="264" y="102"/>
                  </a:lnTo>
                  <a:lnTo>
                    <a:pt x="0" y="204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1242360" y="3209760"/>
              <a:ext cx="847800" cy="3906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1242360" y="3209760"/>
              <a:ext cx="847800" cy="4478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242720" y="3190680"/>
              <a:ext cx="1038240" cy="5428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1242360" y="3190680"/>
              <a:ext cx="1057320" cy="6094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42720" y="3181320"/>
              <a:ext cx="1143000" cy="685800"/>
            </a:xfrm>
            <a:custGeom>
              <a:avLst/>
              <a:gdLst/>
              <a:ahLst/>
              <a:rect l="l" t="t" r="r" b="b"/>
              <a:pathLst>
                <a:path w="720" h="432">
                  <a:moveTo>
                    <a:pt x="720" y="0"/>
                  </a:moveTo>
                  <a:lnTo>
                    <a:pt x="516" y="150"/>
                  </a:lnTo>
                  <a:lnTo>
                    <a:pt x="246" y="318"/>
                  </a:lnTo>
                  <a:lnTo>
                    <a:pt x="0" y="432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1261800" y="3657600"/>
              <a:ext cx="409680" cy="2854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1280520" y="3400200"/>
              <a:ext cx="800280" cy="600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071360" y="295272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105200" y="29527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157040" y="307656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190880" y="30765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004760" y="313344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038600" y="313344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118880" y="322884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152720" y="322884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23840" y="330516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057320" y="33051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081080" y="338112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14560" y="33811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1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85680" y="3466800"/>
              <a:ext cx="572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019160" y="346680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081080" y="351468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14560" y="35146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3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966600" y="360972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000440" y="36097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4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137960" y="3657600"/>
              <a:ext cx="5724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171440" y="365760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976320" y="373356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009800" y="37335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2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109520" y="379080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143360" y="37908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7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23840" y="387648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057320" y="38764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7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147680" y="394308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81160" y="39430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4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04760" y="4066920"/>
              <a:ext cx="3427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55160" y="4066920"/>
              <a:ext cx="3466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HaOP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3338280" y="3419280"/>
              <a:ext cx="114480" cy="4096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338280" y="3828960"/>
              <a:ext cx="28800" cy="190440"/>
            </a:xfrm>
            <a:custGeom>
              <a:avLst/>
              <a:gdLst/>
              <a:ahLst/>
              <a:rect l="l" t="t" r="r" b="b"/>
              <a:pathLst>
                <a:path w="18" h="120">
                  <a:moveTo>
                    <a:pt x="0" y="0"/>
                  </a:moveTo>
                  <a:lnTo>
                    <a:pt x="18" y="24"/>
                  </a:lnTo>
                  <a:lnTo>
                    <a:pt x="0" y="54"/>
                  </a:lnTo>
                  <a:lnTo>
                    <a:pt x="18" y="84"/>
                  </a:lnTo>
                  <a:lnTo>
                    <a:pt x="18" y="120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699920" y="3914640"/>
              <a:ext cx="1638360" cy="218880"/>
            </a:xfrm>
            <a:custGeom>
              <a:avLst/>
              <a:gdLst/>
              <a:ahLst/>
              <a:rect l="l" t="t" r="r" b="b"/>
              <a:pathLst>
                <a:path w="1032" h="138">
                  <a:moveTo>
                    <a:pt x="1032" y="0"/>
                  </a:moveTo>
                  <a:lnTo>
                    <a:pt x="996" y="30"/>
                  </a:lnTo>
                  <a:lnTo>
                    <a:pt x="930" y="48"/>
                  </a:lnTo>
                  <a:lnTo>
                    <a:pt x="510" y="138"/>
                  </a:lnTo>
                  <a:lnTo>
                    <a:pt x="0" y="108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1709640" y="4114800"/>
              <a:ext cx="419040" cy="378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28720" y="4133520"/>
              <a:ext cx="790560" cy="87480"/>
            </a:xfrm>
            <a:custGeom>
              <a:avLst/>
              <a:gdLst/>
              <a:ahLst/>
              <a:rect l="l" t="t" r="r" b="b"/>
              <a:pathLst>
                <a:path w="498" h="55">
                  <a:moveTo>
                    <a:pt x="498" y="0"/>
                  </a:moveTo>
                  <a:lnTo>
                    <a:pt x="246" y="48"/>
                  </a:lnTo>
                  <a:lnTo>
                    <a:pt x="0" y="55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1747800" y="4209840"/>
              <a:ext cx="371520" cy="684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95320" y="3981240"/>
              <a:ext cx="1409760" cy="382680"/>
            </a:xfrm>
            <a:custGeom>
              <a:avLst/>
              <a:gdLst/>
              <a:ahLst/>
              <a:rect l="l" t="t" r="r" b="b"/>
              <a:pathLst>
                <a:path w="888" h="241">
                  <a:moveTo>
                    <a:pt x="888" y="0"/>
                  </a:moveTo>
                  <a:lnTo>
                    <a:pt x="408" y="199"/>
                  </a:lnTo>
                  <a:lnTo>
                    <a:pt x="228" y="235"/>
                  </a:lnTo>
                  <a:lnTo>
                    <a:pt x="0" y="241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1833480" y="4354200"/>
              <a:ext cx="342720" cy="954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1871640" y="4325760"/>
              <a:ext cx="457200" cy="1620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919160" y="4316400"/>
              <a:ext cx="495360" cy="218880"/>
            </a:xfrm>
            <a:custGeom>
              <a:avLst/>
              <a:gdLst/>
              <a:ahLst/>
              <a:rect l="l" t="t" r="r" b="b"/>
              <a:pathLst>
                <a:path w="312" h="138">
                  <a:moveTo>
                    <a:pt x="312" y="0"/>
                  </a:moveTo>
                  <a:lnTo>
                    <a:pt x="150" y="90"/>
                  </a:lnTo>
                  <a:lnTo>
                    <a:pt x="0" y="138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1957320" y="4458960"/>
              <a:ext cx="180720" cy="104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1985760" y="4306680"/>
              <a:ext cx="457200" cy="2858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062080" y="3981240"/>
              <a:ext cx="1133280" cy="696960"/>
            </a:xfrm>
            <a:custGeom>
              <a:avLst/>
              <a:gdLst/>
              <a:ahLst/>
              <a:rect l="l" t="t" r="r" b="b"/>
              <a:pathLst>
                <a:path w="714" h="439">
                  <a:moveTo>
                    <a:pt x="714" y="0"/>
                  </a:moveTo>
                  <a:lnTo>
                    <a:pt x="564" y="126"/>
                  </a:lnTo>
                  <a:lnTo>
                    <a:pt x="432" y="193"/>
                  </a:lnTo>
                  <a:lnTo>
                    <a:pt x="210" y="337"/>
                  </a:lnTo>
                  <a:lnTo>
                    <a:pt x="0" y="439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2128680" y="4535280"/>
              <a:ext cx="247680" cy="1713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2204640" y="4306680"/>
              <a:ext cx="523800" cy="428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2433240" y="4200480"/>
              <a:ext cx="523800" cy="610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366640" y="4363920"/>
              <a:ext cx="438480" cy="438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2290680" y="4306680"/>
              <a:ext cx="590400" cy="466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2490480" y="4200480"/>
              <a:ext cx="457200" cy="649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2566440" y="4181400"/>
              <a:ext cx="390600" cy="6778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2681280" y="3962160"/>
              <a:ext cx="590400" cy="9064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319040" y="4230360"/>
              <a:ext cx="1144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352880" y="42303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2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352880" y="43542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6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352880" y="44686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5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352880" y="45925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8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528560" y="4601880"/>
              <a:ext cx="1144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562400" y="46018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62040" y="471636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62400" y="48402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2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62400" y="496404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2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562400" y="50878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7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562400" y="52117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7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938240" y="460188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71720" y="46018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023920" y="468756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057760" y="46875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4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128680" y="470664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62520" y="470664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5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14360" y="4944960"/>
              <a:ext cx="11448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48200" y="49449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3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48200" y="50688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6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48200" y="519264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48200" y="53164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8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48200" y="54403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5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57440" y="487836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90920" y="48783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7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2890440" y="4019400"/>
              <a:ext cx="476280" cy="858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2804760" y="4630680"/>
              <a:ext cx="228600" cy="237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690640" y="484956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724480" y="48495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3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757240" y="495432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91080" y="49543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7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004920" y="4028760"/>
              <a:ext cx="362160" cy="858960"/>
            </a:xfrm>
            <a:custGeom>
              <a:avLst/>
              <a:gdLst/>
              <a:ahLst/>
              <a:rect l="l" t="t" r="r" b="b"/>
              <a:pathLst>
                <a:path w="228" h="541">
                  <a:moveTo>
                    <a:pt x="228" y="0"/>
                  </a:moveTo>
                  <a:lnTo>
                    <a:pt x="222" y="96"/>
                  </a:lnTo>
                  <a:lnTo>
                    <a:pt x="0" y="541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3071160" y="4573440"/>
              <a:ext cx="104760" cy="3240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3138120" y="4440240"/>
              <a:ext cx="104760" cy="4665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3205080" y="4335120"/>
              <a:ext cx="85680" cy="562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3290400" y="4230360"/>
              <a:ext cx="57240" cy="667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48000" y="4221000"/>
              <a:ext cx="1440" cy="666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348000" y="4209840"/>
              <a:ext cx="75960" cy="6685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367080" y="4105080"/>
              <a:ext cx="133200" cy="7732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09880" y="4916160"/>
              <a:ext cx="1141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943360" y="49068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3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47680" y="503064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981520" y="503064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5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052440" y="4916160"/>
              <a:ext cx="1144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086280" y="49068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6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47840" y="502092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81680" y="50209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243240" y="4916160"/>
              <a:ext cx="1141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276720" y="49068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3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319200" y="502092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353040" y="50209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86160" y="4897440"/>
              <a:ext cx="1141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419640" y="48877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5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5400000">
              <a:off x="3394440" y="5144040"/>
              <a:ext cx="3236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RhPV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76440" y="3971880"/>
              <a:ext cx="228600" cy="3445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576600" y="4306680"/>
              <a:ext cx="47520" cy="542880"/>
            </a:xfrm>
            <a:custGeom>
              <a:avLst/>
              <a:gdLst/>
              <a:ahLst/>
              <a:rect l="l" t="t" r="r" b="b"/>
              <a:pathLst>
                <a:path w="30" h="342">
                  <a:moveTo>
                    <a:pt x="12" y="0"/>
                  </a:moveTo>
                  <a:lnTo>
                    <a:pt x="30" y="204"/>
                  </a:lnTo>
                  <a:lnTo>
                    <a:pt x="0" y="342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624120" y="4620960"/>
              <a:ext cx="38160" cy="2192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3604680" y="4325400"/>
              <a:ext cx="399960" cy="428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605040" y="4325760"/>
              <a:ext cx="295200" cy="457200"/>
            </a:xfrm>
            <a:custGeom>
              <a:avLst/>
              <a:gdLst/>
              <a:ahLst/>
              <a:rect l="l" t="t" r="r" b="b"/>
              <a:pathLst>
                <a:path w="186" h="288">
                  <a:moveTo>
                    <a:pt x="0" y="0"/>
                  </a:moveTo>
                  <a:lnTo>
                    <a:pt x="54" y="108"/>
                  </a:lnTo>
                  <a:lnTo>
                    <a:pt x="186" y="288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681360" y="4497120"/>
              <a:ext cx="171360" cy="304920"/>
            </a:xfrm>
            <a:custGeom>
              <a:avLst/>
              <a:gdLst/>
              <a:ahLst/>
              <a:rect l="l" t="t" r="r" b="b"/>
              <a:pathLst>
                <a:path w="108" h="192">
                  <a:moveTo>
                    <a:pt x="0" y="0"/>
                  </a:moveTo>
                  <a:lnTo>
                    <a:pt x="36" y="78"/>
                  </a:lnTo>
                  <a:lnTo>
                    <a:pt x="108" y="192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728880" y="4611600"/>
              <a:ext cx="9360" cy="228600"/>
            </a:xfrm>
            <a:custGeom>
              <a:avLst/>
              <a:gdLst/>
              <a:ahLst/>
              <a:rect l="l" t="t" r="r" b="b"/>
              <a:pathLst>
                <a:path w="6" h="144">
                  <a:moveTo>
                    <a:pt x="0" y="0"/>
                  </a:moveTo>
                  <a:lnTo>
                    <a:pt x="6" y="66"/>
                  </a:lnTo>
                  <a:lnTo>
                    <a:pt x="6" y="144"/>
                  </a:ln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38240" y="4725720"/>
              <a:ext cx="47880" cy="1047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28720" y="4840200"/>
              <a:ext cx="11448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562560" y="48304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643200" y="4849560"/>
              <a:ext cx="572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676320" y="484956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5400000">
              <a:off x="3585240" y="5153400"/>
              <a:ext cx="3236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ChPV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5400000">
              <a:off x="3674160" y="5071680"/>
              <a:ext cx="3358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PCPV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43360" y="479232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876840" y="47923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1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957480" y="482112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91320" y="482112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7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929040" y="4668840"/>
              <a:ext cx="19080" cy="950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938400" y="471636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972240" y="47163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4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3357360" y="3647520"/>
              <a:ext cx="1906560" cy="181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386160" y="3971880"/>
              <a:ext cx="475920" cy="411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 flipV="1">
              <a:off x="3862080" y="4373280"/>
              <a:ext cx="238320" cy="3621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62080" y="4383000"/>
              <a:ext cx="304920" cy="2761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376440" y="3971880"/>
              <a:ext cx="1000080" cy="6490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052880" y="4411440"/>
              <a:ext cx="237960" cy="2476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605040" y="4114800"/>
              <a:ext cx="942840" cy="372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090680" y="471636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124520" y="47163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3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167000" y="4649760"/>
              <a:ext cx="11448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200840" y="464004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4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300560" y="464004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34040" y="464004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395600" y="4582800"/>
              <a:ext cx="572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429080" y="458280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929040" y="4240080"/>
              <a:ext cx="514080" cy="3142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471920" y="455436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05400" y="45543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4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57600" y="445896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91080" y="44589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7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67080" y="3876480"/>
              <a:ext cx="838080" cy="238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205160" y="4114800"/>
              <a:ext cx="515880" cy="3632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386240" y="4240080"/>
              <a:ext cx="420480" cy="1713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205160" y="4114800"/>
              <a:ext cx="772920" cy="1443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300560" y="4133520"/>
              <a:ext cx="620640" cy="1922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740120" y="442116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773960" y="44211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25800" y="434484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59640" y="434484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5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30560" y="427824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64400" y="427824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5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045040" y="4209840"/>
              <a:ext cx="11412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78520" y="421164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6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681360" y="3800160"/>
              <a:ext cx="1515960" cy="2001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16440" y="4009680"/>
              <a:ext cx="333360" cy="572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43280" y="3933720"/>
              <a:ext cx="430200" cy="1998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121000" y="4086000"/>
              <a:ext cx="57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154480" y="4076640"/>
              <a:ext cx="572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244840" y="392400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278680" y="39240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5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92720" y="346680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326200" y="34668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8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06680" y="403848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240520" y="40384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2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4290840" y="3685680"/>
              <a:ext cx="963720" cy="572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4290840" y="3714480"/>
              <a:ext cx="973080" cy="288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4281480" y="3733200"/>
              <a:ext cx="973080" cy="9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271760" y="3743280"/>
              <a:ext cx="982800" cy="284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06840" y="350496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40680" y="35049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8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11800" y="3600360"/>
              <a:ext cx="1141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345280" y="360036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8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35280" y="3657600"/>
              <a:ext cx="11448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469120" y="365760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7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330520" y="3714480"/>
              <a:ext cx="1144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64360" y="3714480"/>
              <a:ext cx="1134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6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064280" y="2876400"/>
              <a:ext cx="1332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099200" y="287640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C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921360" y="2112840"/>
              <a:ext cx="1332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956280" y="211284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C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283160" y="2093760"/>
              <a:ext cx="763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17720" y="2093760"/>
              <a:ext cx="738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435720" y="1769760"/>
              <a:ext cx="542880" cy="905040"/>
            </a:xfrm>
            <a:custGeom>
              <a:avLst/>
              <a:gdLst/>
              <a:ahLst/>
              <a:rect l="l" t="t" r="r" b="b"/>
              <a:pathLst>
                <a:path w="57" h="95">
                  <a:moveTo>
                    <a:pt x="0" y="0"/>
                  </a:moveTo>
                  <a:cubicBezTo>
                    <a:pt x="27" y="11"/>
                    <a:pt x="48" y="42"/>
                    <a:pt x="55" y="80"/>
                  </a:cubicBezTo>
                  <a:cubicBezTo>
                    <a:pt x="56" y="85"/>
                    <a:pt x="57" y="90"/>
                    <a:pt x="57" y="95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588000" y="1444320"/>
              <a:ext cx="790560" cy="1584360"/>
            </a:xfrm>
            <a:custGeom>
              <a:avLst/>
              <a:gdLst/>
              <a:ahLst/>
              <a:rect l="l" t="t" r="r" b="b"/>
              <a:pathLst>
                <a:path w="83" h="166">
                  <a:moveTo>
                    <a:pt x="0" y="0"/>
                  </a:moveTo>
                  <a:cubicBezTo>
                    <a:pt x="32" y="10"/>
                    <a:pt x="64" y="58"/>
                    <a:pt x="77" y="117"/>
                  </a:cubicBezTo>
                  <a:cubicBezTo>
                    <a:pt x="80" y="133"/>
                    <a:pt x="82" y="150"/>
                    <a:pt x="83" y="166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987960" y="2817720"/>
              <a:ext cx="19080" cy="258840"/>
            </a:xfrm>
            <a:custGeom>
              <a:avLst/>
              <a:gdLst/>
              <a:ahLst/>
              <a:rect l="l" t="t" r="r" b="b"/>
              <a:pathLst>
                <a:path w="2" h="27">
                  <a:moveTo>
                    <a:pt x="0" y="0"/>
                  </a:moveTo>
                  <a:cubicBezTo>
                    <a:pt x="2" y="11"/>
                    <a:pt x="2" y="21"/>
                    <a:pt x="0" y="27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797360" y="1444320"/>
              <a:ext cx="333360" cy="9684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0" y="0"/>
                  </a:moveTo>
                  <a:cubicBezTo>
                    <a:pt x="15" y="0"/>
                    <a:pt x="28" y="4"/>
                    <a:pt x="35" y="1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271760" y="1396800"/>
              <a:ext cx="304920" cy="38160"/>
            </a:xfrm>
            <a:custGeom>
              <a:avLst/>
              <a:gdLst/>
              <a:ahLst/>
              <a:rect l="l" t="t" r="r" b="b"/>
              <a:pathLst>
                <a:path w="32" h="4">
                  <a:moveTo>
                    <a:pt x="0" y="3"/>
                  </a:moveTo>
                  <a:cubicBezTo>
                    <a:pt x="13" y="0"/>
                    <a:pt x="24" y="0"/>
                    <a:pt x="32" y="4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633480" y="1434960"/>
              <a:ext cx="533520" cy="144360"/>
            </a:xfrm>
            <a:custGeom>
              <a:avLst/>
              <a:gdLst/>
              <a:ahLst/>
              <a:rect l="l" t="t" r="r" b="b"/>
              <a:pathLst>
                <a:path w="56" h="15">
                  <a:moveTo>
                    <a:pt x="0" y="15"/>
                  </a:moveTo>
                  <a:cubicBezTo>
                    <a:pt x="1" y="14"/>
                    <a:pt x="2" y="14"/>
                    <a:pt x="3" y="13"/>
                  </a:cubicBezTo>
                  <a:cubicBezTo>
                    <a:pt x="23" y="5"/>
                    <a:pt x="43" y="0"/>
                    <a:pt x="56" y="1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47680" y="1617480"/>
              <a:ext cx="600120" cy="57240"/>
            </a:xfrm>
            <a:custGeom>
              <a:avLst/>
              <a:gdLst/>
              <a:ahLst/>
              <a:rect l="l" t="t" r="r" b="b"/>
              <a:pathLst>
                <a:path w="63" h="6">
                  <a:moveTo>
                    <a:pt x="0" y="6"/>
                  </a:moveTo>
                  <a:cubicBezTo>
                    <a:pt x="26" y="0"/>
                    <a:pt x="50" y="0"/>
                    <a:pt x="63" y="6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547800" y="1063440"/>
              <a:ext cx="1611360" cy="18108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0" y="19"/>
                  </a:moveTo>
                  <a:cubicBezTo>
                    <a:pt x="27" y="7"/>
                    <a:pt x="63" y="0"/>
                    <a:pt x="101" y="0"/>
                  </a:cubicBezTo>
                  <a:cubicBezTo>
                    <a:pt x="125" y="0"/>
                    <a:pt x="148" y="3"/>
                    <a:pt x="169" y="8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30560" y="1244520"/>
              <a:ext cx="1238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967280" y="1244520"/>
              <a:ext cx="1256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E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357440" y="1187280"/>
              <a:ext cx="1238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394160" y="1187280"/>
              <a:ext cx="1256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E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757320" y="1272960"/>
              <a:ext cx="133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794040" y="1263600"/>
              <a:ext cx="1256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E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62400" y="825480"/>
              <a:ext cx="759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293360" y="825480"/>
              <a:ext cx="694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233520" y="1406520"/>
              <a:ext cx="6660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268080" y="1406520"/>
              <a:ext cx="738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871640" y="1731960"/>
              <a:ext cx="876240" cy="447480"/>
            </a:xfrm>
            <a:custGeom>
              <a:avLst/>
              <a:gdLst/>
              <a:ahLst/>
              <a:rect l="l" t="t" r="r" b="b"/>
              <a:pathLst>
                <a:path w="92" h="47">
                  <a:moveTo>
                    <a:pt x="0" y="47"/>
                  </a:moveTo>
                  <a:cubicBezTo>
                    <a:pt x="6" y="42"/>
                    <a:pt x="20" y="24"/>
                    <a:pt x="36" y="16"/>
                  </a:cubicBezTo>
                  <a:cubicBezTo>
                    <a:pt x="51" y="9"/>
                    <a:pt x="81" y="4"/>
                    <a:pt x="92" y="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57080" y="2236680"/>
              <a:ext cx="790560" cy="1792080"/>
            </a:xfrm>
            <a:custGeom>
              <a:avLst/>
              <a:gdLst/>
              <a:ahLst/>
              <a:rect l="l" t="t" r="r" b="b"/>
              <a:pathLst>
                <a:path w="83" h="188">
                  <a:moveTo>
                    <a:pt x="5" y="188"/>
                  </a:moveTo>
                  <a:cubicBezTo>
                    <a:pt x="5" y="174"/>
                    <a:pt x="0" y="127"/>
                    <a:pt x="5" y="103"/>
                  </a:cubicBezTo>
                  <a:cubicBezTo>
                    <a:pt x="10" y="78"/>
                    <a:pt x="22" y="55"/>
                    <a:pt x="35" y="38"/>
                  </a:cubicBezTo>
                  <a:cubicBezTo>
                    <a:pt x="48" y="21"/>
                    <a:pt x="73" y="8"/>
                    <a:pt x="83" y="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61840" y="4171680"/>
              <a:ext cx="66600" cy="12564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cubicBezTo>
                    <a:pt x="0" y="1"/>
                    <a:pt x="0" y="6"/>
                    <a:pt x="1" y="8"/>
                  </a:cubicBezTo>
                  <a:cubicBezTo>
                    <a:pt x="2" y="10"/>
                    <a:pt x="6" y="12"/>
                    <a:pt x="7" y="13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157120" y="1569960"/>
              <a:ext cx="1335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92040" y="156996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B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7080" y="2722320"/>
              <a:ext cx="1238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92000" y="272232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B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1680" y="4209840"/>
              <a:ext cx="13356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96600" y="421164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B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04640" y="1320480"/>
              <a:ext cx="2143080" cy="3090960"/>
            </a:xfrm>
            <a:custGeom>
              <a:avLst/>
              <a:gdLst/>
              <a:ahLst/>
              <a:rect l="l" t="t" r="r" b="b"/>
              <a:pathLst>
                <a:path w="225" h="324">
                  <a:moveTo>
                    <a:pt x="225" y="0"/>
                  </a:moveTo>
                  <a:cubicBezTo>
                    <a:pt x="213" y="4"/>
                    <a:pt x="174" y="12"/>
                    <a:pt x="152" y="22"/>
                  </a:cubicBezTo>
                  <a:cubicBezTo>
                    <a:pt x="130" y="32"/>
                    <a:pt x="112" y="42"/>
                    <a:pt x="92" y="59"/>
                  </a:cubicBezTo>
                  <a:cubicBezTo>
                    <a:pt x="72" y="75"/>
                    <a:pt x="47" y="100"/>
                    <a:pt x="32" y="122"/>
                  </a:cubicBezTo>
                  <a:cubicBezTo>
                    <a:pt x="18" y="144"/>
                    <a:pt x="10" y="165"/>
                    <a:pt x="5" y="191"/>
                  </a:cubicBezTo>
                  <a:cubicBezTo>
                    <a:pt x="0" y="218"/>
                    <a:pt x="1" y="261"/>
                    <a:pt x="2" y="283"/>
                  </a:cubicBezTo>
                  <a:cubicBezTo>
                    <a:pt x="3" y="305"/>
                    <a:pt x="11" y="315"/>
                    <a:pt x="13" y="324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28480" y="2341440"/>
              <a:ext cx="763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63040" y="2341440"/>
              <a:ext cx="738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95240" y="3628800"/>
              <a:ext cx="5268960" cy="2355840"/>
            </a:xfrm>
            <a:custGeom>
              <a:avLst/>
              <a:gdLst/>
              <a:ahLst/>
              <a:rect l="l" t="t" r="r" b="b"/>
              <a:pathLst>
                <a:path w="553" h="247">
                  <a:moveTo>
                    <a:pt x="0" y="120"/>
                  </a:moveTo>
                  <a:cubicBezTo>
                    <a:pt x="10" y="132"/>
                    <a:pt x="34" y="175"/>
                    <a:pt x="63" y="194"/>
                  </a:cubicBezTo>
                  <a:cubicBezTo>
                    <a:pt x="92" y="214"/>
                    <a:pt x="132" y="231"/>
                    <a:pt x="174" y="237"/>
                  </a:cubicBezTo>
                  <a:cubicBezTo>
                    <a:pt x="216" y="244"/>
                    <a:pt x="267" y="247"/>
                    <a:pt x="316" y="233"/>
                  </a:cubicBezTo>
                  <a:cubicBezTo>
                    <a:pt x="366" y="219"/>
                    <a:pt x="435" y="180"/>
                    <a:pt x="472" y="153"/>
                  </a:cubicBezTo>
                  <a:cubicBezTo>
                    <a:pt x="508" y="125"/>
                    <a:pt x="521" y="93"/>
                    <a:pt x="535" y="67"/>
                  </a:cubicBezTo>
                  <a:cubicBezTo>
                    <a:pt x="549" y="42"/>
                    <a:pt x="550" y="14"/>
                    <a:pt x="553" y="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415680" y="6021360"/>
              <a:ext cx="7380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23960" y="4105080"/>
              <a:ext cx="56880" cy="2113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1" y="0"/>
                  </a:moveTo>
                  <a:cubicBezTo>
                    <a:pt x="1" y="2"/>
                    <a:pt x="0" y="9"/>
                    <a:pt x="1" y="13"/>
                  </a:cubicBezTo>
                  <a:cubicBezTo>
                    <a:pt x="2" y="17"/>
                    <a:pt x="5" y="20"/>
                    <a:pt x="6" y="22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481040" y="4114800"/>
              <a:ext cx="12384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515960" y="411480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747800" y="4383000"/>
              <a:ext cx="161640" cy="2570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0"/>
                  </a:moveTo>
                  <a:cubicBezTo>
                    <a:pt x="1" y="3"/>
                    <a:pt x="1" y="14"/>
                    <a:pt x="4" y="18"/>
                  </a:cubicBezTo>
                  <a:cubicBezTo>
                    <a:pt x="7" y="23"/>
                    <a:pt x="15" y="25"/>
                    <a:pt x="17" y="27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604880" y="4449600"/>
              <a:ext cx="1238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639800" y="444960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549760" y="3552480"/>
              <a:ext cx="76320" cy="343080"/>
            </a:xfrm>
            <a:custGeom>
              <a:avLst/>
              <a:gdLst/>
              <a:ahLst/>
              <a:rect l="l" t="t" r="r" b="b"/>
              <a:pathLst>
                <a:path w="8" h="36">
                  <a:moveTo>
                    <a:pt x="0" y="0"/>
                  </a:moveTo>
                  <a:cubicBezTo>
                    <a:pt x="1" y="3"/>
                    <a:pt x="8" y="14"/>
                    <a:pt x="8" y="20"/>
                  </a:cubicBezTo>
                  <a:cubicBezTo>
                    <a:pt x="8" y="26"/>
                    <a:pt x="3" y="33"/>
                    <a:pt x="2" y="36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92680" y="3666960"/>
              <a:ext cx="1332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727600" y="366696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3920" y="3981240"/>
              <a:ext cx="114480" cy="268200"/>
            </a:xfrm>
            <a:custGeom>
              <a:avLst/>
              <a:gdLst/>
              <a:ahLst/>
              <a:rect l="l" t="t" r="r" b="b"/>
              <a:pathLst>
                <a:path w="12" h="28">
                  <a:moveTo>
                    <a:pt x="12" y="0"/>
                  </a:moveTo>
                  <a:cubicBezTo>
                    <a:pt x="12" y="3"/>
                    <a:pt x="12" y="13"/>
                    <a:pt x="11" y="18"/>
                  </a:cubicBezTo>
                  <a:cubicBezTo>
                    <a:pt x="9" y="23"/>
                    <a:pt x="3" y="26"/>
                    <a:pt x="0" y="28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435280" y="4057560"/>
              <a:ext cx="1335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70200" y="405756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844880" y="4297320"/>
              <a:ext cx="361800" cy="31428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38" y="0"/>
                  </a:moveTo>
                  <a:cubicBezTo>
                    <a:pt x="36" y="4"/>
                    <a:pt x="31" y="17"/>
                    <a:pt x="25" y="22"/>
                  </a:cubicBezTo>
                  <a:cubicBezTo>
                    <a:pt x="18" y="28"/>
                    <a:pt x="5" y="31"/>
                    <a:pt x="0" y="33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87960" y="4440240"/>
              <a:ext cx="12384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222880" y="444024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395600" y="4620960"/>
              <a:ext cx="247680" cy="23832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0"/>
                  </a:moveTo>
                  <a:cubicBezTo>
                    <a:pt x="26" y="3"/>
                    <a:pt x="24" y="11"/>
                    <a:pt x="20" y="15"/>
                  </a:cubicBezTo>
                  <a:cubicBezTo>
                    <a:pt x="16" y="19"/>
                    <a:pt x="4" y="23"/>
                    <a:pt x="0" y="25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614840" y="4744800"/>
              <a:ext cx="1252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649760" y="474480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167000" y="4849560"/>
              <a:ext cx="133560" cy="954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4" y="0"/>
                  </a:moveTo>
                  <a:cubicBezTo>
                    <a:pt x="13" y="1"/>
                    <a:pt x="10" y="6"/>
                    <a:pt x="7" y="7"/>
                  </a:cubicBezTo>
                  <a:cubicBezTo>
                    <a:pt x="5" y="9"/>
                    <a:pt x="2" y="10"/>
                    <a:pt x="0" y="1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252680" y="4897440"/>
              <a:ext cx="123840" cy="1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87600" y="489744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633480" y="5020920"/>
              <a:ext cx="514440" cy="3524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54" y="0"/>
                  </a:moveTo>
                  <a:cubicBezTo>
                    <a:pt x="52" y="3"/>
                    <a:pt x="49" y="14"/>
                    <a:pt x="44" y="19"/>
                  </a:cubicBezTo>
                  <a:cubicBezTo>
                    <a:pt x="39" y="25"/>
                    <a:pt x="31" y="29"/>
                    <a:pt x="24" y="32"/>
                  </a:cubicBezTo>
                  <a:cubicBezTo>
                    <a:pt x="17" y="35"/>
                    <a:pt x="5" y="36"/>
                    <a:pt x="0" y="37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995640" y="5249520"/>
              <a:ext cx="1904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030920" y="5249520"/>
              <a:ext cx="1864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900160" y="5364000"/>
              <a:ext cx="638280" cy="133200"/>
            </a:xfrm>
            <a:custGeom>
              <a:avLst/>
              <a:gdLst/>
              <a:ahLst/>
              <a:rect l="l" t="t" r="r" b="b"/>
              <a:pathLst>
                <a:path w="67" h="14">
                  <a:moveTo>
                    <a:pt x="67" y="2"/>
                  </a:moveTo>
                  <a:cubicBezTo>
                    <a:pt x="64" y="4"/>
                    <a:pt x="53" y="11"/>
                    <a:pt x="45" y="13"/>
                  </a:cubicBezTo>
                  <a:cubicBezTo>
                    <a:pt x="37" y="14"/>
                    <a:pt x="25" y="14"/>
                    <a:pt x="18" y="12"/>
                  </a:cubicBezTo>
                  <a:cubicBezTo>
                    <a:pt x="10" y="9"/>
                    <a:pt x="4" y="3"/>
                    <a:pt x="0" y="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090600" y="5526000"/>
              <a:ext cx="13356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125520" y="552744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52480" y="5106960"/>
              <a:ext cx="162000" cy="568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6"/>
                  </a:moveTo>
                  <a:cubicBezTo>
                    <a:pt x="15" y="6"/>
                    <a:pt x="10" y="6"/>
                    <a:pt x="7" y="5"/>
                  </a:cubicBezTo>
                  <a:cubicBezTo>
                    <a:pt x="4" y="4"/>
                    <a:pt x="1" y="1"/>
                    <a:pt x="0" y="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652480" y="5163840"/>
              <a:ext cx="1904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687760" y="5163840"/>
              <a:ext cx="1864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538360" y="5011560"/>
              <a:ext cx="85680" cy="666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6"/>
                  </a:moveTo>
                  <a:cubicBezTo>
                    <a:pt x="8" y="6"/>
                    <a:pt x="5" y="7"/>
                    <a:pt x="4" y="6"/>
                  </a:cubicBezTo>
                  <a:cubicBezTo>
                    <a:pt x="2" y="5"/>
                    <a:pt x="1" y="1"/>
                    <a:pt x="0" y="0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00080" y="4716360"/>
              <a:ext cx="619200" cy="247680"/>
            </a:xfrm>
            <a:custGeom>
              <a:avLst/>
              <a:gdLst/>
              <a:ahLst/>
              <a:rect l="l" t="t" r="r" b="b"/>
              <a:pathLst>
                <a:path w="65" h="26">
                  <a:moveTo>
                    <a:pt x="0" y="0"/>
                  </a:moveTo>
                  <a:cubicBezTo>
                    <a:pt x="2" y="3"/>
                    <a:pt x="6" y="15"/>
                    <a:pt x="14" y="19"/>
                  </a:cubicBezTo>
                  <a:cubicBezTo>
                    <a:pt x="22" y="23"/>
                    <a:pt x="39" y="25"/>
                    <a:pt x="47" y="26"/>
                  </a:cubicBezTo>
                  <a:cubicBezTo>
                    <a:pt x="56" y="26"/>
                    <a:pt x="62" y="25"/>
                    <a:pt x="65" y="25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928520" y="4935240"/>
              <a:ext cx="1238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963440" y="4925880"/>
              <a:ext cx="1303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33600" y="5040000"/>
              <a:ext cx="1332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64560" y="5040000"/>
              <a:ext cx="13644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ffffcc"/>
                  </a:solidFill>
                  <a:latin typeface="Arial"/>
                </a:rPr>
                <a:t>A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797680" y="3724200"/>
              <a:ext cx="20016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834760" y="3724200"/>
              <a:ext cx="20052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cc"/>
                  </a:solidFill>
                  <a:latin typeface="Arial"/>
                </a:rPr>
                <a:t>FP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"/>
          <p:cNvSpPr/>
          <p:nvPr/>
        </p:nvSpPr>
        <p:spPr>
          <a:xfrm>
            <a:off x="7635960" y="6004080"/>
            <a:ext cx="8377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HPV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635960" y="4657680"/>
            <a:ext cx="8377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HPV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635960" y="4303800"/>
            <a:ext cx="8377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HPV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628760" y="3792600"/>
            <a:ext cx="7218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HPV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992280" y="3238560"/>
            <a:ext cx="7218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HPV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761240" y="2533680"/>
            <a:ext cx="83772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HPV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730640" y="2003400"/>
            <a:ext cx="7218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HPV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706360" y="1711440"/>
            <a:ext cx="7218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HP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332360" y="2076480"/>
            <a:ext cx="9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cutan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330200" y="4576680"/>
            <a:ext cx="1281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muque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54360" y="1711440"/>
            <a:ext cx="195336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verrues vulg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587440" y="3879720"/>
            <a:ext cx="14047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condyl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génit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577000" y="5164200"/>
            <a:ext cx="164556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canc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anogénit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766680" y="3867120"/>
            <a:ext cx="136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bas ris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632040" y="5214960"/>
            <a:ext cx="1630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haut ris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3416400"/>
            <a:ext cx="838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HP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423280" y="3875040"/>
            <a:ext cx="163440" cy="611280"/>
          </a:xfrm>
          <a:custGeom>
            <a:avLst/>
            <a:gdLst>
              <a:gd name="textAreaLeft" fmla="*/ 0 w 163440"/>
              <a:gd name="textAreaRight" fmla="*/ 59040 w 163440"/>
              <a:gd name="textAreaTop" fmla="*/ 15840 h 611280"/>
              <a:gd name="textAreaBottom" fmla="*/ 595440 h 6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423280" y="4718160"/>
            <a:ext cx="163440" cy="1517400"/>
          </a:xfrm>
          <a:custGeom>
            <a:avLst/>
            <a:gdLst>
              <a:gd name="textAreaLeft" fmla="*/ 0 w 163440"/>
              <a:gd name="textAreaRight" fmla="*/ 59040 w 163440"/>
              <a:gd name="textAreaTop" fmla="*/ 39240 h 1517400"/>
              <a:gd name="textAreaBottom" fmla="*/ 1478160 h 151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16240" y="60480"/>
            <a:ext cx="92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Arbre phylogénétique simplifié des HP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622440" y="1884240"/>
            <a:ext cx="7059600" cy="4313520"/>
            <a:chOff x="622440" y="1884240"/>
            <a:chExt cx="7059600" cy="4313520"/>
          </a:xfrm>
        </p:grpSpPr>
        <p:sp>
          <p:nvSpPr>
            <p:cNvPr id="868" name=""/>
            <p:cNvSpPr/>
            <p:nvPr/>
          </p:nvSpPr>
          <p:spPr>
            <a:xfrm>
              <a:off x="622440" y="3632040"/>
              <a:ext cx="433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066680" y="2374920"/>
              <a:ext cx="0" cy="2530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055520" y="2384280"/>
              <a:ext cx="2697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741840" y="1884240"/>
              <a:ext cx="0" cy="1025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28880" y="1884240"/>
              <a:ext cx="1924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728880" y="2909880"/>
              <a:ext cx="1298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030640" y="2552760"/>
              <a:ext cx="0" cy="86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18040" y="3406680"/>
              <a:ext cx="1928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018040" y="2552760"/>
              <a:ext cx="133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53280" y="2193840"/>
              <a:ext cx="0" cy="517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337440" y="2190600"/>
              <a:ext cx="1344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337440" y="2711520"/>
              <a:ext cx="1330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079640" y="4905360"/>
              <a:ext cx="2687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780000" y="4216320"/>
              <a:ext cx="0" cy="1059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789360" y="4229280"/>
              <a:ext cx="2886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767040" y="5262480"/>
              <a:ext cx="1303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675480" y="3952800"/>
              <a:ext cx="977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675480" y="4486320"/>
              <a:ext cx="977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689880" y="3960720"/>
              <a:ext cx="0" cy="517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084640" y="5056200"/>
              <a:ext cx="0" cy="86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073480" y="5915160"/>
              <a:ext cx="152892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075280" y="5070600"/>
              <a:ext cx="1324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391440" y="4794120"/>
              <a:ext cx="0" cy="517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378480" y="4808520"/>
              <a:ext cx="1260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383160" y="5297400"/>
              <a:ext cx="1262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6594480" y="5638680"/>
              <a:ext cx="1440" cy="559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6585120" y="5644800"/>
              <a:ext cx="1063440" cy="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597720" y="6178680"/>
              <a:ext cx="106344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6" name=""/>
          <p:cNvSpPr/>
          <p:nvPr/>
        </p:nvSpPr>
        <p:spPr>
          <a:xfrm>
            <a:off x="8435520" y="2025720"/>
            <a:ext cx="424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76080" y="101160"/>
            <a:ext cx="89391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Structure du génome viral</a:t>
            </a: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320400" y="1401840"/>
            <a:ext cx="455292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ahoma"/>
              </a:rPr>
              <a:t>E1-E2 : </a:t>
            </a: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réplication ADNv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ahoma"/>
              </a:rPr>
              <a:t>E2 : </a:t>
            </a: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régulation de la transcription 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ahoma"/>
              </a:rPr>
              <a:t>E4 : </a:t>
            </a: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assemblage des particules virales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ahoma"/>
              </a:rPr>
              <a:t>E5-E6-E7 : </a:t>
            </a: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immortalisation et transformation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ahoma"/>
              </a:rPr>
              <a:t>L1 : </a:t>
            </a: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protéine majeure de capside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ahoma"/>
              </a:rPr>
              <a:t>L2 : </a:t>
            </a: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protéine mineure de capside</a:t>
            </a:r>
            <a:endParaRPr b="1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356440" y="1771560"/>
            <a:ext cx="4416480" cy="4190400"/>
            <a:chOff x="5356440" y="1771560"/>
            <a:chExt cx="4416480" cy="4190400"/>
          </a:xfrm>
        </p:grpSpPr>
        <p:sp>
          <p:nvSpPr>
            <p:cNvPr id="900" name=""/>
            <p:cNvSpPr/>
            <p:nvPr/>
          </p:nvSpPr>
          <p:spPr>
            <a:xfrm>
              <a:off x="8253360" y="2170080"/>
              <a:ext cx="576360" cy="371520"/>
            </a:xfrm>
            <a:custGeom>
              <a:avLst/>
              <a:gdLst/>
              <a:ahLst/>
              <a:rect l="l" t="t" r="r" b="b"/>
              <a:pathLst>
                <a:path w="264" h="170">
                  <a:moveTo>
                    <a:pt x="0" y="0"/>
                  </a:moveTo>
                  <a:cubicBezTo>
                    <a:pt x="48" y="22"/>
                    <a:pt x="96" y="44"/>
                    <a:pt x="140" y="72"/>
                  </a:cubicBezTo>
                  <a:cubicBezTo>
                    <a:pt x="184" y="100"/>
                    <a:pt x="224" y="135"/>
                    <a:pt x="264" y="170"/>
                  </a:cubicBezTo>
                </a:path>
              </a:pathLst>
            </a:custGeom>
            <a:noFill/>
            <a:ln w="76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669080" y="2179800"/>
              <a:ext cx="536760" cy="129960"/>
            </a:xfrm>
            <a:custGeom>
              <a:avLst/>
              <a:gdLst/>
              <a:ahLst/>
              <a:rect l="l" t="t" r="r" b="b"/>
              <a:pathLst>
                <a:path w="338" h="82">
                  <a:moveTo>
                    <a:pt x="0" y="0"/>
                  </a:moveTo>
                  <a:cubicBezTo>
                    <a:pt x="11" y="1"/>
                    <a:pt x="35" y="3"/>
                    <a:pt x="64" y="7"/>
                  </a:cubicBezTo>
                  <a:cubicBezTo>
                    <a:pt x="93" y="11"/>
                    <a:pt x="130" y="15"/>
                    <a:pt x="176" y="27"/>
                  </a:cubicBezTo>
                  <a:cubicBezTo>
                    <a:pt x="222" y="39"/>
                    <a:pt x="284" y="62"/>
                    <a:pt x="338" y="82"/>
                  </a:cubicBezTo>
                </a:path>
              </a:pathLst>
            </a:custGeom>
            <a:noFill/>
            <a:ln w="76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942400" y="2668680"/>
              <a:ext cx="446040" cy="2268360"/>
            </a:xfrm>
            <a:custGeom>
              <a:avLst/>
              <a:gdLst/>
              <a:ahLst/>
              <a:rect l="l" t="t" r="r" b="b"/>
              <a:pathLst>
                <a:path w="204" h="1040">
                  <a:moveTo>
                    <a:pt x="0" y="0"/>
                  </a:moveTo>
                  <a:cubicBezTo>
                    <a:pt x="45" y="59"/>
                    <a:pt x="91" y="119"/>
                    <a:pt x="122" y="186"/>
                  </a:cubicBezTo>
                  <a:cubicBezTo>
                    <a:pt x="153" y="253"/>
                    <a:pt x="176" y="328"/>
                    <a:pt x="188" y="402"/>
                  </a:cubicBezTo>
                  <a:cubicBezTo>
                    <a:pt x="200" y="476"/>
                    <a:pt x="204" y="556"/>
                    <a:pt x="194" y="632"/>
                  </a:cubicBezTo>
                  <a:cubicBezTo>
                    <a:pt x="184" y="708"/>
                    <a:pt x="157" y="790"/>
                    <a:pt x="128" y="858"/>
                  </a:cubicBezTo>
                  <a:cubicBezTo>
                    <a:pt x="99" y="926"/>
                    <a:pt x="59" y="983"/>
                    <a:pt x="20" y="1040"/>
                  </a:cubicBezTo>
                </a:path>
              </a:pathLst>
            </a:custGeom>
            <a:noFill/>
            <a:ln w="7632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900920" y="5094360"/>
              <a:ext cx="344520" cy="156960"/>
            </a:xfrm>
            <a:custGeom>
              <a:avLst/>
              <a:gdLst/>
              <a:ahLst/>
              <a:rect l="l" t="t" r="r" b="b"/>
              <a:pathLst>
                <a:path w="158" h="72">
                  <a:moveTo>
                    <a:pt x="158" y="0"/>
                  </a:moveTo>
                  <a:cubicBezTo>
                    <a:pt x="145" y="7"/>
                    <a:pt x="108" y="32"/>
                    <a:pt x="82" y="44"/>
                  </a:cubicBezTo>
                  <a:cubicBezTo>
                    <a:pt x="56" y="56"/>
                    <a:pt x="17" y="66"/>
                    <a:pt x="0" y="72"/>
                  </a:cubicBezTo>
                </a:path>
              </a:pathLst>
            </a:custGeom>
            <a:noFill/>
            <a:ln w="7632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74120" y="4719600"/>
              <a:ext cx="1260360" cy="763560"/>
            </a:xfrm>
            <a:custGeom>
              <a:avLst/>
              <a:gdLst/>
              <a:ahLst/>
              <a:rect l="l" t="t" r="r" b="b"/>
              <a:pathLst>
                <a:path w="578" h="350">
                  <a:moveTo>
                    <a:pt x="578" y="0"/>
                  </a:moveTo>
                  <a:cubicBezTo>
                    <a:pt x="546" y="49"/>
                    <a:pt x="511" y="101"/>
                    <a:pt x="470" y="142"/>
                  </a:cubicBezTo>
                  <a:cubicBezTo>
                    <a:pt x="429" y="183"/>
                    <a:pt x="380" y="219"/>
                    <a:pt x="330" y="248"/>
                  </a:cubicBezTo>
                  <a:cubicBezTo>
                    <a:pt x="280" y="277"/>
                    <a:pt x="223" y="299"/>
                    <a:pt x="168" y="316"/>
                  </a:cubicBezTo>
                  <a:cubicBezTo>
                    <a:pt x="113" y="333"/>
                    <a:pt x="35" y="343"/>
                    <a:pt x="0" y="350"/>
                  </a:cubicBezTo>
                </a:path>
              </a:pathLst>
            </a:custGeom>
            <a:noFill/>
            <a:ln w="76320">
              <a:solidFill>
                <a:srgbClr val="ff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732640" y="4235400"/>
              <a:ext cx="1366560" cy="1339920"/>
            </a:xfrm>
            <a:custGeom>
              <a:avLst/>
              <a:gdLst/>
              <a:ahLst/>
              <a:rect l="l" t="t" r="r" b="b"/>
              <a:pathLst>
                <a:path w="861" h="844">
                  <a:moveTo>
                    <a:pt x="0" y="0"/>
                  </a:moveTo>
                  <a:cubicBezTo>
                    <a:pt x="15" y="38"/>
                    <a:pt x="60" y="162"/>
                    <a:pt x="91" y="228"/>
                  </a:cubicBezTo>
                  <a:cubicBezTo>
                    <a:pt x="122" y="294"/>
                    <a:pt x="148" y="340"/>
                    <a:pt x="188" y="397"/>
                  </a:cubicBezTo>
                  <a:cubicBezTo>
                    <a:pt x="228" y="455"/>
                    <a:pt x="274" y="519"/>
                    <a:pt x="333" y="574"/>
                  </a:cubicBezTo>
                  <a:cubicBezTo>
                    <a:pt x="392" y="629"/>
                    <a:pt x="481" y="687"/>
                    <a:pt x="545" y="725"/>
                  </a:cubicBezTo>
                  <a:cubicBezTo>
                    <a:pt x="610" y="762"/>
                    <a:pt x="667" y="784"/>
                    <a:pt x="720" y="804"/>
                  </a:cubicBezTo>
                  <a:cubicBezTo>
                    <a:pt x="773" y="824"/>
                    <a:pt x="832" y="836"/>
                    <a:pt x="861" y="844"/>
                  </a:cubicBezTo>
                </a:path>
              </a:pathLst>
            </a:custGeom>
            <a:noFill/>
            <a:ln w="7632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861160" y="2481120"/>
              <a:ext cx="690480" cy="1832040"/>
            </a:xfrm>
            <a:custGeom>
              <a:avLst/>
              <a:gdLst/>
              <a:ahLst/>
              <a:rect l="l" t="t" r="r" b="b"/>
              <a:pathLst>
                <a:path w="317" h="840">
                  <a:moveTo>
                    <a:pt x="317" y="0"/>
                  </a:moveTo>
                  <a:cubicBezTo>
                    <a:pt x="297" y="18"/>
                    <a:pt x="234" y="71"/>
                    <a:pt x="198" y="110"/>
                  </a:cubicBezTo>
                  <a:cubicBezTo>
                    <a:pt x="162" y="149"/>
                    <a:pt x="127" y="194"/>
                    <a:pt x="101" y="236"/>
                  </a:cubicBezTo>
                  <a:cubicBezTo>
                    <a:pt x="75" y="278"/>
                    <a:pt x="57" y="317"/>
                    <a:pt x="42" y="362"/>
                  </a:cubicBezTo>
                  <a:cubicBezTo>
                    <a:pt x="27" y="407"/>
                    <a:pt x="15" y="452"/>
                    <a:pt x="9" y="504"/>
                  </a:cubicBezTo>
                  <a:cubicBezTo>
                    <a:pt x="3" y="556"/>
                    <a:pt x="0" y="621"/>
                    <a:pt x="3" y="677"/>
                  </a:cubicBezTo>
                  <a:cubicBezTo>
                    <a:pt x="6" y="733"/>
                    <a:pt x="24" y="806"/>
                    <a:pt x="29" y="84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97560" y="5630760"/>
              <a:ext cx="441360" cy="17640"/>
            </a:xfrm>
            <a:custGeom>
              <a:avLst/>
              <a:gdLst/>
              <a:ahLst/>
              <a:rect l="l" t="t" r="r" b="b"/>
              <a:pathLst>
                <a:path w="202" h="8">
                  <a:moveTo>
                    <a:pt x="0" y="0"/>
                  </a:moveTo>
                  <a:cubicBezTo>
                    <a:pt x="35" y="4"/>
                    <a:pt x="70" y="8"/>
                    <a:pt x="104" y="8"/>
                  </a:cubicBezTo>
                  <a:cubicBezTo>
                    <a:pt x="138" y="8"/>
                    <a:pt x="170" y="5"/>
                    <a:pt x="202" y="2"/>
                  </a:cubicBezTo>
                </a:path>
              </a:pathLst>
            </a:custGeom>
            <a:noFill/>
            <a:ln w="76320">
              <a:solidFill>
                <a:srgbClr val="ff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342120" y="2651040"/>
              <a:ext cx="2392200" cy="237816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848640" y="2746440"/>
              <a:ext cx="52200" cy="84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7294680" y="5019480"/>
              <a:ext cx="25200" cy="83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07160" y="2550960"/>
              <a:ext cx="87480" cy="10008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46"/>
                  </a:moveTo>
                  <a:lnTo>
                    <a:pt x="0" y="0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09320" y="17715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E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124760" y="3608280"/>
              <a:ext cx="82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PV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519040" y="190512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cc99"/>
                  </a:solidFill>
                  <a:latin typeface="Arial"/>
                </a:rPr>
                <a:t>E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9343800" y="318132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99"/>
                  </a:solidFill>
                  <a:latin typeface="Arial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508600" y="538632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99"/>
                  </a:solidFill>
                  <a:latin typeface="Arial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476840" y="50529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ff"/>
                  </a:solidFill>
                  <a:latin typeface="Arial"/>
                </a:rPr>
                <a:t>E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257600" y="562464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ff"/>
                  </a:solidFill>
                  <a:latin typeface="Arial"/>
                </a:rPr>
                <a:t>E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654880" y="502920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cc00"/>
                  </a:solidFill>
                  <a:latin typeface="Arial"/>
                </a:rPr>
                <a:t>L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356440" y="287172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L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55080" y="2647800"/>
              <a:ext cx="566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7904/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568200" y="1909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C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989480" y="304956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232840" y="367200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947360" y="43750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3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305840" y="471312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4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663960" y="43750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5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357600" y="367200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6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595560" y="304956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7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14440" y="84240"/>
            <a:ext cx="925992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ffff"/>
                </a:solidFill>
                <a:latin typeface="Tahoma"/>
              </a:rPr>
              <a:t>Adsorption et pénétration des HPV</a:t>
            </a: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42520" y="4595400"/>
            <a:ext cx="9240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Pénétration après liaison à un récepteur présent </a:t>
            </a:r>
            <a:br>
              <a:rPr sz="2800"/>
            </a:b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sur les cellules basales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Zone de jonction : 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fragilité mécan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fragilité immunitaire</a:t>
            </a: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7018200" y="2763720"/>
            <a:ext cx="0" cy="914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5891040" y="5029200"/>
            <a:ext cx="504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72880" y="1965240"/>
            <a:ext cx="28450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  <a:ea typeface="Arial"/>
              </a:rPr>
              <a:t>Epithélium de l’end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218200" y="4119480"/>
            <a:ext cx="3627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  <a:ea typeface="Arial"/>
              </a:rPr>
              <a:t>Epithélium de 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’ex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2"/>
          <a:srcRect l="6817" t="0" r="0" b="9899"/>
          <a:stretch/>
        </p:blipFill>
        <p:spPr>
          <a:xfrm>
            <a:off x="3465360" y="1233360"/>
            <a:ext cx="3949920" cy="288936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2819520" y="3765600"/>
            <a:ext cx="16570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J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3911760" y="3798720"/>
            <a:ext cx="288720" cy="21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200400" y="2185920"/>
            <a:ext cx="3268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 flipV="1">
            <a:off x="5749560" y="3798360"/>
            <a:ext cx="181080" cy="34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94800" y="-22320"/>
            <a:ext cx="889956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Réplication des HPV</a:t>
            </a: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368280" y="1787400"/>
          <a:ext cx="2055960" cy="3681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8280" y="1787400"/>
                    <a:ext cx="2055960" cy="3681360"/>
                  </a:xfrm>
                  <a:prstGeom prst="rect">
                    <a:avLst/>
                  </a:prstGeom>
                  <a:ln w="3240">
                    <a:solidFill>
                      <a:srgbClr val="00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44" name=""/>
          <p:cNvSpPr/>
          <p:nvPr/>
        </p:nvSpPr>
        <p:spPr>
          <a:xfrm>
            <a:off x="5041080" y="1276920"/>
            <a:ext cx="2768400" cy="52056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ycle produc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013720" y="3466080"/>
            <a:ext cx="3516840" cy="52056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ycle non produc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509920" y="2376360"/>
            <a:ext cx="0" cy="2574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509920" y="2700360"/>
            <a:ext cx="0" cy="33660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2509920" y="3144960"/>
            <a:ext cx="0" cy="184788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558160" y="183600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tratum corne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557440" y="234252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che granul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557440" y="272340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che épin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557800" y="408564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che bas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832280" y="2373480"/>
            <a:ext cx="76320" cy="752400"/>
          </a:xfrm>
          <a:custGeom>
            <a:avLst/>
            <a:gdLst>
              <a:gd name="textAreaLeft" fmla="*/ 0 w 76320"/>
              <a:gd name="textAreaRight" fmla="*/ 27360 w 76320"/>
              <a:gd name="textAreaTop" fmla="*/ 19440 h 752400"/>
              <a:gd name="textAreaBottom" fmla="*/ 732960 h 75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145840" y="2201400"/>
            <a:ext cx="3992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ellules différencié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- amplification des génomes vir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- expression des protéines E et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- formation des vir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338720" y="4281480"/>
            <a:ext cx="80640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603680" y="2021040"/>
            <a:ext cx="541440" cy="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140440" y="1821600"/>
            <a:ext cx="493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ellules chargées de particules vir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147280" y="4060440"/>
            <a:ext cx="47023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ellules basales, en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- établissement (amplification limitée x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puis maintien du génome vi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- expression des protéines préco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293840" y="5983200"/>
            <a:ext cx="3838680" cy="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305000" y="5000760"/>
            <a:ext cx="0" cy="99036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141880" y="574884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nfection des cellules ba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509920" y="1870200"/>
            <a:ext cx="0" cy="369720"/>
          </a:xfrm>
          <a:prstGeom prst="line">
            <a:avLst/>
          </a:prstGeom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94800" y="823680"/>
            <a:ext cx="889956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Intégration de l’ADN viral</a:t>
            </a:r>
            <a:endParaRPr b="1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784080" y="1995120"/>
            <a:ext cx="8748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Évènement non obligatoire pour un cycle </a:t>
            </a:r>
            <a:br>
              <a:rPr sz="2800"/>
            </a:b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de vie normal du virus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Étape importante dans la progression </a:t>
            </a:r>
            <a:br>
              <a:rPr sz="2800"/>
            </a:b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vers le cancer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ff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ahoma"/>
              </a:rPr>
              <a:t>Coexistence de formes intégrées et épisomales dans cancers invasifs </a:t>
            </a:r>
            <a:r>
              <a:rPr b="1" lang="fr-FR" sz="1400" spc="-1" strike="noStrike">
                <a:solidFill>
                  <a:srgbClr val="00ffff"/>
                </a:solidFill>
                <a:latin typeface="Tahoma"/>
              </a:rPr>
              <a:t>(Peitsaro 2002)</a:t>
            </a:r>
            <a:endParaRPr b="1" lang="en-US" sz="1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671400" y="2678040"/>
            <a:ext cx="3537000" cy="2711160"/>
            <a:chOff x="671400" y="2678040"/>
            <a:chExt cx="3537000" cy="2711160"/>
          </a:xfrm>
        </p:grpSpPr>
        <p:sp>
          <p:nvSpPr>
            <p:cNvPr id="966" name=""/>
            <p:cNvSpPr/>
            <p:nvPr/>
          </p:nvSpPr>
          <p:spPr>
            <a:xfrm>
              <a:off x="2789280" y="2872440"/>
              <a:ext cx="715680" cy="299520"/>
            </a:xfrm>
            <a:prstGeom prst="rightArrow">
              <a:avLst>
                <a:gd name="adj1" fmla="val 50000"/>
                <a:gd name="adj2" fmla="val 59736"/>
              </a:avLst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084480" y="2678040"/>
              <a:ext cx="527040" cy="646920"/>
            </a:xfrm>
            <a:prstGeom prst="noSmoking">
              <a:avLst>
                <a:gd name="adj" fmla="val 12500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363840" y="3539520"/>
              <a:ext cx="716040" cy="299520"/>
            </a:xfrm>
            <a:prstGeom prst="rightArrow">
              <a:avLst>
                <a:gd name="adj1" fmla="val 50000"/>
                <a:gd name="adj2" fmla="val 59766"/>
              </a:avLst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679560" y="3362040"/>
              <a:ext cx="528840" cy="646560"/>
            </a:xfrm>
            <a:prstGeom prst="noSmoking">
              <a:avLst>
                <a:gd name="adj" fmla="val 12500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rot="11482200">
              <a:off x="1942560" y="3312720"/>
              <a:ext cx="641520" cy="639720"/>
            </a:xfrm>
            <a:prstGeom prst="lightningBol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864800" y="351756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ahoma"/>
                </a:rPr>
                <a:t>(-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57840" y="4323600"/>
              <a:ext cx="62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Tahoma"/>
                </a:rPr>
                <a:t>Prot E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309760" y="4256640"/>
              <a:ext cx="84240" cy="10044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7" y="15"/>
                  </a:moveTo>
                  <a:cubicBezTo>
                    <a:pt x="9" y="54"/>
                    <a:pt x="0" y="73"/>
                    <a:pt x="37" y="66"/>
                  </a:cubicBezTo>
                  <a:cubicBezTo>
                    <a:pt x="41" y="50"/>
                    <a:pt x="52" y="50"/>
                    <a:pt x="58" y="33"/>
                  </a:cubicBezTo>
                  <a:cubicBezTo>
                    <a:pt x="56" y="30"/>
                    <a:pt x="55" y="27"/>
                    <a:pt x="52" y="24"/>
                  </a:cubicBezTo>
                  <a:cubicBezTo>
                    <a:pt x="49" y="21"/>
                    <a:pt x="45" y="21"/>
                    <a:pt x="43" y="18"/>
                  </a:cubicBezTo>
                  <a:cubicBezTo>
                    <a:pt x="38" y="13"/>
                    <a:pt x="31" y="0"/>
                    <a:pt x="31" y="0"/>
                  </a:cubicBezTo>
                  <a:cubicBezTo>
                    <a:pt x="22" y="2"/>
                    <a:pt x="7" y="2"/>
                    <a:pt x="7" y="15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638440" y="3997080"/>
              <a:ext cx="85680" cy="10008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7" y="15"/>
                  </a:moveTo>
                  <a:cubicBezTo>
                    <a:pt x="9" y="54"/>
                    <a:pt x="0" y="73"/>
                    <a:pt x="37" y="66"/>
                  </a:cubicBezTo>
                  <a:cubicBezTo>
                    <a:pt x="41" y="50"/>
                    <a:pt x="52" y="50"/>
                    <a:pt x="58" y="33"/>
                  </a:cubicBezTo>
                  <a:cubicBezTo>
                    <a:pt x="56" y="30"/>
                    <a:pt x="55" y="27"/>
                    <a:pt x="52" y="24"/>
                  </a:cubicBezTo>
                  <a:cubicBezTo>
                    <a:pt x="49" y="21"/>
                    <a:pt x="45" y="21"/>
                    <a:pt x="43" y="18"/>
                  </a:cubicBezTo>
                  <a:cubicBezTo>
                    <a:pt x="38" y="13"/>
                    <a:pt x="31" y="0"/>
                    <a:pt x="31" y="0"/>
                  </a:cubicBezTo>
                  <a:cubicBezTo>
                    <a:pt x="22" y="2"/>
                    <a:pt x="7" y="2"/>
                    <a:pt x="7" y="15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33680" y="4264920"/>
              <a:ext cx="85680" cy="9900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7" y="15"/>
                  </a:moveTo>
                  <a:cubicBezTo>
                    <a:pt x="9" y="54"/>
                    <a:pt x="0" y="73"/>
                    <a:pt x="37" y="66"/>
                  </a:cubicBezTo>
                  <a:cubicBezTo>
                    <a:pt x="41" y="50"/>
                    <a:pt x="52" y="50"/>
                    <a:pt x="58" y="33"/>
                  </a:cubicBezTo>
                  <a:cubicBezTo>
                    <a:pt x="56" y="30"/>
                    <a:pt x="55" y="27"/>
                    <a:pt x="52" y="24"/>
                  </a:cubicBezTo>
                  <a:cubicBezTo>
                    <a:pt x="49" y="21"/>
                    <a:pt x="45" y="21"/>
                    <a:pt x="43" y="18"/>
                  </a:cubicBezTo>
                  <a:cubicBezTo>
                    <a:pt x="38" y="13"/>
                    <a:pt x="31" y="0"/>
                    <a:pt x="31" y="0"/>
                  </a:cubicBezTo>
                  <a:cubicBezTo>
                    <a:pt x="22" y="2"/>
                    <a:pt x="7" y="2"/>
                    <a:pt x="7" y="15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485800" y="4099320"/>
              <a:ext cx="85680" cy="10008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7" y="15"/>
                  </a:moveTo>
                  <a:cubicBezTo>
                    <a:pt x="9" y="54"/>
                    <a:pt x="0" y="73"/>
                    <a:pt x="37" y="66"/>
                  </a:cubicBezTo>
                  <a:cubicBezTo>
                    <a:pt x="41" y="50"/>
                    <a:pt x="52" y="50"/>
                    <a:pt x="58" y="33"/>
                  </a:cubicBezTo>
                  <a:cubicBezTo>
                    <a:pt x="56" y="30"/>
                    <a:pt x="55" y="27"/>
                    <a:pt x="52" y="24"/>
                  </a:cubicBezTo>
                  <a:cubicBezTo>
                    <a:pt x="49" y="21"/>
                    <a:pt x="45" y="21"/>
                    <a:pt x="43" y="18"/>
                  </a:cubicBezTo>
                  <a:cubicBezTo>
                    <a:pt x="38" y="13"/>
                    <a:pt x="31" y="0"/>
                    <a:pt x="31" y="0"/>
                  </a:cubicBezTo>
                  <a:cubicBezTo>
                    <a:pt x="22" y="2"/>
                    <a:pt x="7" y="2"/>
                    <a:pt x="7" y="15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67000" y="4000320"/>
              <a:ext cx="83880" cy="100080"/>
            </a:xfrm>
            <a:custGeom>
              <a:avLst/>
              <a:gdLst/>
              <a:ahLst/>
              <a:rect l="l" t="t" r="r" b="b"/>
              <a:pathLst>
                <a:path w="58" h="73">
                  <a:moveTo>
                    <a:pt x="7" y="15"/>
                  </a:moveTo>
                  <a:cubicBezTo>
                    <a:pt x="9" y="54"/>
                    <a:pt x="0" y="73"/>
                    <a:pt x="37" y="66"/>
                  </a:cubicBezTo>
                  <a:cubicBezTo>
                    <a:pt x="41" y="50"/>
                    <a:pt x="52" y="50"/>
                    <a:pt x="58" y="33"/>
                  </a:cubicBezTo>
                  <a:cubicBezTo>
                    <a:pt x="56" y="30"/>
                    <a:pt x="55" y="27"/>
                    <a:pt x="52" y="24"/>
                  </a:cubicBezTo>
                  <a:cubicBezTo>
                    <a:pt x="49" y="21"/>
                    <a:pt x="45" y="21"/>
                    <a:pt x="43" y="18"/>
                  </a:cubicBezTo>
                  <a:cubicBezTo>
                    <a:pt x="38" y="13"/>
                    <a:pt x="31" y="0"/>
                    <a:pt x="31" y="0"/>
                  </a:cubicBezTo>
                  <a:cubicBezTo>
                    <a:pt x="22" y="2"/>
                    <a:pt x="7" y="2"/>
                    <a:pt x="7" y="15"/>
                  </a:cubicBez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rot="10800000">
              <a:off x="1639800" y="3978360"/>
              <a:ext cx="682560" cy="1059120"/>
            </a:xfrm>
            <a:custGeom>
              <a:avLst/>
              <a:gdLst>
                <a:gd name="textAreaLeft" fmla="*/ 91440 w 682560"/>
                <a:gd name="textAreaRight" fmla="*/ 591120 w 682560"/>
                <a:gd name="textAreaTop" fmla="*/ 185400 h 1059120"/>
                <a:gd name="textAreaBottom" fmla="*/ 767880 h 105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151280" y="451296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ahoma"/>
                </a:rPr>
                <a:t>HP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2139840" y="2951280"/>
              <a:ext cx="61920" cy="3016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60480" y="3237480"/>
              <a:ext cx="2085840" cy="187524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71400" y="2937960"/>
              <a:ext cx="2691000" cy="245124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2773440" y="3315960"/>
              <a:ext cx="206280" cy="217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046320" y="4120920"/>
              <a:ext cx="3096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770200" y="4831560"/>
              <a:ext cx="210960" cy="197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259000" y="5092920"/>
              <a:ext cx="104760" cy="254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16320" y="493020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ahoma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314800" y="303804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ahoma"/>
                </a:rPr>
                <a:t>E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930760" y="3633120"/>
              <a:ext cx="38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ahoma"/>
                </a:rPr>
                <a:t>E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30160" y="2961360"/>
              <a:ext cx="82800" cy="299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839600" y="294480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4622040" y="1883880"/>
            <a:ext cx="5087160" cy="4580280"/>
            <a:chOff x="4622040" y="1883880"/>
            <a:chExt cx="5087160" cy="4580280"/>
          </a:xfrm>
        </p:grpSpPr>
        <p:sp>
          <p:nvSpPr>
            <p:cNvPr id="993" name=""/>
            <p:cNvSpPr/>
            <p:nvPr/>
          </p:nvSpPr>
          <p:spPr>
            <a:xfrm>
              <a:off x="5010480" y="1979640"/>
              <a:ext cx="213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cc"/>
                  </a:solidFill>
                  <a:latin typeface="Tahoma"/>
                  <a:ea typeface="Arial Unicode MS"/>
                </a:rPr>
                <a:t>Dégradation p105</a:t>
              </a:r>
              <a:r>
                <a:rPr b="1" lang="fr-FR" sz="1600" spc="-1" strike="noStrike" baseline="30000">
                  <a:solidFill>
                    <a:srgbClr val="ffffcc"/>
                  </a:solidFill>
                  <a:latin typeface="Tahoma"/>
                  <a:ea typeface="Arial Unicode MS"/>
                </a:rPr>
                <a:t>R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622040" y="2382840"/>
              <a:ext cx="186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cc"/>
                  </a:solidFill>
                  <a:latin typeface="Tahoma"/>
                  <a:ea typeface="Arial Unicode MS"/>
                </a:rPr>
                <a:t>Dégradation p5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rot="10800000">
              <a:off x="7098840" y="2026800"/>
              <a:ext cx="739800" cy="219240"/>
            </a:xfrm>
            <a:custGeom>
              <a:avLst/>
              <a:gdLst>
                <a:gd name="textAreaLeft" fmla="*/ 92520 w 739800"/>
                <a:gd name="textAreaRight" fmla="*/ 647640 w 739800"/>
                <a:gd name="textAreaTop" fmla="*/ 54720 h 219240"/>
                <a:gd name="textAreaBottom" fmla="*/ 164520 h 21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10800000">
              <a:off x="6492960" y="2449080"/>
              <a:ext cx="738000" cy="219240"/>
            </a:xfrm>
            <a:custGeom>
              <a:avLst/>
              <a:gdLst>
                <a:gd name="textAreaLeft" fmla="*/ 92160 w 738000"/>
                <a:gd name="textAreaRight" fmla="*/ 645840 w 738000"/>
                <a:gd name="textAreaTop" fmla="*/ 54720 h 219240"/>
                <a:gd name="textAreaBottom" fmla="*/ 164520 h 21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8550360" y="4192560"/>
              <a:ext cx="3078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458040" y="3311640"/>
              <a:ext cx="2084400" cy="177480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167520" y="3025800"/>
              <a:ext cx="2690640" cy="23223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8269200" y="3384360"/>
              <a:ext cx="206640" cy="207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273880" y="4802040"/>
              <a:ext cx="211320" cy="187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754760" y="5067360"/>
              <a:ext cx="105120" cy="241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936920" y="316692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ahoma"/>
                </a:rPr>
                <a:t>E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8404920" y="37004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ahoma"/>
                </a:rPr>
                <a:t>E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V="1">
              <a:off x="7742160" y="3059280"/>
              <a:ext cx="33480" cy="2635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 flipV="1">
              <a:off x="7318440" y="3036960"/>
              <a:ext cx="38160" cy="287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382880" y="30002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907400" y="4808520"/>
              <a:ext cx="36648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29720" y="51624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00"/>
                  </a:solidFill>
                  <a:latin typeface="Tahoma"/>
                </a:rPr>
                <a:t>E2 muté, délét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177760" y="1911240"/>
              <a:ext cx="62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Tahoma"/>
                </a:rPr>
                <a:t>Prot E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38880" y="4102200"/>
              <a:ext cx="527040" cy="612720"/>
            </a:xfrm>
            <a:prstGeom prst="noSmoking">
              <a:avLst>
                <a:gd name="adj" fmla="val 12500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246080" y="4705200"/>
              <a:ext cx="62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Tahoma"/>
                </a:rPr>
                <a:t>Prot E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rot="10800000">
              <a:off x="7853040" y="4343400"/>
              <a:ext cx="422280" cy="860400"/>
            </a:xfrm>
            <a:custGeom>
              <a:avLst/>
              <a:gdLst>
                <a:gd name="textAreaLeft" fmla="*/ 56520 w 422280"/>
                <a:gd name="textAreaRight" fmla="*/ 365760 w 422280"/>
                <a:gd name="textAreaTop" fmla="*/ 150480 h 860400"/>
                <a:gd name="textAreaBottom" fmla="*/ 623880 h 86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869240" y="2735280"/>
              <a:ext cx="228600" cy="117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816680" y="2486160"/>
              <a:ext cx="228600" cy="11592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535880" y="2679840"/>
              <a:ext cx="228600" cy="1173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506360" y="2793960"/>
              <a:ext cx="62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Tahoma"/>
                </a:rPr>
                <a:t>Prot E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307360" y="2117880"/>
              <a:ext cx="255600" cy="1317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502480" y="2257560"/>
              <a:ext cx="254160" cy="1332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159760" y="2265480"/>
              <a:ext cx="252360" cy="1332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rot="10800000">
              <a:off x="8820000" y="1883880"/>
              <a:ext cx="889200" cy="2086200"/>
            </a:xfrm>
            <a:custGeom>
              <a:avLst/>
              <a:gdLst>
                <a:gd name="textAreaLeft" fmla="*/ 119160 w 889200"/>
                <a:gd name="textAreaRight" fmla="*/ 770040 w 889200"/>
                <a:gd name="textAreaTop" fmla="*/ 411120 h 2086200"/>
                <a:gd name="textAreaBottom" fmla="*/ 1407960 h 20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14" stAng="-5400000" swAng="-5400000"/>
                  <a:lnTo>
                    <a:pt x="0" y="10321"/>
                  </a:lnTo>
                  <a:arcTo wR="21600" hR="8514" stAng="10800000" swAng="-2955834"/>
                  <a:lnTo>
                    <a:pt x="14657" y="21148"/>
                  </a:lnTo>
                  <a:lnTo>
                    <a:pt x="21600" y="17931"/>
                  </a:lnTo>
                  <a:lnTo>
                    <a:pt x="14657" y="13809"/>
                  </a:lnTo>
                  <a:lnTo>
                    <a:pt x="14657" y="16575"/>
                  </a:lnTo>
                  <a:arcTo wR="21600" hR="8514" stAng="7844166" swAng="2811306"/>
                  <a:lnTo>
                    <a:pt x="122" y="9417"/>
                  </a:lnTo>
                  <a:arcTo wR="21600" hR="8514" stAng="-10655472" swAng="5255472"/>
                  <a:close/>
                </a:path>
                <a:path fill="darkenLess" w="21600" h="21600">
                  <a:moveTo>
                    <a:pt x="21600" y="0"/>
                  </a:moveTo>
                  <a:arcTo wR="21600" hR="8514" stAng="-5400000" swAng="-5400000"/>
                  <a:lnTo>
                    <a:pt x="0" y="8514"/>
                  </a:lnTo>
                  <a:arcTo wR="21600" hR="8514" stAng="10800000" swAng="-144528"/>
                  <a:lnTo>
                    <a:pt x="122" y="9417"/>
                  </a:lnTo>
                  <a:arcTo wR="21600" hR="8514" stAng="-10655472" swAng="5255472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rot="10676400">
              <a:off x="8111520" y="2463480"/>
              <a:ext cx="610920" cy="757080"/>
            </a:xfrm>
            <a:custGeom>
              <a:avLst/>
              <a:gdLst>
                <a:gd name="textAreaLeft" fmla="*/ 81720 w 610920"/>
                <a:gd name="textAreaRight" fmla="*/ 529200 w 610920"/>
                <a:gd name="textAreaTop" fmla="*/ 132480 h 757080"/>
                <a:gd name="textAreaBottom" fmla="*/ 549000 h 75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834240" y="5730840"/>
              <a:ext cx="25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Tahoma"/>
                  <a:ea typeface="Arial Unicode MS"/>
                </a:rPr>
                <a:t>Intégration d’HPV</a:t>
              </a:r>
              <a:br>
                <a:rPr sz="1400"/>
              </a:br>
              <a:r>
                <a:rPr b="1" lang="fr-FR" sz="1400" spc="-1" strike="noStrike">
                  <a:solidFill>
                    <a:srgbClr val="ffffff"/>
                  </a:solidFill>
                  <a:latin typeface="Tahoma"/>
                  <a:ea typeface="Arial Unicode MS"/>
                </a:rPr>
                <a:t>dans le génome</a:t>
              </a:r>
              <a:br>
                <a:rPr sz="1400"/>
              </a:br>
              <a:r>
                <a:rPr b="1" lang="fr-FR" sz="1400" spc="-1" strike="noStrike">
                  <a:solidFill>
                    <a:srgbClr val="ffffff"/>
                  </a:solidFill>
                  <a:latin typeface="Tahoma"/>
                  <a:ea typeface="Arial Unicode MS"/>
                </a:rPr>
                <a:t>de la cellule hô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8126280" y="5429160"/>
              <a:ext cx="0" cy="300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14440" y="63360"/>
            <a:ext cx="9259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ffff"/>
                </a:solidFill>
                <a:latin typeface="Tahoma"/>
              </a:rPr>
              <a:t>Intégration et carcinogenèse</a:t>
            </a:r>
            <a:br>
              <a:rPr sz="3600"/>
            </a:br>
            <a:r>
              <a:rPr b="1" lang="fr-FR" sz="3200" spc="-1" strike="noStrike">
                <a:solidFill>
                  <a:srgbClr val="ccffff"/>
                </a:solidFill>
                <a:latin typeface="Tahoma"/>
              </a:rPr>
              <a:t>virus dans la cellule sous 2 formes</a:t>
            </a:r>
            <a:endParaRPr b="1" lang="en-US" sz="32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7:53:21Z</dcterms:created>
  <dc:creator>madoz/mougin</dc:creator>
  <dc:description/>
  <dc:language>en-US</dc:language>
  <cp:lastModifiedBy>Eric POUSSIN</cp:lastModifiedBy>
  <cp:lastPrinted>2005-11-17T21:38:12Z</cp:lastPrinted>
  <dcterms:modified xsi:type="dcterms:W3CDTF">2005-11-17T21:39:27Z</dcterms:modified>
  <cp:revision>51</cp:revision>
  <dc:subject/>
  <dc:title>Pouvoir pathogène  des papillomavirus</dc:title>
</cp:coreProperties>
</file>