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0288588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8340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054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98340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054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6168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4237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4237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457200" y="914400"/>
            <a:ext cx="9448920" cy="50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4000" spc="-1" strike="noStrike">
                <a:solidFill>
                  <a:srgbClr val="ffff99"/>
                </a:solidFill>
                <a:latin typeface="Arial"/>
              </a:rPr>
              <a:t>Nouvelles méthodes d’évalu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4000" spc="-1" strike="noStrike">
                <a:solidFill>
                  <a:srgbClr val="ffff99"/>
                </a:solidFill>
                <a:latin typeface="Arial"/>
              </a:rPr>
              <a:t>des risques résiduel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4000" spc="-1" strike="noStrike">
                <a:solidFill>
                  <a:srgbClr val="ffff99"/>
                </a:solidFill>
                <a:latin typeface="Arial"/>
              </a:rPr>
              <a:t>du VIH, du VHB et du VH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99"/>
                </a:solidFill>
                <a:latin typeface="Arial"/>
              </a:rPr>
              <a:t>Josiane Pillonel, Francis Barin, Michèle Maniez, Syria Laper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Pour le groupe des Agents Transmissibles par Transfusion de la SF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147880" y="6496200"/>
            <a:ext cx="2354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cc"/>
                </a:solidFill>
                <a:latin typeface="Arial"/>
              </a:rPr>
              <a:t>CVV 2005 - 22 11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4237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1413000"/>
            <a:ext cx="10287000" cy="0"/>
          </a:xfrm>
          <a:prstGeom prst="line">
            <a:avLst/>
          </a:prstGeom>
          <a:ln w="316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52280"/>
            <a:ext cx="922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Taux d'incidence par la méthode « EIA-RI » chez les donneurs de sang entre 1992 et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08040" y="1701720"/>
            <a:ext cx="1800" cy="441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63760" y="6114960"/>
            <a:ext cx="442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63760" y="5232240"/>
            <a:ext cx="442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63760" y="4349880"/>
            <a:ext cx="442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63760" y="3467160"/>
            <a:ext cx="442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63760" y="2584440"/>
            <a:ext cx="442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63760" y="1701720"/>
            <a:ext cx="442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8040" y="6114960"/>
            <a:ext cx="7326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508040" y="6114960"/>
            <a:ext cx="180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243160" y="611496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2979720" y="611496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700440" y="611496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435560" y="611496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172120" y="611496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907240" y="611496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642000" y="6114960"/>
            <a:ext cx="180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364520" y="6114960"/>
            <a:ext cx="144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8099280" y="6114960"/>
            <a:ext cx="180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8834400" y="6114960"/>
            <a:ext cx="1800" cy="44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508040" y="2290680"/>
            <a:ext cx="7326360" cy="3575160"/>
            <a:chOff x="1508040" y="2290680"/>
            <a:chExt cx="7326360" cy="3575160"/>
          </a:xfrm>
        </p:grpSpPr>
        <p:sp>
          <p:nvSpPr>
            <p:cNvPr id="186" name=""/>
            <p:cNvSpPr/>
            <p:nvPr/>
          </p:nvSpPr>
          <p:spPr>
            <a:xfrm>
              <a:off x="1508040" y="2290680"/>
              <a:ext cx="735120" cy="58896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2243160" y="2804760"/>
              <a:ext cx="736560" cy="7452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79720" y="2805120"/>
              <a:ext cx="720720" cy="83988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700440" y="3261960"/>
              <a:ext cx="735120" cy="38268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35560" y="3262320"/>
              <a:ext cx="736560" cy="96984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72120" y="4232160"/>
              <a:ext cx="735120" cy="129564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07240" y="5527800"/>
              <a:ext cx="734760" cy="33804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642000" y="5586480"/>
              <a:ext cx="722520" cy="27936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7364520" y="4865760"/>
              <a:ext cx="734760" cy="72072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8099280" y="4600080"/>
              <a:ext cx="735120" cy="26532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508040" y="3321000"/>
            <a:ext cx="7326360" cy="2279880"/>
            <a:chOff x="1508040" y="3321000"/>
            <a:chExt cx="7326360" cy="2279880"/>
          </a:xfrm>
        </p:grpSpPr>
        <p:sp>
          <p:nvSpPr>
            <p:cNvPr id="197" name=""/>
            <p:cNvSpPr/>
            <p:nvPr/>
          </p:nvSpPr>
          <p:spPr>
            <a:xfrm>
              <a:off x="1508040" y="3321000"/>
              <a:ext cx="735120" cy="35244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43160" y="3673440"/>
              <a:ext cx="736560" cy="48564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79720" y="4159080"/>
              <a:ext cx="720720" cy="58896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3700440" y="4511160"/>
              <a:ext cx="735120" cy="23652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435560" y="4365360"/>
              <a:ext cx="736560" cy="14580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72120" y="4365720"/>
              <a:ext cx="735120" cy="46980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07240" y="4835520"/>
              <a:ext cx="734760" cy="8892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42000" y="4924440"/>
              <a:ext cx="722520" cy="22068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7364520" y="5130720"/>
              <a:ext cx="734760" cy="1440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99280" y="5130720"/>
              <a:ext cx="735120" cy="47016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704160" y="6000840"/>
            <a:ext cx="92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,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4160" y="5118120"/>
            <a:ext cx="92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,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4160" y="4235400"/>
            <a:ext cx="92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,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4160" y="3352680"/>
            <a:ext cx="92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,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4160" y="2470320"/>
            <a:ext cx="92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,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4160" y="1587600"/>
            <a:ext cx="92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,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31680" y="6248520"/>
            <a:ext cx="122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2-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03000" y="6248520"/>
            <a:ext cx="122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4-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60640" y="6248520"/>
            <a:ext cx="122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6-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0520" y="6248520"/>
            <a:ext cx="122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8-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87800" y="6248520"/>
            <a:ext cx="122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0-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259480" y="6248520"/>
            <a:ext cx="122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2-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62880" y="1805040"/>
            <a:ext cx="32972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Nouveaux donne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17640" y="4821120"/>
            <a:ext cx="2073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51000" y="2414520"/>
            <a:ext cx="29588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Donneurs conn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-1077480" y="3642840"/>
            <a:ext cx="304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ux pour 100 000 P-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24480" y="1957320"/>
            <a:ext cx="457200" cy="0"/>
          </a:xfrm>
          <a:prstGeom prst="line">
            <a:avLst/>
          </a:prstGeom>
          <a:ln w="507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24480" y="2567160"/>
            <a:ext cx="457200" cy="0"/>
          </a:xfrm>
          <a:prstGeom prst="line">
            <a:avLst/>
          </a:prstGeom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147880" y="6496200"/>
            <a:ext cx="2354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cc"/>
                </a:solidFill>
                <a:latin typeface="Arial"/>
              </a:rPr>
              <a:t>CVV 2005 - 22 11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4237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1413000"/>
            <a:ext cx="10287000" cy="0"/>
          </a:xfrm>
          <a:prstGeom prst="line">
            <a:avLst/>
          </a:prstGeom>
          <a:ln w="316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3320" y="152280"/>
            <a:ext cx="1003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omparaison des taux d’incidence par 2 méthodes "classique" et "EIA-RI" chez les donneurs connus</a:t>
            </a:r>
            <a:r>
              <a:rPr b="1" lang="en-US" sz="30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62160" y="2362320"/>
            <a:ext cx="31114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Méthode class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48120" y="1752480"/>
            <a:ext cx="27410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Méthode EIA-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-1077480" y="3642840"/>
            <a:ext cx="304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ux pour 100 000 P-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24480" y="1957320"/>
            <a:ext cx="457200" cy="0"/>
          </a:xfrm>
          <a:prstGeom prst="line">
            <a:avLst/>
          </a:prstGeom>
          <a:ln w="507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24480" y="2567160"/>
            <a:ext cx="457200" cy="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27040" y="1677960"/>
            <a:ext cx="1800" cy="4438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82760" y="6116760"/>
            <a:ext cx="442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82760" y="4851360"/>
            <a:ext cx="442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82760" y="3584520"/>
            <a:ext cx="442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82760" y="2317680"/>
            <a:ext cx="442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27040" y="6116760"/>
            <a:ext cx="73360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427040" y="6116760"/>
            <a:ext cx="1800" cy="41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166840" y="6116760"/>
            <a:ext cx="1800" cy="41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894040" y="6116760"/>
            <a:ext cx="1440" cy="41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633840" y="6116760"/>
            <a:ext cx="1440" cy="41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361040" y="6116760"/>
            <a:ext cx="1440" cy="41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02280" y="6116760"/>
            <a:ext cx="1440" cy="41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827680" y="6116760"/>
            <a:ext cx="1800" cy="41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568920" y="6116760"/>
            <a:ext cx="1800" cy="41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7296120" y="6116760"/>
            <a:ext cx="1440" cy="41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8035920" y="6116760"/>
            <a:ext cx="1440" cy="41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8763120" y="6116760"/>
            <a:ext cx="1440" cy="41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427040" y="2303640"/>
            <a:ext cx="7336080" cy="2819160"/>
            <a:chOff x="1427040" y="2303640"/>
            <a:chExt cx="7336080" cy="2819160"/>
          </a:xfrm>
        </p:grpSpPr>
        <p:sp>
          <p:nvSpPr>
            <p:cNvPr id="251" name=""/>
            <p:cNvSpPr/>
            <p:nvPr/>
          </p:nvSpPr>
          <p:spPr>
            <a:xfrm>
              <a:off x="1427040" y="2303640"/>
              <a:ext cx="739800" cy="13644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66840" y="2440080"/>
              <a:ext cx="727200" cy="156672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94040" y="4006800"/>
              <a:ext cx="739800" cy="38088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33840" y="4387680"/>
              <a:ext cx="727200" cy="16380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61040" y="4551480"/>
              <a:ext cx="741240" cy="9504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5102280" y="4578120"/>
              <a:ext cx="725400" cy="6804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27680" y="4578480"/>
              <a:ext cx="741240" cy="1404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68920" y="4592520"/>
              <a:ext cx="727200" cy="2700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96120" y="4619520"/>
              <a:ext cx="739800" cy="27144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035920" y="4890960"/>
              <a:ext cx="727200" cy="231840"/>
            </a:xfrm>
            <a:prstGeom prst="line">
              <a:avLst/>
            </a:prstGeom>
            <a:ln w="50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427040" y="2100240"/>
            <a:ext cx="7336080" cy="3281400"/>
            <a:chOff x="1427040" y="2100240"/>
            <a:chExt cx="7336080" cy="3281400"/>
          </a:xfrm>
        </p:grpSpPr>
        <p:sp>
          <p:nvSpPr>
            <p:cNvPr id="262" name=""/>
            <p:cNvSpPr/>
            <p:nvPr/>
          </p:nvSpPr>
          <p:spPr>
            <a:xfrm>
              <a:off x="1427040" y="2100240"/>
              <a:ext cx="739800" cy="51768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66840" y="2617920"/>
              <a:ext cx="727200" cy="68076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94040" y="3298680"/>
              <a:ext cx="739800" cy="85752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633840" y="3816360"/>
              <a:ext cx="727200" cy="33984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4361040" y="3596760"/>
              <a:ext cx="741240" cy="21924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02280" y="3597120"/>
              <a:ext cx="725400" cy="68112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27680" y="4278240"/>
              <a:ext cx="741240" cy="12384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68920" y="4402080"/>
              <a:ext cx="727200" cy="32544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96120" y="4727520"/>
              <a:ext cx="739800" cy="31428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035920" y="5041800"/>
              <a:ext cx="727200" cy="339840"/>
            </a:xfrm>
            <a:prstGeom prst="line">
              <a:avLst/>
            </a:prstGeom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27840" y="6021360"/>
            <a:ext cx="92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,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7840" y="4756320"/>
            <a:ext cx="92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,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7840" y="3489480"/>
            <a:ext cx="92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,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27840" y="2222640"/>
            <a:ext cx="92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,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9040" y="6240600"/>
            <a:ext cx="122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2-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47480" y="6240600"/>
            <a:ext cx="122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4-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714480" y="6240600"/>
            <a:ext cx="122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6-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81120" y="6240600"/>
            <a:ext cx="122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8-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48120" y="6240600"/>
            <a:ext cx="122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0-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116560" y="6240600"/>
            <a:ext cx="122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2-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147880" y="6496200"/>
            <a:ext cx="2354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cc"/>
                </a:solidFill>
                <a:latin typeface="Arial"/>
              </a:rPr>
              <a:t>CVV 2005 - 22 11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4237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90600" y="990720"/>
            <a:ext cx="9725040" cy="51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600" spc="-1" strike="noStrike">
                <a:solidFill>
                  <a:srgbClr val="ffff99"/>
                </a:solidFill>
                <a:latin typeface="Arial"/>
              </a:rPr>
              <a:t>Réévaluation du risque résiduel VHB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749"/>
              </a:spcBef>
              <a:buClr>
                <a:srgbClr val="ffcc00"/>
              </a:buClr>
              <a:buFont typeface="Arial"/>
              <a:buChar char="•"/>
              <a:tabLst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Fenêtre sérologique de l’Ag HBs :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45 jours (avec tests actuels) au lieu de 56 jou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749"/>
              </a:spcBef>
              <a:buClr>
                <a:srgbClr val="ffcc00"/>
              </a:buClr>
              <a:buFont typeface="Arial"/>
              <a:buChar char="•"/>
              <a:tabLst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Taux d’incidence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rise en compte du taux d’incidence de l’anti-HBc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147880" y="6496200"/>
            <a:ext cx="2354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cc"/>
                </a:solidFill>
                <a:latin typeface="Arial"/>
              </a:rPr>
              <a:t>CVV 2005 - 22 11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4237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47680" y="228600"/>
            <a:ext cx="972036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99"/>
                </a:solidFill>
                <a:latin typeface="Arial"/>
              </a:rPr>
              <a:t>Nouvelle estimation du RR à partir des taux d’incidence de l’Ag HBs et des Ac anti-HB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413000"/>
            <a:ext cx="10287000" cy="0"/>
          </a:xfrm>
          <a:prstGeom prst="line">
            <a:avLst/>
          </a:prstGeom>
          <a:ln w="316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04920" y="1557360"/>
            <a:ext cx="98028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Parmi les donneurs nouvellement infectés par le VHB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1. 75 % : Ag HBs transitoire (70%) ou portage chronique (5%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RR1 = (Ti Ag HBs + Ti anti-HBc) x Fs Ag HB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avec Fs Ag HBs = 45 j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2. 25 % : Ag HBs indétectacble ou Ag HBs très fug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RR2 = Ti anti-HBc x Fs anti-HB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avec Fs anti-HBc = 76 j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Risque résiduel VHB = 75 % RR1 + 25 % RR2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147880" y="6496200"/>
            <a:ext cx="2354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cc"/>
                </a:solidFill>
                <a:latin typeface="Arial"/>
              </a:rPr>
              <a:t>CVV 2005 - 22 11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4237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47680" y="228600"/>
            <a:ext cx="972036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Arial"/>
              </a:rPr>
              <a:t>Recensement des cas incidents anti-HBc :</a:t>
            </a:r>
            <a:br>
              <a:rPr sz="3200"/>
            </a:br>
            <a:r>
              <a:rPr b="1" lang="fr-FR" sz="3200" spc="-1" strike="noStrike">
                <a:solidFill>
                  <a:srgbClr val="ffff99"/>
                </a:solidFill>
                <a:latin typeface="Arial"/>
              </a:rPr>
              <a:t>méth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413000"/>
            <a:ext cx="10287000" cy="0"/>
          </a:xfrm>
          <a:prstGeom prst="line">
            <a:avLst/>
          </a:prstGeom>
          <a:ln w="316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280" y="1800360"/>
            <a:ext cx="990612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444600"/>
                <a:tab algn="l" pos="6732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Recensement rétrospectif de 2000 à 2003 et prospectif depuis 2004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444600"/>
                <a:tab algn="l" pos="6732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Définition d’un cas incident anti-HBc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44600"/>
                <a:tab algn="l" pos="6732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on antérieur négatif fait dans la période d’ét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44600"/>
                <a:tab algn="l" pos="6732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Don anti-HBc positif avec 2 techn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444600"/>
                <a:tab algn="l" pos="6732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T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oit présence de l’Ag HBe ou des Ac H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444600"/>
                <a:tab algn="l" pos="6732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oit présence d’IgM-anti-HB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444600"/>
                <a:tab algn="l" pos="6732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oit présence d’ADN VHB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286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444600"/>
                <a:tab algn="l" pos="67320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oit séroconversion anti-HBs (sans vaccin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147880" y="6496200"/>
            <a:ext cx="2354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cc"/>
                </a:solidFill>
                <a:latin typeface="Arial"/>
              </a:rPr>
              <a:t>CVV 2005 - 22 11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4237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52280" y="228600"/>
            <a:ext cx="9601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600" spc="-1" strike="noStrike">
                <a:solidFill>
                  <a:srgbClr val="ffff99"/>
                </a:solidFill>
                <a:latin typeface="Arial"/>
              </a:rPr>
              <a:t>Nombre de cas incidents anti-HB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1295280"/>
            <a:ext cx="10287000" cy="0"/>
          </a:xfrm>
          <a:prstGeom prst="line">
            <a:avLst/>
          </a:prstGeom>
          <a:ln w="316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8960" y="2370240"/>
            <a:ext cx="9601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2614680"/>
            <a:ext cx="3106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Cas déclar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8960" y="4148280"/>
            <a:ext cx="9601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8960" y="3284640"/>
            <a:ext cx="9585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59320" y="1708200"/>
            <a:ext cx="194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0-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4363920"/>
            <a:ext cx="217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Cas certa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8960" y="5013360"/>
            <a:ext cx="9601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0600" y="3478320"/>
            <a:ext cx="2241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Cas écar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8960" y="5877000"/>
            <a:ext cx="9601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880400" y="1708200"/>
            <a:ext cx="194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2-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19680" y="1700280"/>
            <a:ext cx="194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1-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0600" y="5207040"/>
            <a:ext cx="3240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Cas incerta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59320" y="2644920"/>
            <a:ext cx="194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80400" y="2644920"/>
            <a:ext cx="194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19680" y="2637000"/>
            <a:ext cx="194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59320" y="3508200"/>
            <a:ext cx="194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880400" y="3508200"/>
            <a:ext cx="194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19680" y="3500280"/>
            <a:ext cx="194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59320" y="4292640"/>
            <a:ext cx="1942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880400" y="4292640"/>
            <a:ext cx="1942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19680" y="4284720"/>
            <a:ext cx="1943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59320" y="5156280"/>
            <a:ext cx="1942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880400" y="5156280"/>
            <a:ext cx="1942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19680" y="5148360"/>
            <a:ext cx="1943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147880" y="6496200"/>
            <a:ext cx="2354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cc"/>
                </a:solidFill>
                <a:latin typeface="Arial"/>
              </a:rPr>
              <a:t>CVV 2005 - 22 11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4237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22120" y="228600"/>
            <a:ext cx="9601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Comparaison des estimations du RR VH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1295280"/>
            <a:ext cx="10287000" cy="0"/>
          </a:xfrm>
          <a:prstGeom prst="line">
            <a:avLst/>
          </a:prstGeom>
          <a:ln w="316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8960" y="2060640"/>
            <a:ext cx="9601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6520" y="2152800"/>
            <a:ext cx="34671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Cas incidents AgHB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93960" y="1565280"/>
            <a:ext cx="194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0-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4013280"/>
            <a:ext cx="32497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RR “classique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8960" y="3933720"/>
            <a:ext cx="9601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8960" y="6400800"/>
            <a:ext cx="9601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880400" y="1565280"/>
            <a:ext cx="194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2-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781600" y="1557360"/>
            <a:ext cx="194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1-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0600" y="5064120"/>
            <a:ext cx="3240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RR révis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693960" y="2182680"/>
            <a:ext cx="1943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80400" y="2182680"/>
            <a:ext cx="1942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781600" y="2174760"/>
            <a:ext cx="1943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93960" y="4013280"/>
            <a:ext cx="1943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/400 0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6520" y="2637000"/>
            <a:ext cx="34671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Cas incidents AcHBc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2997360"/>
            <a:ext cx="34671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Cas certai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05120" y="3027240"/>
            <a:ext cx="1943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891560" y="3027240"/>
            <a:ext cx="1942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792760" y="3019320"/>
            <a:ext cx="1943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2400" y="3429000"/>
            <a:ext cx="3714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Cas certains et incertai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693960" y="3459240"/>
            <a:ext cx="1943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880400" y="3459240"/>
            <a:ext cx="1942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81600" y="3451320"/>
            <a:ext cx="1943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83400" y="4005360"/>
            <a:ext cx="1942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/640 0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80400" y="4005360"/>
            <a:ext cx="1942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/2 400 0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0600" y="4516560"/>
            <a:ext cx="32493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RR avec Fs de 45 j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03680" y="4516560"/>
            <a:ext cx="1942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/490 0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92760" y="4508640"/>
            <a:ext cx="1943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/800 0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889760" y="4508640"/>
            <a:ext cx="1943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/3 000 0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5464080"/>
            <a:ext cx="34671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Hypothèse favorab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2400" y="5896080"/>
            <a:ext cx="37144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Hypothèse</a:t>
            </a:r>
            <a:r>
              <a:rPr b="0" lang="en-US" sz="2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défavorab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703680" y="5472000"/>
            <a:ext cx="1942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1/900 0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92760" y="5464080"/>
            <a:ext cx="1943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1/920 0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889760" y="5464080"/>
            <a:ext cx="1943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1/1 100 0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703680" y="5904000"/>
            <a:ext cx="19429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1/680 0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92760" y="5896080"/>
            <a:ext cx="1943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1/780 0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89760" y="5896080"/>
            <a:ext cx="19432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Arial"/>
              </a:rPr>
              <a:t>1/750 0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147880" y="6496200"/>
            <a:ext cx="2354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cc"/>
                </a:solidFill>
                <a:latin typeface="Arial"/>
              </a:rPr>
              <a:t>CVV 2005 - 22 11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4237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1413000"/>
            <a:ext cx="10287000" cy="0"/>
          </a:xfrm>
          <a:prstGeom prst="line">
            <a:avLst/>
          </a:prstGeom>
          <a:ln w="316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74600" y="1773360"/>
            <a:ext cx="99680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20000"/>
              </a:lnSpc>
              <a:spcBef>
                <a:spcPts val="1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VIH :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s 3 méthodes donnent des estimations proches entre </a:t>
            </a: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1/3,6 et 1/3,9 millions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de dons pour la période 2002-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 risque résiduel est supérieur chez les nouveaux donne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VHC :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s 2 méthodes donnent des estimations proches entre </a:t>
            </a: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1/6 et 1/8 millions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de dons pour 2002-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1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VHB :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la méthode incluant  les cas incidents anti-HBc donne des estimations plus fiables : </a:t>
            </a: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environ 1/1 million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pour 2002-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0600" y="157320"/>
            <a:ext cx="972036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onclusion :</a:t>
            </a:r>
            <a:br>
              <a:rPr sz="3200"/>
            </a:b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 Comparaison des estimations du R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147880" y="6496200"/>
            <a:ext cx="2354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cc"/>
                </a:solidFill>
                <a:latin typeface="Arial"/>
              </a:rPr>
              <a:t>CVV 2005 - 22 11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4237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4237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47680" y="228600"/>
            <a:ext cx="972036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99"/>
                </a:solidFill>
                <a:latin typeface="Arial"/>
              </a:rPr>
              <a:t>Nouvelle estimation du RR à partir des taux d’incidence de l’Ag HBs et des Ac anti-HBc (I)   </a:t>
            </a:r>
            <a:r>
              <a:rPr b="1" lang="fr-FR" sz="3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1413000"/>
            <a:ext cx="10287000" cy="0"/>
          </a:xfrm>
          <a:prstGeom prst="line">
            <a:avLst/>
          </a:prstGeom>
          <a:ln w="316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11360" y="1557360"/>
            <a:ext cx="69840" cy="2239920"/>
          </a:xfrm>
          <a:custGeom>
            <a:avLst/>
            <a:gdLst/>
            <a:ahLst/>
            <a:rect l="l" t="t" r="r" b="b"/>
            <a:pathLst>
              <a:path w="96" h="3909">
                <a:moveTo>
                  <a:pt x="66" y="96"/>
                </a:moveTo>
                <a:lnTo>
                  <a:pt x="66" y="3909"/>
                </a:lnTo>
                <a:lnTo>
                  <a:pt x="33" y="3909"/>
                </a:lnTo>
                <a:lnTo>
                  <a:pt x="33" y="96"/>
                </a:lnTo>
                <a:lnTo>
                  <a:pt x="66" y="96"/>
                </a:lnTo>
                <a:close/>
                <a:moveTo>
                  <a:pt x="48" y="96"/>
                </a:moveTo>
                <a:lnTo>
                  <a:pt x="0" y="159"/>
                </a:lnTo>
                <a:lnTo>
                  <a:pt x="48" y="0"/>
                </a:lnTo>
                <a:lnTo>
                  <a:pt x="96" y="159"/>
                </a:lnTo>
                <a:lnTo>
                  <a:pt x="48" y="9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49520" y="3760920"/>
            <a:ext cx="7149960" cy="71280"/>
          </a:xfrm>
          <a:custGeom>
            <a:avLst/>
            <a:gdLst/>
            <a:ahLst/>
            <a:rect l="l" t="t" r="r" b="b"/>
            <a:pathLst>
              <a:path w="9008" h="96">
                <a:moveTo>
                  <a:pt x="0" y="32"/>
                </a:moveTo>
                <a:lnTo>
                  <a:pt x="8912" y="32"/>
                </a:lnTo>
                <a:lnTo>
                  <a:pt x="8912" y="65"/>
                </a:lnTo>
                <a:lnTo>
                  <a:pt x="0" y="65"/>
                </a:lnTo>
                <a:lnTo>
                  <a:pt x="0" y="32"/>
                </a:lnTo>
                <a:close/>
                <a:moveTo>
                  <a:pt x="8912" y="48"/>
                </a:moveTo>
                <a:lnTo>
                  <a:pt x="8848" y="0"/>
                </a:lnTo>
                <a:lnTo>
                  <a:pt x="9008" y="48"/>
                </a:lnTo>
                <a:lnTo>
                  <a:pt x="8848" y="96"/>
                </a:lnTo>
                <a:lnTo>
                  <a:pt x="8912" y="48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463680" y="1341360"/>
            <a:ext cx="1037520" cy="798120"/>
            <a:chOff x="463680" y="1341360"/>
            <a:chExt cx="1037520" cy="798120"/>
          </a:xfrm>
        </p:grpSpPr>
        <p:sp>
          <p:nvSpPr>
            <p:cNvPr id="370" name=""/>
            <p:cNvSpPr/>
            <p:nvPr/>
          </p:nvSpPr>
          <p:spPr>
            <a:xfrm>
              <a:off x="463680" y="1341360"/>
              <a:ext cx="144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64040" y="1521720"/>
              <a:ext cx="1037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rqueu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3680" y="1701000"/>
              <a:ext cx="144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V="1">
            <a:off x="1649520" y="3796920"/>
            <a:ext cx="1440" cy="135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49520" y="3932280"/>
            <a:ext cx="113184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10520" y="3382920"/>
            <a:ext cx="694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Fenêtr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86600" y="3554280"/>
            <a:ext cx="11588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sérologique</a:t>
            </a: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49960" y="1832040"/>
            <a:ext cx="127476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97560" y="2127240"/>
            <a:ext cx="788760" cy="604800"/>
          </a:xfrm>
          <a:custGeom>
            <a:avLst/>
            <a:gdLst/>
            <a:ahLst/>
            <a:rect l="l" t="t" r="r" b="b"/>
            <a:pathLst>
              <a:path w="994" h="811">
                <a:moveTo>
                  <a:pt x="10" y="17"/>
                </a:moveTo>
                <a:lnTo>
                  <a:pt x="12" y="17"/>
                </a:lnTo>
                <a:lnTo>
                  <a:pt x="48" y="7"/>
                </a:lnTo>
                <a:lnTo>
                  <a:pt x="86" y="1"/>
                </a:lnTo>
                <a:lnTo>
                  <a:pt x="108" y="0"/>
                </a:lnTo>
                <a:lnTo>
                  <a:pt x="111" y="0"/>
                </a:lnTo>
                <a:lnTo>
                  <a:pt x="113" y="0"/>
                </a:lnTo>
                <a:lnTo>
                  <a:pt x="117" y="1"/>
                </a:lnTo>
                <a:lnTo>
                  <a:pt x="119" y="3"/>
                </a:lnTo>
                <a:lnTo>
                  <a:pt x="121" y="5"/>
                </a:lnTo>
                <a:lnTo>
                  <a:pt x="123" y="7"/>
                </a:lnTo>
                <a:lnTo>
                  <a:pt x="125" y="11"/>
                </a:lnTo>
                <a:lnTo>
                  <a:pt x="125" y="13"/>
                </a:lnTo>
                <a:lnTo>
                  <a:pt x="125" y="17"/>
                </a:lnTo>
                <a:lnTo>
                  <a:pt x="125" y="19"/>
                </a:lnTo>
                <a:lnTo>
                  <a:pt x="123" y="23"/>
                </a:lnTo>
                <a:lnTo>
                  <a:pt x="121" y="25"/>
                </a:lnTo>
                <a:lnTo>
                  <a:pt x="119" y="26"/>
                </a:lnTo>
                <a:lnTo>
                  <a:pt x="117" y="28"/>
                </a:lnTo>
                <a:lnTo>
                  <a:pt x="113" y="30"/>
                </a:lnTo>
                <a:lnTo>
                  <a:pt x="111" y="30"/>
                </a:lnTo>
                <a:lnTo>
                  <a:pt x="92" y="32"/>
                </a:lnTo>
                <a:lnTo>
                  <a:pt x="58" y="40"/>
                </a:lnTo>
                <a:lnTo>
                  <a:pt x="21" y="48"/>
                </a:lnTo>
                <a:lnTo>
                  <a:pt x="19" y="48"/>
                </a:lnTo>
                <a:lnTo>
                  <a:pt x="17" y="49"/>
                </a:lnTo>
                <a:lnTo>
                  <a:pt x="14" y="49"/>
                </a:lnTo>
                <a:lnTo>
                  <a:pt x="12" y="48"/>
                </a:lnTo>
                <a:lnTo>
                  <a:pt x="8" y="48"/>
                </a:lnTo>
                <a:lnTo>
                  <a:pt x="6" y="46"/>
                </a:lnTo>
                <a:lnTo>
                  <a:pt x="4" y="44"/>
                </a:lnTo>
                <a:lnTo>
                  <a:pt x="2" y="40"/>
                </a:lnTo>
                <a:lnTo>
                  <a:pt x="0" y="38"/>
                </a:lnTo>
                <a:lnTo>
                  <a:pt x="0" y="34"/>
                </a:lnTo>
                <a:lnTo>
                  <a:pt x="0" y="30"/>
                </a:lnTo>
                <a:lnTo>
                  <a:pt x="0" y="28"/>
                </a:lnTo>
                <a:lnTo>
                  <a:pt x="0" y="25"/>
                </a:lnTo>
                <a:lnTo>
                  <a:pt x="2" y="23"/>
                </a:lnTo>
                <a:lnTo>
                  <a:pt x="4" y="21"/>
                </a:lnTo>
                <a:lnTo>
                  <a:pt x="8" y="19"/>
                </a:lnTo>
                <a:lnTo>
                  <a:pt x="10" y="17"/>
                </a:lnTo>
                <a:lnTo>
                  <a:pt x="10" y="17"/>
                </a:lnTo>
                <a:close/>
                <a:moveTo>
                  <a:pt x="240" y="1"/>
                </a:moveTo>
                <a:lnTo>
                  <a:pt x="273" y="7"/>
                </a:lnTo>
                <a:lnTo>
                  <a:pt x="309" y="15"/>
                </a:lnTo>
                <a:lnTo>
                  <a:pt x="336" y="23"/>
                </a:lnTo>
                <a:lnTo>
                  <a:pt x="338" y="25"/>
                </a:lnTo>
                <a:lnTo>
                  <a:pt x="340" y="26"/>
                </a:lnTo>
                <a:lnTo>
                  <a:pt x="344" y="28"/>
                </a:lnTo>
                <a:lnTo>
                  <a:pt x="344" y="30"/>
                </a:lnTo>
                <a:lnTo>
                  <a:pt x="346" y="34"/>
                </a:lnTo>
                <a:lnTo>
                  <a:pt x="346" y="36"/>
                </a:lnTo>
                <a:lnTo>
                  <a:pt x="346" y="40"/>
                </a:lnTo>
                <a:lnTo>
                  <a:pt x="346" y="44"/>
                </a:lnTo>
                <a:lnTo>
                  <a:pt x="346" y="46"/>
                </a:lnTo>
                <a:lnTo>
                  <a:pt x="344" y="49"/>
                </a:lnTo>
                <a:lnTo>
                  <a:pt x="342" y="51"/>
                </a:lnTo>
                <a:lnTo>
                  <a:pt x="338" y="53"/>
                </a:lnTo>
                <a:lnTo>
                  <a:pt x="336" y="53"/>
                </a:lnTo>
                <a:lnTo>
                  <a:pt x="332" y="55"/>
                </a:lnTo>
                <a:lnTo>
                  <a:pt x="328" y="55"/>
                </a:lnTo>
                <a:lnTo>
                  <a:pt x="326" y="53"/>
                </a:lnTo>
                <a:lnTo>
                  <a:pt x="301" y="48"/>
                </a:lnTo>
                <a:lnTo>
                  <a:pt x="267" y="38"/>
                </a:lnTo>
                <a:lnTo>
                  <a:pt x="234" y="34"/>
                </a:lnTo>
                <a:lnTo>
                  <a:pt x="230" y="32"/>
                </a:lnTo>
                <a:lnTo>
                  <a:pt x="229" y="30"/>
                </a:lnTo>
                <a:lnTo>
                  <a:pt x="227" y="28"/>
                </a:lnTo>
                <a:lnTo>
                  <a:pt x="225" y="26"/>
                </a:lnTo>
                <a:lnTo>
                  <a:pt x="223" y="25"/>
                </a:lnTo>
                <a:lnTo>
                  <a:pt x="221" y="21"/>
                </a:lnTo>
                <a:lnTo>
                  <a:pt x="221" y="19"/>
                </a:lnTo>
                <a:lnTo>
                  <a:pt x="221" y="15"/>
                </a:lnTo>
                <a:lnTo>
                  <a:pt x="223" y="11"/>
                </a:lnTo>
                <a:lnTo>
                  <a:pt x="223" y="9"/>
                </a:lnTo>
                <a:lnTo>
                  <a:pt x="225" y="7"/>
                </a:lnTo>
                <a:lnTo>
                  <a:pt x="229" y="5"/>
                </a:lnTo>
                <a:lnTo>
                  <a:pt x="230" y="3"/>
                </a:lnTo>
                <a:lnTo>
                  <a:pt x="232" y="1"/>
                </a:lnTo>
                <a:lnTo>
                  <a:pt x="236" y="1"/>
                </a:lnTo>
                <a:lnTo>
                  <a:pt x="240" y="1"/>
                </a:lnTo>
                <a:lnTo>
                  <a:pt x="240" y="1"/>
                </a:lnTo>
                <a:close/>
                <a:moveTo>
                  <a:pt x="457" y="72"/>
                </a:moveTo>
                <a:lnTo>
                  <a:pt x="490" y="92"/>
                </a:lnTo>
                <a:lnTo>
                  <a:pt x="524" y="113"/>
                </a:lnTo>
                <a:lnTo>
                  <a:pt x="540" y="124"/>
                </a:lnTo>
                <a:lnTo>
                  <a:pt x="541" y="126"/>
                </a:lnTo>
                <a:lnTo>
                  <a:pt x="545" y="128"/>
                </a:lnTo>
                <a:lnTo>
                  <a:pt x="545" y="130"/>
                </a:lnTo>
                <a:lnTo>
                  <a:pt x="547" y="134"/>
                </a:lnTo>
                <a:lnTo>
                  <a:pt x="547" y="138"/>
                </a:lnTo>
                <a:lnTo>
                  <a:pt x="547" y="140"/>
                </a:lnTo>
                <a:lnTo>
                  <a:pt x="545" y="143"/>
                </a:lnTo>
                <a:lnTo>
                  <a:pt x="543" y="145"/>
                </a:lnTo>
                <a:lnTo>
                  <a:pt x="541" y="149"/>
                </a:lnTo>
                <a:lnTo>
                  <a:pt x="540" y="151"/>
                </a:lnTo>
                <a:lnTo>
                  <a:pt x="538" y="151"/>
                </a:lnTo>
                <a:lnTo>
                  <a:pt x="534" y="153"/>
                </a:lnTo>
                <a:lnTo>
                  <a:pt x="530" y="153"/>
                </a:lnTo>
                <a:lnTo>
                  <a:pt x="528" y="153"/>
                </a:lnTo>
                <a:lnTo>
                  <a:pt x="524" y="151"/>
                </a:lnTo>
                <a:lnTo>
                  <a:pt x="522" y="149"/>
                </a:lnTo>
                <a:lnTo>
                  <a:pt x="507" y="140"/>
                </a:lnTo>
                <a:lnTo>
                  <a:pt x="474" y="120"/>
                </a:lnTo>
                <a:lnTo>
                  <a:pt x="442" y="101"/>
                </a:lnTo>
                <a:lnTo>
                  <a:pt x="438" y="99"/>
                </a:lnTo>
                <a:lnTo>
                  <a:pt x="436" y="97"/>
                </a:lnTo>
                <a:lnTo>
                  <a:pt x="434" y="94"/>
                </a:lnTo>
                <a:lnTo>
                  <a:pt x="434" y="92"/>
                </a:lnTo>
                <a:lnTo>
                  <a:pt x="432" y="88"/>
                </a:lnTo>
                <a:lnTo>
                  <a:pt x="432" y="86"/>
                </a:lnTo>
                <a:lnTo>
                  <a:pt x="434" y="82"/>
                </a:lnTo>
                <a:lnTo>
                  <a:pt x="434" y="80"/>
                </a:lnTo>
                <a:lnTo>
                  <a:pt x="436" y="76"/>
                </a:lnTo>
                <a:lnTo>
                  <a:pt x="440" y="74"/>
                </a:lnTo>
                <a:lnTo>
                  <a:pt x="442" y="72"/>
                </a:lnTo>
                <a:lnTo>
                  <a:pt x="444" y="72"/>
                </a:lnTo>
                <a:lnTo>
                  <a:pt x="447" y="71"/>
                </a:lnTo>
                <a:lnTo>
                  <a:pt x="451" y="71"/>
                </a:lnTo>
                <a:lnTo>
                  <a:pt x="453" y="72"/>
                </a:lnTo>
                <a:lnTo>
                  <a:pt x="457" y="72"/>
                </a:lnTo>
                <a:lnTo>
                  <a:pt x="457" y="72"/>
                </a:lnTo>
                <a:close/>
                <a:moveTo>
                  <a:pt x="641" y="205"/>
                </a:moveTo>
                <a:lnTo>
                  <a:pt x="657" y="218"/>
                </a:lnTo>
                <a:lnTo>
                  <a:pt x="689" y="249"/>
                </a:lnTo>
                <a:lnTo>
                  <a:pt x="710" y="274"/>
                </a:lnTo>
                <a:lnTo>
                  <a:pt x="712" y="276"/>
                </a:lnTo>
                <a:lnTo>
                  <a:pt x="714" y="278"/>
                </a:lnTo>
                <a:lnTo>
                  <a:pt x="714" y="282"/>
                </a:lnTo>
                <a:lnTo>
                  <a:pt x="714" y="284"/>
                </a:lnTo>
                <a:lnTo>
                  <a:pt x="714" y="287"/>
                </a:lnTo>
                <a:lnTo>
                  <a:pt x="714" y="291"/>
                </a:lnTo>
                <a:lnTo>
                  <a:pt x="712" y="293"/>
                </a:lnTo>
                <a:lnTo>
                  <a:pt x="710" y="295"/>
                </a:lnTo>
                <a:lnTo>
                  <a:pt x="707" y="297"/>
                </a:lnTo>
                <a:lnTo>
                  <a:pt x="705" y="299"/>
                </a:lnTo>
                <a:lnTo>
                  <a:pt x="701" y="299"/>
                </a:lnTo>
                <a:lnTo>
                  <a:pt x="699" y="301"/>
                </a:lnTo>
                <a:lnTo>
                  <a:pt x="695" y="299"/>
                </a:lnTo>
                <a:lnTo>
                  <a:pt x="693" y="299"/>
                </a:lnTo>
                <a:lnTo>
                  <a:pt x="689" y="297"/>
                </a:lnTo>
                <a:lnTo>
                  <a:pt x="687" y="295"/>
                </a:lnTo>
                <a:lnTo>
                  <a:pt x="666" y="272"/>
                </a:lnTo>
                <a:lnTo>
                  <a:pt x="636" y="241"/>
                </a:lnTo>
                <a:lnTo>
                  <a:pt x="620" y="228"/>
                </a:lnTo>
                <a:lnTo>
                  <a:pt x="618" y="226"/>
                </a:lnTo>
                <a:lnTo>
                  <a:pt x="616" y="222"/>
                </a:lnTo>
                <a:lnTo>
                  <a:pt x="616" y="220"/>
                </a:lnTo>
                <a:lnTo>
                  <a:pt x="614" y="216"/>
                </a:lnTo>
                <a:lnTo>
                  <a:pt x="614" y="214"/>
                </a:lnTo>
                <a:lnTo>
                  <a:pt x="616" y="211"/>
                </a:lnTo>
                <a:lnTo>
                  <a:pt x="618" y="209"/>
                </a:lnTo>
                <a:lnTo>
                  <a:pt x="620" y="205"/>
                </a:lnTo>
                <a:lnTo>
                  <a:pt x="622" y="203"/>
                </a:lnTo>
                <a:lnTo>
                  <a:pt x="624" y="201"/>
                </a:lnTo>
                <a:lnTo>
                  <a:pt x="628" y="201"/>
                </a:lnTo>
                <a:lnTo>
                  <a:pt x="630" y="201"/>
                </a:lnTo>
                <a:lnTo>
                  <a:pt x="634" y="201"/>
                </a:lnTo>
                <a:lnTo>
                  <a:pt x="636" y="201"/>
                </a:lnTo>
                <a:lnTo>
                  <a:pt x="639" y="203"/>
                </a:lnTo>
                <a:lnTo>
                  <a:pt x="641" y="205"/>
                </a:lnTo>
                <a:lnTo>
                  <a:pt x="641" y="205"/>
                </a:lnTo>
                <a:close/>
                <a:moveTo>
                  <a:pt x="793" y="374"/>
                </a:moveTo>
                <a:lnTo>
                  <a:pt x="804" y="389"/>
                </a:lnTo>
                <a:lnTo>
                  <a:pt x="831" y="429"/>
                </a:lnTo>
                <a:lnTo>
                  <a:pt x="847" y="454"/>
                </a:lnTo>
                <a:lnTo>
                  <a:pt x="849" y="458"/>
                </a:lnTo>
                <a:lnTo>
                  <a:pt x="849" y="460"/>
                </a:lnTo>
                <a:lnTo>
                  <a:pt x="849" y="464"/>
                </a:lnTo>
                <a:lnTo>
                  <a:pt x="849" y="466"/>
                </a:lnTo>
                <a:lnTo>
                  <a:pt x="847" y="470"/>
                </a:lnTo>
                <a:lnTo>
                  <a:pt x="847" y="472"/>
                </a:lnTo>
                <a:lnTo>
                  <a:pt x="845" y="475"/>
                </a:lnTo>
                <a:lnTo>
                  <a:pt x="841" y="477"/>
                </a:lnTo>
                <a:lnTo>
                  <a:pt x="839" y="477"/>
                </a:lnTo>
                <a:lnTo>
                  <a:pt x="835" y="479"/>
                </a:lnTo>
                <a:lnTo>
                  <a:pt x="833" y="479"/>
                </a:lnTo>
                <a:lnTo>
                  <a:pt x="829" y="479"/>
                </a:lnTo>
                <a:lnTo>
                  <a:pt x="826" y="477"/>
                </a:lnTo>
                <a:lnTo>
                  <a:pt x="824" y="475"/>
                </a:lnTo>
                <a:lnTo>
                  <a:pt x="822" y="473"/>
                </a:lnTo>
                <a:lnTo>
                  <a:pt x="820" y="472"/>
                </a:lnTo>
                <a:lnTo>
                  <a:pt x="804" y="447"/>
                </a:lnTo>
                <a:lnTo>
                  <a:pt x="779" y="408"/>
                </a:lnTo>
                <a:lnTo>
                  <a:pt x="766" y="393"/>
                </a:lnTo>
                <a:lnTo>
                  <a:pt x="766" y="389"/>
                </a:lnTo>
                <a:lnTo>
                  <a:pt x="764" y="387"/>
                </a:lnTo>
                <a:lnTo>
                  <a:pt x="764" y="383"/>
                </a:lnTo>
                <a:lnTo>
                  <a:pt x="764" y="381"/>
                </a:lnTo>
                <a:lnTo>
                  <a:pt x="764" y="378"/>
                </a:lnTo>
                <a:lnTo>
                  <a:pt x="766" y="376"/>
                </a:lnTo>
                <a:lnTo>
                  <a:pt x="768" y="372"/>
                </a:lnTo>
                <a:lnTo>
                  <a:pt x="770" y="370"/>
                </a:lnTo>
                <a:lnTo>
                  <a:pt x="774" y="368"/>
                </a:lnTo>
                <a:lnTo>
                  <a:pt x="776" y="368"/>
                </a:lnTo>
                <a:lnTo>
                  <a:pt x="779" y="368"/>
                </a:lnTo>
                <a:lnTo>
                  <a:pt x="781" y="368"/>
                </a:lnTo>
                <a:lnTo>
                  <a:pt x="785" y="368"/>
                </a:lnTo>
                <a:lnTo>
                  <a:pt x="787" y="370"/>
                </a:lnTo>
                <a:lnTo>
                  <a:pt x="791" y="372"/>
                </a:lnTo>
                <a:lnTo>
                  <a:pt x="793" y="374"/>
                </a:lnTo>
                <a:lnTo>
                  <a:pt x="793" y="374"/>
                </a:lnTo>
                <a:close/>
                <a:moveTo>
                  <a:pt x="908" y="567"/>
                </a:moveTo>
                <a:lnTo>
                  <a:pt x="923" y="600"/>
                </a:lnTo>
                <a:lnTo>
                  <a:pt x="945" y="646"/>
                </a:lnTo>
                <a:lnTo>
                  <a:pt x="948" y="658"/>
                </a:lnTo>
                <a:lnTo>
                  <a:pt x="948" y="660"/>
                </a:lnTo>
                <a:lnTo>
                  <a:pt x="948" y="663"/>
                </a:lnTo>
                <a:lnTo>
                  <a:pt x="948" y="665"/>
                </a:lnTo>
                <a:lnTo>
                  <a:pt x="948" y="669"/>
                </a:lnTo>
                <a:lnTo>
                  <a:pt x="946" y="671"/>
                </a:lnTo>
                <a:lnTo>
                  <a:pt x="945" y="675"/>
                </a:lnTo>
                <a:lnTo>
                  <a:pt x="943" y="677"/>
                </a:lnTo>
                <a:lnTo>
                  <a:pt x="939" y="677"/>
                </a:lnTo>
                <a:lnTo>
                  <a:pt x="935" y="679"/>
                </a:lnTo>
                <a:lnTo>
                  <a:pt x="933" y="679"/>
                </a:lnTo>
                <a:lnTo>
                  <a:pt x="929" y="679"/>
                </a:lnTo>
                <a:lnTo>
                  <a:pt x="927" y="677"/>
                </a:lnTo>
                <a:lnTo>
                  <a:pt x="923" y="675"/>
                </a:lnTo>
                <a:lnTo>
                  <a:pt x="922" y="673"/>
                </a:lnTo>
                <a:lnTo>
                  <a:pt x="920" y="671"/>
                </a:lnTo>
                <a:lnTo>
                  <a:pt x="918" y="669"/>
                </a:lnTo>
                <a:lnTo>
                  <a:pt x="914" y="658"/>
                </a:lnTo>
                <a:lnTo>
                  <a:pt x="895" y="614"/>
                </a:lnTo>
                <a:lnTo>
                  <a:pt x="879" y="583"/>
                </a:lnTo>
                <a:lnTo>
                  <a:pt x="879" y="579"/>
                </a:lnTo>
                <a:lnTo>
                  <a:pt x="877" y="575"/>
                </a:lnTo>
                <a:lnTo>
                  <a:pt x="879" y="573"/>
                </a:lnTo>
                <a:lnTo>
                  <a:pt x="879" y="569"/>
                </a:lnTo>
                <a:lnTo>
                  <a:pt x="881" y="567"/>
                </a:lnTo>
                <a:lnTo>
                  <a:pt x="883" y="564"/>
                </a:lnTo>
                <a:lnTo>
                  <a:pt x="885" y="562"/>
                </a:lnTo>
                <a:lnTo>
                  <a:pt x="887" y="560"/>
                </a:lnTo>
                <a:lnTo>
                  <a:pt x="891" y="560"/>
                </a:lnTo>
                <a:lnTo>
                  <a:pt x="893" y="560"/>
                </a:lnTo>
                <a:lnTo>
                  <a:pt x="897" y="560"/>
                </a:lnTo>
                <a:lnTo>
                  <a:pt x="900" y="560"/>
                </a:lnTo>
                <a:lnTo>
                  <a:pt x="902" y="562"/>
                </a:lnTo>
                <a:lnTo>
                  <a:pt x="904" y="564"/>
                </a:lnTo>
                <a:lnTo>
                  <a:pt x="906" y="566"/>
                </a:lnTo>
                <a:lnTo>
                  <a:pt x="908" y="567"/>
                </a:lnTo>
                <a:lnTo>
                  <a:pt x="908" y="567"/>
                </a:lnTo>
                <a:close/>
                <a:moveTo>
                  <a:pt x="991" y="779"/>
                </a:moveTo>
                <a:lnTo>
                  <a:pt x="994" y="792"/>
                </a:lnTo>
                <a:lnTo>
                  <a:pt x="994" y="794"/>
                </a:lnTo>
                <a:lnTo>
                  <a:pt x="994" y="798"/>
                </a:lnTo>
                <a:lnTo>
                  <a:pt x="994" y="802"/>
                </a:lnTo>
                <a:lnTo>
                  <a:pt x="993" y="803"/>
                </a:lnTo>
                <a:lnTo>
                  <a:pt x="991" y="805"/>
                </a:lnTo>
                <a:lnTo>
                  <a:pt x="989" y="809"/>
                </a:lnTo>
                <a:lnTo>
                  <a:pt x="987" y="809"/>
                </a:lnTo>
                <a:lnTo>
                  <a:pt x="983" y="811"/>
                </a:lnTo>
                <a:lnTo>
                  <a:pt x="981" y="811"/>
                </a:lnTo>
                <a:lnTo>
                  <a:pt x="977" y="811"/>
                </a:lnTo>
                <a:lnTo>
                  <a:pt x="975" y="811"/>
                </a:lnTo>
                <a:lnTo>
                  <a:pt x="971" y="811"/>
                </a:lnTo>
                <a:lnTo>
                  <a:pt x="970" y="809"/>
                </a:lnTo>
                <a:lnTo>
                  <a:pt x="968" y="807"/>
                </a:lnTo>
                <a:lnTo>
                  <a:pt x="966" y="803"/>
                </a:lnTo>
                <a:lnTo>
                  <a:pt x="964" y="802"/>
                </a:lnTo>
                <a:lnTo>
                  <a:pt x="960" y="788"/>
                </a:lnTo>
                <a:lnTo>
                  <a:pt x="960" y="784"/>
                </a:lnTo>
                <a:lnTo>
                  <a:pt x="960" y="782"/>
                </a:lnTo>
                <a:lnTo>
                  <a:pt x="960" y="779"/>
                </a:lnTo>
                <a:lnTo>
                  <a:pt x="962" y="777"/>
                </a:lnTo>
                <a:lnTo>
                  <a:pt x="962" y="773"/>
                </a:lnTo>
                <a:lnTo>
                  <a:pt x="966" y="771"/>
                </a:lnTo>
                <a:lnTo>
                  <a:pt x="968" y="769"/>
                </a:lnTo>
                <a:lnTo>
                  <a:pt x="971" y="769"/>
                </a:lnTo>
                <a:lnTo>
                  <a:pt x="973" y="767"/>
                </a:lnTo>
                <a:lnTo>
                  <a:pt x="977" y="767"/>
                </a:lnTo>
                <a:lnTo>
                  <a:pt x="979" y="769"/>
                </a:lnTo>
                <a:lnTo>
                  <a:pt x="983" y="769"/>
                </a:lnTo>
                <a:lnTo>
                  <a:pt x="985" y="771"/>
                </a:lnTo>
                <a:lnTo>
                  <a:pt x="987" y="773"/>
                </a:lnTo>
                <a:lnTo>
                  <a:pt x="989" y="777"/>
                </a:lnTo>
                <a:lnTo>
                  <a:pt x="991" y="779"/>
                </a:lnTo>
                <a:lnTo>
                  <a:pt x="991" y="779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12360" y="3314880"/>
            <a:ext cx="694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Fenêtre</a:t>
            </a: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90600" y="3540240"/>
            <a:ext cx="11588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sérologique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26240" y="3932280"/>
            <a:ext cx="7776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826240" y="3796920"/>
            <a:ext cx="1440" cy="135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6603840" y="3796920"/>
            <a:ext cx="1800" cy="135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32240" y="1611360"/>
            <a:ext cx="1001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ronicité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025840" y="1954080"/>
            <a:ext cx="44568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66ff"/>
                </a:solidFill>
                <a:latin typeface="Arial"/>
              </a:rPr>
              <a:t>An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459280" y="1954080"/>
            <a:ext cx="770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577720" y="1954080"/>
            <a:ext cx="45648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66ff"/>
                </a:solidFill>
                <a:latin typeface="Arial"/>
              </a:rPr>
              <a:t>HB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025840" y="2698920"/>
            <a:ext cx="44568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ffff"/>
                </a:solidFill>
                <a:latin typeface="Arial"/>
              </a:rPr>
              <a:t>An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459280" y="2698920"/>
            <a:ext cx="770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577720" y="2698920"/>
            <a:ext cx="45648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ffff"/>
                </a:solidFill>
                <a:latin typeface="Arial"/>
              </a:rPr>
              <a:t>H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495760" y="2695680"/>
            <a:ext cx="1227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iguë guéri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839680" y="2970360"/>
            <a:ext cx="3056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A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65840" y="2970360"/>
            <a:ext cx="45648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H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89560" y="2776680"/>
            <a:ext cx="449280" cy="1023840"/>
          </a:xfrm>
          <a:custGeom>
            <a:avLst/>
            <a:gdLst/>
            <a:ahLst/>
            <a:rect l="l" t="t" r="r" b="b"/>
            <a:pathLst>
              <a:path w="567" h="1373">
                <a:moveTo>
                  <a:pt x="31" y="0"/>
                </a:moveTo>
                <a:lnTo>
                  <a:pt x="77" y="119"/>
                </a:lnTo>
                <a:lnTo>
                  <a:pt x="46" y="130"/>
                </a:lnTo>
                <a:lnTo>
                  <a:pt x="0" y="11"/>
                </a:lnTo>
                <a:lnTo>
                  <a:pt x="31" y="0"/>
                </a:lnTo>
                <a:close/>
                <a:moveTo>
                  <a:pt x="112" y="207"/>
                </a:moveTo>
                <a:lnTo>
                  <a:pt x="160" y="326"/>
                </a:lnTo>
                <a:lnTo>
                  <a:pt x="129" y="339"/>
                </a:lnTo>
                <a:lnTo>
                  <a:pt x="83" y="220"/>
                </a:lnTo>
                <a:lnTo>
                  <a:pt x="112" y="207"/>
                </a:lnTo>
                <a:close/>
                <a:moveTo>
                  <a:pt x="194" y="416"/>
                </a:moveTo>
                <a:lnTo>
                  <a:pt x="240" y="535"/>
                </a:lnTo>
                <a:lnTo>
                  <a:pt x="212" y="546"/>
                </a:lnTo>
                <a:lnTo>
                  <a:pt x="164" y="427"/>
                </a:lnTo>
                <a:lnTo>
                  <a:pt x="194" y="416"/>
                </a:lnTo>
                <a:close/>
                <a:moveTo>
                  <a:pt x="277" y="625"/>
                </a:moveTo>
                <a:lnTo>
                  <a:pt x="323" y="744"/>
                </a:lnTo>
                <a:lnTo>
                  <a:pt x="292" y="756"/>
                </a:lnTo>
                <a:lnTo>
                  <a:pt x="246" y="637"/>
                </a:lnTo>
                <a:lnTo>
                  <a:pt x="277" y="625"/>
                </a:lnTo>
                <a:close/>
                <a:moveTo>
                  <a:pt x="357" y="832"/>
                </a:moveTo>
                <a:lnTo>
                  <a:pt x="405" y="951"/>
                </a:lnTo>
                <a:lnTo>
                  <a:pt x="375" y="963"/>
                </a:lnTo>
                <a:lnTo>
                  <a:pt x="329" y="844"/>
                </a:lnTo>
                <a:lnTo>
                  <a:pt x="357" y="832"/>
                </a:lnTo>
                <a:close/>
                <a:moveTo>
                  <a:pt x="440" y="1041"/>
                </a:moveTo>
                <a:lnTo>
                  <a:pt x="486" y="1160"/>
                </a:lnTo>
                <a:lnTo>
                  <a:pt x="457" y="1172"/>
                </a:lnTo>
                <a:lnTo>
                  <a:pt x="409" y="1053"/>
                </a:lnTo>
                <a:lnTo>
                  <a:pt x="440" y="1041"/>
                </a:lnTo>
                <a:close/>
                <a:moveTo>
                  <a:pt x="522" y="1249"/>
                </a:moveTo>
                <a:lnTo>
                  <a:pt x="567" y="1362"/>
                </a:lnTo>
                <a:lnTo>
                  <a:pt x="536" y="1373"/>
                </a:lnTo>
                <a:lnTo>
                  <a:pt x="492" y="1260"/>
                </a:lnTo>
                <a:lnTo>
                  <a:pt x="522" y="1249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703680" y="1833480"/>
            <a:ext cx="2547720" cy="1354320"/>
          </a:xfrm>
          <a:custGeom>
            <a:avLst/>
            <a:gdLst/>
            <a:ahLst/>
            <a:rect l="l" t="t" r="r" b="b"/>
            <a:pathLst>
              <a:path w="3210" h="1817">
                <a:moveTo>
                  <a:pt x="0" y="1817"/>
                </a:moveTo>
                <a:lnTo>
                  <a:pt x="2" y="1771"/>
                </a:lnTo>
                <a:lnTo>
                  <a:pt x="6" y="1725"/>
                </a:lnTo>
                <a:lnTo>
                  <a:pt x="10" y="1677"/>
                </a:lnTo>
                <a:lnTo>
                  <a:pt x="17" y="1631"/>
                </a:lnTo>
                <a:lnTo>
                  <a:pt x="27" y="1587"/>
                </a:lnTo>
                <a:lnTo>
                  <a:pt x="39" y="1541"/>
                </a:lnTo>
                <a:lnTo>
                  <a:pt x="52" y="1497"/>
                </a:lnTo>
                <a:lnTo>
                  <a:pt x="67" y="1451"/>
                </a:lnTo>
                <a:lnTo>
                  <a:pt x="83" y="1407"/>
                </a:lnTo>
                <a:lnTo>
                  <a:pt x="102" y="1364"/>
                </a:lnTo>
                <a:lnTo>
                  <a:pt x="123" y="1320"/>
                </a:lnTo>
                <a:lnTo>
                  <a:pt x="146" y="1278"/>
                </a:lnTo>
                <a:lnTo>
                  <a:pt x="171" y="1236"/>
                </a:lnTo>
                <a:lnTo>
                  <a:pt x="196" y="1194"/>
                </a:lnTo>
                <a:lnTo>
                  <a:pt x="225" y="1151"/>
                </a:lnTo>
                <a:lnTo>
                  <a:pt x="254" y="1111"/>
                </a:lnTo>
                <a:lnTo>
                  <a:pt x="284" y="1071"/>
                </a:lnTo>
                <a:lnTo>
                  <a:pt x="319" y="1031"/>
                </a:lnTo>
                <a:lnTo>
                  <a:pt x="353" y="990"/>
                </a:lnTo>
                <a:lnTo>
                  <a:pt x="390" y="952"/>
                </a:lnTo>
                <a:lnTo>
                  <a:pt x="426" y="914"/>
                </a:lnTo>
                <a:lnTo>
                  <a:pt x="467" y="875"/>
                </a:lnTo>
                <a:lnTo>
                  <a:pt x="507" y="839"/>
                </a:lnTo>
                <a:lnTo>
                  <a:pt x="549" y="802"/>
                </a:lnTo>
                <a:lnTo>
                  <a:pt x="593" y="766"/>
                </a:lnTo>
                <a:lnTo>
                  <a:pt x="639" y="731"/>
                </a:lnTo>
                <a:lnTo>
                  <a:pt x="685" y="697"/>
                </a:lnTo>
                <a:lnTo>
                  <a:pt x="735" y="662"/>
                </a:lnTo>
                <a:lnTo>
                  <a:pt x="785" y="630"/>
                </a:lnTo>
                <a:lnTo>
                  <a:pt x="835" y="597"/>
                </a:lnTo>
                <a:lnTo>
                  <a:pt x="889" y="564"/>
                </a:lnTo>
                <a:lnTo>
                  <a:pt x="943" y="534"/>
                </a:lnTo>
                <a:lnTo>
                  <a:pt x="996" y="503"/>
                </a:lnTo>
                <a:lnTo>
                  <a:pt x="1054" y="474"/>
                </a:lnTo>
                <a:lnTo>
                  <a:pt x="1169" y="417"/>
                </a:lnTo>
                <a:lnTo>
                  <a:pt x="1290" y="363"/>
                </a:lnTo>
                <a:lnTo>
                  <a:pt x="1417" y="311"/>
                </a:lnTo>
                <a:lnTo>
                  <a:pt x="1547" y="265"/>
                </a:lnTo>
                <a:lnTo>
                  <a:pt x="1682" y="221"/>
                </a:lnTo>
                <a:lnTo>
                  <a:pt x="1820" y="181"/>
                </a:lnTo>
                <a:lnTo>
                  <a:pt x="1962" y="144"/>
                </a:lnTo>
                <a:lnTo>
                  <a:pt x="2108" y="112"/>
                </a:lnTo>
                <a:lnTo>
                  <a:pt x="2256" y="83"/>
                </a:lnTo>
                <a:lnTo>
                  <a:pt x="2409" y="58"/>
                </a:lnTo>
                <a:lnTo>
                  <a:pt x="2563" y="39"/>
                </a:lnTo>
                <a:lnTo>
                  <a:pt x="2722" y="21"/>
                </a:lnTo>
                <a:lnTo>
                  <a:pt x="2882" y="10"/>
                </a:lnTo>
                <a:lnTo>
                  <a:pt x="3045" y="4"/>
                </a:lnTo>
                <a:lnTo>
                  <a:pt x="3210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76680" y="3127320"/>
            <a:ext cx="931680" cy="663480"/>
          </a:xfrm>
          <a:custGeom>
            <a:avLst/>
            <a:gdLst/>
            <a:ahLst/>
            <a:rect l="l" t="t" r="r" b="b"/>
            <a:pathLst>
              <a:path w="1175" h="888">
                <a:moveTo>
                  <a:pt x="1175" y="0"/>
                </a:moveTo>
                <a:lnTo>
                  <a:pt x="1175" y="23"/>
                </a:lnTo>
                <a:lnTo>
                  <a:pt x="1173" y="46"/>
                </a:lnTo>
                <a:lnTo>
                  <a:pt x="1171" y="69"/>
                </a:lnTo>
                <a:lnTo>
                  <a:pt x="1167" y="92"/>
                </a:lnTo>
                <a:lnTo>
                  <a:pt x="1163" y="115"/>
                </a:lnTo>
                <a:lnTo>
                  <a:pt x="1160" y="138"/>
                </a:lnTo>
                <a:lnTo>
                  <a:pt x="1154" y="159"/>
                </a:lnTo>
                <a:lnTo>
                  <a:pt x="1148" y="182"/>
                </a:lnTo>
                <a:lnTo>
                  <a:pt x="1142" y="203"/>
                </a:lnTo>
                <a:lnTo>
                  <a:pt x="1135" y="226"/>
                </a:lnTo>
                <a:lnTo>
                  <a:pt x="1127" y="247"/>
                </a:lnTo>
                <a:lnTo>
                  <a:pt x="1119" y="268"/>
                </a:lnTo>
                <a:lnTo>
                  <a:pt x="1110" y="289"/>
                </a:lnTo>
                <a:lnTo>
                  <a:pt x="1100" y="310"/>
                </a:lnTo>
                <a:lnTo>
                  <a:pt x="1088" y="332"/>
                </a:lnTo>
                <a:lnTo>
                  <a:pt x="1079" y="351"/>
                </a:lnTo>
                <a:lnTo>
                  <a:pt x="1067" y="372"/>
                </a:lnTo>
                <a:lnTo>
                  <a:pt x="1054" y="391"/>
                </a:lnTo>
                <a:lnTo>
                  <a:pt x="1041" y="410"/>
                </a:lnTo>
                <a:lnTo>
                  <a:pt x="1027" y="429"/>
                </a:lnTo>
                <a:lnTo>
                  <a:pt x="1014" y="449"/>
                </a:lnTo>
                <a:lnTo>
                  <a:pt x="1000" y="468"/>
                </a:lnTo>
                <a:lnTo>
                  <a:pt x="985" y="485"/>
                </a:lnTo>
                <a:lnTo>
                  <a:pt x="968" y="504"/>
                </a:lnTo>
                <a:lnTo>
                  <a:pt x="952" y="522"/>
                </a:lnTo>
                <a:lnTo>
                  <a:pt x="935" y="539"/>
                </a:lnTo>
                <a:lnTo>
                  <a:pt x="918" y="556"/>
                </a:lnTo>
                <a:lnTo>
                  <a:pt x="900" y="573"/>
                </a:lnTo>
                <a:lnTo>
                  <a:pt x="883" y="589"/>
                </a:lnTo>
                <a:lnTo>
                  <a:pt x="864" y="606"/>
                </a:lnTo>
                <a:lnTo>
                  <a:pt x="845" y="621"/>
                </a:lnTo>
                <a:lnTo>
                  <a:pt x="824" y="637"/>
                </a:lnTo>
                <a:lnTo>
                  <a:pt x="783" y="665"/>
                </a:lnTo>
                <a:lnTo>
                  <a:pt x="741" y="692"/>
                </a:lnTo>
                <a:lnTo>
                  <a:pt x="697" y="719"/>
                </a:lnTo>
                <a:lnTo>
                  <a:pt x="651" y="744"/>
                </a:lnTo>
                <a:lnTo>
                  <a:pt x="603" y="767"/>
                </a:lnTo>
                <a:lnTo>
                  <a:pt x="555" y="788"/>
                </a:lnTo>
                <a:lnTo>
                  <a:pt x="505" y="807"/>
                </a:lnTo>
                <a:lnTo>
                  <a:pt x="478" y="815"/>
                </a:lnTo>
                <a:lnTo>
                  <a:pt x="453" y="825"/>
                </a:lnTo>
                <a:lnTo>
                  <a:pt x="426" y="832"/>
                </a:lnTo>
                <a:lnTo>
                  <a:pt x="399" y="840"/>
                </a:lnTo>
                <a:lnTo>
                  <a:pt x="372" y="846"/>
                </a:lnTo>
                <a:lnTo>
                  <a:pt x="346" y="853"/>
                </a:lnTo>
                <a:lnTo>
                  <a:pt x="319" y="859"/>
                </a:lnTo>
                <a:lnTo>
                  <a:pt x="290" y="865"/>
                </a:lnTo>
                <a:lnTo>
                  <a:pt x="261" y="869"/>
                </a:lnTo>
                <a:lnTo>
                  <a:pt x="234" y="873"/>
                </a:lnTo>
                <a:lnTo>
                  <a:pt x="205" y="877"/>
                </a:lnTo>
                <a:lnTo>
                  <a:pt x="177" y="880"/>
                </a:lnTo>
                <a:lnTo>
                  <a:pt x="148" y="882"/>
                </a:lnTo>
                <a:lnTo>
                  <a:pt x="119" y="886"/>
                </a:lnTo>
                <a:lnTo>
                  <a:pt x="88" y="886"/>
                </a:lnTo>
                <a:lnTo>
                  <a:pt x="60" y="888"/>
                </a:lnTo>
                <a:lnTo>
                  <a:pt x="29" y="888"/>
                </a:lnTo>
                <a:lnTo>
                  <a:pt x="0" y="888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16600" y="1832040"/>
            <a:ext cx="127476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199040" y="2171880"/>
            <a:ext cx="2476440" cy="1085760"/>
          </a:xfrm>
          <a:custGeom>
            <a:avLst/>
            <a:gdLst/>
            <a:ahLst/>
            <a:rect l="l" t="t" r="r" b="b"/>
            <a:pathLst>
              <a:path w="3120" h="1454">
                <a:moveTo>
                  <a:pt x="0" y="1454"/>
                </a:moveTo>
                <a:lnTo>
                  <a:pt x="2" y="1418"/>
                </a:lnTo>
                <a:lnTo>
                  <a:pt x="4" y="1380"/>
                </a:lnTo>
                <a:lnTo>
                  <a:pt x="10" y="1343"/>
                </a:lnTo>
                <a:lnTo>
                  <a:pt x="17" y="1307"/>
                </a:lnTo>
                <a:lnTo>
                  <a:pt x="25" y="1270"/>
                </a:lnTo>
                <a:lnTo>
                  <a:pt x="37" y="1234"/>
                </a:lnTo>
                <a:lnTo>
                  <a:pt x="50" y="1197"/>
                </a:lnTo>
                <a:lnTo>
                  <a:pt x="63" y="1161"/>
                </a:lnTo>
                <a:lnTo>
                  <a:pt x="81" y="1126"/>
                </a:lnTo>
                <a:lnTo>
                  <a:pt x="98" y="1092"/>
                </a:lnTo>
                <a:lnTo>
                  <a:pt x="119" y="1057"/>
                </a:lnTo>
                <a:lnTo>
                  <a:pt x="140" y="1023"/>
                </a:lnTo>
                <a:lnTo>
                  <a:pt x="165" y="988"/>
                </a:lnTo>
                <a:lnTo>
                  <a:pt x="190" y="955"/>
                </a:lnTo>
                <a:lnTo>
                  <a:pt x="217" y="921"/>
                </a:lnTo>
                <a:lnTo>
                  <a:pt x="246" y="888"/>
                </a:lnTo>
                <a:lnTo>
                  <a:pt x="276" y="856"/>
                </a:lnTo>
                <a:lnTo>
                  <a:pt x="307" y="823"/>
                </a:lnTo>
                <a:lnTo>
                  <a:pt x="342" y="792"/>
                </a:lnTo>
                <a:lnTo>
                  <a:pt x="376" y="762"/>
                </a:lnTo>
                <a:lnTo>
                  <a:pt x="415" y="731"/>
                </a:lnTo>
                <a:lnTo>
                  <a:pt x="451" y="700"/>
                </a:lnTo>
                <a:lnTo>
                  <a:pt x="491" y="672"/>
                </a:lnTo>
                <a:lnTo>
                  <a:pt x="534" y="641"/>
                </a:lnTo>
                <a:lnTo>
                  <a:pt x="576" y="612"/>
                </a:lnTo>
                <a:lnTo>
                  <a:pt x="620" y="585"/>
                </a:lnTo>
                <a:lnTo>
                  <a:pt x="666" y="556"/>
                </a:lnTo>
                <a:lnTo>
                  <a:pt x="712" y="530"/>
                </a:lnTo>
                <a:lnTo>
                  <a:pt x="760" y="503"/>
                </a:lnTo>
                <a:lnTo>
                  <a:pt x="810" y="476"/>
                </a:lnTo>
                <a:lnTo>
                  <a:pt x="862" y="451"/>
                </a:lnTo>
                <a:lnTo>
                  <a:pt x="914" y="426"/>
                </a:lnTo>
                <a:lnTo>
                  <a:pt x="1023" y="378"/>
                </a:lnTo>
                <a:lnTo>
                  <a:pt x="1137" y="332"/>
                </a:lnTo>
                <a:lnTo>
                  <a:pt x="1254" y="290"/>
                </a:lnTo>
                <a:lnTo>
                  <a:pt x="1376" y="247"/>
                </a:lnTo>
                <a:lnTo>
                  <a:pt x="1503" y="211"/>
                </a:lnTo>
                <a:lnTo>
                  <a:pt x="1634" y="175"/>
                </a:lnTo>
                <a:lnTo>
                  <a:pt x="1768" y="144"/>
                </a:lnTo>
                <a:lnTo>
                  <a:pt x="1906" y="115"/>
                </a:lnTo>
                <a:lnTo>
                  <a:pt x="2046" y="88"/>
                </a:lnTo>
                <a:lnTo>
                  <a:pt x="2192" y="65"/>
                </a:lnTo>
                <a:lnTo>
                  <a:pt x="2340" y="46"/>
                </a:lnTo>
                <a:lnTo>
                  <a:pt x="2492" y="29"/>
                </a:lnTo>
                <a:lnTo>
                  <a:pt x="2645" y="17"/>
                </a:lnTo>
                <a:lnTo>
                  <a:pt x="2801" y="8"/>
                </a:lnTo>
                <a:lnTo>
                  <a:pt x="2960" y="2"/>
                </a:lnTo>
                <a:lnTo>
                  <a:pt x="3120" y="0"/>
                </a:lnTo>
              </a:path>
            </a:pathLst>
          </a:custGeom>
          <a:noFill/>
          <a:ln w="2556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343320" y="3262320"/>
            <a:ext cx="861840" cy="528480"/>
          </a:xfrm>
          <a:custGeom>
            <a:avLst/>
            <a:gdLst/>
            <a:ahLst/>
            <a:rect l="l" t="t" r="r" b="b"/>
            <a:pathLst>
              <a:path w="1087" h="708">
                <a:moveTo>
                  <a:pt x="1087" y="0"/>
                </a:moveTo>
                <a:lnTo>
                  <a:pt x="1085" y="19"/>
                </a:lnTo>
                <a:lnTo>
                  <a:pt x="1083" y="38"/>
                </a:lnTo>
                <a:lnTo>
                  <a:pt x="1081" y="56"/>
                </a:lnTo>
                <a:lnTo>
                  <a:pt x="1079" y="75"/>
                </a:lnTo>
                <a:lnTo>
                  <a:pt x="1075" y="92"/>
                </a:lnTo>
                <a:lnTo>
                  <a:pt x="1071" y="111"/>
                </a:lnTo>
                <a:lnTo>
                  <a:pt x="1068" y="129"/>
                </a:lnTo>
                <a:lnTo>
                  <a:pt x="1062" y="146"/>
                </a:lnTo>
                <a:lnTo>
                  <a:pt x="1056" y="163"/>
                </a:lnTo>
                <a:lnTo>
                  <a:pt x="1048" y="180"/>
                </a:lnTo>
                <a:lnTo>
                  <a:pt x="1043" y="198"/>
                </a:lnTo>
                <a:lnTo>
                  <a:pt x="1033" y="215"/>
                </a:lnTo>
                <a:lnTo>
                  <a:pt x="1025" y="232"/>
                </a:lnTo>
                <a:lnTo>
                  <a:pt x="1016" y="249"/>
                </a:lnTo>
                <a:lnTo>
                  <a:pt x="1006" y="265"/>
                </a:lnTo>
                <a:lnTo>
                  <a:pt x="996" y="282"/>
                </a:lnTo>
                <a:lnTo>
                  <a:pt x="985" y="297"/>
                </a:lnTo>
                <a:lnTo>
                  <a:pt x="975" y="313"/>
                </a:lnTo>
                <a:lnTo>
                  <a:pt x="962" y="330"/>
                </a:lnTo>
                <a:lnTo>
                  <a:pt x="950" y="345"/>
                </a:lnTo>
                <a:lnTo>
                  <a:pt x="937" y="359"/>
                </a:lnTo>
                <a:lnTo>
                  <a:pt x="924" y="374"/>
                </a:lnTo>
                <a:lnTo>
                  <a:pt x="910" y="390"/>
                </a:lnTo>
                <a:lnTo>
                  <a:pt x="895" y="403"/>
                </a:lnTo>
                <a:lnTo>
                  <a:pt x="881" y="418"/>
                </a:lnTo>
                <a:lnTo>
                  <a:pt x="864" y="432"/>
                </a:lnTo>
                <a:lnTo>
                  <a:pt x="849" y="445"/>
                </a:lnTo>
                <a:lnTo>
                  <a:pt x="833" y="459"/>
                </a:lnTo>
                <a:lnTo>
                  <a:pt x="799" y="484"/>
                </a:lnTo>
                <a:lnTo>
                  <a:pt x="762" y="508"/>
                </a:lnTo>
                <a:lnTo>
                  <a:pt x="724" y="531"/>
                </a:lnTo>
                <a:lnTo>
                  <a:pt x="685" y="555"/>
                </a:lnTo>
                <a:lnTo>
                  <a:pt x="645" y="576"/>
                </a:lnTo>
                <a:lnTo>
                  <a:pt x="601" y="595"/>
                </a:lnTo>
                <a:lnTo>
                  <a:pt x="559" y="614"/>
                </a:lnTo>
                <a:lnTo>
                  <a:pt x="513" y="629"/>
                </a:lnTo>
                <a:lnTo>
                  <a:pt x="467" y="645"/>
                </a:lnTo>
                <a:lnTo>
                  <a:pt x="419" y="658"/>
                </a:lnTo>
                <a:lnTo>
                  <a:pt x="369" y="672"/>
                </a:lnTo>
                <a:lnTo>
                  <a:pt x="319" y="681"/>
                </a:lnTo>
                <a:lnTo>
                  <a:pt x="269" y="691"/>
                </a:lnTo>
                <a:lnTo>
                  <a:pt x="215" y="698"/>
                </a:lnTo>
                <a:lnTo>
                  <a:pt x="163" y="702"/>
                </a:lnTo>
                <a:lnTo>
                  <a:pt x="110" y="706"/>
                </a:lnTo>
                <a:lnTo>
                  <a:pt x="54" y="708"/>
                </a:lnTo>
                <a:lnTo>
                  <a:pt x="27" y="708"/>
                </a:lnTo>
                <a:lnTo>
                  <a:pt x="0" y="708"/>
                </a:lnTo>
              </a:path>
            </a:pathLst>
          </a:custGeom>
          <a:noFill/>
          <a:ln w="2556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75480" y="2171880"/>
            <a:ext cx="1415880" cy="1440"/>
          </a:xfrm>
          <a:prstGeom prst="line">
            <a:avLst/>
          </a:prstGeom>
          <a:ln w="255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172280" y="2577960"/>
            <a:ext cx="1548000" cy="814680"/>
          </a:xfrm>
          <a:custGeom>
            <a:avLst/>
            <a:gdLst/>
            <a:ahLst/>
            <a:rect l="l" t="t" r="r" b="b"/>
            <a:pathLst>
              <a:path w="1951" h="1092">
                <a:moveTo>
                  <a:pt x="0" y="1092"/>
                </a:moveTo>
                <a:lnTo>
                  <a:pt x="4" y="1036"/>
                </a:lnTo>
                <a:lnTo>
                  <a:pt x="12" y="980"/>
                </a:lnTo>
                <a:lnTo>
                  <a:pt x="23" y="925"/>
                </a:lnTo>
                <a:lnTo>
                  <a:pt x="41" y="871"/>
                </a:lnTo>
                <a:lnTo>
                  <a:pt x="62" y="819"/>
                </a:lnTo>
                <a:lnTo>
                  <a:pt x="89" y="767"/>
                </a:lnTo>
                <a:lnTo>
                  <a:pt x="119" y="717"/>
                </a:lnTo>
                <a:lnTo>
                  <a:pt x="154" y="668"/>
                </a:lnTo>
                <a:lnTo>
                  <a:pt x="192" y="620"/>
                </a:lnTo>
                <a:lnTo>
                  <a:pt x="237" y="572"/>
                </a:lnTo>
                <a:lnTo>
                  <a:pt x="283" y="526"/>
                </a:lnTo>
                <a:lnTo>
                  <a:pt x="334" y="481"/>
                </a:lnTo>
                <a:lnTo>
                  <a:pt x="388" y="439"/>
                </a:lnTo>
                <a:lnTo>
                  <a:pt x="446" y="397"/>
                </a:lnTo>
                <a:lnTo>
                  <a:pt x="507" y="359"/>
                </a:lnTo>
                <a:lnTo>
                  <a:pt x="572" y="320"/>
                </a:lnTo>
                <a:lnTo>
                  <a:pt x="640" y="284"/>
                </a:lnTo>
                <a:lnTo>
                  <a:pt x="711" y="249"/>
                </a:lnTo>
                <a:lnTo>
                  <a:pt x="784" y="217"/>
                </a:lnTo>
                <a:lnTo>
                  <a:pt x="860" y="188"/>
                </a:lnTo>
                <a:lnTo>
                  <a:pt x="939" y="159"/>
                </a:lnTo>
                <a:lnTo>
                  <a:pt x="1022" y="132"/>
                </a:lnTo>
                <a:lnTo>
                  <a:pt x="1106" y="107"/>
                </a:lnTo>
                <a:lnTo>
                  <a:pt x="1193" y="86"/>
                </a:lnTo>
                <a:lnTo>
                  <a:pt x="1281" y="67"/>
                </a:lnTo>
                <a:lnTo>
                  <a:pt x="1371" y="50"/>
                </a:lnTo>
                <a:lnTo>
                  <a:pt x="1463" y="34"/>
                </a:lnTo>
                <a:lnTo>
                  <a:pt x="1557" y="23"/>
                </a:lnTo>
                <a:lnTo>
                  <a:pt x="1653" y="13"/>
                </a:lnTo>
                <a:lnTo>
                  <a:pt x="1751" y="6"/>
                </a:lnTo>
                <a:lnTo>
                  <a:pt x="1851" y="2"/>
                </a:lnTo>
                <a:lnTo>
                  <a:pt x="1951" y="0"/>
                </a:lnTo>
              </a:path>
            </a:pathLst>
          </a:custGeom>
          <a:noFill/>
          <a:ln w="255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611760" y="3398760"/>
            <a:ext cx="567000" cy="398520"/>
          </a:xfrm>
          <a:custGeom>
            <a:avLst/>
            <a:gdLst/>
            <a:ahLst/>
            <a:rect l="l" t="t" r="r" b="b"/>
            <a:pathLst>
              <a:path w="712" h="536">
                <a:moveTo>
                  <a:pt x="712" y="0"/>
                </a:moveTo>
                <a:lnTo>
                  <a:pt x="710" y="29"/>
                </a:lnTo>
                <a:lnTo>
                  <a:pt x="706" y="56"/>
                </a:lnTo>
                <a:lnTo>
                  <a:pt x="702" y="85"/>
                </a:lnTo>
                <a:lnTo>
                  <a:pt x="695" y="112"/>
                </a:lnTo>
                <a:lnTo>
                  <a:pt x="687" y="137"/>
                </a:lnTo>
                <a:lnTo>
                  <a:pt x="678" y="163"/>
                </a:lnTo>
                <a:lnTo>
                  <a:pt x="666" y="188"/>
                </a:lnTo>
                <a:lnTo>
                  <a:pt x="653" y="213"/>
                </a:lnTo>
                <a:lnTo>
                  <a:pt x="639" y="236"/>
                </a:lnTo>
                <a:lnTo>
                  <a:pt x="622" y="259"/>
                </a:lnTo>
                <a:lnTo>
                  <a:pt x="605" y="282"/>
                </a:lnTo>
                <a:lnTo>
                  <a:pt x="587" y="305"/>
                </a:lnTo>
                <a:lnTo>
                  <a:pt x="566" y="326"/>
                </a:lnTo>
                <a:lnTo>
                  <a:pt x="545" y="346"/>
                </a:lnTo>
                <a:lnTo>
                  <a:pt x="524" y="365"/>
                </a:lnTo>
                <a:lnTo>
                  <a:pt x="499" y="384"/>
                </a:lnTo>
                <a:lnTo>
                  <a:pt x="474" y="401"/>
                </a:lnTo>
                <a:lnTo>
                  <a:pt x="449" y="419"/>
                </a:lnTo>
                <a:lnTo>
                  <a:pt x="422" y="434"/>
                </a:lnTo>
                <a:lnTo>
                  <a:pt x="395" y="449"/>
                </a:lnTo>
                <a:lnTo>
                  <a:pt x="367" y="463"/>
                </a:lnTo>
                <a:lnTo>
                  <a:pt x="336" y="476"/>
                </a:lnTo>
                <a:lnTo>
                  <a:pt x="305" y="488"/>
                </a:lnTo>
                <a:lnTo>
                  <a:pt x="274" y="497"/>
                </a:lnTo>
                <a:lnTo>
                  <a:pt x="242" y="507"/>
                </a:lnTo>
                <a:lnTo>
                  <a:pt x="209" y="515"/>
                </a:lnTo>
                <a:lnTo>
                  <a:pt x="176" y="522"/>
                </a:lnTo>
                <a:lnTo>
                  <a:pt x="142" y="528"/>
                </a:lnTo>
                <a:lnTo>
                  <a:pt x="107" y="532"/>
                </a:lnTo>
                <a:lnTo>
                  <a:pt x="73" y="534"/>
                </a:lnTo>
                <a:lnTo>
                  <a:pt x="36" y="536"/>
                </a:lnTo>
                <a:lnTo>
                  <a:pt x="0" y="536"/>
                </a:lnTo>
              </a:path>
            </a:pathLst>
          </a:custGeom>
          <a:noFill/>
          <a:ln w="255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1649520" y="3796920"/>
            <a:ext cx="1440" cy="135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49520" y="3932280"/>
            <a:ext cx="113184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768760" y="3789000"/>
            <a:ext cx="1440" cy="135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249960" y="1832040"/>
            <a:ext cx="127476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97560" y="2127240"/>
            <a:ext cx="788760" cy="604800"/>
          </a:xfrm>
          <a:custGeom>
            <a:avLst/>
            <a:gdLst/>
            <a:ahLst/>
            <a:rect l="l" t="t" r="r" b="b"/>
            <a:pathLst>
              <a:path w="994" h="811">
                <a:moveTo>
                  <a:pt x="10" y="17"/>
                </a:moveTo>
                <a:lnTo>
                  <a:pt x="12" y="17"/>
                </a:lnTo>
                <a:lnTo>
                  <a:pt x="48" y="7"/>
                </a:lnTo>
                <a:lnTo>
                  <a:pt x="86" y="1"/>
                </a:lnTo>
                <a:lnTo>
                  <a:pt x="108" y="0"/>
                </a:lnTo>
                <a:lnTo>
                  <a:pt x="111" y="0"/>
                </a:lnTo>
                <a:lnTo>
                  <a:pt x="113" y="0"/>
                </a:lnTo>
                <a:lnTo>
                  <a:pt x="117" y="1"/>
                </a:lnTo>
                <a:lnTo>
                  <a:pt x="119" y="3"/>
                </a:lnTo>
                <a:lnTo>
                  <a:pt x="121" y="5"/>
                </a:lnTo>
                <a:lnTo>
                  <a:pt x="123" y="7"/>
                </a:lnTo>
                <a:lnTo>
                  <a:pt x="125" y="11"/>
                </a:lnTo>
                <a:lnTo>
                  <a:pt x="125" y="13"/>
                </a:lnTo>
                <a:lnTo>
                  <a:pt x="125" y="17"/>
                </a:lnTo>
                <a:lnTo>
                  <a:pt x="125" y="19"/>
                </a:lnTo>
                <a:lnTo>
                  <a:pt x="123" y="23"/>
                </a:lnTo>
                <a:lnTo>
                  <a:pt x="121" y="25"/>
                </a:lnTo>
                <a:lnTo>
                  <a:pt x="119" y="26"/>
                </a:lnTo>
                <a:lnTo>
                  <a:pt x="117" y="28"/>
                </a:lnTo>
                <a:lnTo>
                  <a:pt x="113" y="30"/>
                </a:lnTo>
                <a:lnTo>
                  <a:pt x="111" y="30"/>
                </a:lnTo>
                <a:lnTo>
                  <a:pt x="92" y="32"/>
                </a:lnTo>
                <a:lnTo>
                  <a:pt x="58" y="40"/>
                </a:lnTo>
                <a:lnTo>
                  <a:pt x="21" y="48"/>
                </a:lnTo>
                <a:lnTo>
                  <a:pt x="19" y="48"/>
                </a:lnTo>
                <a:lnTo>
                  <a:pt x="17" y="49"/>
                </a:lnTo>
                <a:lnTo>
                  <a:pt x="14" y="49"/>
                </a:lnTo>
                <a:lnTo>
                  <a:pt x="12" y="48"/>
                </a:lnTo>
                <a:lnTo>
                  <a:pt x="8" y="48"/>
                </a:lnTo>
                <a:lnTo>
                  <a:pt x="6" y="46"/>
                </a:lnTo>
                <a:lnTo>
                  <a:pt x="4" y="44"/>
                </a:lnTo>
                <a:lnTo>
                  <a:pt x="2" y="40"/>
                </a:lnTo>
                <a:lnTo>
                  <a:pt x="0" y="38"/>
                </a:lnTo>
                <a:lnTo>
                  <a:pt x="0" y="34"/>
                </a:lnTo>
                <a:lnTo>
                  <a:pt x="0" y="30"/>
                </a:lnTo>
                <a:lnTo>
                  <a:pt x="0" y="28"/>
                </a:lnTo>
                <a:lnTo>
                  <a:pt x="0" y="25"/>
                </a:lnTo>
                <a:lnTo>
                  <a:pt x="2" y="23"/>
                </a:lnTo>
                <a:lnTo>
                  <a:pt x="4" y="21"/>
                </a:lnTo>
                <a:lnTo>
                  <a:pt x="8" y="19"/>
                </a:lnTo>
                <a:lnTo>
                  <a:pt x="10" y="17"/>
                </a:lnTo>
                <a:lnTo>
                  <a:pt x="10" y="17"/>
                </a:lnTo>
                <a:close/>
                <a:moveTo>
                  <a:pt x="240" y="1"/>
                </a:moveTo>
                <a:lnTo>
                  <a:pt x="273" y="7"/>
                </a:lnTo>
                <a:lnTo>
                  <a:pt x="309" y="15"/>
                </a:lnTo>
                <a:lnTo>
                  <a:pt x="336" y="23"/>
                </a:lnTo>
                <a:lnTo>
                  <a:pt x="338" y="25"/>
                </a:lnTo>
                <a:lnTo>
                  <a:pt x="340" y="26"/>
                </a:lnTo>
                <a:lnTo>
                  <a:pt x="344" y="28"/>
                </a:lnTo>
                <a:lnTo>
                  <a:pt x="344" y="30"/>
                </a:lnTo>
                <a:lnTo>
                  <a:pt x="346" y="34"/>
                </a:lnTo>
                <a:lnTo>
                  <a:pt x="346" y="36"/>
                </a:lnTo>
                <a:lnTo>
                  <a:pt x="346" y="40"/>
                </a:lnTo>
                <a:lnTo>
                  <a:pt x="346" y="44"/>
                </a:lnTo>
                <a:lnTo>
                  <a:pt x="346" y="46"/>
                </a:lnTo>
                <a:lnTo>
                  <a:pt x="344" y="49"/>
                </a:lnTo>
                <a:lnTo>
                  <a:pt x="342" y="51"/>
                </a:lnTo>
                <a:lnTo>
                  <a:pt x="338" y="53"/>
                </a:lnTo>
                <a:lnTo>
                  <a:pt x="336" y="53"/>
                </a:lnTo>
                <a:lnTo>
                  <a:pt x="332" y="55"/>
                </a:lnTo>
                <a:lnTo>
                  <a:pt x="328" y="55"/>
                </a:lnTo>
                <a:lnTo>
                  <a:pt x="326" y="53"/>
                </a:lnTo>
                <a:lnTo>
                  <a:pt x="301" y="48"/>
                </a:lnTo>
                <a:lnTo>
                  <a:pt x="267" y="38"/>
                </a:lnTo>
                <a:lnTo>
                  <a:pt x="234" y="34"/>
                </a:lnTo>
                <a:lnTo>
                  <a:pt x="230" y="32"/>
                </a:lnTo>
                <a:lnTo>
                  <a:pt x="229" y="30"/>
                </a:lnTo>
                <a:lnTo>
                  <a:pt x="227" y="28"/>
                </a:lnTo>
                <a:lnTo>
                  <a:pt x="225" y="26"/>
                </a:lnTo>
                <a:lnTo>
                  <a:pt x="223" y="25"/>
                </a:lnTo>
                <a:lnTo>
                  <a:pt x="221" y="21"/>
                </a:lnTo>
                <a:lnTo>
                  <a:pt x="221" y="19"/>
                </a:lnTo>
                <a:lnTo>
                  <a:pt x="221" y="15"/>
                </a:lnTo>
                <a:lnTo>
                  <a:pt x="223" y="11"/>
                </a:lnTo>
                <a:lnTo>
                  <a:pt x="223" y="9"/>
                </a:lnTo>
                <a:lnTo>
                  <a:pt x="225" y="7"/>
                </a:lnTo>
                <a:lnTo>
                  <a:pt x="229" y="5"/>
                </a:lnTo>
                <a:lnTo>
                  <a:pt x="230" y="3"/>
                </a:lnTo>
                <a:lnTo>
                  <a:pt x="232" y="1"/>
                </a:lnTo>
                <a:lnTo>
                  <a:pt x="236" y="1"/>
                </a:lnTo>
                <a:lnTo>
                  <a:pt x="240" y="1"/>
                </a:lnTo>
                <a:lnTo>
                  <a:pt x="240" y="1"/>
                </a:lnTo>
                <a:close/>
                <a:moveTo>
                  <a:pt x="457" y="72"/>
                </a:moveTo>
                <a:lnTo>
                  <a:pt x="490" y="92"/>
                </a:lnTo>
                <a:lnTo>
                  <a:pt x="524" y="113"/>
                </a:lnTo>
                <a:lnTo>
                  <a:pt x="540" y="124"/>
                </a:lnTo>
                <a:lnTo>
                  <a:pt x="541" y="126"/>
                </a:lnTo>
                <a:lnTo>
                  <a:pt x="545" y="128"/>
                </a:lnTo>
                <a:lnTo>
                  <a:pt x="545" y="130"/>
                </a:lnTo>
                <a:lnTo>
                  <a:pt x="547" y="134"/>
                </a:lnTo>
                <a:lnTo>
                  <a:pt x="547" y="138"/>
                </a:lnTo>
                <a:lnTo>
                  <a:pt x="547" y="140"/>
                </a:lnTo>
                <a:lnTo>
                  <a:pt x="545" y="143"/>
                </a:lnTo>
                <a:lnTo>
                  <a:pt x="543" y="145"/>
                </a:lnTo>
                <a:lnTo>
                  <a:pt x="541" y="149"/>
                </a:lnTo>
                <a:lnTo>
                  <a:pt x="540" y="151"/>
                </a:lnTo>
                <a:lnTo>
                  <a:pt x="538" y="151"/>
                </a:lnTo>
                <a:lnTo>
                  <a:pt x="534" y="153"/>
                </a:lnTo>
                <a:lnTo>
                  <a:pt x="530" y="153"/>
                </a:lnTo>
                <a:lnTo>
                  <a:pt x="528" y="153"/>
                </a:lnTo>
                <a:lnTo>
                  <a:pt x="524" y="151"/>
                </a:lnTo>
                <a:lnTo>
                  <a:pt x="522" y="149"/>
                </a:lnTo>
                <a:lnTo>
                  <a:pt x="507" y="140"/>
                </a:lnTo>
                <a:lnTo>
                  <a:pt x="474" y="120"/>
                </a:lnTo>
                <a:lnTo>
                  <a:pt x="442" y="101"/>
                </a:lnTo>
                <a:lnTo>
                  <a:pt x="438" y="99"/>
                </a:lnTo>
                <a:lnTo>
                  <a:pt x="436" y="97"/>
                </a:lnTo>
                <a:lnTo>
                  <a:pt x="434" y="94"/>
                </a:lnTo>
                <a:lnTo>
                  <a:pt x="434" y="92"/>
                </a:lnTo>
                <a:lnTo>
                  <a:pt x="432" y="88"/>
                </a:lnTo>
                <a:lnTo>
                  <a:pt x="432" y="86"/>
                </a:lnTo>
                <a:lnTo>
                  <a:pt x="434" y="82"/>
                </a:lnTo>
                <a:lnTo>
                  <a:pt x="434" y="80"/>
                </a:lnTo>
                <a:lnTo>
                  <a:pt x="436" y="76"/>
                </a:lnTo>
                <a:lnTo>
                  <a:pt x="440" y="74"/>
                </a:lnTo>
                <a:lnTo>
                  <a:pt x="442" y="72"/>
                </a:lnTo>
                <a:lnTo>
                  <a:pt x="444" y="72"/>
                </a:lnTo>
                <a:lnTo>
                  <a:pt x="447" y="71"/>
                </a:lnTo>
                <a:lnTo>
                  <a:pt x="451" y="71"/>
                </a:lnTo>
                <a:lnTo>
                  <a:pt x="453" y="72"/>
                </a:lnTo>
                <a:lnTo>
                  <a:pt x="457" y="72"/>
                </a:lnTo>
                <a:lnTo>
                  <a:pt x="457" y="72"/>
                </a:lnTo>
                <a:close/>
                <a:moveTo>
                  <a:pt x="641" y="205"/>
                </a:moveTo>
                <a:lnTo>
                  <a:pt x="657" y="218"/>
                </a:lnTo>
                <a:lnTo>
                  <a:pt x="689" y="249"/>
                </a:lnTo>
                <a:lnTo>
                  <a:pt x="710" y="274"/>
                </a:lnTo>
                <a:lnTo>
                  <a:pt x="712" y="276"/>
                </a:lnTo>
                <a:lnTo>
                  <a:pt x="714" y="278"/>
                </a:lnTo>
                <a:lnTo>
                  <a:pt x="714" y="282"/>
                </a:lnTo>
                <a:lnTo>
                  <a:pt x="714" y="284"/>
                </a:lnTo>
                <a:lnTo>
                  <a:pt x="714" y="287"/>
                </a:lnTo>
                <a:lnTo>
                  <a:pt x="714" y="291"/>
                </a:lnTo>
                <a:lnTo>
                  <a:pt x="712" y="293"/>
                </a:lnTo>
                <a:lnTo>
                  <a:pt x="710" y="295"/>
                </a:lnTo>
                <a:lnTo>
                  <a:pt x="707" y="297"/>
                </a:lnTo>
                <a:lnTo>
                  <a:pt x="705" y="299"/>
                </a:lnTo>
                <a:lnTo>
                  <a:pt x="701" y="299"/>
                </a:lnTo>
                <a:lnTo>
                  <a:pt x="699" y="301"/>
                </a:lnTo>
                <a:lnTo>
                  <a:pt x="695" y="299"/>
                </a:lnTo>
                <a:lnTo>
                  <a:pt x="693" y="299"/>
                </a:lnTo>
                <a:lnTo>
                  <a:pt x="689" y="297"/>
                </a:lnTo>
                <a:lnTo>
                  <a:pt x="687" y="295"/>
                </a:lnTo>
                <a:lnTo>
                  <a:pt x="666" y="272"/>
                </a:lnTo>
                <a:lnTo>
                  <a:pt x="636" y="241"/>
                </a:lnTo>
                <a:lnTo>
                  <a:pt x="620" y="228"/>
                </a:lnTo>
                <a:lnTo>
                  <a:pt x="618" y="226"/>
                </a:lnTo>
                <a:lnTo>
                  <a:pt x="616" y="222"/>
                </a:lnTo>
                <a:lnTo>
                  <a:pt x="616" y="220"/>
                </a:lnTo>
                <a:lnTo>
                  <a:pt x="614" y="216"/>
                </a:lnTo>
                <a:lnTo>
                  <a:pt x="614" y="214"/>
                </a:lnTo>
                <a:lnTo>
                  <a:pt x="616" y="211"/>
                </a:lnTo>
                <a:lnTo>
                  <a:pt x="618" y="209"/>
                </a:lnTo>
                <a:lnTo>
                  <a:pt x="620" y="205"/>
                </a:lnTo>
                <a:lnTo>
                  <a:pt x="622" y="203"/>
                </a:lnTo>
                <a:lnTo>
                  <a:pt x="624" y="201"/>
                </a:lnTo>
                <a:lnTo>
                  <a:pt x="628" y="201"/>
                </a:lnTo>
                <a:lnTo>
                  <a:pt x="630" y="201"/>
                </a:lnTo>
                <a:lnTo>
                  <a:pt x="634" y="201"/>
                </a:lnTo>
                <a:lnTo>
                  <a:pt x="636" y="201"/>
                </a:lnTo>
                <a:lnTo>
                  <a:pt x="639" y="203"/>
                </a:lnTo>
                <a:lnTo>
                  <a:pt x="641" y="205"/>
                </a:lnTo>
                <a:lnTo>
                  <a:pt x="641" y="205"/>
                </a:lnTo>
                <a:close/>
                <a:moveTo>
                  <a:pt x="793" y="374"/>
                </a:moveTo>
                <a:lnTo>
                  <a:pt x="804" y="389"/>
                </a:lnTo>
                <a:lnTo>
                  <a:pt x="831" y="429"/>
                </a:lnTo>
                <a:lnTo>
                  <a:pt x="847" y="454"/>
                </a:lnTo>
                <a:lnTo>
                  <a:pt x="849" y="458"/>
                </a:lnTo>
                <a:lnTo>
                  <a:pt x="849" y="460"/>
                </a:lnTo>
                <a:lnTo>
                  <a:pt x="849" y="464"/>
                </a:lnTo>
                <a:lnTo>
                  <a:pt x="849" y="466"/>
                </a:lnTo>
                <a:lnTo>
                  <a:pt x="847" y="470"/>
                </a:lnTo>
                <a:lnTo>
                  <a:pt x="847" y="472"/>
                </a:lnTo>
                <a:lnTo>
                  <a:pt x="845" y="475"/>
                </a:lnTo>
                <a:lnTo>
                  <a:pt x="841" y="477"/>
                </a:lnTo>
                <a:lnTo>
                  <a:pt x="839" y="477"/>
                </a:lnTo>
                <a:lnTo>
                  <a:pt x="835" y="479"/>
                </a:lnTo>
                <a:lnTo>
                  <a:pt x="833" y="479"/>
                </a:lnTo>
                <a:lnTo>
                  <a:pt x="829" y="479"/>
                </a:lnTo>
                <a:lnTo>
                  <a:pt x="826" y="477"/>
                </a:lnTo>
                <a:lnTo>
                  <a:pt x="824" y="475"/>
                </a:lnTo>
                <a:lnTo>
                  <a:pt x="822" y="473"/>
                </a:lnTo>
                <a:lnTo>
                  <a:pt x="820" y="472"/>
                </a:lnTo>
                <a:lnTo>
                  <a:pt x="804" y="447"/>
                </a:lnTo>
                <a:lnTo>
                  <a:pt x="779" y="408"/>
                </a:lnTo>
                <a:lnTo>
                  <a:pt x="766" y="393"/>
                </a:lnTo>
                <a:lnTo>
                  <a:pt x="766" y="389"/>
                </a:lnTo>
                <a:lnTo>
                  <a:pt x="764" y="387"/>
                </a:lnTo>
                <a:lnTo>
                  <a:pt x="764" y="383"/>
                </a:lnTo>
                <a:lnTo>
                  <a:pt x="764" y="381"/>
                </a:lnTo>
                <a:lnTo>
                  <a:pt x="764" y="378"/>
                </a:lnTo>
                <a:lnTo>
                  <a:pt x="766" y="376"/>
                </a:lnTo>
                <a:lnTo>
                  <a:pt x="768" y="372"/>
                </a:lnTo>
                <a:lnTo>
                  <a:pt x="770" y="370"/>
                </a:lnTo>
                <a:lnTo>
                  <a:pt x="774" y="368"/>
                </a:lnTo>
                <a:lnTo>
                  <a:pt x="776" y="368"/>
                </a:lnTo>
                <a:lnTo>
                  <a:pt x="779" y="368"/>
                </a:lnTo>
                <a:lnTo>
                  <a:pt x="781" y="368"/>
                </a:lnTo>
                <a:lnTo>
                  <a:pt x="785" y="368"/>
                </a:lnTo>
                <a:lnTo>
                  <a:pt x="787" y="370"/>
                </a:lnTo>
                <a:lnTo>
                  <a:pt x="791" y="372"/>
                </a:lnTo>
                <a:lnTo>
                  <a:pt x="793" y="374"/>
                </a:lnTo>
                <a:lnTo>
                  <a:pt x="793" y="374"/>
                </a:lnTo>
                <a:close/>
                <a:moveTo>
                  <a:pt x="908" y="567"/>
                </a:moveTo>
                <a:lnTo>
                  <a:pt x="923" y="600"/>
                </a:lnTo>
                <a:lnTo>
                  <a:pt x="945" y="646"/>
                </a:lnTo>
                <a:lnTo>
                  <a:pt x="948" y="658"/>
                </a:lnTo>
                <a:lnTo>
                  <a:pt x="948" y="660"/>
                </a:lnTo>
                <a:lnTo>
                  <a:pt x="948" y="663"/>
                </a:lnTo>
                <a:lnTo>
                  <a:pt x="948" y="665"/>
                </a:lnTo>
                <a:lnTo>
                  <a:pt x="948" y="669"/>
                </a:lnTo>
                <a:lnTo>
                  <a:pt x="946" y="671"/>
                </a:lnTo>
                <a:lnTo>
                  <a:pt x="945" y="675"/>
                </a:lnTo>
                <a:lnTo>
                  <a:pt x="943" y="677"/>
                </a:lnTo>
                <a:lnTo>
                  <a:pt x="939" y="677"/>
                </a:lnTo>
                <a:lnTo>
                  <a:pt x="935" y="679"/>
                </a:lnTo>
                <a:lnTo>
                  <a:pt x="933" y="679"/>
                </a:lnTo>
                <a:lnTo>
                  <a:pt x="929" y="679"/>
                </a:lnTo>
                <a:lnTo>
                  <a:pt x="927" y="677"/>
                </a:lnTo>
                <a:lnTo>
                  <a:pt x="923" y="675"/>
                </a:lnTo>
                <a:lnTo>
                  <a:pt x="922" y="673"/>
                </a:lnTo>
                <a:lnTo>
                  <a:pt x="920" y="671"/>
                </a:lnTo>
                <a:lnTo>
                  <a:pt x="918" y="669"/>
                </a:lnTo>
                <a:lnTo>
                  <a:pt x="914" y="658"/>
                </a:lnTo>
                <a:lnTo>
                  <a:pt x="895" y="614"/>
                </a:lnTo>
                <a:lnTo>
                  <a:pt x="879" y="583"/>
                </a:lnTo>
                <a:lnTo>
                  <a:pt x="879" y="579"/>
                </a:lnTo>
                <a:lnTo>
                  <a:pt x="877" y="575"/>
                </a:lnTo>
                <a:lnTo>
                  <a:pt x="879" y="573"/>
                </a:lnTo>
                <a:lnTo>
                  <a:pt x="879" y="569"/>
                </a:lnTo>
                <a:lnTo>
                  <a:pt x="881" y="567"/>
                </a:lnTo>
                <a:lnTo>
                  <a:pt x="883" y="564"/>
                </a:lnTo>
                <a:lnTo>
                  <a:pt x="885" y="562"/>
                </a:lnTo>
                <a:lnTo>
                  <a:pt x="887" y="560"/>
                </a:lnTo>
                <a:lnTo>
                  <a:pt x="891" y="560"/>
                </a:lnTo>
                <a:lnTo>
                  <a:pt x="893" y="560"/>
                </a:lnTo>
                <a:lnTo>
                  <a:pt x="897" y="560"/>
                </a:lnTo>
                <a:lnTo>
                  <a:pt x="900" y="560"/>
                </a:lnTo>
                <a:lnTo>
                  <a:pt x="902" y="562"/>
                </a:lnTo>
                <a:lnTo>
                  <a:pt x="904" y="564"/>
                </a:lnTo>
                <a:lnTo>
                  <a:pt x="906" y="566"/>
                </a:lnTo>
                <a:lnTo>
                  <a:pt x="908" y="567"/>
                </a:lnTo>
                <a:lnTo>
                  <a:pt x="908" y="567"/>
                </a:lnTo>
                <a:close/>
                <a:moveTo>
                  <a:pt x="991" y="779"/>
                </a:moveTo>
                <a:lnTo>
                  <a:pt x="994" y="792"/>
                </a:lnTo>
                <a:lnTo>
                  <a:pt x="994" y="794"/>
                </a:lnTo>
                <a:lnTo>
                  <a:pt x="994" y="798"/>
                </a:lnTo>
                <a:lnTo>
                  <a:pt x="994" y="802"/>
                </a:lnTo>
                <a:lnTo>
                  <a:pt x="993" y="803"/>
                </a:lnTo>
                <a:lnTo>
                  <a:pt x="991" y="805"/>
                </a:lnTo>
                <a:lnTo>
                  <a:pt x="989" y="809"/>
                </a:lnTo>
                <a:lnTo>
                  <a:pt x="987" y="809"/>
                </a:lnTo>
                <a:lnTo>
                  <a:pt x="983" y="811"/>
                </a:lnTo>
                <a:lnTo>
                  <a:pt x="981" y="811"/>
                </a:lnTo>
                <a:lnTo>
                  <a:pt x="977" y="811"/>
                </a:lnTo>
                <a:lnTo>
                  <a:pt x="975" y="811"/>
                </a:lnTo>
                <a:lnTo>
                  <a:pt x="971" y="811"/>
                </a:lnTo>
                <a:lnTo>
                  <a:pt x="970" y="809"/>
                </a:lnTo>
                <a:lnTo>
                  <a:pt x="968" y="807"/>
                </a:lnTo>
                <a:lnTo>
                  <a:pt x="966" y="803"/>
                </a:lnTo>
                <a:lnTo>
                  <a:pt x="964" y="802"/>
                </a:lnTo>
                <a:lnTo>
                  <a:pt x="960" y="788"/>
                </a:lnTo>
                <a:lnTo>
                  <a:pt x="960" y="784"/>
                </a:lnTo>
                <a:lnTo>
                  <a:pt x="960" y="782"/>
                </a:lnTo>
                <a:lnTo>
                  <a:pt x="960" y="779"/>
                </a:lnTo>
                <a:lnTo>
                  <a:pt x="962" y="777"/>
                </a:lnTo>
                <a:lnTo>
                  <a:pt x="962" y="773"/>
                </a:lnTo>
                <a:lnTo>
                  <a:pt x="966" y="771"/>
                </a:lnTo>
                <a:lnTo>
                  <a:pt x="968" y="769"/>
                </a:lnTo>
                <a:lnTo>
                  <a:pt x="971" y="769"/>
                </a:lnTo>
                <a:lnTo>
                  <a:pt x="973" y="767"/>
                </a:lnTo>
                <a:lnTo>
                  <a:pt x="977" y="767"/>
                </a:lnTo>
                <a:lnTo>
                  <a:pt x="979" y="769"/>
                </a:lnTo>
                <a:lnTo>
                  <a:pt x="983" y="769"/>
                </a:lnTo>
                <a:lnTo>
                  <a:pt x="985" y="771"/>
                </a:lnTo>
                <a:lnTo>
                  <a:pt x="987" y="773"/>
                </a:lnTo>
                <a:lnTo>
                  <a:pt x="989" y="777"/>
                </a:lnTo>
                <a:lnTo>
                  <a:pt x="991" y="779"/>
                </a:lnTo>
                <a:lnTo>
                  <a:pt x="991" y="779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26240" y="3932280"/>
            <a:ext cx="77760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826240" y="3796920"/>
            <a:ext cx="1440" cy="135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603840" y="3796920"/>
            <a:ext cx="1800" cy="135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459280" y="1954080"/>
            <a:ext cx="770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459280" y="2698920"/>
            <a:ext cx="770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885520" y="3652920"/>
            <a:ext cx="6530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mp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89560" y="2776680"/>
            <a:ext cx="449280" cy="1023840"/>
          </a:xfrm>
          <a:custGeom>
            <a:avLst/>
            <a:gdLst/>
            <a:ahLst/>
            <a:rect l="l" t="t" r="r" b="b"/>
            <a:pathLst>
              <a:path w="567" h="1373">
                <a:moveTo>
                  <a:pt x="31" y="0"/>
                </a:moveTo>
                <a:lnTo>
                  <a:pt x="77" y="119"/>
                </a:lnTo>
                <a:lnTo>
                  <a:pt x="46" y="130"/>
                </a:lnTo>
                <a:lnTo>
                  <a:pt x="0" y="11"/>
                </a:lnTo>
                <a:lnTo>
                  <a:pt x="31" y="0"/>
                </a:lnTo>
                <a:close/>
                <a:moveTo>
                  <a:pt x="112" y="207"/>
                </a:moveTo>
                <a:lnTo>
                  <a:pt x="160" y="326"/>
                </a:lnTo>
                <a:lnTo>
                  <a:pt x="129" y="339"/>
                </a:lnTo>
                <a:lnTo>
                  <a:pt x="83" y="220"/>
                </a:lnTo>
                <a:lnTo>
                  <a:pt x="112" y="207"/>
                </a:lnTo>
                <a:close/>
                <a:moveTo>
                  <a:pt x="194" y="416"/>
                </a:moveTo>
                <a:lnTo>
                  <a:pt x="240" y="535"/>
                </a:lnTo>
                <a:lnTo>
                  <a:pt x="212" y="546"/>
                </a:lnTo>
                <a:lnTo>
                  <a:pt x="164" y="427"/>
                </a:lnTo>
                <a:lnTo>
                  <a:pt x="194" y="416"/>
                </a:lnTo>
                <a:close/>
                <a:moveTo>
                  <a:pt x="277" y="625"/>
                </a:moveTo>
                <a:lnTo>
                  <a:pt x="323" y="744"/>
                </a:lnTo>
                <a:lnTo>
                  <a:pt x="292" y="756"/>
                </a:lnTo>
                <a:lnTo>
                  <a:pt x="246" y="637"/>
                </a:lnTo>
                <a:lnTo>
                  <a:pt x="277" y="625"/>
                </a:lnTo>
                <a:close/>
                <a:moveTo>
                  <a:pt x="357" y="832"/>
                </a:moveTo>
                <a:lnTo>
                  <a:pt x="405" y="951"/>
                </a:lnTo>
                <a:lnTo>
                  <a:pt x="375" y="963"/>
                </a:lnTo>
                <a:lnTo>
                  <a:pt x="329" y="844"/>
                </a:lnTo>
                <a:lnTo>
                  <a:pt x="357" y="832"/>
                </a:lnTo>
                <a:close/>
                <a:moveTo>
                  <a:pt x="440" y="1041"/>
                </a:moveTo>
                <a:lnTo>
                  <a:pt x="486" y="1160"/>
                </a:lnTo>
                <a:lnTo>
                  <a:pt x="457" y="1172"/>
                </a:lnTo>
                <a:lnTo>
                  <a:pt x="409" y="1053"/>
                </a:lnTo>
                <a:lnTo>
                  <a:pt x="440" y="1041"/>
                </a:lnTo>
                <a:close/>
                <a:moveTo>
                  <a:pt x="522" y="1249"/>
                </a:moveTo>
                <a:lnTo>
                  <a:pt x="567" y="1362"/>
                </a:lnTo>
                <a:lnTo>
                  <a:pt x="536" y="1373"/>
                </a:lnTo>
                <a:lnTo>
                  <a:pt x="492" y="1260"/>
                </a:lnTo>
                <a:lnTo>
                  <a:pt x="522" y="1249"/>
                </a:lnTo>
                <a:close/>
              </a:path>
            </a:pathLst>
          </a:custGeom>
          <a:solidFill>
            <a:srgbClr val="ff0000"/>
          </a:solidFill>
          <a:ln w="1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703680" y="1833480"/>
            <a:ext cx="2547720" cy="1354320"/>
          </a:xfrm>
          <a:custGeom>
            <a:avLst/>
            <a:gdLst/>
            <a:ahLst/>
            <a:rect l="l" t="t" r="r" b="b"/>
            <a:pathLst>
              <a:path w="3210" h="1817">
                <a:moveTo>
                  <a:pt x="0" y="1817"/>
                </a:moveTo>
                <a:lnTo>
                  <a:pt x="2" y="1771"/>
                </a:lnTo>
                <a:lnTo>
                  <a:pt x="6" y="1725"/>
                </a:lnTo>
                <a:lnTo>
                  <a:pt x="10" y="1677"/>
                </a:lnTo>
                <a:lnTo>
                  <a:pt x="17" y="1631"/>
                </a:lnTo>
                <a:lnTo>
                  <a:pt x="27" y="1587"/>
                </a:lnTo>
                <a:lnTo>
                  <a:pt x="39" y="1541"/>
                </a:lnTo>
                <a:lnTo>
                  <a:pt x="52" y="1497"/>
                </a:lnTo>
                <a:lnTo>
                  <a:pt x="67" y="1451"/>
                </a:lnTo>
                <a:lnTo>
                  <a:pt x="83" y="1407"/>
                </a:lnTo>
                <a:lnTo>
                  <a:pt x="102" y="1364"/>
                </a:lnTo>
                <a:lnTo>
                  <a:pt x="123" y="1320"/>
                </a:lnTo>
                <a:lnTo>
                  <a:pt x="146" y="1278"/>
                </a:lnTo>
                <a:lnTo>
                  <a:pt x="171" y="1236"/>
                </a:lnTo>
                <a:lnTo>
                  <a:pt x="196" y="1194"/>
                </a:lnTo>
                <a:lnTo>
                  <a:pt x="225" y="1151"/>
                </a:lnTo>
                <a:lnTo>
                  <a:pt x="254" y="1111"/>
                </a:lnTo>
                <a:lnTo>
                  <a:pt x="284" y="1071"/>
                </a:lnTo>
                <a:lnTo>
                  <a:pt x="319" y="1031"/>
                </a:lnTo>
                <a:lnTo>
                  <a:pt x="353" y="990"/>
                </a:lnTo>
                <a:lnTo>
                  <a:pt x="390" y="952"/>
                </a:lnTo>
                <a:lnTo>
                  <a:pt x="426" y="914"/>
                </a:lnTo>
                <a:lnTo>
                  <a:pt x="467" y="875"/>
                </a:lnTo>
                <a:lnTo>
                  <a:pt x="507" y="839"/>
                </a:lnTo>
                <a:lnTo>
                  <a:pt x="549" y="802"/>
                </a:lnTo>
                <a:lnTo>
                  <a:pt x="593" y="766"/>
                </a:lnTo>
                <a:lnTo>
                  <a:pt x="639" y="731"/>
                </a:lnTo>
                <a:lnTo>
                  <a:pt x="685" y="697"/>
                </a:lnTo>
                <a:lnTo>
                  <a:pt x="735" y="662"/>
                </a:lnTo>
                <a:lnTo>
                  <a:pt x="785" y="630"/>
                </a:lnTo>
                <a:lnTo>
                  <a:pt x="835" y="597"/>
                </a:lnTo>
                <a:lnTo>
                  <a:pt x="889" y="564"/>
                </a:lnTo>
                <a:lnTo>
                  <a:pt x="943" y="534"/>
                </a:lnTo>
                <a:lnTo>
                  <a:pt x="996" y="503"/>
                </a:lnTo>
                <a:lnTo>
                  <a:pt x="1054" y="474"/>
                </a:lnTo>
                <a:lnTo>
                  <a:pt x="1169" y="417"/>
                </a:lnTo>
                <a:lnTo>
                  <a:pt x="1290" y="363"/>
                </a:lnTo>
                <a:lnTo>
                  <a:pt x="1417" y="311"/>
                </a:lnTo>
                <a:lnTo>
                  <a:pt x="1547" y="265"/>
                </a:lnTo>
                <a:lnTo>
                  <a:pt x="1682" y="221"/>
                </a:lnTo>
                <a:lnTo>
                  <a:pt x="1820" y="181"/>
                </a:lnTo>
                <a:lnTo>
                  <a:pt x="1962" y="144"/>
                </a:lnTo>
                <a:lnTo>
                  <a:pt x="2108" y="112"/>
                </a:lnTo>
                <a:lnTo>
                  <a:pt x="2256" y="83"/>
                </a:lnTo>
                <a:lnTo>
                  <a:pt x="2409" y="58"/>
                </a:lnTo>
                <a:lnTo>
                  <a:pt x="2563" y="39"/>
                </a:lnTo>
                <a:lnTo>
                  <a:pt x="2722" y="21"/>
                </a:lnTo>
                <a:lnTo>
                  <a:pt x="2882" y="10"/>
                </a:lnTo>
                <a:lnTo>
                  <a:pt x="3045" y="4"/>
                </a:lnTo>
                <a:lnTo>
                  <a:pt x="3210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76680" y="3127320"/>
            <a:ext cx="931680" cy="663480"/>
          </a:xfrm>
          <a:custGeom>
            <a:avLst/>
            <a:gdLst/>
            <a:ahLst/>
            <a:rect l="l" t="t" r="r" b="b"/>
            <a:pathLst>
              <a:path w="1175" h="888">
                <a:moveTo>
                  <a:pt x="1175" y="0"/>
                </a:moveTo>
                <a:lnTo>
                  <a:pt x="1175" y="23"/>
                </a:lnTo>
                <a:lnTo>
                  <a:pt x="1173" y="46"/>
                </a:lnTo>
                <a:lnTo>
                  <a:pt x="1171" y="69"/>
                </a:lnTo>
                <a:lnTo>
                  <a:pt x="1167" y="92"/>
                </a:lnTo>
                <a:lnTo>
                  <a:pt x="1163" y="115"/>
                </a:lnTo>
                <a:lnTo>
                  <a:pt x="1160" y="138"/>
                </a:lnTo>
                <a:lnTo>
                  <a:pt x="1154" y="159"/>
                </a:lnTo>
                <a:lnTo>
                  <a:pt x="1148" y="182"/>
                </a:lnTo>
                <a:lnTo>
                  <a:pt x="1142" y="203"/>
                </a:lnTo>
                <a:lnTo>
                  <a:pt x="1135" y="226"/>
                </a:lnTo>
                <a:lnTo>
                  <a:pt x="1127" y="247"/>
                </a:lnTo>
                <a:lnTo>
                  <a:pt x="1119" y="268"/>
                </a:lnTo>
                <a:lnTo>
                  <a:pt x="1110" y="289"/>
                </a:lnTo>
                <a:lnTo>
                  <a:pt x="1100" y="310"/>
                </a:lnTo>
                <a:lnTo>
                  <a:pt x="1088" y="332"/>
                </a:lnTo>
                <a:lnTo>
                  <a:pt x="1079" y="351"/>
                </a:lnTo>
                <a:lnTo>
                  <a:pt x="1067" y="372"/>
                </a:lnTo>
                <a:lnTo>
                  <a:pt x="1054" y="391"/>
                </a:lnTo>
                <a:lnTo>
                  <a:pt x="1041" y="410"/>
                </a:lnTo>
                <a:lnTo>
                  <a:pt x="1027" y="429"/>
                </a:lnTo>
                <a:lnTo>
                  <a:pt x="1014" y="449"/>
                </a:lnTo>
                <a:lnTo>
                  <a:pt x="1000" y="468"/>
                </a:lnTo>
                <a:lnTo>
                  <a:pt x="985" y="485"/>
                </a:lnTo>
                <a:lnTo>
                  <a:pt x="968" y="504"/>
                </a:lnTo>
                <a:lnTo>
                  <a:pt x="952" y="522"/>
                </a:lnTo>
                <a:lnTo>
                  <a:pt x="935" y="539"/>
                </a:lnTo>
                <a:lnTo>
                  <a:pt x="918" y="556"/>
                </a:lnTo>
                <a:lnTo>
                  <a:pt x="900" y="573"/>
                </a:lnTo>
                <a:lnTo>
                  <a:pt x="883" y="589"/>
                </a:lnTo>
                <a:lnTo>
                  <a:pt x="864" y="606"/>
                </a:lnTo>
                <a:lnTo>
                  <a:pt x="845" y="621"/>
                </a:lnTo>
                <a:lnTo>
                  <a:pt x="824" y="637"/>
                </a:lnTo>
                <a:lnTo>
                  <a:pt x="783" y="665"/>
                </a:lnTo>
                <a:lnTo>
                  <a:pt x="741" y="692"/>
                </a:lnTo>
                <a:lnTo>
                  <a:pt x="697" y="719"/>
                </a:lnTo>
                <a:lnTo>
                  <a:pt x="651" y="744"/>
                </a:lnTo>
                <a:lnTo>
                  <a:pt x="603" y="767"/>
                </a:lnTo>
                <a:lnTo>
                  <a:pt x="555" y="788"/>
                </a:lnTo>
                <a:lnTo>
                  <a:pt x="505" y="807"/>
                </a:lnTo>
                <a:lnTo>
                  <a:pt x="478" y="815"/>
                </a:lnTo>
                <a:lnTo>
                  <a:pt x="453" y="825"/>
                </a:lnTo>
                <a:lnTo>
                  <a:pt x="426" y="832"/>
                </a:lnTo>
                <a:lnTo>
                  <a:pt x="399" y="840"/>
                </a:lnTo>
                <a:lnTo>
                  <a:pt x="372" y="846"/>
                </a:lnTo>
                <a:lnTo>
                  <a:pt x="346" y="853"/>
                </a:lnTo>
                <a:lnTo>
                  <a:pt x="319" y="859"/>
                </a:lnTo>
                <a:lnTo>
                  <a:pt x="290" y="865"/>
                </a:lnTo>
                <a:lnTo>
                  <a:pt x="261" y="869"/>
                </a:lnTo>
                <a:lnTo>
                  <a:pt x="234" y="873"/>
                </a:lnTo>
                <a:lnTo>
                  <a:pt x="205" y="877"/>
                </a:lnTo>
                <a:lnTo>
                  <a:pt x="177" y="880"/>
                </a:lnTo>
                <a:lnTo>
                  <a:pt x="148" y="882"/>
                </a:lnTo>
                <a:lnTo>
                  <a:pt x="119" y="886"/>
                </a:lnTo>
                <a:lnTo>
                  <a:pt x="88" y="886"/>
                </a:lnTo>
                <a:lnTo>
                  <a:pt x="60" y="888"/>
                </a:lnTo>
                <a:lnTo>
                  <a:pt x="29" y="888"/>
                </a:lnTo>
                <a:lnTo>
                  <a:pt x="0" y="888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16600" y="1832040"/>
            <a:ext cx="127476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199040" y="2171880"/>
            <a:ext cx="2476440" cy="1085760"/>
          </a:xfrm>
          <a:custGeom>
            <a:avLst/>
            <a:gdLst/>
            <a:ahLst/>
            <a:rect l="l" t="t" r="r" b="b"/>
            <a:pathLst>
              <a:path w="3120" h="1454">
                <a:moveTo>
                  <a:pt x="0" y="1454"/>
                </a:moveTo>
                <a:lnTo>
                  <a:pt x="2" y="1418"/>
                </a:lnTo>
                <a:lnTo>
                  <a:pt x="4" y="1380"/>
                </a:lnTo>
                <a:lnTo>
                  <a:pt x="10" y="1343"/>
                </a:lnTo>
                <a:lnTo>
                  <a:pt x="17" y="1307"/>
                </a:lnTo>
                <a:lnTo>
                  <a:pt x="25" y="1270"/>
                </a:lnTo>
                <a:lnTo>
                  <a:pt x="37" y="1234"/>
                </a:lnTo>
                <a:lnTo>
                  <a:pt x="50" y="1197"/>
                </a:lnTo>
                <a:lnTo>
                  <a:pt x="63" y="1161"/>
                </a:lnTo>
                <a:lnTo>
                  <a:pt x="81" y="1126"/>
                </a:lnTo>
                <a:lnTo>
                  <a:pt x="98" y="1092"/>
                </a:lnTo>
                <a:lnTo>
                  <a:pt x="119" y="1057"/>
                </a:lnTo>
                <a:lnTo>
                  <a:pt x="140" y="1023"/>
                </a:lnTo>
                <a:lnTo>
                  <a:pt x="165" y="988"/>
                </a:lnTo>
                <a:lnTo>
                  <a:pt x="190" y="955"/>
                </a:lnTo>
                <a:lnTo>
                  <a:pt x="217" y="921"/>
                </a:lnTo>
                <a:lnTo>
                  <a:pt x="246" y="888"/>
                </a:lnTo>
                <a:lnTo>
                  <a:pt x="276" y="856"/>
                </a:lnTo>
                <a:lnTo>
                  <a:pt x="307" y="823"/>
                </a:lnTo>
                <a:lnTo>
                  <a:pt x="342" y="792"/>
                </a:lnTo>
                <a:lnTo>
                  <a:pt x="376" y="762"/>
                </a:lnTo>
                <a:lnTo>
                  <a:pt x="415" y="731"/>
                </a:lnTo>
                <a:lnTo>
                  <a:pt x="451" y="700"/>
                </a:lnTo>
                <a:lnTo>
                  <a:pt x="491" y="672"/>
                </a:lnTo>
                <a:lnTo>
                  <a:pt x="534" y="641"/>
                </a:lnTo>
                <a:lnTo>
                  <a:pt x="576" y="612"/>
                </a:lnTo>
                <a:lnTo>
                  <a:pt x="620" y="585"/>
                </a:lnTo>
                <a:lnTo>
                  <a:pt x="666" y="556"/>
                </a:lnTo>
                <a:lnTo>
                  <a:pt x="712" y="530"/>
                </a:lnTo>
                <a:lnTo>
                  <a:pt x="760" y="503"/>
                </a:lnTo>
                <a:lnTo>
                  <a:pt x="810" y="476"/>
                </a:lnTo>
                <a:lnTo>
                  <a:pt x="862" y="451"/>
                </a:lnTo>
                <a:lnTo>
                  <a:pt x="914" y="426"/>
                </a:lnTo>
                <a:lnTo>
                  <a:pt x="1023" y="378"/>
                </a:lnTo>
                <a:lnTo>
                  <a:pt x="1137" y="332"/>
                </a:lnTo>
                <a:lnTo>
                  <a:pt x="1254" y="290"/>
                </a:lnTo>
                <a:lnTo>
                  <a:pt x="1376" y="247"/>
                </a:lnTo>
                <a:lnTo>
                  <a:pt x="1503" y="211"/>
                </a:lnTo>
                <a:lnTo>
                  <a:pt x="1634" y="175"/>
                </a:lnTo>
                <a:lnTo>
                  <a:pt x="1768" y="144"/>
                </a:lnTo>
                <a:lnTo>
                  <a:pt x="1906" y="115"/>
                </a:lnTo>
                <a:lnTo>
                  <a:pt x="2046" y="88"/>
                </a:lnTo>
                <a:lnTo>
                  <a:pt x="2192" y="65"/>
                </a:lnTo>
                <a:lnTo>
                  <a:pt x="2340" y="46"/>
                </a:lnTo>
                <a:lnTo>
                  <a:pt x="2492" y="29"/>
                </a:lnTo>
                <a:lnTo>
                  <a:pt x="2645" y="17"/>
                </a:lnTo>
                <a:lnTo>
                  <a:pt x="2801" y="8"/>
                </a:lnTo>
                <a:lnTo>
                  <a:pt x="2960" y="2"/>
                </a:lnTo>
                <a:lnTo>
                  <a:pt x="3120" y="0"/>
                </a:lnTo>
              </a:path>
            </a:pathLst>
          </a:custGeom>
          <a:noFill/>
          <a:ln w="2556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43320" y="3262320"/>
            <a:ext cx="861840" cy="528480"/>
          </a:xfrm>
          <a:custGeom>
            <a:avLst/>
            <a:gdLst/>
            <a:ahLst/>
            <a:rect l="l" t="t" r="r" b="b"/>
            <a:pathLst>
              <a:path w="1087" h="708">
                <a:moveTo>
                  <a:pt x="1087" y="0"/>
                </a:moveTo>
                <a:lnTo>
                  <a:pt x="1085" y="19"/>
                </a:lnTo>
                <a:lnTo>
                  <a:pt x="1083" y="38"/>
                </a:lnTo>
                <a:lnTo>
                  <a:pt x="1081" y="56"/>
                </a:lnTo>
                <a:lnTo>
                  <a:pt x="1079" y="75"/>
                </a:lnTo>
                <a:lnTo>
                  <a:pt x="1075" y="92"/>
                </a:lnTo>
                <a:lnTo>
                  <a:pt x="1071" y="111"/>
                </a:lnTo>
                <a:lnTo>
                  <a:pt x="1068" y="129"/>
                </a:lnTo>
                <a:lnTo>
                  <a:pt x="1062" y="146"/>
                </a:lnTo>
                <a:lnTo>
                  <a:pt x="1056" y="163"/>
                </a:lnTo>
                <a:lnTo>
                  <a:pt x="1048" y="180"/>
                </a:lnTo>
                <a:lnTo>
                  <a:pt x="1043" y="198"/>
                </a:lnTo>
                <a:lnTo>
                  <a:pt x="1033" y="215"/>
                </a:lnTo>
                <a:lnTo>
                  <a:pt x="1025" y="232"/>
                </a:lnTo>
                <a:lnTo>
                  <a:pt x="1016" y="249"/>
                </a:lnTo>
                <a:lnTo>
                  <a:pt x="1006" y="265"/>
                </a:lnTo>
                <a:lnTo>
                  <a:pt x="996" y="282"/>
                </a:lnTo>
                <a:lnTo>
                  <a:pt x="985" y="297"/>
                </a:lnTo>
                <a:lnTo>
                  <a:pt x="975" y="313"/>
                </a:lnTo>
                <a:lnTo>
                  <a:pt x="962" y="330"/>
                </a:lnTo>
                <a:lnTo>
                  <a:pt x="950" y="345"/>
                </a:lnTo>
                <a:lnTo>
                  <a:pt x="937" y="359"/>
                </a:lnTo>
                <a:lnTo>
                  <a:pt x="924" y="374"/>
                </a:lnTo>
                <a:lnTo>
                  <a:pt x="910" y="390"/>
                </a:lnTo>
                <a:lnTo>
                  <a:pt x="895" y="403"/>
                </a:lnTo>
                <a:lnTo>
                  <a:pt x="881" y="418"/>
                </a:lnTo>
                <a:lnTo>
                  <a:pt x="864" y="432"/>
                </a:lnTo>
                <a:lnTo>
                  <a:pt x="849" y="445"/>
                </a:lnTo>
                <a:lnTo>
                  <a:pt x="833" y="459"/>
                </a:lnTo>
                <a:lnTo>
                  <a:pt x="799" y="484"/>
                </a:lnTo>
                <a:lnTo>
                  <a:pt x="762" y="508"/>
                </a:lnTo>
                <a:lnTo>
                  <a:pt x="724" y="531"/>
                </a:lnTo>
                <a:lnTo>
                  <a:pt x="685" y="555"/>
                </a:lnTo>
                <a:lnTo>
                  <a:pt x="645" y="576"/>
                </a:lnTo>
                <a:lnTo>
                  <a:pt x="601" y="595"/>
                </a:lnTo>
                <a:lnTo>
                  <a:pt x="559" y="614"/>
                </a:lnTo>
                <a:lnTo>
                  <a:pt x="513" y="629"/>
                </a:lnTo>
                <a:lnTo>
                  <a:pt x="467" y="645"/>
                </a:lnTo>
                <a:lnTo>
                  <a:pt x="419" y="658"/>
                </a:lnTo>
                <a:lnTo>
                  <a:pt x="369" y="672"/>
                </a:lnTo>
                <a:lnTo>
                  <a:pt x="319" y="681"/>
                </a:lnTo>
                <a:lnTo>
                  <a:pt x="269" y="691"/>
                </a:lnTo>
                <a:lnTo>
                  <a:pt x="215" y="698"/>
                </a:lnTo>
                <a:lnTo>
                  <a:pt x="163" y="702"/>
                </a:lnTo>
                <a:lnTo>
                  <a:pt x="110" y="706"/>
                </a:lnTo>
                <a:lnTo>
                  <a:pt x="54" y="708"/>
                </a:lnTo>
                <a:lnTo>
                  <a:pt x="27" y="708"/>
                </a:lnTo>
                <a:lnTo>
                  <a:pt x="0" y="708"/>
                </a:lnTo>
              </a:path>
            </a:pathLst>
          </a:custGeom>
          <a:noFill/>
          <a:ln w="2556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675480" y="2171880"/>
            <a:ext cx="1415880" cy="1440"/>
          </a:xfrm>
          <a:prstGeom prst="line">
            <a:avLst/>
          </a:prstGeom>
          <a:ln w="255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72280" y="2577960"/>
            <a:ext cx="1548000" cy="814680"/>
          </a:xfrm>
          <a:custGeom>
            <a:avLst/>
            <a:gdLst/>
            <a:ahLst/>
            <a:rect l="l" t="t" r="r" b="b"/>
            <a:pathLst>
              <a:path w="1951" h="1092">
                <a:moveTo>
                  <a:pt x="0" y="1092"/>
                </a:moveTo>
                <a:lnTo>
                  <a:pt x="4" y="1036"/>
                </a:lnTo>
                <a:lnTo>
                  <a:pt x="12" y="980"/>
                </a:lnTo>
                <a:lnTo>
                  <a:pt x="23" y="925"/>
                </a:lnTo>
                <a:lnTo>
                  <a:pt x="41" y="871"/>
                </a:lnTo>
                <a:lnTo>
                  <a:pt x="62" y="819"/>
                </a:lnTo>
                <a:lnTo>
                  <a:pt x="89" y="767"/>
                </a:lnTo>
                <a:lnTo>
                  <a:pt x="119" y="717"/>
                </a:lnTo>
                <a:lnTo>
                  <a:pt x="154" y="668"/>
                </a:lnTo>
                <a:lnTo>
                  <a:pt x="192" y="620"/>
                </a:lnTo>
                <a:lnTo>
                  <a:pt x="237" y="572"/>
                </a:lnTo>
                <a:lnTo>
                  <a:pt x="283" y="526"/>
                </a:lnTo>
                <a:lnTo>
                  <a:pt x="334" y="481"/>
                </a:lnTo>
                <a:lnTo>
                  <a:pt x="388" y="439"/>
                </a:lnTo>
                <a:lnTo>
                  <a:pt x="446" y="397"/>
                </a:lnTo>
                <a:lnTo>
                  <a:pt x="507" y="359"/>
                </a:lnTo>
                <a:lnTo>
                  <a:pt x="572" y="320"/>
                </a:lnTo>
                <a:lnTo>
                  <a:pt x="640" y="284"/>
                </a:lnTo>
                <a:lnTo>
                  <a:pt x="711" y="249"/>
                </a:lnTo>
                <a:lnTo>
                  <a:pt x="784" y="217"/>
                </a:lnTo>
                <a:lnTo>
                  <a:pt x="860" y="188"/>
                </a:lnTo>
                <a:lnTo>
                  <a:pt x="939" y="159"/>
                </a:lnTo>
                <a:lnTo>
                  <a:pt x="1022" y="132"/>
                </a:lnTo>
                <a:lnTo>
                  <a:pt x="1106" y="107"/>
                </a:lnTo>
                <a:lnTo>
                  <a:pt x="1193" y="86"/>
                </a:lnTo>
                <a:lnTo>
                  <a:pt x="1281" y="67"/>
                </a:lnTo>
                <a:lnTo>
                  <a:pt x="1371" y="50"/>
                </a:lnTo>
                <a:lnTo>
                  <a:pt x="1463" y="34"/>
                </a:lnTo>
                <a:lnTo>
                  <a:pt x="1557" y="23"/>
                </a:lnTo>
                <a:lnTo>
                  <a:pt x="1653" y="13"/>
                </a:lnTo>
                <a:lnTo>
                  <a:pt x="1751" y="6"/>
                </a:lnTo>
                <a:lnTo>
                  <a:pt x="1851" y="2"/>
                </a:lnTo>
                <a:lnTo>
                  <a:pt x="1951" y="0"/>
                </a:lnTo>
              </a:path>
            </a:pathLst>
          </a:custGeom>
          <a:noFill/>
          <a:ln w="255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11760" y="3398760"/>
            <a:ext cx="567000" cy="398520"/>
          </a:xfrm>
          <a:custGeom>
            <a:avLst/>
            <a:gdLst/>
            <a:ahLst/>
            <a:rect l="l" t="t" r="r" b="b"/>
            <a:pathLst>
              <a:path w="712" h="536">
                <a:moveTo>
                  <a:pt x="712" y="0"/>
                </a:moveTo>
                <a:lnTo>
                  <a:pt x="710" y="29"/>
                </a:lnTo>
                <a:lnTo>
                  <a:pt x="706" y="56"/>
                </a:lnTo>
                <a:lnTo>
                  <a:pt x="702" y="85"/>
                </a:lnTo>
                <a:lnTo>
                  <a:pt x="695" y="112"/>
                </a:lnTo>
                <a:lnTo>
                  <a:pt x="687" y="137"/>
                </a:lnTo>
                <a:lnTo>
                  <a:pt x="678" y="163"/>
                </a:lnTo>
                <a:lnTo>
                  <a:pt x="666" y="188"/>
                </a:lnTo>
                <a:lnTo>
                  <a:pt x="653" y="213"/>
                </a:lnTo>
                <a:lnTo>
                  <a:pt x="639" y="236"/>
                </a:lnTo>
                <a:lnTo>
                  <a:pt x="622" y="259"/>
                </a:lnTo>
                <a:lnTo>
                  <a:pt x="605" y="282"/>
                </a:lnTo>
                <a:lnTo>
                  <a:pt x="587" y="305"/>
                </a:lnTo>
                <a:lnTo>
                  <a:pt x="566" y="326"/>
                </a:lnTo>
                <a:lnTo>
                  <a:pt x="545" y="346"/>
                </a:lnTo>
                <a:lnTo>
                  <a:pt x="524" y="365"/>
                </a:lnTo>
                <a:lnTo>
                  <a:pt x="499" y="384"/>
                </a:lnTo>
                <a:lnTo>
                  <a:pt x="474" y="401"/>
                </a:lnTo>
                <a:lnTo>
                  <a:pt x="449" y="419"/>
                </a:lnTo>
                <a:lnTo>
                  <a:pt x="422" y="434"/>
                </a:lnTo>
                <a:lnTo>
                  <a:pt x="395" y="449"/>
                </a:lnTo>
                <a:lnTo>
                  <a:pt x="367" y="463"/>
                </a:lnTo>
                <a:lnTo>
                  <a:pt x="336" y="476"/>
                </a:lnTo>
                <a:lnTo>
                  <a:pt x="305" y="488"/>
                </a:lnTo>
                <a:lnTo>
                  <a:pt x="274" y="497"/>
                </a:lnTo>
                <a:lnTo>
                  <a:pt x="242" y="507"/>
                </a:lnTo>
                <a:lnTo>
                  <a:pt x="209" y="515"/>
                </a:lnTo>
                <a:lnTo>
                  <a:pt x="176" y="522"/>
                </a:lnTo>
                <a:lnTo>
                  <a:pt x="142" y="528"/>
                </a:lnTo>
                <a:lnTo>
                  <a:pt x="107" y="532"/>
                </a:lnTo>
                <a:lnTo>
                  <a:pt x="73" y="534"/>
                </a:lnTo>
                <a:lnTo>
                  <a:pt x="36" y="536"/>
                </a:lnTo>
                <a:lnTo>
                  <a:pt x="0" y="536"/>
                </a:lnTo>
              </a:path>
            </a:pathLst>
          </a:custGeom>
          <a:noFill/>
          <a:ln w="25560">
            <a:solidFill>
              <a:srgbClr val="66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74600" y="4581360"/>
            <a:ext cx="996804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Ag HBs transitoire (70%)</a:t>
            </a:r>
            <a:r>
              <a:rPr b="1" lang="fr-FR" sz="16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ou</a:t>
            </a:r>
            <a:r>
              <a:rPr b="1" lang="fr-FR" sz="1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Portage chronique (5%) = </a:t>
            </a:r>
            <a:r>
              <a:rPr b="1" lang="fr-FR" sz="2000" spc="-1" strike="noStrike" u="sng">
                <a:solidFill>
                  <a:srgbClr val="ffcc00"/>
                </a:solidFill>
                <a:uFillTx/>
                <a:latin typeface="Arial"/>
              </a:rPr>
              <a:t>75 % des donneu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cc00"/>
                </a:solidFill>
                <a:latin typeface="Arial"/>
              </a:rPr>
              <a:t>Don 1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: Ag HBs -  et anti-HBc - : FS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1"/>
              </a:spcBef>
              <a:tabLst>
                <a:tab algn="l" pos="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RR1 = FS Ag HBs x (Ti Ag HBs + Ti anti-HBc)</a:t>
            </a:r>
            <a:r>
              <a:rPr b="1" i="1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cc00"/>
                </a:solidFill>
                <a:latin typeface="Arial"/>
              </a:rPr>
              <a:t>Don 2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: Ag HBs + et anti-HBc - : cas incid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cc00"/>
                </a:solidFill>
                <a:latin typeface="Arial"/>
              </a:rPr>
              <a:t>Don 3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: Ag HBs + et anti-HBc + : cas incid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cc00"/>
                </a:solidFill>
                <a:latin typeface="Arial"/>
              </a:rPr>
              <a:t>Don 4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: Ag HBs - et anti-HBc + : cas incident (FS 2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2260440" y="3860280"/>
            <a:ext cx="0" cy="28764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831320" y="4148280"/>
            <a:ext cx="788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on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3773520" y="3860280"/>
            <a:ext cx="0" cy="28764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44040" y="4148280"/>
            <a:ext cx="788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on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143680" y="3860280"/>
            <a:ext cx="0" cy="28764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714200" y="4148280"/>
            <a:ext cx="788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on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6221520" y="3860280"/>
            <a:ext cx="0" cy="28764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92040" y="4148280"/>
            <a:ext cx="788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on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147880" y="6496200"/>
            <a:ext cx="2354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cc"/>
                </a:solidFill>
                <a:latin typeface="Arial"/>
              </a:rPr>
              <a:t>CVV 2005 - 22 11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4237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5800" y="380880"/>
            <a:ext cx="9296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Remerci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1066680"/>
            <a:ext cx="10287000" cy="0"/>
          </a:xfrm>
          <a:prstGeom prst="line">
            <a:avLst/>
          </a:prstGeom>
          <a:ln w="316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143000"/>
            <a:ext cx="98298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A l’ensemble des personnes qui participent à la surveillance épidémiologique des donneurs de sang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A.Assal, V. Barlet, S. Berrebi, ML Beolet, ML. Bidet, G. Brochier,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JL. Celton, C. Chuteau, M. Feissel, O. Fontaine, A. Girard,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J. Girard, M. Jeanne, G. Klepper, MF. Leconte des Floris,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D. Legrand, F. Levacon, MH. Elghouzzi, P. Gallian, P. Guntz,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P. Halbout, M. Joussemet, T. Levayer, F. Maire, M. Maniez,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F. Meyer, P. Morel, H. Odent-Malaure, AK. Ould Amar, E. Pelissier,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Y. Piquet, JY. Py, J. Relave, D. Rebibo, P. Richard, W. Smilovici,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R. Tardivel, X. Tinard, P. Volle, C. Waller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147880" y="6496200"/>
            <a:ext cx="2354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cc"/>
                </a:solidFill>
                <a:latin typeface="Arial"/>
              </a:rPr>
              <a:t>CVV 2005 - 22 11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4237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47680" y="228600"/>
            <a:ext cx="972036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99"/>
                </a:solidFill>
                <a:latin typeface="Arial"/>
              </a:rPr>
              <a:t>Nouvelle estimation du RR à partir des taux d’incidence de l’Ag HBs et des Ac anti-HBc (II)   </a:t>
            </a:r>
            <a:r>
              <a:rPr b="1" lang="fr-FR" sz="3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1413000"/>
            <a:ext cx="10287000" cy="0"/>
          </a:xfrm>
          <a:prstGeom prst="line">
            <a:avLst/>
          </a:prstGeom>
          <a:ln w="316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8120" y="1557360"/>
            <a:ext cx="69840" cy="2239920"/>
          </a:xfrm>
          <a:custGeom>
            <a:avLst/>
            <a:gdLst/>
            <a:ahLst/>
            <a:rect l="l" t="t" r="r" b="b"/>
            <a:pathLst>
              <a:path w="96" h="3909">
                <a:moveTo>
                  <a:pt x="66" y="96"/>
                </a:moveTo>
                <a:lnTo>
                  <a:pt x="66" y="3909"/>
                </a:lnTo>
                <a:lnTo>
                  <a:pt x="33" y="3909"/>
                </a:lnTo>
                <a:lnTo>
                  <a:pt x="33" y="96"/>
                </a:lnTo>
                <a:lnTo>
                  <a:pt x="66" y="96"/>
                </a:lnTo>
                <a:close/>
                <a:moveTo>
                  <a:pt x="48" y="96"/>
                </a:moveTo>
                <a:lnTo>
                  <a:pt x="0" y="159"/>
                </a:lnTo>
                <a:lnTo>
                  <a:pt x="48" y="0"/>
                </a:lnTo>
                <a:lnTo>
                  <a:pt x="96" y="159"/>
                </a:lnTo>
                <a:lnTo>
                  <a:pt x="48" y="96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46280" y="3760920"/>
            <a:ext cx="7149960" cy="71280"/>
          </a:xfrm>
          <a:custGeom>
            <a:avLst/>
            <a:gdLst/>
            <a:ahLst/>
            <a:rect l="l" t="t" r="r" b="b"/>
            <a:pathLst>
              <a:path w="9008" h="96">
                <a:moveTo>
                  <a:pt x="0" y="32"/>
                </a:moveTo>
                <a:lnTo>
                  <a:pt x="8912" y="32"/>
                </a:lnTo>
                <a:lnTo>
                  <a:pt x="8912" y="65"/>
                </a:lnTo>
                <a:lnTo>
                  <a:pt x="0" y="65"/>
                </a:lnTo>
                <a:lnTo>
                  <a:pt x="0" y="32"/>
                </a:lnTo>
                <a:close/>
                <a:moveTo>
                  <a:pt x="8912" y="48"/>
                </a:moveTo>
                <a:lnTo>
                  <a:pt x="8848" y="0"/>
                </a:lnTo>
                <a:lnTo>
                  <a:pt x="9008" y="48"/>
                </a:lnTo>
                <a:lnTo>
                  <a:pt x="8848" y="96"/>
                </a:lnTo>
                <a:lnTo>
                  <a:pt x="8912" y="48"/>
                </a:lnTo>
                <a:close/>
              </a:path>
            </a:pathLst>
          </a:custGeom>
          <a:solidFill>
            <a:srgbClr val="ffffff"/>
          </a:solidFill>
          <a:ln w="1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522360" y="1341360"/>
            <a:ext cx="924480" cy="798120"/>
            <a:chOff x="522360" y="1341360"/>
            <a:chExt cx="924480" cy="798120"/>
          </a:xfrm>
        </p:grpSpPr>
        <p:sp>
          <p:nvSpPr>
            <p:cNvPr id="438" name=""/>
            <p:cNvSpPr/>
            <p:nvPr/>
          </p:nvSpPr>
          <p:spPr>
            <a:xfrm>
              <a:off x="522360" y="1341360"/>
              <a:ext cx="144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2720" y="1521720"/>
              <a:ext cx="9241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arqueu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2360" y="1701000"/>
              <a:ext cx="1440" cy="4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 flipV="1">
            <a:off x="1646280" y="3796920"/>
            <a:ext cx="1440" cy="135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715040" y="3327480"/>
            <a:ext cx="6940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"/>
              </a:rPr>
              <a:t>Fenêtr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682640" y="3524400"/>
            <a:ext cx="17913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99"/>
                </a:solidFill>
                <a:latin typeface="Arial"/>
              </a:rPr>
              <a:t>sérologique</a:t>
            </a:r>
            <a:r>
              <a:rPr b="1" lang="fr-FR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ffff99"/>
                </a:solidFill>
                <a:latin typeface="Arial"/>
              </a:rPr>
              <a:t>anti-H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022600" y="1954080"/>
            <a:ext cx="44568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66ff"/>
                </a:solidFill>
                <a:latin typeface="Arial"/>
              </a:rPr>
              <a:t>An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456400" y="1954080"/>
            <a:ext cx="770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574480" y="1954080"/>
            <a:ext cx="45648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66ff"/>
                </a:solidFill>
                <a:latin typeface="Arial"/>
              </a:rPr>
              <a:t>HB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195800" y="2171880"/>
            <a:ext cx="2476440" cy="1085760"/>
          </a:xfrm>
          <a:custGeom>
            <a:avLst/>
            <a:gdLst/>
            <a:ahLst/>
            <a:rect l="l" t="t" r="r" b="b"/>
            <a:pathLst>
              <a:path w="3120" h="1454">
                <a:moveTo>
                  <a:pt x="0" y="1454"/>
                </a:moveTo>
                <a:lnTo>
                  <a:pt x="2" y="1418"/>
                </a:lnTo>
                <a:lnTo>
                  <a:pt x="4" y="1380"/>
                </a:lnTo>
                <a:lnTo>
                  <a:pt x="10" y="1343"/>
                </a:lnTo>
                <a:lnTo>
                  <a:pt x="17" y="1307"/>
                </a:lnTo>
                <a:lnTo>
                  <a:pt x="25" y="1270"/>
                </a:lnTo>
                <a:lnTo>
                  <a:pt x="37" y="1234"/>
                </a:lnTo>
                <a:lnTo>
                  <a:pt x="50" y="1197"/>
                </a:lnTo>
                <a:lnTo>
                  <a:pt x="63" y="1161"/>
                </a:lnTo>
                <a:lnTo>
                  <a:pt x="81" y="1126"/>
                </a:lnTo>
                <a:lnTo>
                  <a:pt x="98" y="1092"/>
                </a:lnTo>
                <a:lnTo>
                  <a:pt x="119" y="1057"/>
                </a:lnTo>
                <a:lnTo>
                  <a:pt x="140" y="1023"/>
                </a:lnTo>
                <a:lnTo>
                  <a:pt x="165" y="988"/>
                </a:lnTo>
                <a:lnTo>
                  <a:pt x="190" y="955"/>
                </a:lnTo>
                <a:lnTo>
                  <a:pt x="217" y="921"/>
                </a:lnTo>
                <a:lnTo>
                  <a:pt x="246" y="888"/>
                </a:lnTo>
                <a:lnTo>
                  <a:pt x="276" y="856"/>
                </a:lnTo>
                <a:lnTo>
                  <a:pt x="307" y="823"/>
                </a:lnTo>
                <a:lnTo>
                  <a:pt x="342" y="792"/>
                </a:lnTo>
                <a:lnTo>
                  <a:pt x="376" y="762"/>
                </a:lnTo>
                <a:lnTo>
                  <a:pt x="415" y="731"/>
                </a:lnTo>
                <a:lnTo>
                  <a:pt x="451" y="700"/>
                </a:lnTo>
                <a:lnTo>
                  <a:pt x="491" y="672"/>
                </a:lnTo>
                <a:lnTo>
                  <a:pt x="534" y="641"/>
                </a:lnTo>
                <a:lnTo>
                  <a:pt x="576" y="612"/>
                </a:lnTo>
                <a:lnTo>
                  <a:pt x="620" y="585"/>
                </a:lnTo>
                <a:lnTo>
                  <a:pt x="666" y="556"/>
                </a:lnTo>
                <a:lnTo>
                  <a:pt x="712" y="530"/>
                </a:lnTo>
                <a:lnTo>
                  <a:pt x="760" y="503"/>
                </a:lnTo>
                <a:lnTo>
                  <a:pt x="810" y="476"/>
                </a:lnTo>
                <a:lnTo>
                  <a:pt x="862" y="451"/>
                </a:lnTo>
                <a:lnTo>
                  <a:pt x="914" y="426"/>
                </a:lnTo>
                <a:lnTo>
                  <a:pt x="1023" y="378"/>
                </a:lnTo>
                <a:lnTo>
                  <a:pt x="1137" y="332"/>
                </a:lnTo>
                <a:lnTo>
                  <a:pt x="1254" y="290"/>
                </a:lnTo>
                <a:lnTo>
                  <a:pt x="1376" y="247"/>
                </a:lnTo>
                <a:lnTo>
                  <a:pt x="1503" y="211"/>
                </a:lnTo>
                <a:lnTo>
                  <a:pt x="1634" y="175"/>
                </a:lnTo>
                <a:lnTo>
                  <a:pt x="1768" y="144"/>
                </a:lnTo>
                <a:lnTo>
                  <a:pt x="1906" y="115"/>
                </a:lnTo>
                <a:lnTo>
                  <a:pt x="2046" y="88"/>
                </a:lnTo>
                <a:lnTo>
                  <a:pt x="2192" y="65"/>
                </a:lnTo>
                <a:lnTo>
                  <a:pt x="2340" y="46"/>
                </a:lnTo>
                <a:lnTo>
                  <a:pt x="2492" y="29"/>
                </a:lnTo>
                <a:lnTo>
                  <a:pt x="2645" y="17"/>
                </a:lnTo>
                <a:lnTo>
                  <a:pt x="2801" y="8"/>
                </a:lnTo>
                <a:lnTo>
                  <a:pt x="2960" y="2"/>
                </a:lnTo>
                <a:lnTo>
                  <a:pt x="3120" y="0"/>
                </a:lnTo>
              </a:path>
            </a:pathLst>
          </a:custGeom>
          <a:noFill/>
          <a:ln w="2556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340080" y="3262320"/>
            <a:ext cx="862200" cy="528480"/>
          </a:xfrm>
          <a:custGeom>
            <a:avLst/>
            <a:gdLst/>
            <a:ahLst/>
            <a:rect l="l" t="t" r="r" b="b"/>
            <a:pathLst>
              <a:path w="1087" h="708">
                <a:moveTo>
                  <a:pt x="1087" y="0"/>
                </a:moveTo>
                <a:lnTo>
                  <a:pt x="1085" y="19"/>
                </a:lnTo>
                <a:lnTo>
                  <a:pt x="1083" y="38"/>
                </a:lnTo>
                <a:lnTo>
                  <a:pt x="1081" y="56"/>
                </a:lnTo>
                <a:lnTo>
                  <a:pt x="1079" y="75"/>
                </a:lnTo>
                <a:lnTo>
                  <a:pt x="1075" y="92"/>
                </a:lnTo>
                <a:lnTo>
                  <a:pt x="1071" y="111"/>
                </a:lnTo>
                <a:lnTo>
                  <a:pt x="1068" y="129"/>
                </a:lnTo>
                <a:lnTo>
                  <a:pt x="1062" y="146"/>
                </a:lnTo>
                <a:lnTo>
                  <a:pt x="1056" y="163"/>
                </a:lnTo>
                <a:lnTo>
                  <a:pt x="1048" y="180"/>
                </a:lnTo>
                <a:lnTo>
                  <a:pt x="1043" y="198"/>
                </a:lnTo>
                <a:lnTo>
                  <a:pt x="1033" y="215"/>
                </a:lnTo>
                <a:lnTo>
                  <a:pt x="1025" y="232"/>
                </a:lnTo>
                <a:lnTo>
                  <a:pt x="1016" y="249"/>
                </a:lnTo>
                <a:lnTo>
                  <a:pt x="1006" y="265"/>
                </a:lnTo>
                <a:lnTo>
                  <a:pt x="996" y="282"/>
                </a:lnTo>
                <a:lnTo>
                  <a:pt x="985" y="297"/>
                </a:lnTo>
                <a:lnTo>
                  <a:pt x="975" y="313"/>
                </a:lnTo>
                <a:lnTo>
                  <a:pt x="962" y="330"/>
                </a:lnTo>
                <a:lnTo>
                  <a:pt x="950" y="345"/>
                </a:lnTo>
                <a:lnTo>
                  <a:pt x="937" y="359"/>
                </a:lnTo>
                <a:lnTo>
                  <a:pt x="924" y="374"/>
                </a:lnTo>
                <a:lnTo>
                  <a:pt x="910" y="390"/>
                </a:lnTo>
                <a:lnTo>
                  <a:pt x="895" y="403"/>
                </a:lnTo>
                <a:lnTo>
                  <a:pt x="881" y="418"/>
                </a:lnTo>
                <a:lnTo>
                  <a:pt x="864" y="432"/>
                </a:lnTo>
                <a:lnTo>
                  <a:pt x="849" y="445"/>
                </a:lnTo>
                <a:lnTo>
                  <a:pt x="833" y="459"/>
                </a:lnTo>
                <a:lnTo>
                  <a:pt x="799" y="484"/>
                </a:lnTo>
                <a:lnTo>
                  <a:pt x="762" y="508"/>
                </a:lnTo>
                <a:lnTo>
                  <a:pt x="724" y="531"/>
                </a:lnTo>
                <a:lnTo>
                  <a:pt x="685" y="555"/>
                </a:lnTo>
                <a:lnTo>
                  <a:pt x="645" y="576"/>
                </a:lnTo>
                <a:lnTo>
                  <a:pt x="601" y="595"/>
                </a:lnTo>
                <a:lnTo>
                  <a:pt x="559" y="614"/>
                </a:lnTo>
                <a:lnTo>
                  <a:pt x="513" y="629"/>
                </a:lnTo>
                <a:lnTo>
                  <a:pt x="467" y="645"/>
                </a:lnTo>
                <a:lnTo>
                  <a:pt x="419" y="658"/>
                </a:lnTo>
                <a:lnTo>
                  <a:pt x="369" y="672"/>
                </a:lnTo>
                <a:lnTo>
                  <a:pt x="319" y="681"/>
                </a:lnTo>
                <a:lnTo>
                  <a:pt x="269" y="691"/>
                </a:lnTo>
                <a:lnTo>
                  <a:pt x="215" y="698"/>
                </a:lnTo>
                <a:lnTo>
                  <a:pt x="163" y="702"/>
                </a:lnTo>
                <a:lnTo>
                  <a:pt x="110" y="706"/>
                </a:lnTo>
                <a:lnTo>
                  <a:pt x="54" y="708"/>
                </a:lnTo>
                <a:lnTo>
                  <a:pt x="27" y="708"/>
                </a:lnTo>
                <a:lnTo>
                  <a:pt x="0" y="708"/>
                </a:lnTo>
              </a:path>
            </a:pathLst>
          </a:custGeom>
          <a:noFill/>
          <a:ln w="2556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672240" y="2171880"/>
            <a:ext cx="1416240" cy="1440"/>
          </a:xfrm>
          <a:prstGeom prst="line">
            <a:avLst/>
          </a:prstGeom>
          <a:ln w="255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1646280" y="3860280"/>
            <a:ext cx="1440" cy="71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46280" y="3933720"/>
            <a:ext cx="16970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341520" y="3789000"/>
            <a:ext cx="1800" cy="1350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456400" y="1954080"/>
            <a:ext cx="7704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ff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882280" y="3652920"/>
            <a:ext cx="6530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mp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95800" y="2171880"/>
            <a:ext cx="2476440" cy="1085760"/>
          </a:xfrm>
          <a:custGeom>
            <a:avLst/>
            <a:gdLst/>
            <a:ahLst/>
            <a:rect l="l" t="t" r="r" b="b"/>
            <a:pathLst>
              <a:path w="3120" h="1454">
                <a:moveTo>
                  <a:pt x="0" y="1454"/>
                </a:moveTo>
                <a:lnTo>
                  <a:pt x="2" y="1418"/>
                </a:lnTo>
                <a:lnTo>
                  <a:pt x="4" y="1380"/>
                </a:lnTo>
                <a:lnTo>
                  <a:pt x="10" y="1343"/>
                </a:lnTo>
                <a:lnTo>
                  <a:pt x="17" y="1307"/>
                </a:lnTo>
                <a:lnTo>
                  <a:pt x="25" y="1270"/>
                </a:lnTo>
                <a:lnTo>
                  <a:pt x="37" y="1234"/>
                </a:lnTo>
                <a:lnTo>
                  <a:pt x="50" y="1197"/>
                </a:lnTo>
                <a:lnTo>
                  <a:pt x="63" y="1161"/>
                </a:lnTo>
                <a:lnTo>
                  <a:pt x="81" y="1126"/>
                </a:lnTo>
                <a:lnTo>
                  <a:pt x="98" y="1092"/>
                </a:lnTo>
                <a:lnTo>
                  <a:pt x="119" y="1057"/>
                </a:lnTo>
                <a:lnTo>
                  <a:pt x="140" y="1023"/>
                </a:lnTo>
                <a:lnTo>
                  <a:pt x="165" y="988"/>
                </a:lnTo>
                <a:lnTo>
                  <a:pt x="190" y="955"/>
                </a:lnTo>
                <a:lnTo>
                  <a:pt x="217" y="921"/>
                </a:lnTo>
                <a:lnTo>
                  <a:pt x="246" y="888"/>
                </a:lnTo>
                <a:lnTo>
                  <a:pt x="276" y="856"/>
                </a:lnTo>
                <a:lnTo>
                  <a:pt x="307" y="823"/>
                </a:lnTo>
                <a:lnTo>
                  <a:pt x="342" y="792"/>
                </a:lnTo>
                <a:lnTo>
                  <a:pt x="376" y="762"/>
                </a:lnTo>
                <a:lnTo>
                  <a:pt x="415" y="731"/>
                </a:lnTo>
                <a:lnTo>
                  <a:pt x="451" y="700"/>
                </a:lnTo>
                <a:lnTo>
                  <a:pt x="491" y="672"/>
                </a:lnTo>
                <a:lnTo>
                  <a:pt x="534" y="641"/>
                </a:lnTo>
                <a:lnTo>
                  <a:pt x="576" y="612"/>
                </a:lnTo>
                <a:lnTo>
                  <a:pt x="620" y="585"/>
                </a:lnTo>
                <a:lnTo>
                  <a:pt x="666" y="556"/>
                </a:lnTo>
                <a:lnTo>
                  <a:pt x="712" y="530"/>
                </a:lnTo>
                <a:lnTo>
                  <a:pt x="760" y="503"/>
                </a:lnTo>
                <a:lnTo>
                  <a:pt x="810" y="476"/>
                </a:lnTo>
                <a:lnTo>
                  <a:pt x="862" y="451"/>
                </a:lnTo>
                <a:lnTo>
                  <a:pt x="914" y="426"/>
                </a:lnTo>
                <a:lnTo>
                  <a:pt x="1023" y="378"/>
                </a:lnTo>
                <a:lnTo>
                  <a:pt x="1137" y="332"/>
                </a:lnTo>
                <a:lnTo>
                  <a:pt x="1254" y="290"/>
                </a:lnTo>
                <a:lnTo>
                  <a:pt x="1376" y="247"/>
                </a:lnTo>
                <a:lnTo>
                  <a:pt x="1503" y="211"/>
                </a:lnTo>
                <a:lnTo>
                  <a:pt x="1634" y="175"/>
                </a:lnTo>
                <a:lnTo>
                  <a:pt x="1768" y="144"/>
                </a:lnTo>
                <a:lnTo>
                  <a:pt x="1906" y="115"/>
                </a:lnTo>
                <a:lnTo>
                  <a:pt x="2046" y="88"/>
                </a:lnTo>
                <a:lnTo>
                  <a:pt x="2192" y="65"/>
                </a:lnTo>
                <a:lnTo>
                  <a:pt x="2340" y="46"/>
                </a:lnTo>
                <a:lnTo>
                  <a:pt x="2492" y="29"/>
                </a:lnTo>
                <a:lnTo>
                  <a:pt x="2645" y="17"/>
                </a:lnTo>
                <a:lnTo>
                  <a:pt x="2801" y="8"/>
                </a:lnTo>
                <a:lnTo>
                  <a:pt x="2960" y="2"/>
                </a:lnTo>
                <a:lnTo>
                  <a:pt x="3120" y="0"/>
                </a:lnTo>
              </a:path>
            </a:pathLst>
          </a:custGeom>
          <a:noFill/>
          <a:ln w="2556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40080" y="3262320"/>
            <a:ext cx="862200" cy="528480"/>
          </a:xfrm>
          <a:custGeom>
            <a:avLst/>
            <a:gdLst/>
            <a:ahLst/>
            <a:rect l="l" t="t" r="r" b="b"/>
            <a:pathLst>
              <a:path w="1087" h="708">
                <a:moveTo>
                  <a:pt x="1087" y="0"/>
                </a:moveTo>
                <a:lnTo>
                  <a:pt x="1085" y="19"/>
                </a:lnTo>
                <a:lnTo>
                  <a:pt x="1083" y="38"/>
                </a:lnTo>
                <a:lnTo>
                  <a:pt x="1081" y="56"/>
                </a:lnTo>
                <a:lnTo>
                  <a:pt x="1079" y="75"/>
                </a:lnTo>
                <a:lnTo>
                  <a:pt x="1075" y="92"/>
                </a:lnTo>
                <a:lnTo>
                  <a:pt x="1071" y="111"/>
                </a:lnTo>
                <a:lnTo>
                  <a:pt x="1068" y="129"/>
                </a:lnTo>
                <a:lnTo>
                  <a:pt x="1062" y="146"/>
                </a:lnTo>
                <a:lnTo>
                  <a:pt x="1056" y="163"/>
                </a:lnTo>
                <a:lnTo>
                  <a:pt x="1048" y="180"/>
                </a:lnTo>
                <a:lnTo>
                  <a:pt x="1043" y="198"/>
                </a:lnTo>
                <a:lnTo>
                  <a:pt x="1033" y="215"/>
                </a:lnTo>
                <a:lnTo>
                  <a:pt x="1025" y="232"/>
                </a:lnTo>
                <a:lnTo>
                  <a:pt x="1016" y="249"/>
                </a:lnTo>
                <a:lnTo>
                  <a:pt x="1006" y="265"/>
                </a:lnTo>
                <a:lnTo>
                  <a:pt x="996" y="282"/>
                </a:lnTo>
                <a:lnTo>
                  <a:pt x="985" y="297"/>
                </a:lnTo>
                <a:lnTo>
                  <a:pt x="975" y="313"/>
                </a:lnTo>
                <a:lnTo>
                  <a:pt x="962" y="330"/>
                </a:lnTo>
                <a:lnTo>
                  <a:pt x="950" y="345"/>
                </a:lnTo>
                <a:lnTo>
                  <a:pt x="937" y="359"/>
                </a:lnTo>
                <a:lnTo>
                  <a:pt x="924" y="374"/>
                </a:lnTo>
                <a:lnTo>
                  <a:pt x="910" y="390"/>
                </a:lnTo>
                <a:lnTo>
                  <a:pt x="895" y="403"/>
                </a:lnTo>
                <a:lnTo>
                  <a:pt x="881" y="418"/>
                </a:lnTo>
                <a:lnTo>
                  <a:pt x="864" y="432"/>
                </a:lnTo>
                <a:lnTo>
                  <a:pt x="849" y="445"/>
                </a:lnTo>
                <a:lnTo>
                  <a:pt x="833" y="459"/>
                </a:lnTo>
                <a:lnTo>
                  <a:pt x="799" y="484"/>
                </a:lnTo>
                <a:lnTo>
                  <a:pt x="762" y="508"/>
                </a:lnTo>
                <a:lnTo>
                  <a:pt x="724" y="531"/>
                </a:lnTo>
                <a:lnTo>
                  <a:pt x="685" y="555"/>
                </a:lnTo>
                <a:lnTo>
                  <a:pt x="645" y="576"/>
                </a:lnTo>
                <a:lnTo>
                  <a:pt x="601" y="595"/>
                </a:lnTo>
                <a:lnTo>
                  <a:pt x="559" y="614"/>
                </a:lnTo>
                <a:lnTo>
                  <a:pt x="513" y="629"/>
                </a:lnTo>
                <a:lnTo>
                  <a:pt x="467" y="645"/>
                </a:lnTo>
                <a:lnTo>
                  <a:pt x="419" y="658"/>
                </a:lnTo>
                <a:lnTo>
                  <a:pt x="369" y="672"/>
                </a:lnTo>
                <a:lnTo>
                  <a:pt x="319" y="681"/>
                </a:lnTo>
                <a:lnTo>
                  <a:pt x="269" y="691"/>
                </a:lnTo>
                <a:lnTo>
                  <a:pt x="215" y="698"/>
                </a:lnTo>
                <a:lnTo>
                  <a:pt x="163" y="702"/>
                </a:lnTo>
                <a:lnTo>
                  <a:pt x="110" y="706"/>
                </a:lnTo>
                <a:lnTo>
                  <a:pt x="54" y="708"/>
                </a:lnTo>
                <a:lnTo>
                  <a:pt x="27" y="708"/>
                </a:lnTo>
                <a:lnTo>
                  <a:pt x="0" y="708"/>
                </a:lnTo>
              </a:path>
            </a:pathLst>
          </a:custGeom>
          <a:noFill/>
          <a:ln w="25560">
            <a:solidFill>
              <a:srgbClr val="cc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672240" y="2171880"/>
            <a:ext cx="1416240" cy="1440"/>
          </a:xfrm>
          <a:prstGeom prst="line">
            <a:avLst/>
          </a:prstGeom>
          <a:ln w="255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74600" y="4581360"/>
            <a:ext cx="996804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Pas d’Ag HBs ou Ag HBs très fugace :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 u="sng">
                <a:solidFill>
                  <a:srgbClr val="ffcc00"/>
                </a:solidFill>
                <a:uFillTx/>
                <a:latin typeface="Arial"/>
              </a:rPr>
              <a:t>25 % des donneu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cc00"/>
                </a:solidFill>
                <a:latin typeface="Arial"/>
              </a:rPr>
              <a:t>Don 5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 : anti-HBc - (et Ag HBs -) : FS anti-HB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RR2 = FS anti-HBc  x Ti anti-HBc</a:t>
            </a:r>
            <a:r>
              <a:rPr b="1" lang="fr-FR" sz="16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ffcc00"/>
                </a:solidFill>
                <a:latin typeface="Arial"/>
              </a:rPr>
              <a:t>Don 6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: anti-HBc + (et Ag HBs -) : cas incident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2335320" y="3860280"/>
            <a:ext cx="0" cy="28764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840" y="4148280"/>
            <a:ext cx="788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on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143680" y="3860280"/>
            <a:ext cx="0" cy="28764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714200" y="4148280"/>
            <a:ext cx="788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on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147880" y="6496200"/>
            <a:ext cx="2354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cc"/>
                </a:solidFill>
                <a:latin typeface="Arial"/>
              </a:rPr>
              <a:t>CVV 2005 - 22 11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4237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929628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Risque résiduel : Contexte</a:t>
            </a:r>
            <a:br>
              <a:rPr sz="3200"/>
            </a:b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9906120" cy="515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Risque résiduel (RR)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Taux d'incidence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(FS/36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ais l’incidence n’est estimée </a:t>
            </a: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que chez les donneurs connus, par une méthode classique utilisée dans les cohortes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Taux d'incidenc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= Nb de séroconversions / Nb de Personnes-Anné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Particularité pour le calcul du risque résiduel VHB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: </a:t>
            </a:r>
            <a:r>
              <a:rPr b="1" lang="fr-FR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nécessité d’utiliser un</a:t>
            </a: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 facteur de correction (FC)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our tenir compte du caractère transitoire de l’Ag HB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RR VHB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=  Taux d'incidence Ag HBs</a:t>
            </a: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FC</a:t>
            </a: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FS/365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3 nouvelles approches : </a:t>
            </a: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DGV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(pour VIH et VHC), </a:t>
            </a: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EIA-RI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(pour VIH), prise en compte des </a:t>
            </a: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séroconversions anti-HBc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(pour VHB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066680"/>
            <a:ext cx="10287000" cy="0"/>
          </a:xfrm>
          <a:prstGeom prst="line">
            <a:avLst/>
          </a:prstGeom>
          <a:ln w="316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47880" y="6496200"/>
            <a:ext cx="2354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cc"/>
                </a:solidFill>
                <a:latin typeface="Arial"/>
              </a:rPr>
              <a:t>CVV 2005 - 22 11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4237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14560" y="228600"/>
            <a:ext cx="8057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Risque résiduel  (2002-2004)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Méthode classiq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295280"/>
            <a:ext cx="10287000" cy="0"/>
          </a:xfrm>
          <a:prstGeom prst="line">
            <a:avLst/>
          </a:prstGeom>
          <a:ln w="316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8960" y="2666880"/>
            <a:ext cx="9601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7120" y="2933640"/>
            <a:ext cx="774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VI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34080" y="2819520"/>
            <a:ext cx="13716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,7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0,48 - 1,26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19920" y="2819520"/>
            <a:ext cx="510516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/3 900 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0 - 1/1 000 00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8960" y="4800600"/>
            <a:ext cx="9601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7120" y="5087880"/>
            <a:ext cx="125748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VHB*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8960" y="3683160"/>
            <a:ext cx="9585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34080" y="4952880"/>
            <a:ext cx="13716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,2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0,11 - 1,6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7120" y="3995640"/>
            <a:ext cx="1114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VH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24360" y="3886200"/>
            <a:ext cx="145728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,6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0,35 - 1,05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4240" y="1447920"/>
            <a:ext cx="302076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aux d’incidenc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/10</a:t>
            </a:r>
            <a:r>
              <a:rPr b="1" lang="en-US" sz="2200" spc="-1" strike="noStrike" baseline="30000">
                <a:solidFill>
                  <a:srgbClr val="ffffff"/>
                </a:solidFill>
                <a:latin typeface="Arial"/>
              </a:rPr>
              <a:t>5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-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IC 95 %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86600" y="1447920"/>
            <a:ext cx="259092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Estimation d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isque résiduel (IC 95 %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8960" y="5850000"/>
            <a:ext cx="9601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360" y="5899320"/>
            <a:ext cx="681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ffff99"/>
                </a:solidFill>
                <a:latin typeface="Arial"/>
              </a:rPr>
              <a:t>* </a:t>
            </a:r>
            <a:r>
              <a:rPr b="1" i="1" lang="fr-FR" sz="1600" spc="-1" strike="noStrike">
                <a:solidFill>
                  <a:srgbClr val="ffff99"/>
                </a:solidFill>
                <a:latin typeface="Arial"/>
              </a:rPr>
              <a:t>Avec le facteur de correction : estimation de 6 infections VH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19920" y="3886200"/>
            <a:ext cx="510516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/6 000 00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0 - 1/900 00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4952880"/>
            <a:ext cx="510516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/2 40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00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0 - 1/540 000)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2971800"/>
            <a:ext cx="13716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5105520"/>
            <a:ext cx="182880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Ag HB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00320" y="4038480"/>
            <a:ext cx="14572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1447920"/>
            <a:ext cx="160020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ombre de cas inciden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47880" y="6496200"/>
            <a:ext cx="2354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cc"/>
                </a:solidFill>
                <a:latin typeface="Arial"/>
              </a:rPr>
              <a:t>CVV 2005 - 22 11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4237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" y="1295280"/>
            <a:ext cx="9829800" cy="51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Réévaluation du risque résiduel VIH et VH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DGV (pour VIH et VHC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6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Test d’infection récente EIA-RI (pour VIH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47880" y="6496200"/>
            <a:ext cx="2354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cc"/>
                </a:solidFill>
                <a:latin typeface="Arial"/>
              </a:rPr>
              <a:t>CVV 2005 - 22 11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4237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62120" y="152280"/>
            <a:ext cx="8762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Délais d’apparition des marqueu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219320"/>
            <a:ext cx="10287000" cy="0"/>
          </a:xfrm>
          <a:prstGeom prst="line">
            <a:avLst/>
          </a:prstGeom>
          <a:ln w="316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57200" y="2743200"/>
            <a:ext cx="7863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57200" y="213516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11680" y="213516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49920" y="213516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05920" y="213516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17680" y="3200400"/>
            <a:ext cx="8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2 j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3174840"/>
            <a:ext cx="202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0 j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= gain du DG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31600" y="318924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180 j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2420640" y="1804680"/>
            <a:ext cx="325440" cy="2452680"/>
          </a:xfrm>
          <a:custGeom>
            <a:avLst/>
            <a:gdLst>
              <a:gd name="textAreaLeft" fmla="*/ 208080 w 325440"/>
              <a:gd name="textAreaRight" fmla="*/ 325800 w 325440"/>
              <a:gd name="textAreaTop" fmla="*/ 46800 h 2452680"/>
              <a:gd name="textAreaBottom" fmla="*/ 2405880 h 24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0"/>
                  <a:pt x="10800" y="1319"/>
                </a:cubicBezTo>
                <a:lnTo>
                  <a:pt x="10800" y="9481"/>
                </a:lnTo>
                <a:cubicBezTo>
                  <a:pt x="10800" y="10141"/>
                  <a:pt x="5400" y="10800"/>
                  <a:pt x="0" y="10800"/>
                </a:cubicBezTo>
                <a:cubicBezTo>
                  <a:pt x="5400" y="10800"/>
                  <a:pt x="10800" y="11460"/>
                  <a:pt x="10800" y="12119"/>
                </a:cubicBezTo>
                <a:lnTo>
                  <a:pt x="10800" y="20281"/>
                </a:lnTo>
                <a:cubicBezTo>
                  <a:pt x="10800" y="2094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4599720" y="2078640"/>
            <a:ext cx="325440" cy="1905120"/>
          </a:xfrm>
          <a:custGeom>
            <a:avLst/>
            <a:gdLst>
              <a:gd name="textAreaLeft" fmla="*/ 208080 w 325440"/>
              <a:gd name="textAreaRight" fmla="*/ 325800 w 3254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285840" indent="-28584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7322400" y="1278720"/>
            <a:ext cx="325440" cy="3470400"/>
          </a:xfrm>
          <a:custGeom>
            <a:avLst/>
            <a:gdLst>
              <a:gd name="textAreaLeft" fmla="*/ 208080 w 325440"/>
              <a:gd name="textAreaRight" fmla="*/ 325800 w 325440"/>
              <a:gd name="textAreaTop" fmla="*/ 90360 h 3470400"/>
              <a:gd name="textAreaBottom" fmla="*/ 3380040 h 347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285840" indent="-28584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07720" y="1492200"/>
            <a:ext cx="183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st d’inf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écente (EIA-RI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1492200"/>
            <a:ext cx="9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G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149220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W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460520"/>
            <a:ext cx="17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ébut période infectieu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2503440"/>
            <a:ext cx="774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VI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5105520"/>
            <a:ext cx="990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VH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7467480" y="2666880"/>
            <a:ext cx="152640" cy="152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543440" y="2666880"/>
            <a:ext cx="152280" cy="1526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57200" y="5365800"/>
            <a:ext cx="68374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57200" y="475776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3080" y="475776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170920" y="475776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823000"/>
            <a:ext cx="8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 j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579744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56 j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= gain du DG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2319120" y="4529160"/>
            <a:ext cx="300240" cy="2224080"/>
          </a:xfrm>
          <a:custGeom>
            <a:avLst/>
            <a:gdLst>
              <a:gd name="textAreaLeft" fmla="*/ 191880 w 300240"/>
              <a:gd name="textAreaRight" fmla="*/ 300240 w 300240"/>
              <a:gd name="textAreaTop" fmla="*/ 42480 h 2224080"/>
              <a:gd name="textAreaBottom" fmla="*/ 2181600 h 22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0"/>
                  <a:pt x="10800" y="1319"/>
                </a:cubicBezTo>
                <a:lnTo>
                  <a:pt x="10800" y="9481"/>
                </a:lnTo>
                <a:cubicBezTo>
                  <a:pt x="10800" y="10141"/>
                  <a:pt x="5400" y="10800"/>
                  <a:pt x="0" y="10800"/>
                </a:cubicBezTo>
                <a:cubicBezTo>
                  <a:pt x="5400" y="10800"/>
                  <a:pt x="10800" y="11460"/>
                  <a:pt x="10800" y="12119"/>
                </a:cubicBezTo>
                <a:lnTo>
                  <a:pt x="10800" y="20281"/>
                </a:lnTo>
                <a:cubicBezTo>
                  <a:pt x="10800" y="2094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704560" y="3363120"/>
            <a:ext cx="325440" cy="4572000"/>
          </a:xfrm>
          <a:custGeom>
            <a:avLst/>
            <a:gdLst>
              <a:gd name="textAreaLeft" fmla="*/ 208080 w 325440"/>
              <a:gd name="textAreaRight" fmla="*/ 325800 w 325440"/>
              <a:gd name="textAreaTop" fmla="*/ 119160 h 4572000"/>
              <a:gd name="textAreaBottom" fmla="*/ 4452840 h 457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285840" indent="-28584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4159080"/>
            <a:ext cx="9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G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07040" y="4159080"/>
            <a:ext cx="5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127400"/>
            <a:ext cx="17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ébut période infectieu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147880" y="6496200"/>
            <a:ext cx="2354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cc"/>
                </a:solidFill>
                <a:latin typeface="Arial"/>
              </a:rPr>
              <a:t>CVV 2005 - 22 11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82600" y="3176640"/>
            <a:ext cx="8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68560" y="5805360"/>
            <a:ext cx="8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4237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152280"/>
            <a:ext cx="8762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Estimation des taux d’incid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066680"/>
            <a:ext cx="10287000" cy="0"/>
          </a:xfrm>
          <a:prstGeom prst="line">
            <a:avLst/>
          </a:prstGeom>
          <a:ln w="316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447920"/>
            <a:ext cx="9220320" cy="48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spcBef>
                <a:spcPts val="1749"/>
              </a:spcBef>
              <a:buClr>
                <a:srgbClr val="ffcc00"/>
              </a:buClr>
              <a:buSzPct val="8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A partir du DGV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I VIH =  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Nombre de dons VIH DGV + / Ac –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Nombre total de dons x (10/365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I VHC = 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Nombre de dons VHC DGV + / Ac –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Nombre total de dons x (56/365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276"/>
              </a:spcBef>
              <a:buClr>
                <a:srgbClr val="ffcc00"/>
              </a:buClr>
              <a:buSzPct val="8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A partir du test d’infection récente (EIA-RI)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I VIH =  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Nombre de dons WB + et EIA-RI –_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ombre total de dons x (180/365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47880" y="6496200"/>
            <a:ext cx="2354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cc"/>
                </a:solidFill>
                <a:latin typeface="Arial"/>
              </a:rPr>
              <a:t>CVV 2005 - 22 11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4237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228600"/>
            <a:ext cx="9372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Arial"/>
              </a:rPr>
              <a:t>Estimation des taux d’incidence et des RR </a:t>
            </a:r>
            <a:br>
              <a:rPr sz="3200"/>
            </a:br>
            <a:r>
              <a:rPr b="1" lang="fr-FR" sz="3200" spc="-1" strike="noStrike">
                <a:solidFill>
                  <a:srgbClr val="ffff99"/>
                </a:solidFill>
                <a:latin typeface="Arial"/>
              </a:rPr>
              <a:t>« Méthode DGV », juil 2001 - déc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295280"/>
            <a:ext cx="10287000" cy="0"/>
          </a:xfrm>
          <a:prstGeom prst="line">
            <a:avLst/>
          </a:prstGeom>
          <a:ln w="316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8960" y="2819520"/>
            <a:ext cx="9601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7120" y="3086280"/>
            <a:ext cx="774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VI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2971800"/>
            <a:ext cx="13716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,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0,15 - 3,4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8960" y="4952880"/>
            <a:ext cx="9601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8960" y="3835440"/>
            <a:ext cx="9585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7120" y="4148280"/>
            <a:ext cx="111456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VH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48440" y="4038480"/>
            <a:ext cx="145728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,3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0,14 - 0,94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48400" y="1600200"/>
            <a:ext cx="259092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Estimation d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isque résiduel (IC 95 %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3124080"/>
            <a:ext cx="6098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4191120"/>
            <a:ext cx="6098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1832040"/>
            <a:ext cx="10666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GV 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 –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71800" y="3141720"/>
            <a:ext cx="1447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 634 5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1828800"/>
            <a:ext cx="10670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b d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o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4208400"/>
            <a:ext cx="1447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 634 5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25480" y="1600200"/>
            <a:ext cx="302076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aux d’incidenc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/10</a:t>
            </a:r>
            <a:r>
              <a:rPr b="1" lang="en-US" sz="2200" spc="-1" strike="noStrike" baseline="30000">
                <a:solidFill>
                  <a:srgbClr val="ffffff"/>
                </a:solidFill>
                <a:latin typeface="Arial"/>
              </a:rPr>
              <a:t>5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-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IC 95 %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5257800"/>
            <a:ext cx="556272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Risques</a:t>
            </a:r>
            <a:r>
              <a:rPr b="1" i="1" lang="fr-FR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par la méthode DGV 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Symbol"/>
                <a:ea typeface="Symbol"/>
              </a:rPr>
              <a:t></a:t>
            </a: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Risques par la méthode classiqu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08760" y="3083040"/>
            <a:ext cx="1871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/3 600 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08760" y="4164120"/>
            <a:ext cx="1871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/8 100 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47880" y="6496200"/>
            <a:ext cx="2354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cc"/>
                </a:solidFill>
                <a:latin typeface="Arial"/>
              </a:rPr>
              <a:t>CVV 2005 - 22 11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4237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52280" y="228600"/>
            <a:ext cx="9601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ffff99"/>
                </a:solidFill>
                <a:latin typeface="Arial"/>
              </a:rPr>
              <a:t>Estumation Taux d’incidence du VIH et du RR </a:t>
            </a:r>
            <a:br>
              <a:rPr sz="3200"/>
            </a:br>
            <a:r>
              <a:rPr b="1" lang="fr-FR" sz="3200" spc="-1" strike="noStrike">
                <a:solidFill>
                  <a:srgbClr val="ffff99"/>
                </a:solidFill>
                <a:latin typeface="Arial"/>
              </a:rPr>
              <a:t>« Méthode EIA-RI », 2002 -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295280"/>
            <a:ext cx="10287000" cy="0"/>
          </a:xfrm>
          <a:prstGeom prst="line">
            <a:avLst/>
          </a:prstGeom>
          <a:ln w="316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8960" y="2514600"/>
            <a:ext cx="9601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2590920"/>
            <a:ext cx="1676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Nouvea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donne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64280" y="2666880"/>
            <a:ext cx="13716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,7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0,84 - 3,39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05680" y="2852640"/>
            <a:ext cx="1871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/1 800 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8960" y="4648320"/>
            <a:ext cx="9601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8960" y="3530520"/>
            <a:ext cx="9585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54560" y="3733920"/>
            <a:ext cx="145764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,5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0,28 - 1,14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93120" y="1517760"/>
            <a:ext cx="25905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Estimation d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isque résidu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14600" y="2819520"/>
            <a:ext cx="6098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14600" y="3886200"/>
            <a:ext cx="6098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22600" y="2836800"/>
            <a:ext cx="1447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61 61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1523880"/>
            <a:ext cx="10670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b d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on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3903840"/>
            <a:ext cx="1447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94 22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35520" y="1413000"/>
            <a:ext cx="221328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aux d’inc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/10</a:t>
            </a:r>
            <a:r>
              <a:rPr b="1" lang="en-US" sz="2200" spc="-1" strike="noStrike" baseline="30000">
                <a:solidFill>
                  <a:srgbClr val="ffffff"/>
                </a:solidFill>
                <a:latin typeface="Arial"/>
              </a:rPr>
              <a:t>5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-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IC 95 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5924520"/>
            <a:ext cx="9372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Risque par</a:t>
            </a:r>
            <a:r>
              <a:rPr b="1" i="1" lang="fr-FR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méthode EIA-RI  </a:t>
            </a:r>
            <a:r>
              <a:rPr b="1" lang="fr-FR" sz="2800" spc="-1" strike="noStrike">
                <a:solidFill>
                  <a:srgbClr val="ffcc00"/>
                </a:solidFill>
                <a:latin typeface="Symbol"/>
                <a:ea typeface="Symbol"/>
              </a:rPr>
              <a:t></a:t>
            </a: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  Risque par méthode classiqu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7680" y="3600360"/>
            <a:ext cx="1676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Donneu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conn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82960" y="1517760"/>
            <a:ext cx="16002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fections récent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8960" y="5765760"/>
            <a:ext cx="9601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54560" y="4851360"/>
            <a:ext cx="145764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,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0,48 - 1,26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14600" y="5003640"/>
            <a:ext cx="6098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95680" y="5021280"/>
            <a:ext cx="1447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 755 84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47680" y="4956120"/>
            <a:ext cx="1676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Ensem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05680" y="3875040"/>
            <a:ext cx="1871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/5 300 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04240" y="4956120"/>
            <a:ext cx="18716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/3 600 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147880" y="6496200"/>
            <a:ext cx="2354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ffffcc"/>
                </a:solidFill>
                <a:latin typeface="Arial"/>
              </a:rPr>
              <a:t>CVV 2005 - 22 11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00240" y="2843280"/>
            <a:ext cx="6094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00240" y="3875040"/>
            <a:ext cx="6094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14600" y="1517760"/>
            <a:ext cx="16002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b d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VIH +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00240" y="5013360"/>
            <a:ext cx="6094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3:47:04Z</dcterms:created>
  <dc:creator>RNSP</dc:creator>
  <dc:description/>
  <dc:language>en-US</dc:language>
  <cp:lastModifiedBy>FORMATION</cp:lastModifiedBy>
  <cp:lastPrinted>2002-09-26T15:50:40Z</cp:lastPrinted>
  <dcterms:modified xsi:type="dcterms:W3CDTF">2005-11-22T10:40:12Z</dcterms:modified>
  <cp:revision>650</cp:revision>
  <dc:subject/>
  <dc:title>Aucun titre de diapositive</dc:title>
</cp:coreProperties>
</file>