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6D3A-86A3-4956-A76D-391E7293C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22B4-2FD0-4154-B75E-233D8619D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AD20-479A-43E1-88A3-B94D7EC62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488C-E8C6-4B3C-A548-FA9ED5DD3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98071-BF84-491E-A94E-12C873C98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6B15D-171F-4EDA-A1D0-BD682482E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0797D-E273-43B2-B13B-B276F2D7D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F6537-3294-4E88-9F17-B290598AA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C74CA-A0D5-4ED9-B305-5CBF98DAF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55BD9-D15E-4BA9-AEF7-4C9B35B05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AD3A5-9415-415B-9FFD-652AF8C08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4A84-9467-43DE-82A9-0D662CB86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B5E3E-DB15-4720-8E34-4F7CA331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BA068-DE9F-43DA-A1C6-6F238DE66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54567-B1CD-423C-999D-9C6CAF280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448AD-E245-4E76-9F2F-F94EF43BF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51DD5-2D18-4029-9DC8-F07C440DF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146A-88E6-4974-ACAB-0E20041B9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F4F9-F3A1-4A65-8AB5-7921BE2C5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D265-965C-4F27-A0DA-6BA8E2053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B232-B18E-4182-B3BB-FB014949C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4933-F548-4522-AAE1-EB51B7FC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59DB-C975-4838-8DD2-F5B3FA9DA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CB7C-4A61-42A1-8DF4-0A43305D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948AC-457F-4917-AA21-9823BD74B40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1AC08-0D72-4882-B714-C62B3BCE6A5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8076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Utilisation d’un contrôle de qualité dans les laboratoires de virologie : enquête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06668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0458c"/>
                </a:solidFill>
                <a:latin typeface="Tahoma"/>
              </a:rPr>
              <a:t>F . Le Vacon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0458c"/>
                </a:solidFill>
                <a:latin typeface="Tahoma"/>
              </a:rPr>
              <a:t>EFS Bretagne Renn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CV  Mai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47989-FC04-4FDE-8011-D0C01607CE1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clusions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s règles simples peuvent être mises en place par chacun pour la validation analytique au quotidien 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e COFRAC travaille à établir un guide sur le contrôle de qualité après avoir déjà travaillé sur le guide  « validation des méthodes »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V  Mai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3E64-F5E0-40BE-BBD9-3B58DC25DD0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048120" y="5410080"/>
            <a:ext cx="3124080" cy="609840"/>
          </a:xfrm>
          <a:prstGeom prst="rect">
            <a:avLst/>
          </a:prstGeom>
          <a:solidFill>
            <a:srgbClr val="efea7f"/>
          </a:solidFill>
          <a:ln w="572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ut du laboratoire de sérologi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Wingdings 2"/>
                <a:ea typeface="Wingdings 2"/>
              </a:rPr>
              <a:t>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ésultats validé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éthode semi quantitativ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Quel que soit la taille et la périodicité des séri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579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40458c"/>
                </a:solidFill>
                <a:latin typeface="Wingdings 2"/>
                <a:ea typeface="Wingdings 2"/>
              </a:rPr>
              <a:t>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 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« Contrôle de qualité » qui entre dans la validation analytiqu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67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util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V  Mai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0887-D692-40A0-87B5-A3BC47641A5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ISE EN ŒUV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0458c"/>
                </a:solidFill>
                <a:latin typeface="Tahoma"/>
              </a:rPr>
              <a:t>Validation de méthode (automate – réactif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85000"/>
              </a:lnSpc>
              <a:spcBef>
                <a:spcPts val="55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40458c"/>
                </a:solidFill>
                <a:latin typeface="Tahoma"/>
              </a:rPr>
              <a:t>Répétabilité, </a:t>
            </a:r>
            <a:r>
              <a:rPr b="1" i="1" lang="fr-FR" sz="2200" spc="-1" strike="noStrike" u="sng">
                <a:solidFill>
                  <a:srgbClr val="40458c"/>
                </a:solidFill>
                <a:uFillTx/>
                <a:latin typeface="Tahoma"/>
              </a:rPr>
              <a:t>reproductibilité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85000"/>
              </a:lnSpc>
              <a:spcBef>
                <a:spcPts val="55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40458c"/>
                </a:solidFill>
                <a:latin typeface="Tahoma"/>
              </a:rPr>
              <a:t>Sensibilité, spécificité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85000"/>
              </a:lnSpc>
              <a:spcBef>
                <a:spcPts val="55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40458c"/>
                </a:solidFill>
                <a:latin typeface="Tahoma"/>
              </a:rPr>
              <a:t>Linéarité, seuil de détection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0458c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40458c"/>
                </a:solidFill>
                <a:latin typeface="Tahoma"/>
              </a:rPr>
              <a:t>Peut permettre d’obtenir moyenne et SD sur Témoins et CQI (en attente de publication guides COFRAC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fr-FR" sz="2800" spc="-1" strike="noStrike">
                <a:solidFill>
                  <a:srgbClr val="40458c"/>
                </a:solidFill>
                <a:latin typeface="Tahoma"/>
              </a:rPr>
              <a:t>Lors du processus analytique : utilisation de contrôl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spcBef>
                <a:spcPts val="55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40458c"/>
                </a:solidFill>
                <a:latin typeface="Tahoma"/>
              </a:rPr>
              <a:t>Bornes et règles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0458c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40458c"/>
                </a:solidFill>
                <a:latin typeface="Tahoma"/>
              </a:rPr>
              <a:t>Au sein du COFRAC le groupe de travail a décidé de mettre en œuvre une enquête sur les pratiqu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V  Mai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DFD4-C05C-48EA-94D2-F82D3E9ABCC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Questionnaire : contrôles internes en sérologie viral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0458c"/>
                </a:solidFill>
                <a:latin typeface="Tahoma"/>
              </a:rPr>
              <a:t>Nature de l’échantillon : liquide, lyophilisé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0458c"/>
                </a:solidFill>
                <a:latin typeface="Tahoma"/>
              </a:rPr>
              <a:t>Origine : commerciale (Société), patient(s) (poolés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0458c"/>
                </a:solidFill>
                <a:latin typeface="Tahoma"/>
              </a:rPr>
              <a:t>Paramètres contrôlé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0458c"/>
                </a:solidFill>
                <a:latin typeface="Tahoma"/>
              </a:rPr>
              <a:t>Automates - manu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0458c"/>
                </a:solidFill>
                <a:latin typeface="Tahoma"/>
              </a:rPr>
              <a:t>Fréquen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0458c"/>
                </a:solidFill>
                <a:latin typeface="Tahoma"/>
              </a:rPr>
              <a:t>Stratégie :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0458c"/>
                </a:solidFill>
                <a:latin typeface="Tahoma"/>
              </a:rPr>
              <a:t>Bornes, CV, Écart typ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0458c"/>
                </a:solidFill>
                <a:latin typeface="Tahoma"/>
              </a:rPr>
              <a:t>Pour chaque témoin/contrôle, analyse globa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0458c"/>
                </a:solidFill>
                <a:latin typeface="Tahoma"/>
              </a:rPr>
              <a:t>Remarques et suggestion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V  Mai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6D02-C507-46C0-B939-C2F72EDAC0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éponse à l’Enquête dans 128 Laboratoir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0458c"/>
                </a:solidFill>
                <a:latin typeface="Tahoma"/>
              </a:rPr>
              <a:t>Taux de réponse : 26% (33 laboratoires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0458c"/>
                </a:solidFill>
                <a:latin typeface="Tahoma"/>
              </a:rPr>
              <a:t>Nature de l’échantillon  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0458c"/>
                </a:solidFill>
                <a:latin typeface="Tahoma"/>
              </a:rPr>
              <a:t>Liquide : 94%</a:t>
            </a:r>
            <a:r>
              <a:rPr b="0" lang="fr-FR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40458c"/>
                </a:solidFill>
                <a:latin typeface="Tahoma"/>
              </a:rPr>
              <a:t>Lyophilisé : 6%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0458c"/>
                </a:solidFill>
                <a:latin typeface="Tahoma"/>
              </a:rPr>
              <a:t>Origine 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0458c"/>
                </a:solidFill>
                <a:latin typeface="Tahoma"/>
              </a:rPr>
              <a:t>Patient(s) : 24%  poolés : 21% commerciale:91%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0458c"/>
                </a:solidFill>
                <a:latin typeface="Tahoma"/>
              </a:rPr>
              <a:t>Marqueurs les plus nombreux:VIH,VHB,VH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0458c"/>
                </a:solidFill>
                <a:latin typeface="Tahoma"/>
              </a:rPr>
              <a:t>(sérologie de 18 virus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0458c"/>
                </a:solidFill>
                <a:latin typeface="Tahoma"/>
              </a:rPr>
              <a:t>Automates : (15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0458c"/>
                </a:solidFill>
                <a:latin typeface="Tahoma"/>
              </a:rPr>
              <a:t>Ouvert : 30%  Fermé : 56% Manuelle : 14%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V  Mai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26DB-1758-4810-8124-16311EA72CC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mentair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0458c"/>
                </a:solidFill>
                <a:latin typeface="Tahoma"/>
              </a:rPr>
              <a:t>Taux de réponse encouragean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0458c"/>
                </a:solidFill>
                <a:latin typeface="Tahoma"/>
              </a:rPr>
              <a:t>Nature de l’échantillon : majorité liquid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0458c"/>
                </a:solidFill>
                <a:latin typeface="Tahoma"/>
              </a:rPr>
              <a:t>Origine : ¼ utilise du sérum de patients (au regard des marqueurs testés, prix)(Afssaps et marquage CE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0458c"/>
                </a:solidFill>
                <a:latin typeface="Tahoma"/>
              </a:rPr>
              <a:t>Marqueurs : 18 virus sont appréhendés en sérologie  = volonté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0458c"/>
                </a:solidFill>
                <a:latin typeface="Tahoma"/>
              </a:rPr>
              <a:t>Automates : nombreux mais reste 14% d’utilisation manuelle (système fermé n’apporte pas tout, système ouvert sont un complément, pannes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V  Mai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0722-C7A4-4DF6-B63A-2BA0A7798E1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Enquête dans 128 Laboratoires sur la pratique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des contrôles internes de qualité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réquences 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Quotidienne     : 52%   Hebdomadaire:27%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            Série               : 36%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tratégies 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ornes – SD     : 82%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V%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: 40%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émoin isolé     : 45%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nalyse globale : 67%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V  Mai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A64C-0D9E-4DAE-8B78-C7E40272ECC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mentair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réquenc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ajorité quotidienne, 36 % par séri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7 % hebdomadaire : consigne fabricant ou fréquence des séri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tratégie :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ègles 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Majorité essai de calculer des bornes,40 % utilise le CV : au quotidien 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45% regarde les valeurs de témoins de manière isolé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67% analyse globale : pour chaque série, l’ensemble des témoins et contrôles  n’est sans doute pas utilisé comme moyen de validation analytique du processus. En terme d’analyse globale, la compréhension a été : « au court du temps » 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7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V  Mai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5267-5C08-4815-B1A6-BC7D1FA4CAF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clusio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just">
              <a:lnSpc>
                <a:spcPct val="85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e contrôle de qualité est un outil indispensable à la gestion au quotidien puisque 82% des utilisateurs essaient de mettre en place une stratégie au quotidien et au long court 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2120" indent="-312120" algn="just">
              <a:lnSpc>
                <a:spcPct val="85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es règles de définition des bornes n’apparaissent pas claires à tous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2120" indent="-312120" algn="just">
              <a:lnSpc>
                <a:spcPct val="85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es outils en terme d’échantillons doivent être développés par les fabricants  mais il ne faut pas pas isoler les témoins fabricants de cette gestion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2120" indent="-312120" algn="just">
              <a:lnSpc>
                <a:spcPct val="85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e processus analytique doit être visualisé dans son entier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2120" indent="-312120" algn="just">
              <a:lnSpc>
                <a:spcPct val="85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es outils informatiques adaptés avec extraction des automates permettrait une réactivité en temps réel et une analyse approfondie au long court qui est souvent actuellement difficile et fastidieus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V  Mai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C8B1-253B-472E-815D-6D1F708C58D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1T16:56:07Z</dcterms:created>
  <dc:creator>Françoise Durand</dc:creator>
  <dc:description/>
  <dc:language>en-US</dc:language>
  <cp:lastModifiedBy>Eric POUSSIN</cp:lastModifiedBy>
  <dcterms:modified xsi:type="dcterms:W3CDTF">2004-05-26T18:07:11Z</dcterms:modified>
  <cp:revision>23</cp:revision>
  <dc:subject/>
  <dc:title>CONTRÔLE DE QUALITE</dc:title>
</cp:coreProperties>
</file>