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DDF-A629-4DE8-966F-2B708A66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EFD-6B07-4A3F-B790-FB6B765A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08E-6012-4FC1-9490-7DF4F331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7F2-A006-41E3-AF75-45A46548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F49-1F4B-4522-A936-1E22FA5F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FEB-1298-4C14-88B0-C1E1C9AC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673-91FF-47B8-9DBC-04826ADF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DBB-9CD3-4386-A5AA-26B344D7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458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EF8-02D8-4CA9-9B4A-806C9C4A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C57-ECAF-499E-A929-08AF6A5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667-EF0D-40E4-872D-066E1ECE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097-9441-48F0-A95B-7B7B8EA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8AA7-0358-437B-9C49-135CD95F2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09480"/>
            <a:ext cx="8458200" cy="3115440"/>
          </a:xfrm>
          <a:prstGeom prst="rect">
            <a:avLst/>
          </a:prstGeom>
          <a:solidFill>
            <a:srgbClr val="006666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Les surprises du diagnostic sérologiqu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l ’infection par 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Virus de l’Immunodéficience Huma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5334120"/>
            <a:ext cx="7619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Comic Sans MS"/>
              </a:rPr>
              <a:t>Agnès Gautheret-Dej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ccccff"/>
                </a:solidFill>
                <a:latin typeface="Comic Sans MS"/>
              </a:rPr>
              <a:t>Laboratoire de Virologie, G.H. Pitié-Salpêtrière, Pa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ccccff"/>
                </a:solidFill>
                <a:latin typeface="Comic Sans MS"/>
              </a:rPr>
              <a:t>Laboratoire de Microbiologie, Faculté de Pharmacie Paris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8640" y="324000"/>
            <a:ext cx="8299440" cy="509400"/>
          </a:xfrm>
          <a:prstGeom prst="rect">
            <a:avLst/>
          </a:prstGeom>
          <a:solidFill>
            <a:srgbClr val="0066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Suite prévue </a:t>
            </a:r>
            <a:r>
              <a:rPr b="0" lang="fr-FR" sz="46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2819520"/>
            <a:ext cx="5638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Génotypage en cours à To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4840" y="3048120"/>
            <a:ext cx="118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800" spc="-1" strike="noStrike">
                <a:solidFill>
                  <a:srgbClr val="ff0066"/>
                </a:solidFill>
                <a:latin typeface="Comic Sans MS"/>
              </a:rPr>
              <a:t>...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70560" y="5029200"/>
            <a:ext cx="605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cc66"/>
                </a:solidFill>
                <a:latin typeface="Comic Sans MS"/>
              </a:rPr>
              <a:t>Remerciements à F. Barin et M. Harz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8640" y="725400"/>
            <a:ext cx="8299440" cy="558000"/>
          </a:xfrm>
          <a:prstGeom prst="rect">
            <a:avLst/>
          </a:prstGeom>
          <a:solidFill>
            <a:srgbClr val="0066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ENONCE DU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133720"/>
            <a:ext cx="3298680" cy="3864240"/>
          </a:xfrm>
          <a:prstGeom prst="rect">
            <a:avLst/>
          </a:prstGeom>
          <a:solidFill>
            <a:srgbClr val="006666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9933"/>
                </a:solidFill>
                <a:latin typeface="Comic Sans MS"/>
              </a:rPr>
              <a:t>Février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résultat du test Determine® négatif sur le sang total d ’une patiente suivie en charge virale par la trousse amplicor® (Roche Diagnostic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84840" y="2743200"/>
          <a:ext cx="1969920" cy="29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4840" y="2743200"/>
                    <a:ext cx="1969920" cy="29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858000" y="2743200"/>
          <a:ext cx="13730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743200"/>
                    <a:ext cx="13730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2560" y="1655640"/>
            <a:ext cx="7570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6600"/>
                </a:solidFill>
                <a:latin typeface="Comic Sans MS"/>
              </a:rPr>
              <a:t>Suivi d ’une patiente non infectée par du VIH </a:t>
            </a:r>
            <a:r>
              <a:rPr b="0" lang="fr-FR" sz="3400" spc="-1" strike="noStrike">
                <a:solidFill>
                  <a:srgbClr val="ffffff"/>
                </a:solidFill>
                <a:latin typeface="Comic Sans MS"/>
              </a:rPr>
              <a:t>?!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640" y="446040"/>
            <a:ext cx="8299440" cy="558000"/>
          </a:xfrm>
          <a:prstGeom prst="rect">
            <a:avLst/>
          </a:prstGeom>
          <a:solidFill>
            <a:srgbClr val="0066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ddddd"/>
                </a:solidFill>
                <a:latin typeface="Comic Sans MS"/>
              </a:rPr>
              <a:t>HYPOTHESE N°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9440" y="2606760"/>
            <a:ext cx="7614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Historique du suivi en charge virale VIH  (Roch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10/7/03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&lt;200 copies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15/10/03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&lt;200 copies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29/12/03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&lt;200 copies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19/1/04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&lt;200 copies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16/2/04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&lt;200 copies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22/4/04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&lt;200 copies/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71160" y="3840120"/>
            <a:ext cx="1425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6600"/>
                </a:solidFill>
                <a:latin typeface="Monotype Sorts"/>
                <a:ea typeface="Monotype Sorts"/>
              </a:rPr>
              <a:t>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4191120"/>
            <a:ext cx="7996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cc66"/>
                </a:solidFill>
                <a:latin typeface="Comic Sans MS"/>
              </a:rPr>
              <a:t>Problème d ’identité patient : deux noms proches une seule lettre de diffé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8640" y="446040"/>
            <a:ext cx="8299440" cy="591480"/>
          </a:xfrm>
          <a:prstGeom prst="rect">
            <a:avLst/>
          </a:prstGeom>
          <a:solidFill>
            <a:srgbClr val="0066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ddddd"/>
                </a:solidFill>
                <a:latin typeface="Comic Sans MS"/>
              </a:rPr>
              <a:t>HYPOTHESE N° 1 </a:t>
            </a:r>
            <a:r>
              <a:rPr b="0" lang="fr-FR" sz="6600" spc="-1" strike="noStrike">
                <a:solidFill>
                  <a:srgbClr val="dddddd"/>
                </a:solidFill>
                <a:latin typeface="Comic Sans MS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4920" y="1523880"/>
            <a:ext cx="89179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Historique du diagnostic sérologique dans le laboratoi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10/7/03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Genscreen Plus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Comic Sans MS"/>
              </a:rPr>
              <a:t>ratio 30,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Axsym gO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Comic Sans MS"/>
              </a:rPr>
              <a:t>ratio 6,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Immunocomb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cc66"/>
                </a:solidFill>
                <a:latin typeface="Comic Sans MS"/>
              </a:rPr>
              <a:t>HIV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615040" y="5103720"/>
            <a:ext cx="3980160" cy="1391760"/>
            <a:chOff x="2615040" y="5103720"/>
            <a:chExt cx="3980160" cy="1391760"/>
          </a:xfrm>
        </p:grpSpPr>
        <p:sp>
          <p:nvSpPr>
            <p:cNvPr id="57" name=""/>
            <p:cNvSpPr/>
            <p:nvPr/>
          </p:nvSpPr>
          <p:spPr>
            <a:xfrm>
              <a:off x="2615040" y="6035760"/>
              <a:ext cx="3980160" cy="4597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Determine</a:t>
              </a: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Négat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09120" y="5103360"/>
              <a:ext cx="819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6600"/>
                  </a:solidFill>
                  <a:latin typeface="Wingdings 3"/>
                  <a:ea typeface="Wingdings 3"/>
                </a:rPr>
                <a:t>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12200" y="1905120"/>
            <a:ext cx="654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6600"/>
                </a:solidFill>
                <a:latin typeface="Comic Sans MS"/>
              </a:rPr>
              <a:t>Patiente infectée par un virus atypique 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8640" y="446040"/>
            <a:ext cx="8299440" cy="591480"/>
          </a:xfrm>
          <a:prstGeom prst="rect">
            <a:avLst/>
          </a:prstGeom>
          <a:solidFill>
            <a:srgbClr val="0066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HYPOTHESE N° 2 </a:t>
            </a:r>
            <a:r>
              <a:rPr b="0" lang="fr-FR" sz="66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0" y="3409920"/>
          <a:ext cx="4419720" cy="26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09920"/>
                    <a:ext cx="441972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44360"/>
            <a:ext cx="8991000" cy="6671520"/>
            <a:chOff x="152280" y="144360"/>
            <a:chExt cx="8991000" cy="6671520"/>
          </a:xfrm>
        </p:grpSpPr>
        <p:grpSp>
          <p:nvGrpSpPr>
            <p:cNvPr id="64" name=""/>
            <p:cNvGrpSpPr/>
            <p:nvPr/>
          </p:nvGrpSpPr>
          <p:grpSpPr>
            <a:xfrm>
              <a:off x="152280" y="144360"/>
              <a:ext cx="8991000" cy="6671520"/>
              <a:chOff x="152280" y="144360"/>
              <a:chExt cx="8991000" cy="667152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0200" y="971280"/>
                <a:ext cx="5139720" cy="5292360"/>
                <a:chOff x="2050200" y="971280"/>
                <a:chExt cx="5139720" cy="529236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50200" y="971280"/>
                  <a:ext cx="5139720" cy="529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 txBox="1"/>
                <p:nvPr/>
              </p:nvSpPr>
              <p:spPr>
                <a:xfrm>
                  <a:off x="2050200" y="971280"/>
                  <a:ext cx="5139720" cy="52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anchor="t">
                  <a:norm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ffffff"/>
                    </a:buClr>
                    <a:buFont typeface="Comic Sans MS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2477520" y="14436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Comic Sans MS"/>
                  </a:rPr>
                  <a:t>VIH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10240" y="14436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Comic Sans MS"/>
                  </a:rPr>
                  <a:t>VIH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56320" y="6443280"/>
                <a:ext cx="43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omic Sans MS"/>
                  </a:rPr>
                  <a:t>T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44920" y="644760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omic Sans MS"/>
                  </a:rPr>
                  <a:t>T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16760" y="6447600"/>
                <a:ext cx="43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omic Sans MS"/>
                  </a:rPr>
                  <a:t>T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733360" y="644760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omic Sans MS"/>
                  </a:rPr>
                  <a:t>T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147480" y="64476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omic Sans MS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22320" y="644760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omic Sans MS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210360" y="6447600"/>
                <a:ext cx="30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omic Sans MS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678360" y="644760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omic Sans MS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52200" y="587160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52200" y="459720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52200" y="391140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52200" y="351936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52200" y="302940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52200" y="283320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852200" y="273528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852200" y="244116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852200" y="204912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52200" y="185328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52280" y="5675760"/>
                <a:ext cx="179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Contrôle inter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61000" y="440136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61000" y="371520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161000" y="332352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61000" y="283320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62000" y="263700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cc66"/>
                    </a:solidFill>
                    <a:latin typeface="Comic Sans MS"/>
                  </a:rPr>
                  <a:t>gp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52200" y="263700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61000" y="244116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5360" y="234324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61000" y="214740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6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7560" y="1853280"/>
                <a:ext cx="140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6600"/>
                    </a:solidFill>
                    <a:latin typeface="Comic Sans MS"/>
                  </a:rPr>
                  <a:t>        </a:t>
                </a:r>
                <a:r>
                  <a:rPr b="0" lang="fr-FR" sz="1400" spc="-1" strike="noStrike">
                    <a:solidFill>
                      <a:srgbClr val="ff6600"/>
                    </a:solidFill>
                    <a:latin typeface="Comic Sans MS"/>
                  </a:rPr>
                  <a:t>gp1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42480" y="155916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6600"/>
                    </a:solidFill>
                    <a:latin typeface="Comic Sans MS"/>
                  </a:rPr>
                  <a:t>gp1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87760" y="606744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87760" y="479340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87760" y="400896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187760" y="361728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87760" y="351936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87760" y="253908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87760" y="214740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187760" y="195084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87760" y="273528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44000" y="5871600"/>
                <a:ext cx="179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Contrôle inter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85760" y="459720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65240" y="381312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85760" y="342108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85760" y="3225240"/>
                <a:ext cx="909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85760" y="253908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224496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ffff"/>
                    </a:solidFill>
                    <a:latin typeface="Comic Sans MS"/>
                  </a:rPr>
                  <a:t>p6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950840"/>
                <a:ext cx="140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6600"/>
                    </a:solidFill>
                    <a:latin typeface="Comic Sans MS"/>
                  </a:rPr>
                  <a:t>gp10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657080"/>
                <a:ext cx="9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6600"/>
                    </a:solidFill>
                    <a:latin typeface="Comic Sans MS"/>
                  </a:rPr>
                  <a:t>gp1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337880" y="30290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00"/>
                  </a:solidFill>
                  <a:latin typeface="Comic Sans MS"/>
                </a:rPr>
                <a:t>gp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105520" y="1739880"/>
            <a:ext cx="2027160" cy="60336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53200" y="3225960"/>
            <a:ext cx="2012400" cy="639720"/>
            <a:chOff x="5353200" y="3225960"/>
            <a:chExt cx="2012400" cy="639720"/>
          </a:xfrm>
        </p:grpSpPr>
        <p:sp>
          <p:nvSpPr>
            <p:cNvPr id="121" name=""/>
            <p:cNvSpPr/>
            <p:nvPr/>
          </p:nvSpPr>
          <p:spPr>
            <a:xfrm>
              <a:off x="5353200" y="3262320"/>
              <a:ext cx="1577880" cy="603360"/>
            </a:xfrm>
            <a:prstGeom prst="ellipse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686280" y="3225960"/>
              <a:ext cx="679320" cy="1425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676520" y="2735280"/>
            <a:ext cx="2354040" cy="293760"/>
            <a:chOff x="1676520" y="2735280"/>
            <a:chExt cx="2354040" cy="293760"/>
          </a:xfrm>
        </p:grpSpPr>
        <p:sp>
          <p:nvSpPr>
            <p:cNvPr id="124" name=""/>
            <p:cNvSpPr/>
            <p:nvPr/>
          </p:nvSpPr>
          <p:spPr>
            <a:xfrm>
              <a:off x="2071800" y="2735280"/>
              <a:ext cx="1958760" cy="29376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2833560"/>
              <a:ext cx="374400" cy="0"/>
            </a:xfrm>
            <a:prstGeom prst="line">
              <a:avLst/>
            </a:prstGeom>
            <a:ln w="2844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200" y="152280"/>
            <a:ext cx="8299440" cy="484920"/>
          </a:xfrm>
          <a:prstGeom prst="rect">
            <a:avLst/>
          </a:prstGeom>
          <a:solidFill>
            <a:srgbClr val="0066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dddddd"/>
                </a:solidFill>
                <a:latin typeface="Comic Sans MS"/>
              </a:rPr>
              <a:t>Western-blot HIV1 et HIV2 sur sérum et plas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511280"/>
            <a:ext cx="2049480" cy="75564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8640" y="196920"/>
            <a:ext cx="8299440" cy="880920"/>
          </a:xfrm>
          <a:prstGeom prst="rect">
            <a:avLst/>
          </a:prstGeom>
          <a:solidFill>
            <a:srgbClr val="0066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Sérotypage HIV par le laboratoire de Virologie de Tours (Pr F. Bari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40520" y="3187800"/>
            <a:ext cx="33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dddddd"/>
                </a:solidFill>
                <a:latin typeface="Comic Sans MS"/>
              </a:rPr>
              <a:t>HIV-1 sous-type 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747800"/>
          <a:ext cx="389556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389556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219320"/>
            <a:ext cx="5715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ddddd"/>
                </a:solidFill>
                <a:latin typeface="Comic Sans MS"/>
              </a:rPr>
              <a:t>Patiente d ’origine camerouna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496960"/>
            <a:ext cx="72388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ddddd"/>
                </a:solidFill>
                <a:latin typeface="Comic Sans MS"/>
              </a:rPr>
              <a:t>Bilan stérilité laboratoire de ville en 09/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ddddd"/>
                </a:solidFill>
                <a:latin typeface="Comic Sans MS"/>
              </a:rPr>
              <a:t>Dépistage contrôlé positif en 01/2003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ddddd"/>
                </a:solidFill>
                <a:latin typeface="Comic Sans MS"/>
              </a:rPr>
              <a:t>(Genscreen V2 et Integral Behring) hôpital paris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85960" y="2590920"/>
            <a:ext cx="5452920" cy="3657600"/>
            <a:chOff x="1785960" y="2590920"/>
            <a:chExt cx="5452920" cy="3657600"/>
          </a:xfrm>
        </p:grpSpPr>
        <p:graphicFrame>
          <p:nvGraphicFramePr>
            <p:cNvPr id="135" name=""/>
            <p:cNvGraphicFramePr/>
            <p:nvPr/>
          </p:nvGraphicFramePr>
          <p:xfrm>
            <a:off x="3581280" y="2590920"/>
            <a:ext cx="365760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81280" y="2590920"/>
                      <a:ext cx="365760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 flipV="1">
              <a:off x="1785960" y="4240080"/>
              <a:ext cx="3395520" cy="14796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58640" y="196920"/>
            <a:ext cx="8299440" cy="509400"/>
          </a:xfrm>
          <a:prstGeom prst="rect">
            <a:avLst/>
          </a:prstGeom>
          <a:solidFill>
            <a:srgbClr val="0066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Enquête </a:t>
            </a:r>
            <a:r>
              <a:rPr b="0" lang="fr-FR" sz="46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8640" y="196920"/>
            <a:ext cx="8299440" cy="509400"/>
          </a:xfrm>
          <a:prstGeom prst="rect">
            <a:avLst/>
          </a:prstGeom>
          <a:solidFill>
            <a:srgbClr val="006666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Comic Sans MS"/>
              </a:rPr>
              <a:t>Enquête </a:t>
            </a:r>
            <a:r>
              <a:rPr b="0" lang="fr-FR" sz="46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3800" y="5959440"/>
            <a:ext cx="72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epuis février 2004 : Combivir + Crixivan + Nor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733560" y="4498920"/>
          <a:ext cx="3470040" cy="11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560" y="4498920"/>
                    <a:ext cx="347004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0" y="1143000"/>
            <a:ext cx="9144000" cy="28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dddddd"/>
                </a:solidFill>
                <a:latin typeface="Comic Sans MS"/>
              </a:rPr>
              <a:t>Mise sous </a:t>
            </a:r>
            <a:r>
              <a:rPr b="0" lang="fr-FR" sz="2200" spc="-1" strike="noStrike">
                <a:solidFill>
                  <a:srgbClr val="dddddd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Combivir (3TC + AZT) + Kaletra (lopi + rito) (02/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prise de poids = lipohypertrophie due au Kaletra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=&gt; Combivir + Viramune (NVP) 12/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à J40 : éruption maculopapuleuse, prurigineuse, fébr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allergie probable à la NVP. ALAT et ASAT 5N = 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	</a:t>
            </a:r>
            <a:r>
              <a:rPr b="0" lang="fr-FR" sz="2200" spc="-1" strike="noStrike">
                <a:solidFill>
                  <a:srgbClr val="00cc66"/>
                </a:solidFill>
                <a:latin typeface="Comic Sans MS"/>
              </a:rPr>
              <a:t>hépatite cytolytique =&gt; arrêt des AR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66440" y="6459480"/>
            <a:ext cx="1181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800" spc="-1" strike="noStrike">
                <a:solidFill>
                  <a:srgbClr val="ff0066"/>
                </a:solidFill>
                <a:latin typeface="Comic Sans MS"/>
              </a:rPr>
              <a:t>...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20:23:25Z</dcterms:created>
  <dc:creator>Viro Pitié</dc:creator>
  <dc:description/>
  <dc:language>en-US</dc:language>
  <cp:lastModifiedBy>gautheret-dejean</cp:lastModifiedBy>
  <dcterms:modified xsi:type="dcterms:W3CDTF">2004-05-27T06:04:54Z</dcterms:modified>
  <cp:revision>220</cp:revision>
  <dc:subject/>
  <dc:title>Aucun titre de diapositive</dc:title>
</cp:coreProperties>
</file>