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68B-DA53-49A6-AD59-9B536EC1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02D-973C-42A2-87E0-4100533E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384-03FF-4730-9C04-1387D472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25A-D348-468F-A33B-BCD3E2E4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49A-2E4F-4509-8B87-D5A96B7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F8B-BAD0-472C-AD0C-1340A39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BB0-11F2-47EF-8A91-017B613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0DF-3205-4EC8-A0D4-F3FDE03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586-8CB9-4099-9E9B-E6135A94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4E2-14CA-4209-B099-0244FDA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442-F45D-48BF-98F3-194A9F3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E1D-7C74-4550-AF58-900342E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1B0-9451-4B0F-B850-F0058D1F2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9240" y="304920"/>
            <a:ext cx="8894520" cy="519120"/>
            <a:chOff x="219240" y="304920"/>
            <a:chExt cx="8894520" cy="519120"/>
          </a:xfrm>
        </p:grpSpPr>
        <p:grpSp>
          <p:nvGrpSpPr>
            <p:cNvPr id="6" name=""/>
            <p:cNvGrpSpPr/>
            <p:nvPr/>
          </p:nvGrpSpPr>
          <p:grpSpPr>
            <a:xfrm>
              <a:off x="304920" y="363600"/>
              <a:ext cx="8686440" cy="380160"/>
              <a:chOff x="304920" y="363600"/>
              <a:chExt cx="8686440" cy="380160"/>
            </a:xfrm>
          </p:grpSpPr>
          <p:sp>
            <p:nvSpPr>
              <p:cNvPr id="7" name=""/>
              <p:cNvSpPr/>
              <p:nvPr/>
            </p:nvSpPr>
            <p:spPr>
              <a:xfrm>
                <a:off x="304920" y="553320"/>
                <a:ext cx="8686440" cy="0"/>
              </a:xfrm>
              <a:prstGeom prst="line">
                <a:avLst/>
              </a:prstGeom>
              <a:ln w="12600">
                <a:solidFill>
                  <a:srgbClr val="e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920" y="648360"/>
                <a:ext cx="3358440" cy="0"/>
              </a:xfrm>
              <a:prstGeom prst="line">
                <a:avLst/>
              </a:prstGeom>
              <a:ln w="9360">
                <a:solidFill>
                  <a:srgbClr val="e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32200" y="458640"/>
                <a:ext cx="3359160" cy="0"/>
              </a:xfrm>
              <a:prstGeom prst="line">
                <a:avLst/>
              </a:prstGeom>
              <a:ln w="9360">
                <a:solidFill>
                  <a:srgbClr val="e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4920" y="743760"/>
                <a:ext cx="2084760" cy="0"/>
              </a:xfrm>
              <a:prstGeom prst="line">
                <a:avLst/>
              </a:prstGeom>
              <a:ln w="6480">
                <a:solidFill>
                  <a:srgbClr val="e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906600" y="363600"/>
                <a:ext cx="2084760" cy="0"/>
              </a:xfrm>
              <a:prstGeom prst="line">
                <a:avLst/>
              </a:prstGeom>
              <a:ln w="6480">
                <a:solidFill>
                  <a:srgbClr val="e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8610480" y="304920"/>
              <a:ext cx="503280" cy="338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" name=""/>
            <p:cNvGraphicFramePr/>
            <p:nvPr/>
          </p:nvGraphicFramePr>
          <p:xfrm>
            <a:off x="219240" y="468360"/>
            <a:ext cx="57132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9240" y="468360"/>
                      <a:ext cx="5713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8208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COMPARATIVE STUDY OF TWO TECHNIQUES TO MEASURE HIV-1 VIRAL LOAD IN A FRENCH COMMERCIAL LABORATORY</a:t>
            </a:r>
            <a:r>
              <a:rPr b="1" lang="en-GB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br>
              <a:rPr sz="900"/>
            </a:br>
            <a:r>
              <a:rPr b="1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G. KREPLAK, R. LEGOUGE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br>
              <a:rPr sz="900"/>
            </a:br>
            <a:r>
              <a:rPr b="1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Centre biologique du Chemin Vert, Paris</a:t>
            </a:r>
            <a:r>
              <a:rPr b="1" lang="fr-FR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,</a:t>
            </a:r>
            <a:r>
              <a:rPr b="0" lang="fr-FR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fr-FR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55840" y="3492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6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1240"/>
            <a:ext cx="4191120" cy="58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ABSTRA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Objectives: </a:t>
            </a: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The aim of the study was to compare the performance of the NucliSens EasyQ HIV-1 V1.1 assay (bioMérieux, Boxtel, The Netherlands), a real time NASBA amplification assay for the quantitative determination of HIV-1 RNA in clinical specimen with the Versant HIV-1 RNA 3.0 (bDNA, Bayer Diagnostics) technique routinely used in our laborato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Methods: </a:t>
            </a: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A total of 221 plasma samples were collected from HIV positive / AIDS patients. For each sample, HIV-1 viral load was measured using the NucliSens EasyQ HIV-1 V1.1 assay and the assay we use for routine i.e. Versant HIV-1 RNA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An 8-member calibration panel from Versant was used to check for proper set-up and functioning of both system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Results: </a:t>
            </a: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Concordant results were obtained in 202/221 samples (91.40%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Seventeen results were found to be discordant. Among them, 6 were negative with Versant HIV-1 RNA 3 and quantified with EasyQ HIV-1 V1.1 and 11 were negative with EasyQ HIV-1 V1.1 giving a quantification result with Versant HIV-1 RNA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These discordant results showed very low values of viral load, always inferior to 2.89 log, corresponding to &lt; 776 copies/m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Two EasyQ HIV-1 V1.1 results were considered as invali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The results obtained demonstrate a good correlation between the two techniques for both low and high viral load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Conclusion: </a:t>
            </a: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Analysis of a set of 221 clinical routine samples revealed that EasyQ HIV-1 V1.1 has a comparable performance to the Versant HIV-1 RNA 3 assay used in our laboratory. No difference in quantitation was observed between NucliSens EasyQ HIV-1 and Versant HIV-1 RNA 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cc"/>
                </a:solidFill>
                <a:latin typeface="Arial"/>
                <a:ea typeface="Arial"/>
              </a:rPr>
              <a:t>These performance results would enable us to switch from our routine method to NucliSens EasyQ HIV-1 without any impact on patient follow-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OBJEC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Compare the routine laboratory technique (Versant HIV bdna) with a real-time PCR technique (Nuclisens EasyQ HIV-1) on unselected laboratory samples of patient plasm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Attempt to evaluate the possibility of replacing our current technique with a real-time techniq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EQUIPMENT AND METHO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 Samp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220 samples of plasma collected by our laboratory were analyzed using both techniques in several different sets of analy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Versant: 3 sets of analyses of 84 samp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Nuclisens: 6 sets with samples of different siz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2. Contr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Versant: 1 set of calibration solutions and 3 controls of various levels for each s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Nuclisens: 1 extraction, amplification and calibration control per sample with a calculation of the respective quantities of patient RNA and control RNA using two mathematical algorithms managed by the software of the EASYQ 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. Nucleic acid extra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Versant: ultracentrifugation for one hour to concentrate the volume of HIV-RN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Nuclisens: extractor automated extraction system (bioMérieux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4. Det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Versant: signal amplific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Nuclisens: real-time target amplification and detection by monitoring the target and control kinetics on the EASYQ 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328840"/>
            <a:ext cx="2590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220 plasma samples were tested using both techniqu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Among them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- 107 were positive with both techni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-   94 were negative with both techni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Giving an overall similarity of 91.36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135160"/>
            <a:ext cx="2210040" cy="1703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3774960"/>
            <a:ext cx="457200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Seventeen samples do not match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- Six are negative using the Versant technique, but assayed using the Nuclisens techniq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- Eleven are negative using the Nuclisens technique, but assayed using the Versant techniq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Each sample has a low viral load of always less than 2.89 lo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We hypothesize that these differences may be related to a detection limit for certain subtypes depending on the technique u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Two samples are invalidated by the Nuclisens techniq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The overly low amplification of the control for 1 sample may be explained by the presence of inhibitors.</a:t>
            </a:r>
            <a:r>
              <a:rPr b="0" lang="fr-FR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One is probably linked to the absence of any control being add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  <a:ea typeface="Times New Roman"/>
              </a:rPr>
              <a:t>Two samples whose values were greater than the versant assay technique zone were diluted in negative sera and re-assayed. The results thus obtained are fully comparable to those obtained directly using the Nuclisens technique.</a:t>
            </a:r>
            <a:r>
              <a:rPr b="0" lang="fr-FR" sz="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5613480"/>
            <a:ext cx="4496040" cy="114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CONCLUSION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The performance of both techniques are fully comparable. The Nuclisens technique is extremely fast.</a:t>
            </a:r>
            <a:r>
              <a:rPr b="0" lang="fr-FR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  <a:ea typeface="Times New Roman"/>
              </a:rPr>
              <a:t>Nevertheless, we have retained the routine technique we currently use due to  the fact that the extraction technique is not suited to our daily throughput. Knowing that bioMérieux has launched a new semi-automated extraction system and is developing a fully automated addressing small, medium and large volumes., further studies should be perform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82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uclisens" descr=""/>
          <p:cNvPicPr/>
          <p:nvPr/>
        </p:nvPicPr>
        <p:blipFill>
          <a:blip r:embed="rId2"/>
          <a:stretch/>
        </p:blipFill>
        <p:spPr>
          <a:xfrm>
            <a:off x="5486400" y="803160"/>
            <a:ext cx="2133720" cy="11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8560" y="1943280"/>
            <a:ext cx="173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RESULTS AND DISCU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 de l’é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paraison de 2 techniques de charge virale VI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ioMéri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ucliSens EasyQ HIV-1 temps ré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yer 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rsant HIV-1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h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tude de 221 échantillons d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3 séries sur la technique de routine Vers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6 séries sur la plate-forme Easy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07 positifs avec les 2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94 négatifs avec les 2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17 résultats discordants (  &lt; 776 copies / 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rrelation : 91,36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be de corré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1880" y="1981080"/>
            <a:ext cx="53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erformances des 2 techniques sont entièrement compa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technique NucliSen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emps réel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a été trouvée extrêmement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apide et agréable d’ut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mate Extractor n’est par contre pas adapté au volume du laboratoire (12000 tests par 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uclisens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133720" cy="110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666880" y="2362320"/>
          <a:ext cx="3638520" cy="16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362320"/>
                    <a:ext cx="363852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atériels NucliS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extractor%20image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238480" cy="2514600"/>
          </a:xfrm>
          <a:prstGeom prst="rect">
            <a:avLst/>
          </a:prstGeom>
          <a:ln w="57240">
            <a:solidFill>
              <a:srgbClr val="00cc99"/>
            </a:solidFill>
            <a:miter/>
          </a:ln>
        </p:spPr>
      </p:pic>
      <p:pic>
        <p:nvPicPr>
          <p:cNvPr id="76" name="biomerieux%20-%20028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396252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80880" y="4495680"/>
          <a:ext cx="3619800" cy="21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495680"/>
                    <a:ext cx="36198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uverture" descr=""/>
          <p:cNvPicPr/>
          <p:nvPr/>
        </p:nvPicPr>
        <p:blipFill>
          <a:blip r:embed="rId1"/>
          <a:stretch/>
        </p:blipFill>
        <p:spPr>
          <a:xfrm>
            <a:off x="2303640" y="0"/>
            <a:ext cx="43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33:16Z</dcterms:created>
  <dc:creator>CHENAVMC</dc:creator>
  <dc:description/>
  <dc:language>en-US</dc:language>
  <cp:lastModifiedBy>Eric POUSSIN</cp:lastModifiedBy>
  <dcterms:modified xsi:type="dcterms:W3CDTF">2004-05-26T10:49:23Z</dcterms:modified>
  <cp:revision>35</cp:revision>
  <dc:subject/>
  <dc:title>Présentation PowerPoint</dc:title>
</cp:coreProperties>
</file>