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61A-866D-40FA-85E6-29FCD27C9D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ôle des qu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ace des la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’importance de l’approp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endrier qu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premiers algos très offensifs/à ceux que l’on r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07B-109A-40B5-8A51-ADFFF8A1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AB9-2EC9-4C3F-A096-75696AD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CE0-6E88-4E22-850A-EEBB352C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20F-9C6D-4EA4-99BB-46790B10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BA1-1553-443F-8AA6-54D658C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759-D8E5-4387-89B5-498DEE4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8E1-E363-42A5-800D-ADFDBBE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177-36AF-48CB-BE81-0D3F3AC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502-259E-4EE6-9C62-8D5C1558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3B2-376A-4AC4-B462-9A0A11E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CB1-39B1-4F00-801C-703A3C54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9F7-327F-4B2D-9A83-6793D40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0D7-DD2F-4E67-987E-DB3EAEE5EA0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 des algorithmes appliqués à la qualification biologique des d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H, HTLV, VHC, VH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000" y="6541920"/>
            <a:ext cx="33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oque de virologie de Versailles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371600" cy="62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45291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ude CHUTEAU, Cathy GUITTON, Michèle MANIEZ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cal MO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ablissement Français du s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GV VI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V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42920" y="1413000"/>
          <a:ext cx="68817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8817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3567600" y="5661000"/>
            <a:ext cx="442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ter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montage automatique dès test initial réac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sur un autre tube échantil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F3F-F029-44D8-9BDD-40F06A591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GV VI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42920" y="1413000"/>
          <a:ext cx="70423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7042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359960" y="558972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ter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ratio discriminant &gt; ou = à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E94-4382-4754-A5A6-2483DB02A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gH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543640"/>
            <a:ext cx="813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G calculée sur la base du CV (S-1C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sparition d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sibilité de réintégrer un donneur après un don non-conforme (faux pos de tech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58920" y="1268280"/>
          <a:ext cx="6437160" cy="43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43716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174-A134-4333-92C8-34B20CDEEC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P1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HBc, Ac HT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0920" y="1413000"/>
            <a:ext cx="1944720" cy="35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pistage des Ac (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1989000"/>
            <a:ext cx="2087280" cy="6494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init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2"/>
            <a:endCxn id="173" idx="0"/>
          </p:cNvCxnSpPr>
          <p:nvPr/>
        </p:nvCxnSpPr>
        <p:spPr>
          <a:xfrm flipV="1" rot="10800000">
            <a:off x="4463280" y="1771200"/>
            <a:ext cx="1080" cy="21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3"/>
            <a:endCxn id="176" idx="0"/>
          </p:cNvCxnSpPr>
          <p:nvPr/>
        </p:nvCxnSpPr>
        <p:spPr>
          <a:xfrm>
            <a:off x="5506560" y="2314440"/>
            <a:ext cx="902520" cy="133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5796000" y="3645000"/>
            <a:ext cx="1224000" cy="361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ég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640" y="2637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2924280"/>
            <a:ext cx="2087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pétabilit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double (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2"/>
            <a:endCxn id="178" idx="0"/>
          </p:cNvCxnSpPr>
          <p:nvPr/>
        </p:nvCxnSpPr>
        <p:spPr>
          <a:xfrm flipV="1" rot="10800000">
            <a:off x="4463280" y="2638080"/>
            <a:ext cx="108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8" idx="2"/>
            <a:endCxn id="181" idx="0"/>
          </p:cNvCxnSpPr>
          <p:nvPr/>
        </p:nvCxnSpPr>
        <p:spPr>
          <a:xfrm flipV="1" rot="10800000">
            <a:off x="4463280" y="3426840"/>
            <a:ext cx="1080" cy="14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5579640" y="206064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2"/>
            <a:endCxn id="184" idx="0"/>
          </p:cNvCxnSpPr>
          <p:nvPr/>
        </p:nvCxnSpPr>
        <p:spPr>
          <a:xfrm flipV="1" rot="10800000">
            <a:off x="4463280" y="4076280"/>
            <a:ext cx="1080" cy="35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490920" y="3571920"/>
            <a:ext cx="1944720" cy="5047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64000" y="5084640"/>
            <a:ext cx="180000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ément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435560"/>
            <a:ext cx="180000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 Non confo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 flipV="1" rot="10800000">
            <a:off x="4463280" y="4793760"/>
            <a:ext cx="1080" cy="291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360" y="40766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C7D-ED3C-497A-B863-59111F0B9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1628640"/>
          <a:ext cx="56880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56880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2000" y="2924280"/>
            <a:ext cx="313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ZG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sibilité de réintégrer un donneur après un don non-conforme (faux pos de tech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963-E5B4-44E2-BA95-67946619D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HT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5516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 de Z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268280"/>
          <a:ext cx="6561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6561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3F0-954D-4900-AA5E-C2B729636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remier pas…se veux évolut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as de diminution du niveau de sécurité des pro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Respect accru des don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ntégration de la stratégie diagnos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Facilité de communication entre les laboratoires et les médecins du 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Validation finale programmée en j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Nécessité de modifier la gestion informatique et de reparamétrer tous les algorithmes, d’où un délai de mise en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5B0-8330-4FA7-9B17-FC80CC609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ion des bonnes pratiques (BP) applicables à la transfusion sanguine parue le 10.09.03. opposable au 30 Avril 2004 (Inspe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chapitre relatif à la Qualification Biologique des Dons (Q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action de référentiels par l’EFS complétant les BP (cas des algorithmes, des modalités de mise en œuvre des analys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daction par l’EFS de procédures cadres généralisées à tous les établ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E6D-C5F5-4F63-99E0-D5B0B858EF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xte de révision des algorithm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érentiels rédigés par l’E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llèlement au projet d’informatique 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lonté de la direction de l’E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e harmonisation des pr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e traduction informatique « unique » (paramètrage unique) des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ce stade : présentation du projet retenu par l’EFS ; pas encore de retour dans l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EE0-C39E-45CB-9F06-467A732383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 d’un groupe de travail par le pôle QBD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20720" y="4078440"/>
            <a:ext cx="2808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em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s du grou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ravail 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4222800"/>
            <a:ext cx="2808360" cy="1293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em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ionn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’algorith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3357720"/>
            <a:ext cx="2735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membre du com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pilotage de la 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6021360"/>
            <a:ext cx="7632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responsables de la qualification biologique des d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205000"/>
            <a:ext cx="3166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ité de pilo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3600" y="2924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de liv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2781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2880" y="2997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r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7672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0072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4160" y="558972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AE4-6EF0-4854-B1BE-E60D081BE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viser les algorithmes (tous les marqu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prenant en compte les évolutions des techniques, et des stratégies de QBD (DG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prenant en compte l’expérience acquise depuis la mise en œuvre des premières 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étendant les algorithmes aux conclusions par marqu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rmoniser les informations au donneur via les médecins de prélè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plifier le recueil des données épidémio.(ex : H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D70-D302-4A14-BB74-F1D8E6B27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lgorith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877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ires en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94028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équence pour le 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8720" y="422100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équence pour le 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132000" y="2131920"/>
            <a:ext cx="4104000" cy="3672000"/>
            <a:chOff x="3132000" y="2131920"/>
            <a:chExt cx="4104000" cy="3672000"/>
          </a:xfrm>
        </p:grpSpPr>
        <p:sp>
          <p:nvSpPr>
            <p:cNvPr id="80" name=""/>
            <p:cNvSpPr/>
            <p:nvPr/>
          </p:nvSpPr>
          <p:spPr>
            <a:xfrm>
              <a:off x="3851280" y="2131920"/>
              <a:ext cx="1944720" cy="358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épis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0000" y="2708280"/>
              <a:ext cx="2087280" cy="6490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est init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éact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"/>
            <p:cNvCxnSpPr>
              <a:stCxn id="80" idx="2"/>
              <a:endCxn id="81" idx="0"/>
            </p:cNvCxnSpPr>
            <p:nvPr/>
          </p:nvCxnSpPr>
          <p:spPr>
            <a:xfrm flipV="1" rot="10800000">
              <a:off x="4823640" y="2490480"/>
              <a:ext cx="1080" cy="21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1" idx="3"/>
              <a:endCxn id="84" idx="0"/>
            </p:cNvCxnSpPr>
            <p:nvPr/>
          </p:nvCxnSpPr>
          <p:spPr>
            <a:xfrm>
              <a:off x="5866920" y="3033360"/>
              <a:ext cx="686520" cy="132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5940360" y="4362480"/>
              <a:ext cx="1224000" cy="361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égat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28000" y="33559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80000" y="3643200"/>
              <a:ext cx="208728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épétabil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81" idx="2"/>
              <a:endCxn id="86" idx="0"/>
            </p:cNvCxnSpPr>
            <p:nvPr/>
          </p:nvCxnSpPr>
          <p:spPr>
            <a:xfrm flipV="1" rot="10800000">
              <a:off x="4823640" y="3357000"/>
              <a:ext cx="1080" cy="286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2"/>
              <a:endCxn id="89" idx="0"/>
            </p:cNvCxnSpPr>
            <p:nvPr/>
          </p:nvCxnSpPr>
          <p:spPr>
            <a:xfrm flipV="1" rot="10800000">
              <a:off x="4823640" y="4145760"/>
              <a:ext cx="1080" cy="144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" name=""/>
            <p:cNvSpPr/>
            <p:nvPr/>
          </p:nvSpPr>
          <p:spPr>
            <a:xfrm>
              <a:off x="5940000" y="277956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89" idx="2"/>
              <a:endCxn id="92" idx="0"/>
            </p:cNvCxnSpPr>
            <p:nvPr/>
          </p:nvCxnSpPr>
          <p:spPr>
            <a:xfrm rot="5400000">
              <a:off x="4679280" y="4938840"/>
              <a:ext cx="288000" cy="2160"/>
            </a:xfrm>
            <a:prstGeom prst="bentConnector3">
              <a:avLst>
                <a:gd name="adj1" fmla="val 496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851280" y="4290840"/>
              <a:ext cx="1944720" cy="5050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e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56360" y="47959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22560" y="5083200"/>
              <a:ext cx="1800360" cy="503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s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lément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32000" y="213192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6000" y="213192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53280" y="3303360"/>
              <a:ext cx="459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332000" y="4797360"/>
            <a:ext cx="172728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4076640"/>
            <a:ext cx="172728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213000"/>
            <a:ext cx="129708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5661000"/>
            <a:ext cx="432108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503-18BA-4E17-9777-127952CC87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9217080" cy="288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300640"/>
            <a:ext cx="84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Code 2 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Le code réservé à la réintégration des donneurs après 1 premier don non confor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689-E91D-4C7B-8753-EABB54C6A8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lgorith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g HBs, AcVIH, Ac V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280" y="1916280"/>
            <a:ext cx="4824000" cy="4320720"/>
            <a:chOff x="179280" y="1916280"/>
            <a:chExt cx="4824000" cy="4320720"/>
          </a:xfrm>
        </p:grpSpPr>
        <p:sp>
          <p:nvSpPr>
            <p:cNvPr id="107" name=""/>
            <p:cNvSpPr/>
            <p:nvPr/>
          </p:nvSpPr>
          <p:spPr>
            <a:xfrm>
              <a:off x="1897200" y="1916280"/>
              <a:ext cx="1784880" cy="330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épistage des Ac (T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31320" y="2448000"/>
              <a:ext cx="1915920" cy="5994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est init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éa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7" idx="2"/>
              <a:endCxn id="108" idx="0"/>
            </p:cNvCxnSpPr>
            <p:nvPr/>
          </p:nvCxnSpPr>
          <p:spPr>
            <a:xfrm flipV="1" rot="10800000">
              <a:off x="2789640" y="2246760"/>
              <a:ext cx="1080" cy="201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08" idx="3"/>
            </p:cNvCxnSpPr>
            <p:nvPr/>
          </p:nvCxnSpPr>
          <p:spPr>
            <a:xfrm>
              <a:off x="3747240" y="2748240"/>
              <a:ext cx="825480" cy="2455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1" name=""/>
            <p:cNvSpPr/>
            <p:nvPr/>
          </p:nvSpPr>
          <p:spPr>
            <a:xfrm>
              <a:off x="3880080" y="5174280"/>
              <a:ext cx="1123200" cy="334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éga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7120" y="307116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1320" y="3311640"/>
              <a:ext cx="1915920" cy="46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épétabilit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n double (T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>
              <a:stCxn id="108" idx="2"/>
              <a:endCxn id="113" idx="0"/>
            </p:cNvCxnSpPr>
            <p:nvPr/>
          </p:nvCxnSpPr>
          <p:spPr>
            <a:xfrm flipV="1" rot="10800000">
              <a:off x="2789640" y="3047040"/>
              <a:ext cx="1080" cy="264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1764360" y="4640760"/>
              <a:ext cx="2049840" cy="33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isa (T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13" idx="2"/>
              <a:endCxn id="117" idx="0"/>
            </p:cNvCxnSpPr>
            <p:nvPr/>
          </p:nvCxnSpPr>
          <p:spPr>
            <a:xfrm rot="5400000">
              <a:off x="2722320" y="3841920"/>
              <a:ext cx="133560" cy="1800"/>
            </a:xfrm>
            <a:prstGeom prst="bentConnector3">
              <a:avLst>
                <a:gd name="adj1" fmla="val 494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3814560" y="254016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97200" y="5105520"/>
              <a:ext cx="1784880" cy="4662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e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"/>
            <p:cNvCxnSpPr>
              <a:stCxn id="117" idx="1"/>
              <a:endCxn id="121" idx="0"/>
            </p:cNvCxnSpPr>
            <p:nvPr/>
          </p:nvCxnSpPr>
          <p:spPr>
            <a:xfrm flipV="1" rot="10800000">
              <a:off x="970920" y="4142160"/>
              <a:ext cx="793080" cy="1031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7" idx="2"/>
              <a:endCxn id="115" idx="0"/>
            </p:cNvCxnSpPr>
            <p:nvPr/>
          </p:nvCxnSpPr>
          <p:spPr>
            <a:xfrm flipH="1" rot="16200000">
              <a:off x="2656080" y="4507200"/>
              <a:ext cx="265680" cy="1800"/>
            </a:xfrm>
            <a:prstGeom prst="bentConnector3">
              <a:avLst>
                <a:gd name="adj1" fmla="val 496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19" idx="3"/>
              <a:endCxn id="111" idx="1"/>
            </p:cNvCxnSpPr>
            <p:nvPr/>
          </p:nvCxnSpPr>
          <p:spPr>
            <a:xfrm>
              <a:off x="3681720" y="5338440"/>
              <a:ext cx="19836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2427120" y="44002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4360" y="3909600"/>
              <a:ext cx="2048400" cy="4658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e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15" idx="2"/>
              <a:endCxn id="119" idx="0"/>
            </p:cNvCxnSpPr>
            <p:nvPr/>
          </p:nvCxnSpPr>
          <p:spPr>
            <a:xfrm flipV="1" rot="10800000">
              <a:off x="2789640" y="4971960"/>
              <a:ext cx="1080" cy="133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9" idx="1"/>
              <a:endCxn id="121" idx="3"/>
            </p:cNvCxnSpPr>
            <p:nvPr/>
          </p:nvCxnSpPr>
          <p:spPr>
            <a:xfrm rot="10800000">
              <a:off x="1698120" y="5337720"/>
              <a:ext cx="1987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>
              <a:off x="1369440" y="393588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0280" y="506736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80" y="5772600"/>
              <a:ext cx="1585080" cy="46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lémenta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440" y="5172840"/>
              <a:ext cx="1454040" cy="331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n Non confor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21" idx="2"/>
              <a:endCxn id="129" idx="0"/>
            </p:cNvCxnSpPr>
            <p:nvPr/>
          </p:nvCxnSpPr>
          <p:spPr>
            <a:xfrm flipV="1" rot="10800000">
              <a:off x="970920" y="5504040"/>
              <a:ext cx="1080" cy="26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1" name=""/>
            <p:cNvSpPr/>
            <p:nvPr/>
          </p:nvSpPr>
          <p:spPr>
            <a:xfrm>
              <a:off x="3531960" y="50864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5600" y="1413000"/>
            <a:ext cx="30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P1 : Ag HBs, AcVIH, Ac V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48360" y="1844640"/>
            <a:ext cx="3744360" cy="3889080"/>
            <a:chOff x="5148360" y="1844640"/>
            <a:chExt cx="3744360" cy="3889080"/>
          </a:xfrm>
        </p:grpSpPr>
        <p:sp>
          <p:nvSpPr>
            <p:cNvPr id="134" name=""/>
            <p:cNvSpPr/>
            <p:nvPr/>
          </p:nvSpPr>
          <p:spPr>
            <a:xfrm>
              <a:off x="6191640" y="1844640"/>
              <a:ext cx="1657800" cy="345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épistage des Ac (T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0440" y="2400120"/>
              <a:ext cx="1779480" cy="6264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Test initi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éa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34" idx="2"/>
              <a:endCxn id="135" idx="0"/>
            </p:cNvCxnSpPr>
            <p:nvPr/>
          </p:nvCxnSpPr>
          <p:spPr>
            <a:xfrm flipV="1" rot="10800000">
              <a:off x="7020360" y="2189880"/>
              <a:ext cx="1080" cy="210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4" idx="3"/>
              <a:endCxn id="138" idx="0"/>
            </p:cNvCxnSpPr>
            <p:nvPr/>
          </p:nvCxnSpPr>
          <p:spPr>
            <a:xfrm>
              <a:off x="7849440" y="2017440"/>
              <a:ext cx="522720" cy="2259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7849440" y="4276080"/>
              <a:ext cx="1043280" cy="349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éga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85200" y="305136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30440" y="3302280"/>
              <a:ext cx="1779480" cy="4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épétabilité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n double (T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35" idx="2"/>
              <a:endCxn id="140" idx="0"/>
            </p:cNvCxnSpPr>
            <p:nvPr/>
          </p:nvCxnSpPr>
          <p:spPr>
            <a:xfrm flipV="1" rot="10800000">
              <a:off x="7020360" y="3025800"/>
              <a:ext cx="1080" cy="27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6068520" y="4691160"/>
              <a:ext cx="19036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es complémenta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40" idx="2"/>
              <a:endCxn id="144" idx="0"/>
            </p:cNvCxnSpPr>
            <p:nvPr/>
          </p:nvCxnSpPr>
          <p:spPr>
            <a:xfrm rot="5400000">
              <a:off x="6950160" y="3856680"/>
              <a:ext cx="139680" cy="1800"/>
            </a:xfrm>
            <a:prstGeom prst="bentConnector3">
              <a:avLst>
                <a:gd name="adj1" fmla="val 493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7972920" y="249516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"/>
            <p:cNvCxnSpPr>
              <a:stCxn id="142" idx="1"/>
              <a:endCxn id="147" idx="0"/>
            </p:cNvCxnSpPr>
            <p:nvPr/>
          </p:nvCxnSpPr>
          <p:spPr>
            <a:xfrm flipV="1" rot="10800000">
              <a:off x="5669640" y="4865400"/>
              <a:ext cx="398520" cy="521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4" idx="2"/>
              <a:endCxn id="142" idx="0"/>
            </p:cNvCxnSpPr>
            <p:nvPr/>
          </p:nvCxnSpPr>
          <p:spPr>
            <a:xfrm flipH="1" rot="16200000">
              <a:off x="6846840" y="4517280"/>
              <a:ext cx="346320" cy="180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7972920" y="38152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68520" y="3926880"/>
              <a:ext cx="1902600" cy="4179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e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2" idx="2"/>
              <a:endCxn id="151" idx="0"/>
            </p:cNvCxnSpPr>
            <p:nvPr/>
          </p:nvCxnSpPr>
          <p:spPr>
            <a:xfrm flipV="1" rot="10800000">
              <a:off x="7020360" y="5037840"/>
              <a:ext cx="1080" cy="34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6623280" y="436932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48360" y="5386320"/>
              <a:ext cx="1043280" cy="347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étermin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75600" y="5386320"/>
              <a:ext cx="1289520" cy="347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i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1480" y="4136760"/>
              <a:ext cx="36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439600" y="141300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P 2003 : Ag HBs, AcVIH, Ac V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F54-1ABC-4F18-AF40-C078C72431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gorithmes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retenus 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VIH, AcV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628640"/>
          <a:ext cx="752184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752184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139280" y="5299200"/>
            <a:ext cx="434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ment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G calculée sur la base du CV (S-1C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rition de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u DG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sitionnement de l’exploration bi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FAA-5BB3-40A6-9273-40508D72C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7:01:18Z</dcterms:created>
  <dc:creator>Pascal Morel</dc:creator>
  <dc:description/>
  <dc:language>en-US</dc:language>
  <cp:lastModifiedBy>efs_BFC</cp:lastModifiedBy>
  <dcterms:modified xsi:type="dcterms:W3CDTF">2004-05-27T07:08:05Z</dcterms:modified>
  <cp:revision>104</cp:revision>
  <dc:subject/>
  <dc:title>Diapositive 1</dc:title>
</cp:coreProperties>
</file>