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82A-D805-491A-BDA9-5A8EF54C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D77-1A94-4455-B317-7A970702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8D3-D733-4EE7-8BF2-11E84F7D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C63-4930-4057-8B74-C0949CE7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2DA-54C5-4026-8D87-D9AA32D7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AF2-6671-4880-9DBB-373374C0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10E-F6E9-4522-B2B7-C599F236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C3F-436E-45F9-AD5E-C5448B1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10A-6464-4F83-B800-732250AF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095-6ACA-4F6C-BD0B-24E3A5B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DC6-1DBF-49A1-BFB7-D775A15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2FD-F31C-4F26-86F3-32BF130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CF6C-54D9-4668-9CA6-3C1D6E8E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914400"/>
            <a:ext cx="883944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320" y="1114560"/>
            <a:ext cx="9372600" cy="49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3399"/>
                </a:solidFill>
                <a:latin typeface="Comic Sans MS"/>
              </a:rPr>
              <a:t>CONTROLE DE QUALITE MULTICENTRIQU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3399"/>
                </a:solidFill>
                <a:latin typeface="Comic Sans MS"/>
              </a:rPr>
              <a:t>DE LA DETECTION DE L’ARN DU VIRUS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3399"/>
                </a:solidFill>
                <a:latin typeface="Comic Sans MS"/>
              </a:rPr>
              <a:t>L’HEPATITE C DANS LE PLASMA SEM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Times New Roman"/>
              </a:rPr>
              <a:t>Thomas Bour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boratoire de Virologi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ôpital Nord, CHU de Saint-Et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roupe Hépatite C, AC-11, A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8504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"/>
          <p:cNvSpPr/>
          <p:nvPr/>
        </p:nvSpPr>
        <p:spPr>
          <a:xfrm>
            <a:off x="406440" y="1981080"/>
            <a:ext cx="8343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alyse par protocole d’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érification des zones grises et des ininterpré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ésultats faussement positifs et inhib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ore de résultats corrects : sur 5 (0, 50, 100, 500, 1000 UI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MA et L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2947320" y="4190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Exploitation des 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"/>
          <p:cNvSpPr/>
          <p:nvPr/>
        </p:nvSpPr>
        <p:spPr>
          <a:xfrm>
            <a:off x="227160" y="2471760"/>
            <a:ext cx="1201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1428840" y="24717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1433520" y="2471760"/>
            <a:ext cx="542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1976400" y="24717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1981080" y="2471760"/>
            <a:ext cx="103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>
            <a:off x="2084400" y="24717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>
            <a:off x="2089080" y="2471760"/>
            <a:ext cx="196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>
            <a:off x="4051440" y="24717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>
            <a:off x="4056120" y="2471760"/>
            <a:ext cx="152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>
            <a:off x="5580000" y="2471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>
            <a:off x="5586480" y="2471760"/>
            <a:ext cx="1415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>
            <a:off x="7002360" y="2471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008840" y="2471760"/>
            <a:ext cx="1305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>
            <a:off x="8313840" y="24717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8319960" y="2471760"/>
            <a:ext cx="649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1581120" y="6018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2128680" y="601812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2236680" y="601812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203720" y="6018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810000" y="203040"/>
            <a:ext cx="77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Répartition des résultats positifs (%) par technique d’extraction</a:t>
            </a:r>
            <a:r>
              <a:rPr b="0" lang="fr-FR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4051440" y="23018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8313840" y="2301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5580000" y="65008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7002360" y="65008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8313840" y="65008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122040" y="65070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0" y="1295280"/>
            <a:ext cx="38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remière manipulation -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GZR : 0,15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76320" y="1689120"/>
            <a:ext cx="9067680" cy="47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2047320" y="19112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4134240" y="1981080"/>
            <a:ext cx="315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mic Sans MS"/>
              </a:rPr>
              <a:t>Concentration d’ARN HCV (UI/m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6938640" y="19112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428840" y="19051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844200" y="19112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844200" y="22478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453960" y="2579760"/>
            <a:ext cx="84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Extra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215720" y="257976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1708200" y="1908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1708200" y="2232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1603080" y="255096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1809720" y="25509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2047320" y="230832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3075120" y="2305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2988360" y="26290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161880" y="26226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4822920" y="2305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4737600" y="262908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4920840" y="26258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>
            <a:off x="6297480" y="2305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6167520" y="262908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6436800" y="26258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661160" y="2305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7534440" y="2629080"/>
            <a:ext cx="28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7790040" y="26319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8645400" y="2305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8475480" y="262908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8815320" y="2629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2084400" y="2301840"/>
            <a:ext cx="196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4056120" y="2301840"/>
            <a:ext cx="152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5580000" y="2301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5580000" y="2301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5580000" y="2301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5586480" y="2301840"/>
            <a:ext cx="1415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7002360" y="2301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7008840" y="2301840"/>
            <a:ext cx="1305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8313840" y="2301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8313840" y="2301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8319960" y="2301840"/>
            <a:ext cx="649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1428840" y="295416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8313840" y="29541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844200" y="29606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439920" y="3294000"/>
            <a:ext cx="95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Roche typ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349200" y="3630600"/>
            <a:ext cx="107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ultrasensi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0" name=""/>
          <p:cNvSpPr/>
          <p:nvPr/>
        </p:nvSpPr>
        <p:spPr>
          <a:xfrm>
            <a:off x="1287000" y="36306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1708200" y="2957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2" name=""/>
          <p:cNvSpPr/>
          <p:nvPr/>
        </p:nvSpPr>
        <p:spPr>
          <a:xfrm>
            <a:off x="1708200" y="327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3" name=""/>
          <p:cNvSpPr/>
          <p:nvPr/>
        </p:nvSpPr>
        <p:spPr>
          <a:xfrm>
            <a:off x="1622880" y="360216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1806120" y="35942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8645400" y="2957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8645400" y="327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8560440" y="3602160"/>
            <a:ext cx="2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8774280" y="3602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8461080" y="392112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>
            <a:off x="8840160" y="39178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>
            <a:off x="844200" y="42480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327240" y="458316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Microco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982440" y="4583160"/>
            <a:ext cx="49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on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25160" y="458316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708200" y="4245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1662840" y="4567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174960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8645400" y="4245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8602200" y="456732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872964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8461080" y="488808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8826480" y="4888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44200" y="521496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470520" y="5546880"/>
            <a:ext cx="80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NucliSe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1185480" y="55468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844200" y="588312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1708200" y="5211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1662840" y="5533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749600" y="5533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2047320" y="29606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3075120" y="2957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3075120" y="327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3030120" y="3602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3159000" y="3602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2910240" y="3921120"/>
            <a:ext cx="36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6,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3235320" y="392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3075120" y="4245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029760" y="4567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311472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2953440" y="4888080"/>
            <a:ext cx="27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3193920" y="4888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3075120" y="5211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3030120" y="553068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3159000" y="5530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2973960" y="58546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3184200" y="58482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4822920" y="2957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4822920" y="327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4777920" y="3602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4906800" y="3602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4658040" y="3921120"/>
            <a:ext cx="36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6,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4983120" y="392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4822920" y="4245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4777920" y="456732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490680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4723200" y="48880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4919760" y="48848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>
            <a:off x="4822920" y="5211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777560" y="55306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863960" y="5530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4681800" y="58546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2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4976280" y="58514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6297480" y="2957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6297480" y="327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>
            <a:off x="6252840" y="360216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6381720" y="3602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6196680" y="392112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6392880" y="392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6297480" y="4245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6252840" y="456732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638172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6177600" y="4888080"/>
            <a:ext cx="27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 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6416640" y="4888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6297480" y="5211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6252840" y="553068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6381720" y="5530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6196680" y="58546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6406560" y="58482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7661160" y="29574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7661160" y="3278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>
            <a:off x="7576200" y="360216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>
            <a:off x="7745400" y="3602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7434360" y="392112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86,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7888320" y="392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7661160" y="4245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7619400" y="4567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770400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7748640" y="4567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7455960" y="48880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7511040" y="4888080"/>
            <a:ext cx="33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77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808400" y="4888080"/>
            <a:ext cx="11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7864560" y="48880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661160" y="5211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7619400" y="55306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7704000" y="5530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7478280" y="585468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7857720" y="585144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8645400" y="52117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8602200" y="5533920"/>
            <a:ext cx="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>
            <a:off x="8729640" y="5533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8461080" y="585468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8826480" y="5854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8645400" y="6176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5580000" y="65008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7002360" y="65008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7002360" y="65008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8313840" y="65008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8313840" y="65008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898560" y="585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228600" y="63244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228600" y="30481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228600" y="1828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"/>
          <p:cNvSpPr/>
          <p:nvPr/>
        </p:nvSpPr>
        <p:spPr>
          <a:xfrm>
            <a:off x="1581120" y="6151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2124000" y="6151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4181400" y="6151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5697360" y="6151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7107120" y="6151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8407440" y="6151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88920" y="1676520"/>
            <a:ext cx="8902800" cy="47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2043360" y="18352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4109400" y="1835280"/>
            <a:ext cx="29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oncentration d’ARN HCV (UI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6892560" y="183528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239760" y="1752480"/>
            <a:ext cx="11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239760" y="1752480"/>
            <a:ext cx="118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1428840" y="1752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1428840" y="17524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1428840" y="175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434960" y="1752480"/>
            <a:ext cx="53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434960" y="1752480"/>
            <a:ext cx="53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71720" y="1752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1971720" y="17524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1971720" y="175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1978200" y="1752480"/>
            <a:ext cx="10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>
            <a:off x="1978200" y="1752480"/>
            <a:ext cx="10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79720" y="17524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2079720" y="175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2084400" y="1752480"/>
            <a:ext cx="6819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2084400" y="1752480"/>
            <a:ext cx="681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849600" y="18352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849600" y="216072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462960" y="2484360"/>
            <a:ext cx="7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x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1216440" y="24843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1706400" y="18320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1706400" y="2146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1601280" y="24559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1807920" y="24559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2043360" y="22208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3060360" y="221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2976840" y="25304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3147840" y="25239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4794120" y="221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4708800" y="25304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4891320" y="25272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>
            <a:off x="6256080" y="221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6127560" y="25304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6393240" y="25272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7607160" y="221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7481520" y="25304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7734240" y="25336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>
            <a:off x="8583480" y="2217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8414640" y="25304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8751600" y="2530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2079720" y="2214720"/>
            <a:ext cx="1949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2079720" y="2214720"/>
            <a:ext cx="19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4029120" y="2214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4029120" y="22147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4029120" y="22147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4033800" y="2214720"/>
            <a:ext cx="1511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4033800" y="2214720"/>
            <a:ext cx="151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545080" y="2214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5545080" y="22147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5545080" y="22147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5551560" y="2214720"/>
            <a:ext cx="1403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5551560" y="2214720"/>
            <a:ext cx="140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6954840" y="2214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6954840" y="22147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6954840" y="22147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6961320" y="2214720"/>
            <a:ext cx="1293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961320" y="2214720"/>
            <a:ext cx="129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8255160" y="2214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8255160" y="22147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8255160" y="22147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8259840" y="2214720"/>
            <a:ext cx="644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8259840" y="2214720"/>
            <a:ext cx="64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39760" y="2847960"/>
            <a:ext cx="11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39760" y="2847960"/>
            <a:ext cx="118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1428840" y="28479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1428840" y="2847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>
            <a:off x="1428840" y="284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1434960" y="2847960"/>
            <a:ext cx="53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1434960" y="2847960"/>
            <a:ext cx="5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1971720" y="2847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971720" y="2847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71720" y="284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1978200" y="2847960"/>
            <a:ext cx="10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1978200" y="284796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2079720" y="2847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2079720" y="2847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2079720" y="284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>
            <a:off x="2084400" y="2847960"/>
            <a:ext cx="1944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2084400" y="2847960"/>
            <a:ext cx="19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2" name=""/>
          <p:cNvSpPr/>
          <p:nvPr/>
        </p:nvSpPr>
        <p:spPr>
          <a:xfrm>
            <a:off x="4029120" y="2847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4029120" y="2847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4" name=""/>
          <p:cNvSpPr/>
          <p:nvPr/>
        </p:nvSpPr>
        <p:spPr>
          <a:xfrm>
            <a:off x="4029120" y="284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4033800" y="2847960"/>
            <a:ext cx="1511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4033800" y="2847960"/>
            <a:ext cx="151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5545080" y="2847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5545080" y="2847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>
            <a:off x="5545080" y="2847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5551560" y="2847960"/>
            <a:ext cx="1403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>
            <a:off x="5551560" y="2847960"/>
            <a:ext cx="140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>
            <a:off x="6954840" y="2847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6954840" y="2847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>
            <a:off x="6954840" y="284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6961320" y="2847960"/>
            <a:ext cx="1293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6961320" y="2847960"/>
            <a:ext cx="129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>
            <a:off x="8255160" y="28479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8255160" y="2847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8255160" y="284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8259840" y="2847960"/>
            <a:ext cx="64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8259840" y="2847960"/>
            <a:ext cx="64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849600" y="28544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448200" y="317664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Roche ty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361800" y="3503520"/>
            <a:ext cx="99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ultrase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1289520" y="350352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1706400" y="28512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1706400" y="31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1621080" y="3475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1803600" y="34686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8583480" y="28512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8583480" y="31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8498520" y="347508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8710560" y="34750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8400240" y="3786120"/>
            <a:ext cx="38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8776080" y="37828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849600" y="41036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306360" y="442908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Microcol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1325880" y="44290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1706400" y="410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1662840" y="4413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174600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8583480" y="410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8539920" y="441324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866772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8400240" y="4724280"/>
            <a:ext cx="38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8762760" y="4724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849600" y="50418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480600" y="536400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NucliS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187640" y="53640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849600" y="56912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1706400" y="5038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662840" y="5351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1746000" y="5351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043360" y="28544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3060360" y="28512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060360" y="31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17160" y="347508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3144600" y="34750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2856960" y="378612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3,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263760" y="37861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3060360" y="410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3017160" y="4413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310176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2941920" y="4724280"/>
            <a:ext cx="2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179520" y="4724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3060360" y="5038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3017160" y="534996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3144600" y="534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2961000" y="5662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3169080" y="565632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4794120" y="28512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4794120" y="31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4750560" y="3475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4833720" y="34750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4590360" y="378612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33,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4995720" y="37861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4794120" y="410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4750560" y="441324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487836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4590360" y="472428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1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4995720" y="4724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4794120" y="5038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4750560" y="534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4833720" y="534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654080" y="566244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945320" y="56595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6256080" y="28512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6256080" y="31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6211080" y="347508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6338520" y="34750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6050880" y="378612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3,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6457680" y="37861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6256080" y="410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6211080" y="441324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633852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028920" y="4724280"/>
            <a:ext cx="4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 11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6478560" y="4724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6256080" y="5038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6211080" y="534996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6338520" y="534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6050880" y="566244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2,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6471000" y="56595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7607160" y="28512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7607160" y="3162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>
            <a:off x="7521840" y="3475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7691400" y="34750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7382880" y="3786120"/>
            <a:ext cx="4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86,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7832520" y="37861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7607160" y="410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7566840" y="4413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765000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7694280" y="441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7405200" y="47242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7458120" y="472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7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7754400" y="47242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7810200" y="47242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7607160" y="5038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7566840" y="534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7650000" y="53625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7425360" y="5675400"/>
            <a:ext cx="38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7803000" y="56721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8583480" y="5051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8539920" y="5364000"/>
            <a:ext cx="13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8667720" y="53640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8400240" y="5675400"/>
            <a:ext cx="38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8762760" y="5675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8583480" y="59896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239760" y="6303960"/>
            <a:ext cx="11890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239760" y="6303960"/>
            <a:ext cx="118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1428840" y="6303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1428840" y="63039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1434960" y="6303960"/>
            <a:ext cx="536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434960" y="6303960"/>
            <a:ext cx="5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1971720" y="6303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1971720" y="63039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1978200" y="6303960"/>
            <a:ext cx="101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1978200" y="630396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079720" y="63039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2079720" y="6303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2079720" y="63039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2084400" y="6303960"/>
            <a:ext cx="1944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2084400" y="6303960"/>
            <a:ext cx="19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4029120" y="6303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4029120" y="63039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4033800" y="6303960"/>
            <a:ext cx="1511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4033800" y="6303960"/>
            <a:ext cx="151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5545080" y="6303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5545080" y="63039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5551560" y="6303960"/>
            <a:ext cx="1403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5551560" y="6303960"/>
            <a:ext cx="1403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6954840" y="6303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6954840" y="63039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6961320" y="6303960"/>
            <a:ext cx="1293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6961320" y="6303960"/>
            <a:ext cx="129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8255160" y="6303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8255160" y="63039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8259840" y="6303960"/>
            <a:ext cx="644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8259840" y="6303960"/>
            <a:ext cx="64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34640" y="6308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692280" y="190440"/>
            <a:ext cx="773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Répartition des résultats positifs (%) par technique d’extraction</a:t>
            </a:r>
            <a:r>
              <a:rPr b="0" lang="fr-FR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-3240" y="123336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remière manipulation -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(GZR : 0,15-0,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3" name=""/>
          <p:cNvGrpSpPr/>
          <p:nvPr/>
        </p:nvGrpSpPr>
        <p:grpSpPr>
          <a:xfrm>
            <a:off x="3308400" y="411120"/>
            <a:ext cx="5533920" cy="2840040"/>
            <a:chOff x="3308400" y="411120"/>
            <a:chExt cx="5533920" cy="2840040"/>
          </a:xfrm>
        </p:grpSpPr>
        <p:sp>
          <p:nvSpPr>
            <p:cNvPr id="5524" name=""/>
            <p:cNvSpPr/>
            <p:nvPr/>
          </p:nvSpPr>
          <p:spPr>
            <a:xfrm>
              <a:off x="3308400" y="411120"/>
              <a:ext cx="5533920" cy="284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043880" y="623160"/>
              <a:ext cx="4683240" cy="2202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043880" y="2602080"/>
              <a:ext cx="468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043880" y="2389680"/>
              <a:ext cx="468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4043880" y="2165760"/>
              <a:ext cx="468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4043880" y="1942200"/>
              <a:ext cx="468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043880" y="1720080"/>
              <a:ext cx="468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4043880" y="1505880"/>
              <a:ext cx="468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4043880" y="1283400"/>
              <a:ext cx="468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043880" y="1059840"/>
              <a:ext cx="468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043880" y="847080"/>
              <a:ext cx="468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043880" y="623160"/>
              <a:ext cx="468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4043880" y="623160"/>
              <a:ext cx="4683240" cy="2202480"/>
            </a:xfrm>
            <a:prstGeom prst="rect">
              <a:avLst/>
            </a:prstGeom>
            <a:noFill/>
            <a:ln w="1260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4514040" y="1536480"/>
              <a:ext cx="619200" cy="12891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075360" y="1699200"/>
              <a:ext cx="620640" cy="11268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7621560" y="1501560"/>
              <a:ext cx="620640" cy="13201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4043880" y="623160"/>
              <a:ext cx="1080" cy="220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997800" y="2826000"/>
              <a:ext cx="4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997800" y="2602080"/>
              <a:ext cx="4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997800" y="23896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997800" y="21657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3997800" y="194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3997800" y="1720080"/>
              <a:ext cx="4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3997800" y="1505880"/>
              <a:ext cx="4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3997800" y="1283400"/>
              <a:ext cx="4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3997800" y="1059840"/>
              <a:ext cx="46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3997800" y="847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3997800" y="6231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043880" y="2826000"/>
              <a:ext cx="468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flipV="1">
              <a:off x="4043880" y="2826000"/>
              <a:ext cx="108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flipV="1">
              <a:off x="5604840" y="2826000"/>
              <a:ext cx="144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V="1">
              <a:off x="7166160" y="2826000"/>
              <a:ext cx="108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V="1">
              <a:off x="8727480" y="2826000"/>
              <a:ext cx="1080" cy="4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3847320" y="2745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3719520" y="2520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3847320" y="230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3719520" y="20851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3847320" y="186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3719520" y="163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3847320" y="142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3719520" y="1201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3847320" y="97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3719520" y="765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3847320" y="54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4489920" y="293724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che 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153480" y="293724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ia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611120" y="29372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ucliS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rot="16200000">
              <a:off x="3353040" y="159084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3308400" y="411120"/>
              <a:ext cx="5533920" cy="284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3" name=""/>
            <p:cNvGrpSpPr/>
            <p:nvPr/>
          </p:nvGrpSpPr>
          <p:grpSpPr>
            <a:xfrm>
              <a:off x="4753080" y="1357200"/>
              <a:ext cx="142920" cy="399600"/>
              <a:chOff x="4753080" y="1357200"/>
              <a:chExt cx="142920" cy="399600"/>
            </a:xfrm>
          </p:grpSpPr>
          <p:sp>
            <p:nvSpPr>
              <p:cNvPr id="5574" name=""/>
              <p:cNvSpPr/>
              <p:nvPr/>
            </p:nvSpPr>
            <p:spPr>
              <a:xfrm>
                <a:off x="4824360" y="1357200"/>
                <a:ext cx="0" cy="399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4753080" y="135720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4753080" y="175680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7" name=""/>
            <p:cNvGrpSpPr/>
            <p:nvPr/>
          </p:nvGrpSpPr>
          <p:grpSpPr>
            <a:xfrm>
              <a:off x="6314040" y="1434960"/>
              <a:ext cx="142920" cy="532800"/>
              <a:chOff x="6314040" y="1434960"/>
              <a:chExt cx="142920" cy="532800"/>
            </a:xfrm>
          </p:grpSpPr>
          <p:sp>
            <p:nvSpPr>
              <p:cNvPr id="5578" name=""/>
              <p:cNvSpPr/>
              <p:nvPr/>
            </p:nvSpPr>
            <p:spPr>
              <a:xfrm>
                <a:off x="6385320" y="1434960"/>
                <a:ext cx="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314040" y="143496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314040" y="196776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7860240" y="1101240"/>
              <a:ext cx="142920" cy="733320"/>
              <a:chOff x="7860240" y="1101240"/>
              <a:chExt cx="142920" cy="733320"/>
            </a:xfrm>
          </p:grpSpPr>
          <p:sp>
            <p:nvSpPr>
              <p:cNvPr id="5582" name=""/>
              <p:cNvSpPr/>
              <p:nvPr/>
            </p:nvSpPr>
            <p:spPr>
              <a:xfrm>
                <a:off x="7931520" y="1101240"/>
                <a:ext cx="0" cy="73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860240" y="110124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860240" y="1834560"/>
                <a:ext cx="1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85" name=""/>
          <p:cNvSpPr/>
          <p:nvPr/>
        </p:nvSpPr>
        <p:spPr>
          <a:xfrm>
            <a:off x="3303720" y="3648240"/>
            <a:ext cx="5533920" cy="284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4038480" y="3860640"/>
            <a:ext cx="4684680" cy="220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4038480" y="5838840"/>
            <a:ext cx="468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4038480" y="5626080"/>
            <a:ext cx="468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4038480" y="5402160"/>
            <a:ext cx="468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4038480" y="5180040"/>
            <a:ext cx="4684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4038480" y="4956120"/>
            <a:ext cx="468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4038480" y="4743360"/>
            <a:ext cx="468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4038480" y="4521240"/>
            <a:ext cx="468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4038480" y="4297320"/>
            <a:ext cx="468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4038480" y="4084560"/>
            <a:ext cx="468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4038480" y="3860640"/>
            <a:ext cx="468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4038480" y="3860640"/>
            <a:ext cx="4684680" cy="2202120"/>
          </a:xfrm>
          <a:prstGeom prst="rect">
            <a:avLst/>
          </a:prstGeom>
          <a:noFill/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4510080" y="4773600"/>
            <a:ext cx="619200" cy="12891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6070680" y="4935600"/>
            <a:ext cx="620640" cy="11271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7616880" y="4738680"/>
            <a:ext cx="620640" cy="1320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4038480" y="3860640"/>
            <a:ext cx="1800" cy="2202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3992400" y="6062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3992400" y="5838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3992400" y="56260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3992400" y="54021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3992400" y="5180040"/>
            <a:ext cx="46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3992400" y="4956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3992400" y="4743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992400" y="4521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3992400" y="4297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992400" y="4084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3992400" y="38606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4038480" y="6062760"/>
            <a:ext cx="468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 flipV="1">
            <a:off x="4038480" y="606276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5600880" y="606276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V="1">
            <a:off x="7161120" y="606276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 flipV="1">
            <a:off x="8723160" y="606276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3842640" y="5981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3714840" y="5757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3842640" y="5545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3714840" y="5322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3842640" y="5099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3714840" y="48751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3842640" y="466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3714840" y="44388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3842640" y="4216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3714840" y="40021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842640" y="3778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4485240" y="617364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che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6148800" y="617364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i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7606440" y="617364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iS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 rot="16200000">
            <a:off x="3349080" y="4828680"/>
            <a:ext cx="4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303720" y="3648240"/>
            <a:ext cx="5533920" cy="284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4753080" y="4505400"/>
            <a:ext cx="150840" cy="566280"/>
            <a:chOff x="4753080" y="4505400"/>
            <a:chExt cx="150840" cy="566280"/>
          </a:xfrm>
        </p:grpSpPr>
        <p:sp>
          <p:nvSpPr>
            <p:cNvPr id="5635" name=""/>
            <p:cNvSpPr/>
            <p:nvPr/>
          </p:nvSpPr>
          <p:spPr>
            <a:xfrm>
              <a:off x="4828320" y="4505400"/>
              <a:ext cx="0" cy="56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753080" y="4505400"/>
              <a:ext cx="15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753080" y="5071680"/>
              <a:ext cx="15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8" name=""/>
          <p:cNvGrpSpPr/>
          <p:nvPr/>
        </p:nvGrpSpPr>
        <p:grpSpPr>
          <a:xfrm>
            <a:off x="6313320" y="4662360"/>
            <a:ext cx="140040" cy="542520"/>
            <a:chOff x="6313320" y="4662360"/>
            <a:chExt cx="140040" cy="542520"/>
          </a:xfrm>
        </p:grpSpPr>
        <p:sp>
          <p:nvSpPr>
            <p:cNvPr id="5639" name=""/>
            <p:cNvSpPr/>
            <p:nvPr/>
          </p:nvSpPr>
          <p:spPr>
            <a:xfrm>
              <a:off x="6383160" y="4662360"/>
              <a:ext cx="0" cy="54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313320" y="466236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313320" y="520488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854840" y="4425840"/>
            <a:ext cx="144720" cy="633240"/>
            <a:chOff x="7854840" y="4425840"/>
            <a:chExt cx="144720" cy="633240"/>
          </a:xfrm>
        </p:grpSpPr>
        <p:sp>
          <p:nvSpPr>
            <p:cNvPr id="5643" name=""/>
            <p:cNvSpPr/>
            <p:nvPr/>
          </p:nvSpPr>
          <p:spPr>
            <a:xfrm>
              <a:off x="7927200" y="4425840"/>
              <a:ext cx="0" cy="63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854840" y="442584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7854840" y="5059080"/>
              <a:ext cx="1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048120" cy="914400"/>
          </a:xfrm>
          <a:prstGeom prst="rect">
            <a:avLst/>
          </a:prstGeom>
          <a:ln w="0">
            <a:noFill/>
          </a:ln>
        </p:spPr>
      </p:pic>
      <p:pic>
        <p:nvPicPr>
          <p:cNvPr id="5647" name="" descr=""/>
          <p:cNvPicPr/>
          <p:nvPr/>
        </p:nvPicPr>
        <p:blipFill>
          <a:blip r:embed="rId2"/>
          <a:stretch/>
        </p:blipFill>
        <p:spPr>
          <a:xfrm>
            <a:off x="177840" y="4724280"/>
            <a:ext cx="3022560" cy="920880"/>
          </a:xfrm>
          <a:prstGeom prst="rect">
            <a:avLst/>
          </a:prstGeom>
          <a:ln w="0">
            <a:noFill/>
          </a:ln>
        </p:spPr>
      </p:pic>
      <p:sp>
        <p:nvSpPr>
          <p:cNvPr id="5648" name=""/>
          <p:cNvSpPr/>
          <p:nvPr/>
        </p:nvSpPr>
        <p:spPr>
          <a:xfrm>
            <a:off x="316080" y="762120"/>
            <a:ext cx="8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179640" y="3809880"/>
            <a:ext cx="87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"/>
          <p:cNvSpPr/>
          <p:nvPr/>
        </p:nvSpPr>
        <p:spPr>
          <a:xfrm>
            <a:off x="68580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Faux posi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685800" y="5486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2 / 28 (6%) des PS négatifs : GZ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ninterprétable après vérification (Nuclisens®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égatif après vérification (Qia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Inhibi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imes New Roman"/>
              </a:rPr>
              <a:t>6 / 168 (4%) des PS : résultat ininterpré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5" name=""/>
          <p:cNvGraphicFramePr/>
          <p:nvPr/>
        </p:nvGraphicFramePr>
        <p:xfrm>
          <a:off x="1143000" y="1384200"/>
          <a:ext cx="6858000" cy="33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84200"/>
                    <a:ext cx="685800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7" name=""/>
          <p:cNvSpPr/>
          <p:nvPr/>
        </p:nvSpPr>
        <p:spPr>
          <a:xfrm>
            <a:off x="5679000" y="661356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"/>
          <p:cNvSpPr/>
          <p:nvPr/>
        </p:nvSpPr>
        <p:spPr>
          <a:xfrm>
            <a:off x="609480" y="52056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Deux panels supplément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MA, Bayer (V. Thibaut, La Pitié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9" name=""/>
          <p:cNvGraphicFramePr/>
          <p:nvPr/>
        </p:nvGraphicFramePr>
        <p:xfrm>
          <a:off x="798480" y="2355840"/>
          <a:ext cx="7583400" cy="374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355840"/>
                    <a:ext cx="75834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1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"/>
          <p:cNvSpPr/>
          <p:nvPr/>
        </p:nvSpPr>
        <p:spPr>
          <a:xfrm>
            <a:off x="609480" y="484200"/>
            <a:ext cx="7499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Cx, Abbott (Saint-Etien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cc00"/>
                </a:solidFill>
                <a:latin typeface="Times New Roman"/>
              </a:rPr>
              <a:t>Extraction type Qiagen (250 µl de plasma sém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0, 10, 50, 100, 500 UI/ml : négatif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1000 UI/ml : posit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3" name=""/>
          <p:cNvGraphicFramePr/>
          <p:nvPr/>
        </p:nvGraphicFramePr>
        <p:xfrm>
          <a:off x="482760" y="3200400"/>
          <a:ext cx="400032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200400"/>
                    <a:ext cx="40003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5" name=""/>
          <p:cNvSpPr/>
          <p:nvPr/>
        </p:nvSpPr>
        <p:spPr>
          <a:xfrm>
            <a:off x="6168960" y="3657600"/>
            <a:ext cx="1889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S à 1000 UI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6" name=""/>
          <p:cNvGraphicFramePr/>
          <p:nvPr/>
        </p:nvGraphicFramePr>
        <p:xfrm>
          <a:off x="4927680" y="4268880"/>
          <a:ext cx="3987720" cy="167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4268880"/>
                    <a:ext cx="39877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8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66"/>
                </a:solidFill>
                <a:uFillTx/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825480" y="1079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3 protocoles d’extraction testés sont équivalents p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écific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pacité à s’affranchir des inhib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e Roche US un peu plus sensibl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300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euil de sensibilité entre 100 et 500 UI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300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écessité de vérifier les résultats « douteux » et « ininterprétables » sur un nouvel extr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300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définir la « zone grise » entre 0,15 et 0,5 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300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51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MA (Bayer) sensible (prise d’essai 250 µl)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[Peckler et al., 200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300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CX (Abbott) à évaluer avec l’extracteur M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300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T-PCR en temps réel à éval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5672520" y="661356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Remerci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289080" y="884160"/>
            <a:ext cx="5883120" cy="100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Comic Sans MS"/>
              </a:rPr>
              <a:t>Laboratoires de Biologie de la 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Dr R. Levy (CHU de Saint-Etien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. JF Guérin et Dr. J. Lornage (CHU de Ly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4103280" y="2057400"/>
            <a:ext cx="4992120" cy="1614960"/>
          </a:xfrm>
          <a:prstGeom prst="rect">
            <a:avLst/>
          </a:prstGeom>
          <a:solidFill>
            <a:srgbClr val="abffab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Comic Sans MS"/>
              </a:rPr>
              <a:t>Laboratoire de Virologie de Saint-Etie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Pr. B. Pozze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r. S. Pi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Comic Sans MS"/>
              </a:rPr>
              <a:t>Unité de Pharmacologie Clinique et de Stati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r. S. L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178200" y="2236680"/>
            <a:ext cx="324252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66"/>
                </a:solidFill>
                <a:uFillTx/>
                <a:latin typeface="Comic Sans MS"/>
              </a:rPr>
              <a:t>Groupe Hépatite C, AC-11, AN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Pr. J. Izop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Pr. J.M. Pawlotz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84240" y="3871800"/>
            <a:ext cx="9029160" cy="2355840"/>
          </a:xfrm>
          <a:prstGeom prst="rect">
            <a:avLst/>
          </a:prstGeom>
          <a:solidFill>
            <a:srgbClr val="b2b2b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aboratoires particip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HU 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miens (Dr. P. Zawadzki, Pr. G. Duverlie), Angers (Dr. C. Payan, Pr. Lunel-Fabiani), Besançon (Dr. D. Bettinger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chat (Dr. M. Branger, Pr. Brun-Vezinet), Bordeaux (Dr. P. Trimoulet, Pr. M.E. Lafon), Caen (Dr. A. Vabret, Pr. F. Freymut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mart (Dr. M. Macé, Pr. D. Ingrand), Créteil (Dr. K. Gourlain, Pr. JM. Pawlotsky), Dijon (Dr. JB. Bour, Pr. P. Pothier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lle (Dr. L. Bocket, Pr. P. Wattre), Montpellier (Dr. J. Ducos), Nancy (Pr. A. Le Faou), Nantes (Dr. M. Gassin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cker (Dr. Leruez-Ville, Pr. C.Rouzioux),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tié-Salpétrière (Dr. V. Thibaut), Poitiers (Dr. A. Bourgoin, Pr. G. Agius), Reims (Dr. V. Brodard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nes (Pr. R. Colimon), Rouen (Dr. M. Gueudin), Saint-Etienne (A. Maertens), Saint-Vincent de Paul (Dr. A. Rosenberg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asbourg (Dr. E. Schvoerer, Pr. F. Stoll-Keller), Toulouse (Pr. C. Pasquier)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HG 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oulon (Dr. L. Colle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ABM 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lphabio Marseille (Dr. P. Halfon), Laboratoire Mérieux Lyon (Dr. G. Denoyel), Drouot (Dr. G. Cassuto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steur Cerba (Dr. JD. Poveda), Clinilab Saint-Ismier (Dr. S. Blachier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431880" y="6400800"/>
            <a:ext cx="2288520" cy="337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9900"/>
                </a:solidFill>
                <a:latin typeface="Comic Sans MS"/>
              </a:rPr>
              <a:t>Donneurs anonymes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81480" y="4114800"/>
            <a:ext cx="68580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819520"/>
            <a:ext cx="7772400" cy="3962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2760" y="2933640"/>
            <a:ext cx="19270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nel composition  (No. of samp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9120" y="2933640"/>
            <a:ext cx="10216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CV RNA (IU/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2819520"/>
            <a:ext cx="3697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3480" y="28195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43480" y="28195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56080" y="2819520"/>
            <a:ext cx="17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7440" y="281952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7440" y="28195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38600" y="2819520"/>
            <a:ext cx="3733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7760" y="3268800"/>
            <a:ext cx="855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minal pla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8520" y="3268800"/>
            <a:ext cx="977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NAse-free 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8320" y="3268800"/>
            <a:ext cx="500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73400" y="3268800"/>
            <a:ext cx="8802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ntified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62880" y="3382920"/>
            <a:ext cx="5922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lution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72000" y="3382920"/>
            <a:ext cx="4230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NAs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3489480"/>
            <a:ext cx="5554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ee 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280" y="3154320"/>
            <a:ext cx="1769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6040" y="315432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6040" y="315432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9000" y="3154320"/>
            <a:ext cx="19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7440" y="3154320"/>
            <a:ext cx="1878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05560" y="315432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05560" y="315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18160" y="3154320"/>
            <a:ext cx="185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8680" y="38257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080" y="38257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28520" y="38257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76600" y="382572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120" y="37339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280" y="3711600"/>
            <a:ext cx="176976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280" y="3711600"/>
            <a:ext cx="176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6040" y="3711600"/>
            <a:ext cx="1296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6040" y="371160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6040" y="37116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29000" y="3711600"/>
            <a:ext cx="191448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29000" y="3711600"/>
            <a:ext cx="19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43480" y="3711600"/>
            <a:ext cx="1260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3480" y="371160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43480" y="37116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56080" y="3711600"/>
            <a:ext cx="17136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6080" y="3711600"/>
            <a:ext cx="17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7440" y="3711600"/>
            <a:ext cx="1116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27440" y="371160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7440" y="37116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8600" y="3711600"/>
            <a:ext cx="186696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38600" y="3711600"/>
            <a:ext cx="18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5560" y="3711600"/>
            <a:ext cx="1260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05560" y="371160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05560" y="37116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18160" y="3711600"/>
            <a:ext cx="1854360" cy="6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18160" y="3711600"/>
            <a:ext cx="185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8680" y="41544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30080" y="41544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1000" y="415440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6600" y="415440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120" y="41148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88680" y="44845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30080" y="44845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1000" y="448452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76600" y="448452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120" y="44197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8680" y="48132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30080" y="48132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1320" y="4813200"/>
            <a:ext cx="1926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76600" y="481320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120" y="47242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8680" y="51436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0080" y="51436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1320" y="5143680"/>
            <a:ext cx="1926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98280" y="5143680"/>
            <a:ext cx="1926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8680" y="54720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0080" y="54720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57880" y="547200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24840" y="547200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8680" y="580716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0080" y="580716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7880" y="580716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24840" y="580716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88680" y="61372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0080" y="61372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08560" y="6137280"/>
            <a:ext cx="352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75160" y="6137280"/>
            <a:ext cx="352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" y="6357960"/>
            <a:ext cx="1769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6040" y="635796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6040" y="6357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9000" y="6357960"/>
            <a:ext cx="19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43480" y="63579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3480" y="635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6357960"/>
            <a:ext cx="171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27440" y="635796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27440" y="6357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8600" y="6357960"/>
            <a:ext cx="18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05560" y="63579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05560" y="6357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18160" y="6357960"/>
            <a:ext cx="185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1040" y="632448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7000" y="6400800"/>
            <a:ext cx="1283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egative by qualitati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000" y="6400800"/>
            <a:ext cx="37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b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2960" y="6400800"/>
            <a:ext cx="51444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Amplic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7400" y="6324480"/>
            <a:ext cx="10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55760" y="6400800"/>
            <a:ext cx="14929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ssay (threshold, 50 IU/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040" y="655308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080" y="6586560"/>
            <a:ext cx="1233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sitive by qualitati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000" y="6586560"/>
            <a:ext cx="37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b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32960" y="6586560"/>
            <a:ext cx="51444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Amplic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7400" y="6553080"/>
            <a:ext cx="10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3360" y="6586560"/>
            <a:ext cx="3222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ss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4960" y="4046400"/>
            <a:ext cx="781200" cy="1649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867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414000" y="15732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Contrôle qualité n°1 (février 2001) : 12 laboratoires particip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280" y="2819520"/>
            <a:ext cx="3697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3480" y="2819520"/>
            <a:ext cx="12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56080" y="2819520"/>
            <a:ext cx="171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27440" y="281952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38600" y="2819520"/>
            <a:ext cx="3733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280" y="3154320"/>
            <a:ext cx="176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6040" y="315432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29000" y="3154320"/>
            <a:ext cx="1914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27440" y="3154320"/>
            <a:ext cx="1878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05560" y="3154320"/>
            <a:ext cx="12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18160" y="3154320"/>
            <a:ext cx="185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280" y="6357960"/>
            <a:ext cx="176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6040" y="635796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9000" y="6357960"/>
            <a:ext cx="1914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43480" y="6357960"/>
            <a:ext cx="12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6080" y="6357960"/>
            <a:ext cx="171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27440" y="6357960"/>
            <a:ext cx="1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8600" y="6357960"/>
            <a:ext cx="1866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05560" y="6357960"/>
            <a:ext cx="12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18160" y="6357960"/>
            <a:ext cx="185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895480"/>
            <a:ext cx="7772400" cy="3962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17440" y="3009960"/>
            <a:ext cx="19270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nel composition  (No. of samp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43800" y="3009960"/>
            <a:ext cx="10216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CV RNA (IU/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0960" y="2895480"/>
            <a:ext cx="3697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8160" y="28954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48160" y="28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0760" y="2895480"/>
            <a:ext cx="171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32480" y="2895480"/>
            <a:ext cx="1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2480" y="28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2895480"/>
            <a:ext cx="3733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82800" y="3344760"/>
            <a:ext cx="855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minal pla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344760"/>
            <a:ext cx="977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NAse-free 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3000" y="3344760"/>
            <a:ext cx="500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92560" y="3276720"/>
            <a:ext cx="8802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ntified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01120" y="3459240"/>
            <a:ext cx="5922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lution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24280" y="3459240"/>
            <a:ext cx="4230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RNAs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38800" y="3581280"/>
            <a:ext cx="5554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ee 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0960" y="3230640"/>
            <a:ext cx="177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21080" y="32306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1080" y="3230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33680" y="3230640"/>
            <a:ext cx="19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32480" y="3230640"/>
            <a:ext cx="18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0240" y="323064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10240" y="3230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3200" y="3230640"/>
            <a:ext cx="18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3360" y="39020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34760" y="39020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33560" y="39020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81640" y="390204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71800" y="38098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0960" y="3787920"/>
            <a:ext cx="177012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0960" y="3787920"/>
            <a:ext cx="177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21080" y="3787920"/>
            <a:ext cx="1260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1080" y="37879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1080" y="3787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33680" y="3787920"/>
            <a:ext cx="191448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3680" y="3787920"/>
            <a:ext cx="19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48160" y="3787920"/>
            <a:ext cx="1260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8160" y="37879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8160" y="3787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60760" y="3787920"/>
            <a:ext cx="17172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0760" y="3787920"/>
            <a:ext cx="17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2480" y="3787920"/>
            <a:ext cx="1080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32480" y="3787920"/>
            <a:ext cx="1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32480" y="37879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3787920"/>
            <a:ext cx="186696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3787920"/>
            <a:ext cx="18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10240" y="3787920"/>
            <a:ext cx="1296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10240" y="378792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0240" y="37879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23200" y="3787920"/>
            <a:ext cx="1854000" cy="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23200" y="3787920"/>
            <a:ext cx="18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3360" y="42307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34760" y="42307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5680" y="423072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81640" y="423072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71800" y="41911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3360" y="45608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4760" y="45608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5680" y="456084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81640" y="456084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71800" y="449568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93360" y="48895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34760" y="48895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6000" y="4889520"/>
            <a:ext cx="1926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81640" y="4889520"/>
            <a:ext cx="2962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1800" y="48006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360" y="52196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4760" y="521964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6000" y="5219640"/>
            <a:ext cx="1926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02960" y="5219640"/>
            <a:ext cx="1926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93360" y="55483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34760" y="55483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2560" y="554832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29520" y="554832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3360" y="58831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34760" y="588312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62560" y="588312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29520" y="5883120"/>
            <a:ext cx="288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360" y="62136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34760" y="6213600"/>
            <a:ext cx="64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3240" y="6213600"/>
            <a:ext cx="352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80200" y="6213600"/>
            <a:ext cx="3528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 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0960" y="6434280"/>
            <a:ext cx="177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21080" y="64342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21080" y="64342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3680" y="6434280"/>
            <a:ext cx="19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48160" y="64342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48160" y="64342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0760" y="6434280"/>
            <a:ext cx="171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32480" y="6434280"/>
            <a:ext cx="1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64342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6434280"/>
            <a:ext cx="18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10240" y="643428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0240" y="64342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23200" y="6434280"/>
            <a:ext cx="18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080" y="640080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1680" y="6477120"/>
            <a:ext cx="1283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egative by qualitati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7680" y="6477120"/>
            <a:ext cx="37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b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37640" y="6477120"/>
            <a:ext cx="51444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Amplic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2440" y="6400800"/>
            <a:ext cx="10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60440" y="6477120"/>
            <a:ext cx="14929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ssay (threshold, 50 IU/m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6080" y="6629400"/>
            <a:ext cx="12888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96760" y="6662880"/>
            <a:ext cx="1233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sitive by qualitati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7680" y="6662880"/>
            <a:ext cx="37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b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37640" y="6662880"/>
            <a:ext cx="51444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Amplic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52440" y="6629400"/>
            <a:ext cx="1011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8400" y="6662880"/>
            <a:ext cx="32220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ss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79360" y="6608880"/>
            <a:ext cx="32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 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0"/>
            <a:ext cx="800100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85800" y="76320"/>
            <a:ext cx="7924320" cy="5697360"/>
            <a:chOff x="685800" y="76320"/>
            <a:chExt cx="7924320" cy="5697360"/>
          </a:xfrm>
        </p:grpSpPr>
        <p:graphicFrame>
          <p:nvGraphicFramePr>
            <p:cNvPr id="288" name=""/>
            <p:cNvGraphicFramePr/>
            <p:nvPr/>
          </p:nvGraphicFramePr>
          <p:xfrm>
            <a:off x="2111040" y="76320"/>
            <a:ext cx="6499080" cy="569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1040" y="76320"/>
                      <a:ext cx="6499080" cy="569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1786680" y="609480"/>
              <a:ext cx="710640" cy="23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81720" y="1143000"/>
              <a:ext cx="538200" cy="28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55880" y="2590560"/>
              <a:ext cx="53028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6240" y="3651120"/>
              <a:ext cx="373680" cy="23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2600" y="1981080"/>
              <a:ext cx="607320" cy="2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55880" y="3147840"/>
              <a:ext cx="53028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4160" y="4190760"/>
              <a:ext cx="36576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23640" y="4732200"/>
              <a:ext cx="37368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" y="2385720"/>
              <a:ext cx="1115640" cy="81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HCV RNA (IU/m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20280" y="457200"/>
              <a:ext cx="77400" cy="60912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15840 h 609120"/>
                <a:gd name="textAreaBottom" fmla="*/ 593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20280" y="1143000"/>
              <a:ext cx="77400" cy="60912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15840 h 609120"/>
                <a:gd name="textAreaBottom" fmla="*/ 593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20280" y="2438280"/>
              <a:ext cx="77400" cy="60912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15840 h 609120"/>
                <a:gd name="textAreaBottom" fmla="*/ 593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20280" y="3657600"/>
              <a:ext cx="77400" cy="60912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15840 h 609120"/>
                <a:gd name="textAreaBottom" fmla="*/ 593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0280" y="1904760"/>
              <a:ext cx="77400" cy="38088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20280" y="3124080"/>
              <a:ext cx="77400" cy="38052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9720 h 380520"/>
                <a:gd name="textAreaBottom" fmla="*/ 37080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20280" y="4419360"/>
              <a:ext cx="77400" cy="38088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20280" y="4876560"/>
              <a:ext cx="77400" cy="38088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63560" y="5943600"/>
            <a:ext cx="761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omic Sans MS"/>
              </a:rPr>
              <a:t>Figure 1.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 Cumulative results from the 12 laboratories of the 20 specimens of the panel [4 RNAse-free water samples (w) and 16 seminal specimens (s)] according to the RNA HCV concent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533520" y="228600"/>
          <a:ext cx="8153280" cy="63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1532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31760" y="838080"/>
            <a:ext cx="43513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Comic Sans MS"/>
              </a:rPr>
              <a:t>30 laboratoires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423120" y="444600"/>
            <a:ext cx="2718720" cy="6336720"/>
            <a:chOff x="6423120" y="444600"/>
            <a:chExt cx="2718720" cy="6336720"/>
          </a:xfrm>
        </p:grpSpPr>
        <p:sp>
          <p:nvSpPr>
            <p:cNvPr id="314" name=""/>
            <p:cNvSpPr/>
            <p:nvPr/>
          </p:nvSpPr>
          <p:spPr>
            <a:xfrm>
              <a:off x="6423120" y="444600"/>
              <a:ext cx="2670840" cy="632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0000" y="507960"/>
              <a:ext cx="37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3120" y="5079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0720" y="50796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72800" y="5079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31200" y="504000"/>
              <a:ext cx="5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1200" y="504000"/>
              <a:ext cx="1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31200" y="504000"/>
              <a:ext cx="5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31200" y="504000"/>
              <a:ext cx="1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81240" y="71532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93200" y="7153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41440" y="715320"/>
              <a:ext cx="41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oul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43280" y="7153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73680" y="925560"/>
              <a:ext cx="8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9160" y="925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49720" y="925560"/>
              <a:ext cx="84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Pasteur Cer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73320" y="113544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73400" y="11354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36040" y="1135440"/>
              <a:ext cx="38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Rou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3600" y="11354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74400" y="1346760"/>
              <a:ext cx="9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93200" y="13467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50440" y="1346760"/>
              <a:ext cx="10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Marseille Alphab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79800" y="155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76280" y="1554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43240" y="155448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ordea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8560" y="1554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80520" y="1765800"/>
              <a:ext cx="6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73400" y="1765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57280" y="1765800"/>
              <a:ext cx="44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Poiti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25360" y="1765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72240" y="1974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4920" y="1974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43600" y="1974240"/>
              <a:ext cx="36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Rei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87840" y="1974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75840" y="2184480"/>
              <a:ext cx="9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01120" y="2184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49720" y="2184480"/>
              <a:ext cx="98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Lyon M. Mérie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88080" y="2394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66200" y="23943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52240" y="239436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g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78560" y="23943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9600" y="260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84920" y="2604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40000" y="2604600"/>
              <a:ext cx="43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Ren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4240" y="2604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74760" y="2814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73400" y="2814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50080" y="281448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a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13040" y="28144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76920" y="3024720"/>
              <a:ext cx="6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66200" y="3024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76000" y="3024720"/>
              <a:ext cx="102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St Ismier Clini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107640" y="3024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73680" y="3235680"/>
              <a:ext cx="11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17320" y="3235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57640" y="323568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Li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63640" y="32356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77640" y="344340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04000" y="34434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52600" y="344340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ij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46800" y="34434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76200" y="36522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4000" y="3652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50440" y="365220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Montpell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607960" y="3652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70440" y="386352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60080" y="3863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44320" y="386352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Amie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287560" y="3863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80880" y="40748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17320" y="4074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4400" y="407484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G. Cassuto 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75120" y="4284720"/>
              <a:ext cx="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6280" y="4284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42160" y="4284720"/>
              <a:ext cx="40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och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40400" y="4284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3400" y="449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88160" y="4493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60880" y="4493520"/>
              <a:ext cx="29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Sa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53280" y="4493520"/>
              <a:ext cx="4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26360" y="4493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E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18960" y="4493520"/>
              <a:ext cx="29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en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76440" y="4493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82680" y="4704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84920" y="4704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60160" y="4704840"/>
              <a:ext cx="41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Neck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00520" y="4704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75120" y="4915080"/>
              <a:ext cx="9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95360" y="49150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76360" y="4915080"/>
              <a:ext cx="93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Pitié Salpétriè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81960" y="5123880"/>
              <a:ext cx="11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0720" y="5123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5840" y="512388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Bi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34640" y="5123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97800" y="5334840"/>
              <a:ext cx="7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61600" y="53226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Strasbou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58360" y="553392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Na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5743800"/>
              <a:ext cx="116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Toulouse Montag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46120" y="5955120"/>
              <a:ext cx="30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a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7920" y="6165360"/>
              <a:ext cx="84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oulouse CH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52600" y="63766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Clam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38560" y="6587640"/>
              <a:ext cx="57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</a:rPr>
                <a:t>Besanç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08240" y="55746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11840" y="57862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16520" y="599616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00680" y="6207480"/>
              <a:ext cx="16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01040" y="6417360"/>
              <a:ext cx="15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03200" y="662868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662480" y="125280"/>
            <a:ext cx="4120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Contrôle qualité n°2 (mars 20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410080" y="114300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1746360"/>
            <a:ext cx="5715000" cy="4716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32 panels de 6 tubes de 500 µl de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ans chaque panel : 0, 10, 50, 100,500, 1000 UI/ml (Accurun 500 000 UI/ml, pré-dilutions dans NH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nonymat des tubes et des centres (S. La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 (ou plusieurs) protocole(s) d’extraction parmi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es 3 retenus lors du CQ n°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- Centrifugation 1h à 21 000xg (+4°C), micro-colonnes (Qia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- Roche type « ultrasensibl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- NucliSens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mplification par RT-PCR (Cobas Amplicor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85040" y="662940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39800" y="1482840"/>
            <a:ext cx="64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1880" y="1482840"/>
            <a:ext cx="612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92440" y="1482840"/>
            <a:ext cx="46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57400" y="1482840"/>
            <a:ext cx="504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32120" y="1482840"/>
            <a:ext cx="64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22680" y="1482840"/>
            <a:ext cx="504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88000" y="1482840"/>
            <a:ext cx="46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40480" y="1482840"/>
            <a:ext cx="46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20040" y="1482840"/>
            <a:ext cx="46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12160" y="1482840"/>
            <a:ext cx="4680" cy="38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3440" y="1865160"/>
            <a:ext cx="196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6840" y="1865160"/>
            <a:ext cx="41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5880" y="1865160"/>
            <a:ext cx="330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1600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20680" y="1865160"/>
            <a:ext cx="25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276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39800" y="18651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46280" y="1865160"/>
            <a:ext cx="25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1880" y="18651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8000" y="1865160"/>
            <a:ext cx="258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66840" y="18651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332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540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9244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97120" y="1865160"/>
            <a:ext cx="260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57400" y="18651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6244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24160" y="1865160"/>
            <a:ext cx="246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76520" y="1865160"/>
            <a:ext cx="25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32120" y="18651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38600" y="1865160"/>
            <a:ext cx="258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97440" y="18651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03560" y="1865160"/>
            <a:ext cx="25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564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22680" y="18651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7720" y="1865160"/>
            <a:ext cx="260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8800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9268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54760" y="186516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16480" y="186516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57680" y="18651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4160" y="186516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3920" y="18651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10400" y="1865160"/>
            <a:ext cx="237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53040" y="1865160"/>
            <a:ext cx="241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99280" y="186516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4048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45160" y="186516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3480" y="18651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9600" y="186516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35840" y="186516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75600" y="18651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1720" y="186516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2004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24720" y="186516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0960" y="186516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1216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016840" y="186516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55160" y="18651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61280" y="186516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507520" y="1865160"/>
            <a:ext cx="223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737560" y="1865160"/>
            <a:ext cx="2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991720" y="1865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39800" y="1871640"/>
            <a:ext cx="64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1880" y="1871640"/>
            <a:ext cx="612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92440" y="1871640"/>
            <a:ext cx="46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57400" y="1871640"/>
            <a:ext cx="504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32120" y="1871640"/>
            <a:ext cx="64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22680" y="1871640"/>
            <a:ext cx="504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88000" y="1871640"/>
            <a:ext cx="46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540480" y="1871640"/>
            <a:ext cx="46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20040" y="1871640"/>
            <a:ext cx="46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012160" y="1871640"/>
            <a:ext cx="4680" cy="24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39800" y="2120760"/>
            <a:ext cx="64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1880" y="2120760"/>
            <a:ext cx="612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92440" y="21207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7400" y="2120760"/>
            <a:ext cx="504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2120" y="2120760"/>
            <a:ext cx="64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22680" y="2120760"/>
            <a:ext cx="504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21207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40480" y="21207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20040" y="21207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012160" y="21207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3440" y="2347920"/>
            <a:ext cx="196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840" y="2347920"/>
            <a:ext cx="41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5880" y="2347920"/>
            <a:ext cx="330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120680" y="234792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39800" y="23479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6280" y="234792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1880" y="23479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8000" y="234792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66840" y="23479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7332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540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9244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97120" y="234792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957400" y="23479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6244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24160" y="2347920"/>
            <a:ext cx="246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6520" y="234792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2120" y="23479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8600" y="234792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97440" y="23479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03560" y="234792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564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22680" y="23479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27720" y="234792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8800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9268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54760" y="23479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16480" y="23479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57680" y="23479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4160" y="23479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03920" y="23479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10400" y="2347920"/>
            <a:ext cx="237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53040" y="2347920"/>
            <a:ext cx="241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99280" y="23479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4048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45160" y="234792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83480" y="23479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89600" y="23479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35840" y="23479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75600" y="23479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81720" y="234792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2004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24720" y="23479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0960" y="23479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1216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016840" y="234792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255160" y="23479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61280" y="23479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07520" y="2347920"/>
            <a:ext cx="223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737560" y="2347920"/>
            <a:ext cx="254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991720" y="2347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9800" y="2352600"/>
            <a:ext cx="64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01880" y="2352600"/>
            <a:ext cx="612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92440" y="2352600"/>
            <a:ext cx="46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957400" y="2352600"/>
            <a:ext cx="504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2120" y="2352600"/>
            <a:ext cx="64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22680" y="2352600"/>
            <a:ext cx="504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88000" y="2352600"/>
            <a:ext cx="46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40480" y="2352600"/>
            <a:ext cx="46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520040" y="2352600"/>
            <a:ext cx="46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012160" y="2352600"/>
            <a:ext cx="4680" cy="20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39800" y="2554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01880" y="255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92440" y="2554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57400" y="255420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2120" y="2554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22680" y="255420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88000" y="2554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40480" y="2554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20040" y="2554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012160" y="2554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991720" y="2554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39800" y="2560680"/>
            <a:ext cx="64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1880" y="2560680"/>
            <a:ext cx="612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92440" y="2560680"/>
            <a:ext cx="46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57400" y="2560680"/>
            <a:ext cx="504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2120" y="2560680"/>
            <a:ext cx="64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22680" y="2560680"/>
            <a:ext cx="504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88000" y="2560680"/>
            <a:ext cx="46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40480" y="2560680"/>
            <a:ext cx="46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520040" y="2560680"/>
            <a:ext cx="46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12160" y="2560680"/>
            <a:ext cx="46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3440" y="2797200"/>
            <a:ext cx="196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840" y="2797200"/>
            <a:ext cx="41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5880" y="2797200"/>
            <a:ext cx="330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1600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20680" y="279720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8276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39800" y="27972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46280" y="279720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1880" y="27972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8000" y="279720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66840" y="27972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7332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540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9244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279720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57400" y="27972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6244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24160" y="2797200"/>
            <a:ext cx="246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76520" y="279720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2120" y="27972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38600" y="279720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97440" y="27972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03560" y="279720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22680" y="27972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27720" y="279720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8800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9268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54760" y="279720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16480" y="279720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57680" y="27972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279720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03920" y="27972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10400" y="2797200"/>
            <a:ext cx="237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53040" y="2797200"/>
            <a:ext cx="241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99280" y="279720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4048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45160" y="279720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83480" y="27972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89600" y="279720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35840" y="279720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275600" y="27972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281720" y="279720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2004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24720" y="279720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70960" y="279720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01216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16840" y="279720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255160" y="27972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1280" y="279720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07520" y="2797200"/>
            <a:ext cx="223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737560" y="2797200"/>
            <a:ext cx="254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991720" y="27972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39800" y="2801880"/>
            <a:ext cx="64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1880" y="2801880"/>
            <a:ext cx="612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92440" y="28018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57400" y="2801880"/>
            <a:ext cx="50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32120" y="2801880"/>
            <a:ext cx="64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22680" y="2801880"/>
            <a:ext cx="50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788000" y="28018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40480" y="28018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520040" y="28018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12160" y="28018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639800" y="3062160"/>
            <a:ext cx="64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01880" y="3062160"/>
            <a:ext cx="612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92440" y="30621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57400" y="3062160"/>
            <a:ext cx="504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32120" y="3062160"/>
            <a:ext cx="64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22680" y="3062160"/>
            <a:ext cx="504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88000" y="30621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40480" y="30621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20040" y="30621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12160" y="3062160"/>
            <a:ext cx="4680" cy="2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3440" y="3289320"/>
            <a:ext cx="196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6840" y="3289320"/>
            <a:ext cx="41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5880" y="3289320"/>
            <a:ext cx="330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20680" y="328932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8276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39800" y="32893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46280" y="328932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1880" y="32893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08000" y="328932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66840" y="32893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7332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3540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9244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97120" y="328932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957400" y="32893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6244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24160" y="3289320"/>
            <a:ext cx="246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76520" y="328932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32120" y="32893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38600" y="328932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97440" y="32893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03560" y="328932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6564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22680" y="32893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27720" y="328932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8800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9268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054760" y="328932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16480" y="32893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57680" y="32893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4160" y="32893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03920" y="328932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10400" y="3289320"/>
            <a:ext cx="237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53040" y="3289320"/>
            <a:ext cx="241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99280" y="32893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4048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545160" y="328932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3480" y="32893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89600" y="32893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35840" y="32893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275600" y="32893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81720" y="328932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2004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524720" y="32893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70960" y="328932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01216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016840" y="328932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55160" y="32893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261280" y="328932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507520" y="3289320"/>
            <a:ext cx="223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737560" y="3289320"/>
            <a:ext cx="254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991720" y="3289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39800" y="3294000"/>
            <a:ext cx="64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01880" y="3294000"/>
            <a:ext cx="612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92440" y="329400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57400" y="3294000"/>
            <a:ext cx="50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732120" y="3294000"/>
            <a:ext cx="64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22680" y="3294000"/>
            <a:ext cx="50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88000" y="329400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40480" y="329400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20040" y="329400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012160" y="329400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39800" y="3554280"/>
            <a:ext cx="64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1880" y="3554280"/>
            <a:ext cx="612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92440" y="35542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57400" y="3554280"/>
            <a:ext cx="50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732120" y="3554280"/>
            <a:ext cx="64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22680" y="3554280"/>
            <a:ext cx="50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88000" y="35542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540480" y="35542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520040" y="35542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12160" y="3554280"/>
            <a:ext cx="468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3440" y="3809880"/>
            <a:ext cx="196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66840" y="3809880"/>
            <a:ext cx="41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5880" y="3809880"/>
            <a:ext cx="330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1600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20680" y="3809880"/>
            <a:ext cx="25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8276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39800" y="3809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46280" y="3809880"/>
            <a:ext cx="25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1880" y="3809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08000" y="3809880"/>
            <a:ext cx="258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66840" y="3809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7332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3540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9244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97120" y="3809880"/>
            <a:ext cx="260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957400" y="380988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6244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224160" y="3809880"/>
            <a:ext cx="246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76520" y="3809880"/>
            <a:ext cx="25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32120" y="3809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38600" y="3809880"/>
            <a:ext cx="258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997440" y="3809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03560" y="3809880"/>
            <a:ext cx="25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6564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22680" y="380988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27720" y="3809880"/>
            <a:ext cx="260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8800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9268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54760" y="380988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16480" y="380988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57680" y="3809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64160" y="380988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03920" y="3809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10400" y="3809880"/>
            <a:ext cx="237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53040" y="3809880"/>
            <a:ext cx="241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99280" y="380988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4048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45160" y="380988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83480" y="3809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89600" y="380988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35840" y="380988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75600" y="3809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81720" y="380988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2004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24720" y="380988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0960" y="380988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01216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16840" y="380988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255160" y="3809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261280" y="380988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507520" y="3809880"/>
            <a:ext cx="223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37560" y="3809880"/>
            <a:ext cx="2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991720" y="3809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39800" y="3816360"/>
            <a:ext cx="64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1880" y="3816360"/>
            <a:ext cx="61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92440" y="3816360"/>
            <a:ext cx="46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57400" y="3816360"/>
            <a:ext cx="504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32120" y="3816360"/>
            <a:ext cx="64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22680" y="3816360"/>
            <a:ext cx="504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88000" y="3816360"/>
            <a:ext cx="46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40480" y="3816360"/>
            <a:ext cx="46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20040" y="3816360"/>
            <a:ext cx="46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012160" y="3816360"/>
            <a:ext cx="46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3440" y="4105440"/>
            <a:ext cx="196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6840" y="4105440"/>
            <a:ext cx="414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85880" y="4105440"/>
            <a:ext cx="330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1600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20680" y="4105440"/>
            <a:ext cx="257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8276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39800" y="4105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46280" y="4105440"/>
            <a:ext cx="25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01880" y="4105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08000" y="4105440"/>
            <a:ext cx="258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66840" y="4105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7332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3540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69244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97120" y="4105440"/>
            <a:ext cx="260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57400" y="410544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6244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24160" y="4105440"/>
            <a:ext cx="246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76520" y="4105440"/>
            <a:ext cx="25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732120" y="4105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738600" y="4105440"/>
            <a:ext cx="258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97440" y="4105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03560" y="4105440"/>
            <a:ext cx="257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564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22680" y="410544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27720" y="4105440"/>
            <a:ext cx="260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8800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79268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54760" y="410544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16480" y="410544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57680" y="4105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4160" y="410544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03920" y="4105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810400" y="4105440"/>
            <a:ext cx="237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53040" y="4105440"/>
            <a:ext cx="241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99280" y="410544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4048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45160" y="4105440"/>
            <a:ext cx="238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3480" y="4105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89600" y="410544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035840" y="410544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75600" y="4105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281720" y="4105440"/>
            <a:ext cx="238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2004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524720" y="410544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770960" y="410544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01216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016840" y="4105440"/>
            <a:ext cx="238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55160" y="4105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61280" y="410544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07520" y="4105440"/>
            <a:ext cx="223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737560" y="4105440"/>
            <a:ext cx="2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991720" y="41054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39800" y="4111560"/>
            <a:ext cx="64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01880" y="4111560"/>
            <a:ext cx="6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92440" y="4111560"/>
            <a:ext cx="46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57400" y="4111560"/>
            <a:ext cx="5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32120" y="4111560"/>
            <a:ext cx="64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22680" y="4111560"/>
            <a:ext cx="5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88000" y="4111560"/>
            <a:ext cx="46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540480" y="4111560"/>
            <a:ext cx="46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520040" y="4111560"/>
            <a:ext cx="46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012160" y="4111560"/>
            <a:ext cx="46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3440" y="4365720"/>
            <a:ext cx="196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66840" y="4365720"/>
            <a:ext cx="414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5880" y="4365720"/>
            <a:ext cx="330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1600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120680" y="4365720"/>
            <a:ext cx="257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8276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39800" y="4365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646280" y="4365720"/>
            <a:ext cx="25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901880" y="43657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08000" y="4365720"/>
            <a:ext cx="258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66840" y="4365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7332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3540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69244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697120" y="4365720"/>
            <a:ext cx="260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57400" y="43657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96244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24160" y="4365720"/>
            <a:ext cx="246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476520" y="4365720"/>
            <a:ext cx="255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32120" y="4365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38600" y="4365720"/>
            <a:ext cx="2588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97440" y="43657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03560" y="4365720"/>
            <a:ext cx="257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6564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22680" y="43657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27720" y="4365720"/>
            <a:ext cx="260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78800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79268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054760" y="4365720"/>
            <a:ext cx="257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16480" y="436572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57680" y="4365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4160" y="436572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03920" y="43657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10400" y="4365720"/>
            <a:ext cx="237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53040" y="4365720"/>
            <a:ext cx="241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99280" y="436572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54048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45160" y="4365720"/>
            <a:ext cx="238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83480" y="43657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89600" y="436572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035840" y="436572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75600" y="43657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81720" y="4365720"/>
            <a:ext cx="238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2004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524720" y="436572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70960" y="4365720"/>
            <a:ext cx="241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1216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016840" y="4365720"/>
            <a:ext cx="238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255160" y="43657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261280" y="4365720"/>
            <a:ext cx="239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507520" y="4365720"/>
            <a:ext cx="223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737560" y="4365720"/>
            <a:ext cx="2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991720" y="43657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9800" y="4371840"/>
            <a:ext cx="64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01880" y="4371840"/>
            <a:ext cx="612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92440" y="4371840"/>
            <a:ext cx="46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57400" y="4371840"/>
            <a:ext cx="504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32120" y="4371840"/>
            <a:ext cx="64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22680" y="4371840"/>
            <a:ext cx="504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88000" y="4371840"/>
            <a:ext cx="46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540480" y="4371840"/>
            <a:ext cx="46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20040" y="4371840"/>
            <a:ext cx="46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12160" y="4371840"/>
            <a:ext cx="4680" cy="17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39800" y="4545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01880" y="45450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92440" y="454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957400" y="45450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732120" y="4545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22680" y="45450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788000" y="454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40480" y="454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20040" y="454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012160" y="454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991720" y="4545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39800" y="4549680"/>
            <a:ext cx="64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01880" y="4549680"/>
            <a:ext cx="612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92440" y="4549680"/>
            <a:ext cx="46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57400" y="4549680"/>
            <a:ext cx="504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732120" y="4549680"/>
            <a:ext cx="64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22680" y="4549680"/>
            <a:ext cx="504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88000" y="4549680"/>
            <a:ext cx="46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40480" y="4549680"/>
            <a:ext cx="46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520040" y="4549680"/>
            <a:ext cx="46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12160" y="4549680"/>
            <a:ext cx="4680" cy="14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3440" y="4699080"/>
            <a:ext cx="196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66840" y="4699080"/>
            <a:ext cx="41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85880" y="4699080"/>
            <a:ext cx="330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11600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20680" y="469908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8276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9800" y="4699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646280" y="469908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901880" y="4699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908000" y="469908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66840" y="4699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7332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3540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9244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697120" y="469908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57400" y="4699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6244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24160" y="4699080"/>
            <a:ext cx="246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476520" y="469908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32120" y="4699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38600" y="469908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97440" y="4699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03560" y="469908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6564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22680" y="4699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27720" y="469908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8800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9268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54760" y="469908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16480" y="469908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57680" y="4699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564160" y="469908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803920" y="4699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10400" y="4699080"/>
            <a:ext cx="237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53040" y="4699080"/>
            <a:ext cx="241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99280" y="469908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54048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545160" y="469908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783480" y="4699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89600" y="469908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035840" y="469908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275600" y="4699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81720" y="469908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52004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524720" y="469908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770960" y="469908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01216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016840" y="469908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255160" y="4699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261280" y="469908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507520" y="4699080"/>
            <a:ext cx="223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737560" y="4699080"/>
            <a:ext cx="254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991720" y="4699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639800" y="4703760"/>
            <a:ext cx="64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1880" y="4703760"/>
            <a:ext cx="612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92440" y="4703760"/>
            <a:ext cx="46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957400" y="4703760"/>
            <a:ext cx="504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732120" y="4703760"/>
            <a:ext cx="64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22680" y="4703760"/>
            <a:ext cx="504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88000" y="4703760"/>
            <a:ext cx="46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0480" y="4703760"/>
            <a:ext cx="46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20040" y="4703760"/>
            <a:ext cx="46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12160" y="4703760"/>
            <a:ext cx="468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639800" y="48499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901880" y="48499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92440" y="48499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957400" y="48499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2120" y="48499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22680" y="48499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499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540480" y="48499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20040" y="48499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12160" y="48499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991720" y="48499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39800" y="4856040"/>
            <a:ext cx="64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01880" y="4856040"/>
            <a:ext cx="612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692440" y="4856040"/>
            <a:ext cx="46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957400" y="4856040"/>
            <a:ext cx="504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32120" y="4856040"/>
            <a:ext cx="64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522680" y="4856040"/>
            <a:ext cx="504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88000" y="4856040"/>
            <a:ext cx="46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540480" y="4856040"/>
            <a:ext cx="46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20040" y="4856040"/>
            <a:ext cx="46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12160" y="4856040"/>
            <a:ext cx="4680" cy="15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639800" y="5018040"/>
            <a:ext cx="64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1880" y="5018040"/>
            <a:ext cx="612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692440" y="5018040"/>
            <a:ext cx="46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57400" y="5018040"/>
            <a:ext cx="504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732120" y="5018040"/>
            <a:ext cx="64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22680" y="5018040"/>
            <a:ext cx="504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88000" y="5018040"/>
            <a:ext cx="46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540480" y="5018040"/>
            <a:ext cx="46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520040" y="5018040"/>
            <a:ext cx="46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012160" y="5018040"/>
            <a:ext cx="4680" cy="16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3440" y="5180040"/>
            <a:ext cx="196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6840" y="5180040"/>
            <a:ext cx="41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5880" y="5180040"/>
            <a:ext cx="330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1600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120680" y="518004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38276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39800" y="51800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46280" y="518004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1880" y="518004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08000" y="518004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166840" y="51800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17332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43540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9244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97120" y="518004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57400" y="5180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244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4160" y="5180040"/>
            <a:ext cx="246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76520" y="5180040"/>
            <a:ext cx="255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732120" y="51800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38600" y="5180040"/>
            <a:ext cx="258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97440" y="518004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03560" y="5180040"/>
            <a:ext cx="257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26564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2680" y="5180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27720" y="5180040"/>
            <a:ext cx="260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8800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79268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54760" y="5180040"/>
            <a:ext cx="25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16480" y="518004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557680" y="51800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64160" y="518004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803920" y="51800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810400" y="5180040"/>
            <a:ext cx="237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053040" y="5180040"/>
            <a:ext cx="241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99280" y="518004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54048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545160" y="518004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83480" y="518004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89600" y="518004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035840" y="518004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75600" y="518004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281720" y="518004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52004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524720" y="518004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770960" y="5180040"/>
            <a:ext cx="241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01216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16840" y="5180040"/>
            <a:ext cx="238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255160" y="518004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261280" y="5180040"/>
            <a:ext cx="239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507520" y="5180040"/>
            <a:ext cx="223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737560" y="5180040"/>
            <a:ext cx="2541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991720" y="51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39800" y="5184720"/>
            <a:ext cx="64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01880" y="5184720"/>
            <a:ext cx="612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692440" y="5184720"/>
            <a:ext cx="46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957400" y="5184720"/>
            <a:ext cx="504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732120" y="5184720"/>
            <a:ext cx="64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22680" y="5184720"/>
            <a:ext cx="504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88000" y="5184720"/>
            <a:ext cx="46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540480" y="5184720"/>
            <a:ext cx="46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520040" y="5184720"/>
            <a:ext cx="46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012160" y="5184720"/>
            <a:ext cx="4680" cy="22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39800" y="54086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901880" y="54086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92440" y="54086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57400" y="540864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732120" y="54086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22680" y="540864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88000" y="54086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540480" y="54086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20040" y="54086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012160" y="54086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991720" y="54086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39800" y="5415120"/>
            <a:ext cx="64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901880" y="5415120"/>
            <a:ext cx="612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692440" y="541512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57400" y="5415120"/>
            <a:ext cx="504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32120" y="5415120"/>
            <a:ext cx="64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22680" y="5415120"/>
            <a:ext cx="504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788000" y="541512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540480" y="541512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520040" y="541512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012160" y="5415120"/>
            <a:ext cx="4680" cy="23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3440" y="5786280"/>
            <a:ext cx="1969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66840" y="5786280"/>
            <a:ext cx="414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85880" y="5786280"/>
            <a:ext cx="330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116000" y="57862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20680" y="5786280"/>
            <a:ext cx="2574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38276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9800" y="5653080"/>
            <a:ext cx="64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39800" y="5781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46280" y="5786280"/>
            <a:ext cx="255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1880" y="5653080"/>
            <a:ext cx="612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901880" y="5781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08000" y="5786280"/>
            <a:ext cx="258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166840" y="57862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17332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43540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92440" y="5653080"/>
            <a:ext cx="46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69244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697120" y="5786280"/>
            <a:ext cx="2602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957400" y="5653080"/>
            <a:ext cx="504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957400" y="5781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6244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24160" y="5786280"/>
            <a:ext cx="246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476520" y="5786280"/>
            <a:ext cx="255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32120" y="5653080"/>
            <a:ext cx="64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32120" y="5781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38600" y="5786280"/>
            <a:ext cx="258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97440" y="57862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03560" y="5786280"/>
            <a:ext cx="2574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6564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522680" y="5653080"/>
            <a:ext cx="504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522680" y="5781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527720" y="5786280"/>
            <a:ext cx="2602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88000" y="5653080"/>
            <a:ext cx="46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78800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9268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54760" y="5786280"/>
            <a:ext cx="25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16480" y="5786280"/>
            <a:ext cx="2412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557680" y="57862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64160" y="5786280"/>
            <a:ext cx="2397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803920" y="57862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400" y="5786280"/>
            <a:ext cx="2379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53040" y="5786280"/>
            <a:ext cx="241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99280" y="5786280"/>
            <a:ext cx="2412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540480" y="5653080"/>
            <a:ext cx="46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54048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45160" y="5786280"/>
            <a:ext cx="238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83480" y="57862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789600" y="5786280"/>
            <a:ext cx="2397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035840" y="5786280"/>
            <a:ext cx="2397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75600" y="57862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81720" y="5786280"/>
            <a:ext cx="238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520040" y="5653080"/>
            <a:ext cx="46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52004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24720" y="5786280"/>
            <a:ext cx="2412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70960" y="5786280"/>
            <a:ext cx="2412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012160" y="5653080"/>
            <a:ext cx="4680" cy="12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01216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016840" y="5786280"/>
            <a:ext cx="238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255160" y="57862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261280" y="5786280"/>
            <a:ext cx="2397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507520" y="5786280"/>
            <a:ext cx="223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737560" y="5786280"/>
            <a:ext cx="2541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99172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991720" y="5781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3440" y="5103720"/>
            <a:ext cx="196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6840" y="5103720"/>
            <a:ext cx="41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85880" y="5103720"/>
            <a:ext cx="330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116000" y="51037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120680" y="5103720"/>
            <a:ext cx="25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38276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646280" y="5103720"/>
            <a:ext cx="25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908000" y="5103720"/>
            <a:ext cx="258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66840" y="5103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17332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43540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697120" y="5103720"/>
            <a:ext cx="260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96244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24160" y="5103720"/>
            <a:ext cx="246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76520" y="5103720"/>
            <a:ext cx="255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738600" y="5103720"/>
            <a:ext cx="258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97440" y="51037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003560" y="5103720"/>
            <a:ext cx="257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26564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27720" y="5103720"/>
            <a:ext cx="260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79268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054760" y="5103720"/>
            <a:ext cx="257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16480" y="510372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57680" y="5103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564160" y="510372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803920" y="5103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810400" y="5103720"/>
            <a:ext cx="237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53040" y="5103720"/>
            <a:ext cx="241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299280" y="510372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45160" y="510372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783480" y="51037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789600" y="510372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35840" y="510372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275600" y="51037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281720" y="510372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524720" y="510372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770960" y="5103720"/>
            <a:ext cx="241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16840" y="5103720"/>
            <a:ext cx="238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255160" y="51037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61280" y="5103720"/>
            <a:ext cx="239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507520" y="5103720"/>
            <a:ext cx="223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737560" y="5103720"/>
            <a:ext cx="2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0" y="762120"/>
            <a:ext cx="9145440" cy="5638680"/>
            <a:chOff x="0" y="762120"/>
            <a:chExt cx="9145440" cy="5638680"/>
          </a:xfrm>
        </p:grpSpPr>
        <p:sp>
          <p:nvSpPr>
            <p:cNvPr id="1235" name=""/>
            <p:cNvSpPr/>
            <p:nvPr/>
          </p:nvSpPr>
          <p:spPr>
            <a:xfrm>
              <a:off x="0" y="762120"/>
              <a:ext cx="9145440" cy="56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889520" y="1111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89160" y="1119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668840" y="1246320"/>
              <a:ext cx="4460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68840" y="1254240"/>
              <a:ext cx="47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CENT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105520" y="1246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05160" y="1254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7320" y="11080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7320" y="11080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7320" y="11080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7320" y="11080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3440" y="110808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0360" y="11080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0360" y="11080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6840" y="110808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81200" y="11080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81200" y="11080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85880" y="1108080"/>
              <a:ext cx="82105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991720" y="11080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991720" y="11080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991720" y="11080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991720" y="11080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57320" y="1112760"/>
              <a:ext cx="1440" cy="40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60360" y="1112760"/>
              <a:ext cx="1440" cy="40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1200" y="1112760"/>
              <a:ext cx="1440" cy="40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200160" y="1111320"/>
              <a:ext cx="7970760" cy="829800"/>
              <a:chOff x="200160" y="1111320"/>
              <a:chExt cx="7970760" cy="829800"/>
            </a:xfrm>
          </p:grpSpPr>
          <p:sp>
            <p:nvSpPr>
              <p:cNvPr id="1261" name=""/>
              <p:cNvSpPr/>
              <p:nvPr/>
            </p:nvSpPr>
            <p:spPr>
              <a:xfrm>
                <a:off x="262080" y="111132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61720" y="111960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62080" y="1246320"/>
                <a:ext cx="2988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61720" y="125460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62080" y="138276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61720" y="139140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00160" y="1518120"/>
                <a:ext cx="19044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11680" y="1497600"/>
                <a:ext cx="16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mic Sans MS"/>
                  </a:rPr>
                  <a:t>PS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08080" y="1652760"/>
                <a:ext cx="13176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10960" y="1632240"/>
                <a:ext cx="124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mic Sans MS"/>
                  </a:rPr>
                  <a:t>n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12840" y="165276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2480" y="16610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3120" y="111132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72760" y="111960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73120" y="1246320"/>
                <a:ext cx="3024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72760" y="125460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57200" y="1382760"/>
                <a:ext cx="2714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57200" y="1391400"/>
                <a:ext cx="27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ARN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57200" y="1518120"/>
                <a:ext cx="27144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57200" y="152640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VHC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03200" y="1652760"/>
                <a:ext cx="35100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03200" y="1661040"/>
                <a:ext cx="361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(IU/ml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3040" y="165276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2680" y="16610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94932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4896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909720" y="1659600"/>
                <a:ext cx="83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09720" y="1667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9072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9036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949320" y="1794600"/>
                <a:ext cx="3024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948960" y="18032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4920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24884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20960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20960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28916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2888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51128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51092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47168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7132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55268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232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77480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77444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755720" y="1659600"/>
                <a:ext cx="3960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755720" y="1667880"/>
                <a:ext cx="45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79244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7920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036880" y="15228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03652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955880" y="1659600"/>
                <a:ext cx="1666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955880" y="1667880"/>
                <a:ext cx="16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A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11608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11572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29860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29824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266920" y="1659600"/>
                <a:ext cx="716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266560" y="1667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33352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33316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298600" y="1794600"/>
                <a:ext cx="30240" cy="14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298240" y="18032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563920" y="15228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56356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529000" y="1659600"/>
                <a:ext cx="712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528640" y="1667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59884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984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82564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82528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78120" y="1659600"/>
                <a:ext cx="10332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777760" y="16678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87640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87604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8772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08736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048120" y="1659600"/>
                <a:ext cx="83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4776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12732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2696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34800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34764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314880" y="1659600"/>
                <a:ext cx="712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314520" y="1667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38292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38256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60504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60468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567240" y="1659600"/>
                <a:ext cx="83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56688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64500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64464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86712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86676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832200" y="1659600"/>
                <a:ext cx="7776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831840" y="1667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0384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9034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129200" y="15228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12884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098960" y="1659600"/>
                <a:ext cx="6516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098600" y="166788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16088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16052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9416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9380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5456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54560" y="1667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3376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334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65624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65588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75240" y="1659600"/>
                <a:ext cx="1666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75240" y="1667880"/>
                <a:ext cx="16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D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73724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7368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91796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1760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7836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878360" y="1667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95936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9590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18328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8292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154480" y="1659600"/>
                <a:ext cx="6516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54120" y="166788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21496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6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43708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672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39748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39712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47848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47812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68332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68296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611680" y="1659600"/>
                <a:ext cx="1540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611680" y="1667880"/>
                <a:ext cx="153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B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75640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75604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92776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92740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92840" y="1659600"/>
                <a:ext cx="7776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89248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6412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96376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7364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17328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138720" y="1659600"/>
                <a:ext cx="716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138360" y="1667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20856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2082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988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1952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345360" y="1659600"/>
                <a:ext cx="15372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345360" y="1667880"/>
                <a:ext cx="16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C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9440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9404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62880" y="15228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66252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642000" y="1659600"/>
                <a:ext cx="460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641280" y="1667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8484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6844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90876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90840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86916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86880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016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9498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15644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15608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11504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115040" y="1667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19604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1956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39944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39908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348680" y="1659600"/>
                <a:ext cx="1094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348320" y="1667880"/>
                <a:ext cx="115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453440" y="1659600"/>
                <a:ext cx="2988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45308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4532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4496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60572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605360" y="1667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8492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68456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9156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89120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854840" y="1659600"/>
                <a:ext cx="84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54840" y="16678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31160" y="16596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30800" y="166788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136000" y="1522800"/>
                <a:ext cx="3024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135640" y="153144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105760" y="1659600"/>
                <a:ext cx="6516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105040" y="1667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8167680" y="16588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67320" y="16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81880" y="152244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381520" y="15318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44080" y="1658880"/>
              <a:ext cx="77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43720" y="16686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418600" y="16588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418240" y="16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620200" y="1525680"/>
              <a:ext cx="23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619480" y="153360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47120" y="1633680"/>
              <a:ext cx="1490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534160" y="1676520"/>
              <a:ext cx="15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700" spc="-1" strike="noStrike">
                  <a:solidFill>
                    <a:srgbClr val="3333cc"/>
                  </a:solidFill>
                  <a:latin typeface="Times New Roman"/>
                </a:rPr>
                <a:t>LC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720280" y="1633680"/>
              <a:ext cx="23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719560" y="164160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866080" y="1525680"/>
              <a:ext cx="23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865360" y="153360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777160" y="1633680"/>
              <a:ext cx="1796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777160" y="164160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3333cc"/>
                  </a:solidFill>
                  <a:latin typeface="Times New Roman"/>
                </a:rPr>
                <a:t>T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951760" y="1633680"/>
              <a:ext cx="241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951040" y="164160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7320" y="1521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5732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60360" y="1521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036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1200" y="1521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120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639800" y="1521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639800" y="1521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901880" y="1521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90188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166840" y="1521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66840" y="1521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692440" y="1521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9244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57400" y="15210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957400" y="1521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219480" y="1521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1948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70400" y="1521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47040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32120" y="1521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32120" y="1521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997440" y="1521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997440" y="1521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5732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6036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8120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3980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0188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66840" y="1525680"/>
              <a:ext cx="6480" cy="40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16684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69244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5740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1948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47040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3212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997440" y="1525680"/>
              <a:ext cx="6120" cy="40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99744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52268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78800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4972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4836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29460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54048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83480" y="1525680"/>
              <a:ext cx="6120" cy="40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8348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2936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275600" y="1525680"/>
              <a:ext cx="6120" cy="40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560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52004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76592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01216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255160" y="1525680"/>
              <a:ext cx="6120" cy="40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25516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0104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56640" y="1525680"/>
              <a:ext cx="144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3280" y="1936800"/>
              <a:ext cx="716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35080" y="1916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89080" y="1936800"/>
              <a:ext cx="50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97720" y="191628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46120" y="193680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45400" y="194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0156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120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63640" y="19368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62200" y="19447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3356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3320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2492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2488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1128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51092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7748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744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036880" y="19368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03652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986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2982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563920" y="19368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56356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2564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2528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8772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08736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3480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3476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0504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0468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6712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6676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129200" y="19368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1288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336920" y="19368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35840" y="1944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4496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4492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00440" y="19368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99360" y="1944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71168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1132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862520" y="19368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861440" y="1944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752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748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127480" y="19368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126400" y="19447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354640" y="19368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53200" y="19447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600880" y="193680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599440" y="19447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92776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92740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7364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7328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1988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1952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62880" y="19368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6252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26320" y="193680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824880" y="19447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99444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99408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5644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5608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39944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39908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562880" y="19368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561440" y="19447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7310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7306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89156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89120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1360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1356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298000" y="193680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296560" y="19447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46756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46720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62020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61984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866080" y="19368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865720" y="1944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5732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732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63440" y="193356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6036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6036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66840" y="193356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120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8120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85880" y="193356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20680" y="193356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8276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3980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63980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646280" y="193356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0188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0188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908000" y="193356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6684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16684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7332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43540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9244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69244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697120" y="193356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957400" y="19335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5740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6244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21948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21948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224160" y="193356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47040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47040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476520" y="193356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73212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73212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738600" y="193356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9744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99744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003560" y="193356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26564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2680" y="19335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2268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27720" y="193356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8800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78800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79268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49720" y="19335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04972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054760" y="19335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316480" y="19335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64160" y="19335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10400" y="193356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4836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4836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53040" y="193356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29460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29460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99280" y="19335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54048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4048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45160" y="19335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78348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78348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89600" y="19335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936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2936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035840" y="19335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7560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60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281720" y="19335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2004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2004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524720" y="19335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65920" y="19335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76592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70960" y="19335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01216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01216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016840" y="19335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55160" y="19335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25516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261280" y="19335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50104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50104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507520" y="193356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75664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75664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737560" y="193356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991720" y="19335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991720" y="19335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732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6036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8120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980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0188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66840" y="1940040"/>
              <a:ext cx="648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16684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69244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5740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21948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47040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73212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97440" y="1940040"/>
              <a:ext cx="612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99744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52268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78800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04972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4836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9460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4048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783480" y="1940040"/>
              <a:ext cx="612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78348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02936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275600" y="1940040"/>
              <a:ext cx="612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560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2004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6592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1216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255160" y="1940040"/>
              <a:ext cx="6120" cy="25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25516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50104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756640" y="1940040"/>
              <a:ext cx="144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33280" y="2200320"/>
              <a:ext cx="716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35080" y="2181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89080" y="2200320"/>
              <a:ext cx="50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97720" y="218124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15880" y="2200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800" y="22096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85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282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93880" y="2200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92800" y="22096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065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062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166760" y="2200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65320" y="22096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1128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1092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77480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7444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036880" y="2200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3652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9860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29824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63920" y="2200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6356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82564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82528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08772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08736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34800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4764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60504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60468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86712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86676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129200" y="2200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12884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3941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3938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00440" y="2200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599360" y="22096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71168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71132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35520" y="2200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34080" y="22096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00364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00328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00480" y="2200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099040" y="22096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54640" y="2200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53200" y="22096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600880" y="22003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599440" y="22096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9277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9274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17364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7328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64440" y="2200320"/>
              <a:ext cx="1155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363360" y="22096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7532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47496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62880" y="2200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66252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9087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9084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15644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15608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9944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39908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89880" y="2200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588800" y="22096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01120" y="2200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0076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8915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8912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13600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13564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298000" y="22003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296560" y="22096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46756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46720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862020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61984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866080" y="2200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865720" y="2209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5732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5732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3440" y="2198520"/>
              <a:ext cx="196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036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036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66840" y="2198520"/>
              <a:ext cx="414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120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120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5880" y="2198520"/>
              <a:ext cx="330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20680" y="219852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8276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63980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63980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646280" y="219852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90188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0188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08000" y="219852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684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684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7332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3540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9244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69244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97120" y="219852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957400" y="21985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5740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6244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1948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1948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24160" y="2198520"/>
              <a:ext cx="246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47040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47040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76520" y="219852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73212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73212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38600" y="219852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99744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99744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003560" y="219852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26564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522680" y="21985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52268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527720" y="219852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78800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78800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79268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049720" y="21985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04972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54760" y="21985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316480" y="21985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564160" y="21985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10400" y="2198520"/>
              <a:ext cx="237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4836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04836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053040" y="2198520"/>
              <a:ext cx="241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9460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29460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299280" y="21985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54048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54048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545160" y="21985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78348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78348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789600" y="21985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2936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02936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035840" y="21985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560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7560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281720" y="21985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52004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52004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524720" y="21985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765920" y="21985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76592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770960" y="21985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01216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01216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16840" y="21985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255160" y="2198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25516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261280" y="21985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50104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50104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507520" y="2198520"/>
              <a:ext cx="223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75664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75664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737560" y="2198520"/>
              <a:ext cx="254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991720" y="21985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991720" y="21985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732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6036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8120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63980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90188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166840" y="2205000"/>
              <a:ext cx="648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16684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9244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95740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21948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47040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73212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997440" y="2205000"/>
              <a:ext cx="6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9744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52268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78800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04972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04836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9460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54048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783480" y="2205000"/>
              <a:ext cx="6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8348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02936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75600" y="2205000"/>
              <a:ext cx="6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7560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52004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76592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01216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255160" y="2205000"/>
              <a:ext cx="6120" cy="241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25516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850104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756640" y="2205000"/>
              <a:ext cx="144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33280" y="2448000"/>
              <a:ext cx="716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5080" y="24271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89080" y="2448000"/>
              <a:ext cx="50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97720" y="242712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5880" y="2448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480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2856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820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863640" y="244800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62200" y="2455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3356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3320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93760" y="2448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19268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55840" y="2448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45476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56852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56816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77480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77444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036880" y="2448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03652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29860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9824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563920" y="2448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56356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82564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82528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08772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8736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4800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4764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60504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60468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6712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6676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129200" y="2448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12884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39416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39380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65624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65588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835520" y="244800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834080" y="2455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00364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00328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127480" y="2448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12640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54640" y="244800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53200" y="2455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657760" y="2448000"/>
              <a:ext cx="58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657040" y="245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92776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2740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17364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17328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64440" y="2448000"/>
              <a:ext cx="11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6336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47532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47496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62880" y="2448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66252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90876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90840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99200" y="2448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9812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1188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21152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39944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39908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64532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64496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89156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89120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13600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13564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325000" y="2448000"/>
              <a:ext cx="11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32392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437680" y="2448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43732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62020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61984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866080" y="2448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865720" y="2455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5732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5732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63440" y="2446200"/>
              <a:ext cx="196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6036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6036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66840" y="2446200"/>
              <a:ext cx="414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8120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8120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85880" y="2446200"/>
              <a:ext cx="330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20680" y="244620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38276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63980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63980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646280" y="244620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90188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90188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908000" y="244620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16684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6684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17332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43540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69244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69244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697120" y="244620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957400" y="244620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95740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96244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21948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21948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224160" y="2446200"/>
              <a:ext cx="246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7040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7040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76520" y="244620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3212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3212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738600" y="244620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9744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99744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003560" y="244620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26564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522680" y="244620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52268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527720" y="244620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8800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78800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79268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049720" y="244620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04972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054760" y="244620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316480" y="244620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564160" y="244620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810400" y="2446200"/>
              <a:ext cx="237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04836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04836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053040" y="2446200"/>
              <a:ext cx="241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29460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29460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299280" y="244620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4048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4048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45160" y="244620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78348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8348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789600" y="244620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02936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02936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35840" y="244620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27560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27560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81720" y="244620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2004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52004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524720" y="244620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765920" y="244620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76592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770960" y="244620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1216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01216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016840" y="244620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255160" y="24462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25516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261280" y="244620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50104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0104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507520" y="2446200"/>
              <a:ext cx="223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75664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75664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737560" y="2446200"/>
              <a:ext cx="254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991720" y="244620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991720" y="24462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732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6036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120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63980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90188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166840" y="2451240"/>
              <a:ext cx="648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16684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69244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95740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21948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7040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73212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97440" y="2451240"/>
              <a:ext cx="612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9744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52268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78800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04972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04836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29460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54048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3480" y="2451240"/>
              <a:ext cx="612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8348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02936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275600" y="2451240"/>
              <a:ext cx="612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560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2004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76592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01216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255160" y="2451240"/>
              <a:ext cx="6120" cy="21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25516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50104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756640" y="2451240"/>
              <a:ext cx="144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33280" y="2668680"/>
              <a:ext cx="716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35080" y="2647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89080" y="2668680"/>
              <a:ext cx="50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97720" y="264780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88880" y="266868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44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5880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5844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93880" y="266868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92800" y="26766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00656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00620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166760" y="266868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16532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455840" y="266868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54760" y="26766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6852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6816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690560" y="266868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68912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90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586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036880" y="266868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03652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29860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29824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563920" y="266868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56356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8256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8252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08772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08736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34800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34764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050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6046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86712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86676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129200" y="266868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2884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39416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9380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6562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6558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1796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91760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100480" y="266868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09904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81640" y="266868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380560" y="26766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627520" y="266868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626440" y="26766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2776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2740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1736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1732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337440" y="2668680"/>
              <a:ext cx="1728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33600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50556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50520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662880" y="266868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6252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90876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90840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072200" y="266868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07076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24068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24032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3994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3990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64532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4496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808760" y="266868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807320" y="26766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97724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97688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13600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13564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38188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38152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2020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61984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866080" y="266868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865720" y="2676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5732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6036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120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63980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0188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166840" y="26719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16684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69244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95740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21948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47040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3212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997440" y="267192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9744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2268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78800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04972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04836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9460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54048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783480" y="267192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78348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02936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275600" y="267192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27560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52004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76592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01216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255160" y="267192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25516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50104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756640" y="2671920"/>
              <a:ext cx="144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33280" y="2924280"/>
              <a:ext cx="716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35080" y="2905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89080" y="2924280"/>
              <a:ext cx="50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97720" y="290520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88880" y="292428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8744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5880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5844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63640" y="292428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6220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03356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03320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166760" y="292428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16532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455840" y="292428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454760" y="29336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56852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56816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717560" y="292428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716480" y="29336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302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8298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979640" y="292428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978560" y="29336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09232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09196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29860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29824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563920" y="292428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6356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8256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8252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08772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08736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34800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34764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6050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6046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86712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86676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29200" y="292428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2884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9416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39380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6562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6558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91796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760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18328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18292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410080" y="2924280"/>
              <a:ext cx="5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409360" y="2933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00880" y="292428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59944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2776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2740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1736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1732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292428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3600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0556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50520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662880" y="292428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66252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90876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90840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072200" y="292428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07076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24068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4032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3994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0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64532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64496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808760" y="292428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80732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97724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97688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3600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3564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38188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38152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562960" y="292428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561520" y="29336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648640" y="30607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64828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866080" y="292428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865720" y="2933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5732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6036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8120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63980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90188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166840" y="2927520"/>
              <a:ext cx="648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16684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9244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95740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21948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47040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212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997440" y="29275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99744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52268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78800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04972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04836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9460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54048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783480" y="29275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78348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02936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5600" y="29275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27560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52004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76592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1216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255160" y="29275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25516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50104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756640" y="29275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33280" y="3203640"/>
              <a:ext cx="716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5080" y="31827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9080" y="3203640"/>
              <a:ext cx="50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97720" y="318276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60440" y="3203640"/>
              <a:ext cx="2300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58640" y="321156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84360" y="320364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8400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93880" y="320364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9280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00656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00620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166760" y="320364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165320" y="321156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455840" y="320364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45476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56852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5681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690560" y="320364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689120" y="321156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90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8586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979640" y="320364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97856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9232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919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243160" y="320364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24208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563920" y="320364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5635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8256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252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08772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0873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34800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34764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6050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6046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86712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8667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129200" y="320364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2884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39416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39380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6562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6558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91796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91760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18328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18292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627520" y="320364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2644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2776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92740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1736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1732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364440" y="3203640"/>
              <a:ext cx="11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36336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7532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749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662880" y="320364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66252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0876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0840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129440" y="320364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2872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8488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8452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3994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990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64532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64496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808760" y="320364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807320" y="321156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9772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9768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13600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13564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38188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38152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562960" y="320364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561880" y="32115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68824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68788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866080" y="320364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865720" y="3211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5732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5732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63440" y="3198960"/>
              <a:ext cx="1969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6036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6036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66840" y="3198960"/>
              <a:ext cx="4143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8120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120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85880" y="3198960"/>
              <a:ext cx="330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20680" y="3198960"/>
              <a:ext cx="2574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38276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63980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63980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646280" y="3198960"/>
              <a:ext cx="2556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90188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90188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908000" y="3198960"/>
              <a:ext cx="2588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16684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6684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17332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3540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69244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69244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7120" y="3198960"/>
              <a:ext cx="2602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957400" y="3198960"/>
              <a:ext cx="5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95740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96244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21948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21948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24160" y="3198960"/>
              <a:ext cx="2462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47040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7040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476520" y="3198960"/>
              <a:ext cx="2556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73212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3212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738600" y="3198960"/>
              <a:ext cx="2588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99744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99744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003560" y="3198960"/>
              <a:ext cx="2574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26564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522680" y="3198960"/>
              <a:ext cx="5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52268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527720" y="3198960"/>
              <a:ext cx="2602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78800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78800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79268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049720" y="3198960"/>
              <a:ext cx="5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04972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054760" y="3198960"/>
              <a:ext cx="257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16480" y="3198960"/>
              <a:ext cx="241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564160" y="3198960"/>
              <a:ext cx="239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810400" y="3198960"/>
              <a:ext cx="2379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04836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4836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53040" y="3198960"/>
              <a:ext cx="2415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29460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29460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299280" y="3198960"/>
              <a:ext cx="241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048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54048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545160" y="3198960"/>
              <a:ext cx="2383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78348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78348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789600" y="3198960"/>
              <a:ext cx="239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02936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02936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035840" y="3198960"/>
              <a:ext cx="239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27560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27560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281720" y="3198960"/>
              <a:ext cx="2383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52004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52004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524720" y="3198960"/>
              <a:ext cx="241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765920" y="3198960"/>
              <a:ext cx="5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76592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770960" y="3198960"/>
              <a:ext cx="2412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801216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01216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016840" y="3198960"/>
              <a:ext cx="2383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255160" y="3198960"/>
              <a:ext cx="612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25516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261280" y="3198960"/>
              <a:ext cx="2397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850104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850104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507520" y="3198960"/>
              <a:ext cx="2235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875664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75664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737560" y="3198960"/>
              <a:ext cx="25416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991720" y="31989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991720" y="3198960"/>
              <a:ext cx="144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5732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6036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8120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63980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90188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166840" y="3205080"/>
              <a:ext cx="648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16684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69244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95740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21948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47040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73212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997440" y="3205080"/>
              <a:ext cx="612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99744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52268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78800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04972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4836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29460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4048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783480" y="3205080"/>
              <a:ext cx="612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78348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02936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5600" y="3205080"/>
              <a:ext cx="612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27560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52004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6592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01216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255160" y="3205080"/>
              <a:ext cx="612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25516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50104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756640" y="3205080"/>
              <a:ext cx="144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33280" y="3448080"/>
              <a:ext cx="716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35080" y="3427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89080" y="3448080"/>
              <a:ext cx="507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7720" y="342756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6120" y="344808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45400" y="3456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0156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0120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9493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9489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193760" y="344808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192680" y="34560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455840" y="344808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454760" y="34560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5685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5681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690560" y="344808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689120" y="34560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8590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8586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009880" y="344808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009160" y="3456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0653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0649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216160" y="344808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214720" y="34560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506680" y="344808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505600" y="34560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61936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61900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8256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8252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77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0873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34800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34764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6050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6046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8671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8667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129200" y="344808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12884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39416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39380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6562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6558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91796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91760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18328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18292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6833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6829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870520" y="344808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869440" y="34560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98320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98284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1736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1732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337440" y="344808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336000" y="34560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50556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50520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662880" y="344808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66252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90876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90840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072200" y="344808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070760" y="34560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24068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4032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3994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3990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64532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64496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835760" y="344808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834680" y="34560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94844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94808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13600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13564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38188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838152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8550360" y="344808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8548920" y="345600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648640" y="3584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8648280" y="3592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8866080" y="344808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8865720" y="3456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5732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5732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63440" y="342900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036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6036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6840" y="342900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8120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8120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85880" y="342900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120680" y="342900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38276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63980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63980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646280" y="342900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90188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90188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908000" y="342900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16684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16684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17332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43540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69244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69244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697120" y="342900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957400" y="34290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95740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96244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21948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21948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224160" y="342900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47040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47040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476520" y="342900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3212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3212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738600" y="342900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99744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99744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003560" y="342900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26564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522680" y="34290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52268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527720" y="342900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78800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8800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79268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49720" y="34290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04972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054760" y="34290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316480" y="34290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64160" y="34290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810400" y="342900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04836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04836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053040" y="342900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29460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29460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299280" y="34290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54048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54048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545160" y="34290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78348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78348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789600" y="34290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02936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02936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35840" y="34290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27560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560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281720" y="34290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52004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52004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524720" y="34290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765920" y="34290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76592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770960" y="34290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01216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01216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016840" y="34290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255160" y="34290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25516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261280" y="34290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50104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50104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507520" y="342900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75664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75664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737560" y="342900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991720" y="34290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991720" y="34290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5732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6036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8120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63980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90188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166840" y="3451320"/>
              <a:ext cx="648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16684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69244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95740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21948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47040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73212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997440" y="34513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99744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2268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78800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04972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04836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29460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048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783480" y="34513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78348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2936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275600" y="34513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27560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52004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76592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01216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55160" y="345132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5516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50104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756640" y="345132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33280" y="3726000"/>
              <a:ext cx="716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35080" y="37051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9080" y="3726000"/>
              <a:ext cx="50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97720" y="370512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1588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1480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285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282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94932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94896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24920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24884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428840" y="3726000"/>
              <a:ext cx="1728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427400" y="3733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5969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5966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71756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71648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8302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8298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52640" y="372600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951200" y="3733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1225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222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24316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24208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50668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50560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6193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6190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77020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76912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881440" y="3726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8810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08772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08736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4800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4764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6050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6046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86712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86676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129200" y="3726000"/>
              <a:ext cx="298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12884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3941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3938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6562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6558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9179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9176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18328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18292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8332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8296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845320" y="3726000"/>
              <a:ext cx="1728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43880" y="3733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134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0130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1736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1732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41988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41952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580080" y="3726000"/>
              <a:ext cx="1731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578640" y="3733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7485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7482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0876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0840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09920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09812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1188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21152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3994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3990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64532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64496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835760" y="3726000"/>
              <a:ext cx="1159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834680" y="3733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94844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94808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3600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3564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38188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38152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50360" y="3726000"/>
              <a:ext cx="1728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48920" y="37339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866080" y="3726000"/>
              <a:ext cx="30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865720" y="3733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5732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5732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63440" y="365760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6036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6036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66840" y="365760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8120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8120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85880" y="365760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120680" y="365760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38276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63980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63980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646280" y="365760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190188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90188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908000" y="365760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16684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16684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17332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43540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69244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69244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697120" y="365760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957400" y="36576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95740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96244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1948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21948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224160" y="365760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47040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47040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476520" y="365760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73212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73212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738600" y="365760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99744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99744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003560" y="365760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26564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522680" y="36576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52268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527720" y="365760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78800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78800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79268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049720" y="36576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04972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054760" y="365760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316480" y="36576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564160" y="36576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810400" y="365760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04836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04836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053040" y="365760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29460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29460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299280" y="36576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4048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4048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545160" y="36576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78348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78348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789600" y="36576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02936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02936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035840" y="36576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7560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7560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81720" y="36576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52004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2004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24720" y="36576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765920" y="36576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76592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770960" y="365760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01216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01216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016840" y="36576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255160" y="36576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25516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261280" y="365760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104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0104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07520" y="365760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5664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5664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37560" y="365760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991720" y="365760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991720" y="36576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5732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6036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8120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63980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90188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166840" y="3727440"/>
              <a:ext cx="648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16684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69244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95740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21948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47040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73212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997440" y="372744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99744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52268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78800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04972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04836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29460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4048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783480" y="372744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78348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02936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275600" y="372744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560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52004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76592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01216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255160" y="3727440"/>
              <a:ext cx="6120" cy="27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25516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50104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56640" y="3727440"/>
              <a:ext cx="144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33280" y="4002120"/>
              <a:ext cx="716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35080" y="39816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89080" y="4002120"/>
              <a:ext cx="50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97720" y="398160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1588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1480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285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282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94932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94896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24920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24884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51128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151092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71756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71648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8302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8298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952640" y="40021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951200" y="4010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1225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1222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24316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24208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50668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50560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6193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6190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77020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76912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1440" y="40021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8810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005280" y="40021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003840" y="4010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17340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17304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34800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34764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36050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6046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386712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86676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129200" y="40021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12884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3941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3938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6562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6558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9179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9176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18328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18292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68332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68296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845320" y="40021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43880" y="4010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0134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0130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736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732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41988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41952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60708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60600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7197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7194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90876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90840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1564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1560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316640" y="40021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315200" y="4010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48512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48476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64532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4496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83576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83468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9484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9480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13600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13564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38188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38152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562960" y="40021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561880" y="4010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68824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68788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6080" y="40021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865720" y="4010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5732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6036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8120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3980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90188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66840" y="4005360"/>
              <a:ext cx="648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6684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69244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95740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21948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47040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73212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997440" y="4005360"/>
              <a:ext cx="612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99744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52268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78800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04972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4836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29460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54048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783480" y="4005360"/>
              <a:ext cx="612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78348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02936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275600" y="4005360"/>
              <a:ext cx="612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27560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2004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76592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01216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55160" y="4005360"/>
              <a:ext cx="612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5516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50104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756640" y="4005360"/>
              <a:ext cx="144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06280" y="4316400"/>
              <a:ext cx="1414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240" y="42958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175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171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8880" y="43164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744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5880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5844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9493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9489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24920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24884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51128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51092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77480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77444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952640" y="43164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95120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1225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1222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243160" y="43164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242080" y="43243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506680" y="43164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505600" y="43243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6193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6190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743200" y="43164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74176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9113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9109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032280" y="4316400"/>
              <a:ext cx="11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031200" y="43243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144960" y="43164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1446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290760" y="43164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289680" y="43243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40344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4030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60504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6046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8671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8667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129200" y="43164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12884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3941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3938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65624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58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9179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9176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18328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18292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6833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6829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845320" y="431640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84388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01344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130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17364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1732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41988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41952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607080" y="431640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606360" y="4324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662880" y="431640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662160" y="4324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7197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7194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087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9084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5644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1560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316640" y="43164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31520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4851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4847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64532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64496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9156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9120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051760" y="43164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05032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220240" y="43164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1988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8188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38152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550360" y="431640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548920" y="43243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866080" y="43164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865720" y="43243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5732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6036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120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63980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90188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166840" y="4319640"/>
              <a:ext cx="6480" cy="2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16684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69244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95740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21948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47040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73212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997440" y="4319640"/>
              <a:ext cx="6120" cy="2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99744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52268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78800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04972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604836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629460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654048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783480" y="4319640"/>
              <a:ext cx="6120" cy="2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78348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02936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275600" y="4319640"/>
              <a:ext cx="6120" cy="2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560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52004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6592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01216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255160" y="4319640"/>
              <a:ext cx="6120" cy="27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25516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50104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756640" y="4319640"/>
              <a:ext cx="144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06280" y="4592520"/>
              <a:ext cx="1414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10240" y="45720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1752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1716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8880" y="4592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8744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588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584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94932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94896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2492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2488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51128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5109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17748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17744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036880" y="4592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0365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216160" y="4592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21472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481120" y="4592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47968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6496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6492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43200" y="4592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4176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91132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91096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005280" y="459252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00384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1734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1730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290760" y="4592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89680" y="4600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40344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40308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548160" y="4592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547080" y="4600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66084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66048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86712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86676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129200" y="4592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1288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39416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39380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65624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65588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91796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91760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18328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1829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68332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68296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70520" y="4592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869440" y="4600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9832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9828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617364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17328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641988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64195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580080" y="4592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57864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74856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74820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90876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90840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15644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15608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343640" y="4592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342560" y="4600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45488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4545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64532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64496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89156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89120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078760" y="4592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077680" y="4600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19144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19108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38188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3815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620200" y="4592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61984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80400" y="4592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78960" y="4600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2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948880" y="4592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948520" y="4600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5732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36036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8120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63980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190188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166840" y="4595760"/>
              <a:ext cx="648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216684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269244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95740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21948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47040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73212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997440" y="4595760"/>
              <a:ext cx="61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99744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52268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78800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04972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604836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29460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54048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783480" y="4595760"/>
              <a:ext cx="61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78348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02936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275600" y="4595760"/>
              <a:ext cx="61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27560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52004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76592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1216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255160" y="4595760"/>
              <a:ext cx="6120" cy="1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25516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50104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756640" y="4595760"/>
              <a:ext cx="144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06280" y="4781520"/>
              <a:ext cx="1414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10240" y="476100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1752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1716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60440" y="4781520"/>
              <a:ext cx="2300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58640" y="478944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684360" y="4781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840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94932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94896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24920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24884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51128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5109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177480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177444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036880" y="4781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0365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29860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29824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506680" y="4781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505600" y="4789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6193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6190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743200" y="4781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741760" y="4789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91132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91096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005280" y="478152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03840" y="4789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17340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7304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290760" y="4781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289680" y="4789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40344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40308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521160" y="478152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519720" y="4789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68928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6889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809880" y="4781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808800" y="4789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9225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9222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129200" y="4781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12884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3941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3938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65624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65588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9179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9176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18328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1829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68332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68296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845320" y="478152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843880" y="4789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01344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01308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17364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17328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41988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4195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580080" y="4781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578640" y="4789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7485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7482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9087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9084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15644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15608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343640" y="4781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342560" y="4789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45488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4545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64532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64496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89156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89120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078760" y="478152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077680" y="47894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19144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19108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38188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3815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620200" y="478152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61984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780400" y="478152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778960" y="47894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948880" y="478152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948520" y="4789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15732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6036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8120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63980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90188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166840" y="4784760"/>
              <a:ext cx="648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16684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69244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95740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21948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47040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73212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997440" y="4784760"/>
              <a:ext cx="612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99744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52268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78800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04972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04836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29460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54048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783480" y="4784760"/>
              <a:ext cx="612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78348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02936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275600" y="4784760"/>
              <a:ext cx="612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27560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52004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76592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01216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255160" y="4784760"/>
              <a:ext cx="6120" cy="15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25516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50104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756640" y="4784760"/>
              <a:ext cx="144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06280" y="4944960"/>
              <a:ext cx="141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10240" y="492444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1752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31716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546120" y="4944960"/>
              <a:ext cx="5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45400" y="4952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6015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6012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94932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94896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24920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24884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51128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5109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77480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77444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036880" y="4944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0365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29860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29824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63920" y="4944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6356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743200" y="4944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741760" y="4952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1132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91096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032280" y="4944960"/>
              <a:ext cx="1155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31200" y="4952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144960" y="4944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31446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290760" y="4944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289680" y="4952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40344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40308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548160" y="4944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547080" y="4952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66084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66048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782880" y="4944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781440" y="4952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95280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95244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046400" y="4944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044960" y="4952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3941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43938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465624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465588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49179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9176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18328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1829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568332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68296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9277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9274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116760" y="4944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115680" y="4952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22944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22908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41988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4195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580080" y="4944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578640" y="4952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7485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7482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9087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9084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15644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5608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343640" y="4944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342560" y="4952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45488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4545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64532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64496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89156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89120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8078760" y="4944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077680" y="4952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819144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19108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838188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3815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8620200" y="4944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61984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780400" y="4944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778960" y="4952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6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948880" y="4944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948520" y="4952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5732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5732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63440" y="494352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6036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6036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66840" y="494352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78120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78120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85880" y="494352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120680" y="494352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38276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63980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63980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1646280" y="494352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190188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190188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1908000" y="494352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16684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16684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17332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43540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69244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69244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697120" y="494352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57400" y="49435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95740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96244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21948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21948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224160" y="494352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47040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47040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476520" y="494352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73212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73212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738600" y="494352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99744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99744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003560" y="494352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26564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522680" y="49435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52268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527720" y="494352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78800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8800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9268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049720" y="49435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04972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054760" y="49435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316480" y="49435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5564160" y="49435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810400" y="494352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04836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04836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053040" y="494352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29460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29460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299280" y="49435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54048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54048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545160" y="494352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78348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78348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789600" y="49435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02936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702936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035840" y="49435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27560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27560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7281720" y="494352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52004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52004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524720" y="49435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765920" y="49435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76592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770960" y="49435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801216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801216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8016840" y="494352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255160" y="49435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825516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8261280" y="49435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850104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850104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8507520" y="494352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75664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75664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737560" y="494352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991720" y="49435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991720" y="49435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15732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6036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8120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163980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190188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166840" y="4948200"/>
              <a:ext cx="648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16684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69244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5740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21948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47040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73212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997440" y="4948200"/>
              <a:ext cx="612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99744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52268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78800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04972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04836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29460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54048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783480" y="4948200"/>
              <a:ext cx="612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78348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02936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275600" y="4948200"/>
              <a:ext cx="612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27560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52004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76592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801216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8255160" y="4948200"/>
              <a:ext cx="6120" cy="15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825516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50104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756640" y="4948200"/>
              <a:ext cx="144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06280" y="5106960"/>
              <a:ext cx="141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10240" y="508644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1752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1716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15880" y="5106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14800" y="5114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62856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2820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94932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94896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92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488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51128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5109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7748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7744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036880" y="5106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0365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2986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2982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563920" y="5106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56356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82564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82528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060720" y="5106960"/>
              <a:ext cx="5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060000" y="5114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3117960" y="5106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11760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290760" y="5106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289680" y="5114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40344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340308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521160" y="510696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519720" y="5114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368928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36889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782880" y="5106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781440" y="5114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9528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24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046400" y="5106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044960" y="5114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336920" y="5106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335840" y="5114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4496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4492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65624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65588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91796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91760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18328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1829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68332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68296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92776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92740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6091200" y="5106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6089760" y="5114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6259680" y="5106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2593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41988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4195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6662880" y="5106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6625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853320" y="5106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6852240" y="5114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69660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9656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715644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15608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343640" y="5106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7342560" y="5114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745488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4545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64532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64496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89156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89120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8078760" y="5106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8077680" y="5114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819144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819108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838188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83815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8620200" y="5106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861984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8780400" y="5106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8778960" y="5114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8948880" y="5106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8948520" y="5114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5732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5732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63440" y="5103720"/>
              <a:ext cx="196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36036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36036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366840" y="5103720"/>
              <a:ext cx="414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78120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8120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85880" y="5103720"/>
              <a:ext cx="330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120680" y="510372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38276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63980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63980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646280" y="510372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90188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90188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908000" y="510372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16684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16684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17332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43540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69244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69244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697120" y="510372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957400" y="51037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95740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96244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21948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21948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224160" y="5103720"/>
              <a:ext cx="246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347040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347040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3476520" y="510372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373212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73212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3738600" y="510372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399744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399744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003560" y="510372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26564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522680" y="51037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52268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527720" y="510372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78800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478800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479268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049720" y="51037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04972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054760" y="51037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316480" y="51037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564160" y="51037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810400" y="5103720"/>
              <a:ext cx="237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604836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04836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053040" y="5103720"/>
              <a:ext cx="241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29460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29460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299280" y="51037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54048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54048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6545160" y="51037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78348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78348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789600" y="51037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02936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02936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035840" y="51037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560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27560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281720" y="51037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52004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52004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7524720" y="51037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7765920" y="51037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776592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7770960" y="51037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801216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801216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8016840" y="51037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8255160" y="51037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825516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8261280" y="51037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850104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850104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8507520" y="5103720"/>
              <a:ext cx="223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875664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8756640" y="510372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8737560" y="5103720"/>
              <a:ext cx="254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8991720" y="51037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5732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6036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8120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63980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190188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66840" y="5110200"/>
              <a:ext cx="648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6684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69244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95740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21948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347040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73212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997440" y="5110200"/>
              <a:ext cx="61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99744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52268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78800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504972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604836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629460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654048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6783480" y="5110200"/>
              <a:ext cx="61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78348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702936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5600" y="5110200"/>
              <a:ext cx="61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727560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52004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76592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801216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8255160" y="5110200"/>
              <a:ext cx="61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825516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850104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8756640" y="5110200"/>
              <a:ext cx="144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06280" y="5278320"/>
              <a:ext cx="141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10240" y="525924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31752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3171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15880" y="5278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14800" y="5288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2856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62820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94932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9489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24920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24884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51128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5109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77480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77444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036880" y="5278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0365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9860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9824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563920" y="5278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5635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8256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8252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08772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0873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290760" y="5278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289680" y="5288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34034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4030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521160" y="52783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51972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68928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6889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782880" y="5278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378144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395280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395244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073400" y="5278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4072320" y="5288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4311720" y="52783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431028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44798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44794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4573440" y="5278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57200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474192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47415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491796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491760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18328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1829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68332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6829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92776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92740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6116760" y="5278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6115680" y="5288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2294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62290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641988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64195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6662880" y="5278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66625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6826320" y="527832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82488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69944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69940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71564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71560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739944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73990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7589880" y="527832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7588800" y="5288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7701120" y="5278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770076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789156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789120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8051760" y="5278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805032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8220240" y="5278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821988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838188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83815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8620200" y="527832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861984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8780400" y="527832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778960" y="528804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8948880" y="527832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8948520" y="5288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5732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5732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63440" y="527688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036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36036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366840" y="527688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8120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8120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85880" y="527688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120680" y="527688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38276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63980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63980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646280" y="527688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0188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90188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908000" y="527688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16684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16684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17332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43540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69244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69244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697120" y="527688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957400" y="527688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95740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96244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21948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21948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24160" y="527688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47040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47040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76520" y="527688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73212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73212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738600" y="527688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99744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99744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003560" y="527688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26564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522680" y="527688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52268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527720" y="527688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478800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478800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479268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049720" y="527688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04972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054760" y="527688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316480" y="527688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564160" y="527688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810400" y="527688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04836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04836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053040" y="527688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9460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9460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99280" y="527688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54048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54048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45160" y="527688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78348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8348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789600" y="527688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02936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02936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35840" y="527688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560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27560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81720" y="527688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2004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2004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524720" y="527688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65920" y="527688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6592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770960" y="527688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801216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801216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16840" y="527688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255160" y="527688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25516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61280" y="527688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50104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50104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507520" y="527688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75664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75664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737560" y="527688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991720" y="527688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8991720" y="527688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5732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6036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8120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63980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0188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166840" y="5283360"/>
              <a:ext cx="64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16684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69244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95740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21948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47040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73212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997440" y="5283360"/>
              <a:ext cx="61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99744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52268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78800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04972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4836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29460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4048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783480" y="5283360"/>
              <a:ext cx="61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78348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02936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275600" y="5283360"/>
              <a:ext cx="61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27560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52004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6592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801216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8255160" y="5283360"/>
              <a:ext cx="61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825516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50104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756640" y="5283360"/>
              <a:ext cx="144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06280" y="5457960"/>
              <a:ext cx="141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10240" y="54370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1752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1716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88880" y="5457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8744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6588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6584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94932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94896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2492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2488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51128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5109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7748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7744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036880" y="5457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0365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2986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2982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563920" y="5457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56356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256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252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08772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08736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3480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3476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521160" y="545796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51972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3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68928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6889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782880" y="5457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78144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9528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9524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046400" y="5457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04496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311720" y="545796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431028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44798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4794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4629240" y="5457960"/>
              <a:ext cx="5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4628520" y="546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4686480" y="5457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46861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4835520" y="545796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83408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50036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0032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18328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1829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68332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68296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92776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92740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116760" y="545796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115680" y="5465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2294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2290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41988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4195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662880" y="5457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6625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826320" y="545796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824880" y="546588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9944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9940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1564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71560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739944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39908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7618320" y="5457960"/>
              <a:ext cx="5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7617600" y="546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67556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767520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789156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89120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81360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81356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8325000" y="5457960"/>
              <a:ext cx="1155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8323920" y="5465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8437680" y="5457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84373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8620200" y="545796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861984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8809200" y="5457960"/>
              <a:ext cx="1155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8808120" y="5465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8921880" y="545796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8921520" y="5465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5732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5732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63440" y="545472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6036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6036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66840" y="545472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8120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8120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85880" y="545472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120680" y="545472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38276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63980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63980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646280" y="545472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90188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90188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908000" y="545472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16684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16684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17332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43540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69244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69244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697120" y="545472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957400" y="54547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95740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296244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21948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1948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224160" y="545472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47040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47040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476520" y="545472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73212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73212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738600" y="545472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99744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99744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4003560" y="545472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26564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522680" y="54547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452268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527720" y="545472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78800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78800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79268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049720" y="54547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04972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054760" y="545472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316480" y="54547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564160" y="54547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810400" y="545472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04836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04836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053040" y="545472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29460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29460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299280" y="54547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4048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54048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545160" y="545472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78348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78348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789600" y="54547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02936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02936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035840" y="54547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727560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727560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7281720" y="545472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52004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52004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524720" y="54547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7765920" y="54547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76592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7770960" y="545472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801216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801216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8016840" y="545472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8255160" y="545472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825516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8261280" y="545472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850104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850104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8507520" y="545472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875664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875664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8737560" y="545472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8991720" y="5454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8991720" y="54547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5732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6036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78120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63980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90188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166840" y="5459400"/>
              <a:ext cx="648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16684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69244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95740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21948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47040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73212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997440" y="5459400"/>
              <a:ext cx="61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99744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52268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78800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504972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04836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29460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54048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783480" y="5459400"/>
              <a:ext cx="61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78348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02936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7275600" y="5459400"/>
              <a:ext cx="61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560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752004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76592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801216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8255160" y="5459400"/>
              <a:ext cx="61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825516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850104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8756640" y="5459400"/>
              <a:ext cx="144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206280" y="5700600"/>
              <a:ext cx="141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10240" y="56800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1752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1716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88880" y="570060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487440" y="57085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588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584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94932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94896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2492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2488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51128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51092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7748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7744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2036880" y="570060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203652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2986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22982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2563920" y="570060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256356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282564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282528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08772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08736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3480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3476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0504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0468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809880" y="570060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808800" y="5708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92256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2220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4046400" y="5700600"/>
              <a:ext cx="173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4044960" y="57085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4311720" y="570060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4310280" y="57085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9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47984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47948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600440" y="570060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599360" y="5708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71168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71132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862520" y="570060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861440" y="5708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9752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49748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127480" y="570060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5126400" y="5708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68332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68296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92776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92740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116760" y="570060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115680" y="5708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22944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22908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41988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41952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662880" y="570060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66252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883560" y="5700600"/>
              <a:ext cx="586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882840" y="5708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9390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9386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15644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15608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39944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39908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589880" y="5700600"/>
              <a:ext cx="1159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588800" y="5708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01120" y="5700600"/>
              <a:ext cx="298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70076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789156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789120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81360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81356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8298000" y="5700600"/>
              <a:ext cx="172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8296560" y="57085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846756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846720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862020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861984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8866080" y="5700600"/>
              <a:ext cx="3024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8865720" y="57085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5732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5732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63440" y="5618160"/>
              <a:ext cx="196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63440" y="561816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6036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6036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66840" y="5618160"/>
              <a:ext cx="414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66840" y="561816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8120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78120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785880" y="5618160"/>
              <a:ext cx="330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85880" y="561816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120680" y="5618160"/>
              <a:ext cx="2574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120680" y="561816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38276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38276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63980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63980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646280" y="5618160"/>
              <a:ext cx="255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1646280" y="561816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190188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190188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1908000" y="5618160"/>
              <a:ext cx="258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08000" y="561816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166840" y="561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16684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16684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17332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7332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43540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43540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69244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69244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697120" y="5618160"/>
              <a:ext cx="260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697120" y="561816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957400" y="5618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95740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96244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96244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21948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21948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224160" y="5618160"/>
              <a:ext cx="2462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224160" y="561816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47040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7040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476520" y="5618160"/>
              <a:ext cx="255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476520" y="561816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73212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73212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738600" y="5618160"/>
              <a:ext cx="258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738600" y="561816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997440" y="561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9744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9744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4003560" y="5618160"/>
              <a:ext cx="2574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4003560" y="561816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426564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426564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522680" y="5618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452268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527720" y="5618160"/>
              <a:ext cx="260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4527720" y="561816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478800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478800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479268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479268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5049720" y="5618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504972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5054760" y="5618160"/>
              <a:ext cx="2570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054760" y="5618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316480" y="5618160"/>
              <a:ext cx="241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316480" y="5618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564160" y="5618160"/>
              <a:ext cx="239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564160" y="5618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810400" y="5618160"/>
              <a:ext cx="237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5810400" y="561816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604836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04836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053040" y="5618160"/>
              <a:ext cx="24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053040" y="561816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29460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29460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299280" y="5618160"/>
              <a:ext cx="241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299280" y="5618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654048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54048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545160" y="5618160"/>
              <a:ext cx="238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6545160" y="56181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783480" y="561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78348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78348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789600" y="5618160"/>
              <a:ext cx="239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6789600" y="5618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702936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702936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7035840" y="5618160"/>
              <a:ext cx="239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7035840" y="5618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7275600" y="561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727560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727560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7281720" y="5618160"/>
              <a:ext cx="238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7281720" y="56181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752004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752004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7524720" y="5618160"/>
              <a:ext cx="241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7524720" y="5618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7765920" y="5618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776592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7770960" y="5618160"/>
              <a:ext cx="241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7770960" y="5618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801216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801216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8016840" y="5618160"/>
              <a:ext cx="238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8016840" y="56181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8255160" y="561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8255160" y="5618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825516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8261280" y="5618160"/>
              <a:ext cx="239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8261280" y="5618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850104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850104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8507520" y="5618160"/>
              <a:ext cx="22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8507520" y="561816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875664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875664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8737560" y="5618160"/>
              <a:ext cx="254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8737560" y="561816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8991720" y="5618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8991720" y="561816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5732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6036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78120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63980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90188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166840" y="5703840"/>
              <a:ext cx="6480" cy="2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16684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69244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95740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321948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47040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73212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3997440" y="5703840"/>
              <a:ext cx="6120" cy="2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99744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52268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78800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504972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604836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629460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654048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6783480" y="5703840"/>
              <a:ext cx="6120" cy="2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678348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702936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7275600" y="5703840"/>
              <a:ext cx="6120" cy="2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727560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752004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776592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801216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8255160" y="5703840"/>
              <a:ext cx="6120" cy="2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825516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850104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8756640" y="5703840"/>
              <a:ext cx="144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206280" y="5956200"/>
              <a:ext cx="1414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10240" y="593568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1752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171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60440" y="5956200"/>
              <a:ext cx="2300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58640" y="5964120"/>
              <a:ext cx="23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8436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8400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94932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9489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2492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2488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51128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5109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7748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7744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03688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0365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22986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2982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56392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5635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82564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82528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308772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30873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3480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3476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60504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360468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86712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8667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073400" y="59562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072320" y="59641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311720" y="5956200"/>
              <a:ext cx="1728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310280" y="59641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7984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7948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600440" y="5956200"/>
              <a:ext cx="590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599720" y="596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656240" y="595620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655520" y="596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71168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7113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835520" y="59562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834080" y="59641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500364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500328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5156280" y="5956200"/>
              <a:ext cx="58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5155560" y="596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5354640" y="59562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5353200" y="59641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568332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56829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92776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92740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091200" y="5956200"/>
              <a:ext cx="173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089760" y="5964120"/>
              <a:ext cx="174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25968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62593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641988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64195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666288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66625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853320" y="59562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852240" y="59641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9660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9656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15644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715608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39944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39908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589880" y="5956200"/>
              <a:ext cx="1159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588800" y="59641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70112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70076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89156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89120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81360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81356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8325000" y="5956200"/>
              <a:ext cx="11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8323920" y="59641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8437680" y="5956200"/>
              <a:ext cx="298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84373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862020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861984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8866080" y="5956200"/>
              <a:ext cx="302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8865720" y="5964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5732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5732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63440" y="5861160"/>
              <a:ext cx="196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36036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36036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366840" y="5861160"/>
              <a:ext cx="414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8120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8120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85880" y="5861160"/>
              <a:ext cx="33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1120680" y="586116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38276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163980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163980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1646280" y="586116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190188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190188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1908000" y="586116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16684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16684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17332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43540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69244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69244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697120" y="586116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957400" y="5861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295740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96244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321948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321948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3224160" y="5861160"/>
              <a:ext cx="246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347040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347040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3476520" y="5861160"/>
              <a:ext cx="255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373212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373212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3738600" y="5861160"/>
              <a:ext cx="258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399744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399744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003560" y="5861160"/>
              <a:ext cx="257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26564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522680" y="5861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52268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527720" y="5861160"/>
              <a:ext cx="260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8800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8800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9268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5049720" y="5861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504972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5054760" y="5861160"/>
              <a:ext cx="257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5316480" y="5861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5564160" y="5861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5810400" y="586116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604836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604836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053040" y="5861160"/>
              <a:ext cx="241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29460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29460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6299280" y="5861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654048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54048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6545160" y="58611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678348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678348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789600" y="5861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02936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02936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035840" y="5861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27560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727560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281720" y="58611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52004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52004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524720" y="5861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765920" y="586116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776592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770960" y="5861160"/>
              <a:ext cx="241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801216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801216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8016840" y="586116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8255160" y="586116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825516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8261280" y="5861160"/>
              <a:ext cx="239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850104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850104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8507520" y="5861160"/>
              <a:ext cx="223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875664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875664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8737560" y="5861160"/>
              <a:ext cx="254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8991720" y="5861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8991720" y="58611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5732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5732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5732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5732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5732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63440" y="6099120"/>
              <a:ext cx="196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36036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36036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36036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366840" y="6099120"/>
              <a:ext cx="414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78120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8120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8120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85880" y="6099120"/>
              <a:ext cx="330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120680" y="609912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38276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63980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63980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63980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646280" y="609912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90188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90188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90188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908000" y="609912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166840" y="5958000"/>
              <a:ext cx="648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216684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16684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16684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17332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243540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269244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69244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269244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2697120" y="609912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295740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2957400" y="60991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295740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296244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321948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321948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321948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3224160" y="6099120"/>
              <a:ext cx="246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347040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47040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47040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476520" y="609912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373212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373212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373212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3738600" y="609912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3997440" y="5958000"/>
              <a:ext cx="612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99744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99744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99744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4003560" y="609912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426564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452268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4522680" y="60991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52268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527720" y="609912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78800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78800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78800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79268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504972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5049720" y="60991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504972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54760" y="609912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316480" y="60991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5564160" y="60991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5810400" y="6099120"/>
              <a:ext cx="237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04836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04836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604836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6053040" y="6099120"/>
              <a:ext cx="241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629460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629460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629460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6299280" y="60991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654048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654048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654048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6545160" y="60991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6783480" y="5958000"/>
              <a:ext cx="612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678348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678348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678348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6789600" y="60991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2936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2936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2936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7035840" y="60991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7275600" y="5958000"/>
              <a:ext cx="612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27560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727560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727560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7281720" y="60991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752004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752004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752004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7524720" y="60991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776592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7765920" y="609912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776592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7770960" y="609912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01216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801216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801216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8016840" y="609912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8255160" y="5958000"/>
              <a:ext cx="612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825516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8255160" y="60991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825516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8261280" y="609912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850104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850104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850104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8507520" y="6099120"/>
              <a:ext cx="223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8756640" y="59580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875664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875664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8737560" y="6099120"/>
              <a:ext cx="254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899172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8991720" y="60991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8991720" y="609912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00160" y="6176880"/>
              <a:ext cx="925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99080" y="6184800"/>
              <a:ext cx="54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S : plas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39800" y="6184800"/>
              <a:ext cx="38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sémi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117440" y="6095880"/>
              <a:ext cx="76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117080" y="61038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00160" y="6232680"/>
              <a:ext cx="759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99800" y="6240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8961480" y="1633680"/>
              <a:ext cx="23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8960760" y="1641600"/>
              <a:ext cx="23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8997840" y="1525680"/>
              <a:ext cx="1800" cy="40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8997840" y="19335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8997840" y="19335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8997840" y="1940040"/>
              <a:ext cx="1800" cy="25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8997840" y="21985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8997840" y="21985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8997840" y="2205000"/>
              <a:ext cx="1800" cy="241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8997840" y="244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8997840" y="244620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8997840" y="2451240"/>
              <a:ext cx="1800" cy="214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8997840" y="2671920"/>
              <a:ext cx="1800" cy="250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8997840" y="29275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8997840" y="3198960"/>
              <a:ext cx="64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8997840" y="319896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8997840" y="3205080"/>
              <a:ext cx="1800" cy="24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8997840" y="34290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8997840" y="34290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8997840" y="345132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8997840" y="3657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8997840" y="3657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8997840" y="3727440"/>
              <a:ext cx="1800" cy="27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8997840" y="4005360"/>
              <a:ext cx="1800" cy="30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8997840" y="4319640"/>
              <a:ext cx="1800" cy="270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8997840" y="4595760"/>
              <a:ext cx="1800" cy="184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8997840" y="4784760"/>
              <a:ext cx="1800" cy="158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8997840" y="49435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8997840" y="49435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8997840" y="4948200"/>
              <a:ext cx="1800" cy="155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8997840" y="51037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8997840" y="510372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8997840" y="5110200"/>
              <a:ext cx="1800" cy="166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8997840" y="52768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8997840" y="52768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8997840" y="5283360"/>
              <a:ext cx="1800" cy="171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8997840" y="545472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8997840" y="54547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8997840" y="5459400"/>
              <a:ext cx="1800" cy="23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8997840" y="5618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8997840" y="56181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8997840" y="5703840"/>
              <a:ext cx="1800" cy="247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8997840" y="5861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8997840" y="58611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8997840" y="595800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8997840" y="609912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8997840" y="60991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8996400" y="110808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371600" y="1523880"/>
              <a:ext cx="0" cy="45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2438280" y="1523880"/>
              <a:ext cx="0" cy="45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4267080" y="1600200"/>
              <a:ext cx="0" cy="450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334120" y="1523880"/>
              <a:ext cx="0" cy="45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2280" y="262260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228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228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8760" y="4724280"/>
              <a:ext cx="196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355680" y="480204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35568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361800" y="4724280"/>
              <a:ext cx="414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776160" y="480204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77616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81200" y="4724280"/>
              <a:ext cx="330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116000" y="472428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378080" y="472428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63512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63512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641600" y="472428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897200" y="480204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9720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903320" y="4724280"/>
              <a:ext cx="258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216216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216216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2168640" y="472428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2430360" y="472428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68776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68776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692440" y="472428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295272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295272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2957400" y="472428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321480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321480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3219480" y="4724280"/>
              <a:ext cx="245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346536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346536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3471840" y="4724280"/>
              <a:ext cx="2556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72744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72744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733920" y="4724280"/>
              <a:ext cx="258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99240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99240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3998880" y="472428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260960" y="472428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451800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451800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4522680" y="4724280"/>
              <a:ext cx="260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4782960" y="480204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478296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4788000" y="4724280"/>
              <a:ext cx="257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04504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04504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049720" y="4724280"/>
              <a:ext cx="257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311800" y="472428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559480" y="472428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805360" y="472428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04368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604368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6048360" y="472428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6289560" y="480204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28956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6294600" y="472428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653580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653580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6540480" y="472428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778800" y="480204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77880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6784920" y="472428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702468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02468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7031160" y="472428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7270920" y="480204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7277040" y="4724280"/>
              <a:ext cx="238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751536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51536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7520040" y="4724280"/>
              <a:ext cx="241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776124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76124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7765920" y="4724280"/>
              <a:ext cx="241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8007480" y="4802040"/>
              <a:ext cx="4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800748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8012160" y="4724280"/>
              <a:ext cx="237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825012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825012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8256600" y="4724280"/>
              <a:ext cx="239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8496360" y="480204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849636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8502480" y="4724280"/>
              <a:ext cx="223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8751960" y="480204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875196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8732880" y="4724280"/>
              <a:ext cx="253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8986680" y="4802040"/>
              <a:ext cx="5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8986680" y="480204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8993160" y="480204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8993160" y="4802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52280" y="449568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52280" y="388620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52280" y="4191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52280" y="28195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066680" y="15238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62720" y="15238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791320" y="152388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762120" y="15238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8" name=""/>
          <p:cNvSpPr/>
          <p:nvPr/>
        </p:nvSpPr>
        <p:spPr>
          <a:xfrm>
            <a:off x="5679360" y="6608880"/>
            <a:ext cx="32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 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"/>
          <p:cNvSpPr/>
          <p:nvPr/>
        </p:nvSpPr>
        <p:spPr>
          <a:xfrm>
            <a:off x="685800" y="139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Protocoles d’extraction -</a:t>
            </a:r>
            <a:r>
              <a:rPr b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Première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0" name=""/>
          <p:cNvGraphicFramePr/>
          <p:nvPr/>
        </p:nvGraphicFramePr>
        <p:xfrm>
          <a:off x="457200" y="838080"/>
          <a:ext cx="830592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30592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2" name=""/>
          <p:cNvSpPr/>
          <p:nvPr/>
        </p:nvSpPr>
        <p:spPr>
          <a:xfrm>
            <a:off x="362520" y="5943600"/>
            <a:ext cx="851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reprise du culot dans 200µl de NHP (culot : ininterprétab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manip 1 : culot sec; manip 2 : culot humide. </a:t>
            </a: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sans dilution préalable du PS. </a:t>
            </a: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4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50µl de prise d’ess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>
            <a:off x="5679360" y="6608880"/>
            <a:ext cx="32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 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Protocoles d’extraction</a:t>
            </a:r>
            <a:r>
              <a:rPr b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 -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Vér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>
            <a:off x="347040" y="6043680"/>
            <a:ext cx="69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manip 1 : culot sec; manip 2 : culot humide. </a:t>
            </a: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2h de centrifu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+ verif des autres tubes avec protocole Roche classique . </a:t>
            </a:r>
            <a:r>
              <a:rPr b="0" lang="en-GB" sz="1600" spc="-1" strike="noStrike" baseline="30000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100µl de prise d’ess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6" name=""/>
          <p:cNvGrpSpPr/>
          <p:nvPr/>
        </p:nvGrpSpPr>
        <p:grpSpPr>
          <a:xfrm>
            <a:off x="63360" y="787320"/>
            <a:ext cx="9016920" cy="5128920"/>
            <a:chOff x="63360" y="787320"/>
            <a:chExt cx="9016920" cy="5128920"/>
          </a:xfrm>
        </p:grpSpPr>
        <p:graphicFrame>
          <p:nvGraphicFramePr>
            <p:cNvPr id="5077" name=""/>
            <p:cNvGraphicFramePr/>
            <p:nvPr/>
          </p:nvGraphicFramePr>
          <p:xfrm>
            <a:off x="63360" y="787320"/>
            <a:ext cx="9016920" cy="5128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360" y="787320"/>
                      <a:ext cx="9016920" cy="51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79" name=""/>
            <p:cNvSpPr/>
            <p:nvPr/>
          </p:nvSpPr>
          <p:spPr>
            <a:xfrm>
              <a:off x="101880" y="5877360"/>
              <a:ext cx="86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0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53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1" name=""/>
          <p:cNvSpPr/>
          <p:nvPr/>
        </p:nvSpPr>
        <p:spPr>
          <a:xfrm>
            <a:off x="304920" y="1371600"/>
            <a:ext cx="8381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30 réponses reç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28 exploit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2 « exclus » : 1 pb de congélateur et 1 protocole Roche « standard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15 laboratoires : Roche « ultrasensibl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9 laboratoires : Qi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4 : Nuclisens </a:t>
            </a:r>
            <a:r>
              <a:rPr b="0" i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i="1" lang="fr-FR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2 panels supplémen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TMA (Bay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LCx (Abbo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3001320" y="4190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66"/>
                </a:solidFill>
                <a:uFillTx/>
                <a:latin typeface="Comic Sans MS"/>
              </a:rPr>
              <a:t>Exploitation des 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>
            <a:off x="5677560" y="6608880"/>
            <a:ext cx="32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7 mai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1:33:30Z</dcterms:created>
  <dc:creator>BOURLET Thomas</dc:creator>
  <dc:description/>
  <dc:language>en-US</dc:language>
  <cp:lastModifiedBy>BOURLET Thomas</cp:lastModifiedBy>
  <dcterms:modified xsi:type="dcterms:W3CDTF">2000-01-27T08:35:39Z</dcterms:modified>
  <cp:revision>13</cp:revision>
  <dc:subject/>
  <dc:title>Aucun titre de diapositive</dc:title>
</cp:coreProperties>
</file>