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288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B13-F50F-4574-8793-950894A0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61B-1BAA-4A8F-8B22-12CD5A01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ED1-BCAF-4C25-8790-2CAE58BD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911-7FCF-4234-BABD-FE5ADA4D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B62-6294-4DDE-9E79-9A152345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228-6823-4D08-96D2-13271AE7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A3D-948C-4B58-BFBB-1C2B6AFA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01D-BEA7-4164-9CBE-20CEAC9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54A-923C-4AC2-B039-876F5CE8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7AF-DF62-45E8-B834-D49AF82F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F62-C011-4519-81F3-0435F51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08B-CA36-4E71-B1B6-C6221209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75F-68EB-49AD-B057-764B46D81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VIRUS WEST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3885840"/>
            <a:ext cx="975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imes New Roman"/>
              </a:rPr>
              <a:t>Transmission sangu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686800" y="380880"/>
          <a:ext cx="1457280" cy="140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86800" y="380880"/>
                    <a:ext cx="1457280" cy="14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686800" y="1905120"/>
            <a:ext cx="143028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80880" y="457200"/>
            <a:ext cx="1447920" cy="1143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920960" y="5518080"/>
            <a:ext cx="6022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r. Philippe Bi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Chargé de Recherches, EFS Alpes-Méditerran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imes New Roman"/>
              </a:rPr>
              <a:t>Unité des Virus Émergents, Marsei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RESULTATS NA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épistage sur &gt; 6 millions de dons de Juin à décembr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u moins 818 dons virémiques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évités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(déclarés ArboNET) collectés entre le 25 juin et le 2 décembr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PSL = CGR, Plaquettes, 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Suivi des donneurs virémi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% (6/811) : signes neurologiques après le don [moyenne age 45 ans (28-76 ans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7% (137/811) fiè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66"/>
                </a:solidFill>
                <a:latin typeface="Times New Roman"/>
              </a:rPr>
              <a:t>81% (654/811) asymptomatiques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ormes cliniques dépistées NAT avant l’apparition des symptô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0120" y="762120"/>
            <a:ext cx="908676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rcRect l="10938" t="11458" r="9376" b="8333"/>
          <a:stretch/>
        </p:blipFill>
        <p:spPr>
          <a:xfrm>
            <a:off x="0" y="0"/>
            <a:ext cx="10287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rcRect l="10938" t="11458" r="10938" b="9376"/>
          <a:stretch/>
        </p:blipFill>
        <p:spPr>
          <a:xfrm>
            <a:off x="0" y="0"/>
            <a:ext cx="10287000" cy="6950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43080" y="6172200"/>
            <a:ext cx="7372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Répartition mensuelle des 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3880" y="880920"/>
          <a:ext cx="7239240" cy="590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880920"/>
                    <a:ext cx="723924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00120" y="685800"/>
            <a:ext cx="908676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Transmission par TS en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10287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En 2003, 23 suspicions de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contamination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WNV par 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6 cas confirmés de contamination liés à des virémies faibles non détectées en MiniPool (3 encore en investig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Receveu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ge : m= 63 ans (13-82 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4 encéphalites + 1 fi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virémie  (4/6 cas) : 0.11 pfu/ml (0.06-0.50 pfu/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estimation de la virémie en 2002 chez les donneurs de sang : 0.8  -   75 pfu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estimation de la virémie en 2003 chez les donneurs de sang : 0.06-0.50 pfu/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0120" y="762120"/>
            <a:ext cx="908676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ERSPECTIVES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10287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Stratégies de dépistage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En minipool sauf en région où l’épidémie est importante         unit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Canada : prévalence &gt; 1/500 cas         unitaire (10% des dons du Cana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USA : 1/500 ou 1/1000 ? (3 sites Chiron en unitaire en 200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Limit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Capacité à faire un dépistage unitaire (équipement, personnel...) 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Impact des faux positifs (dépistage unitaire) sur la disponibilité des PSL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Améliora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Sensibilité (modification du seuil de détection, optimisation des réactifs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Amélioration de l ’auto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Préparation des échantillons (la nature de l’anticoagulant modifie la sensibilité, ex :Roche préconise plasma EDTA, conditions de centrifugation 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0120" y="685800"/>
            <a:ext cx="908676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175248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213372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71120" y="1752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UATION EN FRANC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UDES 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3733920"/>
            <a:ext cx="10058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Études épidémiologiques chez les donneurs de s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esures préven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839080" y="5943600"/>
            <a:ext cx="14479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10287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00"/>
                </a:solidFill>
                <a:latin typeface="Times New Roman"/>
              </a:rPr>
              <a:t>Étude de prévalence sérologique chez les donneurs de s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Populations étudiée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exposée (Camargue) 1053 indivi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non exposée (Marseille intra muros essentiellement) 1104 indivi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200" spc="-1" strike="noStrike">
                <a:solidFill>
                  <a:srgbClr val="ffffcc"/>
                </a:solidFill>
                <a:latin typeface="Times New Roman"/>
              </a:rPr>
              <a:t>Technique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Dépistage des IgM et des IgG par tests ELISA</a:t>
            </a:r>
            <a:r>
              <a:rPr b="0" i="1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nfirmation des positifs par séroneutra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92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2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2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"Prevalence of antibody against West Nile virus in volunteer blood donors living in southestern France". Transfusion. 20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fig%20D1" descr=""/>
          <p:cNvPicPr/>
          <p:nvPr/>
        </p:nvPicPr>
        <p:blipFill>
          <a:blip r:embed="rId2"/>
          <a:stretch/>
        </p:blipFill>
        <p:spPr>
          <a:xfrm>
            <a:off x="0" y="3957480"/>
            <a:ext cx="10287000" cy="198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71480" y="76320"/>
            <a:ext cx="87440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France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0120" y="762120"/>
            <a:ext cx="908676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71480" y="533520"/>
            <a:ext cx="8744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99"/>
                </a:solidFill>
                <a:latin typeface="Times New Roman"/>
              </a:rPr>
              <a:t>Var   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600200"/>
            <a:ext cx="9525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6 cas humains positifs confirmés et 1 cas probable (est du v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 formes neurologiques (hospitalisation et évolution favorab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 syndromes gripp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age : fin aoû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4 cas chez des chevaux dans le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confirmés, 1 prob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est du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apture de moustiques autour des sites humains et équins  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recherche moléculaire = nég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0120" y="1143000"/>
            <a:ext cx="908676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839080" y="5943600"/>
            <a:ext cx="14479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10058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opulation testé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2025 échantillons collectés dans le var entre le 28-08-et le 27-09-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ritère de sélection : habite dans le Var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testés en IgM et en I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Sécurisation des produits en quarantaine par 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Résultat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 IgM  positif confirmé (PCR négati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9 IgG positifs confirm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- 104 Plasmas en quarantaine (attente de sécurisation) = PCR nég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76320"/>
            <a:ext cx="8744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Var  :  Septembre 2003 Donneurs de s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0120" y="685800"/>
            <a:ext cx="908676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8839080" y="5943600"/>
            <a:ext cx="14479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Le Virus West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9068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Virus ARN envelopp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rbovirus, famille </a:t>
            </a: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Flaviviridae,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genre </a:t>
            </a: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Flavi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Sérocomplexe de l’encéphalite japonaise (10 vi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Mode de transmission le plus fréquent = piqûre de mous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Transmission inter humaine avérée depuis 2002 dans le contexte de l’épidémie Nord Améric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80% des infections sont sous forme asympto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ormes graves et risque létal associés à l’âge et l’état du système immunitaire de la personne infect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0120" y="1219320"/>
            <a:ext cx="908676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1120" y="76320"/>
            <a:ext cx="8744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Mesures préven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Non  spécif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clusion temporaire des DDS ayant voyagé ou séjourné : 28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nction des zones et des périodes à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clusion temporaire des DDS résidents si clinique évoca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8 J après le début des symptômes ou 14 J après la fin des symptô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nction des zones et des périodes à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Spécifique DGV : Évaluation en cou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0120" y="838080"/>
            <a:ext cx="908676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839080" y="5943600"/>
            <a:ext cx="14479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Évaluation des chaînes DGV WN en QB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937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Objectif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Pouvoir répondre rapidement aux autorités sanitaires dans 1 contexte particulier en terme de faisabilité et d’expert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En évalu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haîne Chiron : Rennes et Strasbo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haîne Roche : Marseille et Montpel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838080"/>
            <a:ext cx="990612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839080" y="5943600"/>
            <a:ext cx="14479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10058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Protocole commu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ff"/>
                </a:solidFill>
                <a:latin typeface="Times New Roman"/>
              </a:rPr>
              <a:t>Sensibilité analy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Sensibilité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de différentes souches de virus WN à partir de cultures cellulaires et d’échantillons nati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2) 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Sensibilité analytique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(seuil de détection) en unitaire et pool(s) à partir d’un plasma titré (Accuru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3)  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Fidélité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: répétabilité (3x seuil) et reproduct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4) 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Robustesse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: absence de cont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5) 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Spécificité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: nombre de faux positif lors de l’essai en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ff"/>
                </a:solidFill>
                <a:latin typeface="Times New Roman"/>
              </a:rPr>
              <a:t>Praticabilité en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)  Éventuellement ré évaluation de la taille des p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2)  Impact sur la chaîne transfusionnelle (délais d’analyse, personnel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emerci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2971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 Cornillot, W Smilovici, G Andreu, P Her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T Levayer, P Navarro, F Destr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Groupe d’évaluation de la chaîne DGV West N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24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Unité des Virus Emer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cc"/>
                </a:solidFill>
                <a:uFillTx/>
                <a:latin typeface="Times New Roman"/>
              </a:rPr>
              <a:t>P Gallian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, X de Lamballerie, R Charrel, JP Durand, P de Mic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0120" y="1752480"/>
            <a:ext cx="908676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15920" y="122400"/>
            <a:ext cx="1487520" cy="150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8672400" y="189000"/>
          <a:ext cx="1457280" cy="14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72400" y="189000"/>
                    <a:ext cx="14572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Risque  Transfusio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9525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rélever un donneur de s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yant séjourné dans une région où la circulation virale est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u cours de la phase viré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urte : 6-7 jours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[Mostashari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et al;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lancet 2001, Goldblum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et al;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Am J Hyg 1957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virémie fa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symptomatique en phase viré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0120" y="914400"/>
            <a:ext cx="908676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-79200" y="1523880"/>
            <a:ext cx="10537920" cy="5164200"/>
            <a:chOff x="-79200" y="1523880"/>
            <a:chExt cx="10537920" cy="5164200"/>
          </a:xfrm>
        </p:grpSpPr>
        <p:sp>
          <p:nvSpPr>
            <p:cNvPr id="55" name=""/>
            <p:cNvSpPr/>
            <p:nvPr/>
          </p:nvSpPr>
          <p:spPr>
            <a:xfrm>
              <a:off x="907920" y="2128680"/>
              <a:ext cx="0" cy="388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07920" y="6014880"/>
              <a:ext cx="7972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22360" y="2509560"/>
              <a:ext cx="7372440" cy="3480120"/>
            </a:xfrm>
            <a:custGeom>
              <a:avLst/>
              <a:gdLst/>
              <a:ahLst/>
              <a:rect l="l" t="t" r="r" b="b"/>
              <a:pathLst>
                <a:path w="4128" h="2192">
                  <a:moveTo>
                    <a:pt x="0" y="2192"/>
                  </a:moveTo>
                  <a:cubicBezTo>
                    <a:pt x="296" y="1176"/>
                    <a:pt x="592" y="160"/>
                    <a:pt x="864" y="80"/>
                  </a:cubicBezTo>
                  <a:cubicBezTo>
                    <a:pt x="1136" y="0"/>
                    <a:pt x="1088" y="1360"/>
                    <a:pt x="1632" y="1712"/>
                  </a:cubicBezTo>
                  <a:cubicBezTo>
                    <a:pt x="2176" y="2064"/>
                    <a:pt x="3152" y="2128"/>
                    <a:pt x="4128" y="219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1120" y="2357280"/>
              <a:ext cx="5229360" cy="3657600"/>
            </a:xfrm>
            <a:custGeom>
              <a:avLst/>
              <a:gdLst/>
              <a:ahLst/>
              <a:rect l="l" t="t" r="r" b="b"/>
              <a:pathLst>
                <a:path w="2976" h="2304">
                  <a:moveTo>
                    <a:pt x="0" y="2304"/>
                  </a:moveTo>
                  <a:cubicBezTo>
                    <a:pt x="592" y="2088"/>
                    <a:pt x="1184" y="1872"/>
                    <a:pt x="1680" y="1488"/>
                  </a:cubicBezTo>
                  <a:cubicBezTo>
                    <a:pt x="2176" y="1104"/>
                    <a:pt x="2576" y="552"/>
                    <a:pt x="2976" y="0"/>
                  </a:cubicBezTo>
                </a:path>
              </a:pathLst>
            </a:custGeom>
            <a:noFill/>
            <a:ln w="93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51360" y="3500280"/>
              <a:ext cx="4029120" cy="2514600"/>
            </a:xfrm>
            <a:custGeom>
              <a:avLst/>
              <a:gdLst/>
              <a:ahLst/>
              <a:rect l="l" t="t" r="r" b="b"/>
              <a:pathLst>
                <a:path w="2256" h="1776">
                  <a:moveTo>
                    <a:pt x="0" y="1776"/>
                  </a:moveTo>
                  <a:cubicBezTo>
                    <a:pt x="460" y="1612"/>
                    <a:pt x="920" y="1448"/>
                    <a:pt x="1296" y="1152"/>
                  </a:cubicBezTo>
                  <a:cubicBezTo>
                    <a:pt x="1672" y="856"/>
                    <a:pt x="2096" y="192"/>
                    <a:pt x="225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7800" y="5252760"/>
              <a:ext cx="5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7800" y="4643280"/>
              <a:ext cx="5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7800" y="4033800"/>
              <a:ext cx="5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7800" y="3423960"/>
              <a:ext cx="5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7800" y="2814480"/>
              <a:ext cx="5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7200">
              <a:off x="-1301760" y="30762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ago"/>
                </a:rPr>
                <a:t>gEq per 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93960" y="6319800"/>
              <a:ext cx="51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Imago"/>
                </a:rPr>
                <a:t>Days post infectious mosquito b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64960" y="6091200"/>
              <a:ext cx="780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2     3     4     5     6     7     8     9    10    11    12    13    14    15    16    17    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36680" y="250956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Imago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80480" y="2052360"/>
              <a:ext cx="857160" cy="45972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Imago"/>
                </a:rPr>
                <a:t>Ig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66160" y="3195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Imago"/>
                </a:rPr>
                <a:t>Ig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07920" y="5557680"/>
              <a:ext cx="7972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07920" y="4948200"/>
              <a:ext cx="7886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0760" y="2433600"/>
              <a:ext cx="2057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79400" y="19000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Imago"/>
                </a:rPr>
                <a:t>          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Imago"/>
                </a:rPr>
                <a:t>6.5 days</a:t>
              </a:r>
              <a:r>
                <a:rPr b="0" lang="en-US" sz="1800" spc="-1" strike="noStrike">
                  <a:solidFill>
                    <a:srgbClr val="ffffff"/>
                  </a:solidFill>
                  <a:latin typeface="Imago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50760" y="258588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94200" y="258588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22360" y="2433600"/>
              <a:ext cx="34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433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22360" y="2585880"/>
              <a:ext cx="0" cy="2971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65680" y="2585880"/>
              <a:ext cx="0" cy="2971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79280" y="190008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Imago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Imago"/>
                </a:rPr>
                <a:t>0.8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36800" y="19000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Imago"/>
                </a:rPr>
                <a:t>0.8 - 1.1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2720" y="2433600"/>
              <a:ext cx="325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07160" y="44942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Imago"/>
                </a:rPr>
                <a:t>Minipool NAT</a:t>
              </a:r>
              <a:r>
                <a:rPr b="1" lang="en-US" sz="1800" spc="-1" strike="noStrike">
                  <a:solidFill>
                    <a:srgbClr val="ffffff"/>
                  </a:solidFill>
                  <a:latin typeface="Imago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84480" y="5180040"/>
              <a:ext cx="18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Imago"/>
                </a:rPr>
                <a:t>unitaire-N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51600" y="19000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Imago"/>
                </a:rPr>
                <a:t>1.1 -14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8640" y="190332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Imago"/>
                </a:rPr>
                <a:t>0.5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3600" y="2433600"/>
              <a:ext cx="34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6280" y="1523880"/>
              <a:ext cx="71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ago"/>
                </a:rPr>
                <a:t>Stage:      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Imago"/>
                </a:rPr>
                <a:t>I</a:t>
              </a:r>
              <a:r>
                <a:rPr b="0" lang="en-US" sz="1800" spc="-1" strike="noStrike">
                  <a:solidFill>
                    <a:srgbClr val="ffffff"/>
                  </a:solidFill>
                  <a:latin typeface="Imago"/>
                </a:rPr>
                <a:t>       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Imago"/>
                </a:rPr>
                <a:t>II</a:t>
              </a:r>
              <a:r>
                <a:rPr b="0" lang="en-US" sz="1800" spc="-1" strike="noStrike">
                  <a:solidFill>
                    <a:srgbClr val="ffffff"/>
                  </a:solidFill>
                  <a:latin typeface="Imago"/>
                </a:rPr>
                <a:t>                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Imago"/>
                </a:rPr>
                <a:t>III</a:t>
              </a:r>
              <a:r>
                <a:rPr b="0" lang="en-US" sz="1800" spc="-1" strike="noStrike">
                  <a:solidFill>
                    <a:srgbClr val="ffffff"/>
                  </a:solidFill>
                  <a:latin typeface="Imago"/>
                </a:rPr>
                <a:t>                        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Imago"/>
                </a:rPr>
                <a:t>IV</a:t>
              </a:r>
              <a:r>
                <a:rPr b="0" lang="en-US" sz="1800" spc="-1" strike="noStrike">
                  <a:solidFill>
                    <a:srgbClr val="ffffff"/>
                  </a:solidFill>
                  <a:latin typeface="Imago"/>
                </a:rPr>
                <a:t>                                  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Imago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71480" y="380880"/>
            <a:ext cx="874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NV Viremic Stages </a:t>
            </a:r>
            <a:r>
              <a:rPr b="0" lang="en-US" sz="3700" spc="-1" strike="noStrike">
                <a:solidFill>
                  <a:srgbClr val="ffffcc"/>
                </a:solidFill>
                <a:latin typeface="Times New Roman"/>
              </a:rPr>
              <a:t>(M Busch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0120" y="1143000"/>
            <a:ext cx="908676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90920"/>
            <a:ext cx="28195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P     </a:t>
            </a:r>
            <a:r>
              <a:rPr b="0" lang="fr-FR" sz="1600" spc="-1" strike="noStrike">
                <a:solidFill>
                  <a:srgbClr val="ff0066"/>
                </a:solidFill>
                <a:latin typeface="Arial"/>
              </a:rPr>
              <a:t>AR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: 3.5 -  8.5 J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itaire       : 2.5 - 10.5 J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9807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UATION EN 2003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CONTINENT NORD AMERIC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657600"/>
            <a:ext cx="7601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Rappels épidémiolog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Aspects transfusionnels - N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Etats Unis – volet humain (1999-20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63320" y="2357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1720" y="2357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4560" y="2357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77640" y="30733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63320" y="3073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76400" y="30733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61720" y="3073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57440" y="30733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4560" y="3073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4880" y="3787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3320" y="3787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33640" y="3787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61720" y="3787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4560" y="3787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4880" y="4503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63320" y="45036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33640" y="4503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61720" y="45036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16120" y="4503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4560" y="45036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63320" y="5219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1160" y="5219640"/>
            <a:ext cx="73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2 et 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11240" y="5219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63680" y="52196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2240" y="58024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440" y="190512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63320" y="2357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62280" y="190512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1720" y="2357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43320" y="190512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4560" y="2357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2840" y="3073320"/>
            <a:ext cx="137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mbre de 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77640" y="30733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63320" y="3073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76400" y="30733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61720" y="3073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7440" y="30733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040" y="3722760"/>
            <a:ext cx="141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mbre d’ét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4880" y="3787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3320" y="3787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33640" y="3787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61720" y="3787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57440" y="3763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4560" y="3787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080" y="45036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écè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4880" y="4503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63320" y="45036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33640" y="4503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61720" y="45036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16120" y="4503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1760" y="521820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ge (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33400" y="5229360"/>
            <a:ext cx="111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77 (68 à 8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63320" y="52182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1160" y="5218200"/>
            <a:ext cx="73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82 et 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12680" y="52182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63680" y="52182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120" y="1676520"/>
            <a:ext cx="922968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09560" y="2349360"/>
            <a:ext cx="133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USA - 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63680" y="30654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63680" y="37800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086040" y="52117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160" y="190512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8840" y="3048120"/>
            <a:ext cx="105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4156 - 19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4840" y="37800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1480" y="4495680"/>
            <a:ext cx="70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284 -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4840" y="52102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86040" y="5210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86040" y="23493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86040" y="30654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86040" y="378000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086040" y="44956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086040" y="52117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915040" y="190512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89960" y="306540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9858 - 133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686440" y="37800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85360" y="4495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218  -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686440" y="52102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86040" y="52102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791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</a:rPr>
              <a:t>Actualisé au 20-01-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71600" y="2362320"/>
            <a:ext cx="133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USA - 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971800"/>
            <a:ext cx="9296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562720"/>
            <a:ext cx="9296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10287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Mise en évidence </a:t>
            </a:r>
            <a:br>
              <a:rPr sz="4400"/>
            </a:b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de cas de contaminations inter huma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94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) greffe d’organe en 2002 :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[Iwamoto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et al;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NEJM-348 (22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écès d’1 individu accidenté transfusé (63 donne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2 reins, le cœur et le foie sont greff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tamination des 4 receveurs (09-2002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Enquête : 1donneurs /41 retrouvés IgM+ et PCR+ lors du don et tableau clinique évocateur post 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447920"/>
            <a:ext cx="96012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9524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b) Transfusion sanguine en 2002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[Pearler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et al;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NEJM-349 (13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USA, 2002 : 23 cas prouv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receveurs = 10 immunodéprimés et 8 &gt; 70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5/23 symptomatiques (13 ME, 2 fièvres: 7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16 donneurs identifiés, tous les dons IgM nég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9 donneurs symptomatiques avant ou après le don (IgM négati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5 donneurs asymptomatiques (IgM négati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Produits sanguins en cause : RBCs, Plasma, pla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estimation 2002 aux USA : 550 donneurs virémiq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u Canada en 2002 : 3 cas probables + 1 c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-360" y="1523520"/>
            <a:ext cx="10287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Dépistage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systématique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depuis 07-2003 sur tout le territoire USA +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2 technologies retenues ; critère de détection de 100 copies/ml d’ARN WNV          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- Chiron T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- Roche  real time PCR (taq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aractéristiques de ces trousses (2003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Parts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Taille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   sensibilité            Autr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e marché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pools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fr-FR" sz="2000" spc="-1" strike="noStrike">
                <a:solidFill>
                  <a:srgbClr val="ffff00"/>
                </a:solidFill>
                <a:latin typeface="Times New Roman"/>
              </a:rPr>
              <a:t>Probit analysis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         Fla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CHIRON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80% USA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16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8-9 copies/ml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i="1" lang="fr-FR" sz="2000" spc="-1" strike="noStrike">
                <a:solidFill>
                  <a:srgbClr val="ffffcc"/>
                </a:solidFill>
                <a:latin typeface="Times New Roman"/>
              </a:rPr>
              <a:t>(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ROCHE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20% USA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  6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&lt; 5 copies/ml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O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100% Canada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i="1" lang="fr-FR" sz="2000" spc="-1" strike="noStrike">
                <a:solidFill>
                  <a:srgbClr val="ffffcc"/>
                </a:solidFill>
                <a:latin typeface="Times New Roman"/>
              </a:rPr>
              <a:t>(95%)(BBI)</a:t>
            </a:r>
            <a:r>
              <a:rPr b="0" i="1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DGV (NAT) Continent Nord Améric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4724280"/>
            <a:ext cx="8153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5486400"/>
            <a:ext cx="8153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6248520"/>
            <a:ext cx="8153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962520"/>
            <a:ext cx="8153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962520"/>
            <a:ext cx="0" cy="228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3962520"/>
            <a:ext cx="0" cy="228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3962520"/>
            <a:ext cx="0" cy="228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962520"/>
            <a:ext cx="0" cy="228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3962520"/>
            <a:ext cx="0" cy="228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677520" y="3962520"/>
            <a:ext cx="0" cy="228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9601200" cy="76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12:50:24Z</dcterms:created>
  <dc:creator>INSTITUT PASTEUR</dc:creator>
  <dc:description/>
  <dc:language>en-US</dc:language>
  <cp:lastModifiedBy>CIRCO</cp:lastModifiedBy>
  <dcterms:modified xsi:type="dcterms:W3CDTF">2004-05-24T09:33:30Z</dcterms:modified>
  <cp:revision>446</cp:revision>
  <dc:subject/>
  <dc:title>Présentation PowerPoint</dc:title>
</cp:coreProperties>
</file>