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707-1D7A-4517-92D1-5C88352A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14D-6374-47FD-A2E1-3E41457D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51D-BBA4-487B-8C85-7F09A04A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A8C6-25BA-46B4-967B-36E1C3EC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236A-3A3F-42A3-A33A-F798A309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0DFE-6C53-4BD5-80C5-B33E30C3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533-3ED0-4C72-AA26-2002F217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BAF-6A38-4471-B752-090E388D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DF9-E22E-4B2D-B717-5B77676F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837-252E-434E-91C5-C642B801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B7D-9C18-47C9-901D-4E7AE31C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C97-8A36-4A67-8869-3A7D2E3B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FC45-C6EB-48F9-A558-29E34B40A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Un résultat faux négatif de la sérologie VIH</a:t>
            </a: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aid Zouhair, Sylvie Roussin, Martine Harzic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Hôpital de Versai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Tests de compétition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VIH1:Wellcozy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Tests mixtes 1+2 avec p24 et peptide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urex Ice1.02, Prism HIV plus-O, Centa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Tests mixtes avec p24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xsym 1+2, ortho 1+2, bio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ccess genscreen-v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Tests combinés avec peptide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Behring, Axsym comb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enscreen plus, Vidas d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n test négatif malgré p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n test négatif malgré peptide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elle est la meilleure association de tes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ariabilité des sous types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els sont les épitopes inclus dans les tes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équence en cours :Tours et Versai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 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tection du gén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Quelle région amplifier ou détect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gion conservée ou amorces ou sondes spécifiques de HIV-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mplification posi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vec les amorces L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vec les amorces pol-integrase de LC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me N. et une femme de 32 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’origine camerouna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n France depuis 19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érologie VIH en 1994 au décours d’une F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2 tests positifs: Wellcozyme et axsym1+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04920" y="231840"/>
          <a:ext cx="8381880" cy="62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1840"/>
                    <a:ext cx="838188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tection Antigène p24 négative:1994-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itres d’Anticorps anti p24 &gt;31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tection ARN plasmatique né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996-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onitor et b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ulture négative en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n 2003 à l’occasion d’une gross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érologie VIH : 2 tests négatifs: Acess et Duo v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Westerns blots controlés sur des sérums séquentiels de 1994 à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sence d’anticorps spécifiques de VIH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érums envoyés à F.Barin (2002 et 200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activité vis à vis du peptide V3 de VIH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bsence de réactivité vis à vis de l’épitope dominant de gp41 de VIH-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tection de l’ARN plasmatique par la méthode LCX:6000copies/m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995480" y="1552680"/>
          <a:ext cx="5153040" cy="37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5480" y="1552680"/>
                    <a:ext cx="515304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s de confi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9480" y="1400040"/>
          <a:ext cx="8229600" cy="353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00040"/>
                    <a:ext cx="822960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2347920" y="90360"/>
            <a:ext cx="1383984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5:11:03Z</dcterms:created>
  <dc:creator>Portable</dc:creator>
  <dc:description/>
  <dc:language>en-US</dc:language>
  <cp:lastModifiedBy>Portable</cp:lastModifiedBy>
  <dcterms:modified xsi:type="dcterms:W3CDTF">2004-06-09T13:36:05Z</dcterms:modified>
  <cp:revision>7</cp:revision>
  <dc:subject/>
  <dc:title>Un résultat faux négatif de la sérologie VIH Said Zouhair, Sylvie Roussin, Martine Harzic Hôpital de Versailles</dc:title>
</cp:coreProperties>
</file>