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AAA-7156-44CC-9FAF-A21A3142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DA8-79A6-49F9-A991-CFE6761F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9C6-EA61-4AF8-B607-F0FD1CCB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D40-D079-4513-A39D-91B1B4E0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E57-7E19-4DE0-9924-741DE3C4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1FCB-56EC-4E63-88B5-2AEEEBA0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DE0E-0993-4609-B568-02A6F36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7367-45DB-4A27-9075-7B9EE81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19AA-37A0-467F-93F8-D17455C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1A0E-7FA0-43EB-91E8-CFCBE418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DF66-A9C3-4C32-BCEF-C007760D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6EB-8D9C-498F-BE8C-9CF5FEC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1E2C-3C0D-4E25-898B-443F296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C357-11F8-48C0-910E-3839A44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466-CF4B-4B36-A25B-157F40D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68C-D327-4A14-917C-319DF25C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80C-F94D-48B6-9120-D9B55BA2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661-A83E-4D03-811F-33D7D402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5C3-DC8A-4CA7-BD21-331EA81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925-C2F5-4664-95B7-AA69816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CA1-EDF8-418B-8AB3-7CBD2F83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1FA-BF54-4A0D-9E51-8806878F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EB7-FE2B-43B8-ABBC-7F3AF1F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4E7-EAB2-4009-BBB7-6C9920BF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CFC-E58A-4C9F-AD3D-0BA7A7979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0511-AF53-4AF7-BE8D-3444F744B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990720"/>
            <a:ext cx="89154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erformances de deux nouvelles trousses VIH Combo </a:t>
            </a:r>
            <a:br>
              <a:rPr sz="3600"/>
            </a:br>
            <a:br>
              <a:rPr sz="3600"/>
            </a:b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T.D. Ly </a:t>
            </a:r>
            <a:r>
              <a:rPr b="1" lang="fr-FR" sz="1800" spc="-1" strike="noStrike" baseline="30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S. Laperche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fr-FR" sz="1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L.C.L </a:t>
            </a:r>
            <a:r>
              <a:rPr b="1" lang="fr-FR" sz="1800" spc="-1" strike="noStrike" baseline="30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cc0000"/>
                </a:solidFill>
                <a:latin typeface="Times New Roman"/>
              </a:rPr>
              <a:t> INTS</a:t>
            </a:r>
            <a:r>
              <a:rPr b="1" lang="fr-FR" sz="1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Times New Roman"/>
              </a:rPr>
              <a:t>XVII</a:t>
            </a:r>
            <a:r>
              <a:rPr b="1" lang="fr-FR" sz="1600" spc="-1" strike="noStrike" baseline="30000">
                <a:solidFill>
                  <a:srgbClr val="ff9900"/>
                </a:solidFill>
                <a:latin typeface="Times New Roman"/>
              </a:rPr>
              <a:t>ème </a:t>
            </a:r>
            <a:r>
              <a:rPr b="1" lang="fr-FR" sz="1600" spc="-1" strike="noStrike">
                <a:solidFill>
                  <a:srgbClr val="ff9900"/>
                </a:solidFill>
                <a:latin typeface="Times New Roman"/>
              </a:rPr>
              <a:t>Colloque de Virologie de Versailles 27 mai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981080" y="2743200"/>
            <a:ext cx="3225600" cy="2739600"/>
            <a:chOff x="1981080" y="2743200"/>
            <a:chExt cx="3225600" cy="2739600"/>
          </a:xfrm>
        </p:grpSpPr>
        <p:sp>
          <p:nvSpPr>
            <p:cNvPr id="132" name=""/>
            <p:cNvSpPr/>
            <p:nvPr/>
          </p:nvSpPr>
          <p:spPr>
            <a:xfrm>
              <a:off x="1981080" y="2743200"/>
              <a:ext cx="3225600" cy="2739600"/>
            </a:xfrm>
            <a:custGeom>
              <a:avLst/>
              <a:gdLst/>
              <a:ahLst/>
              <a:rect l="l" t="t" r="r" b="b"/>
              <a:pathLst>
                <a:path w="1982" h="1583">
                  <a:moveTo>
                    <a:pt x="0" y="1583"/>
                  </a:moveTo>
                  <a:lnTo>
                    <a:pt x="41" y="1576"/>
                  </a:lnTo>
                  <a:lnTo>
                    <a:pt x="82" y="1569"/>
                  </a:lnTo>
                  <a:lnTo>
                    <a:pt x="172" y="1548"/>
                  </a:lnTo>
                  <a:lnTo>
                    <a:pt x="229" y="1520"/>
                  </a:lnTo>
                  <a:lnTo>
                    <a:pt x="278" y="1485"/>
                  </a:lnTo>
                  <a:lnTo>
                    <a:pt x="310" y="1449"/>
                  </a:lnTo>
                  <a:lnTo>
                    <a:pt x="343" y="1407"/>
                  </a:lnTo>
                  <a:lnTo>
                    <a:pt x="367" y="1372"/>
                  </a:lnTo>
                  <a:lnTo>
                    <a:pt x="392" y="1337"/>
                  </a:lnTo>
                  <a:lnTo>
                    <a:pt x="408" y="1281"/>
                  </a:lnTo>
                  <a:lnTo>
                    <a:pt x="424" y="1231"/>
                  </a:lnTo>
                  <a:lnTo>
                    <a:pt x="449" y="1154"/>
                  </a:lnTo>
                  <a:lnTo>
                    <a:pt x="457" y="1112"/>
                  </a:lnTo>
                  <a:lnTo>
                    <a:pt x="457" y="1069"/>
                  </a:lnTo>
                  <a:lnTo>
                    <a:pt x="465" y="1013"/>
                  </a:lnTo>
                  <a:lnTo>
                    <a:pt x="465" y="964"/>
                  </a:lnTo>
                  <a:lnTo>
                    <a:pt x="473" y="908"/>
                  </a:lnTo>
                  <a:lnTo>
                    <a:pt x="482" y="851"/>
                  </a:lnTo>
                  <a:lnTo>
                    <a:pt x="482" y="795"/>
                  </a:lnTo>
                  <a:lnTo>
                    <a:pt x="490" y="746"/>
                  </a:lnTo>
                  <a:lnTo>
                    <a:pt x="490" y="711"/>
                  </a:lnTo>
                  <a:lnTo>
                    <a:pt x="498" y="682"/>
                  </a:lnTo>
                  <a:lnTo>
                    <a:pt x="506" y="626"/>
                  </a:lnTo>
                  <a:lnTo>
                    <a:pt x="506" y="584"/>
                  </a:lnTo>
                  <a:lnTo>
                    <a:pt x="514" y="542"/>
                  </a:lnTo>
                  <a:lnTo>
                    <a:pt x="514" y="464"/>
                  </a:lnTo>
                  <a:lnTo>
                    <a:pt x="514" y="422"/>
                  </a:lnTo>
                  <a:lnTo>
                    <a:pt x="522" y="380"/>
                  </a:lnTo>
                  <a:lnTo>
                    <a:pt x="522" y="295"/>
                  </a:lnTo>
                  <a:lnTo>
                    <a:pt x="530" y="218"/>
                  </a:lnTo>
                  <a:lnTo>
                    <a:pt x="530" y="183"/>
                  </a:lnTo>
                  <a:lnTo>
                    <a:pt x="530" y="155"/>
                  </a:lnTo>
                  <a:lnTo>
                    <a:pt x="539" y="120"/>
                  </a:lnTo>
                  <a:lnTo>
                    <a:pt x="555" y="91"/>
                  </a:lnTo>
                  <a:lnTo>
                    <a:pt x="579" y="28"/>
                  </a:lnTo>
                  <a:lnTo>
                    <a:pt x="596" y="0"/>
                  </a:lnTo>
                  <a:lnTo>
                    <a:pt x="637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702" y="77"/>
                  </a:lnTo>
                  <a:lnTo>
                    <a:pt x="710" y="127"/>
                  </a:lnTo>
                  <a:lnTo>
                    <a:pt x="726" y="183"/>
                  </a:lnTo>
                  <a:lnTo>
                    <a:pt x="734" y="246"/>
                  </a:lnTo>
                  <a:lnTo>
                    <a:pt x="759" y="324"/>
                  </a:lnTo>
                  <a:lnTo>
                    <a:pt x="775" y="387"/>
                  </a:lnTo>
                  <a:lnTo>
                    <a:pt x="792" y="464"/>
                  </a:lnTo>
                  <a:lnTo>
                    <a:pt x="800" y="549"/>
                  </a:lnTo>
                  <a:lnTo>
                    <a:pt x="816" y="633"/>
                  </a:lnTo>
                  <a:lnTo>
                    <a:pt x="849" y="732"/>
                  </a:lnTo>
                  <a:lnTo>
                    <a:pt x="857" y="774"/>
                  </a:lnTo>
                  <a:lnTo>
                    <a:pt x="881" y="830"/>
                  </a:lnTo>
                  <a:lnTo>
                    <a:pt x="914" y="936"/>
                  </a:lnTo>
                  <a:lnTo>
                    <a:pt x="930" y="985"/>
                  </a:lnTo>
                  <a:lnTo>
                    <a:pt x="963" y="1041"/>
                  </a:lnTo>
                  <a:lnTo>
                    <a:pt x="987" y="1084"/>
                  </a:lnTo>
                  <a:lnTo>
                    <a:pt x="1012" y="1133"/>
                  </a:lnTo>
                  <a:lnTo>
                    <a:pt x="1077" y="1231"/>
                  </a:lnTo>
                  <a:lnTo>
                    <a:pt x="1118" y="1274"/>
                  </a:lnTo>
                  <a:lnTo>
                    <a:pt x="1175" y="1316"/>
                  </a:lnTo>
                  <a:lnTo>
                    <a:pt x="1273" y="1372"/>
                  </a:lnTo>
                  <a:lnTo>
                    <a:pt x="1338" y="1400"/>
                  </a:lnTo>
                  <a:lnTo>
                    <a:pt x="1403" y="1428"/>
                  </a:lnTo>
                  <a:lnTo>
                    <a:pt x="1477" y="1449"/>
                  </a:lnTo>
                  <a:lnTo>
                    <a:pt x="1509" y="1456"/>
                  </a:lnTo>
                  <a:lnTo>
                    <a:pt x="1550" y="1471"/>
                  </a:lnTo>
                  <a:lnTo>
                    <a:pt x="1632" y="1499"/>
                  </a:lnTo>
                  <a:lnTo>
                    <a:pt x="1721" y="1520"/>
                  </a:lnTo>
                  <a:lnTo>
                    <a:pt x="1844" y="1548"/>
                  </a:lnTo>
                  <a:lnTo>
                    <a:pt x="1901" y="1555"/>
                  </a:lnTo>
                  <a:lnTo>
                    <a:pt x="1982" y="1569"/>
                  </a:lnTo>
                  <a:lnTo>
                    <a:pt x="0" y="1583"/>
                  </a:lnTo>
                  <a:close/>
                </a:path>
              </a:pathLst>
            </a:custGeom>
            <a:solidFill>
              <a:srgbClr val="66ff66"/>
            </a:solidFill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3040" y="3527280"/>
              <a:ext cx="60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p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A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3511440"/>
            <a:ext cx="3215880" cy="1850760"/>
            <a:chOff x="3429000" y="3511440"/>
            <a:chExt cx="3215880" cy="1850760"/>
          </a:xfrm>
        </p:grpSpPr>
        <p:sp>
          <p:nvSpPr>
            <p:cNvPr id="135" name=""/>
            <p:cNvSpPr/>
            <p:nvPr/>
          </p:nvSpPr>
          <p:spPr>
            <a:xfrm>
              <a:off x="3429000" y="3511440"/>
              <a:ext cx="3215880" cy="1850760"/>
            </a:xfrm>
            <a:custGeom>
              <a:avLst/>
              <a:gdLst/>
              <a:ahLst/>
              <a:rect l="l" t="t" r="r" b="b"/>
              <a:pathLst>
                <a:path w="1974" h="1069">
                  <a:moveTo>
                    <a:pt x="0" y="1069"/>
                  </a:moveTo>
                  <a:lnTo>
                    <a:pt x="41" y="1069"/>
                  </a:lnTo>
                  <a:lnTo>
                    <a:pt x="81" y="1062"/>
                  </a:lnTo>
                  <a:lnTo>
                    <a:pt x="171" y="1048"/>
                  </a:lnTo>
                  <a:lnTo>
                    <a:pt x="220" y="1034"/>
                  </a:lnTo>
                  <a:lnTo>
                    <a:pt x="277" y="1013"/>
                  </a:lnTo>
                  <a:lnTo>
                    <a:pt x="310" y="985"/>
                  </a:lnTo>
                  <a:lnTo>
                    <a:pt x="342" y="956"/>
                  </a:lnTo>
                  <a:lnTo>
                    <a:pt x="383" y="900"/>
                  </a:lnTo>
                  <a:lnTo>
                    <a:pt x="424" y="844"/>
                  </a:lnTo>
                  <a:lnTo>
                    <a:pt x="440" y="795"/>
                  </a:lnTo>
                  <a:lnTo>
                    <a:pt x="457" y="738"/>
                  </a:lnTo>
                  <a:lnTo>
                    <a:pt x="473" y="668"/>
                  </a:lnTo>
                  <a:lnTo>
                    <a:pt x="481" y="598"/>
                  </a:lnTo>
                  <a:lnTo>
                    <a:pt x="489" y="520"/>
                  </a:lnTo>
                  <a:lnTo>
                    <a:pt x="506" y="450"/>
                  </a:lnTo>
                  <a:lnTo>
                    <a:pt x="506" y="394"/>
                  </a:lnTo>
                  <a:lnTo>
                    <a:pt x="514" y="344"/>
                  </a:lnTo>
                  <a:lnTo>
                    <a:pt x="514" y="288"/>
                  </a:lnTo>
                  <a:lnTo>
                    <a:pt x="530" y="239"/>
                  </a:lnTo>
                  <a:lnTo>
                    <a:pt x="538" y="168"/>
                  </a:lnTo>
                  <a:lnTo>
                    <a:pt x="571" y="105"/>
                  </a:lnTo>
                  <a:lnTo>
                    <a:pt x="587" y="35"/>
                  </a:lnTo>
                  <a:lnTo>
                    <a:pt x="603" y="7"/>
                  </a:lnTo>
                  <a:lnTo>
                    <a:pt x="636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685" y="56"/>
                  </a:lnTo>
                  <a:lnTo>
                    <a:pt x="701" y="91"/>
                  </a:lnTo>
                  <a:lnTo>
                    <a:pt x="709" y="126"/>
                  </a:lnTo>
                  <a:lnTo>
                    <a:pt x="726" y="161"/>
                  </a:lnTo>
                  <a:lnTo>
                    <a:pt x="734" y="204"/>
                  </a:lnTo>
                  <a:lnTo>
                    <a:pt x="758" y="253"/>
                  </a:lnTo>
                  <a:lnTo>
                    <a:pt x="775" y="295"/>
                  </a:lnTo>
                  <a:lnTo>
                    <a:pt x="791" y="344"/>
                  </a:lnTo>
                  <a:lnTo>
                    <a:pt x="816" y="422"/>
                  </a:lnTo>
                  <a:lnTo>
                    <a:pt x="824" y="457"/>
                  </a:lnTo>
                  <a:lnTo>
                    <a:pt x="840" y="506"/>
                  </a:lnTo>
                  <a:lnTo>
                    <a:pt x="881" y="584"/>
                  </a:lnTo>
                  <a:lnTo>
                    <a:pt x="922" y="661"/>
                  </a:lnTo>
                  <a:lnTo>
                    <a:pt x="962" y="724"/>
                  </a:lnTo>
                  <a:lnTo>
                    <a:pt x="1011" y="781"/>
                  </a:lnTo>
                  <a:lnTo>
                    <a:pt x="1044" y="809"/>
                  </a:lnTo>
                  <a:lnTo>
                    <a:pt x="1077" y="844"/>
                  </a:lnTo>
                  <a:lnTo>
                    <a:pt x="1126" y="872"/>
                  </a:lnTo>
                  <a:lnTo>
                    <a:pt x="1174" y="900"/>
                  </a:lnTo>
                  <a:lnTo>
                    <a:pt x="1223" y="914"/>
                  </a:lnTo>
                  <a:lnTo>
                    <a:pt x="1272" y="935"/>
                  </a:lnTo>
                  <a:lnTo>
                    <a:pt x="1338" y="956"/>
                  </a:lnTo>
                  <a:lnTo>
                    <a:pt x="1403" y="971"/>
                  </a:lnTo>
                  <a:lnTo>
                    <a:pt x="1476" y="985"/>
                  </a:lnTo>
                  <a:lnTo>
                    <a:pt x="1509" y="992"/>
                  </a:lnTo>
                  <a:lnTo>
                    <a:pt x="1550" y="999"/>
                  </a:lnTo>
                  <a:lnTo>
                    <a:pt x="1631" y="1013"/>
                  </a:lnTo>
                  <a:lnTo>
                    <a:pt x="1721" y="1034"/>
                  </a:lnTo>
                  <a:lnTo>
                    <a:pt x="1843" y="1048"/>
                  </a:lnTo>
                  <a:lnTo>
                    <a:pt x="1974" y="1069"/>
                  </a:lnTo>
                  <a:lnTo>
                    <a:pt x="0" y="1069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40720" y="4158720"/>
              <a:ext cx="78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067600" y="5016600"/>
            <a:ext cx="547920" cy="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0" y="692280"/>
            <a:ext cx="4603320" cy="4725360"/>
            <a:chOff x="4572000" y="692280"/>
            <a:chExt cx="4603320" cy="4725360"/>
          </a:xfrm>
        </p:grpSpPr>
        <p:sp>
          <p:nvSpPr>
            <p:cNvPr id="139" name=""/>
            <p:cNvSpPr/>
            <p:nvPr/>
          </p:nvSpPr>
          <p:spPr>
            <a:xfrm>
              <a:off x="4572000" y="692280"/>
              <a:ext cx="4603320" cy="4725360"/>
            </a:xfrm>
            <a:custGeom>
              <a:avLst/>
              <a:gdLst/>
              <a:ahLst/>
              <a:rect l="l" t="t" r="r" b="b"/>
              <a:pathLst>
                <a:path w="2643" h="2730">
                  <a:moveTo>
                    <a:pt x="0" y="2730"/>
                  </a:moveTo>
                  <a:lnTo>
                    <a:pt x="179" y="2639"/>
                  </a:lnTo>
                  <a:lnTo>
                    <a:pt x="301" y="2575"/>
                  </a:lnTo>
                  <a:lnTo>
                    <a:pt x="383" y="2519"/>
                  </a:lnTo>
                  <a:lnTo>
                    <a:pt x="440" y="2484"/>
                  </a:lnTo>
                  <a:lnTo>
                    <a:pt x="481" y="2435"/>
                  </a:lnTo>
                  <a:lnTo>
                    <a:pt x="505" y="2413"/>
                  </a:lnTo>
                  <a:lnTo>
                    <a:pt x="522" y="2399"/>
                  </a:lnTo>
                  <a:lnTo>
                    <a:pt x="538" y="2385"/>
                  </a:lnTo>
                  <a:lnTo>
                    <a:pt x="546" y="2371"/>
                  </a:lnTo>
                  <a:lnTo>
                    <a:pt x="554" y="2364"/>
                  </a:lnTo>
                  <a:lnTo>
                    <a:pt x="562" y="2350"/>
                  </a:lnTo>
                  <a:lnTo>
                    <a:pt x="579" y="2329"/>
                  </a:lnTo>
                  <a:lnTo>
                    <a:pt x="611" y="2287"/>
                  </a:lnTo>
                  <a:lnTo>
                    <a:pt x="677" y="2160"/>
                  </a:lnTo>
                  <a:lnTo>
                    <a:pt x="709" y="2104"/>
                  </a:lnTo>
                  <a:lnTo>
                    <a:pt x="750" y="2048"/>
                  </a:lnTo>
                  <a:lnTo>
                    <a:pt x="807" y="1956"/>
                  </a:lnTo>
                  <a:lnTo>
                    <a:pt x="864" y="1872"/>
                  </a:lnTo>
                  <a:lnTo>
                    <a:pt x="995" y="1703"/>
                  </a:lnTo>
                  <a:lnTo>
                    <a:pt x="1044" y="1625"/>
                  </a:lnTo>
                  <a:lnTo>
                    <a:pt x="1085" y="1562"/>
                  </a:lnTo>
                  <a:lnTo>
                    <a:pt x="1174" y="1428"/>
                  </a:lnTo>
                  <a:lnTo>
                    <a:pt x="1207" y="1372"/>
                  </a:lnTo>
                  <a:lnTo>
                    <a:pt x="1248" y="1323"/>
                  </a:lnTo>
                  <a:lnTo>
                    <a:pt x="1313" y="1238"/>
                  </a:lnTo>
                  <a:lnTo>
                    <a:pt x="1386" y="1161"/>
                  </a:lnTo>
                  <a:lnTo>
                    <a:pt x="1468" y="1069"/>
                  </a:lnTo>
                  <a:lnTo>
                    <a:pt x="1509" y="1013"/>
                  </a:lnTo>
                  <a:lnTo>
                    <a:pt x="1550" y="964"/>
                  </a:lnTo>
                  <a:lnTo>
                    <a:pt x="1623" y="879"/>
                  </a:lnTo>
                  <a:lnTo>
                    <a:pt x="1696" y="802"/>
                  </a:lnTo>
                  <a:lnTo>
                    <a:pt x="1794" y="718"/>
                  </a:lnTo>
                  <a:lnTo>
                    <a:pt x="1908" y="605"/>
                  </a:lnTo>
                  <a:lnTo>
                    <a:pt x="2006" y="507"/>
                  </a:lnTo>
                  <a:lnTo>
                    <a:pt x="2104" y="415"/>
                  </a:lnTo>
                  <a:lnTo>
                    <a:pt x="2161" y="366"/>
                  </a:lnTo>
                  <a:lnTo>
                    <a:pt x="2227" y="317"/>
                  </a:lnTo>
                  <a:lnTo>
                    <a:pt x="2406" y="155"/>
                  </a:lnTo>
                  <a:lnTo>
                    <a:pt x="2496" y="84"/>
                  </a:lnTo>
                  <a:lnTo>
                    <a:pt x="2545" y="49"/>
                  </a:lnTo>
                  <a:lnTo>
                    <a:pt x="2610" y="14"/>
                  </a:lnTo>
                  <a:lnTo>
                    <a:pt x="2618" y="0"/>
                  </a:lnTo>
                  <a:lnTo>
                    <a:pt x="2634" y="0"/>
                  </a:lnTo>
                  <a:lnTo>
                    <a:pt x="2643" y="14"/>
                  </a:lnTo>
                  <a:lnTo>
                    <a:pt x="2634" y="56"/>
                  </a:lnTo>
                  <a:lnTo>
                    <a:pt x="2626" y="105"/>
                  </a:lnTo>
                  <a:lnTo>
                    <a:pt x="2626" y="162"/>
                  </a:lnTo>
                  <a:lnTo>
                    <a:pt x="2618" y="324"/>
                  </a:lnTo>
                  <a:lnTo>
                    <a:pt x="2610" y="457"/>
                  </a:lnTo>
                  <a:lnTo>
                    <a:pt x="2602" y="556"/>
                  </a:lnTo>
                  <a:lnTo>
                    <a:pt x="2602" y="598"/>
                  </a:lnTo>
                  <a:lnTo>
                    <a:pt x="2602" y="633"/>
                  </a:lnTo>
                  <a:lnTo>
                    <a:pt x="2602" y="661"/>
                  </a:lnTo>
                  <a:lnTo>
                    <a:pt x="2602" y="682"/>
                  </a:lnTo>
                  <a:lnTo>
                    <a:pt x="2602" y="711"/>
                  </a:lnTo>
                  <a:lnTo>
                    <a:pt x="2602" y="718"/>
                  </a:lnTo>
                  <a:lnTo>
                    <a:pt x="2602" y="682"/>
                  </a:lnTo>
                  <a:lnTo>
                    <a:pt x="2610" y="640"/>
                  </a:lnTo>
                  <a:lnTo>
                    <a:pt x="2618" y="619"/>
                  </a:lnTo>
                  <a:lnTo>
                    <a:pt x="2626" y="647"/>
                  </a:lnTo>
                  <a:lnTo>
                    <a:pt x="2618" y="689"/>
                  </a:lnTo>
                  <a:lnTo>
                    <a:pt x="2618" y="704"/>
                  </a:lnTo>
                  <a:lnTo>
                    <a:pt x="2618" y="704"/>
                  </a:lnTo>
                  <a:lnTo>
                    <a:pt x="2618" y="711"/>
                  </a:lnTo>
                  <a:lnTo>
                    <a:pt x="2618" y="725"/>
                  </a:lnTo>
                  <a:lnTo>
                    <a:pt x="2618" y="774"/>
                  </a:lnTo>
                  <a:lnTo>
                    <a:pt x="2618" y="872"/>
                  </a:lnTo>
                  <a:lnTo>
                    <a:pt x="2626" y="1027"/>
                  </a:lnTo>
                  <a:lnTo>
                    <a:pt x="2618" y="1196"/>
                  </a:lnTo>
                  <a:lnTo>
                    <a:pt x="2618" y="1351"/>
                  </a:lnTo>
                  <a:lnTo>
                    <a:pt x="2618" y="1506"/>
                  </a:lnTo>
                  <a:lnTo>
                    <a:pt x="2618" y="1668"/>
                  </a:lnTo>
                  <a:lnTo>
                    <a:pt x="2618" y="1851"/>
                  </a:lnTo>
                  <a:lnTo>
                    <a:pt x="2626" y="1956"/>
                  </a:lnTo>
                  <a:lnTo>
                    <a:pt x="2626" y="2076"/>
                  </a:lnTo>
                  <a:lnTo>
                    <a:pt x="2626" y="2350"/>
                  </a:lnTo>
                  <a:lnTo>
                    <a:pt x="2626" y="2512"/>
                  </a:lnTo>
                  <a:lnTo>
                    <a:pt x="2626" y="2695"/>
                  </a:lnTo>
                  <a:lnTo>
                    <a:pt x="2626" y="2709"/>
                  </a:lnTo>
                  <a:lnTo>
                    <a:pt x="2626" y="2730"/>
                  </a:lnTo>
                  <a:lnTo>
                    <a:pt x="0" y="2730"/>
                  </a:lnTo>
                  <a:close/>
                </a:path>
              </a:pathLst>
            </a:custGeom>
            <a:solidFill>
              <a:srgbClr val="ff9999"/>
            </a:solidFill>
            <a:ln w="3816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7520" y="4387680"/>
              <a:ext cx="1126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400" y="642960"/>
            <a:ext cx="8998560" cy="5605200"/>
            <a:chOff x="68400" y="642960"/>
            <a:chExt cx="8998560" cy="5605200"/>
          </a:xfrm>
        </p:grpSpPr>
        <p:grpSp>
          <p:nvGrpSpPr>
            <p:cNvPr id="142" name=""/>
            <p:cNvGrpSpPr/>
            <p:nvPr/>
          </p:nvGrpSpPr>
          <p:grpSpPr>
            <a:xfrm>
              <a:off x="68400" y="642960"/>
              <a:ext cx="634680" cy="4727160"/>
              <a:chOff x="68400" y="642960"/>
              <a:chExt cx="634680" cy="4727160"/>
            </a:xfrm>
          </p:grpSpPr>
          <p:sp>
            <p:nvSpPr>
              <p:cNvPr id="143" name=""/>
              <p:cNvSpPr/>
              <p:nvPr/>
            </p:nvSpPr>
            <p:spPr>
              <a:xfrm>
                <a:off x="701280" y="642960"/>
                <a:ext cx="1800" cy="4727160"/>
              </a:xfrm>
              <a:prstGeom prst="line">
                <a:avLst/>
              </a:prstGeom>
              <a:ln w="52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00000">
                <a:off x="37800" y="2761560"/>
                <a:ext cx="58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90400" y="5389200"/>
              <a:ext cx="8476560" cy="858960"/>
              <a:chOff x="590400" y="5389200"/>
              <a:chExt cx="8476560" cy="858960"/>
            </a:xfrm>
          </p:grpSpPr>
          <p:sp>
            <p:nvSpPr>
              <p:cNvPr id="146" name=""/>
              <p:cNvSpPr/>
              <p:nvPr/>
            </p:nvSpPr>
            <p:spPr>
              <a:xfrm>
                <a:off x="59040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0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8868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408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8380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3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9360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9080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5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8584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6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59420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7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604720" y="5520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8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0680" y="5851800"/>
                <a:ext cx="38242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600" spc="-1" strike="noStrike">
                    <a:solidFill>
                      <a:srgbClr val="ffff00"/>
                    </a:solidFill>
                    <a:latin typeface="Times New Roman"/>
                  </a:rPr>
                  <a:t>Semaines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623520" y="5389200"/>
                <a:ext cx="8443440" cy="10440"/>
              </a:xfrm>
              <a:prstGeom prst="line">
                <a:avLst/>
              </a:prstGeom>
              <a:ln w="1015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2514600" y="914400"/>
            <a:ext cx="6628680" cy="581040"/>
            <a:chOff x="2514600" y="914400"/>
            <a:chExt cx="6628680" cy="581040"/>
          </a:xfrm>
        </p:grpSpPr>
        <p:sp>
          <p:nvSpPr>
            <p:cNvPr id="158" name=""/>
            <p:cNvSpPr/>
            <p:nvPr/>
          </p:nvSpPr>
          <p:spPr>
            <a:xfrm>
              <a:off x="3158640" y="961560"/>
              <a:ext cx="4572720" cy="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6240" y="914400"/>
              <a:ext cx="19670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imes New Roman"/>
                </a:rPr>
                <a:t>4 ème 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14600" y="923760"/>
              <a:ext cx="916200" cy="571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8381880" y="5950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4258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Ig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349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Times New Roman"/>
              </a:rPr>
              <a:t>Ig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600200"/>
            <a:ext cx="0" cy="1225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676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 de prélè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952880"/>
            <a:ext cx="762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</a:rPr>
              <a:t>Panel avec le premier échantillon  positif ayant 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une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entration trais faible en Ag VIH sans 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049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33"/>
                </a:solidFill>
                <a:latin typeface="Times New Roman"/>
              </a:rPr>
              <a:t>Panel de séroconversion BBI 95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34120"/>
            <a:ext cx="43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;   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0" y="1143000"/>
          <a:ext cx="91440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07560" y="533412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 =  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&gt; 1  : Positif  ;  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Panel BCP 901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5867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1  panels : BBI 923,  944, 951, 952, 953, 954, 958, NABI 331, 401, 404, BCP 90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685800"/>
          <a:ext cx="91440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8580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Vidas Duo: détection de l’Ag et des IgG anti -V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8839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69920" y="1371600"/>
            <a:ext cx="7003800" cy="4444560"/>
            <a:chOff x="1069920" y="1371600"/>
            <a:chExt cx="7003800" cy="4444560"/>
          </a:xfrm>
        </p:grpSpPr>
        <p:sp>
          <p:nvSpPr>
            <p:cNvPr id="183" name=""/>
            <p:cNvSpPr/>
            <p:nvPr/>
          </p:nvSpPr>
          <p:spPr>
            <a:xfrm>
              <a:off x="1069920" y="1371600"/>
              <a:ext cx="7003800" cy="4444560"/>
            </a:xfrm>
            <a:custGeom>
              <a:avLst/>
              <a:gdLst/>
              <a:ahLst/>
              <a:rect l="l" t="t" r="r" b="b"/>
              <a:pathLst>
                <a:path w="4299" h="2568">
                  <a:moveTo>
                    <a:pt x="0" y="2568"/>
                  </a:moveTo>
                  <a:lnTo>
                    <a:pt x="74" y="2554"/>
                  </a:lnTo>
                  <a:lnTo>
                    <a:pt x="139" y="2547"/>
                  </a:lnTo>
                  <a:lnTo>
                    <a:pt x="221" y="2533"/>
                  </a:lnTo>
                  <a:lnTo>
                    <a:pt x="310" y="2512"/>
                  </a:lnTo>
                  <a:lnTo>
                    <a:pt x="408" y="2470"/>
                  </a:lnTo>
                  <a:lnTo>
                    <a:pt x="498" y="2413"/>
                  </a:lnTo>
                  <a:lnTo>
                    <a:pt x="555" y="2350"/>
                  </a:lnTo>
                  <a:lnTo>
                    <a:pt x="612" y="2287"/>
                  </a:lnTo>
                  <a:lnTo>
                    <a:pt x="637" y="2251"/>
                  </a:lnTo>
                  <a:lnTo>
                    <a:pt x="661" y="2223"/>
                  </a:lnTo>
                  <a:lnTo>
                    <a:pt x="702" y="2167"/>
                  </a:lnTo>
                  <a:lnTo>
                    <a:pt x="735" y="2083"/>
                  </a:lnTo>
                  <a:lnTo>
                    <a:pt x="767" y="2005"/>
                  </a:lnTo>
                  <a:lnTo>
                    <a:pt x="783" y="1935"/>
                  </a:lnTo>
                  <a:lnTo>
                    <a:pt x="800" y="1871"/>
                  </a:lnTo>
                  <a:lnTo>
                    <a:pt x="816" y="1801"/>
                  </a:lnTo>
                  <a:lnTo>
                    <a:pt x="824" y="1738"/>
                  </a:lnTo>
                  <a:lnTo>
                    <a:pt x="832" y="1646"/>
                  </a:lnTo>
                  <a:lnTo>
                    <a:pt x="841" y="1569"/>
                  </a:lnTo>
                  <a:lnTo>
                    <a:pt x="841" y="1513"/>
                  </a:lnTo>
                  <a:lnTo>
                    <a:pt x="849" y="1470"/>
                  </a:lnTo>
                  <a:lnTo>
                    <a:pt x="865" y="1379"/>
                  </a:lnTo>
                  <a:lnTo>
                    <a:pt x="873" y="1294"/>
                  </a:lnTo>
                  <a:lnTo>
                    <a:pt x="881" y="1203"/>
                  </a:lnTo>
                  <a:lnTo>
                    <a:pt x="890" y="1112"/>
                  </a:lnTo>
                  <a:lnTo>
                    <a:pt x="906" y="1013"/>
                  </a:lnTo>
                  <a:lnTo>
                    <a:pt x="914" y="886"/>
                  </a:lnTo>
                  <a:lnTo>
                    <a:pt x="922" y="753"/>
                  </a:lnTo>
                  <a:lnTo>
                    <a:pt x="922" y="682"/>
                  </a:lnTo>
                  <a:lnTo>
                    <a:pt x="930" y="619"/>
                  </a:lnTo>
                  <a:lnTo>
                    <a:pt x="947" y="485"/>
                  </a:lnTo>
                  <a:lnTo>
                    <a:pt x="955" y="359"/>
                  </a:lnTo>
                  <a:lnTo>
                    <a:pt x="971" y="232"/>
                  </a:lnTo>
                  <a:lnTo>
                    <a:pt x="979" y="176"/>
                  </a:lnTo>
                  <a:lnTo>
                    <a:pt x="996" y="126"/>
                  </a:lnTo>
                  <a:lnTo>
                    <a:pt x="1020" y="70"/>
                  </a:lnTo>
                  <a:lnTo>
                    <a:pt x="1053" y="28"/>
                  </a:lnTo>
                  <a:lnTo>
                    <a:pt x="1093" y="0"/>
                  </a:lnTo>
                  <a:lnTo>
                    <a:pt x="1151" y="0"/>
                  </a:lnTo>
                  <a:lnTo>
                    <a:pt x="1224" y="42"/>
                  </a:lnTo>
                  <a:lnTo>
                    <a:pt x="1248" y="91"/>
                  </a:lnTo>
                  <a:lnTo>
                    <a:pt x="1265" y="147"/>
                  </a:lnTo>
                  <a:lnTo>
                    <a:pt x="1306" y="274"/>
                  </a:lnTo>
                  <a:lnTo>
                    <a:pt x="1338" y="408"/>
                  </a:lnTo>
                  <a:lnTo>
                    <a:pt x="1346" y="464"/>
                  </a:lnTo>
                  <a:lnTo>
                    <a:pt x="1363" y="520"/>
                  </a:lnTo>
                  <a:lnTo>
                    <a:pt x="1395" y="633"/>
                  </a:lnTo>
                  <a:lnTo>
                    <a:pt x="1428" y="753"/>
                  </a:lnTo>
                  <a:lnTo>
                    <a:pt x="1452" y="858"/>
                  </a:lnTo>
                  <a:lnTo>
                    <a:pt x="1469" y="950"/>
                  </a:lnTo>
                  <a:lnTo>
                    <a:pt x="1485" y="1041"/>
                  </a:lnTo>
                  <a:lnTo>
                    <a:pt x="1493" y="1090"/>
                  </a:lnTo>
                  <a:lnTo>
                    <a:pt x="1518" y="1147"/>
                  </a:lnTo>
                  <a:lnTo>
                    <a:pt x="1550" y="1252"/>
                  </a:lnTo>
                  <a:lnTo>
                    <a:pt x="1583" y="1351"/>
                  </a:lnTo>
                  <a:lnTo>
                    <a:pt x="1616" y="1442"/>
                  </a:lnTo>
                  <a:lnTo>
                    <a:pt x="1640" y="1491"/>
                  </a:lnTo>
                  <a:lnTo>
                    <a:pt x="1664" y="1548"/>
                  </a:lnTo>
                  <a:lnTo>
                    <a:pt x="1738" y="1689"/>
                  </a:lnTo>
                  <a:lnTo>
                    <a:pt x="1771" y="1759"/>
                  </a:lnTo>
                  <a:lnTo>
                    <a:pt x="1828" y="1836"/>
                  </a:lnTo>
                  <a:lnTo>
                    <a:pt x="1877" y="1921"/>
                  </a:lnTo>
                  <a:lnTo>
                    <a:pt x="1909" y="1956"/>
                  </a:lnTo>
                  <a:lnTo>
                    <a:pt x="1950" y="1998"/>
                  </a:lnTo>
                  <a:lnTo>
                    <a:pt x="2023" y="2068"/>
                  </a:lnTo>
                  <a:lnTo>
                    <a:pt x="2064" y="2097"/>
                  </a:lnTo>
                  <a:lnTo>
                    <a:pt x="2121" y="2132"/>
                  </a:lnTo>
                  <a:lnTo>
                    <a:pt x="2203" y="2181"/>
                  </a:lnTo>
                  <a:lnTo>
                    <a:pt x="2293" y="2230"/>
                  </a:lnTo>
                  <a:lnTo>
                    <a:pt x="2439" y="2287"/>
                  </a:lnTo>
                  <a:lnTo>
                    <a:pt x="2578" y="2329"/>
                  </a:lnTo>
                  <a:lnTo>
                    <a:pt x="2717" y="2364"/>
                  </a:lnTo>
                  <a:lnTo>
                    <a:pt x="2872" y="2399"/>
                  </a:lnTo>
                  <a:lnTo>
                    <a:pt x="3059" y="2427"/>
                  </a:lnTo>
                  <a:lnTo>
                    <a:pt x="3231" y="2441"/>
                  </a:lnTo>
                  <a:lnTo>
                    <a:pt x="3402" y="2448"/>
                  </a:lnTo>
                  <a:lnTo>
                    <a:pt x="3590" y="2463"/>
                  </a:lnTo>
                  <a:lnTo>
                    <a:pt x="3736" y="2470"/>
                  </a:lnTo>
                  <a:lnTo>
                    <a:pt x="3867" y="2470"/>
                  </a:lnTo>
                  <a:lnTo>
                    <a:pt x="3989" y="2484"/>
                  </a:lnTo>
                  <a:lnTo>
                    <a:pt x="4136" y="2512"/>
                  </a:lnTo>
                  <a:lnTo>
                    <a:pt x="4218" y="2533"/>
                  </a:lnTo>
                  <a:lnTo>
                    <a:pt x="4299" y="2568"/>
                  </a:lnTo>
                  <a:lnTo>
                    <a:pt x="0" y="2568"/>
                  </a:lnTo>
                  <a:close/>
                </a:path>
              </a:pathLst>
            </a:custGeom>
            <a:solidFill>
              <a:srgbClr val="ffff33"/>
            </a:solidFill>
            <a:ln w="38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9400" y="2377440"/>
              <a:ext cx="62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HI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R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438280" y="3124080"/>
            <a:ext cx="3225600" cy="2739960"/>
            <a:chOff x="2438280" y="3124080"/>
            <a:chExt cx="3225600" cy="2739960"/>
          </a:xfrm>
        </p:grpSpPr>
        <p:sp>
          <p:nvSpPr>
            <p:cNvPr id="186" name=""/>
            <p:cNvSpPr/>
            <p:nvPr/>
          </p:nvSpPr>
          <p:spPr>
            <a:xfrm>
              <a:off x="2438280" y="3124080"/>
              <a:ext cx="3225600" cy="2739960"/>
            </a:xfrm>
            <a:custGeom>
              <a:avLst/>
              <a:gdLst/>
              <a:ahLst/>
              <a:rect l="l" t="t" r="r" b="b"/>
              <a:pathLst>
                <a:path w="1982" h="1583">
                  <a:moveTo>
                    <a:pt x="0" y="1583"/>
                  </a:moveTo>
                  <a:lnTo>
                    <a:pt x="41" y="1576"/>
                  </a:lnTo>
                  <a:lnTo>
                    <a:pt x="82" y="1569"/>
                  </a:lnTo>
                  <a:lnTo>
                    <a:pt x="172" y="1548"/>
                  </a:lnTo>
                  <a:lnTo>
                    <a:pt x="229" y="1520"/>
                  </a:lnTo>
                  <a:lnTo>
                    <a:pt x="278" y="1485"/>
                  </a:lnTo>
                  <a:lnTo>
                    <a:pt x="310" y="1449"/>
                  </a:lnTo>
                  <a:lnTo>
                    <a:pt x="343" y="1407"/>
                  </a:lnTo>
                  <a:lnTo>
                    <a:pt x="367" y="1372"/>
                  </a:lnTo>
                  <a:lnTo>
                    <a:pt x="392" y="1337"/>
                  </a:lnTo>
                  <a:lnTo>
                    <a:pt x="408" y="1281"/>
                  </a:lnTo>
                  <a:lnTo>
                    <a:pt x="424" y="1231"/>
                  </a:lnTo>
                  <a:lnTo>
                    <a:pt x="449" y="1154"/>
                  </a:lnTo>
                  <a:lnTo>
                    <a:pt x="457" y="1112"/>
                  </a:lnTo>
                  <a:lnTo>
                    <a:pt x="457" y="1069"/>
                  </a:lnTo>
                  <a:lnTo>
                    <a:pt x="465" y="1013"/>
                  </a:lnTo>
                  <a:lnTo>
                    <a:pt x="465" y="964"/>
                  </a:lnTo>
                  <a:lnTo>
                    <a:pt x="473" y="908"/>
                  </a:lnTo>
                  <a:lnTo>
                    <a:pt x="482" y="851"/>
                  </a:lnTo>
                  <a:lnTo>
                    <a:pt x="482" y="795"/>
                  </a:lnTo>
                  <a:lnTo>
                    <a:pt x="490" y="746"/>
                  </a:lnTo>
                  <a:lnTo>
                    <a:pt x="490" y="711"/>
                  </a:lnTo>
                  <a:lnTo>
                    <a:pt x="498" y="682"/>
                  </a:lnTo>
                  <a:lnTo>
                    <a:pt x="506" y="626"/>
                  </a:lnTo>
                  <a:lnTo>
                    <a:pt x="506" y="584"/>
                  </a:lnTo>
                  <a:lnTo>
                    <a:pt x="514" y="542"/>
                  </a:lnTo>
                  <a:lnTo>
                    <a:pt x="514" y="464"/>
                  </a:lnTo>
                  <a:lnTo>
                    <a:pt x="514" y="422"/>
                  </a:lnTo>
                  <a:lnTo>
                    <a:pt x="522" y="380"/>
                  </a:lnTo>
                  <a:lnTo>
                    <a:pt x="522" y="295"/>
                  </a:lnTo>
                  <a:lnTo>
                    <a:pt x="530" y="218"/>
                  </a:lnTo>
                  <a:lnTo>
                    <a:pt x="530" y="183"/>
                  </a:lnTo>
                  <a:lnTo>
                    <a:pt x="530" y="155"/>
                  </a:lnTo>
                  <a:lnTo>
                    <a:pt x="539" y="120"/>
                  </a:lnTo>
                  <a:lnTo>
                    <a:pt x="555" y="91"/>
                  </a:lnTo>
                  <a:lnTo>
                    <a:pt x="579" y="28"/>
                  </a:lnTo>
                  <a:lnTo>
                    <a:pt x="596" y="0"/>
                  </a:lnTo>
                  <a:lnTo>
                    <a:pt x="637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702" y="77"/>
                  </a:lnTo>
                  <a:lnTo>
                    <a:pt x="710" y="127"/>
                  </a:lnTo>
                  <a:lnTo>
                    <a:pt x="726" y="183"/>
                  </a:lnTo>
                  <a:lnTo>
                    <a:pt x="734" y="246"/>
                  </a:lnTo>
                  <a:lnTo>
                    <a:pt x="759" y="324"/>
                  </a:lnTo>
                  <a:lnTo>
                    <a:pt x="775" y="387"/>
                  </a:lnTo>
                  <a:lnTo>
                    <a:pt x="792" y="464"/>
                  </a:lnTo>
                  <a:lnTo>
                    <a:pt x="800" y="549"/>
                  </a:lnTo>
                  <a:lnTo>
                    <a:pt x="816" y="633"/>
                  </a:lnTo>
                  <a:lnTo>
                    <a:pt x="849" y="732"/>
                  </a:lnTo>
                  <a:lnTo>
                    <a:pt x="857" y="774"/>
                  </a:lnTo>
                  <a:lnTo>
                    <a:pt x="881" y="830"/>
                  </a:lnTo>
                  <a:lnTo>
                    <a:pt x="914" y="936"/>
                  </a:lnTo>
                  <a:lnTo>
                    <a:pt x="930" y="985"/>
                  </a:lnTo>
                  <a:lnTo>
                    <a:pt x="963" y="1041"/>
                  </a:lnTo>
                  <a:lnTo>
                    <a:pt x="987" y="1084"/>
                  </a:lnTo>
                  <a:lnTo>
                    <a:pt x="1012" y="1133"/>
                  </a:lnTo>
                  <a:lnTo>
                    <a:pt x="1077" y="1231"/>
                  </a:lnTo>
                  <a:lnTo>
                    <a:pt x="1118" y="1274"/>
                  </a:lnTo>
                  <a:lnTo>
                    <a:pt x="1175" y="1316"/>
                  </a:lnTo>
                  <a:lnTo>
                    <a:pt x="1273" y="1372"/>
                  </a:lnTo>
                  <a:lnTo>
                    <a:pt x="1338" y="1400"/>
                  </a:lnTo>
                  <a:lnTo>
                    <a:pt x="1403" y="1428"/>
                  </a:lnTo>
                  <a:lnTo>
                    <a:pt x="1477" y="1449"/>
                  </a:lnTo>
                  <a:lnTo>
                    <a:pt x="1509" y="1456"/>
                  </a:lnTo>
                  <a:lnTo>
                    <a:pt x="1550" y="1471"/>
                  </a:lnTo>
                  <a:lnTo>
                    <a:pt x="1632" y="1499"/>
                  </a:lnTo>
                  <a:lnTo>
                    <a:pt x="1721" y="1520"/>
                  </a:lnTo>
                  <a:lnTo>
                    <a:pt x="1844" y="1548"/>
                  </a:lnTo>
                  <a:lnTo>
                    <a:pt x="1901" y="1555"/>
                  </a:lnTo>
                  <a:lnTo>
                    <a:pt x="1982" y="1569"/>
                  </a:lnTo>
                  <a:lnTo>
                    <a:pt x="0" y="1583"/>
                  </a:lnTo>
                  <a:close/>
                </a:path>
              </a:pathLst>
            </a:custGeom>
            <a:solidFill>
              <a:srgbClr val="66ff66"/>
            </a:solidFill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0240" y="3908160"/>
              <a:ext cx="60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p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A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352680" y="3962520"/>
            <a:ext cx="3215880" cy="1850400"/>
            <a:chOff x="3352680" y="3962520"/>
            <a:chExt cx="3215880" cy="1850400"/>
          </a:xfrm>
        </p:grpSpPr>
        <p:sp>
          <p:nvSpPr>
            <p:cNvPr id="189" name=""/>
            <p:cNvSpPr/>
            <p:nvPr/>
          </p:nvSpPr>
          <p:spPr>
            <a:xfrm>
              <a:off x="3352680" y="3962520"/>
              <a:ext cx="3215880" cy="1850400"/>
            </a:xfrm>
            <a:custGeom>
              <a:avLst/>
              <a:gdLst/>
              <a:ahLst/>
              <a:rect l="l" t="t" r="r" b="b"/>
              <a:pathLst>
                <a:path w="1974" h="1069">
                  <a:moveTo>
                    <a:pt x="0" y="1069"/>
                  </a:moveTo>
                  <a:lnTo>
                    <a:pt x="41" y="1069"/>
                  </a:lnTo>
                  <a:lnTo>
                    <a:pt x="81" y="1062"/>
                  </a:lnTo>
                  <a:lnTo>
                    <a:pt x="171" y="1048"/>
                  </a:lnTo>
                  <a:lnTo>
                    <a:pt x="220" y="1034"/>
                  </a:lnTo>
                  <a:lnTo>
                    <a:pt x="277" y="1013"/>
                  </a:lnTo>
                  <a:lnTo>
                    <a:pt x="310" y="985"/>
                  </a:lnTo>
                  <a:lnTo>
                    <a:pt x="342" y="956"/>
                  </a:lnTo>
                  <a:lnTo>
                    <a:pt x="383" y="900"/>
                  </a:lnTo>
                  <a:lnTo>
                    <a:pt x="424" y="844"/>
                  </a:lnTo>
                  <a:lnTo>
                    <a:pt x="440" y="795"/>
                  </a:lnTo>
                  <a:lnTo>
                    <a:pt x="457" y="738"/>
                  </a:lnTo>
                  <a:lnTo>
                    <a:pt x="473" y="668"/>
                  </a:lnTo>
                  <a:lnTo>
                    <a:pt x="481" y="598"/>
                  </a:lnTo>
                  <a:lnTo>
                    <a:pt x="489" y="520"/>
                  </a:lnTo>
                  <a:lnTo>
                    <a:pt x="506" y="450"/>
                  </a:lnTo>
                  <a:lnTo>
                    <a:pt x="506" y="394"/>
                  </a:lnTo>
                  <a:lnTo>
                    <a:pt x="514" y="344"/>
                  </a:lnTo>
                  <a:lnTo>
                    <a:pt x="514" y="288"/>
                  </a:lnTo>
                  <a:lnTo>
                    <a:pt x="530" y="239"/>
                  </a:lnTo>
                  <a:lnTo>
                    <a:pt x="538" y="168"/>
                  </a:lnTo>
                  <a:lnTo>
                    <a:pt x="571" y="105"/>
                  </a:lnTo>
                  <a:lnTo>
                    <a:pt x="587" y="35"/>
                  </a:lnTo>
                  <a:lnTo>
                    <a:pt x="603" y="7"/>
                  </a:lnTo>
                  <a:lnTo>
                    <a:pt x="636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685" y="56"/>
                  </a:lnTo>
                  <a:lnTo>
                    <a:pt x="701" y="91"/>
                  </a:lnTo>
                  <a:lnTo>
                    <a:pt x="709" y="126"/>
                  </a:lnTo>
                  <a:lnTo>
                    <a:pt x="726" y="161"/>
                  </a:lnTo>
                  <a:lnTo>
                    <a:pt x="734" y="204"/>
                  </a:lnTo>
                  <a:lnTo>
                    <a:pt x="758" y="253"/>
                  </a:lnTo>
                  <a:lnTo>
                    <a:pt x="775" y="295"/>
                  </a:lnTo>
                  <a:lnTo>
                    <a:pt x="791" y="344"/>
                  </a:lnTo>
                  <a:lnTo>
                    <a:pt x="816" y="422"/>
                  </a:lnTo>
                  <a:lnTo>
                    <a:pt x="824" y="457"/>
                  </a:lnTo>
                  <a:lnTo>
                    <a:pt x="840" y="506"/>
                  </a:lnTo>
                  <a:lnTo>
                    <a:pt x="881" y="584"/>
                  </a:lnTo>
                  <a:lnTo>
                    <a:pt x="922" y="661"/>
                  </a:lnTo>
                  <a:lnTo>
                    <a:pt x="962" y="724"/>
                  </a:lnTo>
                  <a:lnTo>
                    <a:pt x="1011" y="781"/>
                  </a:lnTo>
                  <a:lnTo>
                    <a:pt x="1044" y="809"/>
                  </a:lnTo>
                  <a:lnTo>
                    <a:pt x="1077" y="844"/>
                  </a:lnTo>
                  <a:lnTo>
                    <a:pt x="1126" y="872"/>
                  </a:lnTo>
                  <a:lnTo>
                    <a:pt x="1174" y="900"/>
                  </a:lnTo>
                  <a:lnTo>
                    <a:pt x="1223" y="914"/>
                  </a:lnTo>
                  <a:lnTo>
                    <a:pt x="1272" y="935"/>
                  </a:lnTo>
                  <a:lnTo>
                    <a:pt x="1338" y="956"/>
                  </a:lnTo>
                  <a:lnTo>
                    <a:pt x="1403" y="971"/>
                  </a:lnTo>
                  <a:lnTo>
                    <a:pt x="1476" y="985"/>
                  </a:lnTo>
                  <a:lnTo>
                    <a:pt x="1509" y="992"/>
                  </a:lnTo>
                  <a:lnTo>
                    <a:pt x="1550" y="999"/>
                  </a:lnTo>
                  <a:lnTo>
                    <a:pt x="1631" y="1013"/>
                  </a:lnTo>
                  <a:lnTo>
                    <a:pt x="1721" y="1034"/>
                  </a:lnTo>
                  <a:lnTo>
                    <a:pt x="1843" y="1048"/>
                  </a:lnTo>
                  <a:lnTo>
                    <a:pt x="1974" y="1069"/>
                  </a:lnTo>
                  <a:lnTo>
                    <a:pt x="0" y="1069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64400" y="4609800"/>
              <a:ext cx="78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8067600" y="5467320"/>
            <a:ext cx="547920" cy="0"/>
          </a:xfrm>
          <a:prstGeom prst="line">
            <a:avLst/>
          </a:prstGeom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219320"/>
            <a:ext cx="4572000" cy="4725720"/>
          </a:xfrm>
          <a:custGeom>
            <a:avLst/>
            <a:gdLst/>
            <a:ahLst/>
            <a:rect l="l" t="t" r="r" b="b"/>
            <a:pathLst>
              <a:path w="2643" h="2730">
                <a:moveTo>
                  <a:pt x="0" y="2730"/>
                </a:moveTo>
                <a:lnTo>
                  <a:pt x="179" y="2639"/>
                </a:lnTo>
                <a:lnTo>
                  <a:pt x="301" y="2575"/>
                </a:lnTo>
                <a:lnTo>
                  <a:pt x="383" y="2519"/>
                </a:lnTo>
                <a:lnTo>
                  <a:pt x="440" y="2484"/>
                </a:lnTo>
                <a:lnTo>
                  <a:pt x="481" y="2435"/>
                </a:lnTo>
                <a:lnTo>
                  <a:pt x="505" y="2413"/>
                </a:lnTo>
                <a:lnTo>
                  <a:pt x="522" y="2399"/>
                </a:lnTo>
                <a:lnTo>
                  <a:pt x="538" y="2385"/>
                </a:lnTo>
                <a:lnTo>
                  <a:pt x="546" y="2371"/>
                </a:lnTo>
                <a:lnTo>
                  <a:pt x="554" y="2364"/>
                </a:lnTo>
                <a:lnTo>
                  <a:pt x="562" y="2350"/>
                </a:lnTo>
                <a:lnTo>
                  <a:pt x="579" y="2329"/>
                </a:lnTo>
                <a:lnTo>
                  <a:pt x="611" y="2287"/>
                </a:lnTo>
                <a:lnTo>
                  <a:pt x="677" y="2160"/>
                </a:lnTo>
                <a:lnTo>
                  <a:pt x="709" y="2104"/>
                </a:lnTo>
                <a:lnTo>
                  <a:pt x="750" y="2048"/>
                </a:lnTo>
                <a:lnTo>
                  <a:pt x="807" y="1956"/>
                </a:lnTo>
                <a:lnTo>
                  <a:pt x="864" y="1872"/>
                </a:lnTo>
                <a:lnTo>
                  <a:pt x="995" y="1703"/>
                </a:lnTo>
                <a:lnTo>
                  <a:pt x="1044" y="1625"/>
                </a:lnTo>
                <a:lnTo>
                  <a:pt x="1085" y="1562"/>
                </a:lnTo>
                <a:lnTo>
                  <a:pt x="1174" y="1428"/>
                </a:lnTo>
                <a:lnTo>
                  <a:pt x="1207" y="1372"/>
                </a:lnTo>
                <a:lnTo>
                  <a:pt x="1248" y="1323"/>
                </a:lnTo>
                <a:lnTo>
                  <a:pt x="1313" y="1238"/>
                </a:lnTo>
                <a:lnTo>
                  <a:pt x="1386" y="1161"/>
                </a:lnTo>
                <a:lnTo>
                  <a:pt x="1468" y="1069"/>
                </a:lnTo>
                <a:lnTo>
                  <a:pt x="1509" y="1013"/>
                </a:lnTo>
                <a:lnTo>
                  <a:pt x="1550" y="964"/>
                </a:lnTo>
                <a:lnTo>
                  <a:pt x="1623" y="879"/>
                </a:lnTo>
                <a:lnTo>
                  <a:pt x="1696" y="802"/>
                </a:lnTo>
                <a:lnTo>
                  <a:pt x="1794" y="718"/>
                </a:lnTo>
                <a:lnTo>
                  <a:pt x="1908" y="605"/>
                </a:lnTo>
                <a:lnTo>
                  <a:pt x="2006" y="507"/>
                </a:lnTo>
                <a:lnTo>
                  <a:pt x="2104" y="415"/>
                </a:lnTo>
                <a:lnTo>
                  <a:pt x="2161" y="366"/>
                </a:lnTo>
                <a:lnTo>
                  <a:pt x="2227" y="317"/>
                </a:lnTo>
                <a:lnTo>
                  <a:pt x="2406" y="155"/>
                </a:lnTo>
                <a:lnTo>
                  <a:pt x="2496" y="84"/>
                </a:lnTo>
                <a:lnTo>
                  <a:pt x="2545" y="49"/>
                </a:lnTo>
                <a:lnTo>
                  <a:pt x="2610" y="14"/>
                </a:lnTo>
                <a:lnTo>
                  <a:pt x="2618" y="0"/>
                </a:lnTo>
                <a:lnTo>
                  <a:pt x="2634" y="0"/>
                </a:lnTo>
                <a:lnTo>
                  <a:pt x="2643" y="14"/>
                </a:lnTo>
                <a:lnTo>
                  <a:pt x="2634" y="56"/>
                </a:lnTo>
                <a:lnTo>
                  <a:pt x="2626" y="105"/>
                </a:lnTo>
                <a:lnTo>
                  <a:pt x="2626" y="162"/>
                </a:lnTo>
                <a:lnTo>
                  <a:pt x="2618" y="324"/>
                </a:lnTo>
                <a:lnTo>
                  <a:pt x="2610" y="457"/>
                </a:lnTo>
                <a:lnTo>
                  <a:pt x="2602" y="556"/>
                </a:lnTo>
                <a:lnTo>
                  <a:pt x="2602" y="598"/>
                </a:lnTo>
                <a:lnTo>
                  <a:pt x="2602" y="633"/>
                </a:lnTo>
                <a:lnTo>
                  <a:pt x="2602" y="661"/>
                </a:lnTo>
                <a:lnTo>
                  <a:pt x="2602" y="682"/>
                </a:lnTo>
                <a:lnTo>
                  <a:pt x="2602" y="711"/>
                </a:lnTo>
                <a:lnTo>
                  <a:pt x="2602" y="718"/>
                </a:lnTo>
                <a:lnTo>
                  <a:pt x="2602" y="682"/>
                </a:lnTo>
                <a:lnTo>
                  <a:pt x="2610" y="640"/>
                </a:lnTo>
                <a:lnTo>
                  <a:pt x="2618" y="619"/>
                </a:lnTo>
                <a:lnTo>
                  <a:pt x="2626" y="647"/>
                </a:lnTo>
                <a:lnTo>
                  <a:pt x="2618" y="689"/>
                </a:lnTo>
                <a:lnTo>
                  <a:pt x="2618" y="704"/>
                </a:lnTo>
                <a:lnTo>
                  <a:pt x="2618" y="704"/>
                </a:lnTo>
                <a:lnTo>
                  <a:pt x="2618" y="711"/>
                </a:lnTo>
                <a:lnTo>
                  <a:pt x="2618" y="725"/>
                </a:lnTo>
                <a:lnTo>
                  <a:pt x="2618" y="774"/>
                </a:lnTo>
                <a:lnTo>
                  <a:pt x="2618" y="872"/>
                </a:lnTo>
                <a:lnTo>
                  <a:pt x="2626" y="1027"/>
                </a:lnTo>
                <a:lnTo>
                  <a:pt x="2618" y="1196"/>
                </a:lnTo>
                <a:lnTo>
                  <a:pt x="2618" y="1351"/>
                </a:lnTo>
                <a:lnTo>
                  <a:pt x="2618" y="1506"/>
                </a:lnTo>
                <a:lnTo>
                  <a:pt x="2618" y="1668"/>
                </a:lnTo>
                <a:lnTo>
                  <a:pt x="2618" y="1851"/>
                </a:lnTo>
                <a:lnTo>
                  <a:pt x="2626" y="1956"/>
                </a:lnTo>
                <a:lnTo>
                  <a:pt x="2626" y="2076"/>
                </a:lnTo>
                <a:lnTo>
                  <a:pt x="2626" y="2350"/>
                </a:lnTo>
                <a:lnTo>
                  <a:pt x="2626" y="2512"/>
                </a:lnTo>
                <a:lnTo>
                  <a:pt x="2626" y="2695"/>
                </a:lnTo>
                <a:lnTo>
                  <a:pt x="2626" y="2709"/>
                </a:lnTo>
                <a:lnTo>
                  <a:pt x="2626" y="2730"/>
                </a:lnTo>
                <a:lnTo>
                  <a:pt x="0" y="273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15000" y="4838760"/>
            <a:ext cx="1054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00" y="1093680"/>
            <a:ext cx="8998560" cy="5605200"/>
            <a:chOff x="68400" y="1093680"/>
            <a:chExt cx="8998560" cy="5605200"/>
          </a:xfrm>
        </p:grpSpPr>
        <p:grpSp>
          <p:nvGrpSpPr>
            <p:cNvPr id="195" name=""/>
            <p:cNvGrpSpPr/>
            <p:nvPr/>
          </p:nvGrpSpPr>
          <p:grpSpPr>
            <a:xfrm>
              <a:off x="68400" y="1093680"/>
              <a:ext cx="634680" cy="4727160"/>
              <a:chOff x="68400" y="1093680"/>
              <a:chExt cx="634680" cy="472716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280" y="1093680"/>
                <a:ext cx="1800" cy="4727160"/>
              </a:xfrm>
              <a:prstGeom prst="line">
                <a:avLst/>
              </a:prstGeom>
              <a:ln w="52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00000">
                <a:off x="37800" y="3212280"/>
                <a:ext cx="580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90400" y="5839920"/>
              <a:ext cx="8476560" cy="858960"/>
              <a:chOff x="590400" y="5839920"/>
              <a:chExt cx="8476560" cy="858960"/>
            </a:xfrm>
          </p:grpSpPr>
          <p:sp>
            <p:nvSpPr>
              <p:cNvPr id="199" name=""/>
              <p:cNvSpPr/>
              <p:nvPr/>
            </p:nvSpPr>
            <p:spPr>
              <a:xfrm>
                <a:off x="59040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0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8868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8408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8380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3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9360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4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9080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5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8584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6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9420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7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04720" y="5971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500" spc="-1" strike="noStrike">
                    <a:solidFill>
                      <a:srgbClr val="ffff33"/>
                    </a:solidFill>
                    <a:latin typeface="Times New Roman"/>
                  </a:rPr>
                  <a:t>8</a:t>
                </a:r>
                <a:endParaRPr b="0" lang="en-US" sz="2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40680" y="6302520"/>
                <a:ext cx="38242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600" spc="-1" strike="noStrike">
                    <a:solidFill>
                      <a:srgbClr val="ffff00"/>
                    </a:solidFill>
                    <a:latin typeface="Times New Roman"/>
                  </a:rPr>
                  <a:t>Semaines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623520" y="5839920"/>
                <a:ext cx="8443440" cy="10440"/>
              </a:xfrm>
              <a:prstGeom prst="line">
                <a:avLst/>
              </a:prstGeom>
              <a:ln w="1015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838188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4800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Ig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33720"/>
            <a:ext cx="0" cy="350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2133720"/>
            <a:ext cx="0" cy="350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133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213372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133720"/>
            <a:ext cx="0" cy="350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DAS D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DAS D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457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6600"/>
                </a:solidFill>
                <a:latin typeface="Times New Roman"/>
              </a:rPr>
              <a:t>Panel BBI 95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1" descr=""/>
          <p:cNvPicPr/>
          <p:nvPr/>
        </p:nvPicPr>
        <p:blipFill>
          <a:blip r:embed="rId1"/>
          <a:stretch/>
        </p:blipFill>
        <p:spPr>
          <a:xfrm>
            <a:off x="7924680" y="594036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74760" y="53341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; 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523880"/>
          <a:ext cx="914400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9144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90720" y="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Bilan des 14 pa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057400" y="533520"/>
          <a:ext cx="70866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33520"/>
                    <a:ext cx="70866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0" y="533520"/>
          <a:ext cx="20574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2057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639288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us les échantillons sont trouvés négatifs et  </a:t>
            </a:r>
            <a:r>
              <a:rPr b="0" lang="fr-F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nnées Ag P24 par BBI, NABI, PC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43000"/>
          <a:ext cx="9144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57200" y="6392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; 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990720"/>
            <a:ext cx="89917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1005 échantillons de négatifs en VIH-1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venant de  4 laboratoires privés d’analyses médi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9480" y="2819520"/>
            <a:ext cx="71629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-  2 à Pari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e d’exploration fonctionnelle Paris 13èm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e Suchet Paris 19è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- 2 en Bretagn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oratoire Morvan Mascart à Paimpo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oratoire Tréguier Lemoine à Lan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38088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Étude de spécific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Résultats de l’évaluation sur la spécificité sur 1005 échantillons négatifs provenant des patients de 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1295280"/>
            <a:ext cx="7772400" cy="4788000"/>
            <a:chOff x="0" y="1295280"/>
            <a:chExt cx="7772400" cy="4788000"/>
          </a:xfrm>
        </p:grpSpPr>
        <p:graphicFrame>
          <p:nvGraphicFramePr>
            <p:cNvPr id="241" name=""/>
            <p:cNvGraphicFramePr/>
            <p:nvPr/>
          </p:nvGraphicFramePr>
          <p:xfrm>
            <a:off x="0" y="1295280"/>
            <a:ext cx="7772400" cy="37339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7772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0" y="5715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* Un notre l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4120" y="1295280"/>
            <a:ext cx="3809880" cy="4894920"/>
            <a:chOff x="5334120" y="1295280"/>
            <a:chExt cx="3809880" cy="4894920"/>
          </a:xfrm>
        </p:grpSpPr>
        <p:sp>
          <p:nvSpPr>
            <p:cNvPr id="245" name=""/>
            <p:cNvSpPr/>
            <p:nvPr/>
          </p:nvSpPr>
          <p:spPr>
            <a:xfrm>
              <a:off x="5334120" y="579132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Genscreen Ultra = 99.95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7772400" y="1295280"/>
            <a:ext cx="1371600" cy="373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72400" y="1295280"/>
                      <a:ext cx="13716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8" name=""/>
          <p:cNvGraphicFramePr/>
          <p:nvPr/>
        </p:nvGraphicFramePr>
        <p:xfrm>
          <a:off x="0" y="5029200"/>
          <a:ext cx="7772400" cy="471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029200"/>
                    <a:ext cx="77724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429000" y="1676520"/>
            <a:ext cx="236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VIDAS DUO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(bioMérieu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5029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Genscreen Ag/Ac Pl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9528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Axsym HIV Com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Murex HIVCom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59738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obas Core HIV Comb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543800" y="3124080"/>
            <a:ext cx="685800" cy="1219320"/>
            <a:chOff x="7543800" y="3124080"/>
            <a:chExt cx="685800" cy="1219320"/>
          </a:xfrm>
        </p:grpSpPr>
        <p:sp>
          <p:nvSpPr>
            <p:cNvPr id="255" name=""/>
            <p:cNvSpPr/>
            <p:nvPr/>
          </p:nvSpPr>
          <p:spPr>
            <a:xfrm>
              <a:off x="7543800" y="3886200"/>
              <a:ext cx="685800" cy="4572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25040" y="3124080"/>
              <a:ext cx="0" cy="68580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00600" y="3581280"/>
            <a:ext cx="1295280" cy="6858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2666880"/>
            <a:ext cx="762120" cy="685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714640" y="4266720"/>
            <a:ext cx="60948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267080" y="4343400"/>
            <a:ext cx="838440" cy="137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429000"/>
            <a:ext cx="1676520" cy="8380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4419360"/>
            <a:ext cx="0" cy="53316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962520"/>
            <a:ext cx="89154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808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160020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Vironostika HIV Uniform II Ag/Ab</a:t>
            </a:r>
            <a:r>
              <a:rPr b="1" lang="fr-FR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Enzygnost HIV integ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1219320"/>
            <a:ext cx="3352680" cy="2133360"/>
            <a:chOff x="0" y="1219320"/>
            <a:chExt cx="3352680" cy="2133360"/>
          </a:xfrm>
        </p:grpSpPr>
        <p:sp>
          <p:nvSpPr>
            <p:cNvPr id="267" name=""/>
            <p:cNvSpPr/>
            <p:nvPr/>
          </p:nvSpPr>
          <p:spPr>
            <a:xfrm>
              <a:off x="1143000" y="2590920"/>
              <a:ext cx="0" cy="761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219320"/>
              <a:ext cx="3352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Times New Roman"/>
                </a:rPr>
                <a:t>Genscreen Ultra HIV et Enzygnost Integral I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2880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onclusion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0" y="205740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12/1997</a:t>
            </a: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VIDAS DUO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(bioMérieu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219320"/>
            <a:ext cx="5105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12/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Vironostika HIV Uniform II Ag/Ab</a:t>
            </a:r>
            <a:r>
              <a:rPr b="1" lang="fr-FR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(Organon)</a:t>
            </a:r>
            <a:r>
              <a:rPr b="1" lang="fr-FR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Enzygnost HIV integral</a:t>
            </a:r>
            <a:r>
              <a:rPr b="1" lang="fr-FR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66"/>
                </a:solidFill>
                <a:latin typeface="Times New Roman"/>
              </a:rPr>
              <a:t>(Behr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02/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Murex HIV Ag/Ab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Combo </a:t>
            </a:r>
            <a:r>
              <a:rPr b="1" lang="fr-FR" sz="2400" spc="-1" strike="noStrike">
                <a:solidFill>
                  <a:srgbClr val="cc0000"/>
                </a:solidFill>
                <a:latin typeface="Times New Roman"/>
              </a:rPr>
              <a:t>(Abbo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2670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00"/>
                </a:solidFill>
                <a:latin typeface="Arial"/>
              </a:rPr>
              <a:t>04/2000</a:t>
            </a:r>
            <a:r>
              <a:rPr b="1" lang="fr-FR" sz="28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99ff"/>
                </a:solidFill>
                <a:latin typeface="Times New Roman"/>
              </a:rPr>
              <a:t>Genscreen Ag/Ac Pl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99ff"/>
                </a:solidFill>
                <a:latin typeface="Times New Roman"/>
              </a:rPr>
              <a:t>(Bio-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4952880"/>
            <a:ext cx="8686800" cy="1541520"/>
            <a:chOff x="0" y="4952880"/>
            <a:chExt cx="8686800" cy="1541520"/>
          </a:xfrm>
        </p:grpSpPr>
        <p:sp>
          <p:nvSpPr>
            <p:cNvPr id="93" name=""/>
            <p:cNvSpPr/>
            <p:nvPr/>
          </p:nvSpPr>
          <p:spPr>
            <a:xfrm>
              <a:off x="0" y="4952880"/>
              <a:ext cx="3200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cc0000"/>
                  </a:solidFill>
                  <a:latin typeface="Arial"/>
                </a:rPr>
                <a:t>9/2002</a:t>
              </a:r>
              <a:r>
                <a:rPr b="1" lang="fr-FR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9900"/>
                  </a:solidFill>
                  <a:latin typeface="Times New Roman"/>
                </a:rPr>
                <a:t>Axsym HIV Combo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9900"/>
                  </a:solidFill>
                  <a:latin typeface="Times New Roman"/>
                </a:rPr>
                <a:t>(Abbot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597384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Times New Roman"/>
                </a:rPr>
                <a:t>Cobas Core HIV Combi </a:t>
              </a: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(Roch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553080" y="2971800"/>
            <a:ext cx="685800" cy="1219320"/>
            <a:chOff x="6553080" y="2971800"/>
            <a:chExt cx="685800" cy="1219320"/>
          </a:xfrm>
        </p:grpSpPr>
        <p:sp>
          <p:nvSpPr>
            <p:cNvPr id="96" name=""/>
            <p:cNvSpPr/>
            <p:nvPr/>
          </p:nvSpPr>
          <p:spPr>
            <a:xfrm>
              <a:off x="6553080" y="3733920"/>
              <a:ext cx="685800" cy="4572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34320" y="2971800"/>
              <a:ext cx="0" cy="68580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429000" y="3048120"/>
            <a:ext cx="2133720" cy="2666880"/>
            <a:chOff x="3429000" y="3048120"/>
            <a:chExt cx="2133720" cy="2666880"/>
          </a:xfrm>
        </p:grpSpPr>
        <p:sp>
          <p:nvSpPr>
            <p:cNvPr id="99" name=""/>
            <p:cNvSpPr/>
            <p:nvPr/>
          </p:nvSpPr>
          <p:spPr>
            <a:xfrm>
              <a:off x="3886200" y="3581640"/>
              <a:ext cx="1295280" cy="685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9000" y="3048120"/>
              <a:ext cx="762120" cy="68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4952880" y="4267440"/>
              <a:ext cx="609840" cy="761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267080" y="4343400"/>
              <a:ext cx="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5800" y="2514600"/>
            <a:ext cx="1676520" cy="2438280"/>
            <a:chOff x="685800" y="2514600"/>
            <a:chExt cx="1676520" cy="2438280"/>
          </a:xfrm>
        </p:grpSpPr>
        <p:sp>
          <p:nvSpPr>
            <p:cNvPr id="104" name=""/>
            <p:cNvSpPr/>
            <p:nvPr/>
          </p:nvSpPr>
          <p:spPr>
            <a:xfrm>
              <a:off x="685800" y="3429000"/>
              <a:ext cx="1676520" cy="838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23880" y="4419360"/>
              <a:ext cx="0" cy="53352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2514600"/>
              <a:ext cx="0" cy="76176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380880"/>
            <a:ext cx="9144000" cy="3581640"/>
            <a:chOff x="0" y="3808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962520"/>
              <a:ext cx="89154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380880"/>
              <a:ext cx="81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ensibilité des trousses Combo 200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47920" y="22860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362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idas HIV Ultra (bioMérieu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581280"/>
            <a:ext cx="548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1" descr=""/>
          <p:cNvPicPr/>
          <p:nvPr/>
        </p:nvPicPr>
        <p:blipFill>
          <a:blip r:embed="rId1"/>
          <a:stretch/>
        </p:blipFill>
        <p:spPr>
          <a:xfrm>
            <a:off x="7924680" y="594036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3581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ff66"/>
                </a:solidFill>
                <a:latin typeface="Times New Roman"/>
              </a:rPr>
              <a:t>Architecte HIV Combo (Abbot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4800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Modular HIV Combo (Roch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57200"/>
            <a:ext cx="914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ouvelles trousses Combo en cours de marquage 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533520"/>
            <a:ext cx="89154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33"/>
                </a:solidFill>
                <a:latin typeface="Times New Roman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 Chesne (Bio-Rad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 Vidalenc, B Studer (Dade Behring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. Devare  (Abbott USA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. Leroux (Abbott Fra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1" descr=""/>
          <p:cNvPicPr/>
          <p:nvPr/>
        </p:nvPicPr>
        <p:blipFill>
          <a:blip r:embed="rId1"/>
          <a:stretch/>
        </p:blipFill>
        <p:spPr>
          <a:xfrm>
            <a:off x="7924680" y="594036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0000"/>
                </a:solidFill>
                <a:latin typeface="Times New Roman"/>
              </a:rPr>
              <a:t>2004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66"/>
                </a:solidFill>
                <a:latin typeface="Times New Roman"/>
              </a:rPr>
              <a:t>Enzygnost HIV integral II  disponible avril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Genscreen Ultra HIV Ag/Ab (été 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3352680"/>
            <a:ext cx="4724280" cy="2036520"/>
            <a:chOff x="2438280" y="3352680"/>
            <a:chExt cx="4724280" cy="2036520"/>
          </a:xfrm>
        </p:grpSpPr>
        <p:sp>
          <p:nvSpPr>
            <p:cNvPr id="112" name=""/>
            <p:cNvSpPr/>
            <p:nvPr/>
          </p:nvSpPr>
          <p:spPr>
            <a:xfrm>
              <a:off x="2438280" y="335268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EP 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486864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Times New Roman"/>
                </a:rPr>
                <a:t>Evol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33"/>
                </a:solidFill>
                <a:latin typeface="Times New Roman"/>
              </a:rPr>
              <a:t>Résultats de la détection analytique </a:t>
            </a:r>
            <a:br>
              <a:rPr sz="4400"/>
            </a:br>
            <a:r>
              <a:rPr b="1" lang="fr-FR" sz="4400" spc="-1" strike="noStrike">
                <a:solidFill>
                  <a:srgbClr val="ff0033"/>
                </a:solidFill>
                <a:latin typeface="Times New Roman"/>
              </a:rPr>
              <a:t>de l’antigène p24 </a:t>
            </a:r>
            <a:br>
              <a:rPr sz="4400"/>
            </a:br>
            <a:r>
              <a:rPr b="1" lang="fr-FR" sz="4400" spc="-1" strike="noStrike">
                <a:solidFill>
                  <a:srgbClr val="ff0033"/>
                </a:solidFill>
                <a:latin typeface="Times New Roman"/>
              </a:rPr>
              <a:t>dans les surnageants d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uil de détection de l’Ag VIH-1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souche LAI sous-type B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FTS  (Société Française de transfusion sanguine 9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93720"/>
            <a:ext cx="937260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Genscreen Ultra HIV Ag/Ab               13 pg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nzygnost HIV Integral II                   23 pg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Abbott Axsym HIV Combo                  21 pg/ml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Murex HIV Ag/Ab Combo                   29 pg/ml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Cobas Core HIV Combi                       29 pg/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VIDAS DUO                                         65 pg/ml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fr-FR" sz="2800" spc="-1" strike="noStrike">
                <a:solidFill>
                  <a:srgbClr val="cc0000"/>
                </a:solidFill>
                <a:latin typeface="Times New Roman"/>
              </a:rPr>
              <a:t>Genscreen Ag/Ac Plus                        140 pg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Enzygnost HIV integral                     190</a:t>
            </a:r>
            <a:r>
              <a:rPr b="1" lang="fr-FR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pg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Vironostika  Uniform II Ag/Ab        150 pg/ml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2057400"/>
            <a:ext cx="8534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27 surnageants de culture de sous-types VIH-1 </a:t>
            </a:r>
            <a:r>
              <a:rPr b="1" lang="fr-FR" sz="3200" spc="-1" strike="noStrike">
                <a:solidFill>
                  <a:srgbClr val="ff6600"/>
                </a:solidFill>
                <a:latin typeface="Times New Roman"/>
              </a:rPr>
              <a:t>(2A, 7B, 4C, 2D, 7A/E, 3F, 1G et 1 O)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avec 4 concentrations différentes*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pg  Ag P24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*titrées avec la trousse Ag P24 d’Abb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anels d’Ag VIH de différents sous-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euil de détection d’Ag p24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981080" y="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euil de détection d’Ag p24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6858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 panels commerciaux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 séroconversions VIH-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9 panels BB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23, 941, 944, 951, 952, 953, 954, 957, 95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3352680"/>
            <a:ext cx="87631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3 panels de NAB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V-331, 401, 4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033880"/>
            <a:ext cx="7696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 panels de BCP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013, 901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. C. L.</dc:creator>
  <dc:description/>
  <dc:language>en-US</dc:language>
  <cp:lastModifiedBy>Client Préféré</cp:lastModifiedBy>
  <cp:lastPrinted>2000-02-07T14:07:12Z</cp:lastPrinted>
  <dcterms:modified xsi:type="dcterms:W3CDTF">2004-05-27T04:56:18Z</dcterms:modified>
  <cp:revision>418</cp:revision>
  <dc:subject/>
  <dc:title>Aucun titre de diapositive</dc:title>
</cp:coreProperties>
</file>