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media/image11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C28-C4CB-44DD-BD39-9135D5BB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022-2295-4C0C-8C31-D5B2565E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EEF-8AED-44C4-991C-C6CD8077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877-C112-44E7-BF7A-4ABC3319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92D-332A-4E03-9289-06DDA92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D8F-6159-42E1-9C2F-E71F55A8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DB5-9B0D-49E2-AC2D-D741AFD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12E-DB8B-4783-9E90-98130DAB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3A3-58D9-4F03-AD73-F85CD84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207-BEF1-4B7E-AD42-689D65D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F6A-3CB3-4BCC-86FA-C93A45D0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C1B-5A33-4B2F-8558-03C948E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EF3E-7ECF-400D-84D6-633022A76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EVALUATION DES MARQUEURS VHB ET VHC SUR 3 AUTOMATES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ns une population de patients  diabétiqu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. Maisonneuve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C. Garandeau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L. Vittaz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. Dard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E. Gordi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V. Estève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D. Lusina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boratoire de Biologie Médicale (Aulnay sous Bo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ervice de Médecine Interne-Diabétologie-Endocrinologie (Aulnay sous Bo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ervice de Bactériologie-Virologie Hygiène (Bobign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ADVIA 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Centaur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(Bayer HealthCare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CentaurExt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A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PATITE 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Concordance pour 231/239 patients (96,6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223 tests négatifs dans les 3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8 positifs dans les 3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 Riba indétermin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6 Riba positifs dont 3/4 PCR positiv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80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3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8 discord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8 DISCORDANCES HV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66ff33"/>
                </a:solidFill>
                <a:latin typeface="Arial"/>
              </a:rPr>
              <a:t>Toutes avec sérologie Axsym positif </a:t>
            </a:r>
            <a:r>
              <a:rPr b="0" lang="fr-FR" sz="2400" spc="-1" strike="noStrike">
                <a:solidFill>
                  <a:srgbClr val="66ff33"/>
                </a:solidFill>
                <a:latin typeface="Arial"/>
              </a:rPr>
              <a:t>(R=1.01-2.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81280" y="2819520"/>
          <a:ext cx="3753000" cy="443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819520"/>
                    <a:ext cx="375300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838080" y="5821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t 7 RIBA négatifs et 1 indétermi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1200" y="37339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TA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3440" y="22096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33"/>
                </a:solidFill>
                <a:latin typeface="Arial"/>
              </a:rPr>
              <a:t>Faux positifs Axsy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iabétiques et faux positifs sérologiqu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Ratio ba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33"/>
                </a:solidFill>
                <a:latin typeface="Arial"/>
              </a:rPr>
              <a:t>Séquelles sérologiques ?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ieux détectées sur Axsy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facteurs de risqu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autocontrôles glycémiques, sous-cutanées, nosocomi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â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mais patients +/- suivis et résultats.</a:t>
            </a:r>
            <a:r>
              <a:rPr b="0" lang="fr-FR" sz="22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reproductib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33"/>
                </a:solidFill>
                <a:latin typeface="Arial"/>
              </a:rPr>
              <a:t>Début d ’infection ?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éliminée par le suiv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8 DISCORDANCES HV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8 DISCORDANCES HV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2286000"/>
          <a:ext cx="806580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80658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PATITE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PATITE 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83818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232 patients testés sur les 3 auto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CONCORDANCE POUR 193/232 (83,2%)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126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54,3% ) Négati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27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11,6%) Ac anti-HBs et Ac anti-HB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25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10,8%) Ac anti-H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3,4%) Ac anti-HBc iso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3%)  Ag HBs et Ac anti-H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ISCORDANCE POUR 39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NTIGENE HB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09680" y="2209680"/>
          <a:ext cx="4743720" cy="39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09680"/>
                    <a:ext cx="47437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8 DISCORDANCES ANTIGENE HB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81056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10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paraison de résultats de sérologie d ’hépatite B et C obtenues à l ’aide de 3 auto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xsym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Abbott Diagnostic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itros Ec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Ortho Clinical Diagnostic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DVIA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Centau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Bayer HealthCa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ez des patients suivis à l ’Hôpital d ’Aulnay sous Bo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00"/>
                </a:solidFill>
                <a:latin typeface="Arial"/>
              </a:rPr>
              <a:t>8 DISCORDANCES ANTIGENE HBs</a:t>
            </a:r>
            <a:endParaRPr b="0" lang="en-US" sz="3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édominantes sur l’Axsy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on répétées et non neutralisées (P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tio proches du seu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N du VHB négati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aminases norm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Répétabilité ? Faux positifs 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NTICORPS ANTI-HB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2286000"/>
          <a:ext cx="7162920" cy="43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16292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00"/>
                </a:solidFill>
                <a:latin typeface="Arial"/>
              </a:rPr>
              <a:t>DISCORDANCES ANTICORPS ANTI-HBc</a:t>
            </a:r>
            <a:endParaRPr b="0" lang="en-US" sz="3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33"/>
                </a:solidFill>
                <a:latin typeface="Arial"/>
              </a:rPr>
              <a:t>17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xsym/Vitros :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itros/Centaur :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entaur/Axsym :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00"/>
                </a:solidFill>
                <a:latin typeface="Arial"/>
              </a:rPr>
              <a:t>DISCORDANCES ANTICORPS ANTI-HBc</a:t>
            </a:r>
            <a:endParaRPr b="0" lang="en-US" sz="3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0769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ffet des « zones douteuses » 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entaur seul discordant = 9 + (4 douteu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xsym seul discordant = 3 (proches du seu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Vitros seul discordant = 0 (mais 2 douteu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00"/>
                </a:solidFill>
                <a:latin typeface="Arial"/>
              </a:rPr>
              <a:t>DISCORDANCES ANTICORPS ANTI-HBc</a:t>
            </a:r>
            <a:endParaRPr b="0" lang="en-US" sz="3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ti-HBs présents dans au moins 13 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ti-HBe négatif (Vitr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faut de sensibilité du Centaur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défaut de spécificité de l ’Axsym et Vitros 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NTICORPS ANTI-HB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2495520"/>
          <a:ext cx="7162920" cy="43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95520"/>
                    <a:ext cx="716292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00"/>
                </a:solidFill>
                <a:latin typeface="Arial"/>
              </a:rPr>
              <a:t>DISCORDANCES ANTICORPS ANTI-HBs</a:t>
            </a:r>
            <a:endParaRPr b="0" lang="en-US" sz="3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18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itros/Axsym :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itros/Centaur :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entaur/Axsym :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fr-FR" sz="3900" spc="-1" strike="noStrike">
                <a:solidFill>
                  <a:srgbClr val="ffff00"/>
                </a:solidFill>
                <a:latin typeface="Arial"/>
              </a:rPr>
              <a:t>DISCORDANCES ANTICORPS ANTI-HBs</a:t>
            </a:r>
            <a:endParaRPr b="0" lang="en-US" sz="3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ffet des « zones douteuses » (12) (Centaur = 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entaur seul discordant = 3 + (9 douteu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xsym seul discordant   =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Vitros seul discordant     = 1 (mais 3 douteu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33"/>
                </a:solidFill>
                <a:latin typeface="Arial"/>
              </a:rPr>
              <a:t>Se situent en moyenne près du seuil d ’immunisation pour les 3 auto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XSYM</a:t>
            </a:r>
            <a:r>
              <a:rPr b="1" lang="en-US" sz="44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Hépatite 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: défaut de spécificité ou excellente sensibilité ? (intérêt/coû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Hépatite B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g HBs : faux positifs ? (5/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 anti-HBc et  Anti-HBs : quelques discordances  pour des valeurs proches des seuils 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ispersion des titres des Ac anti-HBs discordants (1.3 -108.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TIENTS ET METH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VITROS Eci </a:t>
            </a:r>
            <a:r>
              <a:rPr b="1" lang="fr-FR" sz="44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Hépatite 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: excellente spécificité ou défaut de sensibilité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Hépatite B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g HBs : rares faux positifs (1/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 anti-HBc et  anti-HBs : effet « zone douteuse » 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indre dispersion des titres des Ac anti-HBs discordants (5.2 - 71.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DVIA </a:t>
            </a:r>
            <a:r>
              <a:rPr b="1" lang="fr-FR" sz="44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Centaur </a:t>
            </a:r>
            <a:r>
              <a:rPr b="1" lang="fr-FR" sz="44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Hépatite 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: excellente spécificité ou défaut de sensibilité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ff33"/>
                </a:solidFill>
                <a:latin typeface="Arial"/>
              </a:rPr>
              <a:t>Hépatite B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g HBs : quelques faux positifs (3/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 anti-HBc et  anti-HBs : effet « zone douteuse » +++ 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 anti-HBc : sensibilité différen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 anti-HBs : titres discordants moins dispersés (1.44 - 59.3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fr-FR" sz="3600" spc="-1" strike="noStrike">
                <a:solidFill>
                  <a:srgbClr val="66ff33"/>
                </a:solidFill>
                <a:latin typeface="Arial"/>
              </a:rPr>
              <a:t>Hépatite 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pécific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xsym &lt; Centaur = Vitro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nsibil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xsym &gt; Centaur = Vitro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1880" y="53352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ns la population étudi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6ff33"/>
                </a:solidFill>
                <a:latin typeface="Arial"/>
              </a:rPr>
              <a:t>Hépatite 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" zone douteuse" +++ (Centaur &gt;Vitr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 anti-HBc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nsibilité : Centaur &lt; Axsym &lt; Vit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 anti-HBs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xsym = Centaur = Vitr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ttention au seuil d ’immun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uverture" descr=""/>
          <p:cNvPicPr/>
          <p:nvPr/>
        </p:nvPicPr>
        <p:blipFill>
          <a:blip r:embed="rId1"/>
          <a:stretch/>
        </p:blipFill>
        <p:spPr>
          <a:xfrm>
            <a:off x="2303640" y="0"/>
            <a:ext cx="431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TI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suivis dans le service de Médecine Interne-Diabétologie-Endocrin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7 Fe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5 Ho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âge moyen : 58 ans (19-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s diabétiques de type I ou  II (faux positifs sérologiques décr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H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érums répartis en 3 ou 4 aliquo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1 aliquote par automate (+/- 1 contrô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osages en séries sur 15 j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iscordances vérifi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IBA : INNO-LIA</a:t>
            </a:r>
            <a:r>
              <a:rPr b="0" lang="fr-F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fr-FR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HCV Ab III (Innogenetic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antification de l ’ADN du VHB : Bayer bDNA 3.0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Seuil 2000 copies/m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UTOM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810880" y="3467160"/>
          <a:ext cx="7886880" cy="565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0880" y="3467160"/>
                    <a:ext cx="788688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25280" y="23144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5280" y="23144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280" y="2328840"/>
            <a:ext cx="1296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280" y="2665440"/>
            <a:ext cx="12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280" y="2681280"/>
            <a:ext cx="129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280" y="3014640"/>
            <a:ext cx="12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280" y="3030480"/>
            <a:ext cx="129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280" y="33638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8240" y="3363840"/>
            <a:ext cx="2633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33638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84600" y="3363840"/>
            <a:ext cx="20253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9960" y="33638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2920" y="3363840"/>
            <a:ext cx="2095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18480" y="336384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1080" y="3363840"/>
            <a:ext cx="2095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26640" y="336384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5280" y="3378240"/>
            <a:ext cx="12960" cy="67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280" y="40496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8240" y="4049640"/>
            <a:ext cx="2633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0496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84600" y="4049640"/>
            <a:ext cx="20253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9960" y="404964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22920" y="4049640"/>
            <a:ext cx="2095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18480" y="404964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1080" y="4049640"/>
            <a:ext cx="2095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26640" y="4049640"/>
            <a:ext cx="12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280" y="4064040"/>
            <a:ext cx="12960" cy="66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5280" y="4732200"/>
            <a:ext cx="12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280" y="4746600"/>
            <a:ext cx="12960" cy="35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5280" y="5105520"/>
            <a:ext cx="12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280" y="5121360"/>
            <a:ext cx="1296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8240" y="5826240"/>
            <a:ext cx="2633400" cy="1440"/>
          </a:xfrm>
          <a:prstGeom prst="rect">
            <a:avLst/>
          </a:prstGeom>
          <a:solidFill>
            <a:srgbClr val="f20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84600" y="5826240"/>
            <a:ext cx="2025360" cy="1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22920" y="5826240"/>
            <a:ext cx="2095560" cy="1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1080" y="5826240"/>
            <a:ext cx="2095560" cy="1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5477040"/>
            <a:ext cx="12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5492880"/>
            <a:ext cx="12960" cy="33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280" y="5827680"/>
            <a:ext cx="12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280" y="5827680"/>
            <a:ext cx="12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1000" y="1387440"/>
          <a:ext cx="623700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1000" y="1387440"/>
                    <a:ext cx="6237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523880"/>
          <a:ext cx="10172520" cy="4819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523880"/>
                    <a:ext cx="10172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Axsym</a:t>
            </a:r>
            <a:r>
              <a:rPr b="1" lang="fr-FR" sz="40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 (Abbott Diagnostic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0" y="-2590920"/>
          <a:ext cx="623736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-2590920"/>
                    <a:ext cx="62373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AxsymExt" descr=""/>
          <p:cNvPicPr/>
          <p:nvPr/>
        </p:nvPicPr>
        <p:blipFill>
          <a:blip r:embed="rId3"/>
          <a:stretch/>
        </p:blipFill>
        <p:spPr>
          <a:xfrm>
            <a:off x="1600200" y="1341360"/>
            <a:ext cx="59436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f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Vitros Eci </a:t>
            </a:r>
            <a:r>
              <a:rPr b="1" lang="fr-FR" sz="36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 (Ortho Clinical Diagnostic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ECIExt" descr=""/>
          <p:cNvPicPr/>
          <p:nvPr/>
        </p:nvPicPr>
        <p:blipFill>
          <a:blip r:embed="rId1"/>
          <a:stretch/>
        </p:blipFill>
        <p:spPr>
          <a:xfrm>
            <a:off x="1447920" y="1398600"/>
            <a:ext cx="63244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8:51:12Z</dcterms:created>
  <dc:creator>BIOLOGIE HEMATO</dc:creator>
  <dc:description/>
  <dc:language>en-US</dc:language>
  <cp:lastModifiedBy>Eric POUSSIN</cp:lastModifiedBy>
  <cp:lastPrinted>2004-05-13T10:46:30Z</cp:lastPrinted>
  <dcterms:modified xsi:type="dcterms:W3CDTF">2004-05-26T10:50:18Z</dcterms:modified>
  <cp:revision>60</cp:revision>
  <dc:subject/>
  <dc:title>EVALUATION AXSYL/VITROS/CENTAUR</dc:title>
</cp:coreProperties>
</file>