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wmf" ContentType="image/x-wmf"/>
  <Override PartName="/ppt/media/image5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92160" y="738360"/>
            <a:ext cx="4873680" cy="365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D39E-3C58-473A-8D19-7B7A51AC15A6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B633-F26E-40E9-A7AD-684F76071E4B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-958680" y="52704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2800080" y="542520"/>
            <a:ext cx="3771720" cy="85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A2FE-9E9A-460E-9BB9-D4B9B050EEEE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57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09480" y="4560480"/>
            <a:ext cx="5486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5CC8-B646-4497-8F33-770F7CC972CA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-958680" y="52704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2800080" y="542520"/>
            <a:ext cx="3771720" cy="85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4BFB-78E4-43DC-8F6C-6DB9071ECCF6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-958680" y="52704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2800080" y="542520"/>
            <a:ext cx="3771720" cy="85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33E-14A9-4A76-8823-9B9816FF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2EE-57CB-4C54-824A-210B11C4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71F-879F-4B76-AB4A-BC6092EB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47A-899C-4F33-A344-4E7CB06F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5B29-80CD-4910-8712-9419A12B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637A-6752-42CE-A003-5A1D9307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9E98-43F3-40C9-B810-646E9CB5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EA50-C76D-4565-911C-F7485780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4B33-870D-4530-A6AD-ED9CC311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DF97-9806-4CCA-AA84-20225550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72CE-E77A-4F29-B0D5-D4EF52EF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1FC-C414-4124-B378-D78F6F04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F214-92D3-463E-A243-97BDFDFB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E3D4-D743-4834-942B-CEE0CA95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4754-7C60-4C99-A443-6EA6F7FB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9CB4-B7FF-4896-91BF-48BBC3EB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77B5-AAC6-4198-AC7F-A7ABC529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350-B15C-4AEA-AC6E-C772583B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2AA-AD37-4C27-9FBC-BEC7ED95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122-79CA-44BF-BAC2-014FB2F3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5B7-754D-475F-B5DC-AFFB6049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B96-DB1F-421D-AAC7-B6E81605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338-47E5-4CEC-8681-D87E2025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B5B-3CA2-491D-A1AA-DBB42373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2911-D2BC-48D7-9B42-1BEC0C1F39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4606-D900-4683-934A-942C0307E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4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5.wmf"/><Relationship Id="rId10" Type="http://schemas.openxmlformats.org/officeDocument/2006/relationships/package" Target="../embeddings/oleObject5.xlsx"/><Relationship Id="rId11" Type="http://schemas.openxmlformats.org/officeDocument/2006/relationships/image" Target="../media/image6.wmf"/><Relationship Id="rId12" Type="http://schemas.openxmlformats.org/officeDocument/2006/relationships/package" Target="../embeddings/oleObject6.xlsx"/><Relationship Id="rId13" Type="http://schemas.openxmlformats.org/officeDocument/2006/relationships/image" Target="../media/image7.wmf"/><Relationship Id="rId14" Type="http://schemas.openxmlformats.org/officeDocument/2006/relationships/package" Target="../embeddings/oleObject7.xlsx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990720"/>
            <a:ext cx="891540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Sensibilité des quatre nouvelles trousses Ag HBS dans la détection des mutants "a"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T. D. Ly</a:t>
            </a:r>
            <a:r>
              <a:rPr b="1" lang="en-GB" sz="24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, A.M. Roque-Afonso</a:t>
            </a:r>
            <a:r>
              <a:rPr b="1" lang="en-GB" sz="24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, S. Bagot</a:t>
            </a:r>
            <a:r>
              <a:rPr b="1" lang="en-GB" sz="24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3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, A. Ebel</a:t>
            </a:r>
            <a:r>
              <a:rPr b="1" lang="en-GB" sz="24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1</a:t>
            </a:r>
            <a:r>
              <a:rPr b="1" lang="fr-FR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LCL, Ivry sur Sein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 baseline="30000">
                <a:solidFill>
                  <a:srgbClr val="ff9900"/>
                </a:solidFill>
                <a:latin typeface="Times New Roman"/>
                <a:ea typeface="Times New Roman"/>
              </a:rPr>
              <a:t>2</a:t>
            </a:r>
            <a:r>
              <a:rPr b="1" lang="fr-FR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Hôpital Paul Brousse, Villejuif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baseline="30000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fr-FR" sz="2400" spc="-1" strike="noStrike" baseline="30000">
                <a:solidFill>
                  <a:srgbClr val="ff9900"/>
                </a:solidFill>
                <a:latin typeface="Times New Roman"/>
              </a:rPr>
              <a:t>3</a:t>
            </a:r>
            <a:r>
              <a:rPr b="1" lang="fr-FR" sz="2400" spc="-1" strike="noStrike">
                <a:solidFill>
                  <a:srgbClr val="ff9900"/>
                </a:solidFill>
                <a:latin typeface="Times New Roman"/>
              </a:rPr>
              <a:t>Laboratoire Français du Fractionnement et des Biotechnolog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ff66"/>
                </a:solidFill>
                <a:latin typeface="Times New Roman"/>
              </a:rPr>
              <a:t>XVII</a:t>
            </a:r>
            <a:r>
              <a:rPr b="1" lang="fr-FR" sz="2000" spc="-1" strike="noStrike" baseline="30000">
                <a:solidFill>
                  <a:srgbClr val="66ff66"/>
                </a:solidFill>
                <a:latin typeface="Times New Roman"/>
              </a:rPr>
              <a:t>ème </a:t>
            </a:r>
            <a:r>
              <a:rPr b="1" lang="fr-FR" sz="2000" spc="-1" strike="noStrike">
                <a:solidFill>
                  <a:srgbClr val="66ff66"/>
                </a:solidFill>
                <a:latin typeface="Times New Roman"/>
              </a:rPr>
              <a:t>Colloque de Virologie de Versailles 27 mai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1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4260960" y="4172040"/>
            <a:ext cx="460440" cy="439560"/>
            <a:chOff x="4260960" y="4172040"/>
            <a:chExt cx="460440" cy="439560"/>
          </a:xfrm>
        </p:grpSpPr>
        <p:sp>
          <p:nvSpPr>
            <p:cNvPr id="345" name=""/>
            <p:cNvSpPr/>
            <p:nvPr/>
          </p:nvSpPr>
          <p:spPr>
            <a:xfrm>
              <a:off x="4260960" y="4172040"/>
              <a:ext cx="460440" cy="439560"/>
            </a:xfrm>
            <a:custGeom>
              <a:avLst/>
              <a:gdLst/>
              <a:ahLst/>
              <a:rect l="l" t="t" r="r" b="b"/>
              <a:pathLst>
                <a:path w="290" h="277">
                  <a:moveTo>
                    <a:pt x="0" y="137"/>
                  </a:moveTo>
                  <a:lnTo>
                    <a:pt x="2" y="106"/>
                  </a:lnTo>
                  <a:lnTo>
                    <a:pt x="12" y="78"/>
                  </a:lnTo>
                  <a:lnTo>
                    <a:pt x="26" y="54"/>
                  </a:lnTo>
                  <a:lnTo>
                    <a:pt x="44" y="34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3" y="34"/>
                  </a:lnTo>
                  <a:lnTo>
                    <a:pt x="261" y="54"/>
                  </a:lnTo>
                  <a:lnTo>
                    <a:pt x="276" y="78"/>
                  </a:lnTo>
                  <a:lnTo>
                    <a:pt x="285" y="106"/>
                  </a:lnTo>
                  <a:lnTo>
                    <a:pt x="289" y="137"/>
                  </a:lnTo>
                  <a:lnTo>
                    <a:pt x="285" y="171"/>
                  </a:lnTo>
                  <a:lnTo>
                    <a:pt x="276" y="200"/>
                  </a:lnTo>
                  <a:lnTo>
                    <a:pt x="261" y="223"/>
                  </a:lnTo>
                  <a:lnTo>
                    <a:pt x="243" y="242"/>
                  </a:lnTo>
                  <a:lnTo>
                    <a:pt x="221" y="257"/>
                  </a:lnTo>
                  <a:lnTo>
                    <a:pt x="197" y="268"/>
                  </a:lnTo>
                  <a:lnTo>
                    <a:pt x="170" y="275"/>
                  </a:lnTo>
                  <a:lnTo>
                    <a:pt x="144" y="276"/>
                  </a:lnTo>
                  <a:lnTo>
                    <a:pt x="117" y="275"/>
                  </a:lnTo>
                  <a:lnTo>
                    <a:pt x="90" y="268"/>
                  </a:lnTo>
                  <a:lnTo>
                    <a:pt x="65" y="257"/>
                  </a:lnTo>
                  <a:lnTo>
                    <a:pt x="44" y="242"/>
                  </a:lnTo>
                  <a:lnTo>
                    <a:pt x="26" y="223"/>
                  </a:lnTo>
                  <a:lnTo>
                    <a:pt x="12" y="200"/>
                  </a:lnTo>
                  <a:lnTo>
                    <a:pt x="2" y="171"/>
                  </a:lnTo>
                  <a:lnTo>
                    <a:pt x="0" y="137"/>
                  </a:lnTo>
                  <a:lnTo>
                    <a:pt x="0" y="137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68960" y="4238640"/>
              <a:ext cx="262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42880" y="4602240"/>
            <a:ext cx="458640" cy="441360"/>
            <a:chOff x="1442880" y="4602240"/>
            <a:chExt cx="458640" cy="441360"/>
          </a:xfrm>
        </p:grpSpPr>
        <p:sp>
          <p:nvSpPr>
            <p:cNvPr id="348" name=""/>
            <p:cNvSpPr/>
            <p:nvPr/>
          </p:nvSpPr>
          <p:spPr>
            <a:xfrm>
              <a:off x="1442880" y="4602240"/>
              <a:ext cx="458640" cy="441360"/>
            </a:xfrm>
            <a:custGeom>
              <a:avLst/>
              <a:gdLst/>
              <a:ahLst/>
              <a:rect l="l" t="t" r="r" b="b"/>
              <a:pathLst>
                <a:path w="289" h="278">
                  <a:moveTo>
                    <a:pt x="0" y="138"/>
                  </a:moveTo>
                  <a:lnTo>
                    <a:pt x="2" y="106"/>
                  </a:lnTo>
                  <a:lnTo>
                    <a:pt x="11" y="78"/>
                  </a:lnTo>
                  <a:lnTo>
                    <a:pt x="25" y="54"/>
                  </a:lnTo>
                  <a:lnTo>
                    <a:pt x="44" y="35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6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6" y="9"/>
                  </a:lnTo>
                  <a:lnTo>
                    <a:pt x="221" y="20"/>
                  </a:lnTo>
                  <a:lnTo>
                    <a:pt x="243" y="35"/>
                  </a:lnTo>
                  <a:lnTo>
                    <a:pt x="261" y="54"/>
                  </a:lnTo>
                  <a:lnTo>
                    <a:pt x="276" y="78"/>
                  </a:lnTo>
                  <a:lnTo>
                    <a:pt x="285" y="106"/>
                  </a:lnTo>
                  <a:lnTo>
                    <a:pt x="288" y="138"/>
                  </a:lnTo>
                  <a:lnTo>
                    <a:pt x="285" y="171"/>
                  </a:lnTo>
                  <a:lnTo>
                    <a:pt x="276" y="200"/>
                  </a:lnTo>
                  <a:lnTo>
                    <a:pt x="261" y="223"/>
                  </a:lnTo>
                  <a:lnTo>
                    <a:pt x="243" y="242"/>
                  </a:lnTo>
                  <a:lnTo>
                    <a:pt x="221" y="258"/>
                  </a:lnTo>
                  <a:lnTo>
                    <a:pt x="196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6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1" y="200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50880" y="4670280"/>
              <a:ext cx="2620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905120" y="4600440"/>
            <a:ext cx="460080" cy="439920"/>
            <a:chOff x="1905120" y="4600440"/>
            <a:chExt cx="460080" cy="439920"/>
          </a:xfrm>
        </p:grpSpPr>
        <p:sp>
          <p:nvSpPr>
            <p:cNvPr id="351" name=""/>
            <p:cNvSpPr/>
            <p:nvPr/>
          </p:nvSpPr>
          <p:spPr>
            <a:xfrm>
              <a:off x="1905120" y="4600440"/>
              <a:ext cx="460080" cy="439920"/>
            </a:xfrm>
            <a:custGeom>
              <a:avLst/>
              <a:gdLst/>
              <a:ahLst/>
              <a:rect l="l" t="t" r="r" b="b"/>
              <a:pathLst>
                <a:path w="290" h="277">
                  <a:moveTo>
                    <a:pt x="0" y="138"/>
                  </a:moveTo>
                  <a:lnTo>
                    <a:pt x="2" y="106"/>
                  </a:lnTo>
                  <a:lnTo>
                    <a:pt x="11" y="78"/>
                  </a:lnTo>
                  <a:lnTo>
                    <a:pt x="25" y="54"/>
                  </a:lnTo>
                  <a:lnTo>
                    <a:pt x="44" y="34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3" y="34"/>
                  </a:lnTo>
                  <a:lnTo>
                    <a:pt x="262" y="54"/>
                  </a:lnTo>
                  <a:lnTo>
                    <a:pt x="276" y="78"/>
                  </a:lnTo>
                  <a:lnTo>
                    <a:pt x="285" y="106"/>
                  </a:lnTo>
                  <a:lnTo>
                    <a:pt x="289" y="138"/>
                  </a:lnTo>
                  <a:lnTo>
                    <a:pt x="285" y="171"/>
                  </a:lnTo>
                  <a:lnTo>
                    <a:pt x="276" y="199"/>
                  </a:lnTo>
                  <a:lnTo>
                    <a:pt x="262" y="223"/>
                  </a:lnTo>
                  <a:lnTo>
                    <a:pt x="243" y="242"/>
                  </a:lnTo>
                  <a:lnTo>
                    <a:pt x="221" y="258"/>
                  </a:lnTo>
                  <a:lnTo>
                    <a:pt x="197" y="268"/>
                  </a:lnTo>
                  <a:lnTo>
                    <a:pt x="170" y="275"/>
                  </a:lnTo>
                  <a:lnTo>
                    <a:pt x="144" y="276"/>
                  </a:lnTo>
                  <a:lnTo>
                    <a:pt x="117" y="275"/>
                  </a:lnTo>
                  <a:lnTo>
                    <a:pt x="90" y="268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1" y="199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12760" y="4667400"/>
              <a:ext cx="2617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854520" y="2208240"/>
            <a:ext cx="458640" cy="439560"/>
            <a:chOff x="3854520" y="2208240"/>
            <a:chExt cx="458640" cy="439560"/>
          </a:xfrm>
        </p:grpSpPr>
        <p:sp>
          <p:nvSpPr>
            <p:cNvPr id="354" name=""/>
            <p:cNvSpPr/>
            <p:nvPr/>
          </p:nvSpPr>
          <p:spPr>
            <a:xfrm>
              <a:off x="3854520" y="2208240"/>
              <a:ext cx="458640" cy="439560"/>
            </a:xfrm>
            <a:custGeom>
              <a:avLst/>
              <a:gdLst/>
              <a:ahLst/>
              <a:rect l="l" t="t" r="r" b="b"/>
              <a:pathLst>
                <a:path w="289" h="277">
                  <a:moveTo>
                    <a:pt x="0" y="137"/>
                  </a:moveTo>
                  <a:lnTo>
                    <a:pt x="2" y="106"/>
                  </a:lnTo>
                  <a:lnTo>
                    <a:pt x="11" y="78"/>
                  </a:lnTo>
                  <a:lnTo>
                    <a:pt x="25" y="54"/>
                  </a:lnTo>
                  <a:lnTo>
                    <a:pt x="44" y="34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69" y="3"/>
                  </a:lnTo>
                  <a:lnTo>
                    <a:pt x="196" y="9"/>
                  </a:lnTo>
                  <a:lnTo>
                    <a:pt x="220" y="20"/>
                  </a:lnTo>
                  <a:lnTo>
                    <a:pt x="243" y="34"/>
                  </a:lnTo>
                  <a:lnTo>
                    <a:pt x="261" y="54"/>
                  </a:lnTo>
                  <a:lnTo>
                    <a:pt x="275" y="78"/>
                  </a:lnTo>
                  <a:lnTo>
                    <a:pt x="284" y="106"/>
                  </a:lnTo>
                  <a:lnTo>
                    <a:pt x="288" y="137"/>
                  </a:lnTo>
                  <a:lnTo>
                    <a:pt x="284" y="171"/>
                  </a:lnTo>
                  <a:lnTo>
                    <a:pt x="275" y="200"/>
                  </a:lnTo>
                  <a:lnTo>
                    <a:pt x="261" y="223"/>
                  </a:lnTo>
                  <a:lnTo>
                    <a:pt x="243" y="242"/>
                  </a:lnTo>
                  <a:lnTo>
                    <a:pt x="220" y="257"/>
                  </a:lnTo>
                  <a:lnTo>
                    <a:pt x="196" y="268"/>
                  </a:lnTo>
                  <a:lnTo>
                    <a:pt x="169" y="275"/>
                  </a:lnTo>
                  <a:lnTo>
                    <a:pt x="144" y="276"/>
                  </a:lnTo>
                  <a:lnTo>
                    <a:pt x="117" y="275"/>
                  </a:lnTo>
                  <a:lnTo>
                    <a:pt x="90" y="268"/>
                  </a:lnTo>
                  <a:lnTo>
                    <a:pt x="65" y="257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1" y="200"/>
                  </a:lnTo>
                  <a:lnTo>
                    <a:pt x="2" y="171"/>
                  </a:lnTo>
                  <a:lnTo>
                    <a:pt x="0" y="137"/>
                  </a:lnTo>
                  <a:lnTo>
                    <a:pt x="0" y="137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62160" y="2274840"/>
              <a:ext cx="2599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376440" y="2190600"/>
            <a:ext cx="460440" cy="441360"/>
            <a:chOff x="3376440" y="2190600"/>
            <a:chExt cx="460440" cy="441360"/>
          </a:xfrm>
        </p:grpSpPr>
        <p:sp>
          <p:nvSpPr>
            <p:cNvPr id="357" name=""/>
            <p:cNvSpPr/>
            <p:nvPr/>
          </p:nvSpPr>
          <p:spPr>
            <a:xfrm>
              <a:off x="3376440" y="2190600"/>
              <a:ext cx="460440" cy="44136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0" y="138"/>
                  </a:moveTo>
                  <a:lnTo>
                    <a:pt x="2" y="106"/>
                  </a:lnTo>
                  <a:lnTo>
                    <a:pt x="12" y="78"/>
                  </a:lnTo>
                  <a:lnTo>
                    <a:pt x="25" y="54"/>
                  </a:lnTo>
                  <a:lnTo>
                    <a:pt x="44" y="34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3" y="34"/>
                  </a:lnTo>
                  <a:lnTo>
                    <a:pt x="262" y="54"/>
                  </a:lnTo>
                  <a:lnTo>
                    <a:pt x="276" y="78"/>
                  </a:lnTo>
                  <a:lnTo>
                    <a:pt x="285" y="106"/>
                  </a:lnTo>
                  <a:lnTo>
                    <a:pt x="289" y="138"/>
                  </a:lnTo>
                  <a:lnTo>
                    <a:pt x="285" y="171"/>
                  </a:lnTo>
                  <a:lnTo>
                    <a:pt x="276" y="199"/>
                  </a:lnTo>
                  <a:lnTo>
                    <a:pt x="262" y="223"/>
                  </a:lnTo>
                  <a:lnTo>
                    <a:pt x="243" y="242"/>
                  </a:lnTo>
                  <a:lnTo>
                    <a:pt x="221" y="258"/>
                  </a:lnTo>
                  <a:lnTo>
                    <a:pt x="197" y="268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8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2" y="199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84440" y="2257560"/>
              <a:ext cx="262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922480" y="2324160"/>
            <a:ext cx="461880" cy="438120"/>
            <a:chOff x="2922480" y="2324160"/>
            <a:chExt cx="461880" cy="438120"/>
          </a:xfrm>
        </p:grpSpPr>
        <p:sp>
          <p:nvSpPr>
            <p:cNvPr id="360" name=""/>
            <p:cNvSpPr/>
            <p:nvPr/>
          </p:nvSpPr>
          <p:spPr>
            <a:xfrm>
              <a:off x="2922480" y="2324160"/>
              <a:ext cx="461880" cy="438120"/>
            </a:xfrm>
            <a:custGeom>
              <a:avLst/>
              <a:gdLst/>
              <a:ahLst/>
              <a:rect l="l" t="t" r="r" b="b"/>
              <a:pathLst>
                <a:path w="291" h="276">
                  <a:moveTo>
                    <a:pt x="0" y="137"/>
                  </a:moveTo>
                  <a:lnTo>
                    <a:pt x="3" y="106"/>
                  </a:lnTo>
                  <a:lnTo>
                    <a:pt x="11" y="77"/>
                  </a:lnTo>
                  <a:lnTo>
                    <a:pt x="25" y="54"/>
                  </a:lnTo>
                  <a:lnTo>
                    <a:pt x="45" y="34"/>
                  </a:lnTo>
                  <a:lnTo>
                    <a:pt x="66" y="20"/>
                  </a:lnTo>
                  <a:lnTo>
                    <a:pt x="91" y="9"/>
                  </a:lnTo>
                  <a:lnTo>
                    <a:pt x="117" y="3"/>
                  </a:lnTo>
                  <a:lnTo>
                    <a:pt x="145" y="0"/>
                  </a:lnTo>
                  <a:lnTo>
                    <a:pt x="171" y="3"/>
                  </a:lnTo>
                  <a:lnTo>
                    <a:pt x="198" y="9"/>
                  </a:lnTo>
                  <a:lnTo>
                    <a:pt x="222" y="20"/>
                  </a:lnTo>
                  <a:lnTo>
                    <a:pt x="245" y="34"/>
                  </a:lnTo>
                  <a:lnTo>
                    <a:pt x="263" y="54"/>
                  </a:lnTo>
                  <a:lnTo>
                    <a:pt x="277" y="77"/>
                  </a:lnTo>
                  <a:lnTo>
                    <a:pt x="287" y="106"/>
                  </a:lnTo>
                  <a:lnTo>
                    <a:pt x="290" y="137"/>
                  </a:lnTo>
                  <a:lnTo>
                    <a:pt x="287" y="169"/>
                  </a:lnTo>
                  <a:lnTo>
                    <a:pt x="277" y="198"/>
                  </a:lnTo>
                  <a:lnTo>
                    <a:pt x="263" y="221"/>
                  </a:lnTo>
                  <a:lnTo>
                    <a:pt x="245" y="240"/>
                  </a:lnTo>
                  <a:lnTo>
                    <a:pt x="222" y="256"/>
                  </a:lnTo>
                  <a:lnTo>
                    <a:pt x="198" y="267"/>
                  </a:lnTo>
                  <a:lnTo>
                    <a:pt x="171" y="273"/>
                  </a:lnTo>
                  <a:lnTo>
                    <a:pt x="145" y="275"/>
                  </a:lnTo>
                  <a:lnTo>
                    <a:pt x="117" y="273"/>
                  </a:lnTo>
                  <a:lnTo>
                    <a:pt x="91" y="267"/>
                  </a:lnTo>
                  <a:lnTo>
                    <a:pt x="66" y="256"/>
                  </a:lnTo>
                  <a:lnTo>
                    <a:pt x="45" y="240"/>
                  </a:lnTo>
                  <a:lnTo>
                    <a:pt x="25" y="221"/>
                  </a:lnTo>
                  <a:lnTo>
                    <a:pt x="11" y="198"/>
                  </a:lnTo>
                  <a:lnTo>
                    <a:pt x="3" y="169"/>
                  </a:lnTo>
                  <a:lnTo>
                    <a:pt x="0" y="137"/>
                  </a:lnTo>
                  <a:lnTo>
                    <a:pt x="0" y="137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31920" y="2390760"/>
              <a:ext cx="262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467080" y="2500200"/>
            <a:ext cx="458640" cy="441360"/>
            <a:chOff x="2467080" y="2500200"/>
            <a:chExt cx="458640" cy="441360"/>
          </a:xfrm>
        </p:grpSpPr>
        <p:sp>
          <p:nvSpPr>
            <p:cNvPr id="363" name=""/>
            <p:cNvSpPr/>
            <p:nvPr/>
          </p:nvSpPr>
          <p:spPr>
            <a:xfrm>
              <a:off x="2467080" y="2500200"/>
              <a:ext cx="458640" cy="441360"/>
            </a:xfrm>
            <a:custGeom>
              <a:avLst/>
              <a:gdLst/>
              <a:ahLst/>
              <a:rect l="l" t="t" r="r" b="b"/>
              <a:pathLst>
                <a:path w="289" h="278">
                  <a:moveTo>
                    <a:pt x="0" y="138"/>
                  </a:moveTo>
                  <a:lnTo>
                    <a:pt x="2" y="107"/>
                  </a:lnTo>
                  <a:lnTo>
                    <a:pt x="11" y="78"/>
                  </a:lnTo>
                  <a:lnTo>
                    <a:pt x="25" y="55"/>
                  </a:lnTo>
                  <a:lnTo>
                    <a:pt x="44" y="35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6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6" y="9"/>
                  </a:lnTo>
                  <a:lnTo>
                    <a:pt x="220" y="20"/>
                  </a:lnTo>
                  <a:lnTo>
                    <a:pt x="243" y="35"/>
                  </a:lnTo>
                  <a:lnTo>
                    <a:pt x="261" y="55"/>
                  </a:lnTo>
                  <a:lnTo>
                    <a:pt x="276" y="78"/>
                  </a:lnTo>
                  <a:lnTo>
                    <a:pt x="285" y="107"/>
                  </a:lnTo>
                  <a:lnTo>
                    <a:pt x="288" y="138"/>
                  </a:lnTo>
                  <a:lnTo>
                    <a:pt x="285" y="172"/>
                  </a:lnTo>
                  <a:lnTo>
                    <a:pt x="276" y="200"/>
                  </a:lnTo>
                  <a:lnTo>
                    <a:pt x="261" y="224"/>
                  </a:lnTo>
                  <a:lnTo>
                    <a:pt x="243" y="243"/>
                  </a:lnTo>
                  <a:lnTo>
                    <a:pt x="220" y="258"/>
                  </a:lnTo>
                  <a:lnTo>
                    <a:pt x="196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6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3"/>
                  </a:lnTo>
                  <a:lnTo>
                    <a:pt x="25" y="224"/>
                  </a:lnTo>
                  <a:lnTo>
                    <a:pt x="11" y="200"/>
                  </a:lnTo>
                  <a:lnTo>
                    <a:pt x="2" y="172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74720" y="2568600"/>
              <a:ext cx="2617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157640" y="2541600"/>
            <a:ext cx="460080" cy="441360"/>
            <a:chOff x="4157640" y="2541600"/>
            <a:chExt cx="460080" cy="441360"/>
          </a:xfrm>
        </p:grpSpPr>
        <p:sp>
          <p:nvSpPr>
            <p:cNvPr id="366" name=""/>
            <p:cNvSpPr/>
            <p:nvPr/>
          </p:nvSpPr>
          <p:spPr>
            <a:xfrm>
              <a:off x="4157640" y="2541600"/>
              <a:ext cx="460080" cy="44136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0" y="138"/>
                  </a:moveTo>
                  <a:lnTo>
                    <a:pt x="2" y="107"/>
                  </a:lnTo>
                  <a:lnTo>
                    <a:pt x="12" y="78"/>
                  </a:lnTo>
                  <a:lnTo>
                    <a:pt x="26" y="55"/>
                  </a:lnTo>
                  <a:lnTo>
                    <a:pt x="44" y="35"/>
                  </a:lnTo>
                  <a:lnTo>
                    <a:pt x="66" y="20"/>
                  </a:lnTo>
                  <a:lnTo>
                    <a:pt x="91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3" y="35"/>
                  </a:lnTo>
                  <a:lnTo>
                    <a:pt x="262" y="55"/>
                  </a:lnTo>
                  <a:lnTo>
                    <a:pt x="276" y="78"/>
                  </a:lnTo>
                  <a:lnTo>
                    <a:pt x="285" y="107"/>
                  </a:lnTo>
                  <a:lnTo>
                    <a:pt x="289" y="138"/>
                  </a:lnTo>
                  <a:lnTo>
                    <a:pt x="285" y="172"/>
                  </a:lnTo>
                  <a:lnTo>
                    <a:pt x="276" y="200"/>
                  </a:lnTo>
                  <a:lnTo>
                    <a:pt x="262" y="224"/>
                  </a:lnTo>
                  <a:lnTo>
                    <a:pt x="243" y="243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1" y="269"/>
                  </a:lnTo>
                  <a:lnTo>
                    <a:pt x="66" y="258"/>
                  </a:lnTo>
                  <a:lnTo>
                    <a:pt x="44" y="243"/>
                  </a:lnTo>
                  <a:lnTo>
                    <a:pt x="26" y="224"/>
                  </a:lnTo>
                  <a:lnTo>
                    <a:pt x="12" y="200"/>
                  </a:lnTo>
                  <a:lnTo>
                    <a:pt x="2" y="172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67080" y="2610000"/>
              <a:ext cx="26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2265480" y="2870280"/>
            <a:ext cx="460080" cy="439560"/>
            <a:chOff x="2265480" y="2870280"/>
            <a:chExt cx="460080" cy="439560"/>
          </a:xfrm>
        </p:grpSpPr>
        <p:sp>
          <p:nvSpPr>
            <p:cNvPr id="369" name=""/>
            <p:cNvSpPr/>
            <p:nvPr/>
          </p:nvSpPr>
          <p:spPr>
            <a:xfrm>
              <a:off x="2265480" y="2870280"/>
              <a:ext cx="460080" cy="439560"/>
            </a:xfrm>
            <a:custGeom>
              <a:avLst/>
              <a:gdLst/>
              <a:ahLst/>
              <a:rect l="l" t="t" r="r" b="b"/>
              <a:pathLst>
                <a:path w="290" h="277">
                  <a:moveTo>
                    <a:pt x="0" y="138"/>
                  </a:moveTo>
                  <a:lnTo>
                    <a:pt x="2" y="106"/>
                  </a:lnTo>
                  <a:lnTo>
                    <a:pt x="11" y="78"/>
                  </a:lnTo>
                  <a:lnTo>
                    <a:pt x="25" y="54"/>
                  </a:lnTo>
                  <a:lnTo>
                    <a:pt x="44" y="34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3" y="34"/>
                  </a:lnTo>
                  <a:lnTo>
                    <a:pt x="262" y="54"/>
                  </a:lnTo>
                  <a:lnTo>
                    <a:pt x="276" y="78"/>
                  </a:lnTo>
                  <a:lnTo>
                    <a:pt x="285" y="106"/>
                  </a:lnTo>
                  <a:lnTo>
                    <a:pt x="289" y="138"/>
                  </a:lnTo>
                  <a:lnTo>
                    <a:pt x="285" y="171"/>
                  </a:lnTo>
                  <a:lnTo>
                    <a:pt x="276" y="199"/>
                  </a:lnTo>
                  <a:lnTo>
                    <a:pt x="262" y="223"/>
                  </a:lnTo>
                  <a:lnTo>
                    <a:pt x="243" y="242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0" y="275"/>
                  </a:lnTo>
                  <a:lnTo>
                    <a:pt x="144" y="276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1" y="199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73120" y="2938320"/>
              <a:ext cx="2617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375080" y="2882880"/>
            <a:ext cx="465120" cy="439920"/>
            <a:chOff x="4375080" y="2882880"/>
            <a:chExt cx="465120" cy="439920"/>
          </a:xfrm>
        </p:grpSpPr>
        <p:sp>
          <p:nvSpPr>
            <p:cNvPr id="372" name=""/>
            <p:cNvSpPr/>
            <p:nvPr/>
          </p:nvSpPr>
          <p:spPr>
            <a:xfrm>
              <a:off x="4375080" y="2882880"/>
              <a:ext cx="465120" cy="439920"/>
            </a:xfrm>
            <a:custGeom>
              <a:avLst/>
              <a:gdLst/>
              <a:ahLst/>
              <a:rect l="l" t="t" r="r" b="b"/>
              <a:pathLst>
                <a:path w="293" h="277">
                  <a:moveTo>
                    <a:pt x="0" y="138"/>
                  </a:moveTo>
                  <a:lnTo>
                    <a:pt x="3" y="106"/>
                  </a:lnTo>
                  <a:lnTo>
                    <a:pt x="13" y="78"/>
                  </a:lnTo>
                  <a:lnTo>
                    <a:pt x="26" y="54"/>
                  </a:lnTo>
                  <a:lnTo>
                    <a:pt x="46" y="34"/>
                  </a:lnTo>
                  <a:lnTo>
                    <a:pt x="67" y="20"/>
                  </a:lnTo>
                  <a:lnTo>
                    <a:pt x="92" y="9"/>
                  </a:lnTo>
                  <a:lnTo>
                    <a:pt x="119" y="3"/>
                  </a:lnTo>
                  <a:lnTo>
                    <a:pt x="146" y="0"/>
                  </a:lnTo>
                  <a:lnTo>
                    <a:pt x="172" y="3"/>
                  </a:lnTo>
                  <a:lnTo>
                    <a:pt x="199" y="9"/>
                  </a:lnTo>
                  <a:lnTo>
                    <a:pt x="223" y="20"/>
                  </a:lnTo>
                  <a:lnTo>
                    <a:pt x="246" y="34"/>
                  </a:lnTo>
                  <a:lnTo>
                    <a:pt x="264" y="54"/>
                  </a:lnTo>
                  <a:lnTo>
                    <a:pt x="278" y="78"/>
                  </a:lnTo>
                  <a:lnTo>
                    <a:pt x="288" y="106"/>
                  </a:lnTo>
                  <a:lnTo>
                    <a:pt x="292" y="138"/>
                  </a:lnTo>
                  <a:lnTo>
                    <a:pt x="288" y="171"/>
                  </a:lnTo>
                  <a:lnTo>
                    <a:pt x="278" y="200"/>
                  </a:lnTo>
                  <a:lnTo>
                    <a:pt x="264" y="223"/>
                  </a:lnTo>
                  <a:lnTo>
                    <a:pt x="246" y="242"/>
                  </a:lnTo>
                  <a:lnTo>
                    <a:pt x="223" y="257"/>
                  </a:lnTo>
                  <a:lnTo>
                    <a:pt x="199" y="268"/>
                  </a:lnTo>
                  <a:lnTo>
                    <a:pt x="172" y="275"/>
                  </a:lnTo>
                  <a:lnTo>
                    <a:pt x="146" y="276"/>
                  </a:lnTo>
                  <a:lnTo>
                    <a:pt x="119" y="275"/>
                  </a:lnTo>
                  <a:lnTo>
                    <a:pt x="92" y="268"/>
                  </a:lnTo>
                  <a:lnTo>
                    <a:pt x="67" y="257"/>
                  </a:lnTo>
                  <a:lnTo>
                    <a:pt x="46" y="242"/>
                  </a:lnTo>
                  <a:lnTo>
                    <a:pt x="26" y="223"/>
                  </a:lnTo>
                  <a:lnTo>
                    <a:pt x="13" y="200"/>
                  </a:lnTo>
                  <a:lnTo>
                    <a:pt x="3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85960" y="2951280"/>
              <a:ext cx="262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361040" y="3314880"/>
            <a:ext cx="460080" cy="441000"/>
            <a:chOff x="4361040" y="3314880"/>
            <a:chExt cx="460080" cy="441000"/>
          </a:xfrm>
        </p:grpSpPr>
        <p:sp>
          <p:nvSpPr>
            <p:cNvPr id="375" name=""/>
            <p:cNvSpPr/>
            <p:nvPr/>
          </p:nvSpPr>
          <p:spPr>
            <a:xfrm>
              <a:off x="4361040" y="3314880"/>
              <a:ext cx="460080" cy="44100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0" y="138"/>
                  </a:moveTo>
                  <a:lnTo>
                    <a:pt x="2" y="107"/>
                  </a:lnTo>
                  <a:lnTo>
                    <a:pt x="11" y="78"/>
                  </a:lnTo>
                  <a:lnTo>
                    <a:pt x="25" y="55"/>
                  </a:lnTo>
                  <a:lnTo>
                    <a:pt x="44" y="35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4" y="35"/>
                  </a:lnTo>
                  <a:lnTo>
                    <a:pt x="261" y="55"/>
                  </a:lnTo>
                  <a:lnTo>
                    <a:pt x="276" y="78"/>
                  </a:lnTo>
                  <a:lnTo>
                    <a:pt x="285" y="107"/>
                  </a:lnTo>
                  <a:lnTo>
                    <a:pt x="289" y="138"/>
                  </a:lnTo>
                  <a:lnTo>
                    <a:pt x="285" y="171"/>
                  </a:lnTo>
                  <a:lnTo>
                    <a:pt x="276" y="200"/>
                  </a:lnTo>
                  <a:lnTo>
                    <a:pt x="261" y="223"/>
                  </a:lnTo>
                  <a:lnTo>
                    <a:pt x="244" y="242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1" y="200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68680" y="3382920"/>
              <a:ext cx="2617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221000" y="3730680"/>
            <a:ext cx="461880" cy="441360"/>
            <a:chOff x="4221000" y="3730680"/>
            <a:chExt cx="461880" cy="441360"/>
          </a:xfrm>
        </p:grpSpPr>
        <p:sp>
          <p:nvSpPr>
            <p:cNvPr id="378" name=""/>
            <p:cNvSpPr/>
            <p:nvPr/>
          </p:nvSpPr>
          <p:spPr>
            <a:xfrm>
              <a:off x="4221000" y="3730680"/>
              <a:ext cx="461880" cy="441360"/>
            </a:xfrm>
            <a:custGeom>
              <a:avLst/>
              <a:gdLst/>
              <a:ahLst/>
              <a:rect l="l" t="t" r="r" b="b"/>
              <a:pathLst>
                <a:path w="291" h="278">
                  <a:moveTo>
                    <a:pt x="0" y="138"/>
                  </a:moveTo>
                  <a:lnTo>
                    <a:pt x="2" y="106"/>
                  </a:lnTo>
                  <a:lnTo>
                    <a:pt x="11" y="78"/>
                  </a:lnTo>
                  <a:lnTo>
                    <a:pt x="25" y="54"/>
                  </a:lnTo>
                  <a:lnTo>
                    <a:pt x="44" y="34"/>
                  </a:lnTo>
                  <a:lnTo>
                    <a:pt x="66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1" y="3"/>
                  </a:lnTo>
                  <a:lnTo>
                    <a:pt x="198" y="9"/>
                  </a:lnTo>
                  <a:lnTo>
                    <a:pt x="222" y="20"/>
                  </a:lnTo>
                  <a:lnTo>
                    <a:pt x="244" y="34"/>
                  </a:lnTo>
                  <a:lnTo>
                    <a:pt x="262" y="54"/>
                  </a:lnTo>
                  <a:lnTo>
                    <a:pt x="277" y="78"/>
                  </a:lnTo>
                  <a:lnTo>
                    <a:pt x="286" y="106"/>
                  </a:lnTo>
                  <a:lnTo>
                    <a:pt x="290" y="138"/>
                  </a:lnTo>
                  <a:lnTo>
                    <a:pt x="286" y="171"/>
                  </a:lnTo>
                  <a:lnTo>
                    <a:pt x="277" y="200"/>
                  </a:lnTo>
                  <a:lnTo>
                    <a:pt x="262" y="223"/>
                  </a:lnTo>
                  <a:lnTo>
                    <a:pt x="244" y="242"/>
                  </a:lnTo>
                  <a:lnTo>
                    <a:pt x="222" y="258"/>
                  </a:lnTo>
                  <a:lnTo>
                    <a:pt x="198" y="268"/>
                  </a:lnTo>
                  <a:lnTo>
                    <a:pt x="171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8"/>
                  </a:lnTo>
                  <a:lnTo>
                    <a:pt x="66" y="258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1" y="200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29000" y="3797280"/>
              <a:ext cx="2635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181240" y="3324240"/>
            <a:ext cx="460080" cy="442800"/>
            <a:chOff x="2181240" y="3324240"/>
            <a:chExt cx="460080" cy="442800"/>
          </a:xfrm>
        </p:grpSpPr>
        <p:sp>
          <p:nvSpPr>
            <p:cNvPr id="381" name=""/>
            <p:cNvSpPr/>
            <p:nvPr/>
          </p:nvSpPr>
          <p:spPr>
            <a:xfrm>
              <a:off x="2181240" y="3324240"/>
              <a:ext cx="460080" cy="442800"/>
            </a:xfrm>
            <a:custGeom>
              <a:avLst/>
              <a:gdLst/>
              <a:ahLst/>
              <a:rect l="l" t="t" r="r" b="b"/>
              <a:pathLst>
                <a:path w="290" h="279">
                  <a:moveTo>
                    <a:pt x="0" y="138"/>
                  </a:moveTo>
                  <a:lnTo>
                    <a:pt x="3" y="107"/>
                  </a:lnTo>
                  <a:lnTo>
                    <a:pt x="12" y="78"/>
                  </a:lnTo>
                  <a:lnTo>
                    <a:pt x="26" y="55"/>
                  </a:lnTo>
                  <a:lnTo>
                    <a:pt x="45" y="35"/>
                  </a:lnTo>
                  <a:lnTo>
                    <a:pt x="66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4" y="35"/>
                  </a:lnTo>
                  <a:lnTo>
                    <a:pt x="262" y="55"/>
                  </a:lnTo>
                  <a:lnTo>
                    <a:pt x="276" y="78"/>
                  </a:lnTo>
                  <a:lnTo>
                    <a:pt x="286" y="107"/>
                  </a:lnTo>
                  <a:lnTo>
                    <a:pt x="289" y="138"/>
                  </a:lnTo>
                  <a:lnTo>
                    <a:pt x="286" y="172"/>
                  </a:lnTo>
                  <a:lnTo>
                    <a:pt x="276" y="200"/>
                  </a:lnTo>
                  <a:lnTo>
                    <a:pt x="262" y="224"/>
                  </a:lnTo>
                  <a:lnTo>
                    <a:pt x="244" y="244"/>
                  </a:lnTo>
                  <a:lnTo>
                    <a:pt x="221" y="259"/>
                  </a:lnTo>
                  <a:lnTo>
                    <a:pt x="197" y="270"/>
                  </a:lnTo>
                  <a:lnTo>
                    <a:pt x="170" y="276"/>
                  </a:lnTo>
                  <a:lnTo>
                    <a:pt x="144" y="278"/>
                  </a:lnTo>
                  <a:lnTo>
                    <a:pt x="117" y="276"/>
                  </a:lnTo>
                  <a:lnTo>
                    <a:pt x="90" y="270"/>
                  </a:lnTo>
                  <a:lnTo>
                    <a:pt x="66" y="259"/>
                  </a:lnTo>
                  <a:lnTo>
                    <a:pt x="45" y="244"/>
                  </a:lnTo>
                  <a:lnTo>
                    <a:pt x="26" y="224"/>
                  </a:lnTo>
                  <a:lnTo>
                    <a:pt x="12" y="200"/>
                  </a:lnTo>
                  <a:lnTo>
                    <a:pt x="3" y="172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90680" y="3392640"/>
              <a:ext cx="26028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236680" y="3741840"/>
            <a:ext cx="460440" cy="441360"/>
            <a:chOff x="2236680" y="3741840"/>
            <a:chExt cx="460440" cy="441360"/>
          </a:xfrm>
        </p:grpSpPr>
        <p:sp>
          <p:nvSpPr>
            <p:cNvPr id="384" name=""/>
            <p:cNvSpPr/>
            <p:nvPr/>
          </p:nvSpPr>
          <p:spPr>
            <a:xfrm>
              <a:off x="2236680" y="3741840"/>
              <a:ext cx="460440" cy="44136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0" y="138"/>
                  </a:moveTo>
                  <a:lnTo>
                    <a:pt x="3" y="107"/>
                  </a:lnTo>
                  <a:lnTo>
                    <a:pt x="12" y="78"/>
                  </a:lnTo>
                  <a:lnTo>
                    <a:pt x="26" y="55"/>
                  </a:lnTo>
                  <a:lnTo>
                    <a:pt x="44" y="34"/>
                  </a:lnTo>
                  <a:lnTo>
                    <a:pt x="66" y="20"/>
                  </a:lnTo>
                  <a:lnTo>
                    <a:pt x="91" y="9"/>
                  </a:lnTo>
                  <a:lnTo>
                    <a:pt x="117" y="3"/>
                  </a:lnTo>
                  <a:lnTo>
                    <a:pt x="145" y="0"/>
                  </a:lnTo>
                  <a:lnTo>
                    <a:pt x="171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4" y="34"/>
                  </a:lnTo>
                  <a:lnTo>
                    <a:pt x="262" y="55"/>
                  </a:lnTo>
                  <a:lnTo>
                    <a:pt x="277" y="78"/>
                  </a:lnTo>
                  <a:lnTo>
                    <a:pt x="286" y="107"/>
                  </a:lnTo>
                  <a:lnTo>
                    <a:pt x="289" y="138"/>
                  </a:lnTo>
                  <a:lnTo>
                    <a:pt x="286" y="171"/>
                  </a:lnTo>
                  <a:lnTo>
                    <a:pt x="277" y="200"/>
                  </a:lnTo>
                  <a:lnTo>
                    <a:pt x="262" y="223"/>
                  </a:lnTo>
                  <a:lnTo>
                    <a:pt x="244" y="242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1" y="275"/>
                  </a:lnTo>
                  <a:lnTo>
                    <a:pt x="145" y="277"/>
                  </a:lnTo>
                  <a:lnTo>
                    <a:pt x="117" y="275"/>
                  </a:lnTo>
                  <a:lnTo>
                    <a:pt x="91" y="269"/>
                  </a:lnTo>
                  <a:lnTo>
                    <a:pt x="66" y="258"/>
                  </a:lnTo>
                  <a:lnTo>
                    <a:pt x="44" y="242"/>
                  </a:lnTo>
                  <a:lnTo>
                    <a:pt x="26" y="223"/>
                  </a:lnTo>
                  <a:lnTo>
                    <a:pt x="12" y="200"/>
                  </a:lnTo>
                  <a:lnTo>
                    <a:pt x="3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46120" y="3808440"/>
              <a:ext cx="262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309760" y="4157640"/>
            <a:ext cx="458640" cy="441360"/>
            <a:chOff x="2309760" y="4157640"/>
            <a:chExt cx="458640" cy="441360"/>
          </a:xfrm>
        </p:grpSpPr>
        <p:sp>
          <p:nvSpPr>
            <p:cNvPr id="387" name=""/>
            <p:cNvSpPr/>
            <p:nvPr/>
          </p:nvSpPr>
          <p:spPr>
            <a:xfrm>
              <a:off x="2309760" y="4157640"/>
              <a:ext cx="458640" cy="441360"/>
            </a:xfrm>
            <a:custGeom>
              <a:avLst/>
              <a:gdLst/>
              <a:ahLst/>
              <a:rect l="l" t="t" r="r" b="b"/>
              <a:pathLst>
                <a:path w="289" h="278">
                  <a:moveTo>
                    <a:pt x="0" y="138"/>
                  </a:moveTo>
                  <a:lnTo>
                    <a:pt x="3" y="107"/>
                  </a:lnTo>
                  <a:lnTo>
                    <a:pt x="12" y="78"/>
                  </a:lnTo>
                  <a:lnTo>
                    <a:pt x="26" y="55"/>
                  </a:lnTo>
                  <a:lnTo>
                    <a:pt x="45" y="35"/>
                  </a:lnTo>
                  <a:lnTo>
                    <a:pt x="66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6" y="9"/>
                  </a:lnTo>
                  <a:lnTo>
                    <a:pt x="221" y="20"/>
                  </a:lnTo>
                  <a:lnTo>
                    <a:pt x="243" y="35"/>
                  </a:lnTo>
                  <a:lnTo>
                    <a:pt x="261" y="55"/>
                  </a:lnTo>
                  <a:lnTo>
                    <a:pt x="276" y="78"/>
                  </a:lnTo>
                  <a:lnTo>
                    <a:pt x="285" y="107"/>
                  </a:lnTo>
                  <a:lnTo>
                    <a:pt x="288" y="138"/>
                  </a:lnTo>
                  <a:lnTo>
                    <a:pt x="285" y="171"/>
                  </a:lnTo>
                  <a:lnTo>
                    <a:pt x="276" y="200"/>
                  </a:lnTo>
                  <a:lnTo>
                    <a:pt x="261" y="224"/>
                  </a:lnTo>
                  <a:lnTo>
                    <a:pt x="243" y="242"/>
                  </a:lnTo>
                  <a:lnTo>
                    <a:pt x="221" y="258"/>
                  </a:lnTo>
                  <a:lnTo>
                    <a:pt x="196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6" y="258"/>
                  </a:lnTo>
                  <a:lnTo>
                    <a:pt x="45" y="242"/>
                  </a:lnTo>
                  <a:lnTo>
                    <a:pt x="26" y="224"/>
                  </a:lnTo>
                  <a:lnTo>
                    <a:pt x="12" y="200"/>
                  </a:lnTo>
                  <a:lnTo>
                    <a:pt x="3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19200" y="4224240"/>
              <a:ext cx="260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197840" y="4068720"/>
            <a:ext cx="460440" cy="441360"/>
            <a:chOff x="7197840" y="4068720"/>
            <a:chExt cx="460440" cy="441360"/>
          </a:xfrm>
        </p:grpSpPr>
        <p:sp>
          <p:nvSpPr>
            <p:cNvPr id="390" name=""/>
            <p:cNvSpPr/>
            <p:nvPr/>
          </p:nvSpPr>
          <p:spPr>
            <a:xfrm>
              <a:off x="7197840" y="4068720"/>
              <a:ext cx="460440" cy="44136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0" y="138"/>
                  </a:moveTo>
                  <a:lnTo>
                    <a:pt x="2" y="107"/>
                  </a:lnTo>
                  <a:lnTo>
                    <a:pt x="11" y="79"/>
                  </a:lnTo>
                  <a:lnTo>
                    <a:pt x="25" y="55"/>
                  </a:lnTo>
                  <a:lnTo>
                    <a:pt x="44" y="35"/>
                  </a:lnTo>
                  <a:lnTo>
                    <a:pt x="65" y="20"/>
                  </a:lnTo>
                  <a:lnTo>
                    <a:pt x="90" y="10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10"/>
                  </a:lnTo>
                  <a:lnTo>
                    <a:pt x="221" y="20"/>
                  </a:lnTo>
                  <a:lnTo>
                    <a:pt x="243" y="35"/>
                  </a:lnTo>
                  <a:lnTo>
                    <a:pt x="261" y="55"/>
                  </a:lnTo>
                  <a:lnTo>
                    <a:pt x="276" y="79"/>
                  </a:lnTo>
                  <a:lnTo>
                    <a:pt x="285" y="107"/>
                  </a:lnTo>
                  <a:lnTo>
                    <a:pt x="289" y="138"/>
                  </a:lnTo>
                  <a:lnTo>
                    <a:pt x="285" y="172"/>
                  </a:lnTo>
                  <a:lnTo>
                    <a:pt x="276" y="200"/>
                  </a:lnTo>
                  <a:lnTo>
                    <a:pt x="261" y="224"/>
                  </a:lnTo>
                  <a:lnTo>
                    <a:pt x="243" y="242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4"/>
                  </a:lnTo>
                  <a:lnTo>
                    <a:pt x="11" y="200"/>
                  </a:lnTo>
                  <a:lnTo>
                    <a:pt x="2" y="172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05840" y="4137120"/>
              <a:ext cx="262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602240" y="4476600"/>
            <a:ext cx="461880" cy="441360"/>
            <a:chOff x="4602240" y="4476600"/>
            <a:chExt cx="461880" cy="441360"/>
          </a:xfrm>
        </p:grpSpPr>
        <p:sp>
          <p:nvSpPr>
            <p:cNvPr id="393" name=""/>
            <p:cNvSpPr/>
            <p:nvPr/>
          </p:nvSpPr>
          <p:spPr>
            <a:xfrm>
              <a:off x="4602240" y="4476600"/>
              <a:ext cx="461880" cy="441360"/>
            </a:xfrm>
            <a:custGeom>
              <a:avLst/>
              <a:gdLst/>
              <a:ahLst/>
              <a:rect l="l" t="t" r="r" b="b"/>
              <a:pathLst>
                <a:path w="291" h="278">
                  <a:moveTo>
                    <a:pt x="0" y="138"/>
                  </a:moveTo>
                  <a:lnTo>
                    <a:pt x="2" y="107"/>
                  </a:lnTo>
                  <a:lnTo>
                    <a:pt x="12" y="78"/>
                  </a:lnTo>
                  <a:lnTo>
                    <a:pt x="25" y="55"/>
                  </a:lnTo>
                  <a:lnTo>
                    <a:pt x="45" y="35"/>
                  </a:lnTo>
                  <a:lnTo>
                    <a:pt x="66" y="20"/>
                  </a:lnTo>
                  <a:lnTo>
                    <a:pt x="91" y="9"/>
                  </a:lnTo>
                  <a:lnTo>
                    <a:pt x="118" y="3"/>
                  </a:lnTo>
                  <a:lnTo>
                    <a:pt x="145" y="0"/>
                  </a:lnTo>
                  <a:lnTo>
                    <a:pt x="171" y="3"/>
                  </a:lnTo>
                  <a:lnTo>
                    <a:pt x="198" y="9"/>
                  </a:lnTo>
                  <a:lnTo>
                    <a:pt x="222" y="20"/>
                  </a:lnTo>
                  <a:lnTo>
                    <a:pt x="244" y="35"/>
                  </a:lnTo>
                  <a:lnTo>
                    <a:pt x="263" y="55"/>
                  </a:lnTo>
                  <a:lnTo>
                    <a:pt x="277" y="78"/>
                  </a:lnTo>
                  <a:lnTo>
                    <a:pt x="286" y="107"/>
                  </a:lnTo>
                  <a:lnTo>
                    <a:pt x="290" y="138"/>
                  </a:lnTo>
                  <a:lnTo>
                    <a:pt x="286" y="171"/>
                  </a:lnTo>
                  <a:lnTo>
                    <a:pt x="277" y="200"/>
                  </a:lnTo>
                  <a:lnTo>
                    <a:pt x="263" y="224"/>
                  </a:lnTo>
                  <a:lnTo>
                    <a:pt x="244" y="242"/>
                  </a:lnTo>
                  <a:lnTo>
                    <a:pt x="222" y="258"/>
                  </a:lnTo>
                  <a:lnTo>
                    <a:pt x="198" y="269"/>
                  </a:lnTo>
                  <a:lnTo>
                    <a:pt x="171" y="275"/>
                  </a:lnTo>
                  <a:lnTo>
                    <a:pt x="145" y="277"/>
                  </a:lnTo>
                  <a:lnTo>
                    <a:pt x="118" y="275"/>
                  </a:lnTo>
                  <a:lnTo>
                    <a:pt x="91" y="269"/>
                  </a:lnTo>
                  <a:lnTo>
                    <a:pt x="66" y="258"/>
                  </a:lnTo>
                  <a:lnTo>
                    <a:pt x="45" y="242"/>
                  </a:lnTo>
                  <a:lnTo>
                    <a:pt x="25" y="224"/>
                  </a:lnTo>
                  <a:lnTo>
                    <a:pt x="12" y="200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11680" y="4545000"/>
              <a:ext cx="261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229360" y="4135320"/>
            <a:ext cx="458640" cy="441360"/>
            <a:chOff x="5229360" y="4135320"/>
            <a:chExt cx="458640" cy="441360"/>
          </a:xfrm>
        </p:grpSpPr>
        <p:sp>
          <p:nvSpPr>
            <p:cNvPr id="396" name=""/>
            <p:cNvSpPr/>
            <p:nvPr/>
          </p:nvSpPr>
          <p:spPr>
            <a:xfrm>
              <a:off x="5229360" y="4135320"/>
              <a:ext cx="458640" cy="441360"/>
            </a:xfrm>
            <a:custGeom>
              <a:avLst/>
              <a:gdLst/>
              <a:ahLst/>
              <a:rect l="l" t="t" r="r" b="b"/>
              <a:pathLst>
                <a:path w="289" h="278">
                  <a:moveTo>
                    <a:pt x="0" y="138"/>
                  </a:moveTo>
                  <a:lnTo>
                    <a:pt x="2" y="107"/>
                  </a:lnTo>
                  <a:lnTo>
                    <a:pt x="11" y="78"/>
                  </a:lnTo>
                  <a:lnTo>
                    <a:pt x="25" y="55"/>
                  </a:lnTo>
                  <a:lnTo>
                    <a:pt x="44" y="35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6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6" y="9"/>
                  </a:lnTo>
                  <a:lnTo>
                    <a:pt x="221" y="20"/>
                  </a:lnTo>
                  <a:lnTo>
                    <a:pt x="243" y="35"/>
                  </a:lnTo>
                  <a:lnTo>
                    <a:pt x="261" y="55"/>
                  </a:lnTo>
                  <a:lnTo>
                    <a:pt x="276" y="78"/>
                  </a:lnTo>
                  <a:lnTo>
                    <a:pt x="285" y="107"/>
                  </a:lnTo>
                  <a:lnTo>
                    <a:pt x="288" y="138"/>
                  </a:lnTo>
                  <a:lnTo>
                    <a:pt x="285" y="172"/>
                  </a:lnTo>
                  <a:lnTo>
                    <a:pt x="276" y="200"/>
                  </a:lnTo>
                  <a:lnTo>
                    <a:pt x="261" y="224"/>
                  </a:lnTo>
                  <a:lnTo>
                    <a:pt x="243" y="242"/>
                  </a:lnTo>
                  <a:lnTo>
                    <a:pt x="221" y="258"/>
                  </a:lnTo>
                  <a:lnTo>
                    <a:pt x="196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6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4"/>
                  </a:lnTo>
                  <a:lnTo>
                    <a:pt x="11" y="200"/>
                  </a:lnTo>
                  <a:lnTo>
                    <a:pt x="2" y="172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37000" y="4203720"/>
              <a:ext cx="2617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046840" y="4549680"/>
            <a:ext cx="460080" cy="441360"/>
            <a:chOff x="5046840" y="4549680"/>
            <a:chExt cx="460080" cy="441360"/>
          </a:xfrm>
        </p:grpSpPr>
        <p:sp>
          <p:nvSpPr>
            <p:cNvPr id="399" name=""/>
            <p:cNvSpPr/>
            <p:nvPr/>
          </p:nvSpPr>
          <p:spPr>
            <a:xfrm>
              <a:off x="5046840" y="4549680"/>
              <a:ext cx="460080" cy="44136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0" y="138"/>
                  </a:moveTo>
                  <a:lnTo>
                    <a:pt x="2" y="107"/>
                  </a:lnTo>
                  <a:lnTo>
                    <a:pt x="11" y="78"/>
                  </a:lnTo>
                  <a:lnTo>
                    <a:pt x="25" y="55"/>
                  </a:lnTo>
                  <a:lnTo>
                    <a:pt x="44" y="35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3" y="35"/>
                  </a:lnTo>
                  <a:lnTo>
                    <a:pt x="261" y="55"/>
                  </a:lnTo>
                  <a:lnTo>
                    <a:pt x="276" y="78"/>
                  </a:lnTo>
                  <a:lnTo>
                    <a:pt x="285" y="107"/>
                  </a:lnTo>
                  <a:lnTo>
                    <a:pt x="289" y="138"/>
                  </a:lnTo>
                  <a:lnTo>
                    <a:pt x="285" y="172"/>
                  </a:lnTo>
                  <a:lnTo>
                    <a:pt x="276" y="200"/>
                  </a:lnTo>
                  <a:lnTo>
                    <a:pt x="261" y="224"/>
                  </a:lnTo>
                  <a:lnTo>
                    <a:pt x="243" y="242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4"/>
                  </a:lnTo>
                  <a:lnTo>
                    <a:pt x="11" y="200"/>
                  </a:lnTo>
                  <a:lnTo>
                    <a:pt x="2" y="172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54480" y="4618080"/>
              <a:ext cx="2617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520040" y="4383000"/>
            <a:ext cx="458640" cy="441360"/>
            <a:chOff x="7520040" y="4383000"/>
            <a:chExt cx="458640" cy="441360"/>
          </a:xfrm>
        </p:grpSpPr>
        <p:sp>
          <p:nvSpPr>
            <p:cNvPr id="402" name=""/>
            <p:cNvSpPr/>
            <p:nvPr/>
          </p:nvSpPr>
          <p:spPr>
            <a:xfrm>
              <a:off x="7520040" y="4383000"/>
              <a:ext cx="458640" cy="441360"/>
            </a:xfrm>
            <a:custGeom>
              <a:avLst/>
              <a:gdLst/>
              <a:ahLst/>
              <a:rect l="l" t="t" r="r" b="b"/>
              <a:pathLst>
                <a:path w="289" h="278">
                  <a:moveTo>
                    <a:pt x="0" y="138"/>
                  </a:moveTo>
                  <a:lnTo>
                    <a:pt x="2" y="107"/>
                  </a:lnTo>
                  <a:lnTo>
                    <a:pt x="11" y="78"/>
                  </a:lnTo>
                  <a:lnTo>
                    <a:pt x="25" y="54"/>
                  </a:lnTo>
                  <a:lnTo>
                    <a:pt x="44" y="34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69" y="3"/>
                  </a:lnTo>
                  <a:lnTo>
                    <a:pt x="196" y="9"/>
                  </a:lnTo>
                  <a:lnTo>
                    <a:pt x="220" y="20"/>
                  </a:lnTo>
                  <a:lnTo>
                    <a:pt x="242" y="34"/>
                  </a:lnTo>
                  <a:lnTo>
                    <a:pt x="261" y="54"/>
                  </a:lnTo>
                  <a:lnTo>
                    <a:pt x="275" y="78"/>
                  </a:lnTo>
                  <a:lnTo>
                    <a:pt x="284" y="107"/>
                  </a:lnTo>
                  <a:lnTo>
                    <a:pt x="288" y="138"/>
                  </a:lnTo>
                  <a:lnTo>
                    <a:pt x="284" y="171"/>
                  </a:lnTo>
                  <a:lnTo>
                    <a:pt x="275" y="200"/>
                  </a:lnTo>
                  <a:lnTo>
                    <a:pt x="261" y="223"/>
                  </a:lnTo>
                  <a:lnTo>
                    <a:pt x="242" y="242"/>
                  </a:lnTo>
                  <a:lnTo>
                    <a:pt x="220" y="258"/>
                  </a:lnTo>
                  <a:lnTo>
                    <a:pt x="196" y="269"/>
                  </a:lnTo>
                  <a:lnTo>
                    <a:pt x="169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1" y="200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7680" y="4451400"/>
              <a:ext cx="26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027920" y="3662280"/>
            <a:ext cx="460440" cy="439920"/>
            <a:chOff x="7027920" y="3662280"/>
            <a:chExt cx="460440" cy="439920"/>
          </a:xfrm>
        </p:grpSpPr>
        <p:sp>
          <p:nvSpPr>
            <p:cNvPr id="405" name=""/>
            <p:cNvSpPr/>
            <p:nvPr/>
          </p:nvSpPr>
          <p:spPr>
            <a:xfrm>
              <a:off x="7027920" y="3662280"/>
              <a:ext cx="460440" cy="439920"/>
            </a:xfrm>
            <a:custGeom>
              <a:avLst/>
              <a:gdLst/>
              <a:ahLst/>
              <a:rect l="l" t="t" r="r" b="b"/>
              <a:pathLst>
                <a:path w="290" h="277">
                  <a:moveTo>
                    <a:pt x="0" y="138"/>
                  </a:moveTo>
                  <a:lnTo>
                    <a:pt x="3" y="106"/>
                  </a:lnTo>
                  <a:lnTo>
                    <a:pt x="12" y="78"/>
                  </a:lnTo>
                  <a:lnTo>
                    <a:pt x="26" y="54"/>
                  </a:lnTo>
                  <a:lnTo>
                    <a:pt x="44" y="34"/>
                  </a:lnTo>
                  <a:lnTo>
                    <a:pt x="66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4" y="34"/>
                  </a:lnTo>
                  <a:lnTo>
                    <a:pt x="262" y="54"/>
                  </a:lnTo>
                  <a:lnTo>
                    <a:pt x="276" y="78"/>
                  </a:lnTo>
                  <a:lnTo>
                    <a:pt x="285" y="106"/>
                  </a:lnTo>
                  <a:lnTo>
                    <a:pt x="289" y="138"/>
                  </a:lnTo>
                  <a:lnTo>
                    <a:pt x="285" y="171"/>
                  </a:lnTo>
                  <a:lnTo>
                    <a:pt x="276" y="200"/>
                  </a:lnTo>
                  <a:lnTo>
                    <a:pt x="262" y="223"/>
                  </a:lnTo>
                  <a:lnTo>
                    <a:pt x="244" y="242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0" y="275"/>
                  </a:lnTo>
                  <a:lnTo>
                    <a:pt x="144" y="276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6" y="258"/>
                  </a:lnTo>
                  <a:lnTo>
                    <a:pt x="44" y="242"/>
                  </a:lnTo>
                  <a:lnTo>
                    <a:pt x="26" y="223"/>
                  </a:lnTo>
                  <a:lnTo>
                    <a:pt x="12" y="200"/>
                  </a:lnTo>
                  <a:lnTo>
                    <a:pt x="3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37720" y="3728880"/>
              <a:ext cx="2602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649920" y="3400560"/>
            <a:ext cx="461880" cy="442800"/>
            <a:chOff x="6649920" y="3400560"/>
            <a:chExt cx="461880" cy="442800"/>
          </a:xfrm>
        </p:grpSpPr>
        <p:sp>
          <p:nvSpPr>
            <p:cNvPr id="408" name=""/>
            <p:cNvSpPr/>
            <p:nvPr/>
          </p:nvSpPr>
          <p:spPr>
            <a:xfrm>
              <a:off x="6649920" y="3400560"/>
              <a:ext cx="461880" cy="442800"/>
            </a:xfrm>
            <a:custGeom>
              <a:avLst/>
              <a:gdLst/>
              <a:ahLst/>
              <a:rect l="l" t="t" r="r" b="b"/>
              <a:pathLst>
                <a:path w="291" h="279">
                  <a:moveTo>
                    <a:pt x="0" y="139"/>
                  </a:moveTo>
                  <a:lnTo>
                    <a:pt x="2" y="107"/>
                  </a:lnTo>
                  <a:lnTo>
                    <a:pt x="11" y="79"/>
                  </a:lnTo>
                  <a:lnTo>
                    <a:pt x="25" y="55"/>
                  </a:lnTo>
                  <a:lnTo>
                    <a:pt x="44" y="35"/>
                  </a:lnTo>
                  <a:lnTo>
                    <a:pt x="66" y="21"/>
                  </a:lnTo>
                  <a:lnTo>
                    <a:pt x="91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1" y="3"/>
                  </a:lnTo>
                  <a:lnTo>
                    <a:pt x="198" y="9"/>
                  </a:lnTo>
                  <a:lnTo>
                    <a:pt x="222" y="21"/>
                  </a:lnTo>
                  <a:lnTo>
                    <a:pt x="244" y="35"/>
                  </a:lnTo>
                  <a:lnTo>
                    <a:pt x="262" y="55"/>
                  </a:lnTo>
                  <a:lnTo>
                    <a:pt x="277" y="79"/>
                  </a:lnTo>
                  <a:lnTo>
                    <a:pt x="286" y="107"/>
                  </a:lnTo>
                  <a:lnTo>
                    <a:pt x="290" y="139"/>
                  </a:lnTo>
                  <a:lnTo>
                    <a:pt x="286" y="172"/>
                  </a:lnTo>
                  <a:lnTo>
                    <a:pt x="277" y="200"/>
                  </a:lnTo>
                  <a:lnTo>
                    <a:pt x="262" y="224"/>
                  </a:lnTo>
                  <a:lnTo>
                    <a:pt x="244" y="244"/>
                  </a:lnTo>
                  <a:lnTo>
                    <a:pt x="222" y="260"/>
                  </a:lnTo>
                  <a:lnTo>
                    <a:pt x="198" y="271"/>
                  </a:lnTo>
                  <a:lnTo>
                    <a:pt x="171" y="277"/>
                  </a:lnTo>
                  <a:lnTo>
                    <a:pt x="144" y="278"/>
                  </a:lnTo>
                  <a:lnTo>
                    <a:pt x="117" y="277"/>
                  </a:lnTo>
                  <a:lnTo>
                    <a:pt x="91" y="271"/>
                  </a:lnTo>
                  <a:lnTo>
                    <a:pt x="66" y="260"/>
                  </a:lnTo>
                  <a:lnTo>
                    <a:pt x="44" y="244"/>
                  </a:lnTo>
                  <a:lnTo>
                    <a:pt x="25" y="224"/>
                  </a:lnTo>
                  <a:lnTo>
                    <a:pt x="11" y="200"/>
                  </a:lnTo>
                  <a:lnTo>
                    <a:pt x="2" y="172"/>
                  </a:lnTo>
                  <a:lnTo>
                    <a:pt x="0" y="139"/>
                  </a:lnTo>
                  <a:lnTo>
                    <a:pt x="0" y="139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59360" y="3468600"/>
              <a:ext cx="262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6213600" y="3411360"/>
            <a:ext cx="460080" cy="439920"/>
            <a:chOff x="6213600" y="3411360"/>
            <a:chExt cx="460080" cy="439920"/>
          </a:xfrm>
        </p:grpSpPr>
        <p:sp>
          <p:nvSpPr>
            <p:cNvPr id="411" name=""/>
            <p:cNvSpPr/>
            <p:nvPr/>
          </p:nvSpPr>
          <p:spPr>
            <a:xfrm>
              <a:off x="6213600" y="3411360"/>
              <a:ext cx="460080" cy="439920"/>
            </a:xfrm>
            <a:custGeom>
              <a:avLst/>
              <a:gdLst/>
              <a:ahLst/>
              <a:rect l="l" t="t" r="r" b="b"/>
              <a:pathLst>
                <a:path w="290" h="277">
                  <a:moveTo>
                    <a:pt x="0" y="138"/>
                  </a:moveTo>
                  <a:lnTo>
                    <a:pt x="2" y="106"/>
                  </a:lnTo>
                  <a:lnTo>
                    <a:pt x="11" y="78"/>
                  </a:lnTo>
                  <a:lnTo>
                    <a:pt x="25" y="54"/>
                  </a:lnTo>
                  <a:lnTo>
                    <a:pt x="44" y="34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3" y="34"/>
                  </a:lnTo>
                  <a:lnTo>
                    <a:pt x="261" y="54"/>
                  </a:lnTo>
                  <a:lnTo>
                    <a:pt x="276" y="78"/>
                  </a:lnTo>
                  <a:lnTo>
                    <a:pt x="285" y="106"/>
                  </a:lnTo>
                  <a:lnTo>
                    <a:pt x="289" y="138"/>
                  </a:lnTo>
                  <a:lnTo>
                    <a:pt x="285" y="171"/>
                  </a:lnTo>
                  <a:lnTo>
                    <a:pt x="276" y="200"/>
                  </a:lnTo>
                  <a:lnTo>
                    <a:pt x="261" y="223"/>
                  </a:lnTo>
                  <a:lnTo>
                    <a:pt x="243" y="242"/>
                  </a:lnTo>
                  <a:lnTo>
                    <a:pt x="221" y="257"/>
                  </a:lnTo>
                  <a:lnTo>
                    <a:pt x="197" y="268"/>
                  </a:lnTo>
                  <a:lnTo>
                    <a:pt x="170" y="275"/>
                  </a:lnTo>
                  <a:lnTo>
                    <a:pt x="144" y="276"/>
                  </a:lnTo>
                  <a:lnTo>
                    <a:pt x="117" y="275"/>
                  </a:lnTo>
                  <a:lnTo>
                    <a:pt x="90" y="268"/>
                  </a:lnTo>
                  <a:lnTo>
                    <a:pt x="65" y="257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1" y="200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21240" y="3478320"/>
              <a:ext cx="2617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730840" y="3443400"/>
            <a:ext cx="460440" cy="441360"/>
            <a:chOff x="5730840" y="3443400"/>
            <a:chExt cx="460440" cy="441360"/>
          </a:xfrm>
        </p:grpSpPr>
        <p:sp>
          <p:nvSpPr>
            <p:cNvPr id="414" name=""/>
            <p:cNvSpPr/>
            <p:nvPr/>
          </p:nvSpPr>
          <p:spPr>
            <a:xfrm>
              <a:off x="5730840" y="3443400"/>
              <a:ext cx="460440" cy="44136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0" y="138"/>
                  </a:moveTo>
                  <a:lnTo>
                    <a:pt x="3" y="107"/>
                  </a:lnTo>
                  <a:lnTo>
                    <a:pt x="12" y="78"/>
                  </a:lnTo>
                  <a:lnTo>
                    <a:pt x="26" y="55"/>
                  </a:lnTo>
                  <a:lnTo>
                    <a:pt x="45" y="35"/>
                  </a:lnTo>
                  <a:lnTo>
                    <a:pt x="66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4" y="35"/>
                  </a:lnTo>
                  <a:lnTo>
                    <a:pt x="262" y="55"/>
                  </a:lnTo>
                  <a:lnTo>
                    <a:pt x="276" y="78"/>
                  </a:lnTo>
                  <a:lnTo>
                    <a:pt x="286" y="107"/>
                  </a:lnTo>
                  <a:lnTo>
                    <a:pt x="289" y="138"/>
                  </a:lnTo>
                  <a:lnTo>
                    <a:pt x="286" y="171"/>
                  </a:lnTo>
                  <a:lnTo>
                    <a:pt x="276" y="200"/>
                  </a:lnTo>
                  <a:lnTo>
                    <a:pt x="262" y="224"/>
                  </a:lnTo>
                  <a:lnTo>
                    <a:pt x="244" y="243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6" y="258"/>
                  </a:lnTo>
                  <a:lnTo>
                    <a:pt x="45" y="243"/>
                  </a:lnTo>
                  <a:lnTo>
                    <a:pt x="26" y="224"/>
                  </a:lnTo>
                  <a:lnTo>
                    <a:pt x="12" y="200"/>
                  </a:lnTo>
                  <a:lnTo>
                    <a:pt x="3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40280" y="3511440"/>
              <a:ext cx="2602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84880" y="3711600"/>
            <a:ext cx="463320" cy="441360"/>
            <a:chOff x="5384880" y="3711600"/>
            <a:chExt cx="463320" cy="441360"/>
          </a:xfrm>
        </p:grpSpPr>
        <p:sp>
          <p:nvSpPr>
            <p:cNvPr id="417" name=""/>
            <p:cNvSpPr/>
            <p:nvPr/>
          </p:nvSpPr>
          <p:spPr>
            <a:xfrm>
              <a:off x="5384880" y="3711600"/>
              <a:ext cx="463320" cy="441360"/>
            </a:xfrm>
            <a:custGeom>
              <a:avLst/>
              <a:gdLst/>
              <a:ahLst/>
              <a:rect l="l" t="t" r="r" b="b"/>
              <a:pathLst>
                <a:path w="292" h="278">
                  <a:moveTo>
                    <a:pt x="0" y="138"/>
                  </a:moveTo>
                  <a:lnTo>
                    <a:pt x="3" y="107"/>
                  </a:lnTo>
                  <a:lnTo>
                    <a:pt x="12" y="78"/>
                  </a:lnTo>
                  <a:lnTo>
                    <a:pt x="26" y="55"/>
                  </a:lnTo>
                  <a:lnTo>
                    <a:pt x="45" y="35"/>
                  </a:lnTo>
                  <a:lnTo>
                    <a:pt x="66" y="20"/>
                  </a:lnTo>
                  <a:lnTo>
                    <a:pt x="91" y="9"/>
                  </a:lnTo>
                  <a:lnTo>
                    <a:pt x="118" y="3"/>
                  </a:lnTo>
                  <a:lnTo>
                    <a:pt x="145" y="0"/>
                  </a:lnTo>
                  <a:lnTo>
                    <a:pt x="172" y="3"/>
                  </a:lnTo>
                  <a:lnTo>
                    <a:pt x="198" y="9"/>
                  </a:lnTo>
                  <a:lnTo>
                    <a:pt x="223" y="20"/>
                  </a:lnTo>
                  <a:lnTo>
                    <a:pt x="245" y="35"/>
                  </a:lnTo>
                  <a:lnTo>
                    <a:pt x="263" y="55"/>
                  </a:lnTo>
                  <a:lnTo>
                    <a:pt x="278" y="78"/>
                  </a:lnTo>
                  <a:lnTo>
                    <a:pt x="287" y="107"/>
                  </a:lnTo>
                  <a:lnTo>
                    <a:pt x="291" y="138"/>
                  </a:lnTo>
                  <a:lnTo>
                    <a:pt x="287" y="172"/>
                  </a:lnTo>
                  <a:lnTo>
                    <a:pt x="278" y="200"/>
                  </a:lnTo>
                  <a:lnTo>
                    <a:pt x="263" y="224"/>
                  </a:lnTo>
                  <a:lnTo>
                    <a:pt x="245" y="242"/>
                  </a:lnTo>
                  <a:lnTo>
                    <a:pt x="223" y="258"/>
                  </a:lnTo>
                  <a:lnTo>
                    <a:pt x="198" y="269"/>
                  </a:lnTo>
                  <a:lnTo>
                    <a:pt x="172" y="275"/>
                  </a:lnTo>
                  <a:lnTo>
                    <a:pt x="145" y="277"/>
                  </a:lnTo>
                  <a:lnTo>
                    <a:pt x="118" y="275"/>
                  </a:lnTo>
                  <a:lnTo>
                    <a:pt x="91" y="269"/>
                  </a:lnTo>
                  <a:lnTo>
                    <a:pt x="66" y="258"/>
                  </a:lnTo>
                  <a:lnTo>
                    <a:pt x="45" y="242"/>
                  </a:lnTo>
                  <a:lnTo>
                    <a:pt x="26" y="224"/>
                  </a:lnTo>
                  <a:lnTo>
                    <a:pt x="12" y="200"/>
                  </a:lnTo>
                  <a:lnTo>
                    <a:pt x="3" y="172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94320" y="3778200"/>
              <a:ext cx="2631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7978680" y="4410000"/>
            <a:ext cx="461880" cy="441360"/>
            <a:chOff x="7978680" y="4410000"/>
            <a:chExt cx="461880" cy="441360"/>
          </a:xfrm>
        </p:grpSpPr>
        <p:sp>
          <p:nvSpPr>
            <p:cNvPr id="420" name=""/>
            <p:cNvSpPr/>
            <p:nvPr/>
          </p:nvSpPr>
          <p:spPr>
            <a:xfrm>
              <a:off x="7978680" y="4410000"/>
              <a:ext cx="461880" cy="441360"/>
            </a:xfrm>
            <a:custGeom>
              <a:avLst/>
              <a:gdLst/>
              <a:ahLst/>
              <a:rect l="l" t="t" r="r" b="b"/>
              <a:pathLst>
                <a:path w="291" h="278">
                  <a:moveTo>
                    <a:pt x="0" y="138"/>
                  </a:moveTo>
                  <a:lnTo>
                    <a:pt x="2" y="107"/>
                  </a:lnTo>
                  <a:lnTo>
                    <a:pt x="12" y="78"/>
                  </a:lnTo>
                  <a:lnTo>
                    <a:pt x="26" y="55"/>
                  </a:lnTo>
                  <a:lnTo>
                    <a:pt x="45" y="35"/>
                  </a:lnTo>
                  <a:lnTo>
                    <a:pt x="66" y="20"/>
                  </a:lnTo>
                  <a:lnTo>
                    <a:pt x="91" y="10"/>
                  </a:lnTo>
                  <a:lnTo>
                    <a:pt x="118" y="3"/>
                  </a:lnTo>
                  <a:lnTo>
                    <a:pt x="145" y="0"/>
                  </a:lnTo>
                  <a:lnTo>
                    <a:pt x="171" y="3"/>
                  </a:lnTo>
                  <a:lnTo>
                    <a:pt x="198" y="10"/>
                  </a:lnTo>
                  <a:lnTo>
                    <a:pt x="222" y="20"/>
                  </a:lnTo>
                  <a:lnTo>
                    <a:pt x="244" y="35"/>
                  </a:lnTo>
                  <a:lnTo>
                    <a:pt x="263" y="55"/>
                  </a:lnTo>
                  <a:lnTo>
                    <a:pt x="277" y="78"/>
                  </a:lnTo>
                  <a:lnTo>
                    <a:pt x="286" y="107"/>
                  </a:lnTo>
                  <a:lnTo>
                    <a:pt x="290" y="138"/>
                  </a:lnTo>
                  <a:lnTo>
                    <a:pt x="286" y="172"/>
                  </a:lnTo>
                  <a:lnTo>
                    <a:pt x="277" y="200"/>
                  </a:lnTo>
                  <a:lnTo>
                    <a:pt x="263" y="224"/>
                  </a:lnTo>
                  <a:lnTo>
                    <a:pt x="244" y="243"/>
                  </a:lnTo>
                  <a:lnTo>
                    <a:pt x="222" y="258"/>
                  </a:lnTo>
                  <a:lnTo>
                    <a:pt x="198" y="269"/>
                  </a:lnTo>
                  <a:lnTo>
                    <a:pt x="171" y="275"/>
                  </a:lnTo>
                  <a:lnTo>
                    <a:pt x="145" y="277"/>
                  </a:lnTo>
                  <a:lnTo>
                    <a:pt x="118" y="275"/>
                  </a:lnTo>
                  <a:lnTo>
                    <a:pt x="91" y="269"/>
                  </a:lnTo>
                  <a:lnTo>
                    <a:pt x="66" y="258"/>
                  </a:lnTo>
                  <a:lnTo>
                    <a:pt x="45" y="243"/>
                  </a:lnTo>
                  <a:lnTo>
                    <a:pt x="26" y="224"/>
                  </a:lnTo>
                  <a:lnTo>
                    <a:pt x="12" y="200"/>
                  </a:lnTo>
                  <a:lnTo>
                    <a:pt x="2" y="172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088120" y="4478400"/>
              <a:ext cx="262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8454960" y="4376880"/>
            <a:ext cx="463320" cy="444240"/>
            <a:chOff x="8454960" y="4376880"/>
            <a:chExt cx="463320" cy="444240"/>
          </a:xfrm>
        </p:grpSpPr>
        <p:sp>
          <p:nvSpPr>
            <p:cNvPr id="423" name=""/>
            <p:cNvSpPr/>
            <p:nvPr/>
          </p:nvSpPr>
          <p:spPr>
            <a:xfrm>
              <a:off x="8454960" y="4376880"/>
              <a:ext cx="463320" cy="444240"/>
            </a:xfrm>
            <a:custGeom>
              <a:avLst/>
              <a:gdLst/>
              <a:ahLst/>
              <a:rect l="l" t="t" r="r" b="b"/>
              <a:pathLst>
                <a:path w="292" h="280">
                  <a:moveTo>
                    <a:pt x="0" y="139"/>
                  </a:moveTo>
                  <a:lnTo>
                    <a:pt x="3" y="107"/>
                  </a:lnTo>
                  <a:lnTo>
                    <a:pt x="12" y="79"/>
                  </a:lnTo>
                  <a:lnTo>
                    <a:pt x="26" y="55"/>
                  </a:lnTo>
                  <a:lnTo>
                    <a:pt x="46" y="35"/>
                  </a:lnTo>
                  <a:lnTo>
                    <a:pt x="67" y="21"/>
                  </a:lnTo>
                  <a:lnTo>
                    <a:pt x="92" y="9"/>
                  </a:lnTo>
                  <a:lnTo>
                    <a:pt x="118" y="3"/>
                  </a:lnTo>
                  <a:lnTo>
                    <a:pt x="146" y="0"/>
                  </a:lnTo>
                  <a:lnTo>
                    <a:pt x="172" y="3"/>
                  </a:lnTo>
                  <a:lnTo>
                    <a:pt x="199" y="9"/>
                  </a:lnTo>
                  <a:lnTo>
                    <a:pt x="223" y="21"/>
                  </a:lnTo>
                  <a:lnTo>
                    <a:pt x="246" y="35"/>
                  </a:lnTo>
                  <a:lnTo>
                    <a:pt x="264" y="55"/>
                  </a:lnTo>
                  <a:lnTo>
                    <a:pt x="278" y="79"/>
                  </a:lnTo>
                  <a:lnTo>
                    <a:pt x="288" y="107"/>
                  </a:lnTo>
                  <a:lnTo>
                    <a:pt x="291" y="139"/>
                  </a:lnTo>
                  <a:lnTo>
                    <a:pt x="288" y="172"/>
                  </a:lnTo>
                  <a:lnTo>
                    <a:pt x="278" y="201"/>
                  </a:lnTo>
                  <a:lnTo>
                    <a:pt x="264" y="225"/>
                  </a:lnTo>
                  <a:lnTo>
                    <a:pt x="246" y="244"/>
                  </a:lnTo>
                  <a:lnTo>
                    <a:pt x="223" y="260"/>
                  </a:lnTo>
                  <a:lnTo>
                    <a:pt x="199" y="271"/>
                  </a:lnTo>
                  <a:lnTo>
                    <a:pt x="172" y="277"/>
                  </a:lnTo>
                  <a:lnTo>
                    <a:pt x="146" y="279"/>
                  </a:lnTo>
                  <a:lnTo>
                    <a:pt x="118" y="277"/>
                  </a:lnTo>
                  <a:lnTo>
                    <a:pt x="92" y="271"/>
                  </a:lnTo>
                  <a:lnTo>
                    <a:pt x="67" y="260"/>
                  </a:lnTo>
                  <a:lnTo>
                    <a:pt x="46" y="244"/>
                  </a:lnTo>
                  <a:lnTo>
                    <a:pt x="26" y="225"/>
                  </a:lnTo>
                  <a:lnTo>
                    <a:pt x="12" y="201"/>
                  </a:lnTo>
                  <a:lnTo>
                    <a:pt x="3" y="172"/>
                  </a:lnTo>
                  <a:lnTo>
                    <a:pt x="0" y="139"/>
                  </a:lnTo>
                  <a:lnTo>
                    <a:pt x="0" y="139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564400" y="4444920"/>
              <a:ext cx="2635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382840" y="4587840"/>
            <a:ext cx="460080" cy="441360"/>
            <a:chOff x="2382840" y="4587840"/>
            <a:chExt cx="460080" cy="441360"/>
          </a:xfrm>
        </p:grpSpPr>
        <p:sp>
          <p:nvSpPr>
            <p:cNvPr id="426" name=""/>
            <p:cNvSpPr/>
            <p:nvPr/>
          </p:nvSpPr>
          <p:spPr>
            <a:xfrm>
              <a:off x="2382840" y="4587840"/>
              <a:ext cx="460080" cy="44136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0" y="139"/>
                  </a:moveTo>
                  <a:lnTo>
                    <a:pt x="2" y="107"/>
                  </a:lnTo>
                  <a:lnTo>
                    <a:pt x="11" y="78"/>
                  </a:lnTo>
                  <a:lnTo>
                    <a:pt x="25" y="55"/>
                  </a:lnTo>
                  <a:lnTo>
                    <a:pt x="44" y="35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4"/>
                  </a:lnTo>
                  <a:lnTo>
                    <a:pt x="144" y="0"/>
                  </a:lnTo>
                  <a:lnTo>
                    <a:pt x="170" y="4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3" y="35"/>
                  </a:lnTo>
                  <a:lnTo>
                    <a:pt x="261" y="55"/>
                  </a:lnTo>
                  <a:lnTo>
                    <a:pt x="276" y="78"/>
                  </a:lnTo>
                  <a:lnTo>
                    <a:pt x="285" y="107"/>
                  </a:lnTo>
                  <a:lnTo>
                    <a:pt x="289" y="139"/>
                  </a:lnTo>
                  <a:lnTo>
                    <a:pt x="285" y="172"/>
                  </a:lnTo>
                  <a:lnTo>
                    <a:pt x="276" y="200"/>
                  </a:lnTo>
                  <a:lnTo>
                    <a:pt x="261" y="224"/>
                  </a:lnTo>
                  <a:lnTo>
                    <a:pt x="243" y="243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3"/>
                  </a:lnTo>
                  <a:lnTo>
                    <a:pt x="25" y="224"/>
                  </a:lnTo>
                  <a:lnTo>
                    <a:pt x="11" y="200"/>
                  </a:lnTo>
                  <a:lnTo>
                    <a:pt x="2" y="172"/>
                  </a:lnTo>
                  <a:lnTo>
                    <a:pt x="0" y="139"/>
                  </a:lnTo>
                  <a:lnTo>
                    <a:pt x="0" y="139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90480" y="4656240"/>
              <a:ext cx="262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2482920" y="4629240"/>
            <a:ext cx="5731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570880" y="4417920"/>
            <a:ext cx="5731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4800" y="4414680"/>
            <a:ext cx="5713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43680" y="4592520"/>
            <a:ext cx="5713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92600" y="4514760"/>
            <a:ext cx="5716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359240" y="4200480"/>
            <a:ext cx="5731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17800" y="4626000"/>
            <a:ext cx="5713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435400" y="4208400"/>
            <a:ext cx="5713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70240" y="3754440"/>
            <a:ext cx="5713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54640" y="4170240"/>
            <a:ext cx="5731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094600" y="4454640"/>
            <a:ext cx="5716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35640" y="3448080"/>
            <a:ext cx="5716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84440" y="2219400"/>
            <a:ext cx="5731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867280" y="3476520"/>
            <a:ext cx="5731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P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44760" y="4640400"/>
            <a:ext cx="5731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68680" y="3335400"/>
            <a:ext cx="5731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P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76640" y="3365640"/>
            <a:ext cx="5698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P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05240" y="3789360"/>
            <a:ext cx="571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51160" y="2903400"/>
            <a:ext cx="5713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63920" y="2516040"/>
            <a:ext cx="5731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Q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30480" y="2351160"/>
            <a:ext cx="571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G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24760" y="3666960"/>
            <a:ext cx="5713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G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59280" y="2230560"/>
            <a:ext cx="5713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73560" y="2558880"/>
            <a:ext cx="5713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M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97480" y="2901960"/>
            <a:ext cx="574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F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62600" y="3425760"/>
            <a:ext cx="5716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D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2000" y="3755880"/>
            <a:ext cx="5731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04040" y="4100400"/>
            <a:ext cx="5716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40040" y="4356000"/>
            <a:ext cx="1428840" cy="536760"/>
          </a:xfrm>
          <a:custGeom>
            <a:avLst/>
            <a:gdLst/>
            <a:ahLst/>
            <a:rect l="l" t="t" r="r" b="b"/>
            <a:pathLst>
              <a:path w="900" h="338">
                <a:moveTo>
                  <a:pt x="0" y="263"/>
                </a:moveTo>
                <a:lnTo>
                  <a:pt x="35" y="112"/>
                </a:lnTo>
                <a:lnTo>
                  <a:pt x="130" y="337"/>
                </a:lnTo>
                <a:lnTo>
                  <a:pt x="171" y="98"/>
                </a:lnTo>
                <a:lnTo>
                  <a:pt x="292" y="315"/>
                </a:lnTo>
                <a:lnTo>
                  <a:pt x="355" y="79"/>
                </a:lnTo>
                <a:lnTo>
                  <a:pt x="451" y="292"/>
                </a:lnTo>
                <a:lnTo>
                  <a:pt x="470" y="54"/>
                </a:lnTo>
                <a:lnTo>
                  <a:pt x="566" y="260"/>
                </a:lnTo>
                <a:lnTo>
                  <a:pt x="596" y="44"/>
                </a:lnTo>
                <a:lnTo>
                  <a:pt x="705" y="225"/>
                </a:lnTo>
                <a:lnTo>
                  <a:pt x="711" y="13"/>
                </a:lnTo>
                <a:lnTo>
                  <a:pt x="819" y="181"/>
                </a:lnTo>
                <a:lnTo>
                  <a:pt x="819" y="0"/>
                </a:lnTo>
                <a:lnTo>
                  <a:pt x="899" y="63"/>
                </a:lnTo>
              </a:path>
            </a:pathLst>
          </a:custGeom>
          <a:noFill/>
          <a:ln w="3132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495760" y="4597560"/>
            <a:ext cx="2046600" cy="369720"/>
          </a:xfrm>
          <a:custGeom>
            <a:avLst/>
            <a:gdLst/>
            <a:ahLst/>
            <a:rect l="l" t="t" r="r" b="b"/>
            <a:pathLst>
              <a:path w="1289" h="233">
                <a:moveTo>
                  <a:pt x="0" y="140"/>
                </a:moveTo>
                <a:lnTo>
                  <a:pt x="89" y="140"/>
                </a:lnTo>
                <a:lnTo>
                  <a:pt x="119" y="17"/>
                </a:lnTo>
                <a:lnTo>
                  <a:pt x="177" y="232"/>
                </a:lnTo>
                <a:lnTo>
                  <a:pt x="256" y="29"/>
                </a:lnTo>
                <a:lnTo>
                  <a:pt x="315" y="228"/>
                </a:lnTo>
                <a:lnTo>
                  <a:pt x="366" y="0"/>
                </a:lnTo>
                <a:lnTo>
                  <a:pt x="440" y="228"/>
                </a:lnTo>
                <a:lnTo>
                  <a:pt x="521" y="25"/>
                </a:lnTo>
                <a:lnTo>
                  <a:pt x="576" y="228"/>
                </a:lnTo>
                <a:lnTo>
                  <a:pt x="636" y="17"/>
                </a:lnTo>
                <a:lnTo>
                  <a:pt x="694" y="217"/>
                </a:lnTo>
                <a:lnTo>
                  <a:pt x="772" y="11"/>
                </a:lnTo>
                <a:lnTo>
                  <a:pt x="813" y="225"/>
                </a:lnTo>
                <a:lnTo>
                  <a:pt x="890" y="14"/>
                </a:lnTo>
                <a:lnTo>
                  <a:pt x="923" y="213"/>
                </a:lnTo>
                <a:lnTo>
                  <a:pt x="986" y="7"/>
                </a:lnTo>
                <a:lnTo>
                  <a:pt x="1026" y="221"/>
                </a:lnTo>
                <a:lnTo>
                  <a:pt x="1086" y="7"/>
                </a:lnTo>
                <a:lnTo>
                  <a:pt x="1149" y="221"/>
                </a:lnTo>
                <a:lnTo>
                  <a:pt x="1196" y="17"/>
                </a:lnTo>
                <a:lnTo>
                  <a:pt x="1260" y="213"/>
                </a:lnTo>
                <a:lnTo>
                  <a:pt x="1288" y="69"/>
                </a:lnTo>
                <a:lnTo>
                  <a:pt x="1288" y="73"/>
                </a:lnTo>
              </a:path>
            </a:pathLst>
          </a:custGeom>
          <a:noFill/>
          <a:ln w="3132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65200" y="5083200"/>
            <a:ext cx="584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000" spc="-1" strike="noStrike">
                <a:solidFill>
                  <a:srgbClr val="d85700"/>
                </a:solidFill>
                <a:latin typeface="Arial"/>
              </a:rPr>
              <a:t>1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27200" y="5067360"/>
            <a:ext cx="5842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000" spc="-1" strike="noStrike">
                <a:solidFill>
                  <a:srgbClr val="d857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5048280"/>
            <a:ext cx="583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000" spc="-1" strike="noStrike">
                <a:solidFill>
                  <a:srgbClr val="d857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61440" y="4897440"/>
            <a:ext cx="583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000" spc="-1" strike="noStrike">
                <a:solidFill>
                  <a:srgbClr val="d85700"/>
                </a:solidFill>
                <a:latin typeface="Arial"/>
              </a:rPr>
              <a:t>14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381800" y="2743200"/>
            <a:ext cx="10000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5938920" y="3124080"/>
            <a:ext cx="2217600" cy="9939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880" y="2819520"/>
            <a:ext cx="1600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800" spc="-1" strike="noStrike">
                <a:solidFill>
                  <a:srgbClr val="ff99ff"/>
                </a:solidFill>
                <a:latin typeface="Times New Roman"/>
              </a:rPr>
              <a:t>Axsy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85800" y="3048120"/>
          <a:ext cx="1406520" cy="151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048120"/>
                    <a:ext cx="14065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33"/>
                </a:solidFill>
                <a:latin typeface="VNI-Helve"/>
              </a:rPr>
              <a:t>Importance du cible des monoclona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4771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ff"/>
                </a:solidFill>
                <a:latin typeface="Times New Roman"/>
              </a:rPr>
              <a:t>Centa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0" y="5486400"/>
          <a:ext cx="9144000" cy="1371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486400"/>
                    <a:ext cx="914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1" name=""/>
          <p:cNvGrpSpPr/>
          <p:nvPr/>
        </p:nvGrpSpPr>
        <p:grpSpPr>
          <a:xfrm>
            <a:off x="3657600" y="1973160"/>
            <a:ext cx="2247840" cy="1724040"/>
            <a:chOff x="3657600" y="1973160"/>
            <a:chExt cx="2247840" cy="1724040"/>
          </a:xfrm>
        </p:grpSpPr>
        <p:sp>
          <p:nvSpPr>
            <p:cNvPr id="472" name=""/>
            <p:cNvSpPr/>
            <p:nvPr/>
          </p:nvSpPr>
          <p:spPr>
            <a:xfrm>
              <a:off x="4876920" y="1981080"/>
              <a:ext cx="10285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73" name=""/>
            <p:cNvGraphicFramePr/>
            <p:nvPr/>
          </p:nvGraphicFramePr>
          <p:xfrm>
            <a:off x="3657600" y="1973160"/>
            <a:ext cx="1419120" cy="1724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7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657600" y="1973160"/>
                      <a:ext cx="1419120" cy="172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47920" y="2286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10666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920" y="12193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Mutants « a » d’Ag HBs : ra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66680" y="3581280"/>
            <a:ext cx="548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4920" y="24382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Utilisation d’une combinaison de différents d’anticorps  monoclonaux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4920" y="449568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éconisation d’introduire des anticorps anti-pré-S dans les nouvelles générations de trouss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1" name="p1" descr=""/>
          <p:cNvPicPr/>
          <p:nvPr/>
        </p:nvPicPr>
        <p:blipFill>
          <a:blip r:embed="rId1"/>
          <a:stretch/>
        </p:blipFill>
        <p:spPr>
          <a:xfrm>
            <a:off x="7924680" y="594036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28600" y="533520"/>
            <a:ext cx="891540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33"/>
                </a:solidFill>
                <a:latin typeface="Times New Roman"/>
              </a:rPr>
              <a:t>Remerci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F. Kameleddine (Dia-Sorin France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M. De Luca (Dia-Sorin Itali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Vockel (Abbott Allemand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. Leroux (Abbott Franc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O. Paour (bioMérieux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B. Slizewicz (Bio-Rad Franc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C. Salanon (Bay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3" name="p1" descr=""/>
          <p:cNvPicPr/>
          <p:nvPr/>
        </p:nvPicPr>
        <p:blipFill>
          <a:blip r:embed="rId1"/>
          <a:stretch/>
        </p:blipFill>
        <p:spPr>
          <a:xfrm>
            <a:off x="7924680" y="594036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1" descr=""/>
          <p:cNvPicPr/>
          <p:nvPr/>
        </p:nvPicPr>
        <p:blipFill>
          <a:blip r:embed="rId1"/>
          <a:stretch/>
        </p:blipFill>
        <p:spPr>
          <a:xfrm>
            <a:off x="7924680" y="5943600"/>
            <a:ext cx="121932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095880" y="1600200"/>
          <a:ext cx="1524240" cy="129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1600200"/>
                    <a:ext cx="15242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648320" y="1600200"/>
          <a:ext cx="1523880" cy="1295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1600200"/>
                    <a:ext cx="15238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276720" y="1600200"/>
          <a:ext cx="1447560" cy="12952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1600200"/>
                    <a:ext cx="14475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620120" y="1600200"/>
          <a:ext cx="1523880" cy="129528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20120" y="1600200"/>
                    <a:ext cx="15238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0" y="2895480"/>
          <a:ext cx="9144000" cy="100512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2895480"/>
                    <a:ext cx="914400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3886200"/>
          <a:ext cx="9144000" cy="83808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388620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33"/>
                </a:solidFill>
                <a:latin typeface="Times New Roman"/>
              </a:rPr>
              <a:t>Sensibilité des quatre nouvelles trousses Ag HBS dans la détection des mutants "a"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8600" y="1600200"/>
            <a:ext cx="8305560" cy="4635360"/>
            <a:chOff x="228600" y="1600200"/>
            <a:chExt cx="8305560" cy="4635360"/>
          </a:xfrm>
        </p:grpSpPr>
        <p:graphicFrame>
          <p:nvGraphicFramePr>
            <p:cNvPr id="111" name=""/>
            <p:cNvGraphicFramePr/>
            <p:nvPr/>
          </p:nvGraphicFramePr>
          <p:xfrm>
            <a:off x="1676160" y="1600200"/>
            <a:ext cx="1600200" cy="1295280"/>
          </p:xfrm>
          <a:graphic>
            <a:graphicData uri="http://schemas.openxmlformats.org/presentationml/2006/ole">
              <p:oleObj progId="Excel.Sheet.12" r:id="rId14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676160" y="1600200"/>
                      <a:ext cx="16002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228600" y="5410080"/>
              <a:ext cx="830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cc0000"/>
                  </a:solidFill>
                  <a:latin typeface="Times New Roman"/>
                </a:rPr>
                <a:t>*</a:t>
              </a:r>
              <a:r>
                <a:rPr b="1" lang="fr-FR" sz="2400" spc="-1" strike="noStrike">
                  <a:solidFill>
                    <a:srgbClr val="ffff00"/>
                  </a:solidFill>
                  <a:latin typeface="Times New Roman"/>
                </a:rPr>
                <a:t> ETI-MAK- 4 (microplaque), 2001, premier réactif d ’ELISA ayant 4 monoclonaux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1295280"/>
          <a:ext cx="3809880" cy="38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38098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04920" y="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33"/>
                </a:solidFill>
                <a:latin typeface="Times New Roman"/>
              </a:rPr>
              <a:t>Mutants recombinants (Abbott) : dilués</a:t>
            </a:r>
            <a:r>
              <a:rPr b="1" lang="fr-F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7913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* P F Coleman « Immunoassay Detection of Hepatitis B Surface Antigen Mutants »  </a:t>
            </a:r>
            <a:r>
              <a:rPr b="1" lang="fr-FR" sz="2000" spc="-1" strike="noStrike">
                <a:solidFill>
                  <a:srgbClr val="cc0000"/>
                </a:solidFill>
                <a:latin typeface="Times New Roman"/>
              </a:rPr>
              <a:t>1999</a:t>
            </a:r>
            <a:r>
              <a:rPr b="1" lang="fr-FR" sz="2000" spc="-1" strike="noStrike">
                <a:solidFill>
                  <a:srgbClr val="66ff66"/>
                </a:solidFill>
                <a:latin typeface="Times New Roman"/>
              </a:rPr>
              <a:t>  Journal of Medical Vir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553080" y="914400"/>
          <a:ext cx="84780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914400"/>
                    <a:ext cx="8478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" name=""/>
          <p:cNvGrpSpPr/>
          <p:nvPr/>
        </p:nvGrpSpPr>
        <p:grpSpPr>
          <a:xfrm>
            <a:off x="1066680" y="914400"/>
            <a:ext cx="7086600" cy="4711680"/>
            <a:chOff x="1066680" y="914400"/>
            <a:chExt cx="7086600" cy="4711680"/>
          </a:xfrm>
        </p:grpSpPr>
        <p:sp>
          <p:nvSpPr>
            <p:cNvPr id="121" name=""/>
            <p:cNvSpPr/>
            <p:nvPr/>
          </p:nvSpPr>
          <p:spPr>
            <a:xfrm>
              <a:off x="1066680" y="5257800"/>
              <a:ext cx="518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f0033"/>
                  </a:solidFill>
                  <a:latin typeface="Times New Roman"/>
                </a:rPr>
                <a:t>Ratio  (s/co)</a:t>
              </a:r>
              <a:r>
                <a:rPr b="1" i="1" lang="fr-FR" sz="1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i="1" lang="fr-FR" sz="1800" spc="-1" strike="noStrike">
                  <a:solidFill>
                    <a:srgbClr val="ff0033"/>
                  </a:solidFill>
                  <a:latin typeface="Times New Roman"/>
                </a:rPr>
                <a:t>=</a:t>
              </a:r>
              <a:r>
                <a:rPr b="1" i="1" lang="fr-FR" sz="1800" spc="-1" strike="noStrike">
                  <a:solidFill>
                    <a:srgbClr val="ffff00"/>
                  </a:solidFill>
                  <a:latin typeface="Times New Roman"/>
                </a:rPr>
                <a:t>  &gt; 1  : Positif  ;    </a:t>
              </a:r>
              <a:r>
                <a:rPr b="1" i="1" lang="fr-FR" sz="1800" spc="-1" strike="noStrike">
                  <a:solidFill>
                    <a:srgbClr val="ffffff"/>
                  </a:solidFill>
                  <a:latin typeface="Times New Roman"/>
                </a:rPr>
                <a:t>&lt; 0,9 : Négati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3809880" y="914400"/>
            <a:ext cx="2743200" cy="41911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914400"/>
                      <a:ext cx="2743200" cy="419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" name=""/>
            <p:cNvGraphicFramePr/>
            <p:nvPr/>
          </p:nvGraphicFramePr>
          <p:xfrm>
            <a:off x="7315200" y="914400"/>
            <a:ext cx="838080" cy="419112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15200" y="914400"/>
                      <a:ext cx="838080" cy="419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6" name=""/>
          <p:cNvGrpSpPr/>
          <p:nvPr/>
        </p:nvGrpSpPr>
        <p:grpSpPr>
          <a:xfrm>
            <a:off x="7086600" y="914400"/>
            <a:ext cx="2057400" cy="5428080"/>
            <a:chOff x="7086600" y="914400"/>
            <a:chExt cx="2057400" cy="5428080"/>
          </a:xfrm>
        </p:grpSpPr>
        <p:graphicFrame>
          <p:nvGraphicFramePr>
            <p:cNvPr id="127" name=""/>
            <p:cNvGraphicFramePr/>
            <p:nvPr/>
          </p:nvGraphicFramePr>
          <p:xfrm>
            <a:off x="8153280" y="914400"/>
            <a:ext cx="990720" cy="419112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153280" y="914400"/>
                      <a:ext cx="990720" cy="419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"/>
            <p:cNvSpPr/>
            <p:nvPr/>
          </p:nvSpPr>
          <p:spPr>
            <a:xfrm>
              <a:off x="7086600" y="563868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*M.Harzic Hôp  de Versail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3352680"/>
          <a:ext cx="4572000" cy="192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52680"/>
                    <a:ext cx="457200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533520" y="2362320"/>
            <a:ext cx="8610480" cy="4178160"/>
            <a:chOff x="533520" y="2362320"/>
            <a:chExt cx="8610480" cy="4178160"/>
          </a:xfrm>
        </p:grpSpPr>
        <p:sp>
          <p:nvSpPr>
            <p:cNvPr id="133" name=""/>
            <p:cNvSpPr/>
            <p:nvPr/>
          </p:nvSpPr>
          <p:spPr>
            <a:xfrm>
              <a:off x="533520" y="617220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f0033"/>
                  </a:solidFill>
                  <a:latin typeface="Times New Roman"/>
                </a:rPr>
                <a:t>Ratio  (s/co)</a:t>
              </a:r>
              <a:r>
                <a:rPr b="1" i="1" lang="fr-FR" sz="1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i="1" lang="fr-FR" sz="1800" spc="-1" strike="noStrike">
                  <a:solidFill>
                    <a:srgbClr val="ff0033"/>
                  </a:solidFill>
                  <a:latin typeface="Times New Roman"/>
                </a:rPr>
                <a:t>=</a:t>
              </a:r>
              <a:r>
                <a:rPr b="1" i="1" lang="fr-FR" sz="1800" spc="-1" strike="noStrike">
                  <a:solidFill>
                    <a:srgbClr val="ffff00"/>
                  </a:solidFill>
                  <a:latin typeface="Times New Roman"/>
                </a:rPr>
                <a:t>  &gt; 1  : Positif  ;    </a:t>
              </a:r>
              <a:r>
                <a:rPr b="1" i="1" lang="fr-FR" sz="1800" spc="-1" strike="noStrike">
                  <a:solidFill>
                    <a:srgbClr val="ffffff"/>
                  </a:solidFill>
                  <a:latin typeface="Times New Roman"/>
                </a:rPr>
                <a:t>&lt; 0,9 : Négati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4572000" y="2362320"/>
            <a:ext cx="4572000" cy="29336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362320"/>
                      <a:ext cx="4572000" cy="293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" name=""/>
          <p:cNvSpPr/>
          <p:nvPr/>
        </p:nvSpPr>
        <p:spPr>
          <a:xfrm>
            <a:off x="457200" y="7621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33"/>
                </a:solidFill>
                <a:latin typeface="Times New Roman"/>
              </a:rPr>
              <a:t>Mutants naturels (Abbott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6172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33"/>
                </a:solidFill>
                <a:latin typeface="Times New Roman"/>
              </a:rPr>
              <a:t>Ratio  (s/co)</a:t>
            </a:r>
            <a:r>
              <a:rPr b="1" i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fr-FR" sz="18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1" i="1" lang="fr-FR" sz="1800" spc="-1" strike="noStrike">
                <a:solidFill>
                  <a:srgbClr val="ffff00"/>
                </a:solidFill>
                <a:latin typeface="Times New Roman"/>
              </a:rPr>
              <a:t>  &gt; 1  : Positif  ;    </a:t>
            </a: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&lt; 0,9 : Négat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7621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33"/>
                </a:solidFill>
                <a:latin typeface="Times New Roman"/>
              </a:rPr>
              <a:t>Mutants naturels (Dia-Sori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3886200"/>
          <a:ext cx="327672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86200"/>
                    <a:ext cx="3276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124080" y="3200400"/>
          <a:ext cx="5257800" cy="205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200400"/>
                    <a:ext cx="5257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8305920" y="3200400"/>
          <a:ext cx="838080" cy="20574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05920" y="3200400"/>
                    <a:ext cx="8380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Mutants naturels trouvés en Fr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752480"/>
          <a:ext cx="4191120" cy="14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41911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" name=""/>
          <p:cNvGrpSpPr/>
          <p:nvPr/>
        </p:nvGrpSpPr>
        <p:grpSpPr>
          <a:xfrm>
            <a:off x="0" y="914400"/>
            <a:ext cx="9144000" cy="3187800"/>
            <a:chOff x="0" y="914400"/>
            <a:chExt cx="9144000" cy="3187800"/>
          </a:xfrm>
        </p:grpSpPr>
        <p:sp>
          <p:nvSpPr>
            <p:cNvPr id="149" name=""/>
            <p:cNvSpPr/>
            <p:nvPr/>
          </p:nvSpPr>
          <p:spPr>
            <a:xfrm>
              <a:off x="0" y="373392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f0033"/>
                  </a:solidFill>
                  <a:latin typeface="Times New Roman"/>
                </a:rPr>
                <a:t>Ratio  (s/co)</a:t>
              </a:r>
              <a:r>
                <a:rPr b="1" i="1" lang="fr-FR" sz="1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i="1" lang="fr-FR" sz="1800" spc="-1" strike="noStrike">
                  <a:solidFill>
                    <a:srgbClr val="ff0033"/>
                  </a:solidFill>
                  <a:latin typeface="Times New Roman"/>
                </a:rPr>
                <a:t>=</a:t>
              </a:r>
              <a:r>
                <a:rPr b="1" i="1" lang="fr-FR" sz="1800" spc="-1" strike="noStrike">
                  <a:solidFill>
                    <a:srgbClr val="ffff00"/>
                  </a:solidFill>
                  <a:latin typeface="Times New Roman"/>
                </a:rPr>
                <a:t>  &gt; 1  : Positif  ;     </a:t>
              </a:r>
              <a:r>
                <a:rPr b="1" i="1" lang="fr-FR" sz="1800" spc="-1" strike="noStrike">
                  <a:solidFill>
                    <a:srgbClr val="ffffff"/>
                  </a:solidFill>
                  <a:latin typeface="Times New Roman"/>
                </a:rPr>
                <a:t>&lt; 0,9 : Négati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50" name=""/>
            <p:cNvGraphicFramePr/>
            <p:nvPr/>
          </p:nvGraphicFramePr>
          <p:xfrm>
            <a:off x="4191120" y="914400"/>
            <a:ext cx="4952880" cy="2286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91120" y="914400"/>
                      <a:ext cx="495288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2" name=""/>
          <p:cNvGraphicFramePr/>
          <p:nvPr/>
        </p:nvGraphicFramePr>
        <p:xfrm>
          <a:off x="3276720" y="5334120"/>
          <a:ext cx="5867280" cy="9144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5334120"/>
                    <a:ext cx="5867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0" y="3200400"/>
            <a:ext cx="9144000" cy="1755000"/>
            <a:chOff x="0" y="3200400"/>
            <a:chExt cx="9144000" cy="1755000"/>
          </a:xfrm>
        </p:grpSpPr>
        <p:graphicFrame>
          <p:nvGraphicFramePr>
            <p:cNvPr id="155" name=""/>
            <p:cNvGraphicFramePr/>
            <p:nvPr/>
          </p:nvGraphicFramePr>
          <p:xfrm>
            <a:off x="0" y="3200400"/>
            <a:ext cx="9144000" cy="53352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3200400"/>
                      <a:ext cx="91440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0" y="449568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* ETI-MAK-4  : &gt; 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Image1" descr=""/>
          <p:cNvPicPr/>
          <p:nvPr/>
        </p:nvPicPr>
        <p:blipFill>
          <a:blip r:embed="rId1"/>
          <a:srcRect l="983" t="418" r="983" b="1756"/>
          <a:stretch/>
        </p:blipFill>
        <p:spPr>
          <a:xfrm>
            <a:off x="533520" y="609480"/>
            <a:ext cx="8076960" cy="5562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16200000">
            <a:off x="-777600" y="145368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mino-termin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786080" y="115416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Carboxyl-termin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5280" y="30621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vel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1640" y="510552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ccff"/>
                </a:solidFill>
                <a:latin typeface="Arial"/>
              </a:rPr>
              <a:t>HBsAg 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90360" y="1814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14040" y="592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Times New Roman"/>
              </a:rPr>
              <a:t>4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5120" y="4100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14240" y="1738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Times New Roma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93320" y="1905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1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14080" y="6714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imes New Roman"/>
              </a:rPr>
              <a:t>12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07720" y="5778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14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41240" y="762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14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57080" y="18907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1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71280" y="23623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Times New Roman"/>
              </a:rPr>
              <a:t>1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76400" y="41004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Times New Roman"/>
              </a:rPr>
              <a:t>1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47800" y="19670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ff"/>
                </a:solidFill>
                <a:latin typeface="Times New Roman"/>
              </a:rPr>
              <a:t>2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4114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nter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1600" y="5335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xtéri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2171880"/>
            <a:ext cx="8153280" cy="7596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9800" y="4013280"/>
            <a:ext cx="8153640" cy="7596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357800" y="100080"/>
            <a:ext cx="3184920" cy="2262240"/>
            <a:chOff x="4357800" y="100080"/>
            <a:chExt cx="3184920" cy="2262240"/>
          </a:xfrm>
        </p:grpSpPr>
        <p:sp>
          <p:nvSpPr>
            <p:cNvPr id="180" name=""/>
            <p:cNvSpPr/>
            <p:nvPr/>
          </p:nvSpPr>
          <p:spPr>
            <a:xfrm>
              <a:off x="4500000" y="100080"/>
              <a:ext cx="304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66ffff"/>
                  </a:solidFill>
                  <a:latin typeface="Arial"/>
                </a:rPr>
                <a:t>“</a:t>
              </a:r>
              <a:r>
                <a:rPr b="1" lang="en-GB" sz="2800" spc="-1" strike="noStrike">
                  <a:solidFill>
                    <a:srgbClr val="66ffff"/>
                  </a:solidFill>
                  <a:latin typeface="Arial"/>
                </a:rPr>
                <a:t>a” immunogè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57800" y="533520"/>
              <a:ext cx="2423880" cy="1828800"/>
            </a:xfrm>
            <a:custGeom>
              <a:avLst/>
              <a:gdLst/>
              <a:ahLst/>
              <a:rect l="l" t="t" r="r" b="b"/>
              <a:pathLst>
                <a:path w="1688" h="1509">
                  <a:moveTo>
                    <a:pt x="1579" y="0"/>
                  </a:moveTo>
                  <a:cubicBezTo>
                    <a:pt x="1688" y="109"/>
                    <a:pt x="1617" y="26"/>
                    <a:pt x="1579" y="389"/>
                  </a:cubicBezTo>
                  <a:cubicBezTo>
                    <a:pt x="1579" y="391"/>
                    <a:pt x="1509" y="920"/>
                    <a:pt x="1482" y="973"/>
                  </a:cubicBezTo>
                  <a:cubicBezTo>
                    <a:pt x="1466" y="1005"/>
                    <a:pt x="1458" y="1044"/>
                    <a:pt x="1433" y="1070"/>
                  </a:cubicBezTo>
                  <a:cubicBezTo>
                    <a:pt x="1425" y="1078"/>
                    <a:pt x="1415" y="1085"/>
                    <a:pt x="1409" y="1095"/>
                  </a:cubicBezTo>
                  <a:cubicBezTo>
                    <a:pt x="1374" y="1154"/>
                    <a:pt x="1360" y="1218"/>
                    <a:pt x="1311" y="1265"/>
                  </a:cubicBezTo>
                  <a:cubicBezTo>
                    <a:pt x="1263" y="1364"/>
                    <a:pt x="1160" y="1399"/>
                    <a:pt x="1068" y="1460"/>
                  </a:cubicBezTo>
                  <a:cubicBezTo>
                    <a:pt x="1049" y="1473"/>
                    <a:pt x="1019" y="1509"/>
                    <a:pt x="1019" y="1509"/>
                  </a:cubicBezTo>
                  <a:cubicBezTo>
                    <a:pt x="881" y="1501"/>
                    <a:pt x="743" y="1504"/>
                    <a:pt x="606" y="1484"/>
                  </a:cubicBezTo>
                  <a:cubicBezTo>
                    <a:pt x="570" y="1479"/>
                    <a:pt x="508" y="1436"/>
                    <a:pt x="508" y="1436"/>
                  </a:cubicBezTo>
                  <a:cubicBezTo>
                    <a:pt x="428" y="1352"/>
                    <a:pt x="557" y="1492"/>
                    <a:pt x="460" y="1363"/>
                  </a:cubicBezTo>
                  <a:cubicBezTo>
                    <a:pt x="446" y="1345"/>
                    <a:pt x="427" y="1330"/>
                    <a:pt x="411" y="1314"/>
                  </a:cubicBezTo>
                  <a:cubicBezTo>
                    <a:pt x="385" y="1288"/>
                    <a:pt x="339" y="1291"/>
                    <a:pt x="313" y="1265"/>
                  </a:cubicBezTo>
                  <a:cubicBezTo>
                    <a:pt x="252" y="1204"/>
                    <a:pt x="285" y="1227"/>
                    <a:pt x="216" y="1192"/>
                  </a:cubicBezTo>
                  <a:cubicBezTo>
                    <a:pt x="185" y="1130"/>
                    <a:pt x="152" y="1088"/>
                    <a:pt x="119" y="1022"/>
                  </a:cubicBezTo>
                  <a:cubicBezTo>
                    <a:pt x="114" y="1011"/>
                    <a:pt x="100" y="1007"/>
                    <a:pt x="94" y="997"/>
                  </a:cubicBezTo>
                  <a:cubicBezTo>
                    <a:pt x="75" y="966"/>
                    <a:pt x="46" y="900"/>
                    <a:pt x="46" y="900"/>
                  </a:cubicBezTo>
                  <a:cubicBezTo>
                    <a:pt x="8" y="642"/>
                    <a:pt x="0" y="668"/>
                    <a:pt x="46" y="316"/>
                  </a:cubicBezTo>
                  <a:cubicBezTo>
                    <a:pt x="62" y="193"/>
                    <a:pt x="65" y="198"/>
                    <a:pt x="119" y="146"/>
                  </a:cubicBezTo>
                  <a:cubicBezTo>
                    <a:pt x="176" y="30"/>
                    <a:pt x="137" y="45"/>
                    <a:pt x="265" y="24"/>
                  </a:cubicBezTo>
                  <a:cubicBezTo>
                    <a:pt x="281" y="21"/>
                    <a:pt x="297" y="24"/>
                    <a:pt x="313" y="24"/>
                  </a:cubicBezTo>
                  <a:lnTo>
                    <a:pt x="1579" y="0"/>
                  </a:lnTo>
                  <a:close/>
                </a:path>
              </a:pathLst>
            </a:custGeom>
            <a:noFill/>
            <a:ln w="57240">
              <a:solidFill>
                <a:srgbClr val="66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4260960" y="4172040"/>
            <a:ext cx="460440" cy="439560"/>
            <a:chOff x="4260960" y="4172040"/>
            <a:chExt cx="460440" cy="439560"/>
          </a:xfrm>
        </p:grpSpPr>
        <p:sp>
          <p:nvSpPr>
            <p:cNvPr id="183" name=""/>
            <p:cNvSpPr/>
            <p:nvPr/>
          </p:nvSpPr>
          <p:spPr>
            <a:xfrm>
              <a:off x="4260960" y="4172040"/>
              <a:ext cx="460440" cy="439560"/>
            </a:xfrm>
            <a:custGeom>
              <a:avLst/>
              <a:gdLst/>
              <a:ahLst/>
              <a:rect l="l" t="t" r="r" b="b"/>
              <a:pathLst>
                <a:path w="290" h="277">
                  <a:moveTo>
                    <a:pt x="0" y="137"/>
                  </a:moveTo>
                  <a:lnTo>
                    <a:pt x="2" y="106"/>
                  </a:lnTo>
                  <a:lnTo>
                    <a:pt x="12" y="78"/>
                  </a:lnTo>
                  <a:lnTo>
                    <a:pt x="26" y="54"/>
                  </a:lnTo>
                  <a:lnTo>
                    <a:pt x="44" y="34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3" y="34"/>
                  </a:lnTo>
                  <a:lnTo>
                    <a:pt x="261" y="54"/>
                  </a:lnTo>
                  <a:lnTo>
                    <a:pt x="276" y="78"/>
                  </a:lnTo>
                  <a:lnTo>
                    <a:pt x="285" y="106"/>
                  </a:lnTo>
                  <a:lnTo>
                    <a:pt x="289" y="137"/>
                  </a:lnTo>
                  <a:lnTo>
                    <a:pt x="285" y="171"/>
                  </a:lnTo>
                  <a:lnTo>
                    <a:pt x="276" y="200"/>
                  </a:lnTo>
                  <a:lnTo>
                    <a:pt x="261" y="223"/>
                  </a:lnTo>
                  <a:lnTo>
                    <a:pt x="243" y="242"/>
                  </a:lnTo>
                  <a:lnTo>
                    <a:pt x="221" y="257"/>
                  </a:lnTo>
                  <a:lnTo>
                    <a:pt x="197" y="268"/>
                  </a:lnTo>
                  <a:lnTo>
                    <a:pt x="170" y="275"/>
                  </a:lnTo>
                  <a:lnTo>
                    <a:pt x="144" y="276"/>
                  </a:lnTo>
                  <a:lnTo>
                    <a:pt x="117" y="275"/>
                  </a:lnTo>
                  <a:lnTo>
                    <a:pt x="90" y="268"/>
                  </a:lnTo>
                  <a:lnTo>
                    <a:pt x="65" y="257"/>
                  </a:lnTo>
                  <a:lnTo>
                    <a:pt x="44" y="242"/>
                  </a:lnTo>
                  <a:lnTo>
                    <a:pt x="26" y="223"/>
                  </a:lnTo>
                  <a:lnTo>
                    <a:pt x="12" y="200"/>
                  </a:lnTo>
                  <a:lnTo>
                    <a:pt x="2" y="171"/>
                  </a:lnTo>
                  <a:lnTo>
                    <a:pt x="0" y="137"/>
                  </a:lnTo>
                  <a:lnTo>
                    <a:pt x="0" y="137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68960" y="4238640"/>
              <a:ext cx="262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442880" y="4602240"/>
            <a:ext cx="458640" cy="441360"/>
            <a:chOff x="1442880" y="4602240"/>
            <a:chExt cx="458640" cy="441360"/>
          </a:xfrm>
        </p:grpSpPr>
        <p:sp>
          <p:nvSpPr>
            <p:cNvPr id="186" name=""/>
            <p:cNvSpPr/>
            <p:nvPr/>
          </p:nvSpPr>
          <p:spPr>
            <a:xfrm>
              <a:off x="1442880" y="4602240"/>
              <a:ext cx="458640" cy="441360"/>
            </a:xfrm>
            <a:custGeom>
              <a:avLst/>
              <a:gdLst/>
              <a:ahLst/>
              <a:rect l="l" t="t" r="r" b="b"/>
              <a:pathLst>
                <a:path w="289" h="278">
                  <a:moveTo>
                    <a:pt x="0" y="138"/>
                  </a:moveTo>
                  <a:lnTo>
                    <a:pt x="2" y="106"/>
                  </a:lnTo>
                  <a:lnTo>
                    <a:pt x="11" y="78"/>
                  </a:lnTo>
                  <a:lnTo>
                    <a:pt x="25" y="54"/>
                  </a:lnTo>
                  <a:lnTo>
                    <a:pt x="44" y="35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6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6" y="9"/>
                  </a:lnTo>
                  <a:lnTo>
                    <a:pt x="221" y="20"/>
                  </a:lnTo>
                  <a:lnTo>
                    <a:pt x="243" y="35"/>
                  </a:lnTo>
                  <a:lnTo>
                    <a:pt x="261" y="54"/>
                  </a:lnTo>
                  <a:lnTo>
                    <a:pt x="276" y="78"/>
                  </a:lnTo>
                  <a:lnTo>
                    <a:pt x="285" y="106"/>
                  </a:lnTo>
                  <a:lnTo>
                    <a:pt x="288" y="138"/>
                  </a:lnTo>
                  <a:lnTo>
                    <a:pt x="285" y="171"/>
                  </a:lnTo>
                  <a:lnTo>
                    <a:pt x="276" y="200"/>
                  </a:lnTo>
                  <a:lnTo>
                    <a:pt x="261" y="223"/>
                  </a:lnTo>
                  <a:lnTo>
                    <a:pt x="243" y="242"/>
                  </a:lnTo>
                  <a:lnTo>
                    <a:pt x="221" y="258"/>
                  </a:lnTo>
                  <a:lnTo>
                    <a:pt x="196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6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1" y="200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50880" y="4670280"/>
              <a:ext cx="2620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905120" y="4600440"/>
            <a:ext cx="460080" cy="439920"/>
            <a:chOff x="1905120" y="4600440"/>
            <a:chExt cx="460080" cy="439920"/>
          </a:xfrm>
        </p:grpSpPr>
        <p:sp>
          <p:nvSpPr>
            <p:cNvPr id="189" name=""/>
            <p:cNvSpPr/>
            <p:nvPr/>
          </p:nvSpPr>
          <p:spPr>
            <a:xfrm>
              <a:off x="1905120" y="4600440"/>
              <a:ext cx="460080" cy="439920"/>
            </a:xfrm>
            <a:custGeom>
              <a:avLst/>
              <a:gdLst/>
              <a:ahLst/>
              <a:rect l="l" t="t" r="r" b="b"/>
              <a:pathLst>
                <a:path w="290" h="277">
                  <a:moveTo>
                    <a:pt x="0" y="138"/>
                  </a:moveTo>
                  <a:lnTo>
                    <a:pt x="2" y="106"/>
                  </a:lnTo>
                  <a:lnTo>
                    <a:pt x="11" y="78"/>
                  </a:lnTo>
                  <a:lnTo>
                    <a:pt x="25" y="54"/>
                  </a:lnTo>
                  <a:lnTo>
                    <a:pt x="44" y="34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3" y="34"/>
                  </a:lnTo>
                  <a:lnTo>
                    <a:pt x="262" y="54"/>
                  </a:lnTo>
                  <a:lnTo>
                    <a:pt x="276" y="78"/>
                  </a:lnTo>
                  <a:lnTo>
                    <a:pt x="285" y="106"/>
                  </a:lnTo>
                  <a:lnTo>
                    <a:pt x="289" y="138"/>
                  </a:lnTo>
                  <a:lnTo>
                    <a:pt x="285" y="171"/>
                  </a:lnTo>
                  <a:lnTo>
                    <a:pt x="276" y="199"/>
                  </a:lnTo>
                  <a:lnTo>
                    <a:pt x="262" y="223"/>
                  </a:lnTo>
                  <a:lnTo>
                    <a:pt x="243" y="242"/>
                  </a:lnTo>
                  <a:lnTo>
                    <a:pt x="221" y="258"/>
                  </a:lnTo>
                  <a:lnTo>
                    <a:pt x="197" y="268"/>
                  </a:lnTo>
                  <a:lnTo>
                    <a:pt x="170" y="275"/>
                  </a:lnTo>
                  <a:lnTo>
                    <a:pt x="144" y="276"/>
                  </a:lnTo>
                  <a:lnTo>
                    <a:pt x="117" y="275"/>
                  </a:lnTo>
                  <a:lnTo>
                    <a:pt x="90" y="268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1" y="199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12760" y="4667400"/>
              <a:ext cx="2617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854520" y="2208240"/>
            <a:ext cx="458640" cy="439560"/>
            <a:chOff x="3854520" y="2208240"/>
            <a:chExt cx="458640" cy="439560"/>
          </a:xfrm>
        </p:grpSpPr>
        <p:sp>
          <p:nvSpPr>
            <p:cNvPr id="192" name=""/>
            <p:cNvSpPr/>
            <p:nvPr/>
          </p:nvSpPr>
          <p:spPr>
            <a:xfrm>
              <a:off x="3854520" y="2208240"/>
              <a:ext cx="458640" cy="439560"/>
            </a:xfrm>
            <a:custGeom>
              <a:avLst/>
              <a:gdLst/>
              <a:ahLst/>
              <a:rect l="l" t="t" r="r" b="b"/>
              <a:pathLst>
                <a:path w="289" h="277">
                  <a:moveTo>
                    <a:pt x="0" y="137"/>
                  </a:moveTo>
                  <a:lnTo>
                    <a:pt x="2" y="106"/>
                  </a:lnTo>
                  <a:lnTo>
                    <a:pt x="11" y="78"/>
                  </a:lnTo>
                  <a:lnTo>
                    <a:pt x="25" y="54"/>
                  </a:lnTo>
                  <a:lnTo>
                    <a:pt x="44" y="34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69" y="3"/>
                  </a:lnTo>
                  <a:lnTo>
                    <a:pt x="196" y="9"/>
                  </a:lnTo>
                  <a:lnTo>
                    <a:pt x="220" y="20"/>
                  </a:lnTo>
                  <a:lnTo>
                    <a:pt x="243" y="34"/>
                  </a:lnTo>
                  <a:lnTo>
                    <a:pt x="261" y="54"/>
                  </a:lnTo>
                  <a:lnTo>
                    <a:pt x="275" y="78"/>
                  </a:lnTo>
                  <a:lnTo>
                    <a:pt x="284" y="106"/>
                  </a:lnTo>
                  <a:lnTo>
                    <a:pt x="288" y="137"/>
                  </a:lnTo>
                  <a:lnTo>
                    <a:pt x="284" y="171"/>
                  </a:lnTo>
                  <a:lnTo>
                    <a:pt x="275" y="200"/>
                  </a:lnTo>
                  <a:lnTo>
                    <a:pt x="261" y="223"/>
                  </a:lnTo>
                  <a:lnTo>
                    <a:pt x="243" y="242"/>
                  </a:lnTo>
                  <a:lnTo>
                    <a:pt x="220" y="257"/>
                  </a:lnTo>
                  <a:lnTo>
                    <a:pt x="196" y="268"/>
                  </a:lnTo>
                  <a:lnTo>
                    <a:pt x="169" y="275"/>
                  </a:lnTo>
                  <a:lnTo>
                    <a:pt x="144" y="276"/>
                  </a:lnTo>
                  <a:lnTo>
                    <a:pt x="117" y="275"/>
                  </a:lnTo>
                  <a:lnTo>
                    <a:pt x="90" y="268"/>
                  </a:lnTo>
                  <a:lnTo>
                    <a:pt x="65" y="257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1" y="200"/>
                  </a:lnTo>
                  <a:lnTo>
                    <a:pt x="2" y="171"/>
                  </a:lnTo>
                  <a:lnTo>
                    <a:pt x="0" y="137"/>
                  </a:lnTo>
                  <a:lnTo>
                    <a:pt x="0" y="137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62160" y="2274840"/>
              <a:ext cx="2599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376440" y="2190600"/>
            <a:ext cx="460440" cy="441360"/>
            <a:chOff x="3376440" y="2190600"/>
            <a:chExt cx="460440" cy="441360"/>
          </a:xfrm>
        </p:grpSpPr>
        <p:sp>
          <p:nvSpPr>
            <p:cNvPr id="195" name=""/>
            <p:cNvSpPr/>
            <p:nvPr/>
          </p:nvSpPr>
          <p:spPr>
            <a:xfrm>
              <a:off x="3376440" y="2190600"/>
              <a:ext cx="460440" cy="44136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0" y="138"/>
                  </a:moveTo>
                  <a:lnTo>
                    <a:pt x="2" y="106"/>
                  </a:lnTo>
                  <a:lnTo>
                    <a:pt x="12" y="78"/>
                  </a:lnTo>
                  <a:lnTo>
                    <a:pt x="25" y="54"/>
                  </a:lnTo>
                  <a:lnTo>
                    <a:pt x="44" y="34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3" y="34"/>
                  </a:lnTo>
                  <a:lnTo>
                    <a:pt x="262" y="54"/>
                  </a:lnTo>
                  <a:lnTo>
                    <a:pt x="276" y="78"/>
                  </a:lnTo>
                  <a:lnTo>
                    <a:pt x="285" y="106"/>
                  </a:lnTo>
                  <a:lnTo>
                    <a:pt x="289" y="138"/>
                  </a:lnTo>
                  <a:lnTo>
                    <a:pt x="285" y="171"/>
                  </a:lnTo>
                  <a:lnTo>
                    <a:pt x="276" y="199"/>
                  </a:lnTo>
                  <a:lnTo>
                    <a:pt x="262" y="223"/>
                  </a:lnTo>
                  <a:lnTo>
                    <a:pt x="243" y="242"/>
                  </a:lnTo>
                  <a:lnTo>
                    <a:pt x="221" y="258"/>
                  </a:lnTo>
                  <a:lnTo>
                    <a:pt x="197" y="268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8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2" y="199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84440" y="2257560"/>
              <a:ext cx="262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922480" y="2324160"/>
            <a:ext cx="461880" cy="438120"/>
            <a:chOff x="2922480" y="2324160"/>
            <a:chExt cx="461880" cy="438120"/>
          </a:xfrm>
        </p:grpSpPr>
        <p:sp>
          <p:nvSpPr>
            <p:cNvPr id="198" name=""/>
            <p:cNvSpPr/>
            <p:nvPr/>
          </p:nvSpPr>
          <p:spPr>
            <a:xfrm>
              <a:off x="2922480" y="2324160"/>
              <a:ext cx="461880" cy="438120"/>
            </a:xfrm>
            <a:custGeom>
              <a:avLst/>
              <a:gdLst/>
              <a:ahLst/>
              <a:rect l="l" t="t" r="r" b="b"/>
              <a:pathLst>
                <a:path w="291" h="276">
                  <a:moveTo>
                    <a:pt x="0" y="137"/>
                  </a:moveTo>
                  <a:lnTo>
                    <a:pt x="3" y="106"/>
                  </a:lnTo>
                  <a:lnTo>
                    <a:pt x="11" y="77"/>
                  </a:lnTo>
                  <a:lnTo>
                    <a:pt x="25" y="54"/>
                  </a:lnTo>
                  <a:lnTo>
                    <a:pt x="45" y="34"/>
                  </a:lnTo>
                  <a:lnTo>
                    <a:pt x="66" y="20"/>
                  </a:lnTo>
                  <a:lnTo>
                    <a:pt x="91" y="9"/>
                  </a:lnTo>
                  <a:lnTo>
                    <a:pt x="117" y="3"/>
                  </a:lnTo>
                  <a:lnTo>
                    <a:pt x="145" y="0"/>
                  </a:lnTo>
                  <a:lnTo>
                    <a:pt x="171" y="3"/>
                  </a:lnTo>
                  <a:lnTo>
                    <a:pt x="198" y="9"/>
                  </a:lnTo>
                  <a:lnTo>
                    <a:pt x="222" y="20"/>
                  </a:lnTo>
                  <a:lnTo>
                    <a:pt x="245" y="34"/>
                  </a:lnTo>
                  <a:lnTo>
                    <a:pt x="263" y="54"/>
                  </a:lnTo>
                  <a:lnTo>
                    <a:pt x="277" y="77"/>
                  </a:lnTo>
                  <a:lnTo>
                    <a:pt x="287" y="106"/>
                  </a:lnTo>
                  <a:lnTo>
                    <a:pt x="290" y="137"/>
                  </a:lnTo>
                  <a:lnTo>
                    <a:pt x="287" y="169"/>
                  </a:lnTo>
                  <a:lnTo>
                    <a:pt x="277" y="198"/>
                  </a:lnTo>
                  <a:lnTo>
                    <a:pt x="263" y="221"/>
                  </a:lnTo>
                  <a:lnTo>
                    <a:pt x="245" y="240"/>
                  </a:lnTo>
                  <a:lnTo>
                    <a:pt x="222" y="256"/>
                  </a:lnTo>
                  <a:lnTo>
                    <a:pt x="198" y="267"/>
                  </a:lnTo>
                  <a:lnTo>
                    <a:pt x="171" y="273"/>
                  </a:lnTo>
                  <a:lnTo>
                    <a:pt x="145" y="275"/>
                  </a:lnTo>
                  <a:lnTo>
                    <a:pt x="117" y="273"/>
                  </a:lnTo>
                  <a:lnTo>
                    <a:pt x="91" y="267"/>
                  </a:lnTo>
                  <a:lnTo>
                    <a:pt x="66" y="256"/>
                  </a:lnTo>
                  <a:lnTo>
                    <a:pt x="45" y="240"/>
                  </a:lnTo>
                  <a:lnTo>
                    <a:pt x="25" y="221"/>
                  </a:lnTo>
                  <a:lnTo>
                    <a:pt x="11" y="198"/>
                  </a:lnTo>
                  <a:lnTo>
                    <a:pt x="3" y="169"/>
                  </a:lnTo>
                  <a:lnTo>
                    <a:pt x="0" y="137"/>
                  </a:lnTo>
                  <a:lnTo>
                    <a:pt x="0" y="137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31920" y="2390760"/>
              <a:ext cx="262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467080" y="2500200"/>
            <a:ext cx="458640" cy="441360"/>
            <a:chOff x="2467080" y="2500200"/>
            <a:chExt cx="458640" cy="441360"/>
          </a:xfrm>
        </p:grpSpPr>
        <p:sp>
          <p:nvSpPr>
            <p:cNvPr id="201" name=""/>
            <p:cNvSpPr/>
            <p:nvPr/>
          </p:nvSpPr>
          <p:spPr>
            <a:xfrm>
              <a:off x="2467080" y="2500200"/>
              <a:ext cx="458640" cy="441360"/>
            </a:xfrm>
            <a:custGeom>
              <a:avLst/>
              <a:gdLst/>
              <a:ahLst/>
              <a:rect l="l" t="t" r="r" b="b"/>
              <a:pathLst>
                <a:path w="289" h="278">
                  <a:moveTo>
                    <a:pt x="0" y="138"/>
                  </a:moveTo>
                  <a:lnTo>
                    <a:pt x="2" y="107"/>
                  </a:lnTo>
                  <a:lnTo>
                    <a:pt x="11" y="78"/>
                  </a:lnTo>
                  <a:lnTo>
                    <a:pt x="25" y="55"/>
                  </a:lnTo>
                  <a:lnTo>
                    <a:pt x="44" y="35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6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6" y="9"/>
                  </a:lnTo>
                  <a:lnTo>
                    <a:pt x="220" y="20"/>
                  </a:lnTo>
                  <a:lnTo>
                    <a:pt x="243" y="35"/>
                  </a:lnTo>
                  <a:lnTo>
                    <a:pt x="261" y="55"/>
                  </a:lnTo>
                  <a:lnTo>
                    <a:pt x="276" y="78"/>
                  </a:lnTo>
                  <a:lnTo>
                    <a:pt x="285" y="107"/>
                  </a:lnTo>
                  <a:lnTo>
                    <a:pt x="288" y="138"/>
                  </a:lnTo>
                  <a:lnTo>
                    <a:pt x="285" y="172"/>
                  </a:lnTo>
                  <a:lnTo>
                    <a:pt x="276" y="200"/>
                  </a:lnTo>
                  <a:lnTo>
                    <a:pt x="261" y="224"/>
                  </a:lnTo>
                  <a:lnTo>
                    <a:pt x="243" y="243"/>
                  </a:lnTo>
                  <a:lnTo>
                    <a:pt x="220" y="258"/>
                  </a:lnTo>
                  <a:lnTo>
                    <a:pt x="196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6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3"/>
                  </a:lnTo>
                  <a:lnTo>
                    <a:pt x="25" y="224"/>
                  </a:lnTo>
                  <a:lnTo>
                    <a:pt x="11" y="200"/>
                  </a:lnTo>
                  <a:lnTo>
                    <a:pt x="2" y="172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74720" y="2568600"/>
              <a:ext cx="2617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157640" y="2541600"/>
            <a:ext cx="460080" cy="441360"/>
            <a:chOff x="4157640" y="2541600"/>
            <a:chExt cx="460080" cy="441360"/>
          </a:xfrm>
        </p:grpSpPr>
        <p:sp>
          <p:nvSpPr>
            <p:cNvPr id="204" name=""/>
            <p:cNvSpPr/>
            <p:nvPr/>
          </p:nvSpPr>
          <p:spPr>
            <a:xfrm>
              <a:off x="4157640" y="2541600"/>
              <a:ext cx="460080" cy="44136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0" y="138"/>
                  </a:moveTo>
                  <a:lnTo>
                    <a:pt x="2" y="107"/>
                  </a:lnTo>
                  <a:lnTo>
                    <a:pt x="12" y="78"/>
                  </a:lnTo>
                  <a:lnTo>
                    <a:pt x="26" y="55"/>
                  </a:lnTo>
                  <a:lnTo>
                    <a:pt x="44" y="35"/>
                  </a:lnTo>
                  <a:lnTo>
                    <a:pt x="66" y="20"/>
                  </a:lnTo>
                  <a:lnTo>
                    <a:pt x="91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3" y="35"/>
                  </a:lnTo>
                  <a:lnTo>
                    <a:pt x="262" y="55"/>
                  </a:lnTo>
                  <a:lnTo>
                    <a:pt x="276" y="78"/>
                  </a:lnTo>
                  <a:lnTo>
                    <a:pt x="285" y="107"/>
                  </a:lnTo>
                  <a:lnTo>
                    <a:pt x="289" y="138"/>
                  </a:lnTo>
                  <a:lnTo>
                    <a:pt x="285" y="172"/>
                  </a:lnTo>
                  <a:lnTo>
                    <a:pt x="276" y="200"/>
                  </a:lnTo>
                  <a:lnTo>
                    <a:pt x="262" y="224"/>
                  </a:lnTo>
                  <a:lnTo>
                    <a:pt x="243" y="243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1" y="269"/>
                  </a:lnTo>
                  <a:lnTo>
                    <a:pt x="66" y="258"/>
                  </a:lnTo>
                  <a:lnTo>
                    <a:pt x="44" y="243"/>
                  </a:lnTo>
                  <a:lnTo>
                    <a:pt x="26" y="224"/>
                  </a:lnTo>
                  <a:lnTo>
                    <a:pt x="12" y="200"/>
                  </a:lnTo>
                  <a:lnTo>
                    <a:pt x="2" y="172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7080" y="2610000"/>
              <a:ext cx="26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265480" y="2870280"/>
            <a:ext cx="460080" cy="439560"/>
            <a:chOff x="2265480" y="2870280"/>
            <a:chExt cx="460080" cy="439560"/>
          </a:xfrm>
        </p:grpSpPr>
        <p:sp>
          <p:nvSpPr>
            <p:cNvPr id="207" name=""/>
            <p:cNvSpPr/>
            <p:nvPr/>
          </p:nvSpPr>
          <p:spPr>
            <a:xfrm>
              <a:off x="2265480" y="2870280"/>
              <a:ext cx="460080" cy="439560"/>
            </a:xfrm>
            <a:custGeom>
              <a:avLst/>
              <a:gdLst/>
              <a:ahLst/>
              <a:rect l="l" t="t" r="r" b="b"/>
              <a:pathLst>
                <a:path w="290" h="277">
                  <a:moveTo>
                    <a:pt x="0" y="138"/>
                  </a:moveTo>
                  <a:lnTo>
                    <a:pt x="2" y="106"/>
                  </a:lnTo>
                  <a:lnTo>
                    <a:pt x="11" y="78"/>
                  </a:lnTo>
                  <a:lnTo>
                    <a:pt x="25" y="54"/>
                  </a:lnTo>
                  <a:lnTo>
                    <a:pt x="44" y="34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3" y="34"/>
                  </a:lnTo>
                  <a:lnTo>
                    <a:pt x="262" y="54"/>
                  </a:lnTo>
                  <a:lnTo>
                    <a:pt x="276" y="78"/>
                  </a:lnTo>
                  <a:lnTo>
                    <a:pt x="285" y="106"/>
                  </a:lnTo>
                  <a:lnTo>
                    <a:pt x="289" y="138"/>
                  </a:lnTo>
                  <a:lnTo>
                    <a:pt x="285" y="171"/>
                  </a:lnTo>
                  <a:lnTo>
                    <a:pt x="276" y="199"/>
                  </a:lnTo>
                  <a:lnTo>
                    <a:pt x="262" y="223"/>
                  </a:lnTo>
                  <a:lnTo>
                    <a:pt x="243" y="242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0" y="275"/>
                  </a:lnTo>
                  <a:lnTo>
                    <a:pt x="144" y="276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1" y="199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73120" y="2938320"/>
              <a:ext cx="2617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375080" y="2882880"/>
            <a:ext cx="465120" cy="439920"/>
            <a:chOff x="4375080" y="2882880"/>
            <a:chExt cx="465120" cy="439920"/>
          </a:xfrm>
        </p:grpSpPr>
        <p:sp>
          <p:nvSpPr>
            <p:cNvPr id="210" name=""/>
            <p:cNvSpPr/>
            <p:nvPr/>
          </p:nvSpPr>
          <p:spPr>
            <a:xfrm>
              <a:off x="4375080" y="2882880"/>
              <a:ext cx="465120" cy="439920"/>
            </a:xfrm>
            <a:custGeom>
              <a:avLst/>
              <a:gdLst/>
              <a:ahLst/>
              <a:rect l="l" t="t" r="r" b="b"/>
              <a:pathLst>
                <a:path w="293" h="277">
                  <a:moveTo>
                    <a:pt x="0" y="138"/>
                  </a:moveTo>
                  <a:lnTo>
                    <a:pt x="3" y="106"/>
                  </a:lnTo>
                  <a:lnTo>
                    <a:pt x="13" y="78"/>
                  </a:lnTo>
                  <a:lnTo>
                    <a:pt x="26" y="54"/>
                  </a:lnTo>
                  <a:lnTo>
                    <a:pt x="46" y="34"/>
                  </a:lnTo>
                  <a:lnTo>
                    <a:pt x="67" y="20"/>
                  </a:lnTo>
                  <a:lnTo>
                    <a:pt x="92" y="9"/>
                  </a:lnTo>
                  <a:lnTo>
                    <a:pt x="119" y="3"/>
                  </a:lnTo>
                  <a:lnTo>
                    <a:pt x="146" y="0"/>
                  </a:lnTo>
                  <a:lnTo>
                    <a:pt x="172" y="3"/>
                  </a:lnTo>
                  <a:lnTo>
                    <a:pt x="199" y="9"/>
                  </a:lnTo>
                  <a:lnTo>
                    <a:pt x="223" y="20"/>
                  </a:lnTo>
                  <a:lnTo>
                    <a:pt x="246" y="34"/>
                  </a:lnTo>
                  <a:lnTo>
                    <a:pt x="264" y="54"/>
                  </a:lnTo>
                  <a:lnTo>
                    <a:pt x="278" y="78"/>
                  </a:lnTo>
                  <a:lnTo>
                    <a:pt x="288" y="106"/>
                  </a:lnTo>
                  <a:lnTo>
                    <a:pt x="292" y="138"/>
                  </a:lnTo>
                  <a:lnTo>
                    <a:pt x="288" y="171"/>
                  </a:lnTo>
                  <a:lnTo>
                    <a:pt x="278" y="200"/>
                  </a:lnTo>
                  <a:lnTo>
                    <a:pt x="264" y="223"/>
                  </a:lnTo>
                  <a:lnTo>
                    <a:pt x="246" y="242"/>
                  </a:lnTo>
                  <a:lnTo>
                    <a:pt x="223" y="257"/>
                  </a:lnTo>
                  <a:lnTo>
                    <a:pt x="199" y="268"/>
                  </a:lnTo>
                  <a:lnTo>
                    <a:pt x="172" y="275"/>
                  </a:lnTo>
                  <a:lnTo>
                    <a:pt x="146" y="276"/>
                  </a:lnTo>
                  <a:lnTo>
                    <a:pt x="119" y="275"/>
                  </a:lnTo>
                  <a:lnTo>
                    <a:pt x="92" y="268"/>
                  </a:lnTo>
                  <a:lnTo>
                    <a:pt x="67" y="257"/>
                  </a:lnTo>
                  <a:lnTo>
                    <a:pt x="46" y="242"/>
                  </a:lnTo>
                  <a:lnTo>
                    <a:pt x="26" y="223"/>
                  </a:lnTo>
                  <a:lnTo>
                    <a:pt x="13" y="200"/>
                  </a:lnTo>
                  <a:lnTo>
                    <a:pt x="3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85960" y="2951280"/>
              <a:ext cx="262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361040" y="3314880"/>
            <a:ext cx="460080" cy="441000"/>
            <a:chOff x="4361040" y="3314880"/>
            <a:chExt cx="460080" cy="441000"/>
          </a:xfrm>
        </p:grpSpPr>
        <p:sp>
          <p:nvSpPr>
            <p:cNvPr id="213" name=""/>
            <p:cNvSpPr/>
            <p:nvPr/>
          </p:nvSpPr>
          <p:spPr>
            <a:xfrm>
              <a:off x="4361040" y="3314880"/>
              <a:ext cx="460080" cy="44100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0" y="138"/>
                  </a:moveTo>
                  <a:lnTo>
                    <a:pt x="2" y="107"/>
                  </a:lnTo>
                  <a:lnTo>
                    <a:pt x="11" y="78"/>
                  </a:lnTo>
                  <a:lnTo>
                    <a:pt x="25" y="55"/>
                  </a:lnTo>
                  <a:lnTo>
                    <a:pt x="44" y="35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4" y="35"/>
                  </a:lnTo>
                  <a:lnTo>
                    <a:pt x="261" y="55"/>
                  </a:lnTo>
                  <a:lnTo>
                    <a:pt x="276" y="78"/>
                  </a:lnTo>
                  <a:lnTo>
                    <a:pt x="285" y="107"/>
                  </a:lnTo>
                  <a:lnTo>
                    <a:pt x="289" y="138"/>
                  </a:lnTo>
                  <a:lnTo>
                    <a:pt x="285" y="171"/>
                  </a:lnTo>
                  <a:lnTo>
                    <a:pt x="276" y="200"/>
                  </a:lnTo>
                  <a:lnTo>
                    <a:pt x="261" y="223"/>
                  </a:lnTo>
                  <a:lnTo>
                    <a:pt x="244" y="242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1" y="200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68680" y="3382920"/>
              <a:ext cx="2617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21000" y="3730680"/>
            <a:ext cx="461880" cy="441360"/>
            <a:chOff x="4221000" y="3730680"/>
            <a:chExt cx="461880" cy="441360"/>
          </a:xfrm>
        </p:grpSpPr>
        <p:sp>
          <p:nvSpPr>
            <p:cNvPr id="216" name=""/>
            <p:cNvSpPr/>
            <p:nvPr/>
          </p:nvSpPr>
          <p:spPr>
            <a:xfrm>
              <a:off x="4221000" y="3730680"/>
              <a:ext cx="461880" cy="441360"/>
            </a:xfrm>
            <a:custGeom>
              <a:avLst/>
              <a:gdLst/>
              <a:ahLst/>
              <a:rect l="l" t="t" r="r" b="b"/>
              <a:pathLst>
                <a:path w="291" h="278">
                  <a:moveTo>
                    <a:pt x="0" y="138"/>
                  </a:moveTo>
                  <a:lnTo>
                    <a:pt x="2" y="106"/>
                  </a:lnTo>
                  <a:lnTo>
                    <a:pt x="11" y="78"/>
                  </a:lnTo>
                  <a:lnTo>
                    <a:pt x="25" y="54"/>
                  </a:lnTo>
                  <a:lnTo>
                    <a:pt x="44" y="34"/>
                  </a:lnTo>
                  <a:lnTo>
                    <a:pt x="66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1" y="3"/>
                  </a:lnTo>
                  <a:lnTo>
                    <a:pt x="198" y="9"/>
                  </a:lnTo>
                  <a:lnTo>
                    <a:pt x="222" y="20"/>
                  </a:lnTo>
                  <a:lnTo>
                    <a:pt x="244" y="34"/>
                  </a:lnTo>
                  <a:lnTo>
                    <a:pt x="262" y="54"/>
                  </a:lnTo>
                  <a:lnTo>
                    <a:pt x="277" y="78"/>
                  </a:lnTo>
                  <a:lnTo>
                    <a:pt x="286" y="106"/>
                  </a:lnTo>
                  <a:lnTo>
                    <a:pt x="290" y="138"/>
                  </a:lnTo>
                  <a:lnTo>
                    <a:pt x="286" y="171"/>
                  </a:lnTo>
                  <a:lnTo>
                    <a:pt x="277" y="200"/>
                  </a:lnTo>
                  <a:lnTo>
                    <a:pt x="262" y="223"/>
                  </a:lnTo>
                  <a:lnTo>
                    <a:pt x="244" y="242"/>
                  </a:lnTo>
                  <a:lnTo>
                    <a:pt x="222" y="258"/>
                  </a:lnTo>
                  <a:lnTo>
                    <a:pt x="198" y="268"/>
                  </a:lnTo>
                  <a:lnTo>
                    <a:pt x="171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8"/>
                  </a:lnTo>
                  <a:lnTo>
                    <a:pt x="66" y="258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1" y="200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29000" y="3797280"/>
              <a:ext cx="2635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181240" y="3324240"/>
            <a:ext cx="460080" cy="442800"/>
            <a:chOff x="2181240" y="3324240"/>
            <a:chExt cx="460080" cy="442800"/>
          </a:xfrm>
        </p:grpSpPr>
        <p:sp>
          <p:nvSpPr>
            <p:cNvPr id="219" name=""/>
            <p:cNvSpPr/>
            <p:nvPr/>
          </p:nvSpPr>
          <p:spPr>
            <a:xfrm>
              <a:off x="2181240" y="3324240"/>
              <a:ext cx="460080" cy="442800"/>
            </a:xfrm>
            <a:custGeom>
              <a:avLst/>
              <a:gdLst/>
              <a:ahLst/>
              <a:rect l="l" t="t" r="r" b="b"/>
              <a:pathLst>
                <a:path w="290" h="279">
                  <a:moveTo>
                    <a:pt x="0" y="138"/>
                  </a:moveTo>
                  <a:lnTo>
                    <a:pt x="3" y="107"/>
                  </a:lnTo>
                  <a:lnTo>
                    <a:pt x="12" y="78"/>
                  </a:lnTo>
                  <a:lnTo>
                    <a:pt x="26" y="55"/>
                  </a:lnTo>
                  <a:lnTo>
                    <a:pt x="45" y="35"/>
                  </a:lnTo>
                  <a:lnTo>
                    <a:pt x="66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4" y="35"/>
                  </a:lnTo>
                  <a:lnTo>
                    <a:pt x="262" y="55"/>
                  </a:lnTo>
                  <a:lnTo>
                    <a:pt x="276" y="78"/>
                  </a:lnTo>
                  <a:lnTo>
                    <a:pt x="286" y="107"/>
                  </a:lnTo>
                  <a:lnTo>
                    <a:pt x="289" y="138"/>
                  </a:lnTo>
                  <a:lnTo>
                    <a:pt x="286" y="172"/>
                  </a:lnTo>
                  <a:lnTo>
                    <a:pt x="276" y="200"/>
                  </a:lnTo>
                  <a:lnTo>
                    <a:pt x="262" y="224"/>
                  </a:lnTo>
                  <a:lnTo>
                    <a:pt x="244" y="244"/>
                  </a:lnTo>
                  <a:lnTo>
                    <a:pt x="221" y="259"/>
                  </a:lnTo>
                  <a:lnTo>
                    <a:pt x="197" y="270"/>
                  </a:lnTo>
                  <a:lnTo>
                    <a:pt x="170" y="276"/>
                  </a:lnTo>
                  <a:lnTo>
                    <a:pt x="144" y="278"/>
                  </a:lnTo>
                  <a:lnTo>
                    <a:pt x="117" y="276"/>
                  </a:lnTo>
                  <a:lnTo>
                    <a:pt x="90" y="270"/>
                  </a:lnTo>
                  <a:lnTo>
                    <a:pt x="66" y="259"/>
                  </a:lnTo>
                  <a:lnTo>
                    <a:pt x="45" y="244"/>
                  </a:lnTo>
                  <a:lnTo>
                    <a:pt x="26" y="224"/>
                  </a:lnTo>
                  <a:lnTo>
                    <a:pt x="12" y="200"/>
                  </a:lnTo>
                  <a:lnTo>
                    <a:pt x="3" y="172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90680" y="3392640"/>
              <a:ext cx="26028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236680" y="3741840"/>
            <a:ext cx="460440" cy="441360"/>
            <a:chOff x="2236680" y="3741840"/>
            <a:chExt cx="460440" cy="441360"/>
          </a:xfrm>
        </p:grpSpPr>
        <p:sp>
          <p:nvSpPr>
            <p:cNvPr id="222" name=""/>
            <p:cNvSpPr/>
            <p:nvPr/>
          </p:nvSpPr>
          <p:spPr>
            <a:xfrm>
              <a:off x="2236680" y="3741840"/>
              <a:ext cx="460440" cy="44136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0" y="138"/>
                  </a:moveTo>
                  <a:lnTo>
                    <a:pt x="3" y="107"/>
                  </a:lnTo>
                  <a:lnTo>
                    <a:pt x="12" y="78"/>
                  </a:lnTo>
                  <a:lnTo>
                    <a:pt x="26" y="55"/>
                  </a:lnTo>
                  <a:lnTo>
                    <a:pt x="44" y="34"/>
                  </a:lnTo>
                  <a:lnTo>
                    <a:pt x="66" y="20"/>
                  </a:lnTo>
                  <a:lnTo>
                    <a:pt x="91" y="9"/>
                  </a:lnTo>
                  <a:lnTo>
                    <a:pt x="117" y="3"/>
                  </a:lnTo>
                  <a:lnTo>
                    <a:pt x="145" y="0"/>
                  </a:lnTo>
                  <a:lnTo>
                    <a:pt x="171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4" y="34"/>
                  </a:lnTo>
                  <a:lnTo>
                    <a:pt x="262" y="55"/>
                  </a:lnTo>
                  <a:lnTo>
                    <a:pt x="277" y="78"/>
                  </a:lnTo>
                  <a:lnTo>
                    <a:pt x="286" y="107"/>
                  </a:lnTo>
                  <a:lnTo>
                    <a:pt x="289" y="138"/>
                  </a:lnTo>
                  <a:lnTo>
                    <a:pt x="286" y="171"/>
                  </a:lnTo>
                  <a:lnTo>
                    <a:pt x="277" y="200"/>
                  </a:lnTo>
                  <a:lnTo>
                    <a:pt x="262" y="223"/>
                  </a:lnTo>
                  <a:lnTo>
                    <a:pt x="244" y="242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1" y="275"/>
                  </a:lnTo>
                  <a:lnTo>
                    <a:pt x="145" y="277"/>
                  </a:lnTo>
                  <a:lnTo>
                    <a:pt x="117" y="275"/>
                  </a:lnTo>
                  <a:lnTo>
                    <a:pt x="91" y="269"/>
                  </a:lnTo>
                  <a:lnTo>
                    <a:pt x="66" y="258"/>
                  </a:lnTo>
                  <a:lnTo>
                    <a:pt x="44" y="242"/>
                  </a:lnTo>
                  <a:lnTo>
                    <a:pt x="26" y="223"/>
                  </a:lnTo>
                  <a:lnTo>
                    <a:pt x="12" y="200"/>
                  </a:lnTo>
                  <a:lnTo>
                    <a:pt x="3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46120" y="3808440"/>
              <a:ext cx="262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309760" y="4157640"/>
            <a:ext cx="458640" cy="441360"/>
            <a:chOff x="2309760" y="4157640"/>
            <a:chExt cx="458640" cy="441360"/>
          </a:xfrm>
        </p:grpSpPr>
        <p:sp>
          <p:nvSpPr>
            <p:cNvPr id="225" name=""/>
            <p:cNvSpPr/>
            <p:nvPr/>
          </p:nvSpPr>
          <p:spPr>
            <a:xfrm>
              <a:off x="2309760" y="4157640"/>
              <a:ext cx="458640" cy="441360"/>
            </a:xfrm>
            <a:custGeom>
              <a:avLst/>
              <a:gdLst/>
              <a:ahLst/>
              <a:rect l="l" t="t" r="r" b="b"/>
              <a:pathLst>
                <a:path w="289" h="278">
                  <a:moveTo>
                    <a:pt x="0" y="138"/>
                  </a:moveTo>
                  <a:lnTo>
                    <a:pt x="3" y="107"/>
                  </a:lnTo>
                  <a:lnTo>
                    <a:pt x="12" y="78"/>
                  </a:lnTo>
                  <a:lnTo>
                    <a:pt x="26" y="55"/>
                  </a:lnTo>
                  <a:lnTo>
                    <a:pt x="45" y="35"/>
                  </a:lnTo>
                  <a:lnTo>
                    <a:pt x="66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6" y="9"/>
                  </a:lnTo>
                  <a:lnTo>
                    <a:pt x="221" y="20"/>
                  </a:lnTo>
                  <a:lnTo>
                    <a:pt x="243" y="35"/>
                  </a:lnTo>
                  <a:lnTo>
                    <a:pt x="261" y="55"/>
                  </a:lnTo>
                  <a:lnTo>
                    <a:pt x="276" y="78"/>
                  </a:lnTo>
                  <a:lnTo>
                    <a:pt x="285" y="107"/>
                  </a:lnTo>
                  <a:lnTo>
                    <a:pt x="288" y="138"/>
                  </a:lnTo>
                  <a:lnTo>
                    <a:pt x="285" y="171"/>
                  </a:lnTo>
                  <a:lnTo>
                    <a:pt x="276" y="200"/>
                  </a:lnTo>
                  <a:lnTo>
                    <a:pt x="261" y="224"/>
                  </a:lnTo>
                  <a:lnTo>
                    <a:pt x="243" y="242"/>
                  </a:lnTo>
                  <a:lnTo>
                    <a:pt x="221" y="258"/>
                  </a:lnTo>
                  <a:lnTo>
                    <a:pt x="196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6" y="258"/>
                  </a:lnTo>
                  <a:lnTo>
                    <a:pt x="45" y="242"/>
                  </a:lnTo>
                  <a:lnTo>
                    <a:pt x="26" y="224"/>
                  </a:lnTo>
                  <a:lnTo>
                    <a:pt x="12" y="200"/>
                  </a:lnTo>
                  <a:lnTo>
                    <a:pt x="3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19200" y="4224240"/>
              <a:ext cx="260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197840" y="4068720"/>
            <a:ext cx="460440" cy="441360"/>
            <a:chOff x="7197840" y="4068720"/>
            <a:chExt cx="460440" cy="441360"/>
          </a:xfrm>
        </p:grpSpPr>
        <p:sp>
          <p:nvSpPr>
            <p:cNvPr id="228" name=""/>
            <p:cNvSpPr/>
            <p:nvPr/>
          </p:nvSpPr>
          <p:spPr>
            <a:xfrm>
              <a:off x="7197840" y="4068720"/>
              <a:ext cx="460440" cy="44136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0" y="138"/>
                  </a:moveTo>
                  <a:lnTo>
                    <a:pt x="2" y="107"/>
                  </a:lnTo>
                  <a:lnTo>
                    <a:pt x="11" y="79"/>
                  </a:lnTo>
                  <a:lnTo>
                    <a:pt x="25" y="55"/>
                  </a:lnTo>
                  <a:lnTo>
                    <a:pt x="44" y="35"/>
                  </a:lnTo>
                  <a:lnTo>
                    <a:pt x="65" y="20"/>
                  </a:lnTo>
                  <a:lnTo>
                    <a:pt x="90" y="10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10"/>
                  </a:lnTo>
                  <a:lnTo>
                    <a:pt x="221" y="20"/>
                  </a:lnTo>
                  <a:lnTo>
                    <a:pt x="243" y="35"/>
                  </a:lnTo>
                  <a:lnTo>
                    <a:pt x="261" y="55"/>
                  </a:lnTo>
                  <a:lnTo>
                    <a:pt x="276" y="79"/>
                  </a:lnTo>
                  <a:lnTo>
                    <a:pt x="285" y="107"/>
                  </a:lnTo>
                  <a:lnTo>
                    <a:pt x="289" y="138"/>
                  </a:lnTo>
                  <a:lnTo>
                    <a:pt x="285" y="172"/>
                  </a:lnTo>
                  <a:lnTo>
                    <a:pt x="276" y="200"/>
                  </a:lnTo>
                  <a:lnTo>
                    <a:pt x="261" y="224"/>
                  </a:lnTo>
                  <a:lnTo>
                    <a:pt x="243" y="242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4"/>
                  </a:lnTo>
                  <a:lnTo>
                    <a:pt x="11" y="200"/>
                  </a:lnTo>
                  <a:lnTo>
                    <a:pt x="2" y="172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05840" y="4137120"/>
              <a:ext cx="262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602240" y="4476600"/>
            <a:ext cx="461880" cy="441360"/>
            <a:chOff x="4602240" y="4476600"/>
            <a:chExt cx="461880" cy="441360"/>
          </a:xfrm>
        </p:grpSpPr>
        <p:sp>
          <p:nvSpPr>
            <p:cNvPr id="231" name=""/>
            <p:cNvSpPr/>
            <p:nvPr/>
          </p:nvSpPr>
          <p:spPr>
            <a:xfrm>
              <a:off x="4602240" y="4476600"/>
              <a:ext cx="461880" cy="441360"/>
            </a:xfrm>
            <a:custGeom>
              <a:avLst/>
              <a:gdLst/>
              <a:ahLst/>
              <a:rect l="l" t="t" r="r" b="b"/>
              <a:pathLst>
                <a:path w="291" h="278">
                  <a:moveTo>
                    <a:pt x="0" y="138"/>
                  </a:moveTo>
                  <a:lnTo>
                    <a:pt x="2" y="107"/>
                  </a:lnTo>
                  <a:lnTo>
                    <a:pt x="12" y="78"/>
                  </a:lnTo>
                  <a:lnTo>
                    <a:pt x="25" y="55"/>
                  </a:lnTo>
                  <a:lnTo>
                    <a:pt x="45" y="35"/>
                  </a:lnTo>
                  <a:lnTo>
                    <a:pt x="66" y="20"/>
                  </a:lnTo>
                  <a:lnTo>
                    <a:pt x="91" y="9"/>
                  </a:lnTo>
                  <a:lnTo>
                    <a:pt x="118" y="3"/>
                  </a:lnTo>
                  <a:lnTo>
                    <a:pt x="145" y="0"/>
                  </a:lnTo>
                  <a:lnTo>
                    <a:pt x="171" y="3"/>
                  </a:lnTo>
                  <a:lnTo>
                    <a:pt x="198" y="9"/>
                  </a:lnTo>
                  <a:lnTo>
                    <a:pt x="222" y="20"/>
                  </a:lnTo>
                  <a:lnTo>
                    <a:pt x="244" y="35"/>
                  </a:lnTo>
                  <a:lnTo>
                    <a:pt x="263" y="55"/>
                  </a:lnTo>
                  <a:lnTo>
                    <a:pt x="277" y="78"/>
                  </a:lnTo>
                  <a:lnTo>
                    <a:pt x="286" y="107"/>
                  </a:lnTo>
                  <a:lnTo>
                    <a:pt x="290" y="138"/>
                  </a:lnTo>
                  <a:lnTo>
                    <a:pt x="286" y="171"/>
                  </a:lnTo>
                  <a:lnTo>
                    <a:pt x="277" y="200"/>
                  </a:lnTo>
                  <a:lnTo>
                    <a:pt x="263" y="224"/>
                  </a:lnTo>
                  <a:lnTo>
                    <a:pt x="244" y="242"/>
                  </a:lnTo>
                  <a:lnTo>
                    <a:pt x="222" y="258"/>
                  </a:lnTo>
                  <a:lnTo>
                    <a:pt x="198" y="269"/>
                  </a:lnTo>
                  <a:lnTo>
                    <a:pt x="171" y="275"/>
                  </a:lnTo>
                  <a:lnTo>
                    <a:pt x="145" y="277"/>
                  </a:lnTo>
                  <a:lnTo>
                    <a:pt x="118" y="275"/>
                  </a:lnTo>
                  <a:lnTo>
                    <a:pt x="91" y="269"/>
                  </a:lnTo>
                  <a:lnTo>
                    <a:pt x="66" y="258"/>
                  </a:lnTo>
                  <a:lnTo>
                    <a:pt x="45" y="242"/>
                  </a:lnTo>
                  <a:lnTo>
                    <a:pt x="25" y="224"/>
                  </a:lnTo>
                  <a:lnTo>
                    <a:pt x="12" y="200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1680" y="4545000"/>
              <a:ext cx="2613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229360" y="4135320"/>
            <a:ext cx="458640" cy="441360"/>
            <a:chOff x="5229360" y="4135320"/>
            <a:chExt cx="458640" cy="441360"/>
          </a:xfrm>
        </p:grpSpPr>
        <p:sp>
          <p:nvSpPr>
            <p:cNvPr id="234" name=""/>
            <p:cNvSpPr/>
            <p:nvPr/>
          </p:nvSpPr>
          <p:spPr>
            <a:xfrm>
              <a:off x="5229360" y="4135320"/>
              <a:ext cx="458640" cy="441360"/>
            </a:xfrm>
            <a:custGeom>
              <a:avLst/>
              <a:gdLst/>
              <a:ahLst/>
              <a:rect l="l" t="t" r="r" b="b"/>
              <a:pathLst>
                <a:path w="289" h="278">
                  <a:moveTo>
                    <a:pt x="0" y="138"/>
                  </a:moveTo>
                  <a:lnTo>
                    <a:pt x="2" y="107"/>
                  </a:lnTo>
                  <a:lnTo>
                    <a:pt x="11" y="78"/>
                  </a:lnTo>
                  <a:lnTo>
                    <a:pt x="25" y="55"/>
                  </a:lnTo>
                  <a:lnTo>
                    <a:pt x="44" y="35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6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6" y="9"/>
                  </a:lnTo>
                  <a:lnTo>
                    <a:pt x="221" y="20"/>
                  </a:lnTo>
                  <a:lnTo>
                    <a:pt x="243" y="35"/>
                  </a:lnTo>
                  <a:lnTo>
                    <a:pt x="261" y="55"/>
                  </a:lnTo>
                  <a:lnTo>
                    <a:pt x="276" y="78"/>
                  </a:lnTo>
                  <a:lnTo>
                    <a:pt x="285" y="107"/>
                  </a:lnTo>
                  <a:lnTo>
                    <a:pt x="288" y="138"/>
                  </a:lnTo>
                  <a:lnTo>
                    <a:pt x="285" y="172"/>
                  </a:lnTo>
                  <a:lnTo>
                    <a:pt x="276" y="200"/>
                  </a:lnTo>
                  <a:lnTo>
                    <a:pt x="261" y="224"/>
                  </a:lnTo>
                  <a:lnTo>
                    <a:pt x="243" y="242"/>
                  </a:lnTo>
                  <a:lnTo>
                    <a:pt x="221" y="258"/>
                  </a:lnTo>
                  <a:lnTo>
                    <a:pt x="196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6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4"/>
                  </a:lnTo>
                  <a:lnTo>
                    <a:pt x="11" y="200"/>
                  </a:lnTo>
                  <a:lnTo>
                    <a:pt x="2" y="172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7000" y="4203720"/>
              <a:ext cx="2617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46840" y="4549680"/>
            <a:ext cx="460080" cy="441360"/>
            <a:chOff x="5046840" y="4549680"/>
            <a:chExt cx="460080" cy="441360"/>
          </a:xfrm>
        </p:grpSpPr>
        <p:sp>
          <p:nvSpPr>
            <p:cNvPr id="237" name=""/>
            <p:cNvSpPr/>
            <p:nvPr/>
          </p:nvSpPr>
          <p:spPr>
            <a:xfrm>
              <a:off x="5046840" y="4549680"/>
              <a:ext cx="460080" cy="44136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0" y="138"/>
                  </a:moveTo>
                  <a:lnTo>
                    <a:pt x="2" y="107"/>
                  </a:lnTo>
                  <a:lnTo>
                    <a:pt x="11" y="78"/>
                  </a:lnTo>
                  <a:lnTo>
                    <a:pt x="25" y="55"/>
                  </a:lnTo>
                  <a:lnTo>
                    <a:pt x="44" y="35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3" y="35"/>
                  </a:lnTo>
                  <a:lnTo>
                    <a:pt x="261" y="55"/>
                  </a:lnTo>
                  <a:lnTo>
                    <a:pt x="276" y="78"/>
                  </a:lnTo>
                  <a:lnTo>
                    <a:pt x="285" y="107"/>
                  </a:lnTo>
                  <a:lnTo>
                    <a:pt x="289" y="138"/>
                  </a:lnTo>
                  <a:lnTo>
                    <a:pt x="285" y="172"/>
                  </a:lnTo>
                  <a:lnTo>
                    <a:pt x="276" y="200"/>
                  </a:lnTo>
                  <a:lnTo>
                    <a:pt x="261" y="224"/>
                  </a:lnTo>
                  <a:lnTo>
                    <a:pt x="243" y="242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4"/>
                  </a:lnTo>
                  <a:lnTo>
                    <a:pt x="11" y="200"/>
                  </a:lnTo>
                  <a:lnTo>
                    <a:pt x="2" y="172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54480" y="4618080"/>
              <a:ext cx="2617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520040" y="4383000"/>
            <a:ext cx="458640" cy="441360"/>
            <a:chOff x="7520040" y="4383000"/>
            <a:chExt cx="458640" cy="441360"/>
          </a:xfrm>
        </p:grpSpPr>
        <p:sp>
          <p:nvSpPr>
            <p:cNvPr id="240" name=""/>
            <p:cNvSpPr/>
            <p:nvPr/>
          </p:nvSpPr>
          <p:spPr>
            <a:xfrm>
              <a:off x="7520040" y="4383000"/>
              <a:ext cx="458640" cy="441360"/>
            </a:xfrm>
            <a:custGeom>
              <a:avLst/>
              <a:gdLst/>
              <a:ahLst/>
              <a:rect l="l" t="t" r="r" b="b"/>
              <a:pathLst>
                <a:path w="289" h="278">
                  <a:moveTo>
                    <a:pt x="0" y="138"/>
                  </a:moveTo>
                  <a:lnTo>
                    <a:pt x="2" y="107"/>
                  </a:lnTo>
                  <a:lnTo>
                    <a:pt x="11" y="78"/>
                  </a:lnTo>
                  <a:lnTo>
                    <a:pt x="25" y="54"/>
                  </a:lnTo>
                  <a:lnTo>
                    <a:pt x="44" y="34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69" y="3"/>
                  </a:lnTo>
                  <a:lnTo>
                    <a:pt x="196" y="9"/>
                  </a:lnTo>
                  <a:lnTo>
                    <a:pt x="220" y="20"/>
                  </a:lnTo>
                  <a:lnTo>
                    <a:pt x="242" y="34"/>
                  </a:lnTo>
                  <a:lnTo>
                    <a:pt x="261" y="54"/>
                  </a:lnTo>
                  <a:lnTo>
                    <a:pt x="275" y="78"/>
                  </a:lnTo>
                  <a:lnTo>
                    <a:pt x="284" y="107"/>
                  </a:lnTo>
                  <a:lnTo>
                    <a:pt x="288" y="138"/>
                  </a:lnTo>
                  <a:lnTo>
                    <a:pt x="284" y="171"/>
                  </a:lnTo>
                  <a:lnTo>
                    <a:pt x="275" y="200"/>
                  </a:lnTo>
                  <a:lnTo>
                    <a:pt x="261" y="223"/>
                  </a:lnTo>
                  <a:lnTo>
                    <a:pt x="242" y="242"/>
                  </a:lnTo>
                  <a:lnTo>
                    <a:pt x="220" y="258"/>
                  </a:lnTo>
                  <a:lnTo>
                    <a:pt x="196" y="269"/>
                  </a:lnTo>
                  <a:lnTo>
                    <a:pt x="169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1" y="200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27680" y="4451400"/>
              <a:ext cx="26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027920" y="3662280"/>
            <a:ext cx="460440" cy="439920"/>
            <a:chOff x="7027920" y="3662280"/>
            <a:chExt cx="460440" cy="439920"/>
          </a:xfrm>
        </p:grpSpPr>
        <p:sp>
          <p:nvSpPr>
            <p:cNvPr id="243" name=""/>
            <p:cNvSpPr/>
            <p:nvPr/>
          </p:nvSpPr>
          <p:spPr>
            <a:xfrm>
              <a:off x="7027920" y="3662280"/>
              <a:ext cx="460440" cy="439920"/>
            </a:xfrm>
            <a:custGeom>
              <a:avLst/>
              <a:gdLst/>
              <a:ahLst/>
              <a:rect l="l" t="t" r="r" b="b"/>
              <a:pathLst>
                <a:path w="290" h="277">
                  <a:moveTo>
                    <a:pt x="0" y="138"/>
                  </a:moveTo>
                  <a:lnTo>
                    <a:pt x="3" y="106"/>
                  </a:lnTo>
                  <a:lnTo>
                    <a:pt x="12" y="78"/>
                  </a:lnTo>
                  <a:lnTo>
                    <a:pt x="26" y="54"/>
                  </a:lnTo>
                  <a:lnTo>
                    <a:pt x="44" y="34"/>
                  </a:lnTo>
                  <a:lnTo>
                    <a:pt x="66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4" y="34"/>
                  </a:lnTo>
                  <a:lnTo>
                    <a:pt x="262" y="54"/>
                  </a:lnTo>
                  <a:lnTo>
                    <a:pt x="276" y="78"/>
                  </a:lnTo>
                  <a:lnTo>
                    <a:pt x="285" y="106"/>
                  </a:lnTo>
                  <a:lnTo>
                    <a:pt x="289" y="138"/>
                  </a:lnTo>
                  <a:lnTo>
                    <a:pt x="285" y="171"/>
                  </a:lnTo>
                  <a:lnTo>
                    <a:pt x="276" y="200"/>
                  </a:lnTo>
                  <a:lnTo>
                    <a:pt x="262" y="223"/>
                  </a:lnTo>
                  <a:lnTo>
                    <a:pt x="244" y="242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0" y="275"/>
                  </a:lnTo>
                  <a:lnTo>
                    <a:pt x="144" y="276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6" y="258"/>
                  </a:lnTo>
                  <a:lnTo>
                    <a:pt x="44" y="242"/>
                  </a:lnTo>
                  <a:lnTo>
                    <a:pt x="26" y="223"/>
                  </a:lnTo>
                  <a:lnTo>
                    <a:pt x="12" y="200"/>
                  </a:lnTo>
                  <a:lnTo>
                    <a:pt x="3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37720" y="3728880"/>
              <a:ext cx="2602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649920" y="3400560"/>
            <a:ext cx="461880" cy="442800"/>
            <a:chOff x="6649920" y="3400560"/>
            <a:chExt cx="461880" cy="442800"/>
          </a:xfrm>
        </p:grpSpPr>
        <p:sp>
          <p:nvSpPr>
            <p:cNvPr id="246" name=""/>
            <p:cNvSpPr/>
            <p:nvPr/>
          </p:nvSpPr>
          <p:spPr>
            <a:xfrm>
              <a:off x="6649920" y="3400560"/>
              <a:ext cx="461880" cy="442800"/>
            </a:xfrm>
            <a:custGeom>
              <a:avLst/>
              <a:gdLst/>
              <a:ahLst/>
              <a:rect l="l" t="t" r="r" b="b"/>
              <a:pathLst>
                <a:path w="291" h="279">
                  <a:moveTo>
                    <a:pt x="0" y="139"/>
                  </a:moveTo>
                  <a:lnTo>
                    <a:pt x="2" y="107"/>
                  </a:lnTo>
                  <a:lnTo>
                    <a:pt x="11" y="79"/>
                  </a:lnTo>
                  <a:lnTo>
                    <a:pt x="25" y="55"/>
                  </a:lnTo>
                  <a:lnTo>
                    <a:pt x="44" y="35"/>
                  </a:lnTo>
                  <a:lnTo>
                    <a:pt x="66" y="21"/>
                  </a:lnTo>
                  <a:lnTo>
                    <a:pt x="91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1" y="3"/>
                  </a:lnTo>
                  <a:lnTo>
                    <a:pt x="198" y="9"/>
                  </a:lnTo>
                  <a:lnTo>
                    <a:pt x="222" y="21"/>
                  </a:lnTo>
                  <a:lnTo>
                    <a:pt x="244" y="35"/>
                  </a:lnTo>
                  <a:lnTo>
                    <a:pt x="262" y="55"/>
                  </a:lnTo>
                  <a:lnTo>
                    <a:pt x="277" y="79"/>
                  </a:lnTo>
                  <a:lnTo>
                    <a:pt x="286" y="107"/>
                  </a:lnTo>
                  <a:lnTo>
                    <a:pt x="290" y="139"/>
                  </a:lnTo>
                  <a:lnTo>
                    <a:pt x="286" y="172"/>
                  </a:lnTo>
                  <a:lnTo>
                    <a:pt x="277" y="200"/>
                  </a:lnTo>
                  <a:lnTo>
                    <a:pt x="262" y="224"/>
                  </a:lnTo>
                  <a:lnTo>
                    <a:pt x="244" y="244"/>
                  </a:lnTo>
                  <a:lnTo>
                    <a:pt x="222" y="260"/>
                  </a:lnTo>
                  <a:lnTo>
                    <a:pt x="198" y="271"/>
                  </a:lnTo>
                  <a:lnTo>
                    <a:pt x="171" y="277"/>
                  </a:lnTo>
                  <a:lnTo>
                    <a:pt x="144" y="278"/>
                  </a:lnTo>
                  <a:lnTo>
                    <a:pt x="117" y="277"/>
                  </a:lnTo>
                  <a:lnTo>
                    <a:pt x="91" y="271"/>
                  </a:lnTo>
                  <a:lnTo>
                    <a:pt x="66" y="260"/>
                  </a:lnTo>
                  <a:lnTo>
                    <a:pt x="44" y="244"/>
                  </a:lnTo>
                  <a:lnTo>
                    <a:pt x="25" y="224"/>
                  </a:lnTo>
                  <a:lnTo>
                    <a:pt x="11" y="200"/>
                  </a:lnTo>
                  <a:lnTo>
                    <a:pt x="2" y="172"/>
                  </a:lnTo>
                  <a:lnTo>
                    <a:pt x="0" y="139"/>
                  </a:lnTo>
                  <a:lnTo>
                    <a:pt x="0" y="139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59360" y="3468600"/>
              <a:ext cx="262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213600" y="3411360"/>
            <a:ext cx="460080" cy="439920"/>
            <a:chOff x="6213600" y="3411360"/>
            <a:chExt cx="460080" cy="439920"/>
          </a:xfrm>
        </p:grpSpPr>
        <p:sp>
          <p:nvSpPr>
            <p:cNvPr id="249" name=""/>
            <p:cNvSpPr/>
            <p:nvPr/>
          </p:nvSpPr>
          <p:spPr>
            <a:xfrm>
              <a:off x="6213600" y="3411360"/>
              <a:ext cx="460080" cy="439920"/>
            </a:xfrm>
            <a:custGeom>
              <a:avLst/>
              <a:gdLst/>
              <a:ahLst/>
              <a:rect l="l" t="t" r="r" b="b"/>
              <a:pathLst>
                <a:path w="290" h="277">
                  <a:moveTo>
                    <a:pt x="0" y="138"/>
                  </a:moveTo>
                  <a:lnTo>
                    <a:pt x="2" y="106"/>
                  </a:lnTo>
                  <a:lnTo>
                    <a:pt x="11" y="78"/>
                  </a:lnTo>
                  <a:lnTo>
                    <a:pt x="25" y="54"/>
                  </a:lnTo>
                  <a:lnTo>
                    <a:pt x="44" y="34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3" y="34"/>
                  </a:lnTo>
                  <a:lnTo>
                    <a:pt x="261" y="54"/>
                  </a:lnTo>
                  <a:lnTo>
                    <a:pt x="276" y="78"/>
                  </a:lnTo>
                  <a:lnTo>
                    <a:pt x="285" y="106"/>
                  </a:lnTo>
                  <a:lnTo>
                    <a:pt x="289" y="138"/>
                  </a:lnTo>
                  <a:lnTo>
                    <a:pt x="285" y="171"/>
                  </a:lnTo>
                  <a:lnTo>
                    <a:pt x="276" y="200"/>
                  </a:lnTo>
                  <a:lnTo>
                    <a:pt x="261" y="223"/>
                  </a:lnTo>
                  <a:lnTo>
                    <a:pt x="243" y="242"/>
                  </a:lnTo>
                  <a:lnTo>
                    <a:pt x="221" y="257"/>
                  </a:lnTo>
                  <a:lnTo>
                    <a:pt x="197" y="268"/>
                  </a:lnTo>
                  <a:lnTo>
                    <a:pt x="170" y="275"/>
                  </a:lnTo>
                  <a:lnTo>
                    <a:pt x="144" y="276"/>
                  </a:lnTo>
                  <a:lnTo>
                    <a:pt x="117" y="275"/>
                  </a:lnTo>
                  <a:lnTo>
                    <a:pt x="90" y="268"/>
                  </a:lnTo>
                  <a:lnTo>
                    <a:pt x="65" y="257"/>
                  </a:lnTo>
                  <a:lnTo>
                    <a:pt x="44" y="242"/>
                  </a:lnTo>
                  <a:lnTo>
                    <a:pt x="25" y="223"/>
                  </a:lnTo>
                  <a:lnTo>
                    <a:pt x="11" y="200"/>
                  </a:lnTo>
                  <a:lnTo>
                    <a:pt x="2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1240" y="3478320"/>
              <a:ext cx="2617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730840" y="3443400"/>
            <a:ext cx="460440" cy="441360"/>
            <a:chOff x="5730840" y="3443400"/>
            <a:chExt cx="460440" cy="441360"/>
          </a:xfrm>
        </p:grpSpPr>
        <p:sp>
          <p:nvSpPr>
            <p:cNvPr id="252" name=""/>
            <p:cNvSpPr/>
            <p:nvPr/>
          </p:nvSpPr>
          <p:spPr>
            <a:xfrm>
              <a:off x="5730840" y="3443400"/>
              <a:ext cx="460440" cy="44136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0" y="138"/>
                  </a:moveTo>
                  <a:lnTo>
                    <a:pt x="3" y="107"/>
                  </a:lnTo>
                  <a:lnTo>
                    <a:pt x="12" y="78"/>
                  </a:lnTo>
                  <a:lnTo>
                    <a:pt x="26" y="55"/>
                  </a:lnTo>
                  <a:lnTo>
                    <a:pt x="45" y="35"/>
                  </a:lnTo>
                  <a:lnTo>
                    <a:pt x="66" y="20"/>
                  </a:lnTo>
                  <a:lnTo>
                    <a:pt x="90" y="9"/>
                  </a:lnTo>
                  <a:lnTo>
                    <a:pt x="117" y="3"/>
                  </a:lnTo>
                  <a:lnTo>
                    <a:pt x="144" y="0"/>
                  </a:lnTo>
                  <a:lnTo>
                    <a:pt x="170" y="3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4" y="35"/>
                  </a:lnTo>
                  <a:lnTo>
                    <a:pt x="262" y="55"/>
                  </a:lnTo>
                  <a:lnTo>
                    <a:pt x="276" y="78"/>
                  </a:lnTo>
                  <a:lnTo>
                    <a:pt x="286" y="107"/>
                  </a:lnTo>
                  <a:lnTo>
                    <a:pt x="289" y="138"/>
                  </a:lnTo>
                  <a:lnTo>
                    <a:pt x="286" y="171"/>
                  </a:lnTo>
                  <a:lnTo>
                    <a:pt x="276" y="200"/>
                  </a:lnTo>
                  <a:lnTo>
                    <a:pt x="262" y="224"/>
                  </a:lnTo>
                  <a:lnTo>
                    <a:pt x="244" y="243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6" y="258"/>
                  </a:lnTo>
                  <a:lnTo>
                    <a:pt x="45" y="243"/>
                  </a:lnTo>
                  <a:lnTo>
                    <a:pt x="26" y="224"/>
                  </a:lnTo>
                  <a:lnTo>
                    <a:pt x="12" y="200"/>
                  </a:lnTo>
                  <a:lnTo>
                    <a:pt x="3" y="171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40280" y="3511440"/>
              <a:ext cx="2602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384880" y="3711600"/>
            <a:ext cx="463320" cy="441360"/>
            <a:chOff x="5384880" y="3711600"/>
            <a:chExt cx="463320" cy="441360"/>
          </a:xfrm>
        </p:grpSpPr>
        <p:sp>
          <p:nvSpPr>
            <p:cNvPr id="255" name=""/>
            <p:cNvSpPr/>
            <p:nvPr/>
          </p:nvSpPr>
          <p:spPr>
            <a:xfrm>
              <a:off x="5384880" y="3711600"/>
              <a:ext cx="463320" cy="441360"/>
            </a:xfrm>
            <a:custGeom>
              <a:avLst/>
              <a:gdLst/>
              <a:ahLst/>
              <a:rect l="l" t="t" r="r" b="b"/>
              <a:pathLst>
                <a:path w="292" h="278">
                  <a:moveTo>
                    <a:pt x="0" y="138"/>
                  </a:moveTo>
                  <a:lnTo>
                    <a:pt x="3" y="107"/>
                  </a:lnTo>
                  <a:lnTo>
                    <a:pt x="12" y="78"/>
                  </a:lnTo>
                  <a:lnTo>
                    <a:pt x="26" y="55"/>
                  </a:lnTo>
                  <a:lnTo>
                    <a:pt x="45" y="35"/>
                  </a:lnTo>
                  <a:lnTo>
                    <a:pt x="66" y="20"/>
                  </a:lnTo>
                  <a:lnTo>
                    <a:pt x="91" y="9"/>
                  </a:lnTo>
                  <a:lnTo>
                    <a:pt x="118" y="3"/>
                  </a:lnTo>
                  <a:lnTo>
                    <a:pt x="145" y="0"/>
                  </a:lnTo>
                  <a:lnTo>
                    <a:pt x="172" y="3"/>
                  </a:lnTo>
                  <a:lnTo>
                    <a:pt x="198" y="9"/>
                  </a:lnTo>
                  <a:lnTo>
                    <a:pt x="223" y="20"/>
                  </a:lnTo>
                  <a:lnTo>
                    <a:pt x="245" y="35"/>
                  </a:lnTo>
                  <a:lnTo>
                    <a:pt x="263" y="55"/>
                  </a:lnTo>
                  <a:lnTo>
                    <a:pt x="278" y="78"/>
                  </a:lnTo>
                  <a:lnTo>
                    <a:pt x="287" y="107"/>
                  </a:lnTo>
                  <a:lnTo>
                    <a:pt x="291" y="138"/>
                  </a:lnTo>
                  <a:lnTo>
                    <a:pt x="287" y="172"/>
                  </a:lnTo>
                  <a:lnTo>
                    <a:pt x="278" y="200"/>
                  </a:lnTo>
                  <a:lnTo>
                    <a:pt x="263" y="224"/>
                  </a:lnTo>
                  <a:lnTo>
                    <a:pt x="245" y="242"/>
                  </a:lnTo>
                  <a:lnTo>
                    <a:pt x="223" y="258"/>
                  </a:lnTo>
                  <a:lnTo>
                    <a:pt x="198" y="269"/>
                  </a:lnTo>
                  <a:lnTo>
                    <a:pt x="172" y="275"/>
                  </a:lnTo>
                  <a:lnTo>
                    <a:pt x="145" y="277"/>
                  </a:lnTo>
                  <a:lnTo>
                    <a:pt x="118" y="275"/>
                  </a:lnTo>
                  <a:lnTo>
                    <a:pt x="91" y="269"/>
                  </a:lnTo>
                  <a:lnTo>
                    <a:pt x="66" y="258"/>
                  </a:lnTo>
                  <a:lnTo>
                    <a:pt x="45" y="242"/>
                  </a:lnTo>
                  <a:lnTo>
                    <a:pt x="26" y="224"/>
                  </a:lnTo>
                  <a:lnTo>
                    <a:pt x="12" y="200"/>
                  </a:lnTo>
                  <a:lnTo>
                    <a:pt x="3" y="172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94320" y="3778200"/>
              <a:ext cx="2631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978680" y="4410000"/>
            <a:ext cx="461880" cy="441360"/>
            <a:chOff x="7978680" y="4410000"/>
            <a:chExt cx="461880" cy="441360"/>
          </a:xfrm>
        </p:grpSpPr>
        <p:sp>
          <p:nvSpPr>
            <p:cNvPr id="258" name=""/>
            <p:cNvSpPr/>
            <p:nvPr/>
          </p:nvSpPr>
          <p:spPr>
            <a:xfrm>
              <a:off x="7978680" y="4410000"/>
              <a:ext cx="461880" cy="441360"/>
            </a:xfrm>
            <a:custGeom>
              <a:avLst/>
              <a:gdLst/>
              <a:ahLst/>
              <a:rect l="l" t="t" r="r" b="b"/>
              <a:pathLst>
                <a:path w="291" h="278">
                  <a:moveTo>
                    <a:pt x="0" y="138"/>
                  </a:moveTo>
                  <a:lnTo>
                    <a:pt x="2" y="107"/>
                  </a:lnTo>
                  <a:lnTo>
                    <a:pt x="12" y="78"/>
                  </a:lnTo>
                  <a:lnTo>
                    <a:pt x="26" y="55"/>
                  </a:lnTo>
                  <a:lnTo>
                    <a:pt x="45" y="35"/>
                  </a:lnTo>
                  <a:lnTo>
                    <a:pt x="66" y="20"/>
                  </a:lnTo>
                  <a:lnTo>
                    <a:pt x="91" y="10"/>
                  </a:lnTo>
                  <a:lnTo>
                    <a:pt x="118" y="3"/>
                  </a:lnTo>
                  <a:lnTo>
                    <a:pt x="145" y="0"/>
                  </a:lnTo>
                  <a:lnTo>
                    <a:pt x="171" y="3"/>
                  </a:lnTo>
                  <a:lnTo>
                    <a:pt x="198" y="10"/>
                  </a:lnTo>
                  <a:lnTo>
                    <a:pt x="222" y="20"/>
                  </a:lnTo>
                  <a:lnTo>
                    <a:pt x="244" y="35"/>
                  </a:lnTo>
                  <a:lnTo>
                    <a:pt x="263" y="55"/>
                  </a:lnTo>
                  <a:lnTo>
                    <a:pt x="277" y="78"/>
                  </a:lnTo>
                  <a:lnTo>
                    <a:pt x="286" y="107"/>
                  </a:lnTo>
                  <a:lnTo>
                    <a:pt x="290" y="138"/>
                  </a:lnTo>
                  <a:lnTo>
                    <a:pt x="286" y="172"/>
                  </a:lnTo>
                  <a:lnTo>
                    <a:pt x="277" y="200"/>
                  </a:lnTo>
                  <a:lnTo>
                    <a:pt x="263" y="224"/>
                  </a:lnTo>
                  <a:lnTo>
                    <a:pt x="244" y="243"/>
                  </a:lnTo>
                  <a:lnTo>
                    <a:pt x="222" y="258"/>
                  </a:lnTo>
                  <a:lnTo>
                    <a:pt x="198" y="269"/>
                  </a:lnTo>
                  <a:lnTo>
                    <a:pt x="171" y="275"/>
                  </a:lnTo>
                  <a:lnTo>
                    <a:pt x="145" y="277"/>
                  </a:lnTo>
                  <a:lnTo>
                    <a:pt x="118" y="275"/>
                  </a:lnTo>
                  <a:lnTo>
                    <a:pt x="91" y="269"/>
                  </a:lnTo>
                  <a:lnTo>
                    <a:pt x="66" y="258"/>
                  </a:lnTo>
                  <a:lnTo>
                    <a:pt x="45" y="243"/>
                  </a:lnTo>
                  <a:lnTo>
                    <a:pt x="26" y="224"/>
                  </a:lnTo>
                  <a:lnTo>
                    <a:pt x="12" y="200"/>
                  </a:lnTo>
                  <a:lnTo>
                    <a:pt x="2" y="172"/>
                  </a:lnTo>
                  <a:lnTo>
                    <a:pt x="0" y="138"/>
                  </a:lnTo>
                  <a:lnTo>
                    <a:pt x="0" y="138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88120" y="4478400"/>
              <a:ext cx="262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8454960" y="4376880"/>
            <a:ext cx="463320" cy="444240"/>
            <a:chOff x="8454960" y="4376880"/>
            <a:chExt cx="463320" cy="444240"/>
          </a:xfrm>
        </p:grpSpPr>
        <p:sp>
          <p:nvSpPr>
            <p:cNvPr id="261" name=""/>
            <p:cNvSpPr/>
            <p:nvPr/>
          </p:nvSpPr>
          <p:spPr>
            <a:xfrm>
              <a:off x="8454960" y="4376880"/>
              <a:ext cx="463320" cy="444240"/>
            </a:xfrm>
            <a:custGeom>
              <a:avLst/>
              <a:gdLst/>
              <a:ahLst/>
              <a:rect l="l" t="t" r="r" b="b"/>
              <a:pathLst>
                <a:path w="292" h="280">
                  <a:moveTo>
                    <a:pt x="0" y="139"/>
                  </a:moveTo>
                  <a:lnTo>
                    <a:pt x="3" y="107"/>
                  </a:lnTo>
                  <a:lnTo>
                    <a:pt x="12" y="79"/>
                  </a:lnTo>
                  <a:lnTo>
                    <a:pt x="26" y="55"/>
                  </a:lnTo>
                  <a:lnTo>
                    <a:pt x="46" y="35"/>
                  </a:lnTo>
                  <a:lnTo>
                    <a:pt x="67" y="21"/>
                  </a:lnTo>
                  <a:lnTo>
                    <a:pt x="92" y="9"/>
                  </a:lnTo>
                  <a:lnTo>
                    <a:pt x="118" y="3"/>
                  </a:lnTo>
                  <a:lnTo>
                    <a:pt x="146" y="0"/>
                  </a:lnTo>
                  <a:lnTo>
                    <a:pt x="172" y="3"/>
                  </a:lnTo>
                  <a:lnTo>
                    <a:pt x="199" y="9"/>
                  </a:lnTo>
                  <a:lnTo>
                    <a:pt x="223" y="21"/>
                  </a:lnTo>
                  <a:lnTo>
                    <a:pt x="246" y="35"/>
                  </a:lnTo>
                  <a:lnTo>
                    <a:pt x="264" y="55"/>
                  </a:lnTo>
                  <a:lnTo>
                    <a:pt x="278" y="79"/>
                  </a:lnTo>
                  <a:lnTo>
                    <a:pt x="288" y="107"/>
                  </a:lnTo>
                  <a:lnTo>
                    <a:pt x="291" y="139"/>
                  </a:lnTo>
                  <a:lnTo>
                    <a:pt x="288" y="172"/>
                  </a:lnTo>
                  <a:lnTo>
                    <a:pt x="278" y="201"/>
                  </a:lnTo>
                  <a:lnTo>
                    <a:pt x="264" y="225"/>
                  </a:lnTo>
                  <a:lnTo>
                    <a:pt x="246" y="244"/>
                  </a:lnTo>
                  <a:lnTo>
                    <a:pt x="223" y="260"/>
                  </a:lnTo>
                  <a:lnTo>
                    <a:pt x="199" y="271"/>
                  </a:lnTo>
                  <a:lnTo>
                    <a:pt x="172" y="277"/>
                  </a:lnTo>
                  <a:lnTo>
                    <a:pt x="146" y="279"/>
                  </a:lnTo>
                  <a:lnTo>
                    <a:pt x="118" y="277"/>
                  </a:lnTo>
                  <a:lnTo>
                    <a:pt x="92" y="271"/>
                  </a:lnTo>
                  <a:lnTo>
                    <a:pt x="67" y="260"/>
                  </a:lnTo>
                  <a:lnTo>
                    <a:pt x="46" y="244"/>
                  </a:lnTo>
                  <a:lnTo>
                    <a:pt x="26" y="225"/>
                  </a:lnTo>
                  <a:lnTo>
                    <a:pt x="12" y="201"/>
                  </a:lnTo>
                  <a:lnTo>
                    <a:pt x="3" y="172"/>
                  </a:lnTo>
                  <a:lnTo>
                    <a:pt x="0" y="139"/>
                  </a:lnTo>
                  <a:lnTo>
                    <a:pt x="0" y="139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64400" y="4444920"/>
              <a:ext cx="2635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382840" y="4587840"/>
            <a:ext cx="460080" cy="441360"/>
            <a:chOff x="2382840" y="4587840"/>
            <a:chExt cx="460080" cy="441360"/>
          </a:xfrm>
        </p:grpSpPr>
        <p:sp>
          <p:nvSpPr>
            <p:cNvPr id="264" name=""/>
            <p:cNvSpPr/>
            <p:nvPr/>
          </p:nvSpPr>
          <p:spPr>
            <a:xfrm>
              <a:off x="2382840" y="4587840"/>
              <a:ext cx="460080" cy="44136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0" y="139"/>
                  </a:moveTo>
                  <a:lnTo>
                    <a:pt x="2" y="107"/>
                  </a:lnTo>
                  <a:lnTo>
                    <a:pt x="11" y="78"/>
                  </a:lnTo>
                  <a:lnTo>
                    <a:pt x="25" y="55"/>
                  </a:lnTo>
                  <a:lnTo>
                    <a:pt x="44" y="35"/>
                  </a:lnTo>
                  <a:lnTo>
                    <a:pt x="65" y="20"/>
                  </a:lnTo>
                  <a:lnTo>
                    <a:pt x="90" y="9"/>
                  </a:lnTo>
                  <a:lnTo>
                    <a:pt x="117" y="4"/>
                  </a:lnTo>
                  <a:lnTo>
                    <a:pt x="144" y="0"/>
                  </a:lnTo>
                  <a:lnTo>
                    <a:pt x="170" y="4"/>
                  </a:lnTo>
                  <a:lnTo>
                    <a:pt x="197" y="9"/>
                  </a:lnTo>
                  <a:lnTo>
                    <a:pt x="221" y="20"/>
                  </a:lnTo>
                  <a:lnTo>
                    <a:pt x="243" y="35"/>
                  </a:lnTo>
                  <a:lnTo>
                    <a:pt x="261" y="55"/>
                  </a:lnTo>
                  <a:lnTo>
                    <a:pt x="276" y="78"/>
                  </a:lnTo>
                  <a:lnTo>
                    <a:pt x="285" y="107"/>
                  </a:lnTo>
                  <a:lnTo>
                    <a:pt x="289" y="139"/>
                  </a:lnTo>
                  <a:lnTo>
                    <a:pt x="285" y="172"/>
                  </a:lnTo>
                  <a:lnTo>
                    <a:pt x="276" y="200"/>
                  </a:lnTo>
                  <a:lnTo>
                    <a:pt x="261" y="224"/>
                  </a:lnTo>
                  <a:lnTo>
                    <a:pt x="243" y="243"/>
                  </a:lnTo>
                  <a:lnTo>
                    <a:pt x="221" y="258"/>
                  </a:lnTo>
                  <a:lnTo>
                    <a:pt x="197" y="269"/>
                  </a:lnTo>
                  <a:lnTo>
                    <a:pt x="170" y="275"/>
                  </a:lnTo>
                  <a:lnTo>
                    <a:pt x="144" y="277"/>
                  </a:lnTo>
                  <a:lnTo>
                    <a:pt x="117" y="275"/>
                  </a:lnTo>
                  <a:lnTo>
                    <a:pt x="90" y="269"/>
                  </a:lnTo>
                  <a:lnTo>
                    <a:pt x="65" y="258"/>
                  </a:lnTo>
                  <a:lnTo>
                    <a:pt x="44" y="243"/>
                  </a:lnTo>
                  <a:lnTo>
                    <a:pt x="25" y="224"/>
                  </a:lnTo>
                  <a:lnTo>
                    <a:pt x="11" y="200"/>
                  </a:lnTo>
                  <a:lnTo>
                    <a:pt x="2" y="172"/>
                  </a:lnTo>
                  <a:lnTo>
                    <a:pt x="0" y="139"/>
                  </a:lnTo>
                  <a:lnTo>
                    <a:pt x="0" y="139"/>
                  </a:lnTo>
                </a:path>
              </a:pathLst>
            </a:custGeom>
            <a:solidFill>
              <a:srgbClr val="ffffd0"/>
            </a:solidFill>
            <a:ln w="18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90480" y="4656240"/>
              <a:ext cx="262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r>
                <a:rPr b="0" lang="en-GB" sz="1600" spc="-1" strike="noStrike">
                  <a:solidFill>
                    <a:srgbClr val="d857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482920" y="4629240"/>
            <a:ext cx="5731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70880" y="4417920"/>
            <a:ext cx="5731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4800" y="4414680"/>
            <a:ext cx="5713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43680" y="4592520"/>
            <a:ext cx="5713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92600" y="4514760"/>
            <a:ext cx="5716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59240" y="4200480"/>
            <a:ext cx="5731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17800" y="4626000"/>
            <a:ext cx="5713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5400" y="4208400"/>
            <a:ext cx="5713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70240" y="3754440"/>
            <a:ext cx="5713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54640" y="4170240"/>
            <a:ext cx="5731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94600" y="4454640"/>
            <a:ext cx="5716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35640" y="3448080"/>
            <a:ext cx="5716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84440" y="2219400"/>
            <a:ext cx="5731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3476520"/>
            <a:ext cx="5731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P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44760" y="4640400"/>
            <a:ext cx="5731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68680" y="3335400"/>
            <a:ext cx="5731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P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76640" y="3365640"/>
            <a:ext cx="5698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P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05240" y="3789360"/>
            <a:ext cx="571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51160" y="2903400"/>
            <a:ext cx="5713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63920" y="2516040"/>
            <a:ext cx="5731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Q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30480" y="2351160"/>
            <a:ext cx="571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G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24760" y="3666960"/>
            <a:ext cx="5713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G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59280" y="2230560"/>
            <a:ext cx="5713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73560" y="2558880"/>
            <a:ext cx="5713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M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97480" y="2901960"/>
            <a:ext cx="574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F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62600" y="3425760"/>
            <a:ext cx="5716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D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2000" y="3755880"/>
            <a:ext cx="5731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04040" y="4100400"/>
            <a:ext cx="5716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500" spc="-1" strike="noStrike">
                <a:solidFill>
                  <a:srgbClr val="d85700"/>
                </a:solidFill>
                <a:latin typeface="Arial"/>
              </a:rPr>
              <a:t>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40040" y="4356000"/>
            <a:ext cx="1428840" cy="536760"/>
          </a:xfrm>
          <a:custGeom>
            <a:avLst/>
            <a:gdLst/>
            <a:ahLst/>
            <a:rect l="l" t="t" r="r" b="b"/>
            <a:pathLst>
              <a:path w="900" h="338">
                <a:moveTo>
                  <a:pt x="0" y="263"/>
                </a:moveTo>
                <a:lnTo>
                  <a:pt x="35" y="112"/>
                </a:lnTo>
                <a:lnTo>
                  <a:pt x="130" y="337"/>
                </a:lnTo>
                <a:lnTo>
                  <a:pt x="171" y="98"/>
                </a:lnTo>
                <a:lnTo>
                  <a:pt x="292" y="315"/>
                </a:lnTo>
                <a:lnTo>
                  <a:pt x="355" y="79"/>
                </a:lnTo>
                <a:lnTo>
                  <a:pt x="451" y="292"/>
                </a:lnTo>
                <a:lnTo>
                  <a:pt x="470" y="54"/>
                </a:lnTo>
                <a:lnTo>
                  <a:pt x="566" y="260"/>
                </a:lnTo>
                <a:lnTo>
                  <a:pt x="596" y="44"/>
                </a:lnTo>
                <a:lnTo>
                  <a:pt x="705" y="225"/>
                </a:lnTo>
                <a:lnTo>
                  <a:pt x="711" y="13"/>
                </a:lnTo>
                <a:lnTo>
                  <a:pt x="819" y="181"/>
                </a:lnTo>
                <a:lnTo>
                  <a:pt x="819" y="0"/>
                </a:lnTo>
                <a:lnTo>
                  <a:pt x="899" y="63"/>
                </a:lnTo>
              </a:path>
            </a:pathLst>
          </a:custGeom>
          <a:noFill/>
          <a:ln w="3132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95760" y="4597560"/>
            <a:ext cx="2046600" cy="369720"/>
          </a:xfrm>
          <a:custGeom>
            <a:avLst/>
            <a:gdLst/>
            <a:ahLst/>
            <a:rect l="l" t="t" r="r" b="b"/>
            <a:pathLst>
              <a:path w="1289" h="233">
                <a:moveTo>
                  <a:pt x="0" y="140"/>
                </a:moveTo>
                <a:lnTo>
                  <a:pt x="89" y="140"/>
                </a:lnTo>
                <a:lnTo>
                  <a:pt x="119" y="17"/>
                </a:lnTo>
                <a:lnTo>
                  <a:pt x="177" y="232"/>
                </a:lnTo>
                <a:lnTo>
                  <a:pt x="256" y="29"/>
                </a:lnTo>
                <a:lnTo>
                  <a:pt x="315" y="228"/>
                </a:lnTo>
                <a:lnTo>
                  <a:pt x="366" y="0"/>
                </a:lnTo>
                <a:lnTo>
                  <a:pt x="440" y="228"/>
                </a:lnTo>
                <a:lnTo>
                  <a:pt x="521" y="25"/>
                </a:lnTo>
                <a:lnTo>
                  <a:pt x="576" y="228"/>
                </a:lnTo>
                <a:lnTo>
                  <a:pt x="636" y="17"/>
                </a:lnTo>
                <a:lnTo>
                  <a:pt x="694" y="217"/>
                </a:lnTo>
                <a:lnTo>
                  <a:pt x="772" y="11"/>
                </a:lnTo>
                <a:lnTo>
                  <a:pt x="813" y="225"/>
                </a:lnTo>
                <a:lnTo>
                  <a:pt x="890" y="14"/>
                </a:lnTo>
                <a:lnTo>
                  <a:pt x="923" y="213"/>
                </a:lnTo>
                <a:lnTo>
                  <a:pt x="986" y="7"/>
                </a:lnTo>
                <a:lnTo>
                  <a:pt x="1026" y="221"/>
                </a:lnTo>
                <a:lnTo>
                  <a:pt x="1086" y="7"/>
                </a:lnTo>
                <a:lnTo>
                  <a:pt x="1149" y="221"/>
                </a:lnTo>
                <a:lnTo>
                  <a:pt x="1196" y="17"/>
                </a:lnTo>
                <a:lnTo>
                  <a:pt x="1260" y="213"/>
                </a:lnTo>
                <a:lnTo>
                  <a:pt x="1288" y="69"/>
                </a:lnTo>
                <a:lnTo>
                  <a:pt x="1288" y="73"/>
                </a:lnTo>
              </a:path>
            </a:pathLst>
          </a:custGeom>
          <a:noFill/>
          <a:ln w="3132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65200" y="5083200"/>
            <a:ext cx="584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000" spc="-1" strike="noStrike">
                <a:solidFill>
                  <a:srgbClr val="d85700"/>
                </a:solidFill>
                <a:latin typeface="Arial"/>
              </a:rPr>
              <a:t>1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27200" y="5067360"/>
            <a:ext cx="5842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000" spc="-1" strike="noStrike">
                <a:solidFill>
                  <a:srgbClr val="d857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5048280"/>
            <a:ext cx="5839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000" spc="-1" strike="noStrike">
                <a:solidFill>
                  <a:srgbClr val="d857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61440" y="4897440"/>
            <a:ext cx="583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en-GB" sz="2000" spc="-1" strike="noStrike">
                <a:solidFill>
                  <a:srgbClr val="d85700"/>
                </a:solidFill>
                <a:latin typeface="Arial"/>
              </a:rPr>
              <a:t>14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938920" y="2743200"/>
            <a:ext cx="2442960" cy="1374840"/>
            <a:chOff x="5938920" y="2743200"/>
            <a:chExt cx="2442960" cy="1374840"/>
          </a:xfrm>
        </p:grpSpPr>
        <p:sp>
          <p:nvSpPr>
            <p:cNvPr id="301" name=""/>
            <p:cNvSpPr/>
            <p:nvPr/>
          </p:nvSpPr>
          <p:spPr>
            <a:xfrm>
              <a:off x="7381800" y="2743200"/>
              <a:ext cx="100008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2" name=""/>
            <p:cNvGraphicFramePr/>
            <p:nvPr/>
          </p:nvGraphicFramePr>
          <p:xfrm>
            <a:off x="5938920" y="3124080"/>
            <a:ext cx="2217600" cy="99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38920" y="3124080"/>
                      <a:ext cx="2217600" cy="99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4" name=""/>
          <p:cNvGrpSpPr/>
          <p:nvPr/>
        </p:nvGrpSpPr>
        <p:grpSpPr>
          <a:xfrm>
            <a:off x="965160" y="3048120"/>
            <a:ext cx="1244520" cy="1519200"/>
            <a:chOff x="965160" y="3048120"/>
            <a:chExt cx="1244520" cy="1519200"/>
          </a:xfrm>
        </p:grpSpPr>
        <p:sp>
          <p:nvSpPr>
            <p:cNvPr id="305" name=""/>
            <p:cNvSpPr/>
            <p:nvPr/>
          </p:nvSpPr>
          <p:spPr>
            <a:xfrm>
              <a:off x="965160" y="3587760"/>
              <a:ext cx="10605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6" name=""/>
            <p:cNvGraphicFramePr/>
            <p:nvPr/>
          </p:nvGraphicFramePr>
          <p:xfrm>
            <a:off x="1278000" y="3048120"/>
            <a:ext cx="931680" cy="151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78000" y="3048120"/>
                      <a:ext cx="931680" cy="15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8" name=""/>
          <p:cNvGrpSpPr/>
          <p:nvPr/>
        </p:nvGrpSpPr>
        <p:grpSpPr>
          <a:xfrm>
            <a:off x="3657600" y="1973160"/>
            <a:ext cx="2247840" cy="1724040"/>
            <a:chOff x="3657600" y="1973160"/>
            <a:chExt cx="2247840" cy="1724040"/>
          </a:xfrm>
        </p:grpSpPr>
        <p:sp>
          <p:nvSpPr>
            <p:cNvPr id="309" name=""/>
            <p:cNvSpPr/>
            <p:nvPr/>
          </p:nvSpPr>
          <p:spPr>
            <a:xfrm>
              <a:off x="4876920" y="1981080"/>
              <a:ext cx="10285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2800"/>
                  <a:tab algn="l" pos="885960"/>
                  <a:tab algn="l" pos="1328760"/>
                  <a:tab algn="l" pos="1771560"/>
                  <a:tab algn="l" pos="2214720"/>
                  <a:tab algn="l" pos="2657520"/>
                  <a:tab algn="l" pos="3100320"/>
                  <a:tab algn="l" pos="3543480"/>
                  <a:tab algn="l" pos="3986280"/>
                  <a:tab algn="l" pos="4429080"/>
                  <a:tab algn="l" pos="4871880"/>
                  <a:tab algn="l" pos="5315040"/>
                  <a:tab algn="l" pos="5757840"/>
                  <a:tab algn="l" pos="6200640"/>
                  <a:tab algn="l" pos="6643800"/>
                  <a:tab algn="l" pos="7086600"/>
                  <a:tab algn="l" pos="7529400"/>
                  <a:tab algn="l" pos="7972560"/>
                  <a:tab algn="l" pos="8415360"/>
                  <a:tab algn="l" pos="88581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0" name=""/>
            <p:cNvGraphicFramePr/>
            <p:nvPr/>
          </p:nvGraphicFramePr>
          <p:xfrm>
            <a:off x="3657600" y="1973160"/>
            <a:ext cx="1419120" cy="1724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57600" y="1973160"/>
                      <a:ext cx="1419120" cy="172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2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33"/>
                </a:solidFill>
                <a:latin typeface="Times New Roman"/>
              </a:rPr>
              <a:t>Anticorps monoclonaux utilisés dans les trousses Ag HB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304920" y="2590920"/>
            <a:ext cx="969840" cy="788400"/>
            <a:chOff x="304920" y="2590920"/>
            <a:chExt cx="969840" cy="788400"/>
          </a:xfrm>
        </p:grpSpPr>
        <p:sp>
          <p:nvSpPr>
            <p:cNvPr id="314" name=""/>
            <p:cNvSpPr/>
            <p:nvPr/>
          </p:nvSpPr>
          <p:spPr>
            <a:xfrm>
              <a:off x="322200" y="2608200"/>
              <a:ext cx="936720" cy="755280"/>
            </a:xfrm>
            <a:custGeom>
              <a:avLst/>
              <a:gdLst/>
              <a:ahLst/>
              <a:rect l="l" t="t" r="r" b="b"/>
              <a:pathLst>
                <a:path w="1770" h="1426">
                  <a:moveTo>
                    <a:pt x="1517" y="1105"/>
                  </a:moveTo>
                  <a:lnTo>
                    <a:pt x="1532" y="1088"/>
                  </a:lnTo>
                  <a:lnTo>
                    <a:pt x="1534" y="1091"/>
                  </a:lnTo>
                  <a:lnTo>
                    <a:pt x="1539" y="1095"/>
                  </a:lnTo>
                  <a:lnTo>
                    <a:pt x="1547" y="1103"/>
                  </a:lnTo>
                  <a:lnTo>
                    <a:pt x="1556" y="1112"/>
                  </a:lnTo>
                  <a:lnTo>
                    <a:pt x="1568" y="1124"/>
                  </a:lnTo>
                  <a:lnTo>
                    <a:pt x="1581" y="1137"/>
                  </a:lnTo>
                  <a:lnTo>
                    <a:pt x="1594" y="1151"/>
                  </a:lnTo>
                  <a:lnTo>
                    <a:pt x="1606" y="1166"/>
                  </a:lnTo>
                  <a:lnTo>
                    <a:pt x="1621" y="1183"/>
                  </a:lnTo>
                  <a:lnTo>
                    <a:pt x="1633" y="1200"/>
                  </a:lnTo>
                  <a:lnTo>
                    <a:pt x="1644" y="1217"/>
                  </a:lnTo>
                  <a:lnTo>
                    <a:pt x="1655" y="1233"/>
                  </a:lnTo>
                  <a:lnTo>
                    <a:pt x="1663" y="1250"/>
                  </a:lnTo>
                  <a:lnTo>
                    <a:pt x="1670" y="1265"/>
                  </a:lnTo>
                  <a:lnTo>
                    <a:pt x="1673" y="1281"/>
                  </a:lnTo>
                  <a:lnTo>
                    <a:pt x="1673" y="1295"/>
                  </a:lnTo>
                  <a:lnTo>
                    <a:pt x="1667" y="1310"/>
                  </a:lnTo>
                  <a:lnTo>
                    <a:pt x="1661" y="1323"/>
                  </a:lnTo>
                  <a:lnTo>
                    <a:pt x="1649" y="1334"/>
                  </a:lnTo>
                  <a:lnTo>
                    <a:pt x="1636" y="1345"/>
                  </a:lnTo>
                  <a:lnTo>
                    <a:pt x="1621" y="1355"/>
                  </a:lnTo>
                  <a:lnTo>
                    <a:pt x="1604" y="1365"/>
                  </a:lnTo>
                  <a:lnTo>
                    <a:pt x="1587" y="1371"/>
                  </a:lnTo>
                  <a:lnTo>
                    <a:pt x="1570" y="1380"/>
                  </a:lnTo>
                  <a:lnTo>
                    <a:pt x="1551" y="1384"/>
                  </a:lnTo>
                  <a:lnTo>
                    <a:pt x="1534" y="1388"/>
                  </a:lnTo>
                  <a:lnTo>
                    <a:pt x="1517" y="1394"/>
                  </a:lnTo>
                  <a:lnTo>
                    <a:pt x="1505" y="1397"/>
                  </a:lnTo>
                  <a:lnTo>
                    <a:pt x="1492" y="1398"/>
                  </a:lnTo>
                  <a:lnTo>
                    <a:pt x="1482" y="1401"/>
                  </a:lnTo>
                  <a:lnTo>
                    <a:pt x="1477" y="1402"/>
                  </a:lnTo>
                  <a:lnTo>
                    <a:pt x="1475" y="1402"/>
                  </a:lnTo>
                  <a:lnTo>
                    <a:pt x="1492" y="1419"/>
                  </a:lnTo>
                  <a:lnTo>
                    <a:pt x="1489" y="1419"/>
                  </a:lnTo>
                  <a:lnTo>
                    <a:pt x="1485" y="1422"/>
                  </a:lnTo>
                  <a:lnTo>
                    <a:pt x="1482" y="1422"/>
                  </a:lnTo>
                  <a:lnTo>
                    <a:pt x="1477" y="1422"/>
                  </a:lnTo>
                  <a:lnTo>
                    <a:pt x="1471" y="1423"/>
                  </a:lnTo>
                  <a:lnTo>
                    <a:pt x="1461" y="1423"/>
                  </a:lnTo>
                  <a:lnTo>
                    <a:pt x="1454" y="1423"/>
                  </a:lnTo>
                  <a:lnTo>
                    <a:pt x="1443" y="1423"/>
                  </a:lnTo>
                  <a:lnTo>
                    <a:pt x="1433" y="1423"/>
                  </a:lnTo>
                  <a:lnTo>
                    <a:pt x="1422" y="1426"/>
                  </a:lnTo>
                  <a:lnTo>
                    <a:pt x="1409" y="1423"/>
                  </a:lnTo>
                  <a:lnTo>
                    <a:pt x="1396" y="1423"/>
                  </a:lnTo>
                  <a:lnTo>
                    <a:pt x="1383" y="1423"/>
                  </a:lnTo>
                  <a:lnTo>
                    <a:pt x="1368" y="1423"/>
                  </a:lnTo>
                  <a:lnTo>
                    <a:pt x="1354" y="1422"/>
                  </a:lnTo>
                  <a:lnTo>
                    <a:pt x="1337" y="1419"/>
                  </a:lnTo>
                  <a:lnTo>
                    <a:pt x="1321" y="1418"/>
                  </a:lnTo>
                  <a:lnTo>
                    <a:pt x="1306" y="1418"/>
                  </a:lnTo>
                  <a:lnTo>
                    <a:pt x="1288" y="1413"/>
                  </a:lnTo>
                  <a:lnTo>
                    <a:pt x="1271" y="1411"/>
                  </a:lnTo>
                  <a:lnTo>
                    <a:pt x="1254" y="1405"/>
                  </a:lnTo>
                  <a:lnTo>
                    <a:pt x="1237" y="1402"/>
                  </a:lnTo>
                  <a:lnTo>
                    <a:pt x="1218" y="1397"/>
                  </a:lnTo>
                  <a:lnTo>
                    <a:pt x="1201" y="1390"/>
                  </a:lnTo>
                  <a:lnTo>
                    <a:pt x="1182" y="1384"/>
                  </a:lnTo>
                  <a:lnTo>
                    <a:pt x="1165" y="1377"/>
                  </a:lnTo>
                  <a:lnTo>
                    <a:pt x="1146" y="1369"/>
                  </a:lnTo>
                  <a:lnTo>
                    <a:pt x="1129" y="1360"/>
                  </a:lnTo>
                  <a:lnTo>
                    <a:pt x="1112" y="1352"/>
                  </a:lnTo>
                  <a:lnTo>
                    <a:pt x="1093" y="1339"/>
                  </a:lnTo>
                  <a:lnTo>
                    <a:pt x="1076" y="1328"/>
                  </a:lnTo>
                  <a:lnTo>
                    <a:pt x="1067" y="1323"/>
                  </a:lnTo>
                  <a:lnTo>
                    <a:pt x="1056" y="1314"/>
                  </a:lnTo>
                  <a:lnTo>
                    <a:pt x="1049" y="1307"/>
                  </a:lnTo>
                  <a:lnTo>
                    <a:pt x="1039" y="1299"/>
                  </a:lnTo>
                  <a:lnTo>
                    <a:pt x="1032" y="1293"/>
                  </a:lnTo>
                  <a:lnTo>
                    <a:pt x="1022" y="1285"/>
                  </a:lnTo>
                  <a:lnTo>
                    <a:pt x="1015" y="1274"/>
                  </a:lnTo>
                  <a:lnTo>
                    <a:pt x="1004" y="1265"/>
                  </a:lnTo>
                  <a:lnTo>
                    <a:pt x="995" y="1257"/>
                  </a:lnTo>
                  <a:lnTo>
                    <a:pt x="984" y="1249"/>
                  </a:lnTo>
                  <a:lnTo>
                    <a:pt x="976" y="1240"/>
                  </a:lnTo>
                  <a:lnTo>
                    <a:pt x="967" y="1232"/>
                  </a:lnTo>
                  <a:lnTo>
                    <a:pt x="959" y="1223"/>
                  </a:lnTo>
                  <a:lnTo>
                    <a:pt x="950" y="1212"/>
                  </a:lnTo>
                  <a:lnTo>
                    <a:pt x="942" y="1204"/>
                  </a:lnTo>
                  <a:lnTo>
                    <a:pt x="933" y="1196"/>
                  </a:lnTo>
                  <a:lnTo>
                    <a:pt x="925" y="1187"/>
                  </a:lnTo>
                  <a:lnTo>
                    <a:pt x="916" y="1176"/>
                  </a:lnTo>
                  <a:lnTo>
                    <a:pt x="908" y="1169"/>
                  </a:lnTo>
                  <a:lnTo>
                    <a:pt x="899" y="1159"/>
                  </a:lnTo>
                  <a:lnTo>
                    <a:pt x="893" y="1151"/>
                  </a:lnTo>
                  <a:lnTo>
                    <a:pt x="885" y="1143"/>
                  </a:lnTo>
                  <a:lnTo>
                    <a:pt x="878" y="1134"/>
                  </a:lnTo>
                  <a:lnTo>
                    <a:pt x="872" y="1126"/>
                  </a:lnTo>
                  <a:lnTo>
                    <a:pt x="865" y="1120"/>
                  </a:lnTo>
                  <a:lnTo>
                    <a:pt x="860" y="1112"/>
                  </a:lnTo>
                  <a:lnTo>
                    <a:pt x="853" y="1103"/>
                  </a:lnTo>
                  <a:lnTo>
                    <a:pt x="847" y="1096"/>
                  </a:lnTo>
                  <a:lnTo>
                    <a:pt x="840" y="1091"/>
                  </a:lnTo>
                  <a:lnTo>
                    <a:pt x="836" y="1084"/>
                  </a:lnTo>
                  <a:lnTo>
                    <a:pt x="832" y="1077"/>
                  </a:lnTo>
                  <a:lnTo>
                    <a:pt x="827" y="1071"/>
                  </a:lnTo>
                  <a:lnTo>
                    <a:pt x="815" y="1056"/>
                  </a:lnTo>
                  <a:lnTo>
                    <a:pt x="802" y="1042"/>
                  </a:lnTo>
                  <a:lnTo>
                    <a:pt x="792" y="1027"/>
                  </a:lnTo>
                  <a:lnTo>
                    <a:pt x="781" y="1014"/>
                  </a:lnTo>
                  <a:lnTo>
                    <a:pt x="768" y="1000"/>
                  </a:lnTo>
                  <a:lnTo>
                    <a:pt x="758" y="986"/>
                  </a:lnTo>
                  <a:lnTo>
                    <a:pt x="747" y="974"/>
                  </a:lnTo>
                  <a:lnTo>
                    <a:pt x="737" y="961"/>
                  </a:lnTo>
                  <a:lnTo>
                    <a:pt x="724" y="948"/>
                  </a:lnTo>
                  <a:lnTo>
                    <a:pt x="713" y="936"/>
                  </a:lnTo>
                  <a:lnTo>
                    <a:pt x="703" y="926"/>
                  </a:lnTo>
                  <a:lnTo>
                    <a:pt x="692" y="915"/>
                  </a:lnTo>
                  <a:lnTo>
                    <a:pt x="682" y="904"/>
                  </a:lnTo>
                  <a:lnTo>
                    <a:pt x="671" y="895"/>
                  </a:lnTo>
                  <a:lnTo>
                    <a:pt x="659" y="887"/>
                  </a:lnTo>
                  <a:lnTo>
                    <a:pt x="649" y="877"/>
                  </a:lnTo>
                  <a:lnTo>
                    <a:pt x="638" y="869"/>
                  </a:lnTo>
                  <a:lnTo>
                    <a:pt x="628" y="862"/>
                  </a:lnTo>
                  <a:lnTo>
                    <a:pt x="617" y="856"/>
                  </a:lnTo>
                  <a:lnTo>
                    <a:pt x="604" y="852"/>
                  </a:lnTo>
                  <a:lnTo>
                    <a:pt x="594" y="845"/>
                  </a:lnTo>
                  <a:lnTo>
                    <a:pt x="583" y="841"/>
                  </a:lnTo>
                  <a:lnTo>
                    <a:pt x="573" y="837"/>
                  </a:lnTo>
                  <a:lnTo>
                    <a:pt x="560" y="832"/>
                  </a:lnTo>
                  <a:lnTo>
                    <a:pt x="548" y="832"/>
                  </a:lnTo>
                  <a:lnTo>
                    <a:pt x="537" y="831"/>
                  </a:lnTo>
                  <a:lnTo>
                    <a:pt x="526" y="831"/>
                  </a:lnTo>
                  <a:lnTo>
                    <a:pt x="514" y="831"/>
                  </a:lnTo>
                  <a:lnTo>
                    <a:pt x="501" y="832"/>
                  </a:lnTo>
                  <a:lnTo>
                    <a:pt x="488" y="834"/>
                  </a:lnTo>
                  <a:lnTo>
                    <a:pt x="476" y="838"/>
                  </a:lnTo>
                  <a:lnTo>
                    <a:pt x="463" y="842"/>
                  </a:lnTo>
                  <a:lnTo>
                    <a:pt x="220" y="922"/>
                  </a:lnTo>
                  <a:lnTo>
                    <a:pt x="219" y="922"/>
                  </a:lnTo>
                  <a:lnTo>
                    <a:pt x="210" y="919"/>
                  </a:lnTo>
                  <a:lnTo>
                    <a:pt x="198" y="919"/>
                  </a:lnTo>
                  <a:lnTo>
                    <a:pt x="181" y="916"/>
                  </a:lnTo>
                  <a:lnTo>
                    <a:pt x="164" y="915"/>
                  </a:lnTo>
                  <a:lnTo>
                    <a:pt x="142" y="911"/>
                  </a:lnTo>
                  <a:lnTo>
                    <a:pt x="121" y="906"/>
                  </a:lnTo>
                  <a:lnTo>
                    <a:pt x="100" y="902"/>
                  </a:lnTo>
                  <a:lnTo>
                    <a:pt x="76" y="895"/>
                  </a:lnTo>
                  <a:lnTo>
                    <a:pt x="58" y="890"/>
                  </a:lnTo>
                  <a:lnTo>
                    <a:pt x="38" y="883"/>
                  </a:lnTo>
                  <a:lnTo>
                    <a:pt x="24" y="874"/>
                  </a:lnTo>
                  <a:lnTo>
                    <a:pt x="10" y="866"/>
                  </a:lnTo>
                  <a:lnTo>
                    <a:pt x="3" y="856"/>
                  </a:lnTo>
                  <a:lnTo>
                    <a:pt x="0" y="842"/>
                  </a:lnTo>
                  <a:lnTo>
                    <a:pt x="3" y="831"/>
                  </a:lnTo>
                  <a:lnTo>
                    <a:pt x="110" y="647"/>
                  </a:lnTo>
                  <a:lnTo>
                    <a:pt x="121" y="630"/>
                  </a:lnTo>
                  <a:lnTo>
                    <a:pt x="127" y="610"/>
                  </a:lnTo>
                  <a:lnTo>
                    <a:pt x="130" y="595"/>
                  </a:lnTo>
                  <a:lnTo>
                    <a:pt x="127" y="584"/>
                  </a:lnTo>
                  <a:lnTo>
                    <a:pt x="123" y="570"/>
                  </a:lnTo>
                  <a:lnTo>
                    <a:pt x="117" y="560"/>
                  </a:lnTo>
                  <a:lnTo>
                    <a:pt x="109" y="549"/>
                  </a:lnTo>
                  <a:lnTo>
                    <a:pt x="96" y="541"/>
                  </a:lnTo>
                  <a:lnTo>
                    <a:pt x="85" y="535"/>
                  </a:lnTo>
                  <a:lnTo>
                    <a:pt x="75" y="528"/>
                  </a:lnTo>
                  <a:lnTo>
                    <a:pt x="62" y="524"/>
                  </a:lnTo>
                  <a:lnTo>
                    <a:pt x="51" y="520"/>
                  </a:lnTo>
                  <a:lnTo>
                    <a:pt x="42" y="515"/>
                  </a:lnTo>
                  <a:lnTo>
                    <a:pt x="37" y="514"/>
                  </a:lnTo>
                  <a:lnTo>
                    <a:pt x="30" y="514"/>
                  </a:lnTo>
                  <a:lnTo>
                    <a:pt x="20" y="510"/>
                  </a:lnTo>
                  <a:lnTo>
                    <a:pt x="17" y="504"/>
                  </a:lnTo>
                  <a:lnTo>
                    <a:pt x="24" y="499"/>
                  </a:lnTo>
                  <a:lnTo>
                    <a:pt x="34" y="492"/>
                  </a:lnTo>
                  <a:lnTo>
                    <a:pt x="51" y="486"/>
                  </a:lnTo>
                  <a:lnTo>
                    <a:pt x="69" y="479"/>
                  </a:lnTo>
                  <a:lnTo>
                    <a:pt x="93" y="471"/>
                  </a:lnTo>
                  <a:lnTo>
                    <a:pt x="119" y="465"/>
                  </a:lnTo>
                  <a:lnTo>
                    <a:pt x="142" y="461"/>
                  </a:lnTo>
                  <a:lnTo>
                    <a:pt x="168" y="454"/>
                  </a:lnTo>
                  <a:lnTo>
                    <a:pt x="193" y="448"/>
                  </a:lnTo>
                  <a:lnTo>
                    <a:pt x="214" y="444"/>
                  </a:lnTo>
                  <a:lnTo>
                    <a:pt x="233" y="440"/>
                  </a:lnTo>
                  <a:lnTo>
                    <a:pt x="250" y="436"/>
                  </a:lnTo>
                  <a:lnTo>
                    <a:pt x="258" y="436"/>
                  </a:lnTo>
                  <a:lnTo>
                    <a:pt x="263" y="433"/>
                  </a:lnTo>
                  <a:lnTo>
                    <a:pt x="488" y="524"/>
                  </a:lnTo>
                  <a:lnTo>
                    <a:pt x="505" y="531"/>
                  </a:lnTo>
                  <a:lnTo>
                    <a:pt x="518" y="535"/>
                  </a:lnTo>
                  <a:lnTo>
                    <a:pt x="532" y="536"/>
                  </a:lnTo>
                  <a:lnTo>
                    <a:pt x="545" y="539"/>
                  </a:lnTo>
                  <a:lnTo>
                    <a:pt x="558" y="541"/>
                  </a:lnTo>
                  <a:lnTo>
                    <a:pt x="570" y="543"/>
                  </a:lnTo>
                  <a:lnTo>
                    <a:pt x="583" y="541"/>
                  </a:lnTo>
                  <a:lnTo>
                    <a:pt x="596" y="541"/>
                  </a:lnTo>
                  <a:lnTo>
                    <a:pt x="607" y="539"/>
                  </a:lnTo>
                  <a:lnTo>
                    <a:pt x="617" y="536"/>
                  </a:lnTo>
                  <a:lnTo>
                    <a:pt x="630" y="532"/>
                  </a:lnTo>
                  <a:lnTo>
                    <a:pt x="638" y="528"/>
                  </a:lnTo>
                  <a:lnTo>
                    <a:pt x="651" y="524"/>
                  </a:lnTo>
                  <a:lnTo>
                    <a:pt x="662" y="518"/>
                  </a:lnTo>
                  <a:lnTo>
                    <a:pt x="672" y="511"/>
                  </a:lnTo>
                  <a:lnTo>
                    <a:pt x="683" y="504"/>
                  </a:lnTo>
                  <a:lnTo>
                    <a:pt x="693" y="496"/>
                  </a:lnTo>
                  <a:lnTo>
                    <a:pt x="703" y="489"/>
                  </a:lnTo>
                  <a:lnTo>
                    <a:pt x="713" y="479"/>
                  </a:lnTo>
                  <a:lnTo>
                    <a:pt x="724" y="469"/>
                  </a:lnTo>
                  <a:lnTo>
                    <a:pt x="734" y="461"/>
                  </a:lnTo>
                  <a:lnTo>
                    <a:pt x="744" y="448"/>
                  </a:lnTo>
                  <a:lnTo>
                    <a:pt x="755" y="437"/>
                  </a:lnTo>
                  <a:lnTo>
                    <a:pt x="768" y="425"/>
                  </a:lnTo>
                  <a:lnTo>
                    <a:pt x="779" y="412"/>
                  </a:lnTo>
                  <a:lnTo>
                    <a:pt x="792" y="399"/>
                  </a:lnTo>
                  <a:lnTo>
                    <a:pt x="802" y="387"/>
                  </a:lnTo>
                  <a:lnTo>
                    <a:pt x="815" y="372"/>
                  </a:lnTo>
                  <a:lnTo>
                    <a:pt x="826" y="359"/>
                  </a:lnTo>
                  <a:lnTo>
                    <a:pt x="840" y="345"/>
                  </a:lnTo>
                  <a:lnTo>
                    <a:pt x="853" y="330"/>
                  </a:lnTo>
                  <a:lnTo>
                    <a:pt x="865" y="313"/>
                  </a:lnTo>
                  <a:lnTo>
                    <a:pt x="870" y="309"/>
                  </a:lnTo>
                  <a:lnTo>
                    <a:pt x="874" y="304"/>
                  </a:lnTo>
                  <a:lnTo>
                    <a:pt x="881" y="298"/>
                  </a:lnTo>
                  <a:lnTo>
                    <a:pt x="885" y="292"/>
                  </a:lnTo>
                  <a:lnTo>
                    <a:pt x="891" y="285"/>
                  </a:lnTo>
                  <a:lnTo>
                    <a:pt x="899" y="279"/>
                  </a:lnTo>
                  <a:lnTo>
                    <a:pt x="906" y="272"/>
                  </a:lnTo>
                  <a:lnTo>
                    <a:pt x="915" y="264"/>
                  </a:lnTo>
                  <a:lnTo>
                    <a:pt x="923" y="256"/>
                  </a:lnTo>
                  <a:lnTo>
                    <a:pt x="932" y="250"/>
                  </a:lnTo>
                  <a:lnTo>
                    <a:pt x="942" y="240"/>
                  </a:lnTo>
                  <a:lnTo>
                    <a:pt x="950" y="232"/>
                  </a:lnTo>
                  <a:lnTo>
                    <a:pt x="961" y="222"/>
                  </a:lnTo>
                  <a:lnTo>
                    <a:pt x="971" y="214"/>
                  </a:lnTo>
                  <a:lnTo>
                    <a:pt x="982" y="205"/>
                  </a:lnTo>
                  <a:lnTo>
                    <a:pt x="991" y="197"/>
                  </a:lnTo>
                  <a:lnTo>
                    <a:pt x="1001" y="187"/>
                  </a:lnTo>
                  <a:lnTo>
                    <a:pt x="1015" y="177"/>
                  </a:lnTo>
                  <a:lnTo>
                    <a:pt x="1022" y="169"/>
                  </a:lnTo>
                  <a:lnTo>
                    <a:pt x="1033" y="158"/>
                  </a:lnTo>
                  <a:lnTo>
                    <a:pt x="1046" y="151"/>
                  </a:lnTo>
                  <a:lnTo>
                    <a:pt x="1054" y="141"/>
                  </a:lnTo>
                  <a:lnTo>
                    <a:pt x="1066" y="133"/>
                  </a:lnTo>
                  <a:lnTo>
                    <a:pt x="1076" y="124"/>
                  </a:lnTo>
                  <a:lnTo>
                    <a:pt x="1084" y="116"/>
                  </a:lnTo>
                  <a:lnTo>
                    <a:pt x="1094" y="108"/>
                  </a:lnTo>
                  <a:lnTo>
                    <a:pt x="1104" y="102"/>
                  </a:lnTo>
                  <a:lnTo>
                    <a:pt x="1112" y="92"/>
                  </a:lnTo>
                  <a:lnTo>
                    <a:pt x="1121" y="87"/>
                  </a:lnTo>
                  <a:lnTo>
                    <a:pt x="1129" y="81"/>
                  </a:lnTo>
                  <a:lnTo>
                    <a:pt x="1138" y="74"/>
                  </a:lnTo>
                  <a:lnTo>
                    <a:pt x="1142" y="67"/>
                  </a:lnTo>
                  <a:lnTo>
                    <a:pt x="1159" y="57"/>
                  </a:lnTo>
                  <a:lnTo>
                    <a:pt x="1176" y="49"/>
                  </a:lnTo>
                  <a:lnTo>
                    <a:pt x="1193" y="38"/>
                  </a:lnTo>
                  <a:lnTo>
                    <a:pt x="1210" y="32"/>
                  </a:lnTo>
                  <a:lnTo>
                    <a:pt x="1227" y="25"/>
                  </a:lnTo>
                  <a:lnTo>
                    <a:pt x="1245" y="18"/>
                  </a:lnTo>
                  <a:lnTo>
                    <a:pt x="1265" y="15"/>
                  </a:lnTo>
                  <a:lnTo>
                    <a:pt x="1283" y="11"/>
                  </a:lnTo>
                  <a:lnTo>
                    <a:pt x="1303" y="8"/>
                  </a:lnTo>
                  <a:lnTo>
                    <a:pt x="1321" y="4"/>
                  </a:lnTo>
                  <a:lnTo>
                    <a:pt x="1341" y="4"/>
                  </a:lnTo>
                  <a:lnTo>
                    <a:pt x="1361" y="0"/>
                  </a:lnTo>
                  <a:lnTo>
                    <a:pt x="1378" y="0"/>
                  </a:lnTo>
                  <a:lnTo>
                    <a:pt x="1396" y="0"/>
                  </a:lnTo>
                  <a:lnTo>
                    <a:pt x="1413" y="0"/>
                  </a:lnTo>
                  <a:lnTo>
                    <a:pt x="1430" y="0"/>
                  </a:lnTo>
                  <a:lnTo>
                    <a:pt x="1447" y="0"/>
                  </a:lnTo>
                  <a:lnTo>
                    <a:pt x="1464" y="3"/>
                  </a:lnTo>
                  <a:lnTo>
                    <a:pt x="1479" y="3"/>
                  </a:lnTo>
                  <a:lnTo>
                    <a:pt x="1494" y="4"/>
                  </a:lnTo>
                  <a:lnTo>
                    <a:pt x="1509" y="7"/>
                  </a:lnTo>
                  <a:lnTo>
                    <a:pt x="1522" y="7"/>
                  </a:lnTo>
                  <a:lnTo>
                    <a:pt x="1534" y="8"/>
                  </a:lnTo>
                  <a:lnTo>
                    <a:pt x="1544" y="11"/>
                  </a:lnTo>
                  <a:lnTo>
                    <a:pt x="1556" y="13"/>
                  </a:lnTo>
                  <a:lnTo>
                    <a:pt x="1564" y="15"/>
                  </a:lnTo>
                  <a:lnTo>
                    <a:pt x="1574" y="15"/>
                  </a:lnTo>
                  <a:lnTo>
                    <a:pt x="1581" y="17"/>
                  </a:lnTo>
                  <a:lnTo>
                    <a:pt x="1585" y="18"/>
                  </a:lnTo>
                  <a:lnTo>
                    <a:pt x="1589" y="18"/>
                  </a:lnTo>
                  <a:lnTo>
                    <a:pt x="1591" y="18"/>
                  </a:lnTo>
                  <a:lnTo>
                    <a:pt x="1594" y="18"/>
                  </a:lnTo>
                  <a:lnTo>
                    <a:pt x="1595" y="18"/>
                  </a:lnTo>
                  <a:lnTo>
                    <a:pt x="1600" y="21"/>
                  </a:lnTo>
                  <a:lnTo>
                    <a:pt x="1608" y="24"/>
                  </a:lnTo>
                  <a:lnTo>
                    <a:pt x="1621" y="28"/>
                  </a:lnTo>
                  <a:lnTo>
                    <a:pt x="1633" y="29"/>
                  </a:lnTo>
                  <a:lnTo>
                    <a:pt x="1649" y="36"/>
                  </a:lnTo>
                  <a:lnTo>
                    <a:pt x="1666" y="40"/>
                  </a:lnTo>
                  <a:lnTo>
                    <a:pt x="1683" y="49"/>
                  </a:lnTo>
                  <a:lnTo>
                    <a:pt x="1700" y="53"/>
                  </a:lnTo>
                  <a:lnTo>
                    <a:pt x="1714" y="63"/>
                  </a:lnTo>
                  <a:lnTo>
                    <a:pt x="1732" y="71"/>
                  </a:lnTo>
                  <a:lnTo>
                    <a:pt x="1745" y="81"/>
                  </a:lnTo>
                  <a:lnTo>
                    <a:pt x="1755" y="88"/>
                  </a:lnTo>
                  <a:lnTo>
                    <a:pt x="1763" y="102"/>
                  </a:lnTo>
                  <a:lnTo>
                    <a:pt x="1767" y="112"/>
                  </a:lnTo>
                  <a:lnTo>
                    <a:pt x="1770" y="124"/>
                  </a:lnTo>
                  <a:lnTo>
                    <a:pt x="1766" y="137"/>
                  </a:lnTo>
                  <a:lnTo>
                    <a:pt x="1759" y="152"/>
                  </a:lnTo>
                  <a:lnTo>
                    <a:pt x="1749" y="169"/>
                  </a:lnTo>
                  <a:lnTo>
                    <a:pt x="1735" y="186"/>
                  </a:lnTo>
                  <a:lnTo>
                    <a:pt x="1721" y="203"/>
                  </a:lnTo>
                  <a:lnTo>
                    <a:pt x="1701" y="219"/>
                  </a:lnTo>
                  <a:lnTo>
                    <a:pt x="1684" y="236"/>
                  </a:lnTo>
                  <a:lnTo>
                    <a:pt x="1666" y="253"/>
                  </a:lnTo>
                  <a:lnTo>
                    <a:pt x="1646" y="271"/>
                  </a:lnTo>
                  <a:lnTo>
                    <a:pt x="1629" y="285"/>
                  </a:lnTo>
                  <a:lnTo>
                    <a:pt x="1612" y="296"/>
                  </a:lnTo>
                  <a:lnTo>
                    <a:pt x="1598" y="309"/>
                  </a:lnTo>
                  <a:lnTo>
                    <a:pt x="1585" y="317"/>
                  </a:lnTo>
                  <a:lnTo>
                    <a:pt x="1574" y="325"/>
                  </a:lnTo>
                  <a:lnTo>
                    <a:pt x="1568" y="330"/>
                  </a:lnTo>
                  <a:lnTo>
                    <a:pt x="1566" y="331"/>
                  </a:lnTo>
                  <a:lnTo>
                    <a:pt x="1585" y="313"/>
                  </a:lnTo>
                  <a:lnTo>
                    <a:pt x="1430" y="309"/>
                  </a:lnTo>
                  <a:lnTo>
                    <a:pt x="1406" y="310"/>
                  </a:lnTo>
                  <a:lnTo>
                    <a:pt x="1388" y="310"/>
                  </a:lnTo>
                  <a:lnTo>
                    <a:pt x="1368" y="314"/>
                  </a:lnTo>
                  <a:lnTo>
                    <a:pt x="1349" y="314"/>
                  </a:lnTo>
                  <a:lnTo>
                    <a:pt x="1333" y="317"/>
                  </a:lnTo>
                  <a:lnTo>
                    <a:pt x="1316" y="321"/>
                  </a:lnTo>
                  <a:lnTo>
                    <a:pt x="1299" y="323"/>
                  </a:lnTo>
                  <a:lnTo>
                    <a:pt x="1282" y="327"/>
                  </a:lnTo>
                  <a:lnTo>
                    <a:pt x="1265" y="334"/>
                  </a:lnTo>
                  <a:lnTo>
                    <a:pt x="1249" y="341"/>
                  </a:lnTo>
                  <a:lnTo>
                    <a:pt x="1231" y="346"/>
                  </a:lnTo>
                  <a:lnTo>
                    <a:pt x="1214" y="355"/>
                  </a:lnTo>
                  <a:lnTo>
                    <a:pt x="1194" y="366"/>
                  </a:lnTo>
                  <a:lnTo>
                    <a:pt x="1176" y="376"/>
                  </a:lnTo>
                  <a:lnTo>
                    <a:pt x="1155" y="391"/>
                  </a:lnTo>
                  <a:lnTo>
                    <a:pt x="1131" y="405"/>
                  </a:lnTo>
                  <a:lnTo>
                    <a:pt x="1122" y="415"/>
                  </a:lnTo>
                  <a:lnTo>
                    <a:pt x="1112" y="423"/>
                  </a:lnTo>
                  <a:lnTo>
                    <a:pt x="1104" y="430"/>
                  </a:lnTo>
                  <a:lnTo>
                    <a:pt x="1094" y="440"/>
                  </a:lnTo>
                  <a:lnTo>
                    <a:pt x="1087" y="448"/>
                  </a:lnTo>
                  <a:lnTo>
                    <a:pt x="1080" y="454"/>
                  </a:lnTo>
                  <a:lnTo>
                    <a:pt x="1070" y="462"/>
                  </a:lnTo>
                  <a:lnTo>
                    <a:pt x="1063" y="471"/>
                  </a:lnTo>
                  <a:lnTo>
                    <a:pt x="1054" y="478"/>
                  </a:lnTo>
                  <a:lnTo>
                    <a:pt x="1049" y="486"/>
                  </a:lnTo>
                  <a:lnTo>
                    <a:pt x="1042" y="494"/>
                  </a:lnTo>
                  <a:lnTo>
                    <a:pt x="1033" y="500"/>
                  </a:lnTo>
                  <a:lnTo>
                    <a:pt x="1026" y="510"/>
                  </a:lnTo>
                  <a:lnTo>
                    <a:pt x="1021" y="518"/>
                  </a:lnTo>
                  <a:lnTo>
                    <a:pt x="1012" y="524"/>
                  </a:lnTo>
                  <a:lnTo>
                    <a:pt x="1005" y="535"/>
                  </a:lnTo>
                  <a:lnTo>
                    <a:pt x="997" y="541"/>
                  </a:lnTo>
                  <a:lnTo>
                    <a:pt x="991" y="549"/>
                  </a:lnTo>
                  <a:lnTo>
                    <a:pt x="984" y="557"/>
                  </a:lnTo>
                  <a:lnTo>
                    <a:pt x="978" y="566"/>
                  </a:lnTo>
                  <a:lnTo>
                    <a:pt x="970" y="573"/>
                  </a:lnTo>
                  <a:lnTo>
                    <a:pt x="963" y="581"/>
                  </a:lnTo>
                  <a:lnTo>
                    <a:pt x="957" y="589"/>
                  </a:lnTo>
                  <a:lnTo>
                    <a:pt x="950" y="599"/>
                  </a:lnTo>
                  <a:lnTo>
                    <a:pt x="942" y="609"/>
                  </a:lnTo>
                  <a:lnTo>
                    <a:pt x="936" y="617"/>
                  </a:lnTo>
                  <a:lnTo>
                    <a:pt x="927" y="626"/>
                  </a:lnTo>
                  <a:lnTo>
                    <a:pt x="919" y="634"/>
                  </a:lnTo>
                  <a:lnTo>
                    <a:pt x="912" y="644"/>
                  </a:lnTo>
                  <a:lnTo>
                    <a:pt x="904" y="652"/>
                  </a:lnTo>
                  <a:lnTo>
                    <a:pt x="898" y="662"/>
                  </a:lnTo>
                  <a:lnTo>
                    <a:pt x="887" y="672"/>
                  </a:lnTo>
                  <a:lnTo>
                    <a:pt x="899" y="695"/>
                  </a:lnTo>
                  <a:lnTo>
                    <a:pt x="912" y="718"/>
                  </a:lnTo>
                  <a:lnTo>
                    <a:pt x="925" y="737"/>
                  </a:lnTo>
                  <a:lnTo>
                    <a:pt x="936" y="758"/>
                  </a:lnTo>
                  <a:lnTo>
                    <a:pt x="949" y="779"/>
                  </a:lnTo>
                  <a:lnTo>
                    <a:pt x="959" y="799"/>
                  </a:lnTo>
                  <a:lnTo>
                    <a:pt x="970" y="817"/>
                  </a:lnTo>
                  <a:lnTo>
                    <a:pt x="978" y="834"/>
                  </a:lnTo>
                  <a:lnTo>
                    <a:pt x="988" y="852"/>
                  </a:lnTo>
                  <a:lnTo>
                    <a:pt x="999" y="869"/>
                  </a:lnTo>
                  <a:lnTo>
                    <a:pt x="1011" y="885"/>
                  </a:lnTo>
                  <a:lnTo>
                    <a:pt x="1021" y="902"/>
                  </a:lnTo>
                  <a:lnTo>
                    <a:pt x="1032" y="919"/>
                  </a:lnTo>
                  <a:lnTo>
                    <a:pt x="1042" y="934"/>
                  </a:lnTo>
                  <a:lnTo>
                    <a:pt x="1054" y="948"/>
                  </a:lnTo>
                  <a:lnTo>
                    <a:pt x="1067" y="965"/>
                  </a:lnTo>
                  <a:lnTo>
                    <a:pt x="1083" y="985"/>
                  </a:lnTo>
                  <a:lnTo>
                    <a:pt x="1098" y="1001"/>
                  </a:lnTo>
                  <a:lnTo>
                    <a:pt x="1115" y="1017"/>
                  </a:lnTo>
                  <a:lnTo>
                    <a:pt x="1132" y="1031"/>
                  </a:lnTo>
                  <a:lnTo>
                    <a:pt x="1150" y="1043"/>
                  </a:lnTo>
                  <a:lnTo>
                    <a:pt x="1167" y="1052"/>
                  </a:lnTo>
                  <a:lnTo>
                    <a:pt x="1186" y="1060"/>
                  </a:lnTo>
                  <a:lnTo>
                    <a:pt x="1203" y="1071"/>
                  </a:lnTo>
                  <a:lnTo>
                    <a:pt x="1222" y="1075"/>
                  </a:lnTo>
                  <a:lnTo>
                    <a:pt x="1239" y="1081"/>
                  </a:lnTo>
                  <a:lnTo>
                    <a:pt x="1258" y="1085"/>
                  </a:lnTo>
                  <a:lnTo>
                    <a:pt x="1279" y="1091"/>
                  </a:lnTo>
                  <a:lnTo>
                    <a:pt x="1300" y="1095"/>
                  </a:lnTo>
                  <a:lnTo>
                    <a:pt x="1320" y="1096"/>
                  </a:lnTo>
                  <a:lnTo>
                    <a:pt x="1341" y="1099"/>
                  </a:lnTo>
                  <a:lnTo>
                    <a:pt x="1364" y="1101"/>
                  </a:lnTo>
                  <a:lnTo>
                    <a:pt x="1517" y="1105"/>
                  </a:lnTo>
                  <a:close/>
                </a:path>
              </a:pathLst>
            </a:custGeom>
            <a:solidFill>
              <a:srgbClr val="ff8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920" y="2592360"/>
              <a:ext cx="969840" cy="786960"/>
            </a:xfrm>
            <a:custGeom>
              <a:avLst/>
              <a:gdLst/>
              <a:ahLst/>
              <a:rect l="l" t="t" r="r" b="b"/>
              <a:pathLst>
                <a:path w="1833" h="1490">
                  <a:moveTo>
                    <a:pt x="1576" y="1091"/>
                  </a:moveTo>
                  <a:lnTo>
                    <a:pt x="1573" y="1091"/>
                  </a:lnTo>
                  <a:lnTo>
                    <a:pt x="1509" y="1088"/>
                  </a:lnTo>
                  <a:lnTo>
                    <a:pt x="1507" y="1091"/>
                  </a:lnTo>
                  <a:lnTo>
                    <a:pt x="1504" y="1092"/>
                  </a:lnTo>
                  <a:lnTo>
                    <a:pt x="1521" y="1075"/>
                  </a:lnTo>
                  <a:lnTo>
                    <a:pt x="1524" y="1074"/>
                  </a:lnTo>
                  <a:lnTo>
                    <a:pt x="1525" y="1071"/>
                  </a:lnTo>
                  <a:lnTo>
                    <a:pt x="1588" y="1074"/>
                  </a:lnTo>
                  <a:lnTo>
                    <a:pt x="1592" y="1074"/>
                  </a:lnTo>
                  <a:lnTo>
                    <a:pt x="1598" y="1080"/>
                  </a:lnTo>
                  <a:lnTo>
                    <a:pt x="1605" y="1086"/>
                  </a:lnTo>
                  <a:lnTo>
                    <a:pt x="1608" y="1088"/>
                  </a:lnTo>
                  <a:lnTo>
                    <a:pt x="1618" y="1099"/>
                  </a:lnTo>
                  <a:lnTo>
                    <a:pt x="1613" y="1096"/>
                  </a:lnTo>
                  <a:lnTo>
                    <a:pt x="1626" y="1107"/>
                  </a:lnTo>
                  <a:lnTo>
                    <a:pt x="1629" y="1109"/>
                  </a:lnTo>
                  <a:lnTo>
                    <a:pt x="1640" y="1124"/>
                  </a:lnTo>
                  <a:lnTo>
                    <a:pt x="1639" y="1121"/>
                  </a:lnTo>
                  <a:lnTo>
                    <a:pt x="1651" y="1135"/>
                  </a:lnTo>
                  <a:lnTo>
                    <a:pt x="1653" y="1136"/>
                  </a:lnTo>
                  <a:lnTo>
                    <a:pt x="1665" y="1153"/>
                  </a:lnTo>
                  <a:lnTo>
                    <a:pt x="1680" y="1169"/>
                  </a:lnTo>
                  <a:lnTo>
                    <a:pt x="1693" y="1186"/>
                  </a:lnTo>
                  <a:lnTo>
                    <a:pt x="1695" y="1189"/>
                  </a:lnTo>
                  <a:lnTo>
                    <a:pt x="1707" y="1207"/>
                  </a:lnTo>
                  <a:lnTo>
                    <a:pt x="1718" y="1223"/>
                  </a:lnTo>
                  <a:lnTo>
                    <a:pt x="1724" y="1240"/>
                  </a:lnTo>
                  <a:lnTo>
                    <a:pt x="1731" y="1255"/>
                  </a:lnTo>
                  <a:lnTo>
                    <a:pt x="1732" y="1261"/>
                  </a:lnTo>
                  <a:lnTo>
                    <a:pt x="1735" y="1267"/>
                  </a:lnTo>
                  <a:lnTo>
                    <a:pt x="1737" y="1281"/>
                  </a:lnTo>
                  <a:lnTo>
                    <a:pt x="1737" y="1288"/>
                  </a:lnTo>
                  <a:lnTo>
                    <a:pt x="1739" y="1296"/>
                  </a:lnTo>
                  <a:lnTo>
                    <a:pt x="1739" y="1309"/>
                  </a:lnTo>
                  <a:lnTo>
                    <a:pt x="1739" y="1317"/>
                  </a:lnTo>
                  <a:lnTo>
                    <a:pt x="1739" y="1327"/>
                  </a:lnTo>
                  <a:lnTo>
                    <a:pt x="1737" y="1334"/>
                  </a:lnTo>
                  <a:lnTo>
                    <a:pt x="1737" y="1342"/>
                  </a:lnTo>
                  <a:lnTo>
                    <a:pt x="1735" y="1348"/>
                  </a:lnTo>
                  <a:lnTo>
                    <a:pt x="1735" y="1355"/>
                  </a:lnTo>
                  <a:lnTo>
                    <a:pt x="1731" y="1370"/>
                  </a:lnTo>
                  <a:lnTo>
                    <a:pt x="1722" y="1381"/>
                  </a:lnTo>
                  <a:lnTo>
                    <a:pt x="1720" y="1384"/>
                  </a:lnTo>
                  <a:lnTo>
                    <a:pt x="1710" y="1396"/>
                  </a:lnTo>
                  <a:lnTo>
                    <a:pt x="1707" y="1399"/>
                  </a:lnTo>
                  <a:lnTo>
                    <a:pt x="1695" y="1410"/>
                  </a:lnTo>
                  <a:lnTo>
                    <a:pt x="1678" y="1418"/>
                  </a:lnTo>
                  <a:lnTo>
                    <a:pt x="1664" y="1428"/>
                  </a:lnTo>
                  <a:lnTo>
                    <a:pt x="1660" y="1429"/>
                  </a:lnTo>
                  <a:lnTo>
                    <a:pt x="1643" y="1436"/>
                  </a:lnTo>
                  <a:lnTo>
                    <a:pt x="1626" y="1443"/>
                  </a:lnTo>
                  <a:lnTo>
                    <a:pt x="1608" y="1447"/>
                  </a:lnTo>
                  <a:lnTo>
                    <a:pt x="1590" y="1454"/>
                  </a:lnTo>
                  <a:lnTo>
                    <a:pt x="1573" y="1458"/>
                  </a:lnTo>
                  <a:lnTo>
                    <a:pt x="1562" y="1461"/>
                  </a:lnTo>
                  <a:lnTo>
                    <a:pt x="1549" y="1463"/>
                  </a:lnTo>
                  <a:lnTo>
                    <a:pt x="1541" y="1465"/>
                  </a:lnTo>
                  <a:lnTo>
                    <a:pt x="1534" y="1467"/>
                  </a:lnTo>
                  <a:lnTo>
                    <a:pt x="1532" y="1467"/>
                  </a:lnTo>
                  <a:lnTo>
                    <a:pt x="1534" y="1465"/>
                  </a:lnTo>
                  <a:lnTo>
                    <a:pt x="1535" y="1463"/>
                  </a:lnTo>
                  <a:lnTo>
                    <a:pt x="1541" y="1461"/>
                  </a:lnTo>
                  <a:lnTo>
                    <a:pt x="1541" y="1454"/>
                  </a:lnTo>
                  <a:lnTo>
                    <a:pt x="1542" y="1447"/>
                  </a:lnTo>
                  <a:lnTo>
                    <a:pt x="1542" y="1440"/>
                  </a:lnTo>
                  <a:lnTo>
                    <a:pt x="1545" y="1433"/>
                  </a:lnTo>
                  <a:lnTo>
                    <a:pt x="1545" y="1424"/>
                  </a:lnTo>
                  <a:lnTo>
                    <a:pt x="1545" y="1414"/>
                  </a:lnTo>
                  <a:lnTo>
                    <a:pt x="1542" y="1407"/>
                  </a:lnTo>
                  <a:lnTo>
                    <a:pt x="1542" y="1400"/>
                  </a:lnTo>
                  <a:lnTo>
                    <a:pt x="1541" y="1395"/>
                  </a:lnTo>
                  <a:lnTo>
                    <a:pt x="1541" y="1388"/>
                  </a:lnTo>
                  <a:lnTo>
                    <a:pt x="1535" y="1384"/>
                  </a:lnTo>
                  <a:lnTo>
                    <a:pt x="1555" y="1403"/>
                  </a:lnTo>
                  <a:lnTo>
                    <a:pt x="1556" y="1407"/>
                  </a:lnTo>
                  <a:lnTo>
                    <a:pt x="1556" y="1413"/>
                  </a:lnTo>
                  <a:lnTo>
                    <a:pt x="1559" y="1418"/>
                  </a:lnTo>
                  <a:lnTo>
                    <a:pt x="1562" y="1425"/>
                  </a:lnTo>
                  <a:lnTo>
                    <a:pt x="1562" y="1433"/>
                  </a:lnTo>
                  <a:lnTo>
                    <a:pt x="1562" y="1442"/>
                  </a:lnTo>
                  <a:lnTo>
                    <a:pt x="1562" y="1450"/>
                  </a:lnTo>
                  <a:lnTo>
                    <a:pt x="1562" y="1458"/>
                  </a:lnTo>
                  <a:lnTo>
                    <a:pt x="1559" y="1465"/>
                  </a:lnTo>
                  <a:lnTo>
                    <a:pt x="1556" y="1471"/>
                  </a:lnTo>
                  <a:lnTo>
                    <a:pt x="1556" y="1478"/>
                  </a:lnTo>
                  <a:lnTo>
                    <a:pt x="1555" y="1482"/>
                  </a:lnTo>
                  <a:lnTo>
                    <a:pt x="1551" y="1483"/>
                  </a:lnTo>
                  <a:lnTo>
                    <a:pt x="1549" y="1486"/>
                  </a:lnTo>
                  <a:lnTo>
                    <a:pt x="1546" y="1486"/>
                  </a:lnTo>
                  <a:lnTo>
                    <a:pt x="1542" y="1486"/>
                  </a:lnTo>
                  <a:lnTo>
                    <a:pt x="1541" y="1486"/>
                  </a:lnTo>
                  <a:lnTo>
                    <a:pt x="1534" y="1486"/>
                  </a:lnTo>
                  <a:lnTo>
                    <a:pt x="1528" y="1487"/>
                  </a:lnTo>
                  <a:lnTo>
                    <a:pt x="1520" y="1487"/>
                  </a:lnTo>
                  <a:lnTo>
                    <a:pt x="1511" y="1490"/>
                  </a:lnTo>
                  <a:lnTo>
                    <a:pt x="1500" y="1490"/>
                  </a:lnTo>
                  <a:lnTo>
                    <a:pt x="1490" y="1490"/>
                  </a:lnTo>
                  <a:lnTo>
                    <a:pt x="1479" y="1490"/>
                  </a:lnTo>
                  <a:lnTo>
                    <a:pt x="1419" y="1490"/>
                  </a:lnTo>
                  <a:lnTo>
                    <a:pt x="1406" y="1490"/>
                  </a:lnTo>
                  <a:lnTo>
                    <a:pt x="1467" y="1490"/>
                  </a:lnTo>
                  <a:lnTo>
                    <a:pt x="1453" y="1490"/>
                  </a:lnTo>
                  <a:lnTo>
                    <a:pt x="1440" y="1490"/>
                  </a:lnTo>
                  <a:lnTo>
                    <a:pt x="1379" y="1490"/>
                  </a:lnTo>
                  <a:lnTo>
                    <a:pt x="1365" y="1487"/>
                  </a:lnTo>
                  <a:lnTo>
                    <a:pt x="1349" y="1486"/>
                  </a:lnTo>
                  <a:lnTo>
                    <a:pt x="1335" y="1486"/>
                  </a:lnTo>
                  <a:lnTo>
                    <a:pt x="1318" y="1483"/>
                  </a:lnTo>
                  <a:lnTo>
                    <a:pt x="1302" y="1482"/>
                  </a:lnTo>
                  <a:lnTo>
                    <a:pt x="1285" y="1478"/>
                  </a:lnTo>
                  <a:lnTo>
                    <a:pt x="1268" y="1475"/>
                  </a:lnTo>
                  <a:lnTo>
                    <a:pt x="1251" y="1471"/>
                  </a:lnTo>
                  <a:lnTo>
                    <a:pt x="1235" y="1467"/>
                  </a:lnTo>
                  <a:lnTo>
                    <a:pt x="1216" y="1463"/>
                  </a:lnTo>
                  <a:lnTo>
                    <a:pt x="1214" y="1461"/>
                  </a:lnTo>
                  <a:lnTo>
                    <a:pt x="1195" y="1454"/>
                  </a:lnTo>
                  <a:lnTo>
                    <a:pt x="1199" y="1457"/>
                  </a:lnTo>
                  <a:lnTo>
                    <a:pt x="1180" y="1450"/>
                  </a:lnTo>
                  <a:lnTo>
                    <a:pt x="1176" y="1447"/>
                  </a:lnTo>
                  <a:lnTo>
                    <a:pt x="1159" y="1442"/>
                  </a:lnTo>
                  <a:lnTo>
                    <a:pt x="1142" y="1433"/>
                  </a:lnTo>
                  <a:lnTo>
                    <a:pt x="1124" y="1425"/>
                  </a:lnTo>
                  <a:lnTo>
                    <a:pt x="1107" y="1417"/>
                  </a:lnTo>
                  <a:lnTo>
                    <a:pt x="1088" y="1404"/>
                  </a:lnTo>
                  <a:lnTo>
                    <a:pt x="1071" y="1395"/>
                  </a:lnTo>
                  <a:lnTo>
                    <a:pt x="1064" y="1388"/>
                  </a:lnTo>
                  <a:lnTo>
                    <a:pt x="1054" y="1380"/>
                  </a:lnTo>
                  <a:lnTo>
                    <a:pt x="1047" y="1374"/>
                  </a:lnTo>
                  <a:lnTo>
                    <a:pt x="1036" y="1364"/>
                  </a:lnTo>
                  <a:lnTo>
                    <a:pt x="1028" y="1356"/>
                  </a:lnTo>
                  <a:lnTo>
                    <a:pt x="1019" y="1348"/>
                  </a:lnTo>
                  <a:lnTo>
                    <a:pt x="1011" y="1341"/>
                  </a:lnTo>
                  <a:lnTo>
                    <a:pt x="1002" y="1331"/>
                  </a:lnTo>
                  <a:lnTo>
                    <a:pt x="994" y="1323"/>
                  </a:lnTo>
                  <a:lnTo>
                    <a:pt x="984" y="1315"/>
                  </a:lnTo>
                  <a:lnTo>
                    <a:pt x="976" y="1306"/>
                  </a:lnTo>
                  <a:lnTo>
                    <a:pt x="965" y="1298"/>
                  </a:lnTo>
                  <a:lnTo>
                    <a:pt x="956" y="1290"/>
                  </a:lnTo>
                  <a:lnTo>
                    <a:pt x="955" y="1288"/>
                  </a:lnTo>
                  <a:lnTo>
                    <a:pt x="946" y="1277"/>
                  </a:lnTo>
                  <a:lnTo>
                    <a:pt x="938" y="1269"/>
                  </a:lnTo>
                  <a:lnTo>
                    <a:pt x="940" y="1272"/>
                  </a:lnTo>
                  <a:lnTo>
                    <a:pt x="931" y="1263"/>
                  </a:lnTo>
                  <a:lnTo>
                    <a:pt x="923" y="1255"/>
                  </a:lnTo>
                  <a:lnTo>
                    <a:pt x="921" y="1252"/>
                  </a:lnTo>
                  <a:lnTo>
                    <a:pt x="913" y="1243"/>
                  </a:lnTo>
                  <a:lnTo>
                    <a:pt x="917" y="1244"/>
                  </a:lnTo>
                  <a:lnTo>
                    <a:pt x="906" y="1236"/>
                  </a:lnTo>
                  <a:lnTo>
                    <a:pt x="904" y="1234"/>
                  </a:lnTo>
                  <a:lnTo>
                    <a:pt x="898" y="1226"/>
                  </a:lnTo>
                  <a:lnTo>
                    <a:pt x="889" y="1218"/>
                  </a:lnTo>
                  <a:lnTo>
                    <a:pt x="881" y="1208"/>
                  </a:lnTo>
                  <a:lnTo>
                    <a:pt x="885" y="1211"/>
                  </a:lnTo>
                  <a:lnTo>
                    <a:pt x="877" y="1203"/>
                  </a:lnTo>
                  <a:lnTo>
                    <a:pt x="875" y="1201"/>
                  </a:lnTo>
                  <a:lnTo>
                    <a:pt x="868" y="1193"/>
                  </a:lnTo>
                  <a:lnTo>
                    <a:pt x="863" y="1186"/>
                  </a:lnTo>
                  <a:lnTo>
                    <a:pt x="856" y="1178"/>
                  </a:lnTo>
                  <a:lnTo>
                    <a:pt x="850" y="1169"/>
                  </a:lnTo>
                  <a:lnTo>
                    <a:pt x="853" y="1171"/>
                  </a:lnTo>
                  <a:lnTo>
                    <a:pt x="846" y="1165"/>
                  </a:lnTo>
                  <a:lnTo>
                    <a:pt x="843" y="1164"/>
                  </a:lnTo>
                  <a:lnTo>
                    <a:pt x="837" y="1157"/>
                  </a:lnTo>
                  <a:lnTo>
                    <a:pt x="833" y="1150"/>
                  </a:lnTo>
                  <a:lnTo>
                    <a:pt x="829" y="1144"/>
                  </a:lnTo>
                  <a:lnTo>
                    <a:pt x="826" y="1140"/>
                  </a:lnTo>
                  <a:lnTo>
                    <a:pt x="822" y="1135"/>
                  </a:lnTo>
                  <a:lnTo>
                    <a:pt x="825" y="1138"/>
                  </a:lnTo>
                  <a:lnTo>
                    <a:pt x="815" y="1124"/>
                  </a:lnTo>
                  <a:lnTo>
                    <a:pt x="801" y="1109"/>
                  </a:lnTo>
                  <a:lnTo>
                    <a:pt x="790" y="1095"/>
                  </a:lnTo>
                  <a:lnTo>
                    <a:pt x="779" y="1080"/>
                  </a:lnTo>
                  <a:lnTo>
                    <a:pt x="766" y="1067"/>
                  </a:lnTo>
                  <a:lnTo>
                    <a:pt x="756" y="1055"/>
                  </a:lnTo>
                  <a:lnTo>
                    <a:pt x="745" y="1042"/>
                  </a:lnTo>
                  <a:lnTo>
                    <a:pt x="735" y="1028"/>
                  </a:lnTo>
                  <a:lnTo>
                    <a:pt x="724" y="1016"/>
                  </a:lnTo>
                  <a:lnTo>
                    <a:pt x="727" y="1020"/>
                  </a:lnTo>
                  <a:lnTo>
                    <a:pt x="714" y="1008"/>
                  </a:lnTo>
                  <a:lnTo>
                    <a:pt x="712" y="1005"/>
                  </a:lnTo>
                  <a:lnTo>
                    <a:pt x="702" y="995"/>
                  </a:lnTo>
                  <a:lnTo>
                    <a:pt x="706" y="997"/>
                  </a:lnTo>
                  <a:lnTo>
                    <a:pt x="693" y="987"/>
                  </a:lnTo>
                  <a:lnTo>
                    <a:pt x="682" y="976"/>
                  </a:lnTo>
                  <a:lnTo>
                    <a:pt x="672" y="966"/>
                  </a:lnTo>
                  <a:lnTo>
                    <a:pt x="661" y="958"/>
                  </a:lnTo>
                  <a:lnTo>
                    <a:pt x="651" y="948"/>
                  </a:lnTo>
                  <a:lnTo>
                    <a:pt x="640" y="940"/>
                  </a:lnTo>
                  <a:lnTo>
                    <a:pt x="630" y="934"/>
                  </a:lnTo>
                  <a:lnTo>
                    <a:pt x="619" y="929"/>
                  </a:lnTo>
                  <a:lnTo>
                    <a:pt x="609" y="922"/>
                  </a:lnTo>
                  <a:lnTo>
                    <a:pt x="597" y="918"/>
                  </a:lnTo>
                  <a:lnTo>
                    <a:pt x="601" y="918"/>
                  </a:lnTo>
                  <a:lnTo>
                    <a:pt x="590" y="914"/>
                  </a:lnTo>
                  <a:lnTo>
                    <a:pt x="586" y="914"/>
                  </a:lnTo>
                  <a:lnTo>
                    <a:pt x="576" y="909"/>
                  </a:lnTo>
                  <a:lnTo>
                    <a:pt x="580" y="911"/>
                  </a:lnTo>
                  <a:lnTo>
                    <a:pt x="567" y="907"/>
                  </a:lnTo>
                  <a:lnTo>
                    <a:pt x="558" y="905"/>
                  </a:lnTo>
                  <a:lnTo>
                    <a:pt x="544" y="905"/>
                  </a:lnTo>
                  <a:lnTo>
                    <a:pt x="534" y="903"/>
                  </a:lnTo>
                  <a:lnTo>
                    <a:pt x="597" y="903"/>
                  </a:lnTo>
                  <a:lnTo>
                    <a:pt x="584" y="905"/>
                  </a:lnTo>
                  <a:lnTo>
                    <a:pt x="572" y="905"/>
                  </a:lnTo>
                  <a:lnTo>
                    <a:pt x="559" y="907"/>
                  </a:lnTo>
                  <a:lnTo>
                    <a:pt x="547" y="911"/>
                  </a:lnTo>
                  <a:lnTo>
                    <a:pt x="534" y="915"/>
                  </a:lnTo>
                  <a:lnTo>
                    <a:pt x="295" y="992"/>
                  </a:lnTo>
                  <a:lnTo>
                    <a:pt x="293" y="992"/>
                  </a:lnTo>
                  <a:lnTo>
                    <a:pt x="231" y="992"/>
                  </a:lnTo>
                  <a:lnTo>
                    <a:pt x="222" y="992"/>
                  </a:lnTo>
                  <a:lnTo>
                    <a:pt x="210" y="991"/>
                  </a:lnTo>
                  <a:lnTo>
                    <a:pt x="193" y="991"/>
                  </a:lnTo>
                  <a:lnTo>
                    <a:pt x="176" y="987"/>
                  </a:lnTo>
                  <a:lnTo>
                    <a:pt x="158" y="984"/>
                  </a:lnTo>
                  <a:lnTo>
                    <a:pt x="134" y="980"/>
                  </a:lnTo>
                  <a:lnTo>
                    <a:pt x="113" y="976"/>
                  </a:lnTo>
                  <a:lnTo>
                    <a:pt x="91" y="969"/>
                  </a:lnTo>
                  <a:lnTo>
                    <a:pt x="71" y="963"/>
                  </a:lnTo>
                  <a:lnTo>
                    <a:pt x="67" y="962"/>
                  </a:lnTo>
                  <a:lnTo>
                    <a:pt x="49" y="955"/>
                  </a:lnTo>
                  <a:lnTo>
                    <a:pt x="35" y="947"/>
                  </a:lnTo>
                  <a:lnTo>
                    <a:pt x="21" y="936"/>
                  </a:lnTo>
                  <a:lnTo>
                    <a:pt x="19" y="934"/>
                  </a:lnTo>
                  <a:lnTo>
                    <a:pt x="11" y="926"/>
                  </a:lnTo>
                  <a:lnTo>
                    <a:pt x="8" y="922"/>
                  </a:lnTo>
                  <a:lnTo>
                    <a:pt x="7" y="909"/>
                  </a:lnTo>
                  <a:lnTo>
                    <a:pt x="4" y="903"/>
                  </a:lnTo>
                  <a:lnTo>
                    <a:pt x="4" y="897"/>
                  </a:lnTo>
                  <a:lnTo>
                    <a:pt x="3" y="890"/>
                  </a:lnTo>
                  <a:lnTo>
                    <a:pt x="0" y="882"/>
                  </a:lnTo>
                  <a:lnTo>
                    <a:pt x="0" y="874"/>
                  </a:lnTo>
                  <a:lnTo>
                    <a:pt x="0" y="864"/>
                  </a:lnTo>
                  <a:lnTo>
                    <a:pt x="3" y="857"/>
                  </a:lnTo>
                  <a:lnTo>
                    <a:pt x="4" y="849"/>
                  </a:lnTo>
                  <a:lnTo>
                    <a:pt x="7" y="839"/>
                  </a:lnTo>
                  <a:lnTo>
                    <a:pt x="7" y="832"/>
                  </a:lnTo>
                  <a:lnTo>
                    <a:pt x="8" y="826"/>
                  </a:lnTo>
                  <a:lnTo>
                    <a:pt x="116" y="645"/>
                  </a:lnTo>
                  <a:lnTo>
                    <a:pt x="126" y="626"/>
                  </a:lnTo>
                  <a:lnTo>
                    <a:pt x="133" y="610"/>
                  </a:lnTo>
                  <a:lnTo>
                    <a:pt x="133" y="616"/>
                  </a:lnTo>
                  <a:lnTo>
                    <a:pt x="130" y="622"/>
                  </a:lnTo>
                  <a:lnTo>
                    <a:pt x="128" y="629"/>
                  </a:lnTo>
                  <a:lnTo>
                    <a:pt x="128" y="637"/>
                  </a:lnTo>
                  <a:lnTo>
                    <a:pt x="128" y="622"/>
                  </a:lnTo>
                  <a:lnTo>
                    <a:pt x="128" y="630"/>
                  </a:lnTo>
                  <a:lnTo>
                    <a:pt x="128" y="639"/>
                  </a:lnTo>
                  <a:lnTo>
                    <a:pt x="128" y="626"/>
                  </a:lnTo>
                  <a:lnTo>
                    <a:pt x="128" y="635"/>
                  </a:lnTo>
                  <a:lnTo>
                    <a:pt x="130" y="641"/>
                  </a:lnTo>
                  <a:lnTo>
                    <a:pt x="133" y="647"/>
                  </a:lnTo>
                  <a:lnTo>
                    <a:pt x="133" y="654"/>
                  </a:lnTo>
                  <a:lnTo>
                    <a:pt x="128" y="641"/>
                  </a:lnTo>
                  <a:lnTo>
                    <a:pt x="122" y="630"/>
                  </a:lnTo>
                  <a:lnTo>
                    <a:pt x="124" y="635"/>
                  </a:lnTo>
                  <a:lnTo>
                    <a:pt x="116" y="625"/>
                  </a:lnTo>
                  <a:lnTo>
                    <a:pt x="117" y="626"/>
                  </a:lnTo>
                  <a:lnTo>
                    <a:pt x="107" y="618"/>
                  </a:lnTo>
                  <a:lnTo>
                    <a:pt x="95" y="612"/>
                  </a:lnTo>
                  <a:lnTo>
                    <a:pt x="84" y="605"/>
                  </a:lnTo>
                  <a:lnTo>
                    <a:pt x="74" y="601"/>
                  </a:lnTo>
                  <a:lnTo>
                    <a:pt x="63" y="596"/>
                  </a:lnTo>
                  <a:lnTo>
                    <a:pt x="67" y="597"/>
                  </a:lnTo>
                  <a:lnTo>
                    <a:pt x="57" y="596"/>
                  </a:lnTo>
                  <a:lnTo>
                    <a:pt x="50" y="593"/>
                  </a:lnTo>
                  <a:lnTo>
                    <a:pt x="45" y="591"/>
                  </a:lnTo>
                  <a:lnTo>
                    <a:pt x="107" y="591"/>
                  </a:lnTo>
                  <a:lnTo>
                    <a:pt x="45" y="591"/>
                  </a:lnTo>
                  <a:lnTo>
                    <a:pt x="40" y="591"/>
                  </a:lnTo>
                  <a:lnTo>
                    <a:pt x="29" y="587"/>
                  </a:lnTo>
                  <a:lnTo>
                    <a:pt x="28" y="585"/>
                  </a:lnTo>
                  <a:lnTo>
                    <a:pt x="25" y="581"/>
                  </a:lnTo>
                  <a:lnTo>
                    <a:pt x="24" y="575"/>
                  </a:lnTo>
                  <a:lnTo>
                    <a:pt x="24" y="571"/>
                  </a:lnTo>
                  <a:lnTo>
                    <a:pt x="21" y="564"/>
                  </a:lnTo>
                  <a:lnTo>
                    <a:pt x="19" y="556"/>
                  </a:lnTo>
                  <a:lnTo>
                    <a:pt x="19" y="550"/>
                  </a:lnTo>
                  <a:lnTo>
                    <a:pt x="19" y="539"/>
                  </a:lnTo>
                  <a:lnTo>
                    <a:pt x="19" y="531"/>
                  </a:lnTo>
                  <a:lnTo>
                    <a:pt x="19" y="522"/>
                  </a:lnTo>
                  <a:lnTo>
                    <a:pt x="21" y="517"/>
                  </a:lnTo>
                  <a:lnTo>
                    <a:pt x="24" y="510"/>
                  </a:lnTo>
                  <a:lnTo>
                    <a:pt x="24" y="503"/>
                  </a:lnTo>
                  <a:lnTo>
                    <a:pt x="25" y="499"/>
                  </a:lnTo>
                  <a:lnTo>
                    <a:pt x="32" y="493"/>
                  </a:lnTo>
                  <a:lnTo>
                    <a:pt x="35" y="491"/>
                  </a:lnTo>
                  <a:lnTo>
                    <a:pt x="45" y="485"/>
                  </a:lnTo>
                  <a:lnTo>
                    <a:pt x="49" y="485"/>
                  </a:lnTo>
                  <a:lnTo>
                    <a:pt x="63" y="478"/>
                  </a:lnTo>
                  <a:lnTo>
                    <a:pt x="82" y="473"/>
                  </a:lnTo>
                  <a:lnTo>
                    <a:pt x="105" y="464"/>
                  </a:lnTo>
                  <a:lnTo>
                    <a:pt x="130" y="458"/>
                  </a:lnTo>
                  <a:lnTo>
                    <a:pt x="155" y="453"/>
                  </a:lnTo>
                  <a:lnTo>
                    <a:pt x="180" y="448"/>
                  </a:lnTo>
                  <a:lnTo>
                    <a:pt x="204" y="441"/>
                  </a:lnTo>
                  <a:lnTo>
                    <a:pt x="226" y="437"/>
                  </a:lnTo>
                  <a:lnTo>
                    <a:pt x="246" y="433"/>
                  </a:lnTo>
                  <a:lnTo>
                    <a:pt x="260" y="429"/>
                  </a:lnTo>
                  <a:lnTo>
                    <a:pt x="268" y="429"/>
                  </a:lnTo>
                  <a:lnTo>
                    <a:pt x="272" y="427"/>
                  </a:lnTo>
                  <a:lnTo>
                    <a:pt x="335" y="429"/>
                  </a:lnTo>
                  <a:lnTo>
                    <a:pt x="340" y="429"/>
                  </a:lnTo>
                  <a:lnTo>
                    <a:pt x="563" y="518"/>
                  </a:lnTo>
                  <a:lnTo>
                    <a:pt x="577" y="522"/>
                  </a:lnTo>
                  <a:lnTo>
                    <a:pt x="590" y="527"/>
                  </a:lnTo>
                  <a:lnTo>
                    <a:pt x="605" y="531"/>
                  </a:lnTo>
                  <a:lnTo>
                    <a:pt x="618" y="532"/>
                  </a:lnTo>
                  <a:lnTo>
                    <a:pt x="630" y="535"/>
                  </a:lnTo>
                  <a:lnTo>
                    <a:pt x="643" y="535"/>
                  </a:lnTo>
                  <a:lnTo>
                    <a:pt x="640" y="535"/>
                  </a:lnTo>
                  <a:lnTo>
                    <a:pt x="577" y="535"/>
                  </a:lnTo>
                  <a:lnTo>
                    <a:pt x="590" y="532"/>
                  </a:lnTo>
                  <a:lnTo>
                    <a:pt x="601" y="532"/>
                  </a:lnTo>
                  <a:lnTo>
                    <a:pt x="611" y="531"/>
                  </a:lnTo>
                  <a:lnTo>
                    <a:pt x="624" y="528"/>
                  </a:lnTo>
                  <a:lnTo>
                    <a:pt x="635" y="524"/>
                  </a:lnTo>
                  <a:lnTo>
                    <a:pt x="645" y="521"/>
                  </a:lnTo>
                  <a:lnTo>
                    <a:pt x="656" y="517"/>
                  </a:lnTo>
                  <a:lnTo>
                    <a:pt x="653" y="517"/>
                  </a:lnTo>
                  <a:lnTo>
                    <a:pt x="664" y="513"/>
                  </a:lnTo>
                  <a:lnTo>
                    <a:pt x="674" y="506"/>
                  </a:lnTo>
                  <a:lnTo>
                    <a:pt x="685" y="498"/>
                  </a:lnTo>
                  <a:lnTo>
                    <a:pt x="695" y="491"/>
                  </a:lnTo>
                  <a:lnTo>
                    <a:pt x="706" y="482"/>
                  </a:lnTo>
                  <a:lnTo>
                    <a:pt x="714" y="473"/>
                  </a:lnTo>
                  <a:lnTo>
                    <a:pt x="727" y="464"/>
                  </a:lnTo>
                  <a:lnTo>
                    <a:pt x="724" y="466"/>
                  </a:lnTo>
                  <a:lnTo>
                    <a:pt x="733" y="456"/>
                  </a:lnTo>
                  <a:lnTo>
                    <a:pt x="744" y="445"/>
                  </a:lnTo>
                  <a:lnTo>
                    <a:pt x="754" y="435"/>
                  </a:lnTo>
                  <a:lnTo>
                    <a:pt x="766" y="423"/>
                  </a:lnTo>
                  <a:lnTo>
                    <a:pt x="776" y="410"/>
                  </a:lnTo>
                  <a:lnTo>
                    <a:pt x="790" y="398"/>
                  </a:lnTo>
                  <a:lnTo>
                    <a:pt x="800" y="385"/>
                  </a:lnTo>
                  <a:lnTo>
                    <a:pt x="812" y="370"/>
                  </a:lnTo>
                  <a:lnTo>
                    <a:pt x="822" y="355"/>
                  </a:lnTo>
                  <a:lnTo>
                    <a:pt x="837" y="341"/>
                  </a:lnTo>
                  <a:lnTo>
                    <a:pt x="850" y="326"/>
                  </a:lnTo>
                  <a:lnTo>
                    <a:pt x="863" y="312"/>
                  </a:lnTo>
                  <a:lnTo>
                    <a:pt x="867" y="307"/>
                  </a:lnTo>
                  <a:lnTo>
                    <a:pt x="871" y="304"/>
                  </a:lnTo>
                  <a:lnTo>
                    <a:pt x="877" y="297"/>
                  </a:lnTo>
                  <a:lnTo>
                    <a:pt x="881" y="292"/>
                  </a:lnTo>
                  <a:lnTo>
                    <a:pt x="888" y="285"/>
                  </a:lnTo>
                  <a:lnTo>
                    <a:pt x="892" y="283"/>
                  </a:lnTo>
                  <a:lnTo>
                    <a:pt x="898" y="278"/>
                  </a:lnTo>
                  <a:lnTo>
                    <a:pt x="896" y="279"/>
                  </a:lnTo>
                  <a:lnTo>
                    <a:pt x="904" y="272"/>
                  </a:lnTo>
                  <a:lnTo>
                    <a:pt x="910" y="264"/>
                  </a:lnTo>
                  <a:lnTo>
                    <a:pt x="919" y="256"/>
                  </a:lnTo>
                  <a:lnTo>
                    <a:pt x="921" y="254"/>
                  </a:lnTo>
                  <a:lnTo>
                    <a:pt x="931" y="246"/>
                  </a:lnTo>
                  <a:lnTo>
                    <a:pt x="927" y="247"/>
                  </a:lnTo>
                  <a:lnTo>
                    <a:pt x="938" y="239"/>
                  </a:lnTo>
                  <a:lnTo>
                    <a:pt x="940" y="238"/>
                  </a:lnTo>
                  <a:lnTo>
                    <a:pt x="951" y="229"/>
                  </a:lnTo>
                  <a:lnTo>
                    <a:pt x="959" y="221"/>
                  </a:lnTo>
                  <a:lnTo>
                    <a:pt x="969" y="213"/>
                  </a:lnTo>
                  <a:lnTo>
                    <a:pt x="967" y="214"/>
                  </a:lnTo>
                  <a:lnTo>
                    <a:pt x="977" y="204"/>
                  </a:lnTo>
                  <a:lnTo>
                    <a:pt x="980" y="202"/>
                  </a:lnTo>
                  <a:lnTo>
                    <a:pt x="990" y="194"/>
                  </a:lnTo>
                  <a:lnTo>
                    <a:pt x="1001" y="185"/>
                  </a:lnTo>
                  <a:lnTo>
                    <a:pt x="1011" y="175"/>
                  </a:lnTo>
                  <a:lnTo>
                    <a:pt x="1022" y="167"/>
                  </a:lnTo>
                  <a:lnTo>
                    <a:pt x="1018" y="169"/>
                  </a:lnTo>
                  <a:lnTo>
                    <a:pt x="1028" y="160"/>
                  </a:lnTo>
                  <a:lnTo>
                    <a:pt x="1029" y="159"/>
                  </a:lnTo>
                  <a:lnTo>
                    <a:pt x="1043" y="149"/>
                  </a:lnTo>
                  <a:lnTo>
                    <a:pt x="1053" y="140"/>
                  </a:lnTo>
                  <a:lnTo>
                    <a:pt x="1061" y="131"/>
                  </a:lnTo>
                  <a:lnTo>
                    <a:pt x="1071" y="123"/>
                  </a:lnTo>
                  <a:lnTo>
                    <a:pt x="1069" y="126"/>
                  </a:lnTo>
                  <a:lnTo>
                    <a:pt x="1078" y="116"/>
                  </a:lnTo>
                  <a:lnTo>
                    <a:pt x="1079" y="115"/>
                  </a:lnTo>
                  <a:lnTo>
                    <a:pt x="1090" y="109"/>
                  </a:lnTo>
                  <a:lnTo>
                    <a:pt x="1099" y="101"/>
                  </a:lnTo>
                  <a:lnTo>
                    <a:pt x="1107" y="94"/>
                  </a:lnTo>
                  <a:lnTo>
                    <a:pt x="1117" y="86"/>
                  </a:lnTo>
                  <a:lnTo>
                    <a:pt x="1124" y="80"/>
                  </a:lnTo>
                  <a:lnTo>
                    <a:pt x="1132" y="73"/>
                  </a:lnTo>
                  <a:lnTo>
                    <a:pt x="1130" y="77"/>
                  </a:lnTo>
                  <a:lnTo>
                    <a:pt x="1137" y="72"/>
                  </a:lnTo>
                  <a:lnTo>
                    <a:pt x="1138" y="66"/>
                  </a:lnTo>
                  <a:lnTo>
                    <a:pt x="1155" y="58"/>
                  </a:lnTo>
                  <a:lnTo>
                    <a:pt x="1170" y="48"/>
                  </a:lnTo>
                  <a:lnTo>
                    <a:pt x="1187" y="40"/>
                  </a:lnTo>
                  <a:lnTo>
                    <a:pt x="1188" y="37"/>
                  </a:lnTo>
                  <a:lnTo>
                    <a:pt x="1208" y="32"/>
                  </a:lnTo>
                  <a:lnTo>
                    <a:pt x="1225" y="25"/>
                  </a:lnTo>
                  <a:lnTo>
                    <a:pt x="1243" y="19"/>
                  </a:lnTo>
                  <a:lnTo>
                    <a:pt x="1261" y="15"/>
                  </a:lnTo>
                  <a:lnTo>
                    <a:pt x="1279" y="11"/>
                  </a:lnTo>
                  <a:lnTo>
                    <a:pt x="1297" y="8"/>
                  </a:lnTo>
                  <a:lnTo>
                    <a:pt x="1317" y="4"/>
                  </a:lnTo>
                  <a:lnTo>
                    <a:pt x="1335" y="3"/>
                  </a:lnTo>
                  <a:lnTo>
                    <a:pt x="1355" y="0"/>
                  </a:lnTo>
                  <a:lnTo>
                    <a:pt x="1370" y="0"/>
                  </a:lnTo>
                  <a:lnTo>
                    <a:pt x="1390" y="0"/>
                  </a:lnTo>
                  <a:lnTo>
                    <a:pt x="1408" y="0"/>
                  </a:lnTo>
                  <a:lnTo>
                    <a:pt x="1425" y="0"/>
                  </a:lnTo>
                  <a:lnTo>
                    <a:pt x="1488" y="0"/>
                  </a:lnTo>
                  <a:lnTo>
                    <a:pt x="1490" y="0"/>
                  </a:lnTo>
                  <a:lnTo>
                    <a:pt x="1507" y="3"/>
                  </a:lnTo>
                  <a:lnTo>
                    <a:pt x="1524" y="3"/>
                  </a:lnTo>
                  <a:lnTo>
                    <a:pt x="1521" y="3"/>
                  </a:lnTo>
                  <a:lnTo>
                    <a:pt x="1457" y="3"/>
                  </a:lnTo>
                  <a:lnTo>
                    <a:pt x="1471" y="3"/>
                  </a:lnTo>
                  <a:lnTo>
                    <a:pt x="1535" y="3"/>
                  </a:lnTo>
                  <a:lnTo>
                    <a:pt x="1538" y="3"/>
                  </a:lnTo>
                  <a:lnTo>
                    <a:pt x="1552" y="7"/>
                  </a:lnTo>
                  <a:lnTo>
                    <a:pt x="1567" y="7"/>
                  </a:lnTo>
                  <a:lnTo>
                    <a:pt x="1580" y="8"/>
                  </a:lnTo>
                  <a:lnTo>
                    <a:pt x="1592" y="8"/>
                  </a:lnTo>
                  <a:lnTo>
                    <a:pt x="1605" y="12"/>
                  </a:lnTo>
                  <a:lnTo>
                    <a:pt x="1613" y="12"/>
                  </a:lnTo>
                  <a:lnTo>
                    <a:pt x="1623" y="15"/>
                  </a:lnTo>
                  <a:lnTo>
                    <a:pt x="1632" y="17"/>
                  </a:lnTo>
                  <a:lnTo>
                    <a:pt x="1639" y="19"/>
                  </a:lnTo>
                  <a:lnTo>
                    <a:pt x="1643" y="19"/>
                  </a:lnTo>
                  <a:lnTo>
                    <a:pt x="1640" y="19"/>
                  </a:lnTo>
                  <a:lnTo>
                    <a:pt x="1576" y="19"/>
                  </a:lnTo>
                  <a:lnTo>
                    <a:pt x="1580" y="19"/>
                  </a:lnTo>
                  <a:lnTo>
                    <a:pt x="1644" y="19"/>
                  </a:lnTo>
                  <a:lnTo>
                    <a:pt x="1647" y="19"/>
                  </a:lnTo>
                  <a:lnTo>
                    <a:pt x="1649" y="21"/>
                  </a:lnTo>
                  <a:lnTo>
                    <a:pt x="1647" y="21"/>
                  </a:lnTo>
                  <a:lnTo>
                    <a:pt x="1581" y="19"/>
                  </a:lnTo>
                  <a:lnTo>
                    <a:pt x="1584" y="19"/>
                  </a:lnTo>
                  <a:lnTo>
                    <a:pt x="1587" y="19"/>
                  </a:lnTo>
                  <a:lnTo>
                    <a:pt x="1651" y="21"/>
                  </a:lnTo>
                  <a:lnTo>
                    <a:pt x="1653" y="21"/>
                  </a:lnTo>
                  <a:lnTo>
                    <a:pt x="1657" y="21"/>
                  </a:lnTo>
                  <a:lnTo>
                    <a:pt x="1665" y="23"/>
                  </a:lnTo>
                  <a:lnTo>
                    <a:pt x="1678" y="27"/>
                  </a:lnTo>
                  <a:lnTo>
                    <a:pt x="1690" y="32"/>
                  </a:lnTo>
                  <a:lnTo>
                    <a:pt x="1707" y="36"/>
                  </a:lnTo>
                  <a:lnTo>
                    <a:pt x="1722" y="43"/>
                  </a:lnTo>
                  <a:lnTo>
                    <a:pt x="1739" y="48"/>
                  </a:lnTo>
                  <a:lnTo>
                    <a:pt x="1756" y="54"/>
                  </a:lnTo>
                  <a:lnTo>
                    <a:pt x="1773" y="62"/>
                  </a:lnTo>
                  <a:lnTo>
                    <a:pt x="1787" y="72"/>
                  </a:lnTo>
                  <a:lnTo>
                    <a:pt x="1799" y="80"/>
                  </a:lnTo>
                  <a:lnTo>
                    <a:pt x="1809" y="90"/>
                  </a:lnTo>
                  <a:lnTo>
                    <a:pt x="1812" y="91"/>
                  </a:lnTo>
                  <a:lnTo>
                    <a:pt x="1820" y="102"/>
                  </a:lnTo>
                  <a:lnTo>
                    <a:pt x="1823" y="106"/>
                  </a:lnTo>
                  <a:lnTo>
                    <a:pt x="1826" y="116"/>
                  </a:lnTo>
                  <a:lnTo>
                    <a:pt x="1829" y="123"/>
                  </a:lnTo>
                  <a:lnTo>
                    <a:pt x="1830" y="130"/>
                  </a:lnTo>
                  <a:lnTo>
                    <a:pt x="1830" y="138"/>
                  </a:lnTo>
                  <a:lnTo>
                    <a:pt x="1833" y="144"/>
                  </a:lnTo>
                  <a:lnTo>
                    <a:pt x="1833" y="156"/>
                  </a:lnTo>
                  <a:lnTo>
                    <a:pt x="1833" y="164"/>
                  </a:lnTo>
                  <a:lnTo>
                    <a:pt x="1833" y="175"/>
                  </a:lnTo>
                  <a:lnTo>
                    <a:pt x="1833" y="181"/>
                  </a:lnTo>
                  <a:lnTo>
                    <a:pt x="1830" y="189"/>
                  </a:lnTo>
                  <a:lnTo>
                    <a:pt x="1829" y="202"/>
                  </a:lnTo>
                  <a:lnTo>
                    <a:pt x="1826" y="209"/>
                  </a:lnTo>
                  <a:lnTo>
                    <a:pt x="1826" y="214"/>
                  </a:lnTo>
                  <a:lnTo>
                    <a:pt x="1819" y="229"/>
                  </a:lnTo>
                  <a:lnTo>
                    <a:pt x="1808" y="246"/>
                  </a:lnTo>
                  <a:lnTo>
                    <a:pt x="1805" y="247"/>
                  </a:lnTo>
                  <a:lnTo>
                    <a:pt x="1794" y="267"/>
                  </a:lnTo>
                  <a:lnTo>
                    <a:pt x="1779" y="283"/>
                  </a:lnTo>
                  <a:lnTo>
                    <a:pt x="1762" y="300"/>
                  </a:lnTo>
                  <a:lnTo>
                    <a:pt x="1743" y="316"/>
                  </a:lnTo>
                  <a:lnTo>
                    <a:pt x="1741" y="319"/>
                  </a:lnTo>
                  <a:lnTo>
                    <a:pt x="1722" y="336"/>
                  </a:lnTo>
                  <a:lnTo>
                    <a:pt x="1703" y="350"/>
                  </a:lnTo>
                  <a:lnTo>
                    <a:pt x="1686" y="365"/>
                  </a:lnTo>
                  <a:lnTo>
                    <a:pt x="1670" y="377"/>
                  </a:lnTo>
                  <a:lnTo>
                    <a:pt x="1655" y="390"/>
                  </a:lnTo>
                  <a:lnTo>
                    <a:pt x="1643" y="398"/>
                  </a:lnTo>
                  <a:lnTo>
                    <a:pt x="1632" y="406"/>
                  </a:lnTo>
                  <a:lnTo>
                    <a:pt x="1626" y="410"/>
                  </a:lnTo>
                  <a:lnTo>
                    <a:pt x="1623" y="412"/>
                  </a:lnTo>
                  <a:lnTo>
                    <a:pt x="1622" y="412"/>
                  </a:lnTo>
                  <a:lnTo>
                    <a:pt x="1559" y="412"/>
                  </a:lnTo>
                  <a:lnTo>
                    <a:pt x="1555" y="412"/>
                  </a:lnTo>
                  <a:lnTo>
                    <a:pt x="1552" y="410"/>
                  </a:lnTo>
                  <a:lnTo>
                    <a:pt x="1551" y="406"/>
                  </a:lnTo>
                  <a:lnTo>
                    <a:pt x="1549" y="399"/>
                  </a:lnTo>
                  <a:lnTo>
                    <a:pt x="1549" y="394"/>
                  </a:lnTo>
                  <a:lnTo>
                    <a:pt x="1546" y="385"/>
                  </a:lnTo>
                  <a:lnTo>
                    <a:pt x="1545" y="379"/>
                  </a:lnTo>
                  <a:lnTo>
                    <a:pt x="1545" y="369"/>
                  </a:lnTo>
                  <a:lnTo>
                    <a:pt x="1545" y="361"/>
                  </a:lnTo>
                  <a:lnTo>
                    <a:pt x="1546" y="354"/>
                  </a:lnTo>
                  <a:lnTo>
                    <a:pt x="1549" y="346"/>
                  </a:lnTo>
                  <a:lnTo>
                    <a:pt x="1549" y="340"/>
                  </a:lnTo>
                  <a:lnTo>
                    <a:pt x="1551" y="333"/>
                  </a:lnTo>
                  <a:lnTo>
                    <a:pt x="1552" y="330"/>
                  </a:lnTo>
                  <a:lnTo>
                    <a:pt x="1572" y="312"/>
                  </a:lnTo>
                  <a:lnTo>
                    <a:pt x="1570" y="316"/>
                  </a:lnTo>
                  <a:lnTo>
                    <a:pt x="1567" y="321"/>
                  </a:lnTo>
                  <a:lnTo>
                    <a:pt x="1567" y="326"/>
                  </a:lnTo>
                  <a:lnTo>
                    <a:pt x="1566" y="336"/>
                  </a:lnTo>
                  <a:lnTo>
                    <a:pt x="1563" y="341"/>
                  </a:lnTo>
                  <a:lnTo>
                    <a:pt x="1563" y="350"/>
                  </a:lnTo>
                  <a:lnTo>
                    <a:pt x="1563" y="361"/>
                  </a:lnTo>
                  <a:lnTo>
                    <a:pt x="1566" y="369"/>
                  </a:lnTo>
                  <a:lnTo>
                    <a:pt x="1567" y="375"/>
                  </a:lnTo>
                  <a:lnTo>
                    <a:pt x="1567" y="381"/>
                  </a:lnTo>
                  <a:lnTo>
                    <a:pt x="1570" y="387"/>
                  </a:lnTo>
                  <a:lnTo>
                    <a:pt x="1572" y="391"/>
                  </a:lnTo>
                  <a:lnTo>
                    <a:pt x="1573" y="394"/>
                  </a:lnTo>
                  <a:lnTo>
                    <a:pt x="1577" y="394"/>
                  </a:lnTo>
                  <a:lnTo>
                    <a:pt x="1427" y="391"/>
                  </a:lnTo>
                  <a:lnTo>
                    <a:pt x="1488" y="391"/>
                  </a:lnTo>
                  <a:lnTo>
                    <a:pt x="1465" y="391"/>
                  </a:lnTo>
                  <a:lnTo>
                    <a:pt x="1446" y="394"/>
                  </a:lnTo>
                  <a:lnTo>
                    <a:pt x="1427" y="395"/>
                  </a:lnTo>
                  <a:lnTo>
                    <a:pt x="1408" y="398"/>
                  </a:lnTo>
                  <a:lnTo>
                    <a:pt x="1391" y="399"/>
                  </a:lnTo>
                  <a:lnTo>
                    <a:pt x="1374" y="402"/>
                  </a:lnTo>
                  <a:lnTo>
                    <a:pt x="1358" y="406"/>
                  </a:lnTo>
                  <a:lnTo>
                    <a:pt x="1341" y="410"/>
                  </a:lnTo>
                  <a:lnTo>
                    <a:pt x="1324" y="415"/>
                  </a:lnTo>
                  <a:lnTo>
                    <a:pt x="1310" y="420"/>
                  </a:lnTo>
                  <a:lnTo>
                    <a:pt x="1292" y="429"/>
                  </a:lnTo>
                  <a:lnTo>
                    <a:pt x="1293" y="427"/>
                  </a:lnTo>
                  <a:lnTo>
                    <a:pt x="1276" y="435"/>
                  </a:lnTo>
                  <a:lnTo>
                    <a:pt x="1258" y="445"/>
                  </a:lnTo>
                  <a:lnTo>
                    <a:pt x="1239" y="456"/>
                  </a:lnTo>
                  <a:lnTo>
                    <a:pt x="1218" y="470"/>
                  </a:lnTo>
                  <a:lnTo>
                    <a:pt x="1195" y="485"/>
                  </a:lnTo>
                  <a:lnTo>
                    <a:pt x="1197" y="482"/>
                  </a:lnTo>
                  <a:lnTo>
                    <a:pt x="1188" y="491"/>
                  </a:lnTo>
                  <a:lnTo>
                    <a:pt x="1187" y="493"/>
                  </a:lnTo>
                  <a:lnTo>
                    <a:pt x="1176" y="502"/>
                  </a:lnTo>
                  <a:lnTo>
                    <a:pt x="1168" y="507"/>
                  </a:lnTo>
                  <a:lnTo>
                    <a:pt x="1170" y="506"/>
                  </a:lnTo>
                  <a:lnTo>
                    <a:pt x="1163" y="514"/>
                  </a:lnTo>
                  <a:lnTo>
                    <a:pt x="1155" y="522"/>
                  </a:lnTo>
                  <a:lnTo>
                    <a:pt x="1147" y="531"/>
                  </a:lnTo>
                  <a:lnTo>
                    <a:pt x="1138" y="539"/>
                  </a:lnTo>
                  <a:lnTo>
                    <a:pt x="1130" y="546"/>
                  </a:lnTo>
                  <a:lnTo>
                    <a:pt x="1124" y="554"/>
                  </a:lnTo>
                  <a:lnTo>
                    <a:pt x="1116" y="561"/>
                  </a:lnTo>
                  <a:lnTo>
                    <a:pt x="1109" y="571"/>
                  </a:lnTo>
                  <a:lnTo>
                    <a:pt x="1100" y="576"/>
                  </a:lnTo>
                  <a:lnTo>
                    <a:pt x="1095" y="585"/>
                  </a:lnTo>
                  <a:lnTo>
                    <a:pt x="1088" y="593"/>
                  </a:lnTo>
                  <a:lnTo>
                    <a:pt x="1079" y="600"/>
                  </a:lnTo>
                  <a:lnTo>
                    <a:pt x="1074" y="608"/>
                  </a:lnTo>
                  <a:lnTo>
                    <a:pt x="1067" y="616"/>
                  </a:lnTo>
                  <a:lnTo>
                    <a:pt x="1061" y="625"/>
                  </a:lnTo>
                  <a:lnTo>
                    <a:pt x="1053" y="630"/>
                  </a:lnTo>
                  <a:lnTo>
                    <a:pt x="1047" y="639"/>
                  </a:lnTo>
                  <a:lnTo>
                    <a:pt x="1040" y="647"/>
                  </a:lnTo>
                  <a:lnTo>
                    <a:pt x="1033" y="655"/>
                  </a:lnTo>
                  <a:lnTo>
                    <a:pt x="1026" y="664"/>
                  </a:lnTo>
                  <a:lnTo>
                    <a:pt x="1019" y="672"/>
                  </a:lnTo>
                  <a:lnTo>
                    <a:pt x="1011" y="680"/>
                  </a:lnTo>
                  <a:lnTo>
                    <a:pt x="1005" y="688"/>
                  </a:lnTo>
                  <a:lnTo>
                    <a:pt x="997" y="697"/>
                  </a:lnTo>
                  <a:lnTo>
                    <a:pt x="990" y="708"/>
                  </a:lnTo>
                  <a:lnTo>
                    <a:pt x="981" y="716"/>
                  </a:lnTo>
                  <a:lnTo>
                    <a:pt x="976" y="724"/>
                  </a:lnTo>
                  <a:lnTo>
                    <a:pt x="967" y="734"/>
                  </a:lnTo>
                  <a:lnTo>
                    <a:pt x="959" y="745"/>
                  </a:lnTo>
                  <a:lnTo>
                    <a:pt x="961" y="741"/>
                  </a:lnTo>
                  <a:lnTo>
                    <a:pt x="963" y="734"/>
                  </a:lnTo>
                  <a:lnTo>
                    <a:pt x="963" y="728"/>
                  </a:lnTo>
                  <a:lnTo>
                    <a:pt x="965" y="723"/>
                  </a:lnTo>
                  <a:lnTo>
                    <a:pt x="965" y="713"/>
                  </a:lnTo>
                  <a:lnTo>
                    <a:pt x="965" y="703"/>
                  </a:lnTo>
                  <a:lnTo>
                    <a:pt x="965" y="695"/>
                  </a:lnTo>
                  <a:lnTo>
                    <a:pt x="965" y="688"/>
                  </a:lnTo>
                  <a:lnTo>
                    <a:pt x="963" y="680"/>
                  </a:lnTo>
                  <a:lnTo>
                    <a:pt x="963" y="674"/>
                  </a:lnTo>
                  <a:lnTo>
                    <a:pt x="961" y="668"/>
                  </a:lnTo>
                  <a:lnTo>
                    <a:pt x="973" y="694"/>
                  </a:lnTo>
                  <a:lnTo>
                    <a:pt x="986" y="713"/>
                  </a:lnTo>
                  <a:lnTo>
                    <a:pt x="997" y="734"/>
                  </a:lnTo>
                  <a:lnTo>
                    <a:pt x="1008" y="756"/>
                  </a:lnTo>
                  <a:lnTo>
                    <a:pt x="1019" y="774"/>
                  </a:lnTo>
                  <a:lnTo>
                    <a:pt x="1029" y="795"/>
                  </a:lnTo>
                  <a:lnTo>
                    <a:pt x="1040" y="811"/>
                  </a:lnTo>
                  <a:lnTo>
                    <a:pt x="1050" y="831"/>
                  </a:lnTo>
                  <a:lnTo>
                    <a:pt x="1061" y="847"/>
                  </a:lnTo>
                  <a:lnTo>
                    <a:pt x="1071" y="864"/>
                  </a:lnTo>
                  <a:lnTo>
                    <a:pt x="1067" y="860"/>
                  </a:lnTo>
                  <a:lnTo>
                    <a:pt x="1079" y="876"/>
                  </a:lnTo>
                  <a:lnTo>
                    <a:pt x="1082" y="878"/>
                  </a:lnTo>
                  <a:lnTo>
                    <a:pt x="1092" y="897"/>
                  </a:lnTo>
                  <a:lnTo>
                    <a:pt x="1100" y="911"/>
                  </a:lnTo>
                  <a:lnTo>
                    <a:pt x="1099" y="907"/>
                  </a:lnTo>
                  <a:lnTo>
                    <a:pt x="1111" y="922"/>
                  </a:lnTo>
                  <a:lnTo>
                    <a:pt x="1121" y="939"/>
                  </a:lnTo>
                  <a:lnTo>
                    <a:pt x="1134" y="955"/>
                  </a:lnTo>
                  <a:lnTo>
                    <a:pt x="1151" y="973"/>
                  </a:lnTo>
                  <a:lnTo>
                    <a:pt x="1168" y="991"/>
                  </a:lnTo>
                  <a:lnTo>
                    <a:pt x="1163" y="988"/>
                  </a:lnTo>
                  <a:lnTo>
                    <a:pt x="1180" y="1002"/>
                  </a:lnTo>
                  <a:lnTo>
                    <a:pt x="1197" y="1016"/>
                  </a:lnTo>
                  <a:lnTo>
                    <a:pt x="1214" y="1028"/>
                  </a:lnTo>
                  <a:lnTo>
                    <a:pt x="1233" y="1038"/>
                  </a:lnTo>
                  <a:lnTo>
                    <a:pt x="1250" y="1046"/>
                  </a:lnTo>
                  <a:lnTo>
                    <a:pt x="1267" y="1055"/>
                  </a:lnTo>
                  <a:lnTo>
                    <a:pt x="1285" y="1061"/>
                  </a:lnTo>
                  <a:lnTo>
                    <a:pt x="1303" y="1066"/>
                  </a:lnTo>
                  <a:lnTo>
                    <a:pt x="1323" y="1071"/>
                  </a:lnTo>
                  <a:lnTo>
                    <a:pt x="1341" y="1074"/>
                  </a:lnTo>
                  <a:lnTo>
                    <a:pt x="1362" y="1078"/>
                  </a:lnTo>
                  <a:lnTo>
                    <a:pt x="1381" y="1080"/>
                  </a:lnTo>
                  <a:lnTo>
                    <a:pt x="1402" y="1084"/>
                  </a:lnTo>
                  <a:lnTo>
                    <a:pt x="1425" y="1086"/>
                  </a:lnTo>
                  <a:lnTo>
                    <a:pt x="1576" y="1091"/>
                  </a:lnTo>
                  <a:lnTo>
                    <a:pt x="1511" y="1175"/>
                  </a:lnTo>
                  <a:lnTo>
                    <a:pt x="1360" y="1171"/>
                  </a:lnTo>
                  <a:lnTo>
                    <a:pt x="1338" y="1168"/>
                  </a:lnTo>
                  <a:lnTo>
                    <a:pt x="1317" y="1165"/>
                  </a:lnTo>
                  <a:lnTo>
                    <a:pt x="1297" y="1164"/>
                  </a:lnTo>
                  <a:lnTo>
                    <a:pt x="1276" y="1160"/>
                  </a:lnTo>
                  <a:lnTo>
                    <a:pt x="1256" y="1157"/>
                  </a:lnTo>
                  <a:lnTo>
                    <a:pt x="1239" y="1150"/>
                  </a:lnTo>
                  <a:lnTo>
                    <a:pt x="1220" y="1146"/>
                  </a:lnTo>
                  <a:lnTo>
                    <a:pt x="1216" y="1144"/>
                  </a:lnTo>
                  <a:lnTo>
                    <a:pt x="1197" y="1138"/>
                  </a:lnTo>
                  <a:lnTo>
                    <a:pt x="1180" y="1129"/>
                  </a:lnTo>
                  <a:lnTo>
                    <a:pt x="1163" y="1121"/>
                  </a:lnTo>
                  <a:lnTo>
                    <a:pt x="1145" y="1113"/>
                  </a:lnTo>
                  <a:lnTo>
                    <a:pt x="1128" y="1100"/>
                  </a:lnTo>
                  <a:lnTo>
                    <a:pt x="1111" y="1086"/>
                  </a:lnTo>
                  <a:lnTo>
                    <a:pt x="1095" y="1071"/>
                  </a:lnTo>
                  <a:lnTo>
                    <a:pt x="1092" y="1070"/>
                  </a:lnTo>
                  <a:lnTo>
                    <a:pt x="1078" y="1053"/>
                  </a:lnTo>
                  <a:lnTo>
                    <a:pt x="1061" y="1034"/>
                  </a:lnTo>
                  <a:lnTo>
                    <a:pt x="1049" y="1017"/>
                  </a:lnTo>
                  <a:lnTo>
                    <a:pt x="1036" y="1001"/>
                  </a:lnTo>
                  <a:lnTo>
                    <a:pt x="1026" y="987"/>
                  </a:lnTo>
                  <a:lnTo>
                    <a:pt x="1023" y="984"/>
                  </a:lnTo>
                  <a:lnTo>
                    <a:pt x="1012" y="968"/>
                  </a:lnTo>
                  <a:lnTo>
                    <a:pt x="1002" y="951"/>
                  </a:lnTo>
                  <a:lnTo>
                    <a:pt x="1005" y="955"/>
                  </a:lnTo>
                  <a:lnTo>
                    <a:pt x="994" y="939"/>
                  </a:lnTo>
                  <a:lnTo>
                    <a:pt x="991" y="934"/>
                  </a:lnTo>
                  <a:lnTo>
                    <a:pt x="981" y="918"/>
                  </a:lnTo>
                  <a:lnTo>
                    <a:pt x="970" y="901"/>
                  </a:lnTo>
                  <a:lnTo>
                    <a:pt x="963" y="885"/>
                  </a:lnTo>
                  <a:lnTo>
                    <a:pt x="952" y="865"/>
                  </a:lnTo>
                  <a:lnTo>
                    <a:pt x="940" y="847"/>
                  </a:lnTo>
                  <a:lnTo>
                    <a:pt x="930" y="826"/>
                  </a:lnTo>
                  <a:lnTo>
                    <a:pt x="919" y="806"/>
                  </a:lnTo>
                  <a:lnTo>
                    <a:pt x="906" y="787"/>
                  </a:lnTo>
                  <a:lnTo>
                    <a:pt x="893" y="763"/>
                  </a:lnTo>
                  <a:lnTo>
                    <a:pt x="881" y="741"/>
                  </a:lnTo>
                  <a:lnTo>
                    <a:pt x="881" y="734"/>
                  </a:lnTo>
                  <a:lnTo>
                    <a:pt x="879" y="728"/>
                  </a:lnTo>
                  <a:lnTo>
                    <a:pt x="879" y="723"/>
                  </a:lnTo>
                  <a:lnTo>
                    <a:pt x="877" y="713"/>
                  </a:lnTo>
                  <a:lnTo>
                    <a:pt x="877" y="703"/>
                  </a:lnTo>
                  <a:lnTo>
                    <a:pt x="877" y="695"/>
                  </a:lnTo>
                  <a:lnTo>
                    <a:pt x="879" y="688"/>
                  </a:lnTo>
                  <a:lnTo>
                    <a:pt x="879" y="680"/>
                  </a:lnTo>
                  <a:lnTo>
                    <a:pt x="881" y="674"/>
                  </a:lnTo>
                  <a:lnTo>
                    <a:pt x="881" y="668"/>
                  </a:lnTo>
                  <a:lnTo>
                    <a:pt x="885" y="666"/>
                  </a:lnTo>
                  <a:lnTo>
                    <a:pt x="893" y="655"/>
                  </a:lnTo>
                  <a:lnTo>
                    <a:pt x="900" y="645"/>
                  </a:lnTo>
                  <a:lnTo>
                    <a:pt x="909" y="637"/>
                  </a:lnTo>
                  <a:lnTo>
                    <a:pt x="917" y="629"/>
                  </a:lnTo>
                  <a:lnTo>
                    <a:pt x="923" y="620"/>
                  </a:lnTo>
                  <a:lnTo>
                    <a:pt x="931" y="610"/>
                  </a:lnTo>
                  <a:lnTo>
                    <a:pt x="938" y="601"/>
                  </a:lnTo>
                  <a:lnTo>
                    <a:pt x="946" y="593"/>
                  </a:lnTo>
                  <a:lnTo>
                    <a:pt x="952" y="585"/>
                  </a:lnTo>
                  <a:lnTo>
                    <a:pt x="959" y="576"/>
                  </a:lnTo>
                  <a:lnTo>
                    <a:pt x="965" y="568"/>
                  </a:lnTo>
                  <a:lnTo>
                    <a:pt x="973" y="560"/>
                  </a:lnTo>
                  <a:lnTo>
                    <a:pt x="980" y="551"/>
                  </a:lnTo>
                  <a:lnTo>
                    <a:pt x="988" y="546"/>
                  </a:lnTo>
                  <a:lnTo>
                    <a:pt x="994" y="536"/>
                  </a:lnTo>
                  <a:lnTo>
                    <a:pt x="1001" y="528"/>
                  </a:lnTo>
                  <a:lnTo>
                    <a:pt x="1007" y="521"/>
                  </a:lnTo>
                  <a:lnTo>
                    <a:pt x="1015" y="514"/>
                  </a:lnTo>
                  <a:lnTo>
                    <a:pt x="1022" y="506"/>
                  </a:lnTo>
                  <a:lnTo>
                    <a:pt x="1028" y="498"/>
                  </a:lnTo>
                  <a:lnTo>
                    <a:pt x="1036" y="491"/>
                  </a:lnTo>
                  <a:lnTo>
                    <a:pt x="1043" y="482"/>
                  </a:lnTo>
                  <a:lnTo>
                    <a:pt x="1049" y="474"/>
                  </a:lnTo>
                  <a:lnTo>
                    <a:pt x="1057" y="468"/>
                  </a:lnTo>
                  <a:lnTo>
                    <a:pt x="1065" y="460"/>
                  </a:lnTo>
                  <a:lnTo>
                    <a:pt x="1074" y="452"/>
                  </a:lnTo>
                  <a:lnTo>
                    <a:pt x="1079" y="444"/>
                  </a:lnTo>
                  <a:lnTo>
                    <a:pt x="1088" y="435"/>
                  </a:lnTo>
                  <a:lnTo>
                    <a:pt x="1096" y="427"/>
                  </a:lnTo>
                  <a:lnTo>
                    <a:pt x="1099" y="424"/>
                  </a:lnTo>
                  <a:lnTo>
                    <a:pt x="1107" y="419"/>
                  </a:lnTo>
                  <a:lnTo>
                    <a:pt x="1117" y="410"/>
                  </a:lnTo>
                  <a:lnTo>
                    <a:pt x="1116" y="412"/>
                  </a:lnTo>
                  <a:lnTo>
                    <a:pt x="1124" y="404"/>
                  </a:lnTo>
                  <a:lnTo>
                    <a:pt x="1126" y="399"/>
                  </a:lnTo>
                  <a:lnTo>
                    <a:pt x="1149" y="385"/>
                  </a:lnTo>
                  <a:lnTo>
                    <a:pt x="1170" y="373"/>
                  </a:lnTo>
                  <a:lnTo>
                    <a:pt x="1188" y="362"/>
                  </a:lnTo>
                  <a:lnTo>
                    <a:pt x="1208" y="352"/>
                  </a:lnTo>
                  <a:lnTo>
                    <a:pt x="1226" y="344"/>
                  </a:lnTo>
                  <a:lnTo>
                    <a:pt x="1229" y="341"/>
                  </a:lnTo>
                  <a:lnTo>
                    <a:pt x="1246" y="336"/>
                  </a:lnTo>
                  <a:lnTo>
                    <a:pt x="1261" y="329"/>
                  </a:lnTo>
                  <a:lnTo>
                    <a:pt x="1279" y="322"/>
                  </a:lnTo>
                  <a:lnTo>
                    <a:pt x="1293" y="319"/>
                  </a:lnTo>
                  <a:lnTo>
                    <a:pt x="1310" y="316"/>
                  </a:lnTo>
                  <a:lnTo>
                    <a:pt x="1328" y="312"/>
                  </a:lnTo>
                  <a:lnTo>
                    <a:pt x="1345" y="311"/>
                  </a:lnTo>
                  <a:lnTo>
                    <a:pt x="1362" y="311"/>
                  </a:lnTo>
                  <a:lnTo>
                    <a:pt x="1383" y="307"/>
                  </a:lnTo>
                  <a:lnTo>
                    <a:pt x="1402" y="307"/>
                  </a:lnTo>
                  <a:lnTo>
                    <a:pt x="1425" y="304"/>
                  </a:lnTo>
                  <a:lnTo>
                    <a:pt x="1488" y="307"/>
                  </a:lnTo>
                  <a:lnTo>
                    <a:pt x="1490" y="307"/>
                  </a:lnTo>
                  <a:lnTo>
                    <a:pt x="1643" y="311"/>
                  </a:lnTo>
                  <a:lnTo>
                    <a:pt x="1644" y="312"/>
                  </a:lnTo>
                  <a:lnTo>
                    <a:pt x="1647" y="316"/>
                  </a:lnTo>
                  <a:lnTo>
                    <a:pt x="1649" y="321"/>
                  </a:lnTo>
                  <a:lnTo>
                    <a:pt x="1651" y="326"/>
                  </a:lnTo>
                  <a:lnTo>
                    <a:pt x="1651" y="336"/>
                  </a:lnTo>
                  <a:lnTo>
                    <a:pt x="1653" y="341"/>
                  </a:lnTo>
                  <a:lnTo>
                    <a:pt x="1653" y="350"/>
                  </a:lnTo>
                  <a:lnTo>
                    <a:pt x="1653" y="361"/>
                  </a:lnTo>
                  <a:lnTo>
                    <a:pt x="1651" y="369"/>
                  </a:lnTo>
                  <a:lnTo>
                    <a:pt x="1651" y="375"/>
                  </a:lnTo>
                  <a:lnTo>
                    <a:pt x="1649" y="381"/>
                  </a:lnTo>
                  <a:lnTo>
                    <a:pt x="1647" y="387"/>
                  </a:lnTo>
                  <a:lnTo>
                    <a:pt x="1644" y="391"/>
                  </a:lnTo>
                  <a:lnTo>
                    <a:pt x="1626" y="410"/>
                  </a:lnTo>
                  <a:lnTo>
                    <a:pt x="1629" y="406"/>
                  </a:lnTo>
                  <a:lnTo>
                    <a:pt x="1630" y="399"/>
                  </a:lnTo>
                  <a:lnTo>
                    <a:pt x="1632" y="394"/>
                  </a:lnTo>
                  <a:lnTo>
                    <a:pt x="1632" y="385"/>
                  </a:lnTo>
                  <a:lnTo>
                    <a:pt x="1634" y="379"/>
                  </a:lnTo>
                  <a:lnTo>
                    <a:pt x="1634" y="369"/>
                  </a:lnTo>
                  <a:lnTo>
                    <a:pt x="1634" y="361"/>
                  </a:lnTo>
                  <a:lnTo>
                    <a:pt x="1632" y="354"/>
                  </a:lnTo>
                  <a:lnTo>
                    <a:pt x="1632" y="346"/>
                  </a:lnTo>
                  <a:lnTo>
                    <a:pt x="1630" y="340"/>
                  </a:lnTo>
                  <a:lnTo>
                    <a:pt x="1629" y="333"/>
                  </a:lnTo>
                  <a:lnTo>
                    <a:pt x="1626" y="330"/>
                  </a:lnTo>
                  <a:lnTo>
                    <a:pt x="1623" y="326"/>
                  </a:lnTo>
                  <a:lnTo>
                    <a:pt x="1622" y="326"/>
                  </a:lnTo>
                  <a:lnTo>
                    <a:pt x="1556" y="326"/>
                  </a:lnTo>
                  <a:lnTo>
                    <a:pt x="1555" y="326"/>
                  </a:lnTo>
                  <a:lnTo>
                    <a:pt x="1556" y="326"/>
                  </a:lnTo>
                  <a:lnTo>
                    <a:pt x="1563" y="321"/>
                  </a:lnTo>
                  <a:lnTo>
                    <a:pt x="1573" y="315"/>
                  </a:lnTo>
                  <a:lnTo>
                    <a:pt x="1587" y="307"/>
                  </a:lnTo>
                  <a:lnTo>
                    <a:pt x="1601" y="293"/>
                  </a:lnTo>
                  <a:lnTo>
                    <a:pt x="1618" y="282"/>
                  </a:lnTo>
                  <a:lnTo>
                    <a:pt x="1634" y="267"/>
                  </a:lnTo>
                  <a:lnTo>
                    <a:pt x="1653" y="252"/>
                  </a:lnTo>
                  <a:lnTo>
                    <a:pt x="1672" y="235"/>
                  </a:lnTo>
                  <a:lnTo>
                    <a:pt x="1670" y="238"/>
                  </a:lnTo>
                  <a:lnTo>
                    <a:pt x="1689" y="221"/>
                  </a:lnTo>
                  <a:lnTo>
                    <a:pt x="1706" y="204"/>
                  </a:lnTo>
                  <a:lnTo>
                    <a:pt x="1720" y="188"/>
                  </a:lnTo>
                  <a:lnTo>
                    <a:pt x="1732" y="169"/>
                  </a:lnTo>
                  <a:lnTo>
                    <a:pt x="1731" y="173"/>
                  </a:lnTo>
                  <a:lnTo>
                    <a:pt x="1741" y="159"/>
                  </a:lnTo>
                  <a:lnTo>
                    <a:pt x="1748" y="144"/>
                  </a:lnTo>
                  <a:lnTo>
                    <a:pt x="1748" y="149"/>
                  </a:lnTo>
                  <a:lnTo>
                    <a:pt x="1745" y="155"/>
                  </a:lnTo>
                  <a:lnTo>
                    <a:pt x="1748" y="142"/>
                  </a:lnTo>
                  <a:lnTo>
                    <a:pt x="1748" y="149"/>
                  </a:lnTo>
                  <a:lnTo>
                    <a:pt x="1745" y="156"/>
                  </a:lnTo>
                  <a:lnTo>
                    <a:pt x="1745" y="164"/>
                  </a:lnTo>
                  <a:lnTo>
                    <a:pt x="1745" y="175"/>
                  </a:lnTo>
                  <a:lnTo>
                    <a:pt x="1743" y="163"/>
                  </a:lnTo>
                  <a:lnTo>
                    <a:pt x="1745" y="169"/>
                  </a:lnTo>
                  <a:lnTo>
                    <a:pt x="1748" y="177"/>
                  </a:lnTo>
                  <a:lnTo>
                    <a:pt x="1748" y="184"/>
                  </a:lnTo>
                  <a:lnTo>
                    <a:pt x="1749" y="189"/>
                  </a:lnTo>
                  <a:lnTo>
                    <a:pt x="1743" y="179"/>
                  </a:lnTo>
                  <a:lnTo>
                    <a:pt x="1748" y="181"/>
                  </a:lnTo>
                  <a:lnTo>
                    <a:pt x="1739" y="171"/>
                  </a:lnTo>
                  <a:lnTo>
                    <a:pt x="1741" y="173"/>
                  </a:lnTo>
                  <a:lnTo>
                    <a:pt x="1731" y="164"/>
                  </a:lnTo>
                  <a:lnTo>
                    <a:pt x="1718" y="155"/>
                  </a:lnTo>
                  <a:lnTo>
                    <a:pt x="1703" y="146"/>
                  </a:lnTo>
                  <a:lnTo>
                    <a:pt x="1686" y="138"/>
                  </a:lnTo>
                  <a:lnTo>
                    <a:pt x="1670" y="131"/>
                  </a:lnTo>
                  <a:lnTo>
                    <a:pt x="1653" y="126"/>
                  </a:lnTo>
                  <a:lnTo>
                    <a:pt x="1657" y="126"/>
                  </a:lnTo>
                  <a:lnTo>
                    <a:pt x="1640" y="120"/>
                  </a:lnTo>
                  <a:lnTo>
                    <a:pt x="1626" y="116"/>
                  </a:lnTo>
                  <a:lnTo>
                    <a:pt x="1613" y="113"/>
                  </a:lnTo>
                  <a:lnTo>
                    <a:pt x="1601" y="109"/>
                  </a:lnTo>
                  <a:lnTo>
                    <a:pt x="1592" y="106"/>
                  </a:lnTo>
                  <a:lnTo>
                    <a:pt x="1588" y="106"/>
                  </a:lnTo>
                  <a:lnTo>
                    <a:pt x="1651" y="106"/>
                  </a:lnTo>
                  <a:lnTo>
                    <a:pt x="1647" y="106"/>
                  </a:lnTo>
                  <a:lnTo>
                    <a:pt x="1584" y="106"/>
                  </a:lnTo>
                  <a:lnTo>
                    <a:pt x="1580" y="105"/>
                  </a:lnTo>
                  <a:lnTo>
                    <a:pt x="1577" y="102"/>
                  </a:lnTo>
                  <a:lnTo>
                    <a:pt x="1581" y="105"/>
                  </a:lnTo>
                  <a:lnTo>
                    <a:pt x="1644" y="105"/>
                  </a:lnTo>
                  <a:lnTo>
                    <a:pt x="1640" y="105"/>
                  </a:lnTo>
                  <a:lnTo>
                    <a:pt x="1577" y="105"/>
                  </a:lnTo>
                  <a:lnTo>
                    <a:pt x="1573" y="102"/>
                  </a:lnTo>
                  <a:lnTo>
                    <a:pt x="1567" y="102"/>
                  </a:lnTo>
                  <a:lnTo>
                    <a:pt x="1556" y="101"/>
                  </a:lnTo>
                  <a:lnTo>
                    <a:pt x="1549" y="98"/>
                  </a:lnTo>
                  <a:lnTo>
                    <a:pt x="1541" y="95"/>
                  </a:lnTo>
                  <a:lnTo>
                    <a:pt x="1528" y="94"/>
                  </a:lnTo>
                  <a:lnTo>
                    <a:pt x="1514" y="94"/>
                  </a:lnTo>
                  <a:lnTo>
                    <a:pt x="1503" y="91"/>
                  </a:lnTo>
                  <a:lnTo>
                    <a:pt x="1488" y="91"/>
                  </a:lnTo>
                  <a:lnTo>
                    <a:pt x="1474" y="87"/>
                  </a:lnTo>
                  <a:lnTo>
                    <a:pt x="1535" y="87"/>
                  </a:lnTo>
                  <a:lnTo>
                    <a:pt x="1521" y="87"/>
                  </a:lnTo>
                  <a:lnTo>
                    <a:pt x="1458" y="87"/>
                  </a:lnTo>
                  <a:lnTo>
                    <a:pt x="1442" y="87"/>
                  </a:lnTo>
                  <a:lnTo>
                    <a:pt x="1427" y="86"/>
                  </a:lnTo>
                  <a:lnTo>
                    <a:pt x="1488" y="86"/>
                  </a:lnTo>
                  <a:lnTo>
                    <a:pt x="1471" y="86"/>
                  </a:lnTo>
                  <a:lnTo>
                    <a:pt x="1453" y="86"/>
                  </a:lnTo>
                  <a:lnTo>
                    <a:pt x="1433" y="87"/>
                  </a:lnTo>
                  <a:lnTo>
                    <a:pt x="1419" y="87"/>
                  </a:lnTo>
                  <a:lnTo>
                    <a:pt x="1400" y="90"/>
                  </a:lnTo>
                  <a:lnTo>
                    <a:pt x="1381" y="91"/>
                  </a:lnTo>
                  <a:lnTo>
                    <a:pt x="1362" y="94"/>
                  </a:lnTo>
                  <a:lnTo>
                    <a:pt x="1344" y="95"/>
                  </a:lnTo>
                  <a:lnTo>
                    <a:pt x="1324" y="102"/>
                  </a:lnTo>
                  <a:lnTo>
                    <a:pt x="1306" y="106"/>
                  </a:lnTo>
                  <a:lnTo>
                    <a:pt x="1286" y="110"/>
                  </a:lnTo>
                  <a:lnTo>
                    <a:pt x="1271" y="116"/>
                  </a:lnTo>
                  <a:lnTo>
                    <a:pt x="1254" y="126"/>
                  </a:lnTo>
                  <a:lnTo>
                    <a:pt x="1256" y="123"/>
                  </a:lnTo>
                  <a:lnTo>
                    <a:pt x="1239" y="131"/>
                  </a:lnTo>
                  <a:lnTo>
                    <a:pt x="1222" y="142"/>
                  </a:lnTo>
                  <a:lnTo>
                    <a:pt x="1208" y="152"/>
                  </a:lnTo>
                  <a:lnTo>
                    <a:pt x="1209" y="149"/>
                  </a:lnTo>
                  <a:lnTo>
                    <a:pt x="1204" y="155"/>
                  </a:lnTo>
                  <a:lnTo>
                    <a:pt x="1201" y="159"/>
                  </a:lnTo>
                  <a:lnTo>
                    <a:pt x="1193" y="164"/>
                  </a:lnTo>
                  <a:lnTo>
                    <a:pt x="1184" y="169"/>
                  </a:lnTo>
                  <a:lnTo>
                    <a:pt x="1176" y="177"/>
                  </a:lnTo>
                  <a:lnTo>
                    <a:pt x="1168" y="184"/>
                  </a:lnTo>
                  <a:lnTo>
                    <a:pt x="1159" y="192"/>
                  </a:lnTo>
                  <a:lnTo>
                    <a:pt x="1149" y="198"/>
                  </a:lnTo>
                  <a:lnTo>
                    <a:pt x="1151" y="196"/>
                  </a:lnTo>
                  <a:lnTo>
                    <a:pt x="1142" y="204"/>
                  </a:lnTo>
                  <a:lnTo>
                    <a:pt x="1141" y="209"/>
                  </a:lnTo>
                  <a:lnTo>
                    <a:pt x="1130" y="217"/>
                  </a:lnTo>
                  <a:lnTo>
                    <a:pt x="1120" y="225"/>
                  </a:lnTo>
                  <a:lnTo>
                    <a:pt x="1111" y="233"/>
                  </a:lnTo>
                  <a:lnTo>
                    <a:pt x="1099" y="242"/>
                  </a:lnTo>
                  <a:lnTo>
                    <a:pt x="1100" y="239"/>
                  </a:lnTo>
                  <a:lnTo>
                    <a:pt x="1092" y="247"/>
                  </a:lnTo>
                  <a:lnTo>
                    <a:pt x="1088" y="252"/>
                  </a:lnTo>
                  <a:lnTo>
                    <a:pt x="1079" y="260"/>
                  </a:lnTo>
                  <a:lnTo>
                    <a:pt x="1067" y="268"/>
                  </a:lnTo>
                  <a:lnTo>
                    <a:pt x="1060" y="278"/>
                  </a:lnTo>
                  <a:lnTo>
                    <a:pt x="1049" y="287"/>
                  </a:lnTo>
                  <a:lnTo>
                    <a:pt x="1050" y="283"/>
                  </a:lnTo>
                  <a:lnTo>
                    <a:pt x="1040" y="293"/>
                  </a:lnTo>
                  <a:lnTo>
                    <a:pt x="1039" y="296"/>
                  </a:lnTo>
                  <a:lnTo>
                    <a:pt x="1028" y="304"/>
                  </a:lnTo>
                  <a:lnTo>
                    <a:pt x="1018" y="312"/>
                  </a:lnTo>
                  <a:lnTo>
                    <a:pt x="1008" y="321"/>
                  </a:lnTo>
                  <a:lnTo>
                    <a:pt x="1011" y="319"/>
                  </a:lnTo>
                  <a:lnTo>
                    <a:pt x="1002" y="326"/>
                  </a:lnTo>
                  <a:lnTo>
                    <a:pt x="1001" y="330"/>
                  </a:lnTo>
                  <a:lnTo>
                    <a:pt x="990" y="337"/>
                  </a:lnTo>
                  <a:lnTo>
                    <a:pt x="994" y="336"/>
                  </a:lnTo>
                  <a:lnTo>
                    <a:pt x="984" y="344"/>
                  </a:lnTo>
                  <a:lnTo>
                    <a:pt x="977" y="350"/>
                  </a:lnTo>
                  <a:lnTo>
                    <a:pt x="969" y="358"/>
                  </a:lnTo>
                  <a:lnTo>
                    <a:pt x="967" y="361"/>
                  </a:lnTo>
                  <a:lnTo>
                    <a:pt x="959" y="366"/>
                  </a:lnTo>
                  <a:lnTo>
                    <a:pt x="963" y="365"/>
                  </a:lnTo>
                  <a:lnTo>
                    <a:pt x="956" y="370"/>
                  </a:lnTo>
                  <a:lnTo>
                    <a:pt x="951" y="377"/>
                  </a:lnTo>
                  <a:lnTo>
                    <a:pt x="944" y="383"/>
                  </a:lnTo>
                  <a:lnTo>
                    <a:pt x="940" y="385"/>
                  </a:lnTo>
                  <a:lnTo>
                    <a:pt x="938" y="391"/>
                  </a:lnTo>
                  <a:lnTo>
                    <a:pt x="923" y="406"/>
                  </a:lnTo>
                  <a:lnTo>
                    <a:pt x="910" y="420"/>
                  </a:lnTo>
                  <a:lnTo>
                    <a:pt x="898" y="435"/>
                  </a:lnTo>
                  <a:lnTo>
                    <a:pt x="885" y="449"/>
                  </a:lnTo>
                  <a:lnTo>
                    <a:pt x="872" y="464"/>
                  </a:lnTo>
                  <a:lnTo>
                    <a:pt x="863" y="477"/>
                  </a:lnTo>
                  <a:lnTo>
                    <a:pt x="850" y="489"/>
                  </a:lnTo>
                  <a:lnTo>
                    <a:pt x="839" y="502"/>
                  </a:lnTo>
                  <a:lnTo>
                    <a:pt x="829" y="514"/>
                  </a:lnTo>
                  <a:lnTo>
                    <a:pt x="816" y="524"/>
                  </a:lnTo>
                  <a:lnTo>
                    <a:pt x="808" y="535"/>
                  </a:lnTo>
                  <a:lnTo>
                    <a:pt x="797" y="546"/>
                  </a:lnTo>
                  <a:lnTo>
                    <a:pt x="795" y="547"/>
                  </a:lnTo>
                  <a:lnTo>
                    <a:pt x="783" y="558"/>
                  </a:lnTo>
                  <a:lnTo>
                    <a:pt x="773" y="567"/>
                  </a:lnTo>
                  <a:lnTo>
                    <a:pt x="763" y="575"/>
                  </a:lnTo>
                  <a:lnTo>
                    <a:pt x="754" y="581"/>
                  </a:lnTo>
                  <a:lnTo>
                    <a:pt x="744" y="589"/>
                  </a:lnTo>
                  <a:lnTo>
                    <a:pt x="733" y="596"/>
                  </a:lnTo>
                  <a:lnTo>
                    <a:pt x="723" y="601"/>
                  </a:lnTo>
                  <a:lnTo>
                    <a:pt x="720" y="601"/>
                  </a:lnTo>
                  <a:lnTo>
                    <a:pt x="707" y="608"/>
                  </a:lnTo>
                  <a:lnTo>
                    <a:pt x="699" y="610"/>
                  </a:lnTo>
                  <a:lnTo>
                    <a:pt x="686" y="614"/>
                  </a:lnTo>
                  <a:lnTo>
                    <a:pt x="676" y="616"/>
                  </a:lnTo>
                  <a:lnTo>
                    <a:pt x="665" y="620"/>
                  </a:lnTo>
                  <a:lnTo>
                    <a:pt x="653" y="620"/>
                  </a:lnTo>
                  <a:lnTo>
                    <a:pt x="640" y="620"/>
                  </a:lnTo>
                  <a:lnTo>
                    <a:pt x="577" y="620"/>
                  </a:lnTo>
                  <a:lnTo>
                    <a:pt x="565" y="620"/>
                  </a:lnTo>
                  <a:lnTo>
                    <a:pt x="552" y="618"/>
                  </a:lnTo>
                  <a:lnTo>
                    <a:pt x="541" y="616"/>
                  </a:lnTo>
                  <a:lnTo>
                    <a:pt x="526" y="612"/>
                  </a:lnTo>
                  <a:lnTo>
                    <a:pt x="513" y="608"/>
                  </a:lnTo>
                  <a:lnTo>
                    <a:pt x="499" y="604"/>
                  </a:lnTo>
                  <a:lnTo>
                    <a:pt x="495" y="601"/>
                  </a:lnTo>
                  <a:lnTo>
                    <a:pt x="271" y="513"/>
                  </a:lnTo>
                  <a:lnTo>
                    <a:pt x="274" y="514"/>
                  </a:lnTo>
                  <a:lnTo>
                    <a:pt x="335" y="514"/>
                  </a:lnTo>
                  <a:lnTo>
                    <a:pt x="333" y="514"/>
                  </a:lnTo>
                  <a:lnTo>
                    <a:pt x="324" y="517"/>
                  </a:lnTo>
                  <a:lnTo>
                    <a:pt x="309" y="521"/>
                  </a:lnTo>
                  <a:lnTo>
                    <a:pt x="289" y="522"/>
                  </a:lnTo>
                  <a:lnTo>
                    <a:pt x="268" y="528"/>
                  </a:lnTo>
                  <a:lnTo>
                    <a:pt x="243" y="532"/>
                  </a:lnTo>
                  <a:lnTo>
                    <a:pt x="218" y="539"/>
                  </a:lnTo>
                  <a:lnTo>
                    <a:pt x="193" y="546"/>
                  </a:lnTo>
                  <a:lnTo>
                    <a:pt x="168" y="551"/>
                  </a:lnTo>
                  <a:lnTo>
                    <a:pt x="147" y="558"/>
                  </a:lnTo>
                  <a:lnTo>
                    <a:pt x="128" y="564"/>
                  </a:lnTo>
                  <a:lnTo>
                    <a:pt x="112" y="571"/>
                  </a:lnTo>
                  <a:lnTo>
                    <a:pt x="113" y="571"/>
                  </a:lnTo>
                  <a:lnTo>
                    <a:pt x="103" y="575"/>
                  </a:lnTo>
                  <a:lnTo>
                    <a:pt x="105" y="572"/>
                  </a:lnTo>
                  <a:lnTo>
                    <a:pt x="101" y="579"/>
                  </a:lnTo>
                  <a:lnTo>
                    <a:pt x="103" y="575"/>
                  </a:lnTo>
                  <a:lnTo>
                    <a:pt x="103" y="571"/>
                  </a:lnTo>
                  <a:lnTo>
                    <a:pt x="105" y="564"/>
                  </a:lnTo>
                  <a:lnTo>
                    <a:pt x="107" y="556"/>
                  </a:lnTo>
                  <a:lnTo>
                    <a:pt x="107" y="550"/>
                  </a:lnTo>
                  <a:lnTo>
                    <a:pt x="107" y="539"/>
                  </a:lnTo>
                  <a:lnTo>
                    <a:pt x="107" y="531"/>
                  </a:lnTo>
                  <a:lnTo>
                    <a:pt x="107" y="522"/>
                  </a:lnTo>
                  <a:lnTo>
                    <a:pt x="105" y="517"/>
                  </a:lnTo>
                  <a:lnTo>
                    <a:pt x="103" y="510"/>
                  </a:lnTo>
                  <a:lnTo>
                    <a:pt x="103" y="503"/>
                  </a:lnTo>
                  <a:lnTo>
                    <a:pt x="103" y="507"/>
                  </a:lnTo>
                  <a:lnTo>
                    <a:pt x="101" y="506"/>
                  </a:lnTo>
                  <a:lnTo>
                    <a:pt x="99" y="502"/>
                  </a:lnTo>
                  <a:lnTo>
                    <a:pt x="109" y="506"/>
                  </a:lnTo>
                  <a:lnTo>
                    <a:pt x="107" y="506"/>
                  </a:lnTo>
                  <a:lnTo>
                    <a:pt x="42" y="506"/>
                  </a:lnTo>
                  <a:lnTo>
                    <a:pt x="45" y="506"/>
                  </a:lnTo>
                  <a:lnTo>
                    <a:pt x="107" y="506"/>
                  </a:lnTo>
                  <a:lnTo>
                    <a:pt x="109" y="506"/>
                  </a:lnTo>
                  <a:lnTo>
                    <a:pt x="116" y="507"/>
                  </a:lnTo>
                  <a:lnTo>
                    <a:pt x="122" y="510"/>
                  </a:lnTo>
                  <a:lnTo>
                    <a:pt x="133" y="513"/>
                  </a:lnTo>
                  <a:lnTo>
                    <a:pt x="141" y="517"/>
                  </a:lnTo>
                  <a:lnTo>
                    <a:pt x="153" y="522"/>
                  </a:lnTo>
                  <a:lnTo>
                    <a:pt x="163" y="528"/>
                  </a:lnTo>
                  <a:lnTo>
                    <a:pt x="174" y="535"/>
                  </a:lnTo>
                  <a:lnTo>
                    <a:pt x="187" y="543"/>
                  </a:lnTo>
                  <a:lnTo>
                    <a:pt x="189" y="546"/>
                  </a:lnTo>
                  <a:lnTo>
                    <a:pt x="197" y="556"/>
                  </a:lnTo>
                  <a:lnTo>
                    <a:pt x="200" y="558"/>
                  </a:lnTo>
                  <a:lnTo>
                    <a:pt x="205" y="571"/>
                  </a:lnTo>
                  <a:lnTo>
                    <a:pt x="212" y="581"/>
                  </a:lnTo>
                  <a:lnTo>
                    <a:pt x="212" y="587"/>
                  </a:lnTo>
                  <a:lnTo>
                    <a:pt x="214" y="593"/>
                  </a:lnTo>
                  <a:lnTo>
                    <a:pt x="215" y="601"/>
                  </a:lnTo>
                  <a:lnTo>
                    <a:pt x="215" y="608"/>
                  </a:lnTo>
                  <a:lnTo>
                    <a:pt x="218" y="622"/>
                  </a:lnTo>
                  <a:lnTo>
                    <a:pt x="218" y="630"/>
                  </a:lnTo>
                  <a:lnTo>
                    <a:pt x="218" y="639"/>
                  </a:lnTo>
                  <a:lnTo>
                    <a:pt x="215" y="654"/>
                  </a:lnTo>
                  <a:lnTo>
                    <a:pt x="215" y="662"/>
                  </a:lnTo>
                  <a:lnTo>
                    <a:pt x="214" y="668"/>
                  </a:lnTo>
                  <a:lnTo>
                    <a:pt x="212" y="674"/>
                  </a:lnTo>
                  <a:lnTo>
                    <a:pt x="212" y="680"/>
                  </a:lnTo>
                  <a:lnTo>
                    <a:pt x="205" y="697"/>
                  </a:lnTo>
                  <a:lnTo>
                    <a:pt x="193" y="716"/>
                  </a:lnTo>
                  <a:lnTo>
                    <a:pt x="88" y="897"/>
                  </a:lnTo>
                  <a:lnTo>
                    <a:pt x="88" y="890"/>
                  </a:lnTo>
                  <a:lnTo>
                    <a:pt x="91" y="885"/>
                  </a:lnTo>
                  <a:lnTo>
                    <a:pt x="88" y="897"/>
                  </a:lnTo>
                  <a:lnTo>
                    <a:pt x="88" y="890"/>
                  </a:lnTo>
                  <a:lnTo>
                    <a:pt x="91" y="882"/>
                  </a:lnTo>
                  <a:lnTo>
                    <a:pt x="91" y="874"/>
                  </a:lnTo>
                  <a:lnTo>
                    <a:pt x="91" y="864"/>
                  </a:lnTo>
                  <a:lnTo>
                    <a:pt x="88" y="857"/>
                  </a:lnTo>
                  <a:lnTo>
                    <a:pt x="88" y="849"/>
                  </a:lnTo>
                  <a:lnTo>
                    <a:pt x="86" y="845"/>
                  </a:lnTo>
                  <a:lnTo>
                    <a:pt x="84" y="839"/>
                  </a:lnTo>
                  <a:lnTo>
                    <a:pt x="88" y="849"/>
                  </a:lnTo>
                  <a:lnTo>
                    <a:pt x="84" y="847"/>
                  </a:lnTo>
                  <a:lnTo>
                    <a:pt x="92" y="855"/>
                  </a:lnTo>
                  <a:lnTo>
                    <a:pt x="91" y="853"/>
                  </a:lnTo>
                  <a:lnTo>
                    <a:pt x="103" y="861"/>
                  </a:lnTo>
                  <a:lnTo>
                    <a:pt x="117" y="870"/>
                  </a:lnTo>
                  <a:lnTo>
                    <a:pt x="137" y="878"/>
                  </a:lnTo>
                  <a:lnTo>
                    <a:pt x="158" y="885"/>
                  </a:lnTo>
                  <a:lnTo>
                    <a:pt x="179" y="890"/>
                  </a:lnTo>
                  <a:lnTo>
                    <a:pt x="200" y="894"/>
                  </a:lnTo>
                  <a:lnTo>
                    <a:pt x="222" y="899"/>
                  </a:lnTo>
                  <a:lnTo>
                    <a:pt x="242" y="903"/>
                  </a:lnTo>
                  <a:lnTo>
                    <a:pt x="257" y="905"/>
                  </a:lnTo>
                  <a:lnTo>
                    <a:pt x="274" y="905"/>
                  </a:lnTo>
                  <a:lnTo>
                    <a:pt x="288" y="907"/>
                  </a:lnTo>
                  <a:lnTo>
                    <a:pt x="295" y="907"/>
                  </a:lnTo>
                  <a:lnTo>
                    <a:pt x="293" y="907"/>
                  </a:lnTo>
                  <a:lnTo>
                    <a:pt x="229" y="907"/>
                  </a:lnTo>
                  <a:lnTo>
                    <a:pt x="231" y="907"/>
                  </a:lnTo>
                  <a:lnTo>
                    <a:pt x="468" y="831"/>
                  </a:lnTo>
                  <a:lnTo>
                    <a:pt x="482" y="826"/>
                  </a:lnTo>
                  <a:lnTo>
                    <a:pt x="495" y="822"/>
                  </a:lnTo>
                  <a:lnTo>
                    <a:pt x="506" y="820"/>
                  </a:lnTo>
                  <a:lnTo>
                    <a:pt x="520" y="818"/>
                  </a:lnTo>
                  <a:lnTo>
                    <a:pt x="531" y="818"/>
                  </a:lnTo>
                  <a:lnTo>
                    <a:pt x="597" y="818"/>
                  </a:lnTo>
                  <a:lnTo>
                    <a:pt x="598" y="818"/>
                  </a:lnTo>
                  <a:lnTo>
                    <a:pt x="609" y="820"/>
                  </a:lnTo>
                  <a:lnTo>
                    <a:pt x="622" y="820"/>
                  </a:lnTo>
                  <a:lnTo>
                    <a:pt x="632" y="822"/>
                  </a:lnTo>
                  <a:lnTo>
                    <a:pt x="645" y="826"/>
                  </a:lnTo>
                  <a:lnTo>
                    <a:pt x="656" y="831"/>
                  </a:lnTo>
                  <a:lnTo>
                    <a:pt x="665" y="832"/>
                  </a:lnTo>
                  <a:lnTo>
                    <a:pt x="676" y="839"/>
                  </a:lnTo>
                  <a:lnTo>
                    <a:pt x="689" y="845"/>
                  </a:lnTo>
                  <a:lnTo>
                    <a:pt x="699" y="851"/>
                  </a:lnTo>
                  <a:lnTo>
                    <a:pt x="710" y="857"/>
                  </a:lnTo>
                  <a:lnTo>
                    <a:pt x="720" y="865"/>
                  </a:lnTo>
                  <a:lnTo>
                    <a:pt x="731" y="874"/>
                  </a:lnTo>
                  <a:lnTo>
                    <a:pt x="741" y="882"/>
                  </a:lnTo>
                  <a:lnTo>
                    <a:pt x="752" y="893"/>
                  </a:lnTo>
                  <a:lnTo>
                    <a:pt x="762" y="903"/>
                  </a:lnTo>
                  <a:lnTo>
                    <a:pt x="773" y="914"/>
                  </a:lnTo>
                  <a:lnTo>
                    <a:pt x="776" y="915"/>
                  </a:lnTo>
                  <a:lnTo>
                    <a:pt x="784" y="926"/>
                  </a:lnTo>
                  <a:lnTo>
                    <a:pt x="783" y="923"/>
                  </a:lnTo>
                  <a:lnTo>
                    <a:pt x="795" y="934"/>
                  </a:lnTo>
                  <a:lnTo>
                    <a:pt x="797" y="936"/>
                  </a:lnTo>
                  <a:lnTo>
                    <a:pt x="808" y="948"/>
                  </a:lnTo>
                  <a:lnTo>
                    <a:pt x="818" y="963"/>
                  </a:lnTo>
                  <a:lnTo>
                    <a:pt x="829" y="976"/>
                  </a:lnTo>
                  <a:lnTo>
                    <a:pt x="842" y="988"/>
                  </a:lnTo>
                  <a:lnTo>
                    <a:pt x="853" y="1001"/>
                  </a:lnTo>
                  <a:lnTo>
                    <a:pt x="863" y="1016"/>
                  </a:lnTo>
                  <a:lnTo>
                    <a:pt x="875" y="1030"/>
                  </a:lnTo>
                  <a:lnTo>
                    <a:pt x="888" y="1045"/>
                  </a:lnTo>
                  <a:lnTo>
                    <a:pt x="898" y="1059"/>
                  </a:lnTo>
                  <a:lnTo>
                    <a:pt x="900" y="1063"/>
                  </a:lnTo>
                  <a:lnTo>
                    <a:pt x="904" y="1070"/>
                  </a:lnTo>
                  <a:lnTo>
                    <a:pt x="902" y="1066"/>
                  </a:lnTo>
                  <a:lnTo>
                    <a:pt x="906" y="1071"/>
                  </a:lnTo>
                  <a:lnTo>
                    <a:pt x="913" y="1078"/>
                  </a:lnTo>
                  <a:lnTo>
                    <a:pt x="917" y="1084"/>
                  </a:lnTo>
                  <a:lnTo>
                    <a:pt x="914" y="1082"/>
                  </a:lnTo>
                  <a:lnTo>
                    <a:pt x="921" y="1088"/>
                  </a:lnTo>
                  <a:lnTo>
                    <a:pt x="923" y="1091"/>
                  </a:lnTo>
                  <a:lnTo>
                    <a:pt x="930" y="1099"/>
                  </a:lnTo>
                  <a:lnTo>
                    <a:pt x="935" y="1107"/>
                  </a:lnTo>
                  <a:lnTo>
                    <a:pt x="942" y="1113"/>
                  </a:lnTo>
                  <a:lnTo>
                    <a:pt x="948" y="1121"/>
                  </a:lnTo>
                  <a:lnTo>
                    <a:pt x="946" y="1120"/>
                  </a:lnTo>
                  <a:lnTo>
                    <a:pt x="952" y="1128"/>
                  </a:lnTo>
                  <a:lnTo>
                    <a:pt x="956" y="1129"/>
                  </a:lnTo>
                  <a:lnTo>
                    <a:pt x="963" y="1138"/>
                  </a:lnTo>
                  <a:lnTo>
                    <a:pt x="970" y="1146"/>
                  </a:lnTo>
                  <a:lnTo>
                    <a:pt x="977" y="1154"/>
                  </a:lnTo>
                  <a:lnTo>
                    <a:pt x="976" y="1153"/>
                  </a:lnTo>
                  <a:lnTo>
                    <a:pt x="984" y="1161"/>
                  </a:lnTo>
                  <a:lnTo>
                    <a:pt x="988" y="1164"/>
                  </a:lnTo>
                  <a:lnTo>
                    <a:pt x="994" y="1174"/>
                  </a:lnTo>
                  <a:lnTo>
                    <a:pt x="991" y="1171"/>
                  </a:lnTo>
                  <a:lnTo>
                    <a:pt x="1001" y="1179"/>
                  </a:lnTo>
                  <a:lnTo>
                    <a:pt x="1008" y="1189"/>
                  </a:lnTo>
                  <a:lnTo>
                    <a:pt x="1011" y="1190"/>
                  </a:lnTo>
                  <a:lnTo>
                    <a:pt x="1019" y="1198"/>
                  </a:lnTo>
                  <a:lnTo>
                    <a:pt x="1028" y="1208"/>
                  </a:lnTo>
                  <a:lnTo>
                    <a:pt x="1026" y="1207"/>
                  </a:lnTo>
                  <a:lnTo>
                    <a:pt x="1033" y="1215"/>
                  </a:lnTo>
                  <a:lnTo>
                    <a:pt x="1043" y="1223"/>
                  </a:lnTo>
                  <a:lnTo>
                    <a:pt x="1053" y="1232"/>
                  </a:lnTo>
                  <a:lnTo>
                    <a:pt x="1061" y="1240"/>
                  </a:lnTo>
                  <a:lnTo>
                    <a:pt x="1071" y="1248"/>
                  </a:lnTo>
                  <a:lnTo>
                    <a:pt x="1079" y="1257"/>
                  </a:lnTo>
                  <a:lnTo>
                    <a:pt x="1088" y="1265"/>
                  </a:lnTo>
                  <a:lnTo>
                    <a:pt x="1096" y="1273"/>
                  </a:lnTo>
                  <a:lnTo>
                    <a:pt x="1105" y="1281"/>
                  </a:lnTo>
                  <a:lnTo>
                    <a:pt x="1113" y="1288"/>
                  </a:lnTo>
                  <a:lnTo>
                    <a:pt x="1124" y="1296"/>
                  </a:lnTo>
                  <a:lnTo>
                    <a:pt x="1132" y="1302"/>
                  </a:lnTo>
                  <a:lnTo>
                    <a:pt x="1141" y="1311"/>
                  </a:lnTo>
                  <a:lnTo>
                    <a:pt x="1158" y="1321"/>
                  </a:lnTo>
                  <a:lnTo>
                    <a:pt x="1176" y="1331"/>
                  </a:lnTo>
                  <a:lnTo>
                    <a:pt x="1193" y="1341"/>
                  </a:lnTo>
                  <a:lnTo>
                    <a:pt x="1209" y="1348"/>
                  </a:lnTo>
                  <a:lnTo>
                    <a:pt x="1229" y="1356"/>
                  </a:lnTo>
                  <a:lnTo>
                    <a:pt x="1246" y="1364"/>
                  </a:lnTo>
                  <a:lnTo>
                    <a:pt x="1264" y="1371"/>
                  </a:lnTo>
                  <a:lnTo>
                    <a:pt x="1281" y="1377"/>
                  </a:lnTo>
                  <a:lnTo>
                    <a:pt x="1299" y="1381"/>
                  </a:lnTo>
                  <a:lnTo>
                    <a:pt x="1317" y="1385"/>
                  </a:lnTo>
                  <a:lnTo>
                    <a:pt x="1335" y="1389"/>
                  </a:lnTo>
                  <a:lnTo>
                    <a:pt x="1349" y="1392"/>
                  </a:lnTo>
                  <a:lnTo>
                    <a:pt x="1366" y="1396"/>
                  </a:lnTo>
                  <a:lnTo>
                    <a:pt x="1383" y="1399"/>
                  </a:lnTo>
                  <a:lnTo>
                    <a:pt x="1400" y="1400"/>
                  </a:lnTo>
                  <a:lnTo>
                    <a:pt x="1415" y="1403"/>
                  </a:lnTo>
                  <a:lnTo>
                    <a:pt x="1427" y="1403"/>
                  </a:lnTo>
                  <a:lnTo>
                    <a:pt x="1444" y="1404"/>
                  </a:lnTo>
                  <a:lnTo>
                    <a:pt x="1440" y="1404"/>
                  </a:lnTo>
                  <a:lnTo>
                    <a:pt x="1377" y="1403"/>
                  </a:lnTo>
                  <a:lnTo>
                    <a:pt x="1390" y="1403"/>
                  </a:lnTo>
                  <a:lnTo>
                    <a:pt x="1404" y="1403"/>
                  </a:lnTo>
                  <a:lnTo>
                    <a:pt x="1467" y="1404"/>
                  </a:lnTo>
                  <a:lnTo>
                    <a:pt x="1469" y="1404"/>
                  </a:lnTo>
                  <a:lnTo>
                    <a:pt x="1482" y="1404"/>
                  </a:lnTo>
                  <a:lnTo>
                    <a:pt x="1479" y="1404"/>
                  </a:lnTo>
                  <a:lnTo>
                    <a:pt x="1416" y="1404"/>
                  </a:lnTo>
                  <a:lnTo>
                    <a:pt x="1427" y="1403"/>
                  </a:lnTo>
                  <a:lnTo>
                    <a:pt x="1437" y="1403"/>
                  </a:lnTo>
                  <a:lnTo>
                    <a:pt x="1446" y="1403"/>
                  </a:lnTo>
                  <a:lnTo>
                    <a:pt x="1457" y="1403"/>
                  </a:lnTo>
                  <a:lnTo>
                    <a:pt x="1463" y="1403"/>
                  </a:lnTo>
                  <a:lnTo>
                    <a:pt x="1469" y="1400"/>
                  </a:lnTo>
                  <a:lnTo>
                    <a:pt x="1475" y="1400"/>
                  </a:lnTo>
                  <a:lnTo>
                    <a:pt x="1479" y="1400"/>
                  </a:lnTo>
                  <a:lnTo>
                    <a:pt x="1483" y="1399"/>
                  </a:lnTo>
                  <a:lnTo>
                    <a:pt x="1486" y="1399"/>
                  </a:lnTo>
                  <a:lnTo>
                    <a:pt x="1483" y="1400"/>
                  </a:lnTo>
                  <a:lnTo>
                    <a:pt x="1479" y="1403"/>
                  </a:lnTo>
                  <a:lnTo>
                    <a:pt x="1478" y="1407"/>
                  </a:lnTo>
                  <a:lnTo>
                    <a:pt x="1478" y="1413"/>
                  </a:lnTo>
                  <a:lnTo>
                    <a:pt x="1475" y="1418"/>
                  </a:lnTo>
                  <a:lnTo>
                    <a:pt x="1474" y="1425"/>
                  </a:lnTo>
                  <a:lnTo>
                    <a:pt x="1474" y="1433"/>
                  </a:lnTo>
                  <a:lnTo>
                    <a:pt x="1474" y="1442"/>
                  </a:lnTo>
                  <a:lnTo>
                    <a:pt x="1474" y="1450"/>
                  </a:lnTo>
                  <a:lnTo>
                    <a:pt x="1474" y="1458"/>
                  </a:lnTo>
                  <a:lnTo>
                    <a:pt x="1475" y="1465"/>
                  </a:lnTo>
                  <a:lnTo>
                    <a:pt x="1478" y="1471"/>
                  </a:lnTo>
                  <a:lnTo>
                    <a:pt x="1478" y="1478"/>
                  </a:lnTo>
                  <a:lnTo>
                    <a:pt x="1479" y="1482"/>
                  </a:lnTo>
                  <a:lnTo>
                    <a:pt x="1463" y="1463"/>
                  </a:lnTo>
                  <a:lnTo>
                    <a:pt x="1461" y="1461"/>
                  </a:lnTo>
                  <a:lnTo>
                    <a:pt x="1458" y="1454"/>
                  </a:lnTo>
                  <a:lnTo>
                    <a:pt x="1458" y="1447"/>
                  </a:lnTo>
                  <a:lnTo>
                    <a:pt x="1457" y="1440"/>
                  </a:lnTo>
                  <a:lnTo>
                    <a:pt x="1457" y="1433"/>
                  </a:lnTo>
                  <a:lnTo>
                    <a:pt x="1457" y="1424"/>
                  </a:lnTo>
                  <a:lnTo>
                    <a:pt x="1457" y="1414"/>
                  </a:lnTo>
                  <a:lnTo>
                    <a:pt x="1457" y="1407"/>
                  </a:lnTo>
                  <a:lnTo>
                    <a:pt x="1458" y="1400"/>
                  </a:lnTo>
                  <a:lnTo>
                    <a:pt x="1458" y="1395"/>
                  </a:lnTo>
                  <a:lnTo>
                    <a:pt x="1461" y="1388"/>
                  </a:lnTo>
                  <a:lnTo>
                    <a:pt x="1463" y="1384"/>
                  </a:lnTo>
                  <a:lnTo>
                    <a:pt x="1465" y="1381"/>
                  </a:lnTo>
                  <a:lnTo>
                    <a:pt x="1467" y="1381"/>
                  </a:lnTo>
                  <a:lnTo>
                    <a:pt x="1471" y="1381"/>
                  </a:lnTo>
                  <a:lnTo>
                    <a:pt x="1475" y="1380"/>
                  </a:lnTo>
                  <a:lnTo>
                    <a:pt x="1486" y="1377"/>
                  </a:lnTo>
                  <a:lnTo>
                    <a:pt x="1496" y="1375"/>
                  </a:lnTo>
                  <a:lnTo>
                    <a:pt x="1511" y="1374"/>
                  </a:lnTo>
                  <a:lnTo>
                    <a:pt x="1528" y="1367"/>
                  </a:lnTo>
                  <a:lnTo>
                    <a:pt x="1545" y="1363"/>
                  </a:lnTo>
                  <a:lnTo>
                    <a:pt x="1562" y="1356"/>
                  </a:lnTo>
                  <a:lnTo>
                    <a:pt x="1580" y="1350"/>
                  </a:lnTo>
                  <a:lnTo>
                    <a:pt x="1597" y="1342"/>
                  </a:lnTo>
                  <a:lnTo>
                    <a:pt x="1594" y="1344"/>
                  </a:lnTo>
                  <a:lnTo>
                    <a:pt x="1611" y="1335"/>
                  </a:lnTo>
                  <a:lnTo>
                    <a:pt x="1626" y="1326"/>
                  </a:lnTo>
                  <a:lnTo>
                    <a:pt x="1639" y="1315"/>
                  </a:lnTo>
                  <a:lnTo>
                    <a:pt x="1634" y="1317"/>
                  </a:lnTo>
                  <a:lnTo>
                    <a:pt x="1647" y="1305"/>
                  </a:lnTo>
                  <a:lnTo>
                    <a:pt x="1644" y="1309"/>
                  </a:lnTo>
                  <a:lnTo>
                    <a:pt x="1651" y="1296"/>
                  </a:lnTo>
                  <a:lnTo>
                    <a:pt x="1655" y="1281"/>
                  </a:lnTo>
                  <a:lnTo>
                    <a:pt x="1653" y="1288"/>
                  </a:lnTo>
                  <a:lnTo>
                    <a:pt x="1653" y="1294"/>
                  </a:lnTo>
                  <a:lnTo>
                    <a:pt x="1651" y="1302"/>
                  </a:lnTo>
                  <a:lnTo>
                    <a:pt x="1651" y="1309"/>
                  </a:lnTo>
                  <a:lnTo>
                    <a:pt x="1651" y="1317"/>
                  </a:lnTo>
                  <a:lnTo>
                    <a:pt x="1651" y="1327"/>
                  </a:lnTo>
                  <a:lnTo>
                    <a:pt x="1651" y="1313"/>
                  </a:lnTo>
                  <a:lnTo>
                    <a:pt x="1651" y="1321"/>
                  </a:lnTo>
                  <a:lnTo>
                    <a:pt x="1653" y="1327"/>
                  </a:lnTo>
                  <a:lnTo>
                    <a:pt x="1651" y="1313"/>
                  </a:lnTo>
                  <a:lnTo>
                    <a:pt x="1651" y="1319"/>
                  </a:lnTo>
                  <a:lnTo>
                    <a:pt x="1653" y="1326"/>
                  </a:lnTo>
                  <a:lnTo>
                    <a:pt x="1647" y="1311"/>
                  </a:lnTo>
                  <a:lnTo>
                    <a:pt x="1639" y="1294"/>
                  </a:lnTo>
                  <a:lnTo>
                    <a:pt x="1629" y="1277"/>
                  </a:lnTo>
                  <a:lnTo>
                    <a:pt x="1618" y="1261"/>
                  </a:lnTo>
                  <a:lnTo>
                    <a:pt x="1619" y="1265"/>
                  </a:lnTo>
                  <a:lnTo>
                    <a:pt x="1608" y="1248"/>
                  </a:lnTo>
                  <a:lnTo>
                    <a:pt x="1592" y="1232"/>
                  </a:lnTo>
                  <a:lnTo>
                    <a:pt x="1580" y="1215"/>
                  </a:lnTo>
                  <a:lnTo>
                    <a:pt x="1581" y="1218"/>
                  </a:lnTo>
                  <a:lnTo>
                    <a:pt x="1570" y="1205"/>
                  </a:lnTo>
                  <a:lnTo>
                    <a:pt x="1567" y="1203"/>
                  </a:lnTo>
                  <a:lnTo>
                    <a:pt x="1555" y="1189"/>
                  </a:lnTo>
                  <a:lnTo>
                    <a:pt x="1556" y="1193"/>
                  </a:lnTo>
                  <a:lnTo>
                    <a:pt x="1545" y="1179"/>
                  </a:lnTo>
                  <a:lnTo>
                    <a:pt x="1542" y="1178"/>
                  </a:lnTo>
                  <a:lnTo>
                    <a:pt x="1534" y="1168"/>
                  </a:lnTo>
                  <a:lnTo>
                    <a:pt x="1535" y="1171"/>
                  </a:lnTo>
                  <a:lnTo>
                    <a:pt x="1530" y="1164"/>
                  </a:lnTo>
                  <a:lnTo>
                    <a:pt x="1524" y="1160"/>
                  </a:lnTo>
                  <a:lnTo>
                    <a:pt x="1524" y="1157"/>
                  </a:lnTo>
                  <a:lnTo>
                    <a:pt x="1528" y="1160"/>
                  </a:lnTo>
                  <a:lnTo>
                    <a:pt x="1588" y="1160"/>
                  </a:lnTo>
                  <a:lnTo>
                    <a:pt x="1592" y="1157"/>
                  </a:lnTo>
                  <a:lnTo>
                    <a:pt x="1594" y="1154"/>
                  </a:lnTo>
                  <a:lnTo>
                    <a:pt x="1577" y="1171"/>
                  </a:lnTo>
                  <a:lnTo>
                    <a:pt x="1576" y="1174"/>
                  </a:lnTo>
                  <a:lnTo>
                    <a:pt x="1573" y="1175"/>
                  </a:lnTo>
                  <a:lnTo>
                    <a:pt x="1511" y="1175"/>
                  </a:lnTo>
                  <a:lnTo>
                    <a:pt x="1576" y="1091"/>
                  </a:lnTo>
                  <a:close/>
                </a:path>
              </a:pathLst>
            </a:custGeom>
            <a:solidFill>
              <a:srgbClr val="8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4920" y="2590920"/>
              <a:ext cx="969840" cy="787320"/>
            </a:xfrm>
            <a:custGeom>
              <a:avLst/>
              <a:gdLst/>
              <a:ahLst/>
              <a:rect l="l" t="t" r="r" b="b"/>
              <a:pathLst>
                <a:path w="1833" h="1490">
                  <a:moveTo>
                    <a:pt x="1576" y="1091"/>
                  </a:moveTo>
                  <a:lnTo>
                    <a:pt x="1573" y="1091"/>
                  </a:lnTo>
                  <a:lnTo>
                    <a:pt x="1509" y="1088"/>
                  </a:lnTo>
                  <a:lnTo>
                    <a:pt x="1507" y="1091"/>
                  </a:lnTo>
                  <a:lnTo>
                    <a:pt x="1504" y="1092"/>
                  </a:lnTo>
                  <a:lnTo>
                    <a:pt x="1521" y="1075"/>
                  </a:lnTo>
                  <a:lnTo>
                    <a:pt x="1524" y="1074"/>
                  </a:lnTo>
                  <a:lnTo>
                    <a:pt x="1525" y="1071"/>
                  </a:lnTo>
                  <a:lnTo>
                    <a:pt x="1588" y="1074"/>
                  </a:lnTo>
                  <a:lnTo>
                    <a:pt x="1592" y="1074"/>
                  </a:lnTo>
                  <a:lnTo>
                    <a:pt x="1598" y="1080"/>
                  </a:lnTo>
                  <a:lnTo>
                    <a:pt x="1605" y="1086"/>
                  </a:lnTo>
                  <a:lnTo>
                    <a:pt x="1608" y="1088"/>
                  </a:lnTo>
                  <a:lnTo>
                    <a:pt x="1618" y="1099"/>
                  </a:lnTo>
                  <a:lnTo>
                    <a:pt x="1613" y="1096"/>
                  </a:lnTo>
                  <a:lnTo>
                    <a:pt x="1626" y="1107"/>
                  </a:lnTo>
                  <a:lnTo>
                    <a:pt x="1629" y="1109"/>
                  </a:lnTo>
                  <a:lnTo>
                    <a:pt x="1640" y="1124"/>
                  </a:lnTo>
                  <a:lnTo>
                    <a:pt x="1639" y="1121"/>
                  </a:lnTo>
                  <a:lnTo>
                    <a:pt x="1651" y="1135"/>
                  </a:lnTo>
                  <a:lnTo>
                    <a:pt x="1653" y="1136"/>
                  </a:lnTo>
                  <a:lnTo>
                    <a:pt x="1665" y="1153"/>
                  </a:lnTo>
                  <a:lnTo>
                    <a:pt x="1680" y="1169"/>
                  </a:lnTo>
                  <a:lnTo>
                    <a:pt x="1693" y="1186"/>
                  </a:lnTo>
                  <a:lnTo>
                    <a:pt x="1695" y="1189"/>
                  </a:lnTo>
                  <a:lnTo>
                    <a:pt x="1707" y="1207"/>
                  </a:lnTo>
                  <a:lnTo>
                    <a:pt x="1718" y="1223"/>
                  </a:lnTo>
                  <a:lnTo>
                    <a:pt x="1724" y="1240"/>
                  </a:lnTo>
                  <a:lnTo>
                    <a:pt x="1731" y="1255"/>
                  </a:lnTo>
                  <a:lnTo>
                    <a:pt x="1732" y="1261"/>
                  </a:lnTo>
                  <a:lnTo>
                    <a:pt x="1735" y="1267"/>
                  </a:lnTo>
                  <a:lnTo>
                    <a:pt x="1737" y="1281"/>
                  </a:lnTo>
                  <a:lnTo>
                    <a:pt x="1737" y="1288"/>
                  </a:lnTo>
                  <a:lnTo>
                    <a:pt x="1739" y="1296"/>
                  </a:lnTo>
                  <a:lnTo>
                    <a:pt x="1739" y="1309"/>
                  </a:lnTo>
                  <a:lnTo>
                    <a:pt x="1739" y="1317"/>
                  </a:lnTo>
                  <a:lnTo>
                    <a:pt x="1739" y="1327"/>
                  </a:lnTo>
                  <a:lnTo>
                    <a:pt x="1737" y="1334"/>
                  </a:lnTo>
                  <a:lnTo>
                    <a:pt x="1737" y="1342"/>
                  </a:lnTo>
                  <a:lnTo>
                    <a:pt x="1735" y="1348"/>
                  </a:lnTo>
                  <a:lnTo>
                    <a:pt x="1735" y="1355"/>
                  </a:lnTo>
                  <a:lnTo>
                    <a:pt x="1731" y="1370"/>
                  </a:lnTo>
                  <a:lnTo>
                    <a:pt x="1722" y="1381"/>
                  </a:lnTo>
                  <a:lnTo>
                    <a:pt x="1720" y="1384"/>
                  </a:lnTo>
                  <a:lnTo>
                    <a:pt x="1710" y="1396"/>
                  </a:lnTo>
                  <a:lnTo>
                    <a:pt x="1707" y="1399"/>
                  </a:lnTo>
                  <a:lnTo>
                    <a:pt x="1695" y="1410"/>
                  </a:lnTo>
                  <a:lnTo>
                    <a:pt x="1678" y="1418"/>
                  </a:lnTo>
                  <a:lnTo>
                    <a:pt x="1664" y="1428"/>
                  </a:lnTo>
                  <a:lnTo>
                    <a:pt x="1660" y="1429"/>
                  </a:lnTo>
                  <a:lnTo>
                    <a:pt x="1643" y="1436"/>
                  </a:lnTo>
                  <a:lnTo>
                    <a:pt x="1626" y="1443"/>
                  </a:lnTo>
                  <a:lnTo>
                    <a:pt x="1608" y="1447"/>
                  </a:lnTo>
                  <a:lnTo>
                    <a:pt x="1590" y="1454"/>
                  </a:lnTo>
                  <a:lnTo>
                    <a:pt x="1573" y="1458"/>
                  </a:lnTo>
                  <a:lnTo>
                    <a:pt x="1562" y="1461"/>
                  </a:lnTo>
                  <a:lnTo>
                    <a:pt x="1549" y="1463"/>
                  </a:lnTo>
                  <a:lnTo>
                    <a:pt x="1541" y="1465"/>
                  </a:lnTo>
                  <a:lnTo>
                    <a:pt x="1534" y="1467"/>
                  </a:lnTo>
                  <a:lnTo>
                    <a:pt x="1532" y="1467"/>
                  </a:lnTo>
                  <a:lnTo>
                    <a:pt x="1534" y="1465"/>
                  </a:lnTo>
                  <a:lnTo>
                    <a:pt x="1535" y="1463"/>
                  </a:lnTo>
                  <a:lnTo>
                    <a:pt x="1541" y="1461"/>
                  </a:lnTo>
                  <a:lnTo>
                    <a:pt x="1541" y="1454"/>
                  </a:lnTo>
                  <a:lnTo>
                    <a:pt x="1542" y="1447"/>
                  </a:lnTo>
                  <a:lnTo>
                    <a:pt x="1542" y="1440"/>
                  </a:lnTo>
                  <a:lnTo>
                    <a:pt x="1545" y="1433"/>
                  </a:lnTo>
                  <a:lnTo>
                    <a:pt x="1545" y="1424"/>
                  </a:lnTo>
                  <a:lnTo>
                    <a:pt x="1545" y="1414"/>
                  </a:lnTo>
                  <a:lnTo>
                    <a:pt x="1542" y="1407"/>
                  </a:lnTo>
                  <a:lnTo>
                    <a:pt x="1542" y="1400"/>
                  </a:lnTo>
                  <a:lnTo>
                    <a:pt x="1541" y="1395"/>
                  </a:lnTo>
                  <a:lnTo>
                    <a:pt x="1541" y="1388"/>
                  </a:lnTo>
                  <a:lnTo>
                    <a:pt x="1535" y="1384"/>
                  </a:lnTo>
                  <a:lnTo>
                    <a:pt x="1555" y="1403"/>
                  </a:lnTo>
                  <a:lnTo>
                    <a:pt x="1556" y="1407"/>
                  </a:lnTo>
                  <a:lnTo>
                    <a:pt x="1556" y="1413"/>
                  </a:lnTo>
                  <a:lnTo>
                    <a:pt x="1559" y="1418"/>
                  </a:lnTo>
                  <a:lnTo>
                    <a:pt x="1562" y="1425"/>
                  </a:lnTo>
                  <a:lnTo>
                    <a:pt x="1562" y="1433"/>
                  </a:lnTo>
                  <a:lnTo>
                    <a:pt x="1562" y="1442"/>
                  </a:lnTo>
                  <a:lnTo>
                    <a:pt x="1562" y="1450"/>
                  </a:lnTo>
                  <a:lnTo>
                    <a:pt x="1562" y="1458"/>
                  </a:lnTo>
                  <a:lnTo>
                    <a:pt x="1559" y="1465"/>
                  </a:lnTo>
                  <a:lnTo>
                    <a:pt x="1556" y="1471"/>
                  </a:lnTo>
                  <a:lnTo>
                    <a:pt x="1556" y="1478"/>
                  </a:lnTo>
                  <a:lnTo>
                    <a:pt x="1555" y="1482"/>
                  </a:lnTo>
                  <a:lnTo>
                    <a:pt x="1551" y="1483"/>
                  </a:lnTo>
                  <a:lnTo>
                    <a:pt x="1549" y="1486"/>
                  </a:lnTo>
                  <a:lnTo>
                    <a:pt x="1546" y="1486"/>
                  </a:lnTo>
                  <a:lnTo>
                    <a:pt x="1542" y="1486"/>
                  </a:lnTo>
                  <a:lnTo>
                    <a:pt x="1541" y="1486"/>
                  </a:lnTo>
                  <a:lnTo>
                    <a:pt x="1534" y="1486"/>
                  </a:lnTo>
                  <a:lnTo>
                    <a:pt x="1528" y="1487"/>
                  </a:lnTo>
                  <a:lnTo>
                    <a:pt x="1520" y="1487"/>
                  </a:lnTo>
                  <a:lnTo>
                    <a:pt x="1511" y="1490"/>
                  </a:lnTo>
                  <a:lnTo>
                    <a:pt x="1500" y="1490"/>
                  </a:lnTo>
                  <a:lnTo>
                    <a:pt x="1490" y="1490"/>
                  </a:lnTo>
                  <a:lnTo>
                    <a:pt x="1479" y="1490"/>
                  </a:lnTo>
                  <a:lnTo>
                    <a:pt x="1419" y="1490"/>
                  </a:lnTo>
                  <a:lnTo>
                    <a:pt x="1406" y="1490"/>
                  </a:lnTo>
                  <a:lnTo>
                    <a:pt x="1467" y="1490"/>
                  </a:lnTo>
                  <a:lnTo>
                    <a:pt x="1453" y="1490"/>
                  </a:lnTo>
                  <a:lnTo>
                    <a:pt x="1440" y="1490"/>
                  </a:lnTo>
                  <a:lnTo>
                    <a:pt x="1379" y="1490"/>
                  </a:lnTo>
                  <a:lnTo>
                    <a:pt x="1365" y="1487"/>
                  </a:lnTo>
                  <a:lnTo>
                    <a:pt x="1349" y="1486"/>
                  </a:lnTo>
                  <a:lnTo>
                    <a:pt x="1335" y="1486"/>
                  </a:lnTo>
                  <a:lnTo>
                    <a:pt x="1318" y="1483"/>
                  </a:lnTo>
                  <a:lnTo>
                    <a:pt x="1302" y="1482"/>
                  </a:lnTo>
                  <a:lnTo>
                    <a:pt x="1285" y="1478"/>
                  </a:lnTo>
                  <a:lnTo>
                    <a:pt x="1268" y="1475"/>
                  </a:lnTo>
                  <a:lnTo>
                    <a:pt x="1251" y="1471"/>
                  </a:lnTo>
                  <a:lnTo>
                    <a:pt x="1235" y="1467"/>
                  </a:lnTo>
                  <a:lnTo>
                    <a:pt x="1216" y="1463"/>
                  </a:lnTo>
                  <a:lnTo>
                    <a:pt x="1214" y="1461"/>
                  </a:lnTo>
                  <a:lnTo>
                    <a:pt x="1195" y="1454"/>
                  </a:lnTo>
                  <a:lnTo>
                    <a:pt x="1199" y="1457"/>
                  </a:lnTo>
                  <a:lnTo>
                    <a:pt x="1180" y="1450"/>
                  </a:lnTo>
                  <a:lnTo>
                    <a:pt x="1176" y="1447"/>
                  </a:lnTo>
                  <a:lnTo>
                    <a:pt x="1159" y="1442"/>
                  </a:lnTo>
                  <a:lnTo>
                    <a:pt x="1142" y="1433"/>
                  </a:lnTo>
                  <a:lnTo>
                    <a:pt x="1124" y="1425"/>
                  </a:lnTo>
                  <a:lnTo>
                    <a:pt x="1107" y="1417"/>
                  </a:lnTo>
                  <a:lnTo>
                    <a:pt x="1088" y="1404"/>
                  </a:lnTo>
                  <a:lnTo>
                    <a:pt x="1071" y="1395"/>
                  </a:lnTo>
                  <a:lnTo>
                    <a:pt x="1064" y="1388"/>
                  </a:lnTo>
                  <a:lnTo>
                    <a:pt x="1054" y="1380"/>
                  </a:lnTo>
                  <a:lnTo>
                    <a:pt x="1047" y="1374"/>
                  </a:lnTo>
                  <a:lnTo>
                    <a:pt x="1036" y="1364"/>
                  </a:lnTo>
                  <a:lnTo>
                    <a:pt x="1028" y="1356"/>
                  </a:lnTo>
                  <a:lnTo>
                    <a:pt x="1019" y="1348"/>
                  </a:lnTo>
                  <a:lnTo>
                    <a:pt x="1011" y="1341"/>
                  </a:lnTo>
                  <a:lnTo>
                    <a:pt x="1002" y="1331"/>
                  </a:lnTo>
                  <a:lnTo>
                    <a:pt x="994" y="1323"/>
                  </a:lnTo>
                  <a:lnTo>
                    <a:pt x="984" y="1315"/>
                  </a:lnTo>
                  <a:lnTo>
                    <a:pt x="976" y="1306"/>
                  </a:lnTo>
                  <a:lnTo>
                    <a:pt x="965" y="1298"/>
                  </a:lnTo>
                  <a:lnTo>
                    <a:pt x="956" y="1290"/>
                  </a:lnTo>
                  <a:lnTo>
                    <a:pt x="955" y="1288"/>
                  </a:lnTo>
                  <a:lnTo>
                    <a:pt x="946" y="1277"/>
                  </a:lnTo>
                  <a:lnTo>
                    <a:pt x="938" y="1269"/>
                  </a:lnTo>
                  <a:lnTo>
                    <a:pt x="940" y="1272"/>
                  </a:lnTo>
                  <a:lnTo>
                    <a:pt x="931" y="1263"/>
                  </a:lnTo>
                  <a:lnTo>
                    <a:pt x="923" y="1255"/>
                  </a:lnTo>
                  <a:lnTo>
                    <a:pt x="921" y="1252"/>
                  </a:lnTo>
                  <a:lnTo>
                    <a:pt x="913" y="1243"/>
                  </a:lnTo>
                  <a:lnTo>
                    <a:pt x="917" y="1244"/>
                  </a:lnTo>
                  <a:lnTo>
                    <a:pt x="906" y="1236"/>
                  </a:lnTo>
                  <a:lnTo>
                    <a:pt x="904" y="1234"/>
                  </a:lnTo>
                  <a:lnTo>
                    <a:pt x="898" y="1226"/>
                  </a:lnTo>
                  <a:lnTo>
                    <a:pt x="889" y="1218"/>
                  </a:lnTo>
                  <a:lnTo>
                    <a:pt x="881" y="1208"/>
                  </a:lnTo>
                  <a:lnTo>
                    <a:pt x="885" y="1211"/>
                  </a:lnTo>
                  <a:lnTo>
                    <a:pt x="877" y="1203"/>
                  </a:lnTo>
                  <a:lnTo>
                    <a:pt x="875" y="1201"/>
                  </a:lnTo>
                  <a:lnTo>
                    <a:pt x="868" y="1193"/>
                  </a:lnTo>
                  <a:lnTo>
                    <a:pt x="863" y="1186"/>
                  </a:lnTo>
                  <a:lnTo>
                    <a:pt x="856" y="1178"/>
                  </a:lnTo>
                  <a:lnTo>
                    <a:pt x="850" y="1169"/>
                  </a:lnTo>
                  <a:lnTo>
                    <a:pt x="853" y="1171"/>
                  </a:lnTo>
                  <a:lnTo>
                    <a:pt x="846" y="1165"/>
                  </a:lnTo>
                  <a:lnTo>
                    <a:pt x="843" y="1164"/>
                  </a:lnTo>
                  <a:lnTo>
                    <a:pt x="837" y="1157"/>
                  </a:lnTo>
                  <a:lnTo>
                    <a:pt x="833" y="1150"/>
                  </a:lnTo>
                  <a:lnTo>
                    <a:pt x="829" y="1144"/>
                  </a:lnTo>
                  <a:lnTo>
                    <a:pt x="826" y="1140"/>
                  </a:lnTo>
                  <a:lnTo>
                    <a:pt x="822" y="1135"/>
                  </a:lnTo>
                  <a:lnTo>
                    <a:pt x="825" y="1138"/>
                  </a:lnTo>
                  <a:lnTo>
                    <a:pt x="815" y="1124"/>
                  </a:lnTo>
                  <a:lnTo>
                    <a:pt x="801" y="1109"/>
                  </a:lnTo>
                  <a:lnTo>
                    <a:pt x="790" y="1095"/>
                  </a:lnTo>
                  <a:lnTo>
                    <a:pt x="779" y="1080"/>
                  </a:lnTo>
                  <a:lnTo>
                    <a:pt x="766" y="1067"/>
                  </a:lnTo>
                  <a:lnTo>
                    <a:pt x="756" y="1055"/>
                  </a:lnTo>
                  <a:lnTo>
                    <a:pt x="745" y="1042"/>
                  </a:lnTo>
                  <a:lnTo>
                    <a:pt x="735" y="1028"/>
                  </a:lnTo>
                  <a:lnTo>
                    <a:pt x="724" y="1016"/>
                  </a:lnTo>
                  <a:lnTo>
                    <a:pt x="727" y="1020"/>
                  </a:lnTo>
                  <a:lnTo>
                    <a:pt x="714" y="1008"/>
                  </a:lnTo>
                  <a:lnTo>
                    <a:pt x="712" y="1005"/>
                  </a:lnTo>
                  <a:lnTo>
                    <a:pt x="702" y="995"/>
                  </a:lnTo>
                  <a:lnTo>
                    <a:pt x="706" y="997"/>
                  </a:lnTo>
                  <a:lnTo>
                    <a:pt x="693" y="987"/>
                  </a:lnTo>
                  <a:lnTo>
                    <a:pt x="682" y="976"/>
                  </a:lnTo>
                  <a:lnTo>
                    <a:pt x="672" y="966"/>
                  </a:lnTo>
                  <a:lnTo>
                    <a:pt x="661" y="958"/>
                  </a:lnTo>
                  <a:lnTo>
                    <a:pt x="651" y="948"/>
                  </a:lnTo>
                  <a:lnTo>
                    <a:pt x="640" y="940"/>
                  </a:lnTo>
                  <a:lnTo>
                    <a:pt x="630" y="934"/>
                  </a:lnTo>
                  <a:lnTo>
                    <a:pt x="619" y="929"/>
                  </a:lnTo>
                  <a:lnTo>
                    <a:pt x="609" y="922"/>
                  </a:lnTo>
                  <a:lnTo>
                    <a:pt x="597" y="918"/>
                  </a:lnTo>
                  <a:lnTo>
                    <a:pt x="601" y="918"/>
                  </a:lnTo>
                  <a:lnTo>
                    <a:pt x="590" y="914"/>
                  </a:lnTo>
                  <a:lnTo>
                    <a:pt x="586" y="914"/>
                  </a:lnTo>
                  <a:lnTo>
                    <a:pt x="576" y="909"/>
                  </a:lnTo>
                  <a:lnTo>
                    <a:pt x="580" y="911"/>
                  </a:lnTo>
                  <a:lnTo>
                    <a:pt x="567" y="907"/>
                  </a:lnTo>
                  <a:lnTo>
                    <a:pt x="558" y="905"/>
                  </a:lnTo>
                  <a:lnTo>
                    <a:pt x="544" y="905"/>
                  </a:lnTo>
                  <a:lnTo>
                    <a:pt x="534" y="903"/>
                  </a:lnTo>
                  <a:lnTo>
                    <a:pt x="597" y="903"/>
                  </a:lnTo>
                  <a:lnTo>
                    <a:pt x="584" y="905"/>
                  </a:lnTo>
                  <a:lnTo>
                    <a:pt x="572" y="905"/>
                  </a:lnTo>
                  <a:lnTo>
                    <a:pt x="559" y="907"/>
                  </a:lnTo>
                  <a:lnTo>
                    <a:pt x="547" y="911"/>
                  </a:lnTo>
                  <a:lnTo>
                    <a:pt x="534" y="915"/>
                  </a:lnTo>
                  <a:lnTo>
                    <a:pt x="295" y="992"/>
                  </a:lnTo>
                  <a:lnTo>
                    <a:pt x="293" y="992"/>
                  </a:lnTo>
                  <a:lnTo>
                    <a:pt x="231" y="992"/>
                  </a:lnTo>
                  <a:lnTo>
                    <a:pt x="222" y="992"/>
                  </a:lnTo>
                  <a:lnTo>
                    <a:pt x="210" y="991"/>
                  </a:lnTo>
                  <a:lnTo>
                    <a:pt x="193" y="991"/>
                  </a:lnTo>
                  <a:lnTo>
                    <a:pt x="176" y="987"/>
                  </a:lnTo>
                  <a:lnTo>
                    <a:pt x="158" y="984"/>
                  </a:lnTo>
                  <a:lnTo>
                    <a:pt x="134" y="980"/>
                  </a:lnTo>
                  <a:lnTo>
                    <a:pt x="113" y="976"/>
                  </a:lnTo>
                  <a:lnTo>
                    <a:pt x="91" y="969"/>
                  </a:lnTo>
                  <a:lnTo>
                    <a:pt x="71" y="963"/>
                  </a:lnTo>
                  <a:lnTo>
                    <a:pt x="67" y="962"/>
                  </a:lnTo>
                  <a:lnTo>
                    <a:pt x="49" y="955"/>
                  </a:lnTo>
                  <a:lnTo>
                    <a:pt x="35" y="947"/>
                  </a:lnTo>
                  <a:lnTo>
                    <a:pt x="21" y="936"/>
                  </a:lnTo>
                  <a:lnTo>
                    <a:pt x="19" y="934"/>
                  </a:lnTo>
                  <a:lnTo>
                    <a:pt x="11" y="926"/>
                  </a:lnTo>
                  <a:lnTo>
                    <a:pt x="8" y="922"/>
                  </a:lnTo>
                  <a:lnTo>
                    <a:pt x="7" y="909"/>
                  </a:lnTo>
                  <a:lnTo>
                    <a:pt x="4" y="903"/>
                  </a:lnTo>
                  <a:lnTo>
                    <a:pt x="4" y="897"/>
                  </a:lnTo>
                  <a:lnTo>
                    <a:pt x="3" y="890"/>
                  </a:lnTo>
                  <a:lnTo>
                    <a:pt x="0" y="882"/>
                  </a:lnTo>
                  <a:lnTo>
                    <a:pt x="0" y="874"/>
                  </a:lnTo>
                  <a:lnTo>
                    <a:pt x="0" y="864"/>
                  </a:lnTo>
                  <a:lnTo>
                    <a:pt x="3" y="857"/>
                  </a:lnTo>
                  <a:lnTo>
                    <a:pt x="4" y="849"/>
                  </a:lnTo>
                  <a:lnTo>
                    <a:pt x="7" y="839"/>
                  </a:lnTo>
                  <a:lnTo>
                    <a:pt x="7" y="832"/>
                  </a:lnTo>
                  <a:lnTo>
                    <a:pt x="8" y="826"/>
                  </a:lnTo>
                  <a:lnTo>
                    <a:pt x="116" y="645"/>
                  </a:lnTo>
                  <a:lnTo>
                    <a:pt x="126" y="626"/>
                  </a:lnTo>
                  <a:lnTo>
                    <a:pt x="133" y="610"/>
                  </a:lnTo>
                  <a:lnTo>
                    <a:pt x="133" y="616"/>
                  </a:lnTo>
                  <a:lnTo>
                    <a:pt x="130" y="622"/>
                  </a:lnTo>
                  <a:lnTo>
                    <a:pt x="128" y="629"/>
                  </a:lnTo>
                  <a:lnTo>
                    <a:pt x="128" y="637"/>
                  </a:lnTo>
                  <a:lnTo>
                    <a:pt x="128" y="622"/>
                  </a:lnTo>
                  <a:lnTo>
                    <a:pt x="128" y="630"/>
                  </a:lnTo>
                  <a:lnTo>
                    <a:pt x="128" y="639"/>
                  </a:lnTo>
                  <a:lnTo>
                    <a:pt x="128" y="626"/>
                  </a:lnTo>
                  <a:lnTo>
                    <a:pt x="128" y="635"/>
                  </a:lnTo>
                  <a:lnTo>
                    <a:pt x="130" y="641"/>
                  </a:lnTo>
                  <a:lnTo>
                    <a:pt x="133" y="647"/>
                  </a:lnTo>
                  <a:lnTo>
                    <a:pt x="133" y="654"/>
                  </a:lnTo>
                  <a:lnTo>
                    <a:pt x="128" y="641"/>
                  </a:lnTo>
                  <a:lnTo>
                    <a:pt x="122" y="630"/>
                  </a:lnTo>
                  <a:lnTo>
                    <a:pt x="124" y="635"/>
                  </a:lnTo>
                  <a:lnTo>
                    <a:pt x="116" y="625"/>
                  </a:lnTo>
                  <a:lnTo>
                    <a:pt x="117" y="626"/>
                  </a:lnTo>
                  <a:lnTo>
                    <a:pt x="107" y="618"/>
                  </a:lnTo>
                  <a:lnTo>
                    <a:pt x="95" y="612"/>
                  </a:lnTo>
                  <a:lnTo>
                    <a:pt x="84" y="605"/>
                  </a:lnTo>
                  <a:lnTo>
                    <a:pt x="74" y="601"/>
                  </a:lnTo>
                  <a:lnTo>
                    <a:pt x="63" y="596"/>
                  </a:lnTo>
                  <a:lnTo>
                    <a:pt x="67" y="597"/>
                  </a:lnTo>
                  <a:lnTo>
                    <a:pt x="57" y="596"/>
                  </a:lnTo>
                  <a:lnTo>
                    <a:pt x="50" y="593"/>
                  </a:lnTo>
                  <a:lnTo>
                    <a:pt x="45" y="591"/>
                  </a:lnTo>
                  <a:lnTo>
                    <a:pt x="107" y="591"/>
                  </a:lnTo>
                  <a:lnTo>
                    <a:pt x="45" y="591"/>
                  </a:lnTo>
                  <a:lnTo>
                    <a:pt x="40" y="591"/>
                  </a:lnTo>
                  <a:lnTo>
                    <a:pt x="29" y="587"/>
                  </a:lnTo>
                  <a:lnTo>
                    <a:pt x="28" y="585"/>
                  </a:lnTo>
                  <a:lnTo>
                    <a:pt x="25" y="581"/>
                  </a:lnTo>
                  <a:lnTo>
                    <a:pt x="24" y="575"/>
                  </a:lnTo>
                  <a:lnTo>
                    <a:pt x="24" y="571"/>
                  </a:lnTo>
                  <a:lnTo>
                    <a:pt x="21" y="564"/>
                  </a:lnTo>
                  <a:lnTo>
                    <a:pt x="19" y="556"/>
                  </a:lnTo>
                  <a:lnTo>
                    <a:pt x="19" y="550"/>
                  </a:lnTo>
                  <a:lnTo>
                    <a:pt x="19" y="539"/>
                  </a:lnTo>
                  <a:lnTo>
                    <a:pt x="19" y="531"/>
                  </a:lnTo>
                  <a:lnTo>
                    <a:pt x="19" y="522"/>
                  </a:lnTo>
                  <a:lnTo>
                    <a:pt x="21" y="517"/>
                  </a:lnTo>
                  <a:lnTo>
                    <a:pt x="24" y="510"/>
                  </a:lnTo>
                  <a:lnTo>
                    <a:pt x="24" y="503"/>
                  </a:lnTo>
                  <a:lnTo>
                    <a:pt x="25" y="499"/>
                  </a:lnTo>
                  <a:lnTo>
                    <a:pt x="32" y="493"/>
                  </a:lnTo>
                  <a:lnTo>
                    <a:pt x="35" y="491"/>
                  </a:lnTo>
                  <a:lnTo>
                    <a:pt x="45" y="485"/>
                  </a:lnTo>
                  <a:lnTo>
                    <a:pt x="49" y="485"/>
                  </a:lnTo>
                  <a:lnTo>
                    <a:pt x="63" y="478"/>
                  </a:lnTo>
                  <a:lnTo>
                    <a:pt x="82" y="473"/>
                  </a:lnTo>
                  <a:lnTo>
                    <a:pt x="105" y="464"/>
                  </a:lnTo>
                  <a:lnTo>
                    <a:pt x="130" y="458"/>
                  </a:lnTo>
                  <a:lnTo>
                    <a:pt x="155" y="453"/>
                  </a:lnTo>
                  <a:lnTo>
                    <a:pt x="180" y="448"/>
                  </a:lnTo>
                  <a:lnTo>
                    <a:pt x="204" y="441"/>
                  </a:lnTo>
                  <a:lnTo>
                    <a:pt x="226" y="437"/>
                  </a:lnTo>
                  <a:lnTo>
                    <a:pt x="246" y="433"/>
                  </a:lnTo>
                  <a:lnTo>
                    <a:pt x="260" y="429"/>
                  </a:lnTo>
                  <a:lnTo>
                    <a:pt x="268" y="429"/>
                  </a:lnTo>
                  <a:lnTo>
                    <a:pt x="272" y="427"/>
                  </a:lnTo>
                  <a:lnTo>
                    <a:pt x="335" y="429"/>
                  </a:lnTo>
                  <a:lnTo>
                    <a:pt x="340" y="429"/>
                  </a:lnTo>
                  <a:lnTo>
                    <a:pt x="563" y="518"/>
                  </a:lnTo>
                  <a:lnTo>
                    <a:pt x="577" y="522"/>
                  </a:lnTo>
                  <a:lnTo>
                    <a:pt x="590" y="527"/>
                  </a:lnTo>
                  <a:lnTo>
                    <a:pt x="605" y="531"/>
                  </a:lnTo>
                  <a:lnTo>
                    <a:pt x="618" y="532"/>
                  </a:lnTo>
                  <a:lnTo>
                    <a:pt x="630" y="535"/>
                  </a:lnTo>
                  <a:lnTo>
                    <a:pt x="643" y="535"/>
                  </a:lnTo>
                  <a:lnTo>
                    <a:pt x="640" y="535"/>
                  </a:lnTo>
                  <a:lnTo>
                    <a:pt x="577" y="535"/>
                  </a:lnTo>
                  <a:lnTo>
                    <a:pt x="590" y="532"/>
                  </a:lnTo>
                  <a:lnTo>
                    <a:pt x="601" y="532"/>
                  </a:lnTo>
                  <a:lnTo>
                    <a:pt x="611" y="531"/>
                  </a:lnTo>
                  <a:lnTo>
                    <a:pt x="624" y="528"/>
                  </a:lnTo>
                  <a:lnTo>
                    <a:pt x="635" y="524"/>
                  </a:lnTo>
                  <a:lnTo>
                    <a:pt x="645" y="521"/>
                  </a:lnTo>
                  <a:lnTo>
                    <a:pt x="656" y="517"/>
                  </a:lnTo>
                  <a:lnTo>
                    <a:pt x="653" y="517"/>
                  </a:lnTo>
                  <a:lnTo>
                    <a:pt x="664" y="513"/>
                  </a:lnTo>
                  <a:lnTo>
                    <a:pt x="674" y="506"/>
                  </a:lnTo>
                  <a:lnTo>
                    <a:pt x="685" y="498"/>
                  </a:lnTo>
                  <a:lnTo>
                    <a:pt x="695" y="491"/>
                  </a:lnTo>
                  <a:lnTo>
                    <a:pt x="706" y="482"/>
                  </a:lnTo>
                  <a:lnTo>
                    <a:pt x="714" y="473"/>
                  </a:lnTo>
                  <a:lnTo>
                    <a:pt x="727" y="464"/>
                  </a:lnTo>
                  <a:lnTo>
                    <a:pt x="724" y="466"/>
                  </a:lnTo>
                  <a:lnTo>
                    <a:pt x="733" y="456"/>
                  </a:lnTo>
                  <a:lnTo>
                    <a:pt x="744" y="445"/>
                  </a:lnTo>
                  <a:lnTo>
                    <a:pt x="754" y="435"/>
                  </a:lnTo>
                  <a:lnTo>
                    <a:pt x="766" y="423"/>
                  </a:lnTo>
                  <a:lnTo>
                    <a:pt x="776" y="410"/>
                  </a:lnTo>
                  <a:lnTo>
                    <a:pt x="790" y="398"/>
                  </a:lnTo>
                  <a:lnTo>
                    <a:pt x="800" y="385"/>
                  </a:lnTo>
                  <a:lnTo>
                    <a:pt x="812" y="370"/>
                  </a:lnTo>
                  <a:lnTo>
                    <a:pt x="822" y="355"/>
                  </a:lnTo>
                  <a:lnTo>
                    <a:pt x="837" y="341"/>
                  </a:lnTo>
                  <a:lnTo>
                    <a:pt x="850" y="326"/>
                  </a:lnTo>
                  <a:lnTo>
                    <a:pt x="863" y="312"/>
                  </a:lnTo>
                  <a:lnTo>
                    <a:pt x="867" y="307"/>
                  </a:lnTo>
                  <a:lnTo>
                    <a:pt x="871" y="304"/>
                  </a:lnTo>
                  <a:lnTo>
                    <a:pt x="877" y="297"/>
                  </a:lnTo>
                  <a:lnTo>
                    <a:pt x="881" y="292"/>
                  </a:lnTo>
                  <a:lnTo>
                    <a:pt x="888" y="285"/>
                  </a:lnTo>
                  <a:lnTo>
                    <a:pt x="892" y="283"/>
                  </a:lnTo>
                  <a:lnTo>
                    <a:pt x="898" y="278"/>
                  </a:lnTo>
                  <a:lnTo>
                    <a:pt x="896" y="279"/>
                  </a:lnTo>
                  <a:lnTo>
                    <a:pt x="904" y="272"/>
                  </a:lnTo>
                  <a:lnTo>
                    <a:pt x="910" y="264"/>
                  </a:lnTo>
                  <a:lnTo>
                    <a:pt x="919" y="256"/>
                  </a:lnTo>
                  <a:lnTo>
                    <a:pt x="921" y="254"/>
                  </a:lnTo>
                  <a:lnTo>
                    <a:pt x="931" y="246"/>
                  </a:lnTo>
                  <a:lnTo>
                    <a:pt x="927" y="247"/>
                  </a:lnTo>
                  <a:lnTo>
                    <a:pt x="938" y="239"/>
                  </a:lnTo>
                  <a:lnTo>
                    <a:pt x="940" y="238"/>
                  </a:lnTo>
                  <a:lnTo>
                    <a:pt x="951" y="229"/>
                  </a:lnTo>
                  <a:lnTo>
                    <a:pt x="959" y="221"/>
                  </a:lnTo>
                  <a:lnTo>
                    <a:pt x="969" y="213"/>
                  </a:lnTo>
                  <a:lnTo>
                    <a:pt x="967" y="214"/>
                  </a:lnTo>
                  <a:lnTo>
                    <a:pt x="977" y="204"/>
                  </a:lnTo>
                  <a:lnTo>
                    <a:pt x="980" y="202"/>
                  </a:lnTo>
                  <a:lnTo>
                    <a:pt x="990" y="194"/>
                  </a:lnTo>
                  <a:lnTo>
                    <a:pt x="1001" y="185"/>
                  </a:lnTo>
                  <a:lnTo>
                    <a:pt x="1011" y="175"/>
                  </a:lnTo>
                  <a:lnTo>
                    <a:pt x="1022" y="167"/>
                  </a:lnTo>
                  <a:lnTo>
                    <a:pt x="1018" y="169"/>
                  </a:lnTo>
                  <a:lnTo>
                    <a:pt x="1028" y="160"/>
                  </a:lnTo>
                  <a:lnTo>
                    <a:pt x="1029" y="159"/>
                  </a:lnTo>
                  <a:lnTo>
                    <a:pt x="1043" y="149"/>
                  </a:lnTo>
                  <a:lnTo>
                    <a:pt x="1053" y="140"/>
                  </a:lnTo>
                  <a:lnTo>
                    <a:pt x="1061" y="131"/>
                  </a:lnTo>
                  <a:lnTo>
                    <a:pt x="1071" y="123"/>
                  </a:lnTo>
                  <a:lnTo>
                    <a:pt x="1069" y="126"/>
                  </a:lnTo>
                  <a:lnTo>
                    <a:pt x="1078" y="116"/>
                  </a:lnTo>
                  <a:lnTo>
                    <a:pt x="1079" y="115"/>
                  </a:lnTo>
                  <a:lnTo>
                    <a:pt x="1090" y="109"/>
                  </a:lnTo>
                  <a:lnTo>
                    <a:pt x="1099" y="101"/>
                  </a:lnTo>
                  <a:lnTo>
                    <a:pt x="1107" y="94"/>
                  </a:lnTo>
                  <a:lnTo>
                    <a:pt x="1117" y="86"/>
                  </a:lnTo>
                  <a:lnTo>
                    <a:pt x="1124" y="80"/>
                  </a:lnTo>
                  <a:lnTo>
                    <a:pt x="1132" y="73"/>
                  </a:lnTo>
                  <a:lnTo>
                    <a:pt x="1130" y="77"/>
                  </a:lnTo>
                  <a:lnTo>
                    <a:pt x="1137" y="72"/>
                  </a:lnTo>
                  <a:lnTo>
                    <a:pt x="1138" y="66"/>
                  </a:lnTo>
                  <a:lnTo>
                    <a:pt x="1155" y="58"/>
                  </a:lnTo>
                  <a:lnTo>
                    <a:pt x="1170" y="48"/>
                  </a:lnTo>
                  <a:lnTo>
                    <a:pt x="1187" y="40"/>
                  </a:lnTo>
                  <a:lnTo>
                    <a:pt x="1188" y="37"/>
                  </a:lnTo>
                  <a:lnTo>
                    <a:pt x="1208" y="32"/>
                  </a:lnTo>
                  <a:lnTo>
                    <a:pt x="1225" y="25"/>
                  </a:lnTo>
                  <a:lnTo>
                    <a:pt x="1243" y="19"/>
                  </a:lnTo>
                  <a:lnTo>
                    <a:pt x="1261" y="15"/>
                  </a:lnTo>
                  <a:lnTo>
                    <a:pt x="1279" y="11"/>
                  </a:lnTo>
                  <a:lnTo>
                    <a:pt x="1297" y="8"/>
                  </a:lnTo>
                  <a:lnTo>
                    <a:pt x="1317" y="4"/>
                  </a:lnTo>
                  <a:lnTo>
                    <a:pt x="1335" y="3"/>
                  </a:lnTo>
                  <a:lnTo>
                    <a:pt x="1355" y="0"/>
                  </a:lnTo>
                  <a:lnTo>
                    <a:pt x="1370" y="0"/>
                  </a:lnTo>
                  <a:lnTo>
                    <a:pt x="1390" y="0"/>
                  </a:lnTo>
                  <a:lnTo>
                    <a:pt x="1408" y="0"/>
                  </a:lnTo>
                  <a:lnTo>
                    <a:pt x="1425" y="0"/>
                  </a:lnTo>
                  <a:lnTo>
                    <a:pt x="1488" y="0"/>
                  </a:lnTo>
                  <a:lnTo>
                    <a:pt x="1490" y="0"/>
                  </a:lnTo>
                  <a:lnTo>
                    <a:pt x="1507" y="3"/>
                  </a:lnTo>
                  <a:lnTo>
                    <a:pt x="1524" y="3"/>
                  </a:lnTo>
                  <a:lnTo>
                    <a:pt x="1521" y="3"/>
                  </a:lnTo>
                  <a:lnTo>
                    <a:pt x="1457" y="3"/>
                  </a:lnTo>
                  <a:lnTo>
                    <a:pt x="1471" y="3"/>
                  </a:lnTo>
                  <a:lnTo>
                    <a:pt x="1535" y="3"/>
                  </a:lnTo>
                  <a:lnTo>
                    <a:pt x="1538" y="3"/>
                  </a:lnTo>
                  <a:lnTo>
                    <a:pt x="1552" y="7"/>
                  </a:lnTo>
                  <a:lnTo>
                    <a:pt x="1567" y="7"/>
                  </a:lnTo>
                  <a:lnTo>
                    <a:pt x="1580" y="8"/>
                  </a:lnTo>
                  <a:lnTo>
                    <a:pt x="1592" y="8"/>
                  </a:lnTo>
                  <a:lnTo>
                    <a:pt x="1605" y="12"/>
                  </a:lnTo>
                  <a:lnTo>
                    <a:pt x="1613" y="12"/>
                  </a:lnTo>
                  <a:lnTo>
                    <a:pt x="1623" y="15"/>
                  </a:lnTo>
                  <a:lnTo>
                    <a:pt x="1632" y="17"/>
                  </a:lnTo>
                  <a:lnTo>
                    <a:pt x="1639" y="19"/>
                  </a:lnTo>
                  <a:lnTo>
                    <a:pt x="1643" y="19"/>
                  </a:lnTo>
                  <a:lnTo>
                    <a:pt x="1640" y="19"/>
                  </a:lnTo>
                  <a:lnTo>
                    <a:pt x="1576" y="19"/>
                  </a:lnTo>
                  <a:lnTo>
                    <a:pt x="1580" y="19"/>
                  </a:lnTo>
                  <a:lnTo>
                    <a:pt x="1644" y="19"/>
                  </a:lnTo>
                  <a:lnTo>
                    <a:pt x="1647" y="19"/>
                  </a:lnTo>
                  <a:lnTo>
                    <a:pt x="1649" y="21"/>
                  </a:lnTo>
                  <a:lnTo>
                    <a:pt x="1647" y="21"/>
                  </a:lnTo>
                  <a:lnTo>
                    <a:pt x="1581" y="19"/>
                  </a:lnTo>
                  <a:lnTo>
                    <a:pt x="1584" y="19"/>
                  </a:lnTo>
                  <a:lnTo>
                    <a:pt x="1587" y="19"/>
                  </a:lnTo>
                  <a:lnTo>
                    <a:pt x="1651" y="21"/>
                  </a:lnTo>
                  <a:lnTo>
                    <a:pt x="1653" y="21"/>
                  </a:lnTo>
                  <a:lnTo>
                    <a:pt x="1657" y="21"/>
                  </a:lnTo>
                  <a:lnTo>
                    <a:pt x="1665" y="23"/>
                  </a:lnTo>
                  <a:lnTo>
                    <a:pt x="1678" y="27"/>
                  </a:lnTo>
                  <a:lnTo>
                    <a:pt x="1690" y="32"/>
                  </a:lnTo>
                  <a:lnTo>
                    <a:pt x="1707" y="36"/>
                  </a:lnTo>
                  <a:lnTo>
                    <a:pt x="1722" y="43"/>
                  </a:lnTo>
                  <a:lnTo>
                    <a:pt x="1739" y="48"/>
                  </a:lnTo>
                  <a:lnTo>
                    <a:pt x="1756" y="54"/>
                  </a:lnTo>
                  <a:lnTo>
                    <a:pt x="1773" y="62"/>
                  </a:lnTo>
                  <a:lnTo>
                    <a:pt x="1787" y="72"/>
                  </a:lnTo>
                  <a:lnTo>
                    <a:pt x="1799" y="80"/>
                  </a:lnTo>
                  <a:lnTo>
                    <a:pt x="1809" y="90"/>
                  </a:lnTo>
                  <a:lnTo>
                    <a:pt x="1812" y="91"/>
                  </a:lnTo>
                  <a:lnTo>
                    <a:pt x="1820" y="102"/>
                  </a:lnTo>
                  <a:lnTo>
                    <a:pt x="1823" y="106"/>
                  </a:lnTo>
                  <a:lnTo>
                    <a:pt x="1826" y="116"/>
                  </a:lnTo>
                  <a:lnTo>
                    <a:pt x="1829" y="123"/>
                  </a:lnTo>
                  <a:lnTo>
                    <a:pt x="1830" y="130"/>
                  </a:lnTo>
                  <a:lnTo>
                    <a:pt x="1830" y="138"/>
                  </a:lnTo>
                  <a:lnTo>
                    <a:pt x="1833" y="144"/>
                  </a:lnTo>
                  <a:lnTo>
                    <a:pt x="1833" y="156"/>
                  </a:lnTo>
                  <a:lnTo>
                    <a:pt x="1833" y="164"/>
                  </a:lnTo>
                  <a:lnTo>
                    <a:pt x="1833" y="175"/>
                  </a:lnTo>
                  <a:lnTo>
                    <a:pt x="1833" y="181"/>
                  </a:lnTo>
                  <a:lnTo>
                    <a:pt x="1830" y="189"/>
                  </a:lnTo>
                  <a:lnTo>
                    <a:pt x="1829" y="202"/>
                  </a:lnTo>
                  <a:lnTo>
                    <a:pt x="1826" y="209"/>
                  </a:lnTo>
                  <a:lnTo>
                    <a:pt x="1826" y="214"/>
                  </a:lnTo>
                  <a:lnTo>
                    <a:pt x="1819" y="229"/>
                  </a:lnTo>
                  <a:lnTo>
                    <a:pt x="1808" y="246"/>
                  </a:lnTo>
                  <a:lnTo>
                    <a:pt x="1805" y="247"/>
                  </a:lnTo>
                  <a:lnTo>
                    <a:pt x="1794" y="267"/>
                  </a:lnTo>
                  <a:lnTo>
                    <a:pt x="1779" y="283"/>
                  </a:lnTo>
                  <a:lnTo>
                    <a:pt x="1762" y="300"/>
                  </a:lnTo>
                  <a:lnTo>
                    <a:pt x="1743" y="316"/>
                  </a:lnTo>
                  <a:lnTo>
                    <a:pt x="1741" y="319"/>
                  </a:lnTo>
                  <a:lnTo>
                    <a:pt x="1722" y="336"/>
                  </a:lnTo>
                  <a:lnTo>
                    <a:pt x="1703" y="350"/>
                  </a:lnTo>
                  <a:lnTo>
                    <a:pt x="1686" y="365"/>
                  </a:lnTo>
                  <a:lnTo>
                    <a:pt x="1670" y="377"/>
                  </a:lnTo>
                  <a:lnTo>
                    <a:pt x="1655" y="390"/>
                  </a:lnTo>
                  <a:lnTo>
                    <a:pt x="1643" y="398"/>
                  </a:lnTo>
                  <a:lnTo>
                    <a:pt x="1632" y="406"/>
                  </a:lnTo>
                  <a:lnTo>
                    <a:pt x="1626" y="410"/>
                  </a:lnTo>
                  <a:lnTo>
                    <a:pt x="1623" y="412"/>
                  </a:lnTo>
                  <a:lnTo>
                    <a:pt x="1622" y="412"/>
                  </a:lnTo>
                  <a:lnTo>
                    <a:pt x="1559" y="412"/>
                  </a:lnTo>
                  <a:lnTo>
                    <a:pt x="1555" y="412"/>
                  </a:lnTo>
                  <a:lnTo>
                    <a:pt x="1552" y="410"/>
                  </a:lnTo>
                  <a:lnTo>
                    <a:pt x="1551" y="406"/>
                  </a:lnTo>
                  <a:lnTo>
                    <a:pt x="1549" y="399"/>
                  </a:lnTo>
                  <a:lnTo>
                    <a:pt x="1549" y="394"/>
                  </a:lnTo>
                  <a:lnTo>
                    <a:pt x="1546" y="385"/>
                  </a:lnTo>
                  <a:lnTo>
                    <a:pt x="1545" y="379"/>
                  </a:lnTo>
                  <a:lnTo>
                    <a:pt x="1545" y="369"/>
                  </a:lnTo>
                  <a:lnTo>
                    <a:pt x="1545" y="361"/>
                  </a:lnTo>
                  <a:lnTo>
                    <a:pt x="1546" y="354"/>
                  </a:lnTo>
                  <a:lnTo>
                    <a:pt x="1549" y="346"/>
                  </a:lnTo>
                  <a:lnTo>
                    <a:pt x="1549" y="340"/>
                  </a:lnTo>
                  <a:lnTo>
                    <a:pt x="1551" y="333"/>
                  </a:lnTo>
                  <a:lnTo>
                    <a:pt x="1552" y="330"/>
                  </a:lnTo>
                  <a:lnTo>
                    <a:pt x="1572" y="312"/>
                  </a:lnTo>
                  <a:lnTo>
                    <a:pt x="1570" y="316"/>
                  </a:lnTo>
                  <a:lnTo>
                    <a:pt x="1567" y="321"/>
                  </a:lnTo>
                  <a:lnTo>
                    <a:pt x="1567" y="326"/>
                  </a:lnTo>
                  <a:lnTo>
                    <a:pt x="1566" y="336"/>
                  </a:lnTo>
                  <a:lnTo>
                    <a:pt x="1563" y="341"/>
                  </a:lnTo>
                  <a:lnTo>
                    <a:pt x="1563" y="350"/>
                  </a:lnTo>
                  <a:lnTo>
                    <a:pt x="1563" y="361"/>
                  </a:lnTo>
                  <a:lnTo>
                    <a:pt x="1566" y="369"/>
                  </a:lnTo>
                  <a:lnTo>
                    <a:pt x="1567" y="375"/>
                  </a:lnTo>
                  <a:lnTo>
                    <a:pt x="1567" y="381"/>
                  </a:lnTo>
                  <a:lnTo>
                    <a:pt x="1570" y="387"/>
                  </a:lnTo>
                  <a:lnTo>
                    <a:pt x="1572" y="391"/>
                  </a:lnTo>
                  <a:lnTo>
                    <a:pt x="1573" y="394"/>
                  </a:lnTo>
                  <a:lnTo>
                    <a:pt x="1577" y="394"/>
                  </a:lnTo>
                  <a:lnTo>
                    <a:pt x="1427" y="391"/>
                  </a:lnTo>
                  <a:lnTo>
                    <a:pt x="1488" y="391"/>
                  </a:lnTo>
                  <a:lnTo>
                    <a:pt x="1465" y="391"/>
                  </a:lnTo>
                  <a:lnTo>
                    <a:pt x="1446" y="394"/>
                  </a:lnTo>
                  <a:lnTo>
                    <a:pt x="1427" y="395"/>
                  </a:lnTo>
                  <a:lnTo>
                    <a:pt x="1408" y="398"/>
                  </a:lnTo>
                  <a:lnTo>
                    <a:pt x="1391" y="399"/>
                  </a:lnTo>
                  <a:lnTo>
                    <a:pt x="1374" y="402"/>
                  </a:lnTo>
                  <a:lnTo>
                    <a:pt x="1358" y="406"/>
                  </a:lnTo>
                  <a:lnTo>
                    <a:pt x="1341" y="410"/>
                  </a:lnTo>
                  <a:lnTo>
                    <a:pt x="1324" y="415"/>
                  </a:lnTo>
                  <a:lnTo>
                    <a:pt x="1310" y="420"/>
                  </a:lnTo>
                  <a:lnTo>
                    <a:pt x="1292" y="429"/>
                  </a:lnTo>
                  <a:lnTo>
                    <a:pt x="1293" y="427"/>
                  </a:lnTo>
                  <a:lnTo>
                    <a:pt x="1276" y="435"/>
                  </a:lnTo>
                  <a:lnTo>
                    <a:pt x="1258" y="445"/>
                  </a:lnTo>
                  <a:lnTo>
                    <a:pt x="1239" y="456"/>
                  </a:lnTo>
                  <a:lnTo>
                    <a:pt x="1218" y="470"/>
                  </a:lnTo>
                  <a:lnTo>
                    <a:pt x="1195" y="485"/>
                  </a:lnTo>
                  <a:lnTo>
                    <a:pt x="1197" y="482"/>
                  </a:lnTo>
                  <a:lnTo>
                    <a:pt x="1188" y="491"/>
                  </a:lnTo>
                  <a:lnTo>
                    <a:pt x="1187" y="493"/>
                  </a:lnTo>
                  <a:lnTo>
                    <a:pt x="1176" y="502"/>
                  </a:lnTo>
                  <a:lnTo>
                    <a:pt x="1168" y="507"/>
                  </a:lnTo>
                  <a:lnTo>
                    <a:pt x="1170" y="506"/>
                  </a:lnTo>
                  <a:lnTo>
                    <a:pt x="1163" y="514"/>
                  </a:lnTo>
                  <a:lnTo>
                    <a:pt x="1155" y="522"/>
                  </a:lnTo>
                  <a:lnTo>
                    <a:pt x="1147" y="531"/>
                  </a:lnTo>
                  <a:lnTo>
                    <a:pt x="1138" y="539"/>
                  </a:lnTo>
                  <a:lnTo>
                    <a:pt x="1130" y="546"/>
                  </a:lnTo>
                  <a:lnTo>
                    <a:pt x="1124" y="554"/>
                  </a:lnTo>
                  <a:lnTo>
                    <a:pt x="1116" y="561"/>
                  </a:lnTo>
                  <a:lnTo>
                    <a:pt x="1109" y="571"/>
                  </a:lnTo>
                  <a:lnTo>
                    <a:pt x="1100" y="576"/>
                  </a:lnTo>
                  <a:lnTo>
                    <a:pt x="1095" y="585"/>
                  </a:lnTo>
                  <a:lnTo>
                    <a:pt x="1088" y="593"/>
                  </a:lnTo>
                  <a:lnTo>
                    <a:pt x="1079" y="600"/>
                  </a:lnTo>
                  <a:lnTo>
                    <a:pt x="1074" y="608"/>
                  </a:lnTo>
                  <a:lnTo>
                    <a:pt x="1067" y="616"/>
                  </a:lnTo>
                  <a:lnTo>
                    <a:pt x="1061" y="625"/>
                  </a:lnTo>
                  <a:lnTo>
                    <a:pt x="1053" y="630"/>
                  </a:lnTo>
                  <a:lnTo>
                    <a:pt x="1047" y="639"/>
                  </a:lnTo>
                  <a:lnTo>
                    <a:pt x="1040" y="647"/>
                  </a:lnTo>
                  <a:lnTo>
                    <a:pt x="1033" y="655"/>
                  </a:lnTo>
                  <a:lnTo>
                    <a:pt x="1026" y="664"/>
                  </a:lnTo>
                  <a:lnTo>
                    <a:pt x="1019" y="672"/>
                  </a:lnTo>
                  <a:lnTo>
                    <a:pt x="1011" y="680"/>
                  </a:lnTo>
                  <a:lnTo>
                    <a:pt x="1005" y="688"/>
                  </a:lnTo>
                  <a:lnTo>
                    <a:pt x="997" y="697"/>
                  </a:lnTo>
                  <a:lnTo>
                    <a:pt x="990" y="708"/>
                  </a:lnTo>
                  <a:lnTo>
                    <a:pt x="981" y="716"/>
                  </a:lnTo>
                  <a:lnTo>
                    <a:pt x="976" y="724"/>
                  </a:lnTo>
                  <a:lnTo>
                    <a:pt x="967" y="734"/>
                  </a:lnTo>
                  <a:lnTo>
                    <a:pt x="959" y="745"/>
                  </a:lnTo>
                  <a:lnTo>
                    <a:pt x="961" y="741"/>
                  </a:lnTo>
                  <a:lnTo>
                    <a:pt x="963" y="734"/>
                  </a:lnTo>
                  <a:lnTo>
                    <a:pt x="963" y="728"/>
                  </a:lnTo>
                  <a:lnTo>
                    <a:pt x="965" y="723"/>
                  </a:lnTo>
                  <a:lnTo>
                    <a:pt x="965" y="713"/>
                  </a:lnTo>
                  <a:lnTo>
                    <a:pt x="965" y="703"/>
                  </a:lnTo>
                  <a:lnTo>
                    <a:pt x="965" y="695"/>
                  </a:lnTo>
                  <a:lnTo>
                    <a:pt x="965" y="688"/>
                  </a:lnTo>
                  <a:lnTo>
                    <a:pt x="963" y="680"/>
                  </a:lnTo>
                  <a:lnTo>
                    <a:pt x="963" y="674"/>
                  </a:lnTo>
                  <a:lnTo>
                    <a:pt x="961" y="668"/>
                  </a:lnTo>
                  <a:lnTo>
                    <a:pt x="973" y="694"/>
                  </a:lnTo>
                  <a:lnTo>
                    <a:pt x="986" y="713"/>
                  </a:lnTo>
                  <a:lnTo>
                    <a:pt x="997" y="734"/>
                  </a:lnTo>
                  <a:lnTo>
                    <a:pt x="1008" y="756"/>
                  </a:lnTo>
                  <a:lnTo>
                    <a:pt x="1019" y="774"/>
                  </a:lnTo>
                  <a:lnTo>
                    <a:pt x="1029" y="795"/>
                  </a:lnTo>
                  <a:lnTo>
                    <a:pt x="1040" y="811"/>
                  </a:lnTo>
                  <a:lnTo>
                    <a:pt x="1050" y="831"/>
                  </a:lnTo>
                  <a:lnTo>
                    <a:pt x="1061" y="847"/>
                  </a:lnTo>
                  <a:lnTo>
                    <a:pt x="1071" y="864"/>
                  </a:lnTo>
                  <a:lnTo>
                    <a:pt x="1067" y="860"/>
                  </a:lnTo>
                  <a:lnTo>
                    <a:pt x="1079" y="876"/>
                  </a:lnTo>
                  <a:lnTo>
                    <a:pt x="1082" y="878"/>
                  </a:lnTo>
                  <a:lnTo>
                    <a:pt x="1092" y="897"/>
                  </a:lnTo>
                  <a:lnTo>
                    <a:pt x="1100" y="911"/>
                  </a:lnTo>
                  <a:lnTo>
                    <a:pt x="1099" y="907"/>
                  </a:lnTo>
                  <a:lnTo>
                    <a:pt x="1111" y="922"/>
                  </a:lnTo>
                  <a:lnTo>
                    <a:pt x="1121" y="939"/>
                  </a:lnTo>
                  <a:lnTo>
                    <a:pt x="1134" y="955"/>
                  </a:lnTo>
                  <a:lnTo>
                    <a:pt x="1151" y="973"/>
                  </a:lnTo>
                  <a:lnTo>
                    <a:pt x="1168" y="991"/>
                  </a:lnTo>
                  <a:lnTo>
                    <a:pt x="1163" y="988"/>
                  </a:lnTo>
                  <a:lnTo>
                    <a:pt x="1180" y="1002"/>
                  </a:lnTo>
                  <a:lnTo>
                    <a:pt x="1197" y="1016"/>
                  </a:lnTo>
                  <a:lnTo>
                    <a:pt x="1214" y="1028"/>
                  </a:lnTo>
                  <a:lnTo>
                    <a:pt x="1233" y="1038"/>
                  </a:lnTo>
                  <a:lnTo>
                    <a:pt x="1250" y="1046"/>
                  </a:lnTo>
                  <a:lnTo>
                    <a:pt x="1267" y="1055"/>
                  </a:lnTo>
                  <a:lnTo>
                    <a:pt x="1285" y="1061"/>
                  </a:lnTo>
                  <a:lnTo>
                    <a:pt x="1303" y="1066"/>
                  </a:lnTo>
                  <a:lnTo>
                    <a:pt x="1323" y="1071"/>
                  </a:lnTo>
                  <a:lnTo>
                    <a:pt x="1341" y="1074"/>
                  </a:lnTo>
                  <a:lnTo>
                    <a:pt x="1362" y="1078"/>
                  </a:lnTo>
                  <a:lnTo>
                    <a:pt x="1381" y="1080"/>
                  </a:lnTo>
                  <a:lnTo>
                    <a:pt x="1402" y="1084"/>
                  </a:lnTo>
                  <a:lnTo>
                    <a:pt x="1425" y="1086"/>
                  </a:lnTo>
                  <a:lnTo>
                    <a:pt x="1576" y="1091"/>
                  </a:lnTo>
                  <a:lnTo>
                    <a:pt x="1511" y="1175"/>
                  </a:lnTo>
                  <a:lnTo>
                    <a:pt x="1360" y="1171"/>
                  </a:lnTo>
                  <a:lnTo>
                    <a:pt x="1338" y="1168"/>
                  </a:lnTo>
                  <a:lnTo>
                    <a:pt x="1317" y="1165"/>
                  </a:lnTo>
                  <a:lnTo>
                    <a:pt x="1297" y="1164"/>
                  </a:lnTo>
                  <a:lnTo>
                    <a:pt x="1276" y="1160"/>
                  </a:lnTo>
                  <a:lnTo>
                    <a:pt x="1256" y="1157"/>
                  </a:lnTo>
                  <a:lnTo>
                    <a:pt x="1239" y="1150"/>
                  </a:lnTo>
                  <a:lnTo>
                    <a:pt x="1220" y="1146"/>
                  </a:lnTo>
                  <a:lnTo>
                    <a:pt x="1216" y="1144"/>
                  </a:lnTo>
                  <a:lnTo>
                    <a:pt x="1197" y="1138"/>
                  </a:lnTo>
                  <a:lnTo>
                    <a:pt x="1180" y="1129"/>
                  </a:lnTo>
                  <a:lnTo>
                    <a:pt x="1163" y="1121"/>
                  </a:lnTo>
                  <a:lnTo>
                    <a:pt x="1145" y="1113"/>
                  </a:lnTo>
                  <a:lnTo>
                    <a:pt x="1128" y="1100"/>
                  </a:lnTo>
                  <a:lnTo>
                    <a:pt x="1111" y="1086"/>
                  </a:lnTo>
                  <a:lnTo>
                    <a:pt x="1095" y="1071"/>
                  </a:lnTo>
                  <a:lnTo>
                    <a:pt x="1092" y="1070"/>
                  </a:lnTo>
                  <a:lnTo>
                    <a:pt x="1078" y="1053"/>
                  </a:lnTo>
                  <a:lnTo>
                    <a:pt x="1061" y="1034"/>
                  </a:lnTo>
                  <a:lnTo>
                    <a:pt x="1049" y="1017"/>
                  </a:lnTo>
                  <a:lnTo>
                    <a:pt x="1036" y="1001"/>
                  </a:lnTo>
                  <a:lnTo>
                    <a:pt x="1026" y="987"/>
                  </a:lnTo>
                  <a:lnTo>
                    <a:pt x="1023" y="984"/>
                  </a:lnTo>
                  <a:lnTo>
                    <a:pt x="1012" y="968"/>
                  </a:lnTo>
                  <a:lnTo>
                    <a:pt x="1002" y="951"/>
                  </a:lnTo>
                  <a:lnTo>
                    <a:pt x="1005" y="955"/>
                  </a:lnTo>
                  <a:lnTo>
                    <a:pt x="994" y="939"/>
                  </a:lnTo>
                  <a:lnTo>
                    <a:pt x="991" y="934"/>
                  </a:lnTo>
                  <a:lnTo>
                    <a:pt x="981" y="918"/>
                  </a:lnTo>
                  <a:lnTo>
                    <a:pt x="970" y="901"/>
                  </a:lnTo>
                  <a:lnTo>
                    <a:pt x="963" y="885"/>
                  </a:lnTo>
                  <a:lnTo>
                    <a:pt x="952" y="865"/>
                  </a:lnTo>
                  <a:lnTo>
                    <a:pt x="940" y="847"/>
                  </a:lnTo>
                  <a:lnTo>
                    <a:pt x="930" y="826"/>
                  </a:lnTo>
                  <a:lnTo>
                    <a:pt x="919" y="806"/>
                  </a:lnTo>
                  <a:lnTo>
                    <a:pt x="906" y="787"/>
                  </a:lnTo>
                  <a:lnTo>
                    <a:pt x="893" y="763"/>
                  </a:lnTo>
                  <a:lnTo>
                    <a:pt x="881" y="741"/>
                  </a:lnTo>
                  <a:lnTo>
                    <a:pt x="881" y="734"/>
                  </a:lnTo>
                  <a:lnTo>
                    <a:pt x="879" y="728"/>
                  </a:lnTo>
                  <a:lnTo>
                    <a:pt x="879" y="723"/>
                  </a:lnTo>
                  <a:lnTo>
                    <a:pt x="877" y="713"/>
                  </a:lnTo>
                  <a:lnTo>
                    <a:pt x="877" y="703"/>
                  </a:lnTo>
                  <a:lnTo>
                    <a:pt x="877" y="695"/>
                  </a:lnTo>
                  <a:lnTo>
                    <a:pt x="879" y="688"/>
                  </a:lnTo>
                  <a:lnTo>
                    <a:pt x="879" y="680"/>
                  </a:lnTo>
                  <a:lnTo>
                    <a:pt x="881" y="674"/>
                  </a:lnTo>
                  <a:lnTo>
                    <a:pt x="881" y="668"/>
                  </a:lnTo>
                  <a:lnTo>
                    <a:pt x="885" y="666"/>
                  </a:lnTo>
                  <a:lnTo>
                    <a:pt x="893" y="655"/>
                  </a:lnTo>
                  <a:lnTo>
                    <a:pt x="900" y="645"/>
                  </a:lnTo>
                  <a:lnTo>
                    <a:pt x="909" y="637"/>
                  </a:lnTo>
                  <a:lnTo>
                    <a:pt x="917" y="629"/>
                  </a:lnTo>
                  <a:lnTo>
                    <a:pt x="923" y="620"/>
                  </a:lnTo>
                  <a:lnTo>
                    <a:pt x="931" y="610"/>
                  </a:lnTo>
                  <a:lnTo>
                    <a:pt x="938" y="601"/>
                  </a:lnTo>
                  <a:lnTo>
                    <a:pt x="946" y="593"/>
                  </a:lnTo>
                  <a:lnTo>
                    <a:pt x="952" y="585"/>
                  </a:lnTo>
                  <a:lnTo>
                    <a:pt x="959" y="576"/>
                  </a:lnTo>
                  <a:lnTo>
                    <a:pt x="965" y="568"/>
                  </a:lnTo>
                  <a:lnTo>
                    <a:pt x="973" y="560"/>
                  </a:lnTo>
                  <a:lnTo>
                    <a:pt x="980" y="551"/>
                  </a:lnTo>
                  <a:lnTo>
                    <a:pt x="988" y="546"/>
                  </a:lnTo>
                  <a:lnTo>
                    <a:pt x="994" y="536"/>
                  </a:lnTo>
                  <a:lnTo>
                    <a:pt x="1001" y="528"/>
                  </a:lnTo>
                  <a:lnTo>
                    <a:pt x="1007" y="521"/>
                  </a:lnTo>
                  <a:lnTo>
                    <a:pt x="1015" y="514"/>
                  </a:lnTo>
                  <a:lnTo>
                    <a:pt x="1022" y="506"/>
                  </a:lnTo>
                  <a:lnTo>
                    <a:pt x="1028" y="498"/>
                  </a:lnTo>
                  <a:lnTo>
                    <a:pt x="1036" y="491"/>
                  </a:lnTo>
                  <a:lnTo>
                    <a:pt x="1043" y="482"/>
                  </a:lnTo>
                  <a:lnTo>
                    <a:pt x="1049" y="474"/>
                  </a:lnTo>
                  <a:lnTo>
                    <a:pt x="1057" y="468"/>
                  </a:lnTo>
                  <a:lnTo>
                    <a:pt x="1065" y="460"/>
                  </a:lnTo>
                  <a:lnTo>
                    <a:pt x="1074" y="452"/>
                  </a:lnTo>
                  <a:lnTo>
                    <a:pt x="1079" y="444"/>
                  </a:lnTo>
                  <a:lnTo>
                    <a:pt x="1088" y="435"/>
                  </a:lnTo>
                  <a:lnTo>
                    <a:pt x="1096" y="427"/>
                  </a:lnTo>
                  <a:lnTo>
                    <a:pt x="1099" y="424"/>
                  </a:lnTo>
                  <a:lnTo>
                    <a:pt x="1107" y="419"/>
                  </a:lnTo>
                  <a:lnTo>
                    <a:pt x="1117" y="410"/>
                  </a:lnTo>
                  <a:lnTo>
                    <a:pt x="1116" y="412"/>
                  </a:lnTo>
                  <a:lnTo>
                    <a:pt x="1124" y="404"/>
                  </a:lnTo>
                  <a:lnTo>
                    <a:pt x="1126" y="399"/>
                  </a:lnTo>
                  <a:lnTo>
                    <a:pt x="1149" y="385"/>
                  </a:lnTo>
                  <a:lnTo>
                    <a:pt x="1170" y="373"/>
                  </a:lnTo>
                  <a:lnTo>
                    <a:pt x="1188" y="362"/>
                  </a:lnTo>
                  <a:lnTo>
                    <a:pt x="1208" y="352"/>
                  </a:lnTo>
                  <a:lnTo>
                    <a:pt x="1226" y="344"/>
                  </a:lnTo>
                  <a:lnTo>
                    <a:pt x="1229" y="341"/>
                  </a:lnTo>
                  <a:lnTo>
                    <a:pt x="1246" y="336"/>
                  </a:lnTo>
                  <a:lnTo>
                    <a:pt x="1261" y="329"/>
                  </a:lnTo>
                  <a:lnTo>
                    <a:pt x="1279" y="322"/>
                  </a:lnTo>
                  <a:lnTo>
                    <a:pt x="1293" y="319"/>
                  </a:lnTo>
                  <a:lnTo>
                    <a:pt x="1310" y="316"/>
                  </a:lnTo>
                  <a:lnTo>
                    <a:pt x="1328" y="312"/>
                  </a:lnTo>
                  <a:lnTo>
                    <a:pt x="1345" y="311"/>
                  </a:lnTo>
                  <a:lnTo>
                    <a:pt x="1362" y="311"/>
                  </a:lnTo>
                  <a:lnTo>
                    <a:pt x="1383" y="307"/>
                  </a:lnTo>
                  <a:lnTo>
                    <a:pt x="1402" y="307"/>
                  </a:lnTo>
                  <a:lnTo>
                    <a:pt x="1425" y="304"/>
                  </a:lnTo>
                  <a:lnTo>
                    <a:pt x="1488" y="307"/>
                  </a:lnTo>
                  <a:lnTo>
                    <a:pt x="1490" y="307"/>
                  </a:lnTo>
                  <a:lnTo>
                    <a:pt x="1643" y="311"/>
                  </a:lnTo>
                  <a:lnTo>
                    <a:pt x="1644" y="312"/>
                  </a:lnTo>
                  <a:lnTo>
                    <a:pt x="1647" y="316"/>
                  </a:lnTo>
                  <a:lnTo>
                    <a:pt x="1649" y="321"/>
                  </a:lnTo>
                  <a:lnTo>
                    <a:pt x="1651" y="326"/>
                  </a:lnTo>
                  <a:lnTo>
                    <a:pt x="1651" y="336"/>
                  </a:lnTo>
                  <a:lnTo>
                    <a:pt x="1653" y="341"/>
                  </a:lnTo>
                  <a:lnTo>
                    <a:pt x="1653" y="350"/>
                  </a:lnTo>
                  <a:lnTo>
                    <a:pt x="1653" y="361"/>
                  </a:lnTo>
                  <a:lnTo>
                    <a:pt x="1651" y="369"/>
                  </a:lnTo>
                  <a:lnTo>
                    <a:pt x="1651" y="375"/>
                  </a:lnTo>
                  <a:lnTo>
                    <a:pt x="1649" y="381"/>
                  </a:lnTo>
                  <a:lnTo>
                    <a:pt x="1647" y="387"/>
                  </a:lnTo>
                  <a:lnTo>
                    <a:pt x="1644" y="391"/>
                  </a:lnTo>
                  <a:lnTo>
                    <a:pt x="1626" y="410"/>
                  </a:lnTo>
                  <a:lnTo>
                    <a:pt x="1629" y="406"/>
                  </a:lnTo>
                  <a:lnTo>
                    <a:pt x="1630" y="399"/>
                  </a:lnTo>
                  <a:lnTo>
                    <a:pt x="1632" y="394"/>
                  </a:lnTo>
                  <a:lnTo>
                    <a:pt x="1632" y="385"/>
                  </a:lnTo>
                  <a:lnTo>
                    <a:pt x="1634" y="379"/>
                  </a:lnTo>
                  <a:lnTo>
                    <a:pt x="1634" y="369"/>
                  </a:lnTo>
                  <a:lnTo>
                    <a:pt x="1634" y="361"/>
                  </a:lnTo>
                  <a:lnTo>
                    <a:pt x="1632" y="354"/>
                  </a:lnTo>
                  <a:lnTo>
                    <a:pt x="1632" y="346"/>
                  </a:lnTo>
                  <a:lnTo>
                    <a:pt x="1630" y="340"/>
                  </a:lnTo>
                  <a:lnTo>
                    <a:pt x="1629" y="333"/>
                  </a:lnTo>
                  <a:lnTo>
                    <a:pt x="1626" y="330"/>
                  </a:lnTo>
                  <a:lnTo>
                    <a:pt x="1623" y="326"/>
                  </a:lnTo>
                  <a:lnTo>
                    <a:pt x="1622" y="326"/>
                  </a:lnTo>
                  <a:lnTo>
                    <a:pt x="1556" y="326"/>
                  </a:lnTo>
                  <a:lnTo>
                    <a:pt x="1555" y="326"/>
                  </a:lnTo>
                  <a:lnTo>
                    <a:pt x="1556" y="326"/>
                  </a:lnTo>
                  <a:lnTo>
                    <a:pt x="1563" y="321"/>
                  </a:lnTo>
                  <a:lnTo>
                    <a:pt x="1573" y="315"/>
                  </a:lnTo>
                  <a:lnTo>
                    <a:pt x="1587" y="307"/>
                  </a:lnTo>
                  <a:lnTo>
                    <a:pt x="1601" y="293"/>
                  </a:lnTo>
                  <a:lnTo>
                    <a:pt x="1618" y="282"/>
                  </a:lnTo>
                  <a:lnTo>
                    <a:pt x="1634" y="267"/>
                  </a:lnTo>
                  <a:lnTo>
                    <a:pt x="1653" y="252"/>
                  </a:lnTo>
                  <a:lnTo>
                    <a:pt x="1672" y="235"/>
                  </a:lnTo>
                  <a:lnTo>
                    <a:pt x="1670" y="238"/>
                  </a:lnTo>
                  <a:lnTo>
                    <a:pt x="1689" y="221"/>
                  </a:lnTo>
                  <a:lnTo>
                    <a:pt x="1706" y="204"/>
                  </a:lnTo>
                  <a:lnTo>
                    <a:pt x="1720" y="188"/>
                  </a:lnTo>
                  <a:lnTo>
                    <a:pt x="1732" y="169"/>
                  </a:lnTo>
                  <a:lnTo>
                    <a:pt x="1731" y="173"/>
                  </a:lnTo>
                  <a:lnTo>
                    <a:pt x="1741" y="159"/>
                  </a:lnTo>
                  <a:lnTo>
                    <a:pt x="1748" y="144"/>
                  </a:lnTo>
                  <a:lnTo>
                    <a:pt x="1748" y="149"/>
                  </a:lnTo>
                  <a:lnTo>
                    <a:pt x="1745" y="155"/>
                  </a:lnTo>
                  <a:lnTo>
                    <a:pt x="1748" y="142"/>
                  </a:lnTo>
                  <a:lnTo>
                    <a:pt x="1748" y="149"/>
                  </a:lnTo>
                  <a:lnTo>
                    <a:pt x="1745" y="156"/>
                  </a:lnTo>
                  <a:lnTo>
                    <a:pt x="1745" y="164"/>
                  </a:lnTo>
                  <a:lnTo>
                    <a:pt x="1745" y="175"/>
                  </a:lnTo>
                  <a:lnTo>
                    <a:pt x="1743" y="163"/>
                  </a:lnTo>
                  <a:lnTo>
                    <a:pt x="1745" y="169"/>
                  </a:lnTo>
                  <a:lnTo>
                    <a:pt x="1748" y="177"/>
                  </a:lnTo>
                  <a:lnTo>
                    <a:pt x="1748" y="184"/>
                  </a:lnTo>
                  <a:lnTo>
                    <a:pt x="1749" y="189"/>
                  </a:lnTo>
                  <a:lnTo>
                    <a:pt x="1743" y="179"/>
                  </a:lnTo>
                  <a:lnTo>
                    <a:pt x="1748" y="181"/>
                  </a:lnTo>
                  <a:lnTo>
                    <a:pt x="1739" y="171"/>
                  </a:lnTo>
                  <a:lnTo>
                    <a:pt x="1741" y="173"/>
                  </a:lnTo>
                  <a:lnTo>
                    <a:pt x="1731" y="164"/>
                  </a:lnTo>
                  <a:lnTo>
                    <a:pt x="1718" y="155"/>
                  </a:lnTo>
                  <a:lnTo>
                    <a:pt x="1703" y="146"/>
                  </a:lnTo>
                  <a:lnTo>
                    <a:pt x="1686" y="138"/>
                  </a:lnTo>
                  <a:lnTo>
                    <a:pt x="1670" y="131"/>
                  </a:lnTo>
                  <a:lnTo>
                    <a:pt x="1653" y="126"/>
                  </a:lnTo>
                  <a:lnTo>
                    <a:pt x="1657" y="126"/>
                  </a:lnTo>
                  <a:lnTo>
                    <a:pt x="1640" y="120"/>
                  </a:lnTo>
                  <a:lnTo>
                    <a:pt x="1626" y="116"/>
                  </a:lnTo>
                  <a:lnTo>
                    <a:pt x="1613" y="113"/>
                  </a:lnTo>
                  <a:lnTo>
                    <a:pt x="1601" y="109"/>
                  </a:lnTo>
                  <a:lnTo>
                    <a:pt x="1592" y="106"/>
                  </a:lnTo>
                  <a:lnTo>
                    <a:pt x="1588" y="106"/>
                  </a:lnTo>
                  <a:lnTo>
                    <a:pt x="1651" y="106"/>
                  </a:lnTo>
                  <a:lnTo>
                    <a:pt x="1647" y="106"/>
                  </a:lnTo>
                  <a:lnTo>
                    <a:pt x="1584" y="106"/>
                  </a:lnTo>
                  <a:lnTo>
                    <a:pt x="1580" y="105"/>
                  </a:lnTo>
                  <a:lnTo>
                    <a:pt x="1577" y="102"/>
                  </a:lnTo>
                  <a:lnTo>
                    <a:pt x="1581" y="105"/>
                  </a:lnTo>
                  <a:lnTo>
                    <a:pt x="1644" y="105"/>
                  </a:lnTo>
                  <a:lnTo>
                    <a:pt x="1640" y="105"/>
                  </a:lnTo>
                  <a:lnTo>
                    <a:pt x="1577" y="105"/>
                  </a:lnTo>
                  <a:lnTo>
                    <a:pt x="1573" y="102"/>
                  </a:lnTo>
                  <a:lnTo>
                    <a:pt x="1567" y="102"/>
                  </a:lnTo>
                  <a:lnTo>
                    <a:pt x="1556" y="101"/>
                  </a:lnTo>
                  <a:lnTo>
                    <a:pt x="1549" y="98"/>
                  </a:lnTo>
                  <a:lnTo>
                    <a:pt x="1541" y="95"/>
                  </a:lnTo>
                  <a:lnTo>
                    <a:pt x="1528" y="94"/>
                  </a:lnTo>
                  <a:lnTo>
                    <a:pt x="1514" y="94"/>
                  </a:lnTo>
                  <a:lnTo>
                    <a:pt x="1503" y="91"/>
                  </a:lnTo>
                  <a:lnTo>
                    <a:pt x="1488" y="91"/>
                  </a:lnTo>
                  <a:lnTo>
                    <a:pt x="1474" y="87"/>
                  </a:lnTo>
                  <a:lnTo>
                    <a:pt x="1535" y="87"/>
                  </a:lnTo>
                  <a:lnTo>
                    <a:pt x="1521" y="87"/>
                  </a:lnTo>
                  <a:lnTo>
                    <a:pt x="1458" y="87"/>
                  </a:lnTo>
                  <a:lnTo>
                    <a:pt x="1442" y="87"/>
                  </a:lnTo>
                  <a:lnTo>
                    <a:pt x="1427" y="86"/>
                  </a:lnTo>
                  <a:lnTo>
                    <a:pt x="1488" y="86"/>
                  </a:lnTo>
                  <a:lnTo>
                    <a:pt x="1471" y="86"/>
                  </a:lnTo>
                  <a:lnTo>
                    <a:pt x="1453" y="86"/>
                  </a:lnTo>
                  <a:lnTo>
                    <a:pt x="1433" y="87"/>
                  </a:lnTo>
                  <a:lnTo>
                    <a:pt x="1419" y="87"/>
                  </a:lnTo>
                  <a:lnTo>
                    <a:pt x="1400" y="90"/>
                  </a:lnTo>
                  <a:lnTo>
                    <a:pt x="1381" y="91"/>
                  </a:lnTo>
                  <a:lnTo>
                    <a:pt x="1362" y="94"/>
                  </a:lnTo>
                  <a:lnTo>
                    <a:pt x="1344" y="95"/>
                  </a:lnTo>
                  <a:lnTo>
                    <a:pt x="1324" y="102"/>
                  </a:lnTo>
                  <a:lnTo>
                    <a:pt x="1306" y="106"/>
                  </a:lnTo>
                  <a:lnTo>
                    <a:pt x="1286" y="110"/>
                  </a:lnTo>
                  <a:lnTo>
                    <a:pt x="1271" y="116"/>
                  </a:lnTo>
                  <a:lnTo>
                    <a:pt x="1254" y="126"/>
                  </a:lnTo>
                  <a:lnTo>
                    <a:pt x="1256" y="123"/>
                  </a:lnTo>
                  <a:lnTo>
                    <a:pt x="1239" y="131"/>
                  </a:lnTo>
                  <a:lnTo>
                    <a:pt x="1222" y="142"/>
                  </a:lnTo>
                  <a:lnTo>
                    <a:pt x="1208" y="152"/>
                  </a:lnTo>
                  <a:lnTo>
                    <a:pt x="1209" y="149"/>
                  </a:lnTo>
                  <a:lnTo>
                    <a:pt x="1204" y="155"/>
                  </a:lnTo>
                  <a:lnTo>
                    <a:pt x="1201" y="159"/>
                  </a:lnTo>
                  <a:lnTo>
                    <a:pt x="1193" y="164"/>
                  </a:lnTo>
                  <a:lnTo>
                    <a:pt x="1184" y="169"/>
                  </a:lnTo>
                  <a:lnTo>
                    <a:pt x="1176" y="177"/>
                  </a:lnTo>
                  <a:lnTo>
                    <a:pt x="1168" y="184"/>
                  </a:lnTo>
                  <a:lnTo>
                    <a:pt x="1159" y="192"/>
                  </a:lnTo>
                  <a:lnTo>
                    <a:pt x="1149" y="198"/>
                  </a:lnTo>
                  <a:lnTo>
                    <a:pt x="1151" y="196"/>
                  </a:lnTo>
                  <a:lnTo>
                    <a:pt x="1142" y="204"/>
                  </a:lnTo>
                  <a:lnTo>
                    <a:pt x="1141" y="209"/>
                  </a:lnTo>
                  <a:lnTo>
                    <a:pt x="1130" y="217"/>
                  </a:lnTo>
                  <a:lnTo>
                    <a:pt x="1120" y="225"/>
                  </a:lnTo>
                  <a:lnTo>
                    <a:pt x="1111" y="233"/>
                  </a:lnTo>
                  <a:lnTo>
                    <a:pt x="1099" y="242"/>
                  </a:lnTo>
                  <a:lnTo>
                    <a:pt x="1100" y="239"/>
                  </a:lnTo>
                  <a:lnTo>
                    <a:pt x="1092" y="247"/>
                  </a:lnTo>
                  <a:lnTo>
                    <a:pt x="1088" y="252"/>
                  </a:lnTo>
                  <a:lnTo>
                    <a:pt x="1079" y="260"/>
                  </a:lnTo>
                  <a:lnTo>
                    <a:pt x="1067" y="268"/>
                  </a:lnTo>
                  <a:lnTo>
                    <a:pt x="1060" y="278"/>
                  </a:lnTo>
                  <a:lnTo>
                    <a:pt x="1049" y="287"/>
                  </a:lnTo>
                  <a:lnTo>
                    <a:pt x="1050" y="283"/>
                  </a:lnTo>
                  <a:lnTo>
                    <a:pt x="1040" y="293"/>
                  </a:lnTo>
                  <a:lnTo>
                    <a:pt x="1039" y="296"/>
                  </a:lnTo>
                  <a:lnTo>
                    <a:pt x="1028" y="304"/>
                  </a:lnTo>
                  <a:lnTo>
                    <a:pt x="1018" y="312"/>
                  </a:lnTo>
                  <a:lnTo>
                    <a:pt x="1008" y="321"/>
                  </a:lnTo>
                  <a:lnTo>
                    <a:pt x="1011" y="319"/>
                  </a:lnTo>
                  <a:lnTo>
                    <a:pt x="1002" y="326"/>
                  </a:lnTo>
                  <a:lnTo>
                    <a:pt x="1001" y="330"/>
                  </a:lnTo>
                  <a:lnTo>
                    <a:pt x="990" y="337"/>
                  </a:lnTo>
                  <a:lnTo>
                    <a:pt x="994" y="336"/>
                  </a:lnTo>
                  <a:lnTo>
                    <a:pt x="984" y="344"/>
                  </a:lnTo>
                  <a:lnTo>
                    <a:pt x="977" y="350"/>
                  </a:lnTo>
                  <a:lnTo>
                    <a:pt x="969" y="358"/>
                  </a:lnTo>
                  <a:lnTo>
                    <a:pt x="967" y="361"/>
                  </a:lnTo>
                  <a:lnTo>
                    <a:pt x="959" y="366"/>
                  </a:lnTo>
                  <a:lnTo>
                    <a:pt x="963" y="365"/>
                  </a:lnTo>
                  <a:lnTo>
                    <a:pt x="956" y="370"/>
                  </a:lnTo>
                  <a:lnTo>
                    <a:pt x="951" y="377"/>
                  </a:lnTo>
                  <a:lnTo>
                    <a:pt x="944" y="383"/>
                  </a:lnTo>
                  <a:lnTo>
                    <a:pt x="940" y="385"/>
                  </a:lnTo>
                  <a:lnTo>
                    <a:pt x="938" y="391"/>
                  </a:lnTo>
                  <a:lnTo>
                    <a:pt x="923" y="406"/>
                  </a:lnTo>
                  <a:lnTo>
                    <a:pt x="910" y="420"/>
                  </a:lnTo>
                  <a:lnTo>
                    <a:pt x="898" y="435"/>
                  </a:lnTo>
                  <a:lnTo>
                    <a:pt x="885" y="449"/>
                  </a:lnTo>
                  <a:lnTo>
                    <a:pt x="872" y="464"/>
                  </a:lnTo>
                  <a:lnTo>
                    <a:pt x="863" y="477"/>
                  </a:lnTo>
                  <a:lnTo>
                    <a:pt x="850" y="489"/>
                  </a:lnTo>
                  <a:lnTo>
                    <a:pt x="839" y="502"/>
                  </a:lnTo>
                  <a:lnTo>
                    <a:pt x="829" y="514"/>
                  </a:lnTo>
                  <a:lnTo>
                    <a:pt x="816" y="524"/>
                  </a:lnTo>
                  <a:lnTo>
                    <a:pt x="808" y="535"/>
                  </a:lnTo>
                  <a:lnTo>
                    <a:pt x="797" y="546"/>
                  </a:lnTo>
                  <a:lnTo>
                    <a:pt x="795" y="547"/>
                  </a:lnTo>
                  <a:lnTo>
                    <a:pt x="783" y="558"/>
                  </a:lnTo>
                  <a:lnTo>
                    <a:pt x="773" y="567"/>
                  </a:lnTo>
                  <a:lnTo>
                    <a:pt x="763" y="575"/>
                  </a:lnTo>
                  <a:lnTo>
                    <a:pt x="754" y="581"/>
                  </a:lnTo>
                  <a:lnTo>
                    <a:pt x="744" y="589"/>
                  </a:lnTo>
                  <a:lnTo>
                    <a:pt x="733" y="596"/>
                  </a:lnTo>
                  <a:lnTo>
                    <a:pt x="723" y="601"/>
                  </a:lnTo>
                  <a:lnTo>
                    <a:pt x="720" y="601"/>
                  </a:lnTo>
                  <a:lnTo>
                    <a:pt x="707" y="608"/>
                  </a:lnTo>
                  <a:lnTo>
                    <a:pt x="699" y="610"/>
                  </a:lnTo>
                  <a:lnTo>
                    <a:pt x="686" y="614"/>
                  </a:lnTo>
                  <a:lnTo>
                    <a:pt x="676" y="616"/>
                  </a:lnTo>
                  <a:lnTo>
                    <a:pt x="665" y="620"/>
                  </a:lnTo>
                  <a:lnTo>
                    <a:pt x="653" y="620"/>
                  </a:lnTo>
                  <a:lnTo>
                    <a:pt x="640" y="620"/>
                  </a:lnTo>
                  <a:lnTo>
                    <a:pt x="577" y="620"/>
                  </a:lnTo>
                  <a:lnTo>
                    <a:pt x="565" y="620"/>
                  </a:lnTo>
                  <a:lnTo>
                    <a:pt x="552" y="618"/>
                  </a:lnTo>
                  <a:lnTo>
                    <a:pt x="541" y="616"/>
                  </a:lnTo>
                  <a:lnTo>
                    <a:pt x="526" y="612"/>
                  </a:lnTo>
                  <a:lnTo>
                    <a:pt x="513" y="608"/>
                  </a:lnTo>
                  <a:lnTo>
                    <a:pt x="499" y="604"/>
                  </a:lnTo>
                  <a:lnTo>
                    <a:pt x="495" y="601"/>
                  </a:lnTo>
                  <a:lnTo>
                    <a:pt x="271" y="513"/>
                  </a:lnTo>
                  <a:lnTo>
                    <a:pt x="274" y="514"/>
                  </a:lnTo>
                  <a:lnTo>
                    <a:pt x="335" y="514"/>
                  </a:lnTo>
                  <a:lnTo>
                    <a:pt x="333" y="514"/>
                  </a:lnTo>
                  <a:lnTo>
                    <a:pt x="324" y="517"/>
                  </a:lnTo>
                  <a:lnTo>
                    <a:pt x="309" y="521"/>
                  </a:lnTo>
                  <a:lnTo>
                    <a:pt x="289" y="522"/>
                  </a:lnTo>
                  <a:lnTo>
                    <a:pt x="268" y="528"/>
                  </a:lnTo>
                  <a:lnTo>
                    <a:pt x="243" y="532"/>
                  </a:lnTo>
                  <a:lnTo>
                    <a:pt x="218" y="539"/>
                  </a:lnTo>
                  <a:lnTo>
                    <a:pt x="193" y="546"/>
                  </a:lnTo>
                  <a:lnTo>
                    <a:pt x="168" y="551"/>
                  </a:lnTo>
                  <a:lnTo>
                    <a:pt x="147" y="558"/>
                  </a:lnTo>
                  <a:lnTo>
                    <a:pt x="128" y="564"/>
                  </a:lnTo>
                  <a:lnTo>
                    <a:pt x="112" y="571"/>
                  </a:lnTo>
                  <a:lnTo>
                    <a:pt x="113" y="571"/>
                  </a:lnTo>
                  <a:lnTo>
                    <a:pt x="103" y="575"/>
                  </a:lnTo>
                  <a:lnTo>
                    <a:pt x="105" y="572"/>
                  </a:lnTo>
                  <a:lnTo>
                    <a:pt x="101" y="579"/>
                  </a:lnTo>
                  <a:lnTo>
                    <a:pt x="103" y="575"/>
                  </a:lnTo>
                  <a:lnTo>
                    <a:pt x="103" y="571"/>
                  </a:lnTo>
                  <a:lnTo>
                    <a:pt x="105" y="564"/>
                  </a:lnTo>
                  <a:lnTo>
                    <a:pt x="107" y="556"/>
                  </a:lnTo>
                  <a:lnTo>
                    <a:pt x="107" y="550"/>
                  </a:lnTo>
                  <a:lnTo>
                    <a:pt x="107" y="539"/>
                  </a:lnTo>
                  <a:lnTo>
                    <a:pt x="107" y="531"/>
                  </a:lnTo>
                  <a:lnTo>
                    <a:pt x="107" y="522"/>
                  </a:lnTo>
                  <a:lnTo>
                    <a:pt x="105" y="517"/>
                  </a:lnTo>
                  <a:lnTo>
                    <a:pt x="103" y="510"/>
                  </a:lnTo>
                  <a:lnTo>
                    <a:pt x="103" y="503"/>
                  </a:lnTo>
                  <a:lnTo>
                    <a:pt x="103" y="507"/>
                  </a:lnTo>
                  <a:lnTo>
                    <a:pt x="101" y="506"/>
                  </a:lnTo>
                  <a:lnTo>
                    <a:pt x="99" y="502"/>
                  </a:lnTo>
                  <a:lnTo>
                    <a:pt x="109" y="506"/>
                  </a:lnTo>
                  <a:lnTo>
                    <a:pt x="107" y="506"/>
                  </a:lnTo>
                  <a:lnTo>
                    <a:pt x="42" y="506"/>
                  </a:lnTo>
                  <a:lnTo>
                    <a:pt x="45" y="506"/>
                  </a:lnTo>
                  <a:lnTo>
                    <a:pt x="107" y="506"/>
                  </a:lnTo>
                  <a:lnTo>
                    <a:pt x="109" y="506"/>
                  </a:lnTo>
                  <a:lnTo>
                    <a:pt x="116" y="507"/>
                  </a:lnTo>
                  <a:lnTo>
                    <a:pt x="122" y="510"/>
                  </a:lnTo>
                  <a:lnTo>
                    <a:pt x="133" y="513"/>
                  </a:lnTo>
                  <a:lnTo>
                    <a:pt x="141" y="517"/>
                  </a:lnTo>
                  <a:lnTo>
                    <a:pt x="153" y="522"/>
                  </a:lnTo>
                  <a:lnTo>
                    <a:pt x="163" y="528"/>
                  </a:lnTo>
                  <a:lnTo>
                    <a:pt x="174" y="535"/>
                  </a:lnTo>
                  <a:lnTo>
                    <a:pt x="187" y="543"/>
                  </a:lnTo>
                  <a:lnTo>
                    <a:pt x="189" y="546"/>
                  </a:lnTo>
                  <a:lnTo>
                    <a:pt x="197" y="556"/>
                  </a:lnTo>
                  <a:lnTo>
                    <a:pt x="200" y="558"/>
                  </a:lnTo>
                  <a:lnTo>
                    <a:pt x="205" y="571"/>
                  </a:lnTo>
                  <a:lnTo>
                    <a:pt x="212" y="581"/>
                  </a:lnTo>
                  <a:lnTo>
                    <a:pt x="212" y="587"/>
                  </a:lnTo>
                  <a:lnTo>
                    <a:pt x="214" y="593"/>
                  </a:lnTo>
                  <a:lnTo>
                    <a:pt x="215" y="601"/>
                  </a:lnTo>
                  <a:lnTo>
                    <a:pt x="215" y="608"/>
                  </a:lnTo>
                  <a:lnTo>
                    <a:pt x="218" y="622"/>
                  </a:lnTo>
                  <a:lnTo>
                    <a:pt x="218" y="630"/>
                  </a:lnTo>
                  <a:lnTo>
                    <a:pt x="218" y="639"/>
                  </a:lnTo>
                  <a:lnTo>
                    <a:pt x="215" y="654"/>
                  </a:lnTo>
                  <a:lnTo>
                    <a:pt x="215" y="662"/>
                  </a:lnTo>
                  <a:lnTo>
                    <a:pt x="214" y="668"/>
                  </a:lnTo>
                  <a:lnTo>
                    <a:pt x="212" y="674"/>
                  </a:lnTo>
                  <a:lnTo>
                    <a:pt x="212" y="680"/>
                  </a:lnTo>
                  <a:lnTo>
                    <a:pt x="205" y="697"/>
                  </a:lnTo>
                  <a:lnTo>
                    <a:pt x="193" y="716"/>
                  </a:lnTo>
                  <a:lnTo>
                    <a:pt x="88" y="897"/>
                  </a:lnTo>
                  <a:lnTo>
                    <a:pt x="88" y="890"/>
                  </a:lnTo>
                  <a:lnTo>
                    <a:pt x="91" y="885"/>
                  </a:lnTo>
                  <a:lnTo>
                    <a:pt x="88" y="897"/>
                  </a:lnTo>
                  <a:lnTo>
                    <a:pt x="88" y="890"/>
                  </a:lnTo>
                  <a:lnTo>
                    <a:pt x="91" y="882"/>
                  </a:lnTo>
                  <a:lnTo>
                    <a:pt x="91" y="874"/>
                  </a:lnTo>
                  <a:lnTo>
                    <a:pt x="91" y="864"/>
                  </a:lnTo>
                  <a:lnTo>
                    <a:pt x="88" y="857"/>
                  </a:lnTo>
                  <a:lnTo>
                    <a:pt x="88" y="849"/>
                  </a:lnTo>
                  <a:lnTo>
                    <a:pt x="86" y="845"/>
                  </a:lnTo>
                  <a:lnTo>
                    <a:pt x="84" y="839"/>
                  </a:lnTo>
                  <a:lnTo>
                    <a:pt x="88" y="849"/>
                  </a:lnTo>
                  <a:lnTo>
                    <a:pt x="84" y="847"/>
                  </a:lnTo>
                  <a:lnTo>
                    <a:pt x="92" y="855"/>
                  </a:lnTo>
                  <a:lnTo>
                    <a:pt x="91" y="853"/>
                  </a:lnTo>
                  <a:lnTo>
                    <a:pt x="103" y="861"/>
                  </a:lnTo>
                  <a:lnTo>
                    <a:pt x="117" y="870"/>
                  </a:lnTo>
                  <a:lnTo>
                    <a:pt x="137" y="878"/>
                  </a:lnTo>
                  <a:lnTo>
                    <a:pt x="158" y="885"/>
                  </a:lnTo>
                  <a:lnTo>
                    <a:pt x="179" y="890"/>
                  </a:lnTo>
                  <a:lnTo>
                    <a:pt x="200" y="894"/>
                  </a:lnTo>
                  <a:lnTo>
                    <a:pt x="222" y="899"/>
                  </a:lnTo>
                  <a:lnTo>
                    <a:pt x="242" y="903"/>
                  </a:lnTo>
                  <a:lnTo>
                    <a:pt x="257" y="905"/>
                  </a:lnTo>
                  <a:lnTo>
                    <a:pt x="274" y="905"/>
                  </a:lnTo>
                  <a:lnTo>
                    <a:pt x="288" y="907"/>
                  </a:lnTo>
                  <a:lnTo>
                    <a:pt x="295" y="907"/>
                  </a:lnTo>
                  <a:lnTo>
                    <a:pt x="293" y="907"/>
                  </a:lnTo>
                  <a:lnTo>
                    <a:pt x="229" y="907"/>
                  </a:lnTo>
                  <a:lnTo>
                    <a:pt x="231" y="907"/>
                  </a:lnTo>
                  <a:lnTo>
                    <a:pt x="468" y="831"/>
                  </a:lnTo>
                  <a:lnTo>
                    <a:pt x="482" y="826"/>
                  </a:lnTo>
                  <a:lnTo>
                    <a:pt x="495" y="822"/>
                  </a:lnTo>
                  <a:lnTo>
                    <a:pt x="506" y="820"/>
                  </a:lnTo>
                  <a:lnTo>
                    <a:pt x="520" y="818"/>
                  </a:lnTo>
                  <a:lnTo>
                    <a:pt x="531" y="818"/>
                  </a:lnTo>
                  <a:lnTo>
                    <a:pt x="597" y="818"/>
                  </a:lnTo>
                  <a:lnTo>
                    <a:pt x="598" y="818"/>
                  </a:lnTo>
                  <a:lnTo>
                    <a:pt x="609" y="820"/>
                  </a:lnTo>
                  <a:lnTo>
                    <a:pt x="622" y="820"/>
                  </a:lnTo>
                  <a:lnTo>
                    <a:pt x="632" y="822"/>
                  </a:lnTo>
                  <a:lnTo>
                    <a:pt x="645" y="826"/>
                  </a:lnTo>
                  <a:lnTo>
                    <a:pt x="656" y="831"/>
                  </a:lnTo>
                  <a:lnTo>
                    <a:pt x="665" y="832"/>
                  </a:lnTo>
                  <a:lnTo>
                    <a:pt x="676" y="839"/>
                  </a:lnTo>
                  <a:lnTo>
                    <a:pt x="689" y="845"/>
                  </a:lnTo>
                  <a:lnTo>
                    <a:pt x="699" y="851"/>
                  </a:lnTo>
                  <a:lnTo>
                    <a:pt x="710" y="857"/>
                  </a:lnTo>
                  <a:lnTo>
                    <a:pt x="720" y="865"/>
                  </a:lnTo>
                  <a:lnTo>
                    <a:pt x="731" y="874"/>
                  </a:lnTo>
                  <a:lnTo>
                    <a:pt x="741" y="882"/>
                  </a:lnTo>
                  <a:lnTo>
                    <a:pt x="752" y="893"/>
                  </a:lnTo>
                  <a:lnTo>
                    <a:pt x="762" y="903"/>
                  </a:lnTo>
                  <a:lnTo>
                    <a:pt x="773" y="914"/>
                  </a:lnTo>
                  <a:lnTo>
                    <a:pt x="776" y="915"/>
                  </a:lnTo>
                  <a:lnTo>
                    <a:pt x="784" y="926"/>
                  </a:lnTo>
                  <a:lnTo>
                    <a:pt x="783" y="923"/>
                  </a:lnTo>
                  <a:lnTo>
                    <a:pt x="795" y="934"/>
                  </a:lnTo>
                  <a:lnTo>
                    <a:pt x="797" y="936"/>
                  </a:lnTo>
                  <a:lnTo>
                    <a:pt x="808" y="948"/>
                  </a:lnTo>
                  <a:lnTo>
                    <a:pt x="818" y="963"/>
                  </a:lnTo>
                  <a:lnTo>
                    <a:pt x="829" y="976"/>
                  </a:lnTo>
                  <a:lnTo>
                    <a:pt x="842" y="988"/>
                  </a:lnTo>
                  <a:lnTo>
                    <a:pt x="853" y="1001"/>
                  </a:lnTo>
                  <a:lnTo>
                    <a:pt x="863" y="1016"/>
                  </a:lnTo>
                  <a:lnTo>
                    <a:pt x="875" y="1030"/>
                  </a:lnTo>
                  <a:lnTo>
                    <a:pt x="888" y="1045"/>
                  </a:lnTo>
                  <a:lnTo>
                    <a:pt x="898" y="1059"/>
                  </a:lnTo>
                  <a:lnTo>
                    <a:pt x="900" y="1063"/>
                  </a:lnTo>
                  <a:lnTo>
                    <a:pt x="904" y="1070"/>
                  </a:lnTo>
                  <a:lnTo>
                    <a:pt x="902" y="1066"/>
                  </a:lnTo>
                  <a:lnTo>
                    <a:pt x="906" y="1071"/>
                  </a:lnTo>
                  <a:lnTo>
                    <a:pt x="913" y="1078"/>
                  </a:lnTo>
                  <a:lnTo>
                    <a:pt x="917" y="1084"/>
                  </a:lnTo>
                  <a:lnTo>
                    <a:pt x="914" y="1082"/>
                  </a:lnTo>
                  <a:lnTo>
                    <a:pt x="921" y="1088"/>
                  </a:lnTo>
                  <a:lnTo>
                    <a:pt x="923" y="1091"/>
                  </a:lnTo>
                  <a:lnTo>
                    <a:pt x="930" y="1099"/>
                  </a:lnTo>
                  <a:lnTo>
                    <a:pt x="935" y="1107"/>
                  </a:lnTo>
                  <a:lnTo>
                    <a:pt x="942" y="1113"/>
                  </a:lnTo>
                  <a:lnTo>
                    <a:pt x="948" y="1121"/>
                  </a:lnTo>
                  <a:lnTo>
                    <a:pt x="946" y="1120"/>
                  </a:lnTo>
                  <a:lnTo>
                    <a:pt x="952" y="1128"/>
                  </a:lnTo>
                  <a:lnTo>
                    <a:pt x="956" y="1129"/>
                  </a:lnTo>
                  <a:lnTo>
                    <a:pt x="963" y="1138"/>
                  </a:lnTo>
                  <a:lnTo>
                    <a:pt x="970" y="1146"/>
                  </a:lnTo>
                  <a:lnTo>
                    <a:pt x="977" y="1154"/>
                  </a:lnTo>
                  <a:lnTo>
                    <a:pt x="976" y="1153"/>
                  </a:lnTo>
                  <a:lnTo>
                    <a:pt x="984" y="1161"/>
                  </a:lnTo>
                  <a:lnTo>
                    <a:pt x="988" y="1164"/>
                  </a:lnTo>
                  <a:lnTo>
                    <a:pt x="994" y="1174"/>
                  </a:lnTo>
                  <a:lnTo>
                    <a:pt x="991" y="1171"/>
                  </a:lnTo>
                  <a:lnTo>
                    <a:pt x="1001" y="1179"/>
                  </a:lnTo>
                  <a:lnTo>
                    <a:pt x="1008" y="1189"/>
                  </a:lnTo>
                  <a:lnTo>
                    <a:pt x="1011" y="1190"/>
                  </a:lnTo>
                  <a:lnTo>
                    <a:pt x="1019" y="1198"/>
                  </a:lnTo>
                  <a:lnTo>
                    <a:pt x="1028" y="1208"/>
                  </a:lnTo>
                  <a:lnTo>
                    <a:pt x="1026" y="1207"/>
                  </a:lnTo>
                  <a:lnTo>
                    <a:pt x="1033" y="1215"/>
                  </a:lnTo>
                  <a:lnTo>
                    <a:pt x="1043" y="1223"/>
                  </a:lnTo>
                  <a:lnTo>
                    <a:pt x="1053" y="1232"/>
                  </a:lnTo>
                  <a:lnTo>
                    <a:pt x="1061" y="1240"/>
                  </a:lnTo>
                  <a:lnTo>
                    <a:pt x="1071" y="1248"/>
                  </a:lnTo>
                  <a:lnTo>
                    <a:pt x="1079" y="1257"/>
                  </a:lnTo>
                  <a:lnTo>
                    <a:pt x="1088" y="1265"/>
                  </a:lnTo>
                  <a:lnTo>
                    <a:pt x="1096" y="1273"/>
                  </a:lnTo>
                  <a:lnTo>
                    <a:pt x="1105" y="1281"/>
                  </a:lnTo>
                  <a:lnTo>
                    <a:pt x="1113" y="1288"/>
                  </a:lnTo>
                  <a:lnTo>
                    <a:pt x="1124" y="1296"/>
                  </a:lnTo>
                  <a:lnTo>
                    <a:pt x="1132" y="1302"/>
                  </a:lnTo>
                  <a:lnTo>
                    <a:pt x="1141" y="1311"/>
                  </a:lnTo>
                  <a:lnTo>
                    <a:pt x="1158" y="1321"/>
                  </a:lnTo>
                  <a:lnTo>
                    <a:pt x="1176" y="1331"/>
                  </a:lnTo>
                  <a:lnTo>
                    <a:pt x="1193" y="1341"/>
                  </a:lnTo>
                  <a:lnTo>
                    <a:pt x="1209" y="1348"/>
                  </a:lnTo>
                  <a:lnTo>
                    <a:pt x="1229" y="1356"/>
                  </a:lnTo>
                  <a:lnTo>
                    <a:pt x="1246" y="1364"/>
                  </a:lnTo>
                  <a:lnTo>
                    <a:pt x="1264" y="1371"/>
                  </a:lnTo>
                  <a:lnTo>
                    <a:pt x="1281" y="1377"/>
                  </a:lnTo>
                  <a:lnTo>
                    <a:pt x="1299" y="1381"/>
                  </a:lnTo>
                  <a:lnTo>
                    <a:pt x="1317" y="1385"/>
                  </a:lnTo>
                  <a:lnTo>
                    <a:pt x="1335" y="1389"/>
                  </a:lnTo>
                  <a:lnTo>
                    <a:pt x="1349" y="1392"/>
                  </a:lnTo>
                  <a:lnTo>
                    <a:pt x="1366" y="1396"/>
                  </a:lnTo>
                  <a:lnTo>
                    <a:pt x="1383" y="1399"/>
                  </a:lnTo>
                  <a:lnTo>
                    <a:pt x="1400" y="1400"/>
                  </a:lnTo>
                  <a:lnTo>
                    <a:pt x="1415" y="1403"/>
                  </a:lnTo>
                  <a:lnTo>
                    <a:pt x="1427" y="1403"/>
                  </a:lnTo>
                  <a:lnTo>
                    <a:pt x="1444" y="1404"/>
                  </a:lnTo>
                  <a:lnTo>
                    <a:pt x="1440" y="1404"/>
                  </a:lnTo>
                  <a:lnTo>
                    <a:pt x="1377" y="1403"/>
                  </a:lnTo>
                  <a:lnTo>
                    <a:pt x="1390" y="1403"/>
                  </a:lnTo>
                  <a:lnTo>
                    <a:pt x="1404" y="1403"/>
                  </a:lnTo>
                  <a:lnTo>
                    <a:pt x="1467" y="1404"/>
                  </a:lnTo>
                  <a:lnTo>
                    <a:pt x="1469" y="1404"/>
                  </a:lnTo>
                  <a:lnTo>
                    <a:pt x="1482" y="1404"/>
                  </a:lnTo>
                  <a:lnTo>
                    <a:pt x="1479" y="1404"/>
                  </a:lnTo>
                  <a:lnTo>
                    <a:pt x="1416" y="1404"/>
                  </a:lnTo>
                  <a:lnTo>
                    <a:pt x="1427" y="1403"/>
                  </a:lnTo>
                  <a:lnTo>
                    <a:pt x="1437" y="1403"/>
                  </a:lnTo>
                  <a:lnTo>
                    <a:pt x="1446" y="1403"/>
                  </a:lnTo>
                  <a:lnTo>
                    <a:pt x="1457" y="1403"/>
                  </a:lnTo>
                  <a:lnTo>
                    <a:pt x="1463" y="1403"/>
                  </a:lnTo>
                  <a:lnTo>
                    <a:pt x="1469" y="1400"/>
                  </a:lnTo>
                  <a:lnTo>
                    <a:pt x="1475" y="1400"/>
                  </a:lnTo>
                  <a:lnTo>
                    <a:pt x="1479" y="1400"/>
                  </a:lnTo>
                  <a:lnTo>
                    <a:pt x="1483" y="1399"/>
                  </a:lnTo>
                  <a:lnTo>
                    <a:pt x="1486" y="1399"/>
                  </a:lnTo>
                  <a:lnTo>
                    <a:pt x="1483" y="1400"/>
                  </a:lnTo>
                  <a:lnTo>
                    <a:pt x="1479" y="1403"/>
                  </a:lnTo>
                  <a:lnTo>
                    <a:pt x="1478" y="1407"/>
                  </a:lnTo>
                  <a:lnTo>
                    <a:pt x="1478" y="1413"/>
                  </a:lnTo>
                  <a:lnTo>
                    <a:pt x="1475" y="1418"/>
                  </a:lnTo>
                  <a:lnTo>
                    <a:pt x="1474" y="1425"/>
                  </a:lnTo>
                  <a:lnTo>
                    <a:pt x="1474" y="1433"/>
                  </a:lnTo>
                  <a:lnTo>
                    <a:pt x="1474" y="1442"/>
                  </a:lnTo>
                  <a:lnTo>
                    <a:pt x="1474" y="1450"/>
                  </a:lnTo>
                  <a:lnTo>
                    <a:pt x="1474" y="1458"/>
                  </a:lnTo>
                  <a:lnTo>
                    <a:pt x="1475" y="1465"/>
                  </a:lnTo>
                  <a:lnTo>
                    <a:pt x="1478" y="1471"/>
                  </a:lnTo>
                  <a:lnTo>
                    <a:pt x="1478" y="1478"/>
                  </a:lnTo>
                  <a:lnTo>
                    <a:pt x="1479" y="1482"/>
                  </a:lnTo>
                  <a:lnTo>
                    <a:pt x="1463" y="1463"/>
                  </a:lnTo>
                  <a:lnTo>
                    <a:pt x="1461" y="1461"/>
                  </a:lnTo>
                  <a:lnTo>
                    <a:pt x="1458" y="1454"/>
                  </a:lnTo>
                  <a:lnTo>
                    <a:pt x="1458" y="1447"/>
                  </a:lnTo>
                  <a:lnTo>
                    <a:pt x="1457" y="1440"/>
                  </a:lnTo>
                  <a:lnTo>
                    <a:pt x="1457" y="1433"/>
                  </a:lnTo>
                  <a:lnTo>
                    <a:pt x="1457" y="1424"/>
                  </a:lnTo>
                  <a:lnTo>
                    <a:pt x="1457" y="1414"/>
                  </a:lnTo>
                  <a:lnTo>
                    <a:pt x="1457" y="1407"/>
                  </a:lnTo>
                  <a:lnTo>
                    <a:pt x="1458" y="1400"/>
                  </a:lnTo>
                  <a:lnTo>
                    <a:pt x="1458" y="1395"/>
                  </a:lnTo>
                  <a:lnTo>
                    <a:pt x="1461" y="1388"/>
                  </a:lnTo>
                  <a:lnTo>
                    <a:pt x="1463" y="1384"/>
                  </a:lnTo>
                  <a:lnTo>
                    <a:pt x="1465" y="1381"/>
                  </a:lnTo>
                  <a:lnTo>
                    <a:pt x="1467" y="1381"/>
                  </a:lnTo>
                  <a:lnTo>
                    <a:pt x="1471" y="1381"/>
                  </a:lnTo>
                  <a:lnTo>
                    <a:pt x="1475" y="1380"/>
                  </a:lnTo>
                  <a:lnTo>
                    <a:pt x="1486" y="1377"/>
                  </a:lnTo>
                  <a:lnTo>
                    <a:pt x="1496" y="1375"/>
                  </a:lnTo>
                  <a:lnTo>
                    <a:pt x="1511" y="1374"/>
                  </a:lnTo>
                  <a:lnTo>
                    <a:pt x="1528" y="1367"/>
                  </a:lnTo>
                  <a:lnTo>
                    <a:pt x="1545" y="1363"/>
                  </a:lnTo>
                  <a:lnTo>
                    <a:pt x="1562" y="1356"/>
                  </a:lnTo>
                  <a:lnTo>
                    <a:pt x="1580" y="1350"/>
                  </a:lnTo>
                  <a:lnTo>
                    <a:pt x="1597" y="1342"/>
                  </a:lnTo>
                  <a:lnTo>
                    <a:pt x="1594" y="1344"/>
                  </a:lnTo>
                  <a:lnTo>
                    <a:pt x="1611" y="1335"/>
                  </a:lnTo>
                  <a:lnTo>
                    <a:pt x="1626" y="1326"/>
                  </a:lnTo>
                  <a:lnTo>
                    <a:pt x="1639" y="1315"/>
                  </a:lnTo>
                  <a:lnTo>
                    <a:pt x="1634" y="1317"/>
                  </a:lnTo>
                  <a:lnTo>
                    <a:pt x="1647" y="1305"/>
                  </a:lnTo>
                  <a:lnTo>
                    <a:pt x="1644" y="1309"/>
                  </a:lnTo>
                  <a:lnTo>
                    <a:pt x="1651" y="1296"/>
                  </a:lnTo>
                  <a:lnTo>
                    <a:pt x="1655" y="1281"/>
                  </a:lnTo>
                  <a:lnTo>
                    <a:pt x="1653" y="1288"/>
                  </a:lnTo>
                  <a:lnTo>
                    <a:pt x="1653" y="1294"/>
                  </a:lnTo>
                  <a:lnTo>
                    <a:pt x="1651" y="1302"/>
                  </a:lnTo>
                  <a:lnTo>
                    <a:pt x="1651" y="1309"/>
                  </a:lnTo>
                  <a:lnTo>
                    <a:pt x="1651" y="1317"/>
                  </a:lnTo>
                  <a:lnTo>
                    <a:pt x="1651" y="1327"/>
                  </a:lnTo>
                  <a:lnTo>
                    <a:pt x="1651" y="1313"/>
                  </a:lnTo>
                  <a:lnTo>
                    <a:pt x="1651" y="1321"/>
                  </a:lnTo>
                  <a:lnTo>
                    <a:pt x="1653" y="1327"/>
                  </a:lnTo>
                  <a:lnTo>
                    <a:pt x="1651" y="1313"/>
                  </a:lnTo>
                  <a:lnTo>
                    <a:pt x="1651" y="1319"/>
                  </a:lnTo>
                  <a:lnTo>
                    <a:pt x="1653" y="1326"/>
                  </a:lnTo>
                  <a:lnTo>
                    <a:pt x="1647" y="1311"/>
                  </a:lnTo>
                  <a:lnTo>
                    <a:pt x="1639" y="1294"/>
                  </a:lnTo>
                  <a:lnTo>
                    <a:pt x="1629" y="1277"/>
                  </a:lnTo>
                  <a:lnTo>
                    <a:pt x="1618" y="1261"/>
                  </a:lnTo>
                  <a:lnTo>
                    <a:pt x="1619" y="1265"/>
                  </a:lnTo>
                  <a:lnTo>
                    <a:pt x="1608" y="1248"/>
                  </a:lnTo>
                  <a:lnTo>
                    <a:pt x="1592" y="1232"/>
                  </a:lnTo>
                  <a:lnTo>
                    <a:pt x="1580" y="1215"/>
                  </a:lnTo>
                  <a:lnTo>
                    <a:pt x="1581" y="1218"/>
                  </a:lnTo>
                  <a:lnTo>
                    <a:pt x="1570" y="1205"/>
                  </a:lnTo>
                  <a:lnTo>
                    <a:pt x="1567" y="1203"/>
                  </a:lnTo>
                  <a:lnTo>
                    <a:pt x="1555" y="1189"/>
                  </a:lnTo>
                  <a:lnTo>
                    <a:pt x="1556" y="1193"/>
                  </a:lnTo>
                  <a:lnTo>
                    <a:pt x="1545" y="1179"/>
                  </a:lnTo>
                  <a:lnTo>
                    <a:pt x="1542" y="1178"/>
                  </a:lnTo>
                  <a:lnTo>
                    <a:pt x="1534" y="1168"/>
                  </a:lnTo>
                  <a:lnTo>
                    <a:pt x="1535" y="1171"/>
                  </a:lnTo>
                  <a:lnTo>
                    <a:pt x="1530" y="1164"/>
                  </a:lnTo>
                  <a:lnTo>
                    <a:pt x="1524" y="1160"/>
                  </a:lnTo>
                  <a:lnTo>
                    <a:pt x="1524" y="1157"/>
                  </a:lnTo>
                  <a:lnTo>
                    <a:pt x="1528" y="1160"/>
                  </a:lnTo>
                  <a:lnTo>
                    <a:pt x="1588" y="1160"/>
                  </a:lnTo>
                  <a:lnTo>
                    <a:pt x="1592" y="1157"/>
                  </a:lnTo>
                  <a:lnTo>
                    <a:pt x="1594" y="1154"/>
                  </a:lnTo>
                  <a:lnTo>
                    <a:pt x="1577" y="1171"/>
                  </a:lnTo>
                  <a:lnTo>
                    <a:pt x="1576" y="1174"/>
                  </a:lnTo>
                  <a:lnTo>
                    <a:pt x="1573" y="1175"/>
                  </a:lnTo>
                  <a:lnTo>
                    <a:pt x="1511" y="1175"/>
                  </a:lnTo>
                  <a:lnTo>
                    <a:pt x="1576" y="1091"/>
                  </a:lnTo>
                  <a:close/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28600" y="1523880"/>
            <a:ext cx="1290600" cy="4114800"/>
            <a:chOff x="228600" y="1523880"/>
            <a:chExt cx="1290600" cy="4114800"/>
          </a:xfrm>
        </p:grpSpPr>
        <p:graphicFrame>
          <p:nvGraphicFramePr>
            <p:cNvPr id="318" name=""/>
            <p:cNvGraphicFramePr/>
            <p:nvPr/>
          </p:nvGraphicFramePr>
          <p:xfrm>
            <a:off x="228600" y="3708360"/>
            <a:ext cx="612720" cy="55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3708360"/>
                      <a:ext cx="61272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0" name=""/>
            <p:cNvSpPr/>
            <p:nvPr/>
          </p:nvSpPr>
          <p:spPr>
            <a:xfrm flipV="1">
              <a:off x="228600" y="1523880"/>
              <a:ext cx="0" cy="4114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21" name=""/>
            <p:cNvGraphicFramePr/>
            <p:nvPr/>
          </p:nvGraphicFramePr>
          <p:xfrm>
            <a:off x="228600" y="1699920"/>
            <a:ext cx="1290600" cy="80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1699920"/>
                      <a:ext cx="1290600" cy="80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23" name=""/>
          <p:cNvGrpSpPr/>
          <p:nvPr/>
        </p:nvGrpSpPr>
        <p:grpSpPr>
          <a:xfrm>
            <a:off x="609480" y="1981080"/>
            <a:ext cx="1047960" cy="2259000"/>
            <a:chOff x="609480" y="1981080"/>
            <a:chExt cx="1047960" cy="2259000"/>
          </a:xfrm>
        </p:grpSpPr>
        <p:graphicFrame>
          <p:nvGraphicFramePr>
            <p:cNvPr id="324" name=""/>
            <p:cNvGraphicFramePr/>
            <p:nvPr/>
          </p:nvGraphicFramePr>
          <p:xfrm>
            <a:off x="1247760" y="1981080"/>
            <a:ext cx="409680" cy="43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47760" y="1981080"/>
                      <a:ext cx="40968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609480" y="3809880"/>
            <a:ext cx="409680" cy="43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480" y="3809880"/>
                      <a:ext cx="40968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8" name=""/>
          <p:cNvGraphicFramePr/>
          <p:nvPr/>
        </p:nvGraphicFramePr>
        <p:xfrm>
          <a:off x="1066680" y="3581280"/>
          <a:ext cx="1486080" cy="114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3581280"/>
                    <a:ext cx="148608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380880" y="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33"/>
                </a:solidFill>
                <a:latin typeface="VNI-Helve"/>
              </a:rPr>
              <a:t>Trousses ELI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752480" y="914400"/>
          <a:ext cx="5334120" cy="5619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52480" y="914400"/>
                    <a:ext cx="53341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1981080" y="2133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812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38480" y="21337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3          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2057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3432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Ac monocl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00200" y="46483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33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Ac Mo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4724280"/>
            <a:ext cx="19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33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Ac polycl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720" y="6019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+ 1 monoclonal (Bio-R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38880" y="5257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jugu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L. C. L.</dc:creator>
  <dc:description/>
  <dc:language>en-US</dc:language>
  <cp:lastModifiedBy>Client Préféré</cp:lastModifiedBy>
  <cp:lastPrinted>2000-02-07T14:07:12Z</cp:lastPrinted>
  <dcterms:modified xsi:type="dcterms:W3CDTF">2004-05-27T04:30:48Z</dcterms:modified>
  <cp:revision>451</cp:revision>
  <dc:subject/>
  <dc:title>Aucun titre de diapositive</dc:title>
</cp:coreProperties>
</file>