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B8E-A4A3-4555-AB99-B8A517FA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0BA-92ED-43C4-8C71-1F837674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685-EBAD-4EF2-AA44-BEC6C9FC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40F-BBE6-40D0-BAD2-3AEF773D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C7A-695A-4F05-B3E0-E01A73B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113-2BFA-4843-B8F1-F625731A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A87-B4F3-44C6-A6EA-E1F3CA5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453-0AFA-46C0-9391-63CABAD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79E-FDD0-4D27-83E0-3950F88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011-9038-4581-9E23-158552DE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019-9395-4194-82C6-36A9673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4FC-1D72-4797-BE5E-8FEEECEE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8BE2-172E-438A-8F11-D49898DC9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9200" y="181080"/>
            <a:ext cx="4496040" cy="6524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64080" y="177840"/>
            <a:ext cx="446724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7200" y="609480"/>
            <a:ext cx="4384800" cy="579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437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21:34:35Z</dcterms:created>
  <dc:creator>Administrateur</dc:creator>
  <dc:description/>
  <dc:language>en-US</dc:language>
  <cp:lastModifiedBy>Administrateur</cp:lastModifiedBy>
  <dcterms:modified xsi:type="dcterms:W3CDTF">2004-07-06T21:35:04Z</dcterms:modified>
  <cp:revision>1</cp:revision>
  <dc:subject/>
  <dc:title>Présentation PowerPoint</dc:title>
</cp:coreProperties>
</file>