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F66-9C15-4B27-A5E4-81BEEDB3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3F9-3E1C-4CCC-ACD9-1F0F0A96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832-3E98-4C3E-9093-1C2B8DD2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2A6-FAC6-4172-BBA2-573F2A4F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BCD-942F-4CE0-8766-F89E7E37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67F-2F30-49F6-BC53-3F7150C0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49F-7E03-400F-9BD1-BE1F1F14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606-C843-4307-8DD6-1B91CE52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35D-3DA5-43E0-9312-72BEE1F5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9DD-B34C-4229-B505-6910FE80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2F8-7493-4E5D-9F9F-DABE571C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394-F074-47FD-8CE5-615FBA94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35FF-26DF-4C9A-B7D4-54FB6F3E415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9524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Évaluation du kit</a:t>
            </a:r>
            <a:br>
              <a:rPr sz="3600"/>
            </a:b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Versant HBV DNA (bDNA) v3.0</a:t>
            </a:r>
            <a:br>
              <a:rPr sz="3600"/>
            </a:b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Martinot-Peignoux M, Marcellin P,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ham NB.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INSERM U481, Service d’Hépatologi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Service d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Hématologie-Immunologie  Hôpital Beaujon, Clich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904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Comparaison bDNA v1.0 versus v3.0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2787480" y="480996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2787480" y="480996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2809800" y="4791240"/>
            <a:ext cx="1587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2809800" y="4791240"/>
            <a:ext cx="1587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2922480" y="479124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2944800" y="4734000"/>
            <a:ext cx="15876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2968560" y="471636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>
            <a:off x="2968560" y="471636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2990880" y="469728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3035160" y="467820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3147840" y="465948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3327480" y="460224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3484440" y="4489560"/>
            <a:ext cx="1587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3754440" y="4413240"/>
            <a:ext cx="15876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>
            <a:off x="4002120" y="426240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4205160" y="411156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4272120" y="401796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4497480" y="397980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4610160" y="384804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4745160" y="377208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4879800" y="371628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5194440" y="362124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5238720" y="343224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4968720" y="3583080"/>
            <a:ext cx="15732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5103720" y="350820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4968720" y="3583080"/>
            <a:ext cx="15732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5373720" y="335772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5442120" y="331956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5373720" y="335772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3035160" y="465948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5486400" y="328140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6610320" y="265896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6183360" y="2903400"/>
            <a:ext cx="156960" cy="1335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5981760" y="301788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5486400" y="328140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>
            <a:off x="6183360" y="2903400"/>
            <a:ext cx="156960" cy="1335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>
            <a:off x="6048360" y="297972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5823000" y="3092400"/>
            <a:ext cx="158760" cy="1335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6678720" y="262080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5486400" y="328140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>
            <a:off x="6723000" y="2602080"/>
            <a:ext cx="15732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7419960" y="220680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7162920" y="228600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7419960" y="220680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4991040" y="3564000"/>
            <a:ext cx="15876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7010280" y="2438280"/>
            <a:ext cx="158760" cy="1335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>
            <a:off x="6048360" y="314964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5869080" y="2903400"/>
            <a:ext cx="156960" cy="1335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6700680" y="273528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5059440" y="330048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2900520" y="465948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5643720" y="311148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4541760" y="3733920"/>
            <a:ext cx="15732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3822840" y="448956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2652840" y="475308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>
            <a:off x="2900520" y="4884840"/>
            <a:ext cx="15696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4946760" y="335772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5351400" y="3583080"/>
            <a:ext cx="15732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5059440" y="335772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4564080" y="365904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5464080" y="350820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5351400" y="348948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5307120" y="343224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4946760" y="362124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5037120" y="3564000"/>
            <a:ext cx="15732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4946760" y="369720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>
            <a:off x="4924440" y="369720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4654440" y="382896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5238720" y="335772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>
            <a:off x="3327480" y="443232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>
            <a:off x="3395520" y="452772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3462480" y="448956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3530520" y="431964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3575160" y="445140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3754440" y="4187880"/>
            <a:ext cx="1587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3822840" y="418788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1" name=""/>
          <p:cNvSpPr/>
          <p:nvPr/>
        </p:nvSpPr>
        <p:spPr>
          <a:xfrm>
            <a:off x="3778200" y="4243320"/>
            <a:ext cx="157320" cy="1335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2" name=""/>
          <p:cNvSpPr/>
          <p:nvPr/>
        </p:nvSpPr>
        <p:spPr>
          <a:xfrm>
            <a:off x="3867120" y="418788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4024440" y="4243320"/>
            <a:ext cx="156960" cy="1335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4" name=""/>
          <p:cNvSpPr/>
          <p:nvPr/>
        </p:nvSpPr>
        <p:spPr>
          <a:xfrm>
            <a:off x="4137120" y="411156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6227640" y="2941560"/>
            <a:ext cx="1587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6" name=""/>
          <p:cNvSpPr/>
          <p:nvPr/>
        </p:nvSpPr>
        <p:spPr>
          <a:xfrm>
            <a:off x="6362640" y="2735280"/>
            <a:ext cx="1587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6610320" y="273528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8" name=""/>
          <p:cNvSpPr/>
          <p:nvPr/>
        </p:nvSpPr>
        <p:spPr>
          <a:xfrm>
            <a:off x="6296040" y="280980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9" name=""/>
          <p:cNvSpPr/>
          <p:nvPr/>
        </p:nvSpPr>
        <p:spPr>
          <a:xfrm>
            <a:off x="6431040" y="273528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0" name=""/>
          <p:cNvSpPr/>
          <p:nvPr/>
        </p:nvSpPr>
        <p:spPr>
          <a:xfrm>
            <a:off x="6700680" y="265896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>
            <a:off x="6340320" y="294156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6048360" y="286704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6340320" y="294156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>
            <a:off x="6048360" y="286704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4564080" y="3733920"/>
            <a:ext cx="15732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>
            <a:off x="4811760" y="360216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4946760" y="3583080"/>
            <a:ext cx="15696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5059440" y="3564000"/>
            <a:ext cx="156960" cy="13320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0" y="0"/>
            <a:ext cx="340413644880" cy="40054782240"/>
          </a:xfrm>
          <a:prstGeom prst="ellipse">
            <a:avLst/>
          </a:prstGeom>
          <a:noFill/>
          <a:ln w="2232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>
            <a:off x="0" y="0"/>
            <a:ext cx="343326719880" cy="40054782240"/>
          </a:xfrm>
          <a:prstGeom prst="ellipse">
            <a:avLst/>
          </a:prstGeom>
          <a:noFill/>
          <a:ln w="2232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>
            <a:off x="5307120" y="335772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5373720" y="3432240"/>
            <a:ext cx="15696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>
            <a:off x="5486400" y="3225960"/>
            <a:ext cx="157320" cy="131760"/>
          </a:xfrm>
          <a:prstGeom prst="ellipse">
            <a:avLst/>
          </a:prstGeom>
          <a:noFill/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 flipH="1">
            <a:off x="0" y="0"/>
            <a:ext cx="122349158280" cy="0"/>
          </a:xfrm>
          <a:prstGeom prst="line">
            <a:avLst/>
          </a:prstGeom>
          <a:ln w="2232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1524960" y="18288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10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>
            <a:off x="8153280" y="5334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10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2438280" y="533412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 flipV="1">
            <a:off x="2286000" y="20574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>
            <a:off x="1676520" y="495288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1600200" y="2438280"/>
            <a:ext cx="49536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228600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6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  7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      8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 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>
            <a:off x="5716440" y="594360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VERSANT v1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 rot="16200000">
            <a:off x="-707400" y="29934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VERSANT v3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2376720" y="6095880"/>
            <a:ext cx="254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copies/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3121560" y="1563840"/>
            <a:ext cx="4167360" cy="4597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Y= 0.834x +1.134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fr-F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=0.9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227160" y="63244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JCM Feb. 200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743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Comparaison COBAS / bDNA v3.0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538" name=""/>
          <p:cNvGrpSpPr/>
          <p:nvPr/>
        </p:nvGrpSpPr>
        <p:grpSpPr>
          <a:xfrm>
            <a:off x="2087280" y="1290600"/>
            <a:ext cx="358920" cy="5021280"/>
            <a:chOff x="2087280" y="1290600"/>
            <a:chExt cx="358920" cy="5021280"/>
          </a:xfrm>
        </p:grpSpPr>
        <p:sp>
          <p:nvSpPr>
            <p:cNvPr id="5539" name=""/>
            <p:cNvSpPr/>
            <p:nvPr/>
          </p:nvSpPr>
          <p:spPr>
            <a:xfrm flipV="1">
              <a:off x="2444760" y="1434600"/>
              <a:ext cx="1440" cy="435132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413080" y="5786280"/>
              <a:ext cx="31680" cy="180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087640" y="5641920"/>
              <a:ext cx="3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428920" y="5425920"/>
              <a:ext cx="15840" cy="180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413080" y="5065560"/>
              <a:ext cx="31680" cy="180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087280" y="492120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428920" y="4692600"/>
              <a:ext cx="15840" cy="180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413080" y="4332240"/>
              <a:ext cx="31680" cy="180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087280" y="418788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428920" y="3971880"/>
              <a:ext cx="15840" cy="180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413080" y="3611520"/>
              <a:ext cx="31680" cy="180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087280" y="346716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428920" y="3251160"/>
              <a:ext cx="15840" cy="180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413080" y="2889360"/>
              <a:ext cx="31680" cy="144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087280" y="274464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428920" y="2517840"/>
              <a:ext cx="15840" cy="144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413080" y="2157480"/>
              <a:ext cx="31680" cy="144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087280" y="201312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428920" y="1795320"/>
              <a:ext cx="15840" cy="180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413080" y="1434960"/>
              <a:ext cx="31680" cy="180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087280" y="129060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0" name=""/>
          <p:cNvGrpSpPr/>
          <p:nvPr/>
        </p:nvGrpSpPr>
        <p:grpSpPr>
          <a:xfrm>
            <a:off x="2289240" y="5785920"/>
            <a:ext cx="5912280" cy="792000"/>
            <a:chOff x="2289240" y="5785920"/>
            <a:chExt cx="5912280" cy="792000"/>
          </a:xfrm>
        </p:grpSpPr>
        <p:sp>
          <p:nvSpPr>
            <p:cNvPr id="5561" name=""/>
            <p:cNvSpPr/>
            <p:nvPr/>
          </p:nvSpPr>
          <p:spPr>
            <a:xfrm>
              <a:off x="2444760" y="5786280"/>
              <a:ext cx="5599080" cy="180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 flipV="1">
              <a:off x="2444760" y="5785920"/>
              <a:ext cx="1440" cy="2412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289240" y="5907240"/>
              <a:ext cx="36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 flipV="1">
              <a:off x="2908440" y="5786280"/>
              <a:ext cx="1440" cy="1296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 flipV="1">
              <a:off x="3371760" y="5785920"/>
              <a:ext cx="1800" cy="2412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3217680" y="590724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 flipV="1">
              <a:off x="3836880" y="5786280"/>
              <a:ext cx="1800" cy="1296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 flipV="1">
              <a:off x="4316400" y="5785920"/>
              <a:ext cx="1440" cy="2412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4160520" y="590724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V="1">
              <a:off x="4780080" y="5786280"/>
              <a:ext cx="1440" cy="1296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 flipV="1">
              <a:off x="5243400" y="5785920"/>
              <a:ext cx="1800" cy="2412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5089320" y="590724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 flipV="1">
              <a:off x="5708520" y="5786280"/>
              <a:ext cx="1800" cy="1296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 flipV="1">
              <a:off x="6172200" y="5785920"/>
              <a:ext cx="1440" cy="2412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018120" y="590724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 flipV="1">
              <a:off x="6635880" y="5786280"/>
              <a:ext cx="1440" cy="1296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V="1">
              <a:off x="7115040" y="5785920"/>
              <a:ext cx="1800" cy="2412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960960" y="590724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flipV="1">
              <a:off x="7580160" y="5786280"/>
              <a:ext cx="1800" cy="1296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 flipV="1">
              <a:off x="8043840" y="5785920"/>
              <a:ext cx="1440" cy="24120"/>
            </a:xfrm>
            <a:prstGeom prst="line">
              <a:avLst/>
            </a:prstGeom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7889760" y="590724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82" name=""/>
          <p:cNvGrpSpPr/>
          <p:nvPr/>
        </p:nvGrpSpPr>
        <p:grpSpPr>
          <a:xfrm>
            <a:off x="2660760" y="3201840"/>
            <a:ext cx="1562040" cy="1706760"/>
            <a:chOff x="2660760" y="3201840"/>
            <a:chExt cx="1562040" cy="1706760"/>
          </a:xfrm>
        </p:grpSpPr>
        <p:sp>
          <p:nvSpPr>
            <p:cNvPr id="5583" name=""/>
            <p:cNvSpPr/>
            <p:nvPr/>
          </p:nvSpPr>
          <p:spPr>
            <a:xfrm>
              <a:off x="2660760" y="446400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676600" y="4308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738520" y="46324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738520" y="43797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800440" y="43689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814480" y="4487760"/>
              <a:ext cx="1717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814480" y="369576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814480" y="3730680"/>
              <a:ext cx="1717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814480" y="410364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846520" y="477684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846520" y="453708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862360" y="43560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892600" y="442908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924280" y="47163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954160" y="4500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986200" y="4032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3016080" y="47163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3032280" y="456084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062160" y="472932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078000" y="42609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3078000" y="4776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078000" y="381492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3094200" y="470520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3110040" y="420048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3110040" y="4211640"/>
              <a:ext cx="16956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3124080" y="4632480"/>
              <a:ext cx="1717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3124080" y="4632480"/>
              <a:ext cx="1717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3124080" y="439272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3139920" y="47530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3171960" y="439272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3279600" y="47163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3279600" y="41878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3295800" y="460836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3295800" y="434484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3295800" y="418788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3295800" y="417672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295800" y="422424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309840" y="47163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3309840" y="41878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3309840" y="4140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3325680" y="4668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3341520" y="41878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3341520" y="4729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3357720" y="4487760"/>
              <a:ext cx="1695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3371760" y="36831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3387600" y="42721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3403440" y="43196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3419640" y="439272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419640" y="476568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433680" y="45482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3433680" y="4668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3449520" y="4416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3449520" y="47163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3449520" y="46814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3465360" y="4776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3479760" y="407988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3479760" y="4548240"/>
              <a:ext cx="17136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3495600" y="34434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3495600" y="4729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3511440" y="4584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3511440" y="4513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511440" y="47530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3511440" y="387504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3527280" y="44038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3527280" y="47163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3527280" y="4608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3527280" y="4729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3527280" y="47052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3557520" y="44290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3573360" y="4524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3573360" y="4584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3573360" y="47656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3573360" y="43196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573360" y="4729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3589200" y="4692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3589200" y="4621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3589200" y="474012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3603600" y="453708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3603600" y="477684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3603600" y="451332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3619440" y="44877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3619440" y="4392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3635280" y="4176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3635280" y="4392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635280" y="46814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3635280" y="4392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3635280" y="44038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3651120" y="423540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3651120" y="39355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3665520" y="325116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3681360" y="4344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3697200" y="47052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3697200" y="4308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3697200" y="4116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3713040" y="35272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3713040" y="474012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3713040" y="4116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3727440" y="476568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3727440" y="392436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727440" y="367200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727440" y="458460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743280" y="446400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743280" y="4284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743280" y="41511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743280" y="42721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743280" y="4440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3743280" y="4224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3743280" y="4584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3743280" y="4776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3759120" y="4560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3759120" y="40672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3759120" y="45482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759120" y="4440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774960" y="4140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774960" y="46814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774960" y="4392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774960" y="44290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774960" y="4176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3774960" y="4344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3774960" y="4500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3789360" y="4632480"/>
              <a:ext cx="17136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3789360" y="466884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3789360" y="459756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3789360" y="407988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3789360" y="451332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3789360" y="460836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3805200" y="4668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805200" y="42609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3805200" y="4560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3805200" y="43196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3805200" y="44877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3821040" y="320184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3821040" y="4513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3836880" y="39117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3836880" y="39592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3836880" y="4476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3836880" y="4513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3836880" y="42721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3836880" y="37558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3836880" y="37306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3836880" y="4668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3851280" y="464508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3851280" y="456084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3851280" y="393552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3851280" y="447660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3851280" y="4295880"/>
              <a:ext cx="17136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3867120" y="36720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3867120" y="381492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3867120" y="43797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3867120" y="39355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3882960" y="404352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3882960" y="4308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3882960" y="3924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3882960" y="46450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3882960" y="4524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3882960" y="4476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3882960" y="47656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3898800" y="41036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3898800" y="4524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3898800" y="35751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3898800" y="4332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3898800" y="45482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3898800" y="4560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3898800" y="4032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3913200" y="451332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3913200" y="456084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3913200" y="4656240"/>
              <a:ext cx="17136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3913200" y="470520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3929040" y="43689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3929040" y="46324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3929040" y="4524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3929040" y="43196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3929040" y="4200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3944880" y="4584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944880" y="4608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944880" y="43196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944880" y="34909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3944880" y="42721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3944880" y="4440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3960720" y="43560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3960720" y="46324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3960720" y="4344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3960720" y="4416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3960720" y="44877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3960720" y="44290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3960720" y="36720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3975120" y="44877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990960" y="4392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3990960" y="45975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3990960" y="44877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990960" y="4500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990960" y="42958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4006800" y="41036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4022640" y="45370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4022640" y="4524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4022640" y="4608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4037040" y="423540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4037040" y="46562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4052880" y="44038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4052880" y="43560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83" name=""/>
          <p:cNvGrpSpPr/>
          <p:nvPr/>
        </p:nvGrpSpPr>
        <p:grpSpPr>
          <a:xfrm>
            <a:off x="4052880" y="2481120"/>
            <a:ext cx="1238400" cy="2343240"/>
            <a:chOff x="4052880" y="2481120"/>
            <a:chExt cx="1238400" cy="2343240"/>
          </a:xfrm>
        </p:grpSpPr>
        <p:sp>
          <p:nvSpPr>
            <p:cNvPr id="5784" name=""/>
            <p:cNvSpPr/>
            <p:nvPr/>
          </p:nvSpPr>
          <p:spPr>
            <a:xfrm>
              <a:off x="4052880" y="457200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4052880" y="4392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4068720" y="42116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4068720" y="4308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4068720" y="45482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4068720" y="44877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4068720" y="4513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4068720" y="4513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084560" y="45975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4084560" y="45370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4098960" y="454824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4098960" y="45370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114800" y="4116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114800" y="39481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4114800" y="4116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4130640" y="39481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4130640" y="4008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4145040" y="444024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4145040" y="451332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4145040" y="4235400"/>
              <a:ext cx="1713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4145040" y="428472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4145040" y="4319640"/>
              <a:ext cx="17136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4145040" y="428472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4160880" y="4032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4160880" y="42958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4176720" y="41878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4176720" y="45370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4176720" y="41511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4192560" y="38037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4192560" y="457200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4206960" y="447660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4206960" y="433224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4206960" y="4464000"/>
              <a:ext cx="1713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4238640" y="33591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4238640" y="33940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4238640" y="32511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4238640" y="4140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4238640" y="42721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4254480" y="38512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4254480" y="41878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4254480" y="4500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4268880" y="384012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4268880" y="409248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4268880" y="367200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4284720" y="40561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4284720" y="43689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284720" y="40561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284720" y="42958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284720" y="45975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4284720" y="4692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4300560" y="4284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4300560" y="43448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4300560" y="32986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4316400" y="43560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4330800" y="4464000"/>
              <a:ext cx="1713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4330800" y="351468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4330800" y="298620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4346640" y="37558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4346640" y="39117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4346640" y="4092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4346640" y="42721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4362480" y="4308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4362480" y="4116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4362480" y="35751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4362480" y="4116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4362480" y="35272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4362480" y="4116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4378320" y="4476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4392720" y="416412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4392720" y="418788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4392720" y="363528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4408560" y="4116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4408560" y="34304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4408560" y="33940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4424400" y="38037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4424400" y="39592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4424400" y="40194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4424400" y="39117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4440240" y="4008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4440240" y="4008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4454640" y="3646440"/>
              <a:ext cx="1713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4454640" y="405612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4454640" y="414036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4454640" y="4127400"/>
              <a:ext cx="1713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4486320" y="389880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4486320" y="4476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4486320" y="39355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4486320" y="4092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4486320" y="4032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4486320" y="40672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4486320" y="41511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4502160" y="42004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4502160" y="31669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4502160" y="34304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4516560" y="3538440"/>
              <a:ext cx="1713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4516560" y="411624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4516560" y="399564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4516560" y="424800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4516560" y="428472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4532400" y="415116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4532400" y="37670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4548240" y="381492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4548240" y="311796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4548240" y="39117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4548240" y="4140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4564080" y="41036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4564080" y="40194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4564080" y="41878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4564080" y="37670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4578480" y="3538440"/>
              <a:ext cx="1713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4578480" y="4187880"/>
              <a:ext cx="1713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4578480" y="3875040"/>
              <a:ext cx="1713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4594320" y="3154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4594320" y="34196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4594320" y="4032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4594320" y="4032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4594320" y="39718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4610160" y="39592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4626000" y="370692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4626000" y="381492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4640400" y="4127400"/>
              <a:ext cx="1695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4640400" y="391176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4640400" y="3875040"/>
              <a:ext cx="1695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4640400" y="384012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4640400" y="340668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4656240" y="36115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4656240" y="3924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4656240" y="37306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4672080" y="39243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4672080" y="31543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4672080" y="379080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4672080" y="38638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4672080" y="364644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4672080" y="28177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4687920" y="33591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4702320" y="333540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4718160" y="330984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4718160" y="33591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4718160" y="2973240"/>
              <a:ext cx="1699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4718160" y="38275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4718160" y="38037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4718160" y="37800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4734000" y="44402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4749840" y="37306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4749840" y="39117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4764240" y="365904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4764240" y="378000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4780080" y="36352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4780080" y="32148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4780080" y="38512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4795920" y="37670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4826160" y="361152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4826160" y="392436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4826160" y="376704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4826160" y="3538440"/>
              <a:ext cx="1695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4842000" y="260208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4842000" y="3790800"/>
              <a:ext cx="1695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4857840" y="365904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4857840" y="36720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4857840" y="381492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4871880" y="401940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4871880" y="3562200"/>
              <a:ext cx="1717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4871880" y="3538440"/>
              <a:ext cx="17172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4888080" y="371952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4888080" y="369576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4919760" y="373068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4919760" y="39718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4933800" y="351468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4933800" y="359892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4933800" y="349092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4933800" y="323856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4933800" y="386388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4950000" y="392436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4965840" y="316692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4965840" y="3730680"/>
              <a:ext cx="16956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4981680" y="400860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4981680" y="38275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4995720" y="3814920"/>
              <a:ext cx="1717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4995720" y="3622680"/>
              <a:ext cx="1717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5011560" y="2637000"/>
              <a:ext cx="16992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5027760" y="349092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5027760" y="3478320"/>
              <a:ext cx="169560" cy="13320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5027760" y="358776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5027760" y="248112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5027760" y="3646440"/>
              <a:ext cx="1695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5043600" y="35751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5057640" y="367200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5057640" y="393552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5057640" y="409248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5089680" y="369576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5089680" y="3538440"/>
              <a:ext cx="1695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089680" y="333540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5089680" y="350352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5089680" y="2938320"/>
              <a:ext cx="16956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5089680" y="2949480"/>
              <a:ext cx="169560" cy="1335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5105520" y="374328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5105520" y="338292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5105520" y="38037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5105520" y="3683160"/>
              <a:ext cx="1699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5119560" y="3106800"/>
              <a:ext cx="171720" cy="131760"/>
            </a:xfrm>
            <a:prstGeom prst="ellipse">
              <a:avLst/>
            </a:prstGeom>
            <a:noFill/>
            <a:ln w="1584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4" name=""/>
          <p:cNvSpPr/>
          <p:nvPr/>
        </p:nvSpPr>
        <p:spPr>
          <a:xfrm>
            <a:off x="5119560" y="3598920"/>
            <a:ext cx="1717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5119560" y="3527280"/>
            <a:ext cx="1717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5135400" y="345456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5135400" y="357516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5135400" y="3538440"/>
            <a:ext cx="169920" cy="1335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5151600" y="329868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5167440" y="436896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5167440" y="368316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5167440" y="2697120"/>
            <a:ext cx="169560" cy="1335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5181480" y="3370320"/>
            <a:ext cx="1717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5181480" y="3298680"/>
            <a:ext cx="1717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5181480" y="3646440"/>
            <a:ext cx="171720" cy="1335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5181480" y="3141720"/>
            <a:ext cx="1717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5181480" y="3406680"/>
            <a:ext cx="1717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5197320" y="316692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5197320" y="314172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5197320" y="262584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5197320" y="334656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5197320" y="338292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5197320" y="329868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5213520" y="264960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5213520" y="343044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5213520" y="340668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5213520" y="359892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5213520" y="326232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5229360" y="338292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5229360" y="308304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5229360" y="309420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5243400" y="3370320"/>
            <a:ext cx="1717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5243400" y="3070080"/>
            <a:ext cx="1717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5243400" y="2865600"/>
            <a:ext cx="1717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5243400" y="3225960"/>
            <a:ext cx="1717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5243400" y="2541600"/>
            <a:ext cx="1717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5259240" y="346716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5259240" y="32148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5259240" y="323856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5275440" y="3117960"/>
            <a:ext cx="16956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5275440" y="326232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5275440" y="274644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5275440" y="2697120"/>
            <a:ext cx="169560" cy="1335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5275440" y="326232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>
            <a:off x="5275440" y="3478320"/>
            <a:ext cx="16956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6" name=""/>
          <p:cNvSpPr/>
          <p:nvPr/>
        </p:nvSpPr>
        <p:spPr>
          <a:xfrm>
            <a:off x="5291280" y="3394080"/>
            <a:ext cx="16956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7" name=""/>
          <p:cNvSpPr/>
          <p:nvPr/>
        </p:nvSpPr>
        <p:spPr>
          <a:xfrm>
            <a:off x="5291280" y="351468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5305320" y="3359160"/>
            <a:ext cx="1717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9" name=""/>
          <p:cNvSpPr/>
          <p:nvPr/>
        </p:nvSpPr>
        <p:spPr>
          <a:xfrm>
            <a:off x="5305320" y="3467160"/>
            <a:ext cx="1717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0" name=""/>
          <p:cNvSpPr/>
          <p:nvPr/>
        </p:nvSpPr>
        <p:spPr>
          <a:xfrm>
            <a:off x="5305320" y="3191040"/>
            <a:ext cx="1717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1" name=""/>
          <p:cNvSpPr/>
          <p:nvPr/>
        </p:nvSpPr>
        <p:spPr>
          <a:xfrm>
            <a:off x="5321160" y="319104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2" name=""/>
          <p:cNvSpPr/>
          <p:nvPr/>
        </p:nvSpPr>
        <p:spPr>
          <a:xfrm>
            <a:off x="5321160" y="288936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3" name=""/>
          <p:cNvSpPr/>
          <p:nvPr/>
        </p:nvSpPr>
        <p:spPr>
          <a:xfrm>
            <a:off x="5321160" y="34434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4" name=""/>
          <p:cNvSpPr/>
          <p:nvPr/>
        </p:nvSpPr>
        <p:spPr>
          <a:xfrm>
            <a:off x="5321160" y="33354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5" name=""/>
          <p:cNvSpPr/>
          <p:nvPr/>
        </p:nvSpPr>
        <p:spPr>
          <a:xfrm>
            <a:off x="5321160" y="34434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6" name=""/>
          <p:cNvSpPr/>
          <p:nvPr/>
        </p:nvSpPr>
        <p:spPr>
          <a:xfrm>
            <a:off x="5337000" y="322596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7" name=""/>
          <p:cNvSpPr/>
          <p:nvPr/>
        </p:nvSpPr>
        <p:spPr>
          <a:xfrm>
            <a:off x="5337000" y="335916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8" name=""/>
          <p:cNvSpPr/>
          <p:nvPr/>
        </p:nvSpPr>
        <p:spPr>
          <a:xfrm>
            <a:off x="5337000" y="267336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5367240" y="31068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>
            <a:off x="5367240" y="349092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>
            <a:off x="5367240" y="284148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5383080" y="285444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5383080" y="323856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5398920" y="29862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5398920" y="311796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5398920" y="338292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5398920" y="329868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5415120" y="287820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5415120" y="257796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>
            <a:off x="5415120" y="256536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>
            <a:off x="5429160" y="23130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>
            <a:off x="5429160" y="322596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5445000" y="288936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5445000" y="307008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5445000" y="3309840"/>
            <a:ext cx="169920" cy="1335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>
            <a:off x="5445000" y="273384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>
            <a:off x="5460840" y="307008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5460840" y="303372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5477040" y="326232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>
            <a:off x="5477040" y="2313000"/>
            <a:ext cx="1695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5491080" y="314172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5491080" y="270972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5491080" y="286560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5491080" y="319104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5491080" y="3201840"/>
            <a:ext cx="169920" cy="1335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5506920" y="30942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>
            <a:off x="5506920" y="3309840"/>
            <a:ext cx="169920" cy="1335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5522760" y="30942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5537160" y="3009960"/>
            <a:ext cx="1713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5537160" y="2986200"/>
            <a:ext cx="1713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5537160" y="2841480"/>
            <a:ext cx="1713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5537160" y="3094200"/>
            <a:ext cx="1713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5537160" y="3070080"/>
            <a:ext cx="1713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>
            <a:off x="5537160" y="3033720"/>
            <a:ext cx="17136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5553000" y="27576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5568840" y="304632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>
            <a:off x="5568840" y="31068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>
            <a:off x="5584680" y="304632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5599080" y="2805120"/>
            <a:ext cx="17136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5630760" y="237348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5630760" y="327492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5630760" y="303372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5646600" y="26622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5692680" y="291456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>
            <a:off x="5738760" y="291456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5754600" y="2552760"/>
            <a:ext cx="169920" cy="13320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5784840" y="2433600"/>
            <a:ext cx="1713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5800680" y="2697120"/>
            <a:ext cx="169920" cy="1335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5800680" y="268596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5816520" y="228924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5846760" y="2517840"/>
            <a:ext cx="1713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5862600" y="2384280"/>
            <a:ext cx="169920" cy="1335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5862600" y="268596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5862600" y="182088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>
            <a:off x="5878440" y="2360520"/>
            <a:ext cx="169920" cy="1335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5894280" y="232560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5894280" y="228924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5956200" y="445284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5970600" y="1892160"/>
            <a:ext cx="1713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5970600" y="2433600"/>
            <a:ext cx="17136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6032520" y="2108160"/>
            <a:ext cx="169920" cy="1335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6080040" y="2481120"/>
            <a:ext cx="169920" cy="131760"/>
          </a:xfrm>
          <a:prstGeom prst="ellipse">
            <a:avLst/>
          </a:prstGeom>
          <a:noFill/>
          <a:ln w="1584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 flipV="1">
            <a:off x="2514600" y="1828440"/>
            <a:ext cx="5065560" cy="34290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1981080" y="5791320"/>
            <a:ext cx="4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2590920" y="838080"/>
            <a:ext cx="5638680" cy="7642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y = 0.872x + 0.916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fr-FR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= 0.662</a:t>
            </a: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7391520" y="5257800"/>
            <a:ext cx="259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COB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23400" y="914400"/>
            <a:ext cx="214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b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66"/>
                </a:solidFill>
                <a:latin typeface="Arial"/>
              </a:rPr>
              <a:t>Sensibilité bDNA v3.0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109" name=""/>
          <p:cNvGraphicFramePr/>
          <p:nvPr/>
        </p:nvGraphicFramePr>
        <p:xfrm>
          <a:off x="762120" y="1295280"/>
          <a:ext cx="889632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88963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1" name=""/>
          <p:cNvSpPr/>
          <p:nvPr/>
        </p:nvSpPr>
        <p:spPr>
          <a:xfrm>
            <a:off x="1523880" y="33526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Arial"/>
              </a:rPr>
              <a:t>100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4573800" y="342900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cc"/>
                </a:solidFill>
                <a:latin typeface="Arial"/>
              </a:rPr>
              <a:t>59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7393320" y="342900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cc"/>
                </a:solidFill>
                <a:latin typeface="Arial"/>
              </a:rPr>
              <a:t>73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1069200" y="54100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bDNA v1.0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bDNA v3.0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   COB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74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Comparaison COBAS / bDNA v3.0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3522600"/>
                <a:tab algn="ctr" pos="657072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bDNA v3.0 -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bDNA v3.0 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3522600"/>
                <a:tab algn="ctr" pos="657072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3522600"/>
                <a:tab algn="ctr" pos="657072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bas -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24 %(218)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9900"/>
                </a:solidFill>
                <a:latin typeface="Arial"/>
              </a:rPr>
              <a:t>3 %*(2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3522600"/>
                <a:tab algn="ctr" pos="657072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3522600"/>
                <a:tab algn="ctr" pos="657072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bas +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14 %(138)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59 %(529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383040" y="5562720"/>
            <a:ext cx="6296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 7/25 contrôlés bDNA- Cobas- PCR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18/25 restent bDNA+ Cobas-  mais PCR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2819520" y="2438280"/>
            <a:ext cx="26668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6019920" y="2438280"/>
            <a:ext cx="26668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762120" y="525780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Comparaison COBAS / bDNAv3.0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2048040" y="3390840"/>
            <a:ext cx="2334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1905120" y="3390840"/>
            <a:ext cx="2477880" cy="762120"/>
          </a:xfrm>
          <a:prstGeom prst="rect">
            <a:avLst/>
          </a:prstGeom>
          <a:solidFill>
            <a:srgbClr val="3333cc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4.169 ± 0.821*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2925720" y="4371840"/>
            <a:ext cx="555840" cy="1800"/>
          </a:xfrm>
          <a:prstGeom prst="line">
            <a:avLst/>
          </a:prstGeom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 flipV="1">
            <a:off x="3203640" y="4152960"/>
            <a:ext cx="1440" cy="218880"/>
          </a:xfrm>
          <a:prstGeom prst="line">
            <a:avLst/>
          </a:prstGeom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2925720" y="3191040"/>
            <a:ext cx="555840" cy="1440"/>
          </a:xfrm>
          <a:prstGeom prst="line">
            <a:avLst/>
          </a:prstGeom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>
            <a:off x="3203640" y="3191040"/>
            <a:ext cx="1440" cy="199800"/>
          </a:xfrm>
          <a:prstGeom prst="line">
            <a:avLst/>
          </a:prstGeom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1905120" y="3809880"/>
            <a:ext cx="2454120" cy="1908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3157560" y="47894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3157560" y="47894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>
            <a:off x="3157560" y="47530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3157560" y="47530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3157560" y="471636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3157560" y="471636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3157560" y="46990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3157560" y="46990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3157560" y="46990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>
            <a:off x="3157560" y="46990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3157560" y="468000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0" name=""/>
          <p:cNvSpPr/>
          <p:nvPr/>
        </p:nvSpPr>
        <p:spPr>
          <a:xfrm>
            <a:off x="3157560" y="468000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1" name=""/>
          <p:cNvSpPr/>
          <p:nvPr/>
        </p:nvSpPr>
        <p:spPr>
          <a:xfrm>
            <a:off x="3157560" y="466236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>
            <a:off x="3157560" y="4643280"/>
            <a:ext cx="115920" cy="921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>
            <a:off x="3157560" y="462600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>
            <a:off x="3157560" y="4606920"/>
            <a:ext cx="115920" cy="921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5" name=""/>
          <p:cNvSpPr/>
          <p:nvPr/>
        </p:nvSpPr>
        <p:spPr>
          <a:xfrm>
            <a:off x="3157560" y="45896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6" name=""/>
          <p:cNvSpPr/>
          <p:nvPr/>
        </p:nvSpPr>
        <p:spPr>
          <a:xfrm>
            <a:off x="3157560" y="457200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>
            <a:off x="3157560" y="45529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8" name=""/>
          <p:cNvSpPr/>
          <p:nvPr/>
        </p:nvSpPr>
        <p:spPr>
          <a:xfrm>
            <a:off x="3157560" y="45529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9" name=""/>
          <p:cNvSpPr/>
          <p:nvPr/>
        </p:nvSpPr>
        <p:spPr>
          <a:xfrm>
            <a:off x="3157560" y="45529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3157560" y="45529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3157560" y="45356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3157560" y="45356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3157560" y="45356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3157560" y="451656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3157560" y="451656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3157560" y="451656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3157560" y="449892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3157560" y="449892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3157560" y="44258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3157560" y="44258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3157560" y="44258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3157560" y="44258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3157560" y="44258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3157560" y="44258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3157560" y="44258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6" name=""/>
          <p:cNvSpPr/>
          <p:nvPr/>
        </p:nvSpPr>
        <p:spPr>
          <a:xfrm>
            <a:off x="3157560" y="440856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3157560" y="440856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3157560" y="440856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3157560" y="440856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3157560" y="43894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3157560" y="43894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3157560" y="43894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3157560" y="43718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>
            <a:off x="3157560" y="435276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3157560" y="435276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>
            <a:off x="3157560" y="435276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3157560" y="435276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3157560" y="43354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>
            <a:off x="3157560" y="43354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>
            <a:off x="3157560" y="43354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3157560" y="31543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3157560" y="31543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3157560" y="31543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>
            <a:off x="3157560" y="31543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>
            <a:off x="3157560" y="31370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>
            <a:off x="3157560" y="31370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3157560" y="31370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3157560" y="31370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3157560" y="3117960"/>
            <a:ext cx="115920" cy="9180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>
            <a:off x="3157560" y="3117960"/>
            <a:ext cx="115920" cy="9180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3157560" y="3117960"/>
            <a:ext cx="115920" cy="9180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3157560" y="3117960"/>
            <a:ext cx="115920" cy="9180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3157560" y="3117960"/>
            <a:ext cx="115920" cy="9180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>
            <a:off x="3157560" y="3117960"/>
            <a:ext cx="115920" cy="9180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3157560" y="3117960"/>
            <a:ext cx="115920" cy="9180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3157560" y="3117960"/>
            <a:ext cx="115920" cy="9180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3157560" y="310032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3157560" y="310032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>
            <a:off x="3157560" y="30830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3157560" y="30830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3157560" y="30830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157560" y="30830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3157560" y="30830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3157560" y="30830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3157560" y="30830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3157560" y="306396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3157560" y="306396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>
            <a:off x="3157560" y="306396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3157560" y="304632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3157560" y="304632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3157560" y="304632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3157560" y="30272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3157560" y="30272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3157560" y="2990880"/>
            <a:ext cx="115920" cy="921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3157560" y="29732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3157560" y="2954160"/>
            <a:ext cx="115920" cy="921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3157560" y="29368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3157560" y="29368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3157560" y="29368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>
            <a:off x="3157560" y="2919240"/>
            <a:ext cx="115920" cy="9072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3157560" y="29005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3157560" y="29005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3" name=""/>
          <p:cNvSpPr/>
          <p:nvPr/>
        </p:nvSpPr>
        <p:spPr>
          <a:xfrm>
            <a:off x="3157560" y="29005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4" name=""/>
          <p:cNvSpPr/>
          <p:nvPr/>
        </p:nvSpPr>
        <p:spPr>
          <a:xfrm>
            <a:off x="3157560" y="29005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5" name=""/>
          <p:cNvSpPr/>
          <p:nvPr/>
        </p:nvSpPr>
        <p:spPr>
          <a:xfrm>
            <a:off x="3157560" y="28828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6" name=""/>
          <p:cNvSpPr/>
          <p:nvPr/>
        </p:nvSpPr>
        <p:spPr>
          <a:xfrm>
            <a:off x="3157560" y="28828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7" name=""/>
          <p:cNvSpPr/>
          <p:nvPr/>
        </p:nvSpPr>
        <p:spPr>
          <a:xfrm>
            <a:off x="3157560" y="288288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8" name=""/>
          <p:cNvSpPr/>
          <p:nvPr/>
        </p:nvSpPr>
        <p:spPr>
          <a:xfrm>
            <a:off x="3157560" y="28465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3157560" y="2827440"/>
            <a:ext cx="115920" cy="9180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3157560" y="2827440"/>
            <a:ext cx="115920" cy="9180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3157560" y="279252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3157560" y="2773440"/>
            <a:ext cx="115920" cy="90360"/>
          </a:xfrm>
          <a:prstGeom prst="ellipse">
            <a:avLst/>
          </a:prstGeom>
          <a:noFill/>
          <a:ln w="23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5794200" y="3244680"/>
            <a:ext cx="2335320" cy="7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5638680" y="3244680"/>
            <a:ext cx="2514600" cy="78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4.536 ± 0.898*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6672240" y="4172040"/>
            <a:ext cx="555480" cy="1440"/>
          </a:xfrm>
          <a:prstGeom prst="line">
            <a:avLst/>
          </a:prstGeom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 flipV="1">
            <a:off x="6950160" y="4025880"/>
            <a:ext cx="1440" cy="146160"/>
          </a:xfrm>
          <a:prstGeom prst="line">
            <a:avLst/>
          </a:prstGeom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6672240" y="2919240"/>
            <a:ext cx="555480" cy="1800"/>
          </a:xfrm>
          <a:prstGeom prst="line">
            <a:avLst/>
          </a:prstGeom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6950160" y="2919240"/>
            <a:ext cx="1440" cy="325440"/>
          </a:xfrm>
          <a:prstGeom prst="line">
            <a:avLst/>
          </a:prstGeom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>
            <a:off x="5638680" y="3733920"/>
            <a:ext cx="2467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>
            <a:off x="6904080" y="250020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6904080" y="415296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6904080" y="415296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>
            <a:off x="6904080" y="4172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6904080" y="418932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6904080" y="4172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6904080" y="42451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6904080" y="413532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>
            <a:off x="6904080" y="42451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>
            <a:off x="6904080" y="42451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>
            <a:off x="6904080" y="418932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6904080" y="413532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>
            <a:off x="6904080" y="4226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6904080" y="418932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>
            <a:off x="6904080" y="418932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6904080" y="415296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6904080" y="4226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6904080" y="4172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6904080" y="4172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6904080" y="42451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>
            <a:off x="6904080" y="4226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6904080" y="418932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6904080" y="4226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6904080" y="418932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6904080" y="42084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6904080" y="42451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6904080" y="4172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6904080" y="418932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>
            <a:off x="6904080" y="4226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6904080" y="4226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6904080" y="42451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2" name=""/>
          <p:cNvSpPr/>
          <p:nvPr/>
        </p:nvSpPr>
        <p:spPr>
          <a:xfrm>
            <a:off x="6904080" y="4172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3" name=""/>
          <p:cNvSpPr/>
          <p:nvPr/>
        </p:nvSpPr>
        <p:spPr>
          <a:xfrm>
            <a:off x="6904080" y="413532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4" name=""/>
          <p:cNvSpPr/>
          <p:nvPr/>
        </p:nvSpPr>
        <p:spPr>
          <a:xfrm>
            <a:off x="6904080" y="4172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5" name=""/>
          <p:cNvSpPr/>
          <p:nvPr/>
        </p:nvSpPr>
        <p:spPr>
          <a:xfrm>
            <a:off x="6904080" y="415296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6" name=""/>
          <p:cNvSpPr/>
          <p:nvPr/>
        </p:nvSpPr>
        <p:spPr>
          <a:xfrm>
            <a:off x="6904080" y="415296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7" name=""/>
          <p:cNvSpPr/>
          <p:nvPr/>
        </p:nvSpPr>
        <p:spPr>
          <a:xfrm>
            <a:off x="6904080" y="415296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8" name=""/>
          <p:cNvSpPr/>
          <p:nvPr/>
        </p:nvSpPr>
        <p:spPr>
          <a:xfrm>
            <a:off x="6904080" y="413532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>
            <a:off x="6904080" y="42451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6904080" y="415296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6904080" y="418932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>
            <a:off x="6904080" y="413532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6904080" y="415296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6904080" y="41720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6904080" y="27558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6904080" y="286380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6904080" y="259236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>
            <a:off x="6904080" y="261000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6904080" y="250020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6904080" y="28465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>
            <a:off x="6904080" y="28465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6904080" y="264636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6904080" y="261000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6904080" y="261000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6904080" y="27925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6904080" y="253692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>
            <a:off x="6904080" y="270036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6904080" y="2664000"/>
            <a:ext cx="115920" cy="9180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6904080" y="28098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>
            <a:off x="6904080" y="262908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6904080" y="27558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6904080" y="27734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6904080" y="288288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6904080" y="27925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6904080" y="257328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6904080" y="255600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6904080" y="2373480"/>
            <a:ext cx="115920" cy="9180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6904080" y="28098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>
            <a:off x="6904080" y="268272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6904080" y="23558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6904080" y="2664000"/>
            <a:ext cx="115920" cy="9180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6904080" y="27925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6904080" y="27734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6904080" y="270036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6904080" y="273672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6904080" y="24098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6904080" y="262908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6904080" y="2827440"/>
            <a:ext cx="115920" cy="9180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6904080" y="2827440"/>
            <a:ext cx="115920" cy="9180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6904080" y="253692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6904080" y="24462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>
            <a:off x="6904080" y="2664000"/>
            <a:ext cx="115920" cy="9180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3" name=""/>
          <p:cNvSpPr/>
          <p:nvPr/>
        </p:nvSpPr>
        <p:spPr>
          <a:xfrm>
            <a:off x="6904080" y="264636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6904080" y="233856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5" name=""/>
          <p:cNvSpPr/>
          <p:nvPr/>
        </p:nvSpPr>
        <p:spPr>
          <a:xfrm>
            <a:off x="6904080" y="251928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6" name=""/>
          <p:cNvSpPr/>
          <p:nvPr/>
        </p:nvSpPr>
        <p:spPr>
          <a:xfrm>
            <a:off x="6904080" y="24098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7" name=""/>
          <p:cNvSpPr/>
          <p:nvPr/>
        </p:nvSpPr>
        <p:spPr>
          <a:xfrm>
            <a:off x="6904080" y="264636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8" name=""/>
          <p:cNvSpPr/>
          <p:nvPr/>
        </p:nvSpPr>
        <p:spPr>
          <a:xfrm>
            <a:off x="6904080" y="199224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9" name=""/>
          <p:cNvSpPr/>
          <p:nvPr/>
        </p:nvSpPr>
        <p:spPr>
          <a:xfrm>
            <a:off x="6904080" y="23922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6904080" y="2373480"/>
            <a:ext cx="115920" cy="9180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6904080" y="235584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>
            <a:off x="6904080" y="204624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>
            <a:off x="6904080" y="2446200"/>
            <a:ext cx="115920" cy="9072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6904080" y="2209680"/>
            <a:ext cx="115920" cy="921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6904080" y="248292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6904080" y="226548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6904080" y="2028960"/>
            <a:ext cx="115920" cy="90360"/>
          </a:xfrm>
          <a:prstGeom prst="ellipse">
            <a:avLst/>
          </a:prstGeom>
          <a:noFill/>
          <a:ln w="23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2213280" y="5029200"/>
            <a:ext cx="602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COBAS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bDNA v3.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316800" y="1523880"/>
            <a:ext cx="2509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1" lang="fr-FR" sz="2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copies/m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914400" y="2133720"/>
            <a:ext cx="0" cy="297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>
            <a:off x="380880" y="2209680"/>
            <a:ext cx="382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>
            <a:off x="315000" y="6019920"/>
            <a:ext cx="42163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*Moy ± DS log</a:t>
            </a:r>
            <a:r>
              <a:rPr b="1" lang="fr-FR" sz="2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copies/m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Charge virale et génotyp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ctr" pos="409716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Génotype</a:t>
            </a: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COBAS*</a:t>
            </a: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bDNA v3.0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ctr" pos="4097160"/>
                <a:tab algn="ctr" pos="772164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ctr" pos="409716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 (n=189)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964 ± 0.716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295 ± 0.687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ctr" pos="409716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B (n=22)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275 ± 0.682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320 ± 0.696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ctr" pos="409716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C (n=7)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917 ± 0.675 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295 ± 0.910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ctr" pos="409716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D (n=109)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264 ± 0.758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606 ± 0.791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ctr" pos="409716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E (n=22)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150 ± 0. 860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679 ± 1.271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ctr" pos="4097160"/>
                <a:tab algn="ctr" pos="772164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ctr" pos="409716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ctr" pos="409716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*Moy±DS log</a:t>
            </a:r>
            <a:r>
              <a:rPr b="1" lang="fr-FR" sz="3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copies/ml 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3276720" y="1828800"/>
            <a:ext cx="2514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7010280" y="1828800"/>
            <a:ext cx="228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>
            <a:off x="457200" y="5562720"/>
            <a:ext cx="8915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Charge virale Mutations BCP et Pré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9524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438624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Mutation</a:t>
            </a: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COBAS*</a:t>
            </a: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bDNA v3.0*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ctr" pos="4386240"/>
                <a:tab algn="ctr" pos="77216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ctr" pos="438624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f66ff"/>
                </a:solidFill>
                <a:latin typeface="Arial"/>
              </a:rPr>
              <a:t>Sauvage</a:t>
            </a:r>
            <a:r>
              <a:rPr b="1" lang="fr-FR" sz="34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ff66ff"/>
                </a:solidFill>
                <a:latin typeface="Arial"/>
              </a:rPr>
              <a:t>3.977 ± 0.873</a:t>
            </a:r>
            <a:r>
              <a:rPr b="1" lang="fr-FR" sz="34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ff66ff"/>
                </a:solidFill>
                <a:latin typeface="Arial"/>
              </a:rPr>
              <a:t>4.560 ± 1.017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ctr" pos="438624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BCP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4.114 ± 0.783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4.453 ± 0.803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ctr" pos="438624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PréC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4.192 ± 4.408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4.408 ± 0.687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ctr" pos="438624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BCP + PréC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4.549 ± 0.972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4.471 ± 0.636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ctr" pos="4386240"/>
                <a:tab algn="ctr" pos="772164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ctr" pos="4386240"/>
                <a:tab algn="ctr" pos="772164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*Moy±DS log</a:t>
            </a:r>
            <a:r>
              <a:rPr b="1" lang="fr-FR" sz="3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 copies/ml </a:t>
            </a: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>
            <a:off x="3581280" y="2133720"/>
            <a:ext cx="2514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6858000" y="2133720"/>
            <a:ext cx="2514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380880" y="5181480"/>
            <a:ext cx="9068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9448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770040"/>
                <a:tab algn="ctr" pos="3713040"/>
                <a:tab algn="ctr" pos="5907240"/>
                <a:tab algn="ctr" pos="810108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BAS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BAS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B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770040"/>
                <a:tab algn="ctr" pos="3713040"/>
                <a:tab algn="ctr" pos="5907240"/>
                <a:tab algn="ctr" pos="810108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x 0 à 3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x 3 à 10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x &gt;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ctr" pos="770040"/>
                <a:tab algn="ctr" pos="3713040"/>
                <a:tab algn="ctr" pos="5907240"/>
                <a:tab algn="ctr" pos="81010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770040"/>
                <a:tab algn="ctr" pos="3713040"/>
                <a:tab algn="ctr" pos="5907240"/>
                <a:tab algn="ctr" pos="810108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Sauvage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46%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cc00"/>
                </a:solidFill>
                <a:latin typeface="Arial"/>
              </a:rPr>
              <a:t>32%</a:t>
            </a:r>
            <a:r>
              <a:rPr b="1" lang="fr-FR" sz="3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cc00"/>
                </a:solidFill>
                <a:latin typeface="Arial"/>
              </a:rPr>
              <a:t>22%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770040"/>
                <a:tab algn="ctr" pos="3713040"/>
                <a:tab algn="ctr" pos="5907240"/>
                <a:tab algn="ctr" pos="810108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BCP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cc00"/>
                </a:solidFill>
                <a:latin typeface="Arial"/>
              </a:rPr>
              <a:t>76%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15%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9%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770040"/>
                <a:tab algn="ctr" pos="3713040"/>
                <a:tab algn="ctr" pos="5907240"/>
                <a:tab algn="ctr" pos="810108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réC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cc00"/>
                </a:solidFill>
                <a:latin typeface="Arial"/>
              </a:rPr>
              <a:t>87%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4%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9%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ctr" pos="770040"/>
                <a:tab algn="ctr" pos="3713040"/>
                <a:tab algn="ctr" pos="5907240"/>
                <a:tab algn="ctr" pos="810108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BCP+préC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cc00"/>
                </a:solidFill>
                <a:latin typeface="Arial"/>
              </a:rPr>
              <a:t>100%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0%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2972160" y="30492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Ratio bDNA/COB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3581280" y="2666880"/>
            <a:ext cx="5715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>
            <a:off x="685800" y="5943600"/>
            <a:ext cx="883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"/>
              </a:rPr>
              <a:t>Applications cliniqu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9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Charge virale : patients AgHBe négatif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2209680" y="3276720"/>
            <a:ext cx="2248200" cy="100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2209680" y="3276720"/>
            <a:ext cx="2248200" cy="1006200"/>
          </a:xfrm>
          <a:prstGeom prst="rect">
            <a:avLst/>
          </a:prstGeom>
          <a:solidFill>
            <a:srgbClr val="3333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>
            <a:off x="3056040" y="4545000"/>
            <a:ext cx="533160" cy="14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 flipV="1">
            <a:off x="3322800" y="4282920"/>
            <a:ext cx="1440" cy="262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3056040" y="2444760"/>
            <a:ext cx="533160" cy="14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3333600" y="2481120"/>
            <a:ext cx="0" cy="795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>
            <a:off x="2209680" y="3886200"/>
            <a:ext cx="2225880" cy="14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3278160" y="1724040"/>
            <a:ext cx="111240" cy="10944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3278160" y="4632480"/>
            <a:ext cx="111240" cy="10944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3276720" y="4724280"/>
            <a:ext cx="110880" cy="10980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3278160" y="1898640"/>
            <a:ext cx="111240" cy="10944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3257640" y="4538520"/>
            <a:ext cx="110880" cy="10980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3278160" y="2270160"/>
            <a:ext cx="111240" cy="10944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3278160" y="4567320"/>
            <a:ext cx="111240" cy="10944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3278160" y="2270160"/>
            <a:ext cx="111240" cy="10944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5410080" y="2895480"/>
            <a:ext cx="2248200" cy="115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>
            <a:off x="5410080" y="2895480"/>
            <a:ext cx="2248200" cy="1158840"/>
          </a:xfrm>
          <a:prstGeom prst="rect">
            <a:avLst/>
          </a:prstGeom>
          <a:solidFill>
            <a:srgbClr val="3333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6256440" y="4491000"/>
            <a:ext cx="533160" cy="18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 flipV="1">
            <a:off x="6553080" y="4038480"/>
            <a:ext cx="0" cy="432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6256440" y="2303640"/>
            <a:ext cx="533160" cy="14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>
            <a:off x="6523200" y="2303640"/>
            <a:ext cx="1440" cy="5918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5410080" y="3505320"/>
            <a:ext cx="2225880" cy="14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6478560" y="1538280"/>
            <a:ext cx="111240" cy="10944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>
            <a:off x="6478560" y="4797360"/>
            <a:ext cx="111240" cy="10944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5386320" y="2995560"/>
            <a:ext cx="266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4.435 ± 0.673*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828800" y="48006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rteurs Inactifs      Activité Fluctuant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2208600" y="3429000"/>
            <a:ext cx="233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4.055 ± 0.586*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>
            <a:off x="335160" y="5911920"/>
            <a:ext cx="449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* Moy±DS Log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10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pies/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2821320" y="51814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(n=1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6324480" y="52578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6095880" y="5181480"/>
            <a:ext cx="109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(n=2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9372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e diagnostic de l’infection par le virus de l’hépatite B (VHB) est basé su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Tests sérologiques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- détection d’anticorps spécif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66"/>
                </a:solidFill>
                <a:latin typeface="Arial"/>
              </a:rPr>
              <a:t>Tests virolog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- caractérisation, quantification des particules virales (Antigène, HBV DN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0" name=""/>
          <p:cNvGraphicFramePr/>
          <p:nvPr/>
        </p:nvGraphicFramePr>
        <p:xfrm>
          <a:off x="1066680" y="2057400"/>
          <a:ext cx="83822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83822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2" name=""/>
          <p:cNvSpPr/>
          <p:nvPr/>
        </p:nvSpPr>
        <p:spPr>
          <a:xfrm>
            <a:off x="609480" y="1295280"/>
            <a:ext cx="9296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cc"/>
                </a:solidFill>
                <a:latin typeface="Arial"/>
              </a:rPr>
              <a:t>ALT IU/ml</a:t>
            </a:r>
            <a:r>
              <a:rPr b="1" lang="en-US" sz="3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cc66"/>
                </a:solidFill>
                <a:latin typeface="Arial"/>
              </a:rPr>
              <a:t>HBV DNA*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3" name=""/>
          <p:cNvSpPr/>
          <p:nvPr/>
        </p:nvSpPr>
        <p:spPr>
          <a:xfrm>
            <a:off x="685800" y="601992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4" name=""/>
          <p:cNvSpPr/>
          <p:nvPr/>
        </p:nvSpPr>
        <p:spPr>
          <a:xfrm>
            <a:off x="6095880" y="61722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*log 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copies/ml HBV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304200" y="5715000"/>
            <a:ext cx="88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ivi      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6      ann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6" name=""/>
          <p:cNvSpPr/>
          <p:nvPr/>
        </p:nvSpPr>
        <p:spPr>
          <a:xfrm>
            <a:off x="0" y="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Porteur Inactif AgHB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7" name=""/>
          <p:cNvSpPr/>
          <p:nvPr/>
        </p:nvSpPr>
        <p:spPr>
          <a:xfrm>
            <a:off x="0" y="1066680"/>
            <a:ext cx="1028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8" name=""/>
          <p:cNvSpPr/>
          <p:nvPr/>
        </p:nvSpPr>
        <p:spPr>
          <a:xfrm>
            <a:off x="287640" y="633564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rtinot et al. AASLD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9" name=""/>
          <p:cNvGraphicFramePr/>
          <p:nvPr/>
        </p:nvGraphicFramePr>
        <p:xfrm>
          <a:off x="1066680" y="1752480"/>
          <a:ext cx="83822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83822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1" name=""/>
          <p:cNvSpPr/>
          <p:nvPr/>
        </p:nvSpPr>
        <p:spPr>
          <a:xfrm>
            <a:off x="609480" y="1295280"/>
            <a:ext cx="9296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cc"/>
                </a:solidFill>
                <a:latin typeface="Arial"/>
              </a:rPr>
              <a:t>ALT IU/ml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cc99"/>
                </a:solidFill>
                <a:latin typeface="Arial"/>
              </a:rPr>
              <a:t>HBV DNA*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2" name=""/>
          <p:cNvSpPr/>
          <p:nvPr/>
        </p:nvSpPr>
        <p:spPr>
          <a:xfrm>
            <a:off x="457200" y="615636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rtinot et al. AASLD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3" name=""/>
          <p:cNvSpPr/>
          <p:nvPr/>
        </p:nvSpPr>
        <p:spPr>
          <a:xfrm>
            <a:off x="5943600" y="6095880"/>
            <a:ext cx="40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*log 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copies/ml HBV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4" name=""/>
          <p:cNvSpPr/>
          <p:nvPr/>
        </p:nvSpPr>
        <p:spPr>
          <a:xfrm>
            <a:off x="380520" y="5486400"/>
            <a:ext cx="86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ivi      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6       ann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5" name=""/>
          <p:cNvSpPr/>
          <p:nvPr/>
        </p:nvSpPr>
        <p:spPr>
          <a:xfrm>
            <a:off x="-228600" y="0"/>
            <a:ext cx="1051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Hépatite B activité fluctuan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0" y="1066680"/>
            <a:ext cx="10287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7" name=""/>
          <p:cNvSpPr/>
          <p:nvPr/>
        </p:nvSpPr>
        <p:spPr>
          <a:xfrm>
            <a:off x="1600200" y="1522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66"/>
                </a:solidFill>
                <a:latin typeface="Arial"/>
              </a:rPr>
              <a:t>Charge virale  et Résist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8086680" y="2971800"/>
            <a:ext cx="22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DNA v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7x10</a:t>
            </a:r>
            <a:r>
              <a:rPr b="1" lang="fr-FR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copies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304920" y="57913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1" lang="fr-FR" sz="2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copies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990720" y="152388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>
            <a:off x="8153280" y="38098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bDNA v3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2x10</a:t>
            </a:r>
            <a:r>
              <a:rPr b="1" lang="fr-FR" sz="20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copies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>
            <a:off x="685080" y="1676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791640" y="4579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>
            <a:off x="791640" y="3849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791640" y="3119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791640" y="2397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>
            <a:off x="1039680" y="4680000"/>
            <a:ext cx="7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1039680" y="3949560"/>
            <a:ext cx="730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 flipV="1">
            <a:off x="1039680" y="3214440"/>
            <a:ext cx="7956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1039680" y="2496960"/>
            <a:ext cx="7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1039680" y="1760400"/>
            <a:ext cx="73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 flipV="1">
            <a:off x="1039680" y="1766880"/>
            <a:ext cx="1800" cy="3651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 flipH="1">
            <a:off x="2285640" y="1828800"/>
            <a:ext cx="3240" cy="246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>
            <a:off x="7920000" y="2128680"/>
            <a:ext cx="633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7924680" y="2133720"/>
            <a:ext cx="0" cy="187200"/>
          </a:xfrm>
          <a:prstGeom prst="line">
            <a:avLst/>
          </a:prstGeom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>
            <a:off x="1649520" y="2346480"/>
            <a:ext cx="1271520" cy="326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>
            <a:off x="1649520" y="2124000"/>
            <a:ext cx="1269720" cy="222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3429000" y="3962520"/>
            <a:ext cx="1271520" cy="37620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3429000" y="3581280"/>
            <a:ext cx="1271520" cy="352440"/>
          </a:xfrm>
          <a:prstGeom prst="rect">
            <a:avLst/>
          </a:prstGeom>
          <a:solidFill>
            <a:srgbClr val="ff9933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>
            <a:off x="5380200" y="3787920"/>
            <a:ext cx="1255680" cy="3492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7315200" y="2362320"/>
            <a:ext cx="1255680" cy="174600"/>
          </a:xfrm>
          <a:prstGeom prst="rect">
            <a:avLst/>
          </a:prstGeom>
          <a:solidFill>
            <a:srgbClr val="ff6699"/>
          </a:solid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 flipV="1">
            <a:off x="22860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4044960" y="4325760"/>
            <a:ext cx="0" cy="7002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4038480" y="3200400"/>
            <a:ext cx="3240" cy="3445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 flipV="1">
            <a:off x="5978520" y="3206520"/>
            <a:ext cx="74520" cy="111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6014880" y="3220920"/>
            <a:ext cx="3240" cy="306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>
            <a:off x="7958160" y="2862360"/>
            <a:ext cx="0" cy="350640"/>
          </a:xfrm>
          <a:prstGeom prst="line">
            <a:avLst/>
          </a:prstGeom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1039680" y="5416560"/>
            <a:ext cx="73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5380200" y="3495600"/>
            <a:ext cx="1255680" cy="292320"/>
          </a:xfrm>
          <a:prstGeom prst="rect">
            <a:avLst/>
          </a:prstGeom>
          <a:solidFill>
            <a:srgbClr val="33cc33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7920000" y="3208320"/>
            <a:ext cx="6984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808920" y="5319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7315200" y="2514600"/>
            <a:ext cx="1255680" cy="36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1602360" y="2362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8.46 ± 1.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3429000" y="396252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00"/>
                </a:solidFill>
                <a:latin typeface="Arial"/>
              </a:rPr>
              <a:t>4.70 ± 1.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5259960" y="380988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33cc33"/>
                </a:solidFill>
                <a:latin typeface="Arial"/>
              </a:rPr>
              <a:t>4.90 ± 1.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>
            <a:off x="7315200" y="2514600"/>
            <a:ext cx="129528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6699"/>
                </a:solidFill>
                <a:latin typeface="Arial"/>
              </a:rPr>
              <a:t>7.84± 0.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1219320" y="3352680"/>
            <a:ext cx="701028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1219320" y="4267080"/>
            <a:ext cx="7010280" cy="0"/>
          </a:xfrm>
          <a:prstGeom prst="line">
            <a:avLst/>
          </a:prstGeom>
          <a:ln w="2844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3657600" y="5334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4.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0" name=""/>
          <p:cNvSpPr/>
          <p:nvPr/>
        </p:nvSpPr>
        <p:spPr>
          <a:xfrm>
            <a:off x="8273880" y="5257800"/>
            <a:ext cx="201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is avant ré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1" name=""/>
          <p:cNvSpPr/>
          <p:nvPr/>
        </p:nvSpPr>
        <p:spPr>
          <a:xfrm>
            <a:off x="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YMD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Mutations     non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           non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            oui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  ou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1523880" y="5105520"/>
            <a:ext cx="132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3" name=""/>
          <p:cNvSpPr/>
          <p:nvPr/>
        </p:nvSpPr>
        <p:spPr>
          <a:xfrm>
            <a:off x="1562040" y="5181480"/>
            <a:ext cx="149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ébut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itemen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5" name=""/>
          <p:cNvSpPr/>
          <p:nvPr/>
        </p:nvSpPr>
        <p:spPr>
          <a:xfrm>
            <a:off x="2133720" y="1828800"/>
            <a:ext cx="304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6" name=""/>
          <p:cNvSpPr/>
          <p:nvPr/>
        </p:nvSpPr>
        <p:spPr>
          <a:xfrm>
            <a:off x="3886200" y="3200400"/>
            <a:ext cx="304920" cy="0"/>
          </a:xfrm>
          <a:prstGeom prst="line">
            <a:avLst/>
          </a:prstGeom>
          <a:ln w="28440">
            <a:solidFill>
              <a:srgbClr val="f9b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7" name=""/>
          <p:cNvSpPr/>
          <p:nvPr/>
        </p:nvSpPr>
        <p:spPr>
          <a:xfrm>
            <a:off x="3886200" y="5029200"/>
            <a:ext cx="304920" cy="0"/>
          </a:xfrm>
          <a:prstGeom prst="line">
            <a:avLst/>
          </a:prstGeom>
          <a:ln w="28440">
            <a:solidFill>
              <a:srgbClr val="f9b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8" name=""/>
          <p:cNvSpPr/>
          <p:nvPr/>
        </p:nvSpPr>
        <p:spPr>
          <a:xfrm>
            <a:off x="5867280" y="4419720"/>
            <a:ext cx="30492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9" name=""/>
          <p:cNvSpPr/>
          <p:nvPr/>
        </p:nvSpPr>
        <p:spPr>
          <a:xfrm>
            <a:off x="5867280" y="3200400"/>
            <a:ext cx="30492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1" name=""/>
          <p:cNvSpPr/>
          <p:nvPr/>
        </p:nvSpPr>
        <p:spPr>
          <a:xfrm>
            <a:off x="7772400" y="2133720"/>
            <a:ext cx="304920" cy="0"/>
          </a:xfrm>
          <a:prstGeom prst="line">
            <a:avLst/>
          </a:prstGeom>
          <a:ln w="284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2" name=""/>
          <p:cNvSpPr/>
          <p:nvPr/>
        </p:nvSpPr>
        <p:spPr>
          <a:xfrm>
            <a:off x="6019920" y="4114800"/>
            <a:ext cx="0" cy="30492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5166720" y="628812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rtinot et al ISVHLD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5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VERSANT HBV v3.0 (bDN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Une gamme linéaire étendu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(2x10</a:t>
            </a:r>
            <a:r>
              <a:rPr b="1" lang="fr-FR" sz="3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à 10</a:t>
            </a:r>
            <a:r>
              <a:rPr b="1" lang="fr-FR" sz="3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HBV copies/ml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Sensibilité accrue (</a:t>
            </a: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59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Quantification équivalen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génotype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 et / ou </a:t>
            </a: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status AgHB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VERSANT HBV v3.0 (bDNA)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Monitoring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des patients au cours du trait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Évaluation </a:t>
            </a: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précoce de la résistance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virale au trait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743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Mesure de la charge virale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9296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Hépatite aiguë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5050"/>
                </a:solidFill>
                <a:latin typeface="Arial"/>
              </a:rPr>
              <a:t>n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Hépatite chronique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Antigène HBe +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5050"/>
                </a:solidFill>
                <a:latin typeface="Arial"/>
              </a:rPr>
              <a:t>n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Antigène HBe -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cc00"/>
                </a:solidFill>
                <a:latin typeface="Arial"/>
              </a:rPr>
              <a:t>ou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Evolution de la maladie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cc00"/>
                </a:solidFill>
                <a:latin typeface="Arial"/>
              </a:rPr>
              <a:t>ou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- charge virale élevée associée  a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isque de cirrhose et d’hépatocarcin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Mesure de la charge virale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937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raitement hépatite chroni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décision de traiter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cc00"/>
                </a:solidFill>
                <a:latin typeface="Arial"/>
              </a:rPr>
              <a:t>ou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monitorage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cc00"/>
                </a:solidFill>
                <a:latin typeface="Arial"/>
              </a:rPr>
              <a:t>ou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efficacit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éradication du vir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suivi à long ter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échappement au trai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inétique virale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fr-FR" sz="4800" spc="-1" strike="noStrike">
                <a:solidFill>
                  <a:srgbClr val="ff99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Objecti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L’objectif de notre étude était d’évaluer, pour  un laboratoire de routine, l’apport du gain de sensibilité du K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VERSANT</a:t>
            </a:r>
            <a:r>
              <a:rPr b="1" lang="fr-FR" sz="4000" spc="-1" strike="noStrike" baseline="30000">
                <a:solidFill>
                  <a:srgbClr val="ffff99"/>
                </a:solidFill>
                <a:latin typeface="Arial"/>
              </a:rPr>
              <a:t>R</a:t>
            </a: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 HBV DNA (bDNA) v3.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(sensibilité 2x10</a:t>
            </a:r>
            <a:r>
              <a:rPr b="1" lang="fr-FR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copies/ml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74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66"/>
                </a:solidFill>
                <a:latin typeface="Arial"/>
              </a:rPr>
              <a:t>Méth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9753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909 échantillons non détectables avec le test VERSANT</a:t>
            </a:r>
            <a:r>
              <a:rPr b="1" lang="fr-FR" sz="3600" spc="-1" strike="noStrike" baseline="30000">
                <a:solidFill>
                  <a:srgbClr val="ffffff"/>
                </a:solidFill>
                <a:latin typeface="Arial"/>
              </a:rPr>
              <a:t>R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HBV DNA (bDNA) v1.0 (seuil 7x10</a:t>
            </a:r>
            <a:r>
              <a:rPr b="1" lang="fr-FR" sz="36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copies/ml) ont été mesurés parallèlement avec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VERSANT</a:t>
            </a:r>
            <a:r>
              <a:rPr b="1" lang="fr-FR" sz="3600" spc="-1" strike="noStrike" baseline="30000">
                <a:solidFill>
                  <a:srgbClr val="ffff99"/>
                </a:solidFill>
                <a:latin typeface="Arial"/>
              </a:rPr>
              <a:t>R</a:t>
            </a: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 HBV DNA (bDNA) v3.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(Bayer Healthcare) (2x10</a:t>
            </a:r>
            <a:r>
              <a:rPr b="1" lang="fr-FR" sz="36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- 10</a:t>
            </a:r>
            <a:r>
              <a:rPr b="1" lang="fr-FR" sz="3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copies/ml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- COBAS Amplicor HBV MONIT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(Roche Diagnostics)(2x10</a:t>
            </a:r>
            <a:r>
              <a:rPr b="1" lang="fr-FR" sz="36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fr-FR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2x10</a:t>
            </a:r>
            <a:r>
              <a:rPr b="1" lang="fr-FR" sz="36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pies/ml)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10287000" cy="7000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93880" y="6475320"/>
            <a:ext cx="1093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05760" y="6475320"/>
            <a:ext cx="81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70360" y="65660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ecece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971800" y="1752480"/>
            <a:ext cx="2712960" cy="2935440"/>
            <a:chOff x="2971800" y="1752480"/>
            <a:chExt cx="2712960" cy="2935440"/>
          </a:xfrm>
        </p:grpSpPr>
        <p:sp>
          <p:nvSpPr>
            <p:cNvPr id="56" name=""/>
            <p:cNvSpPr/>
            <p:nvPr/>
          </p:nvSpPr>
          <p:spPr>
            <a:xfrm>
              <a:off x="2971800" y="1752480"/>
              <a:ext cx="2712960" cy="293544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87" y="5"/>
                  </a:moveTo>
                  <a:cubicBezTo>
                    <a:pt x="80" y="0"/>
                    <a:pt x="70" y="2"/>
                    <a:pt x="65" y="9"/>
                  </a:cubicBezTo>
                  <a:lnTo>
                    <a:pt x="5" y="99"/>
                  </a:lnTo>
                  <a:cubicBezTo>
                    <a:pt x="0" y="106"/>
                    <a:pt x="2" y="116"/>
                    <a:pt x="9" y="121"/>
                  </a:cubicBezTo>
                  <a:lnTo>
                    <a:pt x="62" y="157"/>
                  </a:lnTo>
                  <a:cubicBezTo>
                    <a:pt x="69" y="161"/>
                    <a:pt x="79" y="160"/>
                    <a:pt x="84" y="152"/>
                  </a:cubicBezTo>
                  <a:lnTo>
                    <a:pt x="144" y="63"/>
                  </a:lnTo>
                  <a:cubicBezTo>
                    <a:pt x="149" y="55"/>
                    <a:pt x="147" y="46"/>
                    <a:pt x="140" y="41"/>
                  </a:cubicBezTo>
                  <a:lnTo>
                    <a:pt x="87" y="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90880" y="1771560"/>
              <a:ext cx="2639880" cy="286236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85" y="4"/>
                  </a:moveTo>
                  <a:cubicBezTo>
                    <a:pt x="78" y="0"/>
                    <a:pt x="68" y="1"/>
                    <a:pt x="63" y="8"/>
                  </a:cubicBezTo>
                  <a:lnTo>
                    <a:pt x="4" y="97"/>
                  </a:lnTo>
                  <a:cubicBezTo>
                    <a:pt x="0" y="104"/>
                    <a:pt x="1" y="113"/>
                    <a:pt x="8" y="118"/>
                  </a:cubicBezTo>
                  <a:lnTo>
                    <a:pt x="60" y="154"/>
                  </a:lnTo>
                  <a:cubicBezTo>
                    <a:pt x="67" y="157"/>
                    <a:pt x="77" y="156"/>
                    <a:pt x="82" y="149"/>
                  </a:cubicBezTo>
                  <a:lnTo>
                    <a:pt x="141" y="61"/>
                  </a:lnTo>
                  <a:cubicBezTo>
                    <a:pt x="145" y="53"/>
                    <a:pt x="144" y="45"/>
                    <a:pt x="137" y="40"/>
                  </a:cubicBezTo>
                  <a:lnTo>
                    <a:pt x="85" y="4"/>
                  </a:lnTo>
                  <a:close/>
                </a:path>
              </a:pathLst>
            </a:custGeom>
            <a:solidFill>
              <a:srgbClr val="111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27240" y="1808280"/>
              <a:ext cx="2566800" cy="2789280"/>
            </a:xfrm>
            <a:custGeom>
              <a:avLst/>
              <a:gdLst/>
              <a:ahLst/>
              <a:rect l="l" t="t" r="r" b="b"/>
              <a:pathLst>
                <a:path w="141" h="153">
                  <a:moveTo>
                    <a:pt x="82" y="4"/>
                  </a:moveTo>
                  <a:cubicBezTo>
                    <a:pt x="76" y="0"/>
                    <a:pt x="66" y="1"/>
                    <a:pt x="61" y="8"/>
                  </a:cubicBezTo>
                  <a:lnTo>
                    <a:pt x="4" y="94"/>
                  </a:lnTo>
                  <a:cubicBezTo>
                    <a:pt x="0" y="101"/>
                    <a:pt x="1" y="110"/>
                    <a:pt x="8" y="115"/>
                  </a:cubicBezTo>
                  <a:lnTo>
                    <a:pt x="59" y="150"/>
                  </a:lnTo>
                  <a:cubicBezTo>
                    <a:pt x="65" y="153"/>
                    <a:pt x="75" y="152"/>
                    <a:pt x="80" y="145"/>
                  </a:cubicBezTo>
                  <a:lnTo>
                    <a:pt x="137" y="60"/>
                  </a:lnTo>
                  <a:cubicBezTo>
                    <a:pt x="141" y="52"/>
                    <a:pt x="140" y="44"/>
                    <a:pt x="133" y="39"/>
                  </a:cubicBezTo>
                  <a:lnTo>
                    <a:pt x="82" y="4"/>
                  </a:lnTo>
                  <a:close/>
                </a:path>
              </a:pathLst>
            </a:custGeom>
            <a:solidFill>
              <a:srgbClr val="191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4520" y="1825560"/>
              <a:ext cx="2532240" cy="275292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81" y="4"/>
                  </a:moveTo>
                  <a:cubicBezTo>
                    <a:pt x="75" y="0"/>
                    <a:pt x="65" y="1"/>
                    <a:pt x="61" y="8"/>
                  </a:cubicBezTo>
                  <a:lnTo>
                    <a:pt x="4" y="93"/>
                  </a:lnTo>
                  <a:cubicBezTo>
                    <a:pt x="0" y="100"/>
                    <a:pt x="1" y="109"/>
                    <a:pt x="8" y="114"/>
                  </a:cubicBezTo>
                  <a:lnTo>
                    <a:pt x="58" y="148"/>
                  </a:lnTo>
                  <a:cubicBezTo>
                    <a:pt x="64" y="151"/>
                    <a:pt x="74" y="150"/>
                    <a:pt x="78" y="143"/>
                  </a:cubicBezTo>
                  <a:lnTo>
                    <a:pt x="135" y="59"/>
                  </a:lnTo>
                  <a:cubicBezTo>
                    <a:pt x="139" y="51"/>
                    <a:pt x="138" y="43"/>
                    <a:pt x="131" y="38"/>
                  </a:cubicBezTo>
                  <a:lnTo>
                    <a:pt x="81" y="4"/>
                  </a:lnTo>
                  <a:close/>
                </a:path>
              </a:pathLst>
            </a:custGeom>
            <a:solidFill>
              <a:srgbClr val="21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81240" y="1862280"/>
              <a:ext cx="2459160" cy="2679480"/>
            </a:xfrm>
            <a:custGeom>
              <a:avLst/>
              <a:gdLst/>
              <a:ahLst/>
              <a:rect l="l" t="t" r="r" b="b"/>
              <a:pathLst>
                <a:path w="135" h="147">
                  <a:moveTo>
                    <a:pt x="79" y="4"/>
                  </a:moveTo>
                  <a:cubicBezTo>
                    <a:pt x="73" y="0"/>
                    <a:pt x="63" y="1"/>
                    <a:pt x="59" y="8"/>
                  </a:cubicBezTo>
                  <a:lnTo>
                    <a:pt x="4" y="90"/>
                  </a:lnTo>
                  <a:cubicBezTo>
                    <a:pt x="0" y="97"/>
                    <a:pt x="1" y="106"/>
                    <a:pt x="8" y="111"/>
                  </a:cubicBezTo>
                  <a:lnTo>
                    <a:pt x="56" y="144"/>
                  </a:lnTo>
                  <a:cubicBezTo>
                    <a:pt x="62" y="147"/>
                    <a:pt x="72" y="146"/>
                    <a:pt x="76" y="139"/>
                  </a:cubicBezTo>
                  <a:lnTo>
                    <a:pt x="131" y="57"/>
                  </a:lnTo>
                  <a:cubicBezTo>
                    <a:pt x="135" y="50"/>
                    <a:pt x="134" y="42"/>
                    <a:pt x="127" y="37"/>
                  </a:cubicBezTo>
                  <a:lnTo>
                    <a:pt x="79" y="4"/>
                  </a:lnTo>
                  <a:close/>
                </a:path>
              </a:pathLst>
            </a:custGeom>
            <a:solidFill>
              <a:srgbClr val="282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98520" y="1898640"/>
              <a:ext cx="2422800" cy="2606760"/>
            </a:xfrm>
            <a:custGeom>
              <a:avLst/>
              <a:gdLst/>
              <a:ahLst/>
              <a:rect l="l" t="t" r="r" b="b"/>
              <a:pathLst>
                <a:path w="133" h="143">
                  <a:moveTo>
                    <a:pt x="78" y="4"/>
                  </a:moveTo>
                  <a:cubicBezTo>
                    <a:pt x="71" y="0"/>
                    <a:pt x="62" y="1"/>
                    <a:pt x="58" y="8"/>
                  </a:cubicBezTo>
                  <a:lnTo>
                    <a:pt x="4" y="88"/>
                  </a:lnTo>
                  <a:cubicBezTo>
                    <a:pt x="0" y="94"/>
                    <a:pt x="1" y="103"/>
                    <a:pt x="8" y="108"/>
                  </a:cubicBezTo>
                  <a:lnTo>
                    <a:pt x="55" y="140"/>
                  </a:lnTo>
                  <a:cubicBezTo>
                    <a:pt x="62" y="143"/>
                    <a:pt x="71" y="142"/>
                    <a:pt x="75" y="135"/>
                  </a:cubicBezTo>
                  <a:lnTo>
                    <a:pt x="129" y="56"/>
                  </a:lnTo>
                  <a:cubicBezTo>
                    <a:pt x="133" y="49"/>
                    <a:pt x="132" y="41"/>
                    <a:pt x="125" y="36"/>
                  </a:cubicBezTo>
                  <a:lnTo>
                    <a:pt x="78" y="4"/>
                  </a:lnTo>
                  <a:close/>
                </a:path>
              </a:pathLst>
            </a:custGeom>
            <a:solidFill>
              <a:srgbClr val="2f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35240" y="1917720"/>
              <a:ext cx="2349360" cy="2570040"/>
            </a:xfrm>
            <a:custGeom>
              <a:avLst/>
              <a:gdLst/>
              <a:ahLst/>
              <a:rect l="l" t="t" r="r" b="b"/>
              <a:pathLst>
                <a:path w="129" h="141">
                  <a:moveTo>
                    <a:pt x="75" y="4"/>
                  </a:moveTo>
                  <a:cubicBezTo>
                    <a:pt x="69" y="0"/>
                    <a:pt x="61" y="1"/>
                    <a:pt x="56" y="8"/>
                  </a:cubicBezTo>
                  <a:lnTo>
                    <a:pt x="4" y="87"/>
                  </a:lnTo>
                  <a:cubicBezTo>
                    <a:pt x="0" y="93"/>
                    <a:pt x="1" y="102"/>
                    <a:pt x="7" y="106"/>
                  </a:cubicBezTo>
                  <a:lnTo>
                    <a:pt x="54" y="138"/>
                  </a:lnTo>
                  <a:cubicBezTo>
                    <a:pt x="60" y="141"/>
                    <a:pt x="68" y="140"/>
                    <a:pt x="73" y="133"/>
                  </a:cubicBezTo>
                  <a:lnTo>
                    <a:pt x="125" y="55"/>
                  </a:lnTo>
                  <a:cubicBezTo>
                    <a:pt x="129" y="48"/>
                    <a:pt x="128" y="40"/>
                    <a:pt x="122" y="36"/>
                  </a:cubicBezTo>
                  <a:lnTo>
                    <a:pt x="75" y="4"/>
                  </a:lnTo>
                  <a:close/>
                </a:path>
              </a:pathLst>
            </a:custGeom>
            <a:solidFill>
              <a:srgbClr val="35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54320" y="1954080"/>
              <a:ext cx="2313000" cy="2497320"/>
            </a:xfrm>
            <a:custGeom>
              <a:avLst/>
              <a:gdLst/>
              <a:ahLst/>
              <a:rect l="l" t="t" r="r" b="b"/>
              <a:pathLst>
                <a:path w="127" h="137">
                  <a:moveTo>
                    <a:pt x="74" y="4"/>
                  </a:moveTo>
                  <a:cubicBezTo>
                    <a:pt x="68" y="0"/>
                    <a:pt x="60" y="1"/>
                    <a:pt x="55" y="7"/>
                  </a:cubicBezTo>
                  <a:lnTo>
                    <a:pt x="4" y="84"/>
                  </a:lnTo>
                  <a:cubicBezTo>
                    <a:pt x="0" y="90"/>
                    <a:pt x="1" y="99"/>
                    <a:pt x="7" y="103"/>
                  </a:cubicBezTo>
                  <a:lnTo>
                    <a:pt x="53" y="134"/>
                  </a:lnTo>
                  <a:cubicBezTo>
                    <a:pt x="59" y="137"/>
                    <a:pt x="67" y="136"/>
                    <a:pt x="72" y="130"/>
                  </a:cubicBezTo>
                  <a:lnTo>
                    <a:pt x="123" y="54"/>
                  </a:lnTo>
                  <a:cubicBezTo>
                    <a:pt x="127" y="47"/>
                    <a:pt x="126" y="39"/>
                    <a:pt x="120" y="35"/>
                  </a:cubicBezTo>
                  <a:lnTo>
                    <a:pt x="74" y="4"/>
                  </a:lnTo>
                  <a:close/>
                </a:path>
              </a:pathLst>
            </a:custGeom>
            <a:solidFill>
              <a:srgbClr val="3d3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90680" y="1990800"/>
              <a:ext cx="2239920" cy="242388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72" y="4"/>
                  </a:moveTo>
                  <a:cubicBezTo>
                    <a:pt x="66" y="0"/>
                    <a:pt x="58" y="1"/>
                    <a:pt x="54" y="7"/>
                  </a:cubicBezTo>
                  <a:lnTo>
                    <a:pt x="4" y="82"/>
                  </a:lnTo>
                  <a:cubicBezTo>
                    <a:pt x="0" y="88"/>
                    <a:pt x="1" y="96"/>
                    <a:pt x="7" y="100"/>
                  </a:cubicBezTo>
                  <a:lnTo>
                    <a:pt x="51" y="130"/>
                  </a:lnTo>
                  <a:cubicBezTo>
                    <a:pt x="57" y="133"/>
                    <a:pt x="65" y="132"/>
                    <a:pt x="69" y="126"/>
                  </a:cubicBezTo>
                  <a:lnTo>
                    <a:pt x="119" y="52"/>
                  </a:lnTo>
                  <a:cubicBezTo>
                    <a:pt x="123" y="45"/>
                    <a:pt x="122" y="38"/>
                    <a:pt x="116" y="34"/>
                  </a:cubicBezTo>
                  <a:lnTo>
                    <a:pt x="72" y="4"/>
                  </a:lnTo>
                  <a:close/>
                </a:path>
              </a:pathLst>
            </a:custGeom>
            <a:solidFill>
              <a:srgbClr val="434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08320" y="2008080"/>
              <a:ext cx="2203200" cy="2389320"/>
            </a:xfrm>
            <a:custGeom>
              <a:avLst/>
              <a:gdLst/>
              <a:ahLst/>
              <a:rect l="l" t="t" r="r" b="b"/>
              <a:pathLst>
                <a:path w="121" h="131">
                  <a:moveTo>
                    <a:pt x="71" y="4"/>
                  </a:moveTo>
                  <a:cubicBezTo>
                    <a:pt x="65" y="0"/>
                    <a:pt x="57" y="1"/>
                    <a:pt x="53" y="7"/>
                  </a:cubicBezTo>
                  <a:lnTo>
                    <a:pt x="4" y="81"/>
                  </a:lnTo>
                  <a:cubicBezTo>
                    <a:pt x="0" y="86"/>
                    <a:pt x="1" y="95"/>
                    <a:pt x="7" y="99"/>
                  </a:cubicBezTo>
                  <a:lnTo>
                    <a:pt x="50" y="128"/>
                  </a:lnTo>
                  <a:cubicBezTo>
                    <a:pt x="56" y="131"/>
                    <a:pt x="64" y="130"/>
                    <a:pt x="68" y="124"/>
                  </a:cubicBezTo>
                  <a:lnTo>
                    <a:pt x="117" y="51"/>
                  </a:lnTo>
                  <a:cubicBezTo>
                    <a:pt x="121" y="45"/>
                    <a:pt x="120" y="37"/>
                    <a:pt x="114" y="33"/>
                  </a:cubicBezTo>
                  <a:lnTo>
                    <a:pt x="71" y="4"/>
                  </a:lnTo>
                  <a:close/>
                </a:path>
              </a:pathLst>
            </a:custGeom>
            <a:solidFill>
              <a:srgbClr val="4a4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44680" y="2044800"/>
              <a:ext cx="2130480" cy="231624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68" y="4"/>
                  </a:moveTo>
                  <a:cubicBezTo>
                    <a:pt x="63" y="0"/>
                    <a:pt x="55" y="1"/>
                    <a:pt x="51" y="7"/>
                  </a:cubicBezTo>
                  <a:lnTo>
                    <a:pt x="4" y="78"/>
                  </a:lnTo>
                  <a:cubicBezTo>
                    <a:pt x="0" y="84"/>
                    <a:pt x="1" y="92"/>
                    <a:pt x="7" y="96"/>
                  </a:cubicBezTo>
                  <a:lnTo>
                    <a:pt x="49" y="124"/>
                  </a:lnTo>
                  <a:cubicBezTo>
                    <a:pt x="54" y="127"/>
                    <a:pt x="62" y="126"/>
                    <a:pt x="66" y="120"/>
                  </a:cubicBezTo>
                  <a:lnTo>
                    <a:pt x="113" y="50"/>
                  </a:lnTo>
                  <a:cubicBezTo>
                    <a:pt x="117" y="43"/>
                    <a:pt x="116" y="36"/>
                    <a:pt x="110" y="32"/>
                  </a:cubicBezTo>
                  <a:lnTo>
                    <a:pt x="68" y="4"/>
                  </a:lnTo>
                  <a:close/>
                </a:path>
              </a:pathLst>
            </a:custGeom>
            <a:solidFill>
              <a:srgbClr val="515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63760" y="2081160"/>
              <a:ext cx="2093760" cy="2243160"/>
            </a:xfrm>
            <a:custGeom>
              <a:avLst/>
              <a:gdLst/>
              <a:ahLst/>
              <a:rect l="l" t="t" r="r" b="b"/>
              <a:pathLst>
                <a:path w="115" h="123">
                  <a:moveTo>
                    <a:pt x="67" y="4"/>
                  </a:moveTo>
                  <a:cubicBezTo>
                    <a:pt x="62" y="0"/>
                    <a:pt x="54" y="1"/>
                    <a:pt x="50" y="7"/>
                  </a:cubicBezTo>
                  <a:lnTo>
                    <a:pt x="4" y="76"/>
                  </a:lnTo>
                  <a:cubicBezTo>
                    <a:pt x="0" y="81"/>
                    <a:pt x="1" y="89"/>
                    <a:pt x="7" y="93"/>
                  </a:cubicBezTo>
                  <a:lnTo>
                    <a:pt x="48" y="120"/>
                  </a:lnTo>
                  <a:cubicBezTo>
                    <a:pt x="53" y="123"/>
                    <a:pt x="61" y="122"/>
                    <a:pt x="65" y="116"/>
                  </a:cubicBezTo>
                  <a:lnTo>
                    <a:pt x="111" y="48"/>
                  </a:lnTo>
                  <a:cubicBezTo>
                    <a:pt x="115" y="42"/>
                    <a:pt x="114" y="35"/>
                    <a:pt x="108" y="31"/>
                  </a:cubicBezTo>
                  <a:lnTo>
                    <a:pt x="67" y="4"/>
                  </a:lnTo>
                  <a:close/>
                </a:path>
              </a:pathLst>
            </a:custGeom>
            <a:solidFill>
              <a:srgbClr val="58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00120" y="2100240"/>
              <a:ext cx="2021040" cy="220500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65" y="4"/>
                  </a:moveTo>
                  <a:cubicBezTo>
                    <a:pt x="60" y="0"/>
                    <a:pt x="52" y="1"/>
                    <a:pt x="48" y="7"/>
                  </a:cubicBezTo>
                  <a:lnTo>
                    <a:pt x="3" y="74"/>
                  </a:lnTo>
                  <a:cubicBezTo>
                    <a:pt x="0" y="80"/>
                    <a:pt x="1" y="87"/>
                    <a:pt x="6" y="91"/>
                  </a:cubicBezTo>
                  <a:lnTo>
                    <a:pt x="46" y="118"/>
                  </a:lnTo>
                  <a:cubicBezTo>
                    <a:pt x="51" y="121"/>
                    <a:pt x="59" y="120"/>
                    <a:pt x="63" y="114"/>
                  </a:cubicBezTo>
                  <a:lnTo>
                    <a:pt x="108" y="47"/>
                  </a:lnTo>
                  <a:cubicBezTo>
                    <a:pt x="111" y="41"/>
                    <a:pt x="110" y="34"/>
                    <a:pt x="105" y="31"/>
                  </a:cubicBezTo>
                  <a:lnTo>
                    <a:pt x="65" y="4"/>
                  </a:lnTo>
                  <a:close/>
                </a:path>
              </a:pathLst>
            </a:custGeom>
            <a:solidFill>
              <a:srgbClr val="5f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17760" y="2135160"/>
              <a:ext cx="1967040" cy="213372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63" y="3"/>
                  </a:moveTo>
                  <a:cubicBezTo>
                    <a:pt x="58" y="0"/>
                    <a:pt x="51" y="1"/>
                    <a:pt x="47" y="6"/>
                  </a:cubicBezTo>
                  <a:lnTo>
                    <a:pt x="3" y="72"/>
                  </a:lnTo>
                  <a:cubicBezTo>
                    <a:pt x="0" y="77"/>
                    <a:pt x="1" y="84"/>
                    <a:pt x="6" y="88"/>
                  </a:cubicBezTo>
                  <a:lnTo>
                    <a:pt x="45" y="114"/>
                  </a:lnTo>
                  <a:cubicBezTo>
                    <a:pt x="50" y="117"/>
                    <a:pt x="57" y="116"/>
                    <a:pt x="61" y="111"/>
                  </a:cubicBezTo>
                  <a:lnTo>
                    <a:pt x="105" y="46"/>
                  </a:lnTo>
                  <a:cubicBezTo>
                    <a:pt x="108" y="40"/>
                    <a:pt x="107" y="33"/>
                    <a:pt x="102" y="30"/>
                  </a:cubicBezTo>
                  <a:lnTo>
                    <a:pt x="63" y="3"/>
                  </a:lnTo>
                  <a:close/>
                </a:path>
              </a:pathLst>
            </a:custGeom>
            <a:solidFill>
              <a:srgbClr val="676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54120" y="2171880"/>
              <a:ext cx="1913040" cy="206028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61" y="3"/>
                  </a:moveTo>
                  <a:cubicBezTo>
                    <a:pt x="56" y="0"/>
                    <a:pt x="49" y="1"/>
                    <a:pt x="46" y="6"/>
                  </a:cubicBezTo>
                  <a:lnTo>
                    <a:pt x="3" y="70"/>
                  </a:lnTo>
                  <a:cubicBezTo>
                    <a:pt x="0" y="74"/>
                    <a:pt x="1" y="82"/>
                    <a:pt x="6" y="85"/>
                  </a:cubicBezTo>
                  <a:lnTo>
                    <a:pt x="44" y="110"/>
                  </a:lnTo>
                  <a:cubicBezTo>
                    <a:pt x="49" y="113"/>
                    <a:pt x="56" y="112"/>
                    <a:pt x="59" y="107"/>
                  </a:cubicBezTo>
                  <a:lnTo>
                    <a:pt x="102" y="44"/>
                  </a:lnTo>
                  <a:cubicBezTo>
                    <a:pt x="105" y="39"/>
                    <a:pt x="104" y="32"/>
                    <a:pt x="99" y="29"/>
                  </a:cubicBezTo>
                  <a:lnTo>
                    <a:pt x="61" y="3"/>
                  </a:lnTo>
                  <a:close/>
                </a:path>
              </a:pathLst>
            </a:custGeom>
            <a:solidFill>
              <a:srgbClr val="6e6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71760" y="2190600"/>
              <a:ext cx="1859040" cy="2024280"/>
            </a:xfrm>
            <a:custGeom>
              <a:avLst/>
              <a:gdLst/>
              <a:ahLst/>
              <a:rect l="l" t="t" r="r" b="b"/>
              <a:pathLst>
                <a:path w="102" h="111">
                  <a:moveTo>
                    <a:pt x="60" y="3"/>
                  </a:moveTo>
                  <a:cubicBezTo>
                    <a:pt x="55" y="0"/>
                    <a:pt x="48" y="1"/>
                    <a:pt x="44" y="6"/>
                  </a:cubicBezTo>
                  <a:lnTo>
                    <a:pt x="3" y="68"/>
                  </a:lnTo>
                  <a:cubicBezTo>
                    <a:pt x="0" y="73"/>
                    <a:pt x="1" y="80"/>
                    <a:pt x="6" y="84"/>
                  </a:cubicBezTo>
                  <a:lnTo>
                    <a:pt x="42" y="108"/>
                  </a:lnTo>
                  <a:cubicBezTo>
                    <a:pt x="47" y="111"/>
                    <a:pt x="54" y="110"/>
                    <a:pt x="58" y="105"/>
                  </a:cubicBezTo>
                  <a:lnTo>
                    <a:pt x="99" y="43"/>
                  </a:lnTo>
                  <a:cubicBezTo>
                    <a:pt x="102" y="38"/>
                    <a:pt x="101" y="32"/>
                    <a:pt x="96" y="28"/>
                  </a:cubicBezTo>
                  <a:lnTo>
                    <a:pt x="60" y="3"/>
                  </a:lnTo>
                  <a:close/>
                </a:path>
              </a:pathLst>
            </a:custGeom>
            <a:solidFill>
              <a:srgbClr val="747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08120" y="2227320"/>
              <a:ext cx="1803600" cy="195084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58" y="3"/>
                  </a:moveTo>
                  <a:cubicBezTo>
                    <a:pt x="53" y="0"/>
                    <a:pt x="46" y="1"/>
                    <a:pt x="43" y="6"/>
                  </a:cubicBezTo>
                  <a:lnTo>
                    <a:pt x="3" y="66"/>
                  </a:lnTo>
                  <a:cubicBezTo>
                    <a:pt x="0" y="70"/>
                    <a:pt x="1" y="77"/>
                    <a:pt x="6" y="80"/>
                  </a:cubicBezTo>
                  <a:lnTo>
                    <a:pt x="41" y="104"/>
                  </a:lnTo>
                  <a:cubicBezTo>
                    <a:pt x="46" y="107"/>
                    <a:pt x="52" y="106"/>
                    <a:pt x="56" y="101"/>
                  </a:cubicBezTo>
                  <a:lnTo>
                    <a:pt x="96" y="42"/>
                  </a:lnTo>
                  <a:cubicBezTo>
                    <a:pt x="99" y="36"/>
                    <a:pt x="98" y="30"/>
                    <a:pt x="93" y="27"/>
                  </a:cubicBezTo>
                  <a:lnTo>
                    <a:pt x="58" y="3"/>
                  </a:lnTo>
                  <a:close/>
                </a:path>
              </a:pathLst>
            </a:custGeom>
            <a:solidFill>
              <a:srgbClr val="7d7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27200" y="2244600"/>
              <a:ext cx="1747800" cy="189720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6" y="3"/>
                  </a:moveTo>
                  <a:cubicBezTo>
                    <a:pt x="52" y="0"/>
                    <a:pt x="45" y="1"/>
                    <a:pt x="42" y="6"/>
                  </a:cubicBezTo>
                  <a:lnTo>
                    <a:pt x="3" y="64"/>
                  </a:lnTo>
                  <a:cubicBezTo>
                    <a:pt x="0" y="69"/>
                    <a:pt x="1" y="75"/>
                    <a:pt x="6" y="78"/>
                  </a:cubicBezTo>
                  <a:lnTo>
                    <a:pt x="40" y="102"/>
                  </a:lnTo>
                  <a:cubicBezTo>
                    <a:pt x="44" y="104"/>
                    <a:pt x="51" y="103"/>
                    <a:pt x="54" y="98"/>
                  </a:cubicBezTo>
                  <a:lnTo>
                    <a:pt x="93" y="41"/>
                  </a:lnTo>
                  <a:cubicBezTo>
                    <a:pt x="96" y="35"/>
                    <a:pt x="95" y="30"/>
                    <a:pt x="90" y="26"/>
                  </a:cubicBezTo>
                  <a:lnTo>
                    <a:pt x="56" y="3"/>
                  </a:lnTo>
                  <a:close/>
                </a:path>
              </a:pathLst>
            </a:custGeom>
            <a:solidFill>
              <a:srgbClr val="838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3920" y="2281320"/>
              <a:ext cx="1693800" cy="1841400"/>
            </a:xfrm>
            <a:custGeom>
              <a:avLst/>
              <a:gdLst/>
              <a:ahLst/>
              <a:rect l="l" t="t" r="r" b="b"/>
              <a:pathLst>
                <a:path w="93" h="101">
                  <a:moveTo>
                    <a:pt x="54" y="3"/>
                  </a:moveTo>
                  <a:cubicBezTo>
                    <a:pt x="50" y="0"/>
                    <a:pt x="44" y="1"/>
                    <a:pt x="41" y="6"/>
                  </a:cubicBezTo>
                  <a:lnTo>
                    <a:pt x="3" y="62"/>
                  </a:lnTo>
                  <a:cubicBezTo>
                    <a:pt x="0" y="67"/>
                    <a:pt x="1" y="73"/>
                    <a:pt x="6" y="76"/>
                  </a:cubicBezTo>
                  <a:lnTo>
                    <a:pt x="39" y="99"/>
                  </a:lnTo>
                  <a:cubicBezTo>
                    <a:pt x="43" y="101"/>
                    <a:pt x="49" y="100"/>
                    <a:pt x="52" y="95"/>
                  </a:cubicBezTo>
                  <a:lnTo>
                    <a:pt x="90" y="39"/>
                  </a:lnTo>
                  <a:cubicBezTo>
                    <a:pt x="93" y="34"/>
                    <a:pt x="92" y="29"/>
                    <a:pt x="87" y="26"/>
                  </a:cubicBezTo>
                  <a:lnTo>
                    <a:pt x="54" y="3"/>
                  </a:lnTo>
                  <a:close/>
                </a:path>
              </a:pathLst>
            </a:custGeom>
            <a:solidFill>
              <a:srgbClr val="8a8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81200" y="2317680"/>
              <a:ext cx="1639800" cy="1768680"/>
            </a:xfrm>
            <a:custGeom>
              <a:avLst/>
              <a:gdLst/>
              <a:ahLst/>
              <a:rect l="l" t="t" r="r" b="b"/>
              <a:pathLst>
                <a:path w="90" h="97">
                  <a:moveTo>
                    <a:pt x="53" y="3"/>
                  </a:moveTo>
                  <a:cubicBezTo>
                    <a:pt x="48" y="0"/>
                    <a:pt x="42" y="1"/>
                    <a:pt x="39" y="5"/>
                  </a:cubicBezTo>
                  <a:lnTo>
                    <a:pt x="3" y="60"/>
                  </a:lnTo>
                  <a:cubicBezTo>
                    <a:pt x="0" y="64"/>
                    <a:pt x="1" y="70"/>
                    <a:pt x="5" y="73"/>
                  </a:cubicBezTo>
                  <a:lnTo>
                    <a:pt x="37" y="95"/>
                  </a:lnTo>
                  <a:cubicBezTo>
                    <a:pt x="42" y="97"/>
                    <a:pt x="48" y="96"/>
                    <a:pt x="51" y="92"/>
                  </a:cubicBezTo>
                  <a:lnTo>
                    <a:pt x="87" y="38"/>
                  </a:lnTo>
                  <a:cubicBezTo>
                    <a:pt x="90" y="33"/>
                    <a:pt x="89" y="28"/>
                    <a:pt x="85" y="25"/>
                  </a:cubicBezTo>
                  <a:lnTo>
                    <a:pt x="53" y="3"/>
                  </a:lnTo>
                  <a:close/>
                </a:path>
              </a:pathLst>
            </a:custGeom>
            <a:solidFill>
              <a:srgbClr val="9292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17920" y="2336760"/>
              <a:ext cx="1584000" cy="1712880"/>
            </a:xfrm>
            <a:custGeom>
              <a:avLst/>
              <a:gdLst/>
              <a:ahLst/>
              <a:rect l="l" t="t" r="r" b="b"/>
              <a:pathLst>
                <a:path w="87" h="94">
                  <a:moveTo>
                    <a:pt x="51" y="3"/>
                  </a:moveTo>
                  <a:cubicBezTo>
                    <a:pt x="47" y="0"/>
                    <a:pt x="41" y="1"/>
                    <a:pt x="38" y="5"/>
                  </a:cubicBezTo>
                  <a:lnTo>
                    <a:pt x="3" y="58"/>
                  </a:lnTo>
                  <a:cubicBezTo>
                    <a:pt x="0" y="62"/>
                    <a:pt x="1" y="68"/>
                    <a:pt x="5" y="71"/>
                  </a:cubicBezTo>
                  <a:lnTo>
                    <a:pt x="36" y="92"/>
                  </a:lnTo>
                  <a:cubicBezTo>
                    <a:pt x="40" y="94"/>
                    <a:pt x="46" y="93"/>
                    <a:pt x="49" y="89"/>
                  </a:cubicBezTo>
                  <a:lnTo>
                    <a:pt x="84" y="37"/>
                  </a:lnTo>
                  <a:cubicBezTo>
                    <a:pt x="87" y="32"/>
                    <a:pt x="86" y="27"/>
                    <a:pt x="82" y="24"/>
                  </a:cubicBezTo>
                  <a:lnTo>
                    <a:pt x="51" y="3"/>
                  </a:lnTo>
                  <a:close/>
                </a:path>
              </a:pathLst>
            </a:custGeom>
            <a:solidFill>
              <a:srgbClr val="999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36640" y="2373480"/>
              <a:ext cx="1528920" cy="165888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49" y="3"/>
                  </a:moveTo>
                  <a:cubicBezTo>
                    <a:pt x="45" y="0"/>
                    <a:pt x="39" y="1"/>
                    <a:pt x="37" y="5"/>
                  </a:cubicBezTo>
                  <a:lnTo>
                    <a:pt x="3" y="56"/>
                  </a:lnTo>
                  <a:cubicBezTo>
                    <a:pt x="0" y="60"/>
                    <a:pt x="1" y="66"/>
                    <a:pt x="5" y="68"/>
                  </a:cubicBezTo>
                  <a:lnTo>
                    <a:pt x="35" y="89"/>
                  </a:lnTo>
                  <a:cubicBezTo>
                    <a:pt x="39" y="91"/>
                    <a:pt x="45" y="90"/>
                    <a:pt x="47" y="86"/>
                  </a:cubicBezTo>
                  <a:lnTo>
                    <a:pt x="81" y="36"/>
                  </a:lnTo>
                  <a:cubicBezTo>
                    <a:pt x="84" y="31"/>
                    <a:pt x="83" y="26"/>
                    <a:pt x="79" y="23"/>
                  </a:cubicBezTo>
                  <a:lnTo>
                    <a:pt x="49" y="3"/>
                  </a:lnTo>
                  <a:close/>
                </a:path>
              </a:pathLst>
            </a:custGeom>
            <a:solidFill>
              <a:srgbClr val="9f9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73360" y="2409840"/>
              <a:ext cx="1474920" cy="158580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47" y="3"/>
                  </a:moveTo>
                  <a:cubicBezTo>
                    <a:pt x="43" y="0"/>
                    <a:pt x="38" y="1"/>
                    <a:pt x="35" y="5"/>
                  </a:cubicBezTo>
                  <a:lnTo>
                    <a:pt x="3" y="54"/>
                  </a:lnTo>
                  <a:cubicBezTo>
                    <a:pt x="0" y="57"/>
                    <a:pt x="1" y="63"/>
                    <a:pt x="5" y="65"/>
                  </a:cubicBezTo>
                  <a:lnTo>
                    <a:pt x="34" y="85"/>
                  </a:lnTo>
                  <a:cubicBezTo>
                    <a:pt x="38" y="87"/>
                    <a:pt x="43" y="86"/>
                    <a:pt x="46" y="82"/>
                  </a:cubicBezTo>
                  <a:lnTo>
                    <a:pt x="78" y="34"/>
                  </a:lnTo>
                  <a:cubicBezTo>
                    <a:pt x="81" y="30"/>
                    <a:pt x="80" y="25"/>
                    <a:pt x="76" y="22"/>
                  </a:cubicBezTo>
                  <a:lnTo>
                    <a:pt x="47" y="3"/>
                  </a:lnTo>
                  <a:close/>
                </a:path>
              </a:pathLst>
            </a:custGeom>
            <a:solidFill>
              <a:srgbClr val="a7a7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90640" y="2427120"/>
              <a:ext cx="1420920" cy="153216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46" y="3"/>
                  </a:moveTo>
                  <a:cubicBezTo>
                    <a:pt x="42" y="0"/>
                    <a:pt x="37" y="1"/>
                    <a:pt x="34" y="5"/>
                  </a:cubicBezTo>
                  <a:lnTo>
                    <a:pt x="3" y="52"/>
                  </a:lnTo>
                  <a:cubicBezTo>
                    <a:pt x="0" y="55"/>
                    <a:pt x="1" y="61"/>
                    <a:pt x="5" y="63"/>
                  </a:cubicBezTo>
                  <a:lnTo>
                    <a:pt x="32" y="82"/>
                  </a:lnTo>
                  <a:cubicBezTo>
                    <a:pt x="36" y="84"/>
                    <a:pt x="41" y="83"/>
                    <a:pt x="44" y="79"/>
                  </a:cubicBezTo>
                  <a:lnTo>
                    <a:pt x="75" y="33"/>
                  </a:lnTo>
                  <a:cubicBezTo>
                    <a:pt x="78" y="29"/>
                    <a:pt x="77" y="24"/>
                    <a:pt x="73" y="21"/>
                  </a:cubicBezTo>
                  <a:lnTo>
                    <a:pt x="46" y="3"/>
                  </a:lnTo>
                  <a:close/>
                </a:path>
              </a:pathLst>
            </a:custGeom>
            <a:solidFill>
              <a:srgbClr val="ada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27360" y="2463840"/>
              <a:ext cx="1365120" cy="147636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44" y="3"/>
                  </a:moveTo>
                  <a:cubicBezTo>
                    <a:pt x="40" y="0"/>
                    <a:pt x="35" y="1"/>
                    <a:pt x="33" y="5"/>
                  </a:cubicBezTo>
                  <a:lnTo>
                    <a:pt x="3" y="50"/>
                  </a:lnTo>
                  <a:cubicBezTo>
                    <a:pt x="0" y="53"/>
                    <a:pt x="1" y="58"/>
                    <a:pt x="5" y="61"/>
                  </a:cubicBezTo>
                  <a:lnTo>
                    <a:pt x="31" y="79"/>
                  </a:lnTo>
                  <a:cubicBezTo>
                    <a:pt x="35" y="81"/>
                    <a:pt x="40" y="80"/>
                    <a:pt x="42" y="76"/>
                  </a:cubicBezTo>
                  <a:lnTo>
                    <a:pt x="72" y="32"/>
                  </a:lnTo>
                  <a:cubicBezTo>
                    <a:pt x="75" y="28"/>
                    <a:pt x="74" y="23"/>
                    <a:pt x="70" y="21"/>
                  </a:cubicBezTo>
                  <a:lnTo>
                    <a:pt x="44" y="3"/>
                  </a:lnTo>
                  <a:close/>
                </a:path>
              </a:pathLst>
            </a:custGeom>
            <a:solidFill>
              <a:srgbClr val="b3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63720" y="2500200"/>
              <a:ext cx="1293840" cy="1403640"/>
            </a:xfrm>
            <a:custGeom>
              <a:avLst/>
              <a:gdLst/>
              <a:ahLst/>
              <a:rect l="l" t="t" r="r" b="b"/>
              <a:pathLst>
                <a:path w="71" h="77">
                  <a:moveTo>
                    <a:pt x="41" y="2"/>
                  </a:moveTo>
                  <a:cubicBezTo>
                    <a:pt x="38" y="0"/>
                    <a:pt x="33" y="1"/>
                    <a:pt x="31" y="4"/>
                  </a:cubicBezTo>
                  <a:lnTo>
                    <a:pt x="2" y="47"/>
                  </a:lnTo>
                  <a:cubicBezTo>
                    <a:pt x="0" y="51"/>
                    <a:pt x="1" y="55"/>
                    <a:pt x="4" y="58"/>
                  </a:cubicBezTo>
                  <a:lnTo>
                    <a:pt x="30" y="75"/>
                  </a:lnTo>
                  <a:cubicBezTo>
                    <a:pt x="33" y="77"/>
                    <a:pt x="38" y="76"/>
                    <a:pt x="40" y="73"/>
                  </a:cubicBezTo>
                  <a:lnTo>
                    <a:pt x="69" y="30"/>
                  </a:lnTo>
                  <a:cubicBezTo>
                    <a:pt x="71" y="26"/>
                    <a:pt x="70" y="22"/>
                    <a:pt x="67" y="20"/>
                  </a:cubicBezTo>
                  <a:lnTo>
                    <a:pt x="41" y="2"/>
                  </a:lnTo>
                  <a:close/>
                </a:path>
              </a:pathLst>
            </a:custGeom>
            <a:solidFill>
              <a:srgbClr val="bab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81360" y="2519280"/>
              <a:ext cx="1239840" cy="134928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40" y="2"/>
                  </a:moveTo>
                  <a:cubicBezTo>
                    <a:pt x="37" y="0"/>
                    <a:pt x="32" y="1"/>
                    <a:pt x="30" y="4"/>
                  </a:cubicBezTo>
                  <a:lnTo>
                    <a:pt x="2" y="45"/>
                  </a:lnTo>
                  <a:cubicBezTo>
                    <a:pt x="0" y="49"/>
                    <a:pt x="1" y="53"/>
                    <a:pt x="4" y="56"/>
                  </a:cubicBezTo>
                  <a:lnTo>
                    <a:pt x="28" y="72"/>
                  </a:lnTo>
                  <a:cubicBezTo>
                    <a:pt x="31" y="74"/>
                    <a:pt x="36" y="73"/>
                    <a:pt x="38" y="70"/>
                  </a:cubicBezTo>
                  <a:lnTo>
                    <a:pt x="66" y="29"/>
                  </a:lnTo>
                  <a:cubicBezTo>
                    <a:pt x="68" y="25"/>
                    <a:pt x="67" y="21"/>
                    <a:pt x="64" y="19"/>
                  </a:cubicBezTo>
                  <a:lnTo>
                    <a:pt x="40" y="2"/>
                  </a:lnTo>
                  <a:close/>
                </a:path>
              </a:pathLst>
            </a:custGeom>
            <a:solidFill>
              <a:srgbClr val="c0c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17720" y="2556000"/>
              <a:ext cx="1184400" cy="1293840"/>
            </a:xfrm>
            <a:custGeom>
              <a:avLst/>
              <a:gdLst/>
              <a:ahLst/>
              <a:rect l="l" t="t" r="r" b="b"/>
              <a:pathLst>
                <a:path w="65" h="71">
                  <a:moveTo>
                    <a:pt x="38" y="2"/>
                  </a:moveTo>
                  <a:cubicBezTo>
                    <a:pt x="35" y="0"/>
                    <a:pt x="31" y="1"/>
                    <a:pt x="28" y="4"/>
                  </a:cubicBezTo>
                  <a:lnTo>
                    <a:pt x="2" y="44"/>
                  </a:lnTo>
                  <a:cubicBezTo>
                    <a:pt x="0" y="47"/>
                    <a:pt x="1" y="51"/>
                    <a:pt x="4" y="53"/>
                  </a:cubicBezTo>
                  <a:lnTo>
                    <a:pt x="27" y="69"/>
                  </a:lnTo>
                  <a:cubicBezTo>
                    <a:pt x="30" y="71"/>
                    <a:pt x="34" y="70"/>
                    <a:pt x="37" y="67"/>
                  </a:cubicBezTo>
                  <a:lnTo>
                    <a:pt x="63" y="28"/>
                  </a:lnTo>
                  <a:cubicBezTo>
                    <a:pt x="65" y="24"/>
                    <a:pt x="64" y="20"/>
                    <a:pt x="61" y="18"/>
                  </a:cubicBezTo>
                  <a:lnTo>
                    <a:pt x="38" y="2"/>
                  </a:lnTo>
                  <a:close/>
                </a:path>
              </a:pathLst>
            </a:custGeom>
            <a:solidFill>
              <a:srgbClr val="c5c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6800" y="2592360"/>
              <a:ext cx="1128600" cy="12207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36" y="2"/>
                  </a:moveTo>
                  <a:cubicBezTo>
                    <a:pt x="33" y="0"/>
                    <a:pt x="29" y="1"/>
                    <a:pt x="27" y="4"/>
                  </a:cubicBezTo>
                  <a:lnTo>
                    <a:pt x="2" y="41"/>
                  </a:lnTo>
                  <a:cubicBezTo>
                    <a:pt x="0" y="44"/>
                    <a:pt x="1" y="48"/>
                    <a:pt x="4" y="50"/>
                  </a:cubicBezTo>
                  <a:lnTo>
                    <a:pt x="26" y="65"/>
                  </a:lnTo>
                  <a:cubicBezTo>
                    <a:pt x="29" y="67"/>
                    <a:pt x="33" y="66"/>
                    <a:pt x="35" y="63"/>
                  </a:cubicBezTo>
                  <a:lnTo>
                    <a:pt x="60" y="26"/>
                  </a:lnTo>
                  <a:cubicBezTo>
                    <a:pt x="62" y="23"/>
                    <a:pt x="61" y="19"/>
                    <a:pt x="58" y="17"/>
                  </a:cubicBezTo>
                  <a:lnTo>
                    <a:pt x="36" y="2"/>
                  </a:lnTo>
                  <a:close/>
                </a:path>
              </a:pathLst>
            </a:custGeom>
            <a:solidFill>
              <a:srgbClr val="cbc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73520" y="2610000"/>
              <a:ext cx="1074600" cy="1166760"/>
            </a:xfrm>
            <a:custGeom>
              <a:avLst/>
              <a:gdLst/>
              <a:ahLst/>
              <a:rect l="l" t="t" r="r" b="b"/>
              <a:pathLst>
                <a:path w="59" h="64">
                  <a:moveTo>
                    <a:pt x="34" y="2"/>
                  </a:moveTo>
                  <a:cubicBezTo>
                    <a:pt x="32" y="0"/>
                    <a:pt x="28" y="1"/>
                    <a:pt x="26" y="4"/>
                  </a:cubicBezTo>
                  <a:lnTo>
                    <a:pt x="2" y="39"/>
                  </a:lnTo>
                  <a:cubicBezTo>
                    <a:pt x="0" y="42"/>
                    <a:pt x="1" y="46"/>
                    <a:pt x="4" y="48"/>
                  </a:cubicBezTo>
                  <a:lnTo>
                    <a:pt x="25" y="62"/>
                  </a:lnTo>
                  <a:cubicBezTo>
                    <a:pt x="27" y="64"/>
                    <a:pt x="31" y="63"/>
                    <a:pt x="33" y="60"/>
                  </a:cubicBezTo>
                  <a:lnTo>
                    <a:pt x="57" y="25"/>
                  </a:lnTo>
                  <a:cubicBezTo>
                    <a:pt x="59" y="22"/>
                    <a:pt x="58" y="18"/>
                    <a:pt x="55" y="16"/>
                  </a:cubicBezTo>
                  <a:lnTo>
                    <a:pt x="34" y="2"/>
                  </a:lnTo>
                  <a:close/>
                </a:path>
              </a:pathLst>
            </a:custGeom>
            <a:solidFill>
              <a:srgbClr val="d0d0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0800" y="2646360"/>
              <a:ext cx="1020600" cy="1112760"/>
            </a:xfrm>
            <a:custGeom>
              <a:avLst/>
              <a:gdLst/>
              <a:ahLst/>
              <a:rect l="l" t="t" r="r" b="b"/>
              <a:pathLst>
                <a:path w="56" h="61">
                  <a:moveTo>
                    <a:pt x="33" y="2"/>
                  </a:moveTo>
                  <a:cubicBezTo>
                    <a:pt x="30" y="0"/>
                    <a:pt x="26" y="1"/>
                    <a:pt x="24" y="4"/>
                  </a:cubicBezTo>
                  <a:lnTo>
                    <a:pt x="2" y="37"/>
                  </a:lnTo>
                  <a:cubicBezTo>
                    <a:pt x="0" y="40"/>
                    <a:pt x="1" y="44"/>
                    <a:pt x="3" y="46"/>
                  </a:cubicBezTo>
                  <a:lnTo>
                    <a:pt x="23" y="59"/>
                  </a:lnTo>
                  <a:cubicBezTo>
                    <a:pt x="26" y="61"/>
                    <a:pt x="30" y="60"/>
                    <a:pt x="32" y="57"/>
                  </a:cubicBezTo>
                  <a:lnTo>
                    <a:pt x="54" y="24"/>
                  </a:lnTo>
                  <a:cubicBezTo>
                    <a:pt x="56" y="21"/>
                    <a:pt x="55" y="17"/>
                    <a:pt x="53" y="16"/>
                  </a:cubicBezTo>
                  <a:lnTo>
                    <a:pt x="33" y="2"/>
                  </a:lnTo>
                  <a:close/>
                </a:path>
              </a:pathLst>
            </a:custGeom>
            <a:solidFill>
              <a:srgbClr val="d5d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27160" y="2682720"/>
              <a:ext cx="965520" cy="104004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31" y="2"/>
                  </a:moveTo>
                  <a:cubicBezTo>
                    <a:pt x="28" y="0"/>
                    <a:pt x="25" y="1"/>
                    <a:pt x="23" y="3"/>
                  </a:cubicBezTo>
                  <a:lnTo>
                    <a:pt x="2" y="35"/>
                  </a:lnTo>
                  <a:cubicBezTo>
                    <a:pt x="0" y="37"/>
                    <a:pt x="1" y="41"/>
                    <a:pt x="3" y="43"/>
                  </a:cubicBezTo>
                  <a:lnTo>
                    <a:pt x="22" y="55"/>
                  </a:lnTo>
                  <a:cubicBezTo>
                    <a:pt x="25" y="57"/>
                    <a:pt x="28" y="56"/>
                    <a:pt x="30" y="54"/>
                  </a:cubicBezTo>
                  <a:lnTo>
                    <a:pt x="51" y="22"/>
                  </a:lnTo>
                  <a:cubicBezTo>
                    <a:pt x="53" y="20"/>
                    <a:pt x="52" y="16"/>
                    <a:pt x="50" y="15"/>
                  </a:cubicBezTo>
                  <a:lnTo>
                    <a:pt x="31" y="2"/>
                  </a:lnTo>
                  <a:close/>
                </a:path>
              </a:pathLst>
            </a:custGeom>
            <a:solidFill>
              <a:srgbClr val="dad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46240" y="2701800"/>
              <a:ext cx="909720" cy="98424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29" y="2"/>
                  </a:moveTo>
                  <a:cubicBezTo>
                    <a:pt x="27" y="0"/>
                    <a:pt x="23" y="1"/>
                    <a:pt x="22" y="3"/>
                  </a:cubicBezTo>
                  <a:lnTo>
                    <a:pt x="2" y="33"/>
                  </a:lnTo>
                  <a:cubicBezTo>
                    <a:pt x="0" y="35"/>
                    <a:pt x="1" y="39"/>
                    <a:pt x="3" y="40"/>
                  </a:cubicBezTo>
                  <a:lnTo>
                    <a:pt x="21" y="52"/>
                  </a:lnTo>
                  <a:cubicBezTo>
                    <a:pt x="23" y="54"/>
                    <a:pt x="26" y="53"/>
                    <a:pt x="28" y="51"/>
                  </a:cubicBezTo>
                  <a:lnTo>
                    <a:pt x="48" y="21"/>
                  </a:lnTo>
                  <a:cubicBezTo>
                    <a:pt x="50" y="18"/>
                    <a:pt x="49" y="15"/>
                    <a:pt x="47" y="14"/>
                  </a:cubicBezTo>
                  <a:lnTo>
                    <a:pt x="29" y="2"/>
                  </a:lnTo>
                  <a:close/>
                </a:path>
              </a:pathLst>
            </a:custGeom>
            <a:solidFill>
              <a:srgbClr val="dede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2960" y="2736720"/>
              <a:ext cx="855720" cy="9302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27" y="2"/>
                  </a:moveTo>
                  <a:cubicBezTo>
                    <a:pt x="25" y="0"/>
                    <a:pt x="22" y="1"/>
                    <a:pt x="21" y="3"/>
                  </a:cubicBezTo>
                  <a:lnTo>
                    <a:pt x="2" y="31"/>
                  </a:lnTo>
                  <a:cubicBezTo>
                    <a:pt x="0" y="34"/>
                    <a:pt x="1" y="37"/>
                    <a:pt x="3" y="38"/>
                  </a:cubicBezTo>
                  <a:lnTo>
                    <a:pt x="20" y="50"/>
                  </a:lnTo>
                  <a:cubicBezTo>
                    <a:pt x="22" y="51"/>
                    <a:pt x="25" y="50"/>
                    <a:pt x="26" y="48"/>
                  </a:cubicBezTo>
                  <a:lnTo>
                    <a:pt x="45" y="20"/>
                  </a:lnTo>
                  <a:cubicBezTo>
                    <a:pt x="47" y="17"/>
                    <a:pt x="46" y="15"/>
                    <a:pt x="44" y="13"/>
                  </a:cubicBezTo>
                  <a:lnTo>
                    <a:pt x="27" y="2"/>
                  </a:lnTo>
                  <a:close/>
                </a:path>
              </a:pathLst>
            </a:custGeom>
            <a:solidFill>
              <a:srgbClr val="e1e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00240" y="2755800"/>
              <a:ext cx="801720" cy="87480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6" y="2"/>
                  </a:moveTo>
                  <a:cubicBezTo>
                    <a:pt x="24" y="0"/>
                    <a:pt x="21" y="1"/>
                    <a:pt x="19" y="3"/>
                  </a:cubicBezTo>
                  <a:lnTo>
                    <a:pt x="2" y="29"/>
                  </a:lnTo>
                  <a:cubicBezTo>
                    <a:pt x="0" y="32"/>
                    <a:pt x="1" y="34"/>
                    <a:pt x="3" y="36"/>
                  </a:cubicBezTo>
                  <a:lnTo>
                    <a:pt x="18" y="47"/>
                  </a:lnTo>
                  <a:cubicBezTo>
                    <a:pt x="20" y="48"/>
                    <a:pt x="23" y="47"/>
                    <a:pt x="25" y="45"/>
                  </a:cubicBezTo>
                  <a:lnTo>
                    <a:pt x="42" y="19"/>
                  </a:lnTo>
                  <a:cubicBezTo>
                    <a:pt x="44" y="16"/>
                    <a:pt x="43" y="14"/>
                    <a:pt x="41" y="12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e6e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36960" y="2792520"/>
              <a:ext cx="745920" cy="80172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4" y="2"/>
                  </a:moveTo>
                  <a:cubicBezTo>
                    <a:pt x="22" y="0"/>
                    <a:pt x="19" y="1"/>
                    <a:pt x="18" y="3"/>
                  </a:cubicBezTo>
                  <a:lnTo>
                    <a:pt x="2" y="27"/>
                  </a:lnTo>
                  <a:cubicBezTo>
                    <a:pt x="0" y="29"/>
                    <a:pt x="1" y="32"/>
                    <a:pt x="3" y="33"/>
                  </a:cubicBezTo>
                  <a:lnTo>
                    <a:pt x="17" y="43"/>
                  </a:lnTo>
                  <a:cubicBezTo>
                    <a:pt x="19" y="44"/>
                    <a:pt x="22" y="43"/>
                    <a:pt x="23" y="41"/>
                  </a:cubicBezTo>
                  <a:lnTo>
                    <a:pt x="39" y="17"/>
                  </a:lnTo>
                  <a:cubicBezTo>
                    <a:pt x="41" y="15"/>
                    <a:pt x="40" y="13"/>
                    <a:pt x="38" y="11"/>
                  </a:cubicBezTo>
                  <a:lnTo>
                    <a:pt x="24" y="2"/>
                  </a:lnTo>
                  <a:close/>
                </a:path>
              </a:pathLst>
            </a:custGeom>
            <a:solidFill>
              <a:srgbClr val="e9e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56040" y="2828880"/>
              <a:ext cx="690480" cy="747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22" y="2"/>
                  </a:moveTo>
                  <a:cubicBezTo>
                    <a:pt x="20" y="0"/>
                    <a:pt x="18" y="1"/>
                    <a:pt x="17" y="3"/>
                  </a:cubicBezTo>
                  <a:lnTo>
                    <a:pt x="2" y="25"/>
                  </a:lnTo>
                  <a:cubicBezTo>
                    <a:pt x="0" y="27"/>
                    <a:pt x="1" y="29"/>
                    <a:pt x="3" y="31"/>
                  </a:cubicBezTo>
                  <a:lnTo>
                    <a:pt x="16" y="40"/>
                  </a:lnTo>
                  <a:cubicBezTo>
                    <a:pt x="18" y="41"/>
                    <a:pt x="20" y="40"/>
                    <a:pt x="21" y="38"/>
                  </a:cubicBezTo>
                  <a:lnTo>
                    <a:pt x="36" y="16"/>
                  </a:lnTo>
                  <a:cubicBezTo>
                    <a:pt x="38" y="14"/>
                    <a:pt x="37" y="12"/>
                    <a:pt x="35" y="11"/>
                  </a:cubicBezTo>
                  <a:lnTo>
                    <a:pt x="22" y="2"/>
                  </a:lnTo>
                  <a:close/>
                </a:path>
              </a:pathLst>
            </a:custGeom>
            <a:solidFill>
              <a:srgbClr val="ece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92400" y="2846520"/>
              <a:ext cx="619200" cy="6937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20" y="1"/>
                  </a:moveTo>
                  <a:cubicBezTo>
                    <a:pt x="18" y="0"/>
                    <a:pt x="16" y="1"/>
                    <a:pt x="15" y="2"/>
                  </a:cubicBezTo>
                  <a:lnTo>
                    <a:pt x="1" y="23"/>
                  </a:lnTo>
                  <a:cubicBezTo>
                    <a:pt x="0" y="25"/>
                    <a:pt x="1" y="27"/>
                    <a:pt x="2" y="28"/>
                  </a:cubicBezTo>
                  <a:lnTo>
                    <a:pt x="14" y="37"/>
                  </a:lnTo>
                  <a:cubicBezTo>
                    <a:pt x="16" y="38"/>
                    <a:pt x="18" y="37"/>
                    <a:pt x="19" y="36"/>
                  </a:cubicBezTo>
                  <a:lnTo>
                    <a:pt x="33" y="15"/>
                  </a:lnTo>
                  <a:cubicBezTo>
                    <a:pt x="34" y="13"/>
                    <a:pt x="33" y="11"/>
                    <a:pt x="32" y="10"/>
                  </a:cubicBezTo>
                  <a:lnTo>
                    <a:pt x="20" y="1"/>
                  </a:lnTo>
                  <a:close/>
                </a:path>
              </a:pathLst>
            </a:custGeom>
            <a:solidFill>
              <a:srgbClr val="efe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10040" y="2882880"/>
              <a:ext cx="582480" cy="620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19" y="1"/>
                  </a:moveTo>
                  <a:cubicBezTo>
                    <a:pt x="17" y="0"/>
                    <a:pt x="15" y="1"/>
                    <a:pt x="14" y="2"/>
                  </a:cubicBezTo>
                  <a:lnTo>
                    <a:pt x="1" y="21"/>
                  </a:lnTo>
                  <a:cubicBezTo>
                    <a:pt x="0" y="22"/>
                    <a:pt x="1" y="24"/>
                    <a:pt x="2" y="25"/>
                  </a:cubicBezTo>
                  <a:lnTo>
                    <a:pt x="13" y="33"/>
                  </a:lnTo>
                  <a:cubicBezTo>
                    <a:pt x="15" y="34"/>
                    <a:pt x="17" y="33"/>
                    <a:pt x="18" y="32"/>
                  </a:cubicBezTo>
                  <a:lnTo>
                    <a:pt x="31" y="13"/>
                  </a:lnTo>
                  <a:cubicBezTo>
                    <a:pt x="32" y="12"/>
                    <a:pt x="31" y="10"/>
                    <a:pt x="30" y="9"/>
                  </a:cubicBezTo>
                  <a:lnTo>
                    <a:pt x="19" y="1"/>
                  </a:lnTo>
                  <a:close/>
                </a:path>
              </a:pathLst>
            </a:custGeom>
            <a:solidFill>
              <a:srgbClr val="f1f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6400" y="2919240"/>
              <a:ext cx="509400" cy="56520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16" y="1"/>
                  </a:moveTo>
                  <a:cubicBezTo>
                    <a:pt x="15" y="0"/>
                    <a:pt x="13" y="1"/>
                    <a:pt x="12" y="2"/>
                  </a:cubicBezTo>
                  <a:lnTo>
                    <a:pt x="1" y="19"/>
                  </a:lnTo>
                  <a:cubicBezTo>
                    <a:pt x="0" y="20"/>
                    <a:pt x="1" y="22"/>
                    <a:pt x="2" y="23"/>
                  </a:cubicBezTo>
                  <a:lnTo>
                    <a:pt x="12" y="30"/>
                  </a:lnTo>
                  <a:cubicBezTo>
                    <a:pt x="13" y="31"/>
                    <a:pt x="15" y="30"/>
                    <a:pt x="16" y="29"/>
                  </a:cubicBezTo>
                  <a:lnTo>
                    <a:pt x="27" y="12"/>
                  </a:lnTo>
                  <a:cubicBezTo>
                    <a:pt x="28" y="11"/>
                    <a:pt x="27" y="9"/>
                    <a:pt x="26" y="8"/>
                  </a:cubicBezTo>
                  <a:lnTo>
                    <a:pt x="16" y="1"/>
                  </a:lnTo>
                  <a:close/>
                </a:path>
              </a:pathLst>
            </a:custGeom>
            <a:solidFill>
              <a:srgbClr val="f3f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63680" y="2938320"/>
              <a:ext cx="474840" cy="50976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5" y="1"/>
                  </a:moveTo>
                  <a:cubicBezTo>
                    <a:pt x="14" y="0"/>
                    <a:pt x="12" y="1"/>
                    <a:pt x="11" y="2"/>
                  </a:cubicBezTo>
                  <a:lnTo>
                    <a:pt x="1" y="17"/>
                  </a:lnTo>
                  <a:cubicBezTo>
                    <a:pt x="0" y="18"/>
                    <a:pt x="1" y="20"/>
                    <a:pt x="2" y="21"/>
                  </a:cubicBezTo>
                  <a:lnTo>
                    <a:pt x="11" y="27"/>
                  </a:lnTo>
                  <a:cubicBezTo>
                    <a:pt x="12" y="28"/>
                    <a:pt x="14" y="27"/>
                    <a:pt x="15" y="26"/>
                  </a:cubicBezTo>
                  <a:lnTo>
                    <a:pt x="25" y="11"/>
                  </a:lnTo>
                  <a:cubicBezTo>
                    <a:pt x="26" y="10"/>
                    <a:pt x="25" y="8"/>
                    <a:pt x="24" y="7"/>
                  </a:cubicBezTo>
                  <a:lnTo>
                    <a:pt x="15" y="1"/>
                  </a:lnTo>
                  <a:close/>
                </a:path>
              </a:pathLst>
            </a:custGeom>
            <a:solidFill>
              <a:srgbClr val="f5f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00400" y="2975040"/>
              <a:ext cx="401760" cy="43632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3" y="1"/>
                  </a:moveTo>
                  <a:cubicBezTo>
                    <a:pt x="12" y="0"/>
                    <a:pt x="10" y="1"/>
                    <a:pt x="10" y="2"/>
                  </a:cubicBezTo>
                  <a:lnTo>
                    <a:pt x="1" y="15"/>
                  </a:lnTo>
                  <a:cubicBezTo>
                    <a:pt x="0" y="16"/>
                    <a:pt x="1" y="17"/>
                    <a:pt x="2" y="18"/>
                  </a:cubicBezTo>
                  <a:lnTo>
                    <a:pt x="9" y="23"/>
                  </a:lnTo>
                  <a:cubicBezTo>
                    <a:pt x="10" y="24"/>
                    <a:pt x="12" y="23"/>
                    <a:pt x="12" y="22"/>
                  </a:cubicBezTo>
                  <a:lnTo>
                    <a:pt x="21" y="9"/>
                  </a:lnTo>
                  <a:cubicBezTo>
                    <a:pt x="22" y="8"/>
                    <a:pt x="21" y="7"/>
                    <a:pt x="20" y="6"/>
                  </a:cubicBezTo>
                  <a:lnTo>
                    <a:pt x="13" y="1"/>
                  </a:lnTo>
                  <a:close/>
                </a:path>
              </a:pathLst>
            </a:custGeom>
            <a:solidFill>
              <a:srgbClr val="f7f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9480" y="3011400"/>
              <a:ext cx="363600" cy="3826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1"/>
                  </a:moveTo>
                  <a:cubicBezTo>
                    <a:pt x="11" y="0"/>
                    <a:pt x="9" y="1"/>
                    <a:pt x="9" y="2"/>
                  </a:cubicBezTo>
                  <a:lnTo>
                    <a:pt x="1" y="13"/>
                  </a:lnTo>
                  <a:cubicBezTo>
                    <a:pt x="0" y="14"/>
                    <a:pt x="1" y="15"/>
                    <a:pt x="2" y="16"/>
                  </a:cubicBezTo>
                  <a:lnTo>
                    <a:pt x="8" y="20"/>
                  </a:lnTo>
                  <a:cubicBezTo>
                    <a:pt x="9" y="21"/>
                    <a:pt x="11" y="20"/>
                    <a:pt x="11" y="19"/>
                  </a:cubicBezTo>
                  <a:lnTo>
                    <a:pt x="19" y="8"/>
                  </a:lnTo>
                  <a:cubicBezTo>
                    <a:pt x="20" y="7"/>
                    <a:pt x="19" y="6"/>
                    <a:pt x="18" y="6"/>
                  </a:cubicBezTo>
                  <a:lnTo>
                    <a:pt x="12" y="1"/>
                  </a:lnTo>
                  <a:close/>
                </a:path>
              </a:pathLst>
            </a:custGeom>
            <a:solidFill>
              <a:srgbClr val="f9f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55840" y="3029040"/>
              <a:ext cx="290520" cy="3286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9" y="1"/>
                  </a:moveTo>
                  <a:cubicBezTo>
                    <a:pt x="9" y="0"/>
                    <a:pt x="8" y="1"/>
                    <a:pt x="7" y="1"/>
                  </a:cubicBezTo>
                  <a:lnTo>
                    <a:pt x="1" y="11"/>
                  </a:lnTo>
                  <a:cubicBezTo>
                    <a:pt x="0" y="12"/>
                    <a:pt x="1" y="13"/>
                    <a:pt x="1" y="13"/>
                  </a:cubicBezTo>
                  <a:lnTo>
                    <a:pt x="7" y="17"/>
                  </a:lnTo>
                  <a:cubicBezTo>
                    <a:pt x="7" y="18"/>
                    <a:pt x="8" y="17"/>
                    <a:pt x="9" y="17"/>
                  </a:cubicBezTo>
                  <a:lnTo>
                    <a:pt x="15" y="7"/>
                  </a:lnTo>
                  <a:cubicBezTo>
                    <a:pt x="16" y="6"/>
                    <a:pt x="15" y="5"/>
                    <a:pt x="15" y="5"/>
                  </a:cubicBezTo>
                  <a:lnTo>
                    <a:pt x="9" y="1"/>
                  </a:lnTo>
                  <a:close/>
                </a:path>
              </a:pathLst>
            </a:custGeom>
            <a:solidFill>
              <a:srgbClr val="faf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73480" y="3065400"/>
              <a:ext cx="255600" cy="255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8" y="1"/>
                  </a:moveTo>
                  <a:cubicBezTo>
                    <a:pt x="7" y="0"/>
                    <a:pt x="7" y="1"/>
                    <a:pt x="6" y="1"/>
                  </a:cubicBezTo>
                  <a:lnTo>
                    <a:pt x="1" y="9"/>
                  </a:lnTo>
                  <a:cubicBezTo>
                    <a:pt x="0" y="9"/>
                    <a:pt x="1" y="10"/>
                    <a:pt x="1" y="10"/>
                  </a:cubicBezTo>
                  <a:lnTo>
                    <a:pt x="6" y="13"/>
                  </a:lnTo>
                  <a:cubicBezTo>
                    <a:pt x="7" y="14"/>
                    <a:pt x="7" y="13"/>
                    <a:pt x="8" y="13"/>
                  </a:cubicBezTo>
                  <a:lnTo>
                    <a:pt x="13" y="6"/>
                  </a:lnTo>
                  <a:cubicBezTo>
                    <a:pt x="14" y="5"/>
                    <a:pt x="13" y="4"/>
                    <a:pt x="13" y="4"/>
                  </a:cubicBezTo>
                  <a:lnTo>
                    <a:pt x="8" y="1"/>
                  </a:lnTo>
                  <a:close/>
                </a:path>
              </a:pathLst>
            </a:custGeom>
            <a:solidFill>
              <a:srgbClr val="fbfb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09840" y="3102120"/>
              <a:ext cx="182520" cy="201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6" y="1"/>
                  </a:moveTo>
                  <a:cubicBezTo>
                    <a:pt x="5" y="0"/>
                    <a:pt x="5" y="1"/>
                    <a:pt x="4" y="1"/>
                  </a:cubicBezTo>
                  <a:lnTo>
                    <a:pt x="1" y="7"/>
                  </a:lnTo>
                  <a:cubicBezTo>
                    <a:pt x="0" y="7"/>
                    <a:pt x="1" y="8"/>
                    <a:pt x="1" y="8"/>
                  </a:cubicBezTo>
                  <a:lnTo>
                    <a:pt x="4" y="10"/>
                  </a:lnTo>
                  <a:cubicBezTo>
                    <a:pt x="5" y="11"/>
                    <a:pt x="5" y="10"/>
                    <a:pt x="6" y="10"/>
                  </a:cubicBezTo>
                  <a:lnTo>
                    <a:pt x="9" y="4"/>
                  </a:lnTo>
                  <a:cubicBezTo>
                    <a:pt x="10" y="4"/>
                    <a:pt x="9" y="3"/>
                    <a:pt x="9" y="3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fcfc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28920" y="3121200"/>
              <a:ext cx="144360" cy="145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1"/>
                  </a:moveTo>
                  <a:cubicBezTo>
                    <a:pt x="4" y="0"/>
                    <a:pt x="4" y="1"/>
                    <a:pt x="4" y="1"/>
                  </a:cubicBezTo>
                  <a:lnTo>
                    <a:pt x="1" y="5"/>
                  </a:lnTo>
                  <a:cubicBezTo>
                    <a:pt x="0" y="5"/>
                    <a:pt x="1" y="6"/>
                    <a:pt x="1" y="6"/>
                  </a:cubicBezTo>
                  <a:lnTo>
                    <a:pt x="3" y="7"/>
                  </a:lnTo>
                  <a:cubicBezTo>
                    <a:pt x="4" y="8"/>
                    <a:pt x="4" y="7"/>
                    <a:pt x="4" y="7"/>
                  </a:cubicBezTo>
                  <a:lnTo>
                    <a:pt x="7" y="3"/>
                  </a:lnTo>
                  <a:cubicBezTo>
                    <a:pt x="8" y="3"/>
                    <a:pt x="7" y="2"/>
                    <a:pt x="7" y="2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fdf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65640" y="3157560"/>
              <a:ext cx="71280" cy="73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lnTo>
                    <a:pt x="1" y="2"/>
                  </a:lnTo>
                  <a:cubicBezTo>
                    <a:pt x="0" y="2"/>
                    <a:pt x="1" y="3"/>
                    <a:pt x="1" y="3"/>
                  </a:cubicBezTo>
                  <a:lnTo>
                    <a:pt x="2" y="3"/>
                  </a:lnTo>
                  <a:cubicBezTo>
                    <a:pt x="2" y="4"/>
                    <a:pt x="2" y="3"/>
                    <a:pt x="2" y="3"/>
                  </a:cubicBezTo>
                  <a:lnTo>
                    <a:pt x="3" y="2"/>
                  </a:lnTo>
                  <a:cubicBezTo>
                    <a:pt x="4" y="2"/>
                    <a:pt x="3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efe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648320" y="1905120"/>
            <a:ext cx="2568600" cy="2825640"/>
            <a:chOff x="4648320" y="1905120"/>
            <a:chExt cx="2568600" cy="2825640"/>
          </a:xfrm>
        </p:grpSpPr>
        <p:sp>
          <p:nvSpPr>
            <p:cNvPr id="105" name=""/>
            <p:cNvSpPr/>
            <p:nvPr/>
          </p:nvSpPr>
          <p:spPr>
            <a:xfrm>
              <a:off x="4648320" y="1905120"/>
              <a:ext cx="2568600" cy="2825640"/>
            </a:xfrm>
            <a:custGeom>
              <a:avLst/>
              <a:gdLst/>
              <a:ahLst/>
              <a:rect l="l" t="t" r="r" b="b"/>
              <a:pathLst>
                <a:path w="141" h="155">
                  <a:moveTo>
                    <a:pt x="85" y="5"/>
                  </a:moveTo>
                  <a:cubicBezTo>
                    <a:pt x="78" y="0"/>
                    <a:pt x="69" y="2"/>
                    <a:pt x="65" y="8"/>
                  </a:cubicBezTo>
                  <a:lnTo>
                    <a:pt x="4" y="98"/>
                  </a:lnTo>
                  <a:cubicBezTo>
                    <a:pt x="0" y="105"/>
                    <a:pt x="2" y="114"/>
                    <a:pt x="8" y="118"/>
                  </a:cubicBezTo>
                  <a:lnTo>
                    <a:pt x="56" y="150"/>
                  </a:lnTo>
                  <a:cubicBezTo>
                    <a:pt x="63" y="155"/>
                    <a:pt x="71" y="153"/>
                    <a:pt x="76" y="147"/>
                  </a:cubicBezTo>
                  <a:lnTo>
                    <a:pt x="136" y="57"/>
                  </a:lnTo>
                  <a:cubicBezTo>
                    <a:pt x="141" y="50"/>
                    <a:pt x="139" y="41"/>
                    <a:pt x="133" y="37"/>
                  </a:cubicBezTo>
                  <a:lnTo>
                    <a:pt x="85" y="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67400" y="1922400"/>
              <a:ext cx="2493720" cy="2752920"/>
            </a:xfrm>
            <a:custGeom>
              <a:avLst/>
              <a:gdLst/>
              <a:ahLst/>
              <a:rect l="l" t="t" r="r" b="b"/>
              <a:pathLst>
                <a:path w="137" h="151">
                  <a:moveTo>
                    <a:pt x="83" y="4"/>
                  </a:moveTo>
                  <a:cubicBezTo>
                    <a:pt x="76" y="0"/>
                    <a:pt x="67" y="1"/>
                    <a:pt x="63" y="7"/>
                  </a:cubicBezTo>
                  <a:lnTo>
                    <a:pt x="3" y="96"/>
                  </a:lnTo>
                  <a:cubicBezTo>
                    <a:pt x="0" y="102"/>
                    <a:pt x="1" y="111"/>
                    <a:pt x="7" y="115"/>
                  </a:cubicBezTo>
                  <a:lnTo>
                    <a:pt x="54" y="147"/>
                  </a:lnTo>
                  <a:cubicBezTo>
                    <a:pt x="61" y="151"/>
                    <a:pt x="69" y="150"/>
                    <a:pt x="74" y="144"/>
                  </a:cubicBezTo>
                  <a:lnTo>
                    <a:pt x="133" y="55"/>
                  </a:lnTo>
                  <a:cubicBezTo>
                    <a:pt x="137" y="49"/>
                    <a:pt x="136" y="40"/>
                    <a:pt x="130" y="36"/>
                  </a:cubicBezTo>
                  <a:lnTo>
                    <a:pt x="83" y="4"/>
                  </a:lnTo>
                  <a:close/>
                </a:path>
              </a:pathLst>
            </a:custGeom>
            <a:solidFill>
              <a:srgbClr val="111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4680" y="1959120"/>
              <a:ext cx="2459160" cy="2679480"/>
            </a:xfrm>
            <a:custGeom>
              <a:avLst/>
              <a:gdLst/>
              <a:ahLst/>
              <a:rect l="l" t="t" r="r" b="b"/>
              <a:pathLst>
                <a:path w="135" h="147">
                  <a:moveTo>
                    <a:pt x="81" y="4"/>
                  </a:moveTo>
                  <a:cubicBezTo>
                    <a:pt x="75" y="0"/>
                    <a:pt x="66" y="1"/>
                    <a:pt x="62" y="7"/>
                  </a:cubicBezTo>
                  <a:lnTo>
                    <a:pt x="3" y="93"/>
                  </a:lnTo>
                  <a:cubicBezTo>
                    <a:pt x="0" y="100"/>
                    <a:pt x="1" y="108"/>
                    <a:pt x="7" y="112"/>
                  </a:cubicBezTo>
                  <a:lnTo>
                    <a:pt x="54" y="143"/>
                  </a:lnTo>
                  <a:cubicBezTo>
                    <a:pt x="60" y="147"/>
                    <a:pt x="68" y="146"/>
                    <a:pt x="73" y="140"/>
                  </a:cubicBezTo>
                  <a:lnTo>
                    <a:pt x="131" y="54"/>
                  </a:lnTo>
                  <a:cubicBezTo>
                    <a:pt x="135" y="47"/>
                    <a:pt x="134" y="39"/>
                    <a:pt x="128" y="35"/>
                  </a:cubicBezTo>
                  <a:lnTo>
                    <a:pt x="81" y="4"/>
                  </a:lnTo>
                  <a:close/>
                </a:path>
              </a:pathLst>
            </a:custGeom>
            <a:solidFill>
              <a:srgbClr val="191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1400" y="1978200"/>
              <a:ext cx="2385720" cy="2643120"/>
            </a:xfrm>
            <a:custGeom>
              <a:avLst/>
              <a:gdLst/>
              <a:ahLst/>
              <a:rect l="l" t="t" r="r" b="b"/>
              <a:pathLst>
                <a:path w="131" h="145">
                  <a:moveTo>
                    <a:pt x="79" y="4"/>
                  </a:moveTo>
                  <a:cubicBezTo>
                    <a:pt x="73" y="0"/>
                    <a:pt x="64" y="1"/>
                    <a:pt x="60" y="7"/>
                  </a:cubicBezTo>
                  <a:lnTo>
                    <a:pt x="3" y="92"/>
                  </a:lnTo>
                  <a:cubicBezTo>
                    <a:pt x="0" y="98"/>
                    <a:pt x="1" y="107"/>
                    <a:pt x="7" y="111"/>
                  </a:cubicBezTo>
                  <a:lnTo>
                    <a:pt x="52" y="141"/>
                  </a:lnTo>
                  <a:cubicBezTo>
                    <a:pt x="58" y="145"/>
                    <a:pt x="66" y="144"/>
                    <a:pt x="71" y="138"/>
                  </a:cubicBezTo>
                  <a:lnTo>
                    <a:pt x="127" y="53"/>
                  </a:lnTo>
                  <a:cubicBezTo>
                    <a:pt x="131" y="47"/>
                    <a:pt x="130" y="38"/>
                    <a:pt x="124" y="34"/>
                  </a:cubicBezTo>
                  <a:lnTo>
                    <a:pt x="79" y="4"/>
                  </a:lnTo>
                  <a:close/>
                </a:path>
              </a:pathLst>
            </a:custGeom>
            <a:solidFill>
              <a:srgbClr val="21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40120" y="2014560"/>
              <a:ext cx="2349720" cy="2570040"/>
            </a:xfrm>
            <a:custGeom>
              <a:avLst/>
              <a:gdLst/>
              <a:ahLst/>
              <a:rect l="l" t="t" r="r" b="b"/>
              <a:pathLst>
                <a:path w="129" h="141">
                  <a:moveTo>
                    <a:pt x="78" y="4"/>
                  </a:moveTo>
                  <a:cubicBezTo>
                    <a:pt x="71" y="0"/>
                    <a:pt x="63" y="1"/>
                    <a:pt x="59" y="7"/>
                  </a:cubicBezTo>
                  <a:lnTo>
                    <a:pt x="3" y="89"/>
                  </a:lnTo>
                  <a:cubicBezTo>
                    <a:pt x="0" y="96"/>
                    <a:pt x="1" y="104"/>
                    <a:pt x="7" y="108"/>
                  </a:cubicBezTo>
                  <a:lnTo>
                    <a:pt x="51" y="137"/>
                  </a:lnTo>
                  <a:cubicBezTo>
                    <a:pt x="58" y="141"/>
                    <a:pt x="65" y="140"/>
                    <a:pt x="70" y="134"/>
                  </a:cubicBezTo>
                  <a:lnTo>
                    <a:pt x="125" y="52"/>
                  </a:lnTo>
                  <a:cubicBezTo>
                    <a:pt x="129" y="45"/>
                    <a:pt x="128" y="37"/>
                    <a:pt x="122" y="33"/>
                  </a:cubicBezTo>
                  <a:lnTo>
                    <a:pt x="78" y="4"/>
                  </a:lnTo>
                  <a:close/>
                </a:path>
              </a:pathLst>
            </a:custGeom>
            <a:solidFill>
              <a:srgbClr val="282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76840" y="2032200"/>
              <a:ext cx="2276280" cy="251604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75" y="4"/>
                  </a:moveTo>
                  <a:cubicBezTo>
                    <a:pt x="69" y="0"/>
                    <a:pt x="61" y="1"/>
                    <a:pt x="58" y="7"/>
                  </a:cubicBezTo>
                  <a:lnTo>
                    <a:pt x="3" y="87"/>
                  </a:lnTo>
                  <a:cubicBezTo>
                    <a:pt x="0" y="94"/>
                    <a:pt x="1" y="102"/>
                    <a:pt x="7" y="105"/>
                  </a:cubicBezTo>
                  <a:lnTo>
                    <a:pt x="50" y="134"/>
                  </a:lnTo>
                  <a:cubicBezTo>
                    <a:pt x="56" y="138"/>
                    <a:pt x="63" y="137"/>
                    <a:pt x="67" y="131"/>
                  </a:cubicBezTo>
                  <a:lnTo>
                    <a:pt x="121" y="51"/>
                  </a:lnTo>
                  <a:cubicBezTo>
                    <a:pt x="125" y="44"/>
                    <a:pt x="124" y="36"/>
                    <a:pt x="118" y="33"/>
                  </a:cubicBezTo>
                  <a:lnTo>
                    <a:pt x="75" y="4"/>
                  </a:lnTo>
                  <a:close/>
                </a:path>
              </a:pathLst>
            </a:custGeom>
            <a:solidFill>
              <a:srgbClr val="2f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94120" y="2068560"/>
              <a:ext cx="2240280" cy="24606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74" y="4"/>
                  </a:moveTo>
                  <a:cubicBezTo>
                    <a:pt x="68" y="0"/>
                    <a:pt x="60" y="1"/>
                    <a:pt x="57" y="7"/>
                  </a:cubicBezTo>
                  <a:lnTo>
                    <a:pt x="3" y="85"/>
                  </a:lnTo>
                  <a:cubicBezTo>
                    <a:pt x="0" y="92"/>
                    <a:pt x="1" y="99"/>
                    <a:pt x="7" y="103"/>
                  </a:cubicBezTo>
                  <a:lnTo>
                    <a:pt x="49" y="131"/>
                  </a:lnTo>
                  <a:cubicBezTo>
                    <a:pt x="55" y="135"/>
                    <a:pt x="62" y="134"/>
                    <a:pt x="66" y="128"/>
                  </a:cubicBezTo>
                  <a:lnTo>
                    <a:pt x="119" y="50"/>
                  </a:lnTo>
                  <a:cubicBezTo>
                    <a:pt x="123" y="43"/>
                    <a:pt x="122" y="36"/>
                    <a:pt x="116" y="32"/>
                  </a:cubicBezTo>
                  <a:lnTo>
                    <a:pt x="74" y="4"/>
                  </a:lnTo>
                  <a:close/>
                </a:path>
              </a:pathLst>
            </a:custGeom>
            <a:solidFill>
              <a:srgbClr val="35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30840" y="2104920"/>
              <a:ext cx="2166840" cy="2387880"/>
            </a:xfrm>
            <a:custGeom>
              <a:avLst/>
              <a:gdLst/>
              <a:ahLst/>
              <a:rect l="l" t="t" r="r" b="b"/>
              <a:pathLst>
                <a:path w="119" h="131">
                  <a:moveTo>
                    <a:pt x="72" y="4"/>
                  </a:moveTo>
                  <a:cubicBezTo>
                    <a:pt x="66" y="0"/>
                    <a:pt x="58" y="1"/>
                    <a:pt x="55" y="6"/>
                  </a:cubicBezTo>
                  <a:lnTo>
                    <a:pt x="3" y="83"/>
                  </a:lnTo>
                  <a:cubicBezTo>
                    <a:pt x="0" y="89"/>
                    <a:pt x="1" y="97"/>
                    <a:pt x="6" y="100"/>
                  </a:cubicBezTo>
                  <a:lnTo>
                    <a:pt x="47" y="127"/>
                  </a:lnTo>
                  <a:cubicBezTo>
                    <a:pt x="53" y="131"/>
                    <a:pt x="60" y="130"/>
                    <a:pt x="64" y="125"/>
                  </a:cubicBezTo>
                  <a:lnTo>
                    <a:pt x="115" y="48"/>
                  </a:lnTo>
                  <a:cubicBezTo>
                    <a:pt x="119" y="42"/>
                    <a:pt x="118" y="34"/>
                    <a:pt x="113" y="31"/>
                  </a:cubicBezTo>
                  <a:lnTo>
                    <a:pt x="72" y="4"/>
                  </a:lnTo>
                  <a:close/>
                </a:path>
              </a:pathLst>
            </a:custGeom>
            <a:solidFill>
              <a:srgbClr val="3d3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49920" y="2122560"/>
              <a:ext cx="2130480" cy="2352600"/>
            </a:xfrm>
            <a:custGeom>
              <a:avLst/>
              <a:gdLst/>
              <a:ahLst/>
              <a:rect l="l" t="t" r="r" b="b"/>
              <a:pathLst>
                <a:path w="117" h="129">
                  <a:moveTo>
                    <a:pt x="71" y="4"/>
                  </a:moveTo>
                  <a:cubicBezTo>
                    <a:pt x="65" y="0"/>
                    <a:pt x="57" y="1"/>
                    <a:pt x="54" y="6"/>
                  </a:cubicBezTo>
                  <a:lnTo>
                    <a:pt x="3" y="82"/>
                  </a:lnTo>
                  <a:cubicBezTo>
                    <a:pt x="0" y="88"/>
                    <a:pt x="1" y="95"/>
                    <a:pt x="6" y="98"/>
                  </a:cubicBezTo>
                  <a:lnTo>
                    <a:pt x="46" y="125"/>
                  </a:lnTo>
                  <a:cubicBezTo>
                    <a:pt x="52" y="129"/>
                    <a:pt x="59" y="128"/>
                    <a:pt x="63" y="123"/>
                  </a:cubicBezTo>
                  <a:lnTo>
                    <a:pt x="113" y="47"/>
                  </a:lnTo>
                  <a:cubicBezTo>
                    <a:pt x="117" y="41"/>
                    <a:pt x="116" y="34"/>
                    <a:pt x="111" y="31"/>
                  </a:cubicBezTo>
                  <a:lnTo>
                    <a:pt x="71" y="4"/>
                  </a:lnTo>
                  <a:close/>
                </a:path>
              </a:pathLst>
            </a:custGeom>
            <a:solidFill>
              <a:srgbClr val="434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7200" y="2158920"/>
              <a:ext cx="2076480" cy="2279880"/>
            </a:xfrm>
            <a:custGeom>
              <a:avLst/>
              <a:gdLst/>
              <a:ahLst/>
              <a:rect l="l" t="t" r="r" b="b"/>
              <a:pathLst>
                <a:path w="114" h="125">
                  <a:moveTo>
                    <a:pt x="69" y="4"/>
                  </a:moveTo>
                  <a:cubicBezTo>
                    <a:pt x="63" y="0"/>
                    <a:pt x="56" y="1"/>
                    <a:pt x="53" y="6"/>
                  </a:cubicBezTo>
                  <a:lnTo>
                    <a:pt x="3" y="79"/>
                  </a:lnTo>
                  <a:cubicBezTo>
                    <a:pt x="0" y="85"/>
                    <a:pt x="1" y="92"/>
                    <a:pt x="6" y="95"/>
                  </a:cubicBezTo>
                  <a:lnTo>
                    <a:pt x="45" y="121"/>
                  </a:lnTo>
                  <a:cubicBezTo>
                    <a:pt x="51" y="125"/>
                    <a:pt x="57" y="124"/>
                    <a:pt x="61" y="119"/>
                  </a:cubicBezTo>
                  <a:lnTo>
                    <a:pt x="110" y="46"/>
                  </a:lnTo>
                  <a:cubicBezTo>
                    <a:pt x="114" y="40"/>
                    <a:pt x="113" y="33"/>
                    <a:pt x="108" y="30"/>
                  </a:cubicBezTo>
                  <a:lnTo>
                    <a:pt x="69" y="4"/>
                  </a:lnTo>
                  <a:close/>
                </a:path>
              </a:pathLst>
            </a:custGeom>
            <a:solidFill>
              <a:srgbClr val="4a4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03920" y="2178000"/>
              <a:ext cx="2020680" cy="2224080"/>
            </a:xfrm>
            <a:custGeom>
              <a:avLst/>
              <a:gdLst/>
              <a:ahLst/>
              <a:rect l="l" t="t" r="r" b="b"/>
              <a:pathLst>
                <a:path w="111" h="122">
                  <a:moveTo>
                    <a:pt x="67" y="4"/>
                  </a:moveTo>
                  <a:cubicBezTo>
                    <a:pt x="61" y="0"/>
                    <a:pt x="54" y="1"/>
                    <a:pt x="51" y="6"/>
                  </a:cubicBezTo>
                  <a:lnTo>
                    <a:pt x="3" y="77"/>
                  </a:lnTo>
                  <a:cubicBezTo>
                    <a:pt x="0" y="83"/>
                    <a:pt x="1" y="90"/>
                    <a:pt x="6" y="93"/>
                  </a:cubicBezTo>
                  <a:lnTo>
                    <a:pt x="44" y="118"/>
                  </a:lnTo>
                  <a:cubicBezTo>
                    <a:pt x="50" y="122"/>
                    <a:pt x="56" y="121"/>
                    <a:pt x="60" y="116"/>
                  </a:cubicBezTo>
                  <a:lnTo>
                    <a:pt x="107" y="45"/>
                  </a:lnTo>
                  <a:cubicBezTo>
                    <a:pt x="111" y="39"/>
                    <a:pt x="110" y="32"/>
                    <a:pt x="105" y="29"/>
                  </a:cubicBezTo>
                  <a:lnTo>
                    <a:pt x="67" y="4"/>
                  </a:lnTo>
                  <a:close/>
                </a:path>
              </a:pathLst>
            </a:custGeom>
            <a:solidFill>
              <a:srgbClr val="515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21200" y="2214720"/>
              <a:ext cx="1967040" cy="2170080"/>
            </a:xfrm>
            <a:custGeom>
              <a:avLst/>
              <a:gdLst/>
              <a:ahLst/>
              <a:rect l="l" t="t" r="r" b="b"/>
              <a:pathLst>
                <a:path w="108" h="119">
                  <a:moveTo>
                    <a:pt x="65" y="4"/>
                  </a:moveTo>
                  <a:cubicBezTo>
                    <a:pt x="60" y="0"/>
                    <a:pt x="53" y="1"/>
                    <a:pt x="50" y="6"/>
                  </a:cubicBezTo>
                  <a:lnTo>
                    <a:pt x="3" y="75"/>
                  </a:lnTo>
                  <a:cubicBezTo>
                    <a:pt x="0" y="81"/>
                    <a:pt x="1" y="88"/>
                    <a:pt x="6" y="91"/>
                  </a:cubicBezTo>
                  <a:lnTo>
                    <a:pt x="43" y="115"/>
                  </a:lnTo>
                  <a:cubicBezTo>
                    <a:pt x="48" y="119"/>
                    <a:pt x="54" y="118"/>
                    <a:pt x="58" y="113"/>
                  </a:cubicBezTo>
                  <a:lnTo>
                    <a:pt x="104" y="44"/>
                  </a:lnTo>
                  <a:cubicBezTo>
                    <a:pt x="108" y="38"/>
                    <a:pt x="107" y="31"/>
                    <a:pt x="102" y="28"/>
                  </a:cubicBezTo>
                  <a:lnTo>
                    <a:pt x="65" y="4"/>
                  </a:lnTo>
                  <a:close/>
                </a:path>
              </a:pathLst>
            </a:custGeom>
            <a:solidFill>
              <a:srgbClr val="58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7920" y="2251080"/>
              <a:ext cx="1912680" cy="209700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63" y="3"/>
                  </a:moveTo>
                  <a:cubicBezTo>
                    <a:pt x="58" y="0"/>
                    <a:pt x="51" y="1"/>
                    <a:pt x="48" y="6"/>
                  </a:cubicBezTo>
                  <a:lnTo>
                    <a:pt x="3" y="73"/>
                  </a:lnTo>
                  <a:cubicBezTo>
                    <a:pt x="0" y="78"/>
                    <a:pt x="1" y="85"/>
                    <a:pt x="6" y="88"/>
                  </a:cubicBezTo>
                  <a:lnTo>
                    <a:pt x="42" y="112"/>
                  </a:lnTo>
                  <a:cubicBezTo>
                    <a:pt x="47" y="115"/>
                    <a:pt x="53" y="114"/>
                    <a:pt x="57" y="109"/>
                  </a:cubicBezTo>
                  <a:lnTo>
                    <a:pt x="102" y="42"/>
                  </a:lnTo>
                  <a:cubicBezTo>
                    <a:pt x="105" y="37"/>
                    <a:pt x="104" y="30"/>
                    <a:pt x="99" y="27"/>
                  </a:cubicBezTo>
                  <a:lnTo>
                    <a:pt x="63" y="3"/>
                  </a:lnTo>
                  <a:close/>
                </a:path>
              </a:pathLst>
            </a:custGeom>
            <a:solidFill>
              <a:srgbClr val="5f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77000" y="2268720"/>
              <a:ext cx="1874520" cy="206028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62" y="3"/>
                  </a:moveTo>
                  <a:cubicBezTo>
                    <a:pt x="57" y="0"/>
                    <a:pt x="50" y="1"/>
                    <a:pt x="47" y="6"/>
                  </a:cubicBezTo>
                  <a:lnTo>
                    <a:pt x="3" y="72"/>
                  </a:lnTo>
                  <a:cubicBezTo>
                    <a:pt x="0" y="77"/>
                    <a:pt x="1" y="83"/>
                    <a:pt x="6" y="86"/>
                  </a:cubicBezTo>
                  <a:lnTo>
                    <a:pt x="41" y="110"/>
                  </a:lnTo>
                  <a:cubicBezTo>
                    <a:pt x="46" y="113"/>
                    <a:pt x="52" y="112"/>
                    <a:pt x="56" y="107"/>
                  </a:cubicBezTo>
                  <a:lnTo>
                    <a:pt x="100" y="41"/>
                  </a:lnTo>
                  <a:cubicBezTo>
                    <a:pt x="103" y="36"/>
                    <a:pt x="102" y="30"/>
                    <a:pt x="97" y="27"/>
                  </a:cubicBezTo>
                  <a:lnTo>
                    <a:pt x="62" y="3"/>
                  </a:lnTo>
                  <a:close/>
                </a:path>
              </a:pathLst>
            </a:custGeom>
            <a:solidFill>
              <a:srgbClr val="676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3360" y="2305080"/>
              <a:ext cx="1803240" cy="1987560"/>
            </a:xfrm>
            <a:custGeom>
              <a:avLst/>
              <a:gdLst/>
              <a:ahLst/>
              <a:rect l="l" t="t" r="r" b="b"/>
              <a:pathLst>
                <a:path w="99" h="109">
                  <a:moveTo>
                    <a:pt x="60" y="3"/>
                  </a:moveTo>
                  <a:cubicBezTo>
                    <a:pt x="55" y="0"/>
                    <a:pt x="48" y="1"/>
                    <a:pt x="46" y="5"/>
                  </a:cubicBezTo>
                  <a:lnTo>
                    <a:pt x="3" y="69"/>
                  </a:lnTo>
                  <a:cubicBezTo>
                    <a:pt x="0" y="74"/>
                    <a:pt x="1" y="80"/>
                    <a:pt x="5" y="83"/>
                  </a:cubicBezTo>
                  <a:lnTo>
                    <a:pt x="39" y="106"/>
                  </a:lnTo>
                  <a:cubicBezTo>
                    <a:pt x="44" y="109"/>
                    <a:pt x="50" y="108"/>
                    <a:pt x="53" y="104"/>
                  </a:cubicBezTo>
                  <a:lnTo>
                    <a:pt x="96" y="40"/>
                  </a:lnTo>
                  <a:cubicBezTo>
                    <a:pt x="99" y="35"/>
                    <a:pt x="98" y="29"/>
                    <a:pt x="94" y="26"/>
                  </a:cubicBezTo>
                  <a:lnTo>
                    <a:pt x="60" y="3"/>
                  </a:lnTo>
                  <a:close/>
                </a:path>
              </a:pathLst>
            </a:custGeom>
            <a:solidFill>
              <a:srgbClr val="6e6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30640" y="2324160"/>
              <a:ext cx="1766880" cy="19321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59" y="3"/>
                  </a:moveTo>
                  <a:cubicBezTo>
                    <a:pt x="54" y="0"/>
                    <a:pt x="47" y="1"/>
                    <a:pt x="45" y="5"/>
                  </a:cubicBezTo>
                  <a:lnTo>
                    <a:pt x="3" y="67"/>
                  </a:lnTo>
                  <a:cubicBezTo>
                    <a:pt x="0" y="72"/>
                    <a:pt x="1" y="78"/>
                    <a:pt x="5" y="81"/>
                  </a:cubicBezTo>
                  <a:lnTo>
                    <a:pt x="38" y="103"/>
                  </a:lnTo>
                  <a:cubicBezTo>
                    <a:pt x="43" y="106"/>
                    <a:pt x="49" y="105"/>
                    <a:pt x="52" y="101"/>
                  </a:cubicBezTo>
                  <a:lnTo>
                    <a:pt x="94" y="39"/>
                  </a:lnTo>
                  <a:cubicBezTo>
                    <a:pt x="97" y="34"/>
                    <a:pt x="96" y="28"/>
                    <a:pt x="92" y="25"/>
                  </a:cubicBezTo>
                  <a:lnTo>
                    <a:pt x="59" y="3"/>
                  </a:lnTo>
                  <a:close/>
                </a:path>
              </a:pathLst>
            </a:custGeom>
            <a:solidFill>
              <a:srgbClr val="747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9720" y="2360520"/>
              <a:ext cx="1711440" cy="187812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57" y="3"/>
                  </a:moveTo>
                  <a:cubicBezTo>
                    <a:pt x="52" y="0"/>
                    <a:pt x="46" y="1"/>
                    <a:pt x="43" y="5"/>
                  </a:cubicBezTo>
                  <a:lnTo>
                    <a:pt x="3" y="65"/>
                  </a:lnTo>
                  <a:cubicBezTo>
                    <a:pt x="0" y="70"/>
                    <a:pt x="1" y="76"/>
                    <a:pt x="5" y="78"/>
                  </a:cubicBezTo>
                  <a:lnTo>
                    <a:pt x="37" y="100"/>
                  </a:lnTo>
                  <a:cubicBezTo>
                    <a:pt x="42" y="103"/>
                    <a:pt x="47" y="102"/>
                    <a:pt x="51" y="98"/>
                  </a:cubicBezTo>
                  <a:lnTo>
                    <a:pt x="91" y="38"/>
                  </a:lnTo>
                  <a:cubicBezTo>
                    <a:pt x="94" y="33"/>
                    <a:pt x="93" y="27"/>
                    <a:pt x="89" y="24"/>
                  </a:cubicBezTo>
                  <a:lnTo>
                    <a:pt x="57" y="3"/>
                  </a:lnTo>
                  <a:close/>
                </a:path>
              </a:pathLst>
            </a:custGeom>
            <a:solidFill>
              <a:srgbClr val="7d7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6440" y="2378160"/>
              <a:ext cx="1657440" cy="182412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55" y="3"/>
                  </a:moveTo>
                  <a:cubicBezTo>
                    <a:pt x="50" y="0"/>
                    <a:pt x="45" y="1"/>
                    <a:pt x="42" y="5"/>
                  </a:cubicBezTo>
                  <a:lnTo>
                    <a:pt x="2" y="63"/>
                  </a:lnTo>
                  <a:cubicBezTo>
                    <a:pt x="0" y="68"/>
                    <a:pt x="1" y="74"/>
                    <a:pt x="5" y="76"/>
                  </a:cubicBezTo>
                  <a:lnTo>
                    <a:pt x="36" y="97"/>
                  </a:lnTo>
                  <a:cubicBezTo>
                    <a:pt x="41" y="100"/>
                    <a:pt x="46" y="99"/>
                    <a:pt x="49" y="95"/>
                  </a:cubicBezTo>
                  <a:lnTo>
                    <a:pt x="88" y="37"/>
                  </a:lnTo>
                  <a:cubicBezTo>
                    <a:pt x="91" y="32"/>
                    <a:pt x="90" y="26"/>
                    <a:pt x="86" y="24"/>
                  </a:cubicBezTo>
                  <a:lnTo>
                    <a:pt x="55" y="3"/>
                  </a:lnTo>
                  <a:close/>
                </a:path>
              </a:pathLst>
            </a:custGeom>
            <a:solidFill>
              <a:srgbClr val="838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3720" y="2414520"/>
              <a:ext cx="1603440" cy="176868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53" y="3"/>
                  </a:moveTo>
                  <a:cubicBezTo>
                    <a:pt x="49" y="0"/>
                    <a:pt x="43" y="1"/>
                    <a:pt x="41" y="5"/>
                  </a:cubicBezTo>
                  <a:lnTo>
                    <a:pt x="2" y="61"/>
                  </a:lnTo>
                  <a:cubicBezTo>
                    <a:pt x="0" y="66"/>
                    <a:pt x="1" y="71"/>
                    <a:pt x="5" y="74"/>
                  </a:cubicBezTo>
                  <a:lnTo>
                    <a:pt x="35" y="94"/>
                  </a:lnTo>
                  <a:cubicBezTo>
                    <a:pt x="39" y="97"/>
                    <a:pt x="44" y="96"/>
                    <a:pt x="47" y="92"/>
                  </a:cubicBezTo>
                  <a:lnTo>
                    <a:pt x="85" y="36"/>
                  </a:lnTo>
                  <a:cubicBezTo>
                    <a:pt x="88" y="31"/>
                    <a:pt x="87" y="26"/>
                    <a:pt x="83" y="23"/>
                  </a:cubicBezTo>
                  <a:lnTo>
                    <a:pt x="53" y="3"/>
                  </a:lnTo>
                  <a:close/>
                </a:path>
              </a:pathLst>
            </a:custGeom>
            <a:solidFill>
              <a:srgbClr val="8a8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40440" y="2451240"/>
              <a:ext cx="1547640" cy="169524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51" y="3"/>
                  </a:moveTo>
                  <a:cubicBezTo>
                    <a:pt x="47" y="0"/>
                    <a:pt x="42" y="1"/>
                    <a:pt x="39" y="5"/>
                  </a:cubicBezTo>
                  <a:lnTo>
                    <a:pt x="2" y="59"/>
                  </a:lnTo>
                  <a:cubicBezTo>
                    <a:pt x="0" y="63"/>
                    <a:pt x="1" y="68"/>
                    <a:pt x="5" y="71"/>
                  </a:cubicBezTo>
                  <a:lnTo>
                    <a:pt x="34" y="90"/>
                  </a:lnTo>
                  <a:cubicBezTo>
                    <a:pt x="38" y="93"/>
                    <a:pt x="43" y="92"/>
                    <a:pt x="46" y="88"/>
                  </a:cubicBezTo>
                  <a:lnTo>
                    <a:pt x="82" y="34"/>
                  </a:lnTo>
                  <a:cubicBezTo>
                    <a:pt x="85" y="30"/>
                    <a:pt x="84" y="25"/>
                    <a:pt x="80" y="22"/>
                  </a:cubicBezTo>
                  <a:lnTo>
                    <a:pt x="51" y="3"/>
                  </a:lnTo>
                  <a:close/>
                </a:path>
              </a:pathLst>
            </a:custGeom>
            <a:solidFill>
              <a:srgbClr val="9292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59520" y="2470320"/>
              <a:ext cx="1492200" cy="163980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49" y="3"/>
                  </a:moveTo>
                  <a:cubicBezTo>
                    <a:pt x="45" y="0"/>
                    <a:pt x="40" y="1"/>
                    <a:pt x="38" y="5"/>
                  </a:cubicBezTo>
                  <a:lnTo>
                    <a:pt x="2" y="57"/>
                  </a:lnTo>
                  <a:cubicBezTo>
                    <a:pt x="0" y="61"/>
                    <a:pt x="1" y="66"/>
                    <a:pt x="5" y="69"/>
                  </a:cubicBezTo>
                  <a:lnTo>
                    <a:pt x="33" y="87"/>
                  </a:lnTo>
                  <a:cubicBezTo>
                    <a:pt x="37" y="90"/>
                    <a:pt x="41" y="89"/>
                    <a:pt x="44" y="85"/>
                  </a:cubicBezTo>
                  <a:lnTo>
                    <a:pt x="79" y="33"/>
                  </a:lnTo>
                  <a:cubicBezTo>
                    <a:pt x="82" y="29"/>
                    <a:pt x="81" y="24"/>
                    <a:pt x="77" y="21"/>
                  </a:cubicBezTo>
                  <a:lnTo>
                    <a:pt x="49" y="3"/>
                  </a:lnTo>
                  <a:close/>
                </a:path>
              </a:pathLst>
            </a:custGeom>
            <a:solidFill>
              <a:srgbClr val="999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95880" y="2506680"/>
              <a:ext cx="1438200" cy="158580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48" y="3"/>
                  </a:moveTo>
                  <a:cubicBezTo>
                    <a:pt x="44" y="0"/>
                    <a:pt x="39" y="1"/>
                    <a:pt x="36" y="4"/>
                  </a:cubicBezTo>
                  <a:lnTo>
                    <a:pt x="2" y="55"/>
                  </a:lnTo>
                  <a:cubicBezTo>
                    <a:pt x="0" y="59"/>
                    <a:pt x="1" y="64"/>
                    <a:pt x="4" y="66"/>
                  </a:cubicBezTo>
                  <a:lnTo>
                    <a:pt x="31" y="84"/>
                  </a:lnTo>
                  <a:cubicBezTo>
                    <a:pt x="35" y="87"/>
                    <a:pt x="40" y="86"/>
                    <a:pt x="43" y="83"/>
                  </a:cubicBezTo>
                  <a:lnTo>
                    <a:pt x="76" y="32"/>
                  </a:lnTo>
                  <a:cubicBezTo>
                    <a:pt x="79" y="28"/>
                    <a:pt x="78" y="23"/>
                    <a:pt x="75" y="21"/>
                  </a:cubicBezTo>
                  <a:lnTo>
                    <a:pt x="48" y="3"/>
                  </a:lnTo>
                  <a:close/>
                </a:path>
              </a:pathLst>
            </a:custGeom>
            <a:solidFill>
              <a:srgbClr val="9f9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13520" y="2524320"/>
              <a:ext cx="1384200" cy="1531800"/>
            </a:xfrm>
            <a:custGeom>
              <a:avLst/>
              <a:gdLst/>
              <a:ahLst/>
              <a:rect l="l" t="t" r="r" b="b"/>
              <a:pathLst>
                <a:path w="76" h="84">
                  <a:moveTo>
                    <a:pt x="46" y="3"/>
                  </a:moveTo>
                  <a:cubicBezTo>
                    <a:pt x="42" y="0"/>
                    <a:pt x="37" y="1"/>
                    <a:pt x="35" y="4"/>
                  </a:cubicBezTo>
                  <a:lnTo>
                    <a:pt x="2" y="53"/>
                  </a:lnTo>
                  <a:cubicBezTo>
                    <a:pt x="0" y="57"/>
                    <a:pt x="1" y="62"/>
                    <a:pt x="4" y="64"/>
                  </a:cubicBezTo>
                  <a:lnTo>
                    <a:pt x="30" y="81"/>
                  </a:lnTo>
                  <a:cubicBezTo>
                    <a:pt x="34" y="84"/>
                    <a:pt x="38" y="83"/>
                    <a:pt x="41" y="80"/>
                  </a:cubicBezTo>
                  <a:lnTo>
                    <a:pt x="73" y="31"/>
                  </a:lnTo>
                  <a:cubicBezTo>
                    <a:pt x="76" y="27"/>
                    <a:pt x="75" y="22"/>
                    <a:pt x="72" y="20"/>
                  </a:cubicBezTo>
                  <a:lnTo>
                    <a:pt x="46" y="3"/>
                  </a:lnTo>
                  <a:close/>
                </a:path>
              </a:pathLst>
            </a:custGeom>
            <a:solidFill>
              <a:srgbClr val="a7a7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49880" y="2560680"/>
              <a:ext cx="1328760" cy="1476360"/>
            </a:xfrm>
            <a:custGeom>
              <a:avLst/>
              <a:gdLst/>
              <a:ahLst/>
              <a:rect l="l" t="t" r="r" b="b"/>
              <a:pathLst>
                <a:path w="73" h="81">
                  <a:moveTo>
                    <a:pt x="44" y="3"/>
                  </a:moveTo>
                  <a:cubicBezTo>
                    <a:pt x="40" y="0"/>
                    <a:pt x="36" y="1"/>
                    <a:pt x="34" y="4"/>
                  </a:cubicBezTo>
                  <a:lnTo>
                    <a:pt x="2" y="51"/>
                  </a:lnTo>
                  <a:cubicBezTo>
                    <a:pt x="0" y="55"/>
                    <a:pt x="1" y="60"/>
                    <a:pt x="4" y="62"/>
                  </a:cubicBezTo>
                  <a:lnTo>
                    <a:pt x="29" y="78"/>
                  </a:lnTo>
                  <a:cubicBezTo>
                    <a:pt x="33" y="81"/>
                    <a:pt x="37" y="80"/>
                    <a:pt x="39" y="77"/>
                  </a:cubicBezTo>
                  <a:lnTo>
                    <a:pt x="70" y="30"/>
                  </a:lnTo>
                  <a:cubicBezTo>
                    <a:pt x="73" y="26"/>
                    <a:pt x="72" y="21"/>
                    <a:pt x="69" y="19"/>
                  </a:cubicBezTo>
                  <a:lnTo>
                    <a:pt x="44" y="3"/>
                  </a:lnTo>
                  <a:close/>
                </a:path>
              </a:pathLst>
            </a:custGeom>
            <a:solidFill>
              <a:srgbClr val="ada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67160" y="2597040"/>
              <a:ext cx="1293840" cy="1403640"/>
            </a:xfrm>
            <a:custGeom>
              <a:avLst/>
              <a:gdLst/>
              <a:ahLst/>
              <a:rect l="l" t="t" r="r" b="b"/>
              <a:pathLst>
                <a:path w="71" h="77">
                  <a:moveTo>
                    <a:pt x="43" y="2"/>
                  </a:moveTo>
                  <a:cubicBezTo>
                    <a:pt x="39" y="0"/>
                    <a:pt x="35" y="1"/>
                    <a:pt x="33" y="4"/>
                  </a:cubicBezTo>
                  <a:lnTo>
                    <a:pt x="2" y="49"/>
                  </a:lnTo>
                  <a:cubicBezTo>
                    <a:pt x="0" y="52"/>
                    <a:pt x="1" y="57"/>
                    <a:pt x="4" y="59"/>
                  </a:cubicBezTo>
                  <a:lnTo>
                    <a:pt x="28" y="75"/>
                  </a:lnTo>
                  <a:cubicBezTo>
                    <a:pt x="32" y="77"/>
                    <a:pt x="36" y="76"/>
                    <a:pt x="38" y="73"/>
                  </a:cubicBezTo>
                  <a:lnTo>
                    <a:pt x="68" y="28"/>
                  </a:lnTo>
                  <a:cubicBezTo>
                    <a:pt x="71" y="25"/>
                    <a:pt x="70" y="20"/>
                    <a:pt x="67" y="18"/>
                  </a:cubicBezTo>
                  <a:lnTo>
                    <a:pt x="43" y="2"/>
                  </a:lnTo>
                  <a:close/>
                </a:path>
              </a:pathLst>
            </a:custGeom>
            <a:solidFill>
              <a:srgbClr val="b3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86240" y="2616120"/>
              <a:ext cx="1238400" cy="134784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41" y="2"/>
                  </a:moveTo>
                  <a:cubicBezTo>
                    <a:pt x="38" y="0"/>
                    <a:pt x="33" y="1"/>
                    <a:pt x="31" y="4"/>
                  </a:cubicBezTo>
                  <a:lnTo>
                    <a:pt x="2" y="47"/>
                  </a:lnTo>
                  <a:cubicBezTo>
                    <a:pt x="0" y="50"/>
                    <a:pt x="1" y="54"/>
                    <a:pt x="4" y="56"/>
                  </a:cubicBezTo>
                  <a:lnTo>
                    <a:pt x="27" y="72"/>
                  </a:lnTo>
                  <a:cubicBezTo>
                    <a:pt x="30" y="74"/>
                    <a:pt x="34" y="73"/>
                    <a:pt x="37" y="70"/>
                  </a:cubicBezTo>
                  <a:lnTo>
                    <a:pt x="66" y="27"/>
                  </a:lnTo>
                  <a:cubicBezTo>
                    <a:pt x="68" y="24"/>
                    <a:pt x="67" y="20"/>
                    <a:pt x="64" y="18"/>
                  </a:cubicBezTo>
                  <a:lnTo>
                    <a:pt x="41" y="2"/>
                  </a:lnTo>
                  <a:close/>
                </a:path>
              </a:pathLst>
            </a:custGeom>
            <a:solidFill>
              <a:srgbClr val="bab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2960" y="2651040"/>
              <a:ext cx="1182600" cy="1295640"/>
            </a:xfrm>
            <a:custGeom>
              <a:avLst/>
              <a:gdLst/>
              <a:ahLst/>
              <a:rect l="l" t="t" r="r" b="b"/>
              <a:pathLst>
                <a:path w="65" h="71">
                  <a:moveTo>
                    <a:pt x="39" y="2"/>
                  </a:moveTo>
                  <a:cubicBezTo>
                    <a:pt x="36" y="0"/>
                    <a:pt x="32" y="1"/>
                    <a:pt x="30" y="4"/>
                  </a:cubicBezTo>
                  <a:lnTo>
                    <a:pt x="2" y="45"/>
                  </a:lnTo>
                  <a:cubicBezTo>
                    <a:pt x="0" y="48"/>
                    <a:pt x="1" y="52"/>
                    <a:pt x="4" y="54"/>
                  </a:cubicBezTo>
                  <a:lnTo>
                    <a:pt x="26" y="69"/>
                  </a:lnTo>
                  <a:cubicBezTo>
                    <a:pt x="29" y="71"/>
                    <a:pt x="33" y="70"/>
                    <a:pt x="35" y="67"/>
                  </a:cubicBezTo>
                  <a:lnTo>
                    <a:pt x="63" y="26"/>
                  </a:lnTo>
                  <a:cubicBezTo>
                    <a:pt x="65" y="23"/>
                    <a:pt x="64" y="19"/>
                    <a:pt x="61" y="17"/>
                  </a:cubicBezTo>
                  <a:lnTo>
                    <a:pt x="39" y="2"/>
                  </a:lnTo>
                  <a:close/>
                </a:path>
              </a:pathLst>
            </a:custGeom>
            <a:solidFill>
              <a:srgbClr val="c0c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40240" y="2670120"/>
              <a:ext cx="1130400" cy="123984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37" y="2"/>
                  </a:moveTo>
                  <a:cubicBezTo>
                    <a:pt x="34" y="0"/>
                    <a:pt x="30" y="1"/>
                    <a:pt x="29" y="4"/>
                  </a:cubicBezTo>
                  <a:lnTo>
                    <a:pt x="2" y="43"/>
                  </a:lnTo>
                  <a:cubicBezTo>
                    <a:pt x="0" y="46"/>
                    <a:pt x="1" y="50"/>
                    <a:pt x="4" y="52"/>
                  </a:cubicBezTo>
                  <a:lnTo>
                    <a:pt x="25" y="66"/>
                  </a:lnTo>
                  <a:cubicBezTo>
                    <a:pt x="28" y="68"/>
                    <a:pt x="31" y="67"/>
                    <a:pt x="33" y="64"/>
                  </a:cubicBezTo>
                  <a:lnTo>
                    <a:pt x="60" y="25"/>
                  </a:lnTo>
                  <a:cubicBezTo>
                    <a:pt x="62" y="22"/>
                    <a:pt x="61" y="18"/>
                    <a:pt x="58" y="16"/>
                  </a:cubicBezTo>
                  <a:lnTo>
                    <a:pt x="37" y="2"/>
                  </a:lnTo>
                  <a:close/>
                </a:path>
              </a:pathLst>
            </a:custGeom>
            <a:solidFill>
              <a:srgbClr val="c5c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76960" y="2706840"/>
              <a:ext cx="1074600" cy="118404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36" y="2"/>
                  </a:moveTo>
                  <a:cubicBezTo>
                    <a:pt x="33" y="0"/>
                    <a:pt x="29" y="1"/>
                    <a:pt x="27" y="3"/>
                  </a:cubicBezTo>
                  <a:lnTo>
                    <a:pt x="2" y="41"/>
                  </a:lnTo>
                  <a:cubicBezTo>
                    <a:pt x="0" y="44"/>
                    <a:pt x="1" y="48"/>
                    <a:pt x="3" y="49"/>
                  </a:cubicBezTo>
                  <a:lnTo>
                    <a:pt x="23" y="63"/>
                  </a:lnTo>
                  <a:cubicBezTo>
                    <a:pt x="26" y="65"/>
                    <a:pt x="30" y="64"/>
                    <a:pt x="32" y="62"/>
                  </a:cubicBezTo>
                  <a:lnTo>
                    <a:pt x="57" y="24"/>
                  </a:lnTo>
                  <a:cubicBezTo>
                    <a:pt x="59" y="21"/>
                    <a:pt x="58" y="17"/>
                    <a:pt x="56" y="16"/>
                  </a:cubicBezTo>
                  <a:lnTo>
                    <a:pt x="36" y="2"/>
                  </a:lnTo>
                  <a:close/>
                </a:path>
              </a:pathLst>
            </a:custGeom>
            <a:solidFill>
              <a:srgbClr val="cbc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6040" y="2724120"/>
              <a:ext cx="1019160" cy="113040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34" y="2"/>
                  </a:moveTo>
                  <a:cubicBezTo>
                    <a:pt x="31" y="0"/>
                    <a:pt x="27" y="1"/>
                    <a:pt x="26" y="3"/>
                  </a:cubicBezTo>
                  <a:lnTo>
                    <a:pt x="2" y="39"/>
                  </a:lnTo>
                  <a:cubicBezTo>
                    <a:pt x="0" y="42"/>
                    <a:pt x="1" y="46"/>
                    <a:pt x="3" y="47"/>
                  </a:cubicBezTo>
                  <a:lnTo>
                    <a:pt x="22" y="60"/>
                  </a:lnTo>
                  <a:cubicBezTo>
                    <a:pt x="25" y="62"/>
                    <a:pt x="28" y="61"/>
                    <a:pt x="30" y="59"/>
                  </a:cubicBezTo>
                  <a:lnTo>
                    <a:pt x="54" y="23"/>
                  </a:lnTo>
                  <a:cubicBezTo>
                    <a:pt x="56" y="20"/>
                    <a:pt x="55" y="16"/>
                    <a:pt x="53" y="15"/>
                  </a:cubicBezTo>
                  <a:lnTo>
                    <a:pt x="34" y="2"/>
                  </a:lnTo>
                  <a:close/>
                </a:path>
              </a:pathLst>
            </a:custGeom>
            <a:solidFill>
              <a:srgbClr val="d0d0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32400" y="2760840"/>
              <a:ext cx="965160" cy="105732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32" y="2"/>
                  </a:moveTo>
                  <a:cubicBezTo>
                    <a:pt x="29" y="0"/>
                    <a:pt x="26" y="1"/>
                    <a:pt x="24" y="3"/>
                  </a:cubicBezTo>
                  <a:lnTo>
                    <a:pt x="2" y="37"/>
                  </a:lnTo>
                  <a:cubicBezTo>
                    <a:pt x="0" y="39"/>
                    <a:pt x="1" y="43"/>
                    <a:pt x="3" y="44"/>
                  </a:cubicBezTo>
                  <a:lnTo>
                    <a:pt x="21" y="56"/>
                  </a:lnTo>
                  <a:cubicBezTo>
                    <a:pt x="24" y="58"/>
                    <a:pt x="27" y="57"/>
                    <a:pt x="29" y="55"/>
                  </a:cubicBezTo>
                  <a:lnTo>
                    <a:pt x="51" y="21"/>
                  </a:lnTo>
                  <a:cubicBezTo>
                    <a:pt x="53" y="19"/>
                    <a:pt x="52" y="15"/>
                    <a:pt x="50" y="14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d5d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50040" y="2797200"/>
              <a:ext cx="911160" cy="100332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30" y="2"/>
                  </a:moveTo>
                  <a:cubicBezTo>
                    <a:pt x="28" y="0"/>
                    <a:pt x="24" y="1"/>
                    <a:pt x="23" y="3"/>
                  </a:cubicBezTo>
                  <a:lnTo>
                    <a:pt x="2" y="35"/>
                  </a:lnTo>
                  <a:cubicBezTo>
                    <a:pt x="0" y="37"/>
                    <a:pt x="1" y="40"/>
                    <a:pt x="3" y="42"/>
                  </a:cubicBezTo>
                  <a:lnTo>
                    <a:pt x="20" y="53"/>
                  </a:lnTo>
                  <a:cubicBezTo>
                    <a:pt x="22" y="55"/>
                    <a:pt x="25" y="54"/>
                    <a:pt x="27" y="52"/>
                  </a:cubicBezTo>
                  <a:lnTo>
                    <a:pt x="48" y="20"/>
                  </a:lnTo>
                  <a:cubicBezTo>
                    <a:pt x="50" y="18"/>
                    <a:pt x="49" y="15"/>
                    <a:pt x="47" y="13"/>
                  </a:cubicBezTo>
                  <a:lnTo>
                    <a:pt x="30" y="2"/>
                  </a:lnTo>
                  <a:close/>
                </a:path>
              </a:pathLst>
            </a:custGeom>
            <a:solidFill>
              <a:srgbClr val="dad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9120" y="2816280"/>
              <a:ext cx="873000" cy="94788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29" y="2"/>
                  </a:moveTo>
                  <a:cubicBezTo>
                    <a:pt x="27" y="0"/>
                    <a:pt x="23" y="1"/>
                    <a:pt x="22" y="3"/>
                  </a:cubicBezTo>
                  <a:lnTo>
                    <a:pt x="2" y="33"/>
                  </a:lnTo>
                  <a:cubicBezTo>
                    <a:pt x="0" y="35"/>
                    <a:pt x="1" y="38"/>
                    <a:pt x="3" y="39"/>
                  </a:cubicBezTo>
                  <a:lnTo>
                    <a:pt x="19" y="50"/>
                  </a:lnTo>
                  <a:cubicBezTo>
                    <a:pt x="21" y="52"/>
                    <a:pt x="24" y="51"/>
                    <a:pt x="26" y="49"/>
                  </a:cubicBezTo>
                  <a:lnTo>
                    <a:pt x="46" y="19"/>
                  </a:lnTo>
                  <a:cubicBezTo>
                    <a:pt x="48" y="17"/>
                    <a:pt x="47" y="14"/>
                    <a:pt x="45" y="12"/>
                  </a:cubicBezTo>
                  <a:lnTo>
                    <a:pt x="29" y="2"/>
                  </a:lnTo>
                  <a:close/>
                </a:path>
              </a:pathLst>
            </a:custGeom>
            <a:solidFill>
              <a:srgbClr val="dede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05480" y="2852640"/>
              <a:ext cx="799920" cy="89388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26" y="2"/>
                  </a:moveTo>
                  <a:cubicBezTo>
                    <a:pt x="24" y="0"/>
                    <a:pt x="22" y="1"/>
                    <a:pt x="20" y="3"/>
                  </a:cubicBezTo>
                  <a:lnTo>
                    <a:pt x="1" y="31"/>
                  </a:lnTo>
                  <a:cubicBezTo>
                    <a:pt x="0" y="33"/>
                    <a:pt x="1" y="36"/>
                    <a:pt x="3" y="37"/>
                  </a:cubicBezTo>
                  <a:lnTo>
                    <a:pt x="18" y="47"/>
                  </a:lnTo>
                  <a:cubicBezTo>
                    <a:pt x="20" y="49"/>
                    <a:pt x="22" y="48"/>
                    <a:pt x="24" y="46"/>
                  </a:cubicBezTo>
                  <a:lnTo>
                    <a:pt x="42" y="18"/>
                  </a:lnTo>
                  <a:cubicBezTo>
                    <a:pt x="44" y="16"/>
                    <a:pt x="43" y="13"/>
                    <a:pt x="41" y="12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e1e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22760" y="2870280"/>
              <a:ext cx="765360" cy="8398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2"/>
                  </a:moveTo>
                  <a:cubicBezTo>
                    <a:pt x="23" y="0"/>
                    <a:pt x="21" y="1"/>
                    <a:pt x="19" y="3"/>
                  </a:cubicBezTo>
                  <a:lnTo>
                    <a:pt x="1" y="29"/>
                  </a:lnTo>
                  <a:cubicBezTo>
                    <a:pt x="0" y="31"/>
                    <a:pt x="1" y="34"/>
                    <a:pt x="3" y="35"/>
                  </a:cubicBezTo>
                  <a:lnTo>
                    <a:pt x="17" y="44"/>
                  </a:lnTo>
                  <a:cubicBezTo>
                    <a:pt x="19" y="46"/>
                    <a:pt x="21" y="45"/>
                    <a:pt x="23" y="43"/>
                  </a:cubicBezTo>
                  <a:lnTo>
                    <a:pt x="40" y="17"/>
                  </a:lnTo>
                  <a:cubicBezTo>
                    <a:pt x="42" y="15"/>
                    <a:pt x="41" y="12"/>
                    <a:pt x="39" y="11"/>
                  </a:cubicBezTo>
                  <a:lnTo>
                    <a:pt x="25" y="2"/>
                  </a:lnTo>
                  <a:close/>
                </a:path>
              </a:pathLst>
            </a:custGeom>
            <a:solidFill>
              <a:srgbClr val="e6e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59480" y="2906640"/>
              <a:ext cx="692280" cy="7668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3" y="2"/>
                  </a:moveTo>
                  <a:cubicBezTo>
                    <a:pt x="21" y="0"/>
                    <a:pt x="19" y="1"/>
                    <a:pt x="18" y="2"/>
                  </a:cubicBezTo>
                  <a:lnTo>
                    <a:pt x="1" y="26"/>
                  </a:lnTo>
                  <a:cubicBezTo>
                    <a:pt x="0" y="28"/>
                    <a:pt x="1" y="31"/>
                    <a:pt x="2" y="32"/>
                  </a:cubicBezTo>
                  <a:lnTo>
                    <a:pt x="15" y="40"/>
                  </a:lnTo>
                  <a:cubicBezTo>
                    <a:pt x="17" y="42"/>
                    <a:pt x="19" y="41"/>
                    <a:pt x="20" y="40"/>
                  </a:cubicBezTo>
                  <a:lnTo>
                    <a:pt x="36" y="16"/>
                  </a:lnTo>
                  <a:cubicBezTo>
                    <a:pt x="38" y="14"/>
                    <a:pt x="37" y="11"/>
                    <a:pt x="36" y="10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e9e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6760" y="2943360"/>
              <a:ext cx="655920" cy="71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2" y="1"/>
                  </a:moveTo>
                  <a:cubicBezTo>
                    <a:pt x="20" y="0"/>
                    <a:pt x="18" y="1"/>
                    <a:pt x="17" y="2"/>
                  </a:cubicBezTo>
                  <a:lnTo>
                    <a:pt x="1" y="25"/>
                  </a:lnTo>
                  <a:cubicBezTo>
                    <a:pt x="0" y="26"/>
                    <a:pt x="1" y="29"/>
                    <a:pt x="2" y="30"/>
                  </a:cubicBezTo>
                  <a:lnTo>
                    <a:pt x="14" y="38"/>
                  </a:lnTo>
                  <a:cubicBezTo>
                    <a:pt x="16" y="39"/>
                    <a:pt x="18" y="38"/>
                    <a:pt x="19" y="37"/>
                  </a:cubicBezTo>
                  <a:lnTo>
                    <a:pt x="34" y="14"/>
                  </a:lnTo>
                  <a:cubicBezTo>
                    <a:pt x="36" y="13"/>
                    <a:pt x="35" y="10"/>
                    <a:pt x="34" y="9"/>
                  </a:cubicBezTo>
                  <a:lnTo>
                    <a:pt x="22" y="1"/>
                  </a:lnTo>
                  <a:close/>
                </a:path>
              </a:pathLst>
            </a:custGeom>
            <a:solidFill>
              <a:srgbClr val="ece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13480" y="2962440"/>
              <a:ext cx="601560" cy="6555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20" y="1"/>
                  </a:moveTo>
                  <a:cubicBezTo>
                    <a:pt x="18" y="0"/>
                    <a:pt x="16" y="1"/>
                    <a:pt x="15" y="2"/>
                  </a:cubicBezTo>
                  <a:lnTo>
                    <a:pt x="1" y="23"/>
                  </a:lnTo>
                  <a:cubicBezTo>
                    <a:pt x="0" y="24"/>
                    <a:pt x="1" y="26"/>
                    <a:pt x="2" y="27"/>
                  </a:cubicBezTo>
                  <a:lnTo>
                    <a:pt x="13" y="35"/>
                  </a:lnTo>
                  <a:cubicBezTo>
                    <a:pt x="15" y="36"/>
                    <a:pt x="17" y="35"/>
                    <a:pt x="18" y="34"/>
                  </a:cubicBezTo>
                  <a:lnTo>
                    <a:pt x="32" y="13"/>
                  </a:lnTo>
                  <a:cubicBezTo>
                    <a:pt x="33" y="12"/>
                    <a:pt x="32" y="10"/>
                    <a:pt x="31" y="9"/>
                  </a:cubicBezTo>
                  <a:lnTo>
                    <a:pt x="20" y="1"/>
                  </a:lnTo>
                  <a:close/>
                </a:path>
              </a:pathLst>
            </a:custGeom>
            <a:solidFill>
              <a:srgbClr val="efe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32560" y="2998800"/>
              <a:ext cx="546120" cy="601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8" y="1"/>
                  </a:moveTo>
                  <a:cubicBezTo>
                    <a:pt x="17" y="0"/>
                    <a:pt x="15" y="1"/>
                    <a:pt x="14" y="2"/>
                  </a:cubicBezTo>
                  <a:lnTo>
                    <a:pt x="1" y="21"/>
                  </a:lnTo>
                  <a:cubicBezTo>
                    <a:pt x="0" y="22"/>
                    <a:pt x="1" y="24"/>
                    <a:pt x="2" y="25"/>
                  </a:cubicBezTo>
                  <a:lnTo>
                    <a:pt x="12" y="32"/>
                  </a:lnTo>
                  <a:cubicBezTo>
                    <a:pt x="13" y="33"/>
                    <a:pt x="15" y="32"/>
                    <a:pt x="16" y="31"/>
                  </a:cubicBezTo>
                  <a:lnTo>
                    <a:pt x="29" y="12"/>
                  </a:lnTo>
                  <a:cubicBezTo>
                    <a:pt x="30" y="11"/>
                    <a:pt x="29" y="9"/>
                    <a:pt x="28" y="8"/>
                  </a:cubicBezTo>
                  <a:lnTo>
                    <a:pt x="18" y="1"/>
                  </a:lnTo>
                  <a:close/>
                </a:path>
              </a:pathLst>
            </a:custGeom>
            <a:solidFill>
              <a:srgbClr val="f1f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68920" y="3016440"/>
              <a:ext cx="492120" cy="5475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6" y="1"/>
                  </a:moveTo>
                  <a:cubicBezTo>
                    <a:pt x="15" y="0"/>
                    <a:pt x="13" y="1"/>
                    <a:pt x="12" y="2"/>
                  </a:cubicBezTo>
                  <a:lnTo>
                    <a:pt x="1" y="19"/>
                  </a:lnTo>
                  <a:cubicBezTo>
                    <a:pt x="0" y="20"/>
                    <a:pt x="1" y="22"/>
                    <a:pt x="2" y="23"/>
                  </a:cubicBezTo>
                  <a:lnTo>
                    <a:pt x="11" y="29"/>
                  </a:lnTo>
                  <a:cubicBezTo>
                    <a:pt x="12" y="30"/>
                    <a:pt x="14" y="29"/>
                    <a:pt x="15" y="28"/>
                  </a:cubicBezTo>
                  <a:lnTo>
                    <a:pt x="26" y="11"/>
                  </a:lnTo>
                  <a:cubicBezTo>
                    <a:pt x="27" y="10"/>
                    <a:pt x="26" y="8"/>
                    <a:pt x="25" y="7"/>
                  </a:cubicBezTo>
                  <a:lnTo>
                    <a:pt x="16" y="1"/>
                  </a:lnTo>
                  <a:close/>
                </a:path>
              </a:pathLst>
            </a:custGeom>
            <a:solidFill>
              <a:srgbClr val="f3f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86560" y="3052800"/>
              <a:ext cx="438120" cy="4748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14" y="1"/>
                  </a:moveTo>
                  <a:cubicBezTo>
                    <a:pt x="13" y="0"/>
                    <a:pt x="12" y="1"/>
                    <a:pt x="11" y="2"/>
                  </a:cubicBezTo>
                  <a:lnTo>
                    <a:pt x="1" y="16"/>
                  </a:lnTo>
                  <a:cubicBezTo>
                    <a:pt x="0" y="17"/>
                    <a:pt x="1" y="19"/>
                    <a:pt x="2" y="20"/>
                  </a:cubicBezTo>
                  <a:lnTo>
                    <a:pt x="10" y="25"/>
                  </a:lnTo>
                  <a:cubicBezTo>
                    <a:pt x="11" y="26"/>
                    <a:pt x="12" y="25"/>
                    <a:pt x="13" y="24"/>
                  </a:cubicBezTo>
                  <a:lnTo>
                    <a:pt x="23" y="10"/>
                  </a:lnTo>
                  <a:cubicBezTo>
                    <a:pt x="24" y="9"/>
                    <a:pt x="23" y="7"/>
                    <a:pt x="22" y="6"/>
                  </a:cubicBezTo>
                  <a:lnTo>
                    <a:pt x="14" y="1"/>
                  </a:lnTo>
                  <a:close/>
                </a:path>
              </a:pathLst>
            </a:custGeom>
            <a:solidFill>
              <a:srgbClr val="f5f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05640" y="3071880"/>
              <a:ext cx="399960" cy="4366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3" y="1"/>
                  </a:moveTo>
                  <a:cubicBezTo>
                    <a:pt x="12" y="0"/>
                    <a:pt x="11" y="1"/>
                    <a:pt x="10" y="2"/>
                  </a:cubicBezTo>
                  <a:lnTo>
                    <a:pt x="1" y="15"/>
                  </a:lnTo>
                  <a:cubicBezTo>
                    <a:pt x="0" y="16"/>
                    <a:pt x="1" y="17"/>
                    <a:pt x="2" y="18"/>
                  </a:cubicBezTo>
                  <a:lnTo>
                    <a:pt x="9" y="23"/>
                  </a:lnTo>
                  <a:cubicBezTo>
                    <a:pt x="10" y="24"/>
                    <a:pt x="11" y="23"/>
                    <a:pt x="12" y="22"/>
                  </a:cubicBezTo>
                  <a:lnTo>
                    <a:pt x="21" y="9"/>
                  </a:lnTo>
                  <a:cubicBezTo>
                    <a:pt x="22" y="8"/>
                    <a:pt x="21" y="7"/>
                    <a:pt x="20" y="6"/>
                  </a:cubicBezTo>
                  <a:lnTo>
                    <a:pt x="13" y="1"/>
                  </a:lnTo>
                  <a:close/>
                </a:path>
              </a:pathLst>
            </a:custGeom>
            <a:solidFill>
              <a:srgbClr val="f7f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42000" y="3108240"/>
              <a:ext cx="326880" cy="363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"/>
                  </a:moveTo>
                  <a:cubicBezTo>
                    <a:pt x="10" y="0"/>
                    <a:pt x="9" y="1"/>
                    <a:pt x="8" y="1"/>
                  </a:cubicBezTo>
                  <a:lnTo>
                    <a:pt x="1" y="13"/>
                  </a:lnTo>
                  <a:cubicBezTo>
                    <a:pt x="0" y="13"/>
                    <a:pt x="1" y="15"/>
                    <a:pt x="1" y="15"/>
                  </a:cubicBezTo>
                  <a:lnTo>
                    <a:pt x="7" y="19"/>
                  </a:lnTo>
                  <a:cubicBezTo>
                    <a:pt x="8" y="20"/>
                    <a:pt x="9" y="19"/>
                    <a:pt x="10" y="19"/>
                  </a:cubicBezTo>
                  <a:lnTo>
                    <a:pt x="17" y="7"/>
                  </a:lnTo>
                  <a:cubicBezTo>
                    <a:pt x="18" y="7"/>
                    <a:pt x="17" y="5"/>
                    <a:pt x="17" y="5"/>
                  </a:cubicBezTo>
                  <a:lnTo>
                    <a:pt x="11" y="1"/>
                  </a:lnTo>
                  <a:close/>
                </a:path>
              </a:pathLst>
            </a:custGeom>
            <a:solidFill>
              <a:srgbClr val="f9f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59640" y="3144960"/>
              <a:ext cx="291960" cy="3096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0" y="1"/>
                  </a:moveTo>
                  <a:cubicBezTo>
                    <a:pt x="9" y="0"/>
                    <a:pt x="8" y="1"/>
                    <a:pt x="7" y="1"/>
                  </a:cubicBezTo>
                  <a:lnTo>
                    <a:pt x="1" y="11"/>
                  </a:lnTo>
                  <a:cubicBezTo>
                    <a:pt x="0" y="11"/>
                    <a:pt x="1" y="12"/>
                    <a:pt x="1" y="13"/>
                  </a:cubicBezTo>
                  <a:lnTo>
                    <a:pt x="6" y="16"/>
                  </a:lnTo>
                  <a:cubicBezTo>
                    <a:pt x="7" y="17"/>
                    <a:pt x="8" y="16"/>
                    <a:pt x="9" y="16"/>
                  </a:cubicBezTo>
                  <a:lnTo>
                    <a:pt x="15" y="6"/>
                  </a:lnTo>
                  <a:cubicBezTo>
                    <a:pt x="16" y="6"/>
                    <a:pt x="15" y="5"/>
                    <a:pt x="15" y="4"/>
                  </a:cubicBezTo>
                  <a:lnTo>
                    <a:pt x="10" y="1"/>
                  </a:lnTo>
                  <a:close/>
                </a:path>
              </a:pathLst>
            </a:custGeom>
            <a:solidFill>
              <a:srgbClr val="faf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96000" y="3162240"/>
              <a:ext cx="218880" cy="2556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1"/>
                  </a:moveTo>
                  <a:cubicBezTo>
                    <a:pt x="7" y="0"/>
                    <a:pt x="6" y="1"/>
                    <a:pt x="6" y="1"/>
                  </a:cubicBezTo>
                  <a:lnTo>
                    <a:pt x="1" y="9"/>
                  </a:lnTo>
                  <a:cubicBezTo>
                    <a:pt x="0" y="9"/>
                    <a:pt x="1" y="10"/>
                    <a:pt x="1" y="10"/>
                  </a:cubicBezTo>
                  <a:lnTo>
                    <a:pt x="5" y="13"/>
                  </a:lnTo>
                  <a:cubicBezTo>
                    <a:pt x="5" y="14"/>
                    <a:pt x="6" y="13"/>
                    <a:pt x="6" y="13"/>
                  </a:cubicBezTo>
                  <a:lnTo>
                    <a:pt x="11" y="5"/>
                  </a:lnTo>
                  <a:cubicBezTo>
                    <a:pt x="12" y="5"/>
                    <a:pt x="11" y="4"/>
                    <a:pt x="11" y="4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fbfb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15080" y="3198960"/>
              <a:ext cx="181080" cy="182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1"/>
                  </a:moveTo>
                  <a:cubicBezTo>
                    <a:pt x="5" y="0"/>
                    <a:pt x="5" y="1"/>
                    <a:pt x="5" y="1"/>
                  </a:cubicBezTo>
                  <a:lnTo>
                    <a:pt x="1" y="6"/>
                  </a:lnTo>
                  <a:cubicBezTo>
                    <a:pt x="0" y="7"/>
                    <a:pt x="1" y="7"/>
                    <a:pt x="1" y="7"/>
                  </a:cubicBezTo>
                  <a:lnTo>
                    <a:pt x="4" y="9"/>
                  </a:lnTo>
                  <a:cubicBezTo>
                    <a:pt x="5" y="10"/>
                    <a:pt x="5" y="9"/>
                    <a:pt x="5" y="9"/>
                  </a:cubicBezTo>
                  <a:lnTo>
                    <a:pt x="9" y="4"/>
                  </a:lnTo>
                  <a:cubicBezTo>
                    <a:pt x="10" y="3"/>
                    <a:pt x="9" y="3"/>
                    <a:pt x="9" y="3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fcfc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51440" y="3218040"/>
              <a:ext cx="108000" cy="14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1"/>
                  </a:moveTo>
                  <a:cubicBezTo>
                    <a:pt x="3" y="0"/>
                    <a:pt x="3" y="1"/>
                    <a:pt x="3" y="1"/>
                  </a:cubicBezTo>
                  <a:lnTo>
                    <a:pt x="1" y="5"/>
                  </a:lnTo>
                  <a:cubicBezTo>
                    <a:pt x="0" y="5"/>
                    <a:pt x="1" y="6"/>
                    <a:pt x="1" y="6"/>
                  </a:cubicBezTo>
                  <a:lnTo>
                    <a:pt x="2" y="7"/>
                  </a:lnTo>
                  <a:cubicBezTo>
                    <a:pt x="3" y="8"/>
                    <a:pt x="3" y="7"/>
                    <a:pt x="3" y="7"/>
                  </a:cubicBezTo>
                  <a:lnTo>
                    <a:pt x="5" y="3"/>
                  </a:lnTo>
                  <a:cubicBezTo>
                    <a:pt x="6" y="3"/>
                    <a:pt x="5" y="2"/>
                    <a:pt x="5" y="2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fdf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69080" y="3252960"/>
              <a:ext cx="73080" cy="727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lnTo>
                    <a:pt x="1" y="2"/>
                  </a:lnTo>
                  <a:cubicBezTo>
                    <a:pt x="0" y="3"/>
                    <a:pt x="1" y="3"/>
                    <a:pt x="1" y="3"/>
                  </a:cubicBezTo>
                  <a:lnTo>
                    <a:pt x="2" y="3"/>
                  </a:lnTo>
                  <a:cubicBezTo>
                    <a:pt x="2" y="4"/>
                    <a:pt x="2" y="3"/>
                    <a:pt x="2" y="3"/>
                  </a:cubicBezTo>
                  <a:lnTo>
                    <a:pt x="3" y="2"/>
                  </a:lnTo>
                  <a:cubicBezTo>
                    <a:pt x="4" y="1"/>
                    <a:pt x="3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efe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917880" y="4889520"/>
            <a:ext cx="1800" cy="399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99000" y="4780080"/>
            <a:ext cx="218880" cy="126720"/>
          </a:xfrm>
          <a:custGeom>
            <a:avLst/>
            <a:gdLst/>
            <a:ahLst/>
            <a:rect l="l" t="t" r="r" b="b"/>
            <a:pathLst>
              <a:path w="138" h="80">
                <a:moveTo>
                  <a:pt x="0" y="0"/>
                </a:moveTo>
                <a:lnTo>
                  <a:pt x="34" y="34"/>
                </a:lnTo>
                <a:lnTo>
                  <a:pt x="69" y="69"/>
                </a:lnTo>
                <a:lnTo>
                  <a:pt x="92" y="80"/>
                </a:lnTo>
                <a:lnTo>
                  <a:pt x="103" y="80"/>
                </a:lnTo>
                <a:lnTo>
                  <a:pt x="126" y="80"/>
                </a:lnTo>
                <a:lnTo>
                  <a:pt x="138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1880" y="5035680"/>
            <a:ext cx="1800" cy="399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3080" y="4889520"/>
            <a:ext cx="1800" cy="399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24200" y="4816440"/>
            <a:ext cx="236520" cy="90360"/>
          </a:xfrm>
          <a:custGeom>
            <a:avLst/>
            <a:gdLst/>
            <a:ahLst/>
            <a:rect l="l" t="t" r="r" b="b"/>
            <a:pathLst>
              <a:path w="149" h="57">
                <a:moveTo>
                  <a:pt x="0" y="0"/>
                </a:moveTo>
                <a:lnTo>
                  <a:pt x="35" y="23"/>
                </a:lnTo>
                <a:lnTo>
                  <a:pt x="81" y="46"/>
                </a:lnTo>
                <a:lnTo>
                  <a:pt x="92" y="57"/>
                </a:lnTo>
                <a:lnTo>
                  <a:pt x="115" y="57"/>
                </a:lnTo>
                <a:lnTo>
                  <a:pt x="138" y="57"/>
                </a:lnTo>
                <a:lnTo>
                  <a:pt x="149" y="57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7080" y="5052960"/>
            <a:ext cx="19080" cy="40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0" y="5445000"/>
            <a:ext cx="3533760" cy="291960"/>
            <a:chOff x="2286000" y="5445000"/>
            <a:chExt cx="3533760" cy="291960"/>
          </a:xfrm>
        </p:grpSpPr>
        <p:sp>
          <p:nvSpPr>
            <p:cNvPr id="160" name=""/>
            <p:cNvSpPr/>
            <p:nvPr/>
          </p:nvSpPr>
          <p:spPr>
            <a:xfrm>
              <a:off x="2286000" y="5445000"/>
              <a:ext cx="3533760" cy="19080"/>
            </a:xfrm>
            <a:prstGeom prst="rect">
              <a:avLst/>
            </a:prstGeom>
            <a:solidFill>
              <a:srgbClr val="fdc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0" y="5464080"/>
              <a:ext cx="3533760" cy="36360"/>
            </a:xfrm>
            <a:prstGeom prst="rect">
              <a:avLst/>
            </a:prstGeom>
            <a:solidFill>
              <a:srgbClr val="f9c7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6000" y="5500440"/>
              <a:ext cx="3533760" cy="17640"/>
            </a:xfrm>
            <a:prstGeom prst="rect">
              <a:avLst/>
            </a:prstGeom>
            <a:solidFill>
              <a:srgbClr val="f0c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5518080"/>
              <a:ext cx="3533760" cy="19080"/>
            </a:xfrm>
            <a:prstGeom prst="rect">
              <a:avLst/>
            </a:prstGeom>
            <a:solidFill>
              <a:srgbClr val="e7b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0" y="5537160"/>
              <a:ext cx="3533760" cy="36360"/>
            </a:xfrm>
            <a:prstGeom prst="rect">
              <a:avLst/>
            </a:prstGeom>
            <a:solidFill>
              <a:srgbClr val="d5a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86000" y="5573520"/>
              <a:ext cx="3533760" cy="17640"/>
            </a:xfrm>
            <a:prstGeom prst="rect">
              <a:avLst/>
            </a:prstGeom>
            <a:solidFill>
              <a:srgbClr val="bc9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86000" y="5591160"/>
              <a:ext cx="3533760" cy="19080"/>
            </a:xfrm>
            <a:prstGeom prst="rect">
              <a:avLst/>
            </a:prstGeom>
            <a:solidFill>
              <a:srgbClr val="a987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86000" y="5610240"/>
              <a:ext cx="3533760" cy="36360"/>
            </a:xfrm>
            <a:prstGeom prst="rect">
              <a:avLst/>
            </a:prstGeom>
            <a:solidFill>
              <a:srgbClr val="8a6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0" y="5646600"/>
              <a:ext cx="3533760" cy="17280"/>
            </a:xfrm>
            <a:prstGeom prst="rect">
              <a:avLst/>
            </a:prstGeom>
            <a:solidFill>
              <a:srgbClr val="6a5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5663880"/>
              <a:ext cx="3533760" cy="19080"/>
            </a:xfrm>
            <a:prstGeom prst="rect">
              <a:avLst/>
            </a:prstGeom>
            <a:solidFill>
              <a:srgbClr val="544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86000" y="5682960"/>
              <a:ext cx="3533760" cy="34920"/>
            </a:xfrm>
            <a:prstGeom prst="rect">
              <a:avLst/>
            </a:prstGeom>
            <a:solidFill>
              <a:srgbClr val="352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0" y="5717880"/>
              <a:ext cx="3533760" cy="19080"/>
            </a:xfrm>
            <a:prstGeom prst="rect">
              <a:avLst/>
            </a:prstGeom>
            <a:solidFill>
              <a:srgbClr val="151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589200" y="5454720"/>
            <a:ext cx="947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94720" y="5872320"/>
            <a:ext cx="165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la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8040" y="4651200"/>
            <a:ext cx="147600" cy="238320"/>
            <a:chOff x="4118040" y="4651200"/>
            <a:chExt cx="147600" cy="238320"/>
          </a:xfrm>
        </p:grpSpPr>
        <p:sp>
          <p:nvSpPr>
            <p:cNvPr id="175" name=""/>
            <p:cNvSpPr/>
            <p:nvPr/>
          </p:nvSpPr>
          <p:spPr>
            <a:xfrm>
              <a:off x="4118040" y="4651200"/>
              <a:ext cx="146160" cy="128880"/>
            </a:xfrm>
            <a:custGeom>
              <a:avLst/>
              <a:gdLst/>
              <a:ahLst/>
              <a:rect l="l" t="t" r="r" b="b"/>
              <a:pathLst>
                <a:path w="92" h="81">
                  <a:moveTo>
                    <a:pt x="0" y="81"/>
                  </a:moveTo>
                  <a:lnTo>
                    <a:pt x="57" y="35"/>
                  </a:lnTo>
                  <a:lnTo>
                    <a:pt x="80" y="12"/>
                  </a:lnTo>
                  <a:lnTo>
                    <a:pt x="92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64200" y="4651200"/>
              <a:ext cx="1440" cy="238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408560" y="4251240"/>
            <a:ext cx="128520" cy="327240"/>
            <a:chOff x="4408560" y="4251240"/>
            <a:chExt cx="128520" cy="327240"/>
          </a:xfrm>
        </p:grpSpPr>
        <p:sp>
          <p:nvSpPr>
            <p:cNvPr id="178" name=""/>
            <p:cNvSpPr/>
            <p:nvPr/>
          </p:nvSpPr>
          <p:spPr>
            <a:xfrm>
              <a:off x="4408560" y="4251240"/>
              <a:ext cx="1440" cy="236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08560" y="4470480"/>
              <a:ext cx="128520" cy="10800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0"/>
                  </a:moveTo>
                  <a:lnTo>
                    <a:pt x="46" y="45"/>
                  </a:lnTo>
                  <a:lnTo>
                    <a:pt x="69" y="57"/>
                  </a:lnTo>
                  <a:lnTo>
                    <a:pt x="81" y="6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4336920" y="4251240"/>
            <a:ext cx="0" cy="6192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336920" y="3174840"/>
            <a:ext cx="746280" cy="1076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811840" y="4633920"/>
            <a:ext cx="146160" cy="236520"/>
            <a:chOff x="5811840" y="4633920"/>
            <a:chExt cx="146160" cy="236520"/>
          </a:xfrm>
        </p:grpSpPr>
        <p:sp>
          <p:nvSpPr>
            <p:cNvPr id="183" name=""/>
            <p:cNvSpPr/>
            <p:nvPr/>
          </p:nvSpPr>
          <p:spPr>
            <a:xfrm>
              <a:off x="5811840" y="4651200"/>
              <a:ext cx="144360" cy="12888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0" y="81"/>
                  </a:moveTo>
                  <a:lnTo>
                    <a:pt x="57" y="23"/>
                  </a:lnTo>
                  <a:lnTo>
                    <a:pt x="80" y="12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56200" y="4633920"/>
              <a:ext cx="1800" cy="236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102360" y="4232160"/>
            <a:ext cx="128520" cy="328680"/>
            <a:chOff x="6102360" y="4232160"/>
            <a:chExt cx="128520" cy="328680"/>
          </a:xfrm>
        </p:grpSpPr>
        <p:sp>
          <p:nvSpPr>
            <p:cNvPr id="186" name=""/>
            <p:cNvSpPr/>
            <p:nvPr/>
          </p:nvSpPr>
          <p:spPr>
            <a:xfrm>
              <a:off x="6102360" y="4232160"/>
              <a:ext cx="1440" cy="255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02360" y="4470480"/>
              <a:ext cx="128520" cy="9036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0" y="0"/>
                  </a:moveTo>
                  <a:lnTo>
                    <a:pt x="46" y="34"/>
                  </a:lnTo>
                  <a:lnTo>
                    <a:pt x="69" y="45"/>
                  </a:lnTo>
                  <a:lnTo>
                    <a:pt x="81" y="57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V="1">
            <a:off x="6029280" y="4231800"/>
            <a:ext cx="1800" cy="638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029280" y="3174480"/>
            <a:ext cx="747720" cy="1057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523000">
            <a:off x="2065320" y="3933720"/>
            <a:ext cx="11080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6960" y="3789360"/>
            <a:ext cx="147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VH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384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69600" y="4267080"/>
            <a:ext cx="209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ondes cibles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41400" y="4797360"/>
            <a:ext cx="81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0960" y="4719600"/>
            <a:ext cx="10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93680" y="5013360"/>
            <a:ext cx="144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cap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94640" y="3703680"/>
            <a:ext cx="1220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87600" y="3213000"/>
            <a:ext cx="2439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Son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Arial"/>
              </a:rPr>
              <a:t>pré-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amplifi</a:t>
            </a:r>
            <a:r>
              <a:rPr b="0" lang="fr-FR" sz="2400" spc="-1" strike="noStrike">
                <a:solidFill>
                  <a:srgbClr val="00ff00"/>
                </a:solidFill>
                <a:latin typeface="Arial"/>
              </a:rPr>
              <a:t>cation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0920" y="5089680"/>
            <a:ext cx="182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93760" y="5068800"/>
            <a:ext cx="147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des A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138720" y="4365720"/>
            <a:ext cx="461880" cy="142560"/>
            <a:chOff x="6138720" y="4365720"/>
            <a:chExt cx="461880" cy="142560"/>
          </a:xfrm>
        </p:grpSpPr>
        <p:sp>
          <p:nvSpPr>
            <p:cNvPr id="202" name=""/>
            <p:cNvSpPr/>
            <p:nvPr/>
          </p:nvSpPr>
          <p:spPr>
            <a:xfrm flipH="1">
              <a:off x="6203880" y="4446720"/>
              <a:ext cx="396720" cy="1440"/>
            </a:xfrm>
            <a:prstGeom prst="line">
              <a:avLst/>
            </a:prstGeom>
            <a:ln w="176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38720" y="4365720"/>
              <a:ext cx="153000" cy="14256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80" y="0"/>
                  </a:moveTo>
                  <a:lnTo>
                    <a:pt x="0" y="46"/>
                  </a:lnTo>
                  <a:lnTo>
                    <a:pt x="80" y="81"/>
                  </a:lnTo>
                  <a:lnTo>
                    <a:pt x="57" y="4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113360" y="5157720"/>
            <a:ext cx="381960" cy="127080"/>
            <a:chOff x="4113360" y="5157720"/>
            <a:chExt cx="381960" cy="127080"/>
          </a:xfrm>
        </p:grpSpPr>
        <p:sp>
          <p:nvSpPr>
            <p:cNvPr id="205" name=""/>
            <p:cNvSpPr/>
            <p:nvPr/>
          </p:nvSpPr>
          <p:spPr>
            <a:xfrm flipH="1">
              <a:off x="4168440" y="5230800"/>
              <a:ext cx="32688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13360" y="5157720"/>
              <a:ext cx="12816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81" y="0"/>
                  </a:moveTo>
                  <a:lnTo>
                    <a:pt x="0" y="46"/>
                  </a:lnTo>
                  <a:lnTo>
                    <a:pt x="81" y="80"/>
                  </a:lnTo>
                  <a:lnTo>
                    <a:pt x="58" y="4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660760" y="4925880"/>
            <a:ext cx="291960" cy="127080"/>
            <a:chOff x="2660760" y="4925880"/>
            <a:chExt cx="291960" cy="127080"/>
          </a:xfrm>
        </p:grpSpPr>
        <p:sp>
          <p:nvSpPr>
            <p:cNvPr id="208" name=""/>
            <p:cNvSpPr/>
            <p:nvPr/>
          </p:nvSpPr>
          <p:spPr>
            <a:xfrm>
              <a:off x="2660760" y="4979880"/>
              <a:ext cx="23652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24200" y="492588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80"/>
                  </a:moveTo>
                  <a:lnTo>
                    <a:pt x="81" y="34"/>
                  </a:lnTo>
                  <a:lnTo>
                    <a:pt x="0" y="0"/>
                  </a:lnTo>
                  <a:lnTo>
                    <a:pt x="23" y="3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303640" y="4243320"/>
            <a:ext cx="307440" cy="311760"/>
            <a:chOff x="2303640" y="4243320"/>
            <a:chExt cx="307440" cy="311760"/>
          </a:xfrm>
        </p:grpSpPr>
        <p:sp>
          <p:nvSpPr>
            <p:cNvPr id="211" name=""/>
            <p:cNvSpPr/>
            <p:nvPr/>
          </p:nvSpPr>
          <p:spPr>
            <a:xfrm>
              <a:off x="2359440" y="4243320"/>
              <a:ext cx="123840" cy="16416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9435200">
              <a:off x="2332080" y="4320000"/>
              <a:ext cx="250560" cy="1782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0"/>
                  </a:moveTo>
                  <a:lnTo>
                    <a:pt x="46" y="80"/>
                  </a:lnTo>
                  <a:lnTo>
                    <a:pt x="80" y="0"/>
                  </a:lnTo>
                  <a:lnTo>
                    <a:pt x="4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600960" y="3357720"/>
            <a:ext cx="729360" cy="142200"/>
            <a:chOff x="6600960" y="3357720"/>
            <a:chExt cx="729360" cy="142200"/>
          </a:xfrm>
        </p:grpSpPr>
        <p:sp>
          <p:nvSpPr>
            <p:cNvPr id="214" name=""/>
            <p:cNvSpPr/>
            <p:nvPr/>
          </p:nvSpPr>
          <p:spPr>
            <a:xfrm flipH="1">
              <a:off x="6714720" y="3439440"/>
              <a:ext cx="615600" cy="1440"/>
            </a:xfrm>
            <a:prstGeom prst="line">
              <a:avLst/>
            </a:prstGeom>
            <a:ln w="176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00960" y="3357720"/>
              <a:ext cx="267840" cy="1422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0"/>
                  </a:moveTo>
                  <a:lnTo>
                    <a:pt x="0" y="46"/>
                  </a:lnTo>
                  <a:lnTo>
                    <a:pt x="80" y="80"/>
                  </a:lnTo>
                  <a:lnTo>
                    <a:pt x="57" y="4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37080" y="1808280"/>
            <a:ext cx="15858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67120" y="1143000"/>
            <a:ext cx="309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des amplificat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26560" y="1447920"/>
            <a:ext cx="379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c sondes de marquage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4120" y="2286000"/>
            <a:ext cx="435960" cy="236520"/>
            <a:chOff x="5334120" y="2286000"/>
            <a:chExt cx="435960" cy="236520"/>
          </a:xfrm>
        </p:grpSpPr>
        <p:sp>
          <p:nvSpPr>
            <p:cNvPr id="220" name=""/>
            <p:cNvSpPr/>
            <p:nvPr/>
          </p:nvSpPr>
          <p:spPr>
            <a:xfrm>
              <a:off x="5334120" y="2286000"/>
              <a:ext cx="399600" cy="199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24280" y="2414520"/>
              <a:ext cx="145800" cy="108000"/>
            </a:xfrm>
            <a:custGeom>
              <a:avLst/>
              <a:gdLst/>
              <a:ahLst/>
              <a:rect l="l" t="t" r="r" b="b"/>
              <a:pathLst>
                <a:path w="92" h="68">
                  <a:moveTo>
                    <a:pt x="0" y="68"/>
                  </a:moveTo>
                  <a:lnTo>
                    <a:pt x="92" y="68"/>
                  </a:lnTo>
                  <a:lnTo>
                    <a:pt x="35" y="0"/>
                  </a:lnTo>
                  <a:lnTo>
                    <a:pt x="46" y="45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876920" y="2286000"/>
            <a:ext cx="435960" cy="236520"/>
            <a:chOff x="4876920" y="2286000"/>
            <a:chExt cx="435960" cy="236520"/>
          </a:xfrm>
        </p:grpSpPr>
        <p:sp>
          <p:nvSpPr>
            <p:cNvPr id="223" name=""/>
            <p:cNvSpPr/>
            <p:nvPr/>
          </p:nvSpPr>
          <p:spPr>
            <a:xfrm flipH="1">
              <a:off x="4913280" y="2286000"/>
              <a:ext cx="399600" cy="199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76920" y="239544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46" y="0"/>
                  </a:moveTo>
                  <a:lnTo>
                    <a:pt x="0" y="80"/>
                  </a:lnTo>
                  <a:lnTo>
                    <a:pt x="92" y="80"/>
                  </a:lnTo>
                  <a:lnTo>
                    <a:pt x="46" y="5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643120" y="4541760"/>
            <a:ext cx="3824280" cy="292320"/>
          </a:xfrm>
          <a:custGeom>
            <a:avLst/>
            <a:gdLst/>
            <a:ahLst/>
            <a:rect l="l" t="t" r="r" b="b"/>
            <a:pathLst>
              <a:path w="2409" h="184">
                <a:moveTo>
                  <a:pt x="0" y="0"/>
                </a:moveTo>
                <a:lnTo>
                  <a:pt x="68" y="69"/>
                </a:lnTo>
                <a:lnTo>
                  <a:pt x="126" y="127"/>
                </a:lnTo>
                <a:lnTo>
                  <a:pt x="160" y="150"/>
                </a:lnTo>
                <a:lnTo>
                  <a:pt x="195" y="161"/>
                </a:lnTo>
                <a:lnTo>
                  <a:pt x="229" y="173"/>
                </a:lnTo>
                <a:lnTo>
                  <a:pt x="263" y="173"/>
                </a:lnTo>
                <a:lnTo>
                  <a:pt x="298" y="173"/>
                </a:lnTo>
                <a:lnTo>
                  <a:pt x="332" y="150"/>
                </a:lnTo>
                <a:lnTo>
                  <a:pt x="367" y="127"/>
                </a:lnTo>
                <a:lnTo>
                  <a:pt x="401" y="92"/>
                </a:lnTo>
                <a:lnTo>
                  <a:pt x="436" y="58"/>
                </a:lnTo>
                <a:lnTo>
                  <a:pt x="470" y="23"/>
                </a:lnTo>
                <a:lnTo>
                  <a:pt x="504" y="12"/>
                </a:lnTo>
                <a:lnTo>
                  <a:pt x="539" y="0"/>
                </a:lnTo>
                <a:lnTo>
                  <a:pt x="573" y="12"/>
                </a:lnTo>
                <a:lnTo>
                  <a:pt x="608" y="23"/>
                </a:lnTo>
                <a:lnTo>
                  <a:pt x="642" y="58"/>
                </a:lnTo>
                <a:lnTo>
                  <a:pt x="676" y="92"/>
                </a:lnTo>
                <a:lnTo>
                  <a:pt x="699" y="127"/>
                </a:lnTo>
                <a:lnTo>
                  <a:pt x="734" y="150"/>
                </a:lnTo>
                <a:lnTo>
                  <a:pt x="768" y="173"/>
                </a:lnTo>
                <a:lnTo>
                  <a:pt x="803" y="173"/>
                </a:lnTo>
                <a:lnTo>
                  <a:pt x="837" y="173"/>
                </a:lnTo>
                <a:lnTo>
                  <a:pt x="860" y="150"/>
                </a:lnTo>
                <a:lnTo>
                  <a:pt x="894" y="115"/>
                </a:lnTo>
                <a:lnTo>
                  <a:pt x="929" y="92"/>
                </a:lnTo>
                <a:lnTo>
                  <a:pt x="963" y="58"/>
                </a:lnTo>
                <a:lnTo>
                  <a:pt x="998" y="23"/>
                </a:lnTo>
                <a:lnTo>
                  <a:pt x="1032" y="0"/>
                </a:lnTo>
                <a:lnTo>
                  <a:pt x="1066" y="0"/>
                </a:lnTo>
                <a:lnTo>
                  <a:pt x="1101" y="0"/>
                </a:lnTo>
                <a:lnTo>
                  <a:pt x="1135" y="23"/>
                </a:lnTo>
                <a:lnTo>
                  <a:pt x="1170" y="58"/>
                </a:lnTo>
                <a:lnTo>
                  <a:pt x="1204" y="92"/>
                </a:lnTo>
                <a:lnTo>
                  <a:pt x="1239" y="115"/>
                </a:lnTo>
                <a:lnTo>
                  <a:pt x="1273" y="150"/>
                </a:lnTo>
                <a:lnTo>
                  <a:pt x="1296" y="173"/>
                </a:lnTo>
                <a:lnTo>
                  <a:pt x="1330" y="173"/>
                </a:lnTo>
                <a:lnTo>
                  <a:pt x="1365" y="173"/>
                </a:lnTo>
                <a:lnTo>
                  <a:pt x="1399" y="150"/>
                </a:lnTo>
                <a:lnTo>
                  <a:pt x="1434" y="115"/>
                </a:lnTo>
                <a:lnTo>
                  <a:pt x="1468" y="92"/>
                </a:lnTo>
                <a:lnTo>
                  <a:pt x="1502" y="58"/>
                </a:lnTo>
                <a:lnTo>
                  <a:pt x="1537" y="23"/>
                </a:lnTo>
                <a:lnTo>
                  <a:pt x="1571" y="0"/>
                </a:lnTo>
                <a:lnTo>
                  <a:pt x="1606" y="0"/>
                </a:lnTo>
                <a:lnTo>
                  <a:pt x="1640" y="0"/>
                </a:lnTo>
                <a:lnTo>
                  <a:pt x="1663" y="23"/>
                </a:lnTo>
                <a:lnTo>
                  <a:pt x="1697" y="58"/>
                </a:lnTo>
                <a:lnTo>
                  <a:pt x="1732" y="92"/>
                </a:lnTo>
                <a:lnTo>
                  <a:pt x="1766" y="115"/>
                </a:lnTo>
                <a:lnTo>
                  <a:pt x="1801" y="150"/>
                </a:lnTo>
                <a:lnTo>
                  <a:pt x="1835" y="173"/>
                </a:lnTo>
                <a:lnTo>
                  <a:pt x="1869" y="173"/>
                </a:lnTo>
                <a:lnTo>
                  <a:pt x="1904" y="173"/>
                </a:lnTo>
                <a:lnTo>
                  <a:pt x="1938" y="150"/>
                </a:lnTo>
                <a:lnTo>
                  <a:pt x="1973" y="115"/>
                </a:lnTo>
                <a:lnTo>
                  <a:pt x="2007" y="92"/>
                </a:lnTo>
                <a:lnTo>
                  <a:pt x="2030" y="58"/>
                </a:lnTo>
                <a:lnTo>
                  <a:pt x="2065" y="23"/>
                </a:lnTo>
                <a:lnTo>
                  <a:pt x="2099" y="0"/>
                </a:lnTo>
                <a:lnTo>
                  <a:pt x="2133" y="0"/>
                </a:lnTo>
                <a:lnTo>
                  <a:pt x="2168" y="0"/>
                </a:lnTo>
                <a:lnTo>
                  <a:pt x="2214" y="23"/>
                </a:lnTo>
                <a:lnTo>
                  <a:pt x="2248" y="46"/>
                </a:lnTo>
                <a:lnTo>
                  <a:pt x="2282" y="81"/>
                </a:lnTo>
                <a:lnTo>
                  <a:pt x="2317" y="115"/>
                </a:lnTo>
                <a:lnTo>
                  <a:pt x="2351" y="138"/>
                </a:lnTo>
                <a:lnTo>
                  <a:pt x="2386" y="161"/>
                </a:lnTo>
                <a:lnTo>
                  <a:pt x="2409" y="1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65320" y="5954760"/>
            <a:ext cx="3585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96640" y="6524640"/>
            <a:ext cx="305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 sondes cont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enan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so-C/ Iso-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46200" y="6172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VERSANT</a:t>
            </a:r>
            <a:r>
              <a:rPr b="1" lang="en-US" sz="3000" spc="-1" strike="noStrike" baseline="30000">
                <a:solidFill>
                  <a:srgbClr val="ffff66"/>
                </a:solidFill>
                <a:latin typeface="Arial"/>
              </a:rPr>
              <a:t>R 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HBV DNA v3.0 Assay (bDNA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524400" y="2637000"/>
            <a:ext cx="1473840" cy="1621800"/>
            <a:chOff x="3524400" y="2637000"/>
            <a:chExt cx="1473840" cy="1621800"/>
          </a:xfrm>
        </p:grpSpPr>
        <p:grpSp>
          <p:nvGrpSpPr>
            <p:cNvPr id="231" name=""/>
            <p:cNvGrpSpPr/>
            <p:nvPr/>
          </p:nvGrpSpPr>
          <p:grpSpPr>
            <a:xfrm>
              <a:off x="3541320" y="3638520"/>
              <a:ext cx="745560" cy="546840"/>
              <a:chOff x="3541320" y="3638520"/>
              <a:chExt cx="745560" cy="54684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3541320" y="3638520"/>
                <a:ext cx="72720" cy="72360"/>
                <a:chOff x="3541320" y="3638520"/>
                <a:chExt cx="72720" cy="723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541320" y="36385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541320" y="36385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3577680" y="3674520"/>
                <a:ext cx="90000" cy="72720"/>
                <a:chOff x="3577680" y="3674520"/>
                <a:chExt cx="90000" cy="72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577680" y="36745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577680" y="36745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631680" y="3710880"/>
                <a:ext cx="91800" cy="72720"/>
                <a:chOff x="3631680" y="3710880"/>
                <a:chExt cx="91800" cy="72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631680" y="37108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631680" y="371088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687120" y="3747600"/>
                <a:ext cx="90000" cy="72720"/>
                <a:chOff x="3687120" y="3747600"/>
                <a:chExt cx="90000" cy="72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687120" y="37476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687120" y="3747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741120" y="3783960"/>
                <a:ext cx="72720" cy="72720"/>
                <a:chOff x="3741120" y="3783960"/>
                <a:chExt cx="72720" cy="727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741120" y="3783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41120" y="37839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796560" y="3820680"/>
                <a:ext cx="72720" cy="72720"/>
                <a:chOff x="3796560" y="3820680"/>
                <a:chExt cx="72720" cy="727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796560" y="3820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796560" y="38206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850560" y="3857040"/>
                <a:ext cx="72720" cy="72720"/>
                <a:chOff x="3850560" y="3857040"/>
                <a:chExt cx="72720" cy="72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850560" y="3857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850560" y="38570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906360" y="3893760"/>
                <a:ext cx="70920" cy="72360"/>
                <a:chOff x="3906360" y="3893760"/>
                <a:chExt cx="70920" cy="72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906360" y="389376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06360" y="38937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942720" y="3930120"/>
                <a:ext cx="90000" cy="72720"/>
                <a:chOff x="3942720" y="3930120"/>
                <a:chExt cx="90000" cy="72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942720" y="39301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942720" y="39301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996720" y="3966480"/>
                <a:ext cx="90000" cy="72720"/>
                <a:chOff x="3996720" y="3966480"/>
                <a:chExt cx="90000" cy="727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996720" y="39664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996720" y="396648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050720" y="3984120"/>
                <a:ext cx="91800" cy="91800"/>
                <a:chOff x="4050720" y="3984120"/>
                <a:chExt cx="91800" cy="918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050720" y="398412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050720" y="3984120"/>
                  <a:ext cx="5508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4106160" y="4020480"/>
                <a:ext cx="72720" cy="91800"/>
                <a:chOff x="4106160" y="4020480"/>
                <a:chExt cx="72720" cy="918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106160" y="40204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106160" y="402048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4160160" y="4057200"/>
                <a:ext cx="72720" cy="91800"/>
                <a:chOff x="4160160" y="4057200"/>
                <a:chExt cx="72720" cy="918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160160" y="40572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160160" y="40572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215960" y="4093560"/>
                <a:ext cx="70920" cy="91800"/>
                <a:chOff x="4215960" y="4093560"/>
                <a:chExt cx="70920" cy="918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215960" y="409356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215960" y="40935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4" name=""/>
            <p:cNvSpPr/>
            <p:nvPr/>
          </p:nvSpPr>
          <p:spPr>
            <a:xfrm>
              <a:off x="3524400" y="3674880"/>
              <a:ext cx="74556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978000" y="3019320"/>
              <a:ext cx="747000" cy="545400"/>
              <a:chOff x="3978000" y="3019320"/>
              <a:chExt cx="747000" cy="54540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3978000" y="3019320"/>
                <a:ext cx="72720" cy="72720"/>
                <a:chOff x="3978000" y="3019320"/>
                <a:chExt cx="72720" cy="727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978000" y="3019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978000" y="30193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014000" y="3055320"/>
                <a:ext cx="91800" cy="72720"/>
                <a:chOff x="4014000" y="3055320"/>
                <a:chExt cx="91800" cy="727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014000" y="30553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014000" y="305532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069800" y="3092040"/>
                <a:ext cx="90000" cy="72720"/>
                <a:chOff x="4069800" y="3092040"/>
                <a:chExt cx="90000" cy="727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069800" y="30920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069800" y="30920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123800" y="3128400"/>
                <a:ext cx="72720" cy="72720"/>
                <a:chOff x="4123800" y="3128400"/>
                <a:chExt cx="72720" cy="72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123800" y="3128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123800" y="31284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179240" y="3165120"/>
                <a:ext cx="72720" cy="72360"/>
                <a:chOff x="4179240" y="3165120"/>
                <a:chExt cx="72720" cy="723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179240" y="31651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179240" y="31651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233240" y="3201480"/>
                <a:ext cx="72720" cy="72720"/>
                <a:chOff x="4233240" y="3201480"/>
                <a:chExt cx="72720" cy="727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233240" y="3201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233240" y="32014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287240" y="3237840"/>
                <a:ext cx="72720" cy="72720"/>
                <a:chOff x="4287240" y="3237840"/>
                <a:chExt cx="72720" cy="727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87240" y="3237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287240" y="32378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342680" y="3274560"/>
                <a:ext cx="72720" cy="72720"/>
                <a:chOff x="4342680" y="3274560"/>
                <a:chExt cx="72720" cy="727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34268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342680" y="3274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4379400" y="3310920"/>
                <a:ext cx="90000" cy="71280"/>
                <a:chOff x="4379400" y="3310920"/>
                <a:chExt cx="90000" cy="7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379400" y="3310920"/>
                  <a:ext cx="90000" cy="712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379400" y="33109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433400" y="3347640"/>
                <a:ext cx="91440" cy="70920"/>
                <a:chOff x="4433400" y="3347640"/>
                <a:chExt cx="91440" cy="709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433400" y="3347640"/>
                  <a:ext cx="9144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433400" y="3347640"/>
                  <a:ext cx="55080" cy="34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488840" y="3382560"/>
                <a:ext cx="72720" cy="72360"/>
                <a:chOff x="4488840" y="3382560"/>
                <a:chExt cx="72720" cy="723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488840" y="33825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488840" y="33825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542840" y="3418920"/>
                <a:ext cx="72720" cy="72720"/>
                <a:chOff x="4542840" y="3418920"/>
                <a:chExt cx="72720" cy="727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542840" y="341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542840" y="3418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596840" y="3455280"/>
                <a:ext cx="72720" cy="72720"/>
                <a:chOff x="4596840" y="3455280"/>
                <a:chExt cx="72720" cy="727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596840" y="34552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596840" y="3455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652280" y="3492000"/>
                <a:ext cx="72720" cy="72720"/>
                <a:chOff x="4652280" y="3492000"/>
                <a:chExt cx="72720" cy="727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652280" y="3492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652280" y="34920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3960720" y="307332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014360" y="2946240"/>
              <a:ext cx="764640" cy="545400"/>
              <a:chOff x="4014360" y="2946240"/>
              <a:chExt cx="764640" cy="54540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4014360" y="2946240"/>
                <a:ext cx="91800" cy="72720"/>
                <a:chOff x="4014360" y="2946240"/>
                <a:chExt cx="91800" cy="727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014360" y="294624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014360" y="294624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069800" y="2982240"/>
                <a:ext cx="90000" cy="72720"/>
                <a:chOff x="4069800" y="2982240"/>
                <a:chExt cx="90000" cy="727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069800" y="29822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069800" y="29822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123800" y="3018960"/>
                <a:ext cx="72720" cy="72720"/>
                <a:chOff x="4123800" y="3018960"/>
                <a:chExt cx="72720" cy="72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123800" y="3018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123800" y="3018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79240" y="3055320"/>
                <a:ext cx="72720" cy="72720"/>
                <a:chOff x="4179240" y="3055320"/>
                <a:chExt cx="72720" cy="727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179240" y="3055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79240" y="30553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233240" y="3092040"/>
                <a:ext cx="72720" cy="72720"/>
                <a:chOff x="4233240" y="3092040"/>
                <a:chExt cx="72720" cy="727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233240" y="3092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233240" y="30920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287240" y="3128400"/>
                <a:ext cx="72720" cy="72720"/>
                <a:chOff x="4287240" y="3128400"/>
                <a:chExt cx="72720" cy="727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287240" y="3128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287240" y="31284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342680" y="3165120"/>
                <a:ext cx="72720" cy="72360"/>
                <a:chOff x="4342680" y="3165120"/>
                <a:chExt cx="72720" cy="723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342680" y="31651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342680" y="31651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4379400" y="3201480"/>
                <a:ext cx="90000" cy="72720"/>
                <a:chOff x="4379400" y="3201480"/>
                <a:chExt cx="90000" cy="727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379400" y="32014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379400" y="320148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4433400" y="3237840"/>
                <a:ext cx="91440" cy="72720"/>
                <a:chOff x="4433400" y="3237840"/>
                <a:chExt cx="91440" cy="727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433400" y="3237840"/>
                  <a:ext cx="9144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433400" y="323784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488840" y="3274560"/>
                <a:ext cx="72720" cy="72720"/>
                <a:chOff x="4488840" y="3274560"/>
                <a:chExt cx="72720" cy="727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48884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488840" y="32745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542840" y="3310920"/>
                <a:ext cx="72720" cy="71280"/>
                <a:chOff x="4542840" y="3310920"/>
                <a:chExt cx="72720" cy="712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542840" y="33109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542840" y="3310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596840" y="3347640"/>
                <a:ext cx="72720" cy="70920"/>
                <a:chOff x="4596840" y="3347640"/>
                <a:chExt cx="72720" cy="70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596840" y="334764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596840" y="334764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4652280" y="3382560"/>
                <a:ext cx="72720" cy="72360"/>
                <a:chOff x="4652280" y="3382560"/>
                <a:chExt cx="72720" cy="72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652280" y="33825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652280" y="3382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4706280" y="3418920"/>
                <a:ext cx="72720" cy="72720"/>
                <a:chOff x="4706280" y="3418920"/>
                <a:chExt cx="72720" cy="727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706280" y="341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706280" y="34189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2" name=""/>
            <p:cNvSpPr/>
            <p:nvPr/>
          </p:nvSpPr>
          <p:spPr>
            <a:xfrm>
              <a:off x="4014360" y="298260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48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4179600" y="2709720"/>
              <a:ext cx="762840" cy="545400"/>
              <a:chOff x="4179600" y="2709720"/>
              <a:chExt cx="762840" cy="54540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4179600" y="2709720"/>
                <a:ext cx="90000" cy="70920"/>
                <a:chOff x="4179600" y="2709720"/>
                <a:chExt cx="90000" cy="709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4179600" y="2709720"/>
                  <a:ext cx="9000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179600" y="27097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233240" y="2745720"/>
                <a:ext cx="90000" cy="90360"/>
                <a:chOff x="4233240" y="2745720"/>
                <a:chExt cx="90000" cy="903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233240" y="274572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233240" y="274572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287240" y="2780640"/>
                <a:ext cx="72720" cy="72720"/>
                <a:chOff x="4287240" y="2780640"/>
                <a:chExt cx="72720" cy="727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287240" y="27806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287240" y="27806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342680" y="2817360"/>
                <a:ext cx="72720" cy="72720"/>
                <a:chOff x="4342680" y="2817360"/>
                <a:chExt cx="72720" cy="72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342680" y="2817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342680" y="28173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396680" y="2853720"/>
                <a:ext cx="72720" cy="72720"/>
                <a:chOff x="4396680" y="2853720"/>
                <a:chExt cx="72720" cy="72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396680" y="2853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396680" y="28537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452480" y="2890440"/>
                <a:ext cx="72360" cy="72360"/>
                <a:chOff x="4452480" y="2890440"/>
                <a:chExt cx="72360" cy="723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452480" y="289044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452480" y="28904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4506120" y="2926800"/>
                <a:ext cx="72720" cy="72720"/>
                <a:chOff x="4506120" y="2926800"/>
                <a:chExt cx="72720" cy="72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506120" y="2926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506120" y="29268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4542840" y="2963160"/>
                <a:ext cx="90000" cy="72720"/>
                <a:chOff x="4542840" y="2963160"/>
                <a:chExt cx="90000" cy="72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4542840" y="29631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542840" y="29631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4596840" y="2999880"/>
                <a:ext cx="91800" cy="72720"/>
                <a:chOff x="4596840" y="2999880"/>
                <a:chExt cx="91800" cy="72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596840" y="29998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596840" y="299988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652280" y="3036240"/>
                <a:ext cx="72720" cy="72720"/>
                <a:chOff x="4652280" y="3036240"/>
                <a:chExt cx="72720" cy="72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652280" y="3036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652280" y="30362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4706280" y="3072960"/>
                <a:ext cx="72720" cy="72720"/>
                <a:chOff x="4706280" y="3072960"/>
                <a:chExt cx="72720" cy="72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706280" y="3072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706280" y="30729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761720" y="3109320"/>
                <a:ext cx="72720" cy="72720"/>
                <a:chOff x="4761720" y="3109320"/>
                <a:chExt cx="72720" cy="72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761720" y="3109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761720" y="31093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815720" y="3146040"/>
                <a:ext cx="72720" cy="72360"/>
                <a:chOff x="4815720" y="3146040"/>
                <a:chExt cx="72720" cy="72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815720" y="31460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815720" y="31460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871520" y="3182400"/>
                <a:ext cx="70920" cy="72720"/>
                <a:chOff x="4871520" y="3182400"/>
                <a:chExt cx="70920" cy="72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871520" y="318240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871520" y="31824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6" name=""/>
            <p:cNvSpPr/>
            <p:nvPr/>
          </p:nvSpPr>
          <p:spPr>
            <a:xfrm>
              <a:off x="4179600" y="276372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3651120" y="3474720"/>
              <a:ext cx="745200" cy="545400"/>
              <a:chOff x="3651120" y="3474720"/>
              <a:chExt cx="745200" cy="54540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3651120" y="3474720"/>
                <a:ext cx="72720" cy="90360"/>
                <a:chOff x="3651120" y="3474720"/>
                <a:chExt cx="72720" cy="903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3651120" y="347472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651120" y="34747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687120" y="3511080"/>
                <a:ext cx="90000" cy="90000"/>
                <a:chOff x="3687120" y="3511080"/>
                <a:chExt cx="90000" cy="900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87120" y="351108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687120" y="35110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741120" y="3547440"/>
                <a:ext cx="91800" cy="90360"/>
                <a:chOff x="3741120" y="3547440"/>
                <a:chExt cx="91800" cy="9036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741120" y="3547440"/>
                  <a:ext cx="918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741120" y="354744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3796560" y="3584160"/>
                <a:ext cx="90360" cy="90000"/>
                <a:chOff x="3796560" y="3584160"/>
                <a:chExt cx="90360" cy="900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3796560" y="3584160"/>
                  <a:ext cx="9036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796560" y="358416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3850560" y="3620520"/>
                <a:ext cx="72720" cy="72720"/>
                <a:chOff x="3850560" y="3620520"/>
                <a:chExt cx="72720" cy="727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3850560" y="3620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50560" y="3620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3906360" y="3657240"/>
                <a:ext cx="70920" cy="72360"/>
                <a:chOff x="3906360" y="3657240"/>
                <a:chExt cx="70920" cy="723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906360" y="365724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906360" y="36572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960360" y="3693600"/>
                <a:ext cx="72360" cy="72720"/>
                <a:chOff x="3960360" y="3693600"/>
                <a:chExt cx="72360" cy="727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960360" y="36936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960360" y="36936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4014000" y="3729960"/>
                <a:ext cx="72720" cy="72720"/>
                <a:chOff x="4014000" y="3729960"/>
                <a:chExt cx="72720" cy="727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4014000" y="3729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014000" y="37299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050720" y="3766680"/>
                <a:ext cx="91800" cy="72720"/>
                <a:chOff x="4050720" y="3766680"/>
                <a:chExt cx="91800" cy="727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050720" y="37666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050720" y="376668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106160" y="3803040"/>
                <a:ext cx="90360" cy="72720"/>
                <a:chOff x="4106160" y="3803040"/>
                <a:chExt cx="90360" cy="727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4106160" y="380304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106160" y="38030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4160160" y="3839760"/>
                <a:ext cx="91800" cy="72360"/>
                <a:chOff x="4160160" y="3839760"/>
                <a:chExt cx="91800" cy="723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4160160" y="38397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160160" y="383976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4215960" y="3876120"/>
                <a:ext cx="70920" cy="71280"/>
                <a:chOff x="4215960" y="3876120"/>
                <a:chExt cx="70920" cy="712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215960" y="3876120"/>
                  <a:ext cx="709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215960" y="38761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4269600" y="3912480"/>
                <a:ext cx="72720" cy="71280"/>
                <a:chOff x="4269600" y="3912480"/>
                <a:chExt cx="72720" cy="71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269600" y="391248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269600" y="3912480"/>
                  <a:ext cx="36360" cy="3492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323600" y="3947760"/>
                <a:ext cx="72720" cy="72360"/>
                <a:chOff x="4323600" y="3947760"/>
                <a:chExt cx="72720" cy="723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23600" y="39477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23600" y="39477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0" name=""/>
            <p:cNvSpPr/>
            <p:nvPr/>
          </p:nvSpPr>
          <p:spPr>
            <a:xfrm>
              <a:off x="3632040" y="352872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59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814560" y="3255840"/>
              <a:ext cx="747000" cy="546840"/>
              <a:chOff x="3814560" y="3255840"/>
              <a:chExt cx="747000" cy="5468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3814560" y="3255840"/>
                <a:ext cx="72720" cy="72720"/>
                <a:chOff x="3814560" y="3255840"/>
                <a:chExt cx="72720" cy="727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814560" y="3255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814560" y="32558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850560" y="3291840"/>
                <a:ext cx="91800" cy="72720"/>
                <a:chOff x="3850560" y="3291840"/>
                <a:chExt cx="91800" cy="727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50560" y="329184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850560" y="329184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3906360" y="3328560"/>
                <a:ext cx="90000" cy="72720"/>
                <a:chOff x="3906360" y="3328560"/>
                <a:chExt cx="90000" cy="727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3906360" y="33285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906360" y="33285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3960360" y="3364920"/>
                <a:ext cx="72360" cy="72720"/>
                <a:chOff x="3960360" y="3364920"/>
                <a:chExt cx="72360" cy="727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960360" y="336492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960360" y="3364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4014000" y="3401640"/>
                <a:ext cx="72720" cy="72360"/>
                <a:chOff x="4014000" y="3401640"/>
                <a:chExt cx="72720" cy="723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014000" y="34016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014000" y="34016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069800" y="3438000"/>
                <a:ext cx="72720" cy="72720"/>
                <a:chOff x="4069800" y="3438000"/>
                <a:chExt cx="72720" cy="727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4069800" y="3438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069800" y="3438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4123800" y="3474360"/>
                <a:ext cx="72720" cy="72720"/>
                <a:chOff x="4123800" y="3474360"/>
                <a:chExt cx="72720" cy="727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123800" y="3474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123800" y="3474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4179240" y="3511080"/>
                <a:ext cx="72720" cy="72720"/>
                <a:chOff x="4179240" y="3511080"/>
                <a:chExt cx="72720" cy="727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4179240" y="3511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179240" y="35110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215960" y="3547440"/>
                <a:ext cx="90000" cy="72720"/>
                <a:chOff x="4215960" y="3547440"/>
                <a:chExt cx="90000" cy="727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215960" y="35474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215960" y="3547440"/>
                  <a:ext cx="532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269600" y="3584160"/>
                <a:ext cx="90360" cy="72720"/>
                <a:chOff x="4269600" y="3584160"/>
                <a:chExt cx="90360" cy="727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269600" y="358416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269600" y="35841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4323600" y="3601440"/>
                <a:ext cx="72720" cy="91800"/>
                <a:chOff x="4323600" y="3601440"/>
                <a:chExt cx="72720" cy="918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4323600" y="36014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323600" y="36014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379400" y="3638160"/>
                <a:ext cx="72720" cy="91440"/>
                <a:chOff x="4379400" y="3638160"/>
                <a:chExt cx="72720" cy="914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379400" y="36381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379400" y="36381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4433400" y="3674520"/>
                <a:ext cx="72360" cy="91800"/>
                <a:chOff x="4433400" y="3674520"/>
                <a:chExt cx="72360" cy="9180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433400" y="367452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433400" y="36745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488840" y="3710880"/>
                <a:ext cx="72720" cy="91800"/>
                <a:chOff x="4488840" y="3710880"/>
                <a:chExt cx="72720" cy="9180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488840" y="37108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488840" y="371088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>
              <a:off x="3796920" y="3292200"/>
              <a:ext cx="74592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760560" y="3328920"/>
              <a:ext cx="745200" cy="546840"/>
              <a:chOff x="3760560" y="3328920"/>
              <a:chExt cx="745200" cy="54684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3760560" y="3328920"/>
                <a:ext cx="72720" cy="72720"/>
                <a:chOff x="3760560" y="3328920"/>
                <a:chExt cx="72720" cy="72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760560" y="332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760560" y="3328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3796560" y="3364920"/>
                <a:ext cx="90360" cy="72720"/>
                <a:chOff x="3796560" y="3364920"/>
                <a:chExt cx="90360" cy="727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3796560" y="336492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796560" y="33649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3850560" y="3401640"/>
                <a:ext cx="91800" cy="72360"/>
                <a:chOff x="3850560" y="3401640"/>
                <a:chExt cx="91800" cy="7236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3850560" y="340164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850560" y="340164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906360" y="3438000"/>
                <a:ext cx="90000" cy="72720"/>
                <a:chOff x="3906360" y="3438000"/>
                <a:chExt cx="90000" cy="727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906360" y="3438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906360" y="34380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3960360" y="3474360"/>
                <a:ext cx="72360" cy="72720"/>
                <a:chOff x="3960360" y="3474360"/>
                <a:chExt cx="72360" cy="727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3960360" y="34743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960360" y="3474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4014000" y="3511080"/>
                <a:ext cx="72720" cy="72720"/>
                <a:chOff x="4014000" y="3511080"/>
                <a:chExt cx="72720" cy="727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014000" y="3511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014000" y="35110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4069800" y="3547440"/>
                <a:ext cx="72720" cy="72720"/>
                <a:chOff x="4069800" y="3547440"/>
                <a:chExt cx="72720" cy="727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4069800" y="35474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069800" y="35474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4123800" y="3584160"/>
                <a:ext cx="72720" cy="72720"/>
                <a:chOff x="4123800" y="3584160"/>
                <a:chExt cx="72720" cy="727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4123800" y="3584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123800" y="3584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4160160" y="3620520"/>
                <a:ext cx="91800" cy="72720"/>
                <a:chOff x="4160160" y="3620520"/>
                <a:chExt cx="91800" cy="72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160160" y="36205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160160" y="362052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4215960" y="3657240"/>
                <a:ext cx="90000" cy="72360"/>
                <a:chOff x="4215960" y="3657240"/>
                <a:chExt cx="90000" cy="723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215960" y="365724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215960" y="365724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4269600" y="3693600"/>
                <a:ext cx="90360" cy="72720"/>
                <a:chOff x="4269600" y="3693600"/>
                <a:chExt cx="90360" cy="727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269600" y="36936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269600" y="3693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323600" y="3729960"/>
                <a:ext cx="72720" cy="72720"/>
                <a:chOff x="4323600" y="3729960"/>
                <a:chExt cx="72720" cy="727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323600" y="3729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323600" y="37299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379400" y="3766680"/>
                <a:ext cx="72720" cy="72720"/>
                <a:chOff x="4379400" y="3766680"/>
                <a:chExt cx="72720" cy="72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379400" y="3766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379400" y="37666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433400" y="3803040"/>
                <a:ext cx="72360" cy="72720"/>
                <a:chOff x="4433400" y="3803040"/>
                <a:chExt cx="72360" cy="727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433400" y="380304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433400" y="38030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8" name=""/>
            <p:cNvSpPr/>
            <p:nvPr/>
          </p:nvSpPr>
          <p:spPr>
            <a:xfrm>
              <a:off x="3741480" y="336528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59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3597120" y="3565440"/>
              <a:ext cx="745200" cy="527760"/>
              <a:chOff x="3597120" y="3565440"/>
              <a:chExt cx="745200" cy="52776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3597120" y="3565440"/>
                <a:ext cx="70920" cy="72720"/>
                <a:chOff x="3597120" y="3565440"/>
                <a:chExt cx="70920" cy="7272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597120" y="35654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597120" y="356544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3631680" y="3584160"/>
                <a:ext cx="91800" cy="90000"/>
                <a:chOff x="3631680" y="3584160"/>
                <a:chExt cx="91800" cy="900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3631680" y="358416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5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631680" y="358416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3687120" y="3638160"/>
                <a:ext cx="90000" cy="72360"/>
                <a:chOff x="3687120" y="3638160"/>
                <a:chExt cx="90000" cy="723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3687120" y="363816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687120" y="36381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3741120" y="3657240"/>
                <a:ext cx="91800" cy="90000"/>
                <a:chOff x="3741120" y="3657240"/>
                <a:chExt cx="91800" cy="900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741120" y="365724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741120" y="3657240"/>
                  <a:ext cx="5508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3796560" y="3693600"/>
                <a:ext cx="72720" cy="90000"/>
                <a:chOff x="3796560" y="3693600"/>
                <a:chExt cx="72720" cy="900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3796560" y="36936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796560" y="36936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3850560" y="3729960"/>
                <a:ext cx="72720" cy="90360"/>
                <a:chOff x="3850560" y="3729960"/>
                <a:chExt cx="72720" cy="903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3850560" y="372996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850560" y="37299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3906360" y="3766680"/>
                <a:ext cx="70920" cy="90000"/>
                <a:chOff x="3906360" y="3766680"/>
                <a:chExt cx="70920" cy="9000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906360" y="3766680"/>
                  <a:ext cx="709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906360" y="37666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3960360" y="3803040"/>
                <a:ext cx="72360" cy="90360"/>
                <a:chOff x="3960360" y="3803040"/>
                <a:chExt cx="72360" cy="903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3960360" y="3803040"/>
                  <a:ext cx="7236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960360" y="380304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3996720" y="3839760"/>
                <a:ext cx="90000" cy="90000"/>
                <a:chOff x="3996720" y="3839760"/>
                <a:chExt cx="90000" cy="9000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3996720" y="383976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996720" y="383976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050720" y="3876120"/>
                <a:ext cx="91800" cy="90000"/>
                <a:chOff x="4050720" y="3876120"/>
                <a:chExt cx="91800" cy="9000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4050720" y="387612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050720" y="387612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4106160" y="3912480"/>
                <a:ext cx="90360" cy="90360"/>
                <a:chOff x="4106160" y="3912480"/>
                <a:chExt cx="90360" cy="903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4106160" y="3912480"/>
                  <a:ext cx="9036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06160" y="39124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160160" y="3947760"/>
                <a:ext cx="72720" cy="91440"/>
                <a:chOff x="4160160" y="3947760"/>
                <a:chExt cx="72720" cy="9144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160160" y="39477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160160" y="39477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215960" y="3984120"/>
                <a:ext cx="70920" cy="91800"/>
                <a:chOff x="4215960" y="3984120"/>
                <a:chExt cx="70920" cy="918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4215960" y="398412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15960" y="39841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4269600" y="4020480"/>
                <a:ext cx="72720" cy="72720"/>
                <a:chOff x="4269600" y="4020480"/>
                <a:chExt cx="72720" cy="72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4269600" y="4020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269600" y="40204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2" name=""/>
            <p:cNvSpPr/>
            <p:nvPr/>
          </p:nvSpPr>
          <p:spPr>
            <a:xfrm>
              <a:off x="3578040" y="360180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4233600" y="2637000"/>
              <a:ext cx="764640" cy="545400"/>
              <a:chOff x="4233600" y="2637000"/>
              <a:chExt cx="764640" cy="54540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4233600" y="2637000"/>
                <a:ext cx="90000" cy="72720"/>
                <a:chOff x="4233600" y="2637000"/>
                <a:chExt cx="90000" cy="7272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4233600" y="2637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233600" y="26370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4287240" y="2673360"/>
                <a:ext cx="91800" cy="72360"/>
                <a:chOff x="4287240" y="2673360"/>
                <a:chExt cx="91800" cy="723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4287240" y="26733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287240" y="267336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4342680" y="2709720"/>
                <a:ext cx="72720" cy="70920"/>
                <a:chOff x="4342680" y="2709720"/>
                <a:chExt cx="72720" cy="7092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4342680" y="270972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342680" y="27097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4396680" y="2746080"/>
                <a:ext cx="72720" cy="71280"/>
                <a:chOff x="4396680" y="2746080"/>
                <a:chExt cx="72720" cy="7128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4396680" y="274608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396680" y="2746080"/>
                  <a:ext cx="3636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4452480" y="2781000"/>
                <a:ext cx="72360" cy="72720"/>
                <a:chOff x="4452480" y="2781000"/>
                <a:chExt cx="72360" cy="7272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4452480" y="27810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452480" y="27810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4506120" y="2817720"/>
                <a:ext cx="72720" cy="72720"/>
                <a:chOff x="4506120" y="2817720"/>
                <a:chExt cx="72720" cy="727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4506120" y="2817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506120" y="28177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4561920" y="2854080"/>
                <a:ext cx="70920" cy="72720"/>
                <a:chOff x="4561920" y="2854080"/>
                <a:chExt cx="70920" cy="7272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561920" y="285408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561920" y="2854080"/>
                  <a:ext cx="345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4596840" y="2890800"/>
                <a:ext cx="91800" cy="72360"/>
                <a:chOff x="4596840" y="2890800"/>
                <a:chExt cx="91800" cy="723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4596840" y="289080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596840" y="289080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4652280" y="2927160"/>
                <a:ext cx="72720" cy="72720"/>
                <a:chOff x="4652280" y="2927160"/>
                <a:chExt cx="72720" cy="7272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4652280" y="2927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652280" y="29271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4706280" y="2963520"/>
                <a:ext cx="72720" cy="72720"/>
                <a:chOff x="4706280" y="2963520"/>
                <a:chExt cx="72720" cy="7272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706280" y="2963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706280" y="2963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761720" y="3000240"/>
                <a:ext cx="72720" cy="72720"/>
                <a:chOff x="4761720" y="3000240"/>
                <a:chExt cx="72720" cy="7272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761720" y="3000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761720" y="30002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4815720" y="3036600"/>
                <a:ext cx="72720" cy="72720"/>
                <a:chOff x="4815720" y="3036600"/>
                <a:chExt cx="72720" cy="7272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815720" y="30366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815720" y="303660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871520" y="3073320"/>
                <a:ext cx="70920" cy="72720"/>
                <a:chOff x="4871520" y="3073320"/>
                <a:chExt cx="70920" cy="727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871520" y="307332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871520" y="30733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925520" y="3109680"/>
                <a:ext cx="72720" cy="72720"/>
                <a:chOff x="4925520" y="3109680"/>
                <a:chExt cx="72720" cy="727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925520" y="3109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925520" y="31096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>
              <a:off x="4233600" y="269064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4070160" y="2873160"/>
              <a:ext cx="764280" cy="545400"/>
              <a:chOff x="4070160" y="2873160"/>
              <a:chExt cx="764280" cy="545400"/>
            </a:xfrm>
          </p:grpSpPr>
          <p:grpSp>
            <p:nvGrpSpPr>
              <p:cNvPr id="628" name=""/>
              <p:cNvGrpSpPr/>
              <p:nvPr/>
            </p:nvGrpSpPr>
            <p:grpSpPr>
              <a:xfrm>
                <a:off x="4070160" y="2873160"/>
                <a:ext cx="90000" cy="72720"/>
                <a:chOff x="4070160" y="2873160"/>
                <a:chExt cx="90000" cy="72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070160" y="28731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070160" y="28731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4123800" y="2909520"/>
                <a:ext cx="91800" cy="72360"/>
                <a:chOff x="4123800" y="2909520"/>
                <a:chExt cx="91800" cy="7236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4123800" y="290952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23800" y="290952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179240" y="2945880"/>
                <a:ext cx="72720" cy="72720"/>
                <a:chOff x="4179240" y="2945880"/>
                <a:chExt cx="72720" cy="727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179240" y="2945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179240" y="29458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4233240" y="2963160"/>
                <a:ext cx="72720" cy="91800"/>
                <a:chOff x="4233240" y="2963160"/>
                <a:chExt cx="72720" cy="9180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4233240" y="29631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233240" y="29631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4287240" y="3018960"/>
                <a:ext cx="72720" cy="72720"/>
                <a:chOff x="4287240" y="3018960"/>
                <a:chExt cx="72720" cy="727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4287240" y="3018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287240" y="3018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4342680" y="3036240"/>
                <a:ext cx="72720" cy="91800"/>
                <a:chOff x="4342680" y="3036240"/>
                <a:chExt cx="72720" cy="9180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4342680" y="30362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342680" y="30362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396680" y="3072960"/>
                <a:ext cx="72720" cy="91800"/>
                <a:chOff x="4396680" y="3072960"/>
                <a:chExt cx="72720" cy="9180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396680" y="30729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396680" y="30729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433400" y="3109320"/>
                <a:ext cx="91440" cy="91800"/>
                <a:chOff x="4433400" y="3109320"/>
                <a:chExt cx="91440" cy="9180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433400" y="3109320"/>
                  <a:ext cx="9144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33400" y="310932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488840" y="3146040"/>
                <a:ext cx="90000" cy="91440"/>
                <a:chOff x="4488840" y="3146040"/>
                <a:chExt cx="90000" cy="914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488840" y="3146040"/>
                  <a:ext cx="90000" cy="9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488840" y="314604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4542840" y="3182400"/>
                <a:ext cx="72720" cy="91800"/>
                <a:chOff x="4542840" y="3182400"/>
                <a:chExt cx="72720" cy="9180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4542840" y="31824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542840" y="318240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4596840" y="3218760"/>
                <a:ext cx="72720" cy="91800"/>
                <a:chOff x="4596840" y="3218760"/>
                <a:chExt cx="72720" cy="9180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4596840" y="32187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596840" y="32187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4652280" y="3255480"/>
                <a:ext cx="72720" cy="91800"/>
                <a:chOff x="4652280" y="3255480"/>
                <a:chExt cx="72720" cy="9180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652280" y="32554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652280" y="325548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706280" y="3291840"/>
                <a:ext cx="72720" cy="90360"/>
                <a:chOff x="4706280" y="3291840"/>
                <a:chExt cx="72720" cy="903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4706280" y="329184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706280" y="32918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4761720" y="3328560"/>
                <a:ext cx="72720" cy="90000"/>
                <a:chOff x="4761720" y="3328560"/>
                <a:chExt cx="72720" cy="9000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761720" y="332856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61720" y="33285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0" name=""/>
            <p:cNvSpPr/>
            <p:nvPr/>
          </p:nvSpPr>
          <p:spPr>
            <a:xfrm>
              <a:off x="4070160" y="2909880"/>
              <a:ext cx="745560" cy="582120"/>
            </a:xfrm>
            <a:custGeom>
              <a:avLst/>
              <a:gdLst/>
              <a:ahLst/>
              <a:rect l="l" t="t" r="r" b="b"/>
              <a:pathLst>
                <a:path w="470" h="367">
                  <a:moveTo>
                    <a:pt x="447" y="367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4124160" y="2781000"/>
              <a:ext cx="764280" cy="547200"/>
              <a:chOff x="4124160" y="2781000"/>
              <a:chExt cx="764280" cy="54720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4124160" y="2781000"/>
                <a:ext cx="91800" cy="91800"/>
                <a:chOff x="4124160" y="2781000"/>
                <a:chExt cx="91800" cy="9180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124160" y="278100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124160" y="278100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4179240" y="2817360"/>
                <a:ext cx="90000" cy="91800"/>
                <a:chOff x="4179240" y="2817360"/>
                <a:chExt cx="90000" cy="918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4179240" y="281736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179240" y="281736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4233240" y="2853720"/>
                <a:ext cx="72720" cy="91800"/>
                <a:chOff x="4233240" y="2853720"/>
                <a:chExt cx="72720" cy="918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4233240" y="28537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233240" y="285372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287240" y="2890440"/>
                <a:ext cx="72720" cy="91440"/>
                <a:chOff x="4287240" y="2890440"/>
                <a:chExt cx="72720" cy="9144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287240" y="289044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287240" y="289044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4342680" y="2926800"/>
                <a:ext cx="72720" cy="91800"/>
                <a:chOff x="4342680" y="2926800"/>
                <a:chExt cx="72720" cy="918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342680" y="29268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342680" y="29268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396680" y="2963160"/>
                <a:ext cx="72720" cy="91800"/>
                <a:chOff x="4396680" y="2963160"/>
                <a:chExt cx="72720" cy="91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396680" y="29631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396680" y="296316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4452480" y="2999880"/>
                <a:ext cx="72360" cy="91800"/>
                <a:chOff x="4452480" y="2999880"/>
                <a:chExt cx="72360" cy="918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452480" y="299988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452480" y="299988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4488840" y="3036240"/>
                <a:ext cx="90000" cy="91800"/>
                <a:chOff x="4488840" y="3036240"/>
                <a:chExt cx="90000" cy="9180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488840" y="303624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488840" y="303624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542840" y="3072960"/>
                <a:ext cx="90000" cy="91800"/>
                <a:chOff x="4542840" y="3072960"/>
                <a:chExt cx="90000" cy="9180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542840" y="307296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542840" y="307296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4596840" y="3109320"/>
                <a:ext cx="72720" cy="91800"/>
                <a:chOff x="4596840" y="3109320"/>
                <a:chExt cx="72720" cy="918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4596840" y="31093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596840" y="310932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4652280" y="3146040"/>
                <a:ext cx="72720" cy="91440"/>
                <a:chOff x="4652280" y="3146040"/>
                <a:chExt cx="72720" cy="914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4652280" y="314604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652280" y="314604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4706280" y="3182400"/>
                <a:ext cx="72720" cy="72720"/>
                <a:chOff x="4706280" y="3182400"/>
                <a:chExt cx="72720" cy="727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4706280" y="3182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706280" y="3182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4761720" y="3218760"/>
                <a:ext cx="72720" cy="91800"/>
                <a:chOff x="4761720" y="3218760"/>
                <a:chExt cx="72720" cy="918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761720" y="32187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761720" y="321876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4815720" y="3255480"/>
                <a:ext cx="72720" cy="72720"/>
                <a:chOff x="4815720" y="3255480"/>
                <a:chExt cx="72720" cy="72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4815720" y="3255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815720" y="32554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4" name=""/>
            <p:cNvSpPr/>
            <p:nvPr/>
          </p:nvSpPr>
          <p:spPr>
            <a:xfrm>
              <a:off x="4124160" y="283680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48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3705120" y="3402000"/>
              <a:ext cx="747000" cy="545400"/>
              <a:chOff x="3705120" y="3402000"/>
              <a:chExt cx="747000" cy="54540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3705120" y="3402000"/>
                <a:ext cx="72360" cy="72360"/>
                <a:chOff x="3705120" y="3402000"/>
                <a:chExt cx="72360" cy="723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3705120" y="340200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705120" y="3402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3741120" y="3438000"/>
                <a:ext cx="91800" cy="72720"/>
                <a:chOff x="3741120" y="3438000"/>
                <a:chExt cx="91800" cy="72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3741120" y="343800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741120" y="343800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3796560" y="3474360"/>
                <a:ext cx="90360" cy="72720"/>
                <a:chOff x="3796560" y="3474360"/>
                <a:chExt cx="90360" cy="7272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3796560" y="347436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796560" y="34743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3850560" y="3511080"/>
                <a:ext cx="91800" cy="72720"/>
                <a:chOff x="3850560" y="3511080"/>
                <a:chExt cx="91800" cy="727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3850560" y="35110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850560" y="351108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3906360" y="3547440"/>
                <a:ext cx="70920" cy="72720"/>
                <a:chOff x="3906360" y="3547440"/>
                <a:chExt cx="70920" cy="7272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3906360" y="35474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906360" y="35474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3960360" y="3584160"/>
                <a:ext cx="72360" cy="72720"/>
                <a:chOff x="3960360" y="3584160"/>
                <a:chExt cx="72360" cy="7272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3960360" y="35841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960360" y="3584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4014000" y="3620520"/>
                <a:ext cx="72720" cy="72720"/>
                <a:chOff x="4014000" y="3620520"/>
                <a:chExt cx="72720" cy="7272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4014000" y="3620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014000" y="3620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4069800" y="3657240"/>
                <a:ext cx="72720" cy="72360"/>
                <a:chOff x="4069800" y="3657240"/>
                <a:chExt cx="72720" cy="7236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4069800" y="36572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069800" y="36572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4106160" y="3693600"/>
                <a:ext cx="90360" cy="72720"/>
                <a:chOff x="4106160" y="3693600"/>
                <a:chExt cx="90360" cy="7272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4106160" y="36936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106160" y="3693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4160160" y="3729960"/>
                <a:ext cx="91800" cy="72720"/>
                <a:chOff x="4160160" y="3729960"/>
                <a:chExt cx="91800" cy="7272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4160160" y="372996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160160" y="372996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4215960" y="3766680"/>
                <a:ext cx="90000" cy="72720"/>
                <a:chOff x="4215960" y="3766680"/>
                <a:chExt cx="90000" cy="7272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4215960" y="37666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215960" y="376668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4269600" y="3803040"/>
                <a:ext cx="72720" cy="72720"/>
                <a:chOff x="4269600" y="3803040"/>
                <a:chExt cx="72720" cy="72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4269600" y="3803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269600" y="38030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4323600" y="3839760"/>
                <a:ext cx="72720" cy="72360"/>
                <a:chOff x="4323600" y="3839760"/>
                <a:chExt cx="72720" cy="7236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4323600" y="38397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323600" y="38397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4379400" y="3876120"/>
                <a:ext cx="72720" cy="71280"/>
                <a:chOff x="4379400" y="3876120"/>
                <a:chExt cx="72720" cy="7128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4379400" y="38761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379400" y="38761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8" name=""/>
            <p:cNvSpPr/>
            <p:nvPr/>
          </p:nvSpPr>
          <p:spPr>
            <a:xfrm>
              <a:off x="3687480" y="345564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3870000" y="3165480"/>
              <a:ext cx="745560" cy="545040"/>
              <a:chOff x="3870000" y="3165480"/>
              <a:chExt cx="745560" cy="54504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3870000" y="3165480"/>
                <a:ext cx="72720" cy="90000"/>
                <a:chOff x="3870000" y="3165480"/>
                <a:chExt cx="72720" cy="900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3870000" y="3165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1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870000" y="3165480"/>
                  <a:ext cx="36360" cy="532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3906360" y="3201480"/>
                <a:ext cx="90000" cy="90000"/>
                <a:chOff x="3906360" y="3201480"/>
                <a:chExt cx="90000" cy="900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3906360" y="320148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906360" y="32014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3960360" y="3237840"/>
                <a:ext cx="90000" cy="90360"/>
                <a:chOff x="3960360" y="3237840"/>
                <a:chExt cx="90000" cy="9036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3960360" y="323784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960360" y="323784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4014000" y="3274560"/>
                <a:ext cx="72720" cy="90000"/>
                <a:chOff x="4014000" y="3274560"/>
                <a:chExt cx="72720" cy="9000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4014000" y="327456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14000" y="32745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4069800" y="3310920"/>
                <a:ext cx="72720" cy="90360"/>
                <a:chOff x="4069800" y="3310920"/>
                <a:chExt cx="72720" cy="9036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4069800" y="331092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069800" y="33109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4123800" y="3347640"/>
                <a:ext cx="72720" cy="90000"/>
                <a:chOff x="4123800" y="3347640"/>
                <a:chExt cx="72720" cy="900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4123800" y="334764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123800" y="334764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179240" y="3382560"/>
                <a:ext cx="72720" cy="91440"/>
                <a:chOff x="4179240" y="3382560"/>
                <a:chExt cx="72720" cy="9144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179240" y="33825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179240" y="33825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233240" y="3418920"/>
                <a:ext cx="72720" cy="91800"/>
                <a:chOff x="4233240" y="3418920"/>
                <a:chExt cx="72720" cy="918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4233240" y="34189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233240" y="34189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4269600" y="3455280"/>
                <a:ext cx="90360" cy="91800"/>
                <a:chOff x="4269600" y="3455280"/>
                <a:chExt cx="90360" cy="918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4269600" y="3455280"/>
                  <a:ext cx="9036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269600" y="345528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4323600" y="3492000"/>
                <a:ext cx="91800" cy="91800"/>
                <a:chOff x="4323600" y="3492000"/>
                <a:chExt cx="91800" cy="9180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4323600" y="349200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323600" y="3492000"/>
                  <a:ext cx="554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4379400" y="3528360"/>
                <a:ext cx="72720" cy="91800"/>
                <a:chOff x="4379400" y="3528360"/>
                <a:chExt cx="72720" cy="918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379400" y="35283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379400" y="35283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4433400" y="3565080"/>
                <a:ext cx="72360" cy="72720"/>
                <a:chOff x="4433400" y="3565080"/>
                <a:chExt cx="72360" cy="727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4433400" y="35650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433400" y="3565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488840" y="3601440"/>
                <a:ext cx="72720" cy="91800"/>
                <a:chOff x="4488840" y="3601440"/>
                <a:chExt cx="72720" cy="918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4488840" y="36014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488840" y="360144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542840" y="3638160"/>
                <a:ext cx="72720" cy="72360"/>
                <a:chOff x="4542840" y="3638160"/>
                <a:chExt cx="72720" cy="7236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4542840" y="36381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542840" y="3638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2" name=""/>
            <p:cNvSpPr/>
            <p:nvPr/>
          </p:nvSpPr>
          <p:spPr>
            <a:xfrm>
              <a:off x="3850920" y="321912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3924000" y="3092400"/>
              <a:ext cx="745560" cy="545400"/>
              <a:chOff x="3924000" y="3092400"/>
              <a:chExt cx="745560" cy="54540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3924000" y="3092400"/>
                <a:ext cx="72720" cy="90000"/>
                <a:chOff x="3924000" y="3092400"/>
                <a:chExt cx="72720" cy="900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3924000" y="30924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924000" y="30924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3960360" y="3128400"/>
                <a:ext cx="90000" cy="90000"/>
                <a:chOff x="3960360" y="3128400"/>
                <a:chExt cx="90000" cy="90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960360" y="312840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960360" y="312840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4014000" y="3165120"/>
                <a:ext cx="91800" cy="90000"/>
                <a:chOff x="4014000" y="3165120"/>
                <a:chExt cx="91800" cy="9000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4014000" y="316512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014000" y="3165120"/>
                  <a:ext cx="5544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4069800" y="3201480"/>
                <a:ext cx="72720" cy="90000"/>
                <a:chOff x="4069800" y="3201480"/>
                <a:chExt cx="72720" cy="9000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4069800" y="3201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069800" y="32014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4123800" y="3237840"/>
                <a:ext cx="72720" cy="72720"/>
                <a:chOff x="4123800" y="3237840"/>
                <a:chExt cx="72720" cy="7272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4123800" y="3237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123800" y="32378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4179240" y="3274560"/>
                <a:ext cx="72720" cy="72720"/>
                <a:chOff x="4179240" y="3274560"/>
                <a:chExt cx="72720" cy="7272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417924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179240" y="3274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4233240" y="3310920"/>
                <a:ext cx="72720" cy="71280"/>
                <a:chOff x="4233240" y="3310920"/>
                <a:chExt cx="72720" cy="7128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4233240" y="33109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233240" y="3310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4287240" y="3347640"/>
                <a:ext cx="72720" cy="70920"/>
                <a:chOff x="4287240" y="3347640"/>
                <a:chExt cx="72720" cy="7092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4287240" y="334764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287240" y="334764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4323600" y="3382560"/>
                <a:ext cx="91800" cy="72360"/>
                <a:chOff x="4323600" y="3382560"/>
                <a:chExt cx="91800" cy="7236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4323600" y="33825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323600" y="338256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4379400" y="3418920"/>
                <a:ext cx="90000" cy="72720"/>
                <a:chOff x="4379400" y="3418920"/>
                <a:chExt cx="90000" cy="7272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4379400" y="34189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4379400" y="34189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4433400" y="3455280"/>
                <a:ext cx="72360" cy="72720"/>
                <a:chOff x="4433400" y="3455280"/>
                <a:chExt cx="72360" cy="7272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4433400" y="34552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433400" y="3455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4488840" y="3492000"/>
                <a:ext cx="72720" cy="72720"/>
                <a:chOff x="4488840" y="3492000"/>
                <a:chExt cx="72720" cy="7272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4488840" y="3492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488840" y="3492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4542840" y="3528360"/>
                <a:ext cx="72720" cy="72720"/>
                <a:chOff x="4542840" y="3528360"/>
                <a:chExt cx="72720" cy="7272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4542840" y="3528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542840" y="3528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4596840" y="3565080"/>
                <a:ext cx="72720" cy="72720"/>
                <a:chOff x="4596840" y="3565080"/>
                <a:chExt cx="72720" cy="727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4596840" y="3565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596840" y="3565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6" name=""/>
            <p:cNvSpPr/>
            <p:nvPr/>
          </p:nvSpPr>
          <p:spPr>
            <a:xfrm>
              <a:off x="3906720" y="3146400"/>
              <a:ext cx="745560" cy="56448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8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288040" y="2598840"/>
            <a:ext cx="1473840" cy="1621800"/>
            <a:chOff x="5288040" y="2598840"/>
            <a:chExt cx="1473840" cy="1621800"/>
          </a:xfrm>
        </p:grpSpPr>
        <p:grpSp>
          <p:nvGrpSpPr>
            <p:cNvPr id="848" name=""/>
            <p:cNvGrpSpPr/>
            <p:nvPr/>
          </p:nvGrpSpPr>
          <p:grpSpPr>
            <a:xfrm>
              <a:off x="5304960" y="3600360"/>
              <a:ext cx="745560" cy="546840"/>
              <a:chOff x="5304960" y="3600360"/>
              <a:chExt cx="745560" cy="54684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304960" y="3600360"/>
                <a:ext cx="72720" cy="72360"/>
                <a:chOff x="5304960" y="3600360"/>
                <a:chExt cx="72720" cy="7236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5304960" y="36003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304960" y="36003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5341320" y="3636360"/>
                <a:ext cx="90000" cy="72720"/>
                <a:chOff x="5341320" y="3636360"/>
                <a:chExt cx="90000" cy="7272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5341320" y="36363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341320" y="36363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5395320" y="3672720"/>
                <a:ext cx="91800" cy="72720"/>
                <a:chOff x="5395320" y="3672720"/>
                <a:chExt cx="91800" cy="7272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395320" y="36727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395320" y="367272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5450760" y="3709440"/>
                <a:ext cx="90000" cy="72720"/>
                <a:chOff x="5450760" y="3709440"/>
                <a:chExt cx="90000" cy="7272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5450760" y="37094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450760" y="37094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5504760" y="3745800"/>
                <a:ext cx="72720" cy="72720"/>
                <a:chOff x="5504760" y="3745800"/>
                <a:chExt cx="72720" cy="7272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5504760" y="3745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504760" y="37458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5560200" y="3782520"/>
                <a:ext cx="72720" cy="72720"/>
                <a:chOff x="5560200" y="3782520"/>
                <a:chExt cx="72720" cy="7272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5560200" y="3782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560200" y="37825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5614200" y="3818880"/>
                <a:ext cx="72720" cy="72720"/>
                <a:chOff x="5614200" y="3818880"/>
                <a:chExt cx="72720" cy="7272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5614200" y="3818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614200" y="38188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5670000" y="3855600"/>
                <a:ext cx="70920" cy="72360"/>
                <a:chOff x="5670000" y="3855600"/>
                <a:chExt cx="70920" cy="723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5670000" y="385560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670000" y="38556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5706360" y="3891960"/>
                <a:ext cx="90000" cy="72720"/>
                <a:chOff x="5706360" y="3891960"/>
                <a:chExt cx="90000" cy="7272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5706360" y="38919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706360" y="38919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5760360" y="3928320"/>
                <a:ext cx="90000" cy="72720"/>
                <a:chOff x="5760360" y="3928320"/>
                <a:chExt cx="90000" cy="7272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5760360" y="39283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760360" y="39283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5814360" y="3945960"/>
                <a:ext cx="91800" cy="91800"/>
                <a:chOff x="5814360" y="3945960"/>
                <a:chExt cx="91800" cy="918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5814360" y="394596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814360" y="3945960"/>
                  <a:ext cx="5508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"/>
              <p:cNvGrpSpPr/>
              <p:nvPr/>
            </p:nvGrpSpPr>
            <p:grpSpPr>
              <a:xfrm>
                <a:off x="5869800" y="3982320"/>
                <a:ext cx="72720" cy="91800"/>
                <a:chOff x="5869800" y="3982320"/>
                <a:chExt cx="72720" cy="9180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5869800" y="39823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869800" y="398232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5923800" y="4019040"/>
                <a:ext cx="72720" cy="91800"/>
                <a:chOff x="5923800" y="4019040"/>
                <a:chExt cx="72720" cy="9180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5923800" y="40190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923800" y="401904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5979600" y="4055400"/>
                <a:ext cx="70920" cy="91800"/>
                <a:chOff x="5979600" y="4055400"/>
                <a:chExt cx="70920" cy="918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5979600" y="405540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979600" y="405540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1" name=""/>
            <p:cNvSpPr/>
            <p:nvPr/>
          </p:nvSpPr>
          <p:spPr>
            <a:xfrm>
              <a:off x="5288040" y="3636720"/>
              <a:ext cx="74556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5741640" y="2981160"/>
              <a:ext cx="747000" cy="545400"/>
              <a:chOff x="5741640" y="2981160"/>
              <a:chExt cx="747000" cy="545400"/>
            </a:xfrm>
          </p:grpSpPr>
          <p:grpSp>
            <p:nvGrpSpPr>
              <p:cNvPr id="893" name=""/>
              <p:cNvGrpSpPr/>
              <p:nvPr/>
            </p:nvGrpSpPr>
            <p:grpSpPr>
              <a:xfrm>
                <a:off x="5741640" y="2981160"/>
                <a:ext cx="72720" cy="72720"/>
                <a:chOff x="5741640" y="2981160"/>
                <a:chExt cx="72720" cy="7272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5741640" y="2981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741640" y="2981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5777640" y="3017160"/>
                <a:ext cx="91800" cy="72720"/>
                <a:chOff x="5777640" y="3017160"/>
                <a:chExt cx="91800" cy="7272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5777640" y="301716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777640" y="301716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5833440" y="3053880"/>
                <a:ext cx="90000" cy="72720"/>
                <a:chOff x="5833440" y="3053880"/>
                <a:chExt cx="90000" cy="7272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5833440" y="30538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833440" y="305388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5887440" y="3090240"/>
                <a:ext cx="72720" cy="72720"/>
                <a:chOff x="5887440" y="3090240"/>
                <a:chExt cx="72720" cy="7272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5887440" y="3090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887440" y="30902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5942880" y="3126960"/>
                <a:ext cx="72720" cy="72360"/>
                <a:chOff x="5942880" y="3126960"/>
                <a:chExt cx="72720" cy="7236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5942880" y="31269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942880" y="31269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5996880" y="3163320"/>
                <a:ext cx="72720" cy="72720"/>
                <a:chOff x="5996880" y="3163320"/>
                <a:chExt cx="72720" cy="7272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5996880" y="3163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996880" y="31633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6050880" y="3199680"/>
                <a:ext cx="72720" cy="72720"/>
                <a:chOff x="6050880" y="3199680"/>
                <a:chExt cx="72720" cy="7272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6050880" y="3199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050880" y="31996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6106320" y="3236400"/>
                <a:ext cx="72720" cy="72720"/>
                <a:chOff x="6106320" y="3236400"/>
                <a:chExt cx="72720" cy="727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6106320" y="3236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106320" y="3236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6143040" y="3272760"/>
                <a:ext cx="90000" cy="71280"/>
                <a:chOff x="6143040" y="3272760"/>
                <a:chExt cx="90000" cy="7128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6143040" y="3272760"/>
                  <a:ext cx="90000" cy="712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143040" y="32727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6197040" y="3309480"/>
                <a:ext cx="91440" cy="70920"/>
                <a:chOff x="6197040" y="3309480"/>
                <a:chExt cx="91440" cy="7092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6197040" y="3309480"/>
                  <a:ext cx="9144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6197040" y="3309480"/>
                  <a:ext cx="55080" cy="34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3" name=""/>
              <p:cNvGrpSpPr/>
              <p:nvPr/>
            </p:nvGrpSpPr>
            <p:grpSpPr>
              <a:xfrm>
                <a:off x="6252480" y="3344400"/>
                <a:ext cx="72720" cy="72360"/>
                <a:chOff x="6252480" y="3344400"/>
                <a:chExt cx="72720" cy="7236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6252480" y="334440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252480" y="33444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6306480" y="3380760"/>
                <a:ext cx="72720" cy="72720"/>
                <a:chOff x="6306480" y="3380760"/>
                <a:chExt cx="72720" cy="7272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6306480" y="33807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306480" y="33807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6360480" y="3417120"/>
                <a:ext cx="72720" cy="72720"/>
                <a:chOff x="6360480" y="3417120"/>
                <a:chExt cx="72720" cy="7272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6360480" y="34171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360480" y="34171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6415920" y="3453840"/>
                <a:ext cx="72720" cy="72720"/>
                <a:chOff x="6415920" y="3453840"/>
                <a:chExt cx="72720" cy="727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6415920" y="3453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415920" y="34538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5" name=""/>
            <p:cNvSpPr/>
            <p:nvPr/>
          </p:nvSpPr>
          <p:spPr>
            <a:xfrm>
              <a:off x="5724360" y="303516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6" name=""/>
            <p:cNvGrpSpPr/>
            <p:nvPr/>
          </p:nvGrpSpPr>
          <p:grpSpPr>
            <a:xfrm>
              <a:off x="5778000" y="2908080"/>
              <a:ext cx="764640" cy="545400"/>
              <a:chOff x="5778000" y="2908080"/>
              <a:chExt cx="764640" cy="545400"/>
            </a:xfrm>
          </p:grpSpPr>
          <p:grpSp>
            <p:nvGrpSpPr>
              <p:cNvPr id="937" name=""/>
              <p:cNvGrpSpPr/>
              <p:nvPr/>
            </p:nvGrpSpPr>
            <p:grpSpPr>
              <a:xfrm>
                <a:off x="5778000" y="2908080"/>
                <a:ext cx="91800" cy="72720"/>
                <a:chOff x="5778000" y="2908080"/>
                <a:chExt cx="91800" cy="7272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5778000" y="29080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778000" y="290808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5833440" y="2944080"/>
                <a:ext cx="90000" cy="72720"/>
                <a:chOff x="5833440" y="2944080"/>
                <a:chExt cx="90000" cy="7272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5833440" y="29440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833440" y="294408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5887440" y="2980800"/>
                <a:ext cx="72720" cy="72720"/>
                <a:chOff x="5887440" y="2980800"/>
                <a:chExt cx="72720" cy="7272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5887440" y="2980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887440" y="29808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5942880" y="3017160"/>
                <a:ext cx="72720" cy="72720"/>
                <a:chOff x="5942880" y="3017160"/>
                <a:chExt cx="72720" cy="7272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5942880" y="3017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942880" y="30171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5996880" y="3053880"/>
                <a:ext cx="72720" cy="72720"/>
                <a:chOff x="5996880" y="3053880"/>
                <a:chExt cx="72720" cy="7272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5996880" y="3053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996880" y="30538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6050880" y="3090240"/>
                <a:ext cx="72720" cy="72720"/>
                <a:chOff x="6050880" y="3090240"/>
                <a:chExt cx="72720" cy="7272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6050880" y="3090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050880" y="30902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5" name=""/>
              <p:cNvGrpSpPr/>
              <p:nvPr/>
            </p:nvGrpSpPr>
            <p:grpSpPr>
              <a:xfrm>
                <a:off x="6106320" y="3126960"/>
                <a:ext cx="72720" cy="72360"/>
                <a:chOff x="6106320" y="3126960"/>
                <a:chExt cx="72720" cy="7236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6106320" y="31269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106320" y="31269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6143040" y="3163320"/>
                <a:ext cx="90000" cy="72720"/>
                <a:chOff x="6143040" y="3163320"/>
                <a:chExt cx="90000" cy="7272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6143040" y="31633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143040" y="31633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6197040" y="3199680"/>
                <a:ext cx="91440" cy="72720"/>
                <a:chOff x="6197040" y="3199680"/>
                <a:chExt cx="91440" cy="7272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6197040" y="3199680"/>
                  <a:ext cx="9144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197040" y="319968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6252480" y="3236400"/>
                <a:ext cx="72720" cy="72720"/>
                <a:chOff x="6252480" y="3236400"/>
                <a:chExt cx="72720" cy="7272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6252480" y="3236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252480" y="32364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6306480" y="3272760"/>
                <a:ext cx="72720" cy="71280"/>
                <a:chOff x="6306480" y="3272760"/>
                <a:chExt cx="72720" cy="7128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6306480" y="327276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306480" y="32727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6360480" y="3309480"/>
                <a:ext cx="72720" cy="70920"/>
                <a:chOff x="6360480" y="3309480"/>
                <a:chExt cx="72720" cy="7092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6360480" y="330948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360480" y="330948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6415920" y="3344400"/>
                <a:ext cx="72720" cy="72360"/>
                <a:chOff x="6415920" y="3344400"/>
                <a:chExt cx="72720" cy="723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6415920" y="334440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415920" y="3344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6469920" y="3380760"/>
                <a:ext cx="72720" cy="72720"/>
                <a:chOff x="6469920" y="3380760"/>
                <a:chExt cx="72720" cy="7272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6469920" y="33807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469920" y="33807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9" name=""/>
            <p:cNvSpPr/>
            <p:nvPr/>
          </p:nvSpPr>
          <p:spPr>
            <a:xfrm>
              <a:off x="5778000" y="294444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48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5943240" y="2671560"/>
              <a:ext cx="762840" cy="545400"/>
              <a:chOff x="5943240" y="2671560"/>
              <a:chExt cx="762840" cy="54540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5943240" y="2671560"/>
                <a:ext cx="90000" cy="70920"/>
                <a:chOff x="5943240" y="2671560"/>
                <a:chExt cx="90000" cy="7092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5943240" y="2671560"/>
                  <a:ext cx="9000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943240" y="26715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5996880" y="2707560"/>
                <a:ext cx="90000" cy="90360"/>
                <a:chOff x="5996880" y="2707560"/>
                <a:chExt cx="90000" cy="9036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5996880" y="270756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996880" y="270756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6050880" y="2742480"/>
                <a:ext cx="72720" cy="72720"/>
                <a:chOff x="6050880" y="2742480"/>
                <a:chExt cx="72720" cy="727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6050880" y="2742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050880" y="27424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6106320" y="2779200"/>
                <a:ext cx="72720" cy="72720"/>
                <a:chOff x="6106320" y="2779200"/>
                <a:chExt cx="72720" cy="7272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6106320" y="27792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106320" y="27792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6160320" y="2815560"/>
                <a:ext cx="72720" cy="72720"/>
                <a:chOff x="6160320" y="2815560"/>
                <a:chExt cx="72720" cy="7272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6160320" y="2815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160320" y="28155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216120" y="2852280"/>
                <a:ext cx="72360" cy="72360"/>
                <a:chOff x="6216120" y="2852280"/>
                <a:chExt cx="72360" cy="7236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216120" y="285228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216120" y="28522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6269760" y="2888640"/>
                <a:ext cx="72720" cy="72720"/>
                <a:chOff x="6269760" y="2888640"/>
                <a:chExt cx="72720" cy="7272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6269760" y="28886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269760" y="28886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6306480" y="2925000"/>
                <a:ext cx="90000" cy="72720"/>
                <a:chOff x="6306480" y="2925000"/>
                <a:chExt cx="90000" cy="7272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6306480" y="2925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306480" y="29250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6360480" y="2961720"/>
                <a:ext cx="91800" cy="72720"/>
                <a:chOff x="6360480" y="2961720"/>
                <a:chExt cx="91800" cy="727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6360480" y="29617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360480" y="296172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6415920" y="2998080"/>
                <a:ext cx="72720" cy="72720"/>
                <a:chOff x="6415920" y="2998080"/>
                <a:chExt cx="72720" cy="7272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6415920" y="2998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415920" y="29980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6469920" y="3034800"/>
                <a:ext cx="72720" cy="72720"/>
                <a:chOff x="6469920" y="3034800"/>
                <a:chExt cx="72720" cy="7272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6469920" y="3034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69920" y="30348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5360" y="3071160"/>
                <a:ext cx="72720" cy="72720"/>
                <a:chOff x="6525360" y="3071160"/>
                <a:chExt cx="72720" cy="7272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25360" y="3071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5360" y="30711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6579360" y="3107880"/>
                <a:ext cx="72720" cy="72360"/>
                <a:chOff x="6579360" y="3107880"/>
                <a:chExt cx="72720" cy="7236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6579360" y="31078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579360" y="31078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6635160" y="3144240"/>
                <a:ext cx="70920" cy="72720"/>
                <a:chOff x="6635160" y="3144240"/>
                <a:chExt cx="70920" cy="7272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6635160" y="31442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635160" y="31442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3" name=""/>
            <p:cNvSpPr/>
            <p:nvPr/>
          </p:nvSpPr>
          <p:spPr>
            <a:xfrm>
              <a:off x="5943240" y="272556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4" name=""/>
            <p:cNvGrpSpPr/>
            <p:nvPr/>
          </p:nvGrpSpPr>
          <p:grpSpPr>
            <a:xfrm>
              <a:off x="5414760" y="3436560"/>
              <a:ext cx="745200" cy="545400"/>
              <a:chOff x="5414760" y="3436560"/>
              <a:chExt cx="745200" cy="545400"/>
            </a:xfrm>
          </p:grpSpPr>
          <p:grpSp>
            <p:nvGrpSpPr>
              <p:cNvPr id="1025" name=""/>
              <p:cNvGrpSpPr/>
              <p:nvPr/>
            </p:nvGrpSpPr>
            <p:grpSpPr>
              <a:xfrm>
                <a:off x="5414760" y="3436560"/>
                <a:ext cx="72720" cy="90360"/>
                <a:chOff x="5414760" y="3436560"/>
                <a:chExt cx="72720" cy="9036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5414760" y="343656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414760" y="343656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5450760" y="3472920"/>
                <a:ext cx="90000" cy="90000"/>
                <a:chOff x="5450760" y="3472920"/>
                <a:chExt cx="90000" cy="9000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5450760" y="347292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450760" y="347292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5504760" y="3509280"/>
                <a:ext cx="91800" cy="90360"/>
                <a:chOff x="5504760" y="3509280"/>
                <a:chExt cx="91800" cy="9036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5504760" y="3509280"/>
                  <a:ext cx="918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5504760" y="350928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5560200" y="3546000"/>
                <a:ext cx="90360" cy="90000"/>
                <a:chOff x="5560200" y="3546000"/>
                <a:chExt cx="90360" cy="9000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5560200" y="3546000"/>
                  <a:ext cx="9036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5560200" y="354600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5614200" y="3582360"/>
                <a:ext cx="72720" cy="72720"/>
                <a:chOff x="5614200" y="3582360"/>
                <a:chExt cx="72720" cy="7272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5614200" y="3582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614200" y="35823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5670000" y="3619080"/>
                <a:ext cx="70920" cy="72360"/>
                <a:chOff x="5670000" y="3619080"/>
                <a:chExt cx="70920" cy="7236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5670000" y="361908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670000" y="3619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5724000" y="3655440"/>
                <a:ext cx="72360" cy="72720"/>
                <a:chOff x="5724000" y="3655440"/>
                <a:chExt cx="72360" cy="7272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5724000" y="365544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5724000" y="36554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5777640" y="3691800"/>
                <a:ext cx="72720" cy="72720"/>
                <a:chOff x="5777640" y="3691800"/>
                <a:chExt cx="72720" cy="7272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5777640" y="3691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5777640" y="369180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"/>
              <p:cNvGrpSpPr/>
              <p:nvPr/>
            </p:nvGrpSpPr>
            <p:grpSpPr>
              <a:xfrm>
                <a:off x="5814360" y="3728520"/>
                <a:ext cx="91800" cy="72720"/>
                <a:chOff x="5814360" y="3728520"/>
                <a:chExt cx="91800" cy="7272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5814360" y="37285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814360" y="372852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5869800" y="3764880"/>
                <a:ext cx="90360" cy="72720"/>
                <a:chOff x="5869800" y="3764880"/>
                <a:chExt cx="90360" cy="7272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5869800" y="376488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869800" y="376488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5923800" y="3801600"/>
                <a:ext cx="91800" cy="72360"/>
                <a:chOff x="5923800" y="3801600"/>
                <a:chExt cx="91800" cy="7236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5923800" y="380160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923800" y="380160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5979600" y="3837960"/>
                <a:ext cx="70920" cy="71280"/>
                <a:chOff x="5979600" y="3837960"/>
                <a:chExt cx="70920" cy="7128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5979600" y="3837960"/>
                  <a:ext cx="709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5979600" y="3837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6033240" y="3874320"/>
                <a:ext cx="72720" cy="71280"/>
                <a:chOff x="6033240" y="3874320"/>
                <a:chExt cx="72720" cy="712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6033240" y="38743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033240" y="3874320"/>
                  <a:ext cx="36360" cy="3492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6087240" y="3909600"/>
                <a:ext cx="72720" cy="72360"/>
                <a:chOff x="6087240" y="3909600"/>
                <a:chExt cx="72720" cy="7236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6087240" y="390960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087240" y="39096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7" name=""/>
            <p:cNvSpPr/>
            <p:nvPr/>
          </p:nvSpPr>
          <p:spPr>
            <a:xfrm>
              <a:off x="5395680" y="349056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59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5578200" y="3217680"/>
              <a:ext cx="747000" cy="546840"/>
              <a:chOff x="5578200" y="3217680"/>
              <a:chExt cx="747000" cy="54684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5578200" y="3217680"/>
                <a:ext cx="72720" cy="72720"/>
                <a:chOff x="5578200" y="3217680"/>
                <a:chExt cx="72720" cy="7272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5578200" y="3217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5578200" y="32176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5614200" y="3253680"/>
                <a:ext cx="91800" cy="72720"/>
                <a:chOff x="5614200" y="3253680"/>
                <a:chExt cx="91800" cy="7272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614200" y="32536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614200" y="325368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5670000" y="3290400"/>
                <a:ext cx="90000" cy="72720"/>
                <a:chOff x="5670000" y="3290400"/>
                <a:chExt cx="90000" cy="7272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5670000" y="32904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670000" y="32904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8" name=""/>
              <p:cNvGrpSpPr/>
              <p:nvPr/>
            </p:nvGrpSpPr>
            <p:grpSpPr>
              <a:xfrm>
                <a:off x="5724000" y="3326760"/>
                <a:ext cx="72360" cy="72720"/>
                <a:chOff x="5724000" y="3326760"/>
                <a:chExt cx="72360" cy="727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5724000" y="33267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5724000" y="33267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5777640" y="3363480"/>
                <a:ext cx="72720" cy="72360"/>
                <a:chOff x="5777640" y="3363480"/>
                <a:chExt cx="72720" cy="7236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5777640" y="33634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5777640" y="33634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5833440" y="3399840"/>
                <a:ext cx="72720" cy="72720"/>
                <a:chOff x="5833440" y="3399840"/>
                <a:chExt cx="72720" cy="7272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5833440" y="3399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5833440" y="33998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5887440" y="3436200"/>
                <a:ext cx="72720" cy="72720"/>
                <a:chOff x="5887440" y="3436200"/>
                <a:chExt cx="72720" cy="7272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5887440" y="34362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887440" y="34362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5942880" y="3472920"/>
                <a:ext cx="72720" cy="72720"/>
                <a:chOff x="5942880" y="3472920"/>
                <a:chExt cx="72720" cy="7272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5942880" y="3472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5942880" y="34729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5979600" y="3509280"/>
                <a:ext cx="90000" cy="72720"/>
                <a:chOff x="5979600" y="3509280"/>
                <a:chExt cx="90000" cy="7272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5979600" y="35092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5979600" y="3509280"/>
                  <a:ext cx="532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6033240" y="3546000"/>
                <a:ext cx="90360" cy="72720"/>
                <a:chOff x="6033240" y="3546000"/>
                <a:chExt cx="90360" cy="7272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6033240" y="35460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033240" y="35460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6087240" y="3563280"/>
                <a:ext cx="72720" cy="91800"/>
                <a:chOff x="6087240" y="3563280"/>
                <a:chExt cx="72720" cy="918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6087240" y="35632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6087240" y="356328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6143040" y="3600000"/>
                <a:ext cx="72720" cy="91440"/>
                <a:chOff x="6143040" y="3600000"/>
                <a:chExt cx="72720" cy="9144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6143040" y="360000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6143040" y="360000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6197040" y="3636360"/>
                <a:ext cx="72360" cy="91800"/>
                <a:chOff x="6197040" y="3636360"/>
                <a:chExt cx="72360" cy="918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6197040" y="363636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197040" y="36363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6252480" y="3672720"/>
                <a:ext cx="72720" cy="91800"/>
                <a:chOff x="6252480" y="3672720"/>
                <a:chExt cx="72720" cy="9180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6252480" y="36727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6252480" y="367272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1" name=""/>
            <p:cNvSpPr/>
            <p:nvPr/>
          </p:nvSpPr>
          <p:spPr>
            <a:xfrm>
              <a:off x="5560560" y="3254040"/>
              <a:ext cx="74592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5524200" y="3290760"/>
              <a:ext cx="745200" cy="546840"/>
              <a:chOff x="5524200" y="3290760"/>
              <a:chExt cx="745200" cy="546840"/>
            </a:xfrm>
          </p:grpSpPr>
          <p:grpSp>
            <p:nvGrpSpPr>
              <p:cNvPr id="1113" name=""/>
              <p:cNvGrpSpPr/>
              <p:nvPr/>
            </p:nvGrpSpPr>
            <p:grpSpPr>
              <a:xfrm>
                <a:off x="5524200" y="3290760"/>
                <a:ext cx="72720" cy="72720"/>
                <a:chOff x="5524200" y="3290760"/>
                <a:chExt cx="72720" cy="727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524200" y="32907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524200" y="32907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5560200" y="3326760"/>
                <a:ext cx="90360" cy="72720"/>
                <a:chOff x="5560200" y="3326760"/>
                <a:chExt cx="90360" cy="727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560200" y="332676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560200" y="33267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14200" y="3363480"/>
                <a:ext cx="91800" cy="72360"/>
                <a:chOff x="5614200" y="3363480"/>
                <a:chExt cx="91800" cy="72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614200" y="336348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14200" y="336348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5670000" y="3399840"/>
                <a:ext cx="90000" cy="72720"/>
                <a:chOff x="5670000" y="3399840"/>
                <a:chExt cx="90000" cy="727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5670000" y="33998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670000" y="33998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5724000" y="3436200"/>
                <a:ext cx="72360" cy="72720"/>
                <a:chOff x="5724000" y="3436200"/>
                <a:chExt cx="72360" cy="727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724000" y="34362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724000" y="34362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5777640" y="3472920"/>
                <a:ext cx="72720" cy="72720"/>
                <a:chOff x="5777640" y="3472920"/>
                <a:chExt cx="72720" cy="727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5777640" y="3472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777640" y="34729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5833440" y="3509280"/>
                <a:ext cx="72720" cy="72720"/>
                <a:chOff x="5833440" y="3509280"/>
                <a:chExt cx="72720" cy="727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833440" y="35092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833440" y="3509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5887440" y="3546000"/>
                <a:ext cx="72720" cy="72720"/>
                <a:chOff x="5887440" y="3546000"/>
                <a:chExt cx="72720" cy="7272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887440" y="3546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887440" y="3546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923800" y="3582360"/>
                <a:ext cx="91800" cy="72720"/>
                <a:chOff x="5923800" y="3582360"/>
                <a:chExt cx="91800" cy="7272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923800" y="358236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923800" y="358236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5979600" y="3619080"/>
                <a:ext cx="90000" cy="72360"/>
                <a:chOff x="5979600" y="3619080"/>
                <a:chExt cx="90000" cy="7236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5979600" y="361908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979600" y="361908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033240" y="3655440"/>
                <a:ext cx="90360" cy="72720"/>
                <a:chOff x="6033240" y="3655440"/>
                <a:chExt cx="90360" cy="727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033240" y="365544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033240" y="36554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6087240" y="3691800"/>
                <a:ext cx="72720" cy="72720"/>
                <a:chOff x="6087240" y="3691800"/>
                <a:chExt cx="72720" cy="7272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6087240" y="3691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087240" y="369180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143040" y="3728520"/>
                <a:ext cx="72720" cy="72720"/>
                <a:chOff x="6143040" y="3728520"/>
                <a:chExt cx="72720" cy="7272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143040" y="3728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143040" y="37285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6197040" y="3764880"/>
                <a:ext cx="72360" cy="72720"/>
                <a:chOff x="6197040" y="3764880"/>
                <a:chExt cx="72360" cy="7272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197040" y="37648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197040" y="37648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5" name=""/>
            <p:cNvSpPr/>
            <p:nvPr/>
          </p:nvSpPr>
          <p:spPr>
            <a:xfrm>
              <a:off x="5505120" y="332712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59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5360760" y="3527280"/>
              <a:ext cx="745200" cy="527760"/>
              <a:chOff x="5360760" y="3527280"/>
              <a:chExt cx="745200" cy="527760"/>
            </a:xfrm>
          </p:grpSpPr>
          <p:grpSp>
            <p:nvGrpSpPr>
              <p:cNvPr id="1157" name=""/>
              <p:cNvGrpSpPr/>
              <p:nvPr/>
            </p:nvGrpSpPr>
            <p:grpSpPr>
              <a:xfrm>
                <a:off x="5360760" y="3527280"/>
                <a:ext cx="70920" cy="72720"/>
                <a:chOff x="5360760" y="3527280"/>
                <a:chExt cx="70920" cy="7272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360760" y="352728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360760" y="352728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5395320" y="3546000"/>
                <a:ext cx="91800" cy="90000"/>
                <a:chOff x="5395320" y="3546000"/>
                <a:chExt cx="91800" cy="9000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5395320" y="354600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5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395320" y="354600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5450760" y="3600000"/>
                <a:ext cx="90000" cy="72360"/>
                <a:chOff x="5450760" y="3600000"/>
                <a:chExt cx="90000" cy="7236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5450760" y="360000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450760" y="36000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5504760" y="3619080"/>
                <a:ext cx="91800" cy="90000"/>
                <a:chOff x="5504760" y="3619080"/>
                <a:chExt cx="91800" cy="9000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5504760" y="361908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504760" y="3619080"/>
                  <a:ext cx="5508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5560200" y="3655440"/>
                <a:ext cx="72720" cy="90000"/>
                <a:chOff x="5560200" y="3655440"/>
                <a:chExt cx="72720" cy="9000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5560200" y="365544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560200" y="365544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5614200" y="3691800"/>
                <a:ext cx="72720" cy="90360"/>
                <a:chOff x="5614200" y="3691800"/>
                <a:chExt cx="72720" cy="9036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5614200" y="369180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614200" y="36918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5670000" y="3728520"/>
                <a:ext cx="70920" cy="90000"/>
                <a:chOff x="5670000" y="3728520"/>
                <a:chExt cx="70920" cy="9000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5670000" y="3728520"/>
                  <a:ext cx="709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5670000" y="37285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5724000" y="3764880"/>
                <a:ext cx="72360" cy="90360"/>
                <a:chOff x="5724000" y="3764880"/>
                <a:chExt cx="72360" cy="9036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5724000" y="3764880"/>
                  <a:ext cx="7236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5724000" y="37648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5760360" y="3801600"/>
                <a:ext cx="90000" cy="90000"/>
                <a:chOff x="5760360" y="3801600"/>
                <a:chExt cx="90000" cy="9000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5760360" y="380160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760360" y="380160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5814360" y="3837960"/>
                <a:ext cx="91800" cy="90000"/>
                <a:chOff x="5814360" y="3837960"/>
                <a:chExt cx="91800" cy="9000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5814360" y="383796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5814360" y="383796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5869800" y="3874320"/>
                <a:ext cx="90360" cy="90360"/>
                <a:chOff x="5869800" y="3874320"/>
                <a:chExt cx="90360" cy="9036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5869800" y="3874320"/>
                  <a:ext cx="9036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5869800" y="387432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5923800" y="3909600"/>
                <a:ext cx="72720" cy="91440"/>
                <a:chOff x="5923800" y="3909600"/>
                <a:chExt cx="72720" cy="9144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5923800" y="390960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5923800" y="39096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5979600" y="3945960"/>
                <a:ext cx="70920" cy="91800"/>
                <a:chOff x="5979600" y="3945960"/>
                <a:chExt cx="70920" cy="9180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5979600" y="394596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979600" y="39459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6033240" y="3982320"/>
                <a:ext cx="72720" cy="72720"/>
                <a:chOff x="6033240" y="3982320"/>
                <a:chExt cx="72720" cy="727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6033240" y="3982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6033240" y="39823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9" name=""/>
            <p:cNvSpPr/>
            <p:nvPr/>
          </p:nvSpPr>
          <p:spPr>
            <a:xfrm>
              <a:off x="5341680" y="356364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0" name=""/>
            <p:cNvGrpSpPr/>
            <p:nvPr/>
          </p:nvGrpSpPr>
          <p:grpSpPr>
            <a:xfrm>
              <a:off x="5997240" y="2598840"/>
              <a:ext cx="764640" cy="545400"/>
              <a:chOff x="5997240" y="2598840"/>
              <a:chExt cx="764640" cy="545400"/>
            </a:xfrm>
          </p:grpSpPr>
          <p:grpSp>
            <p:nvGrpSpPr>
              <p:cNvPr id="1201" name=""/>
              <p:cNvGrpSpPr/>
              <p:nvPr/>
            </p:nvGrpSpPr>
            <p:grpSpPr>
              <a:xfrm>
                <a:off x="5997240" y="2598840"/>
                <a:ext cx="90000" cy="72720"/>
                <a:chOff x="5997240" y="2598840"/>
                <a:chExt cx="90000" cy="7272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5997240" y="25988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997240" y="25988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6050880" y="2635200"/>
                <a:ext cx="91800" cy="72360"/>
                <a:chOff x="6050880" y="2635200"/>
                <a:chExt cx="91800" cy="7236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6050880" y="263520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6050880" y="263520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6106320" y="2671560"/>
                <a:ext cx="72720" cy="70920"/>
                <a:chOff x="6106320" y="2671560"/>
                <a:chExt cx="72720" cy="7092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6106320" y="267156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106320" y="2671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160320" y="2707920"/>
                <a:ext cx="72720" cy="71280"/>
                <a:chOff x="6160320" y="2707920"/>
                <a:chExt cx="72720" cy="7128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6160320" y="27079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6160320" y="2707920"/>
                  <a:ext cx="3636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6216120" y="2742840"/>
                <a:ext cx="72360" cy="72720"/>
                <a:chOff x="6216120" y="2742840"/>
                <a:chExt cx="72360" cy="7272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6216120" y="274284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216120" y="27428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6269760" y="2779560"/>
                <a:ext cx="72720" cy="72720"/>
                <a:chOff x="6269760" y="2779560"/>
                <a:chExt cx="72720" cy="7272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6269760" y="2779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6269760" y="2779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6325560" y="2815920"/>
                <a:ext cx="70920" cy="72720"/>
                <a:chOff x="6325560" y="2815920"/>
                <a:chExt cx="70920" cy="7272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6325560" y="281592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6325560" y="2815920"/>
                  <a:ext cx="345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6360480" y="2852640"/>
                <a:ext cx="91800" cy="72360"/>
                <a:chOff x="6360480" y="2852640"/>
                <a:chExt cx="91800" cy="723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6360480" y="285264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6360480" y="285264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6415920" y="2889000"/>
                <a:ext cx="72720" cy="72720"/>
                <a:chOff x="6415920" y="2889000"/>
                <a:chExt cx="72720" cy="7272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6415920" y="2889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415920" y="28890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6469920" y="2925360"/>
                <a:ext cx="72720" cy="72720"/>
                <a:chOff x="6469920" y="2925360"/>
                <a:chExt cx="72720" cy="7272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469920" y="2925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469920" y="29253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6525360" y="2962080"/>
                <a:ext cx="72720" cy="72720"/>
                <a:chOff x="6525360" y="2962080"/>
                <a:chExt cx="72720" cy="7272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6525360" y="2962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525360" y="29620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579360" y="2998440"/>
                <a:ext cx="72720" cy="72720"/>
                <a:chOff x="6579360" y="2998440"/>
                <a:chExt cx="72720" cy="7272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579360" y="29984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579360" y="29984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" name=""/>
              <p:cNvGrpSpPr/>
              <p:nvPr/>
            </p:nvGrpSpPr>
            <p:grpSpPr>
              <a:xfrm>
                <a:off x="6635160" y="3035160"/>
                <a:ext cx="70920" cy="72720"/>
                <a:chOff x="6635160" y="3035160"/>
                <a:chExt cx="70920" cy="7272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6635160" y="303516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5160" y="3035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689160" y="3071520"/>
                <a:ext cx="72720" cy="72720"/>
                <a:chOff x="6689160" y="3071520"/>
                <a:chExt cx="72720" cy="7272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689160" y="3071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689160" y="30715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3" name=""/>
            <p:cNvSpPr/>
            <p:nvPr/>
          </p:nvSpPr>
          <p:spPr>
            <a:xfrm>
              <a:off x="5997240" y="265248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5833800" y="2835000"/>
              <a:ext cx="764280" cy="545400"/>
              <a:chOff x="5833800" y="2835000"/>
              <a:chExt cx="764280" cy="54540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5833800" y="2835000"/>
                <a:ext cx="90000" cy="72720"/>
                <a:chOff x="5833800" y="2835000"/>
                <a:chExt cx="90000" cy="7272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5833800" y="2835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5833800" y="28350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5887440" y="2871360"/>
                <a:ext cx="91800" cy="72360"/>
                <a:chOff x="5887440" y="2871360"/>
                <a:chExt cx="91800" cy="7236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5887440" y="28713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887440" y="287136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5942880" y="2907720"/>
                <a:ext cx="72720" cy="72720"/>
                <a:chOff x="5942880" y="2907720"/>
                <a:chExt cx="72720" cy="7272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5942880" y="2907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942880" y="29077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5996880" y="2925000"/>
                <a:ext cx="72720" cy="91800"/>
                <a:chOff x="5996880" y="2925000"/>
                <a:chExt cx="72720" cy="9180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5996880" y="29250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5996880" y="292500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6050880" y="2980800"/>
                <a:ext cx="72720" cy="72720"/>
                <a:chOff x="6050880" y="2980800"/>
                <a:chExt cx="72720" cy="7272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6050880" y="2980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6050880" y="29808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6106320" y="2998080"/>
                <a:ext cx="72720" cy="91800"/>
                <a:chOff x="6106320" y="2998080"/>
                <a:chExt cx="72720" cy="9180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6106320" y="29980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6106320" y="299808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6160320" y="3034800"/>
                <a:ext cx="72720" cy="91800"/>
                <a:chOff x="6160320" y="3034800"/>
                <a:chExt cx="72720" cy="9180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6160320" y="30348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160320" y="30348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197040" y="3071160"/>
                <a:ext cx="91440" cy="91800"/>
                <a:chOff x="6197040" y="3071160"/>
                <a:chExt cx="91440" cy="918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197040" y="3071160"/>
                  <a:ext cx="9144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197040" y="307116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6252480" y="3107880"/>
                <a:ext cx="90000" cy="91440"/>
                <a:chOff x="6252480" y="3107880"/>
                <a:chExt cx="90000" cy="9144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6252480" y="3107880"/>
                  <a:ext cx="90000" cy="9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252480" y="310788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6306480" y="3144240"/>
                <a:ext cx="72720" cy="91800"/>
                <a:chOff x="6306480" y="3144240"/>
                <a:chExt cx="72720" cy="9180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6306480" y="31442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306480" y="314424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6360480" y="3180600"/>
                <a:ext cx="72720" cy="91800"/>
                <a:chOff x="6360480" y="3180600"/>
                <a:chExt cx="72720" cy="9180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6360480" y="31806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360480" y="318060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6415920" y="3217320"/>
                <a:ext cx="72720" cy="91800"/>
                <a:chOff x="6415920" y="3217320"/>
                <a:chExt cx="72720" cy="9180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6415920" y="32173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6415920" y="321732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6469920" y="3253680"/>
                <a:ext cx="72720" cy="90360"/>
                <a:chOff x="6469920" y="3253680"/>
                <a:chExt cx="72720" cy="903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6469920" y="325368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6469920" y="325368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6525360" y="3290400"/>
                <a:ext cx="72720" cy="90000"/>
                <a:chOff x="6525360" y="3290400"/>
                <a:chExt cx="72720" cy="9000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6525360" y="32904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525360" y="32904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7" name=""/>
            <p:cNvSpPr/>
            <p:nvPr/>
          </p:nvSpPr>
          <p:spPr>
            <a:xfrm>
              <a:off x="5833800" y="2871720"/>
              <a:ext cx="745560" cy="582120"/>
            </a:xfrm>
            <a:custGeom>
              <a:avLst/>
              <a:gdLst/>
              <a:ahLst/>
              <a:rect l="l" t="t" r="r" b="b"/>
              <a:pathLst>
                <a:path w="470" h="367">
                  <a:moveTo>
                    <a:pt x="447" y="367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8" name=""/>
            <p:cNvGrpSpPr/>
            <p:nvPr/>
          </p:nvGrpSpPr>
          <p:grpSpPr>
            <a:xfrm>
              <a:off x="5887800" y="2742840"/>
              <a:ext cx="764280" cy="547200"/>
              <a:chOff x="5887800" y="2742840"/>
              <a:chExt cx="764280" cy="547200"/>
            </a:xfrm>
          </p:grpSpPr>
          <p:grpSp>
            <p:nvGrpSpPr>
              <p:cNvPr id="1289" name=""/>
              <p:cNvGrpSpPr/>
              <p:nvPr/>
            </p:nvGrpSpPr>
            <p:grpSpPr>
              <a:xfrm>
                <a:off x="5887800" y="2742840"/>
                <a:ext cx="91800" cy="91800"/>
                <a:chOff x="5887800" y="2742840"/>
                <a:chExt cx="91800" cy="9180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5887800" y="274284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887800" y="274284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5942880" y="2779200"/>
                <a:ext cx="90000" cy="91800"/>
                <a:chOff x="5942880" y="2779200"/>
                <a:chExt cx="90000" cy="9180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5942880" y="277920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942880" y="277920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996880" y="2815560"/>
                <a:ext cx="72720" cy="91800"/>
                <a:chOff x="5996880" y="2815560"/>
                <a:chExt cx="72720" cy="9180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996880" y="28155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996880" y="28155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6050880" y="2852280"/>
                <a:ext cx="72720" cy="91440"/>
                <a:chOff x="6050880" y="2852280"/>
                <a:chExt cx="72720" cy="9144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6050880" y="285228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050880" y="285228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106320" y="2888640"/>
                <a:ext cx="72720" cy="91800"/>
                <a:chOff x="6106320" y="2888640"/>
                <a:chExt cx="72720" cy="9180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6106320" y="28886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6106320" y="288864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6160320" y="2925000"/>
                <a:ext cx="72720" cy="91800"/>
                <a:chOff x="6160320" y="2925000"/>
                <a:chExt cx="72720" cy="9180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6160320" y="29250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160320" y="292500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6216120" y="2961720"/>
                <a:ext cx="72360" cy="91800"/>
                <a:chOff x="6216120" y="2961720"/>
                <a:chExt cx="72360" cy="9180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6216120" y="296172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216120" y="29617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6252480" y="2998080"/>
                <a:ext cx="90000" cy="91800"/>
                <a:chOff x="6252480" y="2998080"/>
                <a:chExt cx="90000" cy="9180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6252480" y="299808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252480" y="299808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6306480" y="3034800"/>
                <a:ext cx="90000" cy="91800"/>
                <a:chOff x="6306480" y="3034800"/>
                <a:chExt cx="90000" cy="9180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6306480" y="303480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306480" y="303480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6360480" y="3071160"/>
                <a:ext cx="72720" cy="91800"/>
                <a:chOff x="6360480" y="3071160"/>
                <a:chExt cx="72720" cy="9180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6360480" y="30711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6360480" y="30711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6415920" y="3107880"/>
                <a:ext cx="72720" cy="91440"/>
                <a:chOff x="6415920" y="3107880"/>
                <a:chExt cx="72720" cy="9144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6415920" y="310788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415920" y="310788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6469920" y="3144240"/>
                <a:ext cx="72720" cy="72720"/>
                <a:chOff x="6469920" y="3144240"/>
                <a:chExt cx="7272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469920" y="3144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469920" y="31442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6525360" y="3180600"/>
                <a:ext cx="72720" cy="91800"/>
                <a:chOff x="6525360" y="3180600"/>
                <a:chExt cx="72720" cy="9180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6525360" y="31806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525360" y="318060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6579360" y="3217320"/>
                <a:ext cx="72720" cy="72720"/>
                <a:chOff x="6579360" y="3217320"/>
                <a:chExt cx="72720" cy="7272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6579360" y="3217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6579360" y="32173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1" name=""/>
            <p:cNvSpPr/>
            <p:nvPr/>
          </p:nvSpPr>
          <p:spPr>
            <a:xfrm>
              <a:off x="5887800" y="279864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48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5468760" y="3363840"/>
              <a:ext cx="747000" cy="545400"/>
              <a:chOff x="5468760" y="3363840"/>
              <a:chExt cx="747000" cy="545400"/>
            </a:xfrm>
          </p:grpSpPr>
          <p:grpSp>
            <p:nvGrpSpPr>
              <p:cNvPr id="1333" name=""/>
              <p:cNvGrpSpPr/>
              <p:nvPr/>
            </p:nvGrpSpPr>
            <p:grpSpPr>
              <a:xfrm>
                <a:off x="5468760" y="3363840"/>
                <a:ext cx="72360" cy="72360"/>
                <a:chOff x="5468760" y="3363840"/>
                <a:chExt cx="72360" cy="7236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5468760" y="336384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5468760" y="33638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5504760" y="3399840"/>
                <a:ext cx="91800" cy="72720"/>
                <a:chOff x="5504760" y="3399840"/>
                <a:chExt cx="91800" cy="7272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5504760" y="339984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5504760" y="339984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5560200" y="3436200"/>
                <a:ext cx="90360" cy="72720"/>
                <a:chOff x="5560200" y="3436200"/>
                <a:chExt cx="90360" cy="7272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5560200" y="34362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5560200" y="34362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5614200" y="3472920"/>
                <a:ext cx="91800" cy="72720"/>
                <a:chOff x="5614200" y="3472920"/>
                <a:chExt cx="91800" cy="7272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5614200" y="34729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5614200" y="347292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5670000" y="3509280"/>
                <a:ext cx="70920" cy="72720"/>
                <a:chOff x="5670000" y="3509280"/>
                <a:chExt cx="70920" cy="727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5670000" y="350928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5670000" y="3509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5724000" y="3546000"/>
                <a:ext cx="72360" cy="72720"/>
                <a:chOff x="5724000" y="3546000"/>
                <a:chExt cx="72360" cy="7272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5724000" y="35460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724000" y="3546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"/>
              <p:cNvGrpSpPr/>
              <p:nvPr/>
            </p:nvGrpSpPr>
            <p:grpSpPr>
              <a:xfrm>
                <a:off x="5777640" y="3582360"/>
                <a:ext cx="72720" cy="72720"/>
                <a:chOff x="5777640" y="3582360"/>
                <a:chExt cx="72720" cy="72720"/>
              </a:xfrm>
            </p:grpSpPr>
            <p:sp>
              <p:nvSpPr>
                <p:cNvPr id="1352" name=""/>
                <p:cNvSpPr/>
                <p:nvPr/>
              </p:nvSpPr>
              <p:spPr>
                <a:xfrm>
                  <a:off x="5777640" y="3582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5777640" y="35823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4" name=""/>
              <p:cNvGrpSpPr/>
              <p:nvPr/>
            </p:nvGrpSpPr>
            <p:grpSpPr>
              <a:xfrm>
                <a:off x="5833440" y="3619080"/>
                <a:ext cx="72720" cy="72360"/>
                <a:chOff x="5833440" y="3619080"/>
                <a:chExt cx="72720" cy="7236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5833440" y="36190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833440" y="3619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7" name=""/>
              <p:cNvGrpSpPr/>
              <p:nvPr/>
            </p:nvGrpSpPr>
            <p:grpSpPr>
              <a:xfrm>
                <a:off x="5869800" y="3655440"/>
                <a:ext cx="90360" cy="72720"/>
                <a:chOff x="5869800" y="3655440"/>
                <a:chExt cx="90360" cy="72720"/>
              </a:xfrm>
            </p:grpSpPr>
            <p:sp>
              <p:nvSpPr>
                <p:cNvPr id="1358" name=""/>
                <p:cNvSpPr/>
                <p:nvPr/>
              </p:nvSpPr>
              <p:spPr>
                <a:xfrm>
                  <a:off x="5869800" y="365544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869800" y="36554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0" name=""/>
              <p:cNvGrpSpPr/>
              <p:nvPr/>
            </p:nvGrpSpPr>
            <p:grpSpPr>
              <a:xfrm>
                <a:off x="5923800" y="3691800"/>
                <a:ext cx="91800" cy="72720"/>
                <a:chOff x="5923800" y="3691800"/>
                <a:chExt cx="91800" cy="7272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5923800" y="369180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5923800" y="369180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3" name=""/>
              <p:cNvGrpSpPr/>
              <p:nvPr/>
            </p:nvGrpSpPr>
            <p:grpSpPr>
              <a:xfrm>
                <a:off x="5979600" y="3728520"/>
                <a:ext cx="90000" cy="72720"/>
                <a:chOff x="5979600" y="3728520"/>
                <a:chExt cx="90000" cy="7272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5979600" y="37285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979600" y="372852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6" name=""/>
              <p:cNvGrpSpPr/>
              <p:nvPr/>
            </p:nvGrpSpPr>
            <p:grpSpPr>
              <a:xfrm>
                <a:off x="6033240" y="3764880"/>
                <a:ext cx="72720" cy="72720"/>
                <a:chOff x="6033240" y="3764880"/>
                <a:chExt cx="72720" cy="727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6033240" y="3764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6033240" y="37648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6087240" y="3801600"/>
                <a:ext cx="72720" cy="72360"/>
                <a:chOff x="6087240" y="3801600"/>
                <a:chExt cx="72720" cy="723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087240" y="380160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087240" y="38016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6143040" y="3837960"/>
                <a:ext cx="72720" cy="71280"/>
                <a:chOff x="6143040" y="3837960"/>
                <a:chExt cx="72720" cy="7128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6143040" y="383796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143040" y="3837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5" name=""/>
            <p:cNvSpPr/>
            <p:nvPr/>
          </p:nvSpPr>
          <p:spPr>
            <a:xfrm>
              <a:off x="5451120" y="341748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5633640" y="3127320"/>
              <a:ext cx="745560" cy="545040"/>
              <a:chOff x="5633640" y="3127320"/>
              <a:chExt cx="745560" cy="54504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5633640" y="3127320"/>
                <a:ext cx="72720" cy="90000"/>
                <a:chOff x="5633640" y="3127320"/>
                <a:chExt cx="72720" cy="9000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5633640" y="312732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1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633640" y="3127320"/>
                  <a:ext cx="36360" cy="532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5670000" y="3163320"/>
                <a:ext cx="90000" cy="90000"/>
                <a:chOff x="5670000" y="3163320"/>
                <a:chExt cx="90000" cy="9000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670000" y="316332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670000" y="316332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5724000" y="3199680"/>
                <a:ext cx="90000" cy="90360"/>
                <a:chOff x="5724000" y="3199680"/>
                <a:chExt cx="90000" cy="9036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5724000" y="319968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724000" y="319968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5777640" y="3236400"/>
                <a:ext cx="72720" cy="90000"/>
                <a:chOff x="5777640" y="3236400"/>
                <a:chExt cx="72720" cy="9000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5777640" y="32364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5777640" y="32364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5833440" y="3272760"/>
                <a:ext cx="72720" cy="90360"/>
                <a:chOff x="5833440" y="3272760"/>
                <a:chExt cx="72720" cy="9036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5833440" y="327276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5833440" y="327276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5887440" y="3309480"/>
                <a:ext cx="72720" cy="90000"/>
                <a:chOff x="5887440" y="3309480"/>
                <a:chExt cx="72720" cy="9000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5887440" y="3309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887440" y="33094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5942880" y="3344400"/>
                <a:ext cx="72720" cy="91440"/>
                <a:chOff x="5942880" y="3344400"/>
                <a:chExt cx="72720" cy="9144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5942880" y="334440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942880" y="33444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5996880" y="3380760"/>
                <a:ext cx="72720" cy="91800"/>
                <a:chOff x="5996880" y="3380760"/>
                <a:chExt cx="72720" cy="9180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5996880" y="33807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5996880" y="33807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6033240" y="3417120"/>
                <a:ext cx="90360" cy="91800"/>
                <a:chOff x="6033240" y="3417120"/>
                <a:chExt cx="90360" cy="9180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6033240" y="3417120"/>
                  <a:ext cx="9036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033240" y="341712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6087240" y="3453840"/>
                <a:ext cx="91800" cy="91800"/>
                <a:chOff x="6087240" y="3453840"/>
                <a:chExt cx="91800" cy="9180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087240" y="345384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087240" y="3453840"/>
                  <a:ext cx="554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6143040" y="3490200"/>
                <a:ext cx="72720" cy="91800"/>
                <a:chOff x="6143040" y="3490200"/>
                <a:chExt cx="72720" cy="9180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6143040" y="34902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6143040" y="349020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6197040" y="3526920"/>
                <a:ext cx="72360" cy="72720"/>
                <a:chOff x="6197040" y="3526920"/>
                <a:chExt cx="72360" cy="7272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6197040" y="352692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197040" y="3526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3" name=""/>
              <p:cNvGrpSpPr/>
              <p:nvPr/>
            </p:nvGrpSpPr>
            <p:grpSpPr>
              <a:xfrm>
                <a:off x="6252480" y="3563280"/>
                <a:ext cx="72720" cy="91800"/>
                <a:chOff x="6252480" y="3563280"/>
                <a:chExt cx="72720" cy="9180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6252480" y="35632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6252480" y="356328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6306480" y="3600000"/>
                <a:ext cx="72720" cy="72360"/>
                <a:chOff x="6306480" y="3600000"/>
                <a:chExt cx="72720" cy="7236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6306480" y="360000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6306480" y="3600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9" name=""/>
            <p:cNvSpPr/>
            <p:nvPr/>
          </p:nvSpPr>
          <p:spPr>
            <a:xfrm>
              <a:off x="5614560" y="318096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5687640" y="3054240"/>
              <a:ext cx="745560" cy="545400"/>
              <a:chOff x="5687640" y="3054240"/>
              <a:chExt cx="745560" cy="545400"/>
            </a:xfrm>
          </p:grpSpPr>
          <p:grpSp>
            <p:nvGrpSpPr>
              <p:cNvPr id="1421" name=""/>
              <p:cNvGrpSpPr/>
              <p:nvPr/>
            </p:nvGrpSpPr>
            <p:grpSpPr>
              <a:xfrm>
                <a:off x="5687640" y="3054240"/>
                <a:ext cx="72720" cy="90000"/>
                <a:chOff x="5687640" y="3054240"/>
                <a:chExt cx="72720" cy="9000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5687640" y="305424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687640" y="305424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5724000" y="3090240"/>
                <a:ext cx="90000" cy="90000"/>
                <a:chOff x="5724000" y="3090240"/>
                <a:chExt cx="90000" cy="9000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5724000" y="309024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724000" y="309024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5777640" y="3126960"/>
                <a:ext cx="91800" cy="90000"/>
                <a:chOff x="5777640" y="3126960"/>
                <a:chExt cx="91800" cy="9000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5777640" y="312696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5777640" y="3126960"/>
                  <a:ext cx="5544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5833440" y="3163320"/>
                <a:ext cx="72720" cy="90000"/>
                <a:chOff x="5833440" y="3163320"/>
                <a:chExt cx="72720" cy="9000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5833440" y="316332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5833440" y="31633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5887440" y="3199680"/>
                <a:ext cx="72720" cy="72720"/>
                <a:chOff x="5887440" y="3199680"/>
                <a:chExt cx="72720" cy="7272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5887440" y="3199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5887440" y="31996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5942880" y="3236400"/>
                <a:ext cx="72720" cy="72720"/>
                <a:chOff x="5942880" y="3236400"/>
                <a:chExt cx="72720" cy="7272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5942880" y="3236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5942880" y="3236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5996880" y="3272760"/>
                <a:ext cx="72720" cy="71280"/>
                <a:chOff x="5996880" y="3272760"/>
                <a:chExt cx="72720" cy="712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5996880" y="327276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996880" y="32727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6050880" y="3309480"/>
                <a:ext cx="72720" cy="70920"/>
                <a:chOff x="6050880" y="3309480"/>
                <a:chExt cx="72720" cy="70920"/>
              </a:xfrm>
            </p:grpSpPr>
            <p:sp>
              <p:nvSpPr>
                <p:cNvPr id="1443" name=""/>
                <p:cNvSpPr/>
                <p:nvPr/>
              </p:nvSpPr>
              <p:spPr>
                <a:xfrm>
                  <a:off x="6050880" y="330948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6050880" y="330948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6087240" y="3344400"/>
                <a:ext cx="91800" cy="72360"/>
                <a:chOff x="6087240" y="3344400"/>
                <a:chExt cx="91800" cy="7236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6087240" y="334440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6087240" y="334440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8" name=""/>
              <p:cNvGrpSpPr/>
              <p:nvPr/>
            </p:nvGrpSpPr>
            <p:grpSpPr>
              <a:xfrm>
                <a:off x="6143040" y="3380760"/>
                <a:ext cx="90000" cy="72720"/>
                <a:chOff x="6143040" y="3380760"/>
                <a:chExt cx="90000" cy="7272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6143040" y="33807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143040" y="33807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6197040" y="3417120"/>
                <a:ext cx="72360" cy="72720"/>
                <a:chOff x="6197040" y="3417120"/>
                <a:chExt cx="72360" cy="7272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6197040" y="341712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197040" y="34171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6252480" y="3453840"/>
                <a:ext cx="72720" cy="72720"/>
                <a:chOff x="6252480" y="3453840"/>
                <a:chExt cx="72720" cy="7272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6252480" y="3453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252480" y="34538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6306480" y="3490200"/>
                <a:ext cx="72720" cy="72720"/>
                <a:chOff x="6306480" y="3490200"/>
                <a:chExt cx="72720" cy="7272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6306480" y="34902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306480" y="34902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0" name=""/>
              <p:cNvGrpSpPr/>
              <p:nvPr/>
            </p:nvGrpSpPr>
            <p:grpSpPr>
              <a:xfrm>
                <a:off x="6360480" y="3526920"/>
                <a:ext cx="72720" cy="72720"/>
                <a:chOff x="6360480" y="3526920"/>
                <a:chExt cx="72720" cy="72720"/>
              </a:xfrm>
            </p:grpSpPr>
            <p:sp>
              <p:nvSpPr>
                <p:cNvPr id="1461" name=""/>
                <p:cNvSpPr/>
                <p:nvPr/>
              </p:nvSpPr>
              <p:spPr>
                <a:xfrm>
                  <a:off x="6360480" y="3526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360480" y="3526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3" name=""/>
            <p:cNvSpPr/>
            <p:nvPr/>
          </p:nvSpPr>
          <p:spPr>
            <a:xfrm>
              <a:off x="5670360" y="3108240"/>
              <a:ext cx="745560" cy="56448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8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5288040" y="2617920"/>
            <a:ext cx="1473840" cy="1602720"/>
            <a:chOff x="5288040" y="2617920"/>
            <a:chExt cx="1473840" cy="1602720"/>
          </a:xfrm>
        </p:grpSpPr>
        <p:grpSp>
          <p:nvGrpSpPr>
            <p:cNvPr id="1465" name=""/>
            <p:cNvGrpSpPr/>
            <p:nvPr/>
          </p:nvGrpSpPr>
          <p:grpSpPr>
            <a:xfrm>
              <a:off x="5305320" y="3601800"/>
              <a:ext cx="745200" cy="545400"/>
              <a:chOff x="5305320" y="3601800"/>
              <a:chExt cx="745200" cy="545400"/>
            </a:xfrm>
          </p:grpSpPr>
          <p:grpSp>
            <p:nvGrpSpPr>
              <p:cNvPr id="1466" name=""/>
              <p:cNvGrpSpPr/>
              <p:nvPr/>
            </p:nvGrpSpPr>
            <p:grpSpPr>
              <a:xfrm>
                <a:off x="5305320" y="3601800"/>
                <a:ext cx="72360" cy="90000"/>
                <a:chOff x="5305320" y="3601800"/>
                <a:chExt cx="72360" cy="9000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5305320" y="3601800"/>
                  <a:ext cx="7236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5305320" y="360180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5358600" y="3638160"/>
                <a:ext cx="72720" cy="90000"/>
                <a:chOff x="5358600" y="3638160"/>
                <a:chExt cx="72720" cy="9000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5358600" y="363816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5358600" y="3638160"/>
                  <a:ext cx="36360" cy="532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5414400" y="3674520"/>
                <a:ext cx="72720" cy="90000"/>
                <a:chOff x="5414400" y="3674520"/>
                <a:chExt cx="72720" cy="9000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5414400" y="367452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5414400" y="36745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5468400" y="3710880"/>
                <a:ext cx="72720" cy="90360"/>
                <a:chOff x="5468400" y="3710880"/>
                <a:chExt cx="72720" cy="9036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5468400" y="371088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468400" y="37108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5504760" y="3747600"/>
                <a:ext cx="91800" cy="90000"/>
                <a:chOff x="5504760" y="3747600"/>
                <a:chExt cx="91800" cy="9000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5504760" y="374760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5504760" y="3747600"/>
                  <a:ext cx="554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5560560" y="3783960"/>
                <a:ext cx="90000" cy="72720"/>
                <a:chOff x="5560560" y="3783960"/>
                <a:chExt cx="90000" cy="7272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5560560" y="37839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5560560" y="3783960"/>
                  <a:ext cx="532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5614200" y="3820680"/>
                <a:ext cx="72720" cy="72360"/>
                <a:chOff x="5614200" y="3820680"/>
                <a:chExt cx="72720" cy="7236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5614200" y="38206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5614200" y="38206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5668200" y="3857040"/>
                <a:ext cx="72720" cy="71280"/>
                <a:chOff x="5668200" y="3857040"/>
                <a:chExt cx="72720" cy="7128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5668200" y="385704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5668200" y="38570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5724000" y="3893400"/>
                <a:ext cx="72720" cy="71280"/>
                <a:chOff x="5724000" y="3893400"/>
                <a:chExt cx="72720" cy="7128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5724000" y="389340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724000" y="3893400"/>
                  <a:ext cx="36000" cy="3492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5778000" y="3928680"/>
                <a:ext cx="72720" cy="72360"/>
                <a:chOff x="5778000" y="3928680"/>
                <a:chExt cx="72720" cy="7236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5778000" y="39286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5778000" y="39286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5833440" y="3965040"/>
                <a:ext cx="72720" cy="91800"/>
                <a:chOff x="5833440" y="3965040"/>
                <a:chExt cx="72720" cy="9180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5833440" y="39650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5833440" y="396504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5869800" y="4001400"/>
                <a:ext cx="90360" cy="72720"/>
                <a:chOff x="5869800" y="4001400"/>
                <a:chExt cx="90360" cy="727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5869800" y="40014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5869800" y="40014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5923800" y="4038120"/>
                <a:ext cx="90360" cy="72720"/>
                <a:chOff x="5923800" y="4038120"/>
                <a:chExt cx="90360" cy="727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5923800" y="403812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5923800" y="40381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5977800" y="4074480"/>
                <a:ext cx="72720" cy="72720"/>
                <a:chOff x="5977800" y="4074480"/>
                <a:chExt cx="72720" cy="7272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5977800" y="4074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5977800" y="40744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8" name=""/>
            <p:cNvSpPr/>
            <p:nvPr/>
          </p:nvSpPr>
          <p:spPr>
            <a:xfrm>
              <a:off x="5288040" y="3655800"/>
              <a:ext cx="763200" cy="564840"/>
            </a:xfrm>
            <a:custGeom>
              <a:avLst/>
              <a:gdLst/>
              <a:ahLst/>
              <a:rect l="l" t="t" r="r" b="b"/>
              <a:pathLst>
                <a:path w="481" h="356">
                  <a:moveTo>
                    <a:pt x="458" y="356"/>
                  </a:moveTo>
                  <a:lnTo>
                    <a:pt x="48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9" name=""/>
            <p:cNvGrpSpPr/>
            <p:nvPr/>
          </p:nvGrpSpPr>
          <p:grpSpPr>
            <a:xfrm>
              <a:off x="5741640" y="3000240"/>
              <a:ext cx="747000" cy="545400"/>
              <a:chOff x="5741640" y="3000240"/>
              <a:chExt cx="747000" cy="545400"/>
            </a:xfrm>
          </p:grpSpPr>
          <p:grpSp>
            <p:nvGrpSpPr>
              <p:cNvPr id="1510" name=""/>
              <p:cNvGrpSpPr/>
              <p:nvPr/>
            </p:nvGrpSpPr>
            <p:grpSpPr>
              <a:xfrm>
                <a:off x="5741640" y="3000240"/>
                <a:ext cx="72720" cy="72720"/>
                <a:chOff x="5741640" y="3000240"/>
                <a:chExt cx="72720" cy="72720"/>
              </a:xfrm>
            </p:grpSpPr>
            <p:sp>
              <p:nvSpPr>
                <p:cNvPr id="1511" name=""/>
                <p:cNvSpPr/>
                <p:nvPr/>
              </p:nvSpPr>
              <p:spPr>
                <a:xfrm>
                  <a:off x="5741640" y="3000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5741640" y="30002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3" name=""/>
              <p:cNvGrpSpPr/>
              <p:nvPr/>
            </p:nvGrpSpPr>
            <p:grpSpPr>
              <a:xfrm>
                <a:off x="5797080" y="3036240"/>
                <a:ext cx="72360" cy="72720"/>
                <a:chOff x="5797080" y="3036240"/>
                <a:chExt cx="72360" cy="7272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5797080" y="303624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5797080" y="30362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6" name=""/>
              <p:cNvGrpSpPr/>
              <p:nvPr/>
            </p:nvGrpSpPr>
            <p:grpSpPr>
              <a:xfrm>
                <a:off x="5851080" y="3072960"/>
                <a:ext cx="72360" cy="72720"/>
                <a:chOff x="5851080" y="3072960"/>
                <a:chExt cx="72360" cy="72720"/>
              </a:xfrm>
            </p:grpSpPr>
            <p:sp>
              <p:nvSpPr>
                <p:cNvPr id="1517" name=""/>
                <p:cNvSpPr/>
                <p:nvPr/>
              </p:nvSpPr>
              <p:spPr>
                <a:xfrm>
                  <a:off x="5851080" y="30729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5851080" y="3072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"/>
              <p:cNvGrpSpPr/>
              <p:nvPr/>
            </p:nvGrpSpPr>
            <p:grpSpPr>
              <a:xfrm>
                <a:off x="5887440" y="3109320"/>
                <a:ext cx="90000" cy="72720"/>
                <a:chOff x="5887440" y="3109320"/>
                <a:chExt cx="90000" cy="72720"/>
              </a:xfrm>
            </p:grpSpPr>
            <p:sp>
              <p:nvSpPr>
                <p:cNvPr id="1520" name=""/>
                <p:cNvSpPr/>
                <p:nvPr/>
              </p:nvSpPr>
              <p:spPr>
                <a:xfrm>
                  <a:off x="5887440" y="31093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5887440" y="310932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2" name=""/>
              <p:cNvGrpSpPr/>
              <p:nvPr/>
            </p:nvGrpSpPr>
            <p:grpSpPr>
              <a:xfrm>
                <a:off x="5942880" y="3146040"/>
                <a:ext cx="90360" cy="72360"/>
                <a:chOff x="5942880" y="3146040"/>
                <a:chExt cx="90360" cy="72360"/>
              </a:xfrm>
            </p:grpSpPr>
            <p:sp>
              <p:nvSpPr>
                <p:cNvPr id="1523" name=""/>
                <p:cNvSpPr/>
                <p:nvPr/>
              </p:nvSpPr>
              <p:spPr>
                <a:xfrm>
                  <a:off x="5942880" y="3146040"/>
                  <a:ext cx="9036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5942880" y="31460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5" name=""/>
              <p:cNvGrpSpPr/>
              <p:nvPr/>
            </p:nvGrpSpPr>
            <p:grpSpPr>
              <a:xfrm>
                <a:off x="5996880" y="3182400"/>
                <a:ext cx="72720" cy="72720"/>
                <a:chOff x="5996880" y="3182400"/>
                <a:chExt cx="72720" cy="7272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5996880" y="3182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5996880" y="3182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"/>
              <p:cNvGrpSpPr/>
              <p:nvPr/>
            </p:nvGrpSpPr>
            <p:grpSpPr>
              <a:xfrm>
                <a:off x="6050880" y="3218760"/>
                <a:ext cx="72720" cy="72720"/>
                <a:chOff x="6050880" y="3218760"/>
                <a:chExt cx="72720" cy="7272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6050880" y="32187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6050880" y="32187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1" name=""/>
              <p:cNvGrpSpPr/>
              <p:nvPr/>
            </p:nvGrpSpPr>
            <p:grpSpPr>
              <a:xfrm>
                <a:off x="6106320" y="3255480"/>
                <a:ext cx="72720" cy="72720"/>
                <a:chOff x="6106320" y="3255480"/>
                <a:chExt cx="72720" cy="7272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6106320" y="3255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6106320" y="32554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6160320" y="3291840"/>
                <a:ext cx="72720" cy="71280"/>
                <a:chOff x="6160320" y="3291840"/>
                <a:chExt cx="72720" cy="7128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6160320" y="329184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6160320" y="32918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6216120" y="3328560"/>
                <a:ext cx="70920" cy="70920"/>
                <a:chOff x="6216120" y="3328560"/>
                <a:chExt cx="70920" cy="70920"/>
              </a:xfrm>
            </p:grpSpPr>
            <p:sp>
              <p:nvSpPr>
                <p:cNvPr id="1538" name=""/>
                <p:cNvSpPr/>
                <p:nvPr/>
              </p:nvSpPr>
              <p:spPr>
                <a:xfrm>
                  <a:off x="6216120" y="3328560"/>
                  <a:ext cx="709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6216120" y="332856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0" name=""/>
              <p:cNvGrpSpPr/>
              <p:nvPr/>
            </p:nvGrpSpPr>
            <p:grpSpPr>
              <a:xfrm>
                <a:off x="6252480" y="3345840"/>
                <a:ext cx="90360" cy="90000"/>
                <a:chOff x="6252480" y="3345840"/>
                <a:chExt cx="90360" cy="90000"/>
              </a:xfrm>
            </p:grpSpPr>
            <p:sp>
              <p:nvSpPr>
                <p:cNvPr id="1541" name=""/>
                <p:cNvSpPr/>
                <p:nvPr/>
              </p:nvSpPr>
              <p:spPr>
                <a:xfrm>
                  <a:off x="6252480" y="3345840"/>
                  <a:ext cx="9036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5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6252480" y="334584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3" name=""/>
              <p:cNvGrpSpPr/>
              <p:nvPr/>
            </p:nvGrpSpPr>
            <p:grpSpPr>
              <a:xfrm>
                <a:off x="6306480" y="3382560"/>
                <a:ext cx="90000" cy="90000"/>
                <a:chOff x="6306480" y="3382560"/>
                <a:chExt cx="90000" cy="90000"/>
              </a:xfrm>
            </p:grpSpPr>
            <p:sp>
              <p:nvSpPr>
                <p:cNvPr id="1544" name=""/>
                <p:cNvSpPr/>
                <p:nvPr/>
              </p:nvSpPr>
              <p:spPr>
                <a:xfrm>
                  <a:off x="6306480" y="338256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306480" y="3382560"/>
                  <a:ext cx="5364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6" name=""/>
              <p:cNvGrpSpPr/>
              <p:nvPr/>
            </p:nvGrpSpPr>
            <p:grpSpPr>
              <a:xfrm>
                <a:off x="6360480" y="3418920"/>
                <a:ext cx="72720" cy="90000"/>
                <a:chOff x="6360480" y="3418920"/>
                <a:chExt cx="72720" cy="90000"/>
              </a:xfrm>
            </p:grpSpPr>
            <p:sp>
              <p:nvSpPr>
                <p:cNvPr id="1547" name=""/>
                <p:cNvSpPr/>
                <p:nvPr/>
              </p:nvSpPr>
              <p:spPr>
                <a:xfrm>
                  <a:off x="6360480" y="341892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6360480" y="34189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6415920" y="3455280"/>
                <a:ext cx="72720" cy="90360"/>
                <a:chOff x="6415920" y="3455280"/>
                <a:chExt cx="72720" cy="9036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6415920" y="345528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415920" y="345528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2" name=""/>
            <p:cNvSpPr/>
            <p:nvPr/>
          </p:nvSpPr>
          <p:spPr>
            <a:xfrm>
              <a:off x="5724360" y="3036600"/>
              <a:ext cx="764640" cy="582480"/>
            </a:xfrm>
            <a:custGeom>
              <a:avLst/>
              <a:gdLst/>
              <a:ahLst/>
              <a:rect l="l" t="t" r="r" b="b"/>
              <a:pathLst>
                <a:path w="482" h="367">
                  <a:moveTo>
                    <a:pt x="459" y="367"/>
                  </a:moveTo>
                  <a:lnTo>
                    <a:pt x="482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3" name=""/>
            <p:cNvGrpSpPr/>
            <p:nvPr/>
          </p:nvGrpSpPr>
          <p:grpSpPr>
            <a:xfrm>
              <a:off x="5797440" y="2927160"/>
              <a:ext cx="745200" cy="527760"/>
              <a:chOff x="5797440" y="2927160"/>
              <a:chExt cx="745200" cy="527760"/>
            </a:xfrm>
          </p:grpSpPr>
          <p:grpSp>
            <p:nvGrpSpPr>
              <p:cNvPr id="1554" name=""/>
              <p:cNvGrpSpPr/>
              <p:nvPr/>
            </p:nvGrpSpPr>
            <p:grpSpPr>
              <a:xfrm>
                <a:off x="5797440" y="2927160"/>
                <a:ext cx="72360" cy="72720"/>
                <a:chOff x="5797440" y="2927160"/>
                <a:chExt cx="72360" cy="7272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5797440" y="29271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797440" y="2927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7" name=""/>
              <p:cNvGrpSpPr/>
              <p:nvPr/>
            </p:nvGrpSpPr>
            <p:grpSpPr>
              <a:xfrm>
                <a:off x="5851080" y="2944080"/>
                <a:ext cx="72360" cy="91800"/>
                <a:chOff x="5851080" y="2944080"/>
                <a:chExt cx="72360" cy="91800"/>
              </a:xfrm>
            </p:grpSpPr>
            <p:sp>
              <p:nvSpPr>
                <p:cNvPr id="1558" name=""/>
                <p:cNvSpPr/>
                <p:nvPr/>
              </p:nvSpPr>
              <p:spPr>
                <a:xfrm>
                  <a:off x="5851080" y="294408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851080" y="294408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5906520" y="2999880"/>
                <a:ext cx="70920" cy="72720"/>
                <a:chOff x="5906520" y="2999880"/>
                <a:chExt cx="70920" cy="7272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5906520" y="299988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5906520" y="29998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3" name=""/>
              <p:cNvGrpSpPr/>
              <p:nvPr/>
            </p:nvGrpSpPr>
            <p:grpSpPr>
              <a:xfrm>
                <a:off x="5942880" y="3017160"/>
                <a:ext cx="90360" cy="91800"/>
                <a:chOff x="5942880" y="3017160"/>
                <a:chExt cx="90360" cy="9180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5942880" y="3017160"/>
                  <a:ext cx="9036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5942880" y="301716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5996880" y="3053880"/>
                <a:ext cx="72720" cy="91800"/>
                <a:chOff x="5996880" y="3053880"/>
                <a:chExt cx="72720" cy="9180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5996880" y="30538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5996880" y="305388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6050880" y="3090240"/>
                <a:ext cx="72720" cy="91800"/>
                <a:chOff x="6050880" y="3090240"/>
                <a:chExt cx="72720" cy="9180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6050880" y="30902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050880" y="30902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6106320" y="3126960"/>
                <a:ext cx="72720" cy="91440"/>
                <a:chOff x="6106320" y="3126960"/>
                <a:chExt cx="72720" cy="9144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6106320" y="31269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106320" y="31269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6160320" y="3163320"/>
                <a:ext cx="72720" cy="91800"/>
                <a:chOff x="6160320" y="3163320"/>
                <a:chExt cx="72720" cy="9180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6160320" y="31633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160320" y="316332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6216120" y="3199680"/>
                <a:ext cx="70920" cy="91800"/>
                <a:chOff x="6216120" y="3199680"/>
                <a:chExt cx="70920" cy="9180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6216120" y="319968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216120" y="319968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6270120" y="3236400"/>
                <a:ext cx="72720" cy="91800"/>
                <a:chOff x="6270120" y="3236400"/>
                <a:chExt cx="72720" cy="9180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6270120" y="32364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1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270120" y="323640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6306480" y="3272760"/>
                <a:ext cx="90000" cy="90360"/>
                <a:chOff x="6306480" y="3272760"/>
                <a:chExt cx="90000" cy="9036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6306480" y="327276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306480" y="327276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6360480" y="3309480"/>
                <a:ext cx="72720" cy="90000"/>
                <a:chOff x="6360480" y="3309480"/>
                <a:chExt cx="72720" cy="9000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6360480" y="3309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360480" y="33094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6415920" y="3345840"/>
                <a:ext cx="72720" cy="90000"/>
                <a:chOff x="6415920" y="3345840"/>
                <a:chExt cx="72720" cy="9000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6415920" y="334584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6415920" y="334584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6469920" y="3382560"/>
                <a:ext cx="72720" cy="72360"/>
                <a:chOff x="6469920" y="3382560"/>
                <a:chExt cx="72720" cy="7236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6469920" y="33825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6469920" y="3382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6" name=""/>
            <p:cNvSpPr/>
            <p:nvPr/>
          </p:nvSpPr>
          <p:spPr>
            <a:xfrm>
              <a:off x="5778360" y="2963520"/>
              <a:ext cx="764640" cy="564840"/>
            </a:xfrm>
            <a:custGeom>
              <a:avLst/>
              <a:gdLst/>
              <a:ahLst/>
              <a:rect l="l" t="t" r="r" b="b"/>
              <a:pathLst>
                <a:path w="482" h="356">
                  <a:moveTo>
                    <a:pt x="459" y="356"/>
                  </a:moveTo>
                  <a:lnTo>
                    <a:pt x="482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7" name=""/>
            <p:cNvGrpSpPr/>
            <p:nvPr/>
          </p:nvGrpSpPr>
          <p:grpSpPr>
            <a:xfrm>
              <a:off x="5960880" y="2690640"/>
              <a:ext cx="745200" cy="545400"/>
              <a:chOff x="5960880" y="2690640"/>
              <a:chExt cx="745200" cy="545400"/>
            </a:xfrm>
          </p:grpSpPr>
          <p:grpSp>
            <p:nvGrpSpPr>
              <p:cNvPr id="1598" name=""/>
              <p:cNvGrpSpPr/>
              <p:nvPr/>
            </p:nvGrpSpPr>
            <p:grpSpPr>
              <a:xfrm>
                <a:off x="5960880" y="2690640"/>
                <a:ext cx="72720" cy="70920"/>
                <a:chOff x="5960880" y="2690640"/>
                <a:chExt cx="72720" cy="70920"/>
              </a:xfrm>
            </p:grpSpPr>
            <p:sp>
              <p:nvSpPr>
                <p:cNvPr id="1599" name=""/>
                <p:cNvSpPr/>
                <p:nvPr/>
              </p:nvSpPr>
              <p:spPr>
                <a:xfrm>
                  <a:off x="5960880" y="269064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5960880" y="26906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6014520" y="2726640"/>
                <a:ext cx="72720" cy="71280"/>
                <a:chOff x="6014520" y="2726640"/>
                <a:chExt cx="72720" cy="71280"/>
              </a:xfrm>
            </p:grpSpPr>
            <p:sp>
              <p:nvSpPr>
                <p:cNvPr id="1602" name=""/>
                <p:cNvSpPr/>
                <p:nvPr/>
              </p:nvSpPr>
              <p:spPr>
                <a:xfrm>
                  <a:off x="6014520" y="272664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6014520" y="272664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4" name=""/>
              <p:cNvGrpSpPr/>
              <p:nvPr/>
            </p:nvGrpSpPr>
            <p:grpSpPr>
              <a:xfrm>
                <a:off x="6069960" y="2761560"/>
                <a:ext cx="72720" cy="72720"/>
                <a:chOff x="6069960" y="2761560"/>
                <a:chExt cx="72720" cy="7272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6069960" y="2761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6069960" y="27615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7" name=""/>
              <p:cNvGrpSpPr/>
              <p:nvPr/>
            </p:nvGrpSpPr>
            <p:grpSpPr>
              <a:xfrm>
                <a:off x="6106320" y="2798280"/>
                <a:ext cx="90360" cy="72720"/>
                <a:chOff x="6106320" y="2798280"/>
                <a:chExt cx="90360" cy="72720"/>
              </a:xfrm>
            </p:grpSpPr>
            <p:sp>
              <p:nvSpPr>
                <p:cNvPr id="1608" name=""/>
                <p:cNvSpPr/>
                <p:nvPr/>
              </p:nvSpPr>
              <p:spPr>
                <a:xfrm>
                  <a:off x="6106320" y="279828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6106320" y="279828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0" name=""/>
              <p:cNvGrpSpPr/>
              <p:nvPr/>
            </p:nvGrpSpPr>
            <p:grpSpPr>
              <a:xfrm>
                <a:off x="6160320" y="2834640"/>
                <a:ext cx="72720" cy="72720"/>
                <a:chOff x="6160320" y="2834640"/>
                <a:chExt cx="72720" cy="7272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6160320" y="28346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6160320" y="28346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3" name=""/>
              <p:cNvGrpSpPr/>
              <p:nvPr/>
            </p:nvGrpSpPr>
            <p:grpSpPr>
              <a:xfrm>
                <a:off x="6216120" y="2871360"/>
                <a:ext cx="70920" cy="72360"/>
                <a:chOff x="6216120" y="2871360"/>
                <a:chExt cx="70920" cy="72360"/>
              </a:xfrm>
            </p:grpSpPr>
            <p:sp>
              <p:nvSpPr>
                <p:cNvPr id="1614" name=""/>
                <p:cNvSpPr/>
                <p:nvPr/>
              </p:nvSpPr>
              <p:spPr>
                <a:xfrm>
                  <a:off x="6216120" y="287136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6216120" y="28713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6" name=""/>
              <p:cNvGrpSpPr/>
              <p:nvPr/>
            </p:nvGrpSpPr>
            <p:grpSpPr>
              <a:xfrm>
                <a:off x="6270120" y="2907720"/>
                <a:ext cx="72720" cy="72720"/>
                <a:chOff x="6270120" y="2907720"/>
                <a:chExt cx="72720" cy="72720"/>
              </a:xfrm>
            </p:grpSpPr>
            <p:sp>
              <p:nvSpPr>
                <p:cNvPr id="1617" name=""/>
                <p:cNvSpPr/>
                <p:nvPr/>
              </p:nvSpPr>
              <p:spPr>
                <a:xfrm>
                  <a:off x="6270120" y="2907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6270120" y="29077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9" name=""/>
              <p:cNvGrpSpPr/>
              <p:nvPr/>
            </p:nvGrpSpPr>
            <p:grpSpPr>
              <a:xfrm>
                <a:off x="6324120" y="2944080"/>
                <a:ext cx="72360" cy="72720"/>
                <a:chOff x="6324120" y="2944080"/>
                <a:chExt cx="72360" cy="72720"/>
              </a:xfrm>
            </p:grpSpPr>
            <p:sp>
              <p:nvSpPr>
                <p:cNvPr id="1620" name=""/>
                <p:cNvSpPr/>
                <p:nvPr/>
              </p:nvSpPr>
              <p:spPr>
                <a:xfrm>
                  <a:off x="6324120" y="29440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6324120" y="29440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2" name=""/>
              <p:cNvGrpSpPr/>
              <p:nvPr/>
            </p:nvGrpSpPr>
            <p:grpSpPr>
              <a:xfrm>
                <a:off x="6379560" y="2980800"/>
                <a:ext cx="72720" cy="72720"/>
                <a:chOff x="6379560" y="2980800"/>
                <a:chExt cx="72720" cy="72720"/>
              </a:xfrm>
            </p:grpSpPr>
            <p:sp>
              <p:nvSpPr>
                <p:cNvPr id="1623" name=""/>
                <p:cNvSpPr/>
                <p:nvPr/>
              </p:nvSpPr>
              <p:spPr>
                <a:xfrm>
                  <a:off x="6379560" y="2980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6379560" y="29808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6433560" y="3017160"/>
                <a:ext cx="72720" cy="72720"/>
                <a:chOff x="6433560" y="3017160"/>
                <a:chExt cx="72720" cy="7272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6433560" y="3017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6433560" y="30171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6469920" y="3053880"/>
                <a:ext cx="91800" cy="72720"/>
                <a:chOff x="6469920" y="3053880"/>
                <a:chExt cx="91800" cy="7272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6469920" y="30538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6469920" y="305388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1" name=""/>
              <p:cNvGrpSpPr/>
              <p:nvPr/>
            </p:nvGrpSpPr>
            <p:grpSpPr>
              <a:xfrm>
                <a:off x="6525720" y="3090240"/>
                <a:ext cx="70920" cy="72720"/>
                <a:chOff x="6525720" y="3090240"/>
                <a:chExt cx="70920" cy="72720"/>
              </a:xfrm>
            </p:grpSpPr>
            <p:sp>
              <p:nvSpPr>
                <p:cNvPr id="1632" name=""/>
                <p:cNvSpPr/>
                <p:nvPr/>
              </p:nvSpPr>
              <p:spPr>
                <a:xfrm>
                  <a:off x="6525720" y="30902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6525720" y="30902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4" name=""/>
              <p:cNvGrpSpPr/>
              <p:nvPr/>
            </p:nvGrpSpPr>
            <p:grpSpPr>
              <a:xfrm>
                <a:off x="6579720" y="3126960"/>
                <a:ext cx="72360" cy="72360"/>
                <a:chOff x="6579720" y="3126960"/>
                <a:chExt cx="72360" cy="7236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6579720" y="312696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6579720" y="3126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6633360" y="3163320"/>
                <a:ext cx="72720" cy="72720"/>
                <a:chOff x="6633360" y="3163320"/>
                <a:chExt cx="72720" cy="7272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6633360" y="3163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6633360" y="31633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0" name=""/>
            <p:cNvSpPr/>
            <p:nvPr/>
          </p:nvSpPr>
          <p:spPr>
            <a:xfrm>
              <a:off x="5943240" y="2727000"/>
              <a:ext cx="763200" cy="582480"/>
            </a:xfrm>
            <a:custGeom>
              <a:avLst/>
              <a:gdLst/>
              <a:ahLst/>
              <a:rect l="l" t="t" r="r" b="b"/>
              <a:pathLst>
                <a:path w="481" h="367">
                  <a:moveTo>
                    <a:pt x="458" y="367"/>
                  </a:moveTo>
                  <a:lnTo>
                    <a:pt x="48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1" name=""/>
            <p:cNvGrpSpPr/>
            <p:nvPr/>
          </p:nvGrpSpPr>
          <p:grpSpPr>
            <a:xfrm>
              <a:off x="5414760" y="3455640"/>
              <a:ext cx="745200" cy="545400"/>
              <a:chOff x="5414760" y="3455640"/>
              <a:chExt cx="745200" cy="545400"/>
            </a:xfrm>
          </p:grpSpPr>
          <p:grpSp>
            <p:nvGrpSpPr>
              <p:cNvPr id="1642" name=""/>
              <p:cNvGrpSpPr/>
              <p:nvPr/>
            </p:nvGrpSpPr>
            <p:grpSpPr>
              <a:xfrm>
                <a:off x="5414760" y="3455640"/>
                <a:ext cx="72720" cy="72720"/>
                <a:chOff x="5414760" y="3455640"/>
                <a:chExt cx="72720" cy="7272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5414760" y="34556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5414760" y="34556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5" name=""/>
              <p:cNvGrpSpPr/>
              <p:nvPr/>
            </p:nvGrpSpPr>
            <p:grpSpPr>
              <a:xfrm>
                <a:off x="5468400" y="3492000"/>
                <a:ext cx="72720" cy="72720"/>
                <a:chOff x="5468400" y="3492000"/>
                <a:chExt cx="72720" cy="7272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5468400" y="3492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5468400" y="3492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8" name=""/>
              <p:cNvGrpSpPr/>
              <p:nvPr/>
            </p:nvGrpSpPr>
            <p:grpSpPr>
              <a:xfrm>
                <a:off x="5523840" y="3528360"/>
                <a:ext cx="72720" cy="72720"/>
                <a:chOff x="5523840" y="3528360"/>
                <a:chExt cx="72720" cy="72720"/>
              </a:xfrm>
            </p:grpSpPr>
            <p:sp>
              <p:nvSpPr>
                <p:cNvPr id="1649" name=""/>
                <p:cNvSpPr/>
                <p:nvPr/>
              </p:nvSpPr>
              <p:spPr>
                <a:xfrm>
                  <a:off x="5523840" y="3528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5523840" y="35283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1" name=""/>
              <p:cNvGrpSpPr/>
              <p:nvPr/>
            </p:nvGrpSpPr>
            <p:grpSpPr>
              <a:xfrm>
                <a:off x="5577840" y="3565080"/>
                <a:ext cx="72720" cy="72720"/>
                <a:chOff x="5577840" y="3565080"/>
                <a:chExt cx="72720" cy="72720"/>
              </a:xfrm>
            </p:grpSpPr>
            <p:sp>
              <p:nvSpPr>
                <p:cNvPr id="1652" name=""/>
                <p:cNvSpPr/>
                <p:nvPr/>
              </p:nvSpPr>
              <p:spPr>
                <a:xfrm>
                  <a:off x="5577840" y="3565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5577840" y="3565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4" name=""/>
              <p:cNvGrpSpPr/>
              <p:nvPr/>
            </p:nvGrpSpPr>
            <p:grpSpPr>
              <a:xfrm>
                <a:off x="5614200" y="3601440"/>
                <a:ext cx="90360" cy="72720"/>
                <a:chOff x="5614200" y="3601440"/>
                <a:chExt cx="90360" cy="72720"/>
              </a:xfrm>
            </p:grpSpPr>
            <p:sp>
              <p:nvSpPr>
                <p:cNvPr id="1655" name=""/>
                <p:cNvSpPr/>
                <p:nvPr/>
              </p:nvSpPr>
              <p:spPr>
                <a:xfrm>
                  <a:off x="5614200" y="360144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5614200" y="36014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7" name=""/>
              <p:cNvGrpSpPr/>
              <p:nvPr/>
            </p:nvGrpSpPr>
            <p:grpSpPr>
              <a:xfrm>
                <a:off x="5668200" y="3638160"/>
                <a:ext cx="91800" cy="72360"/>
                <a:chOff x="5668200" y="3638160"/>
                <a:chExt cx="91800" cy="72360"/>
              </a:xfrm>
            </p:grpSpPr>
            <p:sp>
              <p:nvSpPr>
                <p:cNvPr id="1658" name=""/>
                <p:cNvSpPr/>
                <p:nvPr/>
              </p:nvSpPr>
              <p:spPr>
                <a:xfrm>
                  <a:off x="5668200" y="36381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5668200" y="363816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0" name=""/>
              <p:cNvGrpSpPr/>
              <p:nvPr/>
            </p:nvGrpSpPr>
            <p:grpSpPr>
              <a:xfrm>
                <a:off x="5724000" y="3674520"/>
                <a:ext cx="72720" cy="72720"/>
                <a:chOff x="5724000" y="3674520"/>
                <a:chExt cx="72720" cy="7272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5724000" y="3674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724000" y="36745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3" name=""/>
              <p:cNvGrpSpPr/>
              <p:nvPr/>
            </p:nvGrpSpPr>
            <p:grpSpPr>
              <a:xfrm>
                <a:off x="5778000" y="3710880"/>
                <a:ext cx="72720" cy="72720"/>
                <a:chOff x="5778000" y="3710880"/>
                <a:chExt cx="72720" cy="7272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5778000" y="3710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5778000" y="37108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6" name=""/>
              <p:cNvGrpSpPr/>
              <p:nvPr/>
            </p:nvGrpSpPr>
            <p:grpSpPr>
              <a:xfrm>
                <a:off x="5833440" y="3747600"/>
                <a:ext cx="72720" cy="72720"/>
                <a:chOff x="5833440" y="3747600"/>
                <a:chExt cx="72720" cy="72720"/>
              </a:xfrm>
            </p:grpSpPr>
            <p:sp>
              <p:nvSpPr>
                <p:cNvPr id="1667" name=""/>
                <p:cNvSpPr/>
                <p:nvPr/>
              </p:nvSpPr>
              <p:spPr>
                <a:xfrm>
                  <a:off x="5833440" y="37476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5833440" y="37476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9" name=""/>
              <p:cNvGrpSpPr/>
              <p:nvPr/>
            </p:nvGrpSpPr>
            <p:grpSpPr>
              <a:xfrm>
                <a:off x="5887440" y="3783960"/>
                <a:ext cx="72720" cy="72720"/>
                <a:chOff x="5887440" y="3783960"/>
                <a:chExt cx="72720" cy="72720"/>
              </a:xfrm>
            </p:grpSpPr>
            <p:sp>
              <p:nvSpPr>
                <p:cNvPr id="1670" name=""/>
                <p:cNvSpPr/>
                <p:nvPr/>
              </p:nvSpPr>
              <p:spPr>
                <a:xfrm>
                  <a:off x="5887440" y="3783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5887440" y="37839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2" name=""/>
              <p:cNvGrpSpPr/>
              <p:nvPr/>
            </p:nvGrpSpPr>
            <p:grpSpPr>
              <a:xfrm>
                <a:off x="5942880" y="3820680"/>
                <a:ext cx="71280" cy="72360"/>
                <a:chOff x="5942880" y="3820680"/>
                <a:chExt cx="71280" cy="7236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5942880" y="3820680"/>
                  <a:ext cx="7128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942880" y="382068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5977800" y="3857040"/>
                <a:ext cx="91800" cy="71280"/>
                <a:chOff x="5977800" y="3857040"/>
                <a:chExt cx="91800" cy="7128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5977800" y="3857040"/>
                  <a:ext cx="91800" cy="712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5977800" y="385704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6033600" y="3893400"/>
                <a:ext cx="90000" cy="71280"/>
                <a:chOff x="6033600" y="3893400"/>
                <a:chExt cx="90000" cy="7128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6033600" y="3893400"/>
                  <a:ext cx="90000" cy="712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6033600" y="3893400"/>
                  <a:ext cx="53640" cy="349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1" name=""/>
              <p:cNvGrpSpPr/>
              <p:nvPr/>
            </p:nvGrpSpPr>
            <p:grpSpPr>
              <a:xfrm>
                <a:off x="6087600" y="3928680"/>
                <a:ext cx="72360" cy="72360"/>
                <a:chOff x="6087600" y="3928680"/>
                <a:chExt cx="72360" cy="7236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6087600" y="392868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6087600" y="39286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4" name=""/>
            <p:cNvSpPr/>
            <p:nvPr/>
          </p:nvSpPr>
          <p:spPr>
            <a:xfrm>
              <a:off x="5395680" y="3509640"/>
              <a:ext cx="764640" cy="564840"/>
            </a:xfrm>
            <a:custGeom>
              <a:avLst/>
              <a:gdLst/>
              <a:ahLst/>
              <a:rect l="l" t="t" r="r" b="b"/>
              <a:pathLst>
                <a:path w="482" h="356">
                  <a:moveTo>
                    <a:pt x="459" y="356"/>
                  </a:moveTo>
                  <a:lnTo>
                    <a:pt x="482" y="322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5" name=""/>
            <p:cNvGrpSpPr/>
            <p:nvPr/>
          </p:nvGrpSpPr>
          <p:grpSpPr>
            <a:xfrm>
              <a:off x="5578200" y="3219120"/>
              <a:ext cx="745560" cy="545400"/>
              <a:chOff x="5578200" y="3219120"/>
              <a:chExt cx="745560" cy="545400"/>
            </a:xfrm>
          </p:grpSpPr>
          <p:grpSp>
            <p:nvGrpSpPr>
              <p:cNvPr id="1686" name=""/>
              <p:cNvGrpSpPr/>
              <p:nvPr/>
            </p:nvGrpSpPr>
            <p:grpSpPr>
              <a:xfrm>
                <a:off x="5578200" y="3219120"/>
                <a:ext cx="72720" cy="90360"/>
                <a:chOff x="5578200" y="3219120"/>
                <a:chExt cx="72720" cy="903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5578200" y="321912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578200" y="32191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9" name=""/>
              <p:cNvGrpSpPr/>
              <p:nvPr/>
            </p:nvGrpSpPr>
            <p:grpSpPr>
              <a:xfrm>
                <a:off x="5631840" y="3255480"/>
                <a:ext cx="72720" cy="90000"/>
                <a:chOff x="5631840" y="3255480"/>
                <a:chExt cx="72720" cy="9000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5631840" y="3255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5631840" y="32554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2" name=""/>
              <p:cNvGrpSpPr/>
              <p:nvPr/>
            </p:nvGrpSpPr>
            <p:grpSpPr>
              <a:xfrm>
                <a:off x="5687280" y="3291840"/>
                <a:ext cx="72720" cy="90360"/>
                <a:chOff x="5687280" y="3291840"/>
                <a:chExt cx="72720" cy="90360"/>
              </a:xfrm>
            </p:grpSpPr>
            <p:sp>
              <p:nvSpPr>
                <p:cNvPr id="1693" name=""/>
                <p:cNvSpPr/>
                <p:nvPr/>
              </p:nvSpPr>
              <p:spPr>
                <a:xfrm>
                  <a:off x="5687280" y="329184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687280" y="329184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5" name=""/>
              <p:cNvGrpSpPr/>
              <p:nvPr/>
            </p:nvGrpSpPr>
            <p:grpSpPr>
              <a:xfrm>
                <a:off x="5724000" y="3328560"/>
                <a:ext cx="90000" cy="90000"/>
                <a:chOff x="5724000" y="3328560"/>
                <a:chExt cx="90000" cy="90000"/>
              </a:xfrm>
            </p:grpSpPr>
            <p:sp>
              <p:nvSpPr>
                <p:cNvPr id="1696" name=""/>
                <p:cNvSpPr/>
                <p:nvPr/>
              </p:nvSpPr>
              <p:spPr>
                <a:xfrm>
                  <a:off x="5724000" y="332856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724000" y="332856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5778000" y="3363480"/>
                <a:ext cx="91440" cy="91440"/>
                <a:chOff x="5778000" y="3363480"/>
                <a:chExt cx="91440" cy="9144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5778000" y="3363480"/>
                  <a:ext cx="91440" cy="9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5778000" y="3363480"/>
                  <a:ext cx="5508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1" name=""/>
              <p:cNvGrpSpPr/>
              <p:nvPr/>
            </p:nvGrpSpPr>
            <p:grpSpPr>
              <a:xfrm>
                <a:off x="5833440" y="3399840"/>
                <a:ext cx="72720" cy="72720"/>
                <a:chOff x="5833440" y="3399840"/>
                <a:chExt cx="72720" cy="7272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5833440" y="3399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5833440" y="33998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4" name=""/>
              <p:cNvGrpSpPr/>
              <p:nvPr/>
            </p:nvGrpSpPr>
            <p:grpSpPr>
              <a:xfrm>
                <a:off x="5887440" y="3436200"/>
                <a:ext cx="72720" cy="72720"/>
                <a:chOff x="5887440" y="3436200"/>
                <a:chExt cx="72720" cy="7272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5887440" y="34362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5887440" y="34362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5942880" y="3472920"/>
                <a:ext cx="71280" cy="72720"/>
                <a:chOff x="5942880" y="3472920"/>
                <a:chExt cx="71280" cy="7272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5942880" y="347292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5942880" y="347292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5996880" y="3509280"/>
                <a:ext cx="72720" cy="72720"/>
                <a:chOff x="5996880" y="3509280"/>
                <a:chExt cx="72720" cy="7272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5996880" y="35092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5996880" y="35092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6050880" y="3546000"/>
                <a:ext cx="72720" cy="72720"/>
                <a:chOff x="6050880" y="3546000"/>
                <a:chExt cx="72720" cy="7272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6050880" y="3546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6050880" y="35460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6" name=""/>
              <p:cNvGrpSpPr/>
              <p:nvPr/>
            </p:nvGrpSpPr>
            <p:grpSpPr>
              <a:xfrm>
                <a:off x="6087600" y="3582360"/>
                <a:ext cx="91440" cy="91800"/>
                <a:chOff x="6087600" y="3582360"/>
                <a:chExt cx="91440" cy="91800"/>
              </a:xfrm>
            </p:grpSpPr>
            <p:sp>
              <p:nvSpPr>
                <p:cNvPr id="1717" name=""/>
                <p:cNvSpPr/>
                <p:nvPr/>
              </p:nvSpPr>
              <p:spPr>
                <a:xfrm>
                  <a:off x="6087600" y="3582360"/>
                  <a:ext cx="9144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6087600" y="358236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9" name=""/>
              <p:cNvGrpSpPr/>
              <p:nvPr/>
            </p:nvGrpSpPr>
            <p:grpSpPr>
              <a:xfrm>
                <a:off x="6143040" y="3619080"/>
                <a:ext cx="90000" cy="72360"/>
                <a:chOff x="6143040" y="3619080"/>
                <a:chExt cx="90000" cy="7236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6143040" y="361908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6143040" y="361908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2" name=""/>
              <p:cNvGrpSpPr/>
              <p:nvPr/>
            </p:nvGrpSpPr>
            <p:grpSpPr>
              <a:xfrm>
                <a:off x="6197040" y="3655440"/>
                <a:ext cx="72720" cy="72720"/>
                <a:chOff x="6197040" y="3655440"/>
                <a:chExt cx="72720" cy="7272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6197040" y="36554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6197040" y="36554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5" name=""/>
              <p:cNvGrpSpPr/>
              <p:nvPr/>
            </p:nvGrpSpPr>
            <p:grpSpPr>
              <a:xfrm>
                <a:off x="6252480" y="3691800"/>
                <a:ext cx="71280" cy="72720"/>
                <a:chOff x="6252480" y="3691800"/>
                <a:chExt cx="71280" cy="72720"/>
              </a:xfrm>
            </p:grpSpPr>
            <p:sp>
              <p:nvSpPr>
                <p:cNvPr id="1726" name=""/>
                <p:cNvSpPr/>
                <p:nvPr/>
              </p:nvSpPr>
              <p:spPr>
                <a:xfrm>
                  <a:off x="6252480" y="369180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6252480" y="3691800"/>
                  <a:ext cx="345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8" name=""/>
            <p:cNvSpPr/>
            <p:nvPr/>
          </p:nvSpPr>
          <p:spPr>
            <a:xfrm>
              <a:off x="5560920" y="3273120"/>
              <a:ext cx="763200" cy="564840"/>
            </a:xfrm>
            <a:custGeom>
              <a:avLst/>
              <a:gdLst/>
              <a:ahLst/>
              <a:rect l="l" t="t" r="r" b="b"/>
              <a:pathLst>
                <a:path w="481" h="356">
                  <a:moveTo>
                    <a:pt x="458" y="356"/>
                  </a:moveTo>
                  <a:lnTo>
                    <a:pt x="48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9" name=""/>
            <p:cNvGrpSpPr/>
            <p:nvPr/>
          </p:nvGrpSpPr>
          <p:grpSpPr>
            <a:xfrm>
              <a:off x="5524200" y="3309840"/>
              <a:ext cx="745560" cy="527760"/>
              <a:chOff x="5524200" y="3309840"/>
              <a:chExt cx="745560" cy="527760"/>
            </a:xfrm>
          </p:grpSpPr>
          <p:grpSp>
            <p:nvGrpSpPr>
              <p:cNvPr id="1730" name=""/>
              <p:cNvGrpSpPr/>
              <p:nvPr/>
            </p:nvGrpSpPr>
            <p:grpSpPr>
              <a:xfrm>
                <a:off x="5524200" y="3309840"/>
                <a:ext cx="72720" cy="72720"/>
                <a:chOff x="5524200" y="3309840"/>
                <a:chExt cx="72720" cy="72720"/>
              </a:xfrm>
            </p:grpSpPr>
            <p:sp>
              <p:nvSpPr>
                <p:cNvPr id="1731" name=""/>
                <p:cNvSpPr/>
                <p:nvPr/>
              </p:nvSpPr>
              <p:spPr>
                <a:xfrm>
                  <a:off x="5524200" y="3309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5524200" y="33098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3" name=""/>
              <p:cNvGrpSpPr/>
              <p:nvPr/>
            </p:nvGrpSpPr>
            <p:grpSpPr>
              <a:xfrm>
                <a:off x="5577840" y="3328560"/>
                <a:ext cx="72720" cy="90000"/>
                <a:chOff x="5577840" y="3328560"/>
                <a:chExt cx="72720" cy="9000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5577840" y="332856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5577840" y="332856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6" name=""/>
              <p:cNvGrpSpPr/>
              <p:nvPr/>
            </p:nvGrpSpPr>
            <p:grpSpPr>
              <a:xfrm>
                <a:off x="5631840" y="3382560"/>
                <a:ext cx="72720" cy="72360"/>
                <a:chOff x="5631840" y="3382560"/>
                <a:chExt cx="72720" cy="72360"/>
              </a:xfrm>
            </p:grpSpPr>
            <p:sp>
              <p:nvSpPr>
                <p:cNvPr id="1737" name=""/>
                <p:cNvSpPr/>
                <p:nvPr/>
              </p:nvSpPr>
              <p:spPr>
                <a:xfrm>
                  <a:off x="5631840" y="33825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5631840" y="33825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9" name=""/>
              <p:cNvGrpSpPr/>
              <p:nvPr/>
            </p:nvGrpSpPr>
            <p:grpSpPr>
              <a:xfrm>
                <a:off x="5687280" y="3399840"/>
                <a:ext cx="72720" cy="91800"/>
                <a:chOff x="5687280" y="3399840"/>
                <a:chExt cx="72720" cy="91800"/>
              </a:xfrm>
            </p:grpSpPr>
            <p:sp>
              <p:nvSpPr>
                <p:cNvPr id="1740" name=""/>
                <p:cNvSpPr/>
                <p:nvPr/>
              </p:nvSpPr>
              <p:spPr>
                <a:xfrm>
                  <a:off x="5687280" y="33998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1" y="5"/>
                        <a:pt x="3" y="5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687280" y="339984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2" name=""/>
              <p:cNvGrpSpPr/>
              <p:nvPr/>
            </p:nvGrpSpPr>
            <p:grpSpPr>
              <a:xfrm>
                <a:off x="5724000" y="3436200"/>
                <a:ext cx="90000" cy="91800"/>
                <a:chOff x="5724000" y="3436200"/>
                <a:chExt cx="90000" cy="91800"/>
              </a:xfrm>
            </p:grpSpPr>
            <p:sp>
              <p:nvSpPr>
                <p:cNvPr id="1743" name=""/>
                <p:cNvSpPr/>
                <p:nvPr/>
              </p:nvSpPr>
              <p:spPr>
                <a:xfrm>
                  <a:off x="5724000" y="343620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5724000" y="343620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5" name=""/>
              <p:cNvGrpSpPr/>
              <p:nvPr/>
            </p:nvGrpSpPr>
            <p:grpSpPr>
              <a:xfrm>
                <a:off x="5778000" y="3472920"/>
                <a:ext cx="91440" cy="91800"/>
                <a:chOff x="5778000" y="3472920"/>
                <a:chExt cx="91440" cy="91800"/>
              </a:xfrm>
            </p:grpSpPr>
            <p:sp>
              <p:nvSpPr>
                <p:cNvPr id="1746" name=""/>
                <p:cNvSpPr/>
                <p:nvPr/>
              </p:nvSpPr>
              <p:spPr>
                <a:xfrm>
                  <a:off x="5778000" y="3472920"/>
                  <a:ext cx="9144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5778000" y="3472920"/>
                  <a:ext cx="5508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8" name=""/>
              <p:cNvGrpSpPr/>
              <p:nvPr/>
            </p:nvGrpSpPr>
            <p:grpSpPr>
              <a:xfrm>
                <a:off x="5833440" y="3509280"/>
                <a:ext cx="72720" cy="91800"/>
                <a:chOff x="5833440" y="3509280"/>
                <a:chExt cx="72720" cy="9180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5833440" y="35092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5833440" y="350928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1" name=""/>
              <p:cNvGrpSpPr/>
              <p:nvPr/>
            </p:nvGrpSpPr>
            <p:grpSpPr>
              <a:xfrm>
                <a:off x="5887440" y="3546000"/>
                <a:ext cx="72720" cy="91800"/>
                <a:chOff x="5887440" y="3546000"/>
                <a:chExt cx="72720" cy="91800"/>
              </a:xfrm>
            </p:grpSpPr>
            <p:sp>
              <p:nvSpPr>
                <p:cNvPr id="1752" name=""/>
                <p:cNvSpPr/>
                <p:nvPr/>
              </p:nvSpPr>
              <p:spPr>
                <a:xfrm>
                  <a:off x="5887440" y="35460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5887440" y="354600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4" name=""/>
              <p:cNvGrpSpPr/>
              <p:nvPr/>
            </p:nvGrpSpPr>
            <p:grpSpPr>
              <a:xfrm>
                <a:off x="5942880" y="3582360"/>
                <a:ext cx="71280" cy="91800"/>
                <a:chOff x="5942880" y="3582360"/>
                <a:chExt cx="71280" cy="91800"/>
              </a:xfrm>
            </p:grpSpPr>
            <p:sp>
              <p:nvSpPr>
                <p:cNvPr id="1755" name=""/>
                <p:cNvSpPr/>
                <p:nvPr/>
              </p:nvSpPr>
              <p:spPr>
                <a:xfrm>
                  <a:off x="5942880" y="3582360"/>
                  <a:ext cx="7128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5942880" y="3582360"/>
                  <a:ext cx="345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7" name=""/>
              <p:cNvGrpSpPr/>
              <p:nvPr/>
            </p:nvGrpSpPr>
            <p:grpSpPr>
              <a:xfrm>
                <a:off x="5996880" y="3619080"/>
                <a:ext cx="72720" cy="91440"/>
                <a:chOff x="5996880" y="3619080"/>
                <a:chExt cx="72720" cy="91440"/>
              </a:xfrm>
            </p:grpSpPr>
            <p:sp>
              <p:nvSpPr>
                <p:cNvPr id="1758" name=""/>
                <p:cNvSpPr/>
                <p:nvPr/>
              </p:nvSpPr>
              <p:spPr>
                <a:xfrm>
                  <a:off x="5996880" y="361908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996880" y="361908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6050880" y="3655440"/>
                <a:ext cx="72720" cy="91800"/>
                <a:chOff x="6050880" y="3655440"/>
                <a:chExt cx="72720" cy="9180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6050880" y="36554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1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6050880" y="365544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3" name=""/>
              <p:cNvGrpSpPr/>
              <p:nvPr/>
            </p:nvGrpSpPr>
            <p:grpSpPr>
              <a:xfrm>
                <a:off x="6087600" y="3691800"/>
                <a:ext cx="91440" cy="91800"/>
                <a:chOff x="6087600" y="3691800"/>
                <a:chExt cx="91440" cy="9180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6087600" y="3691800"/>
                  <a:ext cx="9144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6087600" y="369180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6" name=""/>
              <p:cNvGrpSpPr/>
              <p:nvPr/>
            </p:nvGrpSpPr>
            <p:grpSpPr>
              <a:xfrm>
                <a:off x="6143040" y="3728520"/>
                <a:ext cx="90000" cy="91800"/>
                <a:chOff x="6143040" y="3728520"/>
                <a:chExt cx="90000" cy="9180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6143040" y="372852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6143040" y="372852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9" name=""/>
              <p:cNvGrpSpPr/>
              <p:nvPr/>
            </p:nvGrpSpPr>
            <p:grpSpPr>
              <a:xfrm>
                <a:off x="6197040" y="3764880"/>
                <a:ext cx="72720" cy="72720"/>
                <a:chOff x="6197040" y="3764880"/>
                <a:chExt cx="72720" cy="72720"/>
              </a:xfrm>
            </p:grpSpPr>
            <p:sp>
              <p:nvSpPr>
                <p:cNvPr id="1770" name=""/>
                <p:cNvSpPr/>
                <p:nvPr/>
              </p:nvSpPr>
              <p:spPr>
                <a:xfrm>
                  <a:off x="6197040" y="3764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6197040" y="37648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2" name=""/>
            <p:cNvSpPr/>
            <p:nvPr/>
          </p:nvSpPr>
          <p:spPr>
            <a:xfrm>
              <a:off x="5505120" y="3346200"/>
              <a:ext cx="765000" cy="564840"/>
            </a:xfrm>
            <a:custGeom>
              <a:avLst/>
              <a:gdLst/>
              <a:ahLst/>
              <a:rect l="l" t="t" r="r" b="b"/>
              <a:pathLst>
                <a:path w="482" h="356">
                  <a:moveTo>
                    <a:pt x="459" y="356"/>
                  </a:moveTo>
                  <a:lnTo>
                    <a:pt x="482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3" name=""/>
            <p:cNvGrpSpPr/>
            <p:nvPr/>
          </p:nvGrpSpPr>
          <p:grpSpPr>
            <a:xfrm>
              <a:off x="5358960" y="3528720"/>
              <a:ext cx="747000" cy="545400"/>
              <a:chOff x="5358960" y="3528720"/>
              <a:chExt cx="747000" cy="54540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5358960" y="3528720"/>
                <a:ext cx="72720" cy="72720"/>
                <a:chOff x="5358960" y="3528720"/>
                <a:chExt cx="72720" cy="7272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5358960" y="3528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5358960" y="35287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5414400" y="3565080"/>
                <a:ext cx="72720" cy="90000"/>
                <a:chOff x="5414400" y="3565080"/>
                <a:chExt cx="72720" cy="9000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5414400" y="35650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414400" y="35650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5468400" y="3601440"/>
                <a:ext cx="72720" cy="72720"/>
                <a:chOff x="5468400" y="3601440"/>
                <a:chExt cx="72720" cy="7272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5468400" y="36014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5468400" y="36014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5523840" y="3638160"/>
                <a:ext cx="72720" cy="72360"/>
                <a:chOff x="5523840" y="3638160"/>
                <a:chExt cx="72720" cy="723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5523840" y="36381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523840" y="36381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5560560" y="3674520"/>
                <a:ext cx="90000" cy="72720"/>
                <a:chOff x="5560560" y="3674520"/>
                <a:chExt cx="90000" cy="7272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5560560" y="36745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560560" y="367452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5614200" y="3710880"/>
                <a:ext cx="90360" cy="72720"/>
                <a:chOff x="5614200" y="3710880"/>
                <a:chExt cx="90360" cy="7272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5614200" y="371088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5614200" y="371088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5668200" y="3747600"/>
                <a:ext cx="72720" cy="72720"/>
                <a:chOff x="5668200" y="3747600"/>
                <a:chExt cx="72720" cy="7272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5668200" y="37476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5668200" y="37476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5724000" y="3783960"/>
                <a:ext cx="72720" cy="72720"/>
                <a:chOff x="5724000" y="3783960"/>
                <a:chExt cx="72720" cy="7272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5724000" y="3783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5724000" y="37839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5778000" y="3820680"/>
                <a:ext cx="72720" cy="72360"/>
                <a:chOff x="5778000" y="3820680"/>
                <a:chExt cx="72720" cy="7236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5778000" y="38206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5778000" y="38206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5833440" y="3857040"/>
                <a:ext cx="72720" cy="71280"/>
                <a:chOff x="5833440" y="3857040"/>
                <a:chExt cx="72720" cy="712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5833440" y="385704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833440" y="38570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4" name=""/>
              <p:cNvGrpSpPr/>
              <p:nvPr/>
            </p:nvGrpSpPr>
            <p:grpSpPr>
              <a:xfrm>
                <a:off x="5887440" y="3893400"/>
                <a:ext cx="72720" cy="71280"/>
                <a:chOff x="5887440" y="3893400"/>
                <a:chExt cx="72720" cy="71280"/>
              </a:xfrm>
            </p:grpSpPr>
            <p:sp>
              <p:nvSpPr>
                <p:cNvPr id="1805" name=""/>
                <p:cNvSpPr/>
                <p:nvPr/>
              </p:nvSpPr>
              <p:spPr>
                <a:xfrm>
                  <a:off x="5887440" y="389340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887440" y="3893400"/>
                  <a:ext cx="36000" cy="3492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7" name=""/>
              <p:cNvGrpSpPr/>
              <p:nvPr/>
            </p:nvGrpSpPr>
            <p:grpSpPr>
              <a:xfrm>
                <a:off x="5923800" y="3928680"/>
                <a:ext cx="90360" cy="72360"/>
                <a:chOff x="5923800" y="3928680"/>
                <a:chExt cx="90360" cy="72360"/>
              </a:xfrm>
            </p:grpSpPr>
            <p:sp>
              <p:nvSpPr>
                <p:cNvPr id="1808" name=""/>
                <p:cNvSpPr/>
                <p:nvPr/>
              </p:nvSpPr>
              <p:spPr>
                <a:xfrm>
                  <a:off x="5923800" y="3928680"/>
                  <a:ext cx="9036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5923800" y="392868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0" name=""/>
              <p:cNvGrpSpPr/>
              <p:nvPr/>
            </p:nvGrpSpPr>
            <p:grpSpPr>
              <a:xfrm>
                <a:off x="5977800" y="3965040"/>
                <a:ext cx="91800" cy="72720"/>
                <a:chOff x="5977800" y="3965040"/>
                <a:chExt cx="91800" cy="7272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5977800" y="396504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5977800" y="396504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3" name=""/>
              <p:cNvGrpSpPr/>
              <p:nvPr/>
            </p:nvGrpSpPr>
            <p:grpSpPr>
              <a:xfrm>
                <a:off x="6033600" y="4001400"/>
                <a:ext cx="72360" cy="72720"/>
                <a:chOff x="6033600" y="4001400"/>
                <a:chExt cx="72360" cy="72720"/>
              </a:xfrm>
            </p:grpSpPr>
            <p:sp>
              <p:nvSpPr>
                <p:cNvPr id="1814" name=""/>
                <p:cNvSpPr/>
                <p:nvPr/>
              </p:nvSpPr>
              <p:spPr>
                <a:xfrm>
                  <a:off x="6033600" y="40014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033600" y="40014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6" name=""/>
            <p:cNvSpPr/>
            <p:nvPr/>
          </p:nvSpPr>
          <p:spPr>
            <a:xfrm>
              <a:off x="5341680" y="3582720"/>
              <a:ext cx="764640" cy="564840"/>
            </a:xfrm>
            <a:custGeom>
              <a:avLst/>
              <a:gdLst/>
              <a:ahLst/>
              <a:rect l="l" t="t" r="r" b="b"/>
              <a:pathLst>
                <a:path w="482" h="356">
                  <a:moveTo>
                    <a:pt x="459" y="356"/>
                  </a:moveTo>
                  <a:lnTo>
                    <a:pt x="482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7" name=""/>
            <p:cNvGrpSpPr/>
            <p:nvPr/>
          </p:nvGrpSpPr>
          <p:grpSpPr>
            <a:xfrm>
              <a:off x="6014880" y="2617920"/>
              <a:ext cx="747000" cy="545400"/>
              <a:chOff x="6014880" y="2617920"/>
              <a:chExt cx="747000" cy="545400"/>
            </a:xfrm>
          </p:grpSpPr>
          <p:grpSp>
            <p:nvGrpSpPr>
              <p:cNvPr id="1818" name=""/>
              <p:cNvGrpSpPr/>
              <p:nvPr/>
            </p:nvGrpSpPr>
            <p:grpSpPr>
              <a:xfrm>
                <a:off x="6014880" y="2617920"/>
                <a:ext cx="72720" cy="72720"/>
                <a:chOff x="6014880" y="2617920"/>
                <a:chExt cx="72720" cy="7272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6014880" y="2617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6014880" y="2617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1" name=""/>
              <p:cNvGrpSpPr/>
              <p:nvPr/>
            </p:nvGrpSpPr>
            <p:grpSpPr>
              <a:xfrm>
                <a:off x="6069960" y="2654280"/>
                <a:ext cx="72720" cy="72360"/>
                <a:chOff x="6069960" y="2654280"/>
                <a:chExt cx="72720" cy="72360"/>
              </a:xfrm>
            </p:grpSpPr>
            <p:sp>
              <p:nvSpPr>
                <p:cNvPr id="1822" name=""/>
                <p:cNvSpPr/>
                <p:nvPr/>
              </p:nvSpPr>
              <p:spPr>
                <a:xfrm>
                  <a:off x="6069960" y="26542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6069960" y="26542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4" name=""/>
              <p:cNvGrpSpPr/>
              <p:nvPr/>
            </p:nvGrpSpPr>
            <p:grpSpPr>
              <a:xfrm>
                <a:off x="6106320" y="2690640"/>
                <a:ext cx="90360" cy="70920"/>
                <a:chOff x="6106320" y="2690640"/>
                <a:chExt cx="90360" cy="70920"/>
              </a:xfrm>
            </p:grpSpPr>
            <p:sp>
              <p:nvSpPr>
                <p:cNvPr id="1825" name=""/>
                <p:cNvSpPr/>
                <p:nvPr/>
              </p:nvSpPr>
              <p:spPr>
                <a:xfrm>
                  <a:off x="6106320" y="2690640"/>
                  <a:ext cx="9036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6106320" y="26906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6160320" y="2707920"/>
                <a:ext cx="91800" cy="90360"/>
                <a:chOff x="6160320" y="2707920"/>
                <a:chExt cx="91800" cy="9036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6160320" y="2707920"/>
                  <a:ext cx="918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6160320" y="2707920"/>
                  <a:ext cx="554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0" name=""/>
              <p:cNvGrpSpPr/>
              <p:nvPr/>
            </p:nvGrpSpPr>
            <p:grpSpPr>
              <a:xfrm>
                <a:off x="6216120" y="2761920"/>
                <a:ext cx="70920" cy="72720"/>
                <a:chOff x="6216120" y="2761920"/>
                <a:chExt cx="70920" cy="72720"/>
              </a:xfrm>
            </p:grpSpPr>
            <p:sp>
              <p:nvSpPr>
                <p:cNvPr id="1831" name=""/>
                <p:cNvSpPr/>
                <p:nvPr/>
              </p:nvSpPr>
              <p:spPr>
                <a:xfrm>
                  <a:off x="6216120" y="276192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6216120" y="2761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3" name=""/>
              <p:cNvGrpSpPr/>
              <p:nvPr/>
            </p:nvGrpSpPr>
            <p:grpSpPr>
              <a:xfrm>
                <a:off x="6270120" y="2781000"/>
                <a:ext cx="72720" cy="90360"/>
                <a:chOff x="6270120" y="2781000"/>
                <a:chExt cx="72720" cy="90360"/>
              </a:xfrm>
            </p:grpSpPr>
            <p:sp>
              <p:nvSpPr>
                <p:cNvPr id="1834" name=""/>
                <p:cNvSpPr/>
                <p:nvPr/>
              </p:nvSpPr>
              <p:spPr>
                <a:xfrm>
                  <a:off x="6270120" y="278100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6270120" y="278100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6" name=""/>
              <p:cNvGrpSpPr/>
              <p:nvPr/>
            </p:nvGrpSpPr>
            <p:grpSpPr>
              <a:xfrm>
                <a:off x="6324120" y="2817720"/>
                <a:ext cx="72360" cy="90000"/>
                <a:chOff x="6324120" y="2817720"/>
                <a:chExt cx="72360" cy="90000"/>
              </a:xfrm>
            </p:grpSpPr>
            <p:sp>
              <p:nvSpPr>
                <p:cNvPr id="1837" name=""/>
                <p:cNvSpPr/>
                <p:nvPr/>
              </p:nvSpPr>
              <p:spPr>
                <a:xfrm>
                  <a:off x="6324120" y="2817720"/>
                  <a:ext cx="7236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6324120" y="28177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9" name=""/>
              <p:cNvGrpSpPr/>
              <p:nvPr/>
            </p:nvGrpSpPr>
            <p:grpSpPr>
              <a:xfrm>
                <a:off x="6379560" y="2854080"/>
                <a:ext cx="72720" cy="90000"/>
                <a:chOff x="6379560" y="2854080"/>
                <a:chExt cx="72720" cy="90000"/>
              </a:xfrm>
            </p:grpSpPr>
            <p:sp>
              <p:nvSpPr>
                <p:cNvPr id="1840" name=""/>
                <p:cNvSpPr/>
                <p:nvPr/>
              </p:nvSpPr>
              <p:spPr>
                <a:xfrm>
                  <a:off x="6379560" y="28540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379560" y="28540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2" name=""/>
              <p:cNvGrpSpPr/>
              <p:nvPr/>
            </p:nvGrpSpPr>
            <p:grpSpPr>
              <a:xfrm>
                <a:off x="6433560" y="2890800"/>
                <a:ext cx="72720" cy="90000"/>
                <a:chOff x="6433560" y="2890800"/>
                <a:chExt cx="72720" cy="90000"/>
              </a:xfrm>
            </p:grpSpPr>
            <p:sp>
              <p:nvSpPr>
                <p:cNvPr id="1843" name=""/>
                <p:cNvSpPr/>
                <p:nvPr/>
              </p:nvSpPr>
              <p:spPr>
                <a:xfrm>
                  <a:off x="6433560" y="28908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1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6433560" y="2890800"/>
                  <a:ext cx="36000" cy="532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5" name=""/>
              <p:cNvGrpSpPr/>
              <p:nvPr/>
            </p:nvGrpSpPr>
            <p:grpSpPr>
              <a:xfrm>
                <a:off x="6469920" y="2927160"/>
                <a:ext cx="91800" cy="90000"/>
                <a:chOff x="6469920" y="2927160"/>
                <a:chExt cx="91800" cy="90000"/>
              </a:xfrm>
            </p:grpSpPr>
            <p:sp>
              <p:nvSpPr>
                <p:cNvPr id="1846" name=""/>
                <p:cNvSpPr/>
                <p:nvPr/>
              </p:nvSpPr>
              <p:spPr>
                <a:xfrm>
                  <a:off x="6469920" y="292716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6469920" y="2927160"/>
                  <a:ext cx="554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8" name=""/>
              <p:cNvGrpSpPr/>
              <p:nvPr/>
            </p:nvGrpSpPr>
            <p:grpSpPr>
              <a:xfrm>
                <a:off x="6525720" y="2963520"/>
                <a:ext cx="90000" cy="90360"/>
                <a:chOff x="6525720" y="2963520"/>
                <a:chExt cx="90000" cy="9036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6525720" y="296352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6525720" y="296352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1" name=""/>
              <p:cNvGrpSpPr/>
              <p:nvPr/>
            </p:nvGrpSpPr>
            <p:grpSpPr>
              <a:xfrm>
                <a:off x="6579720" y="3000240"/>
                <a:ext cx="72360" cy="90000"/>
                <a:chOff x="6579720" y="3000240"/>
                <a:chExt cx="72360" cy="90000"/>
              </a:xfrm>
            </p:grpSpPr>
            <p:sp>
              <p:nvSpPr>
                <p:cNvPr id="1852" name=""/>
                <p:cNvSpPr/>
                <p:nvPr/>
              </p:nvSpPr>
              <p:spPr>
                <a:xfrm>
                  <a:off x="6579720" y="3000240"/>
                  <a:ext cx="7236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6579720" y="300024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4" name=""/>
              <p:cNvGrpSpPr/>
              <p:nvPr/>
            </p:nvGrpSpPr>
            <p:grpSpPr>
              <a:xfrm>
                <a:off x="6633360" y="3036600"/>
                <a:ext cx="72720" cy="90360"/>
                <a:chOff x="6633360" y="3036600"/>
                <a:chExt cx="72720" cy="9036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6633360" y="303660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633360" y="30366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6689160" y="3073320"/>
                <a:ext cx="72720" cy="90000"/>
                <a:chOff x="6689160" y="3073320"/>
                <a:chExt cx="72720" cy="9000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6689160" y="307332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689160" y="30733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0" name=""/>
            <p:cNvSpPr/>
            <p:nvPr/>
          </p:nvSpPr>
          <p:spPr>
            <a:xfrm>
              <a:off x="5997240" y="2654280"/>
              <a:ext cx="745920" cy="582120"/>
            </a:xfrm>
            <a:custGeom>
              <a:avLst/>
              <a:gdLst/>
              <a:ahLst/>
              <a:rect l="l" t="t" r="r" b="b"/>
              <a:pathLst>
                <a:path w="470" h="367">
                  <a:moveTo>
                    <a:pt x="459" y="367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1" name=""/>
            <p:cNvGrpSpPr/>
            <p:nvPr/>
          </p:nvGrpSpPr>
          <p:grpSpPr>
            <a:xfrm>
              <a:off x="5851440" y="2835000"/>
              <a:ext cx="745200" cy="547200"/>
              <a:chOff x="5851440" y="2835000"/>
              <a:chExt cx="745200" cy="547200"/>
            </a:xfrm>
          </p:grpSpPr>
          <p:grpSp>
            <p:nvGrpSpPr>
              <p:cNvPr id="1862" name=""/>
              <p:cNvGrpSpPr/>
              <p:nvPr/>
            </p:nvGrpSpPr>
            <p:grpSpPr>
              <a:xfrm>
                <a:off x="5851440" y="2835000"/>
                <a:ext cx="72360" cy="91800"/>
                <a:chOff x="5851440" y="2835000"/>
                <a:chExt cx="72360" cy="9180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5851440" y="283500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5851440" y="283500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5906520" y="2871360"/>
                <a:ext cx="70920" cy="91440"/>
                <a:chOff x="5906520" y="2871360"/>
                <a:chExt cx="70920" cy="9144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5906520" y="2871360"/>
                  <a:ext cx="709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5906520" y="28713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8" name=""/>
              <p:cNvGrpSpPr/>
              <p:nvPr/>
            </p:nvGrpSpPr>
            <p:grpSpPr>
              <a:xfrm>
                <a:off x="5960520" y="2907720"/>
                <a:ext cx="72720" cy="91800"/>
                <a:chOff x="5960520" y="2907720"/>
                <a:chExt cx="72720" cy="91800"/>
              </a:xfrm>
            </p:grpSpPr>
            <p:sp>
              <p:nvSpPr>
                <p:cNvPr id="1869" name=""/>
                <p:cNvSpPr/>
                <p:nvPr/>
              </p:nvSpPr>
              <p:spPr>
                <a:xfrm>
                  <a:off x="5960520" y="29077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960520" y="29077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5996880" y="2944080"/>
                <a:ext cx="90360" cy="91800"/>
                <a:chOff x="5996880" y="2944080"/>
                <a:chExt cx="90360" cy="9180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5996880" y="2944080"/>
                  <a:ext cx="9036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5996880" y="294408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4" name=""/>
              <p:cNvGrpSpPr/>
              <p:nvPr/>
            </p:nvGrpSpPr>
            <p:grpSpPr>
              <a:xfrm>
                <a:off x="6050880" y="2980800"/>
                <a:ext cx="72720" cy="72720"/>
                <a:chOff x="6050880" y="2980800"/>
                <a:chExt cx="72720" cy="7272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6050880" y="2980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6050880" y="29808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6106320" y="3017160"/>
                <a:ext cx="72720" cy="72720"/>
                <a:chOff x="6106320" y="3017160"/>
                <a:chExt cx="72720" cy="7272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6106320" y="3017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6106320" y="30171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6160320" y="3053880"/>
                <a:ext cx="72720" cy="72720"/>
                <a:chOff x="6160320" y="3053880"/>
                <a:chExt cx="72720" cy="727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6160320" y="3053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6160320" y="30538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6216120" y="3090240"/>
                <a:ext cx="70920" cy="72720"/>
                <a:chOff x="6216120" y="3090240"/>
                <a:chExt cx="70920" cy="7272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6216120" y="30902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6216120" y="30902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6270120" y="3126960"/>
                <a:ext cx="72720" cy="72360"/>
                <a:chOff x="6270120" y="3126960"/>
                <a:chExt cx="72720" cy="72360"/>
              </a:xfrm>
            </p:grpSpPr>
            <p:sp>
              <p:nvSpPr>
                <p:cNvPr id="1887" name=""/>
                <p:cNvSpPr/>
                <p:nvPr/>
              </p:nvSpPr>
              <p:spPr>
                <a:xfrm>
                  <a:off x="6270120" y="31269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6270120" y="3126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6324120" y="3163320"/>
                <a:ext cx="72360" cy="72720"/>
                <a:chOff x="6324120" y="3163320"/>
                <a:chExt cx="72360" cy="7272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6324120" y="316332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6324120" y="31633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2" name=""/>
              <p:cNvGrpSpPr/>
              <p:nvPr/>
            </p:nvGrpSpPr>
            <p:grpSpPr>
              <a:xfrm>
                <a:off x="6360480" y="3199680"/>
                <a:ext cx="91800" cy="72720"/>
                <a:chOff x="6360480" y="3199680"/>
                <a:chExt cx="91800" cy="7272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6360480" y="31996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6360480" y="319968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6415920" y="3236400"/>
                <a:ext cx="72720" cy="72720"/>
                <a:chOff x="6415920" y="3236400"/>
                <a:chExt cx="72720" cy="7272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6415920" y="3236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6415920" y="3236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8" name=""/>
              <p:cNvGrpSpPr/>
              <p:nvPr/>
            </p:nvGrpSpPr>
            <p:grpSpPr>
              <a:xfrm>
                <a:off x="6469920" y="3272760"/>
                <a:ext cx="72720" cy="72720"/>
                <a:chOff x="6469920" y="3272760"/>
                <a:chExt cx="72720" cy="7272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6469920" y="32727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6469920" y="32727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1" name=""/>
              <p:cNvGrpSpPr/>
              <p:nvPr/>
            </p:nvGrpSpPr>
            <p:grpSpPr>
              <a:xfrm>
                <a:off x="6525720" y="3309480"/>
                <a:ext cx="70920" cy="72720"/>
                <a:chOff x="6525720" y="3309480"/>
                <a:chExt cx="70920" cy="7272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6525720" y="330948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6525720" y="33094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4" name=""/>
            <p:cNvSpPr/>
            <p:nvPr/>
          </p:nvSpPr>
          <p:spPr>
            <a:xfrm>
              <a:off x="5833800" y="2890800"/>
              <a:ext cx="763200" cy="564480"/>
            </a:xfrm>
            <a:custGeom>
              <a:avLst/>
              <a:gdLst/>
              <a:ahLst/>
              <a:rect l="l" t="t" r="r" b="b"/>
              <a:pathLst>
                <a:path w="481" h="356">
                  <a:moveTo>
                    <a:pt x="459" y="356"/>
                  </a:moveTo>
                  <a:lnTo>
                    <a:pt x="48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5" name=""/>
            <p:cNvGrpSpPr/>
            <p:nvPr/>
          </p:nvGrpSpPr>
          <p:grpSpPr>
            <a:xfrm>
              <a:off x="5906880" y="2761920"/>
              <a:ext cx="745200" cy="547200"/>
              <a:chOff x="5906880" y="2761920"/>
              <a:chExt cx="745200" cy="547200"/>
            </a:xfrm>
          </p:grpSpPr>
          <p:grpSp>
            <p:nvGrpSpPr>
              <p:cNvPr id="1906" name=""/>
              <p:cNvGrpSpPr/>
              <p:nvPr/>
            </p:nvGrpSpPr>
            <p:grpSpPr>
              <a:xfrm>
                <a:off x="5906880" y="2761920"/>
                <a:ext cx="70920" cy="72720"/>
                <a:chOff x="5906880" y="2761920"/>
                <a:chExt cx="70920" cy="72720"/>
              </a:xfrm>
            </p:grpSpPr>
            <p:sp>
              <p:nvSpPr>
                <p:cNvPr id="1907" name=""/>
                <p:cNvSpPr/>
                <p:nvPr/>
              </p:nvSpPr>
              <p:spPr>
                <a:xfrm>
                  <a:off x="5906880" y="276192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906880" y="2761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9" name=""/>
              <p:cNvGrpSpPr/>
              <p:nvPr/>
            </p:nvGrpSpPr>
            <p:grpSpPr>
              <a:xfrm>
                <a:off x="5960520" y="2798280"/>
                <a:ext cx="72720" cy="72720"/>
                <a:chOff x="5960520" y="2798280"/>
                <a:chExt cx="72720" cy="72720"/>
              </a:xfrm>
            </p:grpSpPr>
            <p:sp>
              <p:nvSpPr>
                <p:cNvPr id="1910" name=""/>
                <p:cNvSpPr/>
                <p:nvPr/>
              </p:nvSpPr>
              <p:spPr>
                <a:xfrm>
                  <a:off x="5960520" y="27982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960520" y="27982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2" name=""/>
              <p:cNvGrpSpPr/>
              <p:nvPr/>
            </p:nvGrpSpPr>
            <p:grpSpPr>
              <a:xfrm>
                <a:off x="6014520" y="2834640"/>
                <a:ext cx="72720" cy="72720"/>
                <a:chOff x="6014520" y="2834640"/>
                <a:chExt cx="72720" cy="7272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6014520" y="28346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6014520" y="28346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5" name=""/>
              <p:cNvGrpSpPr/>
              <p:nvPr/>
            </p:nvGrpSpPr>
            <p:grpSpPr>
              <a:xfrm>
                <a:off x="6050880" y="2871360"/>
                <a:ext cx="91800" cy="72360"/>
                <a:chOff x="6050880" y="2871360"/>
                <a:chExt cx="91800" cy="7236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6050880" y="28713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6050880" y="287136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8" name=""/>
              <p:cNvGrpSpPr/>
              <p:nvPr/>
            </p:nvGrpSpPr>
            <p:grpSpPr>
              <a:xfrm>
                <a:off x="6106320" y="2907720"/>
                <a:ext cx="72720" cy="72720"/>
                <a:chOff x="6106320" y="2907720"/>
                <a:chExt cx="72720" cy="72720"/>
              </a:xfrm>
            </p:grpSpPr>
            <p:sp>
              <p:nvSpPr>
                <p:cNvPr id="1919" name=""/>
                <p:cNvSpPr/>
                <p:nvPr/>
              </p:nvSpPr>
              <p:spPr>
                <a:xfrm>
                  <a:off x="6106320" y="2907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6106320" y="29077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6160320" y="2944080"/>
                <a:ext cx="72720" cy="72720"/>
                <a:chOff x="6160320" y="2944080"/>
                <a:chExt cx="72720" cy="7272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6160320" y="2944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6160320" y="29440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4" name=""/>
              <p:cNvGrpSpPr/>
              <p:nvPr/>
            </p:nvGrpSpPr>
            <p:grpSpPr>
              <a:xfrm>
                <a:off x="6216120" y="2980800"/>
                <a:ext cx="70920" cy="72720"/>
                <a:chOff x="6216120" y="2980800"/>
                <a:chExt cx="70920" cy="7272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6216120" y="298080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6216120" y="29808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7" name=""/>
              <p:cNvGrpSpPr/>
              <p:nvPr/>
            </p:nvGrpSpPr>
            <p:grpSpPr>
              <a:xfrm>
                <a:off x="6270120" y="3017160"/>
                <a:ext cx="72720" cy="72720"/>
                <a:chOff x="6270120" y="3017160"/>
                <a:chExt cx="72720" cy="72720"/>
              </a:xfrm>
            </p:grpSpPr>
            <p:sp>
              <p:nvSpPr>
                <p:cNvPr id="1928" name=""/>
                <p:cNvSpPr/>
                <p:nvPr/>
              </p:nvSpPr>
              <p:spPr>
                <a:xfrm>
                  <a:off x="6270120" y="3017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6270120" y="30171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0" name=""/>
              <p:cNvGrpSpPr/>
              <p:nvPr/>
            </p:nvGrpSpPr>
            <p:grpSpPr>
              <a:xfrm>
                <a:off x="6324120" y="3053880"/>
                <a:ext cx="72360" cy="72720"/>
                <a:chOff x="6324120" y="3053880"/>
                <a:chExt cx="72360" cy="72720"/>
              </a:xfrm>
            </p:grpSpPr>
            <p:sp>
              <p:nvSpPr>
                <p:cNvPr id="1931" name=""/>
                <p:cNvSpPr/>
                <p:nvPr/>
              </p:nvSpPr>
              <p:spPr>
                <a:xfrm>
                  <a:off x="6324120" y="30538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6324120" y="30538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3" name=""/>
              <p:cNvGrpSpPr/>
              <p:nvPr/>
            </p:nvGrpSpPr>
            <p:grpSpPr>
              <a:xfrm>
                <a:off x="6379560" y="3090240"/>
                <a:ext cx="72720" cy="72720"/>
                <a:chOff x="6379560" y="3090240"/>
                <a:chExt cx="72720" cy="727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6379560" y="3090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6379560" y="30902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6415920" y="3126960"/>
                <a:ext cx="90360" cy="72360"/>
                <a:chOff x="6415920" y="3126960"/>
                <a:chExt cx="90360" cy="7236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6415920" y="3126960"/>
                  <a:ext cx="9036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6415920" y="31269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6469920" y="3163320"/>
                <a:ext cx="72720" cy="72720"/>
                <a:chOff x="6469920" y="3163320"/>
                <a:chExt cx="72720" cy="727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6469920" y="3163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6469920" y="31633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6525720" y="3199680"/>
                <a:ext cx="70920" cy="72720"/>
                <a:chOff x="6525720" y="3199680"/>
                <a:chExt cx="70920" cy="727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6525720" y="319968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6525720" y="31996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5" name=""/>
              <p:cNvGrpSpPr/>
              <p:nvPr/>
            </p:nvGrpSpPr>
            <p:grpSpPr>
              <a:xfrm>
                <a:off x="6579720" y="3236400"/>
                <a:ext cx="72360" cy="72720"/>
                <a:chOff x="6579720" y="3236400"/>
                <a:chExt cx="72360" cy="72720"/>
              </a:xfrm>
            </p:grpSpPr>
            <p:sp>
              <p:nvSpPr>
                <p:cNvPr id="1946" name=""/>
                <p:cNvSpPr/>
                <p:nvPr/>
              </p:nvSpPr>
              <p:spPr>
                <a:xfrm>
                  <a:off x="6579720" y="32364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579720" y="32364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8" name=""/>
            <p:cNvSpPr/>
            <p:nvPr/>
          </p:nvSpPr>
          <p:spPr>
            <a:xfrm>
              <a:off x="5887800" y="2817720"/>
              <a:ext cx="764640" cy="564840"/>
            </a:xfrm>
            <a:custGeom>
              <a:avLst/>
              <a:gdLst/>
              <a:ahLst/>
              <a:rect l="l" t="t" r="r" b="b"/>
              <a:pathLst>
                <a:path w="482" h="356">
                  <a:moveTo>
                    <a:pt x="459" y="356"/>
                  </a:moveTo>
                  <a:lnTo>
                    <a:pt x="482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9" name=""/>
            <p:cNvGrpSpPr/>
            <p:nvPr/>
          </p:nvGrpSpPr>
          <p:grpSpPr>
            <a:xfrm>
              <a:off x="5468760" y="3382920"/>
              <a:ext cx="747000" cy="545400"/>
              <a:chOff x="5468760" y="3382920"/>
              <a:chExt cx="747000" cy="545400"/>
            </a:xfrm>
          </p:grpSpPr>
          <p:grpSp>
            <p:nvGrpSpPr>
              <p:cNvPr id="1950" name=""/>
              <p:cNvGrpSpPr/>
              <p:nvPr/>
            </p:nvGrpSpPr>
            <p:grpSpPr>
              <a:xfrm>
                <a:off x="5468760" y="3382920"/>
                <a:ext cx="72720" cy="72360"/>
                <a:chOff x="5468760" y="3382920"/>
                <a:chExt cx="72720" cy="7236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5468760" y="33829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5468760" y="3382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5523840" y="3418920"/>
                <a:ext cx="72720" cy="72720"/>
                <a:chOff x="5523840" y="3418920"/>
                <a:chExt cx="72720" cy="7272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5523840" y="341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5523840" y="34189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5577840" y="3455280"/>
                <a:ext cx="72720" cy="72720"/>
                <a:chOff x="5577840" y="3455280"/>
                <a:chExt cx="72720" cy="7272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5577840" y="34552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5577840" y="3455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5631840" y="3492000"/>
                <a:ext cx="72720" cy="72720"/>
                <a:chOff x="5631840" y="3492000"/>
                <a:chExt cx="72720" cy="7272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5631840" y="3492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5631840" y="3492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5668200" y="3528360"/>
                <a:ext cx="91800" cy="72720"/>
                <a:chOff x="5668200" y="3528360"/>
                <a:chExt cx="91800" cy="7272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5668200" y="352836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5668200" y="352836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5" name=""/>
              <p:cNvGrpSpPr/>
              <p:nvPr/>
            </p:nvGrpSpPr>
            <p:grpSpPr>
              <a:xfrm>
                <a:off x="5724000" y="3565080"/>
                <a:ext cx="90000" cy="72720"/>
                <a:chOff x="5724000" y="3565080"/>
                <a:chExt cx="90000" cy="7272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5724000" y="35650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5724000" y="356508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8" name=""/>
              <p:cNvGrpSpPr/>
              <p:nvPr/>
            </p:nvGrpSpPr>
            <p:grpSpPr>
              <a:xfrm>
                <a:off x="5778000" y="3601440"/>
                <a:ext cx="72720" cy="72720"/>
                <a:chOff x="5778000" y="3601440"/>
                <a:chExt cx="72720" cy="72720"/>
              </a:xfrm>
            </p:grpSpPr>
            <p:sp>
              <p:nvSpPr>
                <p:cNvPr id="1969" name=""/>
                <p:cNvSpPr/>
                <p:nvPr/>
              </p:nvSpPr>
              <p:spPr>
                <a:xfrm>
                  <a:off x="5778000" y="36014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5778000" y="36014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1" name=""/>
              <p:cNvGrpSpPr/>
              <p:nvPr/>
            </p:nvGrpSpPr>
            <p:grpSpPr>
              <a:xfrm>
                <a:off x="5833440" y="3638160"/>
                <a:ext cx="72720" cy="72360"/>
                <a:chOff x="5833440" y="3638160"/>
                <a:chExt cx="72720" cy="7236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5833440" y="36381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5833440" y="3638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5887440" y="3674520"/>
                <a:ext cx="72720" cy="72720"/>
                <a:chOff x="5887440" y="3674520"/>
                <a:chExt cx="72720" cy="727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5887440" y="3674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5887440" y="36745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5942880" y="3710880"/>
                <a:ext cx="71280" cy="72720"/>
                <a:chOff x="5942880" y="3710880"/>
                <a:chExt cx="71280" cy="727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5942880" y="371088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5942880" y="3710880"/>
                  <a:ext cx="345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5996880" y="3747600"/>
                <a:ext cx="72720" cy="72720"/>
                <a:chOff x="5996880" y="3747600"/>
                <a:chExt cx="72720" cy="7272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5996880" y="37476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5996880" y="37476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3" name=""/>
              <p:cNvGrpSpPr/>
              <p:nvPr/>
            </p:nvGrpSpPr>
            <p:grpSpPr>
              <a:xfrm>
                <a:off x="6033600" y="3783960"/>
                <a:ext cx="90000" cy="72720"/>
                <a:chOff x="6033600" y="3783960"/>
                <a:chExt cx="90000" cy="72720"/>
              </a:xfrm>
            </p:grpSpPr>
            <p:sp>
              <p:nvSpPr>
                <p:cNvPr id="1984" name=""/>
                <p:cNvSpPr/>
                <p:nvPr/>
              </p:nvSpPr>
              <p:spPr>
                <a:xfrm>
                  <a:off x="6033600" y="37839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6033600" y="37839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6" name=""/>
              <p:cNvGrpSpPr/>
              <p:nvPr/>
            </p:nvGrpSpPr>
            <p:grpSpPr>
              <a:xfrm>
                <a:off x="6087600" y="3801600"/>
                <a:ext cx="91440" cy="91440"/>
                <a:chOff x="6087600" y="3801600"/>
                <a:chExt cx="91440" cy="9144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6087600" y="3801600"/>
                  <a:ext cx="91440" cy="9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6087600" y="3801600"/>
                  <a:ext cx="5508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9" name=""/>
              <p:cNvGrpSpPr/>
              <p:nvPr/>
            </p:nvGrpSpPr>
            <p:grpSpPr>
              <a:xfrm>
                <a:off x="6143040" y="3837960"/>
                <a:ext cx="72720" cy="90360"/>
                <a:chOff x="6143040" y="3837960"/>
                <a:chExt cx="72720" cy="90360"/>
              </a:xfrm>
            </p:grpSpPr>
            <p:sp>
              <p:nvSpPr>
                <p:cNvPr id="1990" name=""/>
                <p:cNvSpPr/>
                <p:nvPr/>
              </p:nvSpPr>
              <p:spPr>
                <a:xfrm>
                  <a:off x="6143040" y="383796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6143040" y="38379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2" name=""/>
            <p:cNvSpPr/>
            <p:nvPr/>
          </p:nvSpPr>
          <p:spPr>
            <a:xfrm>
              <a:off x="5451120" y="3419280"/>
              <a:ext cx="765000" cy="582120"/>
            </a:xfrm>
            <a:custGeom>
              <a:avLst/>
              <a:gdLst/>
              <a:ahLst/>
              <a:rect l="l" t="t" r="r" b="b"/>
              <a:pathLst>
                <a:path w="482" h="367">
                  <a:moveTo>
                    <a:pt x="459" y="367"/>
                  </a:moveTo>
                  <a:lnTo>
                    <a:pt x="482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93" name=""/>
            <p:cNvGrpSpPr/>
            <p:nvPr/>
          </p:nvGrpSpPr>
          <p:grpSpPr>
            <a:xfrm>
              <a:off x="5632200" y="3146400"/>
              <a:ext cx="747000" cy="545040"/>
              <a:chOff x="5632200" y="3146400"/>
              <a:chExt cx="747000" cy="545040"/>
            </a:xfrm>
          </p:grpSpPr>
          <p:grpSp>
            <p:nvGrpSpPr>
              <p:cNvPr id="1994" name=""/>
              <p:cNvGrpSpPr/>
              <p:nvPr/>
            </p:nvGrpSpPr>
            <p:grpSpPr>
              <a:xfrm>
                <a:off x="5632200" y="3146400"/>
                <a:ext cx="72720" cy="72360"/>
                <a:chOff x="5632200" y="3146400"/>
                <a:chExt cx="72720" cy="72360"/>
              </a:xfrm>
            </p:grpSpPr>
            <p:sp>
              <p:nvSpPr>
                <p:cNvPr id="1995" name=""/>
                <p:cNvSpPr/>
                <p:nvPr/>
              </p:nvSpPr>
              <p:spPr>
                <a:xfrm>
                  <a:off x="5632200" y="314640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5632200" y="31464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7" name=""/>
              <p:cNvGrpSpPr/>
              <p:nvPr/>
            </p:nvGrpSpPr>
            <p:grpSpPr>
              <a:xfrm>
                <a:off x="5687280" y="3182400"/>
                <a:ext cx="72720" cy="72720"/>
                <a:chOff x="5687280" y="3182400"/>
                <a:chExt cx="72720" cy="7272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5687280" y="3182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5687280" y="3182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0" name=""/>
              <p:cNvGrpSpPr/>
              <p:nvPr/>
            </p:nvGrpSpPr>
            <p:grpSpPr>
              <a:xfrm>
                <a:off x="5741280" y="3218760"/>
                <a:ext cx="72720" cy="72720"/>
                <a:chOff x="5741280" y="3218760"/>
                <a:chExt cx="72720" cy="72720"/>
              </a:xfrm>
            </p:grpSpPr>
            <p:sp>
              <p:nvSpPr>
                <p:cNvPr id="2001" name=""/>
                <p:cNvSpPr/>
                <p:nvPr/>
              </p:nvSpPr>
              <p:spPr>
                <a:xfrm>
                  <a:off x="5741280" y="32187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5741280" y="32187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3" name=""/>
              <p:cNvGrpSpPr/>
              <p:nvPr/>
            </p:nvGrpSpPr>
            <p:grpSpPr>
              <a:xfrm>
                <a:off x="5778000" y="3255480"/>
                <a:ext cx="91440" cy="72720"/>
                <a:chOff x="5778000" y="3255480"/>
                <a:chExt cx="91440" cy="7272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5778000" y="3255480"/>
                  <a:ext cx="9144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778000" y="325548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6" name=""/>
              <p:cNvGrpSpPr/>
              <p:nvPr/>
            </p:nvGrpSpPr>
            <p:grpSpPr>
              <a:xfrm>
                <a:off x="5833440" y="3291840"/>
                <a:ext cx="90000" cy="71280"/>
                <a:chOff x="5833440" y="3291840"/>
                <a:chExt cx="90000" cy="71280"/>
              </a:xfrm>
            </p:grpSpPr>
            <p:sp>
              <p:nvSpPr>
                <p:cNvPr id="2007" name=""/>
                <p:cNvSpPr/>
                <p:nvPr/>
              </p:nvSpPr>
              <p:spPr>
                <a:xfrm>
                  <a:off x="5833440" y="3291840"/>
                  <a:ext cx="90000" cy="712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833440" y="32918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5887440" y="3328560"/>
                <a:ext cx="72720" cy="70920"/>
                <a:chOff x="5887440" y="3328560"/>
                <a:chExt cx="72720" cy="7092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5887440" y="332856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87440" y="332856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5942880" y="3363480"/>
                <a:ext cx="71280" cy="72360"/>
                <a:chOff x="5942880" y="3363480"/>
                <a:chExt cx="71280" cy="72360"/>
              </a:xfrm>
            </p:grpSpPr>
            <p:sp>
              <p:nvSpPr>
                <p:cNvPr id="2013" name=""/>
                <p:cNvSpPr/>
                <p:nvPr/>
              </p:nvSpPr>
              <p:spPr>
                <a:xfrm>
                  <a:off x="5942880" y="3363480"/>
                  <a:ext cx="7128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942880" y="336348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5996880" y="3399840"/>
                <a:ext cx="72720" cy="72720"/>
                <a:chOff x="5996880" y="3399840"/>
                <a:chExt cx="72720" cy="72720"/>
              </a:xfrm>
            </p:grpSpPr>
            <p:sp>
              <p:nvSpPr>
                <p:cNvPr id="2016" name=""/>
                <p:cNvSpPr/>
                <p:nvPr/>
              </p:nvSpPr>
              <p:spPr>
                <a:xfrm>
                  <a:off x="5996880" y="3399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996880" y="33998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8" name=""/>
              <p:cNvGrpSpPr/>
              <p:nvPr/>
            </p:nvGrpSpPr>
            <p:grpSpPr>
              <a:xfrm>
                <a:off x="6050880" y="3436200"/>
                <a:ext cx="72720" cy="72720"/>
                <a:chOff x="6050880" y="3436200"/>
                <a:chExt cx="72720" cy="72720"/>
              </a:xfrm>
            </p:grpSpPr>
            <p:sp>
              <p:nvSpPr>
                <p:cNvPr id="2019" name=""/>
                <p:cNvSpPr/>
                <p:nvPr/>
              </p:nvSpPr>
              <p:spPr>
                <a:xfrm>
                  <a:off x="6050880" y="34362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050880" y="343620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1" name=""/>
              <p:cNvGrpSpPr/>
              <p:nvPr/>
            </p:nvGrpSpPr>
            <p:grpSpPr>
              <a:xfrm>
                <a:off x="6106320" y="3472920"/>
                <a:ext cx="72720" cy="72720"/>
                <a:chOff x="6106320" y="3472920"/>
                <a:chExt cx="72720" cy="72720"/>
              </a:xfrm>
            </p:grpSpPr>
            <p:sp>
              <p:nvSpPr>
                <p:cNvPr id="2022" name=""/>
                <p:cNvSpPr/>
                <p:nvPr/>
              </p:nvSpPr>
              <p:spPr>
                <a:xfrm>
                  <a:off x="6106320" y="3472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6320" y="34729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4" name=""/>
              <p:cNvGrpSpPr/>
              <p:nvPr/>
            </p:nvGrpSpPr>
            <p:grpSpPr>
              <a:xfrm>
                <a:off x="6143040" y="3509280"/>
                <a:ext cx="90000" cy="72720"/>
                <a:chOff x="6143040" y="3509280"/>
                <a:chExt cx="90000" cy="72720"/>
              </a:xfrm>
            </p:grpSpPr>
            <p:sp>
              <p:nvSpPr>
                <p:cNvPr id="2025" name=""/>
                <p:cNvSpPr/>
                <p:nvPr/>
              </p:nvSpPr>
              <p:spPr>
                <a:xfrm>
                  <a:off x="6143040" y="35092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143040" y="350928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7" name=""/>
              <p:cNvGrpSpPr/>
              <p:nvPr/>
            </p:nvGrpSpPr>
            <p:grpSpPr>
              <a:xfrm>
                <a:off x="6197040" y="3546000"/>
                <a:ext cx="90000" cy="72720"/>
                <a:chOff x="6197040" y="3546000"/>
                <a:chExt cx="90000" cy="72720"/>
              </a:xfrm>
            </p:grpSpPr>
            <p:sp>
              <p:nvSpPr>
                <p:cNvPr id="2028" name=""/>
                <p:cNvSpPr/>
                <p:nvPr/>
              </p:nvSpPr>
              <p:spPr>
                <a:xfrm>
                  <a:off x="6197040" y="3546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197040" y="354600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0" name=""/>
              <p:cNvGrpSpPr/>
              <p:nvPr/>
            </p:nvGrpSpPr>
            <p:grpSpPr>
              <a:xfrm>
                <a:off x="6252480" y="3582360"/>
                <a:ext cx="71280" cy="72720"/>
                <a:chOff x="6252480" y="3582360"/>
                <a:chExt cx="71280" cy="72720"/>
              </a:xfrm>
            </p:grpSpPr>
            <p:sp>
              <p:nvSpPr>
                <p:cNvPr id="2031" name=""/>
                <p:cNvSpPr/>
                <p:nvPr/>
              </p:nvSpPr>
              <p:spPr>
                <a:xfrm>
                  <a:off x="6252480" y="358236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6252480" y="3582360"/>
                  <a:ext cx="345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3" name=""/>
              <p:cNvGrpSpPr/>
              <p:nvPr/>
            </p:nvGrpSpPr>
            <p:grpSpPr>
              <a:xfrm>
                <a:off x="6306480" y="3619080"/>
                <a:ext cx="72720" cy="72360"/>
                <a:chOff x="6306480" y="3619080"/>
                <a:chExt cx="72720" cy="72360"/>
              </a:xfrm>
            </p:grpSpPr>
            <p:sp>
              <p:nvSpPr>
                <p:cNvPr id="2034" name=""/>
                <p:cNvSpPr/>
                <p:nvPr/>
              </p:nvSpPr>
              <p:spPr>
                <a:xfrm>
                  <a:off x="6306480" y="36190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6306480" y="36190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6" name=""/>
            <p:cNvSpPr/>
            <p:nvPr/>
          </p:nvSpPr>
          <p:spPr>
            <a:xfrm>
              <a:off x="5614560" y="3200040"/>
              <a:ext cx="765000" cy="564840"/>
            </a:xfrm>
            <a:custGeom>
              <a:avLst/>
              <a:gdLst/>
              <a:ahLst/>
              <a:rect l="l" t="t" r="r" b="b"/>
              <a:pathLst>
                <a:path w="482" h="356">
                  <a:moveTo>
                    <a:pt x="459" y="356"/>
                  </a:moveTo>
                  <a:lnTo>
                    <a:pt x="482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7" name=""/>
            <p:cNvGrpSpPr/>
            <p:nvPr/>
          </p:nvGrpSpPr>
          <p:grpSpPr>
            <a:xfrm>
              <a:off x="5687640" y="3073320"/>
              <a:ext cx="745560" cy="545400"/>
              <a:chOff x="5687640" y="3073320"/>
              <a:chExt cx="745560" cy="545400"/>
            </a:xfrm>
          </p:grpSpPr>
          <p:grpSp>
            <p:nvGrpSpPr>
              <p:cNvPr id="2038" name=""/>
              <p:cNvGrpSpPr/>
              <p:nvPr/>
            </p:nvGrpSpPr>
            <p:grpSpPr>
              <a:xfrm>
                <a:off x="5687640" y="3073320"/>
                <a:ext cx="72720" cy="72720"/>
                <a:chOff x="5687640" y="3073320"/>
                <a:chExt cx="72720" cy="72720"/>
              </a:xfrm>
            </p:grpSpPr>
            <p:sp>
              <p:nvSpPr>
                <p:cNvPr id="2039" name=""/>
                <p:cNvSpPr/>
                <p:nvPr/>
              </p:nvSpPr>
              <p:spPr>
                <a:xfrm>
                  <a:off x="5687640" y="3073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5687640" y="30733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1" name=""/>
              <p:cNvGrpSpPr/>
              <p:nvPr/>
            </p:nvGrpSpPr>
            <p:grpSpPr>
              <a:xfrm>
                <a:off x="5741280" y="3109320"/>
                <a:ext cx="72720" cy="72720"/>
                <a:chOff x="5741280" y="3109320"/>
                <a:chExt cx="72720" cy="72720"/>
              </a:xfrm>
            </p:grpSpPr>
            <p:sp>
              <p:nvSpPr>
                <p:cNvPr id="2042" name=""/>
                <p:cNvSpPr/>
                <p:nvPr/>
              </p:nvSpPr>
              <p:spPr>
                <a:xfrm>
                  <a:off x="5741280" y="3109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5741280" y="31093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5797080" y="3146040"/>
                <a:ext cx="72360" cy="72360"/>
                <a:chOff x="5797080" y="3146040"/>
                <a:chExt cx="72360" cy="7236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5797080" y="314604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5797080" y="31460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7" name=""/>
              <p:cNvGrpSpPr/>
              <p:nvPr/>
            </p:nvGrpSpPr>
            <p:grpSpPr>
              <a:xfrm>
                <a:off x="5833440" y="3182400"/>
                <a:ext cx="90000" cy="72720"/>
                <a:chOff x="5833440" y="3182400"/>
                <a:chExt cx="90000" cy="72720"/>
              </a:xfrm>
            </p:grpSpPr>
            <p:sp>
              <p:nvSpPr>
                <p:cNvPr id="2048" name=""/>
                <p:cNvSpPr/>
                <p:nvPr/>
              </p:nvSpPr>
              <p:spPr>
                <a:xfrm>
                  <a:off x="5833440" y="31824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5833440" y="31824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0" name=""/>
              <p:cNvGrpSpPr/>
              <p:nvPr/>
            </p:nvGrpSpPr>
            <p:grpSpPr>
              <a:xfrm>
                <a:off x="5887440" y="3218760"/>
                <a:ext cx="90000" cy="72720"/>
                <a:chOff x="5887440" y="3218760"/>
                <a:chExt cx="90000" cy="72720"/>
              </a:xfrm>
            </p:grpSpPr>
            <p:sp>
              <p:nvSpPr>
                <p:cNvPr id="2051" name=""/>
                <p:cNvSpPr/>
                <p:nvPr/>
              </p:nvSpPr>
              <p:spPr>
                <a:xfrm>
                  <a:off x="5887440" y="32187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5887440" y="321876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3" name=""/>
              <p:cNvGrpSpPr/>
              <p:nvPr/>
            </p:nvGrpSpPr>
            <p:grpSpPr>
              <a:xfrm>
                <a:off x="5942880" y="3255480"/>
                <a:ext cx="71280" cy="72720"/>
                <a:chOff x="5942880" y="3255480"/>
                <a:chExt cx="71280" cy="72720"/>
              </a:xfrm>
            </p:grpSpPr>
            <p:sp>
              <p:nvSpPr>
                <p:cNvPr id="2054" name=""/>
                <p:cNvSpPr/>
                <p:nvPr/>
              </p:nvSpPr>
              <p:spPr>
                <a:xfrm>
                  <a:off x="5942880" y="325548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5942880" y="325548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6" name=""/>
              <p:cNvGrpSpPr/>
              <p:nvPr/>
            </p:nvGrpSpPr>
            <p:grpSpPr>
              <a:xfrm>
                <a:off x="5996880" y="3291840"/>
                <a:ext cx="72720" cy="71280"/>
                <a:chOff x="5996880" y="3291840"/>
                <a:chExt cx="72720" cy="71280"/>
              </a:xfrm>
            </p:grpSpPr>
            <p:sp>
              <p:nvSpPr>
                <p:cNvPr id="2057" name=""/>
                <p:cNvSpPr/>
                <p:nvPr/>
              </p:nvSpPr>
              <p:spPr>
                <a:xfrm>
                  <a:off x="5996880" y="329184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5996880" y="32918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9" name=""/>
              <p:cNvGrpSpPr/>
              <p:nvPr/>
            </p:nvGrpSpPr>
            <p:grpSpPr>
              <a:xfrm>
                <a:off x="6050880" y="3328560"/>
                <a:ext cx="72720" cy="70920"/>
                <a:chOff x="6050880" y="3328560"/>
                <a:chExt cx="72720" cy="70920"/>
              </a:xfrm>
            </p:grpSpPr>
            <p:sp>
              <p:nvSpPr>
                <p:cNvPr id="2060" name=""/>
                <p:cNvSpPr/>
                <p:nvPr/>
              </p:nvSpPr>
              <p:spPr>
                <a:xfrm>
                  <a:off x="6050880" y="332856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6050880" y="3328560"/>
                  <a:ext cx="3636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2" name=""/>
              <p:cNvGrpSpPr/>
              <p:nvPr/>
            </p:nvGrpSpPr>
            <p:grpSpPr>
              <a:xfrm>
                <a:off x="6106320" y="3363480"/>
                <a:ext cx="72720" cy="72360"/>
                <a:chOff x="6106320" y="3363480"/>
                <a:chExt cx="72720" cy="72360"/>
              </a:xfrm>
            </p:grpSpPr>
            <p:sp>
              <p:nvSpPr>
                <p:cNvPr id="2063" name=""/>
                <p:cNvSpPr/>
                <p:nvPr/>
              </p:nvSpPr>
              <p:spPr>
                <a:xfrm>
                  <a:off x="6106320" y="33634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6106320" y="33634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5" name=""/>
              <p:cNvGrpSpPr/>
              <p:nvPr/>
            </p:nvGrpSpPr>
            <p:grpSpPr>
              <a:xfrm>
                <a:off x="6160320" y="3399840"/>
                <a:ext cx="72720" cy="72720"/>
                <a:chOff x="6160320" y="3399840"/>
                <a:chExt cx="72720" cy="72720"/>
              </a:xfrm>
            </p:grpSpPr>
            <p:sp>
              <p:nvSpPr>
                <p:cNvPr id="2066" name=""/>
                <p:cNvSpPr/>
                <p:nvPr/>
              </p:nvSpPr>
              <p:spPr>
                <a:xfrm>
                  <a:off x="6160320" y="3399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6160320" y="33998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8" name=""/>
              <p:cNvGrpSpPr/>
              <p:nvPr/>
            </p:nvGrpSpPr>
            <p:grpSpPr>
              <a:xfrm>
                <a:off x="6197040" y="3436200"/>
                <a:ext cx="90000" cy="72720"/>
                <a:chOff x="6197040" y="3436200"/>
                <a:chExt cx="90000" cy="72720"/>
              </a:xfrm>
            </p:grpSpPr>
            <p:sp>
              <p:nvSpPr>
                <p:cNvPr id="2069" name=""/>
                <p:cNvSpPr/>
                <p:nvPr/>
              </p:nvSpPr>
              <p:spPr>
                <a:xfrm>
                  <a:off x="6197040" y="34362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6197040" y="343620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1" name=""/>
              <p:cNvGrpSpPr/>
              <p:nvPr/>
            </p:nvGrpSpPr>
            <p:grpSpPr>
              <a:xfrm>
                <a:off x="6252480" y="3472920"/>
                <a:ext cx="90360" cy="72720"/>
                <a:chOff x="6252480" y="3472920"/>
                <a:chExt cx="90360" cy="72720"/>
              </a:xfrm>
            </p:grpSpPr>
            <p:sp>
              <p:nvSpPr>
                <p:cNvPr id="2072" name=""/>
                <p:cNvSpPr/>
                <p:nvPr/>
              </p:nvSpPr>
              <p:spPr>
                <a:xfrm>
                  <a:off x="6252480" y="347292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6252480" y="34729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4" name=""/>
              <p:cNvGrpSpPr/>
              <p:nvPr/>
            </p:nvGrpSpPr>
            <p:grpSpPr>
              <a:xfrm>
                <a:off x="6306480" y="3509280"/>
                <a:ext cx="72720" cy="72720"/>
                <a:chOff x="6306480" y="3509280"/>
                <a:chExt cx="72720" cy="72720"/>
              </a:xfrm>
            </p:grpSpPr>
            <p:sp>
              <p:nvSpPr>
                <p:cNvPr id="2075" name=""/>
                <p:cNvSpPr/>
                <p:nvPr/>
              </p:nvSpPr>
              <p:spPr>
                <a:xfrm>
                  <a:off x="6306480" y="35092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6306480" y="35092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7" name=""/>
              <p:cNvGrpSpPr/>
              <p:nvPr/>
            </p:nvGrpSpPr>
            <p:grpSpPr>
              <a:xfrm>
                <a:off x="6360480" y="3546000"/>
                <a:ext cx="72720" cy="72720"/>
                <a:chOff x="6360480" y="3546000"/>
                <a:chExt cx="72720" cy="72720"/>
              </a:xfrm>
            </p:grpSpPr>
            <p:sp>
              <p:nvSpPr>
                <p:cNvPr id="2078" name=""/>
                <p:cNvSpPr/>
                <p:nvPr/>
              </p:nvSpPr>
              <p:spPr>
                <a:xfrm>
                  <a:off x="6360480" y="3546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6360480" y="3546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0" name=""/>
            <p:cNvSpPr/>
            <p:nvPr/>
          </p:nvSpPr>
          <p:spPr>
            <a:xfrm>
              <a:off x="5668560" y="3127320"/>
              <a:ext cx="765000" cy="564480"/>
            </a:xfrm>
            <a:custGeom>
              <a:avLst/>
              <a:gdLst/>
              <a:ahLst/>
              <a:rect l="l" t="t" r="r" b="b"/>
              <a:pathLst>
                <a:path w="482" h="356">
                  <a:moveTo>
                    <a:pt x="459" y="356"/>
                  </a:moveTo>
                  <a:lnTo>
                    <a:pt x="482" y="322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3524400" y="2637000"/>
            <a:ext cx="1473840" cy="1621800"/>
            <a:chOff x="3524400" y="2637000"/>
            <a:chExt cx="1473840" cy="1621800"/>
          </a:xfrm>
        </p:grpSpPr>
        <p:grpSp>
          <p:nvGrpSpPr>
            <p:cNvPr id="2082" name=""/>
            <p:cNvGrpSpPr/>
            <p:nvPr/>
          </p:nvGrpSpPr>
          <p:grpSpPr>
            <a:xfrm>
              <a:off x="3541320" y="3638520"/>
              <a:ext cx="745560" cy="546840"/>
              <a:chOff x="3541320" y="3638520"/>
              <a:chExt cx="745560" cy="546840"/>
            </a:xfrm>
          </p:grpSpPr>
          <p:grpSp>
            <p:nvGrpSpPr>
              <p:cNvPr id="2083" name=""/>
              <p:cNvGrpSpPr/>
              <p:nvPr/>
            </p:nvGrpSpPr>
            <p:grpSpPr>
              <a:xfrm>
                <a:off x="3541320" y="3638520"/>
                <a:ext cx="72720" cy="72360"/>
                <a:chOff x="3541320" y="3638520"/>
                <a:chExt cx="72720" cy="7236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3541320" y="36385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3541320" y="36385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6" name=""/>
              <p:cNvGrpSpPr/>
              <p:nvPr/>
            </p:nvGrpSpPr>
            <p:grpSpPr>
              <a:xfrm>
                <a:off x="3577680" y="3674520"/>
                <a:ext cx="90000" cy="72720"/>
                <a:chOff x="3577680" y="3674520"/>
                <a:chExt cx="90000" cy="72720"/>
              </a:xfrm>
            </p:grpSpPr>
            <p:sp>
              <p:nvSpPr>
                <p:cNvPr id="2087" name=""/>
                <p:cNvSpPr/>
                <p:nvPr/>
              </p:nvSpPr>
              <p:spPr>
                <a:xfrm>
                  <a:off x="3577680" y="36745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3577680" y="36745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9" name=""/>
              <p:cNvGrpSpPr/>
              <p:nvPr/>
            </p:nvGrpSpPr>
            <p:grpSpPr>
              <a:xfrm>
                <a:off x="3631680" y="3710880"/>
                <a:ext cx="91800" cy="72720"/>
                <a:chOff x="3631680" y="3710880"/>
                <a:chExt cx="91800" cy="72720"/>
              </a:xfrm>
            </p:grpSpPr>
            <p:sp>
              <p:nvSpPr>
                <p:cNvPr id="2090" name=""/>
                <p:cNvSpPr/>
                <p:nvPr/>
              </p:nvSpPr>
              <p:spPr>
                <a:xfrm>
                  <a:off x="3631680" y="37108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631680" y="371088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2" name=""/>
              <p:cNvGrpSpPr/>
              <p:nvPr/>
            </p:nvGrpSpPr>
            <p:grpSpPr>
              <a:xfrm>
                <a:off x="3687120" y="3747600"/>
                <a:ext cx="90000" cy="72720"/>
                <a:chOff x="3687120" y="3747600"/>
                <a:chExt cx="90000" cy="72720"/>
              </a:xfrm>
            </p:grpSpPr>
            <p:sp>
              <p:nvSpPr>
                <p:cNvPr id="2093" name=""/>
                <p:cNvSpPr/>
                <p:nvPr/>
              </p:nvSpPr>
              <p:spPr>
                <a:xfrm>
                  <a:off x="3687120" y="37476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3687120" y="3747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5" name=""/>
              <p:cNvGrpSpPr/>
              <p:nvPr/>
            </p:nvGrpSpPr>
            <p:grpSpPr>
              <a:xfrm>
                <a:off x="3741120" y="3783960"/>
                <a:ext cx="72720" cy="72720"/>
                <a:chOff x="3741120" y="3783960"/>
                <a:chExt cx="72720" cy="72720"/>
              </a:xfrm>
            </p:grpSpPr>
            <p:sp>
              <p:nvSpPr>
                <p:cNvPr id="2096" name=""/>
                <p:cNvSpPr/>
                <p:nvPr/>
              </p:nvSpPr>
              <p:spPr>
                <a:xfrm>
                  <a:off x="3741120" y="3783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741120" y="37839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8" name=""/>
              <p:cNvGrpSpPr/>
              <p:nvPr/>
            </p:nvGrpSpPr>
            <p:grpSpPr>
              <a:xfrm>
                <a:off x="3796560" y="3820680"/>
                <a:ext cx="72720" cy="72720"/>
                <a:chOff x="3796560" y="3820680"/>
                <a:chExt cx="72720" cy="72720"/>
              </a:xfrm>
            </p:grpSpPr>
            <p:sp>
              <p:nvSpPr>
                <p:cNvPr id="2099" name=""/>
                <p:cNvSpPr/>
                <p:nvPr/>
              </p:nvSpPr>
              <p:spPr>
                <a:xfrm>
                  <a:off x="3796560" y="3820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3796560" y="38206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1" name=""/>
              <p:cNvGrpSpPr/>
              <p:nvPr/>
            </p:nvGrpSpPr>
            <p:grpSpPr>
              <a:xfrm>
                <a:off x="3850560" y="3857040"/>
                <a:ext cx="72720" cy="72720"/>
                <a:chOff x="3850560" y="3857040"/>
                <a:chExt cx="72720" cy="72720"/>
              </a:xfrm>
            </p:grpSpPr>
            <p:sp>
              <p:nvSpPr>
                <p:cNvPr id="2102" name=""/>
                <p:cNvSpPr/>
                <p:nvPr/>
              </p:nvSpPr>
              <p:spPr>
                <a:xfrm>
                  <a:off x="3850560" y="3857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3850560" y="38570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4" name=""/>
              <p:cNvGrpSpPr/>
              <p:nvPr/>
            </p:nvGrpSpPr>
            <p:grpSpPr>
              <a:xfrm>
                <a:off x="3906360" y="3893760"/>
                <a:ext cx="70920" cy="72360"/>
                <a:chOff x="3906360" y="3893760"/>
                <a:chExt cx="70920" cy="72360"/>
              </a:xfrm>
            </p:grpSpPr>
            <p:sp>
              <p:nvSpPr>
                <p:cNvPr id="2105" name=""/>
                <p:cNvSpPr/>
                <p:nvPr/>
              </p:nvSpPr>
              <p:spPr>
                <a:xfrm>
                  <a:off x="3906360" y="389376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3906360" y="38937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7" name=""/>
              <p:cNvGrpSpPr/>
              <p:nvPr/>
            </p:nvGrpSpPr>
            <p:grpSpPr>
              <a:xfrm>
                <a:off x="3942720" y="3930120"/>
                <a:ext cx="90000" cy="72720"/>
                <a:chOff x="3942720" y="3930120"/>
                <a:chExt cx="90000" cy="72720"/>
              </a:xfrm>
            </p:grpSpPr>
            <p:sp>
              <p:nvSpPr>
                <p:cNvPr id="2108" name=""/>
                <p:cNvSpPr/>
                <p:nvPr/>
              </p:nvSpPr>
              <p:spPr>
                <a:xfrm>
                  <a:off x="3942720" y="39301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3942720" y="39301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0" name=""/>
              <p:cNvGrpSpPr/>
              <p:nvPr/>
            </p:nvGrpSpPr>
            <p:grpSpPr>
              <a:xfrm>
                <a:off x="3996720" y="3966480"/>
                <a:ext cx="90000" cy="72720"/>
                <a:chOff x="3996720" y="3966480"/>
                <a:chExt cx="90000" cy="72720"/>
              </a:xfrm>
            </p:grpSpPr>
            <p:sp>
              <p:nvSpPr>
                <p:cNvPr id="2111" name=""/>
                <p:cNvSpPr/>
                <p:nvPr/>
              </p:nvSpPr>
              <p:spPr>
                <a:xfrm>
                  <a:off x="3996720" y="39664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3996720" y="396648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3" name=""/>
              <p:cNvGrpSpPr/>
              <p:nvPr/>
            </p:nvGrpSpPr>
            <p:grpSpPr>
              <a:xfrm>
                <a:off x="4050720" y="3984120"/>
                <a:ext cx="91800" cy="91800"/>
                <a:chOff x="4050720" y="3984120"/>
                <a:chExt cx="91800" cy="91800"/>
              </a:xfrm>
            </p:grpSpPr>
            <p:sp>
              <p:nvSpPr>
                <p:cNvPr id="2114" name=""/>
                <p:cNvSpPr/>
                <p:nvPr/>
              </p:nvSpPr>
              <p:spPr>
                <a:xfrm>
                  <a:off x="4050720" y="398412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4050720" y="3984120"/>
                  <a:ext cx="5508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6" name=""/>
              <p:cNvGrpSpPr/>
              <p:nvPr/>
            </p:nvGrpSpPr>
            <p:grpSpPr>
              <a:xfrm>
                <a:off x="4106160" y="4020480"/>
                <a:ext cx="72720" cy="91800"/>
                <a:chOff x="4106160" y="4020480"/>
                <a:chExt cx="72720" cy="91800"/>
              </a:xfrm>
            </p:grpSpPr>
            <p:sp>
              <p:nvSpPr>
                <p:cNvPr id="2117" name=""/>
                <p:cNvSpPr/>
                <p:nvPr/>
              </p:nvSpPr>
              <p:spPr>
                <a:xfrm>
                  <a:off x="4106160" y="40204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4106160" y="402048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9" name=""/>
              <p:cNvGrpSpPr/>
              <p:nvPr/>
            </p:nvGrpSpPr>
            <p:grpSpPr>
              <a:xfrm>
                <a:off x="4160160" y="4057200"/>
                <a:ext cx="72720" cy="91800"/>
                <a:chOff x="4160160" y="4057200"/>
                <a:chExt cx="72720" cy="91800"/>
              </a:xfrm>
            </p:grpSpPr>
            <p:sp>
              <p:nvSpPr>
                <p:cNvPr id="2120" name=""/>
                <p:cNvSpPr/>
                <p:nvPr/>
              </p:nvSpPr>
              <p:spPr>
                <a:xfrm>
                  <a:off x="4160160" y="40572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4160160" y="40572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2" name=""/>
              <p:cNvGrpSpPr/>
              <p:nvPr/>
            </p:nvGrpSpPr>
            <p:grpSpPr>
              <a:xfrm>
                <a:off x="4215960" y="4093560"/>
                <a:ext cx="70920" cy="91800"/>
                <a:chOff x="4215960" y="4093560"/>
                <a:chExt cx="70920" cy="91800"/>
              </a:xfrm>
            </p:grpSpPr>
            <p:sp>
              <p:nvSpPr>
                <p:cNvPr id="2123" name=""/>
                <p:cNvSpPr/>
                <p:nvPr/>
              </p:nvSpPr>
              <p:spPr>
                <a:xfrm>
                  <a:off x="4215960" y="409356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4215960" y="40935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5" name=""/>
            <p:cNvSpPr/>
            <p:nvPr/>
          </p:nvSpPr>
          <p:spPr>
            <a:xfrm>
              <a:off x="3524400" y="3674880"/>
              <a:ext cx="74556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26" name=""/>
            <p:cNvGrpSpPr/>
            <p:nvPr/>
          </p:nvGrpSpPr>
          <p:grpSpPr>
            <a:xfrm>
              <a:off x="3978000" y="3019320"/>
              <a:ext cx="747000" cy="545400"/>
              <a:chOff x="3978000" y="3019320"/>
              <a:chExt cx="747000" cy="545400"/>
            </a:xfrm>
          </p:grpSpPr>
          <p:grpSp>
            <p:nvGrpSpPr>
              <p:cNvPr id="2127" name=""/>
              <p:cNvGrpSpPr/>
              <p:nvPr/>
            </p:nvGrpSpPr>
            <p:grpSpPr>
              <a:xfrm>
                <a:off x="3978000" y="3019320"/>
                <a:ext cx="72720" cy="72720"/>
                <a:chOff x="3978000" y="3019320"/>
                <a:chExt cx="72720" cy="72720"/>
              </a:xfrm>
            </p:grpSpPr>
            <p:sp>
              <p:nvSpPr>
                <p:cNvPr id="2128" name=""/>
                <p:cNvSpPr/>
                <p:nvPr/>
              </p:nvSpPr>
              <p:spPr>
                <a:xfrm>
                  <a:off x="3978000" y="3019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3978000" y="30193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0" name=""/>
              <p:cNvGrpSpPr/>
              <p:nvPr/>
            </p:nvGrpSpPr>
            <p:grpSpPr>
              <a:xfrm>
                <a:off x="4014000" y="3055320"/>
                <a:ext cx="91800" cy="72720"/>
                <a:chOff x="4014000" y="3055320"/>
                <a:chExt cx="91800" cy="72720"/>
              </a:xfrm>
            </p:grpSpPr>
            <p:sp>
              <p:nvSpPr>
                <p:cNvPr id="2131" name=""/>
                <p:cNvSpPr/>
                <p:nvPr/>
              </p:nvSpPr>
              <p:spPr>
                <a:xfrm>
                  <a:off x="4014000" y="30553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4014000" y="305532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3" name=""/>
              <p:cNvGrpSpPr/>
              <p:nvPr/>
            </p:nvGrpSpPr>
            <p:grpSpPr>
              <a:xfrm>
                <a:off x="4069800" y="3092040"/>
                <a:ext cx="90000" cy="72720"/>
                <a:chOff x="4069800" y="3092040"/>
                <a:chExt cx="90000" cy="72720"/>
              </a:xfrm>
            </p:grpSpPr>
            <p:sp>
              <p:nvSpPr>
                <p:cNvPr id="2134" name=""/>
                <p:cNvSpPr/>
                <p:nvPr/>
              </p:nvSpPr>
              <p:spPr>
                <a:xfrm>
                  <a:off x="4069800" y="30920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4069800" y="30920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6" name=""/>
              <p:cNvGrpSpPr/>
              <p:nvPr/>
            </p:nvGrpSpPr>
            <p:grpSpPr>
              <a:xfrm>
                <a:off x="4123800" y="3128400"/>
                <a:ext cx="72720" cy="72720"/>
                <a:chOff x="4123800" y="3128400"/>
                <a:chExt cx="72720" cy="72720"/>
              </a:xfrm>
            </p:grpSpPr>
            <p:sp>
              <p:nvSpPr>
                <p:cNvPr id="2137" name=""/>
                <p:cNvSpPr/>
                <p:nvPr/>
              </p:nvSpPr>
              <p:spPr>
                <a:xfrm>
                  <a:off x="4123800" y="3128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4123800" y="31284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9" name=""/>
              <p:cNvGrpSpPr/>
              <p:nvPr/>
            </p:nvGrpSpPr>
            <p:grpSpPr>
              <a:xfrm>
                <a:off x="4179240" y="3165120"/>
                <a:ext cx="72720" cy="72360"/>
                <a:chOff x="4179240" y="3165120"/>
                <a:chExt cx="72720" cy="7236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4179240" y="31651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4179240" y="31651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2" name=""/>
              <p:cNvGrpSpPr/>
              <p:nvPr/>
            </p:nvGrpSpPr>
            <p:grpSpPr>
              <a:xfrm>
                <a:off x="4233240" y="3201480"/>
                <a:ext cx="72720" cy="72720"/>
                <a:chOff x="4233240" y="3201480"/>
                <a:chExt cx="72720" cy="72720"/>
              </a:xfrm>
            </p:grpSpPr>
            <p:sp>
              <p:nvSpPr>
                <p:cNvPr id="2143" name=""/>
                <p:cNvSpPr/>
                <p:nvPr/>
              </p:nvSpPr>
              <p:spPr>
                <a:xfrm>
                  <a:off x="4233240" y="3201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4233240" y="32014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5" name=""/>
              <p:cNvGrpSpPr/>
              <p:nvPr/>
            </p:nvGrpSpPr>
            <p:grpSpPr>
              <a:xfrm>
                <a:off x="4287240" y="3237840"/>
                <a:ext cx="72720" cy="72720"/>
                <a:chOff x="4287240" y="3237840"/>
                <a:chExt cx="72720" cy="72720"/>
              </a:xfrm>
            </p:grpSpPr>
            <p:sp>
              <p:nvSpPr>
                <p:cNvPr id="2146" name=""/>
                <p:cNvSpPr/>
                <p:nvPr/>
              </p:nvSpPr>
              <p:spPr>
                <a:xfrm>
                  <a:off x="4287240" y="3237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4287240" y="32378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8" name=""/>
              <p:cNvGrpSpPr/>
              <p:nvPr/>
            </p:nvGrpSpPr>
            <p:grpSpPr>
              <a:xfrm>
                <a:off x="4342680" y="3274560"/>
                <a:ext cx="72720" cy="72720"/>
                <a:chOff x="4342680" y="3274560"/>
                <a:chExt cx="72720" cy="7272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434268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4342680" y="3274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1" name=""/>
              <p:cNvGrpSpPr/>
              <p:nvPr/>
            </p:nvGrpSpPr>
            <p:grpSpPr>
              <a:xfrm>
                <a:off x="4379400" y="3310920"/>
                <a:ext cx="90000" cy="71280"/>
                <a:chOff x="4379400" y="3310920"/>
                <a:chExt cx="90000" cy="7128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4379400" y="3310920"/>
                  <a:ext cx="90000" cy="712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4379400" y="33109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4433400" y="3347640"/>
                <a:ext cx="91440" cy="70920"/>
                <a:chOff x="4433400" y="3347640"/>
                <a:chExt cx="91440" cy="70920"/>
              </a:xfrm>
            </p:grpSpPr>
            <p:sp>
              <p:nvSpPr>
                <p:cNvPr id="2155" name=""/>
                <p:cNvSpPr/>
                <p:nvPr/>
              </p:nvSpPr>
              <p:spPr>
                <a:xfrm>
                  <a:off x="4433400" y="3347640"/>
                  <a:ext cx="9144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433400" y="3347640"/>
                  <a:ext cx="55080" cy="34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7" name=""/>
              <p:cNvGrpSpPr/>
              <p:nvPr/>
            </p:nvGrpSpPr>
            <p:grpSpPr>
              <a:xfrm>
                <a:off x="4488840" y="3382560"/>
                <a:ext cx="72720" cy="72360"/>
                <a:chOff x="4488840" y="3382560"/>
                <a:chExt cx="72720" cy="72360"/>
              </a:xfrm>
            </p:grpSpPr>
            <p:sp>
              <p:nvSpPr>
                <p:cNvPr id="2158" name=""/>
                <p:cNvSpPr/>
                <p:nvPr/>
              </p:nvSpPr>
              <p:spPr>
                <a:xfrm>
                  <a:off x="4488840" y="33825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4488840" y="33825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0" name=""/>
              <p:cNvGrpSpPr/>
              <p:nvPr/>
            </p:nvGrpSpPr>
            <p:grpSpPr>
              <a:xfrm>
                <a:off x="4542840" y="3418920"/>
                <a:ext cx="72720" cy="72720"/>
                <a:chOff x="4542840" y="3418920"/>
                <a:chExt cx="72720" cy="72720"/>
              </a:xfrm>
            </p:grpSpPr>
            <p:sp>
              <p:nvSpPr>
                <p:cNvPr id="2161" name=""/>
                <p:cNvSpPr/>
                <p:nvPr/>
              </p:nvSpPr>
              <p:spPr>
                <a:xfrm>
                  <a:off x="4542840" y="341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4542840" y="3418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3" name=""/>
              <p:cNvGrpSpPr/>
              <p:nvPr/>
            </p:nvGrpSpPr>
            <p:grpSpPr>
              <a:xfrm>
                <a:off x="4596840" y="3455280"/>
                <a:ext cx="72720" cy="72720"/>
                <a:chOff x="4596840" y="3455280"/>
                <a:chExt cx="72720" cy="7272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4596840" y="34552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596840" y="3455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6" name=""/>
              <p:cNvGrpSpPr/>
              <p:nvPr/>
            </p:nvGrpSpPr>
            <p:grpSpPr>
              <a:xfrm>
                <a:off x="4652280" y="3492000"/>
                <a:ext cx="72720" cy="72720"/>
                <a:chOff x="4652280" y="3492000"/>
                <a:chExt cx="72720" cy="72720"/>
              </a:xfrm>
            </p:grpSpPr>
            <p:sp>
              <p:nvSpPr>
                <p:cNvPr id="2167" name=""/>
                <p:cNvSpPr/>
                <p:nvPr/>
              </p:nvSpPr>
              <p:spPr>
                <a:xfrm>
                  <a:off x="4652280" y="3492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652280" y="34920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9" name=""/>
            <p:cNvSpPr/>
            <p:nvPr/>
          </p:nvSpPr>
          <p:spPr>
            <a:xfrm>
              <a:off x="3960720" y="307332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0" name=""/>
            <p:cNvGrpSpPr/>
            <p:nvPr/>
          </p:nvGrpSpPr>
          <p:grpSpPr>
            <a:xfrm>
              <a:off x="4014360" y="2946240"/>
              <a:ext cx="764640" cy="545400"/>
              <a:chOff x="4014360" y="2946240"/>
              <a:chExt cx="764640" cy="545400"/>
            </a:xfrm>
          </p:grpSpPr>
          <p:grpSp>
            <p:nvGrpSpPr>
              <p:cNvPr id="2171" name=""/>
              <p:cNvGrpSpPr/>
              <p:nvPr/>
            </p:nvGrpSpPr>
            <p:grpSpPr>
              <a:xfrm>
                <a:off x="4014360" y="2946240"/>
                <a:ext cx="91800" cy="72720"/>
                <a:chOff x="4014360" y="2946240"/>
                <a:chExt cx="91800" cy="72720"/>
              </a:xfrm>
            </p:grpSpPr>
            <p:sp>
              <p:nvSpPr>
                <p:cNvPr id="2172" name=""/>
                <p:cNvSpPr/>
                <p:nvPr/>
              </p:nvSpPr>
              <p:spPr>
                <a:xfrm>
                  <a:off x="4014360" y="294624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14360" y="294624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4" name=""/>
              <p:cNvGrpSpPr/>
              <p:nvPr/>
            </p:nvGrpSpPr>
            <p:grpSpPr>
              <a:xfrm>
                <a:off x="4069800" y="2982240"/>
                <a:ext cx="90000" cy="72720"/>
                <a:chOff x="4069800" y="2982240"/>
                <a:chExt cx="90000" cy="7272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4069800" y="29822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069800" y="29822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7" name=""/>
              <p:cNvGrpSpPr/>
              <p:nvPr/>
            </p:nvGrpSpPr>
            <p:grpSpPr>
              <a:xfrm>
                <a:off x="4123800" y="3018960"/>
                <a:ext cx="72720" cy="72720"/>
                <a:chOff x="4123800" y="3018960"/>
                <a:chExt cx="72720" cy="72720"/>
              </a:xfrm>
            </p:grpSpPr>
            <p:sp>
              <p:nvSpPr>
                <p:cNvPr id="2178" name=""/>
                <p:cNvSpPr/>
                <p:nvPr/>
              </p:nvSpPr>
              <p:spPr>
                <a:xfrm>
                  <a:off x="4123800" y="3018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123800" y="3018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0" name=""/>
              <p:cNvGrpSpPr/>
              <p:nvPr/>
            </p:nvGrpSpPr>
            <p:grpSpPr>
              <a:xfrm>
                <a:off x="4179240" y="3055320"/>
                <a:ext cx="72720" cy="72720"/>
                <a:chOff x="4179240" y="3055320"/>
                <a:chExt cx="72720" cy="7272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4179240" y="3055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179240" y="30553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4233240" y="3092040"/>
                <a:ext cx="72720" cy="72720"/>
                <a:chOff x="4233240" y="3092040"/>
                <a:chExt cx="72720" cy="7272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4233240" y="3092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233240" y="30920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6" name=""/>
              <p:cNvGrpSpPr/>
              <p:nvPr/>
            </p:nvGrpSpPr>
            <p:grpSpPr>
              <a:xfrm>
                <a:off x="4287240" y="3128400"/>
                <a:ext cx="72720" cy="72720"/>
                <a:chOff x="4287240" y="3128400"/>
                <a:chExt cx="72720" cy="72720"/>
              </a:xfrm>
            </p:grpSpPr>
            <p:sp>
              <p:nvSpPr>
                <p:cNvPr id="2187" name=""/>
                <p:cNvSpPr/>
                <p:nvPr/>
              </p:nvSpPr>
              <p:spPr>
                <a:xfrm>
                  <a:off x="4287240" y="3128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4287240" y="31284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9" name=""/>
              <p:cNvGrpSpPr/>
              <p:nvPr/>
            </p:nvGrpSpPr>
            <p:grpSpPr>
              <a:xfrm>
                <a:off x="4342680" y="3165120"/>
                <a:ext cx="72720" cy="72360"/>
                <a:chOff x="4342680" y="3165120"/>
                <a:chExt cx="72720" cy="72360"/>
              </a:xfrm>
            </p:grpSpPr>
            <p:sp>
              <p:nvSpPr>
                <p:cNvPr id="2190" name=""/>
                <p:cNvSpPr/>
                <p:nvPr/>
              </p:nvSpPr>
              <p:spPr>
                <a:xfrm>
                  <a:off x="4342680" y="31651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4342680" y="31651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2" name=""/>
              <p:cNvGrpSpPr/>
              <p:nvPr/>
            </p:nvGrpSpPr>
            <p:grpSpPr>
              <a:xfrm>
                <a:off x="4379400" y="3201480"/>
                <a:ext cx="90000" cy="72720"/>
                <a:chOff x="4379400" y="3201480"/>
                <a:chExt cx="90000" cy="72720"/>
              </a:xfrm>
            </p:grpSpPr>
            <p:sp>
              <p:nvSpPr>
                <p:cNvPr id="2193" name=""/>
                <p:cNvSpPr/>
                <p:nvPr/>
              </p:nvSpPr>
              <p:spPr>
                <a:xfrm>
                  <a:off x="4379400" y="32014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4379400" y="320148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5" name=""/>
              <p:cNvGrpSpPr/>
              <p:nvPr/>
            </p:nvGrpSpPr>
            <p:grpSpPr>
              <a:xfrm>
                <a:off x="4433400" y="3237840"/>
                <a:ext cx="91440" cy="72720"/>
                <a:chOff x="4433400" y="3237840"/>
                <a:chExt cx="91440" cy="72720"/>
              </a:xfrm>
            </p:grpSpPr>
            <p:sp>
              <p:nvSpPr>
                <p:cNvPr id="2196" name=""/>
                <p:cNvSpPr/>
                <p:nvPr/>
              </p:nvSpPr>
              <p:spPr>
                <a:xfrm>
                  <a:off x="4433400" y="3237840"/>
                  <a:ext cx="9144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4433400" y="323784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4488840" y="3274560"/>
                <a:ext cx="72720" cy="72720"/>
                <a:chOff x="4488840" y="3274560"/>
                <a:chExt cx="72720" cy="72720"/>
              </a:xfrm>
            </p:grpSpPr>
            <p:sp>
              <p:nvSpPr>
                <p:cNvPr id="2199" name=""/>
                <p:cNvSpPr/>
                <p:nvPr/>
              </p:nvSpPr>
              <p:spPr>
                <a:xfrm>
                  <a:off x="448884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4488840" y="32745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1" name=""/>
              <p:cNvGrpSpPr/>
              <p:nvPr/>
            </p:nvGrpSpPr>
            <p:grpSpPr>
              <a:xfrm>
                <a:off x="4542840" y="3310920"/>
                <a:ext cx="72720" cy="71280"/>
                <a:chOff x="4542840" y="3310920"/>
                <a:chExt cx="72720" cy="71280"/>
              </a:xfrm>
            </p:grpSpPr>
            <p:sp>
              <p:nvSpPr>
                <p:cNvPr id="2202" name=""/>
                <p:cNvSpPr/>
                <p:nvPr/>
              </p:nvSpPr>
              <p:spPr>
                <a:xfrm>
                  <a:off x="4542840" y="33109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4542840" y="3310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4" name=""/>
              <p:cNvGrpSpPr/>
              <p:nvPr/>
            </p:nvGrpSpPr>
            <p:grpSpPr>
              <a:xfrm>
                <a:off x="4596840" y="3347640"/>
                <a:ext cx="72720" cy="70920"/>
                <a:chOff x="4596840" y="3347640"/>
                <a:chExt cx="72720" cy="70920"/>
              </a:xfrm>
            </p:grpSpPr>
            <p:sp>
              <p:nvSpPr>
                <p:cNvPr id="2205" name=""/>
                <p:cNvSpPr/>
                <p:nvPr/>
              </p:nvSpPr>
              <p:spPr>
                <a:xfrm>
                  <a:off x="4596840" y="334764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4596840" y="334764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7" name=""/>
              <p:cNvGrpSpPr/>
              <p:nvPr/>
            </p:nvGrpSpPr>
            <p:grpSpPr>
              <a:xfrm>
                <a:off x="4652280" y="3382560"/>
                <a:ext cx="72720" cy="72360"/>
                <a:chOff x="4652280" y="3382560"/>
                <a:chExt cx="72720" cy="72360"/>
              </a:xfrm>
            </p:grpSpPr>
            <p:sp>
              <p:nvSpPr>
                <p:cNvPr id="2208" name=""/>
                <p:cNvSpPr/>
                <p:nvPr/>
              </p:nvSpPr>
              <p:spPr>
                <a:xfrm>
                  <a:off x="4652280" y="33825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4652280" y="3382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0" name=""/>
              <p:cNvGrpSpPr/>
              <p:nvPr/>
            </p:nvGrpSpPr>
            <p:grpSpPr>
              <a:xfrm>
                <a:off x="4706280" y="3418920"/>
                <a:ext cx="72720" cy="72720"/>
                <a:chOff x="4706280" y="3418920"/>
                <a:chExt cx="72720" cy="72720"/>
              </a:xfrm>
            </p:grpSpPr>
            <p:sp>
              <p:nvSpPr>
                <p:cNvPr id="2211" name=""/>
                <p:cNvSpPr/>
                <p:nvPr/>
              </p:nvSpPr>
              <p:spPr>
                <a:xfrm>
                  <a:off x="4706280" y="341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4706280" y="34189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3" name=""/>
            <p:cNvSpPr/>
            <p:nvPr/>
          </p:nvSpPr>
          <p:spPr>
            <a:xfrm>
              <a:off x="4014360" y="298260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48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4" name=""/>
            <p:cNvGrpSpPr/>
            <p:nvPr/>
          </p:nvGrpSpPr>
          <p:grpSpPr>
            <a:xfrm>
              <a:off x="4179600" y="2709720"/>
              <a:ext cx="762840" cy="545400"/>
              <a:chOff x="4179600" y="2709720"/>
              <a:chExt cx="762840" cy="545400"/>
            </a:xfrm>
          </p:grpSpPr>
          <p:grpSp>
            <p:nvGrpSpPr>
              <p:cNvPr id="2215" name=""/>
              <p:cNvGrpSpPr/>
              <p:nvPr/>
            </p:nvGrpSpPr>
            <p:grpSpPr>
              <a:xfrm>
                <a:off x="4179600" y="2709720"/>
                <a:ext cx="90000" cy="70920"/>
                <a:chOff x="4179600" y="2709720"/>
                <a:chExt cx="90000" cy="70920"/>
              </a:xfrm>
            </p:grpSpPr>
            <p:sp>
              <p:nvSpPr>
                <p:cNvPr id="2216" name=""/>
                <p:cNvSpPr/>
                <p:nvPr/>
              </p:nvSpPr>
              <p:spPr>
                <a:xfrm>
                  <a:off x="4179600" y="2709720"/>
                  <a:ext cx="9000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4179600" y="27097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8" name=""/>
              <p:cNvGrpSpPr/>
              <p:nvPr/>
            </p:nvGrpSpPr>
            <p:grpSpPr>
              <a:xfrm>
                <a:off x="4233240" y="2745720"/>
                <a:ext cx="90000" cy="90360"/>
                <a:chOff x="4233240" y="2745720"/>
                <a:chExt cx="90000" cy="90360"/>
              </a:xfrm>
            </p:grpSpPr>
            <p:sp>
              <p:nvSpPr>
                <p:cNvPr id="2219" name=""/>
                <p:cNvSpPr/>
                <p:nvPr/>
              </p:nvSpPr>
              <p:spPr>
                <a:xfrm>
                  <a:off x="4233240" y="274572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4233240" y="274572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1" name=""/>
              <p:cNvGrpSpPr/>
              <p:nvPr/>
            </p:nvGrpSpPr>
            <p:grpSpPr>
              <a:xfrm>
                <a:off x="4287240" y="2780640"/>
                <a:ext cx="72720" cy="72720"/>
                <a:chOff x="4287240" y="2780640"/>
                <a:chExt cx="72720" cy="72720"/>
              </a:xfrm>
            </p:grpSpPr>
            <p:sp>
              <p:nvSpPr>
                <p:cNvPr id="2222" name=""/>
                <p:cNvSpPr/>
                <p:nvPr/>
              </p:nvSpPr>
              <p:spPr>
                <a:xfrm>
                  <a:off x="4287240" y="27806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4287240" y="27806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4" name=""/>
              <p:cNvGrpSpPr/>
              <p:nvPr/>
            </p:nvGrpSpPr>
            <p:grpSpPr>
              <a:xfrm>
                <a:off x="4342680" y="2817360"/>
                <a:ext cx="72720" cy="72720"/>
                <a:chOff x="4342680" y="2817360"/>
                <a:chExt cx="72720" cy="72720"/>
              </a:xfrm>
            </p:grpSpPr>
            <p:sp>
              <p:nvSpPr>
                <p:cNvPr id="2225" name=""/>
                <p:cNvSpPr/>
                <p:nvPr/>
              </p:nvSpPr>
              <p:spPr>
                <a:xfrm>
                  <a:off x="4342680" y="2817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4342680" y="28173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7" name=""/>
              <p:cNvGrpSpPr/>
              <p:nvPr/>
            </p:nvGrpSpPr>
            <p:grpSpPr>
              <a:xfrm>
                <a:off x="4396680" y="2853720"/>
                <a:ext cx="72720" cy="72720"/>
                <a:chOff x="4396680" y="2853720"/>
                <a:chExt cx="72720" cy="72720"/>
              </a:xfrm>
            </p:grpSpPr>
            <p:sp>
              <p:nvSpPr>
                <p:cNvPr id="2228" name=""/>
                <p:cNvSpPr/>
                <p:nvPr/>
              </p:nvSpPr>
              <p:spPr>
                <a:xfrm>
                  <a:off x="4396680" y="2853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4396680" y="28537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0" name=""/>
              <p:cNvGrpSpPr/>
              <p:nvPr/>
            </p:nvGrpSpPr>
            <p:grpSpPr>
              <a:xfrm>
                <a:off x="4452480" y="2890440"/>
                <a:ext cx="72360" cy="72360"/>
                <a:chOff x="4452480" y="2890440"/>
                <a:chExt cx="72360" cy="72360"/>
              </a:xfrm>
            </p:grpSpPr>
            <p:sp>
              <p:nvSpPr>
                <p:cNvPr id="2231" name=""/>
                <p:cNvSpPr/>
                <p:nvPr/>
              </p:nvSpPr>
              <p:spPr>
                <a:xfrm>
                  <a:off x="4452480" y="289044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4452480" y="28904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3" name=""/>
              <p:cNvGrpSpPr/>
              <p:nvPr/>
            </p:nvGrpSpPr>
            <p:grpSpPr>
              <a:xfrm>
                <a:off x="4506120" y="2926800"/>
                <a:ext cx="72720" cy="72720"/>
                <a:chOff x="4506120" y="2926800"/>
                <a:chExt cx="72720" cy="72720"/>
              </a:xfrm>
            </p:grpSpPr>
            <p:sp>
              <p:nvSpPr>
                <p:cNvPr id="2234" name=""/>
                <p:cNvSpPr/>
                <p:nvPr/>
              </p:nvSpPr>
              <p:spPr>
                <a:xfrm>
                  <a:off x="4506120" y="2926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4506120" y="29268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6" name=""/>
              <p:cNvGrpSpPr/>
              <p:nvPr/>
            </p:nvGrpSpPr>
            <p:grpSpPr>
              <a:xfrm>
                <a:off x="4542840" y="2963160"/>
                <a:ext cx="90000" cy="72720"/>
                <a:chOff x="4542840" y="2963160"/>
                <a:chExt cx="90000" cy="72720"/>
              </a:xfrm>
            </p:grpSpPr>
            <p:sp>
              <p:nvSpPr>
                <p:cNvPr id="2237" name=""/>
                <p:cNvSpPr/>
                <p:nvPr/>
              </p:nvSpPr>
              <p:spPr>
                <a:xfrm>
                  <a:off x="4542840" y="29631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4542840" y="29631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9" name=""/>
              <p:cNvGrpSpPr/>
              <p:nvPr/>
            </p:nvGrpSpPr>
            <p:grpSpPr>
              <a:xfrm>
                <a:off x="4596840" y="2999880"/>
                <a:ext cx="91800" cy="72720"/>
                <a:chOff x="4596840" y="2999880"/>
                <a:chExt cx="91800" cy="72720"/>
              </a:xfrm>
            </p:grpSpPr>
            <p:sp>
              <p:nvSpPr>
                <p:cNvPr id="2240" name=""/>
                <p:cNvSpPr/>
                <p:nvPr/>
              </p:nvSpPr>
              <p:spPr>
                <a:xfrm>
                  <a:off x="4596840" y="29998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4596840" y="299988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2" name=""/>
              <p:cNvGrpSpPr/>
              <p:nvPr/>
            </p:nvGrpSpPr>
            <p:grpSpPr>
              <a:xfrm>
                <a:off x="4652280" y="3036240"/>
                <a:ext cx="72720" cy="72720"/>
                <a:chOff x="4652280" y="3036240"/>
                <a:chExt cx="72720" cy="72720"/>
              </a:xfrm>
            </p:grpSpPr>
            <p:sp>
              <p:nvSpPr>
                <p:cNvPr id="2243" name=""/>
                <p:cNvSpPr/>
                <p:nvPr/>
              </p:nvSpPr>
              <p:spPr>
                <a:xfrm>
                  <a:off x="4652280" y="3036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4652280" y="30362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5" name=""/>
              <p:cNvGrpSpPr/>
              <p:nvPr/>
            </p:nvGrpSpPr>
            <p:grpSpPr>
              <a:xfrm>
                <a:off x="4706280" y="3072960"/>
                <a:ext cx="72720" cy="72720"/>
                <a:chOff x="4706280" y="3072960"/>
                <a:chExt cx="72720" cy="72720"/>
              </a:xfrm>
            </p:grpSpPr>
            <p:sp>
              <p:nvSpPr>
                <p:cNvPr id="2246" name=""/>
                <p:cNvSpPr/>
                <p:nvPr/>
              </p:nvSpPr>
              <p:spPr>
                <a:xfrm>
                  <a:off x="4706280" y="3072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4706280" y="30729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8" name=""/>
              <p:cNvGrpSpPr/>
              <p:nvPr/>
            </p:nvGrpSpPr>
            <p:grpSpPr>
              <a:xfrm>
                <a:off x="4761720" y="3109320"/>
                <a:ext cx="72720" cy="72720"/>
                <a:chOff x="4761720" y="3109320"/>
                <a:chExt cx="72720" cy="72720"/>
              </a:xfrm>
            </p:grpSpPr>
            <p:sp>
              <p:nvSpPr>
                <p:cNvPr id="2249" name=""/>
                <p:cNvSpPr/>
                <p:nvPr/>
              </p:nvSpPr>
              <p:spPr>
                <a:xfrm>
                  <a:off x="4761720" y="3109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4761720" y="31093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1" name=""/>
              <p:cNvGrpSpPr/>
              <p:nvPr/>
            </p:nvGrpSpPr>
            <p:grpSpPr>
              <a:xfrm>
                <a:off x="4815720" y="3146040"/>
                <a:ext cx="72720" cy="72360"/>
                <a:chOff x="4815720" y="3146040"/>
                <a:chExt cx="72720" cy="72360"/>
              </a:xfrm>
            </p:grpSpPr>
            <p:sp>
              <p:nvSpPr>
                <p:cNvPr id="2252" name=""/>
                <p:cNvSpPr/>
                <p:nvPr/>
              </p:nvSpPr>
              <p:spPr>
                <a:xfrm>
                  <a:off x="4815720" y="31460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4815720" y="31460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4" name=""/>
              <p:cNvGrpSpPr/>
              <p:nvPr/>
            </p:nvGrpSpPr>
            <p:grpSpPr>
              <a:xfrm>
                <a:off x="4871520" y="3182400"/>
                <a:ext cx="70920" cy="72720"/>
                <a:chOff x="4871520" y="3182400"/>
                <a:chExt cx="70920" cy="72720"/>
              </a:xfrm>
            </p:grpSpPr>
            <p:sp>
              <p:nvSpPr>
                <p:cNvPr id="2255" name=""/>
                <p:cNvSpPr/>
                <p:nvPr/>
              </p:nvSpPr>
              <p:spPr>
                <a:xfrm>
                  <a:off x="4871520" y="318240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4871520" y="31824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7" name=""/>
            <p:cNvSpPr/>
            <p:nvPr/>
          </p:nvSpPr>
          <p:spPr>
            <a:xfrm>
              <a:off x="4179600" y="276372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651120" y="3474720"/>
              <a:ext cx="745200" cy="545400"/>
              <a:chOff x="3651120" y="3474720"/>
              <a:chExt cx="745200" cy="545400"/>
            </a:xfrm>
          </p:grpSpPr>
          <p:grpSp>
            <p:nvGrpSpPr>
              <p:cNvPr id="2259" name=""/>
              <p:cNvGrpSpPr/>
              <p:nvPr/>
            </p:nvGrpSpPr>
            <p:grpSpPr>
              <a:xfrm>
                <a:off x="3651120" y="3474720"/>
                <a:ext cx="72720" cy="90360"/>
                <a:chOff x="3651120" y="3474720"/>
                <a:chExt cx="72720" cy="9036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3651120" y="347472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3651120" y="34747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2" name=""/>
              <p:cNvGrpSpPr/>
              <p:nvPr/>
            </p:nvGrpSpPr>
            <p:grpSpPr>
              <a:xfrm>
                <a:off x="3687120" y="3511080"/>
                <a:ext cx="90000" cy="90000"/>
                <a:chOff x="3687120" y="3511080"/>
                <a:chExt cx="90000" cy="9000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3687120" y="351108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3687120" y="35110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3741120" y="3547440"/>
                <a:ext cx="91800" cy="90360"/>
                <a:chOff x="3741120" y="3547440"/>
                <a:chExt cx="91800" cy="90360"/>
              </a:xfrm>
            </p:grpSpPr>
            <p:sp>
              <p:nvSpPr>
                <p:cNvPr id="2266" name=""/>
                <p:cNvSpPr/>
                <p:nvPr/>
              </p:nvSpPr>
              <p:spPr>
                <a:xfrm>
                  <a:off x="3741120" y="3547440"/>
                  <a:ext cx="918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3741120" y="354744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8" name=""/>
              <p:cNvGrpSpPr/>
              <p:nvPr/>
            </p:nvGrpSpPr>
            <p:grpSpPr>
              <a:xfrm>
                <a:off x="3796560" y="3584160"/>
                <a:ext cx="90360" cy="90000"/>
                <a:chOff x="3796560" y="3584160"/>
                <a:chExt cx="90360" cy="90000"/>
              </a:xfrm>
            </p:grpSpPr>
            <p:sp>
              <p:nvSpPr>
                <p:cNvPr id="2269" name=""/>
                <p:cNvSpPr/>
                <p:nvPr/>
              </p:nvSpPr>
              <p:spPr>
                <a:xfrm>
                  <a:off x="3796560" y="3584160"/>
                  <a:ext cx="9036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3796560" y="358416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1" name=""/>
              <p:cNvGrpSpPr/>
              <p:nvPr/>
            </p:nvGrpSpPr>
            <p:grpSpPr>
              <a:xfrm>
                <a:off x="3850560" y="3620520"/>
                <a:ext cx="72720" cy="72720"/>
                <a:chOff x="3850560" y="3620520"/>
                <a:chExt cx="72720" cy="72720"/>
              </a:xfrm>
            </p:grpSpPr>
            <p:sp>
              <p:nvSpPr>
                <p:cNvPr id="2272" name=""/>
                <p:cNvSpPr/>
                <p:nvPr/>
              </p:nvSpPr>
              <p:spPr>
                <a:xfrm>
                  <a:off x="3850560" y="3620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3850560" y="3620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4" name=""/>
              <p:cNvGrpSpPr/>
              <p:nvPr/>
            </p:nvGrpSpPr>
            <p:grpSpPr>
              <a:xfrm>
                <a:off x="3906360" y="3657240"/>
                <a:ext cx="70920" cy="72360"/>
                <a:chOff x="3906360" y="3657240"/>
                <a:chExt cx="70920" cy="7236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3906360" y="365724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3906360" y="36572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7" name=""/>
              <p:cNvGrpSpPr/>
              <p:nvPr/>
            </p:nvGrpSpPr>
            <p:grpSpPr>
              <a:xfrm>
                <a:off x="3960360" y="3693600"/>
                <a:ext cx="72360" cy="72720"/>
                <a:chOff x="3960360" y="3693600"/>
                <a:chExt cx="72360" cy="72720"/>
              </a:xfrm>
            </p:grpSpPr>
            <p:sp>
              <p:nvSpPr>
                <p:cNvPr id="2278" name=""/>
                <p:cNvSpPr/>
                <p:nvPr/>
              </p:nvSpPr>
              <p:spPr>
                <a:xfrm>
                  <a:off x="3960360" y="36936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3960360" y="36936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0" name=""/>
              <p:cNvGrpSpPr/>
              <p:nvPr/>
            </p:nvGrpSpPr>
            <p:grpSpPr>
              <a:xfrm>
                <a:off x="4014000" y="3729960"/>
                <a:ext cx="72720" cy="72720"/>
                <a:chOff x="4014000" y="3729960"/>
                <a:chExt cx="72720" cy="72720"/>
              </a:xfrm>
            </p:grpSpPr>
            <p:sp>
              <p:nvSpPr>
                <p:cNvPr id="2281" name=""/>
                <p:cNvSpPr/>
                <p:nvPr/>
              </p:nvSpPr>
              <p:spPr>
                <a:xfrm>
                  <a:off x="4014000" y="3729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4014000" y="37299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3" name=""/>
              <p:cNvGrpSpPr/>
              <p:nvPr/>
            </p:nvGrpSpPr>
            <p:grpSpPr>
              <a:xfrm>
                <a:off x="4050720" y="3766680"/>
                <a:ext cx="91800" cy="72720"/>
                <a:chOff x="4050720" y="3766680"/>
                <a:chExt cx="91800" cy="7272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4050720" y="37666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4050720" y="376668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6" name=""/>
              <p:cNvGrpSpPr/>
              <p:nvPr/>
            </p:nvGrpSpPr>
            <p:grpSpPr>
              <a:xfrm>
                <a:off x="4106160" y="3803040"/>
                <a:ext cx="90360" cy="72720"/>
                <a:chOff x="4106160" y="3803040"/>
                <a:chExt cx="90360" cy="7272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4106160" y="380304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4106160" y="38030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9" name=""/>
              <p:cNvGrpSpPr/>
              <p:nvPr/>
            </p:nvGrpSpPr>
            <p:grpSpPr>
              <a:xfrm>
                <a:off x="4160160" y="3839760"/>
                <a:ext cx="91800" cy="72360"/>
                <a:chOff x="4160160" y="3839760"/>
                <a:chExt cx="91800" cy="72360"/>
              </a:xfrm>
            </p:grpSpPr>
            <p:sp>
              <p:nvSpPr>
                <p:cNvPr id="2290" name=""/>
                <p:cNvSpPr/>
                <p:nvPr/>
              </p:nvSpPr>
              <p:spPr>
                <a:xfrm>
                  <a:off x="4160160" y="38397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4160160" y="383976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2" name=""/>
              <p:cNvGrpSpPr/>
              <p:nvPr/>
            </p:nvGrpSpPr>
            <p:grpSpPr>
              <a:xfrm>
                <a:off x="4215960" y="3876120"/>
                <a:ext cx="70920" cy="71280"/>
                <a:chOff x="4215960" y="3876120"/>
                <a:chExt cx="70920" cy="7128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4215960" y="3876120"/>
                  <a:ext cx="709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4215960" y="38761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5" name=""/>
              <p:cNvGrpSpPr/>
              <p:nvPr/>
            </p:nvGrpSpPr>
            <p:grpSpPr>
              <a:xfrm>
                <a:off x="4269600" y="3912480"/>
                <a:ext cx="72720" cy="71280"/>
                <a:chOff x="4269600" y="3912480"/>
                <a:chExt cx="72720" cy="71280"/>
              </a:xfrm>
            </p:grpSpPr>
            <p:sp>
              <p:nvSpPr>
                <p:cNvPr id="2296" name=""/>
                <p:cNvSpPr/>
                <p:nvPr/>
              </p:nvSpPr>
              <p:spPr>
                <a:xfrm>
                  <a:off x="4269600" y="391248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4269600" y="3912480"/>
                  <a:ext cx="36360" cy="3492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8" name=""/>
              <p:cNvGrpSpPr/>
              <p:nvPr/>
            </p:nvGrpSpPr>
            <p:grpSpPr>
              <a:xfrm>
                <a:off x="4323600" y="3947760"/>
                <a:ext cx="72720" cy="72360"/>
                <a:chOff x="4323600" y="3947760"/>
                <a:chExt cx="72720" cy="72360"/>
              </a:xfrm>
            </p:grpSpPr>
            <p:sp>
              <p:nvSpPr>
                <p:cNvPr id="2299" name=""/>
                <p:cNvSpPr/>
                <p:nvPr/>
              </p:nvSpPr>
              <p:spPr>
                <a:xfrm>
                  <a:off x="4323600" y="39477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4323600" y="39477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1" name=""/>
            <p:cNvSpPr/>
            <p:nvPr/>
          </p:nvSpPr>
          <p:spPr>
            <a:xfrm>
              <a:off x="3632040" y="352872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59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2" name=""/>
            <p:cNvGrpSpPr/>
            <p:nvPr/>
          </p:nvGrpSpPr>
          <p:grpSpPr>
            <a:xfrm>
              <a:off x="3814560" y="3255840"/>
              <a:ext cx="747000" cy="546840"/>
              <a:chOff x="3814560" y="3255840"/>
              <a:chExt cx="747000" cy="546840"/>
            </a:xfrm>
          </p:grpSpPr>
          <p:grpSp>
            <p:nvGrpSpPr>
              <p:cNvPr id="2303" name=""/>
              <p:cNvGrpSpPr/>
              <p:nvPr/>
            </p:nvGrpSpPr>
            <p:grpSpPr>
              <a:xfrm>
                <a:off x="3814560" y="3255840"/>
                <a:ext cx="72720" cy="72720"/>
                <a:chOff x="3814560" y="3255840"/>
                <a:chExt cx="72720" cy="72720"/>
              </a:xfrm>
            </p:grpSpPr>
            <p:sp>
              <p:nvSpPr>
                <p:cNvPr id="2304" name=""/>
                <p:cNvSpPr/>
                <p:nvPr/>
              </p:nvSpPr>
              <p:spPr>
                <a:xfrm>
                  <a:off x="3814560" y="3255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3814560" y="32558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3850560" y="3291840"/>
                <a:ext cx="91800" cy="72720"/>
                <a:chOff x="3850560" y="3291840"/>
                <a:chExt cx="91800" cy="7272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3850560" y="329184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3850560" y="329184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9" name=""/>
              <p:cNvGrpSpPr/>
              <p:nvPr/>
            </p:nvGrpSpPr>
            <p:grpSpPr>
              <a:xfrm>
                <a:off x="3906360" y="3328560"/>
                <a:ext cx="90000" cy="72720"/>
                <a:chOff x="3906360" y="3328560"/>
                <a:chExt cx="90000" cy="72720"/>
              </a:xfrm>
            </p:grpSpPr>
            <p:sp>
              <p:nvSpPr>
                <p:cNvPr id="2310" name=""/>
                <p:cNvSpPr/>
                <p:nvPr/>
              </p:nvSpPr>
              <p:spPr>
                <a:xfrm>
                  <a:off x="3906360" y="33285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3906360" y="33285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2" name=""/>
              <p:cNvGrpSpPr/>
              <p:nvPr/>
            </p:nvGrpSpPr>
            <p:grpSpPr>
              <a:xfrm>
                <a:off x="3960360" y="3364920"/>
                <a:ext cx="72360" cy="72720"/>
                <a:chOff x="3960360" y="3364920"/>
                <a:chExt cx="72360" cy="72720"/>
              </a:xfrm>
            </p:grpSpPr>
            <p:sp>
              <p:nvSpPr>
                <p:cNvPr id="2313" name=""/>
                <p:cNvSpPr/>
                <p:nvPr/>
              </p:nvSpPr>
              <p:spPr>
                <a:xfrm>
                  <a:off x="3960360" y="336492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960360" y="3364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5" name=""/>
              <p:cNvGrpSpPr/>
              <p:nvPr/>
            </p:nvGrpSpPr>
            <p:grpSpPr>
              <a:xfrm>
                <a:off x="4014000" y="3401640"/>
                <a:ext cx="72720" cy="72360"/>
                <a:chOff x="4014000" y="3401640"/>
                <a:chExt cx="72720" cy="72360"/>
              </a:xfrm>
            </p:grpSpPr>
            <p:sp>
              <p:nvSpPr>
                <p:cNvPr id="2316" name=""/>
                <p:cNvSpPr/>
                <p:nvPr/>
              </p:nvSpPr>
              <p:spPr>
                <a:xfrm>
                  <a:off x="4014000" y="34016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4014000" y="34016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8" name=""/>
              <p:cNvGrpSpPr/>
              <p:nvPr/>
            </p:nvGrpSpPr>
            <p:grpSpPr>
              <a:xfrm>
                <a:off x="4069800" y="3438000"/>
                <a:ext cx="72720" cy="72720"/>
                <a:chOff x="4069800" y="3438000"/>
                <a:chExt cx="72720" cy="72720"/>
              </a:xfrm>
            </p:grpSpPr>
            <p:sp>
              <p:nvSpPr>
                <p:cNvPr id="2319" name=""/>
                <p:cNvSpPr/>
                <p:nvPr/>
              </p:nvSpPr>
              <p:spPr>
                <a:xfrm>
                  <a:off x="4069800" y="3438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4069800" y="3438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1" name=""/>
              <p:cNvGrpSpPr/>
              <p:nvPr/>
            </p:nvGrpSpPr>
            <p:grpSpPr>
              <a:xfrm>
                <a:off x="4123800" y="3474360"/>
                <a:ext cx="72720" cy="72720"/>
                <a:chOff x="4123800" y="3474360"/>
                <a:chExt cx="72720" cy="7272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4123800" y="3474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123800" y="3474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4" name=""/>
              <p:cNvGrpSpPr/>
              <p:nvPr/>
            </p:nvGrpSpPr>
            <p:grpSpPr>
              <a:xfrm>
                <a:off x="4179240" y="3511080"/>
                <a:ext cx="72720" cy="72720"/>
                <a:chOff x="4179240" y="3511080"/>
                <a:chExt cx="72720" cy="72720"/>
              </a:xfrm>
            </p:grpSpPr>
            <p:sp>
              <p:nvSpPr>
                <p:cNvPr id="2325" name=""/>
                <p:cNvSpPr/>
                <p:nvPr/>
              </p:nvSpPr>
              <p:spPr>
                <a:xfrm>
                  <a:off x="4179240" y="3511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179240" y="35110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7" name=""/>
              <p:cNvGrpSpPr/>
              <p:nvPr/>
            </p:nvGrpSpPr>
            <p:grpSpPr>
              <a:xfrm>
                <a:off x="4215960" y="3547440"/>
                <a:ext cx="90000" cy="72720"/>
                <a:chOff x="4215960" y="3547440"/>
                <a:chExt cx="90000" cy="72720"/>
              </a:xfrm>
            </p:grpSpPr>
            <p:sp>
              <p:nvSpPr>
                <p:cNvPr id="2328" name=""/>
                <p:cNvSpPr/>
                <p:nvPr/>
              </p:nvSpPr>
              <p:spPr>
                <a:xfrm>
                  <a:off x="4215960" y="35474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4215960" y="3547440"/>
                  <a:ext cx="532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0" name=""/>
              <p:cNvGrpSpPr/>
              <p:nvPr/>
            </p:nvGrpSpPr>
            <p:grpSpPr>
              <a:xfrm>
                <a:off x="4269600" y="3584160"/>
                <a:ext cx="90360" cy="72720"/>
                <a:chOff x="4269600" y="3584160"/>
                <a:chExt cx="90360" cy="72720"/>
              </a:xfrm>
            </p:grpSpPr>
            <p:sp>
              <p:nvSpPr>
                <p:cNvPr id="2331" name=""/>
                <p:cNvSpPr/>
                <p:nvPr/>
              </p:nvSpPr>
              <p:spPr>
                <a:xfrm>
                  <a:off x="4269600" y="358416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269600" y="35841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3" name=""/>
              <p:cNvGrpSpPr/>
              <p:nvPr/>
            </p:nvGrpSpPr>
            <p:grpSpPr>
              <a:xfrm>
                <a:off x="4323600" y="3601440"/>
                <a:ext cx="72720" cy="91800"/>
                <a:chOff x="4323600" y="3601440"/>
                <a:chExt cx="72720" cy="91800"/>
              </a:xfrm>
            </p:grpSpPr>
            <p:sp>
              <p:nvSpPr>
                <p:cNvPr id="2334" name=""/>
                <p:cNvSpPr/>
                <p:nvPr/>
              </p:nvSpPr>
              <p:spPr>
                <a:xfrm>
                  <a:off x="4323600" y="36014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323600" y="36014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4379400" y="3638160"/>
                <a:ext cx="72720" cy="91440"/>
                <a:chOff x="4379400" y="3638160"/>
                <a:chExt cx="72720" cy="91440"/>
              </a:xfrm>
            </p:grpSpPr>
            <p:sp>
              <p:nvSpPr>
                <p:cNvPr id="2337" name=""/>
                <p:cNvSpPr/>
                <p:nvPr/>
              </p:nvSpPr>
              <p:spPr>
                <a:xfrm>
                  <a:off x="4379400" y="36381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4379400" y="36381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9" name=""/>
              <p:cNvGrpSpPr/>
              <p:nvPr/>
            </p:nvGrpSpPr>
            <p:grpSpPr>
              <a:xfrm>
                <a:off x="4433400" y="3674520"/>
                <a:ext cx="72360" cy="91800"/>
                <a:chOff x="4433400" y="3674520"/>
                <a:chExt cx="72360" cy="91800"/>
              </a:xfrm>
            </p:grpSpPr>
            <p:sp>
              <p:nvSpPr>
                <p:cNvPr id="2340" name=""/>
                <p:cNvSpPr/>
                <p:nvPr/>
              </p:nvSpPr>
              <p:spPr>
                <a:xfrm>
                  <a:off x="4433400" y="367452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433400" y="36745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2" name=""/>
              <p:cNvGrpSpPr/>
              <p:nvPr/>
            </p:nvGrpSpPr>
            <p:grpSpPr>
              <a:xfrm>
                <a:off x="4488840" y="3710880"/>
                <a:ext cx="72720" cy="91800"/>
                <a:chOff x="4488840" y="3710880"/>
                <a:chExt cx="72720" cy="91800"/>
              </a:xfrm>
            </p:grpSpPr>
            <p:sp>
              <p:nvSpPr>
                <p:cNvPr id="2343" name=""/>
                <p:cNvSpPr/>
                <p:nvPr/>
              </p:nvSpPr>
              <p:spPr>
                <a:xfrm>
                  <a:off x="4488840" y="37108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488840" y="371088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5" name=""/>
            <p:cNvSpPr/>
            <p:nvPr/>
          </p:nvSpPr>
          <p:spPr>
            <a:xfrm>
              <a:off x="3796920" y="3292200"/>
              <a:ext cx="74592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3760560" y="3328920"/>
              <a:ext cx="745200" cy="546840"/>
              <a:chOff x="3760560" y="3328920"/>
              <a:chExt cx="745200" cy="546840"/>
            </a:xfrm>
          </p:grpSpPr>
          <p:grpSp>
            <p:nvGrpSpPr>
              <p:cNvPr id="2347" name=""/>
              <p:cNvGrpSpPr/>
              <p:nvPr/>
            </p:nvGrpSpPr>
            <p:grpSpPr>
              <a:xfrm>
                <a:off x="3760560" y="3328920"/>
                <a:ext cx="72720" cy="72720"/>
                <a:chOff x="3760560" y="3328920"/>
                <a:chExt cx="72720" cy="72720"/>
              </a:xfrm>
            </p:grpSpPr>
            <p:sp>
              <p:nvSpPr>
                <p:cNvPr id="2348" name=""/>
                <p:cNvSpPr/>
                <p:nvPr/>
              </p:nvSpPr>
              <p:spPr>
                <a:xfrm>
                  <a:off x="3760560" y="332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3760560" y="3328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0" name=""/>
              <p:cNvGrpSpPr/>
              <p:nvPr/>
            </p:nvGrpSpPr>
            <p:grpSpPr>
              <a:xfrm>
                <a:off x="3796560" y="3364920"/>
                <a:ext cx="90360" cy="72720"/>
                <a:chOff x="3796560" y="3364920"/>
                <a:chExt cx="90360" cy="72720"/>
              </a:xfrm>
            </p:grpSpPr>
            <p:sp>
              <p:nvSpPr>
                <p:cNvPr id="2351" name=""/>
                <p:cNvSpPr/>
                <p:nvPr/>
              </p:nvSpPr>
              <p:spPr>
                <a:xfrm>
                  <a:off x="3796560" y="336492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3796560" y="33649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3" name=""/>
              <p:cNvGrpSpPr/>
              <p:nvPr/>
            </p:nvGrpSpPr>
            <p:grpSpPr>
              <a:xfrm>
                <a:off x="3850560" y="3401640"/>
                <a:ext cx="91800" cy="72360"/>
                <a:chOff x="3850560" y="3401640"/>
                <a:chExt cx="91800" cy="72360"/>
              </a:xfrm>
            </p:grpSpPr>
            <p:sp>
              <p:nvSpPr>
                <p:cNvPr id="2354" name=""/>
                <p:cNvSpPr/>
                <p:nvPr/>
              </p:nvSpPr>
              <p:spPr>
                <a:xfrm>
                  <a:off x="3850560" y="340164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3850560" y="340164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6" name=""/>
              <p:cNvGrpSpPr/>
              <p:nvPr/>
            </p:nvGrpSpPr>
            <p:grpSpPr>
              <a:xfrm>
                <a:off x="3906360" y="3438000"/>
                <a:ext cx="90000" cy="72720"/>
                <a:chOff x="3906360" y="3438000"/>
                <a:chExt cx="90000" cy="72720"/>
              </a:xfrm>
            </p:grpSpPr>
            <p:sp>
              <p:nvSpPr>
                <p:cNvPr id="2357" name=""/>
                <p:cNvSpPr/>
                <p:nvPr/>
              </p:nvSpPr>
              <p:spPr>
                <a:xfrm>
                  <a:off x="3906360" y="3438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3906360" y="34380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9" name=""/>
              <p:cNvGrpSpPr/>
              <p:nvPr/>
            </p:nvGrpSpPr>
            <p:grpSpPr>
              <a:xfrm>
                <a:off x="3960360" y="3474360"/>
                <a:ext cx="72360" cy="72720"/>
                <a:chOff x="3960360" y="3474360"/>
                <a:chExt cx="72360" cy="72720"/>
              </a:xfrm>
            </p:grpSpPr>
            <p:sp>
              <p:nvSpPr>
                <p:cNvPr id="2360" name=""/>
                <p:cNvSpPr/>
                <p:nvPr/>
              </p:nvSpPr>
              <p:spPr>
                <a:xfrm>
                  <a:off x="3960360" y="34743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3960360" y="3474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2" name=""/>
              <p:cNvGrpSpPr/>
              <p:nvPr/>
            </p:nvGrpSpPr>
            <p:grpSpPr>
              <a:xfrm>
                <a:off x="4014000" y="3511080"/>
                <a:ext cx="72720" cy="72720"/>
                <a:chOff x="4014000" y="3511080"/>
                <a:chExt cx="72720" cy="7272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4014000" y="3511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4014000" y="35110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5" name=""/>
              <p:cNvGrpSpPr/>
              <p:nvPr/>
            </p:nvGrpSpPr>
            <p:grpSpPr>
              <a:xfrm>
                <a:off x="4069800" y="3547440"/>
                <a:ext cx="72720" cy="72720"/>
                <a:chOff x="4069800" y="3547440"/>
                <a:chExt cx="72720" cy="7272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4069800" y="35474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4069800" y="35474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8" name=""/>
              <p:cNvGrpSpPr/>
              <p:nvPr/>
            </p:nvGrpSpPr>
            <p:grpSpPr>
              <a:xfrm>
                <a:off x="4123800" y="3584160"/>
                <a:ext cx="72720" cy="72720"/>
                <a:chOff x="4123800" y="3584160"/>
                <a:chExt cx="72720" cy="7272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4123800" y="3584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4123800" y="3584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4160160" y="3620520"/>
                <a:ext cx="91800" cy="72720"/>
                <a:chOff x="4160160" y="3620520"/>
                <a:chExt cx="91800" cy="72720"/>
              </a:xfrm>
            </p:grpSpPr>
            <p:sp>
              <p:nvSpPr>
                <p:cNvPr id="2372" name=""/>
                <p:cNvSpPr/>
                <p:nvPr/>
              </p:nvSpPr>
              <p:spPr>
                <a:xfrm>
                  <a:off x="4160160" y="36205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4160160" y="362052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4" name=""/>
              <p:cNvGrpSpPr/>
              <p:nvPr/>
            </p:nvGrpSpPr>
            <p:grpSpPr>
              <a:xfrm>
                <a:off x="4215960" y="3657240"/>
                <a:ext cx="90000" cy="72360"/>
                <a:chOff x="4215960" y="3657240"/>
                <a:chExt cx="90000" cy="72360"/>
              </a:xfrm>
            </p:grpSpPr>
            <p:sp>
              <p:nvSpPr>
                <p:cNvPr id="2375" name=""/>
                <p:cNvSpPr/>
                <p:nvPr/>
              </p:nvSpPr>
              <p:spPr>
                <a:xfrm>
                  <a:off x="4215960" y="365724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4215960" y="365724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7" name=""/>
              <p:cNvGrpSpPr/>
              <p:nvPr/>
            </p:nvGrpSpPr>
            <p:grpSpPr>
              <a:xfrm>
                <a:off x="4269600" y="3693600"/>
                <a:ext cx="90360" cy="72720"/>
                <a:chOff x="4269600" y="3693600"/>
                <a:chExt cx="90360" cy="72720"/>
              </a:xfrm>
            </p:grpSpPr>
            <p:sp>
              <p:nvSpPr>
                <p:cNvPr id="2378" name=""/>
                <p:cNvSpPr/>
                <p:nvPr/>
              </p:nvSpPr>
              <p:spPr>
                <a:xfrm>
                  <a:off x="4269600" y="36936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4269600" y="3693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0" name=""/>
              <p:cNvGrpSpPr/>
              <p:nvPr/>
            </p:nvGrpSpPr>
            <p:grpSpPr>
              <a:xfrm>
                <a:off x="4323600" y="3729960"/>
                <a:ext cx="72720" cy="72720"/>
                <a:chOff x="4323600" y="3729960"/>
                <a:chExt cx="72720" cy="72720"/>
              </a:xfrm>
            </p:grpSpPr>
            <p:sp>
              <p:nvSpPr>
                <p:cNvPr id="2381" name=""/>
                <p:cNvSpPr/>
                <p:nvPr/>
              </p:nvSpPr>
              <p:spPr>
                <a:xfrm>
                  <a:off x="4323600" y="3729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4323600" y="37299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3" name=""/>
              <p:cNvGrpSpPr/>
              <p:nvPr/>
            </p:nvGrpSpPr>
            <p:grpSpPr>
              <a:xfrm>
                <a:off x="4379400" y="3766680"/>
                <a:ext cx="72720" cy="72720"/>
                <a:chOff x="4379400" y="3766680"/>
                <a:chExt cx="72720" cy="72720"/>
              </a:xfrm>
            </p:grpSpPr>
            <p:sp>
              <p:nvSpPr>
                <p:cNvPr id="2384" name=""/>
                <p:cNvSpPr/>
                <p:nvPr/>
              </p:nvSpPr>
              <p:spPr>
                <a:xfrm>
                  <a:off x="4379400" y="3766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4379400" y="37666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4433400" y="3803040"/>
                <a:ext cx="72360" cy="72720"/>
                <a:chOff x="4433400" y="3803040"/>
                <a:chExt cx="72360" cy="72720"/>
              </a:xfrm>
            </p:grpSpPr>
            <p:sp>
              <p:nvSpPr>
                <p:cNvPr id="2387" name=""/>
                <p:cNvSpPr/>
                <p:nvPr/>
              </p:nvSpPr>
              <p:spPr>
                <a:xfrm>
                  <a:off x="4433400" y="380304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4433400" y="38030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89" name=""/>
            <p:cNvSpPr/>
            <p:nvPr/>
          </p:nvSpPr>
          <p:spPr>
            <a:xfrm>
              <a:off x="3741480" y="336528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59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3597120" y="3565440"/>
              <a:ext cx="745200" cy="527760"/>
              <a:chOff x="3597120" y="3565440"/>
              <a:chExt cx="745200" cy="527760"/>
            </a:xfrm>
          </p:grpSpPr>
          <p:grpSp>
            <p:nvGrpSpPr>
              <p:cNvPr id="2391" name=""/>
              <p:cNvGrpSpPr/>
              <p:nvPr/>
            </p:nvGrpSpPr>
            <p:grpSpPr>
              <a:xfrm>
                <a:off x="3597120" y="3565440"/>
                <a:ext cx="70920" cy="72720"/>
                <a:chOff x="3597120" y="3565440"/>
                <a:chExt cx="70920" cy="72720"/>
              </a:xfrm>
            </p:grpSpPr>
            <p:sp>
              <p:nvSpPr>
                <p:cNvPr id="2392" name=""/>
                <p:cNvSpPr/>
                <p:nvPr/>
              </p:nvSpPr>
              <p:spPr>
                <a:xfrm>
                  <a:off x="3597120" y="35654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3597120" y="356544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4" name=""/>
              <p:cNvGrpSpPr/>
              <p:nvPr/>
            </p:nvGrpSpPr>
            <p:grpSpPr>
              <a:xfrm>
                <a:off x="3631680" y="3584160"/>
                <a:ext cx="91800" cy="90000"/>
                <a:chOff x="3631680" y="3584160"/>
                <a:chExt cx="91800" cy="90000"/>
              </a:xfrm>
            </p:grpSpPr>
            <p:sp>
              <p:nvSpPr>
                <p:cNvPr id="2395" name=""/>
                <p:cNvSpPr/>
                <p:nvPr/>
              </p:nvSpPr>
              <p:spPr>
                <a:xfrm>
                  <a:off x="3631680" y="358416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5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3631680" y="358416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7" name=""/>
              <p:cNvGrpSpPr/>
              <p:nvPr/>
            </p:nvGrpSpPr>
            <p:grpSpPr>
              <a:xfrm>
                <a:off x="3687120" y="3638160"/>
                <a:ext cx="90000" cy="72360"/>
                <a:chOff x="3687120" y="3638160"/>
                <a:chExt cx="90000" cy="7236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3687120" y="363816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3687120" y="36381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0" name=""/>
              <p:cNvGrpSpPr/>
              <p:nvPr/>
            </p:nvGrpSpPr>
            <p:grpSpPr>
              <a:xfrm>
                <a:off x="3741120" y="3657240"/>
                <a:ext cx="91800" cy="90000"/>
                <a:chOff x="3741120" y="3657240"/>
                <a:chExt cx="91800" cy="90000"/>
              </a:xfrm>
            </p:grpSpPr>
            <p:sp>
              <p:nvSpPr>
                <p:cNvPr id="2401" name=""/>
                <p:cNvSpPr/>
                <p:nvPr/>
              </p:nvSpPr>
              <p:spPr>
                <a:xfrm>
                  <a:off x="3741120" y="365724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3741120" y="3657240"/>
                  <a:ext cx="5508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3" name=""/>
              <p:cNvGrpSpPr/>
              <p:nvPr/>
            </p:nvGrpSpPr>
            <p:grpSpPr>
              <a:xfrm>
                <a:off x="3796560" y="3693600"/>
                <a:ext cx="72720" cy="90000"/>
                <a:chOff x="3796560" y="3693600"/>
                <a:chExt cx="72720" cy="9000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3796560" y="36936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3796560" y="36936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6" name=""/>
              <p:cNvGrpSpPr/>
              <p:nvPr/>
            </p:nvGrpSpPr>
            <p:grpSpPr>
              <a:xfrm>
                <a:off x="3850560" y="3729960"/>
                <a:ext cx="72720" cy="90360"/>
                <a:chOff x="3850560" y="3729960"/>
                <a:chExt cx="72720" cy="90360"/>
              </a:xfrm>
            </p:grpSpPr>
            <p:sp>
              <p:nvSpPr>
                <p:cNvPr id="2407" name=""/>
                <p:cNvSpPr/>
                <p:nvPr/>
              </p:nvSpPr>
              <p:spPr>
                <a:xfrm>
                  <a:off x="3850560" y="372996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3850560" y="37299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9" name=""/>
              <p:cNvGrpSpPr/>
              <p:nvPr/>
            </p:nvGrpSpPr>
            <p:grpSpPr>
              <a:xfrm>
                <a:off x="3906360" y="3766680"/>
                <a:ext cx="70920" cy="90000"/>
                <a:chOff x="3906360" y="3766680"/>
                <a:chExt cx="70920" cy="90000"/>
              </a:xfrm>
            </p:grpSpPr>
            <p:sp>
              <p:nvSpPr>
                <p:cNvPr id="2410" name=""/>
                <p:cNvSpPr/>
                <p:nvPr/>
              </p:nvSpPr>
              <p:spPr>
                <a:xfrm>
                  <a:off x="3906360" y="3766680"/>
                  <a:ext cx="709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3906360" y="37666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2" name=""/>
              <p:cNvGrpSpPr/>
              <p:nvPr/>
            </p:nvGrpSpPr>
            <p:grpSpPr>
              <a:xfrm>
                <a:off x="3960360" y="3803040"/>
                <a:ext cx="72360" cy="90360"/>
                <a:chOff x="3960360" y="3803040"/>
                <a:chExt cx="72360" cy="9036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3960360" y="3803040"/>
                  <a:ext cx="7236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3960360" y="380304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5" name=""/>
              <p:cNvGrpSpPr/>
              <p:nvPr/>
            </p:nvGrpSpPr>
            <p:grpSpPr>
              <a:xfrm>
                <a:off x="3996720" y="3839760"/>
                <a:ext cx="90000" cy="90000"/>
                <a:chOff x="3996720" y="3839760"/>
                <a:chExt cx="90000" cy="90000"/>
              </a:xfrm>
            </p:grpSpPr>
            <p:sp>
              <p:nvSpPr>
                <p:cNvPr id="2416" name=""/>
                <p:cNvSpPr/>
                <p:nvPr/>
              </p:nvSpPr>
              <p:spPr>
                <a:xfrm>
                  <a:off x="3996720" y="383976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3996720" y="383976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8" name=""/>
              <p:cNvGrpSpPr/>
              <p:nvPr/>
            </p:nvGrpSpPr>
            <p:grpSpPr>
              <a:xfrm>
                <a:off x="4050720" y="3876120"/>
                <a:ext cx="91800" cy="90000"/>
                <a:chOff x="4050720" y="3876120"/>
                <a:chExt cx="91800" cy="9000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4050720" y="387612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4050720" y="387612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4106160" y="3912480"/>
                <a:ext cx="90360" cy="90360"/>
                <a:chOff x="4106160" y="3912480"/>
                <a:chExt cx="90360" cy="90360"/>
              </a:xfrm>
            </p:grpSpPr>
            <p:sp>
              <p:nvSpPr>
                <p:cNvPr id="2422" name=""/>
                <p:cNvSpPr/>
                <p:nvPr/>
              </p:nvSpPr>
              <p:spPr>
                <a:xfrm>
                  <a:off x="4106160" y="3912480"/>
                  <a:ext cx="9036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4106160" y="39124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4" name=""/>
              <p:cNvGrpSpPr/>
              <p:nvPr/>
            </p:nvGrpSpPr>
            <p:grpSpPr>
              <a:xfrm>
                <a:off x="4160160" y="3947760"/>
                <a:ext cx="72720" cy="91440"/>
                <a:chOff x="4160160" y="3947760"/>
                <a:chExt cx="72720" cy="91440"/>
              </a:xfrm>
            </p:grpSpPr>
            <p:sp>
              <p:nvSpPr>
                <p:cNvPr id="2425" name=""/>
                <p:cNvSpPr/>
                <p:nvPr/>
              </p:nvSpPr>
              <p:spPr>
                <a:xfrm>
                  <a:off x="4160160" y="39477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4160160" y="39477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4215960" y="3984120"/>
                <a:ext cx="70920" cy="91800"/>
                <a:chOff x="4215960" y="3984120"/>
                <a:chExt cx="70920" cy="9180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4215960" y="398412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4215960" y="39841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0" name=""/>
              <p:cNvGrpSpPr/>
              <p:nvPr/>
            </p:nvGrpSpPr>
            <p:grpSpPr>
              <a:xfrm>
                <a:off x="4269600" y="4020480"/>
                <a:ext cx="72720" cy="72720"/>
                <a:chOff x="4269600" y="4020480"/>
                <a:chExt cx="72720" cy="72720"/>
              </a:xfrm>
            </p:grpSpPr>
            <p:sp>
              <p:nvSpPr>
                <p:cNvPr id="2431" name=""/>
                <p:cNvSpPr/>
                <p:nvPr/>
              </p:nvSpPr>
              <p:spPr>
                <a:xfrm>
                  <a:off x="4269600" y="4020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4269600" y="40204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3" name=""/>
            <p:cNvSpPr/>
            <p:nvPr/>
          </p:nvSpPr>
          <p:spPr>
            <a:xfrm>
              <a:off x="3578040" y="360180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4" name=""/>
            <p:cNvGrpSpPr/>
            <p:nvPr/>
          </p:nvGrpSpPr>
          <p:grpSpPr>
            <a:xfrm>
              <a:off x="4233600" y="2637000"/>
              <a:ext cx="764640" cy="545400"/>
              <a:chOff x="4233600" y="2637000"/>
              <a:chExt cx="764640" cy="545400"/>
            </a:xfrm>
          </p:grpSpPr>
          <p:grpSp>
            <p:nvGrpSpPr>
              <p:cNvPr id="2435" name=""/>
              <p:cNvGrpSpPr/>
              <p:nvPr/>
            </p:nvGrpSpPr>
            <p:grpSpPr>
              <a:xfrm>
                <a:off x="4233600" y="2637000"/>
                <a:ext cx="90000" cy="72720"/>
                <a:chOff x="4233600" y="2637000"/>
                <a:chExt cx="90000" cy="72720"/>
              </a:xfrm>
            </p:grpSpPr>
            <p:sp>
              <p:nvSpPr>
                <p:cNvPr id="2436" name=""/>
                <p:cNvSpPr/>
                <p:nvPr/>
              </p:nvSpPr>
              <p:spPr>
                <a:xfrm>
                  <a:off x="4233600" y="2637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4233600" y="26370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8" name=""/>
              <p:cNvGrpSpPr/>
              <p:nvPr/>
            </p:nvGrpSpPr>
            <p:grpSpPr>
              <a:xfrm>
                <a:off x="4287240" y="2673360"/>
                <a:ext cx="91800" cy="72360"/>
                <a:chOff x="4287240" y="2673360"/>
                <a:chExt cx="91800" cy="72360"/>
              </a:xfrm>
            </p:grpSpPr>
            <p:sp>
              <p:nvSpPr>
                <p:cNvPr id="2439" name=""/>
                <p:cNvSpPr/>
                <p:nvPr/>
              </p:nvSpPr>
              <p:spPr>
                <a:xfrm>
                  <a:off x="4287240" y="26733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4287240" y="267336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1" name=""/>
              <p:cNvGrpSpPr/>
              <p:nvPr/>
            </p:nvGrpSpPr>
            <p:grpSpPr>
              <a:xfrm>
                <a:off x="4342680" y="2709720"/>
                <a:ext cx="72720" cy="70920"/>
                <a:chOff x="4342680" y="2709720"/>
                <a:chExt cx="72720" cy="70920"/>
              </a:xfrm>
            </p:grpSpPr>
            <p:sp>
              <p:nvSpPr>
                <p:cNvPr id="2442" name=""/>
                <p:cNvSpPr/>
                <p:nvPr/>
              </p:nvSpPr>
              <p:spPr>
                <a:xfrm>
                  <a:off x="4342680" y="270972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4342680" y="27097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4" name=""/>
              <p:cNvGrpSpPr/>
              <p:nvPr/>
            </p:nvGrpSpPr>
            <p:grpSpPr>
              <a:xfrm>
                <a:off x="4396680" y="2746080"/>
                <a:ext cx="72720" cy="71280"/>
                <a:chOff x="4396680" y="2746080"/>
                <a:chExt cx="72720" cy="71280"/>
              </a:xfrm>
            </p:grpSpPr>
            <p:sp>
              <p:nvSpPr>
                <p:cNvPr id="2445" name=""/>
                <p:cNvSpPr/>
                <p:nvPr/>
              </p:nvSpPr>
              <p:spPr>
                <a:xfrm>
                  <a:off x="4396680" y="274608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4396680" y="2746080"/>
                  <a:ext cx="3636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7" name=""/>
              <p:cNvGrpSpPr/>
              <p:nvPr/>
            </p:nvGrpSpPr>
            <p:grpSpPr>
              <a:xfrm>
                <a:off x="4452480" y="2781000"/>
                <a:ext cx="72360" cy="72720"/>
                <a:chOff x="4452480" y="2781000"/>
                <a:chExt cx="72360" cy="72720"/>
              </a:xfrm>
            </p:grpSpPr>
            <p:sp>
              <p:nvSpPr>
                <p:cNvPr id="2448" name=""/>
                <p:cNvSpPr/>
                <p:nvPr/>
              </p:nvSpPr>
              <p:spPr>
                <a:xfrm>
                  <a:off x="4452480" y="27810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4452480" y="27810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0" name=""/>
              <p:cNvGrpSpPr/>
              <p:nvPr/>
            </p:nvGrpSpPr>
            <p:grpSpPr>
              <a:xfrm>
                <a:off x="4506120" y="2817720"/>
                <a:ext cx="72720" cy="72720"/>
                <a:chOff x="4506120" y="2817720"/>
                <a:chExt cx="72720" cy="72720"/>
              </a:xfrm>
            </p:grpSpPr>
            <p:sp>
              <p:nvSpPr>
                <p:cNvPr id="2451" name=""/>
                <p:cNvSpPr/>
                <p:nvPr/>
              </p:nvSpPr>
              <p:spPr>
                <a:xfrm>
                  <a:off x="4506120" y="2817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4506120" y="28177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3" name=""/>
              <p:cNvGrpSpPr/>
              <p:nvPr/>
            </p:nvGrpSpPr>
            <p:grpSpPr>
              <a:xfrm>
                <a:off x="4561920" y="2854080"/>
                <a:ext cx="70920" cy="72720"/>
                <a:chOff x="4561920" y="2854080"/>
                <a:chExt cx="70920" cy="72720"/>
              </a:xfrm>
            </p:grpSpPr>
            <p:sp>
              <p:nvSpPr>
                <p:cNvPr id="2454" name=""/>
                <p:cNvSpPr/>
                <p:nvPr/>
              </p:nvSpPr>
              <p:spPr>
                <a:xfrm>
                  <a:off x="4561920" y="285408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4561920" y="2854080"/>
                  <a:ext cx="345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4596840" y="2890800"/>
                <a:ext cx="91800" cy="72360"/>
                <a:chOff x="4596840" y="2890800"/>
                <a:chExt cx="91800" cy="72360"/>
              </a:xfrm>
            </p:grpSpPr>
            <p:sp>
              <p:nvSpPr>
                <p:cNvPr id="2457" name=""/>
                <p:cNvSpPr/>
                <p:nvPr/>
              </p:nvSpPr>
              <p:spPr>
                <a:xfrm>
                  <a:off x="4596840" y="289080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4596840" y="289080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9" name=""/>
              <p:cNvGrpSpPr/>
              <p:nvPr/>
            </p:nvGrpSpPr>
            <p:grpSpPr>
              <a:xfrm>
                <a:off x="4652280" y="2927160"/>
                <a:ext cx="72720" cy="72720"/>
                <a:chOff x="4652280" y="2927160"/>
                <a:chExt cx="72720" cy="72720"/>
              </a:xfrm>
            </p:grpSpPr>
            <p:sp>
              <p:nvSpPr>
                <p:cNvPr id="2460" name=""/>
                <p:cNvSpPr/>
                <p:nvPr/>
              </p:nvSpPr>
              <p:spPr>
                <a:xfrm>
                  <a:off x="4652280" y="2927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4652280" y="29271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4706280" y="2963520"/>
                <a:ext cx="72720" cy="72720"/>
                <a:chOff x="4706280" y="2963520"/>
                <a:chExt cx="72720" cy="7272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4706280" y="2963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4706280" y="2963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5" name=""/>
              <p:cNvGrpSpPr/>
              <p:nvPr/>
            </p:nvGrpSpPr>
            <p:grpSpPr>
              <a:xfrm>
                <a:off x="4761720" y="3000240"/>
                <a:ext cx="72720" cy="72720"/>
                <a:chOff x="4761720" y="3000240"/>
                <a:chExt cx="72720" cy="72720"/>
              </a:xfrm>
            </p:grpSpPr>
            <p:sp>
              <p:nvSpPr>
                <p:cNvPr id="2466" name=""/>
                <p:cNvSpPr/>
                <p:nvPr/>
              </p:nvSpPr>
              <p:spPr>
                <a:xfrm>
                  <a:off x="4761720" y="3000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4761720" y="30002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8" name=""/>
              <p:cNvGrpSpPr/>
              <p:nvPr/>
            </p:nvGrpSpPr>
            <p:grpSpPr>
              <a:xfrm>
                <a:off x="4815720" y="3036600"/>
                <a:ext cx="72720" cy="72720"/>
                <a:chOff x="4815720" y="3036600"/>
                <a:chExt cx="72720" cy="7272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4815720" y="30366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4815720" y="303660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1" name=""/>
              <p:cNvGrpSpPr/>
              <p:nvPr/>
            </p:nvGrpSpPr>
            <p:grpSpPr>
              <a:xfrm>
                <a:off x="4871520" y="3073320"/>
                <a:ext cx="70920" cy="72720"/>
                <a:chOff x="4871520" y="3073320"/>
                <a:chExt cx="70920" cy="72720"/>
              </a:xfrm>
            </p:grpSpPr>
            <p:sp>
              <p:nvSpPr>
                <p:cNvPr id="2472" name=""/>
                <p:cNvSpPr/>
                <p:nvPr/>
              </p:nvSpPr>
              <p:spPr>
                <a:xfrm>
                  <a:off x="4871520" y="307332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4871520" y="30733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4" name=""/>
              <p:cNvGrpSpPr/>
              <p:nvPr/>
            </p:nvGrpSpPr>
            <p:grpSpPr>
              <a:xfrm>
                <a:off x="4925520" y="3109680"/>
                <a:ext cx="72720" cy="72720"/>
                <a:chOff x="4925520" y="3109680"/>
                <a:chExt cx="72720" cy="72720"/>
              </a:xfrm>
            </p:grpSpPr>
            <p:sp>
              <p:nvSpPr>
                <p:cNvPr id="2475" name=""/>
                <p:cNvSpPr/>
                <p:nvPr/>
              </p:nvSpPr>
              <p:spPr>
                <a:xfrm>
                  <a:off x="4925520" y="3109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4925520" y="31096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7" name=""/>
            <p:cNvSpPr/>
            <p:nvPr/>
          </p:nvSpPr>
          <p:spPr>
            <a:xfrm>
              <a:off x="4233600" y="269064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8" name=""/>
            <p:cNvGrpSpPr/>
            <p:nvPr/>
          </p:nvGrpSpPr>
          <p:grpSpPr>
            <a:xfrm>
              <a:off x="4070160" y="2873160"/>
              <a:ext cx="764280" cy="545400"/>
              <a:chOff x="4070160" y="2873160"/>
              <a:chExt cx="764280" cy="545400"/>
            </a:xfrm>
          </p:grpSpPr>
          <p:grpSp>
            <p:nvGrpSpPr>
              <p:cNvPr id="2479" name=""/>
              <p:cNvGrpSpPr/>
              <p:nvPr/>
            </p:nvGrpSpPr>
            <p:grpSpPr>
              <a:xfrm>
                <a:off x="4070160" y="2873160"/>
                <a:ext cx="90000" cy="72720"/>
                <a:chOff x="4070160" y="2873160"/>
                <a:chExt cx="90000" cy="72720"/>
              </a:xfrm>
            </p:grpSpPr>
            <p:sp>
              <p:nvSpPr>
                <p:cNvPr id="2480" name=""/>
                <p:cNvSpPr/>
                <p:nvPr/>
              </p:nvSpPr>
              <p:spPr>
                <a:xfrm>
                  <a:off x="4070160" y="28731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4070160" y="28731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2" name=""/>
              <p:cNvGrpSpPr/>
              <p:nvPr/>
            </p:nvGrpSpPr>
            <p:grpSpPr>
              <a:xfrm>
                <a:off x="4123800" y="2909520"/>
                <a:ext cx="91800" cy="72360"/>
                <a:chOff x="4123800" y="2909520"/>
                <a:chExt cx="91800" cy="72360"/>
              </a:xfrm>
            </p:grpSpPr>
            <p:sp>
              <p:nvSpPr>
                <p:cNvPr id="2483" name=""/>
                <p:cNvSpPr/>
                <p:nvPr/>
              </p:nvSpPr>
              <p:spPr>
                <a:xfrm>
                  <a:off x="4123800" y="290952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4123800" y="290952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5" name=""/>
              <p:cNvGrpSpPr/>
              <p:nvPr/>
            </p:nvGrpSpPr>
            <p:grpSpPr>
              <a:xfrm>
                <a:off x="4179240" y="2945880"/>
                <a:ext cx="72720" cy="72720"/>
                <a:chOff x="4179240" y="2945880"/>
                <a:chExt cx="72720" cy="72720"/>
              </a:xfrm>
            </p:grpSpPr>
            <p:sp>
              <p:nvSpPr>
                <p:cNvPr id="2486" name=""/>
                <p:cNvSpPr/>
                <p:nvPr/>
              </p:nvSpPr>
              <p:spPr>
                <a:xfrm>
                  <a:off x="4179240" y="2945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4179240" y="29458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8" name=""/>
              <p:cNvGrpSpPr/>
              <p:nvPr/>
            </p:nvGrpSpPr>
            <p:grpSpPr>
              <a:xfrm>
                <a:off x="4233240" y="2963160"/>
                <a:ext cx="72720" cy="91800"/>
                <a:chOff x="4233240" y="2963160"/>
                <a:chExt cx="72720" cy="91800"/>
              </a:xfrm>
            </p:grpSpPr>
            <p:sp>
              <p:nvSpPr>
                <p:cNvPr id="2489" name=""/>
                <p:cNvSpPr/>
                <p:nvPr/>
              </p:nvSpPr>
              <p:spPr>
                <a:xfrm>
                  <a:off x="4233240" y="29631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4233240" y="29631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1" name=""/>
              <p:cNvGrpSpPr/>
              <p:nvPr/>
            </p:nvGrpSpPr>
            <p:grpSpPr>
              <a:xfrm>
                <a:off x="4287240" y="3018960"/>
                <a:ext cx="72720" cy="72720"/>
                <a:chOff x="4287240" y="3018960"/>
                <a:chExt cx="72720" cy="72720"/>
              </a:xfrm>
            </p:grpSpPr>
            <p:sp>
              <p:nvSpPr>
                <p:cNvPr id="2492" name=""/>
                <p:cNvSpPr/>
                <p:nvPr/>
              </p:nvSpPr>
              <p:spPr>
                <a:xfrm>
                  <a:off x="4287240" y="3018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4287240" y="3018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4" name=""/>
              <p:cNvGrpSpPr/>
              <p:nvPr/>
            </p:nvGrpSpPr>
            <p:grpSpPr>
              <a:xfrm>
                <a:off x="4342680" y="3036240"/>
                <a:ext cx="72720" cy="91800"/>
                <a:chOff x="4342680" y="3036240"/>
                <a:chExt cx="72720" cy="91800"/>
              </a:xfrm>
            </p:grpSpPr>
            <p:sp>
              <p:nvSpPr>
                <p:cNvPr id="2495" name=""/>
                <p:cNvSpPr/>
                <p:nvPr/>
              </p:nvSpPr>
              <p:spPr>
                <a:xfrm>
                  <a:off x="4342680" y="30362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4342680" y="30362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7" name=""/>
              <p:cNvGrpSpPr/>
              <p:nvPr/>
            </p:nvGrpSpPr>
            <p:grpSpPr>
              <a:xfrm>
                <a:off x="4396680" y="3072960"/>
                <a:ext cx="72720" cy="91800"/>
                <a:chOff x="4396680" y="3072960"/>
                <a:chExt cx="72720" cy="91800"/>
              </a:xfrm>
            </p:grpSpPr>
            <p:sp>
              <p:nvSpPr>
                <p:cNvPr id="2498" name=""/>
                <p:cNvSpPr/>
                <p:nvPr/>
              </p:nvSpPr>
              <p:spPr>
                <a:xfrm>
                  <a:off x="4396680" y="30729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396680" y="30729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0" name=""/>
              <p:cNvGrpSpPr/>
              <p:nvPr/>
            </p:nvGrpSpPr>
            <p:grpSpPr>
              <a:xfrm>
                <a:off x="4433400" y="3109320"/>
                <a:ext cx="91440" cy="91800"/>
                <a:chOff x="4433400" y="3109320"/>
                <a:chExt cx="91440" cy="91800"/>
              </a:xfrm>
            </p:grpSpPr>
            <p:sp>
              <p:nvSpPr>
                <p:cNvPr id="2501" name=""/>
                <p:cNvSpPr/>
                <p:nvPr/>
              </p:nvSpPr>
              <p:spPr>
                <a:xfrm>
                  <a:off x="4433400" y="3109320"/>
                  <a:ext cx="9144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4433400" y="310932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3" name=""/>
              <p:cNvGrpSpPr/>
              <p:nvPr/>
            </p:nvGrpSpPr>
            <p:grpSpPr>
              <a:xfrm>
                <a:off x="4488840" y="3146040"/>
                <a:ext cx="90000" cy="91440"/>
                <a:chOff x="4488840" y="3146040"/>
                <a:chExt cx="90000" cy="91440"/>
              </a:xfrm>
            </p:grpSpPr>
            <p:sp>
              <p:nvSpPr>
                <p:cNvPr id="2504" name=""/>
                <p:cNvSpPr/>
                <p:nvPr/>
              </p:nvSpPr>
              <p:spPr>
                <a:xfrm>
                  <a:off x="4488840" y="3146040"/>
                  <a:ext cx="90000" cy="9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4488840" y="314604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6" name=""/>
              <p:cNvGrpSpPr/>
              <p:nvPr/>
            </p:nvGrpSpPr>
            <p:grpSpPr>
              <a:xfrm>
                <a:off x="4542840" y="3182400"/>
                <a:ext cx="72720" cy="91800"/>
                <a:chOff x="4542840" y="3182400"/>
                <a:chExt cx="72720" cy="91800"/>
              </a:xfrm>
            </p:grpSpPr>
            <p:sp>
              <p:nvSpPr>
                <p:cNvPr id="2507" name=""/>
                <p:cNvSpPr/>
                <p:nvPr/>
              </p:nvSpPr>
              <p:spPr>
                <a:xfrm>
                  <a:off x="4542840" y="31824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4542840" y="318240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9" name=""/>
              <p:cNvGrpSpPr/>
              <p:nvPr/>
            </p:nvGrpSpPr>
            <p:grpSpPr>
              <a:xfrm>
                <a:off x="4596840" y="3218760"/>
                <a:ext cx="72720" cy="91800"/>
                <a:chOff x="4596840" y="3218760"/>
                <a:chExt cx="72720" cy="91800"/>
              </a:xfrm>
            </p:grpSpPr>
            <p:sp>
              <p:nvSpPr>
                <p:cNvPr id="2510" name=""/>
                <p:cNvSpPr/>
                <p:nvPr/>
              </p:nvSpPr>
              <p:spPr>
                <a:xfrm>
                  <a:off x="4596840" y="32187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4596840" y="32187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2" name=""/>
              <p:cNvGrpSpPr/>
              <p:nvPr/>
            </p:nvGrpSpPr>
            <p:grpSpPr>
              <a:xfrm>
                <a:off x="4652280" y="3255480"/>
                <a:ext cx="72720" cy="91800"/>
                <a:chOff x="4652280" y="3255480"/>
                <a:chExt cx="72720" cy="91800"/>
              </a:xfrm>
            </p:grpSpPr>
            <p:sp>
              <p:nvSpPr>
                <p:cNvPr id="2513" name=""/>
                <p:cNvSpPr/>
                <p:nvPr/>
              </p:nvSpPr>
              <p:spPr>
                <a:xfrm>
                  <a:off x="4652280" y="32554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4652280" y="325548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5" name=""/>
              <p:cNvGrpSpPr/>
              <p:nvPr/>
            </p:nvGrpSpPr>
            <p:grpSpPr>
              <a:xfrm>
                <a:off x="4706280" y="3291840"/>
                <a:ext cx="72720" cy="90360"/>
                <a:chOff x="4706280" y="3291840"/>
                <a:chExt cx="72720" cy="90360"/>
              </a:xfrm>
            </p:grpSpPr>
            <p:sp>
              <p:nvSpPr>
                <p:cNvPr id="2516" name=""/>
                <p:cNvSpPr/>
                <p:nvPr/>
              </p:nvSpPr>
              <p:spPr>
                <a:xfrm>
                  <a:off x="4706280" y="329184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4706280" y="32918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8" name=""/>
              <p:cNvGrpSpPr/>
              <p:nvPr/>
            </p:nvGrpSpPr>
            <p:grpSpPr>
              <a:xfrm>
                <a:off x="4761720" y="3328560"/>
                <a:ext cx="72720" cy="90000"/>
                <a:chOff x="4761720" y="3328560"/>
                <a:chExt cx="72720" cy="90000"/>
              </a:xfrm>
            </p:grpSpPr>
            <p:sp>
              <p:nvSpPr>
                <p:cNvPr id="2519" name=""/>
                <p:cNvSpPr/>
                <p:nvPr/>
              </p:nvSpPr>
              <p:spPr>
                <a:xfrm>
                  <a:off x="4761720" y="332856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4761720" y="33285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21" name=""/>
            <p:cNvSpPr/>
            <p:nvPr/>
          </p:nvSpPr>
          <p:spPr>
            <a:xfrm>
              <a:off x="4070160" y="2909880"/>
              <a:ext cx="745560" cy="582120"/>
            </a:xfrm>
            <a:custGeom>
              <a:avLst/>
              <a:gdLst/>
              <a:ahLst/>
              <a:rect l="l" t="t" r="r" b="b"/>
              <a:pathLst>
                <a:path w="470" h="367">
                  <a:moveTo>
                    <a:pt x="447" y="367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4124160" y="2781000"/>
              <a:ext cx="764280" cy="547200"/>
              <a:chOff x="4124160" y="2781000"/>
              <a:chExt cx="764280" cy="547200"/>
            </a:xfrm>
          </p:grpSpPr>
          <p:grpSp>
            <p:nvGrpSpPr>
              <p:cNvPr id="2523" name=""/>
              <p:cNvGrpSpPr/>
              <p:nvPr/>
            </p:nvGrpSpPr>
            <p:grpSpPr>
              <a:xfrm>
                <a:off x="4124160" y="2781000"/>
                <a:ext cx="91800" cy="91800"/>
                <a:chOff x="4124160" y="2781000"/>
                <a:chExt cx="91800" cy="9180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4124160" y="278100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4124160" y="278100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6" name=""/>
              <p:cNvGrpSpPr/>
              <p:nvPr/>
            </p:nvGrpSpPr>
            <p:grpSpPr>
              <a:xfrm>
                <a:off x="4179240" y="2817360"/>
                <a:ext cx="90000" cy="91800"/>
                <a:chOff x="4179240" y="2817360"/>
                <a:chExt cx="90000" cy="91800"/>
              </a:xfrm>
            </p:grpSpPr>
            <p:sp>
              <p:nvSpPr>
                <p:cNvPr id="2527" name=""/>
                <p:cNvSpPr/>
                <p:nvPr/>
              </p:nvSpPr>
              <p:spPr>
                <a:xfrm>
                  <a:off x="4179240" y="281736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4179240" y="281736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4233240" y="2853720"/>
                <a:ext cx="72720" cy="91800"/>
                <a:chOff x="4233240" y="2853720"/>
                <a:chExt cx="72720" cy="91800"/>
              </a:xfrm>
            </p:grpSpPr>
            <p:sp>
              <p:nvSpPr>
                <p:cNvPr id="2530" name=""/>
                <p:cNvSpPr/>
                <p:nvPr/>
              </p:nvSpPr>
              <p:spPr>
                <a:xfrm>
                  <a:off x="4233240" y="28537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4233240" y="285372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2" name=""/>
              <p:cNvGrpSpPr/>
              <p:nvPr/>
            </p:nvGrpSpPr>
            <p:grpSpPr>
              <a:xfrm>
                <a:off x="4287240" y="2890440"/>
                <a:ext cx="72720" cy="91440"/>
                <a:chOff x="4287240" y="2890440"/>
                <a:chExt cx="72720" cy="91440"/>
              </a:xfrm>
            </p:grpSpPr>
            <p:sp>
              <p:nvSpPr>
                <p:cNvPr id="2533" name=""/>
                <p:cNvSpPr/>
                <p:nvPr/>
              </p:nvSpPr>
              <p:spPr>
                <a:xfrm>
                  <a:off x="4287240" y="289044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4287240" y="289044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5" name=""/>
              <p:cNvGrpSpPr/>
              <p:nvPr/>
            </p:nvGrpSpPr>
            <p:grpSpPr>
              <a:xfrm>
                <a:off x="4342680" y="2926800"/>
                <a:ext cx="72720" cy="91800"/>
                <a:chOff x="4342680" y="2926800"/>
                <a:chExt cx="72720" cy="91800"/>
              </a:xfrm>
            </p:grpSpPr>
            <p:sp>
              <p:nvSpPr>
                <p:cNvPr id="2536" name=""/>
                <p:cNvSpPr/>
                <p:nvPr/>
              </p:nvSpPr>
              <p:spPr>
                <a:xfrm>
                  <a:off x="4342680" y="29268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4342680" y="29268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4396680" y="2963160"/>
                <a:ext cx="72720" cy="91800"/>
                <a:chOff x="4396680" y="2963160"/>
                <a:chExt cx="72720" cy="91800"/>
              </a:xfrm>
            </p:grpSpPr>
            <p:sp>
              <p:nvSpPr>
                <p:cNvPr id="2539" name=""/>
                <p:cNvSpPr/>
                <p:nvPr/>
              </p:nvSpPr>
              <p:spPr>
                <a:xfrm>
                  <a:off x="4396680" y="29631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4396680" y="296316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1" name=""/>
              <p:cNvGrpSpPr/>
              <p:nvPr/>
            </p:nvGrpSpPr>
            <p:grpSpPr>
              <a:xfrm>
                <a:off x="4452480" y="2999880"/>
                <a:ext cx="72360" cy="91800"/>
                <a:chOff x="4452480" y="2999880"/>
                <a:chExt cx="72360" cy="91800"/>
              </a:xfrm>
            </p:grpSpPr>
            <p:sp>
              <p:nvSpPr>
                <p:cNvPr id="2542" name=""/>
                <p:cNvSpPr/>
                <p:nvPr/>
              </p:nvSpPr>
              <p:spPr>
                <a:xfrm>
                  <a:off x="4452480" y="299988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4452480" y="299988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4" name=""/>
              <p:cNvGrpSpPr/>
              <p:nvPr/>
            </p:nvGrpSpPr>
            <p:grpSpPr>
              <a:xfrm>
                <a:off x="4488840" y="3036240"/>
                <a:ext cx="90000" cy="91800"/>
                <a:chOff x="4488840" y="3036240"/>
                <a:chExt cx="90000" cy="91800"/>
              </a:xfrm>
            </p:grpSpPr>
            <p:sp>
              <p:nvSpPr>
                <p:cNvPr id="2545" name=""/>
                <p:cNvSpPr/>
                <p:nvPr/>
              </p:nvSpPr>
              <p:spPr>
                <a:xfrm>
                  <a:off x="4488840" y="303624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4488840" y="303624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7" name=""/>
              <p:cNvGrpSpPr/>
              <p:nvPr/>
            </p:nvGrpSpPr>
            <p:grpSpPr>
              <a:xfrm>
                <a:off x="4542840" y="3072960"/>
                <a:ext cx="90000" cy="91800"/>
                <a:chOff x="4542840" y="3072960"/>
                <a:chExt cx="90000" cy="91800"/>
              </a:xfrm>
            </p:grpSpPr>
            <p:sp>
              <p:nvSpPr>
                <p:cNvPr id="2548" name=""/>
                <p:cNvSpPr/>
                <p:nvPr/>
              </p:nvSpPr>
              <p:spPr>
                <a:xfrm>
                  <a:off x="4542840" y="307296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4542840" y="307296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0" name=""/>
              <p:cNvGrpSpPr/>
              <p:nvPr/>
            </p:nvGrpSpPr>
            <p:grpSpPr>
              <a:xfrm>
                <a:off x="4596840" y="3109320"/>
                <a:ext cx="72720" cy="91800"/>
                <a:chOff x="4596840" y="3109320"/>
                <a:chExt cx="72720" cy="91800"/>
              </a:xfrm>
            </p:grpSpPr>
            <p:sp>
              <p:nvSpPr>
                <p:cNvPr id="2551" name=""/>
                <p:cNvSpPr/>
                <p:nvPr/>
              </p:nvSpPr>
              <p:spPr>
                <a:xfrm>
                  <a:off x="4596840" y="31093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4596840" y="310932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3" name=""/>
              <p:cNvGrpSpPr/>
              <p:nvPr/>
            </p:nvGrpSpPr>
            <p:grpSpPr>
              <a:xfrm>
                <a:off x="4652280" y="3146040"/>
                <a:ext cx="72720" cy="91440"/>
                <a:chOff x="4652280" y="3146040"/>
                <a:chExt cx="72720" cy="9144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4652280" y="314604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4652280" y="314604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4706280" y="3182400"/>
                <a:ext cx="72720" cy="72720"/>
                <a:chOff x="4706280" y="3182400"/>
                <a:chExt cx="72720" cy="727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4706280" y="3182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4706280" y="3182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4761720" y="3218760"/>
                <a:ext cx="72720" cy="91800"/>
                <a:chOff x="4761720" y="3218760"/>
                <a:chExt cx="72720" cy="9180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4761720" y="32187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4761720" y="321876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4815720" y="3255480"/>
                <a:ext cx="72720" cy="72720"/>
                <a:chOff x="4815720" y="3255480"/>
                <a:chExt cx="72720" cy="7272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4815720" y="3255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4815720" y="32554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65" name=""/>
            <p:cNvSpPr/>
            <p:nvPr/>
          </p:nvSpPr>
          <p:spPr>
            <a:xfrm>
              <a:off x="4124160" y="283680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48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6" name=""/>
            <p:cNvGrpSpPr/>
            <p:nvPr/>
          </p:nvGrpSpPr>
          <p:grpSpPr>
            <a:xfrm>
              <a:off x="3705120" y="3402000"/>
              <a:ext cx="747000" cy="545400"/>
              <a:chOff x="3705120" y="3402000"/>
              <a:chExt cx="747000" cy="545400"/>
            </a:xfrm>
          </p:grpSpPr>
          <p:grpSp>
            <p:nvGrpSpPr>
              <p:cNvPr id="2567" name=""/>
              <p:cNvGrpSpPr/>
              <p:nvPr/>
            </p:nvGrpSpPr>
            <p:grpSpPr>
              <a:xfrm>
                <a:off x="3705120" y="3402000"/>
                <a:ext cx="72360" cy="72360"/>
                <a:chOff x="3705120" y="3402000"/>
                <a:chExt cx="72360" cy="7236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3705120" y="340200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3705120" y="3402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0" name=""/>
              <p:cNvGrpSpPr/>
              <p:nvPr/>
            </p:nvGrpSpPr>
            <p:grpSpPr>
              <a:xfrm>
                <a:off x="3741120" y="3438000"/>
                <a:ext cx="91800" cy="72720"/>
                <a:chOff x="3741120" y="3438000"/>
                <a:chExt cx="91800" cy="7272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3741120" y="343800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3741120" y="343800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3796560" y="3474360"/>
                <a:ext cx="90360" cy="72720"/>
                <a:chOff x="3796560" y="3474360"/>
                <a:chExt cx="90360" cy="7272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3796560" y="347436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3796560" y="34743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6" name=""/>
              <p:cNvGrpSpPr/>
              <p:nvPr/>
            </p:nvGrpSpPr>
            <p:grpSpPr>
              <a:xfrm>
                <a:off x="3850560" y="3511080"/>
                <a:ext cx="91800" cy="72720"/>
                <a:chOff x="3850560" y="3511080"/>
                <a:chExt cx="91800" cy="72720"/>
              </a:xfrm>
            </p:grpSpPr>
            <p:sp>
              <p:nvSpPr>
                <p:cNvPr id="2577" name=""/>
                <p:cNvSpPr/>
                <p:nvPr/>
              </p:nvSpPr>
              <p:spPr>
                <a:xfrm>
                  <a:off x="3850560" y="35110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3850560" y="351108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9" name=""/>
              <p:cNvGrpSpPr/>
              <p:nvPr/>
            </p:nvGrpSpPr>
            <p:grpSpPr>
              <a:xfrm>
                <a:off x="3906360" y="3547440"/>
                <a:ext cx="70920" cy="72720"/>
                <a:chOff x="3906360" y="3547440"/>
                <a:chExt cx="70920" cy="72720"/>
              </a:xfrm>
            </p:grpSpPr>
            <p:sp>
              <p:nvSpPr>
                <p:cNvPr id="2580" name=""/>
                <p:cNvSpPr/>
                <p:nvPr/>
              </p:nvSpPr>
              <p:spPr>
                <a:xfrm>
                  <a:off x="3906360" y="35474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3906360" y="35474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2" name=""/>
              <p:cNvGrpSpPr/>
              <p:nvPr/>
            </p:nvGrpSpPr>
            <p:grpSpPr>
              <a:xfrm>
                <a:off x="3960360" y="3584160"/>
                <a:ext cx="72360" cy="72720"/>
                <a:chOff x="3960360" y="3584160"/>
                <a:chExt cx="72360" cy="72720"/>
              </a:xfrm>
            </p:grpSpPr>
            <p:sp>
              <p:nvSpPr>
                <p:cNvPr id="2583" name=""/>
                <p:cNvSpPr/>
                <p:nvPr/>
              </p:nvSpPr>
              <p:spPr>
                <a:xfrm>
                  <a:off x="3960360" y="35841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3960360" y="3584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5" name=""/>
              <p:cNvGrpSpPr/>
              <p:nvPr/>
            </p:nvGrpSpPr>
            <p:grpSpPr>
              <a:xfrm>
                <a:off x="4014000" y="3620520"/>
                <a:ext cx="72720" cy="72720"/>
                <a:chOff x="4014000" y="3620520"/>
                <a:chExt cx="72720" cy="7272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4014000" y="3620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4014000" y="3620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8" name=""/>
              <p:cNvGrpSpPr/>
              <p:nvPr/>
            </p:nvGrpSpPr>
            <p:grpSpPr>
              <a:xfrm>
                <a:off x="4069800" y="3657240"/>
                <a:ext cx="72720" cy="72360"/>
                <a:chOff x="4069800" y="3657240"/>
                <a:chExt cx="72720" cy="72360"/>
              </a:xfrm>
            </p:grpSpPr>
            <p:sp>
              <p:nvSpPr>
                <p:cNvPr id="2589" name=""/>
                <p:cNvSpPr/>
                <p:nvPr/>
              </p:nvSpPr>
              <p:spPr>
                <a:xfrm>
                  <a:off x="4069800" y="36572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4069800" y="36572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1" name=""/>
              <p:cNvGrpSpPr/>
              <p:nvPr/>
            </p:nvGrpSpPr>
            <p:grpSpPr>
              <a:xfrm>
                <a:off x="4106160" y="3693600"/>
                <a:ext cx="90360" cy="72720"/>
                <a:chOff x="4106160" y="3693600"/>
                <a:chExt cx="90360" cy="7272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4106160" y="36936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4106160" y="3693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4" name=""/>
              <p:cNvGrpSpPr/>
              <p:nvPr/>
            </p:nvGrpSpPr>
            <p:grpSpPr>
              <a:xfrm>
                <a:off x="4160160" y="3729960"/>
                <a:ext cx="91800" cy="72720"/>
                <a:chOff x="4160160" y="3729960"/>
                <a:chExt cx="91800" cy="7272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4160160" y="372996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4160160" y="372996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7" name=""/>
              <p:cNvGrpSpPr/>
              <p:nvPr/>
            </p:nvGrpSpPr>
            <p:grpSpPr>
              <a:xfrm>
                <a:off x="4215960" y="3766680"/>
                <a:ext cx="90000" cy="72720"/>
                <a:chOff x="4215960" y="3766680"/>
                <a:chExt cx="90000" cy="72720"/>
              </a:xfrm>
            </p:grpSpPr>
            <p:sp>
              <p:nvSpPr>
                <p:cNvPr id="2598" name=""/>
                <p:cNvSpPr/>
                <p:nvPr/>
              </p:nvSpPr>
              <p:spPr>
                <a:xfrm>
                  <a:off x="4215960" y="37666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4215960" y="376668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0" name=""/>
              <p:cNvGrpSpPr/>
              <p:nvPr/>
            </p:nvGrpSpPr>
            <p:grpSpPr>
              <a:xfrm>
                <a:off x="4269600" y="3803040"/>
                <a:ext cx="72720" cy="72720"/>
                <a:chOff x="4269600" y="3803040"/>
                <a:chExt cx="72720" cy="72720"/>
              </a:xfrm>
            </p:grpSpPr>
            <p:sp>
              <p:nvSpPr>
                <p:cNvPr id="2601" name=""/>
                <p:cNvSpPr/>
                <p:nvPr/>
              </p:nvSpPr>
              <p:spPr>
                <a:xfrm>
                  <a:off x="4269600" y="3803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4269600" y="38030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3" name=""/>
              <p:cNvGrpSpPr/>
              <p:nvPr/>
            </p:nvGrpSpPr>
            <p:grpSpPr>
              <a:xfrm>
                <a:off x="4323600" y="3839760"/>
                <a:ext cx="72720" cy="72360"/>
                <a:chOff x="4323600" y="3839760"/>
                <a:chExt cx="72720" cy="723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4323600" y="38397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4323600" y="38397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4379400" y="3876120"/>
                <a:ext cx="72720" cy="71280"/>
                <a:chOff x="4379400" y="3876120"/>
                <a:chExt cx="72720" cy="7128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4379400" y="38761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4379400" y="38761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9" name=""/>
            <p:cNvSpPr/>
            <p:nvPr/>
          </p:nvSpPr>
          <p:spPr>
            <a:xfrm>
              <a:off x="3687480" y="345564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0" name=""/>
            <p:cNvGrpSpPr/>
            <p:nvPr/>
          </p:nvGrpSpPr>
          <p:grpSpPr>
            <a:xfrm>
              <a:off x="3870000" y="3165480"/>
              <a:ext cx="745560" cy="545040"/>
              <a:chOff x="3870000" y="3165480"/>
              <a:chExt cx="745560" cy="545040"/>
            </a:xfrm>
          </p:grpSpPr>
          <p:grpSp>
            <p:nvGrpSpPr>
              <p:cNvPr id="2611" name=""/>
              <p:cNvGrpSpPr/>
              <p:nvPr/>
            </p:nvGrpSpPr>
            <p:grpSpPr>
              <a:xfrm>
                <a:off x="3870000" y="3165480"/>
                <a:ext cx="72720" cy="90000"/>
                <a:chOff x="3870000" y="3165480"/>
                <a:chExt cx="72720" cy="90000"/>
              </a:xfrm>
            </p:grpSpPr>
            <p:sp>
              <p:nvSpPr>
                <p:cNvPr id="2612" name=""/>
                <p:cNvSpPr/>
                <p:nvPr/>
              </p:nvSpPr>
              <p:spPr>
                <a:xfrm>
                  <a:off x="3870000" y="3165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1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3870000" y="3165480"/>
                  <a:ext cx="36360" cy="532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4" name=""/>
              <p:cNvGrpSpPr/>
              <p:nvPr/>
            </p:nvGrpSpPr>
            <p:grpSpPr>
              <a:xfrm>
                <a:off x="3906360" y="3201480"/>
                <a:ext cx="90000" cy="90000"/>
                <a:chOff x="3906360" y="3201480"/>
                <a:chExt cx="90000" cy="90000"/>
              </a:xfrm>
            </p:grpSpPr>
            <p:sp>
              <p:nvSpPr>
                <p:cNvPr id="2615" name=""/>
                <p:cNvSpPr/>
                <p:nvPr/>
              </p:nvSpPr>
              <p:spPr>
                <a:xfrm>
                  <a:off x="3906360" y="320148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3906360" y="32014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7" name=""/>
              <p:cNvGrpSpPr/>
              <p:nvPr/>
            </p:nvGrpSpPr>
            <p:grpSpPr>
              <a:xfrm>
                <a:off x="3960360" y="3237840"/>
                <a:ext cx="90000" cy="90360"/>
                <a:chOff x="3960360" y="3237840"/>
                <a:chExt cx="90000" cy="90360"/>
              </a:xfrm>
            </p:grpSpPr>
            <p:sp>
              <p:nvSpPr>
                <p:cNvPr id="2618" name=""/>
                <p:cNvSpPr/>
                <p:nvPr/>
              </p:nvSpPr>
              <p:spPr>
                <a:xfrm>
                  <a:off x="3960360" y="323784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3960360" y="323784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0" name=""/>
              <p:cNvGrpSpPr/>
              <p:nvPr/>
            </p:nvGrpSpPr>
            <p:grpSpPr>
              <a:xfrm>
                <a:off x="4014000" y="3274560"/>
                <a:ext cx="72720" cy="90000"/>
                <a:chOff x="4014000" y="3274560"/>
                <a:chExt cx="72720" cy="90000"/>
              </a:xfrm>
            </p:grpSpPr>
            <p:sp>
              <p:nvSpPr>
                <p:cNvPr id="2621" name=""/>
                <p:cNvSpPr/>
                <p:nvPr/>
              </p:nvSpPr>
              <p:spPr>
                <a:xfrm>
                  <a:off x="4014000" y="327456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4014000" y="32745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3" name=""/>
              <p:cNvGrpSpPr/>
              <p:nvPr/>
            </p:nvGrpSpPr>
            <p:grpSpPr>
              <a:xfrm>
                <a:off x="4069800" y="3310920"/>
                <a:ext cx="72720" cy="90360"/>
                <a:chOff x="4069800" y="3310920"/>
                <a:chExt cx="72720" cy="90360"/>
              </a:xfrm>
            </p:grpSpPr>
            <p:sp>
              <p:nvSpPr>
                <p:cNvPr id="2624" name=""/>
                <p:cNvSpPr/>
                <p:nvPr/>
              </p:nvSpPr>
              <p:spPr>
                <a:xfrm>
                  <a:off x="4069800" y="331092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4069800" y="33109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6" name=""/>
              <p:cNvGrpSpPr/>
              <p:nvPr/>
            </p:nvGrpSpPr>
            <p:grpSpPr>
              <a:xfrm>
                <a:off x="4123800" y="3347640"/>
                <a:ext cx="72720" cy="90000"/>
                <a:chOff x="4123800" y="3347640"/>
                <a:chExt cx="72720" cy="90000"/>
              </a:xfrm>
            </p:grpSpPr>
            <p:sp>
              <p:nvSpPr>
                <p:cNvPr id="2627" name=""/>
                <p:cNvSpPr/>
                <p:nvPr/>
              </p:nvSpPr>
              <p:spPr>
                <a:xfrm>
                  <a:off x="4123800" y="334764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4123800" y="334764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9" name=""/>
              <p:cNvGrpSpPr/>
              <p:nvPr/>
            </p:nvGrpSpPr>
            <p:grpSpPr>
              <a:xfrm>
                <a:off x="4179240" y="3382560"/>
                <a:ext cx="72720" cy="91440"/>
                <a:chOff x="4179240" y="3382560"/>
                <a:chExt cx="72720" cy="91440"/>
              </a:xfrm>
            </p:grpSpPr>
            <p:sp>
              <p:nvSpPr>
                <p:cNvPr id="2630" name=""/>
                <p:cNvSpPr/>
                <p:nvPr/>
              </p:nvSpPr>
              <p:spPr>
                <a:xfrm>
                  <a:off x="4179240" y="33825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4179240" y="33825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2" name=""/>
              <p:cNvGrpSpPr/>
              <p:nvPr/>
            </p:nvGrpSpPr>
            <p:grpSpPr>
              <a:xfrm>
                <a:off x="4233240" y="3418920"/>
                <a:ext cx="72720" cy="91800"/>
                <a:chOff x="4233240" y="3418920"/>
                <a:chExt cx="72720" cy="91800"/>
              </a:xfrm>
            </p:grpSpPr>
            <p:sp>
              <p:nvSpPr>
                <p:cNvPr id="2633" name=""/>
                <p:cNvSpPr/>
                <p:nvPr/>
              </p:nvSpPr>
              <p:spPr>
                <a:xfrm>
                  <a:off x="4233240" y="34189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4233240" y="34189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5" name=""/>
              <p:cNvGrpSpPr/>
              <p:nvPr/>
            </p:nvGrpSpPr>
            <p:grpSpPr>
              <a:xfrm>
                <a:off x="4269600" y="3455280"/>
                <a:ext cx="90360" cy="91800"/>
                <a:chOff x="4269600" y="3455280"/>
                <a:chExt cx="90360" cy="91800"/>
              </a:xfrm>
            </p:grpSpPr>
            <p:sp>
              <p:nvSpPr>
                <p:cNvPr id="2636" name=""/>
                <p:cNvSpPr/>
                <p:nvPr/>
              </p:nvSpPr>
              <p:spPr>
                <a:xfrm>
                  <a:off x="4269600" y="3455280"/>
                  <a:ext cx="9036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4269600" y="345528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8" name=""/>
              <p:cNvGrpSpPr/>
              <p:nvPr/>
            </p:nvGrpSpPr>
            <p:grpSpPr>
              <a:xfrm>
                <a:off x="4323600" y="3492000"/>
                <a:ext cx="91800" cy="91800"/>
                <a:chOff x="4323600" y="3492000"/>
                <a:chExt cx="91800" cy="91800"/>
              </a:xfrm>
            </p:grpSpPr>
            <p:sp>
              <p:nvSpPr>
                <p:cNvPr id="2639" name=""/>
                <p:cNvSpPr/>
                <p:nvPr/>
              </p:nvSpPr>
              <p:spPr>
                <a:xfrm>
                  <a:off x="4323600" y="349200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4323600" y="3492000"/>
                  <a:ext cx="554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1" name=""/>
              <p:cNvGrpSpPr/>
              <p:nvPr/>
            </p:nvGrpSpPr>
            <p:grpSpPr>
              <a:xfrm>
                <a:off x="4379400" y="3528360"/>
                <a:ext cx="72720" cy="91800"/>
                <a:chOff x="4379400" y="3528360"/>
                <a:chExt cx="72720" cy="91800"/>
              </a:xfrm>
            </p:grpSpPr>
            <p:sp>
              <p:nvSpPr>
                <p:cNvPr id="2642" name=""/>
                <p:cNvSpPr/>
                <p:nvPr/>
              </p:nvSpPr>
              <p:spPr>
                <a:xfrm>
                  <a:off x="4379400" y="35283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4379400" y="35283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4" name=""/>
              <p:cNvGrpSpPr/>
              <p:nvPr/>
            </p:nvGrpSpPr>
            <p:grpSpPr>
              <a:xfrm>
                <a:off x="4433400" y="3565080"/>
                <a:ext cx="72360" cy="72720"/>
                <a:chOff x="4433400" y="3565080"/>
                <a:chExt cx="72360" cy="72720"/>
              </a:xfrm>
            </p:grpSpPr>
            <p:sp>
              <p:nvSpPr>
                <p:cNvPr id="2645" name=""/>
                <p:cNvSpPr/>
                <p:nvPr/>
              </p:nvSpPr>
              <p:spPr>
                <a:xfrm>
                  <a:off x="4433400" y="35650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4433400" y="3565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7" name=""/>
              <p:cNvGrpSpPr/>
              <p:nvPr/>
            </p:nvGrpSpPr>
            <p:grpSpPr>
              <a:xfrm>
                <a:off x="4488840" y="3601440"/>
                <a:ext cx="72720" cy="91800"/>
                <a:chOff x="4488840" y="3601440"/>
                <a:chExt cx="72720" cy="91800"/>
              </a:xfrm>
            </p:grpSpPr>
            <p:sp>
              <p:nvSpPr>
                <p:cNvPr id="2648" name=""/>
                <p:cNvSpPr/>
                <p:nvPr/>
              </p:nvSpPr>
              <p:spPr>
                <a:xfrm>
                  <a:off x="4488840" y="36014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4488840" y="360144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0" name=""/>
              <p:cNvGrpSpPr/>
              <p:nvPr/>
            </p:nvGrpSpPr>
            <p:grpSpPr>
              <a:xfrm>
                <a:off x="4542840" y="3638160"/>
                <a:ext cx="72720" cy="72360"/>
                <a:chOff x="4542840" y="3638160"/>
                <a:chExt cx="72720" cy="72360"/>
              </a:xfrm>
            </p:grpSpPr>
            <p:sp>
              <p:nvSpPr>
                <p:cNvPr id="2651" name=""/>
                <p:cNvSpPr/>
                <p:nvPr/>
              </p:nvSpPr>
              <p:spPr>
                <a:xfrm>
                  <a:off x="4542840" y="36381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4542840" y="3638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3" name=""/>
            <p:cNvSpPr/>
            <p:nvPr/>
          </p:nvSpPr>
          <p:spPr>
            <a:xfrm>
              <a:off x="3850920" y="321912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4" name=""/>
            <p:cNvGrpSpPr/>
            <p:nvPr/>
          </p:nvGrpSpPr>
          <p:grpSpPr>
            <a:xfrm>
              <a:off x="3924000" y="3092400"/>
              <a:ext cx="745560" cy="545400"/>
              <a:chOff x="3924000" y="3092400"/>
              <a:chExt cx="745560" cy="545400"/>
            </a:xfrm>
          </p:grpSpPr>
          <p:grpSp>
            <p:nvGrpSpPr>
              <p:cNvPr id="2655" name=""/>
              <p:cNvGrpSpPr/>
              <p:nvPr/>
            </p:nvGrpSpPr>
            <p:grpSpPr>
              <a:xfrm>
                <a:off x="3924000" y="3092400"/>
                <a:ext cx="72720" cy="90000"/>
                <a:chOff x="3924000" y="3092400"/>
                <a:chExt cx="72720" cy="90000"/>
              </a:xfrm>
            </p:grpSpPr>
            <p:sp>
              <p:nvSpPr>
                <p:cNvPr id="2656" name=""/>
                <p:cNvSpPr/>
                <p:nvPr/>
              </p:nvSpPr>
              <p:spPr>
                <a:xfrm>
                  <a:off x="3924000" y="30924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3924000" y="30924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8" name=""/>
              <p:cNvGrpSpPr/>
              <p:nvPr/>
            </p:nvGrpSpPr>
            <p:grpSpPr>
              <a:xfrm>
                <a:off x="3960360" y="3128400"/>
                <a:ext cx="90000" cy="90000"/>
                <a:chOff x="3960360" y="3128400"/>
                <a:chExt cx="90000" cy="90000"/>
              </a:xfrm>
            </p:grpSpPr>
            <p:sp>
              <p:nvSpPr>
                <p:cNvPr id="2659" name=""/>
                <p:cNvSpPr/>
                <p:nvPr/>
              </p:nvSpPr>
              <p:spPr>
                <a:xfrm>
                  <a:off x="3960360" y="312840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3960360" y="312840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1" name=""/>
              <p:cNvGrpSpPr/>
              <p:nvPr/>
            </p:nvGrpSpPr>
            <p:grpSpPr>
              <a:xfrm>
                <a:off x="4014000" y="3165120"/>
                <a:ext cx="91800" cy="90000"/>
                <a:chOff x="4014000" y="3165120"/>
                <a:chExt cx="91800" cy="90000"/>
              </a:xfrm>
            </p:grpSpPr>
            <p:sp>
              <p:nvSpPr>
                <p:cNvPr id="2662" name=""/>
                <p:cNvSpPr/>
                <p:nvPr/>
              </p:nvSpPr>
              <p:spPr>
                <a:xfrm>
                  <a:off x="4014000" y="316512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4014000" y="3165120"/>
                  <a:ext cx="5544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4" name=""/>
              <p:cNvGrpSpPr/>
              <p:nvPr/>
            </p:nvGrpSpPr>
            <p:grpSpPr>
              <a:xfrm>
                <a:off x="4069800" y="3201480"/>
                <a:ext cx="72720" cy="90000"/>
                <a:chOff x="4069800" y="3201480"/>
                <a:chExt cx="72720" cy="90000"/>
              </a:xfrm>
            </p:grpSpPr>
            <p:sp>
              <p:nvSpPr>
                <p:cNvPr id="2665" name=""/>
                <p:cNvSpPr/>
                <p:nvPr/>
              </p:nvSpPr>
              <p:spPr>
                <a:xfrm>
                  <a:off x="4069800" y="3201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4069800" y="32014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7" name=""/>
              <p:cNvGrpSpPr/>
              <p:nvPr/>
            </p:nvGrpSpPr>
            <p:grpSpPr>
              <a:xfrm>
                <a:off x="4123800" y="3237840"/>
                <a:ext cx="72720" cy="72720"/>
                <a:chOff x="4123800" y="3237840"/>
                <a:chExt cx="72720" cy="72720"/>
              </a:xfrm>
            </p:grpSpPr>
            <p:sp>
              <p:nvSpPr>
                <p:cNvPr id="2668" name=""/>
                <p:cNvSpPr/>
                <p:nvPr/>
              </p:nvSpPr>
              <p:spPr>
                <a:xfrm>
                  <a:off x="4123800" y="3237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4123800" y="32378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0" name=""/>
              <p:cNvGrpSpPr/>
              <p:nvPr/>
            </p:nvGrpSpPr>
            <p:grpSpPr>
              <a:xfrm>
                <a:off x="4179240" y="3274560"/>
                <a:ext cx="72720" cy="72720"/>
                <a:chOff x="4179240" y="3274560"/>
                <a:chExt cx="72720" cy="72720"/>
              </a:xfrm>
            </p:grpSpPr>
            <p:sp>
              <p:nvSpPr>
                <p:cNvPr id="2671" name=""/>
                <p:cNvSpPr/>
                <p:nvPr/>
              </p:nvSpPr>
              <p:spPr>
                <a:xfrm>
                  <a:off x="417924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4179240" y="3274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3" name=""/>
              <p:cNvGrpSpPr/>
              <p:nvPr/>
            </p:nvGrpSpPr>
            <p:grpSpPr>
              <a:xfrm>
                <a:off x="4233240" y="3310920"/>
                <a:ext cx="72720" cy="71280"/>
                <a:chOff x="4233240" y="3310920"/>
                <a:chExt cx="72720" cy="71280"/>
              </a:xfrm>
            </p:grpSpPr>
            <p:sp>
              <p:nvSpPr>
                <p:cNvPr id="2674" name=""/>
                <p:cNvSpPr/>
                <p:nvPr/>
              </p:nvSpPr>
              <p:spPr>
                <a:xfrm>
                  <a:off x="4233240" y="33109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4233240" y="3310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4287240" y="3347640"/>
                <a:ext cx="72720" cy="70920"/>
                <a:chOff x="4287240" y="3347640"/>
                <a:chExt cx="72720" cy="70920"/>
              </a:xfrm>
            </p:grpSpPr>
            <p:sp>
              <p:nvSpPr>
                <p:cNvPr id="2677" name=""/>
                <p:cNvSpPr/>
                <p:nvPr/>
              </p:nvSpPr>
              <p:spPr>
                <a:xfrm>
                  <a:off x="4287240" y="334764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4287240" y="334764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9" name=""/>
              <p:cNvGrpSpPr/>
              <p:nvPr/>
            </p:nvGrpSpPr>
            <p:grpSpPr>
              <a:xfrm>
                <a:off x="4323600" y="3382560"/>
                <a:ext cx="91800" cy="72360"/>
                <a:chOff x="4323600" y="3382560"/>
                <a:chExt cx="91800" cy="72360"/>
              </a:xfrm>
            </p:grpSpPr>
            <p:sp>
              <p:nvSpPr>
                <p:cNvPr id="2680" name=""/>
                <p:cNvSpPr/>
                <p:nvPr/>
              </p:nvSpPr>
              <p:spPr>
                <a:xfrm>
                  <a:off x="4323600" y="33825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4323600" y="338256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2" name=""/>
              <p:cNvGrpSpPr/>
              <p:nvPr/>
            </p:nvGrpSpPr>
            <p:grpSpPr>
              <a:xfrm>
                <a:off x="4379400" y="3418920"/>
                <a:ext cx="90000" cy="72720"/>
                <a:chOff x="4379400" y="3418920"/>
                <a:chExt cx="90000" cy="72720"/>
              </a:xfrm>
            </p:grpSpPr>
            <p:sp>
              <p:nvSpPr>
                <p:cNvPr id="2683" name=""/>
                <p:cNvSpPr/>
                <p:nvPr/>
              </p:nvSpPr>
              <p:spPr>
                <a:xfrm>
                  <a:off x="4379400" y="34189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4379400" y="34189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5" name=""/>
              <p:cNvGrpSpPr/>
              <p:nvPr/>
            </p:nvGrpSpPr>
            <p:grpSpPr>
              <a:xfrm>
                <a:off x="4433400" y="3455280"/>
                <a:ext cx="72360" cy="72720"/>
                <a:chOff x="4433400" y="3455280"/>
                <a:chExt cx="72360" cy="7272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4433400" y="34552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4433400" y="3455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8" name=""/>
              <p:cNvGrpSpPr/>
              <p:nvPr/>
            </p:nvGrpSpPr>
            <p:grpSpPr>
              <a:xfrm>
                <a:off x="4488840" y="3492000"/>
                <a:ext cx="72720" cy="72720"/>
                <a:chOff x="4488840" y="3492000"/>
                <a:chExt cx="72720" cy="72720"/>
              </a:xfrm>
            </p:grpSpPr>
            <p:sp>
              <p:nvSpPr>
                <p:cNvPr id="2689" name=""/>
                <p:cNvSpPr/>
                <p:nvPr/>
              </p:nvSpPr>
              <p:spPr>
                <a:xfrm>
                  <a:off x="4488840" y="3492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4488840" y="3492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1" name=""/>
              <p:cNvGrpSpPr/>
              <p:nvPr/>
            </p:nvGrpSpPr>
            <p:grpSpPr>
              <a:xfrm>
                <a:off x="4542840" y="3528360"/>
                <a:ext cx="72720" cy="72720"/>
                <a:chOff x="4542840" y="3528360"/>
                <a:chExt cx="72720" cy="72720"/>
              </a:xfrm>
            </p:grpSpPr>
            <p:sp>
              <p:nvSpPr>
                <p:cNvPr id="2692" name=""/>
                <p:cNvSpPr/>
                <p:nvPr/>
              </p:nvSpPr>
              <p:spPr>
                <a:xfrm>
                  <a:off x="4542840" y="3528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4542840" y="3528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4" name=""/>
              <p:cNvGrpSpPr/>
              <p:nvPr/>
            </p:nvGrpSpPr>
            <p:grpSpPr>
              <a:xfrm>
                <a:off x="4596840" y="3565080"/>
                <a:ext cx="72720" cy="72720"/>
                <a:chOff x="4596840" y="3565080"/>
                <a:chExt cx="72720" cy="72720"/>
              </a:xfrm>
            </p:grpSpPr>
            <p:sp>
              <p:nvSpPr>
                <p:cNvPr id="2695" name=""/>
                <p:cNvSpPr/>
                <p:nvPr/>
              </p:nvSpPr>
              <p:spPr>
                <a:xfrm>
                  <a:off x="4596840" y="3565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4596840" y="3565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7" name=""/>
            <p:cNvSpPr/>
            <p:nvPr/>
          </p:nvSpPr>
          <p:spPr>
            <a:xfrm>
              <a:off x="3906720" y="3146400"/>
              <a:ext cx="745560" cy="56448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8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"/>
          <p:cNvSpPr/>
          <p:nvPr/>
        </p:nvSpPr>
        <p:spPr>
          <a:xfrm>
            <a:off x="0" y="0"/>
            <a:ext cx="10287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893880" y="6475320"/>
            <a:ext cx="1093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8105760" y="6475320"/>
            <a:ext cx="81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8370360" y="65660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ecece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971800" y="1752480"/>
            <a:ext cx="2712960" cy="2935440"/>
          </a:xfrm>
          <a:custGeom>
            <a:avLst/>
            <a:gdLst/>
            <a:ahLst/>
            <a:rect l="l" t="t" r="r" b="b"/>
            <a:pathLst>
              <a:path w="149" h="161">
                <a:moveTo>
                  <a:pt x="87" y="5"/>
                </a:moveTo>
                <a:cubicBezTo>
                  <a:pt x="80" y="0"/>
                  <a:pt x="70" y="2"/>
                  <a:pt x="65" y="9"/>
                </a:cubicBezTo>
                <a:lnTo>
                  <a:pt x="5" y="99"/>
                </a:lnTo>
                <a:cubicBezTo>
                  <a:pt x="0" y="106"/>
                  <a:pt x="2" y="116"/>
                  <a:pt x="9" y="121"/>
                </a:cubicBezTo>
                <a:lnTo>
                  <a:pt x="62" y="157"/>
                </a:lnTo>
                <a:cubicBezTo>
                  <a:pt x="69" y="161"/>
                  <a:pt x="79" y="160"/>
                  <a:pt x="84" y="152"/>
                </a:cubicBezTo>
                <a:lnTo>
                  <a:pt x="144" y="63"/>
                </a:lnTo>
                <a:cubicBezTo>
                  <a:pt x="149" y="55"/>
                  <a:pt x="147" y="46"/>
                  <a:pt x="140" y="41"/>
                </a:cubicBezTo>
                <a:lnTo>
                  <a:pt x="87" y="5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990880" y="1771560"/>
            <a:ext cx="2639880" cy="2862360"/>
          </a:xfrm>
          <a:custGeom>
            <a:avLst/>
            <a:gdLst/>
            <a:ahLst/>
            <a:rect l="l" t="t" r="r" b="b"/>
            <a:pathLst>
              <a:path w="145" h="157">
                <a:moveTo>
                  <a:pt x="85" y="4"/>
                </a:moveTo>
                <a:cubicBezTo>
                  <a:pt x="78" y="0"/>
                  <a:pt x="68" y="1"/>
                  <a:pt x="63" y="8"/>
                </a:cubicBezTo>
                <a:lnTo>
                  <a:pt x="4" y="97"/>
                </a:lnTo>
                <a:cubicBezTo>
                  <a:pt x="0" y="104"/>
                  <a:pt x="1" y="113"/>
                  <a:pt x="8" y="118"/>
                </a:cubicBezTo>
                <a:lnTo>
                  <a:pt x="60" y="154"/>
                </a:lnTo>
                <a:cubicBezTo>
                  <a:pt x="67" y="157"/>
                  <a:pt x="77" y="156"/>
                  <a:pt x="82" y="149"/>
                </a:cubicBezTo>
                <a:lnTo>
                  <a:pt x="141" y="61"/>
                </a:lnTo>
                <a:cubicBezTo>
                  <a:pt x="145" y="53"/>
                  <a:pt x="144" y="45"/>
                  <a:pt x="137" y="40"/>
                </a:cubicBezTo>
                <a:lnTo>
                  <a:pt x="85" y="4"/>
                </a:lnTo>
                <a:close/>
              </a:path>
            </a:pathLst>
          </a:custGeom>
          <a:solidFill>
            <a:srgbClr val="1111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027240" y="1808280"/>
            <a:ext cx="2567160" cy="2789280"/>
          </a:xfrm>
          <a:custGeom>
            <a:avLst/>
            <a:gdLst/>
            <a:ahLst/>
            <a:rect l="l" t="t" r="r" b="b"/>
            <a:pathLst>
              <a:path w="141" h="153">
                <a:moveTo>
                  <a:pt x="82" y="4"/>
                </a:moveTo>
                <a:cubicBezTo>
                  <a:pt x="76" y="0"/>
                  <a:pt x="66" y="1"/>
                  <a:pt x="61" y="8"/>
                </a:cubicBezTo>
                <a:lnTo>
                  <a:pt x="4" y="94"/>
                </a:lnTo>
                <a:cubicBezTo>
                  <a:pt x="0" y="101"/>
                  <a:pt x="1" y="110"/>
                  <a:pt x="8" y="115"/>
                </a:cubicBezTo>
                <a:lnTo>
                  <a:pt x="59" y="150"/>
                </a:lnTo>
                <a:cubicBezTo>
                  <a:pt x="65" y="153"/>
                  <a:pt x="75" y="152"/>
                  <a:pt x="80" y="145"/>
                </a:cubicBezTo>
                <a:lnTo>
                  <a:pt x="137" y="60"/>
                </a:lnTo>
                <a:cubicBezTo>
                  <a:pt x="141" y="52"/>
                  <a:pt x="140" y="44"/>
                  <a:pt x="133" y="39"/>
                </a:cubicBezTo>
                <a:lnTo>
                  <a:pt x="82" y="4"/>
                </a:lnTo>
                <a:close/>
              </a:path>
            </a:pathLst>
          </a:custGeom>
          <a:solidFill>
            <a:srgbClr val="191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3044880" y="1825560"/>
            <a:ext cx="2531880" cy="2752920"/>
          </a:xfrm>
          <a:custGeom>
            <a:avLst/>
            <a:gdLst/>
            <a:ahLst/>
            <a:rect l="l" t="t" r="r" b="b"/>
            <a:pathLst>
              <a:path w="139" h="151">
                <a:moveTo>
                  <a:pt x="81" y="4"/>
                </a:moveTo>
                <a:cubicBezTo>
                  <a:pt x="75" y="0"/>
                  <a:pt x="65" y="1"/>
                  <a:pt x="61" y="8"/>
                </a:cubicBezTo>
                <a:lnTo>
                  <a:pt x="4" y="93"/>
                </a:lnTo>
                <a:cubicBezTo>
                  <a:pt x="0" y="100"/>
                  <a:pt x="1" y="109"/>
                  <a:pt x="8" y="114"/>
                </a:cubicBezTo>
                <a:lnTo>
                  <a:pt x="58" y="148"/>
                </a:lnTo>
                <a:cubicBezTo>
                  <a:pt x="64" y="151"/>
                  <a:pt x="74" y="150"/>
                  <a:pt x="78" y="143"/>
                </a:cubicBezTo>
                <a:lnTo>
                  <a:pt x="135" y="59"/>
                </a:lnTo>
                <a:cubicBezTo>
                  <a:pt x="139" y="51"/>
                  <a:pt x="138" y="43"/>
                  <a:pt x="131" y="38"/>
                </a:cubicBezTo>
                <a:lnTo>
                  <a:pt x="81" y="4"/>
                </a:lnTo>
                <a:close/>
              </a:path>
            </a:pathLst>
          </a:custGeom>
          <a:solidFill>
            <a:srgbClr val="2121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3081240" y="1862280"/>
            <a:ext cx="2459160" cy="2679480"/>
          </a:xfrm>
          <a:custGeom>
            <a:avLst/>
            <a:gdLst/>
            <a:ahLst/>
            <a:rect l="l" t="t" r="r" b="b"/>
            <a:pathLst>
              <a:path w="135" h="147">
                <a:moveTo>
                  <a:pt x="79" y="4"/>
                </a:moveTo>
                <a:cubicBezTo>
                  <a:pt x="73" y="0"/>
                  <a:pt x="63" y="1"/>
                  <a:pt x="59" y="8"/>
                </a:cubicBezTo>
                <a:lnTo>
                  <a:pt x="4" y="90"/>
                </a:lnTo>
                <a:cubicBezTo>
                  <a:pt x="0" y="97"/>
                  <a:pt x="1" y="106"/>
                  <a:pt x="8" y="111"/>
                </a:cubicBezTo>
                <a:lnTo>
                  <a:pt x="56" y="144"/>
                </a:lnTo>
                <a:cubicBezTo>
                  <a:pt x="62" y="147"/>
                  <a:pt x="72" y="146"/>
                  <a:pt x="76" y="139"/>
                </a:cubicBezTo>
                <a:lnTo>
                  <a:pt x="131" y="57"/>
                </a:lnTo>
                <a:cubicBezTo>
                  <a:pt x="135" y="50"/>
                  <a:pt x="134" y="42"/>
                  <a:pt x="127" y="37"/>
                </a:cubicBezTo>
                <a:lnTo>
                  <a:pt x="79" y="4"/>
                </a:lnTo>
                <a:close/>
              </a:path>
            </a:pathLst>
          </a:custGeom>
          <a:solidFill>
            <a:srgbClr val="282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3098880" y="1898640"/>
            <a:ext cx="2421000" cy="2606760"/>
          </a:xfrm>
          <a:custGeom>
            <a:avLst/>
            <a:gdLst/>
            <a:ahLst/>
            <a:rect l="l" t="t" r="r" b="b"/>
            <a:pathLst>
              <a:path w="133" h="143">
                <a:moveTo>
                  <a:pt x="78" y="4"/>
                </a:moveTo>
                <a:cubicBezTo>
                  <a:pt x="71" y="0"/>
                  <a:pt x="62" y="1"/>
                  <a:pt x="58" y="8"/>
                </a:cubicBezTo>
                <a:lnTo>
                  <a:pt x="4" y="88"/>
                </a:lnTo>
                <a:cubicBezTo>
                  <a:pt x="0" y="94"/>
                  <a:pt x="1" y="103"/>
                  <a:pt x="8" y="108"/>
                </a:cubicBezTo>
                <a:lnTo>
                  <a:pt x="55" y="140"/>
                </a:lnTo>
                <a:cubicBezTo>
                  <a:pt x="62" y="143"/>
                  <a:pt x="71" y="142"/>
                  <a:pt x="75" y="135"/>
                </a:cubicBezTo>
                <a:lnTo>
                  <a:pt x="129" y="56"/>
                </a:lnTo>
                <a:cubicBezTo>
                  <a:pt x="133" y="49"/>
                  <a:pt x="132" y="41"/>
                  <a:pt x="125" y="36"/>
                </a:cubicBezTo>
                <a:lnTo>
                  <a:pt x="78" y="4"/>
                </a:lnTo>
                <a:close/>
              </a:path>
            </a:pathLst>
          </a:custGeom>
          <a:solidFill>
            <a:srgbClr val="2f2f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137040" y="1917720"/>
            <a:ext cx="2347920" cy="2570040"/>
          </a:xfrm>
          <a:custGeom>
            <a:avLst/>
            <a:gdLst/>
            <a:ahLst/>
            <a:rect l="l" t="t" r="r" b="b"/>
            <a:pathLst>
              <a:path w="129" h="141">
                <a:moveTo>
                  <a:pt x="75" y="4"/>
                </a:moveTo>
                <a:cubicBezTo>
                  <a:pt x="69" y="0"/>
                  <a:pt x="61" y="1"/>
                  <a:pt x="56" y="8"/>
                </a:cubicBezTo>
                <a:lnTo>
                  <a:pt x="4" y="87"/>
                </a:lnTo>
                <a:cubicBezTo>
                  <a:pt x="0" y="93"/>
                  <a:pt x="1" y="102"/>
                  <a:pt x="7" y="106"/>
                </a:cubicBezTo>
                <a:lnTo>
                  <a:pt x="54" y="138"/>
                </a:lnTo>
                <a:cubicBezTo>
                  <a:pt x="60" y="141"/>
                  <a:pt x="68" y="140"/>
                  <a:pt x="73" y="133"/>
                </a:cubicBezTo>
                <a:lnTo>
                  <a:pt x="125" y="55"/>
                </a:lnTo>
                <a:cubicBezTo>
                  <a:pt x="129" y="48"/>
                  <a:pt x="128" y="40"/>
                  <a:pt x="122" y="36"/>
                </a:cubicBezTo>
                <a:lnTo>
                  <a:pt x="75" y="4"/>
                </a:lnTo>
                <a:close/>
              </a:path>
            </a:pathLst>
          </a:custGeom>
          <a:solidFill>
            <a:srgbClr val="3535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154320" y="1954080"/>
            <a:ext cx="2313000" cy="2497320"/>
          </a:xfrm>
          <a:custGeom>
            <a:avLst/>
            <a:gdLst/>
            <a:ahLst/>
            <a:rect l="l" t="t" r="r" b="b"/>
            <a:pathLst>
              <a:path w="127" h="137">
                <a:moveTo>
                  <a:pt x="74" y="4"/>
                </a:moveTo>
                <a:cubicBezTo>
                  <a:pt x="68" y="0"/>
                  <a:pt x="60" y="1"/>
                  <a:pt x="55" y="7"/>
                </a:cubicBezTo>
                <a:lnTo>
                  <a:pt x="4" y="84"/>
                </a:lnTo>
                <a:cubicBezTo>
                  <a:pt x="0" y="90"/>
                  <a:pt x="1" y="99"/>
                  <a:pt x="7" y="103"/>
                </a:cubicBezTo>
                <a:lnTo>
                  <a:pt x="53" y="134"/>
                </a:lnTo>
                <a:cubicBezTo>
                  <a:pt x="59" y="137"/>
                  <a:pt x="67" y="136"/>
                  <a:pt x="72" y="130"/>
                </a:cubicBezTo>
                <a:lnTo>
                  <a:pt x="123" y="54"/>
                </a:lnTo>
                <a:cubicBezTo>
                  <a:pt x="127" y="47"/>
                  <a:pt x="126" y="39"/>
                  <a:pt x="120" y="35"/>
                </a:cubicBezTo>
                <a:lnTo>
                  <a:pt x="74" y="4"/>
                </a:lnTo>
                <a:close/>
              </a:path>
            </a:pathLst>
          </a:custGeom>
          <a:solidFill>
            <a:srgbClr val="3d3d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3191040" y="1990800"/>
            <a:ext cx="2239920" cy="2423880"/>
          </a:xfrm>
          <a:custGeom>
            <a:avLst/>
            <a:gdLst/>
            <a:ahLst/>
            <a:rect l="l" t="t" r="r" b="b"/>
            <a:pathLst>
              <a:path w="123" h="133">
                <a:moveTo>
                  <a:pt x="72" y="4"/>
                </a:moveTo>
                <a:cubicBezTo>
                  <a:pt x="66" y="0"/>
                  <a:pt x="58" y="1"/>
                  <a:pt x="54" y="7"/>
                </a:cubicBezTo>
                <a:lnTo>
                  <a:pt x="4" y="82"/>
                </a:lnTo>
                <a:cubicBezTo>
                  <a:pt x="0" y="88"/>
                  <a:pt x="1" y="96"/>
                  <a:pt x="7" y="100"/>
                </a:cubicBezTo>
                <a:lnTo>
                  <a:pt x="51" y="130"/>
                </a:lnTo>
                <a:cubicBezTo>
                  <a:pt x="57" y="133"/>
                  <a:pt x="65" y="132"/>
                  <a:pt x="69" y="126"/>
                </a:cubicBezTo>
                <a:lnTo>
                  <a:pt x="119" y="52"/>
                </a:lnTo>
                <a:cubicBezTo>
                  <a:pt x="123" y="45"/>
                  <a:pt x="122" y="38"/>
                  <a:pt x="116" y="34"/>
                </a:cubicBezTo>
                <a:lnTo>
                  <a:pt x="72" y="4"/>
                </a:lnTo>
                <a:close/>
              </a:path>
            </a:pathLst>
          </a:custGeom>
          <a:solidFill>
            <a:srgbClr val="4343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3208320" y="2008080"/>
            <a:ext cx="2203560" cy="2389320"/>
          </a:xfrm>
          <a:custGeom>
            <a:avLst/>
            <a:gdLst/>
            <a:ahLst/>
            <a:rect l="l" t="t" r="r" b="b"/>
            <a:pathLst>
              <a:path w="121" h="131">
                <a:moveTo>
                  <a:pt x="71" y="4"/>
                </a:moveTo>
                <a:cubicBezTo>
                  <a:pt x="65" y="0"/>
                  <a:pt x="57" y="1"/>
                  <a:pt x="53" y="7"/>
                </a:cubicBezTo>
                <a:lnTo>
                  <a:pt x="4" y="81"/>
                </a:lnTo>
                <a:cubicBezTo>
                  <a:pt x="0" y="86"/>
                  <a:pt x="1" y="95"/>
                  <a:pt x="7" y="99"/>
                </a:cubicBezTo>
                <a:lnTo>
                  <a:pt x="50" y="128"/>
                </a:lnTo>
                <a:cubicBezTo>
                  <a:pt x="56" y="131"/>
                  <a:pt x="64" y="130"/>
                  <a:pt x="68" y="124"/>
                </a:cubicBezTo>
                <a:lnTo>
                  <a:pt x="117" y="51"/>
                </a:lnTo>
                <a:cubicBezTo>
                  <a:pt x="121" y="45"/>
                  <a:pt x="120" y="37"/>
                  <a:pt x="114" y="33"/>
                </a:cubicBezTo>
                <a:lnTo>
                  <a:pt x="71" y="4"/>
                </a:lnTo>
                <a:close/>
              </a:path>
            </a:pathLst>
          </a:custGeom>
          <a:solidFill>
            <a:srgbClr val="4a4a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3244680" y="2044800"/>
            <a:ext cx="2130480" cy="2316240"/>
          </a:xfrm>
          <a:custGeom>
            <a:avLst/>
            <a:gdLst/>
            <a:ahLst/>
            <a:rect l="l" t="t" r="r" b="b"/>
            <a:pathLst>
              <a:path w="117" h="127">
                <a:moveTo>
                  <a:pt x="68" y="4"/>
                </a:moveTo>
                <a:cubicBezTo>
                  <a:pt x="63" y="0"/>
                  <a:pt x="55" y="1"/>
                  <a:pt x="51" y="7"/>
                </a:cubicBezTo>
                <a:lnTo>
                  <a:pt x="4" y="78"/>
                </a:lnTo>
                <a:cubicBezTo>
                  <a:pt x="0" y="84"/>
                  <a:pt x="1" y="92"/>
                  <a:pt x="7" y="96"/>
                </a:cubicBezTo>
                <a:lnTo>
                  <a:pt x="49" y="124"/>
                </a:lnTo>
                <a:cubicBezTo>
                  <a:pt x="54" y="127"/>
                  <a:pt x="62" y="126"/>
                  <a:pt x="66" y="120"/>
                </a:cubicBezTo>
                <a:lnTo>
                  <a:pt x="113" y="50"/>
                </a:lnTo>
                <a:cubicBezTo>
                  <a:pt x="117" y="43"/>
                  <a:pt x="116" y="36"/>
                  <a:pt x="110" y="32"/>
                </a:cubicBezTo>
                <a:lnTo>
                  <a:pt x="68" y="4"/>
                </a:lnTo>
                <a:close/>
              </a:path>
            </a:pathLst>
          </a:custGeom>
          <a:solidFill>
            <a:srgbClr val="515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3265560" y="2081160"/>
            <a:ext cx="2092320" cy="2243160"/>
          </a:xfrm>
          <a:custGeom>
            <a:avLst/>
            <a:gdLst/>
            <a:ahLst/>
            <a:rect l="l" t="t" r="r" b="b"/>
            <a:pathLst>
              <a:path w="115" h="123">
                <a:moveTo>
                  <a:pt x="67" y="4"/>
                </a:moveTo>
                <a:cubicBezTo>
                  <a:pt x="62" y="0"/>
                  <a:pt x="54" y="1"/>
                  <a:pt x="50" y="7"/>
                </a:cubicBezTo>
                <a:lnTo>
                  <a:pt x="4" y="76"/>
                </a:lnTo>
                <a:cubicBezTo>
                  <a:pt x="0" y="81"/>
                  <a:pt x="1" y="89"/>
                  <a:pt x="7" y="93"/>
                </a:cubicBezTo>
                <a:lnTo>
                  <a:pt x="48" y="120"/>
                </a:lnTo>
                <a:cubicBezTo>
                  <a:pt x="53" y="123"/>
                  <a:pt x="61" y="122"/>
                  <a:pt x="65" y="116"/>
                </a:cubicBezTo>
                <a:lnTo>
                  <a:pt x="111" y="48"/>
                </a:lnTo>
                <a:cubicBezTo>
                  <a:pt x="115" y="42"/>
                  <a:pt x="114" y="35"/>
                  <a:pt x="108" y="31"/>
                </a:cubicBezTo>
                <a:lnTo>
                  <a:pt x="67" y="4"/>
                </a:lnTo>
                <a:close/>
              </a:path>
            </a:pathLst>
          </a:custGeom>
          <a:solidFill>
            <a:srgbClr val="5858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3300480" y="2100240"/>
            <a:ext cx="2019240" cy="2205000"/>
          </a:xfrm>
          <a:custGeom>
            <a:avLst/>
            <a:gdLst/>
            <a:ahLst/>
            <a:rect l="l" t="t" r="r" b="b"/>
            <a:pathLst>
              <a:path w="111" h="121">
                <a:moveTo>
                  <a:pt x="65" y="4"/>
                </a:moveTo>
                <a:cubicBezTo>
                  <a:pt x="60" y="0"/>
                  <a:pt x="52" y="1"/>
                  <a:pt x="48" y="7"/>
                </a:cubicBezTo>
                <a:lnTo>
                  <a:pt x="3" y="74"/>
                </a:lnTo>
                <a:cubicBezTo>
                  <a:pt x="0" y="80"/>
                  <a:pt x="1" y="87"/>
                  <a:pt x="6" y="91"/>
                </a:cubicBezTo>
                <a:lnTo>
                  <a:pt x="46" y="118"/>
                </a:lnTo>
                <a:cubicBezTo>
                  <a:pt x="51" y="121"/>
                  <a:pt x="59" y="120"/>
                  <a:pt x="63" y="114"/>
                </a:cubicBezTo>
                <a:lnTo>
                  <a:pt x="108" y="47"/>
                </a:lnTo>
                <a:cubicBezTo>
                  <a:pt x="111" y="41"/>
                  <a:pt x="110" y="34"/>
                  <a:pt x="105" y="31"/>
                </a:cubicBezTo>
                <a:lnTo>
                  <a:pt x="65" y="4"/>
                </a:lnTo>
                <a:close/>
              </a:path>
            </a:pathLst>
          </a:custGeom>
          <a:solidFill>
            <a:srgbClr val="5f5f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3317760" y="2135160"/>
            <a:ext cx="1967040" cy="2133720"/>
          </a:xfrm>
          <a:custGeom>
            <a:avLst/>
            <a:gdLst/>
            <a:ahLst/>
            <a:rect l="l" t="t" r="r" b="b"/>
            <a:pathLst>
              <a:path w="108" h="117">
                <a:moveTo>
                  <a:pt x="63" y="3"/>
                </a:moveTo>
                <a:cubicBezTo>
                  <a:pt x="58" y="0"/>
                  <a:pt x="51" y="1"/>
                  <a:pt x="47" y="6"/>
                </a:cubicBezTo>
                <a:lnTo>
                  <a:pt x="3" y="72"/>
                </a:lnTo>
                <a:cubicBezTo>
                  <a:pt x="0" y="77"/>
                  <a:pt x="1" y="84"/>
                  <a:pt x="6" y="88"/>
                </a:cubicBezTo>
                <a:lnTo>
                  <a:pt x="45" y="114"/>
                </a:lnTo>
                <a:cubicBezTo>
                  <a:pt x="50" y="117"/>
                  <a:pt x="57" y="116"/>
                  <a:pt x="61" y="111"/>
                </a:cubicBezTo>
                <a:lnTo>
                  <a:pt x="105" y="46"/>
                </a:lnTo>
                <a:cubicBezTo>
                  <a:pt x="108" y="40"/>
                  <a:pt x="107" y="33"/>
                  <a:pt x="102" y="30"/>
                </a:cubicBezTo>
                <a:lnTo>
                  <a:pt x="63" y="3"/>
                </a:lnTo>
                <a:close/>
              </a:path>
            </a:pathLst>
          </a:custGeom>
          <a:solidFill>
            <a:srgbClr val="6767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3354480" y="2171880"/>
            <a:ext cx="1912680" cy="2060280"/>
          </a:xfrm>
          <a:custGeom>
            <a:avLst/>
            <a:gdLst/>
            <a:ahLst/>
            <a:rect l="l" t="t" r="r" b="b"/>
            <a:pathLst>
              <a:path w="105" h="113">
                <a:moveTo>
                  <a:pt x="61" y="3"/>
                </a:moveTo>
                <a:cubicBezTo>
                  <a:pt x="56" y="0"/>
                  <a:pt x="49" y="1"/>
                  <a:pt x="46" y="6"/>
                </a:cubicBezTo>
                <a:lnTo>
                  <a:pt x="3" y="70"/>
                </a:lnTo>
                <a:cubicBezTo>
                  <a:pt x="0" y="74"/>
                  <a:pt x="1" y="82"/>
                  <a:pt x="6" y="85"/>
                </a:cubicBezTo>
                <a:lnTo>
                  <a:pt x="44" y="110"/>
                </a:lnTo>
                <a:cubicBezTo>
                  <a:pt x="49" y="113"/>
                  <a:pt x="56" y="112"/>
                  <a:pt x="59" y="107"/>
                </a:cubicBezTo>
                <a:lnTo>
                  <a:pt x="102" y="44"/>
                </a:lnTo>
                <a:cubicBezTo>
                  <a:pt x="105" y="39"/>
                  <a:pt x="104" y="32"/>
                  <a:pt x="99" y="29"/>
                </a:cubicBezTo>
                <a:lnTo>
                  <a:pt x="61" y="3"/>
                </a:lnTo>
                <a:close/>
              </a:path>
            </a:pathLst>
          </a:custGeom>
          <a:solidFill>
            <a:srgbClr val="6e6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3371760" y="2190600"/>
            <a:ext cx="1859040" cy="2024280"/>
          </a:xfrm>
          <a:custGeom>
            <a:avLst/>
            <a:gdLst/>
            <a:ahLst/>
            <a:rect l="l" t="t" r="r" b="b"/>
            <a:pathLst>
              <a:path w="102" h="111">
                <a:moveTo>
                  <a:pt x="60" y="3"/>
                </a:moveTo>
                <a:cubicBezTo>
                  <a:pt x="55" y="0"/>
                  <a:pt x="48" y="1"/>
                  <a:pt x="44" y="6"/>
                </a:cubicBezTo>
                <a:lnTo>
                  <a:pt x="3" y="68"/>
                </a:lnTo>
                <a:cubicBezTo>
                  <a:pt x="0" y="73"/>
                  <a:pt x="1" y="80"/>
                  <a:pt x="6" y="84"/>
                </a:cubicBezTo>
                <a:lnTo>
                  <a:pt x="42" y="108"/>
                </a:lnTo>
                <a:cubicBezTo>
                  <a:pt x="47" y="111"/>
                  <a:pt x="54" y="110"/>
                  <a:pt x="58" y="105"/>
                </a:cubicBezTo>
                <a:lnTo>
                  <a:pt x="99" y="43"/>
                </a:lnTo>
                <a:cubicBezTo>
                  <a:pt x="102" y="38"/>
                  <a:pt x="101" y="32"/>
                  <a:pt x="96" y="28"/>
                </a:cubicBezTo>
                <a:lnTo>
                  <a:pt x="60" y="3"/>
                </a:lnTo>
                <a:close/>
              </a:path>
            </a:pathLst>
          </a:custGeom>
          <a:solidFill>
            <a:srgbClr val="7474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408480" y="2227320"/>
            <a:ext cx="1803240" cy="1950840"/>
          </a:xfrm>
          <a:custGeom>
            <a:avLst/>
            <a:gdLst/>
            <a:ahLst/>
            <a:rect l="l" t="t" r="r" b="b"/>
            <a:pathLst>
              <a:path w="99" h="107">
                <a:moveTo>
                  <a:pt x="58" y="3"/>
                </a:moveTo>
                <a:cubicBezTo>
                  <a:pt x="53" y="0"/>
                  <a:pt x="46" y="1"/>
                  <a:pt x="43" y="6"/>
                </a:cubicBezTo>
                <a:lnTo>
                  <a:pt x="3" y="66"/>
                </a:lnTo>
                <a:cubicBezTo>
                  <a:pt x="0" y="70"/>
                  <a:pt x="1" y="77"/>
                  <a:pt x="6" y="80"/>
                </a:cubicBezTo>
                <a:lnTo>
                  <a:pt x="41" y="104"/>
                </a:lnTo>
                <a:cubicBezTo>
                  <a:pt x="46" y="107"/>
                  <a:pt x="52" y="106"/>
                  <a:pt x="56" y="101"/>
                </a:cubicBezTo>
                <a:lnTo>
                  <a:pt x="96" y="42"/>
                </a:lnTo>
                <a:cubicBezTo>
                  <a:pt x="99" y="36"/>
                  <a:pt x="98" y="30"/>
                  <a:pt x="93" y="27"/>
                </a:cubicBezTo>
                <a:lnTo>
                  <a:pt x="58" y="3"/>
                </a:lnTo>
                <a:close/>
              </a:path>
            </a:pathLst>
          </a:custGeom>
          <a:solidFill>
            <a:srgbClr val="7d7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3427560" y="2244600"/>
            <a:ext cx="1747800" cy="1897200"/>
          </a:xfrm>
          <a:custGeom>
            <a:avLst/>
            <a:gdLst/>
            <a:ahLst/>
            <a:rect l="l" t="t" r="r" b="b"/>
            <a:pathLst>
              <a:path w="96" h="104">
                <a:moveTo>
                  <a:pt x="56" y="3"/>
                </a:moveTo>
                <a:cubicBezTo>
                  <a:pt x="52" y="0"/>
                  <a:pt x="45" y="1"/>
                  <a:pt x="42" y="6"/>
                </a:cubicBezTo>
                <a:lnTo>
                  <a:pt x="3" y="64"/>
                </a:lnTo>
                <a:cubicBezTo>
                  <a:pt x="0" y="69"/>
                  <a:pt x="1" y="75"/>
                  <a:pt x="6" y="78"/>
                </a:cubicBezTo>
                <a:lnTo>
                  <a:pt x="40" y="102"/>
                </a:lnTo>
                <a:cubicBezTo>
                  <a:pt x="44" y="104"/>
                  <a:pt x="51" y="103"/>
                  <a:pt x="54" y="98"/>
                </a:cubicBezTo>
                <a:lnTo>
                  <a:pt x="93" y="41"/>
                </a:lnTo>
                <a:cubicBezTo>
                  <a:pt x="96" y="35"/>
                  <a:pt x="95" y="30"/>
                  <a:pt x="90" y="26"/>
                </a:cubicBezTo>
                <a:lnTo>
                  <a:pt x="56" y="3"/>
                </a:lnTo>
                <a:close/>
              </a:path>
            </a:pathLst>
          </a:custGeom>
          <a:solidFill>
            <a:srgbClr val="8383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3465360" y="2281320"/>
            <a:ext cx="1692360" cy="1841400"/>
          </a:xfrm>
          <a:custGeom>
            <a:avLst/>
            <a:gdLst/>
            <a:ahLst/>
            <a:rect l="l" t="t" r="r" b="b"/>
            <a:pathLst>
              <a:path w="93" h="101">
                <a:moveTo>
                  <a:pt x="54" y="3"/>
                </a:moveTo>
                <a:cubicBezTo>
                  <a:pt x="50" y="0"/>
                  <a:pt x="44" y="1"/>
                  <a:pt x="41" y="6"/>
                </a:cubicBezTo>
                <a:lnTo>
                  <a:pt x="3" y="62"/>
                </a:lnTo>
                <a:cubicBezTo>
                  <a:pt x="0" y="67"/>
                  <a:pt x="1" y="73"/>
                  <a:pt x="6" y="76"/>
                </a:cubicBezTo>
                <a:lnTo>
                  <a:pt x="39" y="99"/>
                </a:lnTo>
                <a:cubicBezTo>
                  <a:pt x="43" y="101"/>
                  <a:pt x="49" y="100"/>
                  <a:pt x="52" y="95"/>
                </a:cubicBezTo>
                <a:lnTo>
                  <a:pt x="90" y="39"/>
                </a:lnTo>
                <a:cubicBezTo>
                  <a:pt x="93" y="34"/>
                  <a:pt x="92" y="29"/>
                  <a:pt x="87" y="26"/>
                </a:cubicBezTo>
                <a:lnTo>
                  <a:pt x="54" y="3"/>
                </a:lnTo>
                <a:close/>
              </a:path>
            </a:pathLst>
          </a:custGeom>
          <a:solidFill>
            <a:srgbClr val="8a8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3481560" y="2317680"/>
            <a:ext cx="1638000" cy="1768680"/>
          </a:xfrm>
          <a:custGeom>
            <a:avLst/>
            <a:gdLst/>
            <a:ahLst/>
            <a:rect l="l" t="t" r="r" b="b"/>
            <a:pathLst>
              <a:path w="90" h="97">
                <a:moveTo>
                  <a:pt x="53" y="3"/>
                </a:moveTo>
                <a:cubicBezTo>
                  <a:pt x="48" y="0"/>
                  <a:pt x="42" y="1"/>
                  <a:pt x="39" y="5"/>
                </a:cubicBezTo>
                <a:lnTo>
                  <a:pt x="3" y="60"/>
                </a:lnTo>
                <a:cubicBezTo>
                  <a:pt x="0" y="64"/>
                  <a:pt x="1" y="70"/>
                  <a:pt x="5" y="73"/>
                </a:cubicBezTo>
                <a:lnTo>
                  <a:pt x="37" y="95"/>
                </a:lnTo>
                <a:cubicBezTo>
                  <a:pt x="42" y="97"/>
                  <a:pt x="48" y="96"/>
                  <a:pt x="51" y="92"/>
                </a:cubicBezTo>
                <a:lnTo>
                  <a:pt x="87" y="38"/>
                </a:lnTo>
                <a:cubicBezTo>
                  <a:pt x="90" y="33"/>
                  <a:pt x="89" y="28"/>
                  <a:pt x="85" y="25"/>
                </a:cubicBezTo>
                <a:lnTo>
                  <a:pt x="53" y="3"/>
                </a:lnTo>
                <a:close/>
              </a:path>
            </a:pathLst>
          </a:custGeom>
          <a:solidFill>
            <a:srgbClr val="929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517920" y="2336760"/>
            <a:ext cx="1584360" cy="1712880"/>
          </a:xfrm>
          <a:custGeom>
            <a:avLst/>
            <a:gdLst/>
            <a:ahLst/>
            <a:rect l="l" t="t" r="r" b="b"/>
            <a:pathLst>
              <a:path w="87" h="94">
                <a:moveTo>
                  <a:pt x="51" y="3"/>
                </a:moveTo>
                <a:cubicBezTo>
                  <a:pt x="47" y="0"/>
                  <a:pt x="41" y="1"/>
                  <a:pt x="38" y="5"/>
                </a:cubicBezTo>
                <a:lnTo>
                  <a:pt x="3" y="58"/>
                </a:lnTo>
                <a:cubicBezTo>
                  <a:pt x="0" y="62"/>
                  <a:pt x="1" y="68"/>
                  <a:pt x="5" y="71"/>
                </a:cubicBezTo>
                <a:lnTo>
                  <a:pt x="36" y="92"/>
                </a:lnTo>
                <a:cubicBezTo>
                  <a:pt x="40" y="94"/>
                  <a:pt x="46" y="93"/>
                  <a:pt x="49" y="89"/>
                </a:cubicBezTo>
                <a:lnTo>
                  <a:pt x="84" y="37"/>
                </a:lnTo>
                <a:cubicBezTo>
                  <a:pt x="87" y="32"/>
                  <a:pt x="86" y="27"/>
                  <a:pt x="82" y="24"/>
                </a:cubicBezTo>
                <a:lnTo>
                  <a:pt x="51" y="3"/>
                </a:lnTo>
                <a:close/>
              </a:path>
            </a:pathLst>
          </a:custGeom>
          <a:solidFill>
            <a:srgbClr val="999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3537000" y="2373480"/>
            <a:ext cx="1528560" cy="1658880"/>
          </a:xfrm>
          <a:custGeom>
            <a:avLst/>
            <a:gdLst/>
            <a:ahLst/>
            <a:rect l="l" t="t" r="r" b="b"/>
            <a:pathLst>
              <a:path w="84" h="91">
                <a:moveTo>
                  <a:pt x="49" y="3"/>
                </a:moveTo>
                <a:cubicBezTo>
                  <a:pt x="45" y="0"/>
                  <a:pt x="39" y="1"/>
                  <a:pt x="37" y="5"/>
                </a:cubicBezTo>
                <a:lnTo>
                  <a:pt x="3" y="56"/>
                </a:lnTo>
                <a:cubicBezTo>
                  <a:pt x="0" y="60"/>
                  <a:pt x="1" y="66"/>
                  <a:pt x="5" y="68"/>
                </a:cubicBezTo>
                <a:lnTo>
                  <a:pt x="35" y="89"/>
                </a:lnTo>
                <a:cubicBezTo>
                  <a:pt x="39" y="91"/>
                  <a:pt x="45" y="90"/>
                  <a:pt x="47" y="86"/>
                </a:cubicBezTo>
                <a:lnTo>
                  <a:pt x="81" y="36"/>
                </a:lnTo>
                <a:cubicBezTo>
                  <a:pt x="84" y="31"/>
                  <a:pt x="83" y="26"/>
                  <a:pt x="79" y="23"/>
                </a:cubicBezTo>
                <a:lnTo>
                  <a:pt x="49" y="3"/>
                </a:lnTo>
                <a:close/>
              </a:path>
            </a:pathLst>
          </a:custGeom>
          <a:solidFill>
            <a:srgbClr val="9f9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3573360" y="2409840"/>
            <a:ext cx="1474920" cy="1585800"/>
          </a:xfrm>
          <a:custGeom>
            <a:avLst/>
            <a:gdLst/>
            <a:ahLst/>
            <a:rect l="l" t="t" r="r" b="b"/>
            <a:pathLst>
              <a:path w="81" h="87">
                <a:moveTo>
                  <a:pt x="47" y="3"/>
                </a:moveTo>
                <a:cubicBezTo>
                  <a:pt x="43" y="0"/>
                  <a:pt x="38" y="1"/>
                  <a:pt x="35" y="5"/>
                </a:cubicBezTo>
                <a:lnTo>
                  <a:pt x="3" y="54"/>
                </a:lnTo>
                <a:cubicBezTo>
                  <a:pt x="0" y="57"/>
                  <a:pt x="1" y="63"/>
                  <a:pt x="5" y="65"/>
                </a:cubicBezTo>
                <a:lnTo>
                  <a:pt x="34" y="85"/>
                </a:lnTo>
                <a:cubicBezTo>
                  <a:pt x="38" y="87"/>
                  <a:pt x="43" y="86"/>
                  <a:pt x="46" y="82"/>
                </a:cubicBezTo>
                <a:lnTo>
                  <a:pt x="78" y="34"/>
                </a:lnTo>
                <a:cubicBezTo>
                  <a:pt x="81" y="30"/>
                  <a:pt x="80" y="25"/>
                  <a:pt x="76" y="22"/>
                </a:cubicBezTo>
                <a:lnTo>
                  <a:pt x="47" y="3"/>
                </a:lnTo>
                <a:close/>
              </a:path>
            </a:pathLst>
          </a:custGeom>
          <a:solidFill>
            <a:srgbClr val="a7a7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591000" y="2427120"/>
            <a:ext cx="1420560" cy="1532160"/>
          </a:xfrm>
          <a:custGeom>
            <a:avLst/>
            <a:gdLst/>
            <a:ahLst/>
            <a:rect l="l" t="t" r="r" b="b"/>
            <a:pathLst>
              <a:path w="78" h="84">
                <a:moveTo>
                  <a:pt x="46" y="3"/>
                </a:moveTo>
                <a:cubicBezTo>
                  <a:pt x="42" y="0"/>
                  <a:pt x="37" y="1"/>
                  <a:pt x="34" y="5"/>
                </a:cubicBezTo>
                <a:lnTo>
                  <a:pt x="3" y="52"/>
                </a:lnTo>
                <a:cubicBezTo>
                  <a:pt x="0" y="55"/>
                  <a:pt x="1" y="61"/>
                  <a:pt x="5" y="63"/>
                </a:cubicBezTo>
                <a:lnTo>
                  <a:pt x="32" y="82"/>
                </a:lnTo>
                <a:cubicBezTo>
                  <a:pt x="36" y="84"/>
                  <a:pt x="41" y="83"/>
                  <a:pt x="44" y="79"/>
                </a:cubicBezTo>
                <a:lnTo>
                  <a:pt x="75" y="33"/>
                </a:lnTo>
                <a:cubicBezTo>
                  <a:pt x="78" y="29"/>
                  <a:pt x="77" y="24"/>
                  <a:pt x="73" y="21"/>
                </a:cubicBezTo>
                <a:lnTo>
                  <a:pt x="46" y="3"/>
                </a:lnTo>
                <a:close/>
              </a:path>
            </a:pathLst>
          </a:custGeom>
          <a:solidFill>
            <a:srgbClr val="ada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3627360" y="2463840"/>
            <a:ext cx="1363680" cy="1476360"/>
          </a:xfrm>
          <a:custGeom>
            <a:avLst/>
            <a:gdLst/>
            <a:ahLst/>
            <a:rect l="l" t="t" r="r" b="b"/>
            <a:pathLst>
              <a:path w="75" h="81">
                <a:moveTo>
                  <a:pt x="44" y="3"/>
                </a:moveTo>
                <a:cubicBezTo>
                  <a:pt x="40" y="0"/>
                  <a:pt x="35" y="1"/>
                  <a:pt x="33" y="5"/>
                </a:cubicBezTo>
                <a:lnTo>
                  <a:pt x="3" y="50"/>
                </a:lnTo>
                <a:cubicBezTo>
                  <a:pt x="0" y="53"/>
                  <a:pt x="1" y="58"/>
                  <a:pt x="5" y="61"/>
                </a:cubicBezTo>
                <a:lnTo>
                  <a:pt x="31" y="79"/>
                </a:lnTo>
                <a:cubicBezTo>
                  <a:pt x="35" y="81"/>
                  <a:pt x="40" y="80"/>
                  <a:pt x="42" y="76"/>
                </a:cubicBezTo>
                <a:lnTo>
                  <a:pt x="72" y="32"/>
                </a:lnTo>
                <a:cubicBezTo>
                  <a:pt x="75" y="28"/>
                  <a:pt x="74" y="23"/>
                  <a:pt x="70" y="21"/>
                </a:cubicBezTo>
                <a:lnTo>
                  <a:pt x="44" y="3"/>
                </a:lnTo>
                <a:close/>
              </a:path>
            </a:pathLst>
          </a:custGeom>
          <a:solidFill>
            <a:srgbClr val="b3b3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665520" y="2500200"/>
            <a:ext cx="1292400" cy="1403640"/>
          </a:xfrm>
          <a:custGeom>
            <a:avLst/>
            <a:gdLst/>
            <a:ahLst/>
            <a:rect l="l" t="t" r="r" b="b"/>
            <a:pathLst>
              <a:path w="71" h="77">
                <a:moveTo>
                  <a:pt x="41" y="2"/>
                </a:moveTo>
                <a:cubicBezTo>
                  <a:pt x="38" y="0"/>
                  <a:pt x="33" y="1"/>
                  <a:pt x="31" y="4"/>
                </a:cubicBezTo>
                <a:lnTo>
                  <a:pt x="2" y="47"/>
                </a:lnTo>
                <a:cubicBezTo>
                  <a:pt x="0" y="51"/>
                  <a:pt x="1" y="55"/>
                  <a:pt x="4" y="58"/>
                </a:cubicBezTo>
                <a:lnTo>
                  <a:pt x="30" y="75"/>
                </a:lnTo>
                <a:cubicBezTo>
                  <a:pt x="33" y="77"/>
                  <a:pt x="38" y="76"/>
                  <a:pt x="40" y="73"/>
                </a:cubicBezTo>
                <a:lnTo>
                  <a:pt x="69" y="30"/>
                </a:lnTo>
                <a:cubicBezTo>
                  <a:pt x="71" y="26"/>
                  <a:pt x="70" y="22"/>
                  <a:pt x="67" y="20"/>
                </a:cubicBezTo>
                <a:lnTo>
                  <a:pt x="41" y="2"/>
                </a:lnTo>
                <a:close/>
              </a:path>
            </a:pathLst>
          </a:custGeom>
          <a:solidFill>
            <a:srgbClr val="baba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681360" y="2519280"/>
            <a:ext cx="1238400" cy="1349280"/>
          </a:xfrm>
          <a:custGeom>
            <a:avLst/>
            <a:gdLst/>
            <a:ahLst/>
            <a:rect l="l" t="t" r="r" b="b"/>
            <a:pathLst>
              <a:path w="68" h="74">
                <a:moveTo>
                  <a:pt x="40" y="2"/>
                </a:moveTo>
                <a:cubicBezTo>
                  <a:pt x="37" y="0"/>
                  <a:pt x="32" y="1"/>
                  <a:pt x="30" y="4"/>
                </a:cubicBezTo>
                <a:lnTo>
                  <a:pt x="2" y="45"/>
                </a:lnTo>
                <a:cubicBezTo>
                  <a:pt x="0" y="49"/>
                  <a:pt x="1" y="53"/>
                  <a:pt x="4" y="56"/>
                </a:cubicBezTo>
                <a:lnTo>
                  <a:pt x="28" y="72"/>
                </a:lnTo>
                <a:cubicBezTo>
                  <a:pt x="31" y="74"/>
                  <a:pt x="36" y="73"/>
                  <a:pt x="38" y="70"/>
                </a:cubicBezTo>
                <a:lnTo>
                  <a:pt x="66" y="29"/>
                </a:lnTo>
                <a:cubicBezTo>
                  <a:pt x="68" y="25"/>
                  <a:pt x="67" y="21"/>
                  <a:pt x="64" y="19"/>
                </a:cubicBezTo>
                <a:lnTo>
                  <a:pt x="40" y="2"/>
                </a:lnTo>
                <a:close/>
              </a:path>
            </a:pathLst>
          </a:custGeom>
          <a:solidFill>
            <a:srgbClr val="c0c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718080" y="2556000"/>
            <a:ext cx="1184040" cy="1293840"/>
          </a:xfrm>
          <a:custGeom>
            <a:avLst/>
            <a:gdLst/>
            <a:ahLst/>
            <a:rect l="l" t="t" r="r" b="b"/>
            <a:pathLst>
              <a:path w="65" h="71">
                <a:moveTo>
                  <a:pt x="38" y="2"/>
                </a:moveTo>
                <a:cubicBezTo>
                  <a:pt x="35" y="0"/>
                  <a:pt x="31" y="1"/>
                  <a:pt x="28" y="4"/>
                </a:cubicBezTo>
                <a:lnTo>
                  <a:pt x="2" y="44"/>
                </a:lnTo>
                <a:cubicBezTo>
                  <a:pt x="0" y="47"/>
                  <a:pt x="1" y="51"/>
                  <a:pt x="4" y="53"/>
                </a:cubicBezTo>
                <a:lnTo>
                  <a:pt x="27" y="69"/>
                </a:lnTo>
                <a:cubicBezTo>
                  <a:pt x="30" y="71"/>
                  <a:pt x="34" y="70"/>
                  <a:pt x="37" y="67"/>
                </a:cubicBezTo>
                <a:lnTo>
                  <a:pt x="63" y="28"/>
                </a:lnTo>
                <a:cubicBezTo>
                  <a:pt x="65" y="24"/>
                  <a:pt x="64" y="20"/>
                  <a:pt x="61" y="18"/>
                </a:cubicBezTo>
                <a:lnTo>
                  <a:pt x="38" y="2"/>
                </a:lnTo>
                <a:close/>
              </a:path>
            </a:pathLst>
          </a:custGeom>
          <a:solidFill>
            <a:srgbClr val="c5c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3736800" y="2592360"/>
            <a:ext cx="1128960" cy="1220760"/>
          </a:xfrm>
          <a:custGeom>
            <a:avLst/>
            <a:gdLst/>
            <a:ahLst/>
            <a:rect l="l" t="t" r="r" b="b"/>
            <a:pathLst>
              <a:path w="62" h="67">
                <a:moveTo>
                  <a:pt x="36" y="2"/>
                </a:moveTo>
                <a:cubicBezTo>
                  <a:pt x="33" y="0"/>
                  <a:pt x="29" y="1"/>
                  <a:pt x="27" y="4"/>
                </a:cubicBezTo>
                <a:lnTo>
                  <a:pt x="2" y="41"/>
                </a:lnTo>
                <a:cubicBezTo>
                  <a:pt x="0" y="44"/>
                  <a:pt x="1" y="48"/>
                  <a:pt x="4" y="50"/>
                </a:cubicBezTo>
                <a:lnTo>
                  <a:pt x="26" y="65"/>
                </a:lnTo>
                <a:cubicBezTo>
                  <a:pt x="29" y="67"/>
                  <a:pt x="33" y="66"/>
                  <a:pt x="35" y="63"/>
                </a:cubicBezTo>
                <a:lnTo>
                  <a:pt x="60" y="26"/>
                </a:lnTo>
                <a:cubicBezTo>
                  <a:pt x="62" y="23"/>
                  <a:pt x="61" y="19"/>
                  <a:pt x="58" y="17"/>
                </a:cubicBezTo>
                <a:lnTo>
                  <a:pt x="36" y="2"/>
                </a:lnTo>
                <a:close/>
              </a:path>
            </a:pathLst>
          </a:custGeom>
          <a:solidFill>
            <a:srgbClr val="cbc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3773520" y="2610000"/>
            <a:ext cx="1074600" cy="1166760"/>
          </a:xfrm>
          <a:custGeom>
            <a:avLst/>
            <a:gdLst/>
            <a:ahLst/>
            <a:rect l="l" t="t" r="r" b="b"/>
            <a:pathLst>
              <a:path w="59" h="64">
                <a:moveTo>
                  <a:pt x="34" y="2"/>
                </a:moveTo>
                <a:cubicBezTo>
                  <a:pt x="32" y="0"/>
                  <a:pt x="28" y="1"/>
                  <a:pt x="26" y="4"/>
                </a:cubicBezTo>
                <a:lnTo>
                  <a:pt x="2" y="39"/>
                </a:lnTo>
                <a:cubicBezTo>
                  <a:pt x="0" y="42"/>
                  <a:pt x="1" y="46"/>
                  <a:pt x="4" y="48"/>
                </a:cubicBezTo>
                <a:lnTo>
                  <a:pt x="25" y="62"/>
                </a:lnTo>
                <a:cubicBezTo>
                  <a:pt x="27" y="64"/>
                  <a:pt x="31" y="63"/>
                  <a:pt x="33" y="60"/>
                </a:cubicBezTo>
                <a:lnTo>
                  <a:pt x="57" y="25"/>
                </a:lnTo>
                <a:cubicBezTo>
                  <a:pt x="59" y="22"/>
                  <a:pt x="58" y="18"/>
                  <a:pt x="55" y="16"/>
                </a:cubicBezTo>
                <a:lnTo>
                  <a:pt x="34" y="2"/>
                </a:lnTo>
                <a:close/>
              </a:path>
            </a:pathLst>
          </a:custGeom>
          <a:solidFill>
            <a:srgbClr val="d0d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3790800" y="2646360"/>
            <a:ext cx="1020960" cy="1112760"/>
          </a:xfrm>
          <a:custGeom>
            <a:avLst/>
            <a:gdLst/>
            <a:ahLst/>
            <a:rect l="l" t="t" r="r" b="b"/>
            <a:pathLst>
              <a:path w="56" h="61">
                <a:moveTo>
                  <a:pt x="33" y="2"/>
                </a:moveTo>
                <a:cubicBezTo>
                  <a:pt x="30" y="0"/>
                  <a:pt x="26" y="1"/>
                  <a:pt x="24" y="4"/>
                </a:cubicBezTo>
                <a:lnTo>
                  <a:pt x="2" y="37"/>
                </a:lnTo>
                <a:cubicBezTo>
                  <a:pt x="0" y="40"/>
                  <a:pt x="1" y="44"/>
                  <a:pt x="3" y="46"/>
                </a:cubicBezTo>
                <a:lnTo>
                  <a:pt x="23" y="59"/>
                </a:lnTo>
                <a:cubicBezTo>
                  <a:pt x="26" y="61"/>
                  <a:pt x="30" y="60"/>
                  <a:pt x="32" y="57"/>
                </a:cubicBezTo>
                <a:lnTo>
                  <a:pt x="54" y="24"/>
                </a:lnTo>
                <a:cubicBezTo>
                  <a:pt x="56" y="21"/>
                  <a:pt x="55" y="17"/>
                  <a:pt x="53" y="16"/>
                </a:cubicBezTo>
                <a:lnTo>
                  <a:pt x="33" y="2"/>
                </a:lnTo>
                <a:close/>
              </a:path>
            </a:pathLst>
          </a:custGeom>
          <a:solidFill>
            <a:srgbClr val="d5d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3827520" y="2682720"/>
            <a:ext cx="963720" cy="1040040"/>
          </a:xfrm>
          <a:custGeom>
            <a:avLst/>
            <a:gdLst/>
            <a:ahLst/>
            <a:rect l="l" t="t" r="r" b="b"/>
            <a:pathLst>
              <a:path w="53" h="57">
                <a:moveTo>
                  <a:pt x="31" y="2"/>
                </a:moveTo>
                <a:cubicBezTo>
                  <a:pt x="28" y="0"/>
                  <a:pt x="25" y="1"/>
                  <a:pt x="23" y="3"/>
                </a:cubicBezTo>
                <a:lnTo>
                  <a:pt x="2" y="35"/>
                </a:lnTo>
                <a:cubicBezTo>
                  <a:pt x="0" y="37"/>
                  <a:pt x="1" y="41"/>
                  <a:pt x="3" y="43"/>
                </a:cubicBezTo>
                <a:lnTo>
                  <a:pt x="22" y="55"/>
                </a:lnTo>
                <a:cubicBezTo>
                  <a:pt x="25" y="57"/>
                  <a:pt x="28" y="56"/>
                  <a:pt x="30" y="54"/>
                </a:cubicBezTo>
                <a:lnTo>
                  <a:pt x="51" y="22"/>
                </a:lnTo>
                <a:cubicBezTo>
                  <a:pt x="53" y="20"/>
                  <a:pt x="52" y="16"/>
                  <a:pt x="50" y="15"/>
                </a:cubicBezTo>
                <a:lnTo>
                  <a:pt x="31" y="2"/>
                </a:lnTo>
                <a:close/>
              </a:path>
            </a:pathLst>
          </a:custGeom>
          <a:solidFill>
            <a:srgbClr val="dada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3846600" y="2701800"/>
            <a:ext cx="909720" cy="984240"/>
          </a:xfrm>
          <a:custGeom>
            <a:avLst/>
            <a:gdLst/>
            <a:ahLst/>
            <a:rect l="l" t="t" r="r" b="b"/>
            <a:pathLst>
              <a:path w="50" h="54">
                <a:moveTo>
                  <a:pt x="29" y="2"/>
                </a:moveTo>
                <a:cubicBezTo>
                  <a:pt x="27" y="0"/>
                  <a:pt x="23" y="1"/>
                  <a:pt x="22" y="3"/>
                </a:cubicBezTo>
                <a:lnTo>
                  <a:pt x="2" y="33"/>
                </a:lnTo>
                <a:cubicBezTo>
                  <a:pt x="0" y="35"/>
                  <a:pt x="1" y="39"/>
                  <a:pt x="3" y="40"/>
                </a:cubicBezTo>
                <a:lnTo>
                  <a:pt x="21" y="52"/>
                </a:lnTo>
                <a:cubicBezTo>
                  <a:pt x="23" y="54"/>
                  <a:pt x="26" y="53"/>
                  <a:pt x="28" y="51"/>
                </a:cubicBezTo>
                <a:lnTo>
                  <a:pt x="48" y="21"/>
                </a:lnTo>
                <a:cubicBezTo>
                  <a:pt x="50" y="18"/>
                  <a:pt x="49" y="15"/>
                  <a:pt x="47" y="14"/>
                </a:cubicBezTo>
                <a:lnTo>
                  <a:pt x="29" y="2"/>
                </a:lnTo>
                <a:close/>
              </a:path>
            </a:pathLst>
          </a:custGeom>
          <a:solidFill>
            <a:srgbClr val="dede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3882960" y="2736720"/>
            <a:ext cx="855720" cy="930240"/>
          </a:xfrm>
          <a:custGeom>
            <a:avLst/>
            <a:gdLst/>
            <a:ahLst/>
            <a:rect l="l" t="t" r="r" b="b"/>
            <a:pathLst>
              <a:path w="47" h="51">
                <a:moveTo>
                  <a:pt x="27" y="2"/>
                </a:moveTo>
                <a:cubicBezTo>
                  <a:pt x="25" y="0"/>
                  <a:pt x="22" y="1"/>
                  <a:pt x="21" y="3"/>
                </a:cubicBezTo>
                <a:lnTo>
                  <a:pt x="2" y="31"/>
                </a:lnTo>
                <a:cubicBezTo>
                  <a:pt x="0" y="34"/>
                  <a:pt x="1" y="37"/>
                  <a:pt x="3" y="38"/>
                </a:cubicBezTo>
                <a:lnTo>
                  <a:pt x="20" y="50"/>
                </a:lnTo>
                <a:cubicBezTo>
                  <a:pt x="22" y="51"/>
                  <a:pt x="25" y="50"/>
                  <a:pt x="26" y="48"/>
                </a:cubicBezTo>
                <a:lnTo>
                  <a:pt x="45" y="20"/>
                </a:lnTo>
                <a:cubicBezTo>
                  <a:pt x="47" y="17"/>
                  <a:pt x="46" y="15"/>
                  <a:pt x="44" y="13"/>
                </a:cubicBezTo>
                <a:lnTo>
                  <a:pt x="27" y="2"/>
                </a:lnTo>
                <a:close/>
              </a:path>
            </a:pathLst>
          </a:custGeom>
          <a:solidFill>
            <a:srgbClr val="e1e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900600" y="2755800"/>
            <a:ext cx="801720" cy="874800"/>
          </a:xfrm>
          <a:custGeom>
            <a:avLst/>
            <a:gdLst/>
            <a:ahLst/>
            <a:rect l="l" t="t" r="r" b="b"/>
            <a:pathLst>
              <a:path w="44" h="48">
                <a:moveTo>
                  <a:pt x="26" y="2"/>
                </a:moveTo>
                <a:cubicBezTo>
                  <a:pt x="24" y="0"/>
                  <a:pt x="21" y="1"/>
                  <a:pt x="19" y="3"/>
                </a:cubicBezTo>
                <a:lnTo>
                  <a:pt x="2" y="29"/>
                </a:lnTo>
                <a:cubicBezTo>
                  <a:pt x="0" y="32"/>
                  <a:pt x="1" y="34"/>
                  <a:pt x="3" y="36"/>
                </a:cubicBezTo>
                <a:lnTo>
                  <a:pt x="18" y="47"/>
                </a:lnTo>
                <a:cubicBezTo>
                  <a:pt x="20" y="48"/>
                  <a:pt x="23" y="47"/>
                  <a:pt x="25" y="45"/>
                </a:cubicBezTo>
                <a:lnTo>
                  <a:pt x="42" y="19"/>
                </a:lnTo>
                <a:cubicBezTo>
                  <a:pt x="44" y="16"/>
                  <a:pt x="43" y="14"/>
                  <a:pt x="41" y="12"/>
                </a:cubicBezTo>
                <a:lnTo>
                  <a:pt x="26" y="2"/>
                </a:lnTo>
                <a:close/>
              </a:path>
            </a:pathLst>
          </a:custGeom>
          <a:solidFill>
            <a:srgbClr val="e6e6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3936960" y="2792520"/>
            <a:ext cx="746280" cy="801720"/>
          </a:xfrm>
          <a:custGeom>
            <a:avLst/>
            <a:gdLst/>
            <a:ahLst/>
            <a:rect l="l" t="t" r="r" b="b"/>
            <a:pathLst>
              <a:path w="41" h="44">
                <a:moveTo>
                  <a:pt x="24" y="2"/>
                </a:moveTo>
                <a:cubicBezTo>
                  <a:pt x="22" y="0"/>
                  <a:pt x="19" y="1"/>
                  <a:pt x="18" y="3"/>
                </a:cubicBezTo>
                <a:lnTo>
                  <a:pt x="2" y="27"/>
                </a:lnTo>
                <a:cubicBezTo>
                  <a:pt x="0" y="29"/>
                  <a:pt x="1" y="32"/>
                  <a:pt x="3" y="33"/>
                </a:cubicBezTo>
                <a:lnTo>
                  <a:pt x="17" y="43"/>
                </a:lnTo>
                <a:cubicBezTo>
                  <a:pt x="19" y="44"/>
                  <a:pt x="22" y="43"/>
                  <a:pt x="23" y="41"/>
                </a:cubicBezTo>
                <a:lnTo>
                  <a:pt x="39" y="17"/>
                </a:lnTo>
                <a:cubicBezTo>
                  <a:pt x="41" y="15"/>
                  <a:pt x="40" y="13"/>
                  <a:pt x="38" y="11"/>
                </a:cubicBezTo>
                <a:lnTo>
                  <a:pt x="24" y="2"/>
                </a:lnTo>
                <a:close/>
              </a:path>
            </a:pathLst>
          </a:custGeom>
          <a:solidFill>
            <a:srgbClr val="e9e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3956040" y="2828880"/>
            <a:ext cx="690480" cy="747720"/>
          </a:xfrm>
          <a:custGeom>
            <a:avLst/>
            <a:gdLst/>
            <a:ahLst/>
            <a:rect l="l" t="t" r="r" b="b"/>
            <a:pathLst>
              <a:path w="38" h="41">
                <a:moveTo>
                  <a:pt x="22" y="2"/>
                </a:moveTo>
                <a:cubicBezTo>
                  <a:pt x="20" y="0"/>
                  <a:pt x="18" y="1"/>
                  <a:pt x="17" y="3"/>
                </a:cubicBezTo>
                <a:lnTo>
                  <a:pt x="2" y="25"/>
                </a:lnTo>
                <a:cubicBezTo>
                  <a:pt x="0" y="27"/>
                  <a:pt x="1" y="29"/>
                  <a:pt x="3" y="31"/>
                </a:cubicBezTo>
                <a:lnTo>
                  <a:pt x="16" y="40"/>
                </a:lnTo>
                <a:cubicBezTo>
                  <a:pt x="18" y="41"/>
                  <a:pt x="20" y="40"/>
                  <a:pt x="21" y="38"/>
                </a:cubicBezTo>
                <a:lnTo>
                  <a:pt x="36" y="16"/>
                </a:lnTo>
                <a:cubicBezTo>
                  <a:pt x="38" y="14"/>
                  <a:pt x="37" y="12"/>
                  <a:pt x="35" y="11"/>
                </a:cubicBezTo>
                <a:lnTo>
                  <a:pt x="22" y="2"/>
                </a:lnTo>
                <a:close/>
              </a:path>
            </a:pathLst>
          </a:custGeom>
          <a:solidFill>
            <a:srgbClr val="ecec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3994200" y="2846520"/>
            <a:ext cx="617400" cy="6937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0" y="1"/>
                </a:moveTo>
                <a:cubicBezTo>
                  <a:pt x="18" y="0"/>
                  <a:pt x="16" y="1"/>
                  <a:pt x="15" y="2"/>
                </a:cubicBezTo>
                <a:lnTo>
                  <a:pt x="1" y="23"/>
                </a:lnTo>
                <a:cubicBezTo>
                  <a:pt x="0" y="25"/>
                  <a:pt x="1" y="27"/>
                  <a:pt x="2" y="28"/>
                </a:cubicBezTo>
                <a:lnTo>
                  <a:pt x="14" y="37"/>
                </a:lnTo>
                <a:cubicBezTo>
                  <a:pt x="16" y="38"/>
                  <a:pt x="18" y="37"/>
                  <a:pt x="19" y="36"/>
                </a:cubicBezTo>
                <a:lnTo>
                  <a:pt x="33" y="15"/>
                </a:lnTo>
                <a:cubicBezTo>
                  <a:pt x="34" y="13"/>
                  <a:pt x="33" y="11"/>
                  <a:pt x="32" y="10"/>
                </a:cubicBezTo>
                <a:lnTo>
                  <a:pt x="20" y="1"/>
                </a:lnTo>
                <a:close/>
              </a:path>
            </a:pathLst>
          </a:custGeom>
          <a:solidFill>
            <a:srgbClr val="efe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4010040" y="2882880"/>
            <a:ext cx="581040" cy="620640"/>
          </a:xfrm>
          <a:custGeom>
            <a:avLst/>
            <a:gdLst/>
            <a:ahLst/>
            <a:rect l="l" t="t" r="r" b="b"/>
            <a:pathLst>
              <a:path w="32" h="34">
                <a:moveTo>
                  <a:pt x="19" y="1"/>
                </a:moveTo>
                <a:cubicBezTo>
                  <a:pt x="17" y="0"/>
                  <a:pt x="15" y="1"/>
                  <a:pt x="14" y="2"/>
                </a:cubicBezTo>
                <a:lnTo>
                  <a:pt x="1" y="21"/>
                </a:lnTo>
                <a:cubicBezTo>
                  <a:pt x="0" y="22"/>
                  <a:pt x="1" y="24"/>
                  <a:pt x="2" y="25"/>
                </a:cubicBezTo>
                <a:lnTo>
                  <a:pt x="13" y="33"/>
                </a:lnTo>
                <a:cubicBezTo>
                  <a:pt x="15" y="34"/>
                  <a:pt x="17" y="33"/>
                  <a:pt x="18" y="32"/>
                </a:cubicBezTo>
                <a:lnTo>
                  <a:pt x="31" y="13"/>
                </a:lnTo>
                <a:cubicBezTo>
                  <a:pt x="32" y="12"/>
                  <a:pt x="31" y="10"/>
                  <a:pt x="30" y="9"/>
                </a:cubicBezTo>
                <a:lnTo>
                  <a:pt x="19" y="1"/>
                </a:lnTo>
                <a:close/>
              </a:path>
            </a:pathLst>
          </a:custGeom>
          <a:solidFill>
            <a:srgbClr val="f1f1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4046400" y="2919240"/>
            <a:ext cx="509760" cy="565200"/>
          </a:xfrm>
          <a:custGeom>
            <a:avLst/>
            <a:gdLst/>
            <a:ahLst/>
            <a:rect l="l" t="t" r="r" b="b"/>
            <a:pathLst>
              <a:path w="28" h="31">
                <a:moveTo>
                  <a:pt x="16" y="1"/>
                </a:moveTo>
                <a:cubicBezTo>
                  <a:pt x="15" y="0"/>
                  <a:pt x="13" y="1"/>
                  <a:pt x="12" y="2"/>
                </a:cubicBezTo>
                <a:lnTo>
                  <a:pt x="1" y="19"/>
                </a:lnTo>
                <a:cubicBezTo>
                  <a:pt x="0" y="20"/>
                  <a:pt x="1" y="22"/>
                  <a:pt x="2" y="23"/>
                </a:cubicBezTo>
                <a:lnTo>
                  <a:pt x="12" y="30"/>
                </a:lnTo>
                <a:cubicBezTo>
                  <a:pt x="13" y="31"/>
                  <a:pt x="15" y="30"/>
                  <a:pt x="16" y="29"/>
                </a:cubicBezTo>
                <a:lnTo>
                  <a:pt x="27" y="12"/>
                </a:lnTo>
                <a:cubicBezTo>
                  <a:pt x="28" y="11"/>
                  <a:pt x="27" y="9"/>
                  <a:pt x="26" y="8"/>
                </a:cubicBezTo>
                <a:lnTo>
                  <a:pt x="16" y="1"/>
                </a:lnTo>
                <a:close/>
              </a:path>
            </a:pathLst>
          </a:custGeom>
          <a:solidFill>
            <a:srgbClr val="f3f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4065480" y="2938320"/>
            <a:ext cx="473040" cy="509760"/>
          </a:xfrm>
          <a:custGeom>
            <a:avLst/>
            <a:gdLst/>
            <a:ahLst/>
            <a:rect l="l" t="t" r="r" b="b"/>
            <a:pathLst>
              <a:path w="26" h="28">
                <a:moveTo>
                  <a:pt x="15" y="1"/>
                </a:moveTo>
                <a:cubicBezTo>
                  <a:pt x="14" y="0"/>
                  <a:pt x="12" y="1"/>
                  <a:pt x="11" y="2"/>
                </a:cubicBezTo>
                <a:lnTo>
                  <a:pt x="1" y="17"/>
                </a:lnTo>
                <a:cubicBezTo>
                  <a:pt x="0" y="18"/>
                  <a:pt x="1" y="20"/>
                  <a:pt x="2" y="21"/>
                </a:cubicBezTo>
                <a:lnTo>
                  <a:pt x="11" y="27"/>
                </a:lnTo>
                <a:cubicBezTo>
                  <a:pt x="12" y="28"/>
                  <a:pt x="14" y="27"/>
                  <a:pt x="15" y="26"/>
                </a:cubicBezTo>
                <a:lnTo>
                  <a:pt x="25" y="11"/>
                </a:lnTo>
                <a:cubicBezTo>
                  <a:pt x="26" y="10"/>
                  <a:pt x="25" y="8"/>
                  <a:pt x="24" y="7"/>
                </a:cubicBezTo>
                <a:lnTo>
                  <a:pt x="15" y="1"/>
                </a:lnTo>
                <a:close/>
              </a:path>
            </a:pathLst>
          </a:custGeom>
          <a:solidFill>
            <a:srgbClr val="f5f5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4100400" y="2975040"/>
            <a:ext cx="401760" cy="436320"/>
          </a:xfrm>
          <a:custGeom>
            <a:avLst/>
            <a:gdLst/>
            <a:ahLst/>
            <a:rect l="l" t="t" r="r" b="b"/>
            <a:pathLst>
              <a:path w="22" h="24">
                <a:moveTo>
                  <a:pt x="13" y="1"/>
                </a:moveTo>
                <a:cubicBezTo>
                  <a:pt x="12" y="0"/>
                  <a:pt x="10" y="1"/>
                  <a:pt x="10" y="2"/>
                </a:cubicBezTo>
                <a:lnTo>
                  <a:pt x="1" y="15"/>
                </a:lnTo>
                <a:cubicBezTo>
                  <a:pt x="0" y="16"/>
                  <a:pt x="1" y="17"/>
                  <a:pt x="2" y="18"/>
                </a:cubicBezTo>
                <a:lnTo>
                  <a:pt x="9" y="23"/>
                </a:lnTo>
                <a:cubicBezTo>
                  <a:pt x="10" y="24"/>
                  <a:pt x="12" y="23"/>
                  <a:pt x="12" y="22"/>
                </a:cubicBezTo>
                <a:lnTo>
                  <a:pt x="21" y="9"/>
                </a:lnTo>
                <a:cubicBezTo>
                  <a:pt x="22" y="8"/>
                  <a:pt x="21" y="7"/>
                  <a:pt x="20" y="6"/>
                </a:cubicBezTo>
                <a:lnTo>
                  <a:pt x="13" y="1"/>
                </a:lnTo>
                <a:close/>
              </a:path>
            </a:pathLst>
          </a:custGeom>
          <a:solidFill>
            <a:srgbClr val="f7f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4119480" y="3011400"/>
            <a:ext cx="363600" cy="382680"/>
          </a:xfrm>
          <a:custGeom>
            <a:avLst/>
            <a:gdLst/>
            <a:ahLst/>
            <a:rect l="l" t="t" r="r" b="b"/>
            <a:pathLst>
              <a:path w="20" h="21">
                <a:moveTo>
                  <a:pt x="12" y="1"/>
                </a:moveTo>
                <a:cubicBezTo>
                  <a:pt x="11" y="0"/>
                  <a:pt x="9" y="1"/>
                  <a:pt x="9" y="2"/>
                </a:cubicBezTo>
                <a:lnTo>
                  <a:pt x="1" y="13"/>
                </a:lnTo>
                <a:cubicBezTo>
                  <a:pt x="0" y="14"/>
                  <a:pt x="1" y="15"/>
                  <a:pt x="2" y="16"/>
                </a:cubicBezTo>
                <a:lnTo>
                  <a:pt x="8" y="20"/>
                </a:lnTo>
                <a:cubicBezTo>
                  <a:pt x="9" y="21"/>
                  <a:pt x="11" y="20"/>
                  <a:pt x="11" y="19"/>
                </a:cubicBezTo>
                <a:lnTo>
                  <a:pt x="19" y="8"/>
                </a:lnTo>
                <a:cubicBezTo>
                  <a:pt x="20" y="7"/>
                  <a:pt x="19" y="6"/>
                  <a:pt x="18" y="6"/>
                </a:cubicBezTo>
                <a:lnTo>
                  <a:pt x="12" y="1"/>
                </a:lnTo>
                <a:close/>
              </a:path>
            </a:pathLst>
          </a:custGeom>
          <a:solidFill>
            <a:srgbClr val="f9f9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4156200" y="3029040"/>
            <a:ext cx="290520" cy="328680"/>
          </a:xfrm>
          <a:custGeom>
            <a:avLst/>
            <a:gdLst/>
            <a:ahLst/>
            <a:rect l="l" t="t" r="r" b="b"/>
            <a:pathLst>
              <a:path w="16" h="18">
                <a:moveTo>
                  <a:pt x="9" y="1"/>
                </a:moveTo>
                <a:cubicBezTo>
                  <a:pt x="9" y="0"/>
                  <a:pt x="8" y="1"/>
                  <a:pt x="7" y="1"/>
                </a:cubicBezTo>
                <a:lnTo>
                  <a:pt x="1" y="11"/>
                </a:lnTo>
                <a:cubicBezTo>
                  <a:pt x="0" y="12"/>
                  <a:pt x="1" y="13"/>
                  <a:pt x="1" y="13"/>
                </a:cubicBezTo>
                <a:lnTo>
                  <a:pt x="7" y="17"/>
                </a:lnTo>
                <a:cubicBezTo>
                  <a:pt x="7" y="18"/>
                  <a:pt x="8" y="17"/>
                  <a:pt x="9" y="17"/>
                </a:cubicBezTo>
                <a:lnTo>
                  <a:pt x="15" y="7"/>
                </a:lnTo>
                <a:cubicBezTo>
                  <a:pt x="16" y="6"/>
                  <a:pt x="15" y="5"/>
                  <a:pt x="15" y="5"/>
                </a:cubicBezTo>
                <a:lnTo>
                  <a:pt x="9" y="1"/>
                </a:lnTo>
                <a:close/>
              </a:path>
            </a:pathLst>
          </a:custGeom>
          <a:solidFill>
            <a:srgbClr val="fafa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4173480" y="3065400"/>
            <a:ext cx="255600" cy="25560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"/>
                </a:moveTo>
                <a:cubicBezTo>
                  <a:pt x="7" y="0"/>
                  <a:pt x="7" y="1"/>
                  <a:pt x="6" y="1"/>
                </a:cubicBezTo>
                <a:lnTo>
                  <a:pt x="1" y="9"/>
                </a:lnTo>
                <a:cubicBezTo>
                  <a:pt x="0" y="9"/>
                  <a:pt x="1" y="10"/>
                  <a:pt x="1" y="10"/>
                </a:cubicBezTo>
                <a:lnTo>
                  <a:pt x="6" y="13"/>
                </a:lnTo>
                <a:cubicBezTo>
                  <a:pt x="7" y="14"/>
                  <a:pt x="7" y="13"/>
                  <a:pt x="8" y="13"/>
                </a:cubicBezTo>
                <a:lnTo>
                  <a:pt x="13" y="6"/>
                </a:lnTo>
                <a:cubicBezTo>
                  <a:pt x="14" y="5"/>
                  <a:pt x="13" y="4"/>
                  <a:pt x="13" y="4"/>
                </a:cubicBezTo>
                <a:lnTo>
                  <a:pt x="8" y="1"/>
                </a:lnTo>
                <a:close/>
              </a:path>
            </a:pathLst>
          </a:custGeom>
          <a:solidFill>
            <a:srgbClr val="fbf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4210200" y="3102120"/>
            <a:ext cx="180720" cy="201600"/>
          </a:xfrm>
          <a:custGeom>
            <a:avLst/>
            <a:gdLst/>
            <a:ahLst/>
            <a:rect l="l" t="t" r="r" b="b"/>
            <a:pathLst>
              <a:path w="10" h="11">
                <a:moveTo>
                  <a:pt x="6" y="1"/>
                </a:moveTo>
                <a:cubicBezTo>
                  <a:pt x="5" y="0"/>
                  <a:pt x="5" y="1"/>
                  <a:pt x="4" y="1"/>
                </a:cubicBezTo>
                <a:lnTo>
                  <a:pt x="1" y="7"/>
                </a:lnTo>
                <a:cubicBezTo>
                  <a:pt x="0" y="7"/>
                  <a:pt x="1" y="8"/>
                  <a:pt x="1" y="8"/>
                </a:cubicBezTo>
                <a:lnTo>
                  <a:pt x="4" y="10"/>
                </a:lnTo>
                <a:cubicBezTo>
                  <a:pt x="5" y="11"/>
                  <a:pt x="5" y="10"/>
                  <a:pt x="6" y="10"/>
                </a:cubicBezTo>
                <a:lnTo>
                  <a:pt x="9" y="4"/>
                </a:lnTo>
                <a:cubicBezTo>
                  <a:pt x="10" y="4"/>
                  <a:pt x="9" y="3"/>
                  <a:pt x="9" y="3"/>
                </a:cubicBezTo>
                <a:lnTo>
                  <a:pt x="6" y="1"/>
                </a:lnTo>
                <a:close/>
              </a:path>
            </a:pathLst>
          </a:custGeom>
          <a:solidFill>
            <a:srgbClr val="fcfc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4229280" y="3121200"/>
            <a:ext cx="144360" cy="145800"/>
          </a:xfrm>
          <a:custGeom>
            <a:avLst/>
            <a:gdLst/>
            <a:ahLst/>
            <a:rect l="l" t="t" r="r" b="b"/>
            <a:pathLst>
              <a:path w="8" h="8">
                <a:moveTo>
                  <a:pt x="5" y="1"/>
                </a:moveTo>
                <a:cubicBezTo>
                  <a:pt x="4" y="0"/>
                  <a:pt x="4" y="1"/>
                  <a:pt x="4" y="1"/>
                </a:cubicBezTo>
                <a:lnTo>
                  <a:pt x="1" y="5"/>
                </a:lnTo>
                <a:cubicBezTo>
                  <a:pt x="0" y="5"/>
                  <a:pt x="1" y="6"/>
                  <a:pt x="1" y="6"/>
                </a:cubicBezTo>
                <a:lnTo>
                  <a:pt x="3" y="7"/>
                </a:lnTo>
                <a:cubicBezTo>
                  <a:pt x="4" y="8"/>
                  <a:pt x="4" y="7"/>
                  <a:pt x="4" y="7"/>
                </a:cubicBezTo>
                <a:lnTo>
                  <a:pt x="7" y="3"/>
                </a:lnTo>
                <a:cubicBezTo>
                  <a:pt x="8" y="3"/>
                  <a:pt x="7" y="2"/>
                  <a:pt x="7" y="2"/>
                </a:cubicBezTo>
                <a:lnTo>
                  <a:pt x="5" y="1"/>
                </a:lnTo>
                <a:close/>
              </a:path>
            </a:pathLst>
          </a:custGeom>
          <a:solidFill>
            <a:srgbClr val="fdf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265640" y="3157560"/>
            <a:ext cx="71280" cy="730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1"/>
                </a:moveTo>
                <a:cubicBezTo>
                  <a:pt x="2" y="0"/>
                  <a:pt x="2" y="1"/>
                  <a:pt x="2" y="1"/>
                </a:cubicBezTo>
                <a:lnTo>
                  <a:pt x="1" y="2"/>
                </a:lnTo>
                <a:cubicBezTo>
                  <a:pt x="0" y="2"/>
                  <a:pt x="1" y="3"/>
                  <a:pt x="1" y="3"/>
                </a:cubicBezTo>
                <a:lnTo>
                  <a:pt x="2" y="3"/>
                </a:lnTo>
                <a:cubicBezTo>
                  <a:pt x="2" y="4"/>
                  <a:pt x="2" y="3"/>
                  <a:pt x="2" y="3"/>
                </a:cubicBezTo>
                <a:lnTo>
                  <a:pt x="3" y="2"/>
                </a:lnTo>
                <a:cubicBezTo>
                  <a:pt x="4" y="2"/>
                  <a:pt x="3" y="1"/>
                  <a:pt x="3" y="1"/>
                </a:cubicBezTo>
                <a:lnTo>
                  <a:pt x="2" y="1"/>
                </a:lnTo>
                <a:close/>
              </a:path>
            </a:pathLst>
          </a:custGeom>
          <a:solidFill>
            <a:srgbClr val="fef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0" name=""/>
          <p:cNvGrpSpPr/>
          <p:nvPr/>
        </p:nvGrpSpPr>
        <p:grpSpPr>
          <a:xfrm>
            <a:off x="4648320" y="1905120"/>
            <a:ext cx="2568600" cy="2825640"/>
            <a:chOff x="4648320" y="1905120"/>
            <a:chExt cx="2568600" cy="2825640"/>
          </a:xfrm>
        </p:grpSpPr>
        <p:sp>
          <p:nvSpPr>
            <p:cNvPr id="2751" name=""/>
            <p:cNvSpPr/>
            <p:nvPr/>
          </p:nvSpPr>
          <p:spPr>
            <a:xfrm>
              <a:off x="4648320" y="1905120"/>
              <a:ext cx="2568600" cy="2825640"/>
            </a:xfrm>
            <a:custGeom>
              <a:avLst/>
              <a:gdLst/>
              <a:ahLst/>
              <a:rect l="l" t="t" r="r" b="b"/>
              <a:pathLst>
                <a:path w="141" h="155">
                  <a:moveTo>
                    <a:pt x="85" y="5"/>
                  </a:moveTo>
                  <a:cubicBezTo>
                    <a:pt x="78" y="0"/>
                    <a:pt x="69" y="2"/>
                    <a:pt x="65" y="8"/>
                  </a:cubicBezTo>
                  <a:lnTo>
                    <a:pt x="4" y="98"/>
                  </a:lnTo>
                  <a:cubicBezTo>
                    <a:pt x="0" y="105"/>
                    <a:pt x="2" y="114"/>
                    <a:pt x="8" y="118"/>
                  </a:cubicBezTo>
                  <a:lnTo>
                    <a:pt x="56" y="150"/>
                  </a:lnTo>
                  <a:cubicBezTo>
                    <a:pt x="63" y="155"/>
                    <a:pt x="71" y="153"/>
                    <a:pt x="76" y="147"/>
                  </a:cubicBezTo>
                  <a:lnTo>
                    <a:pt x="136" y="57"/>
                  </a:lnTo>
                  <a:cubicBezTo>
                    <a:pt x="141" y="50"/>
                    <a:pt x="139" y="41"/>
                    <a:pt x="133" y="37"/>
                  </a:cubicBezTo>
                  <a:lnTo>
                    <a:pt x="85" y="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667400" y="1922400"/>
              <a:ext cx="2493720" cy="2752920"/>
            </a:xfrm>
            <a:custGeom>
              <a:avLst/>
              <a:gdLst/>
              <a:ahLst/>
              <a:rect l="l" t="t" r="r" b="b"/>
              <a:pathLst>
                <a:path w="137" h="151">
                  <a:moveTo>
                    <a:pt x="83" y="4"/>
                  </a:moveTo>
                  <a:cubicBezTo>
                    <a:pt x="76" y="0"/>
                    <a:pt x="67" y="1"/>
                    <a:pt x="63" y="7"/>
                  </a:cubicBezTo>
                  <a:lnTo>
                    <a:pt x="3" y="96"/>
                  </a:lnTo>
                  <a:cubicBezTo>
                    <a:pt x="0" y="102"/>
                    <a:pt x="1" y="111"/>
                    <a:pt x="7" y="115"/>
                  </a:cubicBezTo>
                  <a:lnTo>
                    <a:pt x="54" y="147"/>
                  </a:lnTo>
                  <a:cubicBezTo>
                    <a:pt x="61" y="151"/>
                    <a:pt x="69" y="150"/>
                    <a:pt x="74" y="144"/>
                  </a:cubicBezTo>
                  <a:lnTo>
                    <a:pt x="133" y="55"/>
                  </a:lnTo>
                  <a:cubicBezTo>
                    <a:pt x="137" y="49"/>
                    <a:pt x="136" y="40"/>
                    <a:pt x="130" y="36"/>
                  </a:cubicBezTo>
                  <a:lnTo>
                    <a:pt x="83" y="4"/>
                  </a:lnTo>
                  <a:close/>
                </a:path>
              </a:pathLst>
            </a:custGeom>
            <a:solidFill>
              <a:srgbClr val="111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684680" y="1959120"/>
              <a:ext cx="2459160" cy="2679480"/>
            </a:xfrm>
            <a:custGeom>
              <a:avLst/>
              <a:gdLst/>
              <a:ahLst/>
              <a:rect l="l" t="t" r="r" b="b"/>
              <a:pathLst>
                <a:path w="135" h="147">
                  <a:moveTo>
                    <a:pt x="81" y="4"/>
                  </a:moveTo>
                  <a:cubicBezTo>
                    <a:pt x="75" y="0"/>
                    <a:pt x="66" y="1"/>
                    <a:pt x="62" y="7"/>
                  </a:cubicBezTo>
                  <a:lnTo>
                    <a:pt x="3" y="93"/>
                  </a:lnTo>
                  <a:cubicBezTo>
                    <a:pt x="0" y="100"/>
                    <a:pt x="1" y="108"/>
                    <a:pt x="7" y="112"/>
                  </a:cubicBezTo>
                  <a:lnTo>
                    <a:pt x="54" y="143"/>
                  </a:lnTo>
                  <a:cubicBezTo>
                    <a:pt x="60" y="147"/>
                    <a:pt x="68" y="146"/>
                    <a:pt x="73" y="140"/>
                  </a:cubicBezTo>
                  <a:lnTo>
                    <a:pt x="131" y="54"/>
                  </a:lnTo>
                  <a:cubicBezTo>
                    <a:pt x="135" y="47"/>
                    <a:pt x="134" y="39"/>
                    <a:pt x="128" y="35"/>
                  </a:cubicBezTo>
                  <a:lnTo>
                    <a:pt x="81" y="4"/>
                  </a:lnTo>
                  <a:close/>
                </a:path>
              </a:pathLst>
            </a:custGeom>
            <a:solidFill>
              <a:srgbClr val="191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721400" y="1978200"/>
              <a:ext cx="2385720" cy="2643120"/>
            </a:xfrm>
            <a:custGeom>
              <a:avLst/>
              <a:gdLst/>
              <a:ahLst/>
              <a:rect l="l" t="t" r="r" b="b"/>
              <a:pathLst>
                <a:path w="131" h="145">
                  <a:moveTo>
                    <a:pt x="79" y="4"/>
                  </a:moveTo>
                  <a:cubicBezTo>
                    <a:pt x="73" y="0"/>
                    <a:pt x="64" y="1"/>
                    <a:pt x="60" y="7"/>
                  </a:cubicBezTo>
                  <a:lnTo>
                    <a:pt x="3" y="92"/>
                  </a:lnTo>
                  <a:cubicBezTo>
                    <a:pt x="0" y="98"/>
                    <a:pt x="1" y="107"/>
                    <a:pt x="7" y="111"/>
                  </a:cubicBezTo>
                  <a:lnTo>
                    <a:pt x="52" y="141"/>
                  </a:lnTo>
                  <a:cubicBezTo>
                    <a:pt x="58" y="145"/>
                    <a:pt x="66" y="144"/>
                    <a:pt x="71" y="138"/>
                  </a:cubicBezTo>
                  <a:lnTo>
                    <a:pt x="127" y="53"/>
                  </a:lnTo>
                  <a:cubicBezTo>
                    <a:pt x="131" y="47"/>
                    <a:pt x="130" y="38"/>
                    <a:pt x="124" y="34"/>
                  </a:cubicBezTo>
                  <a:lnTo>
                    <a:pt x="79" y="4"/>
                  </a:lnTo>
                  <a:close/>
                </a:path>
              </a:pathLst>
            </a:custGeom>
            <a:solidFill>
              <a:srgbClr val="21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740120" y="2014560"/>
              <a:ext cx="2349720" cy="2570040"/>
            </a:xfrm>
            <a:custGeom>
              <a:avLst/>
              <a:gdLst/>
              <a:ahLst/>
              <a:rect l="l" t="t" r="r" b="b"/>
              <a:pathLst>
                <a:path w="129" h="141">
                  <a:moveTo>
                    <a:pt x="78" y="4"/>
                  </a:moveTo>
                  <a:cubicBezTo>
                    <a:pt x="71" y="0"/>
                    <a:pt x="63" y="1"/>
                    <a:pt x="59" y="7"/>
                  </a:cubicBezTo>
                  <a:lnTo>
                    <a:pt x="3" y="89"/>
                  </a:lnTo>
                  <a:cubicBezTo>
                    <a:pt x="0" y="96"/>
                    <a:pt x="1" y="104"/>
                    <a:pt x="7" y="108"/>
                  </a:cubicBezTo>
                  <a:lnTo>
                    <a:pt x="51" y="137"/>
                  </a:lnTo>
                  <a:cubicBezTo>
                    <a:pt x="58" y="141"/>
                    <a:pt x="65" y="140"/>
                    <a:pt x="70" y="134"/>
                  </a:cubicBezTo>
                  <a:lnTo>
                    <a:pt x="125" y="52"/>
                  </a:lnTo>
                  <a:cubicBezTo>
                    <a:pt x="129" y="45"/>
                    <a:pt x="128" y="37"/>
                    <a:pt x="122" y="33"/>
                  </a:cubicBezTo>
                  <a:lnTo>
                    <a:pt x="78" y="4"/>
                  </a:lnTo>
                  <a:close/>
                </a:path>
              </a:pathLst>
            </a:custGeom>
            <a:solidFill>
              <a:srgbClr val="282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776840" y="2032200"/>
              <a:ext cx="2276280" cy="251604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75" y="4"/>
                  </a:moveTo>
                  <a:cubicBezTo>
                    <a:pt x="69" y="0"/>
                    <a:pt x="61" y="1"/>
                    <a:pt x="58" y="7"/>
                  </a:cubicBezTo>
                  <a:lnTo>
                    <a:pt x="3" y="87"/>
                  </a:lnTo>
                  <a:cubicBezTo>
                    <a:pt x="0" y="94"/>
                    <a:pt x="1" y="102"/>
                    <a:pt x="7" y="105"/>
                  </a:cubicBezTo>
                  <a:lnTo>
                    <a:pt x="50" y="134"/>
                  </a:lnTo>
                  <a:cubicBezTo>
                    <a:pt x="56" y="138"/>
                    <a:pt x="63" y="137"/>
                    <a:pt x="67" y="131"/>
                  </a:cubicBezTo>
                  <a:lnTo>
                    <a:pt x="121" y="51"/>
                  </a:lnTo>
                  <a:cubicBezTo>
                    <a:pt x="125" y="44"/>
                    <a:pt x="124" y="36"/>
                    <a:pt x="118" y="33"/>
                  </a:cubicBezTo>
                  <a:lnTo>
                    <a:pt x="75" y="4"/>
                  </a:lnTo>
                  <a:close/>
                </a:path>
              </a:pathLst>
            </a:custGeom>
            <a:solidFill>
              <a:srgbClr val="2f2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794120" y="2068560"/>
              <a:ext cx="2240280" cy="24606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74" y="4"/>
                  </a:moveTo>
                  <a:cubicBezTo>
                    <a:pt x="68" y="0"/>
                    <a:pt x="60" y="1"/>
                    <a:pt x="57" y="7"/>
                  </a:cubicBezTo>
                  <a:lnTo>
                    <a:pt x="3" y="85"/>
                  </a:lnTo>
                  <a:cubicBezTo>
                    <a:pt x="0" y="92"/>
                    <a:pt x="1" y="99"/>
                    <a:pt x="7" y="103"/>
                  </a:cubicBezTo>
                  <a:lnTo>
                    <a:pt x="49" y="131"/>
                  </a:lnTo>
                  <a:cubicBezTo>
                    <a:pt x="55" y="135"/>
                    <a:pt x="62" y="134"/>
                    <a:pt x="66" y="128"/>
                  </a:cubicBezTo>
                  <a:lnTo>
                    <a:pt x="119" y="50"/>
                  </a:lnTo>
                  <a:cubicBezTo>
                    <a:pt x="123" y="43"/>
                    <a:pt x="122" y="36"/>
                    <a:pt x="116" y="32"/>
                  </a:cubicBezTo>
                  <a:lnTo>
                    <a:pt x="74" y="4"/>
                  </a:lnTo>
                  <a:close/>
                </a:path>
              </a:pathLst>
            </a:custGeom>
            <a:solidFill>
              <a:srgbClr val="35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830840" y="2104920"/>
              <a:ext cx="2166840" cy="2387880"/>
            </a:xfrm>
            <a:custGeom>
              <a:avLst/>
              <a:gdLst/>
              <a:ahLst/>
              <a:rect l="l" t="t" r="r" b="b"/>
              <a:pathLst>
                <a:path w="119" h="131">
                  <a:moveTo>
                    <a:pt x="72" y="4"/>
                  </a:moveTo>
                  <a:cubicBezTo>
                    <a:pt x="66" y="0"/>
                    <a:pt x="58" y="1"/>
                    <a:pt x="55" y="6"/>
                  </a:cubicBezTo>
                  <a:lnTo>
                    <a:pt x="3" y="83"/>
                  </a:lnTo>
                  <a:cubicBezTo>
                    <a:pt x="0" y="89"/>
                    <a:pt x="1" y="97"/>
                    <a:pt x="6" y="100"/>
                  </a:cubicBezTo>
                  <a:lnTo>
                    <a:pt x="47" y="127"/>
                  </a:lnTo>
                  <a:cubicBezTo>
                    <a:pt x="53" y="131"/>
                    <a:pt x="60" y="130"/>
                    <a:pt x="64" y="125"/>
                  </a:cubicBezTo>
                  <a:lnTo>
                    <a:pt x="115" y="48"/>
                  </a:lnTo>
                  <a:cubicBezTo>
                    <a:pt x="119" y="42"/>
                    <a:pt x="118" y="34"/>
                    <a:pt x="113" y="31"/>
                  </a:cubicBezTo>
                  <a:lnTo>
                    <a:pt x="72" y="4"/>
                  </a:lnTo>
                  <a:close/>
                </a:path>
              </a:pathLst>
            </a:custGeom>
            <a:solidFill>
              <a:srgbClr val="3d3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849920" y="2122560"/>
              <a:ext cx="2130480" cy="2352600"/>
            </a:xfrm>
            <a:custGeom>
              <a:avLst/>
              <a:gdLst/>
              <a:ahLst/>
              <a:rect l="l" t="t" r="r" b="b"/>
              <a:pathLst>
                <a:path w="117" h="129">
                  <a:moveTo>
                    <a:pt x="71" y="4"/>
                  </a:moveTo>
                  <a:cubicBezTo>
                    <a:pt x="65" y="0"/>
                    <a:pt x="57" y="1"/>
                    <a:pt x="54" y="6"/>
                  </a:cubicBezTo>
                  <a:lnTo>
                    <a:pt x="3" y="82"/>
                  </a:lnTo>
                  <a:cubicBezTo>
                    <a:pt x="0" y="88"/>
                    <a:pt x="1" y="95"/>
                    <a:pt x="6" y="98"/>
                  </a:cubicBezTo>
                  <a:lnTo>
                    <a:pt x="46" y="125"/>
                  </a:lnTo>
                  <a:cubicBezTo>
                    <a:pt x="52" y="129"/>
                    <a:pt x="59" y="128"/>
                    <a:pt x="63" y="123"/>
                  </a:cubicBezTo>
                  <a:lnTo>
                    <a:pt x="113" y="47"/>
                  </a:lnTo>
                  <a:cubicBezTo>
                    <a:pt x="117" y="41"/>
                    <a:pt x="116" y="34"/>
                    <a:pt x="111" y="31"/>
                  </a:cubicBezTo>
                  <a:lnTo>
                    <a:pt x="71" y="4"/>
                  </a:lnTo>
                  <a:close/>
                </a:path>
              </a:pathLst>
            </a:custGeom>
            <a:solidFill>
              <a:srgbClr val="434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867200" y="2158920"/>
              <a:ext cx="2076480" cy="2279880"/>
            </a:xfrm>
            <a:custGeom>
              <a:avLst/>
              <a:gdLst/>
              <a:ahLst/>
              <a:rect l="l" t="t" r="r" b="b"/>
              <a:pathLst>
                <a:path w="114" h="125">
                  <a:moveTo>
                    <a:pt x="69" y="4"/>
                  </a:moveTo>
                  <a:cubicBezTo>
                    <a:pt x="63" y="0"/>
                    <a:pt x="56" y="1"/>
                    <a:pt x="53" y="6"/>
                  </a:cubicBezTo>
                  <a:lnTo>
                    <a:pt x="3" y="79"/>
                  </a:lnTo>
                  <a:cubicBezTo>
                    <a:pt x="0" y="85"/>
                    <a:pt x="1" y="92"/>
                    <a:pt x="6" y="95"/>
                  </a:cubicBezTo>
                  <a:lnTo>
                    <a:pt x="45" y="121"/>
                  </a:lnTo>
                  <a:cubicBezTo>
                    <a:pt x="51" y="125"/>
                    <a:pt x="57" y="124"/>
                    <a:pt x="61" y="119"/>
                  </a:cubicBezTo>
                  <a:lnTo>
                    <a:pt x="110" y="46"/>
                  </a:lnTo>
                  <a:cubicBezTo>
                    <a:pt x="114" y="40"/>
                    <a:pt x="113" y="33"/>
                    <a:pt x="108" y="30"/>
                  </a:cubicBezTo>
                  <a:lnTo>
                    <a:pt x="69" y="4"/>
                  </a:lnTo>
                  <a:close/>
                </a:path>
              </a:pathLst>
            </a:custGeom>
            <a:solidFill>
              <a:srgbClr val="4a4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903920" y="2178000"/>
              <a:ext cx="2020680" cy="2224080"/>
            </a:xfrm>
            <a:custGeom>
              <a:avLst/>
              <a:gdLst/>
              <a:ahLst/>
              <a:rect l="l" t="t" r="r" b="b"/>
              <a:pathLst>
                <a:path w="111" h="122">
                  <a:moveTo>
                    <a:pt x="67" y="4"/>
                  </a:moveTo>
                  <a:cubicBezTo>
                    <a:pt x="61" y="0"/>
                    <a:pt x="54" y="1"/>
                    <a:pt x="51" y="6"/>
                  </a:cubicBezTo>
                  <a:lnTo>
                    <a:pt x="3" y="77"/>
                  </a:lnTo>
                  <a:cubicBezTo>
                    <a:pt x="0" y="83"/>
                    <a:pt x="1" y="90"/>
                    <a:pt x="6" y="93"/>
                  </a:cubicBezTo>
                  <a:lnTo>
                    <a:pt x="44" y="118"/>
                  </a:lnTo>
                  <a:cubicBezTo>
                    <a:pt x="50" y="122"/>
                    <a:pt x="56" y="121"/>
                    <a:pt x="60" y="116"/>
                  </a:cubicBezTo>
                  <a:lnTo>
                    <a:pt x="107" y="45"/>
                  </a:lnTo>
                  <a:cubicBezTo>
                    <a:pt x="111" y="39"/>
                    <a:pt x="110" y="32"/>
                    <a:pt x="105" y="29"/>
                  </a:cubicBezTo>
                  <a:lnTo>
                    <a:pt x="67" y="4"/>
                  </a:lnTo>
                  <a:close/>
                </a:path>
              </a:pathLst>
            </a:custGeom>
            <a:solidFill>
              <a:srgbClr val="515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921200" y="2214720"/>
              <a:ext cx="1967040" cy="2170080"/>
            </a:xfrm>
            <a:custGeom>
              <a:avLst/>
              <a:gdLst/>
              <a:ahLst/>
              <a:rect l="l" t="t" r="r" b="b"/>
              <a:pathLst>
                <a:path w="108" h="119">
                  <a:moveTo>
                    <a:pt x="65" y="4"/>
                  </a:moveTo>
                  <a:cubicBezTo>
                    <a:pt x="60" y="0"/>
                    <a:pt x="53" y="1"/>
                    <a:pt x="50" y="6"/>
                  </a:cubicBezTo>
                  <a:lnTo>
                    <a:pt x="3" y="75"/>
                  </a:lnTo>
                  <a:cubicBezTo>
                    <a:pt x="0" y="81"/>
                    <a:pt x="1" y="88"/>
                    <a:pt x="6" y="91"/>
                  </a:cubicBezTo>
                  <a:lnTo>
                    <a:pt x="43" y="115"/>
                  </a:lnTo>
                  <a:cubicBezTo>
                    <a:pt x="48" y="119"/>
                    <a:pt x="54" y="118"/>
                    <a:pt x="58" y="113"/>
                  </a:cubicBezTo>
                  <a:lnTo>
                    <a:pt x="104" y="44"/>
                  </a:lnTo>
                  <a:cubicBezTo>
                    <a:pt x="108" y="38"/>
                    <a:pt x="107" y="31"/>
                    <a:pt x="102" y="28"/>
                  </a:cubicBezTo>
                  <a:lnTo>
                    <a:pt x="65" y="4"/>
                  </a:lnTo>
                  <a:close/>
                </a:path>
              </a:pathLst>
            </a:custGeom>
            <a:solidFill>
              <a:srgbClr val="585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957920" y="2251080"/>
              <a:ext cx="1912680" cy="209700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63" y="3"/>
                  </a:moveTo>
                  <a:cubicBezTo>
                    <a:pt x="58" y="0"/>
                    <a:pt x="51" y="1"/>
                    <a:pt x="48" y="6"/>
                  </a:cubicBezTo>
                  <a:lnTo>
                    <a:pt x="3" y="73"/>
                  </a:lnTo>
                  <a:cubicBezTo>
                    <a:pt x="0" y="78"/>
                    <a:pt x="1" y="85"/>
                    <a:pt x="6" y="88"/>
                  </a:cubicBezTo>
                  <a:lnTo>
                    <a:pt x="42" y="112"/>
                  </a:lnTo>
                  <a:cubicBezTo>
                    <a:pt x="47" y="115"/>
                    <a:pt x="53" y="114"/>
                    <a:pt x="57" y="109"/>
                  </a:cubicBezTo>
                  <a:lnTo>
                    <a:pt x="102" y="42"/>
                  </a:lnTo>
                  <a:cubicBezTo>
                    <a:pt x="105" y="37"/>
                    <a:pt x="104" y="30"/>
                    <a:pt x="99" y="27"/>
                  </a:cubicBezTo>
                  <a:lnTo>
                    <a:pt x="63" y="3"/>
                  </a:lnTo>
                  <a:close/>
                </a:path>
              </a:pathLst>
            </a:custGeom>
            <a:solidFill>
              <a:srgbClr val="5f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977000" y="2268720"/>
              <a:ext cx="1874520" cy="206028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62" y="3"/>
                  </a:moveTo>
                  <a:cubicBezTo>
                    <a:pt x="57" y="0"/>
                    <a:pt x="50" y="1"/>
                    <a:pt x="47" y="6"/>
                  </a:cubicBezTo>
                  <a:lnTo>
                    <a:pt x="3" y="72"/>
                  </a:lnTo>
                  <a:cubicBezTo>
                    <a:pt x="0" y="77"/>
                    <a:pt x="1" y="83"/>
                    <a:pt x="6" y="86"/>
                  </a:cubicBezTo>
                  <a:lnTo>
                    <a:pt x="41" y="110"/>
                  </a:lnTo>
                  <a:cubicBezTo>
                    <a:pt x="46" y="113"/>
                    <a:pt x="52" y="112"/>
                    <a:pt x="56" y="107"/>
                  </a:cubicBezTo>
                  <a:lnTo>
                    <a:pt x="100" y="41"/>
                  </a:lnTo>
                  <a:cubicBezTo>
                    <a:pt x="103" y="36"/>
                    <a:pt x="102" y="30"/>
                    <a:pt x="97" y="27"/>
                  </a:cubicBezTo>
                  <a:lnTo>
                    <a:pt x="62" y="3"/>
                  </a:lnTo>
                  <a:close/>
                </a:path>
              </a:pathLst>
            </a:custGeom>
            <a:solidFill>
              <a:srgbClr val="676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013360" y="2305080"/>
              <a:ext cx="1803240" cy="1987560"/>
            </a:xfrm>
            <a:custGeom>
              <a:avLst/>
              <a:gdLst/>
              <a:ahLst/>
              <a:rect l="l" t="t" r="r" b="b"/>
              <a:pathLst>
                <a:path w="99" h="109">
                  <a:moveTo>
                    <a:pt x="60" y="3"/>
                  </a:moveTo>
                  <a:cubicBezTo>
                    <a:pt x="55" y="0"/>
                    <a:pt x="48" y="1"/>
                    <a:pt x="46" y="5"/>
                  </a:cubicBezTo>
                  <a:lnTo>
                    <a:pt x="3" y="69"/>
                  </a:lnTo>
                  <a:cubicBezTo>
                    <a:pt x="0" y="74"/>
                    <a:pt x="1" y="80"/>
                    <a:pt x="5" y="83"/>
                  </a:cubicBezTo>
                  <a:lnTo>
                    <a:pt x="39" y="106"/>
                  </a:lnTo>
                  <a:cubicBezTo>
                    <a:pt x="44" y="109"/>
                    <a:pt x="50" y="108"/>
                    <a:pt x="53" y="104"/>
                  </a:cubicBezTo>
                  <a:lnTo>
                    <a:pt x="96" y="40"/>
                  </a:lnTo>
                  <a:cubicBezTo>
                    <a:pt x="99" y="35"/>
                    <a:pt x="98" y="29"/>
                    <a:pt x="94" y="26"/>
                  </a:cubicBezTo>
                  <a:lnTo>
                    <a:pt x="60" y="3"/>
                  </a:lnTo>
                  <a:close/>
                </a:path>
              </a:pathLst>
            </a:custGeom>
            <a:solidFill>
              <a:srgbClr val="6e6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030640" y="2324160"/>
              <a:ext cx="1766880" cy="19321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59" y="3"/>
                  </a:moveTo>
                  <a:cubicBezTo>
                    <a:pt x="54" y="0"/>
                    <a:pt x="47" y="1"/>
                    <a:pt x="45" y="5"/>
                  </a:cubicBezTo>
                  <a:lnTo>
                    <a:pt x="3" y="67"/>
                  </a:lnTo>
                  <a:cubicBezTo>
                    <a:pt x="0" y="72"/>
                    <a:pt x="1" y="78"/>
                    <a:pt x="5" y="81"/>
                  </a:cubicBezTo>
                  <a:lnTo>
                    <a:pt x="38" y="103"/>
                  </a:lnTo>
                  <a:cubicBezTo>
                    <a:pt x="43" y="106"/>
                    <a:pt x="49" y="105"/>
                    <a:pt x="52" y="101"/>
                  </a:cubicBezTo>
                  <a:lnTo>
                    <a:pt x="94" y="39"/>
                  </a:lnTo>
                  <a:cubicBezTo>
                    <a:pt x="97" y="34"/>
                    <a:pt x="96" y="28"/>
                    <a:pt x="92" y="25"/>
                  </a:cubicBezTo>
                  <a:lnTo>
                    <a:pt x="59" y="3"/>
                  </a:lnTo>
                  <a:close/>
                </a:path>
              </a:pathLst>
            </a:custGeom>
            <a:solidFill>
              <a:srgbClr val="747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049720" y="2360520"/>
              <a:ext cx="1711440" cy="187812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57" y="3"/>
                  </a:moveTo>
                  <a:cubicBezTo>
                    <a:pt x="52" y="0"/>
                    <a:pt x="46" y="1"/>
                    <a:pt x="43" y="5"/>
                  </a:cubicBezTo>
                  <a:lnTo>
                    <a:pt x="3" y="65"/>
                  </a:lnTo>
                  <a:cubicBezTo>
                    <a:pt x="0" y="70"/>
                    <a:pt x="1" y="76"/>
                    <a:pt x="5" y="78"/>
                  </a:cubicBezTo>
                  <a:lnTo>
                    <a:pt x="37" y="100"/>
                  </a:lnTo>
                  <a:cubicBezTo>
                    <a:pt x="42" y="103"/>
                    <a:pt x="47" y="102"/>
                    <a:pt x="51" y="98"/>
                  </a:cubicBezTo>
                  <a:lnTo>
                    <a:pt x="91" y="38"/>
                  </a:lnTo>
                  <a:cubicBezTo>
                    <a:pt x="94" y="33"/>
                    <a:pt x="93" y="27"/>
                    <a:pt x="89" y="24"/>
                  </a:cubicBezTo>
                  <a:lnTo>
                    <a:pt x="57" y="3"/>
                  </a:lnTo>
                  <a:close/>
                </a:path>
              </a:pathLst>
            </a:custGeom>
            <a:solidFill>
              <a:srgbClr val="7d7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086440" y="2378160"/>
              <a:ext cx="1657440" cy="182412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55" y="3"/>
                  </a:moveTo>
                  <a:cubicBezTo>
                    <a:pt x="50" y="0"/>
                    <a:pt x="45" y="1"/>
                    <a:pt x="42" y="5"/>
                  </a:cubicBezTo>
                  <a:lnTo>
                    <a:pt x="2" y="63"/>
                  </a:lnTo>
                  <a:cubicBezTo>
                    <a:pt x="0" y="68"/>
                    <a:pt x="1" y="74"/>
                    <a:pt x="5" y="76"/>
                  </a:cubicBezTo>
                  <a:lnTo>
                    <a:pt x="36" y="97"/>
                  </a:lnTo>
                  <a:cubicBezTo>
                    <a:pt x="41" y="100"/>
                    <a:pt x="46" y="99"/>
                    <a:pt x="49" y="95"/>
                  </a:cubicBezTo>
                  <a:lnTo>
                    <a:pt x="88" y="37"/>
                  </a:lnTo>
                  <a:cubicBezTo>
                    <a:pt x="91" y="32"/>
                    <a:pt x="90" y="26"/>
                    <a:pt x="86" y="24"/>
                  </a:cubicBezTo>
                  <a:lnTo>
                    <a:pt x="55" y="3"/>
                  </a:lnTo>
                  <a:close/>
                </a:path>
              </a:pathLst>
            </a:custGeom>
            <a:solidFill>
              <a:srgbClr val="838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103720" y="2414520"/>
              <a:ext cx="1603440" cy="176868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53" y="3"/>
                  </a:moveTo>
                  <a:cubicBezTo>
                    <a:pt x="49" y="0"/>
                    <a:pt x="43" y="1"/>
                    <a:pt x="41" y="5"/>
                  </a:cubicBezTo>
                  <a:lnTo>
                    <a:pt x="2" y="61"/>
                  </a:lnTo>
                  <a:cubicBezTo>
                    <a:pt x="0" y="66"/>
                    <a:pt x="1" y="71"/>
                    <a:pt x="5" y="74"/>
                  </a:cubicBezTo>
                  <a:lnTo>
                    <a:pt x="35" y="94"/>
                  </a:lnTo>
                  <a:cubicBezTo>
                    <a:pt x="39" y="97"/>
                    <a:pt x="44" y="96"/>
                    <a:pt x="47" y="92"/>
                  </a:cubicBezTo>
                  <a:lnTo>
                    <a:pt x="85" y="36"/>
                  </a:lnTo>
                  <a:cubicBezTo>
                    <a:pt x="88" y="31"/>
                    <a:pt x="87" y="26"/>
                    <a:pt x="83" y="23"/>
                  </a:cubicBezTo>
                  <a:lnTo>
                    <a:pt x="53" y="3"/>
                  </a:lnTo>
                  <a:close/>
                </a:path>
              </a:pathLst>
            </a:custGeom>
            <a:solidFill>
              <a:srgbClr val="8a8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140440" y="2451240"/>
              <a:ext cx="1547640" cy="169524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51" y="3"/>
                  </a:moveTo>
                  <a:cubicBezTo>
                    <a:pt x="47" y="0"/>
                    <a:pt x="42" y="1"/>
                    <a:pt x="39" y="5"/>
                  </a:cubicBezTo>
                  <a:lnTo>
                    <a:pt x="2" y="59"/>
                  </a:lnTo>
                  <a:cubicBezTo>
                    <a:pt x="0" y="63"/>
                    <a:pt x="1" y="68"/>
                    <a:pt x="5" y="71"/>
                  </a:cubicBezTo>
                  <a:lnTo>
                    <a:pt x="34" y="90"/>
                  </a:lnTo>
                  <a:cubicBezTo>
                    <a:pt x="38" y="93"/>
                    <a:pt x="43" y="92"/>
                    <a:pt x="46" y="88"/>
                  </a:cubicBezTo>
                  <a:lnTo>
                    <a:pt x="82" y="34"/>
                  </a:lnTo>
                  <a:cubicBezTo>
                    <a:pt x="85" y="30"/>
                    <a:pt x="84" y="25"/>
                    <a:pt x="80" y="22"/>
                  </a:cubicBezTo>
                  <a:lnTo>
                    <a:pt x="51" y="3"/>
                  </a:lnTo>
                  <a:close/>
                </a:path>
              </a:pathLst>
            </a:custGeom>
            <a:solidFill>
              <a:srgbClr val="9292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159520" y="2470320"/>
              <a:ext cx="1492200" cy="163980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49" y="3"/>
                  </a:moveTo>
                  <a:cubicBezTo>
                    <a:pt x="45" y="0"/>
                    <a:pt x="40" y="1"/>
                    <a:pt x="38" y="5"/>
                  </a:cubicBezTo>
                  <a:lnTo>
                    <a:pt x="2" y="57"/>
                  </a:lnTo>
                  <a:cubicBezTo>
                    <a:pt x="0" y="61"/>
                    <a:pt x="1" y="66"/>
                    <a:pt x="5" y="69"/>
                  </a:cubicBezTo>
                  <a:lnTo>
                    <a:pt x="33" y="87"/>
                  </a:lnTo>
                  <a:cubicBezTo>
                    <a:pt x="37" y="90"/>
                    <a:pt x="41" y="89"/>
                    <a:pt x="44" y="85"/>
                  </a:cubicBezTo>
                  <a:lnTo>
                    <a:pt x="79" y="33"/>
                  </a:lnTo>
                  <a:cubicBezTo>
                    <a:pt x="82" y="29"/>
                    <a:pt x="81" y="24"/>
                    <a:pt x="77" y="21"/>
                  </a:cubicBezTo>
                  <a:lnTo>
                    <a:pt x="49" y="3"/>
                  </a:lnTo>
                  <a:close/>
                </a:path>
              </a:pathLst>
            </a:custGeom>
            <a:solidFill>
              <a:srgbClr val="999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195880" y="2506680"/>
              <a:ext cx="1438200" cy="158580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48" y="3"/>
                  </a:moveTo>
                  <a:cubicBezTo>
                    <a:pt x="44" y="0"/>
                    <a:pt x="39" y="1"/>
                    <a:pt x="36" y="4"/>
                  </a:cubicBezTo>
                  <a:lnTo>
                    <a:pt x="2" y="55"/>
                  </a:lnTo>
                  <a:cubicBezTo>
                    <a:pt x="0" y="59"/>
                    <a:pt x="1" y="64"/>
                    <a:pt x="4" y="66"/>
                  </a:cubicBezTo>
                  <a:lnTo>
                    <a:pt x="31" y="84"/>
                  </a:lnTo>
                  <a:cubicBezTo>
                    <a:pt x="35" y="87"/>
                    <a:pt x="40" y="86"/>
                    <a:pt x="43" y="83"/>
                  </a:cubicBezTo>
                  <a:lnTo>
                    <a:pt x="76" y="32"/>
                  </a:lnTo>
                  <a:cubicBezTo>
                    <a:pt x="79" y="28"/>
                    <a:pt x="78" y="23"/>
                    <a:pt x="75" y="21"/>
                  </a:cubicBezTo>
                  <a:lnTo>
                    <a:pt x="48" y="3"/>
                  </a:lnTo>
                  <a:close/>
                </a:path>
              </a:pathLst>
            </a:custGeom>
            <a:solidFill>
              <a:srgbClr val="9f9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213520" y="2524320"/>
              <a:ext cx="1384200" cy="1531800"/>
            </a:xfrm>
            <a:custGeom>
              <a:avLst/>
              <a:gdLst/>
              <a:ahLst/>
              <a:rect l="l" t="t" r="r" b="b"/>
              <a:pathLst>
                <a:path w="76" h="84">
                  <a:moveTo>
                    <a:pt x="46" y="3"/>
                  </a:moveTo>
                  <a:cubicBezTo>
                    <a:pt x="42" y="0"/>
                    <a:pt x="37" y="1"/>
                    <a:pt x="35" y="4"/>
                  </a:cubicBezTo>
                  <a:lnTo>
                    <a:pt x="2" y="53"/>
                  </a:lnTo>
                  <a:cubicBezTo>
                    <a:pt x="0" y="57"/>
                    <a:pt x="1" y="62"/>
                    <a:pt x="4" y="64"/>
                  </a:cubicBezTo>
                  <a:lnTo>
                    <a:pt x="30" y="81"/>
                  </a:lnTo>
                  <a:cubicBezTo>
                    <a:pt x="34" y="84"/>
                    <a:pt x="38" y="83"/>
                    <a:pt x="41" y="80"/>
                  </a:cubicBezTo>
                  <a:lnTo>
                    <a:pt x="73" y="31"/>
                  </a:lnTo>
                  <a:cubicBezTo>
                    <a:pt x="76" y="27"/>
                    <a:pt x="75" y="22"/>
                    <a:pt x="72" y="20"/>
                  </a:cubicBezTo>
                  <a:lnTo>
                    <a:pt x="46" y="3"/>
                  </a:lnTo>
                  <a:close/>
                </a:path>
              </a:pathLst>
            </a:custGeom>
            <a:solidFill>
              <a:srgbClr val="a7a7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249880" y="2560680"/>
              <a:ext cx="1328760" cy="1476360"/>
            </a:xfrm>
            <a:custGeom>
              <a:avLst/>
              <a:gdLst/>
              <a:ahLst/>
              <a:rect l="l" t="t" r="r" b="b"/>
              <a:pathLst>
                <a:path w="73" h="81">
                  <a:moveTo>
                    <a:pt x="44" y="3"/>
                  </a:moveTo>
                  <a:cubicBezTo>
                    <a:pt x="40" y="0"/>
                    <a:pt x="36" y="1"/>
                    <a:pt x="34" y="4"/>
                  </a:cubicBezTo>
                  <a:lnTo>
                    <a:pt x="2" y="51"/>
                  </a:lnTo>
                  <a:cubicBezTo>
                    <a:pt x="0" y="55"/>
                    <a:pt x="1" y="60"/>
                    <a:pt x="4" y="62"/>
                  </a:cubicBezTo>
                  <a:lnTo>
                    <a:pt x="29" y="78"/>
                  </a:lnTo>
                  <a:cubicBezTo>
                    <a:pt x="33" y="81"/>
                    <a:pt x="37" y="80"/>
                    <a:pt x="39" y="77"/>
                  </a:cubicBezTo>
                  <a:lnTo>
                    <a:pt x="70" y="30"/>
                  </a:lnTo>
                  <a:cubicBezTo>
                    <a:pt x="73" y="26"/>
                    <a:pt x="72" y="21"/>
                    <a:pt x="69" y="19"/>
                  </a:cubicBezTo>
                  <a:lnTo>
                    <a:pt x="44" y="3"/>
                  </a:lnTo>
                  <a:close/>
                </a:path>
              </a:pathLst>
            </a:custGeom>
            <a:solidFill>
              <a:srgbClr val="ada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267160" y="2597040"/>
              <a:ext cx="1293840" cy="1403640"/>
            </a:xfrm>
            <a:custGeom>
              <a:avLst/>
              <a:gdLst/>
              <a:ahLst/>
              <a:rect l="l" t="t" r="r" b="b"/>
              <a:pathLst>
                <a:path w="71" h="77">
                  <a:moveTo>
                    <a:pt x="43" y="2"/>
                  </a:moveTo>
                  <a:cubicBezTo>
                    <a:pt x="39" y="0"/>
                    <a:pt x="35" y="1"/>
                    <a:pt x="33" y="4"/>
                  </a:cubicBezTo>
                  <a:lnTo>
                    <a:pt x="2" y="49"/>
                  </a:lnTo>
                  <a:cubicBezTo>
                    <a:pt x="0" y="52"/>
                    <a:pt x="1" y="57"/>
                    <a:pt x="4" y="59"/>
                  </a:cubicBezTo>
                  <a:lnTo>
                    <a:pt x="28" y="75"/>
                  </a:lnTo>
                  <a:cubicBezTo>
                    <a:pt x="32" y="77"/>
                    <a:pt x="36" y="76"/>
                    <a:pt x="38" y="73"/>
                  </a:cubicBezTo>
                  <a:lnTo>
                    <a:pt x="68" y="28"/>
                  </a:lnTo>
                  <a:cubicBezTo>
                    <a:pt x="71" y="25"/>
                    <a:pt x="70" y="20"/>
                    <a:pt x="67" y="18"/>
                  </a:cubicBezTo>
                  <a:lnTo>
                    <a:pt x="43" y="2"/>
                  </a:lnTo>
                  <a:close/>
                </a:path>
              </a:pathLst>
            </a:custGeom>
            <a:solidFill>
              <a:srgbClr val="b3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286240" y="2616120"/>
              <a:ext cx="1238400" cy="134784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41" y="2"/>
                  </a:moveTo>
                  <a:cubicBezTo>
                    <a:pt x="38" y="0"/>
                    <a:pt x="33" y="1"/>
                    <a:pt x="31" y="4"/>
                  </a:cubicBezTo>
                  <a:lnTo>
                    <a:pt x="2" y="47"/>
                  </a:lnTo>
                  <a:cubicBezTo>
                    <a:pt x="0" y="50"/>
                    <a:pt x="1" y="54"/>
                    <a:pt x="4" y="56"/>
                  </a:cubicBezTo>
                  <a:lnTo>
                    <a:pt x="27" y="72"/>
                  </a:lnTo>
                  <a:cubicBezTo>
                    <a:pt x="30" y="74"/>
                    <a:pt x="34" y="73"/>
                    <a:pt x="37" y="70"/>
                  </a:cubicBezTo>
                  <a:lnTo>
                    <a:pt x="66" y="27"/>
                  </a:lnTo>
                  <a:cubicBezTo>
                    <a:pt x="68" y="24"/>
                    <a:pt x="67" y="20"/>
                    <a:pt x="64" y="18"/>
                  </a:cubicBezTo>
                  <a:lnTo>
                    <a:pt x="41" y="2"/>
                  </a:lnTo>
                  <a:close/>
                </a:path>
              </a:pathLst>
            </a:custGeom>
            <a:solidFill>
              <a:srgbClr val="bab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322960" y="2651040"/>
              <a:ext cx="1182600" cy="1295640"/>
            </a:xfrm>
            <a:custGeom>
              <a:avLst/>
              <a:gdLst/>
              <a:ahLst/>
              <a:rect l="l" t="t" r="r" b="b"/>
              <a:pathLst>
                <a:path w="65" h="71">
                  <a:moveTo>
                    <a:pt x="39" y="2"/>
                  </a:moveTo>
                  <a:cubicBezTo>
                    <a:pt x="36" y="0"/>
                    <a:pt x="32" y="1"/>
                    <a:pt x="30" y="4"/>
                  </a:cubicBezTo>
                  <a:lnTo>
                    <a:pt x="2" y="45"/>
                  </a:lnTo>
                  <a:cubicBezTo>
                    <a:pt x="0" y="48"/>
                    <a:pt x="1" y="52"/>
                    <a:pt x="4" y="54"/>
                  </a:cubicBezTo>
                  <a:lnTo>
                    <a:pt x="26" y="69"/>
                  </a:lnTo>
                  <a:cubicBezTo>
                    <a:pt x="29" y="71"/>
                    <a:pt x="33" y="70"/>
                    <a:pt x="35" y="67"/>
                  </a:cubicBezTo>
                  <a:lnTo>
                    <a:pt x="63" y="26"/>
                  </a:lnTo>
                  <a:cubicBezTo>
                    <a:pt x="65" y="23"/>
                    <a:pt x="64" y="19"/>
                    <a:pt x="61" y="17"/>
                  </a:cubicBezTo>
                  <a:lnTo>
                    <a:pt x="39" y="2"/>
                  </a:lnTo>
                  <a:close/>
                </a:path>
              </a:pathLst>
            </a:custGeom>
            <a:solidFill>
              <a:srgbClr val="c0c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5340240" y="2670120"/>
              <a:ext cx="1130400" cy="123984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37" y="2"/>
                  </a:moveTo>
                  <a:cubicBezTo>
                    <a:pt x="34" y="0"/>
                    <a:pt x="30" y="1"/>
                    <a:pt x="29" y="4"/>
                  </a:cubicBezTo>
                  <a:lnTo>
                    <a:pt x="2" y="43"/>
                  </a:lnTo>
                  <a:cubicBezTo>
                    <a:pt x="0" y="46"/>
                    <a:pt x="1" y="50"/>
                    <a:pt x="4" y="52"/>
                  </a:cubicBezTo>
                  <a:lnTo>
                    <a:pt x="25" y="66"/>
                  </a:lnTo>
                  <a:cubicBezTo>
                    <a:pt x="28" y="68"/>
                    <a:pt x="31" y="67"/>
                    <a:pt x="33" y="64"/>
                  </a:cubicBezTo>
                  <a:lnTo>
                    <a:pt x="60" y="25"/>
                  </a:lnTo>
                  <a:cubicBezTo>
                    <a:pt x="62" y="22"/>
                    <a:pt x="61" y="18"/>
                    <a:pt x="58" y="16"/>
                  </a:cubicBezTo>
                  <a:lnTo>
                    <a:pt x="37" y="2"/>
                  </a:lnTo>
                  <a:close/>
                </a:path>
              </a:pathLst>
            </a:custGeom>
            <a:solidFill>
              <a:srgbClr val="c5c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376960" y="2706840"/>
              <a:ext cx="1074600" cy="118404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36" y="2"/>
                  </a:moveTo>
                  <a:cubicBezTo>
                    <a:pt x="33" y="0"/>
                    <a:pt x="29" y="1"/>
                    <a:pt x="27" y="3"/>
                  </a:cubicBezTo>
                  <a:lnTo>
                    <a:pt x="2" y="41"/>
                  </a:lnTo>
                  <a:cubicBezTo>
                    <a:pt x="0" y="44"/>
                    <a:pt x="1" y="48"/>
                    <a:pt x="3" y="49"/>
                  </a:cubicBezTo>
                  <a:lnTo>
                    <a:pt x="23" y="63"/>
                  </a:lnTo>
                  <a:cubicBezTo>
                    <a:pt x="26" y="65"/>
                    <a:pt x="30" y="64"/>
                    <a:pt x="32" y="62"/>
                  </a:cubicBezTo>
                  <a:lnTo>
                    <a:pt x="57" y="24"/>
                  </a:lnTo>
                  <a:cubicBezTo>
                    <a:pt x="59" y="21"/>
                    <a:pt x="58" y="17"/>
                    <a:pt x="56" y="16"/>
                  </a:cubicBezTo>
                  <a:lnTo>
                    <a:pt x="36" y="2"/>
                  </a:lnTo>
                  <a:close/>
                </a:path>
              </a:pathLst>
            </a:custGeom>
            <a:solidFill>
              <a:srgbClr val="cbc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5396040" y="2724120"/>
              <a:ext cx="1019160" cy="113040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34" y="2"/>
                  </a:moveTo>
                  <a:cubicBezTo>
                    <a:pt x="31" y="0"/>
                    <a:pt x="27" y="1"/>
                    <a:pt x="26" y="3"/>
                  </a:cubicBezTo>
                  <a:lnTo>
                    <a:pt x="2" y="39"/>
                  </a:lnTo>
                  <a:cubicBezTo>
                    <a:pt x="0" y="42"/>
                    <a:pt x="1" y="46"/>
                    <a:pt x="3" y="47"/>
                  </a:cubicBezTo>
                  <a:lnTo>
                    <a:pt x="22" y="60"/>
                  </a:lnTo>
                  <a:cubicBezTo>
                    <a:pt x="25" y="62"/>
                    <a:pt x="28" y="61"/>
                    <a:pt x="30" y="59"/>
                  </a:cubicBezTo>
                  <a:lnTo>
                    <a:pt x="54" y="23"/>
                  </a:lnTo>
                  <a:cubicBezTo>
                    <a:pt x="56" y="20"/>
                    <a:pt x="55" y="16"/>
                    <a:pt x="53" y="15"/>
                  </a:cubicBezTo>
                  <a:lnTo>
                    <a:pt x="34" y="2"/>
                  </a:lnTo>
                  <a:close/>
                </a:path>
              </a:pathLst>
            </a:custGeom>
            <a:solidFill>
              <a:srgbClr val="d0d0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432400" y="2760840"/>
              <a:ext cx="965160" cy="105732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32" y="2"/>
                  </a:moveTo>
                  <a:cubicBezTo>
                    <a:pt x="29" y="0"/>
                    <a:pt x="26" y="1"/>
                    <a:pt x="24" y="3"/>
                  </a:cubicBezTo>
                  <a:lnTo>
                    <a:pt x="2" y="37"/>
                  </a:lnTo>
                  <a:cubicBezTo>
                    <a:pt x="0" y="39"/>
                    <a:pt x="1" y="43"/>
                    <a:pt x="3" y="44"/>
                  </a:cubicBezTo>
                  <a:lnTo>
                    <a:pt x="21" y="56"/>
                  </a:lnTo>
                  <a:cubicBezTo>
                    <a:pt x="24" y="58"/>
                    <a:pt x="27" y="57"/>
                    <a:pt x="29" y="55"/>
                  </a:cubicBezTo>
                  <a:lnTo>
                    <a:pt x="51" y="21"/>
                  </a:lnTo>
                  <a:cubicBezTo>
                    <a:pt x="53" y="19"/>
                    <a:pt x="52" y="15"/>
                    <a:pt x="50" y="14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d5d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450040" y="2797200"/>
              <a:ext cx="911160" cy="100332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30" y="2"/>
                  </a:moveTo>
                  <a:cubicBezTo>
                    <a:pt x="28" y="0"/>
                    <a:pt x="24" y="1"/>
                    <a:pt x="23" y="3"/>
                  </a:cubicBezTo>
                  <a:lnTo>
                    <a:pt x="2" y="35"/>
                  </a:lnTo>
                  <a:cubicBezTo>
                    <a:pt x="0" y="37"/>
                    <a:pt x="1" y="40"/>
                    <a:pt x="3" y="42"/>
                  </a:cubicBezTo>
                  <a:lnTo>
                    <a:pt x="20" y="53"/>
                  </a:lnTo>
                  <a:cubicBezTo>
                    <a:pt x="22" y="55"/>
                    <a:pt x="25" y="54"/>
                    <a:pt x="27" y="52"/>
                  </a:cubicBezTo>
                  <a:lnTo>
                    <a:pt x="48" y="20"/>
                  </a:lnTo>
                  <a:cubicBezTo>
                    <a:pt x="50" y="18"/>
                    <a:pt x="49" y="15"/>
                    <a:pt x="47" y="13"/>
                  </a:cubicBezTo>
                  <a:lnTo>
                    <a:pt x="30" y="2"/>
                  </a:lnTo>
                  <a:close/>
                </a:path>
              </a:pathLst>
            </a:custGeom>
            <a:solidFill>
              <a:srgbClr val="dad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69120" y="2816280"/>
              <a:ext cx="873000" cy="94788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29" y="2"/>
                  </a:moveTo>
                  <a:cubicBezTo>
                    <a:pt x="27" y="0"/>
                    <a:pt x="23" y="1"/>
                    <a:pt x="22" y="3"/>
                  </a:cubicBezTo>
                  <a:lnTo>
                    <a:pt x="2" y="33"/>
                  </a:lnTo>
                  <a:cubicBezTo>
                    <a:pt x="0" y="35"/>
                    <a:pt x="1" y="38"/>
                    <a:pt x="3" y="39"/>
                  </a:cubicBezTo>
                  <a:lnTo>
                    <a:pt x="19" y="50"/>
                  </a:lnTo>
                  <a:cubicBezTo>
                    <a:pt x="21" y="52"/>
                    <a:pt x="24" y="51"/>
                    <a:pt x="26" y="49"/>
                  </a:cubicBezTo>
                  <a:lnTo>
                    <a:pt x="46" y="19"/>
                  </a:lnTo>
                  <a:cubicBezTo>
                    <a:pt x="48" y="17"/>
                    <a:pt x="47" y="14"/>
                    <a:pt x="45" y="12"/>
                  </a:cubicBezTo>
                  <a:lnTo>
                    <a:pt x="29" y="2"/>
                  </a:lnTo>
                  <a:close/>
                </a:path>
              </a:pathLst>
            </a:custGeom>
            <a:solidFill>
              <a:srgbClr val="dede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505480" y="2852640"/>
              <a:ext cx="799920" cy="89388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26" y="2"/>
                  </a:moveTo>
                  <a:cubicBezTo>
                    <a:pt x="24" y="0"/>
                    <a:pt x="22" y="1"/>
                    <a:pt x="20" y="3"/>
                  </a:cubicBezTo>
                  <a:lnTo>
                    <a:pt x="1" y="31"/>
                  </a:lnTo>
                  <a:cubicBezTo>
                    <a:pt x="0" y="33"/>
                    <a:pt x="1" y="36"/>
                    <a:pt x="3" y="37"/>
                  </a:cubicBezTo>
                  <a:lnTo>
                    <a:pt x="18" y="47"/>
                  </a:lnTo>
                  <a:cubicBezTo>
                    <a:pt x="20" y="49"/>
                    <a:pt x="22" y="48"/>
                    <a:pt x="24" y="46"/>
                  </a:cubicBezTo>
                  <a:lnTo>
                    <a:pt x="42" y="18"/>
                  </a:lnTo>
                  <a:cubicBezTo>
                    <a:pt x="44" y="16"/>
                    <a:pt x="43" y="13"/>
                    <a:pt x="41" y="12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e1e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522760" y="2870280"/>
              <a:ext cx="765360" cy="8398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2"/>
                  </a:moveTo>
                  <a:cubicBezTo>
                    <a:pt x="23" y="0"/>
                    <a:pt x="21" y="1"/>
                    <a:pt x="19" y="3"/>
                  </a:cubicBezTo>
                  <a:lnTo>
                    <a:pt x="1" y="29"/>
                  </a:lnTo>
                  <a:cubicBezTo>
                    <a:pt x="0" y="31"/>
                    <a:pt x="1" y="34"/>
                    <a:pt x="3" y="35"/>
                  </a:cubicBezTo>
                  <a:lnTo>
                    <a:pt x="17" y="44"/>
                  </a:lnTo>
                  <a:cubicBezTo>
                    <a:pt x="19" y="46"/>
                    <a:pt x="21" y="45"/>
                    <a:pt x="23" y="43"/>
                  </a:cubicBezTo>
                  <a:lnTo>
                    <a:pt x="40" y="17"/>
                  </a:lnTo>
                  <a:cubicBezTo>
                    <a:pt x="42" y="15"/>
                    <a:pt x="41" y="12"/>
                    <a:pt x="39" y="11"/>
                  </a:cubicBezTo>
                  <a:lnTo>
                    <a:pt x="25" y="2"/>
                  </a:lnTo>
                  <a:close/>
                </a:path>
              </a:pathLst>
            </a:custGeom>
            <a:solidFill>
              <a:srgbClr val="e6e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559480" y="2906640"/>
              <a:ext cx="692280" cy="7668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3" y="2"/>
                  </a:moveTo>
                  <a:cubicBezTo>
                    <a:pt x="21" y="0"/>
                    <a:pt x="19" y="1"/>
                    <a:pt x="18" y="2"/>
                  </a:cubicBezTo>
                  <a:lnTo>
                    <a:pt x="1" y="26"/>
                  </a:lnTo>
                  <a:cubicBezTo>
                    <a:pt x="0" y="28"/>
                    <a:pt x="1" y="31"/>
                    <a:pt x="2" y="32"/>
                  </a:cubicBezTo>
                  <a:lnTo>
                    <a:pt x="15" y="40"/>
                  </a:lnTo>
                  <a:cubicBezTo>
                    <a:pt x="17" y="42"/>
                    <a:pt x="19" y="41"/>
                    <a:pt x="20" y="40"/>
                  </a:cubicBezTo>
                  <a:lnTo>
                    <a:pt x="36" y="16"/>
                  </a:lnTo>
                  <a:cubicBezTo>
                    <a:pt x="38" y="14"/>
                    <a:pt x="37" y="11"/>
                    <a:pt x="36" y="10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e9e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576760" y="2943360"/>
              <a:ext cx="655920" cy="71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2" y="1"/>
                  </a:moveTo>
                  <a:cubicBezTo>
                    <a:pt x="20" y="0"/>
                    <a:pt x="18" y="1"/>
                    <a:pt x="17" y="2"/>
                  </a:cubicBezTo>
                  <a:lnTo>
                    <a:pt x="1" y="25"/>
                  </a:lnTo>
                  <a:cubicBezTo>
                    <a:pt x="0" y="26"/>
                    <a:pt x="1" y="29"/>
                    <a:pt x="2" y="30"/>
                  </a:cubicBezTo>
                  <a:lnTo>
                    <a:pt x="14" y="38"/>
                  </a:lnTo>
                  <a:cubicBezTo>
                    <a:pt x="16" y="39"/>
                    <a:pt x="18" y="38"/>
                    <a:pt x="19" y="37"/>
                  </a:cubicBezTo>
                  <a:lnTo>
                    <a:pt x="34" y="14"/>
                  </a:lnTo>
                  <a:cubicBezTo>
                    <a:pt x="36" y="13"/>
                    <a:pt x="35" y="10"/>
                    <a:pt x="34" y="9"/>
                  </a:cubicBezTo>
                  <a:lnTo>
                    <a:pt x="22" y="1"/>
                  </a:lnTo>
                  <a:close/>
                </a:path>
              </a:pathLst>
            </a:custGeom>
            <a:solidFill>
              <a:srgbClr val="ecec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613480" y="2962440"/>
              <a:ext cx="601560" cy="6555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20" y="1"/>
                  </a:moveTo>
                  <a:cubicBezTo>
                    <a:pt x="18" y="0"/>
                    <a:pt x="16" y="1"/>
                    <a:pt x="15" y="2"/>
                  </a:cubicBezTo>
                  <a:lnTo>
                    <a:pt x="1" y="23"/>
                  </a:lnTo>
                  <a:cubicBezTo>
                    <a:pt x="0" y="24"/>
                    <a:pt x="1" y="26"/>
                    <a:pt x="2" y="27"/>
                  </a:cubicBezTo>
                  <a:lnTo>
                    <a:pt x="13" y="35"/>
                  </a:lnTo>
                  <a:cubicBezTo>
                    <a:pt x="15" y="36"/>
                    <a:pt x="17" y="35"/>
                    <a:pt x="18" y="34"/>
                  </a:cubicBezTo>
                  <a:lnTo>
                    <a:pt x="32" y="13"/>
                  </a:lnTo>
                  <a:cubicBezTo>
                    <a:pt x="33" y="12"/>
                    <a:pt x="32" y="10"/>
                    <a:pt x="31" y="9"/>
                  </a:cubicBezTo>
                  <a:lnTo>
                    <a:pt x="20" y="1"/>
                  </a:lnTo>
                  <a:close/>
                </a:path>
              </a:pathLst>
            </a:custGeom>
            <a:solidFill>
              <a:srgbClr val="efe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632560" y="2998800"/>
              <a:ext cx="546120" cy="601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8" y="1"/>
                  </a:moveTo>
                  <a:cubicBezTo>
                    <a:pt x="17" y="0"/>
                    <a:pt x="15" y="1"/>
                    <a:pt x="14" y="2"/>
                  </a:cubicBezTo>
                  <a:lnTo>
                    <a:pt x="1" y="21"/>
                  </a:lnTo>
                  <a:cubicBezTo>
                    <a:pt x="0" y="22"/>
                    <a:pt x="1" y="24"/>
                    <a:pt x="2" y="25"/>
                  </a:cubicBezTo>
                  <a:lnTo>
                    <a:pt x="12" y="32"/>
                  </a:lnTo>
                  <a:cubicBezTo>
                    <a:pt x="13" y="33"/>
                    <a:pt x="15" y="32"/>
                    <a:pt x="16" y="31"/>
                  </a:cubicBezTo>
                  <a:lnTo>
                    <a:pt x="29" y="12"/>
                  </a:lnTo>
                  <a:cubicBezTo>
                    <a:pt x="30" y="11"/>
                    <a:pt x="29" y="9"/>
                    <a:pt x="28" y="8"/>
                  </a:cubicBezTo>
                  <a:lnTo>
                    <a:pt x="18" y="1"/>
                  </a:lnTo>
                  <a:close/>
                </a:path>
              </a:pathLst>
            </a:custGeom>
            <a:solidFill>
              <a:srgbClr val="f1f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668920" y="3016440"/>
              <a:ext cx="492120" cy="5475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6" y="1"/>
                  </a:moveTo>
                  <a:cubicBezTo>
                    <a:pt x="15" y="0"/>
                    <a:pt x="13" y="1"/>
                    <a:pt x="12" y="2"/>
                  </a:cubicBezTo>
                  <a:lnTo>
                    <a:pt x="1" y="19"/>
                  </a:lnTo>
                  <a:cubicBezTo>
                    <a:pt x="0" y="20"/>
                    <a:pt x="1" y="22"/>
                    <a:pt x="2" y="23"/>
                  </a:cubicBezTo>
                  <a:lnTo>
                    <a:pt x="11" y="29"/>
                  </a:lnTo>
                  <a:cubicBezTo>
                    <a:pt x="12" y="30"/>
                    <a:pt x="14" y="29"/>
                    <a:pt x="15" y="28"/>
                  </a:cubicBezTo>
                  <a:lnTo>
                    <a:pt x="26" y="11"/>
                  </a:lnTo>
                  <a:cubicBezTo>
                    <a:pt x="27" y="10"/>
                    <a:pt x="26" y="8"/>
                    <a:pt x="25" y="7"/>
                  </a:cubicBezTo>
                  <a:lnTo>
                    <a:pt x="16" y="1"/>
                  </a:lnTo>
                  <a:close/>
                </a:path>
              </a:pathLst>
            </a:custGeom>
            <a:solidFill>
              <a:srgbClr val="f3f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686560" y="3052800"/>
              <a:ext cx="438120" cy="4748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14" y="1"/>
                  </a:moveTo>
                  <a:cubicBezTo>
                    <a:pt x="13" y="0"/>
                    <a:pt x="12" y="1"/>
                    <a:pt x="11" y="2"/>
                  </a:cubicBezTo>
                  <a:lnTo>
                    <a:pt x="1" y="16"/>
                  </a:lnTo>
                  <a:cubicBezTo>
                    <a:pt x="0" y="17"/>
                    <a:pt x="1" y="19"/>
                    <a:pt x="2" y="20"/>
                  </a:cubicBezTo>
                  <a:lnTo>
                    <a:pt x="10" y="25"/>
                  </a:lnTo>
                  <a:cubicBezTo>
                    <a:pt x="11" y="26"/>
                    <a:pt x="12" y="25"/>
                    <a:pt x="13" y="24"/>
                  </a:cubicBezTo>
                  <a:lnTo>
                    <a:pt x="23" y="10"/>
                  </a:lnTo>
                  <a:cubicBezTo>
                    <a:pt x="24" y="9"/>
                    <a:pt x="23" y="7"/>
                    <a:pt x="22" y="6"/>
                  </a:cubicBezTo>
                  <a:lnTo>
                    <a:pt x="14" y="1"/>
                  </a:lnTo>
                  <a:close/>
                </a:path>
              </a:pathLst>
            </a:custGeom>
            <a:solidFill>
              <a:srgbClr val="f5f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705640" y="3071880"/>
              <a:ext cx="399960" cy="43668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3" y="1"/>
                  </a:moveTo>
                  <a:cubicBezTo>
                    <a:pt x="12" y="0"/>
                    <a:pt x="11" y="1"/>
                    <a:pt x="10" y="2"/>
                  </a:cubicBezTo>
                  <a:lnTo>
                    <a:pt x="1" y="15"/>
                  </a:lnTo>
                  <a:cubicBezTo>
                    <a:pt x="0" y="16"/>
                    <a:pt x="1" y="17"/>
                    <a:pt x="2" y="18"/>
                  </a:cubicBezTo>
                  <a:lnTo>
                    <a:pt x="9" y="23"/>
                  </a:lnTo>
                  <a:cubicBezTo>
                    <a:pt x="10" y="24"/>
                    <a:pt x="11" y="23"/>
                    <a:pt x="12" y="22"/>
                  </a:cubicBezTo>
                  <a:lnTo>
                    <a:pt x="21" y="9"/>
                  </a:lnTo>
                  <a:cubicBezTo>
                    <a:pt x="22" y="8"/>
                    <a:pt x="21" y="7"/>
                    <a:pt x="20" y="6"/>
                  </a:cubicBezTo>
                  <a:lnTo>
                    <a:pt x="13" y="1"/>
                  </a:lnTo>
                  <a:close/>
                </a:path>
              </a:pathLst>
            </a:custGeom>
            <a:solidFill>
              <a:srgbClr val="f7f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742000" y="3108240"/>
              <a:ext cx="326880" cy="363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"/>
                  </a:moveTo>
                  <a:cubicBezTo>
                    <a:pt x="10" y="0"/>
                    <a:pt x="9" y="1"/>
                    <a:pt x="8" y="1"/>
                  </a:cubicBezTo>
                  <a:lnTo>
                    <a:pt x="1" y="13"/>
                  </a:lnTo>
                  <a:cubicBezTo>
                    <a:pt x="0" y="13"/>
                    <a:pt x="1" y="15"/>
                    <a:pt x="1" y="15"/>
                  </a:cubicBezTo>
                  <a:lnTo>
                    <a:pt x="7" y="19"/>
                  </a:lnTo>
                  <a:cubicBezTo>
                    <a:pt x="8" y="20"/>
                    <a:pt x="9" y="19"/>
                    <a:pt x="10" y="19"/>
                  </a:cubicBezTo>
                  <a:lnTo>
                    <a:pt x="17" y="7"/>
                  </a:lnTo>
                  <a:cubicBezTo>
                    <a:pt x="18" y="7"/>
                    <a:pt x="17" y="5"/>
                    <a:pt x="17" y="5"/>
                  </a:cubicBezTo>
                  <a:lnTo>
                    <a:pt x="11" y="1"/>
                  </a:lnTo>
                  <a:close/>
                </a:path>
              </a:pathLst>
            </a:custGeom>
            <a:solidFill>
              <a:srgbClr val="f9f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759640" y="3144960"/>
              <a:ext cx="291960" cy="3096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0" y="1"/>
                  </a:moveTo>
                  <a:cubicBezTo>
                    <a:pt x="9" y="0"/>
                    <a:pt x="8" y="1"/>
                    <a:pt x="7" y="1"/>
                  </a:cubicBezTo>
                  <a:lnTo>
                    <a:pt x="1" y="11"/>
                  </a:lnTo>
                  <a:cubicBezTo>
                    <a:pt x="0" y="11"/>
                    <a:pt x="1" y="12"/>
                    <a:pt x="1" y="13"/>
                  </a:cubicBezTo>
                  <a:lnTo>
                    <a:pt x="6" y="16"/>
                  </a:lnTo>
                  <a:cubicBezTo>
                    <a:pt x="7" y="17"/>
                    <a:pt x="8" y="16"/>
                    <a:pt x="9" y="16"/>
                  </a:cubicBezTo>
                  <a:lnTo>
                    <a:pt x="15" y="6"/>
                  </a:lnTo>
                  <a:cubicBezTo>
                    <a:pt x="16" y="6"/>
                    <a:pt x="15" y="5"/>
                    <a:pt x="15" y="4"/>
                  </a:cubicBezTo>
                  <a:lnTo>
                    <a:pt x="10" y="1"/>
                  </a:lnTo>
                  <a:close/>
                </a:path>
              </a:pathLst>
            </a:custGeom>
            <a:solidFill>
              <a:srgbClr val="faf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796000" y="3162240"/>
              <a:ext cx="218880" cy="25560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1"/>
                  </a:moveTo>
                  <a:cubicBezTo>
                    <a:pt x="7" y="0"/>
                    <a:pt x="6" y="1"/>
                    <a:pt x="6" y="1"/>
                  </a:cubicBezTo>
                  <a:lnTo>
                    <a:pt x="1" y="9"/>
                  </a:lnTo>
                  <a:cubicBezTo>
                    <a:pt x="0" y="9"/>
                    <a:pt x="1" y="10"/>
                    <a:pt x="1" y="10"/>
                  </a:cubicBezTo>
                  <a:lnTo>
                    <a:pt x="5" y="13"/>
                  </a:lnTo>
                  <a:cubicBezTo>
                    <a:pt x="5" y="14"/>
                    <a:pt x="6" y="13"/>
                    <a:pt x="6" y="13"/>
                  </a:cubicBezTo>
                  <a:lnTo>
                    <a:pt x="11" y="5"/>
                  </a:lnTo>
                  <a:cubicBezTo>
                    <a:pt x="12" y="5"/>
                    <a:pt x="11" y="4"/>
                    <a:pt x="11" y="4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fbfb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815080" y="3198960"/>
              <a:ext cx="181080" cy="182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1"/>
                  </a:moveTo>
                  <a:cubicBezTo>
                    <a:pt x="5" y="0"/>
                    <a:pt x="5" y="1"/>
                    <a:pt x="5" y="1"/>
                  </a:cubicBezTo>
                  <a:lnTo>
                    <a:pt x="1" y="6"/>
                  </a:lnTo>
                  <a:cubicBezTo>
                    <a:pt x="0" y="7"/>
                    <a:pt x="1" y="7"/>
                    <a:pt x="1" y="7"/>
                  </a:cubicBezTo>
                  <a:lnTo>
                    <a:pt x="4" y="9"/>
                  </a:lnTo>
                  <a:cubicBezTo>
                    <a:pt x="5" y="10"/>
                    <a:pt x="5" y="9"/>
                    <a:pt x="5" y="9"/>
                  </a:cubicBezTo>
                  <a:lnTo>
                    <a:pt x="9" y="4"/>
                  </a:lnTo>
                  <a:cubicBezTo>
                    <a:pt x="10" y="3"/>
                    <a:pt x="9" y="3"/>
                    <a:pt x="9" y="3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fcfc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851440" y="3218040"/>
              <a:ext cx="108000" cy="14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1"/>
                  </a:moveTo>
                  <a:cubicBezTo>
                    <a:pt x="3" y="0"/>
                    <a:pt x="3" y="1"/>
                    <a:pt x="3" y="1"/>
                  </a:cubicBezTo>
                  <a:lnTo>
                    <a:pt x="1" y="5"/>
                  </a:lnTo>
                  <a:cubicBezTo>
                    <a:pt x="0" y="5"/>
                    <a:pt x="1" y="6"/>
                    <a:pt x="1" y="6"/>
                  </a:cubicBezTo>
                  <a:lnTo>
                    <a:pt x="2" y="7"/>
                  </a:lnTo>
                  <a:cubicBezTo>
                    <a:pt x="3" y="8"/>
                    <a:pt x="3" y="7"/>
                    <a:pt x="3" y="7"/>
                  </a:cubicBezTo>
                  <a:lnTo>
                    <a:pt x="5" y="3"/>
                  </a:lnTo>
                  <a:cubicBezTo>
                    <a:pt x="6" y="3"/>
                    <a:pt x="5" y="2"/>
                    <a:pt x="5" y="2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fdf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869080" y="3252960"/>
              <a:ext cx="73080" cy="727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1"/>
                  </a:moveTo>
                  <a:cubicBezTo>
                    <a:pt x="2" y="0"/>
                    <a:pt x="2" y="1"/>
                    <a:pt x="2" y="1"/>
                  </a:cubicBezTo>
                  <a:lnTo>
                    <a:pt x="1" y="2"/>
                  </a:lnTo>
                  <a:cubicBezTo>
                    <a:pt x="0" y="3"/>
                    <a:pt x="1" y="3"/>
                    <a:pt x="1" y="3"/>
                  </a:cubicBezTo>
                  <a:lnTo>
                    <a:pt x="2" y="3"/>
                  </a:lnTo>
                  <a:cubicBezTo>
                    <a:pt x="2" y="4"/>
                    <a:pt x="2" y="3"/>
                    <a:pt x="2" y="3"/>
                  </a:cubicBezTo>
                  <a:lnTo>
                    <a:pt x="3" y="2"/>
                  </a:lnTo>
                  <a:cubicBezTo>
                    <a:pt x="4" y="1"/>
                    <a:pt x="3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efe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9" name=""/>
          <p:cNvSpPr/>
          <p:nvPr/>
        </p:nvSpPr>
        <p:spPr>
          <a:xfrm>
            <a:off x="3917880" y="4889520"/>
            <a:ext cx="1800" cy="399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699000" y="4780080"/>
            <a:ext cx="218880" cy="126720"/>
          </a:xfrm>
          <a:custGeom>
            <a:avLst/>
            <a:gdLst/>
            <a:ahLst/>
            <a:rect l="l" t="t" r="r" b="b"/>
            <a:pathLst>
              <a:path w="138" h="80">
                <a:moveTo>
                  <a:pt x="0" y="0"/>
                </a:moveTo>
                <a:lnTo>
                  <a:pt x="34" y="34"/>
                </a:lnTo>
                <a:lnTo>
                  <a:pt x="69" y="69"/>
                </a:lnTo>
                <a:lnTo>
                  <a:pt x="92" y="80"/>
                </a:lnTo>
                <a:lnTo>
                  <a:pt x="103" y="80"/>
                </a:lnTo>
                <a:lnTo>
                  <a:pt x="126" y="80"/>
                </a:lnTo>
                <a:lnTo>
                  <a:pt x="138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971880" y="5035680"/>
            <a:ext cx="1800" cy="399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3043080" y="4889520"/>
            <a:ext cx="1800" cy="399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824200" y="4816440"/>
            <a:ext cx="236520" cy="90360"/>
          </a:xfrm>
          <a:custGeom>
            <a:avLst/>
            <a:gdLst/>
            <a:ahLst/>
            <a:rect l="l" t="t" r="r" b="b"/>
            <a:pathLst>
              <a:path w="149" h="57">
                <a:moveTo>
                  <a:pt x="0" y="0"/>
                </a:moveTo>
                <a:lnTo>
                  <a:pt x="35" y="23"/>
                </a:lnTo>
                <a:lnTo>
                  <a:pt x="81" y="46"/>
                </a:lnTo>
                <a:lnTo>
                  <a:pt x="92" y="57"/>
                </a:lnTo>
                <a:lnTo>
                  <a:pt x="115" y="57"/>
                </a:lnTo>
                <a:lnTo>
                  <a:pt x="138" y="57"/>
                </a:lnTo>
                <a:lnTo>
                  <a:pt x="149" y="57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097080" y="5052960"/>
            <a:ext cx="19080" cy="40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5" name=""/>
          <p:cNvGrpSpPr/>
          <p:nvPr/>
        </p:nvGrpSpPr>
        <p:grpSpPr>
          <a:xfrm>
            <a:off x="2286000" y="5445000"/>
            <a:ext cx="3533760" cy="291960"/>
            <a:chOff x="2286000" y="5445000"/>
            <a:chExt cx="3533760" cy="291960"/>
          </a:xfrm>
        </p:grpSpPr>
        <p:sp>
          <p:nvSpPr>
            <p:cNvPr id="2806" name=""/>
            <p:cNvSpPr/>
            <p:nvPr/>
          </p:nvSpPr>
          <p:spPr>
            <a:xfrm>
              <a:off x="2286000" y="5445000"/>
              <a:ext cx="3533760" cy="19080"/>
            </a:xfrm>
            <a:prstGeom prst="rect">
              <a:avLst/>
            </a:prstGeom>
            <a:solidFill>
              <a:srgbClr val="fdc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286000" y="5464080"/>
              <a:ext cx="3533760" cy="36360"/>
            </a:xfrm>
            <a:prstGeom prst="rect">
              <a:avLst/>
            </a:prstGeom>
            <a:solidFill>
              <a:srgbClr val="f9c7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286000" y="5500440"/>
              <a:ext cx="3533760" cy="17640"/>
            </a:xfrm>
            <a:prstGeom prst="rect">
              <a:avLst/>
            </a:prstGeom>
            <a:solidFill>
              <a:srgbClr val="f0c0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286000" y="5518080"/>
              <a:ext cx="3533760" cy="19080"/>
            </a:xfrm>
            <a:prstGeom prst="rect">
              <a:avLst/>
            </a:prstGeom>
            <a:solidFill>
              <a:srgbClr val="e7b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286000" y="5537160"/>
              <a:ext cx="3533760" cy="36360"/>
            </a:xfrm>
            <a:prstGeom prst="rect">
              <a:avLst/>
            </a:prstGeom>
            <a:solidFill>
              <a:srgbClr val="d5a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286000" y="5573520"/>
              <a:ext cx="3533760" cy="17640"/>
            </a:xfrm>
            <a:prstGeom prst="rect">
              <a:avLst/>
            </a:prstGeom>
            <a:solidFill>
              <a:srgbClr val="bc9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286000" y="5591160"/>
              <a:ext cx="3533760" cy="19080"/>
            </a:xfrm>
            <a:prstGeom prst="rect">
              <a:avLst/>
            </a:prstGeom>
            <a:solidFill>
              <a:srgbClr val="a987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286000" y="5610240"/>
              <a:ext cx="3533760" cy="36360"/>
            </a:xfrm>
            <a:prstGeom prst="rect">
              <a:avLst/>
            </a:prstGeom>
            <a:solidFill>
              <a:srgbClr val="8a6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286000" y="5646600"/>
              <a:ext cx="3533760" cy="17280"/>
            </a:xfrm>
            <a:prstGeom prst="rect">
              <a:avLst/>
            </a:prstGeom>
            <a:solidFill>
              <a:srgbClr val="6a5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286000" y="5663880"/>
              <a:ext cx="3533760" cy="19080"/>
            </a:xfrm>
            <a:prstGeom prst="rect">
              <a:avLst/>
            </a:prstGeom>
            <a:solidFill>
              <a:srgbClr val="544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286000" y="5682960"/>
              <a:ext cx="3533760" cy="34920"/>
            </a:xfrm>
            <a:prstGeom prst="rect">
              <a:avLst/>
            </a:prstGeom>
            <a:solidFill>
              <a:srgbClr val="352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286000" y="5717880"/>
              <a:ext cx="3533760" cy="19080"/>
            </a:xfrm>
            <a:prstGeom prst="rect">
              <a:avLst/>
            </a:prstGeom>
            <a:solidFill>
              <a:srgbClr val="151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8" name=""/>
          <p:cNvSpPr/>
          <p:nvPr/>
        </p:nvSpPr>
        <p:spPr>
          <a:xfrm>
            <a:off x="3589200" y="5454720"/>
            <a:ext cx="947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3294720" y="5872320"/>
            <a:ext cx="165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la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0" name=""/>
          <p:cNvGrpSpPr/>
          <p:nvPr/>
        </p:nvGrpSpPr>
        <p:grpSpPr>
          <a:xfrm>
            <a:off x="4118040" y="4651200"/>
            <a:ext cx="147600" cy="238320"/>
            <a:chOff x="4118040" y="4651200"/>
            <a:chExt cx="147600" cy="238320"/>
          </a:xfrm>
        </p:grpSpPr>
        <p:sp>
          <p:nvSpPr>
            <p:cNvPr id="2821" name=""/>
            <p:cNvSpPr/>
            <p:nvPr/>
          </p:nvSpPr>
          <p:spPr>
            <a:xfrm>
              <a:off x="4118040" y="4651200"/>
              <a:ext cx="146160" cy="128880"/>
            </a:xfrm>
            <a:custGeom>
              <a:avLst/>
              <a:gdLst/>
              <a:ahLst/>
              <a:rect l="l" t="t" r="r" b="b"/>
              <a:pathLst>
                <a:path w="92" h="81">
                  <a:moveTo>
                    <a:pt x="0" y="81"/>
                  </a:moveTo>
                  <a:lnTo>
                    <a:pt x="57" y="35"/>
                  </a:lnTo>
                  <a:lnTo>
                    <a:pt x="80" y="12"/>
                  </a:lnTo>
                  <a:lnTo>
                    <a:pt x="92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264200" y="4651200"/>
              <a:ext cx="1440" cy="238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3" name=""/>
          <p:cNvGrpSpPr/>
          <p:nvPr/>
        </p:nvGrpSpPr>
        <p:grpSpPr>
          <a:xfrm>
            <a:off x="4332240" y="4181400"/>
            <a:ext cx="128520" cy="327240"/>
            <a:chOff x="4332240" y="4181400"/>
            <a:chExt cx="128520" cy="327240"/>
          </a:xfrm>
        </p:grpSpPr>
        <p:sp>
          <p:nvSpPr>
            <p:cNvPr id="2824" name=""/>
            <p:cNvSpPr/>
            <p:nvPr/>
          </p:nvSpPr>
          <p:spPr>
            <a:xfrm>
              <a:off x="4332240" y="4181400"/>
              <a:ext cx="1440" cy="236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332240" y="4400640"/>
              <a:ext cx="128520" cy="10800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0"/>
                  </a:moveTo>
                  <a:lnTo>
                    <a:pt x="46" y="45"/>
                  </a:lnTo>
                  <a:lnTo>
                    <a:pt x="69" y="57"/>
                  </a:lnTo>
                  <a:lnTo>
                    <a:pt x="81" y="6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6" name=""/>
          <p:cNvSpPr/>
          <p:nvPr/>
        </p:nvSpPr>
        <p:spPr>
          <a:xfrm flipV="1">
            <a:off x="4336920" y="3144600"/>
            <a:ext cx="746280" cy="1076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7" name=""/>
          <p:cNvGrpSpPr/>
          <p:nvPr/>
        </p:nvGrpSpPr>
        <p:grpSpPr>
          <a:xfrm>
            <a:off x="5811840" y="4633920"/>
            <a:ext cx="146160" cy="236520"/>
            <a:chOff x="5811840" y="4633920"/>
            <a:chExt cx="146160" cy="236520"/>
          </a:xfrm>
        </p:grpSpPr>
        <p:sp>
          <p:nvSpPr>
            <p:cNvPr id="2828" name=""/>
            <p:cNvSpPr/>
            <p:nvPr/>
          </p:nvSpPr>
          <p:spPr>
            <a:xfrm>
              <a:off x="5811840" y="4651200"/>
              <a:ext cx="144360" cy="128880"/>
            </a:xfrm>
            <a:custGeom>
              <a:avLst/>
              <a:gdLst/>
              <a:ahLst/>
              <a:rect l="l" t="t" r="r" b="b"/>
              <a:pathLst>
                <a:path w="91" h="81">
                  <a:moveTo>
                    <a:pt x="0" y="81"/>
                  </a:moveTo>
                  <a:lnTo>
                    <a:pt x="57" y="23"/>
                  </a:lnTo>
                  <a:lnTo>
                    <a:pt x="80" y="12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956200" y="4633920"/>
              <a:ext cx="1800" cy="236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0" name=""/>
          <p:cNvGrpSpPr/>
          <p:nvPr/>
        </p:nvGrpSpPr>
        <p:grpSpPr>
          <a:xfrm>
            <a:off x="6114960" y="4221000"/>
            <a:ext cx="128520" cy="328680"/>
            <a:chOff x="6114960" y="4221000"/>
            <a:chExt cx="128520" cy="328680"/>
          </a:xfrm>
        </p:grpSpPr>
        <p:sp>
          <p:nvSpPr>
            <p:cNvPr id="2831" name=""/>
            <p:cNvSpPr/>
            <p:nvPr/>
          </p:nvSpPr>
          <p:spPr>
            <a:xfrm>
              <a:off x="6114960" y="4221000"/>
              <a:ext cx="1440" cy="255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114960" y="4459320"/>
              <a:ext cx="128520" cy="9036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0" y="0"/>
                  </a:moveTo>
                  <a:lnTo>
                    <a:pt x="46" y="34"/>
                  </a:lnTo>
                  <a:lnTo>
                    <a:pt x="69" y="45"/>
                  </a:lnTo>
                  <a:lnTo>
                    <a:pt x="81" y="57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3" name=""/>
          <p:cNvSpPr/>
          <p:nvPr/>
        </p:nvSpPr>
        <p:spPr>
          <a:xfrm flipV="1">
            <a:off x="6097680" y="3164040"/>
            <a:ext cx="747720" cy="1056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 rot="2523000">
            <a:off x="2065320" y="3933720"/>
            <a:ext cx="11080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146960" y="3789360"/>
            <a:ext cx="147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VH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629400" y="4191120"/>
            <a:ext cx="1384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7711560" y="3573360"/>
            <a:ext cx="189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Sondes ci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841400" y="4797360"/>
            <a:ext cx="81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290960" y="4719600"/>
            <a:ext cx="10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093680" y="5013360"/>
            <a:ext cx="144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cap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6794640" y="3703680"/>
            <a:ext cx="1220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10080" y="5578560"/>
            <a:ext cx="2662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Son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pré-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mplifi</a:t>
            </a: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c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390920" y="5089680"/>
            <a:ext cx="182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793760" y="5068800"/>
            <a:ext cx="147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ndes A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5" name=""/>
          <p:cNvGrpSpPr/>
          <p:nvPr/>
        </p:nvGrpSpPr>
        <p:grpSpPr>
          <a:xfrm>
            <a:off x="4113360" y="5157720"/>
            <a:ext cx="381960" cy="127080"/>
            <a:chOff x="4113360" y="5157720"/>
            <a:chExt cx="381960" cy="127080"/>
          </a:xfrm>
        </p:grpSpPr>
        <p:sp>
          <p:nvSpPr>
            <p:cNvPr id="2846" name=""/>
            <p:cNvSpPr/>
            <p:nvPr/>
          </p:nvSpPr>
          <p:spPr>
            <a:xfrm flipH="1">
              <a:off x="4168440" y="5230800"/>
              <a:ext cx="32688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113360" y="5157720"/>
              <a:ext cx="12816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81" y="0"/>
                  </a:moveTo>
                  <a:lnTo>
                    <a:pt x="0" y="46"/>
                  </a:lnTo>
                  <a:lnTo>
                    <a:pt x="81" y="80"/>
                  </a:lnTo>
                  <a:lnTo>
                    <a:pt x="58" y="4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8" name=""/>
          <p:cNvGrpSpPr/>
          <p:nvPr/>
        </p:nvGrpSpPr>
        <p:grpSpPr>
          <a:xfrm>
            <a:off x="2660760" y="4925880"/>
            <a:ext cx="291960" cy="127080"/>
            <a:chOff x="2660760" y="4925880"/>
            <a:chExt cx="291960" cy="127080"/>
          </a:xfrm>
        </p:grpSpPr>
        <p:sp>
          <p:nvSpPr>
            <p:cNvPr id="2849" name=""/>
            <p:cNvSpPr/>
            <p:nvPr/>
          </p:nvSpPr>
          <p:spPr>
            <a:xfrm>
              <a:off x="2660760" y="4979880"/>
              <a:ext cx="23652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824200" y="492588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80"/>
                  </a:moveTo>
                  <a:lnTo>
                    <a:pt x="81" y="34"/>
                  </a:lnTo>
                  <a:lnTo>
                    <a:pt x="0" y="0"/>
                  </a:lnTo>
                  <a:lnTo>
                    <a:pt x="23" y="3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1" name=""/>
          <p:cNvGrpSpPr/>
          <p:nvPr/>
        </p:nvGrpSpPr>
        <p:grpSpPr>
          <a:xfrm>
            <a:off x="2303640" y="4243320"/>
            <a:ext cx="307440" cy="311760"/>
            <a:chOff x="2303640" y="4243320"/>
            <a:chExt cx="307440" cy="311760"/>
          </a:xfrm>
        </p:grpSpPr>
        <p:sp>
          <p:nvSpPr>
            <p:cNvPr id="2852" name=""/>
            <p:cNvSpPr/>
            <p:nvPr/>
          </p:nvSpPr>
          <p:spPr>
            <a:xfrm>
              <a:off x="2359440" y="4243320"/>
              <a:ext cx="123840" cy="16416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9435200">
              <a:off x="2332080" y="4320000"/>
              <a:ext cx="250560" cy="1782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0"/>
                  </a:moveTo>
                  <a:lnTo>
                    <a:pt x="46" y="80"/>
                  </a:lnTo>
                  <a:lnTo>
                    <a:pt x="80" y="0"/>
                  </a:lnTo>
                  <a:lnTo>
                    <a:pt x="4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4" name=""/>
          <p:cNvGrpSpPr/>
          <p:nvPr/>
        </p:nvGrpSpPr>
        <p:grpSpPr>
          <a:xfrm>
            <a:off x="6519960" y="3718080"/>
            <a:ext cx="731160" cy="142200"/>
            <a:chOff x="6519960" y="3718080"/>
            <a:chExt cx="731160" cy="142200"/>
          </a:xfrm>
        </p:grpSpPr>
        <p:sp>
          <p:nvSpPr>
            <p:cNvPr id="2855" name=""/>
            <p:cNvSpPr/>
            <p:nvPr/>
          </p:nvSpPr>
          <p:spPr>
            <a:xfrm flipH="1">
              <a:off x="6634080" y="3799800"/>
              <a:ext cx="617040" cy="1440"/>
            </a:xfrm>
            <a:prstGeom prst="line">
              <a:avLst/>
            </a:prstGeom>
            <a:ln w="176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519960" y="3718080"/>
              <a:ext cx="268560" cy="1422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0"/>
                  </a:moveTo>
                  <a:lnTo>
                    <a:pt x="0" y="46"/>
                  </a:lnTo>
                  <a:lnTo>
                    <a:pt x="80" y="80"/>
                  </a:lnTo>
                  <a:lnTo>
                    <a:pt x="57" y="4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7" name=""/>
          <p:cNvSpPr/>
          <p:nvPr/>
        </p:nvSpPr>
        <p:spPr>
          <a:xfrm>
            <a:off x="4537080" y="1808280"/>
            <a:ext cx="15858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926520" y="1143000"/>
            <a:ext cx="2980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des amplificat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587040" y="1447920"/>
            <a:ext cx="367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c sondes de marqua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0" name=""/>
          <p:cNvGrpSpPr/>
          <p:nvPr/>
        </p:nvGrpSpPr>
        <p:grpSpPr>
          <a:xfrm>
            <a:off x="5334120" y="2286000"/>
            <a:ext cx="435960" cy="236520"/>
            <a:chOff x="5334120" y="2286000"/>
            <a:chExt cx="435960" cy="236520"/>
          </a:xfrm>
        </p:grpSpPr>
        <p:sp>
          <p:nvSpPr>
            <p:cNvPr id="2861" name=""/>
            <p:cNvSpPr/>
            <p:nvPr/>
          </p:nvSpPr>
          <p:spPr>
            <a:xfrm>
              <a:off x="5334120" y="2286000"/>
              <a:ext cx="399600" cy="199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624280" y="2414520"/>
              <a:ext cx="145800" cy="108000"/>
            </a:xfrm>
            <a:custGeom>
              <a:avLst/>
              <a:gdLst/>
              <a:ahLst/>
              <a:rect l="l" t="t" r="r" b="b"/>
              <a:pathLst>
                <a:path w="92" h="68">
                  <a:moveTo>
                    <a:pt x="0" y="68"/>
                  </a:moveTo>
                  <a:lnTo>
                    <a:pt x="92" y="68"/>
                  </a:lnTo>
                  <a:lnTo>
                    <a:pt x="35" y="0"/>
                  </a:lnTo>
                  <a:lnTo>
                    <a:pt x="46" y="45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3" name=""/>
          <p:cNvGrpSpPr/>
          <p:nvPr/>
        </p:nvGrpSpPr>
        <p:grpSpPr>
          <a:xfrm>
            <a:off x="4876920" y="2286000"/>
            <a:ext cx="435960" cy="236520"/>
            <a:chOff x="4876920" y="2286000"/>
            <a:chExt cx="435960" cy="236520"/>
          </a:xfrm>
        </p:grpSpPr>
        <p:sp>
          <p:nvSpPr>
            <p:cNvPr id="2864" name=""/>
            <p:cNvSpPr/>
            <p:nvPr/>
          </p:nvSpPr>
          <p:spPr>
            <a:xfrm flipH="1">
              <a:off x="4913280" y="2286000"/>
              <a:ext cx="399600" cy="199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876920" y="239544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46" y="0"/>
                  </a:moveTo>
                  <a:lnTo>
                    <a:pt x="0" y="80"/>
                  </a:lnTo>
                  <a:lnTo>
                    <a:pt x="92" y="80"/>
                  </a:lnTo>
                  <a:lnTo>
                    <a:pt x="46" y="5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6" name=""/>
          <p:cNvSpPr/>
          <p:nvPr/>
        </p:nvSpPr>
        <p:spPr>
          <a:xfrm>
            <a:off x="2643120" y="4541760"/>
            <a:ext cx="3824280" cy="292320"/>
          </a:xfrm>
          <a:custGeom>
            <a:avLst/>
            <a:gdLst/>
            <a:ahLst/>
            <a:rect l="l" t="t" r="r" b="b"/>
            <a:pathLst>
              <a:path w="2409" h="184">
                <a:moveTo>
                  <a:pt x="0" y="0"/>
                </a:moveTo>
                <a:lnTo>
                  <a:pt x="68" y="69"/>
                </a:lnTo>
                <a:lnTo>
                  <a:pt x="126" y="127"/>
                </a:lnTo>
                <a:lnTo>
                  <a:pt x="160" y="150"/>
                </a:lnTo>
                <a:lnTo>
                  <a:pt x="195" y="161"/>
                </a:lnTo>
                <a:lnTo>
                  <a:pt x="229" y="173"/>
                </a:lnTo>
                <a:lnTo>
                  <a:pt x="263" y="173"/>
                </a:lnTo>
                <a:lnTo>
                  <a:pt x="298" y="173"/>
                </a:lnTo>
                <a:lnTo>
                  <a:pt x="332" y="150"/>
                </a:lnTo>
                <a:lnTo>
                  <a:pt x="367" y="127"/>
                </a:lnTo>
                <a:lnTo>
                  <a:pt x="401" y="92"/>
                </a:lnTo>
                <a:lnTo>
                  <a:pt x="436" y="58"/>
                </a:lnTo>
                <a:lnTo>
                  <a:pt x="470" y="23"/>
                </a:lnTo>
                <a:lnTo>
                  <a:pt x="504" y="12"/>
                </a:lnTo>
                <a:lnTo>
                  <a:pt x="539" y="0"/>
                </a:lnTo>
                <a:lnTo>
                  <a:pt x="573" y="12"/>
                </a:lnTo>
                <a:lnTo>
                  <a:pt x="608" y="23"/>
                </a:lnTo>
                <a:lnTo>
                  <a:pt x="642" y="58"/>
                </a:lnTo>
                <a:lnTo>
                  <a:pt x="676" y="92"/>
                </a:lnTo>
                <a:lnTo>
                  <a:pt x="699" y="127"/>
                </a:lnTo>
                <a:lnTo>
                  <a:pt x="734" y="150"/>
                </a:lnTo>
                <a:lnTo>
                  <a:pt x="768" y="173"/>
                </a:lnTo>
                <a:lnTo>
                  <a:pt x="803" y="173"/>
                </a:lnTo>
                <a:lnTo>
                  <a:pt x="837" y="173"/>
                </a:lnTo>
                <a:lnTo>
                  <a:pt x="860" y="150"/>
                </a:lnTo>
                <a:lnTo>
                  <a:pt x="894" y="115"/>
                </a:lnTo>
                <a:lnTo>
                  <a:pt x="929" y="92"/>
                </a:lnTo>
                <a:lnTo>
                  <a:pt x="963" y="58"/>
                </a:lnTo>
                <a:lnTo>
                  <a:pt x="998" y="23"/>
                </a:lnTo>
                <a:lnTo>
                  <a:pt x="1032" y="0"/>
                </a:lnTo>
                <a:lnTo>
                  <a:pt x="1066" y="0"/>
                </a:lnTo>
                <a:lnTo>
                  <a:pt x="1101" y="0"/>
                </a:lnTo>
                <a:lnTo>
                  <a:pt x="1135" y="23"/>
                </a:lnTo>
                <a:lnTo>
                  <a:pt x="1170" y="58"/>
                </a:lnTo>
                <a:lnTo>
                  <a:pt x="1204" y="92"/>
                </a:lnTo>
                <a:lnTo>
                  <a:pt x="1239" y="115"/>
                </a:lnTo>
                <a:lnTo>
                  <a:pt x="1273" y="150"/>
                </a:lnTo>
                <a:lnTo>
                  <a:pt x="1296" y="173"/>
                </a:lnTo>
                <a:lnTo>
                  <a:pt x="1330" y="173"/>
                </a:lnTo>
                <a:lnTo>
                  <a:pt x="1365" y="173"/>
                </a:lnTo>
                <a:lnTo>
                  <a:pt x="1399" y="150"/>
                </a:lnTo>
                <a:lnTo>
                  <a:pt x="1434" y="115"/>
                </a:lnTo>
                <a:lnTo>
                  <a:pt x="1468" y="92"/>
                </a:lnTo>
                <a:lnTo>
                  <a:pt x="1502" y="58"/>
                </a:lnTo>
                <a:lnTo>
                  <a:pt x="1537" y="23"/>
                </a:lnTo>
                <a:lnTo>
                  <a:pt x="1571" y="0"/>
                </a:lnTo>
                <a:lnTo>
                  <a:pt x="1606" y="0"/>
                </a:lnTo>
                <a:lnTo>
                  <a:pt x="1640" y="0"/>
                </a:lnTo>
                <a:lnTo>
                  <a:pt x="1663" y="23"/>
                </a:lnTo>
                <a:lnTo>
                  <a:pt x="1697" y="58"/>
                </a:lnTo>
                <a:lnTo>
                  <a:pt x="1732" y="92"/>
                </a:lnTo>
                <a:lnTo>
                  <a:pt x="1766" y="115"/>
                </a:lnTo>
                <a:lnTo>
                  <a:pt x="1801" y="150"/>
                </a:lnTo>
                <a:lnTo>
                  <a:pt x="1835" y="173"/>
                </a:lnTo>
                <a:lnTo>
                  <a:pt x="1869" y="173"/>
                </a:lnTo>
                <a:lnTo>
                  <a:pt x="1904" y="173"/>
                </a:lnTo>
                <a:lnTo>
                  <a:pt x="1938" y="150"/>
                </a:lnTo>
                <a:lnTo>
                  <a:pt x="1973" y="115"/>
                </a:lnTo>
                <a:lnTo>
                  <a:pt x="2007" y="92"/>
                </a:lnTo>
                <a:lnTo>
                  <a:pt x="2030" y="58"/>
                </a:lnTo>
                <a:lnTo>
                  <a:pt x="2065" y="23"/>
                </a:lnTo>
                <a:lnTo>
                  <a:pt x="2099" y="0"/>
                </a:lnTo>
                <a:lnTo>
                  <a:pt x="2133" y="0"/>
                </a:lnTo>
                <a:lnTo>
                  <a:pt x="2168" y="0"/>
                </a:lnTo>
                <a:lnTo>
                  <a:pt x="2214" y="23"/>
                </a:lnTo>
                <a:lnTo>
                  <a:pt x="2248" y="46"/>
                </a:lnTo>
                <a:lnTo>
                  <a:pt x="2282" y="81"/>
                </a:lnTo>
                <a:lnTo>
                  <a:pt x="2317" y="115"/>
                </a:lnTo>
                <a:lnTo>
                  <a:pt x="2351" y="138"/>
                </a:lnTo>
                <a:lnTo>
                  <a:pt x="2386" y="161"/>
                </a:lnTo>
                <a:lnTo>
                  <a:pt x="2409" y="1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1165320" y="5954760"/>
            <a:ext cx="3585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346200" y="6172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VERSANT</a:t>
            </a:r>
            <a:r>
              <a:rPr b="1" lang="en-US" sz="3000" spc="-1" strike="noStrike" baseline="30000">
                <a:solidFill>
                  <a:srgbClr val="ffff66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 HBV DNA v1.0 Assay (bDNA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70" name=""/>
          <p:cNvGrpSpPr/>
          <p:nvPr/>
        </p:nvGrpSpPr>
        <p:grpSpPr>
          <a:xfrm>
            <a:off x="3524400" y="2637000"/>
            <a:ext cx="1473840" cy="1621800"/>
            <a:chOff x="3524400" y="2637000"/>
            <a:chExt cx="1473840" cy="1621800"/>
          </a:xfrm>
        </p:grpSpPr>
        <p:grpSp>
          <p:nvGrpSpPr>
            <p:cNvPr id="2871" name=""/>
            <p:cNvGrpSpPr/>
            <p:nvPr/>
          </p:nvGrpSpPr>
          <p:grpSpPr>
            <a:xfrm>
              <a:off x="3541320" y="3638520"/>
              <a:ext cx="745560" cy="546840"/>
              <a:chOff x="3541320" y="3638520"/>
              <a:chExt cx="745560" cy="546840"/>
            </a:xfrm>
          </p:grpSpPr>
          <p:grpSp>
            <p:nvGrpSpPr>
              <p:cNvPr id="2872" name=""/>
              <p:cNvGrpSpPr/>
              <p:nvPr/>
            </p:nvGrpSpPr>
            <p:grpSpPr>
              <a:xfrm>
                <a:off x="3541320" y="3638520"/>
                <a:ext cx="72720" cy="72360"/>
                <a:chOff x="3541320" y="3638520"/>
                <a:chExt cx="72720" cy="72360"/>
              </a:xfrm>
            </p:grpSpPr>
            <p:sp>
              <p:nvSpPr>
                <p:cNvPr id="2873" name=""/>
                <p:cNvSpPr/>
                <p:nvPr/>
              </p:nvSpPr>
              <p:spPr>
                <a:xfrm>
                  <a:off x="3541320" y="36385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3541320" y="36385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5" name=""/>
              <p:cNvGrpSpPr/>
              <p:nvPr/>
            </p:nvGrpSpPr>
            <p:grpSpPr>
              <a:xfrm>
                <a:off x="3577680" y="3674520"/>
                <a:ext cx="90000" cy="72720"/>
                <a:chOff x="3577680" y="3674520"/>
                <a:chExt cx="90000" cy="72720"/>
              </a:xfrm>
            </p:grpSpPr>
            <p:sp>
              <p:nvSpPr>
                <p:cNvPr id="2876" name=""/>
                <p:cNvSpPr/>
                <p:nvPr/>
              </p:nvSpPr>
              <p:spPr>
                <a:xfrm>
                  <a:off x="3577680" y="36745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3577680" y="36745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8" name=""/>
              <p:cNvGrpSpPr/>
              <p:nvPr/>
            </p:nvGrpSpPr>
            <p:grpSpPr>
              <a:xfrm>
                <a:off x="3631680" y="3710880"/>
                <a:ext cx="91800" cy="72720"/>
                <a:chOff x="3631680" y="3710880"/>
                <a:chExt cx="91800" cy="72720"/>
              </a:xfrm>
            </p:grpSpPr>
            <p:sp>
              <p:nvSpPr>
                <p:cNvPr id="2879" name=""/>
                <p:cNvSpPr/>
                <p:nvPr/>
              </p:nvSpPr>
              <p:spPr>
                <a:xfrm>
                  <a:off x="3631680" y="37108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3631680" y="371088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1" name=""/>
              <p:cNvGrpSpPr/>
              <p:nvPr/>
            </p:nvGrpSpPr>
            <p:grpSpPr>
              <a:xfrm>
                <a:off x="3687120" y="3747600"/>
                <a:ext cx="90000" cy="72720"/>
                <a:chOff x="3687120" y="3747600"/>
                <a:chExt cx="90000" cy="72720"/>
              </a:xfrm>
            </p:grpSpPr>
            <p:sp>
              <p:nvSpPr>
                <p:cNvPr id="2882" name=""/>
                <p:cNvSpPr/>
                <p:nvPr/>
              </p:nvSpPr>
              <p:spPr>
                <a:xfrm>
                  <a:off x="3687120" y="37476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3687120" y="3747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4" name=""/>
              <p:cNvGrpSpPr/>
              <p:nvPr/>
            </p:nvGrpSpPr>
            <p:grpSpPr>
              <a:xfrm>
                <a:off x="3741120" y="3783960"/>
                <a:ext cx="72720" cy="72720"/>
                <a:chOff x="3741120" y="3783960"/>
                <a:chExt cx="72720" cy="72720"/>
              </a:xfrm>
            </p:grpSpPr>
            <p:sp>
              <p:nvSpPr>
                <p:cNvPr id="2885" name=""/>
                <p:cNvSpPr/>
                <p:nvPr/>
              </p:nvSpPr>
              <p:spPr>
                <a:xfrm>
                  <a:off x="3741120" y="3783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3741120" y="37839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7" name=""/>
              <p:cNvGrpSpPr/>
              <p:nvPr/>
            </p:nvGrpSpPr>
            <p:grpSpPr>
              <a:xfrm>
                <a:off x="3796560" y="3820680"/>
                <a:ext cx="72720" cy="72720"/>
                <a:chOff x="3796560" y="3820680"/>
                <a:chExt cx="72720" cy="72720"/>
              </a:xfrm>
            </p:grpSpPr>
            <p:sp>
              <p:nvSpPr>
                <p:cNvPr id="2888" name=""/>
                <p:cNvSpPr/>
                <p:nvPr/>
              </p:nvSpPr>
              <p:spPr>
                <a:xfrm>
                  <a:off x="3796560" y="3820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3796560" y="38206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0" name=""/>
              <p:cNvGrpSpPr/>
              <p:nvPr/>
            </p:nvGrpSpPr>
            <p:grpSpPr>
              <a:xfrm>
                <a:off x="3850560" y="3857040"/>
                <a:ext cx="72720" cy="72720"/>
                <a:chOff x="3850560" y="3857040"/>
                <a:chExt cx="72720" cy="72720"/>
              </a:xfrm>
            </p:grpSpPr>
            <p:sp>
              <p:nvSpPr>
                <p:cNvPr id="2891" name=""/>
                <p:cNvSpPr/>
                <p:nvPr/>
              </p:nvSpPr>
              <p:spPr>
                <a:xfrm>
                  <a:off x="3850560" y="3857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3850560" y="38570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3" name=""/>
              <p:cNvGrpSpPr/>
              <p:nvPr/>
            </p:nvGrpSpPr>
            <p:grpSpPr>
              <a:xfrm>
                <a:off x="3906360" y="3893760"/>
                <a:ext cx="70920" cy="72360"/>
                <a:chOff x="3906360" y="3893760"/>
                <a:chExt cx="70920" cy="72360"/>
              </a:xfrm>
            </p:grpSpPr>
            <p:sp>
              <p:nvSpPr>
                <p:cNvPr id="2894" name=""/>
                <p:cNvSpPr/>
                <p:nvPr/>
              </p:nvSpPr>
              <p:spPr>
                <a:xfrm>
                  <a:off x="3906360" y="389376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3906360" y="38937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6" name=""/>
              <p:cNvGrpSpPr/>
              <p:nvPr/>
            </p:nvGrpSpPr>
            <p:grpSpPr>
              <a:xfrm>
                <a:off x="3942720" y="3930120"/>
                <a:ext cx="90000" cy="72720"/>
                <a:chOff x="3942720" y="3930120"/>
                <a:chExt cx="90000" cy="72720"/>
              </a:xfrm>
            </p:grpSpPr>
            <p:sp>
              <p:nvSpPr>
                <p:cNvPr id="2897" name=""/>
                <p:cNvSpPr/>
                <p:nvPr/>
              </p:nvSpPr>
              <p:spPr>
                <a:xfrm>
                  <a:off x="3942720" y="39301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3942720" y="39301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9" name=""/>
              <p:cNvGrpSpPr/>
              <p:nvPr/>
            </p:nvGrpSpPr>
            <p:grpSpPr>
              <a:xfrm>
                <a:off x="3996720" y="3966480"/>
                <a:ext cx="90000" cy="72720"/>
                <a:chOff x="3996720" y="3966480"/>
                <a:chExt cx="90000" cy="72720"/>
              </a:xfrm>
            </p:grpSpPr>
            <p:sp>
              <p:nvSpPr>
                <p:cNvPr id="2900" name=""/>
                <p:cNvSpPr/>
                <p:nvPr/>
              </p:nvSpPr>
              <p:spPr>
                <a:xfrm>
                  <a:off x="3996720" y="39664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3996720" y="396648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2" name=""/>
              <p:cNvGrpSpPr/>
              <p:nvPr/>
            </p:nvGrpSpPr>
            <p:grpSpPr>
              <a:xfrm>
                <a:off x="4050720" y="3984120"/>
                <a:ext cx="91800" cy="91800"/>
                <a:chOff x="4050720" y="3984120"/>
                <a:chExt cx="91800" cy="91800"/>
              </a:xfrm>
            </p:grpSpPr>
            <p:sp>
              <p:nvSpPr>
                <p:cNvPr id="2903" name=""/>
                <p:cNvSpPr/>
                <p:nvPr/>
              </p:nvSpPr>
              <p:spPr>
                <a:xfrm>
                  <a:off x="4050720" y="398412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4050720" y="3984120"/>
                  <a:ext cx="5508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5" name=""/>
              <p:cNvGrpSpPr/>
              <p:nvPr/>
            </p:nvGrpSpPr>
            <p:grpSpPr>
              <a:xfrm>
                <a:off x="4106160" y="4020480"/>
                <a:ext cx="72720" cy="91800"/>
                <a:chOff x="4106160" y="4020480"/>
                <a:chExt cx="72720" cy="91800"/>
              </a:xfrm>
            </p:grpSpPr>
            <p:sp>
              <p:nvSpPr>
                <p:cNvPr id="2906" name=""/>
                <p:cNvSpPr/>
                <p:nvPr/>
              </p:nvSpPr>
              <p:spPr>
                <a:xfrm>
                  <a:off x="4106160" y="40204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4106160" y="402048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8" name=""/>
              <p:cNvGrpSpPr/>
              <p:nvPr/>
            </p:nvGrpSpPr>
            <p:grpSpPr>
              <a:xfrm>
                <a:off x="4160160" y="4057200"/>
                <a:ext cx="72720" cy="91800"/>
                <a:chOff x="4160160" y="4057200"/>
                <a:chExt cx="72720" cy="91800"/>
              </a:xfrm>
            </p:grpSpPr>
            <p:sp>
              <p:nvSpPr>
                <p:cNvPr id="2909" name=""/>
                <p:cNvSpPr/>
                <p:nvPr/>
              </p:nvSpPr>
              <p:spPr>
                <a:xfrm>
                  <a:off x="4160160" y="40572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4160160" y="40572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1" name=""/>
              <p:cNvGrpSpPr/>
              <p:nvPr/>
            </p:nvGrpSpPr>
            <p:grpSpPr>
              <a:xfrm>
                <a:off x="4215960" y="4093560"/>
                <a:ext cx="70920" cy="91800"/>
                <a:chOff x="4215960" y="4093560"/>
                <a:chExt cx="70920" cy="91800"/>
              </a:xfrm>
            </p:grpSpPr>
            <p:sp>
              <p:nvSpPr>
                <p:cNvPr id="2912" name=""/>
                <p:cNvSpPr/>
                <p:nvPr/>
              </p:nvSpPr>
              <p:spPr>
                <a:xfrm>
                  <a:off x="4215960" y="409356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4215960" y="40935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4" name=""/>
            <p:cNvSpPr/>
            <p:nvPr/>
          </p:nvSpPr>
          <p:spPr>
            <a:xfrm>
              <a:off x="3524400" y="3674880"/>
              <a:ext cx="74556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5" name=""/>
            <p:cNvGrpSpPr/>
            <p:nvPr/>
          </p:nvGrpSpPr>
          <p:grpSpPr>
            <a:xfrm>
              <a:off x="3978000" y="3019320"/>
              <a:ext cx="747000" cy="545400"/>
              <a:chOff x="3978000" y="3019320"/>
              <a:chExt cx="747000" cy="545400"/>
            </a:xfrm>
          </p:grpSpPr>
          <p:grpSp>
            <p:nvGrpSpPr>
              <p:cNvPr id="2916" name=""/>
              <p:cNvGrpSpPr/>
              <p:nvPr/>
            </p:nvGrpSpPr>
            <p:grpSpPr>
              <a:xfrm>
                <a:off x="3978000" y="3019320"/>
                <a:ext cx="72720" cy="72720"/>
                <a:chOff x="3978000" y="3019320"/>
                <a:chExt cx="72720" cy="727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3978000" y="3019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3978000" y="30193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4014000" y="3055320"/>
                <a:ext cx="91800" cy="72720"/>
                <a:chOff x="4014000" y="3055320"/>
                <a:chExt cx="91800" cy="727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4014000" y="30553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4014000" y="305532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4069800" y="3092040"/>
                <a:ext cx="90000" cy="72720"/>
                <a:chOff x="4069800" y="3092040"/>
                <a:chExt cx="90000" cy="727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4069800" y="30920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4069800" y="30920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4123800" y="3128400"/>
                <a:ext cx="72720" cy="72720"/>
                <a:chOff x="4123800" y="3128400"/>
                <a:chExt cx="72720" cy="727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4123800" y="3128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4123800" y="31284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4179240" y="3165120"/>
                <a:ext cx="72720" cy="72360"/>
                <a:chOff x="4179240" y="3165120"/>
                <a:chExt cx="72720" cy="7236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4179240" y="31651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4179240" y="31651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4233240" y="3201480"/>
                <a:ext cx="72720" cy="72720"/>
                <a:chOff x="4233240" y="3201480"/>
                <a:chExt cx="72720" cy="727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4233240" y="3201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4233240" y="32014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4287240" y="3237840"/>
                <a:ext cx="72720" cy="72720"/>
                <a:chOff x="4287240" y="3237840"/>
                <a:chExt cx="72720" cy="727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4287240" y="3237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4287240" y="32378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4342680" y="3274560"/>
                <a:ext cx="72720" cy="72720"/>
                <a:chOff x="4342680" y="3274560"/>
                <a:chExt cx="72720" cy="727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434268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4342680" y="3274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4379400" y="3310920"/>
                <a:ext cx="90000" cy="71280"/>
                <a:chOff x="4379400" y="3310920"/>
                <a:chExt cx="90000" cy="7128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4379400" y="3310920"/>
                  <a:ext cx="90000" cy="712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4379400" y="33109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4433400" y="3347640"/>
                <a:ext cx="91440" cy="70920"/>
                <a:chOff x="4433400" y="3347640"/>
                <a:chExt cx="91440" cy="70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4433400" y="3347640"/>
                  <a:ext cx="9144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4433400" y="3347640"/>
                  <a:ext cx="55080" cy="34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4488840" y="3382560"/>
                <a:ext cx="72720" cy="72360"/>
                <a:chOff x="4488840" y="3382560"/>
                <a:chExt cx="72720" cy="7236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4488840" y="33825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4488840" y="33825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4542840" y="3418920"/>
                <a:ext cx="72720" cy="72720"/>
                <a:chOff x="4542840" y="3418920"/>
                <a:chExt cx="72720" cy="727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4542840" y="341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4542840" y="3418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4596840" y="3455280"/>
                <a:ext cx="72720" cy="72720"/>
                <a:chOff x="4596840" y="3455280"/>
                <a:chExt cx="72720" cy="727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4596840" y="34552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4596840" y="3455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4652280" y="3492000"/>
                <a:ext cx="72720" cy="72720"/>
                <a:chOff x="4652280" y="3492000"/>
                <a:chExt cx="72720" cy="7272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4652280" y="3492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4652280" y="34920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58" name=""/>
            <p:cNvSpPr/>
            <p:nvPr/>
          </p:nvSpPr>
          <p:spPr>
            <a:xfrm>
              <a:off x="3960720" y="307332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59" name=""/>
            <p:cNvGrpSpPr/>
            <p:nvPr/>
          </p:nvGrpSpPr>
          <p:grpSpPr>
            <a:xfrm>
              <a:off x="4014360" y="2946240"/>
              <a:ext cx="764640" cy="545400"/>
              <a:chOff x="4014360" y="2946240"/>
              <a:chExt cx="764640" cy="545400"/>
            </a:xfrm>
          </p:grpSpPr>
          <p:grpSp>
            <p:nvGrpSpPr>
              <p:cNvPr id="2960" name=""/>
              <p:cNvGrpSpPr/>
              <p:nvPr/>
            </p:nvGrpSpPr>
            <p:grpSpPr>
              <a:xfrm>
                <a:off x="4014360" y="2946240"/>
                <a:ext cx="91800" cy="72720"/>
                <a:chOff x="4014360" y="2946240"/>
                <a:chExt cx="91800" cy="72720"/>
              </a:xfrm>
            </p:grpSpPr>
            <p:sp>
              <p:nvSpPr>
                <p:cNvPr id="2961" name=""/>
                <p:cNvSpPr/>
                <p:nvPr/>
              </p:nvSpPr>
              <p:spPr>
                <a:xfrm>
                  <a:off x="4014360" y="294624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4014360" y="294624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3" name=""/>
              <p:cNvGrpSpPr/>
              <p:nvPr/>
            </p:nvGrpSpPr>
            <p:grpSpPr>
              <a:xfrm>
                <a:off x="4069800" y="2982240"/>
                <a:ext cx="90000" cy="72720"/>
                <a:chOff x="4069800" y="2982240"/>
                <a:chExt cx="90000" cy="72720"/>
              </a:xfrm>
            </p:grpSpPr>
            <p:sp>
              <p:nvSpPr>
                <p:cNvPr id="2964" name=""/>
                <p:cNvSpPr/>
                <p:nvPr/>
              </p:nvSpPr>
              <p:spPr>
                <a:xfrm>
                  <a:off x="4069800" y="29822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4069800" y="29822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6" name=""/>
              <p:cNvGrpSpPr/>
              <p:nvPr/>
            </p:nvGrpSpPr>
            <p:grpSpPr>
              <a:xfrm>
                <a:off x="4123800" y="3018960"/>
                <a:ext cx="72720" cy="72720"/>
                <a:chOff x="4123800" y="3018960"/>
                <a:chExt cx="72720" cy="72720"/>
              </a:xfrm>
            </p:grpSpPr>
            <p:sp>
              <p:nvSpPr>
                <p:cNvPr id="2967" name=""/>
                <p:cNvSpPr/>
                <p:nvPr/>
              </p:nvSpPr>
              <p:spPr>
                <a:xfrm>
                  <a:off x="4123800" y="3018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4123800" y="3018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9" name=""/>
              <p:cNvGrpSpPr/>
              <p:nvPr/>
            </p:nvGrpSpPr>
            <p:grpSpPr>
              <a:xfrm>
                <a:off x="4179240" y="3055320"/>
                <a:ext cx="72720" cy="72720"/>
                <a:chOff x="4179240" y="3055320"/>
                <a:chExt cx="72720" cy="72720"/>
              </a:xfrm>
            </p:grpSpPr>
            <p:sp>
              <p:nvSpPr>
                <p:cNvPr id="2970" name=""/>
                <p:cNvSpPr/>
                <p:nvPr/>
              </p:nvSpPr>
              <p:spPr>
                <a:xfrm>
                  <a:off x="4179240" y="3055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4179240" y="30553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2" name=""/>
              <p:cNvGrpSpPr/>
              <p:nvPr/>
            </p:nvGrpSpPr>
            <p:grpSpPr>
              <a:xfrm>
                <a:off x="4233240" y="3092040"/>
                <a:ext cx="72720" cy="72720"/>
                <a:chOff x="4233240" y="3092040"/>
                <a:chExt cx="72720" cy="72720"/>
              </a:xfrm>
            </p:grpSpPr>
            <p:sp>
              <p:nvSpPr>
                <p:cNvPr id="2973" name=""/>
                <p:cNvSpPr/>
                <p:nvPr/>
              </p:nvSpPr>
              <p:spPr>
                <a:xfrm>
                  <a:off x="4233240" y="3092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4233240" y="30920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5" name=""/>
              <p:cNvGrpSpPr/>
              <p:nvPr/>
            </p:nvGrpSpPr>
            <p:grpSpPr>
              <a:xfrm>
                <a:off x="4287240" y="3128400"/>
                <a:ext cx="72720" cy="72720"/>
                <a:chOff x="4287240" y="3128400"/>
                <a:chExt cx="72720" cy="72720"/>
              </a:xfrm>
            </p:grpSpPr>
            <p:sp>
              <p:nvSpPr>
                <p:cNvPr id="2976" name=""/>
                <p:cNvSpPr/>
                <p:nvPr/>
              </p:nvSpPr>
              <p:spPr>
                <a:xfrm>
                  <a:off x="4287240" y="3128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4287240" y="31284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8" name=""/>
              <p:cNvGrpSpPr/>
              <p:nvPr/>
            </p:nvGrpSpPr>
            <p:grpSpPr>
              <a:xfrm>
                <a:off x="4342680" y="3165120"/>
                <a:ext cx="72720" cy="72360"/>
                <a:chOff x="4342680" y="3165120"/>
                <a:chExt cx="72720" cy="72360"/>
              </a:xfrm>
            </p:grpSpPr>
            <p:sp>
              <p:nvSpPr>
                <p:cNvPr id="2979" name=""/>
                <p:cNvSpPr/>
                <p:nvPr/>
              </p:nvSpPr>
              <p:spPr>
                <a:xfrm>
                  <a:off x="4342680" y="31651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4342680" y="31651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1" name=""/>
              <p:cNvGrpSpPr/>
              <p:nvPr/>
            </p:nvGrpSpPr>
            <p:grpSpPr>
              <a:xfrm>
                <a:off x="4379400" y="3201480"/>
                <a:ext cx="90000" cy="72720"/>
                <a:chOff x="4379400" y="3201480"/>
                <a:chExt cx="90000" cy="72720"/>
              </a:xfrm>
            </p:grpSpPr>
            <p:sp>
              <p:nvSpPr>
                <p:cNvPr id="2982" name=""/>
                <p:cNvSpPr/>
                <p:nvPr/>
              </p:nvSpPr>
              <p:spPr>
                <a:xfrm>
                  <a:off x="4379400" y="32014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4379400" y="320148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4" name=""/>
              <p:cNvGrpSpPr/>
              <p:nvPr/>
            </p:nvGrpSpPr>
            <p:grpSpPr>
              <a:xfrm>
                <a:off x="4433400" y="3237840"/>
                <a:ext cx="91440" cy="72720"/>
                <a:chOff x="4433400" y="3237840"/>
                <a:chExt cx="91440" cy="72720"/>
              </a:xfrm>
            </p:grpSpPr>
            <p:sp>
              <p:nvSpPr>
                <p:cNvPr id="2985" name=""/>
                <p:cNvSpPr/>
                <p:nvPr/>
              </p:nvSpPr>
              <p:spPr>
                <a:xfrm>
                  <a:off x="4433400" y="3237840"/>
                  <a:ext cx="9144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4433400" y="323784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7" name=""/>
              <p:cNvGrpSpPr/>
              <p:nvPr/>
            </p:nvGrpSpPr>
            <p:grpSpPr>
              <a:xfrm>
                <a:off x="4488840" y="3274560"/>
                <a:ext cx="72720" cy="72720"/>
                <a:chOff x="4488840" y="3274560"/>
                <a:chExt cx="72720" cy="72720"/>
              </a:xfrm>
            </p:grpSpPr>
            <p:sp>
              <p:nvSpPr>
                <p:cNvPr id="2988" name=""/>
                <p:cNvSpPr/>
                <p:nvPr/>
              </p:nvSpPr>
              <p:spPr>
                <a:xfrm>
                  <a:off x="448884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4488840" y="32745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0" name=""/>
              <p:cNvGrpSpPr/>
              <p:nvPr/>
            </p:nvGrpSpPr>
            <p:grpSpPr>
              <a:xfrm>
                <a:off x="4542840" y="3310920"/>
                <a:ext cx="72720" cy="71280"/>
                <a:chOff x="4542840" y="3310920"/>
                <a:chExt cx="72720" cy="71280"/>
              </a:xfrm>
            </p:grpSpPr>
            <p:sp>
              <p:nvSpPr>
                <p:cNvPr id="2991" name=""/>
                <p:cNvSpPr/>
                <p:nvPr/>
              </p:nvSpPr>
              <p:spPr>
                <a:xfrm>
                  <a:off x="4542840" y="33109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4542840" y="3310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3" name=""/>
              <p:cNvGrpSpPr/>
              <p:nvPr/>
            </p:nvGrpSpPr>
            <p:grpSpPr>
              <a:xfrm>
                <a:off x="4596840" y="3347640"/>
                <a:ext cx="72720" cy="70920"/>
                <a:chOff x="4596840" y="3347640"/>
                <a:chExt cx="72720" cy="70920"/>
              </a:xfrm>
            </p:grpSpPr>
            <p:sp>
              <p:nvSpPr>
                <p:cNvPr id="2994" name=""/>
                <p:cNvSpPr/>
                <p:nvPr/>
              </p:nvSpPr>
              <p:spPr>
                <a:xfrm>
                  <a:off x="4596840" y="334764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4596840" y="334764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6" name=""/>
              <p:cNvGrpSpPr/>
              <p:nvPr/>
            </p:nvGrpSpPr>
            <p:grpSpPr>
              <a:xfrm>
                <a:off x="4652280" y="3382560"/>
                <a:ext cx="72720" cy="72360"/>
                <a:chOff x="4652280" y="3382560"/>
                <a:chExt cx="72720" cy="72360"/>
              </a:xfrm>
            </p:grpSpPr>
            <p:sp>
              <p:nvSpPr>
                <p:cNvPr id="2997" name=""/>
                <p:cNvSpPr/>
                <p:nvPr/>
              </p:nvSpPr>
              <p:spPr>
                <a:xfrm>
                  <a:off x="4652280" y="33825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4652280" y="3382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9" name=""/>
              <p:cNvGrpSpPr/>
              <p:nvPr/>
            </p:nvGrpSpPr>
            <p:grpSpPr>
              <a:xfrm>
                <a:off x="4706280" y="3418920"/>
                <a:ext cx="72720" cy="72720"/>
                <a:chOff x="4706280" y="3418920"/>
                <a:chExt cx="72720" cy="72720"/>
              </a:xfrm>
            </p:grpSpPr>
            <p:sp>
              <p:nvSpPr>
                <p:cNvPr id="3000" name=""/>
                <p:cNvSpPr/>
                <p:nvPr/>
              </p:nvSpPr>
              <p:spPr>
                <a:xfrm>
                  <a:off x="4706280" y="341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4706280" y="34189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02" name=""/>
            <p:cNvSpPr/>
            <p:nvPr/>
          </p:nvSpPr>
          <p:spPr>
            <a:xfrm>
              <a:off x="4014360" y="298260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48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03" name=""/>
            <p:cNvGrpSpPr/>
            <p:nvPr/>
          </p:nvGrpSpPr>
          <p:grpSpPr>
            <a:xfrm>
              <a:off x="4179600" y="2709720"/>
              <a:ext cx="762840" cy="545400"/>
              <a:chOff x="4179600" y="2709720"/>
              <a:chExt cx="762840" cy="545400"/>
            </a:xfrm>
          </p:grpSpPr>
          <p:grpSp>
            <p:nvGrpSpPr>
              <p:cNvPr id="3004" name=""/>
              <p:cNvGrpSpPr/>
              <p:nvPr/>
            </p:nvGrpSpPr>
            <p:grpSpPr>
              <a:xfrm>
                <a:off x="4179600" y="2709720"/>
                <a:ext cx="90000" cy="70920"/>
                <a:chOff x="4179600" y="2709720"/>
                <a:chExt cx="90000" cy="70920"/>
              </a:xfrm>
            </p:grpSpPr>
            <p:sp>
              <p:nvSpPr>
                <p:cNvPr id="3005" name=""/>
                <p:cNvSpPr/>
                <p:nvPr/>
              </p:nvSpPr>
              <p:spPr>
                <a:xfrm>
                  <a:off x="4179600" y="2709720"/>
                  <a:ext cx="9000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4179600" y="27097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7" name=""/>
              <p:cNvGrpSpPr/>
              <p:nvPr/>
            </p:nvGrpSpPr>
            <p:grpSpPr>
              <a:xfrm>
                <a:off x="4233240" y="2745720"/>
                <a:ext cx="90000" cy="90360"/>
                <a:chOff x="4233240" y="2745720"/>
                <a:chExt cx="90000" cy="90360"/>
              </a:xfrm>
            </p:grpSpPr>
            <p:sp>
              <p:nvSpPr>
                <p:cNvPr id="3008" name=""/>
                <p:cNvSpPr/>
                <p:nvPr/>
              </p:nvSpPr>
              <p:spPr>
                <a:xfrm>
                  <a:off x="4233240" y="274572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4233240" y="274572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0" name=""/>
              <p:cNvGrpSpPr/>
              <p:nvPr/>
            </p:nvGrpSpPr>
            <p:grpSpPr>
              <a:xfrm>
                <a:off x="4287240" y="2780640"/>
                <a:ext cx="72720" cy="72720"/>
                <a:chOff x="4287240" y="2780640"/>
                <a:chExt cx="72720" cy="72720"/>
              </a:xfrm>
            </p:grpSpPr>
            <p:sp>
              <p:nvSpPr>
                <p:cNvPr id="3011" name=""/>
                <p:cNvSpPr/>
                <p:nvPr/>
              </p:nvSpPr>
              <p:spPr>
                <a:xfrm>
                  <a:off x="4287240" y="27806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4287240" y="27806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3" name=""/>
              <p:cNvGrpSpPr/>
              <p:nvPr/>
            </p:nvGrpSpPr>
            <p:grpSpPr>
              <a:xfrm>
                <a:off x="4342680" y="2817360"/>
                <a:ext cx="72720" cy="72720"/>
                <a:chOff x="4342680" y="2817360"/>
                <a:chExt cx="72720" cy="72720"/>
              </a:xfrm>
            </p:grpSpPr>
            <p:sp>
              <p:nvSpPr>
                <p:cNvPr id="3014" name=""/>
                <p:cNvSpPr/>
                <p:nvPr/>
              </p:nvSpPr>
              <p:spPr>
                <a:xfrm>
                  <a:off x="4342680" y="2817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4342680" y="28173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6" name=""/>
              <p:cNvGrpSpPr/>
              <p:nvPr/>
            </p:nvGrpSpPr>
            <p:grpSpPr>
              <a:xfrm>
                <a:off x="4396680" y="2853720"/>
                <a:ext cx="72720" cy="72720"/>
                <a:chOff x="4396680" y="2853720"/>
                <a:chExt cx="72720" cy="72720"/>
              </a:xfrm>
            </p:grpSpPr>
            <p:sp>
              <p:nvSpPr>
                <p:cNvPr id="3017" name=""/>
                <p:cNvSpPr/>
                <p:nvPr/>
              </p:nvSpPr>
              <p:spPr>
                <a:xfrm>
                  <a:off x="4396680" y="2853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4396680" y="28537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9" name=""/>
              <p:cNvGrpSpPr/>
              <p:nvPr/>
            </p:nvGrpSpPr>
            <p:grpSpPr>
              <a:xfrm>
                <a:off x="4452480" y="2890440"/>
                <a:ext cx="72360" cy="72360"/>
                <a:chOff x="4452480" y="2890440"/>
                <a:chExt cx="72360" cy="72360"/>
              </a:xfrm>
            </p:grpSpPr>
            <p:sp>
              <p:nvSpPr>
                <p:cNvPr id="3020" name=""/>
                <p:cNvSpPr/>
                <p:nvPr/>
              </p:nvSpPr>
              <p:spPr>
                <a:xfrm>
                  <a:off x="4452480" y="289044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4452480" y="28904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2" name=""/>
              <p:cNvGrpSpPr/>
              <p:nvPr/>
            </p:nvGrpSpPr>
            <p:grpSpPr>
              <a:xfrm>
                <a:off x="4506120" y="2926800"/>
                <a:ext cx="72720" cy="72720"/>
                <a:chOff x="4506120" y="2926800"/>
                <a:chExt cx="72720" cy="72720"/>
              </a:xfrm>
            </p:grpSpPr>
            <p:sp>
              <p:nvSpPr>
                <p:cNvPr id="3023" name=""/>
                <p:cNvSpPr/>
                <p:nvPr/>
              </p:nvSpPr>
              <p:spPr>
                <a:xfrm>
                  <a:off x="4506120" y="2926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4506120" y="29268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5" name=""/>
              <p:cNvGrpSpPr/>
              <p:nvPr/>
            </p:nvGrpSpPr>
            <p:grpSpPr>
              <a:xfrm>
                <a:off x="4542840" y="2963160"/>
                <a:ext cx="90000" cy="72720"/>
                <a:chOff x="4542840" y="2963160"/>
                <a:chExt cx="90000" cy="72720"/>
              </a:xfrm>
            </p:grpSpPr>
            <p:sp>
              <p:nvSpPr>
                <p:cNvPr id="3026" name=""/>
                <p:cNvSpPr/>
                <p:nvPr/>
              </p:nvSpPr>
              <p:spPr>
                <a:xfrm>
                  <a:off x="4542840" y="29631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4542840" y="29631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8" name=""/>
              <p:cNvGrpSpPr/>
              <p:nvPr/>
            </p:nvGrpSpPr>
            <p:grpSpPr>
              <a:xfrm>
                <a:off x="4596840" y="2999880"/>
                <a:ext cx="91800" cy="72720"/>
                <a:chOff x="4596840" y="2999880"/>
                <a:chExt cx="91800" cy="72720"/>
              </a:xfrm>
            </p:grpSpPr>
            <p:sp>
              <p:nvSpPr>
                <p:cNvPr id="3029" name=""/>
                <p:cNvSpPr/>
                <p:nvPr/>
              </p:nvSpPr>
              <p:spPr>
                <a:xfrm>
                  <a:off x="4596840" y="29998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4596840" y="299988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1" name=""/>
              <p:cNvGrpSpPr/>
              <p:nvPr/>
            </p:nvGrpSpPr>
            <p:grpSpPr>
              <a:xfrm>
                <a:off x="4652280" y="3036240"/>
                <a:ext cx="72720" cy="72720"/>
                <a:chOff x="4652280" y="3036240"/>
                <a:chExt cx="72720" cy="72720"/>
              </a:xfrm>
            </p:grpSpPr>
            <p:sp>
              <p:nvSpPr>
                <p:cNvPr id="3032" name=""/>
                <p:cNvSpPr/>
                <p:nvPr/>
              </p:nvSpPr>
              <p:spPr>
                <a:xfrm>
                  <a:off x="4652280" y="3036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4652280" y="30362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4" name=""/>
              <p:cNvGrpSpPr/>
              <p:nvPr/>
            </p:nvGrpSpPr>
            <p:grpSpPr>
              <a:xfrm>
                <a:off x="4706280" y="3072960"/>
                <a:ext cx="72720" cy="72720"/>
                <a:chOff x="4706280" y="3072960"/>
                <a:chExt cx="72720" cy="72720"/>
              </a:xfrm>
            </p:grpSpPr>
            <p:sp>
              <p:nvSpPr>
                <p:cNvPr id="3035" name=""/>
                <p:cNvSpPr/>
                <p:nvPr/>
              </p:nvSpPr>
              <p:spPr>
                <a:xfrm>
                  <a:off x="4706280" y="3072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4706280" y="30729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7" name=""/>
              <p:cNvGrpSpPr/>
              <p:nvPr/>
            </p:nvGrpSpPr>
            <p:grpSpPr>
              <a:xfrm>
                <a:off x="4761720" y="3109320"/>
                <a:ext cx="72720" cy="72720"/>
                <a:chOff x="4761720" y="3109320"/>
                <a:chExt cx="72720" cy="72720"/>
              </a:xfrm>
            </p:grpSpPr>
            <p:sp>
              <p:nvSpPr>
                <p:cNvPr id="3038" name=""/>
                <p:cNvSpPr/>
                <p:nvPr/>
              </p:nvSpPr>
              <p:spPr>
                <a:xfrm>
                  <a:off x="4761720" y="3109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4761720" y="31093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0" name=""/>
              <p:cNvGrpSpPr/>
              <p:nvPr/>
            </p:nvGrpSpPr>
            <p:grpSpPr>
              <a:xfrm>
                <a:off x="4815720" y="3146040"/>
                <a:ext cx="72720" cy="72360"/>
                <a:chOff x="4815720" y="3146040"/>
                <a:chExt cx="72720" cy="72360"/>
              </a:xfrm>
            </p:grpSpPr>
            <p:sp>
              <p:nvSpPr>
                <p:cNvPr id="3041" name=""/>
                <p:cNvSpPr/>
                <p:nvPr/>
              </p:nvSpPr>
              <p:spPr>
                <a:xfrm>
                  <a:off x="4815720" y="31460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4815720" y="31460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3" name=""/>
              <p:cNvGrpSpPr/>
              <p:nvPr/>
            </p:nvGrpSpPr>
            <p:grpSpPr>
              <a:xfrm>
                <a:off x="4871520" y="3182400"/>
                <a:ext cx="70920" cy="72720"/>
                <a:chOff x="4871520" y="3182400"/>
                <a:chExt cx="70920" cy="72720"/>
              </a:xfrm>
            </p:grpSpPr>
            <p:sp>
              <p:nvSpPr>
                <p:cNvPr id="3044" name=""/>
                <p:cNvSpPr/>
                <p:nvPr/>
              </p:nvSpPr>
              <p:spPr>
                <a:xfrm>
                  <a:off x="4871520" y="318240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4871520" y="31824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6" name=""/>
            <p:cNvSpPr/>
            <p:nvPr/>
          </p:nvSpPr>
          <p:spPr>
            <a:xfrm>
              <a:off x="4179600" y="276372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7" name=""/>
            <p:cNvGrpSpPr/>
            <p:nvPr/>
          </p:nvGrpSpPr>
          <p:grpSpPr>
            <a:xfrm>
              <a:off x="3651120" y="3474720"/>
              <a:ext cx="745200" cy="545400"/>
              <a:chOff x="3651120" y="3474720"/>
              <a:chExt cx="745200" cy="545400"/>
            </a:xfrm>
          </p:grpSpPr>
          <p:grpSp>
            <p:nvGrpSpPr>
              <p:cNvPr id="3048" name=""/>
              <p:cNvGrpSpPr/>
              <p:nvPr/>
            </p:nvGrpSpPr>
            <p:grpSpPr>
              <a:xfrm>
                <a:off x="3651120" y="3474720"/>
                <a:ext cx="72720" cy="90360"/>
                <a:chOff x="3651120" y="3474720"/>
                <a:chExt cx="72720" cy="90360"/>
              </a:xfrm>
            </p:grpSpPr>
            <p:sp>
              <p:nvSpPr>
                <p:cNvPr id="3049" name=""/>
                <p:cNvSpPr/>
                <p:nvPr/>
              </p:nvSpPr>
              <p:spPr>
                <a:xfrm>
                  <a:off x="3651120" y="347472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3651120" y="34747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1" name=""/>
              <p:cNvGrpSpPr/>
              <p:nvPr/>
            </p:nvGrpSpPr>
            <p:grpSpPr>
              <a:xfrm>
                <a:off x="3687120" y="3511080"/>
                <a:ext cx="90000" cy="90000"/>
                <a:chOff x="3687120" y="3511080"/>
                <a:chExt cx="90000" cy="90000"/>
              </a:xfrm>
            </p:grpSpPr>
            <p:sp>
              <p:nvSpPr>
                <p:cNvPr id="3052" name=""/>
                <p:cNvSpPr/>
                <p:nvPr/>
              </p:nvSpPr>
              <p:spPr>
                <a:xfrm>
                  <a:off x="3687120" y="351108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3687120" y="35110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4" name=""/>
              <p:cNvGrpSpPr/>
              <p:nvPr/>
            </p:nvGrpSpPr>
            <p:grpSpPr>
              <a:xfrm>
                <a:off x="3741120" y="3547440"/>
                <a:ext cx="91800" cy="90360"/>
                <a:chOff x="3741120" y="3547440"/>
                <a:chExt cx="91800" cy="90360"/>
              </a:xfrm>
            </p:grpSpPr>
            <p:sp>
              <p:nvSpPr>
                <p:cNvPr id="3055" name=""/>
                <p:cNvSpPr/>
                <p:nvPr/>
              </p:nvSpPr>
              <p:spPr>
                <a:xfrm>
                  <a:off x="3741120" y="3547440"/>
                  <a:ext cx="918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3741120" y="354744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7" name=""/>
              <p:cNvGrpSpPr/>
              <p:nvPr/>
            </p:nvGrpSpPr>
            <p:grpSpPr>
              <a:xfrm>
                <a:off x="3796560" y="3584160"/>
                <a:ext cx="90360" cy="90000"/>
                <a:chOff x="3796560" y="3584160"/>
                <a:chExt cx="90360" cy="90000"/>
              </a:xfrm>
            </p:grpSpPr>
            <p:sp>
              <p:nvSpPr>
                <p:cNvPr id="3058" name=""/>
                <p:cNvSpPr/>
                <p:nvPr/>
              </p:nvSpPr>
              <p:spPr>
                <a:xfrm>
                  <a:off x="3796560" y="3584160"/>
                  <a:ext cx="9036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3796560" y="358416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0" name=""/>
              <p:cNvGrpSpPr/>
              <p:nvPr/>
            </p:nvGrpSpPr>
            <p:grpSpPr>
              <a:xfrm>
                <a:off x="3850560" y="3620520"/>
                <a:ext cx="72720" cy="72720"/>
                <a:chOff x="3850560" y="3620520"/>
                <a:chExt cx="72720" cy="72720"/>
              </a:xfrm>
            </p:grpSpPr>
            <p:sp>
              <p:nvSpPr>
                <p:cNvPr id="3061" name=""/>
                <p:cNvSpPr/>
                <p:nvPr/>
              </p:nvSpPr>
              <p:spPr>
                <a:xfrm>
                  <a:off x="3850560" y="3620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3850560" y="3620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3" name=""/>
              <p:cNvGrpSpPr/>
              <p:nvPr/>
            </p:nvGrpSpPr>
            <p:grpSpPr>
              <a:xfrm>
                <a:off x="3906360" y="3657240"/>
                <a:ext cx="70920" cy="72360"/>
                <a:chOff x="3906360" y="3657240"/>
                <a:chExt cx="70920" cy="72360"/>
              </a:xfrm>
            </p:grpSpPr>
            <p:sp>
              <p:nvSpPr>
                <p:cNvPr id="3064" name=""/>
                <p:cNvSpPr/>
                <p:nvPr/>
              </p:nvSpPr>
              <p:spPr>
                <a:xfrm>
                  <a:off x="3906360" y="365724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3906360" y="36572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6" name=""/>
              <p:cNvGrpSpPr/>
              <p:nvPr/>
            </p:nvGrpSpPr>
            <p:grpSpPr>
              <a:xfrm>
                <a:off x="3960360" y="3693600"/>
                <a:ext cx="72360" cy="72720"/>
                <a:chOff x="3960360" y="3693600"/>
                <a:chExt cx="72360" cy="72720"/>
              </a:xfrm>
            </p:grpSpPr>
            <p:sp>
              <p:nvSpPr>
                <p:cNvPr id="3067" name=""/>
                <p:cNvSpPr/>
                <p:nvPr/>
              </p:nvSpPr>
              <p:spPr>
                <a:xfrm>
                  <a:off x="3960360" y="36936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3960360" y="36936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9" name=""/>
              <p:cNvGrpSpPr/>
              <p:nvPr/>
            </p:nvGrpSpPr>
            <p:grpSpPr>
              <a:xfrm>
                <a:off x="4014000" y="3729960"/>
                <a:ext cx="72720" cy="72720"/>
                <a:chOff x="4014000" y="3729960"/>
                <a:chExt cx="72720" cy="72720"/>
              </a:xfrm>
            </p:grpSpPr>
            <p:sp>
              <p:nvSpPr>
                <p:cNvPr id="3070" name=""/>
                <p:cNvSpPr/>
                <p:nvPr/>
              </p:nvSpPr>
              <p:spPr>
                <a:xfrm>
                  <a:off x="4014000" y="3729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4014000" y="37299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2" name=""/>
              <p:cNvGrpSpPr/>
              <p:nvPr/>
            </p:nvGrpSpPr>
            <p:grpSpPr>
              <a:xfrm>
                <a:off x="4050720" y="3766680"/>
                <a:ext cx="91800" cy="72720"/>
                <a:chOff x="4050720" y="3766680"/>
                <a:chExt cx="91800" cy="72720"/>
              </a:xfrm>
            </p:grpSpPr>
            <p:sp>
              <p:nvSpPr>
                <p:cNvPr id="3073" name=""/>
                <p:cNvSpPr/>
                <p:nvPr/>
              </p:nvSpPr>
              <p:spPr>
                <a:xfrm>
                  <a:off x="4050720" y="37666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4050720" y="376668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5" name=""/>
              <p:cNvGrpSpPr/>
              <p:nvPr/>
            </p:nvGrpSpPr>
            <p:grpSpPr>
              <a:xfrm>
                <a:off x="4106160" y="3803040"/>
                <a:ext cx="90360" cy="72720"/>
                <a:chOff x="4106160" y="3803040"/>
                <a:chExt cx="90360" cy="72720"/>
              </a:xfrm>
            </p:grpSpPr>
            <p:sp>
              <p:nvSpPr>
                <p:cNvPr id="3076" name=""/>
                <p:cNvSpPr/>
                <p:nvPr/>
              </p:nvSpPr>
              <p:spPr>
                <a:xfrm>
                  <a:off x="4106160" y="380304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4106160" y="38030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8" name=""/>
              <p:cNvGrpSpPr/>
              <p:nvPr/>
            </p:nvGrpSpPr>
            <p:grpSpPr>
              <a:xfrm>
                <a:off x="4160160" y="3839760"/>
                <a:ext cx="91800" cy="72360"/>
                <a:chOff x="4160160" y="3839760"/>
                <a:chExt cx="91800" cy="72360"/>
              </a:xfrm>
            </p:grpSpPr>
            <p:sp>
              <p:nvSpPr>
                <p:cNvPr id="3079" name=""/>
                <p:cNvSpPr/>
                <p:nvPr/>
              </p:nvSpPr>
              <p:spPr>
                <a:xfrm>
                  <a:off x="4160160" y="38397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4160160" y="383976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1" name=""/>
              <p:cNvGrpSpPr/>
              <p:nvPr/>
            </p:nvGrpSpPr>
            <p:grpSpPr>
              <a:xfrm>
                <a:off x="4215960" y="3876120"/>
                <a:ext cx="70920" cy="71280"/>
                <a:chOff x="4215960" y="3876120"/>
                <a:chExt cx="70920" cy="71280"/>
              </a:xfrm>
            </p:grpSpPr>
            <p:sp>
              <p:nvSpPr>
                <p:cNvPr id="3082" name=""/>
                <p:cNvSpPr/>
                <p:nvPr/>
              </p:nvSpPr>
              <p:spPr>
                <a:xfrm>
                  <a:off x="4215960" y="3876120"/>
                  <a:ext cx="709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215960" y="38761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4" name=""/>
              <p:cNvGrpSpPr/>
              <p:nvPr/>
            </p:nvGrpSpPr>
            <p:grpSpPr>
              <a:xfrm>
                <a:off x="4269600" y="3912480"/>
                <a:ext cx="72720" cy="71280"/>
                <a:chOff x="4269600" y="3912480"/>
                <a:chExt cx="72720" cy="71280"/>
              </a:xfrm>
            </p:grpSpPr>
            <p:sp>
              <p:nvSpPr>
                <p:cNvPr id="3085" name=""/>
                <p:cNvSpPr/>
                <p:nvPr/>
              </p:nvSpPr>
              <p:spPr>
                <a:xfrm>
                  <a:off x="4269600" y="391248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4269600" y="3912480"/>
                  <a:ext cx="36360" cy="3492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7" name=""/>
              <p:cNvGrpSpPr/>
              <p:nvPr/>
            </p:nvGrpSpPr>
            <p:grpSpPr>
              <a:xfrm>
                <a:off x="4323600" y="3947760"/>
                <a:ext cx="72720" cy="72360"/>
                <a:chOff x="4323600" y="3947760"/>
                <a:chExt cx="72720" cy="72360"/>
              </a:xfrm>
            </p:grpSpPr>
            <p:sp>
              <p:nvSpPr>
                <p:cNvPr id="3088" name=""/>
                <p:cNvSpPr/>
                <p:nvPr/>
              </p:nvSpPr>
              <p:spPr>
                <a:xfrm>
                  <a:off x="4323600" y="39477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4323600" y="39477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0" name=""/>
            <p:cNvSpPr/>
            <p:nvPr/>
          </p:nvSpPr>
          <p:spPr>
            <a:xfrm>
              <a:off x="3632040" y="352872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59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1" name=""/>
            <p:cNvGrpSpPr/>
            <p:nvPr/>
          </p:nvGrpSpPr>
          <p:grpSpPr>
            <a:xfrm>
              <a:off x="3814560" y="3255840"/>
              <a:ext cx="747000" cy="546840"/>
              <a:chOff x="3814560" y="3255840"/>
              <a:chExt cx="747000" cy="546840"/>
            </a:xfrm>
          </p:grpSpPr>
          <p:grpSp>
            <p:nvGrpSpPr>
              <p:cNvPr id="3092" name=""/>
              <p:cNvGrpSpPr/>
              <p:nvPr/>
            </p:nvGrpSpPr>
            <p:grpSpPr>
              <a:xfrm>
                <a:off x="3814560" y="3255840"/>
                <a:ext cx="72720" cy="72720"/>
                <a:chOff x="3814560" y="3255840"/>
                <a:chExt cx="72720" cy="72720"/>
              </a:xfrm>
            </p:grpSpPr>
            <p:sp>
              <p:nvSpPr>
                <p:cNvPr id="3093" name=""/>
                <p:cNvSpPr/>
                <p:nvPr/>
              </p:nvSpPr>
              <p:spPr>
                <a:xfrm>
                  <a:off x="3814560" y="3255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3814560" y="32558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5" name=""/>
              <p:cNvGrpSpPr/>
              <p:nvPr/>
            </p:nvGrpSpPr>
            <p:grpSpPr>
              <a:xfrm>
                <a:off x="3850560" y="3291840"/>
                <a:ext cx="91800" cy="72720"/>
                <a:chOff x="3850560" y="3291840"/>
                <a:chExt cx="91800" cy="72720"/>
              </a:xfrm>
            </p:grpSpPr>
            <p:sp>
              <p:nvSpPr>
                <p:cNvPr id="3096" name=""/>
                <p:cNvSpPr/>
                <p:nvPr/>
              </p:nvSpPr>
              <p:spPr>
                <a:xfrm>
                  <a:off x="3850560" y="329184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3850560" y="329184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8" name=""/>
              <p:cNvGrpSpPr/>
              <p:nvPr/>
            </p:nvGrpSpPr>
            <p:grpSpPr>
              <a:xfrm>
                <a:off x="3906360" y="3328560"/>
                <a:ext cx="90000" cy="72720"/>
                <a:chOff x="3906360" y="3328560"/>
                <a:chExt cx="90000" cy="72720"/>
              </a:xfrm>
            </p:grpSpPr>
            <p:sp>
              <p:nvSpPr>
                <p:cNvPr id="3099" name=""/>
                <p:cNvSpPr/>
                <p:nvPr/>
              </p:nvSpPr>
              <p:spPr>
                <a:xfrm>
                  <a:off x="3906360" y="33285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3906360" y="33285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1" name=""/>
              <p:cNvGrpSpPr/>
              <p:nvPr/>
            </p:nvGrpSpPr>
            <p:grpSpPr>
              <a:xfrm>
                <a:off x="3960360" y="3364920"/>
                <a:ext cx="72360" cy="72720"/>
                <a:chOff x="3960360" y="3364920"/>
                <a:chExt cx="72360" cy="72720"/>
              </a:xfrm>
            </p:grpSpPr>
            <p:sp>
              <p:nvSpPr>
                <p:cNvPr id="3102" name=""/>
                <p:cNvSpPr/>
                <p:nvPr/>
              </p:nvSpPr>
              <p:spPr>
                <a:xfrm>
                  <a:off x="3960360" y="336492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3960360" y="3364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4" name=""/>
              <p:cNvGrpSpPr/>
              <p:nvPr/>
            </p:nvGrpSpPr>
            <p:grpSpPr>
              <a:xfrm>
                <a:off x="4014000" y="3401640"/>
                <a:ext cx="72720" cy="72360"/>
                <a:chOff x="4014000" y="3401640"/>
                <a:chExt cx="72720" cy="72360"/>
              </a:xfrm>
            </p:grpSpPr>
            <p:sp>
              <p:nvSpPr>
                <p:cNvPr id="3105" name=""/>
                <p:cNvSpPr/>
                <p:nvPr/>
              </p:nvSpPr>
              <p:spPr>
                <a:xfrm>
                  <a:off x="4014000" y="34016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4014000" y="34016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7" name=""/>
              <p:cNvGrpSpPr/>
              <p:nvPr/>
            </p:nvGrpSpPr>
            <p:grpSpPr>
              <a:xfrm>
                <a:off x="4069800" y="3438000"/>
                <a:ext cx="72720" cy="72720"/>
                <a:chOff x="4069800" y="3438000"/>
                <a:chExt cx="72720" cy="72720"/>
              </a:xfrm>
            </p:grpSpPr>
            <p:sp>
              <p:nvSpPr>
                <p:cNvPr id="3108" name=""/>
                <p:cNvSpPr/>
                <p:nvPr/>
              </p:nvSpPr>
              <p:spPr>
                <a:xfrm>
                  <a:off x="4069800" y="3438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4069800" y="3438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0" name=""/>
              <p:cNvGrpSpPr/>
              <p:nvPr/>
            </p:nvGrpSpPr>
            <p:grpSpPr>
              <a:xfrm>
                <a:off x="4123800" y="3474360"/>
                <a:ext cx="72720" cy="72720"/>
                <a:chOff x="4123800" y="3474360"/>
                <a:chExt cx="72720" cy="72720"/>
              </a:xfrm>
            </p:grpSpPr>
            <p:sp>
              <p:nvSpPr>
                <p:cNvPr id="3111" name=""/>
                <p:cNvSpPr/>
                <p:nvPr/>
              </p:nvSpPr>
              <p:spPr>
                <a:xfrm>
                  <a:off x="4123800" y="3474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4123800" y="3474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3" name=""/>
              <p:cNvGrpSpPr/>
              <p:nvPr/>
            </p:nvGrpSpPr>
            <p:grpSpPr>
              <a:xfrm>
                <a:off x="4179240" y="3511080"/>
                <a:ext cx="72720" cy="72720"/>
                <a:chOff x="4179240" y="3511080"/>
                <a:chExt cx="72720" cy="72720"/>
              </a:xfrm>
            </p:grpSpPr>
            <p:sp>
              <p:nvSpPr>
                <p:cNvPr id="3114" name=""/>
                <p:cNvSpPr/>
                <p:nvPr/>
              </p:nvSpPr>
              <p:spPr>
                <a:xfrm>
                  <a:off x="4179240" y="3511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4179240" y="35110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6" name=""/>
              <p:cNvGrpSpPr/>
              <p:nvPr/>
            </p:nvGrpSpPr>
            <p:grpSpPr>
              <a:xfrm>
                <a:off x="4215960" y="3547440"/>
                <a:ext cx="90000" cy="72720"/>
                <a:chOff x="4215960" y="3547440"/>
                <a:chExt cx="90000" cy="72720"/>
              </a:xfrm>
            </p:grpSpPr>
            <p:sp>
              <p:nvSpPr>
                <p:cNvPr id="3117" name=""/>
                <p:cNvSpPr/>
                <p:nvPr/>
              </p:nvSpPr>
              <p:spPr>
                <a:xfrm>
                  <a:off x="4215960" y="35474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4215960" y="3547440"/>
                  <a:ext cx="532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9" name=""/>
              <p:cNvGrpSpPr/>
              <p:nvPr/>
            </p:nvGrpSpPr>
            <p:grpSpPr>
              <a:xfrm>
                <a:off x="4269600" y="3584160"/>
                <a:ext cx="90360" cy="72720"/>
                <a:chOff x="4269600" y="3584160"/>
                <a:chExt cx="90360" cy="72720"/>
              </a:xfrm>
            </p:grpSpPr>
            <p:sp>
              <p:nvSpPr>
                <p:cNvPr id="3120" name=""/>
                <p:cNvSpPr/>
                <p:nvPr/>
              </p:nvSpPr>
              <p:spPr>
                <a:xfrm>
                  <a:off x="4269600" y="358416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4269600" y="35841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2" name=""/>
              <p:cNvGrpSpPr/>
              <p:nvPr/>
            </p:nvGrpSpPr>
            <p:grpSpPr>
              <a:xfrm>
                <a:off x="4323600" y="3601440"/>
                <a:ext cx="72720" cy="91800"/>
                <a:chOff x="4323600" y="3601440"/>
                <a:chExt cx="72720" cy="91800"/>
              </a:xfrm>
            </p:grpSpPr>
            <p:sp>
              <p:nvSpPr>
                <p:cNvPr id="3123" name=""/>
                <p:cNvSpPr/>
                <p:nvPr/>
              </p:nvSpPr>
              <p:spPr>
                <a:xfrm>
                  <a:off x="4323600" y="36014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4323600" y="36014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5" name=""/>
              <p:cNvGrpSpPr/>
              <p:nvPr/>
            </p:nvGrpSpPr>
            <p:grpSpPr>
              <a:xfrm>
                <a:off x="4379400" y="3638160"/>
                <a:ext cx="72720" cy="91440"/>
                <a:chOff x="4379400" y="3638160"/>
                <a:chExt cx="72720" cy="91440"/>
              </a:xfrm>
            </p:grpSpPr>
            <p:sp>
              <p:nvSpPr>
                <p:cNvPr id="3126" name=""/>
                <p:cNvSpPr/>
                <p:nvPr/>
              </p:nvSpPr>
              <p:spPr>
                <a:xfrm>
                  <a:off x="4379400" y="36381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4379400" y="36381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8" name=""/>
              <p:cNvGrpSpPr/>
              <p:nvPr/>
            </p:nvGrpSpPr>
            <p:grpSpPr>
              <a:xfrm>
                <a:off x="4433400" y="3674520"/>
                <a:ext cx="72360" cy="91800"/>
                <a:chOff x="4433400" y="3674520"/>
                <a:chExt cx="72360" cy="91800"/>
              </a:xfrm>
            </p:grpSpPr>
            <p:sp>
              <p:nvSpPr>
                <p:cNvPr id="3129" name=""/>
                <p:cNvSpPr/>
                <p:nvPr/>
              </p:nvSpPr>
              <p:spPr>
                <a:xfrm>
                  <a:off x="4433400" y="367452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4433400" y="36745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1" name=""/>
              <p:cNvGrpSpPr/>
              <p:nvPr/>
            </p:nvGrpSpPr>
            <p:grpSpPr>
              <a:xfrm>
                <a:off x="4488840" y="3710880"/>
                <a:ext cx="72720" cy="91800"/>
                <a:chOff x="4488840" y="3710880"/>
                <a:chExt cx="72720" cy="91800"/>
              </a:xfrm>
            </p:grpSpPr>
            <p:sp>
              <p:nvSpPr>
                <p:cNvPr id="3132" name=""/>
                <p:cNvSpPr/>
                <p:nvPr/>
              </p:nvSpPr>
              <p:spPr>
                <a:xfrm>
                  <a:off x="4488840" y="37108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4488840" y="371088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34" name=""/>
            <p:cNvSpPr/>
            <p:nvPr/>
          </p:nvSpPr>
          <p:spPr>
            <a:xfrm>
              <a:off x="3796920" y="3292200"/>
              <a:ext cx="74592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35" name=""/>
            <p:cNvGrpSpPr/>
            <p:nvPr/>
          </p:nvGrpSpPr>
          <p:grpSpPr>
            <a:xfrm>
              <a:off x="3760560" y="3328920"/>
              <a:ext cx="745200" cy="546840"/>
              <a:chOff x="3760560" y="3328920"/>
              <a:chExt cx="745200" cy="546840"/>
            </a:xfrm>
          </p:grpSpPr>
          <p:grpSp>
            <p:nvGrpSpPr>
              <p:cNvPr id="3136" name=""/>
              <p:cNvGrpSpPr/>
              <p:nvPr/>
            </p:nvGrpSpPr>
            <p:grpSpPr>
              <a:xfrm>
                <a:off x="3760560" y="3328920"/>
                <a:ext cx="72720" cy="72720"/>
                <a:chOff x="3760560" y="3328920"/>
                <a:chExt cx="72720" cy="72720"/>
              </a:xfrm>
            </p:grpSpPr>
            <p:sp>
              <p:nvSpPr>
                <p:cNvPr id="3137" name=""/>
                <p:cNvSpPr/>
                <p:nvPr/>
              </p:nvSpPr>
              <p:spPr>
                <a:xfrm>
                  <a:off x="3760560" y="332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3760560" y="3328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9" name=""/>
              <p:cNvGrpSpPr/>
              <p:nvPr/>
            </p:nvGrpSpPr>
            <p:grpSpPr>
              <a:xfrm>
                <a:off x="3796560" y="3364920"/>
                <a:ext cx="90360" cy="72720"/>
                <a:chOff x="3796560" y="3364920"/>
                <a:chExt cx="90360" cy="72720"/>
              </a:xfrm>
            </p:grpSpPr>
            <p:sp>
              <p:nvSpPr>
                <p:cNvPr id="3140" name=""/>
                <p:cNvSpPr/>
                <p:nvPr/>
              </p:nvSpPr>
              <p:spPr>
                <a:xfrm>
                  <a:off x="3796560" y="336492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3796560" y="33649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2" name=""/>
              <p:cNvGrpSpPr/>
              <p:nvPr/>
            </p:nvGrpSpPr>
            <p:grpSpPr>
              <a:xfrm>
                <a:off x="3850560" y="3401640"/>
                <a:ext cx="91800" cy="72360"/>
                <a:chOff x="3850560" y="3401640"/>
                <a:chExt cx="91800" cy="72360"/>
              </a:xfrm>
            </p:grpSpPr>
            <p:sp>
              <p:nvSpPr>
                <p:cNvPr id="3143" name=""/>
                <p:cNvSpPr/>
                <p:nvPr/>
              </p:nvSpPr>
              <p:spPr>
                <a:xfrm>
                  <a:off x="3850560" y="340164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3850560" y="340164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5" name=""/>
              <p:cNvGrpSpPr/>
              <p:nvPr/>
            </p:nvGrpSpPr>
            <p:grpSpPr>
              <a:xfrm>
                <a:off x="3906360" y="3438000"/>
                <a:ext cx="90000" cy="72720"/>
                <a:chOff x="3906360" y="3438000"/>
                <a:chExt cx="90000" cy="72720"/>
              </a:xfrm>
            </p:grpSpPr>
            <p:sp>
              <p:nvSpPr>
                <p:cNvPr id="3146" name=""/>
                <p:cNvSpPr/>
                <p:nvPr/>
              </p:nvSpPr>
              <p:spPr>
                <a:xfrm>
                  <a:off x="3906360" y="3438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3906360" y="34380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8" name=""/>
              <p:cNvGrpSpPr/>
              <p:nvPr/>
            </p:nvGrpSpPr>
            <p:grpSpPr>
              <a:xfrm>
                <a:off x="3960360" y="3474360"/>
                <a:ext cx="72360" cy="72720"/>
                <a:chOff x="3960360" y="3474360"/>
                <a:chExt cx="72360" cy="72720"/>
              </a:xfrm>
            </p:grpSpPr>
            <p:sp>
              <p:nvSpPr>
                <p:cNvPr id="3149" name=""/>
                <p:cNvSpPr/>
                <p:nvPr/>
              </p:nvSpPr>
              <p:spPr>
                <a:xfrm>
                  <a:off x="3960360" y="34743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3960360" y="3474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1" name=""/>
              <p:cNvGrpSpPr/>
              <p:nvPr/>
            </p:nvGrpSpPr>
            <p:grpSpPr>
              <a:xfrm>
                <a:off x="4014000" y="3511080"/>
                <a:ext cx="72720" cy="72720"/>
                <a:chOff x="4014000" y="3511080"/>
                <a:chExt cx="72720" cy="72720"/>
              </a:xfrm>
            </p:grpSpPr>
            <p:sp>
              <p:nvSpPr>
                <p:cNvPr id="3152" name=""/>
                <p:cNvSpPr/>
                <p:nvPr/>
              </p:nvSpPr>
              <p:spPr>
                <a:xfrm>
                  <a:off x="4014000" y="3511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4014000" y="35110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4" name=""/>
              <p:cNvGrpSpPr/>
              <p:nvPr/>
            </p:nvGrpSpPr>
            <p:grpSpPr>
              <a:xfrm>
                <a:off x="4069800" y="3547440"/>
                <a:ext cx="72720" cy="72720"/>
                <a:chOff x="4069800" y="3547440"/>
                <a:chExt cx="72720" cy="72720"/>
              </a:xfrm>
            </p:grpSpPr>
            <p:sp>
              <p:nvSpPr>
                <p:cNvPr id="3155" name=""/>
                <p:cNvSpPr/>
                <p:nvPr/>
              </p:nvSpPr>
              <p:spPr>
                <a:xfrm>
                  <a:off x="4069800" y="35474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4069800" y="35474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7" name=""/>
              <p:cNvGrpSpPr/>
              <p:nvPr/>
            </p:nvGrpSpPr>
            <p:grpSpPr>
              <a:xfrm>
                <a:off x="4123800" y="3584160"/>
                <a:ext cx="72720" cy="72720"/>
                <a:chOff x="4123800" y="3584160"/>
                <a:chExt cx="72720" cy="72720"/>
              </a:xfrm>
            </p:grpSpPr>
            <p:sp>
              <p:nvSpPr>
                <p:cNvPr id="3158" name=""/>
                <p:cNvSpPr/>
                <p:nvPr/>
              </p:nvSpPr>
              <p:spPr>
                <a:xfrm>
                  <a:off x="4123800" y="3584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4123800" y="3584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0" name=""/>
              <p:cNvGrpSpPr/>
              <p:nvPr/>
            </p:nvGrpSpPr>
            <p:grpSpPr>
              <a:xfrm>
                <a:off x="4160160" y="3620520"/>
                <a:ext cx="91800" cy="72720"/>
                <a:chOff x="4160160" y="3620520"/>
                <a:chExt cx="91800" cy="72720"/>
              </a:xfrm>
            </p:grpSpPr>
            <p:sp>
              <p:nvSpPr>
                <p:cNvPr id="3161" name=""/>
                <p:cNvSpPr/>
                <p:nvPr/>
              </p:nvSpPr>
              <p:spPr>
                <a:xfrm>
                  <a:off x="4160160" y="36205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4160160" y="362052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3" name=""/>
              <p:cNvGrpSpPr/>
              <p:nvPr/>
            </p:nvGrpSpPr>
            <p:grpSpPr>
              <a:xfrm>
                <a:off x="4215960" y="3657240"/>
                <a:ext cx="90000" cy="72360"/>
                <a:chOff x="4215960" y="3657240"/>
                <a:chExt cx="90000" cy="72360"/>
              </a:xfrm>
            </p:grpSpPr>
            <p:sp>
              <p:nvSpPr>
                <p:cNvPr id="3164" name=""/>
                <p:cNvSpPr/>
                <p:nvPr/>
              </p:nvSpPr>
              <p:spPr>
                <a:xfrm>
                  <a:off x="4215960" y="365724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4215960" y="365724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6" name=""/>
              <p:cNvGrpSpPr/>
              <p:nvPr/>
            </p:nvGrpSpPr>
            <p:grpSpPr>
              <a:xfrm>
                <a:off x="4269600" y="3693600"/>
                <a:ext cx="90360" cy="72720"/>
                <a:chOff x="4269600" y="3693600"/>
                <a:chExt cx="90360" cy="72720"/>
              </a:xfrm>
            </p:grpSpPr>
            <p:sp>
              <p:nvSpPr>
                <p:cNvPr id="3167" name=""/>
                <p:cNvSpPr/>
                <p:nvPr/>
              </p:nvSpPr>
              <p:spPr>
                <a:xfrm>
                  <a:off x="4269600" y="36936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4269600" y="3693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9" name=""/>
              <p:cNvGrpSpPr/>
              <p:nvPr/>
            </p:nvGrpSpPr>
            <p:grpSpPr>
              <a:xfrm>
                <a:off x="4323600" y="3729960"/>
                <a:ext cx="72720" cy="72720"/>
                <a:chOff x="4323600" y="3729960"/>
                <a:chExt cx="72720" cy="72720"/>
              </a:xfrm>
            </p:grpSpPr>
            <p:sp>
              <p:nvSpPr>
                <p:cNvPr id="3170" name=""/>
                <p:cNvSpPr/>
                <p:nvPr/>
              </p:nvSpPr>
              <p:spPr>
                <a:xfrm>
                  <a:off x="4323600" y="3729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4323600" y="37299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2" name=""/>
              <p:cNvGrpSpPr/>
              <p:nvPr/>
            </p:nvGrpSpPr>
            <p:grpSpPr>
              <a:xfrm>
                <a:off x="4379400" y="3766680"/>
                <a:ext cx="72720" cy="72720"/>
                <a:chOff x="4379400" y="3766680"/>
                <a:chExt cx="72720" cy="72720"/>
              </a:xfrm>
            </p:grpSpPr>
            <p:sp>
              <p:nvSpPr>
                <p:cNvPr id="3173" name=""/>
                <p:cNvSpPr/>
                <p:nvPr/>
              </p:nvSpPr>
              <p:spPr>
                <a:xfrm>
                  <a:off x="4379400" y="3766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4379400" y="37666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5" name=""/>
              <p:cNvGrpSpPr/>
              <p:nvPr/>
            </p:nvGrpSpPr>
            <p:grpSpPr>
              <a:xfrm>
                <a:off x="4433400" y="3803040"/>
                <a:ext cx="72360" cy="72720"/>
                <a:chOff x="4433400" y="3803040"/>
                <a:chExt cx="72360" cy="72720"/>
              </a:xfrm>
            </p:grpSpPr>
            <p:sp>
              <p:nvSpPr>
                <p:cNvPr id="3176" name=""/>
                <p:cNvSpPr/>
                <p:nvPr/>
              </p:nvSpPr>
              <p:spPr>
                <a:xfrm>
                  <a:off x="4433400" y="380304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4433400" y="38030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8" name=""/>
            <p:cNvSpPr/>
            <p:nvPr/>
          </p:nvSpPr>
          <p:spPr>
            <a:xfrm>
              <a:off x="3741480" y="336528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59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9" name=""/>
            <p:cNvGrpSpPr/>
            <p:nvPr/>
          </p:nvGrpSpPr>
          <p:grpSpPr>
            <a:xfrm>
              <a:off x="3597120" y="3565440"/>
              <a:ext cx="745200" cy="527760"/>
              <a:chOff x="3597120" y="3565440"/>
              <a:chExt cx="745200" cy="527760"/>
            </a:xfrm>
          </p:grpSpPr>
          <p:grpSp>
            <p:nvGrpSpPr>
              <p:cNvPr id="3180" name=""/>
              <p:cNvGrpSpPr/>
              <p:nvPr/>
            </p:nvGrpSpPr>
            <p:grpSpPr>
              <a:xfrm>
                <a:off x="3597120" y="3565440"/>
                <a:ext cx="70920" cy="72720"/>
                <a:chOff x="3597120" y="3565440"/>
                <a:chExt cx="70920" cy="72720"/>
              </a:xfrm>
            </p:grpSpPr>
            <p:sp>
              <p:nvSpPr>
                <p:cNvPr id="3181" name=""/>
                <p:cNvSpPr/>
                <p:nvPr/>
              </p:nvSpPr>
              <p:spPr>
                <a:xfrm>
                  <a:off x="3597120" y="35654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3597120" y="356544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3" name=""/>
              <p:cNvGrpSpPr/>
              <p:nvPr/>
            </p:nvGrpSpPr>
            <p:grpSpPr>
              <a:xfrm>
                <a:off x="3631680" y="3584160"/>
                <a:ext cx="91800" cy="90000"/>
                <a:chOff x="3631680" y="3584160"/>
                <a:chExt cx="91800" cy="90000"/>
              </a:xfrm>
            </p:grpSpPr>
            <p:sp>
              <p:nvSpPr>
                <p:cNvPr id="3184" name=""/>
                <p:cNvSpPr/>
                <p:nvPr/>
              </p:nvSpPr>
              <p:spPr>
                <a:xfrm>
                  <a:off x="3631680" y="358416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5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3631680" y="358416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6" name=""/>
              <p:cNvGrpSpPr/>
              <p:nvPr/>
            </p:nvGrpSpPr>
            <p:grpSpPr>
              <a:xfrm>
                <a:off x="3687120" y="3638160"/>
                <a:ext cx="90000" cy="72360"/>
                <a:chOff x="3687120" y="3638160"/>
                <a:chExt cx="90000" cy="72360"/>
              </a:xfrm>
            </p:grpSpPr>
            <p:sp>
              <p:nvSpPr>
                <p:cNvPr id="3187" name=""/>
                <p:cNvSpPr/>
                <p:nvPr/>
              </p:nvSpPr>
              <p:spPr>
                <a:xfrm>
                  <a:off x="3687120" y="363816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3687120" y="36381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9" name=""/>
              <p:cNvGrpSpPr/>
              <p:nvPr/>
            </p:nvGrpSpPr>
            <p:grpSpPr>
              <a:xfrm>
                <a:off x="3741120" y="3657240"/>
                <a:ext cx="91800" cy="90000"/>
                <a:chOff x="3741120" y="3657240"/>
                <a:chExt cx="91800" cy="90000"/>
              </a:xfrm>
            </p:grpSpPr>
            <p:sp>
              <p:nvSpPr>
                <p:cNvPr id="3190" name=""/>
                <p:cNvSpPr/>
                <p:nvPr/>
              </p:nvSpPr>
              <p:spPr>
                <a:xfrm>
                  <a:off x="3741120" y="365724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3741120" y="3657240"/>
                  <a:ext cx="5508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2" name=""/>
              <p:cNvGrpSpPr/>
              <p:nvPr/>
            </p:nvGrpSpPr>
            <p:grpSpPr>
              <a:xfrm>
                <a:off x="3796560" y="3693600"/>
                <a:ext cx="72720" cy="90000"/>
                <a:chOff x="3796560" y="3693600"/>
                <a:chExt cx="72720" cy="90000"/>
              </a:xfrm>
            </p:grpSpPr>
            <p:sp>
              <p:nvSpPr>
                <p:cNvPr id="3193" name=""/>
                <p:cNvSpPr/>
                <p:nvPr/>
              </p:nvSpPr>
              <p:spPr>
                <a:xfrm>
                  <a:off x="3796560" y="36936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3796560" y="36936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5" name=""/>
              <p:cNvGrpSpPr/>
              <p:nvPr/>
            </p:nvGrpSpPr>
            <p:grpSpPr>
              <a:xfrm>
                <a:off x="3850560" y="3729960"/>
                <a:ext cx="72720" cy="90360"/>
                <a:chOff x="3850560" y="3729960"/>
                <a:chExt cx="72720" cy="90360"/>
              </a:xfrm>
            </p:grpSpPr>
            <p:sp>
              <p:nvSpPr>
                <p:cNvPr id="3196" name=""/>
                <p:cNvSpPr/>
                <p:nvPr/>
              </p:nvSpPr>
              <p:spPr>
                <a:xfrm>
                  <a:off x="3850560" y="372996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3850560" y="37299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8" name=""/>
              <p:cNvGrpSpPr/>
              <p:nvPr/>
            </p:nvGrpSpPr>
            <p:grpSpPr>
              <a:xfrm>
                <a:off x="3906360" y="3766680"/>
                <a:ext cx="70920" cy="90000"/>
                <a:chOff x="3906360" y="3766680"/>
                <a:chExt cx="70920" cy="90000"/>
              </a:xfrm>
            </p:grpSpPr>
            <p:sp>
              <p:nvSpPr>
                <p:cNvPr id="3199" name=""/>
                <p:cNvSpPr/>
                <p:nvPr/>
              </p:nvSpPr>
              <p:spPr>
                <a:xfrm>
                  <a:off x="3906360" y="3766680"/>
                  <a:ext cx="709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3906360" y="37666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1" name=""/>
              <p:cNvGrpSpPr/>
              <p:nvPr/>
            </p:nvGrpSpPr>
            <p:grpSpPr>
              <a:xfrm>
                <a:off x="3960360" y="3803040"/>
                <a:ext cx="72360" cy="90360"/>
                <a:chOff x="3960360" y="3803040"/>
                <a:chExt cx="72360" cy="90360"/>
              </a:xfrm>
            </p:grpSpPr>
            <p:sp>
              <p:nvSpPr>
                <p:cNvPr id="3202" name=""/>
                <p:cNvSpPr/>
                <p:nvPr/>
              </p:nvSpPr>
              <p:spPr>
                <a:xfrm>
                  <a:off x="3960360" y="3803040"/>
                  <a:ext cx="7236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3960360" y="380304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4" name=""/>
              <p:cNvGrpSpPr/>
              <p:nvPr/>
            </p:nvGrpSpPr>
            <p:grpSpPr>
              <a:xfrm>
                <a:off x="3996720" y="3839760"/>
                <a:ext cx="90000" cy="90000"/>
                <a:chOff x="3996720" y="3839760"/>
                <a:chExt cx="90000" cy="90000"/>
              </a:xfrm>
            </p:grpSpPr>
            <p:sp>
              <p:nvSpPr>
                <p:cNvPr id="3205" name=""/>
                <p:cNvSpPr/>
                <p:nvPr/>
              </p:nvSpPr>
              <p:spPr>
                <a:xfrm>
                  <a:off x="3996720" y="383976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3996720" y="383976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7" name=""/>
              <p:cNvGrpSpPr/>
              <p:nvPr/>
            </p:nvGrpSpPr>
            <p:grpSpPr>
              <a:xfrm>
                <a:off x="4050720" y="3876120"/>
                <a:ext cx="91800" cy="90000"/>
                <a:chOff x="4050720" y="3876120"/>
                <a:chExt cx="91800" cy="90000"/>
              </a:xfrm>
            </p:grpSpPr>
            <p:sp>
              <p:nvSpPr>
                <p:cNvPr id="3208" name=""/>
                <p:cNvSpPr/>
                <p:nvPr/>
              </p:nvSpPr>
              <p:spPr>
                <a:xfrm>
                  <a:off x="4050720" y="387612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4050720" y="387612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0" name=""/>
              <p:cNvGrpSpPr/>
              <p:nvPr/>
            </p:nvGrpSpPr>
            <p:grpSpPr>
              <a:xfrm>
                <a:off x="4106160" y="3912480"/>
                <a:ext cx="90360" cy="90360"/>
                <a:chOff x="4106160" y="3912480"/>
                <a:chExt cx="90360" cy="90360"/>
              </a:xfrm>
            </p:grpSpPr>
            <p:sp>
              <p:nvSpPr>
                <p:cNvPr id="3211" name=""/>
                <p:cNvSpPr/>
                <p:nvPr/>
              </p:nvSpPr>
              <p:spPr>
                <a:xfrm>
                  <a:off x="4106160" y="3912480"/>
                  <a:ext cx="9036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4106160" y="39124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3" name=""/>
              <p:cNvGrpSpPr/>
              <p:nvPr/>
            </p:nvGrpSpPr>
            <p:grpSpPr>
              <a:xfrm>
                <a:off x="4160160" y="3947760"/>
                <a:ext cx="72720" cy="91440"/>
                <a:chOff x="4160160" y="3947760"/>
                <a:chExt cx="72720" cy="91440"/>
              </a:xfrm>
            </p:grpSpPr>
            <p:sp>
              <p:nvSpPr>
                <p:cNvPr id="3214" name=""/>
                <p:cNvSpPr/>
                <p:nvPr/>
              </p:nvSpPr>
              <p:spPr>
                <a:xfrm>
                  <a:off x="4160160" y="39477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4160160" y="39477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6" name=""/>
              <p:cNvGrpSpPr/>
              <p:nvPr/>
            </p:nvGrpSpPr>
            <p:grpSpPr>
              <a:xfrm>
                <a:off x="4215960" y="3984120"/>
                <a:ext cx="70920" cy="91800"/>
                <a:chOff x="4215960" y="3984120"/>
                <a:chExt cx="70920" cy="91800"/>
              </a:xfrm>
            </p:grpSpPr>
            <p:sp>
              <p:nvSpPr>
                <p:cNvPr id="3217" name=""/>
                <p:cNvSpPr/>
                <p:nvPr/>
              </p:nvSpPr>
              <p:spPr>
                <a:xfrm>
                  <a:off x="4215960" y="398412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4215960" y="39841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9" name=""/>
              <p:cNvGrpSpPr/>
              <p:nvPr/>
            </p:nvGrpSpPr>
            <p:grpSpPr>
              <a:xfrm>
                <a:off x="4269600" y="4020480"/>
                <a:ext cx="72720" cy="72720"/>
                <a:chOff x="4269600" y="4020480"/>
                <a:chExt cx="72720" cy="72720"/>
              </a:xfrm>
            </p:grpSpPr>
            <p:sp>
              <p:nvSpPr>
                <p:cNvPr id="3220" name=""/>
                <p:cNvSpPr/>
                <p:nvPr/>
              </p:nvSpPr>
              <p:spPr>
                <a:xfrm>
                  <a:off x="4269600" y="4020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4269600" y="40204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2" name=""/>
            <p:cNvSpPr/>
            <p:nvPr/>
          </p:nvSpPr>
          <p:spPr>
            <a:xfrm>
              <a:off x="3578040" y="360180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23" name=""/>
            <p:cNvGrpSpPr/>
            <p:nvPr/>
          </p:nvGrpSpPr>
          <p:grpSpPr>
            <a:xfrm>
              <a:off x="4233600" y="2637000"/>
              <a:ext cx="764640" cy="545400"/>
              <a:chOff x="4233600" y="2637000"/>
              <a:chExt cx="764640" cy="545400"/>
            </a:xfrm>
          </p:grpSpPr>
          <p:grpSp>
            <p:nvGrpSpPr>
              <p:cNvPr id="3224" name=""/>
              <p:cNvGrpSpPr/>
              <p:nvPr/>
            </p:nvGrpSpPr>
            <p:grpSpPr>
              <a:xfrm>
                <a:off x="4233600" y="2637000"/>
                <a:ext cx="90000" cy="72720"/>
                <a:chOff x="4233600" y="2637000"/>
                <a:chExt cx="90000" cy="72720"/>
              </a:xfrm>
            </p:grpSpPr>
            <p:sp>
              <p:nvSpPr>
                <p:cNvPr id="3225" name=""/>
                <p:cNvSpPr/>
                <p:nvPr/>
              </p:nvSpPr>
              <p:spPr>
                <a:xfrm>
                  <a:off x="4233600" y="2637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4233600" y="26370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7" name=""/>
              <p:cNvGrpSpPr/>
              <p:nvPr/>
            </p:nvGrpSpPr>
            <p:grpSpPr>
              <a:xfrm>
                <a:off x="4287240" y="2673360"/>
                <a:ext cx="91800" cy="72360"/>
                <a:chOff x="4287240" y="2673360"/>
                <a:chExt cx="91800" cy="72360"/>
              </a:xfrm>
            </p:grpSpPr>
            <p:sp>
              <p:nvSpPr>
                <p:cNvPr id="3228" name=""/>
                <p:cNvSpPr/>
                <p:nvPr/>
              </p:nvSpPr>
              <p:spPr>
                <a:xfrm>
                  <a:off x="4287240" y="26733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>
                  <a:off x="4287240" y="267336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0" name=""/>
              <p:cNvGrpSpPr/>
              <p:nvPr/>
            </p:nvGrpSpPr>
            <p:grpSpPr>
              <a:xfrm>
                <a:off x="4342680" y="2709720"/>
                <a:ext cx="72720" cy="70920"/>
                <a:chOff x="4342680" y="2709720"/>
                <a:chExt cx="72720" cy="70920"/>
              </a:xfrm>
            </p:grpSpPr>
            <p:sp>
              <p:nvSpPr>
                <p:cNvPr id="3231" name=""/>
                <p:cNvSpPr/>
                <p:nvPr/>
              </p:nvSpPr>
              <p:spPr>
                <a:xfrm>
                  <a:off x="4342680" y="270972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4342680" y="27097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3" name=""/>
              <p:cNvGrpSpPr/>
              <p:nvPr/>
            </p:nvGrpSpPr>
            <p:grpSpPr>
              <a:xfrm>
                <a:off x="4396680" y="2746080"/>
                <a:ext cx="72720" cy="71280"/>
                <a:chOff x="4396680" y="2746080"/>
                <a:chExt cx="72720" cy="71280"/>
              </a:xfrm>
            </p:grpSpPr>
            <p:sp>
              <p:nvSpPr>
                <p:cNvPr id="3234" name=""/>
                <p:cNvSpPr/>
                <p:nvPr/>
              </p:nvSpPr>
              <p:spPr>
                <a:xfrm>
                  <a:off x="4396680" y="274608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4396680" y="2746080"/>
                  <a:ext cx="3636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6" name=""/>
              <p:cNvGrpSpPr/>
              <p:nvPr/>
            </p:nvGrpSpPr>
            <p:grpSpPr>
              <a:xfrm>
                <a:off x="4452480" y="2781000"/>
                <a:ext cx="72360" cy="72720"/>
                <a:chOff x="4452480" y="2781000"/>
                <a:chExt cx="72360" cy="72720"/>
              </a:xfrm>
            </p:grpSpPr>
            <p:sp>
              <p:nvSpPr>
                <p:cNvPr id="3237" name=""/>
                <p:cNvSpPr/>
                <p:nvPr/>
              </p:nvSpPr>
              <p:spPr>
                <a:xfrm>
                  <a:off x="4452480" y="27810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4452480" y="27810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9" name=""/>
              <p:cNvGrpSpPr/>
              <p:nvPr/>
            </p:nvGrpSpPr>
            <p:grpSpPr>
              <a:xfrm>
                <a:off x="4506120" y="2817720"/>
                <a:ext cx="72720" cy="72720"/>
                <a:chOff x="4506120" y="2817720"/>
                <a:chExt cx="72720" cy="72720"/>
              </a:xfrm>
            </p:grpSpPr>
            <p:sp>
              <p:nvSpPr>
                <p:cNvPr id="3240" name=""/>
                <p:cNvSpPr/>
                <p:nvPr/>
              </p:nvSpPr>
              <p:spPr>
                <a:xfrm>
                  <a:off x="4506120" y="2817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4506120" y="28177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2" name=""/>
              <p:cNvGrpSpPr/>
              <p:nvPr/>
            </p:nvGrpSpPr>
            <p:grpSpPr>
              <a:xfrm>
                <a:off x="4561920" y="2854080"/>
                <a:ext cx="70920" cy="72720"/>
                <a:chOff x="4561920" y="2854080"/>
                <a:chExt cx="70920" cy="72720"/>
              </a:xfrm>
            </p:grpSpPr>
            <p:sp>
              <p:nvSpPr>
                <p:cNvPr id="3243" name=""/>
                <p:cNvSpPr/>
                <p:nvPr/>
              </p:nvSpPr>
              <p:spPr>
                <a:xfrm>
                  <a:off x="4561920" y="285408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4561920" y="2854080"/>
                  <a:ext cx="345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5" name=""/>
              <p:cNvGrpSpPr/>
              <p:nvPr/>
            </p:nvGrpSpPr>
            <p:grpSpPr>
              <a:xfrm>
                <a:off x="4596840" y="2890800"/>
                <a:ext cx="91800" cy="72360"/>
                <a:chOff x="4596840" y="2890800"/>
                <a:chExt cx="91800" cy="72360"/>
              </a:xfrm>
            </p:grpSpPr>
            <p:sp>
              <p:nvSpPr>
                <p:cNvPr id="3246" name=""/>
                <p:cNvSpPr/>
                <p:nvPr/>
              </p:nvSpPr>
              <p:spPr>
                <a:xfrm>
                  <a:off x="4596840" y="289080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4596840" y="289080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8" name=""/>
              <p:cNvGrpSpPr/>
              <p:nvPr/>
            </p:nvGrpSpPr>
            <p:grpSpPr>
              <a:xfrm>
                <a:off x="4652280" y="2927160"/>
                <a:ext cx="72720" cy="72720"/>
                <a:chOff x="4652280" y="2927160"/>
                <a:chExt cx="72720" cy="72720"/>
              </a:xfrm>
            </p:grpSpPr>
            <p:sp>
              <p:nvSpPr>
                <p:cNvPr id="3249" name=""/>
                <p:cNvSpPr/>
                <p:nvPr/>
              </p:nvSpPr>
              <p:spPr>
                <a:xfrm>
                  <a:off x="4652280" y="2927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4652280" y="29271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1" name=""/>
              <p:cNvGrpSpPr/>
              <p:nvPr/>
            </p:nvGrpSpPr>
            <p:grpSpPr>
              <a:xfrm>
                <a:off x="4706280" y="2963520"/>
                <a:ext cx="72720" cy="72720"/>
                <a:chOff x="4706280" y="2963520"/>
                <a:chExt cx="72720" cy="72720"/>
              </a:xfrm>
            </p:grpSpPr>
            <p:sp>
              <p:nvSpPr>
                <p:cNvPr id="3252" name=""/>
                <p:cNvSpPr/>
                <p:nvPr/>
              </p:nvSpPr>
              <p:spPr>
                <a:xfrm>
                  <a:off x="4706280" y="2963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4706280" y="2963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4" name=""/>
              <p:cNvGrpSpPr/>
              <p:nvPr/>
            </p:nvGrpSpPr>
            <p:grpSpPr>
              <a:xfrm>
                <a:off x="4761720" y="3000240"/>
                <a:ext cx="72720" cy="72720"/>
                <a:chOff x="4761720" y="3000240"/>
                <a:chExt cx="72720" cy="72720"/>
              </a:xfrm>
            </p:grpSpPr>
            <p:sp>
              <p:nvSpPr>
                <p:cNvPr id="3255" name=""/>
                <p:cNvSpPr/>
                <p:nvPr/>
              </p:nvSpPr>
              <p:spPr>
                <a:xfrm>
                  <a:off x="4761720" y="3000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4761720" y="30002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7" name=""/>
              <p:cNvGrpSpPr/>
              <p:nvPr/>
            </p:nvGrpSpPr>
            <p:grpSpPr>
              <a:xfrm>
                <a:off x="4815720" y="3036600"/>
                <a:ext cx="72720" cy="72720"/>
                <a:chOff x="4815720" y="3036600"/>
                <a:chExt cx="72720" cy="72720"/>
              </a:xfrm>
            </p:grpSpPr>
            <p:sp>
              <p:nvSpPr>
                <p:cNvPr id="3258" name=""/>
                <p:cNvSpPr/>
                <p:nvPr/>
              </p:nvSpPr>
              <p:spPr>
                <a:xfrm>
                  <a:off x="4815720" y="30366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4815720" y="303660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0" name=""/>
              <p:cNvGrpSpPr/>
              <p:nvPr/>
            </p:nvGrpSpPr>
            <p:grpSpPr>
              <a:xfrm>
                <a:off x="4871520" y="3073320"/>
                <a:ext cx="70920" cy="72720"/>
                <a:chOff x="4871520" y="3073320"/>
                <a:chExt cx="70920" cy="72720"/>
              </a:xfrm>
            </p:grpSpPr>
            <p:sp>
              <p:nvSpPr>
                <p:cNvPr id="3261" name=""/>
                <p:cNvSpPr/>
                <p:nvPr/>
              </p:nvSpPr>
              <p:spPr>
                <a:xfrm>
                  <a:off x="4871520" y="307332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4871520" y="30733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3" name=""/>
              <p:cNvGrpSpPr/>
              <p:nvPr/>
            </p:nvGrpSpPr>
            <p:grpSpPr>
              <a:xfrm>
                <a:off x="4925520" y="3109680"/>
                <a:ext cx="72720" cy="72720"/>
                <a:chOff x="4925520" y="3109680"/>
                <a:chExt cx="72720" cy="72720"/>
              </a:xfrm>
            </p:grpSpPr>
            <p:sp>
              <p:nvSpPr>
                <p:cNvPr id="3264" name=""/>
                <p:cNvSpPr/>
                <p:nvPr/>
              </p:nvSpPr>
              <p:spPr>
                <a:xfrm>
                  <a:off x="4925520" y="3109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4925520" y="31096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6" name=""/>
            <p:cNvSpPr/>
            <p:nvPr/>
          </p:nvSpPr>
          <p:spPr>
            <a:xfrm>
              <a:off x="4233600" y="269064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67" name=""/>
            <p:cNvGrpSpPr/>
            <p:nvPr/>
          </p:nvGrpSpPr>
          <p:grpSpPr>
            <a:xfrm>
              <a:off x="4070160" y="2873160"/>
              <a:ext cx="764280" cy="545400"/>
              <a:chOff x="4070160" y="2873160"/>
              <a:chExt cx="764280" cy="545400"/>
            </a:xfrm>
          </p:grpSpPr>
          <p:grpSp>
            <p:nvGrpSpPr>
              <p:cNvPr id="3268" name=""/>
              <p:cNvGrpSpPr/>
              <p:nvPr/>
            </p:nvGrpSpPr>
            <p:grpSpPr>
              <a:xfrm>
                <a:off x="4070160" y="2873160"/>
                <a:ext cx="90000" cy="72720"/>
                <a:chOff x="4070160" y="2873160"/>
                <a:chExt cx="90000" cy="72720"/>
              </a:xfrm>
            </p:grpSpPr>
            <p:sp>
              <p:nvSpPr>
                <p:cNvPr id="3269" name=""/>
                <p:cNvSpPr/>
                <p:nvPr/>
              </p:nvSpPr>
              <p:spPr>
                <a:xfrm>
                  <a:off x="4070160" y="28731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4070160" y="28731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1" name=""/>
              <p:cNvGrpSpPr/>
              <p:nvPr/>
            </p:nvGrpSpPr>
            <p:grpSpPr>
              <a:xfrm>
                <a:off x="4123800" y="2909520"/>
                <a:ext cx="91800" cy="72360"/>
                <a:chOff x="4123800" y="2909520"/>
                <a:chExt cx="91800" cy="72360"/>
              </a:xfrm>
            </p:grpSpPr>
            <p:sp>
              <p:nvSpPr>
                <p:cNvPr id="3272" name=""/>
                <p:cNvSpPr/>
                <p:nvPr/>
              </p:nvSpPr>
              <p:spPr>
                <a:xfrm>
                  <a:off x="4123800" y="290952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4123800" y="290952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4" name=""/>
              <p:cNvGrpSpPr/>
              <p:nvPr/>
            </p:nvGrpSpPr>
            <p:grpSpPr>
              <a:xfrm>
                <a:off x="4179240" y="2945880"/>
                <a:ext cx="72720" cy="72720"/>
                <a:chOff x="4179240" y="2945880"/>
                <a:chExt cx="72720" cy="72720"/>
              </a:xfrm>
            </p:grpSpPr>
            <p:sp>
              <p:nvSpPr>
                <p:cNvPr id="3275" name=""/>
                <p:cNvSpPr/>
                <p:nvPr/>
              </p:nvSpPr>
              <p:spPr>
                <a:xfrm>
                  <a:off x="4179240" y="2945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4179240" y="29458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7" name=""/>
              <p:cNvGrpSpPr/>
              <p:nvPr/>
            </p:nvGrpSpPr>
            <p:grpSpPr>
              <a:xfrm>
                <a:off x="4233240" y="2963160"/>
                <a:ext cx="72720" cy="91800"/>
                <a:chOff x="4233240" y="2963160"/>
                <a:chExt cx="72720" cy="91800"/>
              </a:xfrm>
            </p:grpSpPr>
            <p:sp>
              <p:nvSpPr>
                <p:cNvPr id="3278" name=""/>
                <p:cNvSpPr/>
                <p:nvPr/>
              </p:nvSpPr>
              <p:spPr>
                <a:xfrm>
                  <a:off x="4233240" y="29631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4233240" y="29631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0" name=""/>
              <p:cNvGrpSpPr/>
              <p:nvPr/>
            </p:nvGrpSpPr>
            <p:grpSpPr>
              <a:xfrm>
                <a:off x="4287240" y="3018960"/>
                <a:ext cx="72720" cy="72720"/>
                <a:chOff x="4287240" y="3018960"/>
                <a:chExt cx="72720" cy="72720"/>
              </a:xfrm>
            </p:grpSpPr>
            <p:sp>
              <p:nvSpPr>
                <p:cNvPr id="3281" name=""/>
                <p:cNvSpPr/>
                <p:nvPr/>
              </p:nvSpPr>
              <p:spPr>
                <a:xfrm>
                  <a:off x="4287240" y="3018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4287240" y="3018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3" name=""/>
              <p:cNvGrpSpPr/>
              <p:nvPr/>
            </p:nvGrpSpPr>
            <p:grpSpPr>
              <a:xfrm>
                <a:off x="4342680" y="3036240"/>
                <a:ext cx="72720" cy="91800"/>
                <a:chOff x="4342680" y="3036240"/>
                <a:chExt cx="72720" cy="91800"/>
              </a:xfrm>
            </p:grpSpPr>
            <p:sp>
              <p:nvSpPr>
                <p:cNvPr id="3284" name=""/>
                <p:cNvSpPr/>
                <p:nvPr/>
              </p:nvSpPr>
              <p:spPr>
                <a:xfrm>
                  <a:off x="4342680" y="30362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4342680" y="30362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6" name=""/>
              <p:cNvGrpSpPr/>
              <p:nvPr/>
            </p:nvGrpSpPr>
            <p:grpSpPr>
              <a:xfrm>
                <a:off x="4396680" y="3072960"/>
                <a:ext cx="72720" cy="91800"/>
                <a:chOff x="4396680" y="3072960"/>
                <a:chExt cx="72720" cy="9180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4396680" y="30729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4396680" y="30729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9" name=""/>
              <p:cNvGrpSpPr/>
              <p:nvPr/>
            </p:nvGrpSpPr>
            <p:grpSpPr>
              <a:xfrm>
                <a:off x="4433400" y="3109320"/>
                <a:ext cx="91440" cy="91800"/>
                <a:chOff x="4433400" y="3109320"/>
                <a:chExt cx="91440" cy="91800"/>
              </a:xfrm>
            </p:grpSpPr>
            <p:sp>
              <p:nvSpPr>
                <p:cNvPr id="3290" name=""/>
                <p:cNvSpPr/>
                <p:nvPr/>
              </p:nvSpPr>
              <p:spPr>
                <a:xfrm>
                  <a:off x="4433400" y="3109320"/>
                  <a:ext cx="9144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4433400" y="310932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2" name=""/>
              <p:cNvGrpSpPr/>
              <p:nvPr/>
            </p:nvGrpSpPr>
            <p:grpSpPr>
              <a:xfrm>
                <a:off x="4488840" y="3146040"/>
                <a:ext cx="90000" cy="91440"/>
                <a:chOff x="4488840" y="3146040"/>
                <a:chExt cx="90000" cy="91440"/>
              </a:xfrm>
            </p:grpSpPr>
            <p:sp>
              <p:nvSpPr>
                <p:cNvPr id="3293" name=""/>
                <p:cNvSpPr/>
                <p:nvPr/>
              </p:nvSpPr>
              <p:spPr>
                <a:xfrm>
                  <a:off x="4488840" y="3146040"/>
                  <a:ext cx="90000" cy="9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4488840" y="314604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5" name=""/>
              <p:cNvGrpSpPr/>
              <p:nvPr/>
            </p:nvGrpSpPr>
            <p:grpSpPr>
              <a:xfrm>
                <a:off x="4542840" y="3182400"/>
                <a:ext cx="72720" cy="91800"/>
                <a:chOff x="4542840" y="3182400"/>
                <a:chExt cx="72720" cy="91800"/>
              </a:xfrm>
            </p:grpSpPr>
            <p:sp>
              <p:nvSpPr>
                <p:cNvPr id="3296" name=""/>
                <p:cNvSpPr/>
                <p:nvPr/>
              </p:nvSpPr>
              <p:spPr>
                <a:xfrm>
                  <a:off x="4542840" y="31824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4542840" y="318240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8" name=""/>
              <p:cNvGrpSpPr/>
              <p:nvPr/>
            </p:nvGrpSpPr>
            <p:grpSpPr>
              <a:xfrm>
                <a:off x="4596840" y="3218760"/>
                <a:ext cx="72720" cy="91800"/>
                <a:chOff x="4596840" y="3218760"/>
                <a:chExt cx="72720" cy="9180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4596840" y="32187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4596840" y="32187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1" name=""/>
              <p:cNvGrpSpPr/>
              <p:nvPr/>
            </p:nvGrpSpPr>
            <p:grpSpPr>
              <a:xfrm>
                <a:off x="4652280" y="3255480"/>
                <a:ext cx="72720" cy="91800"/>
                <a:chOff x="4652280" y="3255480"/>
                <a:chExt cx="72720" cy="91800"/>
              </a:xfrm>
            </p:grpSpPr>
            <p:sp>
              <p:nvSpPr>
                <p:cNvPr id="3302" name=""/>
                <p:cNvSpPr/>
                <p:nvPr/>
              </p:nvSpPr>
              <p:spPr>
                <a:xfrm>
                  <a:off x="4652280" y="32554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4652280" y="325548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4" name=""/>
              <p:cNvGrpSpPr/>
              <p:nvPr/>
            </p:nvGrpSpPr>
            <p:grpSpPr>
              <a:xfrm>
                <a:off x="4706280" y="3291840"/>
                <a:ext cx="72720" cy="90360"/>
                <a:chOff x="4706280" y="3291840"/>
                <a:chExt cx="72720" cy="90360"/>
              </a:xfrm>
            </p:grpSpPr>
            <p:sp>
              <p:nvSpPr>
                <p:cNvPr id="3305" name=""/>
                <p:cNvSpPr/>
                <p:nvPr/>
              </p:nvSpPr>
              <p:spPr>
                <a:xfrm>
                  <a:off x="4706280" y="329184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4706280" y="32918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7" name=""/>
              <p:cNvGrpSpPr/>
              <p:nvPr/>
            </p:nvGrpSpPr>
            <p:grpSpPr>
              <a:xfrm>
                <a:off x="4761720" y="3328560"/>
                <a:ext cx="72720" cy="90000"/>
                <a:chOff x="4761720" y="3328560"/>
                <a:chExt cx="72720" cy="90000"/>
              </a:xfrm>
            </p:grpSpPr>
            <p:sp>
              <p:nvSpPr>
                <p:cNvPr id="3308" name=""/>
                <p:cNvSpPr/>
                <p:nvPr/>
              </p:nvSpPr>
              <p:spPr>
                <a:xfrm>
                  <a:off x="4761720" y="332856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4761720" y="33285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10" name=""/>
            <p:cNvSpPr/>
            <p:nvPr/>
          </p:nvSpPr>
          <p:spPr>
            <a:xfrm>
              <a:off x="4070160" y="2909880"/>
              <a:ext cx="745560" cy="582120"/>
            </a:xfrm>
            <a:custGeom>
              <a:avLst/>
              <a:gdLst/>
              <a:ahLst/>
              <a:rect l="l" t="t" r="r" b="b"/>
              <a:pathLst>
                <a:path w="470" h="367">
                  <a:moveTo>
                    <a:pt x="447" y="367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11" name=""/>
            <p:cNvGrpSpPr/>
            <p:nvPr/>
          </p:nvGrpSpPr>
          <p:grpSpPr>
            <a:xfrm>
              <a:off x="4124160" y="2781000"/>
              <a:ext cx="764280" cy="547200"/>
              <a:chOff x="4124160" y="2781000"/>
              <a:chExt cx="764280" cy="547200"/>
            </a:xfrm>
          </p:grpSpPr>
          <p:grpSp>
            <p:nvGrpSpPr>
              <p:cNvPr id="3312" name=""/>
              <p:cNvGrpSpPr/>
              <p:nvPr/>
            </p:nvGrpSpPr>
            <p:grpSpPr>
              <a:xfrm>
                <a:off x="4124160" y="2781000"/>
                <a:ext cx="91800" cy="91800"/>
                <a:chOff x="4124160" y="2781000"/>
                <a:chExt cx="91800" cy="91800"/>
              </a:xfrm>
            </p:grpSpPr>
            <p:sp>
              <p:nvSpPr>
                <p:cNvPr id="3313" name=""/>
                <p:cNvSpPr/>
                <p:nvPr/>
              </p:nvSpPr>
              <p:spPr>
                <a:xfrm>
                  <a:off x="4124160" y="278100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4124160" y="278100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5" name=""/>
              <p:cNvGrpSpPr/>
              <p:nvPr/>
            </p:nvGrpSpPr>
            <p:grpSpPr>
              <a:xfrm>
                <a:off x="4179240" y="2817360"/>
                <a:ext cx="90000" cy="91800"/>
                <a:chOff x="4179240" y="2817360"/>
                <a:chExt cx="90000" cy="91800"/>
              </a:xfrm>
            </p:grpSpPr>
            <p:sp>
              <p:nvSpPr>
                <p:cNvPr id="3316" name=""/>
                <p:cNvSpPr/>
                <p:nvPr/>
              </p:nvSpPr>
              <p:spPr>
                <a:xfrm>
                  <a:off x="4179240" y="281736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4179240" y="281736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8" name=""/>
              <p:cNvGrpSpPr/>
              <p:nvPr/>
            </p:nvGrpSpPr>
            <p:grpSpPr>
              <a:xfrm>
                <a:off x="4233240" y="2853720"/>
                <a:ext cx="72720" cy="91800"/>
                <a:chOff x="4233240" y="2853720"/>
                <a:chExt cx="72720" cy="91800"/>
              </a:xfrm>
            </p:grpSpPr>
            <p:sp>
              <p:nvSpPr>
                <p:cNvPr id="3319" name=""/>
                <p:cNvSpPr/>
                <p:nvPr/>
              </p:nvSpPr>
              <p:spPr>
                <a:xfrm>
                  <a:off x="4233240" y="28537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4233240" y="285372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1" name=""/>
              <p:cNvGrpSpPr/>
              <p:nvPr/>
            </p:nvGrpSpPr>
            <p:grpSpPr>
              <a:xfrm>
                <a:off x="4287240" y="2890440"/>
                <a:ext cx="72720" cy="91440"/>
                <a:chOff x="4287240" y="2890440"/>
                <a:chExt cx="72720" cy="91440"/>
              </a:xfrm>
            </p:grpSpPr>
            <p:sp>
              <p:nvSpPr>
                <p:cNvPr id="3322" name=""/>
                <p:cNvSpPr/>
                <p:nvPr/>
              </p:nvSpPr>
              <p:spPr>
                <a:xfrm>
                  <a:off x="4287240" y="289044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>
                  <a:off x="4287240" y="289044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4" name=""/>
              <p:cNvGrpSpPr/>
              <p:nvPr/>
            </p:nvGrpSpPr>
            <p:grpSpPr>
              <a:xfrm>
                <a:off x="4342680" y="2926800"/>
                <a:ext cx="72720" cy="91800"/>
                <a:chOff x="4342680" y="2926800"/>
                <a:chExt cx="72720" cy="91800"/>
              </a:xfrm>
            </p:grpSpPr>
            <p:sp>
              <p:nvSpPr>
                <p:cNvPr id="3325" name=""/>
                <p:cNvSpPr/>
                <p:nvPr/>
              </p:nvSpPr>
              <p:spPr>
                <a:xfrm>
                  <a:off x="4342680" y="29268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4342680" y="29268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7" name=""/>
              <p:cNvGrpSpPr/>
              <p:nvPr/>
            </p:nvGrpSpPr>
            <p:grpSpPr>
              <a:xfrm>
                <a:off x="4396680" y="2963160"/>
                <a:ext cx="72720" cy="91800"/>
                <a:chOff x="4396680" y="2963160"/>
                <a:chExt cx="72720" cy="91800"/>
              </a:xfrm>
            </p:grpSpPr>
            <p:sp>
              <p:nvSpPr>
                <p:cNvPr id="3328" name=""/>
                <p:cNvSpPr/>
                <p:nvPr/>
              </p:nvSpPr>
              <p:spPr>
                <a:xfrm>
                  <a:off x="4396680" y="29631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>
                  <a:off x="4396680" y="296316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0" name=""/>
              <p:cNvGrpSpPr/>
              <p:nvPr/>
            </p:nvGrpSpPr>
            <p:grpSpPr>
              <a:xfrm>
                <a:off x="4452480" y="2999880"/>
                <a:ext cx="72360" cy="91800"/>
                <a:chOff x="4452480" y="2999880"/>
                <a:chExt cx="72360" cy="91800"/>
              </a:xfrm>
            </p:grpSpPr>
            <p:sp>
              <p:nvSpPr>
                <p:cNvPr id="3331" name=""/>
                <p:cNvSpPr/>
                <p:nvPr/>
              </p:nvSpPr>
              <p:spPr>
                <a:xfrm>
                  <a:off x="4452480" y="299988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4452480" y="299988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3" name=""/>
              <p:cNvGrpSpPr/>
              <p:nvPr/>
            </p:nvGrpSpPr>
            <p:grpSpPr>
              <a:xfrm>
                <a:off x="4488840" y="3036240"/>
                <a:ext cx="90000" cy="91800"/>
                <a:chOff x="4488840" y="3036240"/>
                <a:chExt cx="90000" cy="91800"/>
              </a:xfrm>
            </p:grpSpPr>
            <p:sp>
              <p:nvSpPr>
                <p:cNvPr id="3334" name=""/>
                <p:cNvSpPr/>
                <p:nvPr/>
              </p:nvSpPr>
              <p:spPr>
                <a:xfrm>
                  <a:off x="4488840" y="303624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4488840" y="303624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6" name=""/>
              <p:cNvGrpSpPr/>
              <p:nvPr/>
            </p:nvGrpSpPr>
            <p:grpSpPr>
              <a:xfrm>
                <a:off x="4542840" y="3072960"/>
                <a:ext cx="90000" cy="91800"/>
                <a:chOff x="4542840" y="3072960"/>
                <a:chExt cx="90000" cy="91800"/>
              </a:xfrm>
            </p:grpSpPr>
            <p:sp>
              <p:nvSpPr>
                <p:cNvPr id="3337" name=""/>
                <p:cNvSpPr/>
                <p:nvPr/>
              </p:nvSpPr>
              <p:spPr>
                <a:xfrm>
                  <a:off x="4542840" y="307296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4542840" y="307296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9" name=""/>
              <p:cNvGrpSpPr/>
              <p:nvPr/>
            </p:nvGrpSpPr>
            <p:grpSpPr>
              <a:xfrm>
                <a:off x="4596840" y="3109320"/>
                <a:ext cx="72720" cy="91800"/>
                <a:chOff x="4596840" y="3109320"/>
                <a:chExt cx="72720" cy="91800"/>
              </a:xfrm>
            </p:grpSpPr>
            <p:sp>
              <p:nvSpPr>
                <p:cNvPr id="3340" name=""/>
                <p:cNvSpPr/>
                <p:nvPr/>
              </p:nvSpPr>
              <p:spPr>
                <a:xfrm>
                  <a:off x="4596840" y="31093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>
                  <a:off x="4596840" y="310932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2" name=""/>
              <p:cNvGrpSpPr/>
              <p:nvPr/>
            </p:nvGrpSpPr>
            <p:grpSpPr>
              <a:xfrm>
                <a:off x="4652280" y="3146040"/>
                <a:ext cx="72720" cy="91440"/>
                <a:chOff x="4652280" y="3146040"/>
                <a:chExt cx="72720" cy="91440"/>
              </a:xfrm>
            </p:grpSpPr>
            <p:sp>
              <p:nvSpPr>
                <p:cNvPr id="3343" name=""/>
                <p:cNvSpPr/>
                <p:nvPr/>
              </p:nvSpPr>
              <p:spPr>
                <a:xfrm>
                  <a:off x="4652280" y="314604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4652280" y="314604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5" name=""/>
              <p:cNvGrpSpPr/>
              <p:nvPr/>
            </p:nvGrpSpPr>
            <p:grpSpPr>
              <a:xfrm>
                <a:off x="4706280" y="3182400"/>
                <a:ext cx="72720" cy="72720"/>
                <a:chOff x="4706280" y="3182400"/>
                <a:chExt cx="72720" cy="72720"/>
              </a:xfrm>
            </p:grpSpPr>
            <p:sp>
              <p:nvSpPr>
                <p:cNvPr id="3346" name=""/>
                <p:cNvSpPr/>
                <p:nvPr/>
              </p:nvSpPr>
              <p:spPr>
                <a:xfrm>
                  <a:off x="4706280" y="3182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4706280" y="3182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8" name=""/>
              <p:cNvGrpSpPr/>
              <p:nvPr/>
            </p:nvGrpSpPr>
            <p:grpSpPr>
              <a:xfrm>
                <a:off x="4761720" y="3218760"/>
                <a:ext cx="72720" cy="91800"/>
                <a:chOff x="4761720" y="3218760"/>
                <a:chExt cx="72720" cy="91800"/>
              </a:xfrm>
            </p:grpSpPr>
            <p:sp>
              <p:nvSpPr>
                <p:cNvPr id="3349" name=""/>
                <p:cNvSpPr/>
                <p:nvPr/>
              </p:nvSpPr>
              <p:spPr>
                <a:xfrm>
                  <a:off x="4761720" y="32187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4761720" y="321876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1" name=""/>
              <p:cNvGrpSpPr/>
              <p:nvPr/>
            </p:nvGrpSpPr>
            <p:grpSpPr>
              <a:xfrm>
                <a:off x="4815720" y="3255480"/>
                <a:ext cx="72720" cy="72720"/>
                <a:chOff x="4815720" y="3255480"/>
                <a:chExt cx="72720" cy="72720"/>
              </a:xfrm>
            </p:grpSpPr>
            <p:sp>
              <p:nvSpPr>
                <p:cNvPr id="3352" name=""/>
                <p:cNvSpPr/>
                <p:nvPr/>
              </p:nvSpPr>
              <p:spPr>
                <a:xfrm>
                  <a:off x="4815720" y="3255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4815720" y="32554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4" name=""/>
            <p:cNvSpPr/>
            <p:nvPr/>
          </p:nvSpPr>
          <p:spPr>
            <a:xfrm>
              <a:off x="4124160" y="283680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48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5" name=""/>
            <p:cNvGrpSpPr/>
            <p:nvPr/>
          </p:nvGrpSpPr>
          <p:grpSpPr>
            <a:xfrm>
              <a:off x="3705120" y="3402000"/>
              <a:ext cx="747000" cy="545400"/>
              <a:chOff x="3705120" y="3402000"/>
              <a:chExt cx="747000" cy="545400"/>
            </a:xfrm>
          </p:grpSpPr>
          <p:grpSp>
            <p:nvGrpSpPr>
              <p:cNvPr id="3356" name=""/>
              <p:cNvGrpSpPr/>
              <p:nvPr/>
            </p:nvGrpSpPr>
            <p:grpSpPr>
              <a:xfrm>
                <a:off x="3705120" y="3402000"/>
                <a:ext cx="72360" cy="72360"/>
                <a:chOff x="3705120" y="3402000"/>
                <a:chExt cx="72360" cy="72360"/>
              </a:xfrm>
            </p:grpSpPr>
            <p:sp>
              <p:nvSpPr>
                <p:cNvPr id="3357" name=""/>
                <p:cNvSpPr/>
                <p:nvPr/>
              </p:nvSpPr>
              <p:spPr>
                <a:xfrm>
                  <a:off x="3705120" y="340200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3705120" y="3402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9" name=""/>
              <p:cNvGrpSpPr/>
              <p:nvPr/>
            </p:nvGrpSpPr>
            <p:grpSpPr>
              <a:xfrm>
                <a:off x="3741120" y="3438000"/>
                <a:ext cx="91800" cy="72720"/>
                <a:chOff x="3741120" y="3438000"/>
                <a:chExt cx="91800" cy="72720"/>
              </a:xfrm>
            </p:grpSpPr>
            <p:sp>
              <p:nvSpPr>
                <p:cNvPr id="3360" name=""/>
                <p:cNvSpPr/>
                <p:nvPr/>
              </p:nvSpPr>
              <p:spPr>
                <a:xfrm>
                  <a:off x="3741120" y="343800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3741120" y="343800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2" name=""/>
              <p:cNvGrpSpPr/>
              <p:nvPr/>
            </p:nvGrpSpPr>
            <p:grpSpPr>
              <a:xfrm>
                <a:off x="3796560" y="3474360"/>
                <a:ext cx="90360" cy="72720"/>
                <a:chOff x="3796560" y="3474360"/>
                <a:chExt cx="90360" cy="72720"/>
              </a:xfrm>
            </p:grpSpPr>
            <p:sp>
              <p:nvSpPr>
                <p:cNvPr id="3363" name=""/>
                <p:cNvSpPr/>
                <p:nvPr/>
              </p:nvSpPr>
              <p:spPr>
                <a:xfrm>
                  <a:off x="3796560" y="347436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3796560" y="34743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5" name=""/>
              <p:cNvGrpSpPr/>
              <p:nvPr/>
            </p:nvGrpSpPr>
            <p:grpSpPr>
              <a:xfrm>
                <a:off x="3850560" y="3511080"/>
                <a:ext cx="91800" cy="72720"/>
                <a:chOff x="3850560" y="3511080"/>
                <a:chExt cx="91800" cy="72720"/>
              </a:xfrm>
            </p:grpSpPr>
            <p:sp>
              <p:nvSpPr>
                <p:cNvPr id="3366" name=""/>
                <p:cNvSpPr/>
                <p:nvPr/>
              </p:nvSpPr>
              <p:spPr>
                <a:xfrm>
                  <a:off x="3850560" y="35110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3850560" y="351108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8" name=""/>
              <p:cNvGrpSpPr/>
              <p:nvPr/>
            </p:nvGrpSpPr>
            <p:grpSpPr>
              <a:xfrm>
                <a:off x="3906360" y="3547440"/>
                <a:ext cx="70920" cy="72720"/>
                <a:chOff x="3906360" y="3547440"/>
                <a:chExt cx="70920" cy="72720"/>
              </a:xfrm>
            </p:grpSpPr>
            <p:sp>
              <p:nvSpPr>
                <p:cNvPr id="3369" name=""/>
                <p:cNvSpPr/>
                <p:nvPr/>
              </p:nvSpPr>
              <p:spPr>
                <a:xfrm>
                  <a:off x="3906360" y="35474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3906360" y="35474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1" name=""/>
              <p:cNvGrpSpPr/>
              <p:nvPr/>
            </p:nvGrpSpPr>
            <p:grpSpPr>
              <a:xfrm>
                <a:off x="3960360" y="3584160"/>
                <a:ext cx="72360" cy="72720"/>
                <a:chOff x="3960360" y="3584160"/>
                <a:chExt cx="72360" cy="72720"/>
              </a:xfrm>
            </p:grpSpPr>
            <p:sp>
              <p:nvSpPr>
                <p:cNvPr id="3372" name=""/>
                <p:cNvSpPr/>
                <p:nvPr/>
              </p:nvSpPr>
              <p:spPr>
                <a:xfrm>
                  <a:off x="3960360" y="35841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3960360" y="3584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4" name=""/>
              <p:cNvGrpSpPr/>
              <p:nvPr/>
            </p:nvGrpSpPr>
            <p:grpSpPr>
              <a:xfrm>
                <a:off x="4014000" y="3620520"/>
                <a:ext cx="72720" cy="72720"/>
                <a:chOff x="4014000" y="3620520"/>
                <a:chExt cx="72720" cy="72720"/>
              </a:xfrm>
            </p:grpSpPr>
            <p:sp>
              <p:nvSpPr>
                <p:cNvPr id="3375" name=""/>
                <p:cNvSpPr/>
                <p:nvPr/>
              </p:nvSpPr>
              <p:spPr>
                <a:xfrm>
                  <a:off x="4014000" y="3620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4014000" y="3620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7" name=""/>
              <p:cNvGrpSpPr/>
              <p:nvPr/>
            </p:nvGrpSpPr>
            <p:grpSpPr>
              <a:xfrm>
                <a:off x="4069800" y="3657240"/>
                <a:ext cx="72720" cy="72360"/>
                <a:chOff x="4069800" y="3657240"/>
                <a:chExt cx="72720" cy="72360"/>
              </a:xfrm>
            </p:grpSpPr>
            <p:sp>
              <p:nvSpPr>
                <p:cNvPr id="3378" name=""/>
                <p:cNvSpPr/>
                <p:nvPr/>
              </p:nvSpPr>
              <p:spPr>
                <a:xfrm>
                  <a:off x="4069800" y="36572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4069800" y="36572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0" name=""/>
              <p:cNvGrpSpPr/>
              <p:nvPr/>
            </p:nvGrpSpPr>
            <p:grpSpPr>
              <a:xfrm>
                <a:off x="4106160" y="3693600"/>
                <a:ext cx="90360" cy="72720"/>
                <a:chOff x="4106160" y="3693600"/>
                <a:chExt cx="90360" cy="7272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4106160" y="36936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4106160" y="3693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3" name=""/>
              <p:cNvGrpSpPr/>
              <p:nvPr/>
            </p:nvGrpSpPr>
            <p:grpSpPr>
              <a:xfrm>
                <a:off x="4160160" y="3729960"/>
                <a:ext cx="91800" cy="72720"/>
                <a:chOff x="4160160" y="3729960"/>
                <a:chExt cx="91800" cy="72720"/>
              </a:xfrm>
            </p:grpSpPr>
            <p:sp>
              <p:nvSpPr>
                <p:cNvPr id="3384" name=""/>
                <p:cNvSpPr/>
                <p:nvPr/>
              </p:nvSpPr>
              <p:spPr>
                <a:xfrm>
                  <a:off x="4160160" y="372996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4160160" y="372996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6" name=""/>
              <p:cNvGrpSpPr/>
              <p:nvPr/>
            </p:nvGrpSpPr>
            <p:grpSpPr>
              <a:xfrm>
                <a:off x="4215960" y="3766680"/>
                <a:ext cx="90000" cy="72720"/>
                <a:chOff x="4215960" y="3766680"/>
                <a:chExt cx="90000" cy="72720"/>
              </a:xfrm>
            </p:grpSpPr>
            <p:sp>
              <p:nvSpPr>
                <p:cNvPr id="3387" name=""/>
                <p:cNvSpPr/>
                <p:nvPr/>
              </p:nvSpPr>
              <p:spPr>
                <a:xfrm>
                  <a:off x="4215960" y="37666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215960" y="376668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9" name=""/>
              <p:cNvGrpSpPr/>
              <p:nvPr/>
            </p:nvGrpSpPr>
            <p:grpSpPr>
              <a:xfrm>
                <a:off x="4269600" y="3803040"/>
                <a:ext cx="72720" cy="72720"/>
                <a:chOff x="4269600" y="3803040"/>
                <a:chExt cx="72720" cy="72720"/>
              </a:xfrm>
            </p:grpSpPr>
            <p:sp>
              <p:nvSpPr>
                <p:cNvPr id="3390" name=""/>
                <p:cNvSpPr/>
                <p:nvPr/>
              </p:nvSpPr>
              <p:spPr>
                <a:xfrm>
                  <a:off x="4269600" y="3803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4269600" y="38030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2" name=""/>
              <p:cNvGrpSpPr/>
              <p:nvPr/>
            </p:nvGrpSpPr>
            <p:grpSpPr>
              <a:xfrm>
                <a:off x="4323600" y="3839760"/>
                <a:ext cx="72720" cy="72360"/>
                <a:chOff x="4323600" y="3839760"/>
                <a:chExt cx="72720" cy="72360"/>
              </a:xfrm>
            </p:grpSpPr>
            <p:sp>
              <p:nvSpPr>
                <p:cNvPr id="3393" name=""/>
                <p:cNvSpPr/>
                <p:nvPr/>
              </p:nvSpPr>
              <p:spPr>
                <a:xfrm>
                  <a:off x="4323600" y="38397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4323600" y="38397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5" name=""/>
              <p:cNvGrpSpPr/>
              <p:nvPr/>
            </p:nvGrpSpPr>
            <p:grpSpPr>
              <a:xfrm>
                <a:off x="4379400" y="3876120"/>
                <a:ext cx="72720" cy="71280"/>
                <a:chOff x="4379400" y="3876120"/>
                <a:chExt cx="72720" cy="71280"/>
              </a:xfrm>
            </p:grpSpPr>
            <p:sp>
              <p:nvSpPr>
                <p:cNvPr id="3396" name=""/>
                <p:cNvSpPr/>
                <p:nvPr/>
              </p:nvSpPr>
              <p:spPr>
                <a:xfrm>
                  <a:off x="4379400" y="38761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4379400" y="38761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8" name=""/>
            <p:cNvSpPr/>
            <p:nvPr/>
          </p:nvSpPr>
          <p:spPr>
            <a:xfrm>
              <a:off x="3687480" y="345564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9" name=""/>
            <p:cNvGrpSpPr/>
            <p:nvPr/>
          </p:nvGrpSpPr>
          <p:grpSpPr>
            <a:xfrm>
              <a:off x="3870000" y="3165480"/>
              <a:ext cx="745560" cy="545040"/>
              <a:chOff x="3870000" y="3165480"/>
              <a:chExt cx="745560" cy="545040"/>
            </a:xfrm>
          </p:grpSpPr>
          <p:grpSp>
            <p:nvGrpSpPr>
              <p:cNvPr id="3400" name=""/>
              <p:cNvGrpSpPr/>
              <p:nvPr/>
            </p:nvGrpSpPr>
            <p:grpSpPr>
              <a:xfrm>
                <a:off x="3870000" y="3165480"/>
                <a:ext cx="72720" cy="90000"/>
                <a:chOff x="3870000" y="3165480"/>
                <a:chExt cx="72720" cy="9000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3870000" y="3165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1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3870000" y="3165480"/>
                  <a:ext cx="36360" cy="532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3" name=""/>
              <p:cNvGrpSpPr/>
              <p:nvPr/>
            </p:nvGrpSpPr>
            <p:grpSpPr>
              <a:xfrm>
                <a:off x="3906360" y="3201480"/>
                <a:ext cx="90000" cy="90000"/>
                <a:chOff x="3906360" y="3201480"/>
                <a:chExt cx="90000" cy="90000"/>
              </a:xfrm>
            </p:grpSpPr>
            <p:sp>
              <p:nvSpPr>
                <p:cNvPr id="3404" name=""/>
                <p:cNvSpPr/>
                <p:nvPr/>
              </p:nvSpPr>
              <p:spPr>
                <a:xfrm>
                  <a:off x="3906360" y="320148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3906360" y="32014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6" name=""/>
              <p:cNvGrpSpPr/>
              <p:nvPr/>
            </p:nvGrpSpPr>
            <p:grpSpPr>
              <a:xfrm>
                <a:off x="3960360" y="3237840"/>
                <a:ext cx="90000" cy="90360"/>
                <a:chOff x="3960360" y="3237840"/>
                <a:chExt cx="90000" cy="90360"/>
              </a:xfrm>
            </p:grpSpPr>
            <p:sp>
              <p:nvSpPr>
                <p:cNvPr id="3407" name=""/>
                <p:cNvSpPr/>
                <p:nvPr/>
              </p:nvSpPr>
              <p:spPr>
                <a:xfrm>
                  <a:off x="3960360" y="323784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3960360" y="323784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9" name=""/>
              <p:cNvGrpSpPr/>
              <p:nvPr/>
            </p:nvGrpSpPr>
            <p:grpSpPr>
              <a:xfrm>
                <a:off x="4014000" y="3274560"/>
                <a:ext cx="72720" cy="90000"/>
                <a:chOff x="4014000" y="3274560"/>
                <a:chExt cx="72720" cy="90000"/>
              </a:xfrm>
            </p:grpSpPr>
            <p:sp>
              <p:nvSpPr>
                <p:cNvPr id="3410" name=""/>
                <p:cNvSpPr/>
                <p:nvPr/>
              </p:nvSpPr>
              <p:spPr>
                <a:xfrm>
                  <a:off x="4014000" y="327456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4014000" y="32745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2" name=""/>
              <p:cNvGrpSpPr/>
              <p:nvPr/>
            </p:nvGrpSpPr>
            <p:grpSpPr>
              <a:xfrm>
                <a:off x="4069800" y="3310920"/>
                <a:ext cx="72720" cy="90360"/>
                <a:chOff x="4069800" y="3310920"/>
                <a:chExt cx="72720" cy="90360"/>
              </a:xfrm>
            </p:grpSpPr>
            <p:sp>
              <p:nvSpPr>
                <p:cNvPr id="3413" name=""/>
                <p:cNvSpPr/>
                <p:nvPr/>
              </p:nvSpPr>
              <p:spPr>
                <a:xfrm>
                  <a:off x="4069800" y="331092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4069800" y="33109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5" name=""/>
              <p:cNvGrpSpPr/>
              <p:nvPr/>
            </p:nvGrpSpPr>
            <p:grpSpPr>
              <a:xfrm>
                <a:off x="4123800" y="3347640"/>
                <a:ext cx="72720" cy="90000"/>
                <a:chOff x="4123800" y="3347640"/>
                <a:chExt cx="72720" cy="90000"/>
              </a:xfrm>
            </p:grpSpPr>
            <p:sp>
              <p:nvSpPr>
                <p:cNvPr id="3416" name=""/>
                <p:cNvSpPr/>
                <p:nvPr/>
              </p:nvSpPr>
              <p:spPr>
                <a:xfrm>
                  <a:off x="4123800" y="334764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4123800" y="334764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8" name=""/>
              <p:cNvGrpSpPr/>
              <p:nvPr/>
            </p:nvGrpSpPr>
            <p:grpSpPr>
              <a:xfrm>
                <a:off x="4179240" y="3382560"/>
                <a:ext cx="72720" cy="91440"/>
                <a:chOff x="4179240" y="3382560"/>
                <a:chExt cx="72720" cy="91440"/>
              </a:xfrm>
            </p:grpSpPr>
            <p:sp>
              <p:nvSpPr>
                <p:cNvPr id="3419" name=""/>
                <p:cNvSpPr/>
                <p:nvPr/>
              </p:nvSpPr>
              <p:spPr>
                <a:xfrm>
                  <a:off x="4179240" y="33825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4179240" y="33825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1" name=""/>
              <p:cNvGrpSpPr/>
              <p:nvPr/>
            </p:nvGrpSpPr>
            <p:grpSpPr>
              <a:xfrm>
                <a:off x="4233240" y="3418920"/>
                <a:ext cx="72720" cy="91800"/>
                <a:chOff x="4233240" y="3418920"/>
                <a:chExt cx="72720" cy="91800"/>
              </a:xfrm>
            </p:grpSpPr>
            <p:sp>
              <p:nvSpPr>
                <p:cNvPr id="3422" name=""/>
                <p:cNvSpPr/>
                <p:nvPr/>
              </p:nvSpPr>
              <p:spPr>
                <a:xfrm>
                  <a:off x="4233240" y="34189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4233240" y="34189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4" name=""/>
              <p:cNvGrpSpPr/>
              <p:nvPr/>
            </p:nvGrpSpPr>
            <p:grpSpPr>
              <a:xfrm>
                <a:off x="4269600" y="3455280"/>
                <a:ext cx="90360" cy="91800"/>
                <a:chOff x="4269600" y="3455280"/>
                <a:chExt cx="90360" cy="91800"/>
              </a:xfrm>
            </p:grpSpPr>
            <p:sp>
              <p:nvSpPr>
                <p:cNvPr id="3425" name=""/>
                <p:cNvSpPr/>
                <p:nvPr/>
              </p:nvSpPr>
              <p:spPr>
                <a:xfrm>
                  <a:off x="4269600" y="3455280"/>
                  <a:ext cx="9036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4269600" y="345528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7" name=""/>
              <p:cNvGrpSpPr/>
              <p:nvPr/>
            </p:nvGrpSpPr>
            <p:grpSpPr>
              <a:xfrm>
                <a:off x="4323600" y="3492000"/>
                <a:ext cx="91800" cy="91800"/>
                <a:chOff x="4323600" y="3492000"/>
                <a:chExt cx="91800" cy="91800"/>
              </a:xfrm>
            </p:grpSpPr>
            <p:sp>
              <p:nvSpPr>
                <p:cNvPr id="3428" name=""/>
                <p:cNvSpPr/>
                <p:nvPr/>
              </p:nvSpPr>
              <p:spPr>
                <a:xfrm>
                  <a:off x="4323600" y="349200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4323600" y="3492000"/>
                  <a:ext cx="554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0" name=""/>
              <p:cNvGrpSpPr/>
              <p:nvPr/>
            </p:nvGrpSpPr>
            <p:grpSpPr>
              <a:xfrm>
                <a:off x="4379400" y="3528360"/>
                <a:ext cx="72720" cy="91800"/>
                <a:chOff x="4379400" y="3528360"/>
                <a:chExt cx="72720" cy="91800"/>
              </a:xfrm>
            </p:grpSpPr>
            <p:sp>
              <p:nvSpPr>
                <p:cNvPr id="3431" name=""/>
                <p:cNvSpPr/>
                <p:nvPr/>
              </p:nvSpPr>
              <p:spPr>
                <a:xfrm>
                  <a:off x="4379400" y="35283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4379400" y="35283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3" name=""/>
              <p:cNvGrpSpPr/>
              <p:nvPr/>
            </p:nvGrpSpPr>
            <p:grpSpPr>
              <a:xfrm>
                <a:off x="4433400" y="3565080"/>
                <a:ext cx="72360" cy="72720"/>
                <a:chOff x="4433400" y="3565080"/>
                <a:chExt cx="72360" cy="72720"/>
              </a:xfrm>
            </p:grpSpPr>
            <p:sp>
              <p:nvSpPr>
                <p:cNvPr id="3434" name=""/>
                <p:cNvSpPr/>
                <p:nvPr/>
              </p:nvSpPr>
              <p:spPr>
                <a:xfrm>
                  <a:off x="4433400" y="35650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4433400" y="3565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6" name=""/>
              <p:cNvGrpSpPr/>
              <p:nvPr/>
            </p:nvGrpSpPr>
            <p:grpSpPr>
              <a:xfrm>
                <a:off x="4488840" y="3601440"/>
                <a:ext cx="72720" cy="91800"/>
                <a:chOff x="4488840" y="3601440"/>
                <a:chExt cx="72720" cy="91800"/>
              </a:xfrm>
            </p:grpSpPr>
            <p:sp>
              <p:nvSpPr>
                <p:cNvPr id="3437" name=""/>
                <p:cNvSpPr/>
                <p:nvPr/>
              </p:nvSpPr>
              <p:spPr>
                <a:xfrm>
                  <a:off x="4488840" y="36014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4488840" y="360144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9" name=""/>
              <p:cNvGrpSpPr/>
              <p:nvPr/>
            </p:nvGrpSpPr>
            <p:grpSpPr>
              <a:xfrm>
                <a:off x="4542840" y="3638160"/>
                <a:ext cx="72720" cy="72360"/>
                <a:chOff x="4542840" y="3638160"/>
                <a:chExt cx="72720" cy="72360"/>
              </a:xfrm>
            </p:grpSpPr>
            <p:sp>
              <p:nvSpPr>
                <p:cNvPr id="3440" name=""/>
                <p:cNvSpPr/>
                <p:nvPr/>
              </p:nvSpPr>
              <p:spPr>
                <a:xfrm>
                  <a:off x="4542840" y="36381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4542840" y="3638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42" name=""/>
            <p:cNvSpPr/>
            <p:nvPr/>
          </p:nvSpPr>
          <p:spPr>
            <a:xfrm>
              <a:off x="3850920" y="321912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43" name=""/>
            <p:cNvGrpSpPr/>
            <p:nvPr/>
          </p:nvGrpSpPr>
          <p:grpSpPr>
            <a:xfrm>
              <a:off x="3924000" y="3092400"/>
              <a:ext cx="745560" cy="545400"/>
              <a:chOff x="3924000" y="3092400"/>
              <a:chExt cx="745560" cy="545400"/>
            </a:xfrm>
          </p:grpSpPr>
          <p:grpSp>
            <p:nvGrpSpPr>
              <p:cNvPr id="3444" name=""/>
              <p:cNvGrpSpPr/>
              <p:nvPr/>
            </p:nvGrpSpPr>
            <p:grpSpPr>
              <a:xfrm>
                <a:off x="3924000" y="3092400"/>
                <a:ext cx="72720" cy="90000"/>
                <a:chOff x="3924000" y="3092400"/>
                <a:chExt cx="72720" cy="90000"/>
              </a:xfrm>
            </p:grpSpPr>
            <p:sp>
              <p:nvSpPr>
                <p:cNvPr id="3445" name=""/>
                <p:cNvSpPr/>
                <p:nvPr/>
              </p:nvSpPr>
              <p:spPr>
                <a:xfrm>
                  <a:off x="3924000" y="30924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3924000" y="30924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7" name=""/>
              <p:cNvGrpSpPr/>
              <p:nvPr/>
            </p:nvGrpSpPr>
            <p:grpSpPr>
              <a:xfrm>
                <a:off x="3960360" y="3128400"/>
                <a:ext cx="90000" cy="90000"/>
                <a:chOff x="3960360" y="3128400"/>
                <a:chExt cx="90000" cy="90000"/>
              </a:xfrm>
            </p:grpSpPr>
            <p:sp>
              <p:nvSpPr>
                <p:cNvPr id="3448" name=""/>
                <p:cNvSpPr/>
                <p:nvPr/>
              </p:nvSpPr>
              <p:spPr>
                <a:xfrm>
                  <a:off x="3960360" y="312840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3960360" y="312840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0" name=""/>
              <p:cNvGrpSpPr/>
              <p:nvPr/>
            </p:nvGrpSpPr>
            <p:grpSpPr>
              <a:xfrm>
                <a:off x="4014000" y="3165120"/>
                <a:ext cx="91800" cy="90000"/>
                <a:chOff x="4014000" y="3165120"/>
                <a:chExt cx="91800" cy="90000"/>
              </a:xfrm>
            </p:grpSpPr>
            <p:sp>
              <p:nvSpPr>
                <p:cNvPr id="3451" name=""/>
                <p:cNvSpPr/>
                <p:nvPr/>
              </p:nvSpPr>
              <p:spPr>
                <a:xfrm>
                  <a:off x="4014000" y="316512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4014000" y="3165120"/>
                  <a:ext cx="5544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3" name=""/>
              <p:cNvGrpSpPr/>
              <p:nvPr/>
            </p:nvGrpSpPr>
            <p:grpSpPr>
              <a:xfrm>
                <a:off x="4069800" y="3201480"/>
                <a:ext cx="72720" cy="90000"/>
                <a:chOff x="4069800" y="3201480"/>
                <a:chExt cx="72720" cy="90000"/>
              </a:xfrm>
            </p:grpSpPr>
            <p:sp>
              <p:nvSpPr>
                <p:cNvPr id="3454" name=""/>
                <p:cNvSpPr/>
                <p:nvPr/>
              </p:nvSpPr>
              <p:spPr>
                <a:xfrm>
                  <a:off x="4069800" y="3201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4069800" y="32014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6" name=""/>
              <p:cNvGrpSpPr/>
              <p:nvPr/>
            </p:nvGrpSpPr>
            <p:grpSpPr>
              <a:xfrm>
                <a:off x="4123800" y="3237840"/>
                <a:ext cx="72720" cy="72720"/>
                <a:chOff x="4123800" y="3237840"/>
                <a:chExt cx="72720" cy="72720"/>
              </a:xfrm>
            </p:grpSpPr>
            <p:sp>
              <p:nvSpPr>
                <p:cNvPr id="3457" name=""/>
                <p:cNvSpPr/>
                <p:nvPr/>
              </p:nvSpPr>
              <p:spPr>
                <a:xfrm>
                  <a:off x="4123800" y="3237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4123800" y="32378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9" name=""/>
              <p:cNvGrpSpPr/>
              <p:nvPr/>
            </p:nvGrpSpPr>
            <p:grpSpPr>
              <a:xfrm>
                <a:off x="4179240" y="3274560"/>
                <a:ext cx="72720" cy="72720"/>
                <a:chOff x="4179240" y="3274560"/>
                <a:chExt cx="72720" cy="72720"/>
              </a:xfrm>
            </p:grpSpPr>
            <p:sp>
              <p:nvSpPr>
                <p:cNvPr id="3460" name=""/>
                <p:cNvSpPr/>
                <p:nvPr/>
              </p:nvSpPr>
              <p:spPr>
                <a:xfrm>
                  <a:off x="417924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4179240" y="3274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2" name=""/>
              <p:cNvGrpSpPr/>
              <p:nvPr/>
            </p:nvGrpSpPr>
            <p:grpSpPr>
              <a:xfrm>
                <a:off x="4233240" y="3310920"/>
                <a:ext cx="72720" cy="71280"/>
                <a:chOff x="4233240" y="3310920"/>
                <a:chExt cx="72720" cy="71280"/>
              </a:xfrm>
            </p:grpSpPr>
            <p:sp>
              <p:nvSpPr>
                <p:cNvPr id="3463" name=""/>
                <p:cNvSpPr/>
                <p:nvPr/>
              </p:nvSpPr>
              <p:spPr>
                <a:xfrm>
                  <a:off x="4233240" y="33109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4233240" y="3310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5" name=""/>
              <p:cNvGrpSpPr/>
              <p:nvPr/>
            </p:nvGrpSpPr>
            <p:grpSpPr>
              <a:xfrm>
                <a:off x="4287240" y="3347640"/>
                <a:ext cx="72720" cy="70920"/>
                <a:chOff x="4287240" y="3347640"/>
                <a:chExt cx="72720" cy="70920"/>
              </a:xfrm>
            </p:grpSpPr>
            <p:sp>
              <p:nvSpPr>
                <p:cNvPr id="3466" name=""/>
                <p:cNvSpPr/>
                <p:nvPr/>
              </p:nvSpPr>
              <p:spPr>
                <a:xfrm>
                  <a:off x="4287240" y="334764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4287240" y="334764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8" name=""/>
              <p:cNvGrpSpPr/>
              <p:nvPr/>
            </p:nvGrpSpPr>
            <p:grpSpPr>
              <a:xfrm>
                <a:off x="4323600" y="3382560"/>
                <a:ext cx="91800" cy="72360"/>
                <a:chOff x="4323600" y="3382560"/>
                <a:chExt cx="91800" cy="72360"/>
              </a:xfrm>
            </p:grpSpPr>
            <p:sp>
              <p:nvSpPr>
                <p:cNvPr id="3469" name=""/>
                <p:cNvSpPr/>
                <p:nvPr/>
              </p:nvSpPr>
              <p:spPr>
                <a:xfrm>
                  <a:off x="4323600" y="33825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4323600" y="338256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1" name=""/>
              <p:cNvGrpSpPr/>
              <p:nvPr/>
            </p:nvGrpSpPr>
            <p:grpSpPr>
              <a:xfrm>
                <a:off x="4379400" y="3418920"/>
                <a:ext cx="90000" cy="72720"/>
                <a:chOff x="4379400" y="3418920"/>
                <a:chExt cx="90000" cy="72720"/>
              </a:xfrm>
            </p:grpSpPr>
            <p:sp>
              <p:nvSpPr>
                <p:cNvPr id="3472" name=""/>
                <p:cNvSpPr/>
                <p:nvPr/>
              </p:nvSpPr>
              <p:spPr>
                <a:xfrm>
                  <a:off x="4379400" y="34189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4379400" y="34189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4" name=""/>
              <p:cNvGrpSpPr/>
              <p:nvPr/>
            </p:nvGrpSpPr>
            <p:grpSpPr>
              <a:xfrm>
                <a:off x="4433400" y="3455280"/>
                <a:ext cx="72360" cy="72720"/>
                <a:chOff x="4433400" y="3455280"/>
                <a:chExt cx="72360" cy="72720"/>
              </a:xfrm>
            </p:grpSpPr>
            <p:sp>
              <p:nvSpPr>
                <p:cNvPr id="3475" name=""/>
                <p:cNvSpPr/>
                <p:nvPr/>
              </p:nvSpPr>
              <p:spPr>
                <a:xfrm>
                  <a:off x="4433400" y="34552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4433400" y="3455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7" name=""/>
              <p:cNvGrpSpPr/>
              <p:nvPr/>
            </p:nvGrpSpPr>
            <p:grpSpPr>
              <a:xfrm>
                <a:off x="4488840" y="3492000"/>
                <a:ext cx="72720" cy="72720"/>
                <a:chOff x="4488840" y="3492000"/>
                <a:chExt cx="72720" cy="72720"/>
              </a:xfrm>
            </p:grpSpPr>
            <p:sp>
              <p:nvSpPr>
                <p:cNvPr id="3478" name=""/>
                <p:cNvSpPr/>
                <p:nvPr/>
              </p:nvSpPr>
              <p:spPr>
                <a:xfrm>
                  <a:off x="4488840" y="3492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4488840" y="3492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0" name=""/>
              <p:cNvGrpSpPr/>
              <p:nvPr/>
            </p:nvGrpSpPr>
            <p:grpSpPr>
              <a:xfrm>
                <a:off x="4542840" y="3528360"/>
                <a:ext cx="72720" cy="72720"/>
                <a:chOff x="4542840" y="3528360"/>
                <a:chExt cx="72720" cy="72720"/>
              </a:xfrm>
            </p:grpSpPr>
            <p:sp>
              <p:nvSpPr>
                <p:cNvPr id="3481" name=""/>
                <p:cNvSpPr/>
                <p:nvPr/>
              </p:nvSpPr>
              <p:spPr>
                <a:xfrm>
                  <a:off x="4542840" y="3528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4542840" y="3528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3" name=""/>
              <p:cNvGrpSpPr/>
              <p:nvPr/>
            </p:nvGrpSpPr>
            <p:grpSpPr>
              <a:xfrm>
                <a:off x="4596840" y="3565080"/>
                <a:ext cx="72720" cy="72720"/>
                <a:chOff x="4596840" y="3565080"/>
                <a:chExt cx="72720" cy="72720"/>
              </a:xfrm>
            </p:grpSpPr>
            <p:sp>
              <p:nvSpPr>
                <p:cNvPr id="3484" name=""/>
                <p:cNvSpPr/>
                <p:nvPr/>
              </p:nvSpPr>
              <p:spPr>
                <a:xfrm>
                  <a:off x="4596840" y="3565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4596840" y="3565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6" name=""/>
            <p:cNvSpPr/>
            <p:nvPr/>
          </p:nvSpPr>
          <p:spPr>
            <a:xfrm>
              <a:off x="3906720" y="3146400"/>
              <a:ext cx="745560" cy="56448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8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5288040" y="2598840"/>
            <a:ext cx="1473840" cy="1621800"/>
            <a:chOff x="5288040" y="2598840"/>
            <a:chExt cx="1473840" cy="1621800"/>
          </a:xfrm>
        </p:grpSpPr>
        <p:grpSp>
          <p:nvGrpSpPr>
            <p:cNvPr id="3488" name=""/>
            <p:cNvGrpSpPr/>
            <p:nvPr/>
          </p:nvGrpSpPr>
          <p:grpSpPr>
            <a:xfrm>
              <a:off x="5304960" y="3600360"/>
              <a:ext cx="745560" cy="546840"/>
              <a:chOff x="5304960" y="3600360"/>
              <a:chExt cx="745560" cy="546840"/>
            </a:xfrm>
          </p:grpSpPr>
          <p:grpSp>
            <p:nvGrpSpPr>
              <p:cNvPr id="3489" name=""/>
              <p:cNvGrpSpPr/>
              <p:nvPr/>
            </p:nvGrpSpPr>
            <p:grpSpPr>
              <a:xfrm>
                <a:off x="5304960" y="3600360"/>
                <a:ext cx="72720" cy="72360"/>
                <a:chOff x="5304960" y="3600360"/>
                <a:chExt cx="72720" cy="72360"/>
              </a:xfrm>
            </p:grpSpPr>
            <p:sp>
              <p:nvSpPr>
                <p:cNvPr id="3490" name=""/>
                <p:cNvSpPr/>
                <p:nvPr/>
              </p:nvSpPr>
              <p:spPr>
                <a:xfrm>
                  <a:off x="5304960" y="36003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5304960" y="36003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2" name=""/>
              <p:cNvGrpSpPr/>
              <p:nvPr/>
            </p:nvGrpSpPr>
            <p:grpSpPr>
              <a:xfrm>
                <a:off x="5341320" y="3636360"/>
                <a:ext cx="90000" cy="72720"/>
                <a:chOff x="5341320" y="3636360"/>
                <a:chExt cx="90000" cy="72720"/>
              </a:xfrm>
            </p:grpSpPr>
            <p:sp>
              <p:nvSpPr>
                <p:cNvPr id="3493" name=""/>
                <p:cNvSpPr/>
                <p:nvPr/>
              </p:nvSpPr>
              <p:spPr>
                <a:xfrm>
                  <a:off x="5341320" y="36363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5341320" y="36363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5" name=""/>
              <p:cNvGrpSpPr/>
              <p:nvPr/>
            </p:nvGrpSpPr>
            <p:grpSpPr>
              <a:xfrm>
                <a:off x="5395320" y="3672720"/>
                <a:ext cx="91800" cy="72720"/>
                <a:chOff x="5395320" y="3672720"/>
                <a:chExt cx="91800" cy="72720"/>
              </a:xfrm>
            </p:grpSpPr>
            <p:sp>
              <p:nvSpPr>
                <p:cNvPr id="3496" name=""/>
                <p:cNvSpPr/>
                <p:nvPr/>
              </p:nvSpPr>
              <p:spPr>
                <a:xfrm>
                  <a:off x="5395320" y="36727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>
                  <a:off x="5395320" y="367272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8" name=""/>
              <p:cNvGrpSpPr/>
              <p:nvPr/>
            </p:nvGrpSpPr>
            <p:grpSpPr>
              <a:xfrm>
                <a:off x="5450760" y="3709440"/>
                <a:ext cx="90000" cy="72720"/>
                <a:chOff x="5450760" y="3709440"/>
                <a:chExt cx="90000" cy="72720"/>
              </a:xfrm>
            </p:grpSpPr>
            <p:sp>
              <p:nvSpPr>
                <p:cNvPr id="3499" name=""/>
                <p:cNvSpPr/>
                <p:nvPr/>
              </p:nvSpPr>
              <p:spPr>
                <a:xfrm>
                  <a:off x="5450760" y="37094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>
                  <a:off x="5450760" y="37094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1" name=""/>
              <p:cNvGrpSpPr/>
              <p:nvPr/>
            </p:nvGrpSpPr>
            <p:grpSpPr>
              <a:xfrm>
                <a:off x="5504760" y="3745800"/>
                <a:ext cx="72720" cy="72720"/>
                <a:chOff x="5504760" y="3745800"/>
                <a:chExt cx="72720" cy="72720"/>
              </a:xfrm>
            </p:grpSpPr>
            <p:sp>
              <p:nvSpPr>
                <p:cNvPr id="3502" name=""/>
                <p:cNvSpPr/>
                <p:nvPr/>
              </p:nvSpPr>
              <p:spPr>
                <a:xfrm>
                  <a:off x="5504760" y="3745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3" name=""/>
                <p:cNvSpPr/>
                <p:nvPr/>
              </p:nvSpPr>
              <p:spPr>
                <a:xfrm>
                  <a:off x="5504760" y="37458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4" name=""/>
              <p:cNvGrpSpPr/>
              <p:nvPr/>
            </p:nvGrpSpPr>
            <p:grpSpPr>
              <a:xfrm>
                <a:off x="5560200" y="3782520"/>
                <a:ext cx="72720" cy="72720"/>
                <a:chOff x="5560200" y="3782520"/>
                <a:chExt cx="72720" cy="72720"/>
              </a:xfrm>
            </p:grpSpPr>
            <p:sp>
              <p:nvSpPr>
                <p:cNvPr id="3505" name=""/>
                <p:cNvSpPr/>
                <p:nvPr/>
              </p:nvSpPr>
              <p:spPr>
                <a:xfrm>
                  <a:off x="5560200" y="3782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>
                  <a:off x="5560200" y="37825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7" name=""/>
              <p:cNvGrpSpPr/>
              <p:nvPr/>
            </p:nvGrpSpPr>
            <p:grpSpPr>
              <a:xfrm>
                <a:off x="5614200" y="3818880"/>
                <a:ext cx="72720" cy="72720"/>
                <a:chOff x="5614200" y="3818880"/>
                <a:chExt cx="72720" cy="72720"/>
              </a:xfrm>
            </p:grpSpPr>
            <p:sp>
              <p:nvSpPr>
                <p:cNvPr id="3508" name=""/>
                <p:cNvSpPr/>
                <p:nvPr/>
              </p:nvSpPr>
              <p:spPr>
                <a:xfrm>
                  <a:off x="5614200" y="3818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>
                  <a:off x="5614200" y="38188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0" name=""/>
              <p:cNvGrpSpPr/>
              <p:nvPr/>
            </p:nvGrpSpPr>
            <p:grpSpPr>
              <a:xfrm>
                <a:off x="5670000" y="3855600"/>
                <a:ext cx="70920" cy="72360"/>
                <a:chOff x="5670000" y="3855600"/>
                <a:chExt cx="70920" cy="72360"/>
              </a:xfrm>
            </p:grpSpPr>
            <p:sp>
              <p:nvSpPr>
                <p:cNvPr id="3511" name=""/>
                <p:cNvSpPr/>
                <p:nvPr/>
              </p:nvSpPr>
              <p:spPr>
                <a:xfrm>
                  <a:off x="5670000" y="385560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>
                  <a:off x="5670000" y="38556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3" name=""/>
              <p:cNvGrpSpPr/>
              <p:nvPr/>
            </p:nvGrpSpPr>
            <p:grpSpPr>
              <a:xfrm>
                <a:off x="5706360" y="3891960"/>
                <a:ext cx="90000" cy="72720"/>
                <a:chOff x="5706360" y="3891960"/>
                <a:chExt cx="90000" cy="72720"/>
              </a:xfrm>
            </p:grpSpPr>
            <p:sp>
              <p:nvSpPr>
                <p:cNvPr id="3514" name=""/>
                <p:cNvSpPr/>
                <p:nvPr/>
              </p:nvSpPr>
              <p:spPr>
                <a:xfrm>
                  <a:off x="5706360" y="38919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"/>
                <p:cNvSpPr/>
                <p:nvPr/>
              </p:nvSpPr>
              <p:spPr>
                <a:xfrm>
                  <a:off x="5706360" y="38919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6" name=""/>
              <p:cNvGrpSpPr/>
              <p:nvPr/>
            </p:nvGrpSpPr>
            <p:grpSpPr>
              <a:xfrm>
                <a:off x="5760360" y="3928320"/>
                <a:ext cx="90000" cy="72720"/>
                <a:chOff x="5760360" y="3928320"/>
                <a:chExt cx="90000" cy="72720"/>
              </a:xfrm>
            </p:grpSpPr>
            <p:sp>
              <p:nvSpPr>
                <p:cNvPr id="3517" name=""/>
                <p:cNvSpPr/>
                <p:nvPr/>
              </p:nvSpPr>
              <p:spPr>
                <a:xfrm>
                  <a:off x="5760360" y="39283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>
                  <a:off x="5760360" y="39283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9" name=""/>
              <p:cNvGrpSpPr/>
              <p:nvPr/>
            </p:nvGrpSpPr>
            <p:grpSpPr>
              <a:xfrm>
                <a:off x="5814360" y="3945960"/>
                <a:ext cx="91800" cy="91800"/>
                <a:chOff x="5814360" y="3945960"/>
                <a:chExt cx="91800" cy="91800"/>
              </a:xfrm>
            </p:grpSpPr>
            <p:sp>
              <p:nvSpPr>
                <p:cNvPr id="3520" name=""/>
                <p:cNvSpPr/>
                <p:nvPr/>
              </p:nvSpPr>
              <p:spPr>
                <a:xfrm>
                  <a:off x="5814360" y="394596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5814360" y="3945960"/>
                  <a:ext cx="5508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2" name=""/>
              <p:cNvGrpSpPr/>
              <p:nvPr/>
            </p:nvGrpSpPr>
            <p:grpSpPr>
              <a:xfrm>
                <a:off x="5869800" y="3982320"/>
                <a:ext cx="72720" cy="91800"/>
                <a:chOff x="5869800" y="3982320"/>
                <a:chExt cx="72720" cy="91800"/>
              </a:xfrm>
            </p:grpSpPr>
            <p:sp>
              <p:nvSpPr>
                <p:cNvPr id="3523" name=""/>
                <p:cNvSpPr/>
                <p:nvPr/>
              </p:nvSpPr>
              <p:spPr>
                <a:xfrm>
                  <a:off x="5869800" y="39823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5869800" y="398232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5" name=""/>
              <p:cNvGrpSpPr/>
              <p:nvPr/>
            </p:nvGrpSpPr>
            <p:grpSpPr>
              <a:xfrm>
                <a:off x="5923800" y="4019040"/>
                <a:ext cx="72720" cy="91800"/>
                <a:chOff x="5923800" y="4019040"/>
                <a:chExt cx="72720" cy="91800"/>
              </a:xfrm>
            </p:grpSpPr>
            <p:sp>
              <p:nvSpPr>
                <p:cNvPr id="3526" name=""/>
                <p:cNvSpPr/>
                <p:nvPr/>
              </p:nvSpPr>
              <p:spPr>
                <a:xfrm>
                  <a:off x="5923800" y="40190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>
                  <a:off x="5923800" y="401904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8" name=""/>
              <p:cNvGrpSpPr/>
              <p:nvPr/>
            </p:nvGrpSpPr>
            <p:grpSpPr>
              <a:xfrm>
                <a:off x="5979600" y="4055400"/>
                <a:ext cx="70920" cy="91800"/>
                <a:chOff x="5979600" y="4055400"/>
                <a:chExt cx="70920" cy="91800"/>
              </a:xfrm>
            </p:grpSpPr>
            <p:sp>
              <p:nvSpPr>
                <p:cNvPr id="3529" name=""/>
                <p:cNvSpPr/>
                <p:nvPr/>
              </p:nvSpPr>
              <p:spPr>
                <a:xfrm>
                  <a:off x="5979600" y="405540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5979600" y="405540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31" name=""/>
            <p:cNvSpPr/>
            <p:nvPr/>
          </p:nvSpPr>
          <p:spPr>
            <a:xfrm>
              <a:off x="5288040" y="3636720"/>
              <a:ext cx="74556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2" name=""/>
            <p:cNvGrpSpPr/>
            <p:nvPr/>
          </p:nvGrpSpPr>
          <p:grpSpPr>
            <a:xfrm>
              <a:off x="5741640" y="2981160"/>
              <a:ext cx="747000" cy="545400"/>
              <a:chOff x="5741640" y="2981160"/>
              <a:chExt cx="747000" cy="545400"/>
            </a:xfrm>
          </p:grpSpPr>
          <p:grpSp>
            <p:nvGrpSpPr>
              <p:cNvPr id="3533" name=""/>
              <p:cNvGrpSpPr/>
              <p:nvPr/>
            </p:nvGrpSpPr>
            <p:grpSpPr>
              <a:xfrm>
                <a:off x="5741640" y="2981160"/>
                <a:ext cx="72720" cy="72720"/>
                <a:chOff x="5741640" y="2981160"/>
                <a:chExt cx="72720" cy="72720"/>
              </a:xfrm>
            </p:grpSpPr>
            <p:sp>
              <p:nvSpPr>
                <p:cNvPr id="3534" name=""/>
                <p:cNvSpPr/>
                <p:nvPr/>
              </p:nvSpPr>
              <p:spPr>
                <a:xfrm>
                  <a:off x="5741640" y="2981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5741640" y="2981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6" name=""/>
              <p:cNvGrpSpPr/>
              <p:nvPr/>
            </p:nvGrpSpPr>
            <p:grpSpPr>
              <a:xfrm>
                <a:off x="5777640" y="3017160"/>
                <a:ext cx="91800" cy="72720"/>
                <a:chOff x="5777640" y="3017160"/>
                <a:chExt cx="91800" cy="72720"/>
              </a:xfrm>
            </p:grpSpPr>
            <p:sp>
              <p:nvSpPr>
                <p:cNvPr id="3537" name=""/>
                <p:cNvSpPr/>
                <p:nvPr/>
              </p:nvSpPr>
              <p:spPr>
                <a:xfrm>
                  <a:off x="5777640" y="301716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5777640" y="301716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9" name=""/>
              <p:cNvGrpSpPr/>
              <p:nvPr/>
            </p:nvGrpSpPr>
            <p:grpSpPr>
              <a:xfrm>
                <a:off x="5833440" y="3053880"/>
                <a:ext cx="90000" cy="72720"/>
                <a:chOff x="5833440" y="3053880"/>
                <a:chExt cx="90000" cy="72720"/>
              </a:xfrm>
            </p:grpSpPr>
            <p:sp>
              <p:nvSpPr>
                <p:cNvPr id="3540" name=""/>
                <p:cNvSpPr/>
                <p:nvPr/>
              </p:nvSpPr>
              <p:spPr>
                <a:xfrm>
                  <a:off x="5833440" y="30538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5833440" y="305388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2" name=""/>
              <p:cNvGrpSpPr/>
              <p:nvPr/>
            </p:nvGrpSpPr>
            <p:grpSpPr>
              <a:xfrm>
                <a:off x="5887440" y="3090240"/>
                <a:ext cx="72720" cy="72720"/>
                <a:chOff x="5887440" y="3090240"/>
                <a:chExt cx="72720" cy="72720"/>
              </a:xfrm>
            </p:grpSpPr>
            <p:sp>
              <p:nvSpPr>
                <p:cNvPr id="3543" name=""/>
                <p:cNvSpPr/>
                <p:nvPr/>
              </p:nvSpPr>
              <p:spPr>
                <a:xfrm>
                  <a:off x="5887440" y="3090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5887440" y="30902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5" name=""/>
              <p:cNvGrpSpPr/>
              <p:nvPr/>
            </p:nvGrpSpPr>
            <p:grpSpPr>
              <a:xfrm>
                <a:off x="5942880" y="3126960"/>
                <a:ext cx="72720" cy="72360"/>
                <a:chOff x="5942880" y="3126960"/>
                <a:chExt cx="72720" cy="72360"/>
              </a:xfrm>
            </p:grpSpPr>
            <p:sp>
              <p:nvSpPr>
                <p:cNvPr id="3546" name=""/>
                <p:cNvSpPr/>
                <p:nvPr/>
              </p:nvSpPr>
              <p:spPr>
                <a:xfrm>
                  <a:off x="5942880" y="31269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5942880" y="31269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8" name=""/>
              <p:cNvGrpSpPr/>
              <p:nvPr/>
            </p:nvGrpSpPr>
            <p:grpSpPr>
              <a:xfrm>
                <a:off x="5996880" y="3163320"/>
                <a:ext cx="72720" cy="72720"/>
                <a:chOff x="5996880" y="3163320"/>
                <a:chExt cx="72720" cy="72720"/>
              </a:xfrm>
            </p:grpSpPr>
            <p:sp>
              <p:nvSpPr>
                <p:cNvPr id="3549" name=""/>
                <p:cNvSpPr/>
                <p:nvPr/>
              </p:nvSpPr>
              <p:spPr>
                <a:xfrm>
                  <a:off x="5996880" y="3163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5996880" y="31633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1" name=""/>
              <p:cNvGrpSpPr/>
              <p:nvPr/>
            </p:nvGrpSpPr>
            <p:grpSpPr>
              <a:xfrm>
                <a:off x="6050880" y="3199680"/>
                <a:ext cx="72720" cy="72720"/>
                <a:chOff x="6050880" y="3199680"/>
                <a:chExt cx="72720" cy="72720"/>
              </a:xfrm>
            </p:grpSpPr>
            <p:sp>
              <p:nvSpPr>
                <p:cNvPr id="3552" name=""/>
                <p:cNvSpPr/>
                <p:nvPr/>
              </p:nvSpPr>
              <p:spPr>
                <a:xfrm>
                  <a:off x="6050880" y="3199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6050880" y="31996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4" name=""/>
              <p:cNvGrpSpPr/>
              <p:nvPr/>
            </p:nvGrpSpPr>
            <p:grpSpPr>
              <a:xfrm>
                <a:off x="6106320" y="3236400"/>
                <a:ext cx="72720" cy="72720"/>
                <a:chOff x="6106320" y="3236400"/>
                <a:chExt cx="72720" cy="72720"/>
              </a:xfrm>
            </p:grpSpPr>
            <p:sp>
              <p:nvSpPr>
                <p:cNvPr id="3555" name=""/>
                <p:cNvSpPr/>
                <p:nvPr/>
              </p:nvSpPr>
              <p:spPr>
                <a:xfrm>
                  <a:off x="6106320" y="3236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6106320" y="3236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7" name=""/>
              <p:cNvGrpSpPr/>
              <p:nvPr/>
            </p:nvGrpSpPr>
            <p:grpSpPr>
              <a:xfrm>
                <a:off x="6143040" y="3272760"/>
                <a:ext cx="90000" cy="71280"/>
                <a:chOff x="6143040" y="3272760"/>
                <a:chExt cx="90000" cy="71280"/>
              </a:xfrm>
            </p:grpSpPr>
            <p:sp>
              <p:nvSpPr>
                <p:cNvPr id="3558" name=""/>
                <p:cNvSpPr/>
                <p:nvPr/>
              </p:nvSpPr>
              <p:spPr>
                <a:xfrm>
                  <a:off x="6143040" y="3272760"/>
                  <a:ext cx="90000" cy="712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6143040" y="32727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0" name=""/>
              <p:cNvGrpSpPr/>
              <p:nvPr/>
            </p:nvGrpSpPr>
            <p:grpSpPr>
              <a:xfrm>
                <a:off x="6197040" y="3309480"/>
                <a:ext cx="91440" cy="70920"/>
                <a:chOff x="6197040" y="3309480"/>
                <a:chExt cx="91440" cy="70920"/>
              </a:xfrm>
            </p:grpSpPr>
            <p:sp>
              <p:nvSpPr>
                <p:cNvPr id="3561" name=""/>
                <p:cNvSpPr/>
                <p:nvPr/>
              </p:nvSpPr>
              <p:spPr>
                <a:xfrm>
                  <a:off x="6197040" y="3309480"/>
                  <a:ext cx="9144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6197040" y="3309480"/>
                  <a:ext cx="55080" cy="34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3" name=""/>
              <p:cNvGrpSpPr/>
              <p:nvPr/>
            </p:nvGrpSpPr>
            <p:grpSpPr>
              <a:xfrm>
                <a:off x="6252480" y="3344400"/>
                <a:ext cx="72720" cy="72360"/>
                <a:chOff x="6252480" y="3344400"/>
                <a:chExt cx="72720" cy="72360"/>
              </a:xfrm>
            </p:grpSpPr>
            <p:sp>
              <p:nvSpPr>
                <p:cNvPr id="3564" name=""/>
                <p:cNvSpPr/>
                <p:nvPr/>
              </p:nvSpPr>
              <p:spPr>
                <a:xfrm>
                  <a:off x="6252480" y="334440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6252480" y="33444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6" name=""/>
              <p:cNvGrpSpPr/>
              <p:nvPr/>
            </p:nvGrpSpPr>
            <p:grpSpPr>
              <a:xfrm>
                <a:off x="6306480" y="3380760"/>
                <a:ext cx="72720" cy="72720"/>
                <a:chOff x="6306480" y="3380760"/>
                <a:chExt cx="72720" cy="72720"/>
              </a:xfrm>
            </p:grpSpPr>
            <p:sp>
              <p:nvSpPr>
                <p:cNvPr id="3567" name=""/>
                <p:cNvSpPr/>
                <p:nvPr/>
              </p:nvSpPr>
              <p:spPr>
                <a:xfrm>
                  <a:off x="6306480" y="33807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>
                  <a:off x="6306480" y="33807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9" name=""/>
              <p:cNvGrpSpPr/>
              <p:nvPr/>
            </p:nvGrpSpPr>
            <p:grpSpPr>
              <a:xfrm>
                <a:off x="6360480" y="3417120"/>
                <a:ext cx="72720" cy="72720"/>
                <a:chOff x="6360480" y="3417120"/>
                <a:chExt cx="72720" cy="72720"/>
              </a:xfrm>
            </p:grpSpPr>
            <p:sp>
              <p:nvSpPr>
                <p:cNvPr id="3570" name=""/>
                <p:cNvSpPr/>
                <p:nvPr/>
              </p:nvSpPr>
              <p:spPr>
                <a:xfrm>
                  <a:off x="6360480" y="34171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>
                  <a:off x="6360480" y="34171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2" name=""/>
              <p:cNvGrpSpPr/>
              <p:nvPr/>
            </p:nvGrpSpPr>
            <p:grpSpPr>
              <a:xfrm>
                <a:off x="6415920" y="3453840"/>
                <a:ext cx="72720" cy="72720"/>
                <a:chOff x="6415920" y="3453840"/>
                <a:chExt cx="72720" cy="72720"/>
              </a:xfrm>
            </p:grpSpPr>
            <p:sp>
              <p:nvSpPr>
                <p:cNvPr id="3573" name=""/>
                <p:cNvSpPr/>
                <p:nvPr/>
              </p:nvSpPr>
              <p:spPr>
                <a:xfrm>
                  <a:off x="6415920" y="3453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>
                  <a:off x="6415920" y="34538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75" name=""/>
            <p:cNvSpPr/>
            <p:nvPr/>
          </p:nvSpPr>
          <p:spPr>
            <a:xfrm>
              <a:off x="5724360" y="303516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76" name=""/>
            <p:cNvGrpSpPr/>
            <p:nvPr/>
          </p:nvGrpSpPr>
          <p:grpSpPr>
            <a:xfrm>
              <a:off x="5778000" y="2908080"/>
              <a:ext cx="764640" cy="545400"/>
              <a:chOff x="5778000" y="2908080"/>
              <a:chExt cx="764640" cy="545400"/>
            </a:xfrm>
          </p:grpSpPr>
          <p:grpSp>
            <p:nvGrpSpPr>
              <p:cNvPr id="3577" name=""/>
              <p:cNvGrpSpPr/>
              <p:nvPr/>
            </p:nvGrpSpPr>
            <p:grpSpPr>
              <a:xfrm>
                <a:off x="5778000" y="2908080"/>
                <a:ext cx="91800" cy="72720"/>
                <a:chOff x="5778000" y="2908080"/>
                <a:chExt cx="91800" cy="72720"/>
              </a:xfrm>
            </p:grpSpPr>
            <p:sp>
              <p:nvSpPr>
                <p:cNvPr id="3578" name=""/>
                <p:cNvSpPr/>
                <p:nvPr/>
              </p:nvSpPr>
              <p:spPr>
                <a:xfrm>
                  <a:off x="5778000" y="29080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5778000" y="290808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0" name=""/>
              <p:cNvGrpSpPr/>
              <p:nvPr/>
            </p:nvGrpSpPr>
            <p:grpSpPr>
              <a:xfrm>
                <a:off x="5833440" y="2944080"/>
                <a:ext cx="90000" cy="72720"/>
                <a:chOff x="5833440" y="2944080"/>
                <a:chExt cx="90000" cy="72720"/>
              </a:xfrm>
            </p:grpSpPr>
            <p:sp>
              <p:nvSpPr>
                <p:cNvPr id="3581" name=""/>
                <p:cNvSpPr/>
                <p:nvPr/>
              </p:nvSpPr>
              <p:spPr>
                <a:xfrm>
                  <a:off x="5833440" y="29440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5833440" y="294408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3" name=""/>
              <p:cNvGrpSpPr/>
              <p:nvPr/>
            </p:nvGrpSpPr>
            <p:grpSpPr>
              <a:xfrm>
                <a:off x="5887440" y="2980800"/>
                <a:ext cx="72720" cy="72720"/>
                <a:chOff x="5887440" y="2980800"/>
                <a:chExt cx="72720" cy="72720"/>
              </a:xfrm>
            </p:grpSpPr>
            <p:sp>
              <p:nvSpPr>
                <p:cNvPr id="3584" name=""/>
                <p:cNvSpPr/>
                <p:nvPr/>
              </p:nvSpPr>
              <p:spPr>
                <a:xfrm>
                  <a:off x="5887440" y="2980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>
                  <a:off x="5887440" y="29808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6" name=""/>
              <p:cNvGrpSpPr/>
              <p:nvPr/>
            </p:nvGrpSpPr>
            <p:grpSpPr>
              <a:xfrm>
                <a:off x="5942880" y="3017160"/>
                <a:ext cx="72720" cy="72720"/>
                <a:chOff x="5942880" y="3017160"/>
                <a:chExt cx="72720" cy="72720"/>
              </a:xfrm>
            </p:grpSpPr>
            <p:sp>
              <p:nvSpPr>
                <p:cNvPr id="3587" name=""/>
                <p:cNvSpPr/>
                <p:nvPr/>
              </p:nvSpPr>
              <p:spPr>
                <a:xfrm>
                  <a:off x="5942880" y="3017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>
                  <a:off x="5942880" y="30171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9" name=""/>
              <p:cNvGrpSpPr/>
              <p:nvPr/>
            </p:nvGrpSpPr>
            <p:grpSpPr>
              <a:xfrm>
                <a:off x="5996880" y="3053880"/>
                <a:ext cx="72720" cy="72720"/>
                <a:chOff x="5996880" y="3053880"/>
                <a:chExt cx="72720" cy="72720"/>
              </a:xfrm>
            </p:grpSpPr>
            <p:sp>
              <p:nvSpPr>
                <p:cNvPr id="3590" name=""/>
                <p:cNvSpPr/>
                <p:nvPr/>
              </p:nvSpPr>
              <p:spPr>
                <a:xfrm>
                  <a:off x="5996880" y="3053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>
                  <a:off x="5996880" y="30538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2" name=""/>
              <p:cNvGrpSpPr/>
              <p:nvPr/>
            </p:nvGrpSpPr>
            <p:grpSpPr>
              <a:xfrm>
                <a:off x="6050880" y="3090240"/>
                <a:ext cx="72720" cy="72720"/>
                <a:chOff x="6050880" y="3090240"/>
                <a:chExt cx="72720" cy="72720"/>
              </a:xfrm>
            </p:grpSpPr>
            <p:sp>
              <p:nvSpPr>
                <p:cNvPr id="3593" name=""/>
                <p:cNvSpPr/>
                <p:nvPr/>
              </p:nvSpPr>
              <p:spPr>
                <a:xfrm>
                  <a:off x="6050880" y="3090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6050880" y="30902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5" name=""/>
              <p:cNvGrpSpPr/>
              <p:nvPr/>
            </p:nvGrpSpPr>
            <p:grpSpPr>
              <a:xfrm>
                <a:off x="6106320" y="3126960"/>
                <a:ext cx="72720" cy="72360"/>
                <a:chOff x="6106320" y="3126960"/>
                <a:chExt cx="72720" cy="72360"/>
              </a:xfrm>
            </p:grpSpPr>
            <p:sp>
              <p:nvSpPr>
                <p:cNvPr id="3596" name=""/>
                <p:cNvSpPr/>
                <p:nvPr/>
              </p:nvSpPr>
              <p:spPr>
                <a:xfrm>
                  <a:off x="6106320" y="31269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>
                  <a:off x="6106320" y="31269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8" name=""/>
              <p:cNvGrpSpPr/>
              <p:nvPr/>
            </p:nvGrpSpPr>
            <p:grpSpPr>
              <a:xfrm>
                <a:off x="6143040" y="3163320"/>
                <a:ext cx="90000" cy="72720"/>
                <a:chOff x="6143040" y="3163320"/>
                <a:chExt cx="90000" cy="72720"/>
              </a:xfrm>
            </p:grpSpPr>
            <p:sp>
              <p:nvSpPr>
                <p:cNvPr id="3599" name=""/>
                <p:cNvSpPr/>
                <p:nvPr/>
              </p:nvSpPr>
              <p:spPr>
                <a:xfrm>
                  <a:off x="6143040" y="31633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6143040" y="31633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1" name=""/>
              <p:cNvGrpSpPr/>
              <p:nvPr/>
            </p:nvGrpSpPr>
            <p:grpSpPr>
              <a:xfrm>
                <a:off x="6197040" y="3199680"/>
                <a:ext cx="91440" cy="72720"/>
                <a:chOff x="6197040" y="3199680"/>
                <a:chExt cx="91440" cy="72720"/>
              </a:xfrm>
            </p:grpSpPr>
            <p:sp>
              <p:nvSpPr>
                <p:cNvPr id="3602" name=""/>
                <p:cNvSpPr/>
                <p:nvPr/>
              </p:nvSpPr>
              <p:spPr>
                <a:xfrm>
                  <a:off x="6197040" y="3199680"/>
                  <a:ext cx="9144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6197040" y="319968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4" name=""/>
              <p:cNvGrpSpPr/>
              <p:nvPr/>
            </p:nvGrpSpPr>
            <p:grpSpPr>
              <a:xfrm>
                <a:off x="6252480" y="3236400"/>
                <a:ext cx="72720" cy="72720"/>
                <a:chOff x="6252480" y="3236400"/>
                <a:chExt cx="72720" cy="72720"/>
              </a:xfrm>
            </p:grpSpPr>
            <p:sp>
              <p:nvSpPr>
                <p:cNvPr id="3605" name=""/>
                <p:cNvSpPr/>
                <p:nvPr/>
              </p:nvSpPr>
              <p:spPr>
                <a:xfrm>
                  <a:off x="6252480" y="3236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>
                  <a:off x="6252480" y="32364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7" name=""/>
              <p:cNvGrpSpPr/>
              <p:nvPr/>
            </p:nvGrpSpPr>
            <p:grpSpPr>
              <a:xfrm>
                <a:off x="6306480" y="3272760"/>
                <a:ext cx="72720" cy="71280"/>
                <a:chOff x="6306480" y="3272760"/>
                <a:chExt cx="72720" cy="71280"/>
              </a:xfrm>
            </p:grpSpPr>
            <p:sp>
              <p:nvSpPr>
                <p:cNvPr id="3608" name=""/>
                <p:cNvSpPr/>
                <p:nvPr/>
              </p:nvSpPr>
              <p:spPr>
                <a:xfrm>
                  <a:off x="6306480" y="327276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6306480" y="32727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0" name=""/>
              <p:cNvGrpSpPr/>
              <p:nvPr/>
            </p:nvGrpSpPr>
            <p:grpSpPr>
              <a:xfrm>
                <a:off x="6360480" y="3309480"/>
                <a:ext cx="72720" cy="70920"/>
                <a:chOff x="6360480" y="3309480"/>
                <a:chExt cx="72720" cy="70920"/>
              </a:xfrm>
            </p:grpSpPr>
            <p:sp>
              <p:nvSpPr>
                <p:cNvPr id="3611" name=""/>
                <p:cNvSpPr/>
                <p:nvPr/>
              </p:nvSpPr>
              <p:spPr>
                <a:xfrm>
                  <a:off x="6360480" y="330948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6360480" y="330948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3" name=""/>
              <p:cNvGrpSpPr/>
              <p:nvPr/>
            </p:nvGrpSpPr>
            <p:grpSpPr>
              <a:xfrm>
                <a:off x="6415920" y="3344400"/>
                <a:ext cx="72720" cy="72360"/>
                <a:chOff x="6415920" y="3344400"/>
                <a:chExt cx="72720" cy="72360"/>
              </a:xfrm>
            </p:grpSpPr>
            <p:sp>
              <p:nvSpPr>
                <p:cNvPr id="3614" name=""/>
                <p:cNvSpPr/>
                <p:nvPr/>
              </p:nvSpPr>
              <p:spPr>
                <a:xfrm>
                  <a:off x="6415920" y="334440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5" name=""/>
                <p:cNvSpPr/>
                <p:nvPr/>
              </p:nvSpPr>
              <p:spPr>
                <a:xfrm>
                  <a:off x="6415920" y="3344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6" name=""/>
              <p:cNvGrpSpPr/>
              <p:nvPr/>
            </p:nvGrpSpPr>
            <p:grpSpPr>
              <a:xfrm>
                <a:off x="6469920" y="3380760"/>
                <a:ext cx="72720" cy="72720"/>
                <a:chOff x="6469920" y="3380760"/>
                <a:chExt cx="72720" cy="72720"/>
              </a:xfrm>
            </p:grpSpPr>
            <p:sp>
              <p:nvSpPr>
                <p:cNvPr id="3617" name=""/>
                <p:cNvSpPr/>
                <p:nvPr/>
              </p:nvSpPr>
              <p:spPr>
                <a:xfrm>
                  <a:off x="6469920" y="33807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>
                  <a:off x="6469920" y="33807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9" name=""/>
            <p:cNvSpPr/>
            <p:nvPr/>
          </p:nvSpPr>
          <p:spPr>
            <a:xfrm>
              <a:off x="5778000" y="294444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48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5943240" y="2671560"/>
              <a:ext cx="762840" cy="545400"/>
              <a:chOff x="5943240" y="2671560"/>
              <a:chExt cx="762840" cy="545400"/>
            </a:xfrm>
          </p:grpSpPr>
          <p:grpSp>
            <p:nvGrpSpPr>
              <p:cNvPr id="3621" name=""/>
              <p:cNvGrpSpPr/>
              <p:nvPr/>
            </p:nvGrpSpPr>
            <p:grpSpPr>
              <a:xfrm>
                <a:off x="5943240" y="2671560"/>
                <a:ext cx="90000" cy="70920"/>
                <a:chOff x="5943240" y="2671560"/>
                <a:chExt cx="90000" cy="70920"/>
              </a:xfrm>
            </p:grpSpPr>
            <p:sp>
              <p:nvSpPr>
                <p:cNvPr id="3622" name=""/>
                <p:cNvSpPr/>
                <p:nvPr/>
              </p:nvSpPr>
              <p:spPr>
                <a:xfrm>
                  <a:off x="5943240" y="2671560"/>
                  <a:ext cx="9000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"/>
                <p:cNvSpPr/>
                <p:nvPr/>
              </p:nvSpPr>
              <p:spPr>
                <a:xfrm>
                  <a:off x="5943240" y="26715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4" name=""/>
              <p:cNvGrpSpPr/>
              <p:nvPr/>
            </p:nvGrpSpPr>
            <p:grpSpPr>
              <a:xfrm>
                <a:off x="5996880" y="2707560"/>
                <a:ext cx="90000" cy="90360"/>
                <a:chOff x="5996880" y="2707560"/>
                <a:chExt cx="90000" cy="90360"/>
              </a:xfrm>
            </p:grpSpPr>
            <p:sp>
              <p:nvSpPr>
                <p:cNvPr id="3625" name=""/>
                <p:cNvSpPr/>
                <p:nvPr/>
              </p:nvSpPr>
              <p:spPr>
                <a:xfrm>
                  <a:off x="5996880" y="270756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>
                  <a:off x="5996880" y="270756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7" name=""/>
              <p:cNvGrpSpPr/>
              <p:nvPr/>
            </p:nvGrpSpPr>
            <p:grpSpPr>
              <a:xfrm>
                <a:off x="6050880" y="2742480"/>
                <a:ext cx="72720" cy="72720"/>
                <a:chOff x="6050880" y="2742480"/>
                <a:chExt cx="72720" cy="72720"/>
              </a:xfrm>
            </p:grpSpPr>
            <p:sp>
              <p:nvSpPr>
                <p:cNvPr id="3628" name=""/>
                <p:cNvSpPr/>
                <p:nvPr/>
              </p:nvSpPr>
              <p:spPr>
                <a:xfrm>
                  <a:off x="6050880" y="2742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>
                  <a:off x="6050880" y="27424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0" name=""/>
              <p:cNvGrpSpPr/>
              <p:nvPr/>
            </p:nvGrpSpPr>
            <p:grpSpPr>
              <a:xfrm>
                <a:off x="6106320" y="2779200"/>
                <a:ext cx="72720" cy="72720"/>
                <a:chOff x="6106320" y="2779200"/>
                <a:chExt cx="72720" cy="72720"/>
              </a:xfrm>
            </p:grpSpPr>
            <p:sp>
              <p:nvSpPr>
                <p:cNvPr id="3631" name=""/>
                <p:cNvSpPr/>
                <p:nvPr/>
              </p:nvSpPr>
              <p:spPr>
                <a:xfrm>
                  <a:off x="6106320" y="27792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"/>
                <p:cNvSpPr/>
                <p:nvPr/>
              </p:nvSpPr>
              <p:spPr>
                <a:xfrm>
                  <a:off x="6106320" y="27792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3" name=""/>
              <p:cNvGrpSpPr/>
              <p:nvPr/>
            </p:nvGrpSpPr>
            <p:grpSpPr>
              <a:xfrm>
                <a:off x="6160320" y="2815560"/>
                <a:ext cx="72720" cy="72720"/>
                <a:chOff x="6160320" y="2815560"/>
                <a:chExt cx="72720" cy="72720"/>
              </a:xfrm>
            </p:grpSpPr>
            <p:sp>
              <p:nvSpPr>
                <p:cNvPr id="3634" name=""/>
                <p:cNvSpPr/>
                <p:nvPr/>
              </p:nvSpPr>
              <p:spPr>
                <a:xfrm>
                  <a:off x="6160320" y="2815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>
                  <a:off x="6160320" y="28155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6" name=""/>
              <p:cNvGrpSpPr/>
              <p:nvPr/>
            </p:nvGrpSpPr>
            <p:grpSpPr>
              <a:xfrm>
                <a:off x="6216120" y="2852280"/>
                <a:ext cx="72360" cy="72360"/>
                <a:chOff x="6216120" y="2852280"/>
                <a:chExt cx="72360" cy="72360"/>
              </a:xfrm>
            </p:grpSpPr>
            <p:sp>
              <p:nvSpPr>
                <p:cNvPr id="3637" name=""/>
                <p:cNvSpPr/>
                <p:nvPr/>
              </p:nvSpPr>
              <p:spPr>
                <a:xfrm>
                  <a:off x="6216120" y="285228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"/>
                <p:cNvSpPr/>
                <p:nvPr/>
              </p:nvSpPr>
              <p:spPr>
                <a:xfrm>
                  <a:off x="6216120" y="28522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9" name=""/>
              <p:cNvGrpSpPr/>
              <p:nvPr/>
            </p:nvGrpSpPr>
            <p:grpSpPr>
              <a:xfrm>
                <a:off x="6269760" y="2888640"/>
                <a:ext cx="72720" cy="72720"/>
                <a:chOff x="6269760" y="2888640"/>
                <a:chExt cx="72720" cy="72720"/>
              </a:xfrm>
            </p:grpSpPr>
            <p:sp>
              <p:nvSpPr>
                <p:cNvPr id="3640" name=""/>
                <p:cNvSpPr/>
                <p:nvPr/>
              </p:nvSpPr>
              <p:spPr>
                <a:xfrm>
                  <a:off x="6269760" y="28886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"/>
                <p:cNvSpPr/>
                <p:nvPr/>
              </p:nvSpPr>
              <p:spPr>
                <a:xfrm>
                  <a:off x="6269760" y="28886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2" name=""/>
              <p:cNvGrpSpPr/>
              <p:nvPr/>
            </p:nvGrpSpPr>
            <p:grpSpPr>
              <a:xfrm>
                <a:off x="6306480" y="2925000"/>
                <a:ext cx="90000" cy="72720"/>
                <a:chOff x="6306480" y="2925000"/>
                <a:chExt cx="90000" cy="72720"/>
              </a:xfrm>
            </p:grpSpPr>
            <p:sp>
              <p:nvSpPr>
                <p:cNvPr id="3643" name=""/>
                <p:cNvSpPr/>
                <p:nvPr/>
              </p:nvSpPr>
              <p:spPr>
                <a:xfrm>
                  <a:off x="6306480" y="2925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>
                  <a:off x="6306480" y="29250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5" name=""/>
              <p:cNvGrpSpPr/>
              <p:nvPr/>
            </p:nvGrpSpPr>
            <p:grpSpPr>
              <a:xfrm>
                <a:off x="6360480" y="2961720"/>
                <a:ext cx="91800" cy="72720"/>
                <a:chOff x="6360480" y="2961720"/>
                <a:chExt cx="91800" cy="72720"/>
              </a:xfrm>
            </p:grpSpPr>
            <p:sp>
              <p:nvSpPr>
                <p:cNvPr id="3646" name=""/>
                <p:cNvSpPr/>
                <p:nvPr/>
              </p:nvSpPr>
              <p:spPr>
                <a:xfrm>
                  <a:off x="6360480" y="29617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>
                  <a:off x="6360480" y="296172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8" name=""/>
              <p:cNvGrpSpPr/>
              <p:nvPr/>
            </p:nvGrpSpPr>
            <p:grpSpPr>
              <a:xfrm>
                <a:off x="6415920" y="2998080"/>
                <a:ext cx="72720" cy="72720"/>
                <a:chOff x="6415920" y="2998080"/>
                <a:chExt cx="72720" cy="72720"/>
              </a:xfrm>
            </p:grpSpPr>
            <p:sp>
              <p:nvSpPr>
                <p:cNvPr id="3649" name=""/>
                <p:cNvSpPr/>
                <p:nvPr/>
              </p:nvSpPr>
              <p:spPr>
                <a:xfrm>
                  <a:off x="6415920" y="2998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0" name=""/>
                <p:cNvSpPr/>
                <p:nvPr/>
              </p:nvSpPr>
              <p:spPr>
                <a:xfrm>
                  <a:off x="6415920" y="29980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1" name=""/>
              <p:cNvGrpSpPr/>
              <p:nvPr/>
            </p:nvGrpSpPr>
            <p:grpSpPr>
              <a:xfrm>
                <a:off x="6469920" y="3034800"/>
                <a:ext cx="72720" cy="72720"/>
                <a:chOff x="6469920" y="3034800"/>
                <a:chExt cx="72720" cy="72720"/>
              </a:xfrm>
            </p:grpSpPr>
            <p:sp>
              <p:nvSpPr>
                <p:cNvPr id="3652" name=""/>
                <p:cNvSpPr/>
                <p:nvPr/>
              </p:nvSpPr>
              <p:spPr>
                <a:xfrm>
                  <a:off x="6469920" y="3034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>
                  <a:off x="6469920" y="30348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4" name=""/>
              <p:cNvGrpSpPr/>
              <p:nvPr/>
            </p:nvGrpSpPr>
            <p:grpSpPr>
              <a:xfrm>
                <a:off x="6525360" y="3071160"/>
                <a:ext cx="72720" cy="72720"/>
                <a:chOff x="6525360" y="3071160"/>
                <a:chExt cx="72720" cy="72720"/>
              </a:xfrm>
            </p:grpSpPr>
            <p:sp>
              <p:nvSpPr>
                <p:cNvPr id="3655" name=""/>
                <p:cNvSpPr/>
                <p:nvPr/>
              </p:nvSpPr>
              <p:spPr>
                <a:xfrm>
                  <a:off x="6525360" y="3071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"/>
                <p:cNvSpPr/>
                <p:nvPr/>
              </p:nvSpPr>
              <p:spPr>
                <a:xfrm>
                  <a:off x="6525360" y="30711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7" name=""/>
              <p:cNvGrpSpPr/>
              <p:nvPr/>
            </p:nvGrpSpPr>
            <p:grpSpPr>
              <a:xfrm>
                <a:off x="6579360" y="3107880"/>
                <a:ext cx="72720" cy="72360"/>
                <a:chOff x="6579360" y="3107880"/>
                <a:chExt cx="72720" cy="72360"/>
              </a:xfrm>
            </p:grpSpPr>
            <p:sp>
              <p:nvSpPr>
                <p:cNvPr id="3658" name=""/>
                <p:cNvSpPr/>
                <p:nvPr/>
              </p:nvSpPr>
              <p:spPr>
                <a:xfrm>
                  <a:off x="6579360" y="31078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>
                  <a:off x="6579360" y="31078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0" name=""/>
              <p:cNvGrpSpPr/>
              <p:nvPr/>
            </p:nvGrpSpPr>
            <p:grpSpPr>
              <a:xfrm>
                <a:off x="6635160" y="3144240"/>
                <a:ext cx="70920" cy="72720"/>
                <a:chOff x="6635160" y="3144240"/>
                <a:chExt cx="70920" cy="72720"/>
              </a:xfrm>
            </p:grpSpPr>
            <p:sp>
              <p:nvSpPr>
                <p:cNvPr id="3661" name=""/>
                <p:cNvSpPr/>
                <p:nvPr/>
              </p:nvSpPr>
              <p:spPr>
                <a:xfrm>
                  <a:off x="6635160" y="31442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>
                  <a:off x="6635160" y="31442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3" name=""/>
            <p:cNvSpPr/>
            <p:nvPr/>
          </p:nvSpPr>
          <p:spPr>
            <a:xfrm>
              <a:off x="5943240" y="272556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64" name=""/>
            <p:cNvGrpSpPr/>
            <p:nvPr/>
          </p:nvGrpSpPr>
          <p:grpSpPr>
            <a:xfrm>
              <a:off x="5414760" y="3436560"/>
              <a:ext cx="745200" cy="545400"/>
              <a:chOff x="5414760" y="3436560"/>
              <a:chExt cx="745200" cy="545400"/>
            </a:xfrm>
          </p:grpSpPr>
          <p:grpSp>
            <p:nvGrpSpPr>
              <p:cNvPr id="3665" name=""/>
              <p:cNvGrpSpPr/>
              <p:nvPr/>
            </p:nvGrpSpPr>
            <p:grpSpPr>
              <a:xfrm>
                <a:off x="5414760" y="3436560"/>
                <a:ext cx="72720" cy="90360"/>
                <a:chOff x="5414760" y="3436560"/>
                <a:chExt cx="72720" cy="90360"/>
              </a:xfrm>
            </p:grpSpPr>
            <p:sp>
              <p:nvSpPr>
                <p:cNvPr id="3666" name=""/>
                <p:cNvSpPr/>
                <p:nvPr/>
              </p:nvSpPr>
              <p:spPr>
                <a:xfrm>
                  <a:off x="5414760" y="343656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"/>
                <p:cNvSpPr/>
                <p:nvPr/>
              </p:nvSpPr>
              <p:spPr>
                <a:xfrm>
                  <a:off x="5414760" y="343656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8" name=""/>
              <p:cNvGrpSpPr/>
              <p:nvPr/>
            </p:nvGrpSpPr>
            <p:grpSpPr>
              <a:xfrm>
                <a:off x="5450760" y="3472920"/>
                <a:ext cx="90000" cy="90000"/>
                <a:chOff x="5450760" y="3472920"/>
                <a:chExt cx="90000" cy="90000"/>
              </a:xfrm>
            </p:grpSpPr>
            <p:sp>
              <p:nvSpPr>
                <p:cNvPr id="3669" name=""/>
                <p:cNvSpPr/>
                <p:nvPr/>
              </p:nvSpPr>
              <p:spPr>
                <a:xfrm>
                  <a:off x="5450760" y="347292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"/>
                <p:cNvSpPr/>
                <p:nvPr/>
              </p:nvSpPr>
              <p:spPr>
                <a:xfrm>
                  <a:off x="5450760" y="347292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1" name=""/>
              <p:cNvGrpSpPr/>
              <p:nvPr/>
            </p:nvGrpSpPr>
            <p:grpSpPr>
              <a:xfrm>
                <a:off x="5504760" y="3509280"/>
                <a:ext cx="91800" cy="90360"/>
                <a:chOff x="5504760" y="3509280"/>
                <a:chExt cx="91800" cy="90360"/>
              </a:xfrm>
            </p:grpSpPr>
            <p:sp>
              <p:nvSpPr>
                <p:cNvPr id="3672" name=""/>
                <p:cNvSpPr/>
                <p:nvPr/>
              </p:nvSpPr>
              <p:spPr>
                <a:xfrm>
                  <a:off x="5504760" y="3509280"/>
                  <a:ext cx="918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"/>
                <p:cNvSpPr/>
                <p:nvPr/>
              </p:nvSpPr>
              <p:spPr>
                <a:xfrm>
                  <a:off x="5504760" y="350928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4" name=""/>
              <p:cNvGrpSpPr/>
              <p:nvPr/>
            </p:nvGrpSpPr>
            <p:grpSpPr>
              <a:xfrm>
                <a:off x="5560200" y="3546000"/>
                <a:ext cx="90360" cy="90000"/>
                <a:chOff x="5560200" y="3546000"/>
                <a:chExt cx="90360" cy="90000"/>
              </a:xfrm>
            </p:grpSpPr>
            <p:sp>
              <p:nvSpPr>
                <p:cNvPr id="3675" name=""/>
                <p:cNvSpPr/>
                <p:nvPr/>
              </p:nvSpPr>
              <p:spPr>
                <a:xfrm>
                  <a:off x="5560200" y="3546000"/>
                  <a:ext cx="9036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>
                  <a:off x="5560200" y="354600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7" name=""/>
              <p:cNvGrpSpPr/>
              <p:nvPr/>
            </p:nvGrpSpPr>
            <p:grpSpPr>
              <a:xfrm>
                <a:off x="5614200" y="3582360"/>
                <a:ext cx="72720" cy="72720"/>
                <a:chOff x="5614200" y="3582360"/>
                <a:chExt cx="72720" cy="7272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5614200" y="3582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5614200" y="35823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0" name=""/>
              <p:cNvGrpSpPr/>
              <p:nvPr/>
            </p:nvGrpSpPr>
            <p:grpSpPr>
              <a:xfrm>
                <a:off x="5670000" y="3619080"/>
                <a:ext cx="70920" cy="72360"/>
                <a:chOff x="5670000" y="3619080"/>
                <a:chExt cx="70920" cy="72360"/>
              </a:xfrm>
            </p:grpSpPr>
            <p:sp>
              <p:nvSpPr>
                <p:cNvPr id="3681" name=""/>
                <p:cNvSpPr/>
                <p:nvPr/>
              </p:nvSpPr>
              <p:spPr>
                <a:xfrm>
                  <a:off x="5670000" y="361908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"/>
                <p:cNvSpPr/>
                <p:nvPr/>
              </p:nvSpPr>
              <p:spPr>
                <a:xfrm>
                  <a:off x="5670000" y="3619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3" name=""/>
              <p:cNvGrpSpPr/>
              <p:nvPr/>
            </p:nvGrpSpPr>
            <p:grpSpPr>
              <a:xfrm>
                <a:off x="5724000" y="3655440"/>
                <a:ext cx="72360" cy="72720"/>
                <a:chOff x="5724000" y="3655440"/>
                <a:chExt cx="72360" cy="72720"/>
              </a:xfrm>
            </p:grpSpPr>
            <p:sp>
              <p:nvSpPr>
                <p:cNvPr id="3684" name=""/>
                <p:cNvSpPr/>
                <p:nvPr/>
              </p:nvSpPr>
              <p:spPr>
                <a:xfrm>
                  <a:off x="5724000" y="365544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5" name=""/>
                <p:cNvSpPr/>
                <p:nvPr/>
              </p:nvSpPr>
              <p:spPr>
                <a:xfrm>
                  <a:off x="5724000" y="36554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6" name=""/>
              <p:cNvGrpSpPr/>
              <p:nvPr/>
            </p:nvGrpSpPr>
            <p:grpSpPr>
              <a:xfrm>
                <a:off x="5777640" y="3691800"/>
                <a:ext cx="72720" cy="72720"/>
                <a:chOff x="5777640" y="3691800"/>
                <a:chExt cx="72720" cy="72720"/>
              </a:xfrm>
            </p:grpSpPr>
            <p:sp>
              <p:nvSpPr>
                <p:cNvPr id="3687" name=""/>
                <p:cNvSpPr/>
                <p:nvPr/>
              </p:nvSpPr>
              <p:spPr>
                <a:xfrm>
                  <a:off x="5777640" y="3691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>
                  <a:off x="5777640" y="369180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9" name=""/>
              <p:cNvGrpSpPr/>
              <p:nvPr/>
            </p:nvGrpSpPr>
            <p:grpSpPr>
              <a:xfrm>
                <a:off x="5814360" y="3728520"/>
                <a:ext cx="91800" cy="72720"/>
                <a:chOff x="5814360" y="3728520"/>
                <a:chExt cx="91800" cy="72720"/>
              </a:xfrm>
            </p:grpSpPr>
            <p:sp>
              <p:nvSpPr>
                <p:cNvPr id="3690" name=""/>
                <p:cNvSpPr/>
                <p:nvPr/>
              </p:nvSpPr>
              <p:spPr>
                <a:xfrm>
                  <a:off x="5814360" y="37285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>
                  <a:off x="5814360" y="372852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2" name=""/>
              <p:cNvGrpSpPr/>
              <p:nvPr/>
            </p:nvGrpSpPr>
            <p:grpSpPr>
              <a:xfrm>
                <a:off x="5869800" y="3764880"/>
                <a:ext cx="90360" cy="72720"/>
                <a:chOff x="5869800" y="3764880"/>
                <a:chExt cx="90360" cy="72720"/>
              </a:xfrm>
            </p:grpSpPr>
            <p:sp>
              <p:nvSpPr>
                <p:cNvPr id="3693" name=""/>
                <p:cNvSpPr/>
                <p:nvPr/>
              </p:nvSpPr>
              <p:spPr>
                <a:xfrm>
                  <a:off x="5869800" y="376488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>
                  <a:off x="5869800" y="376488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5" name=""/>
              <p:cNvGrpSpPr/>
              <p:nvPr/>
            </p:nvGrpSpPr>
            <p:grpSpPr>
              <a:xfrm>
                <a:off x="5923800" y="3801600"/>
                <a:ext cx="91800" cy="72360"/>
                <a:chOff x="5923800" y="3801600"/>
                <a:chExt cx="91800" cy="72360"/>
              </a:xfrm>
            </p:grpSpPr>
            <p:sp>
              <p:nvSpPr>
                <p:cNvPr id="3696" name=""/>
                <p:cNvSpPr/>
                <p:nvPr/>
              </p:nvSpPr>
              <p:spPr>
                <a:xfrm>
                  <a:off x="5923800" y="380160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5923800" y="380160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8" name=""/>
              <p:cNvGrpSpPr/>
              <p:nvPr/>
            </p:nvGrpSpPr>
            <p:grpSpPr>
              <a:xfrm>
                <a:off x="5979600" y="3837960"/>
                <a:ext cx="70920" cy="71280"/>
                <a:chOff x="5979600" y="3837960"/>
                <a:chExt cx="70920" cy="71280"/>
              </a:xfrm>
            </p:grpSpPr>
            <p:sp>
              <p:nvSpPr>
                <p:cNvPr id="3699" name=""/>
                <p:cNvSpPr/>
                <p:nvPr/>
              </p:nvSpPr>
              <p:spPr>
                <a:xfrm>
                  <a:off x="5979600" y="3837960"/>
                  <a:ext cx="709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"/>
                <p:cNvSpPr/>
                <p:nvPr/>
              </p:nvSpPr>
              <p:spPr>
                <a:xfrm>
                  <a:off x="5979600" y="3837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1" name=""/>
              <p:cNvGrpSpPr/>
              <p:nvPr/>
            </p:nvGrpSpPr>
            <p:grpSpPr>
              <a:xfrm>
                <a:off x="6033240" y="3874320"/>
                <a:ext cx="72720" cy="71280"/>
                <a:chOff x="6033240" y="3874320"/>
                <a:chExt cx="72720" cy="71280"/>
              </a:xfrm>
            </p:grpSpPr>
            <p:sp>
              <p:nvSpPr>
                <p:cNvPr id="3702" name=""/>
                <p:cNvSpPr/>
                <p:nvPr/>
              </p:nvSpPr>
              <p:spPr>
                <a:xfrm>
                  <a:off x="6033240" y="38743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>
                  <a:off x="6033240" y="3874320"/>
                  <a:ext cx="36360" cy="3492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4" name=""/>
              <p:cNvGrpSpPr/>
              <p:nvPr/>
            </p:nvGrpSpPr>
            <p:grpSpPr>
              <a:xfrm>
                <a:off x="6087240" y="3909600"/>
                <a:ext cx="72720" cy="72360"/>
                <a:chOff x="6087240" y="3909600"/>
                <a:chExt cx="72720" cy="72360"/>
              </a:xfrm>
            </p:grpSpPr>
            <p:sp>
              <p:nvSpPr>
                <p:cNvPr id="3705" name=""/>
                <p:cNvSpPr/>
                <p:nvPr/>
              </p:nvSpPr>
              <p:spPr>
                <a:xfrm>
                  <a:off x="6087240" y="390960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6087240" y="39096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7" name=""/>
            <p:cNvSpPr/>
            <p:nvPr/>
          </p:nvSpPr>
          <p:spPr>
            <a:xfrm>
              <a:off x="5395680" y="349056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59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5578200" y="3217680"/>
              <a:ext cx="747000" cy="546840"/>
              <a:chOff x="5578200" y="3217680"/>
              <a:chExt cx="747000" cy="546840"/>
            </a:xfrm>
          </p:grpSpPr>
          <p:grpSp>
            <p:nvGrpSpPr>
              <p:cNvPr id="3709" name=""/>
              <p:cNvGrpSpPr/>
              <p:nvPr/>
            </p:nvGrpSpPr>
            <p:grpSpPr>
              <a:xfrm>
                <a:off x="5578200" y="3217680"/>
                <a:ext cx="72720" cy="72720"/>
                <a:chOff x="5578200" y="3217680"/>
                <a:chExt cx="72720" cy="72720"/>
              </a:xfrm>
            </p:grpSpPr>
            <p:sp>
              <p:nvSpPr>
                <p:cNvPr id="3710" name=""/>
                <p:cNvSpPr/>
                <p:nvPr/>
              </p:nvSpPr>
              <p:spPr>
                <a:xfrm>
                  <a:off x="5578200" y="3217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5578200" y="32176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2" name=""/>
              <p:cNvGrpSpPr/>
              <p:nvPr/>
            </p:nvGrpSpPr>
            <p:grpSpPr>
              <a:xfrm>
                <a:off x="5614200" y="3253680"/>
                <a:ext cx="91800" cy="72720"/>
                <a:chOff x="5614200" y="3253680"/>
                <a:chExt cx="91800" cy="72720"/>
              </a:xfrm>
            </p:grpSpPr>
            <p:sp>
              <p:nvSpPr>
                <p:cNvPr id="3713" name=""/>
                <p:cNvSpPr/>
                <p:nvPr/>
              </p:nvSpPr>
              <p:spPr>
                <a:xfrm>
                  <a:off x="5614200" y="32536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>
                  <a:off x="5614200" y="325368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5" name=""/>
              <p:cNvGrpSpPr/>
              <p:nvPr/>
            </p:nvGrpSpPr>
            <p:grpSpPr>
              <a:xfrm>
                <a:off x="5670000" y="3290400"/>
                <a:ext cx="90000" cy="72720"/>
                <a:chOff x="5670000" y="3290400"/>
                <a:chExt cx="90000" cy="72720"/>
              </a:xfrm>
            </p:grpSpPr>
            <p:sp>
              <p:nvSpPr>
                <p:cNvPr id="3716" name=""/>
                <p:cNvSpPr/>
                <p:nvPr/>
              </p:nvSpPr>
              <p:spPr>
                <a:xfrm>
                  <a:off x="5670000" y="32904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5670000" y="32904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8" name=""/>
              <p:cNvGrpSpPr/>
              <p:nvPr/>
            </p:nvGrpSpPr>
            <p:grpSpPr>
              <a:xfrm>
                <a:off x="5724000" y="3326760"/>
                <a:ext cx="72360" cy="72720"/>
                <a:chOff x="5724000" y="3326760"/>
                <a:chExt cx="72360" cy="72720"/>
              </a:xfrm>
            </p:grpSpPr>
            <p:sp>
              <p:nvSpPr>
                <p:cNvPr id="3719" name=""/>
                <p:cNvSpPr/>
                <p:nvPr/>
              </p:nvSpPr>
              <p:spPr>
                <a:xfrm>
                  <a:off x="5724000" y="33267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5724000" y="33267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1" name=""/>
              <p:cNvGrpSpPr/>
              <p:nvPr/>
            </p:nvGrpSpPr>
            <p:grpSpPr>
              <a:xfrm>
                <a:off x="5777640" y="3363480"/>
                <a:ext cx="72720" cy="72360"/>
                <a:chOff x="5777640" y="3363480"/>
                <a:chExt cx="72720" cy="72360"/>
              </a:xfrm>
            </p:grpSpPr>
            <p:sp>
              <p:nvSpPr>
                <p:cNvPr id="3722" name=""/>
                <p:cNvSpPr/>
                <p:nvPr/>
              </p:nvSpPr>
              <p:spPr>
                <a:xfrm>
                  <a:off x="5777640" y="33634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5777640" y="33634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4" name=""/>
              <p:cNvGrpSpPr/>
              <p:nvPr/>
            </p:nvGrpSpPr>
            <p:grpSpPr>
              <a:xfrm>
                <a:off x="5833440" y="3399840"/>
                <a:ext cx="72720" cy="72720"/>
                <a:chOff x="5833440" y="3399840"/>
                <a:chExt cx="72720" cy="72720"/>
              </a:xfrm>
            </p:grpSpPr>
            <p:sp>
              <p:nvSpPr>
                <p:cNvPr id="3725" name=""/>
                <p:cNvSpPr/>
                <p:nvPr/>
              </p:nvSpPr>
              <p:spPr>
                <a:xfrm>
                  <a:off x="5833440" y="3399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5833440" y="33998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7" name=""/>
              <p:cNvGrpSpPr/>
              <p:nvPr/>
            </p:nvGrpSpPr>
            <p:grpSpPr>
              <a:xfrm>
                <a:off x="5887440" y="3436200"/>
                <a:ext cx="72720" cy="72720"/>
                <a:chOff x="5887440" y="3436200"/>
                <a:chExt cx="72720" cy="72720"/>
              </a:xfrm>
            </p:grpSpPr>
            <p:sp>
              <p:nvSpPr>
                <p:cNvPr id="3728" name=""/>
                <p:cNvSpPr/>
                <p:nvPr/>
              </p:nvSpPr>
              <p:spPr>
                <a:xfrm>
                  <a:off x="5887440" y="34362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5887440" y="34362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0" name=""/>
              <p:cNvGrpSpPr/>
              <p:nvPr/>
            </p:nvGrpSpPr>
            <p:grpSpPr>
              <a:xfrm>
                <a:off x="5942880" y="3472920"/>
                <a:ext cx="72720" cy="72720"/>
                <a:chOff x="5942880" y="3472920"/>
                <a:chExt cx="72720" cy="72720"/>
              </a:xfrm>
            </p:grpSpPr>
            <p:sp>
              <p:nvSpPr>
                <p:cNvPr id="3731" name=""/>
                <p:cNvSpPr/>
                <p:nvPr/>
              </p:nvSpPr>
              <p:spPr>
                <a:xfrm>
                  <a:off x="5942880" y="3472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5942880" y="34729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3" name=""/>
              <p:cNvGrpSpPr/>
              <p:nvPr/>
            </p:nvGrpSpPr>
            <p:grpSpPr>
              <a:xfrm>
                <a:off x="5979600" y="3509280"/>
                <a:ext cx="90000" cy="72720"/>
                <a:chOff x="5979600" y="3509280"/>
                <a:chExt cx="90000" cy="72720"/>
              </a:xfrm>
            </p:grpSpPr>
            <p:sp>
              <p:nvSpPr>
                <p:cNvPr id="3734" name=""/>
                <p:cNvSpPr/>
                <p:nvPr/>
              </p:nvSpPr>
              <p:spPr>
                <a:xfrm>
                  <a:off x="5979600" y="35092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5979600" y="3509280"/>
                  <a:ext cx="532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6" name=""/>
              <p:cNvGrpSpPr/>
              <p:nvPr/>
            </p:nvGrpSpPr>
            <p:grpSpPr>
              <a:xfrm>
                <a:off x="6033240" y="3546000"/>
                <a:ext cx="90360" cy="72720"/>
                <a:chOff x="6033240" y="3546000"/>
                <a:chExt cx="90360" cy="72720"/>
              </a:xfrm>
            </p:grpSpPr>
            <p:sp>
              <p:nvSpPr>
                <p:cNvPr id="3737" name=""/>
                <p:cNvSpPr/>
                <p:nvPr/>
              </p:nvSpPr>
              <p:spPr>
                <a:xfrm>
                  <a:off x="6033240" y="35460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6033240" y="35460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9" name=""/>
              <p:cNvGrpSpPr/>
              <p:nvPr/>
            </p:nvGrpSpPr>
            <p:grpSpPr>
              <a:xfrm>
                <a:off x="6087240" y="3563280"/>
                <a:ext cx="72720" cy="91800"/>
                <a:chOff x="6087240" y="3563280"/>
                <a:chExt cx="72720" cy="91800"/>
              </a:xfrm>
            </p:grpSpPr>
            <p:sp>
              <p:nvSpPr>
                <p:cNvPr id="3740" name=""/>
                <p:cNvSpPr/>
                <p:nvPr/>
              </p:nvSpPr>
              <p:spPr>
                <a:xfrm>
                  <a:off x="6087240" y="35632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6087240" y="356328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2" name=""/>
              <p:cNvGrpSpPr/>
              <p:nvPr/>
            </p:nvGrpSpPr>
            <p:grpSpPr>
              <a:xfrm>
                <a:off x="6143040" y="3600000"/>
                <a:ext cx="72720" cy="91440"/>
                <a:chOff x="6143040" y="3600000"/>
                <a:chExt cx="72720" cy="91440"/>
              </a:xfrm>
            </p:grpSpPr>
            <p:sp>
              <p:nvSpPr>
                <p:cNvPr id="3743" name=""/>
                <p:cNvSpPr/>
                <p:nvPr/>
              </p:nvSpPr>
              <p:spPr>
                <a:xfrm>
                  <a:off x="6143040" y="360000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6143040" y="360000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5" name=""/>
              <p:cNvGrpSpPr/>
              <p:nvPr/>
            </p:nvGrpSpPr>
            <p:grpSpPr>
              <a:xfrm>
                <a:off x="6197040" y="3636360"/>
                <a:ext cx="72360" cy="91800"/>
                <a:chOff x="6197040" y="3636360"/>
                <a:chExt cx="72360" cy="91800"/>
              </a:xfrm>
            </p:grpSpPr>
            <p:sp>
              <p:nvSpPr>
                <p:cNvPr id="3746" name=""/>
                <p:cNvSpPr/>
                <p:nvPr/>
              </p:nvSpPr>
              <p:spPr>
                <a:xfrm>
                  <a:off x="6197040" y="363636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6197040" y="36363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8" name=""/>
              <p:cNvGrpSpPr/>
              <p:nvPr/>
            </p:nvGrpSpPr>
            <p:grpSpPr>
              <a:xfrm>
                <a:off x="6252480" y="3672720"/>
                <a:ext cx="72720" cy="91800"/>
                <a:chOff x="6252480" y="3672720"/>
                <a:chExt cx="72720" cy="91800"/>
              </a:xfrm>
            </p:grpSpPr>
            <p:sp>
              <p:nvSpPr>
                <p:cNvPr id="3749" name=""/>
                <p:cNvSpPr/>
                <p:nvPr/>
              </p:nvSpPr>
              <p:spPr>
                <a:xfrm>
                  <a:off x="6252480" y="36727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6252480" y="367272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51" name=""/>
            <p:cNvSpPr/>
            <p:nvPr/>
          </p:nvSpPr>
          <p:spPr>
            <a:xfrm>
              <a:off x="5560560" y="3254040"/>
              <a:ext cx="74592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52" name=""/>
            <p:cNvGrpSpPr/>
            <p:nvPr/>
          </p:nvGrpSpPr>
          <p:grpSpPr>
            <a:xfrm>
              <a:off x="5524200" y="3290760"/>
              <a:ext cx="745200" cy="546840"/>
              <a:chOff x="5524200" y="3290760"/>
              <a:chExt cx="745200" cy="546840"/>
            </a:xfrm>
          </p:grpSpPr>
          <p:grpSp>
            <p:nvGrpSpPr>
              <p:cNvPr id="3753" name=""/>
              <p:cNvGrpSpPr/>
              <p:nvPr/>
            </p:nvGrpSpPr>
            <p:grpSpPr>
              <a:xfrm>
                <a:off x="5524200" y="3290760"/>
                <a:ext cx="72720" cy="72720"/>
                <a:chOff x="5524200" y="3290760"/>
                <a:chExt cx="72720" cy="72720"/>
              </a:xfrm>
            </p:grpSpPr>
            <p:sp>
              <p:nvSpPr>
                <p:cNvPr id="3754" name=""/>
                <p:cNvSpPr/>
                <p:nvPr/>
              </p:nvSpPr>
              <p:spPr>
                <a:xfrm>
                  <a:off x="5524200" y="32907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>
                  <a:off x="5524200" y="32907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6" name=""/>
              <p:cNvGrpSpPr/>
              <p:nvPr/>
            </p:nvGrpSpPr>
            <p:grpSpPr>
              <a:xfrm>
                <a:off x="5560200" y="3326760"/>
                <a:ext cx="90360" cy="72720"/>
                <a:chOff x="5560200" y="3326760"/>
                <a:chExt cx="90360" cy="72720"/>
              </a:xfrm>
            </p:grpSpPr>
            <p:sp>
              <p:nvSpPr>
                <p:cNvPr id="3757" name=""/>
                <p:cNvSpPr/>
                <p:nvPr/>
              </p:nvSpPr>
              <p:spPr>
                <a:xfrm>
                  <a:off x="5560200" y="332676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>
                  <a:off x="5560200" y="33267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9" name=""/>
              <p:cNvGrpSpPr/>
              <p:nvPr/>
            </p:nvGrpSpPr>
            <p:grpSpPr>
              <a:xfrm>
                <a:off x="5614200" y="3363480"/>
                <a:ext cx="91800" cy="72360"/>
                <a:chOff x="5614200" y="3363480"/>
                <a:chExt cx="91800" cy="72360"/>
              </a:xfrm>
            </p:grpSpPr>
            <p:sp>
              <p:nvSpPr>
                <p:cNvPr id="3760" name=""/>
                <p:cNvSpPr/>
                <p:nvPr/>
              </p:nvSpPr>
              <p:spPr>
                <a:xfrm>
                  <a:off x="5614200" y="336348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>
                  <a:off x="5614200" y="336348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2" name=""/>
              <p:cNvGrpSpPr/>
              <p:nvPr/>
            </p:nvGrpSpPr>
            <p:grpSpPr>
              <a:xfrm>
                <a:off x="5670000" y="3399840"/>
                <a:ext cx="90000" cy="72720"/>
                <a:chOff x="5670000" y="3399840"/>
                <a:chExt cx="90000" cy="72720"/>
              </a:xfrm>
            </p:grpSpPr>
            <p:sp>
              <p:nvSpPr>
                <p:cNvPr id="3763" name=""/>
                <p:cNvSpPr/>
                <p:nvPr/>
              </p:nvSpPr>
              <p:spPr>
                <a:xfrm>
                  <a:off x="5670000" y="33998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>
                  <a:off x="5670000" y="33998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5" name=""/>
              <p:cNvGrpSpPr/>
              <p:nvPr/>
            </p:nvGrpSpPr>
            <p:grpSpPr>
              <a:xfrm>
                <a:off x="5724000" y="3436200"/>
                <a:ext cx="72360" cy="72720"/>
                <a:chOff x="5724000" y="3436200"/>
                <a:chExt cx="72360" cy="72720"/>
              </a:xfrm>
            </p:grpSpPr>
            <p:sp>
              <p:nvSpPr>
                <p:cNvPr id="3766" name=""/>
                <p:cNvSpPr/>
                <p:nvPr/>
              </p:nvSpPr>
              <p:spPr>
                <a:xfrm>
                  <a:off x="5724000" y="34362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5724000" y="34362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8" name=""/>
              <p:cNvGrpSpPr/>
              <p:nvPr/>
            </p:nvGrpSpPr>
            <p:grpSpPr>
              <a:xfrm>
                <a:off x="5777640" y="3472920"/>
                <a:ext cx="72720" cy="72720"/>
                <a:chOff x="5777640" y="3472920"/>
                <a:chExt cx="72720" cy="72720"/>
              </a:xfrm>
            </p:grpSpPr>
            <p:sp>
              <p:nvSpPr>
                <p:cNvPr id="3769" name=""/>
                <p:cNvSpPr/>
                <p:nvPr/>
              </p:nvSpPr>
              <p:spPr>
                <a:xfrm>
                  <a:off x="5777640" y="3472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5777640" y="34729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1" name=""/>
              <p:cNvGrpSpPr/>
              <p:nvPr/>
            </p:nvGrpSpPr>
            <p:grpSpPr>
              <a:xfrm>
                <a:off x="5833440" y="3509280"/>
                <a:ext cx="72720" cy="72720"/>
                <a:chOff x="5833440" y="3509280"/>
                <a:chExt cx="72720" cy="72720"/>
              </a:xfrm>
            </p:grpSpPr>
            <p:sp>
              <p:nvSpPr>
                <p:cNvPr id="3772" name=""/>
                <p:cNvSpPr/>
                <p:nvPr/>
              </p:nvSpPr>
              <p:spPr>
                <a:xfrm>
                  <a:off x="5833440" y="35092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5833440" y="3509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4" name=""/>
              <p:cNvGrpSpPr/>
              <p:nvPr/>
            </p:nvGrpSpPr>
            <p:grpSpPr>
              <a:xfrm>
                <a:off x="5887440" y="3546000"/>
                <a:ext cx="72720" cy="72720"/>
                <a:chOff x="5887440" y="3546000"/>
                <a:chExt cx="72720" cy="72720"/>
              </a:xfrm>
            </p:grpSpPr>
            <p:sp>
              <p:nvSpPr>
                <p:cNvPr id="3775" name=""/>
                <p:cNvSpPr/>
                <p:nvPr/>
              </p:nvSpPr>
              <p:spPr>
                <a:xfrm>
                  <a:off x="5887440" y="3546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>
                  <a:off x="5887440" y="3546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7" name=""/>
              <p:cNvGrpSpPr/>
              <p:nvPr/>
            </p:nvGrpSpPr>
            <p:grpSpPr>
              <a:xfrm>
                <a:off x="5923800" y="3582360"/>
                <a:ext cx="91800" cy="72720"/>
                <a:chOff x="5923800" y="3582360"/>
                <a:chExt cx="91800" cy="72720"/>
              </a:xfrm>
            </p:grpSpPr>
            <p:sp>
              <p:nvSpPr>
                <p:cNvPr id="3778" name=""/>
                <p:cNvSpPr/>
                <p:nvPr/>
              </p:nvSpPr>
              <p:spPr>
                <a:xfrm>
                  <a:off x="5923800" y="358236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5923800" y="358236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0" name=""/>
              <p:cNvGrpSpPr/>
              <p:nvPr/>
            </p:nvGrpSpPr>
            <p:grpSpPr>
              <a:xfrm>
                <a:off x="5979600" y="3619080"/>
                <a:ext cx="90000" cy="72360"/>
                <a:chOff x="5979600" y="3619080"/>
                <a:chExt cx="90000" cy="72360"/>
              </a:xfrm>
            </p:grpSpPr>
            <p:sp>
              <p:nvSpPr>
                <p:cNvPr id="3781" name=""/>
                <p:cNvSpPr/>
                <p:nvPr/>
              </p:nvSpPr>
              <p:spPr>
                <a:xfrm>
                  <a:off x="5979600" y="361908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2" name=""/>
                <p:cNvSpPr/>
                <p:nvPr/>
              </p:nvSpPr>
              <p:spPr>
                <a:xfrm>
                  <a:off x="5979600" y="361908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3" name=""/>
              <p:cNvGrpSpPr/>
              <p:nvPr/>
            </p:nvGrpSpPr>
            <p:grpSpPr>
              <a:xfrm>
                <a:off x="6033240" y="3655440"/>
                <a:ext cx="90360" cy="72720"/>
                <a:chOff x="6033240" y="3655440"/>
                <a:chExt cx="90360" cy="72720"/>
              </a:xfrm>
            </p:grpSpPr>
            <p:sp>
              <p:nvSpPr>
                <p:cNvPr id="3784" name=""/>
                <p:cNvSpPr/>
                <p:nvPr/>
              </p:nvSpPr>
              <p:spPr>
                <a:xfrm>
                  <a:off x="6033240" y="365544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"/>
                <p:cNvSpPr/>
                <p:nvPr/>
              </p:nvSpPr>
              <p:spPr>
                <a:xfrm>
                  <a:off x="6033240" y="36554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6" name=""/>
              <p:cNvGrpSpPr/>
              <p:nvPr/>
            </p:nvGrpSpPr>
            <p:grpSpPr>
              <a:xfrm>
                <a:off x="6087240" y="3691800"/>
                <a:ext cx="72720" cy="72720"/>
                <a:chOff x="6087240" y="3691800"/>
                <a:chExt cx="72720" cy="72720"/>
              </a:xfrm>
            </p:grpSpPr>
            <p:sp>
              <p:nvSpPr>
                <p:cNvPr id="3787" name=""/>
                <p:cNvSpPr/>
                <p:nvPr/>
              </p:nvSpPr>
              <p:spPr>
                <a:xfrm>
                  <a:off x="6087240" y="3691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>
                  <a:off x="6087240" y="369180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9" name=""/>
              <p:cNvGrpSpPr/>
              <p:nvPr/>
            </p:nvGrpSpPr>
            <p:grpSpPr>
              <a:xfrm>
                <a:off x="6143040" y="3728520"/>
                <a:ext cx="72720" cy="72720"/>
                <a:chOff x="6143040" y="3728520"/>
                <a:chExt cx="72720" cy="72720"/>
              </a:xfrm>
            </p:grpSpPr>
            <p:sp>
              <p:nvSpPr>
                <p:cNvPr id="3790" name=""/>
                <p:cNvSpPr/>
                <p:nvPr/>
              </p:nvSpPr>
              <p:spPr>
                <a:xfrm>
                  <a:off x="6143040" y="3728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6143040" y="37285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2" name=""/>
              <p:cNvGrpSpPr/>
              <p:nvPr/>
            </p:nvGrpSpPr>
            <p:grpSpPr>
              <a:xfrm>
                <a:off x="6197040" y="3764880"/>
                <a:ext cx="72360" cy="72720"/>
                <a:chOff x="6197040" y="3764880"/>
                <a:chExt cx="72360" cy="72720"/>
              </a:xfrm>
            </p:grpSpPr>
            <p:sp>
              <p:nvSpPr>
                <p:cNvPr id="3793" name=""/>
                <p:cNvSpPr/>
                <p:nvPr/>
              </p:nvSpPr>
              <p:spPr>
                <a:xfrm>
                  <a:off x="6197040" y="37648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6197040" y="37648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95" name=""/>
            <p:cNvSpPr/>
            <p:nvPr/>
          </p:nvSpPr>
          <p:spPr>
            <a:xfrm>
              <a:off x="5505120" y="332712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59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96" name=""/>
            <p:cNvGrpSpPr/>
            <p:nvPr/>
          </p:nvGrpSpPr>
          <p:grpSpPr>
            <a:xfrm>
              <a:off x="5360760" y="3527280"/>
              <a:ext cx="745200" cy="527760"/>
              <a:chOff x="5360760" y="3527280"/>
              <a:chExt cx="745200" cy="527760"/>
            </a:xfrm>
          </p:grpSpPr>
          <p:grpSp>
            <p:nvGrpSpPr>
              <p:cNvPr id="3797" name=""/>
              <p:cNvGrpSpPr/>
              <p:nvPr/>
            </p:nvGrpSpPr>
            <p:grpSpPr>
              <a:xfrm>
                <a:off x="5360760" y="3527280"/>
                <a:ext cx="70920" cy="72720"/>
                <a:chOff x="5360760" y="3527280"/>
                <a:chExt cx="70920" cy="72720"/>
              </a:xfrm>
            </p:grpSpPr>
            <p:sp>
              <p:nvSpPr>
                <p:cNvPr id="3798" name=""/>
                <p:cNvSpPr/>
                <p:nvPr/>
              </p:nvSpPr>
              <p:spPr>
                <a:xfrm>
                  <a:off x="5360760" y="352728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>
                  <a:off x="5360760" y="352728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0" name=""/>
              <p:cNvGrpSpPr/>
              <p:nvPr/>
            </p:nvGrpSpPr>
            <p:grpSpPr>
              <a:xfrm>
                <a:off x="5395320" y="3546000"/>
                <a:ext cx="91800" cy="90000"/>
                <a:chOff x="5395320" y="3546000"/>
                <a:chExt cx="91800" cy="90000"/>
              </a:xfrm>
            </p:grpSpPr>
            <p:sp>
              <p:nvSpPr>
                <p:cNvPr id="3801" name=""/>
                <p:cNvSpPr/>
                <p:nvPr/>
              </p:nvSpPr>
              <p:spPr>
                <a:xfrm>
                  <a:off x="5395320" y="354600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5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"/>
                <p:cNvSpPr/>
                <p:nvPr/>
              </p:nvSpPr>
              <p:spPr>
                <a:xfrm>
                  <a:off x="5395320" y="354600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3" name=""/>
              <p:cNvGrpSpPr/>
              <p:nvPr/>
            </p:nvGrpSpPr>
            <p:grpSpPr>
              <a:xfrm>
                <a:off x="5450760" y="3600000"/>
                <a:ext cx="90000" cy="72360"/>
                <a:chOff x="5450760" y="3600000"/>
                <a:chExt cx="90000" cy="72360"/>
              </a:xfrm>
            </p:grpSpPr>
            <p:sp>
              <p:nvSpPr>
                <p:cNvPr id="3804" name=""/>
                <p:cNvSpPr/>
                <p:nvPr/>
              </p:nvSpPr>
              <p:spPr>
                <a:xfrm>
                  <a:off x="5450760" y="360000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>
                  <a:off x="5450760" y="36000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6" name=""/>
              <p:cNvGrpSpPr/>
              <p:nvPr/>
            </p:nvGrpSpPr>
            <p:grpSpPr>
              <a:xfrm>
                <a:off x="5504760" y="3619080"/>
                <a:ext cx="91800" cy="90000"/>
                <a:chOff x="5504760" y="3619080"/>
                <a:chExt cx="91800" cy="90000"/>
              </a:xfrm>
            </p:grpSpPr>
            <p:sp>
              <p:nvSpPr>
                <p:cNvPr id="3807" name=""/>
                <p:cNvSpPr/>
                <p:nvPr/>
              </p:nvSpPr>
              <p:spPr>
                <a:xfrm>
                  <a:off x="5504760" y="361908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>
                  <a:off x="5504760" y="3619080"/>
                  <a:ext cx="5508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9" name=""/>
              <p:cNvGrpSpPr/>
              <p:nvPr/>
            </p:nvGrpSpPr>
            <p:grpSpPr>
              <a:xfrm>
                <a:off x="5560200" y="3655440"/>
                <a:ext cx="72720" cy="90000"/>
                <a:chOff x="5560200" y="3655440"/>
                <a:chExt cx="72720" cy="90000"/>
              </a:xfrm>
            </p:grpSpPr>
            <p:sp>
              <p:nvSpPr>
                <p:cNvPr id="3810" name=""/>
                <p:cNvSpPr/>
                <p:nvPr/>
              </p:nvSpPr>
              <p:spPr>
                <a:xfrm>
                  <a:off x="5560200" y="365544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"/>
                <p:cNvSpPr/>
                <p:nvPr/>
              </p:nvSpPr>
              <p:spPr>
                <a:xfrm>
                  <a:off x="5560200" y="365544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2" name=""/>
              <p:cNvGrpSpPr/>
              <p:nvPr/>
            </p:nvGrpSpPr>
            <p:grpSpPr>
              <a:xfrm>
                <a:off x="5614200" y="3691800"/>
                <a:ext cx="72720" cy="90360"/>
                <a:chOff x="5614200" y="3691800"/>
                <a:chExt cx="72720" cy="90360"/>
              </a:xfrm>
            </p:grpSpPr>
            <p:sp>
              <p:nvSpPr>
                <p:cNvPr id="3813" name=""/>
                <p:cNvSpPr/>
                <p:nvPr/>
              </p:nvSpPr>
              <p:spPr>
                <a:xfrm>
                  <a:off x="5614200" y="369180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>
                  <a:off x="5614200" y="36918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5" name=""/>
              <p:cNvGrpSpPr/>
              <p:nvPr/>
            </p:nvGrpSpPr>
            <p:grpSpPr>
              <a:xfrm>
                <a:off x="5670000" y="3728520"/>
                <a:ext cx="70920" cy="90000"/>
                <a:chOff x="5670000" y="3728520"/>
                <a:chExt cx="70920" cy="90000"/>
              </a:xfrm>
            </p:grpSpPr>
            <p:sp>
              <p:nvSpPr>
                <p:cNvPr id="3816" name=""/>
                <p:cNvSpPr/>
                <p:nvPr/>
              </p:nvSpPr>
              <p:spPr>
                <a:xfrm>
                  <a:off x="5670000" y="3728520"/>
                  <a:ext cx="709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>
                  <a:off x="5670000" y="37285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8" name=""/>
              <p:cNvGrpSpPr/>
              <p:nvPr/>
            </p:nvGrpSpPr>
            <p:grpSpPr>
              <a:xfrm>
                <a:off x="5724000" y="3764880"/>
                <a:ext cx="72360" cy="90360"/>
                <a:chOff x="5724000" y="3764880"/>
                <a:chExt cx="72360" cy="90360"/>
              </a:xfrm>
            </p:grpSpPr>
            <p:sp>
              <p:nvSpPr>
                <p:cNvPr id="3819" name=""/>
                <p:cNvSpPr/>
                <p:nvPr/>
              </p:nvSpPr>
              <p:spPr>
                <a:xfrm>
                  <a:off x="5724000" y="3764880"/>
                  <a:ext cx="7236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>
                  <a:off x="5724000" y="37648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1" name=""/>
              <p:cNvGrpSpPr/>
              <p:nvPr/>
            </p:nvGrpSpPr>
            <p:grpSpPr>
              <a:xfrm>
                <a:off x="5760360" y="3801600"/>
                <a:ext cx="90000" cy="90000"/>
                <a:chOff x="5760360" y="3801600"/>
                <a:chExt cx="90000" cy="90000"/>
              </a:xfrm>
            </p:grpSpPr>
            <p:sp>
              <p:nvSpPr>
                <p:cNvPr id="3822" name=""/>
                <p:cNvSpPr/>
                <p:nvPr/>
              </p:nvSpPr>
              <p:spPr>
                <a:xfrm>
                  <a:off x="5760360" y="380160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>
                  <a:off x="5760360" y="380160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4" name=""/>
              <p:cNvGrpSpPr/>
              <p:nvPr/>
            </p:nvGrpSpPr>
            <p:grpSpPr>
              <a:xfrm>
                <a:off x="5814360" y="3837960"/>
                <a:ext cx="91800" cy="90000"/>
                <a:chOff x="5814360" y="3837960"/>
                <a:chExt cx="91800" cy="90000"/>
              </a:xfrm>
            </p:grpSpPr>
            <p:sp>
              <p:nvSpPr>
                <p:cNvPr id="3825" name=""/>
                <p:cNvSpPr/>
                <p:nvPr/>
              </p:nvSpPr>
              <p:spPr>
                <a:xfrm>
                  <a:off x="5814360" y="383796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>
                  <a:off x="5814360" y="383796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7" name=""/>
              <p:cNvGrpSpPr/>
              <p:nvPr/>
            </p:nvGrpSpPr>
            <p:grpSpPr>
              <a:xfrm>
                <a:off x="5869800" y="3874320"/>
                <a:ext cx="90360" cy="90360"/>
                <a:chOff x="5869800" y="3874320"/>
                <a:chExt cx="90360" cy="90360"/>
              </a:xfrm>
            </p:grpSpPr>
            <p:sp>
              <p:nvSpPr>
                <p:cNvPr id="3828" name=""/>
                <p:cNvSpPr/>
                <p:nvPr/>
              </p:nvSpPr>
              <p:spPr>
                <a:xfrm>
                  <a:off x="5869800" y="3874320"/>
                  <a:ext cx="9036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5869800" y="387432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0" name=""/>
              <p:cNvGrpSpPr/>
              <p:nvPr/>
            </p:nvGrpSpPr>
            <p:grpSpPr>
              <a:xfrm>
                <a:off x="5923800" y="3909600"/>
                <a:ext cx="72720" cy="91440"/>
                <a:chOff x="5923800" y="3909600"/>
                <a:chExt cx="72720" cy="91440"/>
              </a:xfrm>
            </p:grpSpPr>
            <p:sp>
              <p:nvSpPr>
                <p:cNvPr id="3831" name=""/>
                <p:cNvSpPr/>
                <p:nvPr/>
              </p:nvSpPr>
              <p:spPr>
                <a:xfrm>
                  <a:off x="5923800" y="390960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5923800" y="39096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3" name=""/>
              <p:cNvGrpSpPr/>
              <p:nvPr/>
            </p:nvGrpSpPr>
            <p:grpSpPr>
              <a:xfrm>
                <a:off x="5979600" y="3945960"/>
                <a:ext cx="70920" cy="91800"/>
                <a:chOff x="5979600" y="3945960"/>
                <a:chExt cx="70920" cy="91800"/>
              </a:xfrm>
            </p:grpSpPr>
            <p:sp>
              <p:nvSpPr>
                <p:cNvPr id="3834" name=""/>
                <p:cNvSpPr/>
                <p:nvPr/>
              </p:nvSpPr>
              <p:spPr>
                <a:xfrm>
                  <a:off x="5979600" y="394596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>
                  <a:off x="5979600" y="39459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6" name=""/>
              <p:cNvGrpSpPr/>
              <p:nvPr/>
            </p:nvGrpSpPr>
            <p:grpSpPr>
              <a:xfrm>
                <a:off x="6033240" y="3982320"/>
                <a:ext cx="72720" cy="72720"/>
                <a:chOff x="6033240" y="3982320"/>
                <a:chExt cx="72720" cy="72720"/>
              </a:xfrm>
            </p:grpSpPr>
            <p:sp>
              <p:nvSpPr>
                <p:cNvPr id="3837" name=""/>
                <p:cNvSpPr/>
                <p:nvPr/>
              </p:nvSpPr>
              <p:spPr>
                <a:xfrm>
                  <a:off x="6033240" y="3982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6033240" y="39823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39" name=""/>
            <p:cNvSpPr/>
            <p:nvPr/>
          </p:nvSpPr>
          <p:spPr>
            <a:xfrm>
              <a:off x="5341680" y="356364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40" name=""/>
            <p:cNvGrpSpPr/>
            <p:nvPr/>
          </p:nvGrpSpPr>
          <p:grpSpPr>
            <a:xfrm>
              <a:off x="5997240" y="2598840"/>
              <a:ext cx="764640" cy="545400"/>
              <a:chOff x="5997240" y="2598840"/>
              <a:chExt cx="764640" cy="545400"/>
            </a:xfrm>
          </p:grpSpPr>
          <p:grpSp>
            <p:nvGrpSpPr>
              <p:cNvPr id="3841" name=""/>
              <p:cNvGrpSpPr/>
              <p:nvPr/>
            </p:nvGrpSpPr>
            <p:grpSpPr>
              <a:xfrm>
                <a:off x="5997240" y="2598840"/>
                <a:ext cx="90000" cy="72720"/>
                <a:chOff x="5997240" y="2598840"/>
                <a:chExt cx="90000" cy="72720"/>
              </a:xfrm>
            </p:grpSpPr>
            <p:sp>
              <p:nvSpPr>
                <p:cNvPr id="3842" name=""/>
                <p:cNvSpPr/>
                <p:nvPr/>
              </p:nvSpPr>
              <p:spPr>
                <a:xfrm>
                  <a:off x="5997240" y="25988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>
                  <a:off x="5997240" y="25988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4" name=""/>
              <p:cNvGrpSpPr/>
              <p:nvPr/>
            </p:nvGrpSpPr>
            <p:grpSpPr>
              <a:xfrm>
                <a:off x="6050880" y="2635200"/>
                <a:ext cx="91800" cy="72360"/>
                <a:chOff x="6050880" y="2635200"/>
                <a:chExt cx="91800" cy="72360"/>
              </a:xfrm>
            </p:grpSpPr>
            <p:sp>
              <p:nvSpPr>
                <p:cNvPr id="3845" name=""/>
                <p:cNvSpPr/>
                <p:nvPr/>
              </p:nvSpPr>
              <p:spPr>
                <a:xfrm>
                  <a:off x="6050880" y="263520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>
                  <a:off x="6050880" y="263520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7" name=""/>
              <p:cNvGrpSpPr/>
              <p:nvPr/>
            </p:nvGrpSpPr>
            <p:grpSpPr>
              <a:xfrm>
                <a:off x="6106320" y="2671560"/>
                <a:ext cx="72720" cy="70920"/>
                <a:chOff x="6106320" y="2671560"/>
                <a:chExt cx="72720" cy="70920"/>
              </a:xfrm>
            </p:grpSpPr>
            <p:sp>
              <p:nvSpPr>
                <p:cNvPr id="3848" name=""/>
                <p:cNvSpPr/>
                <p:nvPr/>
              </p:nvSpPr>
              <p:spPr>
                <a:xfrm>
                  <a:off x="6106320" y="267156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>
                  <a:off x="6106320" y="2671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0" name=""/>
              <p:cNvGrpSpPr/>
              <p:nvPr/>
            </p:nvGrpSpPr>
            <p:grpSpPr>
              <a:xfrm>
                <a:off x="6160320" y="2707920"/>
                <a:ext cx="72720" cy="71280"/>
                <a:chOff x="6160320" y="2707920"/>
                <a:chExt cx="72720" cy="71280"/>
              </a:xfrm>
            </p:grpSpPr>
            <p:sp>
              <p:nvSpPr>
                <p:cNvPr id="3851" name=""/>
                <p:cNvSpPr/>
                <p:nvPr/>
              </p:nvSpPr>
              <p:spPr>
                <a:xfrm>
                  <a:off x="6160320" y="27079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>
                  <a:off x="6160320" y="2707920"/>
                  <a:ext cx="3636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3" name=""/>
              <p:cNvGrpSpPr/>
              <p:nvPr/>
            </p:nvGrpSpPr>
            <p:grpSpPr>
              <a:xfrm>
                <a:off x="6216120" y="2742840"/>
                <a:ext cx="72360" cy="72720"/>
                <a:chOff x="6216120" y="2742840"/>
                <a:chExt cx="72360" cy="72720"/>
              </a:xfrm>
            </p:grpSpPr>
            <p:sp>
              <p:nvSpPr>
                <p:cNvPr id="3854" name=""/>
                <p:cNvSpPr/>
                <p:nvPr/>
              </p:nvSpPr>
              <p:spPr>
                <a:xfrm>
                  <a:off x="6216120" y="274284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>
                  <a:off x="6216120" y="27428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6" name=""/>
              <p:cNvGrpSpPr/>
              <p:nvPr/>
            </p:nvGrpSpPr>
            <p:grpSpPr>
              <a:xfrm>
                <a:off x="6269760" y="2779560"/>
                <a:ext cx="72720" cy="72720"/>
                <a:chOff x="6269760" y="2779560"/>
                <a:chExt cx="72720" cy="72720"/>
              </a:xfrm>
            </p:grpSpPr>
            <p:sp>
              <p:nvSpPr>
                <p:cNvPr id="3857" name=""/>
                <p:cNvSpPr/>
                <p:nvPr/>
              </p:nvSpPr>
              <p:spPr>
                <a:xfrm>
                  <a:off x="6269760" y="2779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>
                  <a:off x="6269760" y="2779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9" name=""/>
              <p:cNvGrpSpPr/>
              <p:nvPr/>
            </p:nvGrpSpPr>
            <p:grpSpPr>
              <a:xfrm>
                <a:off x="6325560" y="2815920"/>
                <a:ext cx="70920" cy="72720"/>
                <a:chOff x="6325560" y="2815920"/>
                <a:chExt cx="70920" cy="72720"/>
              </a:xfrm>
            </p:grpSpPr>
            <p:sp>
              <p:nvSpPr>
                <p:cNvPr id="3860" name=""/>
                <p:cNvSpPr/>
                <p:nvPr/>
              </p:nvSpPr>
              <p:spPr>
                <a:xfrm>
                  <a:off x="6325560" y="281592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>
                  <a:off x="6325560" y="2815920"/>
                  <a:ext cx="345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2" name=""/>
              <p:cNvGrpSpPr/>
              <p:nvPr/>
            </p:nvGrpSpPr>
            <p:grpSpPr>
              <a:xfrm>
                <a:off x="6360480" y="2852640"/>
                <a:ext cx="91800" cy="72360"/>
                <a:chOff x="6360480" y="2852640"/>
                <a:chExt cx="91800" cy="72360"/>
              </a:xfrm>
            </p:grpSpPr>
            <p:sp>
              <p:nvSpPr>
                <p:cNvPr id="3863" name=""/>
                <p:cNvSpPr/>
                <p:nvPr/>
              </p:nvSpPr>
              <p:spPr>
                <a:xfrm>
                  <a:off x="6360480" y="285264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4" name=""/>
                <p:cNvSpPr/>
                <p:nvPr/>
              </p:nvSpPr>
              <p:spPr>
                <a:xfrm>
                  <a:off x="6360480" y="285264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5" name=""/>
              <p:cNvGrpSpPr/>
              <p:nvPr/>
            </p:nvGrpSpPr>
            <p:grpSpPr>
              <a:xfrm>
                <a:off x="6415920" y="2889000"/>
                <a:ext cx="72720" cy="72720"/>
                <a:chOff x="6415920" y="2889000"/>
                <a:chExt cx="72720" cy="72720"/>
              </a:xfrm>
            </p:grpSpPr>
            <p:sp>
              <p:nvSpPr>
                <p:cNvPr id="3866" name=""/>
                <p:cNvSpPr/>
                <p:nvPr/>
              </p:nvSpPr>
              <p:spPr>
                <a:xfrm>
                  <a:off x="6415920" y="2889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>
                  <a:off x="6415920" y="28890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8" name=""/>
              <p:cNvGrpSpPr/>
              <p:nvPr/>
            </p:nvGrpSpPr>
            <p:grpSpPr>
              <a:xfrm>
                <a:off x="6469920" y="2925360"/>
                <a:ext cx="72720" cy="72720"/>
                <a:chOff x="6469920" y="2925360"/>
                <a:chExt cx="72720" cy="72720"/>
              </a:xfrm>
            </p:grpSpPr>
            <p:sp>
              <p:nvSpPr>
                <p:cNvPr id="3869" name=""/>
                <p:cNvSpPr/>
                <p:nvPr/>
              </p:nvSpPr>
              <p:spPr>
                <a:xfrm>
                  <a:off x="6469920" y="2925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>
                  <a:off x="6469920" y="29253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1" name=""/>
              <p:cNvGrpSpPr/>
              <p:nvPr/>
            </p:nvGrpSpPr>
            <p:grpSpPr>
              <a:xfrm>
                <a:off x="6525360" y="2962080"/>
                <a:ext cx="72720" cy="72720"/>
                <a:chOff x="6525360" y="2962080"/>
                <a:chExt cx="72720" cy="72720"/>
              </a:xfrm>
            </p:grpSpPr>
            <p:sp>
              <p:nvSpPr>
                <p:cNvPr id="3872" name=""/>
                <p:cNvSpPr/>
                <p:nvPr/>
              </p:nvSpPr>
              <p:spPr>
                <a:xfrm>
                  <a:off x="6525360" y="2962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>
                  <a:off x="6525360" y="29620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4" name=""/>
              <p:cNvGrpSpPr/>
              <p:nvPr/>
            </p:nvGrpSpPr>
            <p:grpSpPr>
              <a:xfrm>
                <a:off x="6579360" y="2998440"/>
                <a:ext cx="72720" cy="72720"/>
                <a:chOff x="6579360" y="2998440"/>
                <a:chExt cx="72720" cy="72720"/>
              </a:xfrm>
            </p:grpSpPr>
            <p:sp>
              <p:nvSpPr>
                <p:cNvPr id="3875" name=""/>
                <p:cNvSpPr/>
                <p:nvPr/>
              </p:nvSpPr>
              <p:spPr>
                <a:xfrm>
                  <a:off x="6579360" y="29984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6579360" y="29984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7" name=""/>
              <p:cNvGrpSpPr/>
              <p:nvPr/>
            </p:nvGrpSpPr>
            <p:grpSpPr>
              <a:xfrm>
                <a:off x="6635160" y="3035160"/>
                <a:ext cx="70920" cy="72720"/>
                <a:chOff x="6635160" y="3035160"/>
                <a:chExt cx="70920" cy="72720"/>
              </a:xfrm>
            </p:grpSpPr>
            <p:sp>
              <p:nvSpPr>
                <p:cNvPr id="3878" name=""/>
                <p:cNvSpPr/>
                <p:nvPr/>
              </p:nvSpPr>
              <p:spPr>
                <a:xfrm>
                  <a:off x="6635160" y="303516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6635160" y="3035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0" name=""/>
              <p:cNvGrpSpPr/>
              <p:nvPr/>
            </p:nvGrpSpPr>
            <p:grpSpPr>
              <a:xfrm>
                <a:off x="6689160" y="3071520"/>
                <a:ext cx="72720" cy="72720"/>
                <a:chOff x="6689160" y="3071520"/>
                <a:chExt cx="72720" cy="72720"/>
              </a:xfrm>
            </p:grpSpPr>
            <p:sp>
              <p:nvSpPr>
                <p:cNvPr id="3881" name=""/>
                <p:cNvSpPr/>
                <p:nvPr/>
              </p:nvSpPr>
              <p:spPr>
                <a:xfrm>
                  <a:off x="6689160" y="3071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6689160" y="30715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3" name=""/>
            <p:cNvSpPr/>
            <p:nvPr/>
          </p:nvSpPr>
          <p:spPr>
            <a:xfrm>
              <a:off x="5997240" y="265248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84" name=""/>
            <p:cNvGrpSpPr/>
            <p:nvPr/>
          </p:nvGrpSpPr>
          <p:grpSpPr>
            <a:xfrm>
              <a:off x="5833800" y="2835000"/>
              <a:ext cx="764280" cy="545400"/>
              <a:chOff x="5833800" y="2835000"/>
              <a:chExt cx="764280" cy="545400"/>
            </a:xfrm>
          </p:grpSpPr>
          <p:grpSp>
            <p:nvGrpSpPr>
              <p:cNvPr id="3885" name=""/>
              <p:cNvGrpSpPr/>
              <p:nvPr/>
            </p:nvGrpSpPr>
            <p:grpSpPr>
              <a:xfrm>
                <a:off x="5833800" y="2835000"/>
                <a:ext cx="90000" cy="72720"/>
                <a:chOff x="5833800" y="2835000"/>
                <a:chExt cx="90000" cy="72720"/>
              </a:xfrm>
            </p:grpSpPr>
            <p:sp>
              <p:nvSpPr>
                <p:cNvPr id="3886" name=""/>
                <p:cNvSpPr/>
                <p:nvPr/>
              </p:nvSpPr>
              <p:spPr>
                <a:xfrm>
                  <a:off x="5833800" y="2835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5833800" y="28350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8" name=""/>
              <p:cNvGrpSpPr/>
              <p:nvPr/>
            </p:nvGrpSpPr>
            <p:grpSpPr>
              <a:xfrm>
                <a:off x="5887440" y="2871360"/>
                <a:ext cx="91800" cy="72360"/>
                <a:chOff x="5887440" y="2871360"/>
                <a:chExt cx="91800" cy="72360"/>
              </a:xfrm>
            </p:grpSpPr>
            <p:sp>
              <p:nvSpPr>
                <p:cNvPr id="3889" name=""/>
                <p:cNvSpPr/>
                <p:nvPr/>
              </p:nvSpPr>
              <p:spPr>
                <a:xfrm>
                  <a:off x="5887440" y="28713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>
                  <a:off x="5887440" y="287136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1" name=""/>
              <p:cNvGrpSpPr/>
              <p:nvPr/>
            </p:nvGrpSpPr>
            <p:grpSpPr>
              <a:xfrm>
                <a:off x="5942880" y="2907720"/>
                <a:ext cx="72720" cy="72720"/>
                <a:chOff x="5942880" y="2907720"/>
                <a:chExt cx="72720" cy="72720"/>
              </a:xfrm>
            </p:grpSpPr>
            <p:sp>
              <p:nvSpPr>
                <p:cNvPr id="3892" name=""/>
                <p:cNvSpPr/>
                <p:nvPr/>
              </p:nvSpPr>
              <p:spPr>
                <a:xfrm>
                  <a:off x="5942880" y="2907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5942880" y="29077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4" name=""/>
              <p:cNvGrpSpPr/>
              <p:nvPr/>
            </p:nvGrpSpPr>
            <p:grpSpPr>
              <a:xfrm>
                <a:off x="5996880" y="2925000"/>
                <a:ext cx="72720" cy="91800"/>
                <a:chOff x="5996880" y="2925000"/>
                <a:chExt cx="72720" cy="91800"/>
              </a:xfrm>
            </p:grpSpPr>
            <p:sp>
              <p:nvSpPr>
                <p:cNvPr id="3895" name=""/>
                <p:cNvSpPr/>
                <p:nvPr/>
              </p:nvSpPr>
              <p:spPr>
                <a:xfrm>
                  <a:off x="5996880" y="29250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5996880" y="292500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7" name=""/>
              <p:cNvGrpSpPr/>
              <p:nvPr/>
            </p:nvGrpSpPr>
            <p:grpSpPr>
              <a:xfrm>
                <a:off x="6050880" y="2980800"/>
                <a:ext cx="72720" cy="72720"/>
                <a:chOff x="6050880" y="2980800"/>
                <a:chExt cx="72720" cy="72720"/>
              </a:xfrm>
            </p:grpSpPr>
            <p:sp>
              <p:nvSpPr>
                <p:cNvPr id="3898" name=""/>
                <p:cNvSpPr/>
                <p:nvPr/>
              </p:nvSpPr>
              <p:spPr>
                <a:xfrm>
                  <a:off x="6050880" y="2980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>
                  <a:off x="6050880" y="29808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0" name=""/>
              <p:cNvGrpSpPr/>
              <p:nvPr/>
            </p:nvGrpSpPr>
            <p:grpSpPr>
              <a:xfrm>
                <a:off x="6106320" y="2998080"/>
                <a:ext cx="72720" cy="91800"/>
                <a:chOff x="6106320" y="2998080"/>
                <a:chExt cx="72720" cy="91800"/>
              </a:xfrm>
            </p:grpSpPr>
            <p:sp>
              <p:nvSpPr>
                <p:cNvPr id="3901" name=""/>
                <p:cNvSpPr/>
                <p:nvPr/>
              </p:nvSpPr>
              <p:spPr>
                <a:xfrm>
                  <a:off x="6106320" y="29980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6106320" y="299808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3" name=""/>
              <p:cNvGrpSpPr/>
              <p:nvPr/>
            </p:nvGrpSpPr>
            <p:grpSpPr>
              <a:xfrm>
                <a:off x="6160320" y="3034800"/>
                <a:ext cx="72720" cy="91800"/>
                <a:chOff x="6160320" y="3034800"/>
                <a:chExt cx="72720" cy="91800"/>
              </a:xfrm>
            </p:grpSpPr>
            <p:sp>
              <p:nvSpPr>
                <p:cNvPr id="3904" name=""/>
                <p:cNvSpPr/>
                <p:nvPr/>
              </p:nvSpPr>
              <p:spPr>
                <a:xfrm>
                  <a:off x="6160320" y="30348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>
                  <a:off x="6160320" y="30348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6" name=""/>
              <p:cNvGrpSpPr/>
              <p:nvPr/>
            </p:nvGrpSpPr>
            <p:grpSpPr>
              <a:xfrm>
                <a:off x="6197040" y="3071160"/>
                <a:ext cx="91440" cy="91800"/>
                <a:chOff x="6197040" y="3071160"/>
                <a:chExt cx="91440" cy="91800"/>
              </a:xfrm>
            </p:grpSpPr>
            <p:sp>
              <p:nvSpPr>
                <p:cNvPr id="3907" name=""/>
                <p:cNvSpPr/>
                <p:nvPr/>
              </p:nvSpPr>
              <p:spPr>
                <a:xfrm>
                  <a:off x="6197040" y="3071160"/>
                  <a:ext cx="9144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6197040" y="307116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9" name=""/>
              <p:cNvGrpSpPr/>
              <p:nvPr/>
            </p:nvGrpSpPr>
            <p:grpSpPr>
              <a:xfrm>
                <a:off x="6252480" y="3107880"/>
                <a:ext cx="90000" cy="91440"/>
                <a:chOff x="6252480" y="3107880"/>
                <a:chExt cx="90000" cy="91440"/>
              </a:xfrm>
            </p:grpSpPr>
            <p:sp>
              <p:nvSpPr>
                <p:cNvPr id="3910" name=""/>
                <p:cNvSpPr/>
                <p:nvPr/>
              </p:nvSpPr>
              <p:spPr>
                <a:xfrm>
                  <a:off x="6252480" y="3107880"/>
                  <a:ext cx="90000" cy="9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6252480" y="310788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2" name=""/>
              <p:cNvGrpSpPr/>
              <p:nvPr/>
            </p:nvGrpSpPr>
            <p:grpSpPr>
              <a:xfrm>
                <a:off x="6306480" y="3144240"/>
                <a:ext cx="72720" cy="91800"/>
                <a:chOff x="6306480" y="3144240"/>
                <a:chExt cx="72720" cy="91800"/>
              </a:xfrm>
            </p:grpSpPr>
            <p:sp>
              <p:nvSpPr>
                <p:cNvPr id="3913" name=""/>
                <p:cNvSpPr/>
                <p:nvPr/>
              </p:nvSpPr>
              <p:spPr>
                <a:xfrm>
                  <a:off x="6306480" y="31442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6306480" y="314424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5" name=""/>
              <p:cNvGrpSpPr/>
              <p:nvPr/>
            </p:nvGrpSpPr>
            <p:grpSpPr>
              <a:xfrm>
                <a:off x="6360480" y="3180600"/>
                <a:ext cx="72720" cy="91800"/>
                <a:chOff x="6360480" y="3180600"/>
                <a:chExt cx="72720" cy="91800"/>
              </a:xfrm>
            </p:grpSpPr>
            <p:sp>
              <p:nvSpPr>
                <p:cNvPr id="3916" name=""/>
                <p:cNvSpPr/>
                <p:nvPr/>
              </p:nvSpPr>
              <p:spPr>
                <a:xfrm>
                  <a:off x="6360480" y="31806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6360480" y="318060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8" name=""/>
              <p:cNvGrpSpPr/>
              <p:nvPr/>
            </p:nvGrpSpPr>
            <p:grpSpPr>
              <a:xfrm>
                <a:off x="6415920" y="3217320"/>
                <a:ext cx="72720" cy="91800"/>
                <a:chOff x="6415920" y="3217320"/>
                <a:chExt cx="72720" cy="91800"/>
              </a:xfrm>
            </p:grpSpPr>
            <p:sp>
              <p:nvSpPr>
                <p:cNvPr id="3919" name=""/>
                <p:cNvSpPr/>
                <p:nvPr/>
              </p:nvSpPr>
              <p:spPr>
                <a:xfrm>
                  <a:off x="6415920" y="32173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6415920" y="321732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1" name=""/>
              <p:cNvGrpSpPr/>
              <p:nvPr/>
            </p:nvGrpSpPr>
            <p:grpSpPr>
              <a:xfrm>
                <a:off x="6469920" y="3253680"/>
                <a:ext cx="72720" cy="90360"/>
                <a:chOff x="6469920" y="3253680"/>
                <a:chExt cx="72720" cy="90360"/>
              </a:xfrm>
            </p:grpSpPr>
            <p:sp>
              <p:nvSpPr>
                <p:cNvPr id="3922" name=""/>
                <p:cNvSpPr/>
                <p:nvPr/>
              </p:nvSpPr>
              <p:spPr>
                <a:xfrm>
                  <a:off x="6469920" y="325368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6469920" y="325368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4" name=""/>
              <p:cNvGrpSpPr/>
              <p:nvPr/>
            </p:nvGrpSpPr>
            <p:grpSpPr>
              <a:xfrm>
                <a:off x="6525360" y="3290400"/>
                <a:ext cx="72720" cy="90000"/>
                <a:chOff x="6525360" y="3290400"/>
                <a:chExt cx="72720" cy="90000"/>
              </a:xfrm>
            </p:grpSpPr>
            <p:sp>
              <p:nvSpPr>
                <p:cNvPr id="3925" name=""/>
                <p:cNvSpPr/>
                <p:nvPr/>
              </p:nvSpPr>
              <p:spPr>
                <a:xfrm>
                  <a:off x="6525360" y="32904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6525360" y="32904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27" name=""/>
            <p:cNvSpPr/>
            <p:nvPr/>
          </p:nvSpPr>
          <p:spPr>
            <a:xfrm>
              <a:off x="5833800" y="2871720"/>
              <a:ext cx="745560" cy="582120"/>
            </a:xfrm>
            <a:custGeom>
              <a:avLst/>
              <a:gdLst/>
              <a:ahLst/>
              <a:rect l="l" t="t" r="r" b="b"/>
              <a:pathLst>
                <a:path w="470" h="367">
                  <a:moveTo>
                    <a:pt x="447" y="367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28" name=""/>
            <p:cNvGrpSpPr/>
            <p:nvPr/>
          </p:nvGrpSpPr>
          <p:grpSpPr>
            <a:xfrm>
              <a:off x="5887800" y="2742840"/>
              <a:ext cx="764280" cy="547200"/>
              <a:chOff x="5887800" y="2742840"/>
              <a:chExt cx="764280" cy="547200"/>
            </a:xfrm>
          </p:grpSpPr>
          <p:grpSp>
            <p:nvGrpSpPr>
              <p:cNvPr id="3929" name=""/>
              <p:cNvGrpSpPr/>
              <p:nvPr/>
            </p:nvGrpSpPr>
            <p:grpSpPr>
              <a:xfrm>
                <a:off x="5887800" y="2742840"/>
                <a:ext cx="91800" cy="91800"/>
                <a:chOff x="5887800" y="2742840"/>
                <a:chExt cx="91800" cy="91800"/>
              </a:xfrm>
            </p:grpSpPr>
            <p:sp>
              <p:nvSpPr>
                <p:cNvPr id="3930" name=""/>
                <p:cNvSpPr/>
                <p:nvPr/>
              </p:nvSpPr>
              <p:spPr>
                <a:xfrm>
                  <a:off x="5887800" y="274284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>
                  <a:off x="5887800" y="274284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2" name=""/>
              <p:cNvGrpSpPr/>
              <p:nvPr/>
            </p:nvGrpSpPr>
            <p:grpSpPr>
              <a:xfrm>
                <a:off x="5942880" y="2779200"/>
                <a:ext cx="90000" cy="91800"/>
                <a:chOff x="5942880" y="2779200"/>
                <a:chExt cx="90000" cy="91800"/>
              </a:xfrm>
            </p:grpSpPr>
            <p:sp>
              <p:nvSpPr>
                <p:cNvPr id="3933" name=""/>
                <p:cNvSpPr/>
                <p:nvPr/>
              </p:nvSpPr>
              <p:spPr>
                <a:xfrm>
                  <a:off x="5942880" y="277920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>
                  <a:off x="5942880" y="277920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5" name=""/>
              <p:cNvGrpSpPr/>
              <p:nvPr/>
            </p:nvGrpSpPr>
            <p:grpSpPr>
              <a:xfrm>
                <a:off x="5996880" y="2815560"/>
                <a:ext cx="72720" cy="91800"/>
                <a:chOff x="5996880" y="2815560"/>
                <a:chExt cx="72720" cy="91800"/>
              </a:xfrm>
            </p:grpSpPr>
            <p:sp>
              <p:nvSpPr>
                <p:cNvPr id="3936" name=""/>
                <p:cNvSpPr/>
                <p:nvPr/>
              </p:nvSpPr>
              <p:spPr>
                <a:xfrm>
                  <a:off x="5996880" y="28155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>
                  <a:off x="5996880" y="28155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8" name=""/>
              <p:cNvGrpSpPr/>
              <p:nvPr/>
            </p:nvGrpSpPr>
            <p:grpSpPr>
              <a:xfrm>
                <a:off x="6050880" y="2852280"/>
                <a:ext cx="72720" cy="91440"/>
                <a:chOff x="6050880" y="2852280"/>
                <a:chExt cx="72720" cy="91440"/>
              </a:xfrm>
            </p:grpSpPr>
            <p:sp>
              <p:nvSpPr>
                <p:cNvPr id="3939" name=""/>
                <p:cNvSpPr/>
                <p:nvPr/>
              </p:nvSpPr>
              <p:spPr>
                <a:xfrm>
                  <a:off x="6050880" y="285228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>
                  <a:off x="6050880" y="285228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1" name=""/>
              <p:cNvGrpSpPr/>
              <p:nvPr/>
            </p:nvGrpSpPr>
            <p:grpSpPr>
              <a:xfrm>
                <a:off x="6106320" y="2888640"/>
                <a:ext cx="72720" cy="91800"/>
                <a:chOff x="6106320" y="2888640"/>
                <a:chExt cx="72720" cy="91800"/>
              </a:xfrm>
            </p:grpSpPr>
            <p:sp>
              <p:nvSpPr>
                <p:cNvPr id="3942" name=""/>
                <p:cNvSpPr/>
                <p:nvPr/>
              </p:nvSpPr>
              <p:spPr>
                <a:xfrm>
                  <a:off x="6106320" y="28886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>
                  <a:off x="6106320" y="288864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4" name=""/>
              <p:cNvGrpSpPr/>
              <p:nvPr/>
            </p:nvGrpSpPr>
            <p:grpSpPr>
              <a:xfrm>
                <a:off x="6160320" y="2925000"/>
                <a:ext cx="72720" cy="91800"/>
                <a:chOff x="6160320" y="2925000"/>
                <a:chExt cx="72720" cy="91800"/>
              </a:xfrm>
            </p:grpSpPr>
            <p:sp>
              <p:nvSpPr>
                <p:cNvPr id="3945" name=""/>
                <p:cNvSpPr/>
                <p:nvPr/>
              </p:nvSpPr>
              <p:spPr>
                <a:xfrm>
                  <a:off x="6160320" y="29250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6160320" y="292500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7" name=""/>
              <p:cNvGrpSpPr/>
              <p:nvPr/>
            </p:nvGrpSpPr>
            <p:grpSpPr>
              <a:xfrm>
                <a:off x="6216120" y="2961720"/>
                <a:ext cx="72360" cy="91800"/>
                <a:chOff x="6216120" y="2961720"/>
                <a:chExt cx="72360" cy="91800"/>
              </a:xfrm>
            </p:grpSpPr>
            <p:sp>
              <p:nvSpPr>
                <p:cNvPr id="3948" name=""/>
                <p:cNvSpPr/>
                <p:nvPr/>
              </p:nvSpPr>
              <p:spPr>
                <a:xfrm>
                  <a:off x="6216120" y="296172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>
                  <a:off x="6216120" y="29617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0" name=""/>
              <p:cNvGrpSpPr/>
              <p:nvPr/>
            </p:nvGrpSpPr>
            <p:grpSpPr>
              <a:xfrm>
                <a:off x="6252480" y="2998080"/>
                <a:ext cx="90000" cy="91800"/>
                <a:chOff x="6252480" y="2998080"/>
                <a:chExt cx="90000" cy="91800"/>
              </a:xfrm>
            </p:grpSpPr>
            <p:sp>
              <p:nvSpPr>
                <p:cNvPr id="3951" name=""/>
                <p:cNvSpPr/>
                <p:nvPr/>
              </p:nvSpPr>
              <p:spPr>
                <a:xfrm>
                  <a:off x="6252480" y="299808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>
                  <a:off x="6252480" y="299808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3" name=""/>
              <p:cNvGrpSpPr/>
              <p:nvPr/>
            </p:nvGrpSpPr>
            <p:grpSpPr>
              <a:xfrm>
                <a:off x="6306480" y="3034800"/>
                <a:ext cx="90000" cy="91800"/>
                <a:chOff x="6306480" y="3034800"/>
                <a:chExt cx="90000" cy="91800"/>
              </a:xfrm>
            </p:grpSpPr>
            <p:sp>
              <p:nvSpPr>
                <p:cNvPr id="3954" name=""/>
                <p:cNvSpPr/>
                <p:nvPr/>
              </p:nvSpPr>
              <p:spPr>
                <a:xfrm>
                  <a:off x="6306480" y="303480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"/>
                <p:cNvSpPr/>
                <p:nvPr/>
              </p:nvSpPr>
              <p:spPr>
                <a:xfrm>
                  <a:off x="6306480" y="303480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6" name=""/>
              <p:cNvGrpSpPr/>
              <p:nvPr/>
            </p:nvGrpSpPr>
            <p:grpSpPr>
              <a:xfrm>
                <a:off x="6360480" y="3071160"/>
                <a:ext cx="72720" cy="91800"/>
                <a:chOff x="6360480" y="3071160"/>
                <a:chExt cx="72720" cy="91800"/>
              </a:xfrm>
            </p:grpSpPr>
            <p:sp>
              <p:nvSpPr>
                <p:cNvPr id="3957" name=""/>
                <p:cNvSpPr/>
                <p:nvPr/>
              </p:nvSpPr>
              <p:spPr>
                <a:xfrm>
                  <a:off x="6360480" y="30711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6360480" y="30711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9" name=""/>
              <p:cNvGrpSpPr/>
              <p:nvPr/>
            </p:nvGrpSpPr>
            <p:grpSpPr>
              <a:xfrm>
                <a:off x="6415920" y="3107880"/>
                <a:ext cx="72720" cy="91440"/>
                <a:chOff x="6415920" y="3107880"/>
                <a:chExt cx="72720" cy="91440"/>
              </a:xfrm>
            </p:grpSpPr>
            <p:sp>
              <p:nvSpPr>
                <p:cNvPr id="3960" name=""/>
                <p:cNvSpPr/>
                <p:nvPr/>
              </p:nvSpPr>
              <p:spPr>
                <a:xfrm>
                  <a:off x="6415920" y="310788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>
                  <a:off x="6415920" y="310788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2" name=""/>
              <p:cNvGrpSpPr/>
              <p:nvPr/>
            </p:nvGrpSpPr>
            <p:grpSpPr>
              <a:xfrm>
                <a:off x="6469920" y="3144240"/>
                <a:ext cx="72720" cy="72720"/>
                <a:chOff x="6469920" y="3144240"/>
                <a:chExt cx="72720" cy="72720"/>
              </a:xfrm>
            </p:grpSpPr>
            <p:sp>
              <p:nvSpPr>
                <p:cNvPr id="3963" name=""/>
                <p:cNvSpPr/>
                <p:nvPr/>
              </p:nvSpPr>
              <p:spPr>
                <a:xfrm>
                  <a:off x="6469920" y="3144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>
                  <a:off x="6469920" y="31442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5" name=""/>
              <p:cNvGrpSpPr/>
              <p:nvPr/>
            </p:nvGrpSpPr>
            <p:grpSpPr>
              <a:xfrm>
                <a:off x="6525360" y="3180600"/>
                <a:ext cx="72720" cy="91800"/>
                <a:chOff x="6525360" y="3180600"/>
                <a:chExt cx="72720" cy="91800"/>
              </a:xfrm>
            </p:grpSpPr>
            <p:sp>
              <p:nvSpPr>
                <p:cNvPr id="3966" name=""/>
                <p:cNvSpPr/>
                <p:nvPr/>
              </p:nvSpPr>
              <p:spPr>
                <a:xfrm>
                  <a:off x="6525360" y="31806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7" name=""/>
                <p:cNvSpPr/>
                <p:nvPr/>
              </p:nvSpPr>
              <p:spPr>
                <a:xfrm>
                  <a:off x="6525360" y="318060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8" name=""/>
              <p:cNvGrpSpPr/>
              <p:nvPr/>
            </p:nvGrpSpPr>
            <p:grpSpPr>
              <a:xfrm>
                <a:off x="6579360" y="3217320"/>
                <a:ext cx="72720" cy="72720"/>
                <a:chOff x="6579360" y="3217320"/>
                <a:chExt cx="72720" cy="72720"/>
              </a:xfrm>
            </p:grpSpPr>
            <p:sp>
              <p:nvSpPr>
                <p:cNvPr id="3969" name=""/>
                <p:cNvSpPr/>
                <p:nvPr/>
              </p:nvSpPr>
              <p:spPr>
                <a:xfrm>
                  <a:off x="6579360" y="3217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6579360" y="32173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71" name=""/>
            <p:cNvSpPr/>
            <p:nvPr/>
          </p:nvSpPr>
          <p:spPr>
            <a:xfrm>
              <a:off x="5887800" y="279864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48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72" name=""/>
            <p:cNvGrpSpPr/>
            <p:nvPr/>
          </p:nvGrpSpPr>
          <p:grpSpPr>
            <a:xfrm>
              <a:off x="5468760" y="3363840"/>
              <a:ext cx="747000" cy="545400"/>
              <a:chOff x="5468760" y="3363840"/>
              <a:chExt cx="747000" cy="545400"/>
            </a:xfrm>
          </p:grpSpPr>
          <p:grpSp>
            <p:nvGrpSpPr>
              <p:cNvPr id="3973" name=""/>
              <p:cNvGrpSpPr/>
              <p:nvPr/>
            </p:nvGrpSpPr>
            <p:grpSpPr>
              <a:xfrm>
                <a:off x="5468760" y="3363840"/>
                <a:ext cx="72360" cy="72360"/>
                <a:chOff x="5468760" y="3363840"/>
                <a:chExt cx="72360" cy="72360"/>
              </a:xfrm>
            </p:grpSpPr>
            <p:sp>
              <p:nvSpPr>
                <p:cNvPr id="3974" name=""/>
                <p:cNvSpPr/>
                <p:nvPr/>
              </p:nvSpPr>
              <p:spPr>
                <a:xfrm>
                  <a:off x="5468760" y="336384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>
                  <a:off x="5468760" y="33638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6" name=""/>
              <p:cNvGrpSpPr/>
              <p:nvPr/>
            </p:nvGrpSpPr>
            <p:grpSpPr>
              <a:xfrm>
                <a:off x="5504760" y="3399840"/>
                <a:ext cx="91800" cy="72720"/>
                <a:chOff x="5504760" y="3399840"/>
                <a:chExt cx="91800" cy="72720"/>
              </a:xfrm>
            </p:grpSpPr>
            <p:sp>
              <p:nvSpPr>
                <p:cNvPr id="3977" name=""/>
                <p:cNvSpPr/>
                <p:nvPr/>
              </p:nvSpPr>
              <p:spPr>
                <a:xfrm>
                  <a:off x="5504760" y="339984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5504760" y="339984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9" name=""/>
              <p:cNvGrpSpPr/>
              <p:nvPr/>
            </p:nvGrpSpPr>
            <p:grpSpPr>
              <a:xfrm>
                <a:off x="5560200" y="3436200"/>
                <a:ext cx="90360" cy="72720"/>
                <a:chOff x="5560200" y="3436200"/>
                <a:chExt cx="90360" cy="72720"/>
              </a:xfrm>
            </p:grpSpPr>
            <p:sp>
              <p:nvSpPr>
                <p:cNvPr id="3980" name=""/>
                <p:cNvSpPr/>
                <p:nvPr/>
              </p:nvSpPr>
              <p:spPr>
                <a:xfrm>
                  <a:off x="5560200" y="34362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5560200" y="34362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2" name=""/>
              <p:cNvGrpSpPr/>
              <p:nvPr/>
            </p:nvGrpSpPr>
            <p:grpSpPr>
              <a:xfrm>
                <a:off x="5614200" y="3472920"/>
                <a:ext cx="91800" cy="72720"/>
                <a:chOff x="5614200" y="3472920"/>
                <a:chExt cx="91800" cy="72720"/>
              </a:xfrm>
            </p:grpSpPr>
            <p:sp>
              <p:nvSpPr>
                <p:cNvPr id="3983" name=""/>
                <p:cNvSpPr/>
                <p:nvPr/>
              </p:nvSpPr>
              <p:spPr>
                <a:xfrm>
                  <a:off x="5614200" y="34729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>
                  <a:off x="5614200" y="347292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5" name=""/>
              <p:cNvGrpSpPr/>
              <p:nvPr/>
            </p:nvGrpSpPr>
            <p:grpSpPr>
              <a:xfrm>
                <a:off x="5670000" y="3509280"/>
                <a:ext cx="70920" cy="72720"/>
                <a:chOff x="5670000" y="3509280"/>
                <a:chExt cx="70920" cy="72720"/>
              </a:xfrm>
            </p:grpSpPr>
            <p:sp>
              <p:nvSpPr>
                <p:cNvPr id="3986" name=""/>
                <p:cNvSpPr/>
                <p:nvPr/>
              </p:nvSpPr>
              <p:spPr>
                <a:xfrm>
                  <a:off x="5670000" y="350928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>
                  <a:off x="5670000" y="3509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8" name=""/>
              <p:cNvGrpSpPr/>
              <p:nvPr/>
            </p:nvGrpSpPr>
            <p:grpSpPr>
              <a:xfrm>
                <a:off x="5724000" y="3546000"/>
                <a:ext cx="72360" cy="72720"/>
                <a:chOff x="5724000" y="3546000"/>
                <a:chExt cx="72360" cy="72720"/>
              </a:xfrm>
            </p:grpSpPr>
            <p:sp>
              <p:nvSpPr>
                <p:cNvPr id="3989" name=""/>
                <p:cNvSpPr/>
                <p:nvPr/>
              </p:nvSpPr>
              <p:spPr>
                <a:xfrm>
                  <a:off x="5724000" y="35460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>
                  <a:off x="5724000" y="3546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1" name=""/>
              <p:cNvGrpSpPr/>
              <p:nvPr/>
            </p:nvGrpSpPr>
            <p:grpSpPr>
              <a:xfrm>
                <a:off x="5777640" y="3582360"/>
                <a:ext cx="72720" cy="72720"/>
                <a:chOff x="5777640" y="3582360"/>
                <a:chExt cx="72720" cy="72720"/>
              </a:xfrm>
            </p:grpSpPr>
            <p:sp>
              <p:nvSpPr>
                <p:cNvPr id="3992" name=""/>
                <p:cNvSpPr/>
                <p:nvPr/>
              </p:nvSpPr>
              <p:spPr>
                <a:xfrm>
                  <a:off x="5777640" y="3582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5777640" y="35823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4" name=""/>
              <p:cNvGrpSpPr/>
              <p:nvPr/>
            </p:nvGrpSpPr>
            <p:grpSpPr>
              <a:xfrm>
                <a:off x="5833440" y="3619080"/>
                <a:ext cx="72720" cy="72360"/>
                <a:chOff x="5833440" y="3619080"/>
                <a:chExt cx="72720" cy="72360"/>
              </a:xfrm>
            </p:grpSpPr>
            <p:sp>
              <p:nvSpPr>
                <p:cNvPr id="3995" name=""/>
                <p:cNvSpPr/>
                <p:nvPr/>
              </p:nvSpPr>
              <p:spPr>
                <a:xfrm>
                  <a:off x="5833440" y="361908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>
                  <a:off x="5833440" y="3619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7" name=""/>
              <p:cNvGrpSpPr/>
              <p:nvPr/>
            </p:nvGrpSpPr>
            <p:grpSpPr>
              <a:xfrm>
                <a:off x="5869800" y="3655440"/>
                <a:ext cx="90360" cy="72720"/>
                <a:chOff x="5869800" y="3655440"/>
                <a:chExt cx="90360" cy="72720"/>
              </a:xfrm>
            </p:grpSpPr>
            <p:sp>
              <p:nvSpPr>
                <p:cNvPr id="3998" name=""/>
                <p:cNvSpPr/>
                <p:nvPr/>
              </p:nvSpPr>
              <p:spPr>
                <a:xfrm>
                  <a:off x="5869800" y="365544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>
                  <a:off x="5869800" y="36554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0" name=""/>
              <p:cNvGrpSpPr/>
              <p:nvPr/>
            </p:nvGrpSpPr>
            <p:grpSpPr>
              <a:xfrm>
                <a:off x="5923800" y="3691800"/>
                <a:ext cx="91800" cy="72720"/>
                <a:chOff x="5923800" y="3691800"/>
                <a:chExt cx="91800" cy="7272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5923800" y="369180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5923800" y="369180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5979600" y="3728520"/>
                <a:ext cx="90000" cy="72720"/>
                <a:chOff x="5979600" y="3728520"/>
                <a:chExt cx="90000" cy="7272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5979600" y="37285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5979600" y="372852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6033240" y="3764880"/>
                <a:ext cx="72720" cy="72720"/>
                <a:chOff x="6033240" y="3764880"/>
                <a:chExt cx="72720" cy="7272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6033240" y="3764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>
                  <a:off x="6033240" y="37648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6087240" y="3801600"/>
                <a:ext cx="72720" cy="72360"/>
                <a:chOff x="6087240" y="3801600"/>
                <a:chExt cx="72720" cy="7236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6087240" y="380160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6087240" y="38016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6143040" y="3837960"/>
                <a:ext cx="72720" cy="71280"/>
                <a:chOff x="6143040" y="3837960"/>
                <a:chExt cx="72720" cy="7128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6143040" y="383796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6143040" y="3837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5" name=""/>
            <p:cNvSpPr/>
            <p:nvPr/>
          </p:nvSpPr>
          <p:spPr>
            <a:xfrm>
              <a:off x="5451120" y="341748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16" name=""/>
            <p:cNvGrpSpPr/>
            <p:nvPr/>
          </p:nvGrpSpPr>
          <p:grpSpPr>
            <a:xfrm>
              <a:off x="5633640" y="3127320"/>
              <a:ext cx="745560" cy="545040"/>
              <a:chOff x="5633640" y="3127320"/>
              <a:chExt cx="745560" cy="545040"/>
            </a:xfrm>
          </p:grpSpPr>
          <p:grpSp>
            <p:nvGrpSpPr>
              <p:cNvPr id="4017" name=""/>
              <p:cNvGrpSpPr/>
              <p:nvPr/>
            </p:nvGrpSpPr>
            <p:grpSpPr>
              <a:xfrm>
                <a:off x="5633640" y="3127320"/>
                <a:ext cx="72720" cy="90000"/>
                <a:chOff x="5633640" y="3127320"/>
                <a:chExt cx="72720" cy="90000"/>
              </a:xfrm>
            </p:grpSpPr>
            <p:sp>
              <p:nvSpPr>
                <p:cNvPr id="4018" name=""/>
                <p:cNvSpPr/>
                <p:nvPr/>
              </p:nvSpPr>
              <p:spPr>
                <a:xfrm>
                  <a:off x="5633640" y="312732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1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>
                  <a:off x="5633640" y="3127320"/>
                  <a:ext cx="36360" cy="532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0" name=""/>
              <p:cNvGrpSpPr/>
              <p:nvPr/>
            </p:nvGrpSpPr>
            <p:grpSpPr>
              <a:xfrm>
                <a:off x="5670000" y="3163320"/>
                <a:ext cx="90000" cy="90000"/>
                <a:chOff x="5670000" y="3163320"/>
                <a:chExt cx="90000" cy="90000"/>
              </a:xfrm>
            </p:grpSpPr>
            <p:sp>
              <p:nvSpPr>
                <p:cNvPr id="4021" name=""/>
                <p:cNvSpPr/>
                <p:nvPr/>
              </p:nvSpPr>
              <p:spPr>
                <a:xfrm>
                  <a:off x="5670000" y="316332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5670000" y="316332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3" name=""/>
              <p:cNvGrpSpPr/>
              <p:nvPr/>
            </p:nvGrpSpPr>
            <p:grpSpPr>
              <a:xfrm>
                <a:off x="5724000" y="3199680"/>
                <a:ext cx="90000" cy="90360"/>
                <a:chOff x="5724000" y="3199680"/>
                <a:chExt cx="90000" cy="90360"/>
              </a:xfrm>
            </p:grpSpPr>
            <p:sp>
              <p:nvSpPr>
                <p:cNvPr id="4024" name=""/>
                <p:cNvSpPr/>
                <p:nvPr/>
              </p:nvSpPr>
              <p:spPr>
                <a:xfrm>
                  <a:off x="5724000" y="319968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5724000" y="319968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6" name=""/>
              <p:cNvGrpSpPr/>
              <p:nvPr/>
            </p:nvGrpSpPr>
            <p:grpSpPr>
              <a:xfrm>
                <a:off x="5777640" y="3236400"/>
                <a:ext cx="72720" cy="90000"/>
                <a:chOff x="5777640" y="3236400"/>
                <a:chExt cx="72720" cy="90000"/>
              </a:xfrm>
            </p:grpSpPr>
            <p:sp>
              <p:nvSpPr>
                <p:cNvPr id="4027" name=""/>
                <p:cNvSpPr/>
                <p:nvPr/>
              </p:nvSpPr>
              <p:spPr>
                <a:xfrm>
                  <a:off x="5777640" y="32364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5777640" y="32364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9" name=""/>
              <p:cNvGrpSpPr/>
              <p:nvPr/>
            </p:nvGrpSpPr>
            <p:grpSpPr>
              <a:xfrm>
                <a:off x="5833440" y="3272760"/>
                <a:ext cx="72720" cy="90360"/>
                <a:chOff x="5833440" y="3272760"/>
                <a:chExt cx="72720" cy="90360"/>
              </a:xfrm>
            </p:grpSpPr>
            <p:sp>
              <p:nvSpPr>
                <p:cNvPr id="4030" name=""/>
                <p:cNvSpPr/>
                <p:nvPr/>
              </p:nvSpPr>
              <p:spPr>
                <a:xfrm>
                  <a:off x="5833440" y="327276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>
                  <a:off x="5833440" y="327276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2" name=""/>
              <p:cNvGrpSpPr/>
              <p:nvPr/>
            </p:nvGrpSpPr>
            <p:grpSpPr>
              <a:xfrm>
                <a:off x="5887440" y="3309480"/>
                <a:ext cx="72720" cy="90000"/>
                <a:chOff x="5887440" y="3309480"/>
                <a:chExt cx="72720" cy="90000"/>
              </a:xfrm>
            </p:grpSpPr>
            <p:sp>
              <p:nvSpPr>
                <p:cNvPr id="4033" name=""/>
                <p:cNvSpPr/>
                <p:nvPr/>
              </p:nvSpPr>
              <p:spPr>
                <a:xfrm>
                  <a:off x="5887440" y="3309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5887440" y="33094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5" name=""/>
              <p:cNvGrpSpPr/>
              <p:nvPr/>
            </p:nvGrpSpPr>
            <p:grpSpPr>
              <a:xfrm>
                <a:off x="5942880" y="3344400"/>
                <a:ext cx="72720" cy="91440"/>
                <a:chOff x="5942880" y="3344400"/>
                <a:chExt cx="72720" cy="91440"/>
              </a:xfrm>
            </p:grpSpPr>
            <p:sp>
              <p:nvSpPr>
                <p:cNvPr id="4036" name=""/>
                <p:cNvSpPr/>
                <p:nvPr/>
              </p:nvSpPr>
              <p:spPr>
                <a:xfrm>
                  <a:off x="5942880" y="334440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>
                  <a:off x="5942880" y="33444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8" name=""/>
              <p:cNvGrpSpPr/>
              <p:nvPr/>
            </p:nvGrpSpPr>
            <p:grpSpPr>
              <a:xfrm>
                <a:off x="5996880" y="3380760"/>
                <a:ext cx="72720" cy="91800"/>
                <a:chOff x="5996880" y="3380760"/>
                <a:chExt cx="72720" cy="91800"/>
              </a:xfrm>
            </p:grpSpPr>
            <p:sp>
              <p:nvSpPr>
                <p:cNvPr id="4039" name=""/>
                <p:cNvSpPr/>
                <p:nvPr/>
              </p:nvSpPr>
              <p:spPr>
                <a:xfrm>
                  <a:off x="5996880" y="33807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>
                  <a:off x="5996880" y="33807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1" name=""/>
              <p:cNvGrpSpPr/>
              <p:nvPr/>
            </p:nvGrpSpPr>
            <p:grpSpPr>
              <a:xfrm>
                <a:off x="6033240" y="3417120"/>
                <a:ext cx="90360" cy="91800"/>
                <a:chOff x="6033240" y="3417120"/>
                <a:chExt cx="90360" cy="91800"/>
              </a:xfrm>
            </p:grpSpPr>
            <p:sp>
              <p:nvSpPr>
                <p:cNvPr id="4042" name=""/>
                <p:cNvSpPr/>
                <p:nvPr/>
              </p:nvSpPr>
              <p:spPr>
                <a:xfrm>
                  <a:off x="6033240" y="3417120"/>
                  <a:ext cx="9036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"/>
                <p:cNvSpPr/>
                <p:nvPr/>
              </p:nvSpPr>
              <p:spPr>
                <a:xfrm>
                  <a:off x="6033240" y="341712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4" name=""/>
              <p:cNvGrpSpPr/>
              <p:nvPr/>
            </p:nvGrpSpPr>
            <p:grpSpPr>
              <a:xfrm>
                <a:off x="6087240" y="3453840"/>
                <a:ext cx="91800" cy="91800"/>
                <a:chOff x="6087240" y="3453840"/>
                <a:chExt cx="91800" cy="91800"/>
              </a:xfrm>
            </p:grpSpPr>
            <p:sp>
              <p:nvSpPr>
                <p:cNvPr id="4045" name=""/>
                <p:cNvSpPr/>
                <p:nvPr/>
              </p:nvSpPr>
              <p:spPr>
                <a:xfrm>
                  <a:off x="6087240" y="345384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6087240" y="3453840"/>
                  <a:ext cx="554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7" name=""/>
              <p:cNvGrpSpPr/>
              <p:nvPr/>
            </p:nvGrpSpPr>
            <p:grpSpPr>
              <a:xfrm>
                <a:off x="6143040" y="3490200"/>
                <a:ext cx="72720" cy="91800"/>
                <a:chOff x="6143040" y="3490200"/>
                <a:chExt cx="72720" cy="91800"/>
              </a:xfrm>
            </p:grpSpPr>
            <p:sp>
              <p:nvSpPr>
                <p:cNvPr id="4048" name=""/>
                <p:cNvSpPr/>
                <p:nvPr/>
              </p:nvSpPr>
              <p:spPr>
                <a:xfrm>
                  <a:off x="6143040" y="34902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>
                  <a:off x="6143040" y="349020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0" name=""/>
              <p:cNvGrpSpPr/>
              <p:nvPr/>
            </p:nvGrpSpPr>
            <p:grpSpPr>
              <a:xfrm>
                <a:off x="6197040" y="3526920"/>
                <a:ext cx="72360" cy="72720"/>
                <a:chOff x="6197040" y="3526920"/>
                <a:chExt cx="72360" cy="72720"/>
              </a:xfrm>
            </p:grpSpPr>
            <p:sp>
              <p:nvSpPr>
                <p:cNvPr id="4051" name=""/>
                <p:cNvSpPr/>
                <p:nvPr/>
              </p:nvSpPr>
              <p:spPr>
                <a:xfrm>
                  <a:off x="6197040" y="352692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2" name=""/>
                <p:cNvSpPr/>
                <p:nvPr/>
              </p:nvSpPr>
              <p:spPr>
                <a:xfrm>
                  <a:off x="6197040" y="3526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3" name=""/>
              <p:cNvGrpSpPr/>
              <p:nvPr/>
            </p:nvGrpSpPr>
            <p:grpSpPr>
              <a:xfrm>
                <a:off x="6252480" y="3563280"/>
                <a:ext cx="72720" cy="91800"/>
                <a:chOff x="6252480" y="3563280"/>
                <a:chExt cx="72720" cy="91800"/>
              </a:xfrm>
            </p:grpSpPr>
            <p:sp>
              <p:nvSpPr>
                <p:cNvPr id="4054" name=""/>
                <p:cNvSpPr/>
                <p:nvPr/>
              </p:nvSpPr>
              <p:spPr>
                <a:xfrm>
                  <a:off x="6252480" y="35632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"/>
                <p:cNvSpPr/>
                <p:nvPr/>
              </p:nvSpPr>
              <p:spPr>
                <a:xfrm>
                  <a:off x="6252480" y="356328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6" name=""/>
              <p:cNvGrpSpPr/>
              <p:nvPr/>
            </p:nvGrpSpPr>
            <p:grpSpPr>
              <a:xfrm>
                <a:off x="6306480" y="3600000"/>
                <a:ext cx="72720" cy="72360"/>
                <a:chOff x="6306480" y="3600000"/>
                <a:chExt cx="72720" cy="72360"/>
              </a:xfrm>
            </p:grpSpPr>
            <p:sp>
              <p:nvSpPr>
                <p:cNvPr id="4057" name=""/>
                <p:cNvSpPr/>
                <p:nvPr/>
              </p:nvSpPr>
              <p:spPr>
                <a:xfrm>
                  <a:off x="6306480" y="360000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>
                  <a:off x="6306480" y="3600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59" name=""/>
            <p:cNvSpPr/>
            <p:nvPr/>
          </p:nvSpPr>
          <p:spPr>
            <a:xfrm>
              <a:off x="5614560" y="318096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60" name=""/>
            <p:cNvGrpSpPr/>
            <p:nvPr/>
          </p:nvGrpSpPr>
          <p:grpSpPr>
            <a:xfrm>
              <a:off x="5687640" y="3054240"/>
              <a:ext cx="745560" cy="545400"/>
              <a:chOff x="5687640" y="3054240"/>
              <a:chExt cx="745560" cy="545400"/>
            </a:xfrm>
          </p:grpSpPr>
          <p:grpSp>
            <p:nvGrpSpPr>
              <p:cNvPr id="4061" name=""/>
              <p:cNvGrpSpPr/>
              <p:nvPr/>
            </p:nvGrpSpPr>
            <p:grpSpPr>
              <a:xfrm>
                <a:off x="5687640" y="3054240"/>
                <a:ext cx="72720" cy="90000"/>
                <a:chOff x="5687640" y="3054240"/>
                <a:chExt cx="72720" cy="90000"/>
              </a:xfrm>
            </p:grpSpPr>
            <p:sp>
              <p:nvSpPr>
                <p:cNvPr id="4062" name=""/>
                <p:cNvSpPr/>
                <p:nvPr/>
              </p:nvSpPr>
              <p:spPr>
                <a:xfrm>
                  <a:off x="5687640" y="305424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"/>
                <p:cNvSpPr/>
                <p:nvPr/>
              </p:nvSpPr>
              <p:spPr>
                <a:xfrm>
                  <a:off x="5687640" y="305424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4" name=""/>
              <p:cNvGrpSpPr/>
              <p:nvPr/>
            </p:nvGrpSpPr>
            <p:grpSpPr>
              <a:xfrm>
                <a:off x="5724000" y="3090240"/>
                <a:ext cx="90000" cy="90000"/>
                <a:chOff x="5724000" y="3090240"/>
                <a:chExt cx="90000" cy="90000"/>
              </a:xfrm>
            </p:grpSpPr>
            <p:sp>
              <p:nvSpPr>
                <p:cNvPr id="4065" name=""/>
                <p:cNvSpPr/>
                <p:nvPr/>
              </p:nvSpPr>
              <p:spPr>
                <a:xfrm>
                  <a:off x="5724000" y="309024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5724000" y="309024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7" name=""/>
              <p:cNvGrpSpPr/>
              <p:nvPr/>
            </p:nvGrpSpPr>
            <p:grpSpPr>
              <a:xfrm>
                <a:off x="5777640" y="3126960"/>
                <a:ext cx="91800" cy="90000"/>
                <a:chOff x="5777640" y="3126960"/>
                <a:chExt cx="91800" cy="90000"/>
              </a:xfrm>
            </p:grpSpPr>
            <p:sp>
              <p:nvSpPr>
                <p:cNvPr id="4068" name=""/>
                <p:cNvSpPr/>
                <p:nvPr/>
              </p:nvSpPr>
              <p:spPr>
                <a:xfrm>
                  <a:off x="5777640" y="312696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>
                  <a:off x="5777640" y="3126960"/>
                  <a:ext cx="5544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0" name=""/>
              <p:cNvGrpSpPr/>
              <p:nvPr/>
            </p:nvGrpSpPr>
            <p:grpSpPr>
              <a:xfrm>
                <a:off x="5833440" y="3163320"/>
                <a:ext cx="72720" cy="90000"/>
                <a:chOff x="5833440" y="3163320"/>
                <a:chExt cx="72720" cy="90000"/>
              </a:xfrm>
            </p:grpSpPr>
            <p:sp>
              <p:nvSpPr>
                <p:cNvPr id="4071" name=""/>
                <p:cNvSpPr/>
                <p:nvPr/>
              </p:nvSpPr>
              <p:spPr>
                <a:xfrm>
                  <a:off x="5833440" y="316332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>
                  <a:off x="5833440" y="31633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3" name=""/>
              <p:cNvGrpSpPr/>
              <p:nvPr/>
            </p:nvGrpSpPr>
            <p:grpSpPr>
              <a:xfrm>
                <a:off x="5887440" y="3199680"/>
                <a:ext cx="72720" cy="72720"/>
                <a:chOff x="5887440" y="3199680"/>
                <a:chExt cx="72720" cy="72720"/>
              </a:xfrm>
            </p:grpSpPr>
            <p:sp>
              <p:nvSpPr>
                <p:cNvPr id="4074" name=""/>
                <p:cNvSpPr/>
                <p:nvPr/>
              </p:nvSpPr>
              <p:spPr>
                <a:xfrm>
                  <a:off x="5887440" y="3199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5887440" y="31996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6" name=""/>
              <p:cNvGrpSpPr/>
              <p:nvPr/>
            </p:nvGrpSpPr>
            <p:grpSpPr>
              <a:xfrm>
                <a:off x="5942880" y="3236400"/>
                <a:ext cx="72720" cy="72720"/>
                <a:chOff x="5942880" y="3236400"/>
                <a:chExt cx="72720" cy="72720"/>
              </a:xfrm>
            </p:grpSpPr>
            <p:sp>
              <p:nvSpPr>
                <p:cNvPr id="4077" name=""/>
                <p:cNvSpPr/>
                <p:nvPr/>
              </p:nvSpPr>
              <p:spPr>
                <a:xfrm>
                  <a:off x="5942880" y="3236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5942880" y="3236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9" name=""/>
              <p:cNvGrpSpPr/>
              <p:nvPr/>
            </p:nvGrpSpPr>
            <p:grpSpPr>
              <a:xfrm>
                <a:off x="5996880" y="3272760"/>
                <a:ext cx="72720" cy="71280"/>
                <a:chOff x="5996880" y="3272760"/>
                <a:chExt cx="72720" cy="71280"/>
              </a:xfrm>
            </p:grpSpPr>
            <p:sp>
              <p:nvSpPr>
                <p:cNvPr id="4080" name=""/>
                <p:cNvSpPr/>
                <p:nvPr/>
              </p:nvSpPr>
              <p:spPr>
                <a:xfrm>
                  <a:off x="5996880" y="327276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1" name=""/>
                <p:cNvSpPr/>
                <p:nvPr/>
              </p:nvSpPr>
              <p:spPr>
                <a:xfrm>
                  <a:off x="5996880" y="32727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2" name=""/>
              <p:cNvGrpSpPr/>
              <p:nvPr/>
            </p:nvGrpSpPr>
            <p:grpSpPr>
              <a:xfrm>
                <a:off x="6050880" y="3309480"/>
                <a:ext cx="72720" cy="70920"/>
                <a:chOff x="6050880" y="3309480"/>
                <a:chExt cx="72720" cy="70920"/>
              </a:xfrm>
            </p:grpSpPr>
            <p:sp>
              <p:nvSpPr>
                <p:cNvPr id="4083" name=""/>
                <p:cNvSpPr/>
                <p:nvPr/>
              </p:nvSpPr>
              <p:spPr>
                <a:xfrm>
                  <a:off x="6050880" y="330948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>
                  <a:off x="6050880" y="330948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5" name=""/>
              <p:cNvGrpSpPr/>
              <p:nvPr/>
            </p:nvGrpSpPr>
            <p:grpSpPr>
              <a:xfrm>
                <a:off x="6087240" y="3344400"/>
                <a:ext cx="91800" cy="72360"/>
                <a:chOff x="6087240" y="3344400"/>
                <a:chExt cx="91800" cy="72360"/>
              </a:xfrm>
            </p:grpSpPr>
            <p:sp>
              <p:nvSpPr>
                <p:cNvPr id="4086" name=""/>
                <p:cNvSpPr/>
                <p:nvPr/>
              </p:nvSpPr>
              <p:spPr>
                <a:xfrm>
                  <a:off x="6087240" y="334440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7" name=""/>
                <p:cNvSpPr/>
                <p:nvPr/>
              </p:nvSpPr>
              <p:spPr>
                <a:xfrm>
                  <a:off x="6087240" y="334440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8" name=""/>
              <p:cNvGrpSpPr/>
              <p:nvPr/>
            </p:nvGrpSpPr>
            <p:grpSpPr>
              <a:xfrm>
                <a:off x="6143040" y="3380760"/>
                <a:ext cx="90000" cy="72720"/>
                <a:chOff x="6143040" y="3380760"/>
                <a:chExt cx="90000" cy="72720"/>
              </a:xfrm>
            </p:grpSpPr>
            <p:sp>
              <p:nvSpPr>
                <p:cNvPr id="4089" name=""/>
                <p:cNvSpPr/>
                <p:nvPr/>
              </p:nvSpPr>
              <p:spPr>
                <a:xfrm>
                  <a:off x="6143040" y="33807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6143040" y="33807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1" name=""/>
              <p:cNvGrpSpPr/>
              <p:nvPr/>
            </p:nvGrpSpPr>
            <p:grpSpPr>
              <a:xfrm>
                <a:off x="6197040" y="3417120"/>
                <a:ext cx="72360" cy="72720"/>
                <a:chOff x="6197040" y="3417120"/>
                <a:chExt cx="72360" cy="72720"/>
              </a:xfrm>
            </p:grpSpPr>
            <p:sp>
              <p:nvSpPr>
                <p:cNvPr id="4092" name=""/>
                <p:cNvSpPr/>
                <p:nvPr/>
              </p:nvSpPr>
              <p:spPr>
                <a:xfrm>
                  <a:off x="6197040" y="341712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>
                  <a:off x="6197040" y="34171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4" name=""/>
              <p:cNvGrpSpPr/>
              <p:nvPr/>
            </p:nvGrpSpPr>
            <p:grpSpPr>
              <a:xfrm>
                <a:off x="6252480" y="3453840"/>
                <a:ext cx="72720" cy="72720"/>
                <a:chOff x="6252480" y="3453840"/>
                <a:chExt cx="72720" cy="72720"/>
              </a:xfrm>
            </p:grpSpPr>
            <p:sp>
              <p:nvSpPr>
                <p:cNvPr id="4095" name=""/>
                <p:cNvSpPr/>
                <p:nvPr/>
              </p:nvSpPr>
              <p:spPr>
                <a:xfrm>
                  <a:off x="6252480" y="3453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"/>
                <p:cNvSpPr/>
                <p:nvPr/>
              </p:nvSpPr>
              <p:spPr>
                <a:xfrm>
                  <a:off x="6252480" y="34538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7" name=""/>
              <p:cNvGrpSpPr/>
              <p:nvPr/>
            </p:nvGrpSpPr>
            <p:grpSpPr>
              <a:xfrm>
                <a:off x="6306480" y="3490200"/>
                <a:ext cx="72720" cy="72720"/>
                <a:chOff x="6306480" y="3490200"/>
                <a:chExt cx="72720" cy="72720"/>
              </a:xfrm>
            </p:grpSpPr>
            <p:sp>
              <p:nvSpPr>
                <p:cNvPr id="4098" name=""/>
                <p:cNvSpPr/>
                <p:nvPr/>
              </p:nvSpPr>
              <p:spPr>
                <a:xfrm>
                  <a:off x="6306480" y="34902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6306480" y="34902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0" name=""/>
              <p:cNvGrpSpPr/>
              <p:nvPr/>
            </p:nvGrpSpPr>
            <p:grpSpPr>
              <a:xfrm>
                <a:off x="6360480" y="3526920"/>
                <a:ext cx="72720" cy="72720"/>
                <a:chOff x="6360480" y="3526920"/>
                <a:chExt cx="72720" cy="72720"/>
              </a:xfrm>
            </p:grpSpPr>
            <p:sp>
              <p:nvSpPr>
                <p:cNvPr id="4101" name=""/>
                <p:cNvSpPr/>
                <p:nvPr/>
              </p:nvSpPr>
              <p:spPr>
                <a:xfrm>
                  <a:off x="6360480" y="3526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>
                  <a:off x="6360480" y="3526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03" name=""/>
            <p:cNvSpPr/>
            <p:nvPr/>
          </p:nvSpPr>
          <p:spPr>
            <a:xfrm>
              <a:off x="5670360" y="3108240"/>
              <a:ext cx="745560" cy="56448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8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4" name=""/>
          <p:cNvGrpSpPr/>
          <p:nvPr/>
        </p:nvGrpSpPr>
        <p:grpSpPr>
          <a:xfrm>
            <a:off x="5305320" y="3602160"/>
            <a:ext cx="747360" cy="546120"/>
            <a:chOff x="5305320" y="3602160"/>
            <a:chExt cx="747360" cy="546120"/>
          </a:xfrm>
        </p:grpSpPr>
        <p:grpSp>
          <p:nvGrpSpPr>
            <p:cNvPr id="4105" name=""/>
            <p:cNvGrpSpPr/>
            <p:nvPr/>
          </p:nvGrpSpPr>
          <p:grpSpPr>
            <a:xfrm>
              <a:off x="5305320" y="3602160"/>
              <a:ext cx="72720" cy="90360"/>
              <a:chOff x="5305320" y="3602160"/>
              <a:chExt cx="72720" cy="90360"/>
            </a:xfrm>
          </p:grpSpPr>
          <p:sp>
            <p:nvSpPr>
              <p:cNvPr id="4106" name=""/>
              <p:cNvSpPr/>
              <p:nvPr/>
            </p:nvSpPr>
            <p:spPr>
              <a:xfrm>
                <a:off x="5305320" y="360216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5305320" y="360216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8" name=""/>
            <p:cNvGrpSpPr/>
            <p:nvPr/>
          </p:nvGrpSpPr>
          <p:grpSpPr>
            <a:xfrm>
              <a:off x="5358960" y="3638880"/>
              <a:ext cx="73080" cy="90360"/>
              <a:chOff x="5358960" y="3638880"/>
              <a:chExt cx="73080" cy="90360"/>
            </a:xfrm>
          </p:grpSpPr>
          <p:sp>
            <p:nvSpPr>
              <p:cNvPr id="4109" name=""/>
              <p:cNvSpPr/>
              <p:nvPr/>
            </p:nvSpPr>
            <p:spPr>
              <a:xfrm>
                <a:off x="5358960" y="3638880"/>
                <a:ext cx="7308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5358960" y="3638880"/>
                <a:ext cx="36720" cy="536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1" name=""/>
            <p:cNvGrpSpPr/>
            <p:nvPr/>
          </p:nvGrpSpPr>
          <p:grpSpPr>
            <a:xfrm>
              <a:off x="5414760" y="3675240"/>
              <a:ext cx="73080" cy="90360"/>
              <a:chOff x="5414760" y="3675240"/>
              <a:chExt cx="73080" cy="90360"/>
            </a:xfrm>
          </p:grpSpPr>
          <p:sp>
            <p:nvSpPr>
              <p:cNvPr id="4112" name=""/>
              <p:cNvSpPr/>
              <p:nvPr/>
            </p:nvSpPr>
            <p:spPr>
              <a:xfrm>
                <a:off x="5414760" y="3675240"/>
                <a:ext cx="7308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5414760" y="367524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4" name=""/>
            <p:cNvGrpSpPr/>
            <p:nvPr/>
          </p:nvGrpSpPr>
          <p:grpSpPr>
            <a:xfrm>
              <a:off x="5469120" y="3711600"/>
              <a:ext cx="73080" cy="90720"/>
              <a:chOff x="5469120" y="3711600"/>
              <a:chExt cx="73080" cy="90720"/>
            </a:xfrm>
          </p:grpSpPr>
          <p:sp>
            <p:nvSpPr>
              <p:cNvPr id="4115" name=""/>
              <p:cNvSpPr/>
              <p:nvPr/>
            </p:nvSpPr>
            <p:spPr>
              <a:xfrm>
                <a:off x="5469120" y="3711600"/>
                <a:ext cx="73080" cy="90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3" y="4"/>
                      <a:pt x="3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5469120" y="371160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7" name=""/>
            <p:cNvGrpSpPr/>
            <p:nvPr/>
          </p:nvGrpSpPr>
          <p:grpSpPr>
            <a:xfrm>
              <a:off x="5505480" y="3748320"/>
              <a:ext cx="92160" cy="90360"/>
              <a:chOff x="5505480" y="3748320"/>
              <a:chExt cx="92160" cy="90360"/>
            </a:xfrm>
          </p:grpSpPr>
          <p:sp>
            <p:nvSpPr>
              <p:cNvPr id="4118" name=""/>
              <p:cNvSpPr/>
              <p:nvPr/>
            </p:nvSpPr>
            <p:spPr>
              <a:xfrm>
                <a:off x="5505480" y="37483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5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505480" y="374832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0" name=""/>
            <p:cNvGrpSpPr/>
            <p:nvPr/>
          </p:nvGrpSpPr>
          <p:grpSpPr>
            <a:xfrm>
              <a:off x="5561280" y="3784680"/>
              <a:ext cx="90360" cy="73080"/>
              <a:chOff x="5561280" y="3784680"/>
              <a:chExt cx="90360" cy="73080"/>
            </a:xfrm>
          </p:grpSpPr>
          <p:sp>
            <p:nvSpPr>
              <p:cNvPr id="4121" name=""/>
              <p:cNvSpPr/>
              <p:nvPr/>
            </p:nvSpPr>
            <p:spPr>
              <a:xfrm>
                <a:off x="5561280" y="3784680"/>
                <a:ext cx="903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5561280" y="3784680"/>
                <a:ext cx="53640" cy="36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3" name=""/>
            <p:cNvGrpSpPr/>
            <p:nvPr/>
          </p:nvGrpSpPr>
          <p:grpSpPr>
            <a:xfrm>
              <a:off x="5615280" y="3821400"/>
              <a:ext cx="73080" cy="72720"/>
              <a:chOff x="5615280" y="3821400"/>
              <a:chExt cx="73080" cy="72720"/>
            </a:xfrm>
          </p:grpSpPr>
          <p:sp>
            <p:nvSpPr>
              <p:cNvPr id="4124" name=""/>
              <p:cNvSpPr/>
              <p:nvPr/>
            </p:nvSpPr>
            <p:spPr>
              <a:xfrm>
                <a:off x="5615280" y="38214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5615280" y="382140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6" name=""/>
            <p:cNvGrpSpPr/>
            <p:nvPr/>
          </p:nvGrpSpPr>
          <p:grpSpPr>
            <a:xfrm>
              <a:off x="5669280" y="3857760"/>
              <a:ext cx="73080" cy="71640"/>
              <a:chOff x="5669280" y="3857760"/>
              <a:chExt cx="73080" cy="71640"/>
            </a:xfrm>
          </p:grpSpPr>
          <p:sp>
            <p:nvSpPr>
              <p:cNvPr id="4127" name=""/>
              <p:cNvSpPr/>
              <p:nvPr/>
            </p:nvSpPr>
            <p:spPr>
              <a:xfrm>
                <a:off x="5669280" y="385776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5669280" y="385776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9" name=""/>
            <p:cNvGrpSpPr/>
            <p:nvPr/>
          </p:nvGrpSpPr>
          <p:grpSpPr>
            <a:xfrm>
              <a:off x="5725080" y="3894120"/>
              <a:ext cx="73080" cy="71640"/>
              <a:chOff x="5725080" y="3894120"/>
              <a:chExt cx="73080" cy="71640"/>
            </a:xfrm>
          </p:grpSpPr>
          <p:sp>
            <p:nvSpPr>
              <p:cNvPr id="4130" name=""/>
              <p:cNvSpPr/>
              <p:nvPr/>
            </p:nvSpPr>
            <p:spPr>
              <a:xfrm>
                <a:off x="5725080" y="389412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5725080" y="3894120"/>
                <a:ext cx="36360" cy="352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2" name=""/>
            <p:cNvGrpSpPr/>
            <p:nvPr/>
          </p:nvGrpSpPr>
          <p:grpSpPr>
            <a:xfrm>
              <a:off x="5779440" y="3929400"/>
              <a:ext cx="73080" cy="72720"/>
              <a:chOff x="5779440" y="3929400"/>
              <a:chExt cx="73080" cy="72720"/>
            </a:xfrm>
          </p:grpSpPr>
          <p:sp>
            <p:nvSpPr>
              <p:cNvPr id="4133" name=""/>
              <p:cNvSpPr/>
              <p:nvPr/>
            </p:nvSpPr>
            <p:spPr>
              <a:xfrm>
                <a:off x="5779440" y="39294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5779440" y="3929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5" name=""/>
            <p:cNvGrpSpPr/>
            <p:nvPr/>
          </p:nvGrpSpPr>
          <p:grpSpPr>
            <a:xfrm>
              <a:off x="5834880" y="3965760"/>
              <a:ext cx="73080" cy="92160"/>
              <a:chOff x="5834880" y="3965760"/>
              <a:chExt cx="73080" cy="92160"/>
            </a:xfrm>
          </p:grpSpPr>
          <p:sp>
            <p:nvSpPr>
              <p:cNvPr id="4136" name=""/>
              <p:cNvSpPr/>
              <p:nvPr/>
            </p:nvSpPr>
            <p:spPr>
              <a:xfrm>
                <a:off x="5834880" y="396576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3" y="4"/>
                      <a:pt x="3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834880" y="3965760"/>
                <a:ext cx="36360" cy="55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8" name=""/>
            <p:cNvGrpSpPr/>
            <p:nvPr/>
          </p:nvGrpSpPr>
          <p:grpSpPr>
            <a:xfrm>
              <a:off x="5871240" y="4002120"/>
              <a:ext cx="90720" cy="73080"/>
              <a:chOff x="5871240" y="4002120"/>
              <a:chExt cx="90720" cy="73080"/>
            </a:xfrm>
          </p:grpSpPr>
          <p:sp>
            <p:nvSpPr>
              <p:cNvPr id="4139" name=""/>
              <p:cNvSpPr/>
              <p:nvPr/>
            </p:nvSpPr>
            <p:spPr>
              <a:xfrm>
                <a:off x="5871240" y="4002120"/>
                <a:ext cx="9072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871240" y="400212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41" name=""/>
            <p:cNvGrpSpPr/>
            <p:nvPr/>
          </p:nvGrpSpPr>
          <p:grpSpPr>
            <a:xfrm>
              <a:off x="5925600" y="4038840"/>
              <a:ext cx="90720" cy="73080"/>
              <a:chOff x="5925600" y="4038840"/>
              <a:chExt cx="90720" cy="73080"/>
            </a:xfrm>
          </p:grpSpPr>
          <p:sp>
            <p:nvSpPr>
              <p:cNvPr id="4142" name=""/>
              <p:cNvSpPr/>
              <p:nvPr/>
            </p:nvSpPr>
            <p:spPr>
              <a:xfrm>
                <a:off x="5925600" y="4038840"/>
                <a:ext cx="9072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925600" y="403884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44" name=""/>
            <p:cNvGrpSpPr/>
            <p:nvPr/>
          </p:nvGrpSpPr>
          <p:grpSpPr>
            <a:xfrm>
              <a:off x="5979600" y="4075200"/>
              <a:ext cx="73080" cy="73080"/>
              <a:chOff x="5979600" y="4075200"/>
              <a:chExt cx="73080" cy="73080"/>
            </a:xfrm>
          </p:grpSpPr>
          <p:sp>
            <p:nvSpPr>
              <p:cNvPr id="4145" name=""/>
              <p:cNvSpPr/>
              <p:nvPr/>
            </p:nvSpPr>
            <p:spPr>
              <a:xfrm>
                <a:off x="5979600" y="40752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979600" y="407520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7" name=""/>
          <p:cNvSpPr/>
          <p:nvPr/>
        </p:nvSpPr>
        <p:spPr>
          <a:xfrm>
            <a:off x="5288040" y="3656160"/>
            <a:ext cx="765000" cy="564840"/>
          </a:xfrm>
          <a:custGeom>
            <a:avLst/>
            <a:gdLst/>
            <a:ahLst/>
            <a:rect l="l" t="t" r="r" b="b"/>
            <a:pathLst>
              <a:path w="481" h="356">
                <a:moveTo>
                  <a:pt x="458" y="356"/>
                </a:moveTo>
                <a:lnTo>
                  <a:pt x="481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8" name=""/>
          <p:cNvGrpSpPr/>
          <p:nvPr/>
        </p:nvGrpSpPr>
        <p:grpSpPr>
          <a:xfrm>
            <a:off x="5742000" y="3000240"/>
            <a:ext cx="747720" cy="546120"/>
            <a:chOff x="5742000" y="3000240"/>
            <a:chExt cx="747720" cy="546120"/>
          </a:xfrm>
        </p:grpSpPr>
        <p:grpSp>
          <p:nvGrpSpPr>
            <p:cNvPr id="4149" name=""/>
            <p:cNvGrpSpPr/>
            <p:nvPr/>
          </p:nvGrpSpPr>
          <p:grpSpPr>
            <a:xfrm>
              <a:off x="5742000" y="3000240"/>
              <a:ext cx="73080" cy="73080"/>
              <a:chOff x="5742000" y="3000240"/>
              <a:chExt cx="73080" cy="73080"/>
            </a:xfrm>
          </p:grpSpPr>
          <p:sp>
            <p:nvSpPr>
              <p:cNvPr id="4150" name=""/>
              <p:cNvSpPr/>
              <p:nvPr/>
            </p:nvSpPr>
            <p:spPr>
              <a:xfrm>
                <a:off x="5742000" y="3000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742000" y="300024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2" name=""/>
            <p:cNvGrpSpPr/>
            <p:nvPr/>
          </p:nvGrpSpPr>
          <p:grpSpPr>
            <a:xfrm>
              <a:off x="5797800" y="3036600"/>
              <a:ext cx="72720" cy="73080"/>
              <a:chOff x="5797800" y="3036600"/>
              <a:chExt cx="72720" cy="73080"/>
            </a:xfrm>
          </p:grpSpPr>
          <p:sp>
            <p:nvSpPr>
              <p:cNvPr id="4153" name=""/>
              <p:cNvSpPr/>
              <p:nvPr/>
            </p:nvSpPr>
            <p:spPr>
              <a:xfrm>
                <a:off x="5797800" y="3036600"/>
                <a:ext cx="7272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797800" y="303660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5" name=""/>
            <p:cNvGrpSpPr/>
            <p:nvPr/>
          </p:nvGrpSpPr>
          <p:grpSpPr>
            <a:xfrm>
              <a:off x="5851800" y="3073320"/>
              <a:ext cx="72720" cy="73080"/>
              <a:chOff x="5851800" y="3073320"/>
              <a:chExt cx="72720" cy="73080"/>
            </a:xfrm>
          </p:grpSpPr>
          <p:sp>
            <p:nvSpPr>
              <p:cNvPr id="4156" name=""/>
              <p:cNvSpPr/>
              <p:nvPr/>
            </p:nvSpPr>
            <p:spPr>
              <a:xfrm>
                <a:off x="5851800" y="3073320"/>
                <a:ext cx="7272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851800" y="30733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8" name=""/>
            <p:cNvGrpSpPr/>
            <p:nvPr/>
          </p:nvGrpSpPr>
          <p:grpSpPr>
            <a:xfrm>
              <a:off x="5888160" y="3109680"/>
              <a:ext cx="90360" cy="73080"/>
              <a:chOff x="5888160" y="3109680"/>
              <a:chExt cx="90360" cy="73080"/>
            </a:xfrm>
          </p:grpSpPr>
          <p:sp>
            <p:nvSpPr>
              <p:cNvPr id="4159" name=""/>
              <p:cNvSpPr/>
              <p:nvPr/>
            </p:nvSpPr>
            <p:spPr>
              <a:xfrm>
                <a:off x="5888160" y="3109680"/>
                <a:ext cx="903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888160" y="3109680"/>
                <a:ext cx="55440" cy="36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5943600" y="3146400"/>
              <a:ext cx="90720" cy="72720"/>
              <a:chOff x="5943600" y="3146400"/>
              <a:chExt cx="90720" cy="72720"/>
            </a:xfrm>
          </p:grpSpPr>
          <p:sp>
            <p:nvSpPr>
              <p:cNvPr id="4162" name=""/>
              <p:cNvSpPr/>
              <p:nvPr/>
            </p:nvSpPr>
            <p:spPr>
              <a:xfrm>
                <a:off x="5943600" y="3146400"/>
                <a:ext cx="90720" cy="72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5943600" y="314640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5997600" y="3182760"/>
              <a:ext cx="73080" cy="73080"/>
              <a:chOff x="5997600" y="3182760"/>
              <a:chExt cx="73080" cy="73080"/>
            </a:xfrm>
          </p:grpSpPr>
          <p:sp>
            <p:nvSpPr>
              <p:cNvPr id="4165" name=""/>
              <p:cNvSpPr/>
              <p:nvPr/>
            </p:nvSpPr>
            <p:spPr>
              <a:xfrm>
                <a:off x="5997600" y="318276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997600" y="318276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6051600" y="3219120"/>
              <a:ext cx="73080" cy="73080"/>
              <a:chOff x="6051600" y="3219120"/>
              <a:chExt cx="73080" cy="73080"/>
            </a:xfrm>
          </p:grpSpPr>
          <p:sp>
            <p:nvSpPr>
              <p:cNvPr id="4168" name=""/>
              <p:cNvSpPr/>
              <p:nvPr/>
            </p:nvSpPr>
            <p:spPr>
              <a:xfrm>
                <a:off x="6051600" y="32191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6051600" y="321912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6107040" y="3255840"/>
              <a:ext cx="73080" cy="73080"/>
              <a:chOff x="6107040" y="3255840"/>
              <a:chExt cx="73080" cy="73080"/>
            </a:xfrm>
          </p:grpSpPr>
          <p:sp>
            <p:nvSpPr>
              <p:cNvPr id="4171" name=""/>
              <p:cNvSpPr/>
              <p:nvPr/>
            </p:nvSpPr>
            <p:spPr>
              <a:xfrm>
                <a:off x="6107040" y="32558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6107040" y="325584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6161040" y="3292200"/>
              <a:ext cx="73080" cy="71640"/>
              <a:chOff x="6161040" y="3292200"/>
              <a:chExt cx="73080" cy="71640"/>
            </a:xfrm>
          </p:grpSpPr>
          <p:sp>
            <p:nvSpPr>
              <p:cNvPr id="4174" name=""/>
              <p:cNvSpPr/>
              <p:nvPr/>
            </p:nvSpPr>
            <p:spPr>
              <a:xfrm>
                <a:off x="6161040" y="329220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6161040" y="329220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6216840" y="3328920"/>
              <a:ext cx="71280" cy="71280"/>
              <a:chOff x="6216840" y="3328920"/>
              <a:chExt cx="71280" cy="71280"/>
            </a:xfrm>
          </p:grpSpPr>
          <p:sp>
            <p:nvSpPr>
              <p:cNvPr id="4177" name=""/>
              <p:cNvSpPr/>
              <p:nvPr/>
            </p:nvSpPr>
            <p:spPr>
              <a:xfrm>
                <a:off x="6216840" y="33289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6216840" y="332892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6253200" y="3346200"/>
              <a:ext cx="90720" cy="90360"/>
              <a:chOff x="6253200" y="3346200"/>
              <a:chExt cx="90720" cy="90360"/>
            </a:xfrm>
          </p:grpSpPr>
          <p:sp>
            <p:nvSpPr>
              <p:cNvPr id="4180" name=""/>
              <p:cNvSpPr/>
              <p:nvPr/>
            </p:nvSpPr>
            <p:spPr>
              <a:xfrm>
                <a:off x="6253200" y="33462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2" y="1"/>
                      <a:pt x="1" y="2"/>
                    </a:cubicBezTo>
                    <a:cubicBezTo>
                      <a:pt x="0" y="2"/>
                      <a:pt x="1" y="4"/>
                      <a:pt x="2" y="4"/>
                    </a:cubicBezTo>
                    <a:cubicBezTo>
                      <a:pt x="2" y="5"/>
                      <a:pt x="4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6253200" y="334620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3"/>
                      <a:pt x="2" y="2"/>
                    </a:cubicBezTo>
                    <a:cubicBezTo>
                      <a:pt x="3" y="2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6307200" y="3382920"/>
              <a:ext cx="90360" cy="90360"/>
              <a:chOff x="6307200" y="3382920"/>
              <a:chExt cx="90360" cy="90360"/>
            </a:xfrm>
          </p:grpSpPr>
          <p:sp>
            <p:nvSpPr>
              <p:cNvPr id="4183" name=""/>
              <p:cNvSpPr/>
              <p:nvPr/>
            </p:nvSpPr>
            <p:spPr>
              <a:xfrm>
                <a:off x="6307200" y="338292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1"/>
                    </a:moveTo>
                    <a:cubicBezTo>
                      <a:pt x="3" y="0"/>
                      <a:pt x="1" y="1"/>
                      <a:pt x="1" y="2"/>
                    </a:cubicBezTo>
                    <a:cubicBezTo>
                      <a:pt x="0" y="2"/>
                      <a:pt x="1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307200" y="338292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5" name=""/>
            <p:cNvGrpSpPr/>
            <p:nvPr/>
          </p:nvGrpSpPr>
          <p:grpSpPr>
            <a:xfrm>
              <a:off x="6361200" y="3419280"/>
              <a:ext cx="73080" cy="90360"/>
              <a:chOff x="6361200" y="3419280"/>
              <a:chExt cx="73080" cy="90360"/>
            </a:xfrm>
          </p:grpSpPr>
          <p:sp>
            <p:nvSpPr>
              <p:cNvPr id="4186" name=""/>
              <p:cNvSpPr/>
              <p:nvPr/>
            </p:nvSpPr>
            <p:spPr>
              <a:xfrm>
                <a:off x="6361200" y="3419280"/>
                <a:ext cx="7308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3" y="0"/>
                      <a:pt x="1" y="1"/>
                      <a:pt x="1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4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6361200" y="341928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8" name=""/>
            <p:cNvGrpSpPr/>
            <p:nvPr/>
          </p:nvGrpSpPr>
          <p:grpSpPr>
            <a:xfrm>
              <a:off x="6416640" y="3455640"/>
              <a:ext cx="73080" cy="90720"/>
              <a:chOff x="6416640" y="3455640"/>
              <a:chExt cx="73080" cy="90720"/>
            </a:xfrm>
          </p:grpSpPr>
          <p:sp>
            <p:nvSpPr>
              <p:cNvPr id="4189" name=""/>
              <p:cNvSpPr/>
              <p:nvPr/>
            </p:nvSpPr>
            <p:spPr>
              <a:xfrm>
                <a:off x="6416640" y="3455640"/>
                <a:ext cx="73080" cy="90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416640" y="3455640"/>
                <a:ext cx="3672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1" name=""/>
          <p:cNvSpPr/>
          <p:nvPr/>
        </p:nvSpPr>
        <p:spPr>
          <a:xfrm>
            <a:off x="5726160" y="3036960"/>
            <a:ext cx="763560" cy="582480"/>
          </a:xfrm>
          <a:custGeom>
            <a:avLst/>
            <a:gdLst/>
            <a:ahLst/>
            <a:rect l="l" t="t" r="r" b="b"/>
            <a:pathLst>
              <a:path w="482" h="367">
                <a:moveTo>
                  <a:pt x="459" y="367"/>
                </a:moveTo>
                <a:lnTo>
                  <a:pt x="482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2" name=""/>
          <p:cNvGrpSpPr/>
          <p:nvPr/>
        </p:nvGrpSpPr>
        <p:grpSpPr>
          <a:xfrm>
            <a:off x="5797440" y="2927520"/>
            <a:ext cx="745920" cy="528480"/>
            <a:chOff x="5797440" y="2927520"/>
            <a:chExt cx="745920" cy="528480"/>
          </a:xfrm>
        </p:grpSpPr>
        <p:grpSp>
          <p:nvGrpSpPr>
            <p:cNvPr id="4193" name=""/>
            <p:cNvGrpSpPr/>
            <p:nvPr/>
          </p:nvGrpSpPr>
          <p:grpSpPr>
            <a:xfrm>
              <a:off x="5797440" y="2927520"/>
              <a:ext cx="72720" cy="73080"/>
              <a:chOff x="5797440" y="2927520"/>
              <a:chExt cx="72720" cy="73080"/>
            </a:xfrm>
          </p:grpSpPr>
          <p:sp>
            <p:nvSpPr>
              <p:cNvPr id="4194" name=""/>
              <p:cNvSpPr/>
              <p:nvPr/>
            </p:nvSpPr>
            <p:spPr>
              <a:xfrm>
                <a:off x="5797440" y="2927520"/>
                <a:ext cx="7272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5797440" y="29275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6" name=""/>
            <p:cNvGrpSpPr/>
            <p:nvPr/>
          </p:nvGrpSpPr>
          <p:grpSpPr>
            <a:xfrm>
              <a:off x="5851440" y="2944800"/>
              <a:ext cx="72720" cy="92160"/>
              <a:chOff x="5851440" y="2944800"/>
              <a:chExt cx="72720" cy="92160"/>
            </a:xfrm>
          </p:grpSpPr>
          <p:sp>
            <p:nvSpPr>
              <p:cNvPr id="4197" name=""/>
              <p:cNvSpPr/>
              <p:nvPr/>
            </p:nvSpPr>
            <p:spPr>
              <a:xfrm>
                <a:off x="5851440" y="2944800"/>
                <a:ext cx="7272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5851440" y="294480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9" name=""/>
            <p:cNvGrpSpPr/>
            <p:nvPr/>
          </p:nvGrpSpPr>
          <p:grpSpPr>
            <a:xfrm>
              <a:off x="5906880" y="3000600"/>
              <a:ext cx="71280" cy="73080"/>
              <a:chOff x="5906880" y="3000600"/>
              <a:chExt cx="71280" cy="73080"/>
            </a:xfrm>
          </p:grpSpPr>
          <p:sp>
            <p:nvSpPr>
              <p:cNvPr id="4200" name=""/>
              <p:cNvSpPr/>
              <p:nvPr/>
            </p:nvSpPr>
            <p:spPr>
              <a:xfrm>
                <a:off x="5906880" y="300060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5906880" y="30006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2" name=""/>
            <p:cNvGrpSpPr/>
            <p:nvPr/>
          </p:nvGrpSpPr>
          <p:grpSpPr>
            <a:xfrm>
              <a:off x="5943240" y="3017880"/>
              <a:ext cx="90720" cy="92160"/>
              <a:chOff x="5943240" y="3017880"/>
              <a:chExt cx="90720" cy="92160"/>
            </a:xfrm>
          </p:grpSpPr>
          <p:sp>
            <p:nvSpPr>
              <p:cNvPr id="4203" name=""/>
              <p:cNvSpPr/>
              <p:nvPr/>
            </p:nvSpPr>
            <p:spPr>
              <a:xfrm>
                <a:off x="5943240" y="301788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2" y="1"/>
                      <a:pt x="1" y="2"/>
                    </a:cubicBezTo>
                    <a:cubicBezTo>
                      <a:pt x="0" y="2"/>
                      <a:pt x="1" y="4"/>
                      <a:pt x="1" y="4"/>
                    </a:cubicBezTo>
                    <a:cubicBezTo>
                      <a:pt x="2" y="5"/>
                      <a:pt x="4" y="5"/>
                      <a:pt x="4" y="4"/>
                    </a:cubicBezTo>
                    <a:cubicBezTo>
                      <a:pt x="5" y="3"/>
                      <a:pt x="4" y="2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5943240" y="3017880"/>
                <a:ext cx="54000" cy="55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3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5" name=""/>
            <p:cNvGrpSpPr/>
            <p:nvPr/>
          </p:nvGrpSpPr>
          <p:grpSpPr>
            <a:xfrm>
              <a:off x="5997240" y="3054600"/>
              <a:ext cx="73080" cy="92160"/>
              <a:chOff x="5997240" y="3054600"/>
              <a:chExt cx="73080" cy="92160"/>
            </a:xfrm>
          </p:grpSpPr>
          <p:sp>
            <p:nvSpPr>
              <p:cNvPr id="4206" name=""/>
              <p:cNvSpPr/>
              <p:nvPr/>
            </p:nvSpPr>
            <p:spPr>
              <a:xfrm>
                <a:off x="5997240" y="3054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3" y="0"/>
                      <a:pt x="1" y="1"/>
                      <a:pt x="1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997240" y="305460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8" name=""/>
            <p:cNvGrpSpPr/>
            <p:nvPr/>
          </p:nvGrpSpPr>
          <p:grpSpPr>
            <a:xfrm>
              <a:off x="6051240" y="3090960"/>
              <a:ext cx="73080" cy="92160"/>
              <a:chOff x="6051240" y="3090960"/>
              <a:chExt cx="73080" cy="92160"/>
            </a:xfrm>
          </p:grpSpPr>
          <p:sp>
            <p:nvSpPr>
              <p:cNvPr id="4209" name=""/>
              <p:cNvSpPr/>
              <p:nvPr/>
            </p:nvSpPr>
            <p:spPr>
              <a:xfrm>
                <a:off x="6051240" y="309096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6051240" y="309096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1" name=""/>
            <p:cNvGrpSpPr/>
            <p:nvPr/>
          </p:nvGrpSpPr>
          <p:grpSpPr>
            <a:xfrm>
              <a:off x="6106680" y="3127680"/>
              <a:ext cx="73080" cy="91800"/>
              <a:chOff x="6106680" y="3127680"/>
              <a:chExt cx="73080" cy="91800"/>
            </a:xfrm>
          </p:grpSpPr>
          <p:sp>
            <p:nvSpPr>
              <p:cNvPr id="4212" name=""/>
              <p:cNvSpPr/>
              <p:nvPr/>
            </p:nvSpPr>
            <p:spPr>
              <a:xfrm>
                <a:off x="6106680" y="3127680"/>
                <a:ext cx="73080" cy="9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6106680" y="312768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4" name=""/>
            <p:cNvGrpSpPr/>
            <p:nvPr/>
          </p:nvGrpSpPr>
          <p:grpSpPr>
            <a:xfrm>
              <a:off x="6160680" y="3164040"/>
              <a:ext cx="73080" cy="92160"/>
              <a:chOff x="6160680" y="3164040"/>
              <a:chExt cx="73080" cy="92160"/>
            </a:xfrm>
          </p:grpSpPr>
          <p:sp>
            <p:nvSpPr>
              <p:cNvPr id="4215" name=""/>
              <p:cNvSpPr/>
              <p:nvPr/>
            </p:nvSpPr>
            <p:spPr>
              <a:xfrm>
                <a:off x="6160680" y="316404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6160680" y="316404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7" name=""/>
            <p:cNvGrpSpPr/>
            <p:nvPr/>
          </p:nvGrpSpPr>
          <p:grpSpPr>
            <a:xfrm>
              <a:off x="6216480" y="3200400"/>
              <a:ext cx="71280" cy="92160"/>
              <a:chOff x="6216480" y="3200400"/>
              <a:chExt cx="71280" cy="92160"/>
            </a:xfrm>
          </p:grpSpPr>
          <p:sp>
            <p:nvSpPr>
              <p:cNvPr id="4218" name=""/>
              <p:cNvSpPr/>
              <p:nvPr/>
            </p:nvSpPr>
            <p:spPr>
              <a:xfrm>
                <a:off x="6216480" y="3200400"/>
                <a:ext cx="7128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216480" y="320040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0" name=""/>
            <p:cNvGrpSpPr/>
            <p:nvPr/>
          </p:nvGrpSpPr>
          <p:grpSpPr>
            <a:xfrm>
              <a:off x="6270480" y="3237120"/>
              <a:ext cx="73080" cy="92160"/>
              <a:chOff x="6270480" y="3237120"/>
              <a:chExt cx="73080" cy="92160"/>
            </a:xfrm>
          </p:grpSpPr>
          <p:sp>
            <p:nvSpPr>
              <p:cNvPr id="4221" name=""/>
              <p:cNvSpPr/>
              <p:nvPr/>
            </p:nvSpPr>
            <p:spPr>
              <a:xfrm>
                <a:off x="6270480" y="323712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1" y="5"/>
                      <a:pt x="3" y="4"/>
                      <a:pt x="3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6270480" y="3237120"/>
                <a:ext cx="36360" cy="55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3" name=""/>
            <p:cNvGrpSpPr/>
            <p:nvPr/>
          </p:nvGrpSpPr>
          <p:grpSpPr>
            <a:xfrm>
              <a:off x="6306840" y="3273480"/>
              <a:ext cx="90360" cy="90720"/>
              <a:chOff x="6306840" y="3273480"/>
              <a:chExt cx="90360" cy="90720"/>
            </a:xfrm>
          </p:grpSpPr>
          <p:sp>
            <p:nvSpPr>
              <p:cNvPr id="4224" name=""/>
              <p:cNvSpPr/>
              <p:nvPr/>
            </p:nvSpPr>
            <p:spPr>
              <a:xfrm>
                <a:off x="6306840" y="327348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1" y="4"/>
                      <a:pt x="1" y="4"/>
                    </a:cubicBezTo>
                    <a:cubicBezTo>
                      <a:pt x="2" y="5"/>
                      <a:pt x="4" y="4"/>
                      <a:pt x="4" y="4"/>
                    </a:cubicBezTo>
                    <a:cubicBezTo>
                      <a:pt x="5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6306840" y="3273480"/>
                <a:ext cx="54000" cy="55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6" name=""/>
            <p:cNvGrpSpPr/>
            <p:nvPr/>
          </p:nvGrpSpPr>
          <p:grpSpPr>
            <a:xfrm>
              <a:off x="6360840" y="3310200"/>
              <a:ext cx="73080" cy="90360"/>
              <a:chOff x="6360840" y="3310200"/>
              <a:chExt cx="73080" cy="90360"/>
            </a:xfrm>
          </p:grpSpPr>
          <p:sp>
            <p:nvSpPr>
              <p:cNvPr id="4227" name=""/>
              <p:cNvSpPr/>
              <p:nvPr/>
            </p:nvSpPr>
            <p:spPr>
              <a:xfrm>
                <a:off x="6360840" y="3310200"/>
                <a:ext cx="7308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3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6360840" y="331020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9" name=""/>
            <p:cNvGrpSpPr/>
            <p:nvPr/>
          </p:nvGrpSpPr>
          <p:grpSpPr>
            <a:xfrm>
              <a:off x="6416280" y="3346560"/>
              <a:ext cx="73080" cy="90360"/>
              <a:chOff x="6416280" y="3346560"/>
              <a:chExt cx="73080" cy="90360"/>
            </a:xfrm>
          </p:grpSpPr>
          <p:sp>
            <p:nvSpPr>
              <p:cNvPr id="4230" name=""/>
              <p:cNvSpPr/>
              <p:nvPr/>
            </p:nvSpPr>
            <p:spPr>
              <a:xfrm>
                <a:off x="6416280" y="3346560"/>
                <a:ext cx="7308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6416280" y="3346560"/>
                <a:ext cx="3672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32" name=""/>
            <p:cNvGrpSpPr/>
            <p:nvPr/>
          </p:nvGrpSpPr>
          <p:grpSpPr>
            <a:xfrm>
              <a:off x="6470280" y="3383280"/>
              <a:ext cx="73080" cy="72720"/>
              <a:chOff x="6470280" y="3383280"/>
              <a:chExt cx="73080" cy="72720"/>
            </a:xfrm>
          </p:grpSpPr>
          <p:sp>
            <p:nvSpPr>
              <p:cNvPr id="4233" name=""/>
              <p:cNvSpPr/>
              <p:nvPr/>
            </p:nvSpPr>
            <p:spPr>
              <a:xfrm>
                <a:off x="6470280" y="338328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6470280" y="338328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5" name=""/>
          <p:cNvSpPr/>
          <p:nvPr/>
        </p:nvSpPr>
        <p:spPr>
          <a:xfrm>
            <a:off x="5780160" y="2963880"/>
            <a:ext cx="763560" cy="565200"/>
          </a:xfrm>
          <a:custGeom>
            <a:avLst/>
            <a:gdLst/>
            <a:ahLst/>
            <a:rect l="l" t="t" r="r" b="b"/>
            <a:pathLst>
              <a:path w="482" h="356">
                <a:moveTo>
                  <a:pt x="459" y="356"/>
                </a:moveTo>
                <a:lnTo>
                  <a:pt x="482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6" name=""/>
          <p:cNvGrpSpPr/>
          <p:nvPr/>
        </p:nvGrpSpPr>
        <p:grpSpPr>
          <a:xfrm>
            <a:off x="5961240" y="2690640"/>
            <a:ext cx="747000" cy="546120"/>
            <a:chOff x="5961240" y="2690640"/>
            <a:chExt cx="747000" cy="546120"/>
          </a:xfrm>
        </p:grpSpPr>
        <p:grpSp>
          <p:nvGrpSpPr>
            <p:cNvPr id="4237" name=""/>
            <p:cNvGrpSpPr/>
            <p:nvPr/>
          </p:nvGrpSpPr>
          <p:grpSpPr>
            <a:xfrm>
              <a:off x="5961240" y="2690640"/>
              <a:ext cx="73080" cy="71280"/>
              <a:chOff x="5961240" y="2690640"/>
              <a:chExt cx="73080" cy="71280"/>
            </a:xfrm>
          </p:grpSpPr>
          <p:sp>
            <p:nvSpPr>
              <p:cNvPr id="4238" name=""/>
              <p:cNvSpPr/>
              <p:nvPr/>
            </p:nvSpPr>
            <p:spPr>
              <a:xfrm>
                <a:off x="5961240" y="269064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5961240" y="269064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0" name=""/>
            <p:cNvGrpSpPr/>
            <p:nvPr/>
          </p:nvGrpSpPr>
          <p:grpSpPr>
            <a:xfrm>
              <a:off x="6015240" y="2727000"/>
              <a:ext cx="73080" cy="71640"/>
              <a:chOff x="6015240" y="2727000"/>
              <a:chExt cx="73080" cy="71640"/>
            </a:xfrm>
          </p:grpSpPr>
          <p:sp>
            <p:nvSpPr>
              <p:cNvPr id="4241" name=""/>
              <p:cNvSpPr/>
              <p:nvPr/>
            </p:nvSpPr>
            <p:spPr>
              <a:xfrm>
                <a:off x="6015240" y="272700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015240" y="272700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3" name=""/>
            <p:cNvGrpSpPr/>
            <p:nvPr/>
          </p:nvGrpSpPr>
          <p:grpSpPr>
            <a:xfrm>
              <a:off x="6070680" y="2761920"/>
              <a:ext cx="73080" cy="73080"/>
              <a:chOff x="6070680" y="2761920"/>
              <a:chExt cx="73080" cy="73080"/>
            </a:xfrm>
          </p:grpSpPr>
          <p:sp>
            <p:nvSpPr>
              <p:cNvPr id="4244" name=""/>
              <p:cNvSpPr/>
              <p:nvPr/>
            </p:nvSpPr>
            <p:spPr>
              <a:xfrm>
                <a:off x="6070680" y="27619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070680" y="276192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6" name=""/>
            <p:cNvGrpSpPr/>
            <p:nvPr/>
          </p:nvGrpSpPr>
          <p:grpSpPr>
            <a:xfrm>
              <a:off x="6107040" y="2798640"/>
              <a:ext cx="90720" cy="73080"/>
              <a:chOff x="6107040" y="2798640"/>
              <a:chExt cx="90720" cy="73080"/>
            </a:xfrm>
          </p:grpSpPr>
          <p:sp>
            <p:nvSpPr>
              <p:cNvPr id="4247" name=""/>
              <p:cNvSpPr/>
              <p:nvPr/>
            </p:nvSpPr>
            <p:spPr>
              <a:xfrm>
                <a:off x="6107040" y="2798640"/>
                <a:ext cx="9072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6107040" y="279864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9" name=""/>
            <p:cNvGrpSpPr/>
            <p:nvPr/>
          </p:nvGrpSpPr>
          <p:grpSpPr>
            <a:xfrm>
              <a:off x="6161400" y="2835000"/>
              <a:ext cx="73080" cy="73080"/>
              <a:chOff x="6161400" y="2835000"/>
              <a:chExt cx="73080" cy="73080"/>
            </a:xfrm>
          </p:grpSpPr>
          <p:sp>
            <p:nvSpPr>
              <p:cNvPr id="4250" name=""/>
              <p:cNvSpPr/>
              <p:nvPr/>
            </p:nvSpPr>
            <p:spPr>
              <a:xfrm>
                <a:off x="6161400" y="28350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6161400" y="283500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2" name=""/>
            <p:cNvGrpSpPr/>
            <p:nvPr/>
          </p:nvGrpSpPr>
          <p:grpSpPr>
            <a:xfrm>
              <a:off x="6217200" y="2871720"/>
              <a:ext cx="71280" cy="72720"/>
              <a:chOff x="6217200" y="2871720"/>
              <a:chExt cx="71280" cy="72720"/>
            </a:xfrm>
          </p:grpSpPr>
          <p:sp>
            <p:nvSpPr>
              <p:cNvPr id="4253" name=""/>
              <p:cNvSpPr/>
              <p:nvPr/>
            </p:nvSpPr>
            <p:spPr>
              <a:xfrm>
                <a:off x="6217200" y="2871720"/>
                <a:ext cx="712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6217200" y="28717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5" name=""/>
            <p:cNvGrpSpPr/>
            <p:nvPr/>
          </p:nvGrpSpPr>
          <p:grpSpPr>
            <a:xfrm>
              <a:off x="6271200" y="2908080"/>
              <a:ext cx="73080" cy="73080"/>
              <a:chOff x="6271200" y="2908080"/>
              <a:chExt cx="73080" cy="73080"/>
            </a:xfrm>
          </p:grpSpPr>
          <p:sp>
            <p:nvSpPr>
              <p:cNvPr id="4256" name=""/>
              <p:cNvSpPr/>
              <p:nvPr/>
            </p:nvSpPr>
            <p:spPr>
              <a:xfrm>
                <a:off x="6271200" y="29080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271200" y="29080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8" name=""/>
            <p:cNvGrpSpPr/>
            <p:nvPr/>
          </p:nvGrpSpPr>
          <p:grpSpPr>
            <a:xfrm>
              <a:off x="6325200" y="2944440"/>
              <a:ext cx="72720" cy="73080"/>
              <a:chOff x="6325200" y="2944440"/>
              <a:chExt cx="72720" cy="73080"/>
            </a:xfrm>
          </p:grpSpPr>
          <p:sp>
            <p:nvSpPr>
              <p:cNvPr id="4259" name=""/>
              <p:cNvSpPr/>
              <p:nvPr/>
            </p:nvSpPr>
            <p:spPr>
              <a:xfrm>
                <a:off x="6325200" y="2944440"/>
                <a:ext cx="7272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325200" y="294444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1" name=""/>
            <p:cNvGrpSpPr/>
            <p:nvPr/>
          </p:nvGrpSpPr>
          <p:grpSpPr>
            <a:xfrm>
              <a:off x="6381000" y="2981160"/>
              <a:ext cx="73080" cy="73080"/>
              <a:chOff x="6381000" y="2981160"/>
              <a:chExt cx="73080" cy="73080"/>
            </a:xfrm>
          </p:grpSpPr>
          <p:sp>
            <p:nvSpPr>
              <p:cNvPr id="4262" name=""/>
              <p:cNvSpPr/>
              <p:nvPr/>
            </p:nvSpPr>
            <p:spPr>
              <a:xfrm>
                <a:off x="6381000" y="298116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6381000" y="298116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4" name=""/>
            <p:cNvGrpSpPr/>
            <p:nvPr/>
          </p:nvGrpSpPr>
          <p:grpSpPr>
            <a:xfrm>
              <a:off x="6435000" y="3017520"/>
              <a:ext cx="73080" cy="73080"/>
              <a:chOff x="6435000" y="3017520"/>
              <a:chExt cx="73080" cy="73080"/>
            </a:xfrm>
          </p:grpSpPr>
          <p:sp>
            <p:nvSpPr>
              <p:cNvPr id="4265" name=""/>
              <p:cNvSpPr/>
              <p:nvPr/>
            </p:nvSpPr>
            <p:spPr>
              <a:xfrm>
                <a:off x="6435000" y="30175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435000" y="301752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7" name=""/>
            <p:cNvGrpSpPr/>
            <p:nvPr/>
          </p:nvGrpSpPr>
          <p:grpSpPr>
            <a:xfrm>
              <a:off x="6471360" y="3054240"/>
              <a:ext cx="92160" cy="73080"/>
              <a:chOff x="6471360" y="3054240"/>
              <a:chExt cx="92160" cy="73080"/>
            </a:xfrm>
          </p:grpSpPr>
          <p:sp>
            <p:nvSpPr>
              <p:cNvPr id="4268" name=""/>
              <p:cNvSpPr/>
              <p:nvPr/>
            </p:nvSpPr>
            <p:spPr>
              <a:xfrm>
                <a:off x="6471360" y="3054240"/>
                <a:ext cx="921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6471360" y="3054240"/>
                <a:ext cx="558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0" name=""/>
            <p:cNvGrpSpPr/>
            <p:nvPr/>
          </p:nvGrpSpPr>
          <p:grpSpPr>
            <a:xfrm>
              <a:off x="6527520" y="3090600"/>
              <a:ext cx="71280" cy="73080"/>
              <a:chOff x="6527520" y="3090600"/>
              <a:chExt cx="71280" cy="73080"/>
            </a:xfrm>
          </p:grpSpPr>
          <p:sp>
            <p:nvSpPr>
              <p:cNvPr id="4271" name=""/>
              <p:cNvSpPr/>
              <p:nvPr/>
            </p:nvSpPr>
            <p:spPr>
              <a:xfrm>
                <a:off x="6527520" y="309060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6527520" y="309060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3" name=""/>
            <p:cNvGrpSpPr/>
            <p:nvPr/>
          </p:nvGrpSpPr>
          <p:grpSpPr>
            <a:xfrm>
              <a:off x="6581520" y="3127320"/>
              <a:ext cx="72720" cy="72720"/>
              <a:chOff x="6581520" y="3127320"/>
              <a:chExt cx="72720" cy="72720"/>
            </a:xfrm>
          </p:grpSpPr>
          <p:sp>
            <p:nvSpPr>
              <p:cNvPr id="4274" name=""/>
              <p:cNvSpPr/>
              <p:nvPr/>
            </p:nvSpPr>
            <p:spPr>
              <a:xfrm>
                <a:off x="6581520" y="312732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6581520" y="31273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6" name=""/>
            <p:cNvGrpSpPr/>
            <p:nvPr/>
          </p:nvGrpSpPr>
          <p:grpSpPr>
            <a:xfrm>
              <a:off x="6635160" y="3163680"/>
              <a:ext cx="73080" cy="73080"/>
              <a:chOff x="6635160" y="3163680"/>
              <a:chExt cx="73080" cy="73080"/>
            </a:xfrm>
          </p:grpSpPr>
          <p:sp>
            <p:nvSpPr>
              <p:cNvPr id="4277" name=""/>
              <p:cNvSpPr/>
              <p:nvPr/>
            </p:nvSpPr>
            <p:spPr>
              <a:xfrm>
                <a:off x="6635160" y="31636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635160" y="316368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9" name=""/>
          <p:cNvSpPr/>
          <p:nvPr/>
        </p:nvSpPr>
        <p:spPr>
          <a:xfrm>
            <a:off x="5943600" y="2727360"/>
            <a:ext cx="765000" cy="582480"/>
          </a:xfrm>
          <a:custGeom>
            <a:avLst/>
            <a:gdLst/>
            <a:ahLst/>
            <a:rect l="l" t="t" r="r" b="b"/>
            <a:pathLst>
              <a:path w="481" h="367">
                <a:moveTo>
                  <a:pt x="458" y="367"/>
                </a:moveTo>
                <a:lnTo>
                  <a:pt x="481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0" name=""/>
          <p:cNvGrpSpPr/>
          <p:nvPr/>
        </p:nvGrpSpPr>
        <p:grpSpPr>
          <a:xfrm>
            <a:off x="5415120" y="3456000"/>
            <a:ext cx="745920" cy="546120"/>
            <a:chOff x="5415120" y="3456000"/>
            <a:chExt cx="745920" cy="546120"/>
          </a:xfrm>
        </p:grpSpPr>
        <p:grpSp>
          <p:nvGrpSpPr>
            <p:cNvPr id="4281" name=""/>
            <p:cNvGrpSpPr/>
            <p:nvPr/>
          </p:nvGrpSpPr>
          <p:grpSpPr>
            <a:xfrm>
              <a:off x="5415120" y="3456000"/>
              <a:ext cx="73080" cy="73080"/>
              <a:chOff x="5415120" y="3456000"/>
              <a:chExt cx="73080" cy="73080"/>
            </a:xfrm>
          </p:grpSpPr>
          <p:sp>
            <p:nvSpPr>
              <p:cNvPr id="4282" name=""/>
              <p:cNvSpPr/>
              <p:nvPr/>
            </p:nvSpPr>
            <p:spPr>
              <a:xfrm>
                <a:off x="5415120" y="34560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5415120" y="345600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4" name=""/>
            <p:cNvGrpSpPr/>
            <p:nvPr/>
          </p:nvGrpSpPr>
          <p:grpSpPr>
            <a:xfrm>
              <a:off x="5469120" y="3492720"/>
              <a:ext cx="73080" cy="73080"/>
              <a:chOff x="5469120" y="3492720"/>
              <a:chExt cx="73080" cy="73080"/>
            </a:xfrm>
          </p:grpSpPr>
          <p:sp>
            <p:nvSpPr>
              <p:cNvPr id="4285" name=""/>
              <p:cNvSpPr/>
              <p:nvPr/>
            </p:nvSpPr>
            <p:spPr>
              <a:xfrm>
                <a:off x="5469120" y="34927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469120" y="34927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7" name=""/>
            <p:cNvGrpSpPr/>
            <p:nvPr/>
          </p:nvGrpSpPr>
          <p:grpSpPr>
            <a:xfrm>
              <a:off x="5524560" y="3529080"/>
              <a:ext cx="73080" cy="73080"/>
              <a:chOff x="5524560" y="3529080"/>
              <a:chExt cx="73080" cy="73080"/>
            </a:xfrm>
          </p:grpSpPr>
          <p:sp>
            <p:nvSpPr>
              <p:cNvPr id="4288" name=""/>
              <p:cNvSpPr/>
              <p:nvPr/>
            </p:nvSpPr>
            <p:spPr>
              <a:xfrm>
                <a:off x="5524560" y="35290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5524560" y="352908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90" name=""/>
            <p:cNvGrpSpPr/>
            <p:nvPr/>
          </p:nvGrpSpPr>
          <p:grpSpPr>
            <a:xfrm>
              <a:off x="5578560" y="3565800"/>
              <a:ext cx="73080" cy="73080"/>
              <a:chOff x="5578560" y="3565800"/>
              <a:chExt cx="73080" cy="73080"/>
            </a:xfrm>
          </p:grpSpPr>
          <p:sp>
            <p:nvSpPr>
              <p:cNvPr id="4291" name=""/>
              <p:cNvSpPr/>
              <p:nvPr/>
            </p:nvSpPr>
            <p:spPr>
              <a:xfrm>
                <a:off x="5578560" y="35658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5578560" y="35658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93" name=""/>
            <p:cNvGrpSpPr/>
            <p:nvPr/>
          </p:nvGrpSpPr>
          <p:grpSpPr>
            <a:xfrm>
              <a:off x="5614920" y="3602160"/>
              <a:ext cx="90720" cy="73080"/>
              <a:chOff x="5614920" y="3602160"/>
              <a:chExt cx="90720" cy="73080"/>
            </a:xfrm>
          </p:grpSpPr>
          <p:sp>
            <p:nvSpPr>
              <p:cNvPr id="4294" name=""/>
              <p:cNvSpPr/>
              <p:nvPr/>
            </p:nvSpPr>
            <p:spPr>
              <a:xfrm>
                <a:off x="5614920" y="3602160"/>
                <a:ext cx="9072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5614920" y="360216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96" name=""/>
            <p:cNvGrpSpPr/>
            <p:nvPr/>
          </p:nvGrpSpPr>
          <p:grpSpPr>
            <a:xfrm>
              <a:off x="5668920" y="3638880"/>
              <a:ext cx="92160" cy="72720"/>
              <a:chOff x="5668920" y="3638880"/>
              <a:chExt cx="92160" cy="72720"/>
            </a:xfrm>
          </p:grpSpPr>
          <p:sp>
            <p:nvSpPr>
              <p:cNvPr id="4297" name=""/>
              <p:cNvSpPr/>
              <p:nvPr/>
            </p:nvSpPr>
            <p:spPr>
              <a:xfrm>
                <a:off x="5668920" y="3638880"/>
                <a:ext cx="92160" cy="72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5668920" y="3638880"/>
                <a:ext cx="558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99" name=""/>
            <p:cNvGrpSpPr/>
            <p:nvPr/>
          </p:nvGrpSpPr>
          <p:grpSpPr>
            <a:xfrm>
              <a:off x="5724720" y="3675240"/>
              <a:ext cx="73080" cy="73080"/>
              <a:chOff x="5724720" y="3675240"/>
              <a:chExt cx="73080" cy="73080"/>
            </a:xfrm>
          </p:grpSpPr>
          <p:sp>
            <p:nvSpPr>
              <p:cNvPr id="4300" name=""/>
              <p:cNvSpPr/>
              <p:nvPr/>
            </p:nvSpPr>
            <p:spPr>
              <a:xfrm>
                <a:off x="5724720" y="3675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5724720" y="367524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2" name=""/>
            <p:cNvGrpSpPr/>
            <p:nvPr/>
          </p:nvGrpSpPr>
          <p:grpSpPr>
            <a:xfrm>
              <a:off x="5778720" y="3711600"/>
              <a:ext cx="73080" cy="73080"/>
              <a:chOff x="5778720" y="3711600"/>
              <a:chExt cx="73080" cy="73080"/>
            </a:xfrm>
          </p:grpSpPr>
          <p:sp>
            <p:nvSpPr>
              <p:cNvPr id="4303" name=""/>
              <p:cNvSpPr/>
              <p:nvPr/>
            </p:nvSpPr>
            <p:spPr>
              <a:xfrm>
                <a:off x="5778720" y="3711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778720" y="371160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5" name=""/>
            <p:cNvGrpSpPr/>
            <p:nvPr/>
          </p:nvGrpSpPr>
          <p:grpSpPr>
            <a:xfrm>
              <a:off x="5834160" y="3748320"/>
              <a:ext cx="73080" cy="73080"/>
              <a:chOff x="5834160" y="3748320"/>
              <a:chExt cx="73080" cy="73080"/>
            </a:xfrm>
          </p:grpSpPr>
          <p:sp>
            <p:nvSpPr>
              <p:cNvPr id="4306" name=""/>
              <p:cNvSpPr/>
              <p:nvPr/>
            </p:nvSpPr>
            <p:spPr>
              <a:xfrm>
                <a:off x="5834160" y="37483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5834160" y="37483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8" name=""/>
            <p:cNvGrpSpPr/>
            <p:nvPr/>
          </p:nvGrpSpPr>
          <p:grpSpPr>
            <a:xfrm>
              <a:off x="5888160" y="3784680"/>
              <a:ext cx="73080" cy="73080"/>
              <a:chOff x="5888160" y="3784680"/>
              <a:chExt cx="73080" cy="73080"/>
            </a:xfrm>
          </p:grpSpPr>
          <p:sp>
            <p:nvSpPr>
              <p:cNvPr id="4309" name=""/>
              <p:cNvSpPr/>
              <p:nvPr/>
            </p:nvSpPr>
            <p:spPr>
              <a:xfrm>
                <a:off x="5888160" y="37846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888160" y="378468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11" name=""/>
            <p:cNvGrpSpPr/>
            <p:nvPr/>
          </p:nvGrpSpPr>
          <p:grpSpPr>
            <a:xfrm>
              <a:off x="5943600" y="3821400"/>
              <a:ext cx="71640" cy="72720"/>
              <a:chOff x="5943600" y="3821400"/>
              <a:chExt cx="71640" cy="72720"/>
            </a:xfrm>
          </p:grpSpPr>
          <p:sp>
            <p:nvSpPr>
              <p:cNvPr id="4312" name=""/>
              <p:cNvSpPr/>
              <p:nvPr/>
            </p:nvSpPr>
            <p:spPr>
              <a:xfrm>
                <a:off x="5943600" y="3821400"/>
                <a:ext cx="7164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943600" y="38214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14" name=""/>
            <p:cNvGrpSpPr/>
            <p:nvPr/>
          </p:nvGrpSpPr>
          <p:grpSpPr>
            <a:xfrm>
              <a:off x="5978520" y="3857760"/>
              <a:ext cx="92160" cy="71640"/>
              <a:chOff x="5978520" y="3857760"/>
              <a:chExt cx="92160" cy="71640"/>
            </a:xfrm>
          </p:grpSpPr>
          <p:sp>
            <p:nvSpPr>
              <p:cNvPr id="4315" name=""/>
              <p:cNvSpPr/>
              <p:nvPr/>
            </p:nvSpPr>
            <p:spPr>
              <a:xfrm>
                <a:off x="5978520" y="3857760"/>
                <a:ext cx="92160" cy="716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5978520" y="3857760"/>
                <a:ext cx="558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17" name=""/>
            <p:cNvGrpSpPr/>
            <p:nvPr/>
          </p:nvGrpSpPr>
          <p:grpSpPr>
            <a:xfrm>
              <a:off x="6034320" y="3894120"/>
              <a:ext cx="90360" cy="71640"/>
              <a:chOff x="6034320" y="3894120"/>
              <a:chExt cx="90360" cy="71640"/>
            </a:xfrm>
          </p:grpSpPr>
          <p:sp>
            <p:nvSpPr>
              <p:cNvPr id="4318" name=""/>
              <p:cNvSpPr/>
              <p:nvPr/>
            </p:nvSpPr>
            <p:spPr>
              <a:xfrm>
                <a:off x="6034320" y="3894120"/>
                <a:ext cx="90360" cy="716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6034320" y="3894120"/>
                <a:ext cx="54000" cy="352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20" name=""/>
            <p:cNvGrpSpPr/>
            <p:nvPr/>
          </p:nvGrpSpPr>
          <p:grpSpPr>
            <a:xfrm>
              <a:off x="6088320" y="3929400"/>
              <a:ext cx="72720" cy="72720"/>
              <a:chOff x="6088320" y="3929400"/>
              <a:chExt cx="72720" cy="72720"/>
            </a:xfrm>
          </p:grpSpPr>
          <p:sp>
            <p:nvSpPr>
              <p:cNvPr id="4321" name=""/>
              <p:cNvSpPr/>
              <p:nvPr/>
            </p:nvSpPr>
            <p:spPr>
              <a:xfrm>
                <a:off x="6088320" y="392940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6088320" y="3929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3" name=""/>
          <p:cNvSpPr/>
          <p:nvPr/>
        </p:nvSpPr>
        <p:spPr>
          <a:xfrm>
            <a:off x="5396040" y="3510000"/>
            <a:ext cx="765000" cy="565200"/>
          </a:xfrm>
          <a:custGeom>
            <a:avLst/>
            <a:gdLst/>
            <a:ahLst/>
            <a:rect l="l" t="t" r="r" b="b"/>
            <a:pathLst>
              <a:path w="482" h="356">
                <a:moveTo>
                  <a:pt x="459" y="356"/>
                </a:moveTo>
                <a:lnTo>
                  <a:pt x="482" y="322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4" name=""/>
          <p:cNvGrpSpPr/>
          <p:nvPr/>
        </p:nvGrpSpPr>
        <p:grpSpPr>
          <a:xfrm>
            <a:off x="5580000" y="3219480"/>
            <a:ext cx="746280" cy="546120"/>
            <a:chOff x="5580000" y="3219480"/>
            <a:chExt cx="746280" cy="546120"/>
          </a:xfrm>
        </p:grpSpPr>
        <p:grpSp>
          <p:nvGrpSpPr>
            <p:cNvPr id="4325" name=""/>
            <p:cNvGrpSpPr/>
            <p:nvPr/>
          </p:nvGrpSpPr>
          <p:grpSpPr>
            <a:xfrm>
              <a:off x="5580000" y="3219480"/>
              <a:ext cx="73080" cy="90720"/>
              <a:chOff x="5580000" y="3219480"/>
              <a:chExt cx="73080" cy="90720"/>
            </a:xfrm>
          </p:grpSpPr>
          <p:sp>
            <p:nvSpPr>
              <p:cNvPr id="4326" name=""/>
              <p:cNvSpPr/>
              <p:nvPr/>
            </p:nvSpPr>
            <p:spPr>
              <a:xfrm>
                <a:off x="5580000" y="3219480"/>
                <a:ext cx="73080" cy="90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5580000" y="321948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28" name=""/>
            <p:cNvGrpSpPr/>
            <p:nvPr/>
          </p:nvGrpSpPr>
          <p:grpSpPr>
            <a:xfrm>
              <a:off x="5634000" y="3256200"/>
              <a:ext cx="73080" cy="90360"/>
              <a:chOff x="5634000" y="3256200"/>
              <a:chExt cx="73080" cy="90360"/>
            </a:xfrm>
          </p:grpSpPr>
          <p:sp>
            <p:nvSpPr>
              <p:cNvPr id="4329" name=""/>
              <p:cNvSpPr/>
              <p:nvPr/>
            </p:nvSpPr>
            <p:spPr>
              <a:xfrm>
                <a:off x="5634000" y="3256200"/>
                <a:ext cx="7308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5634000" y="325620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31" name=""/>
            <p:cNvGrpSpPr/>
            <p:nvPr/>
          </p:nvGrpSpPr>
          <p:grpSpPr>
            <a:xfrm>
              <a:off x="5689440" y="3292560"/>
              <a:ext cx="73080" cy="90720"/>
              <a:chOff x="5689440" y="3292560"/>
              <a:chExt cx="73080" cy="90720"/>
            </a:xfrm>
          </p:grpSpPr>
          <p:sp>
            <p:nvSpPr>
              <p:cNvPr id="4332" name=""/>
              <p:cNvSpPr/>
              <p:nvPr/>
            </p:nvSpPr>
            <p:spPr>
              <a:xfrm>
                <a:off x="5689440" y="3292560"/>
                <a:ext cx="73080" cy="90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5689440" y="3292560"/>
                <a:ext cx="3672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34" name=""/>
            <p:cNvGrpSpPr/>
            <p:nvPr/>
          </p:nvGrpSpPr>
          <p:grpSpPr>
            <a:xfrm>
              <a:off x="5726160" y="3329280"/>
              <a:ext cx="90360" cy="90360"/>
              <a:chOff x="5726160" y="3329280"/>
              <a:chExt cx="90360" cy="90360"/>
            </a:xfrm>
          </p:grpSpPr>
          <p:sp>
            <p:nvSpPr>
              <p:cNvPr id="4335" name=""/>
              <p:cNvSpPr/>
              <p:nvPr/>
            </p:nvSpPr>
            <p:spPr>
              <a:xfrm>
                <a:off x="5726160" y="33292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2" y="4"/>
                    </a:cubicBezTo>
                    <a:cubicBezTo>
                      <a:pt x="2" y="5"/>
                      <a:pt x="4" y="4"/>
                      <a:pt x="4" y="3"/>
                    </a:cubicBezTo>
                    <a:cubicBezTo>
                      <a:pt x="5" y="3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5726160" y="332928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37" name=""/>
            <p:cNvGrpSpPr/>
            <p:nvPr/>
          </p:nvGrpSpPr>
          <p:grpSpPr>
            <a:xfrm>
              <a:off x="5780160" y="3364200"/>
              <a:ext cx="91800" cy="91800"/>
              <a:chOff x="5780160" y="3364200"/>
              <a:chExt cx="91800" cy="91800"/>
            </a:xfrm>
          </p:grpSpPr>
          <p:sp>
            <p:nvSpPr>
              <p:cNvPr id="4338" name=""/>
              <p:cNvSpPr/>
              <p:nvPr/>
            </p:nvSpPr>
            <p:spPr>
              <a:xfrm>
                <a:off x="5780160" y="336420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1"/>
                    </a:moveTo>
                    <a:cubicBezTo>
                      <a:pt x="3" y="0"/>
                      <a:pt x="1" y="1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5780160" y="336420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0" name=""/>
            <p:cNvGrpSpPr/>
            <p:nvPr/>
          </p:nvGrpSpPr>
          <p:grpSpPr>
            <a:xfrm>
              <a:off x="5835600" y="3400560"/>
              <a:ext cx="73080" cy="73080"/>
              <a:chOff x="5835600" y="3400560"/>
              <a:chExt cx="73080" cy="73080"/>
            </a:xfrm>
          </p:grpSpPr>
          <p:sp>
            <p:nvSpPr>
              <p:cNvPr id="4341" name=""/>
              <p:cNvSpPr/>
              <p:nvPr/>
            </p:nvSpPr>
            <p:spPr>
              <a:xfrm>
                <a:off x="5835600" y="340056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5835600" y="340056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3" name=""/>
            <p:cNvGrpSpPr/>
            <p:nvPr/>
          </p:nvGrpSpPr>
          <p:grpSpPr>
            <a:xfrm>
              <a:off x="5889600" y="3436920"/>
              <a:ext cx="73080" cy="73080"/>
              <a:chOff x="5889600" y="3436920"/>
              <a:chExt cx="73080" cy="73080"/>
            </a:xfrm>
          </p:grpSpPr>
          <p:sp>
            <p:nvSpPr>
              <p:cNvPr id="4344" name=""/>
              <p:cNvSpPr/>
              <p:nvPr/>
            </p:nvSpPr>
            <p:spPr>
              <a:xfrm>
                <a:off x="5889600" y="34369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5889600" y="343692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6" name=""/>
            <p:cNvGrpSpPr/>
            <p:nvPr/>
          </p:nvGrpSpPr>
          <p:grpSpPr>
            <a:xfrm>
              <a:off x="5945040" y="3473640"/>
              <a:ext cx="71640" cy="73080"/>
              <a:chOff x="5945040" y="3473640"/>
              <a:chExt cx="71640" cy="73080"/>
            </a:xfrm>
          </p:grpSpPr>
          <p:sp>
            <p:nvSpPr>
              <p:cNvPr id="4347" name=""/>
              <p:cNvSpPr/>
              <p:nvPr/>
            </p:nvSpPr>
            <p:spPr>
              <a:xfrm>
                <a:off x="5945040" y="34736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5945040" y="34736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9" name=""/>
            <p:cNvGrpSpPr/>
            <p:nvPr/>
          </p:nvGrpSpPr>
          <p:grpSpPr>
            <a:xfrm>
              <a:off x="5999040" y="3510000"/>
              <a:ext cx="73080" cy="73080"/>
              <a:chOff x="5999040" y="3510000"/>
              <a:chExt cx="73080" cy="73080"/>
            </a:xfrm>
          </p:grpSpPr>
          <p:sp>
            <p:nvSpPr>
              <p:cNvPr id="4350" name=""/>
              <p:cNvSpPr/>
              <p:nvPr/>
            </p:nvSpPr>
            <p:spPr>
              <a:xfrm>
                <a:off x="5999040" y="35100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999040" y="351000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2" name=""/>
            <p:cNvGrpSpPr/>
            <p:nvPr/>
          </p:nvGrpSpPr>
          <p:grpSpPr>
            <a:xfrm>
              <a:off x="6053040" y="3546720"/>
              <a:ext cx="73080" cy="73080"/>
              <a:chOff x="6053040" y="3546720"/>
              <a:chExt cx="73080" cy="73080"/>
            </a:xfrm>
          </p:grpSpPr>
          <p:sp>
            <p:nvSpPr>
              <p:cNvPr id="4353" name=""/>
              <p:cNvSpPr/>
              <p:nvPr/>
            </p:nvSpPr>
            <p:spPr>
              <a:xfrm>
                <a:off x="6053040" y="35467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6053040" y="354672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5" name=""/>
            <p:cNvGrpSpPr/>
            <p:nvPr/>
          </p:nvGrpSpPr>
          <p:grpSpPr>
            <a:xfrm>
              <a:off x="6089760" y="3583080"/>
              <a:ext cx="91800" cy="92160"/>
              <a:chOff x="6089760" y="3583080"/>
              <a:chExt cx="91800" cy="92160"/>
            </a:xfrm>
          </p:grpSpPr>
          <p:sp>
            <p:nvSpPr>
              <p:cNvPr id="4356" name=""/>
              <p:cNvSpPr/>
              <p:nvPr/>
            </p:nvSpPr>
            <p:spPr>
              <a:xfrm>
                <a:off x="6089760" y="3583080"/>
                <a:ext cx="91800" cy="9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2" y="4"/>
                    </a:cubicBezTo>
                    <a:cubicBezTo>
                      <a:pt x="2" y="5"/>
                      <a:pt x="4" y="4"/>
                      <a:pt x="4" y="3"/>
                    </a:cubicBezTo>
                    <a:cubicBezTo>
                      <a:pt x="5" y="3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6089760" y="3583080"/>
                <a:ext cx="55440" cy="55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8" name=""/>
            <p:cNvGrpSpPr/>
            <p:nvPr/>
          </p:nvGrpSpPr>
          <p:grpSpPr>
            <a:xfrm>
              <a:off x="6145200" y="3619800"/>
              <a:ext cx="90360" cy="72720"/>
              <a:chOff x="6145200" y="3619800"/>
              <a:chExt cx="90360" cy="72720"/>
            </a:xfrm>
          </p:grpSpPr>
          <p:sp>
            <p:nvSpPr>
              <p:cNvPr id="4359" name=""/>
              <p:cNvSpPr/>
              <p:nvPr/>
            </p:nvSpPr>
            <p:spPr>
              <a:xfrm>
                <a:off x="6145200" y="3619800"/>
                <a:ext cx="90360" cy="72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6145200" y="361980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61" name=""/>
            <p:cNvGrpSpPr/>
            <p:nvPr/>
          </p:nvGrpSpPr>
          <p:grpSpPr>
            <a:xfrm>
              <a:off x="6199200" y="3656160"/>
              <a:ext cx="73080" cy="73080"/>
              <a:chOff x="6199200" y="3656160"/>
              <a:chExt cx="73080" cy="73080"/>
            </a:xfrm>
          </p:grpSpPr>
          <p:sp>
            <p:nvSpPr>
              <p:cNvPr id="4362" name=""/>
              <p:cNvSpPr/>
              <p:nvPr/>
            </p:nvSpPr>
            <p:spPr>
              <a:xfrm>
                <a:off x="6199200" y="365616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6199200" y="365616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64" name=""/>
            <p:cNvGrpSpPr/>
            <p:nvPr/>
          </p:nvGrpSpPr>
          <p:grpSpPr>
            <a:xfrm>
              <a:off x="6254640" y="3692520"/>
              <a:ext cx="71640" cy="73080"/>
              <a:chOff x="6254640" y="3692520"/>
              <a:chExt cx="71640" cy="73080"/>
            </a:xfrm>
          </p:grpSpPr>
          <p:sp>
            <p:nvSpPr>
              <p:cNvPr id="4365" name=""/>
              <p:cNvSpPr/>
              <p:nvPr/>
            </p:nvSpPr>
            <p:spPr>
              <a:xfrm>
                <a:off x="6254640" y="369252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6254640" y="36925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7" name=""/>
          <p:cNvSpPr/>
          <p:nvPr/>
        </p:nvSpPr>
        <p:spPr>
          <a:xfrm>
            <a:off x="5560920" y="3273480"/>
            <a:ext cx="765360" cy="565200"/>
          </a:xfrm>
          <a:custGeom>
            <a:avLst/>
            <a:gdLst/>
            <a:ahLst/>
            <a:rect l="l" t="t" r="r" b="b"/>
            <a:pathLst>
              <a:path w="481" h="356">
                <a:moveTo>
                  <a:pt x="458" y="356"/>
                </a:moveTo>
                <a:lnTo>
                  <a:pt x="481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8" name=""/>
          <p:cNvGrpSpPr/>
          <p:nvPr/>
        </p:nvGrpSpPr>
        <p:grpSpPr>
          <a:xfrm>
            <a:off x="5524560" y="3309840"/>
            <a:ext cx="745560" cy="528480"/>
            <a:chOff x="5524560" y="3309840"/>
            <a:chExt cx="745560" cy="528480"/>
          </a:xfrm>
        </p:grpSpPr>
        <p:grpSp>
          <p:nvGrpSpPr>
            <p:cNvPr id="4369" name=""/>
            <p:cNvGrpSpPr/>
            <p:nvPr/>
          </p:nvGrpSpPr>
          <p:grpSpPr>
            <a:xfrm>
              <a:off x="5524560" y="3309840"/>
              <a:ext cx="72720" cy="73080"/>
              <a:chOff x="5524560" y="3309840"/>
              <a:chExt cx="72720" cy="73080"/>
            </a:xfrm>
          </p:grpSpPr>
          <p:sp>
            <p:nvSpPr>
              <p:cNvPr id="4370" name=""/>
              <p:cNvSpPr/>
              <p:nvPr/>
            </p:nvSpPr>
            <p:spPr>
              <a:xfrm>
                <a:off x="5524560" y="3309840"/>
                <a:ext cx="7272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5524560" y="330984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72" name=""/>
            <p:cNvGrpSpPr/>
            <p:nvPr/>
          </p:nvGrpSpPr>
          <p:grpSpPr>
            <a:xfrm>
              <a:off x="5578200" y="3328920"/>
              <a:ext cx="72720" cy="90360"/>
              <a:chOff x="5578200" y="3328920"/>
              <a:chExt cx="72720" cy="90360"/>
            </a:xfrm>
          </p:grpSpPr>
          <p:sp>
            <p:nvSpPr>
              <p:cNvPr id="4373" name=""/>
              <p:cNvSpPr/>
              <p:nvPr/>
            </p:nvSpPr>
            <p:spPr>
              <a:xfrm>
                <a:off x="5578200" y="332892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4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5578200" y="3328920"/>
                <a:ext cx="3600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75" name=""/>
            <p:cNvGrpSpPr/>
            <p:nvPr/>
          </p:nvGrpSpPr>
          <p:grpSpPr>
            <a:xfrm>
              <a:off x="5632200" y="3382920"/>
              <a:ext cx="72720" cy="72720"/>
              <a:chOff x="5632200" y="3382920"/>
              <a:chExt cx="72720" cy="72720"/>
            </a:xfrm>
          </p:grpSpPr>
          <p:sp>
            <p:nvSpPr>
              <p:cNvPr id="4376" name=""/>
              <p:cNvSpPr/>
              <p:nvPr/>
            </p:nvSpPr>
            <p:spPr>
              <a:xfrm>
                <a:off x="5632200" y="338292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5632200" y="3382920"/>
                <a:ext cx="3600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78" name=""/>
            <p:cNvGrpSpPr/>
            <p:nvPr/>
          </p:nvGrpSpPr>
          <p:grpSpPr>
            <a:xfrm>
              <a:off x="5687640" y="3400200"/>
              <a:ext cx="72720" cy="92160"/>
              <a:chOff x="5687640" y="3400200"/>
              <a:chExt cx="72720" cy="92160"/>
            </a:xfrm>
          </p:grpSpPr>
          <p:sp>
            <p:nvSpPr>
              <p:cNvPr id="4379" name=""/>
              <p:cNvSpPr/>
              <p:nvPr/>
            </p:nvSpPr>
            <p:spPr>
              <a:xfrm>
                <a:off x="5687640" y="3400200"/>
                <a:ext cx="7272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4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5687640" y="3400200"/>
                <a:ext cx="36360" cy="55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1" name=""/>
            <p:cNvGrpSpPr/>
            <p:nvPr/>
          </p:nvGrpSpPr>
          <p:grpSpPr>
            <a:xfrm>
              <a:off x="5724360" y="3436560"/>
              <a:ext cx="90000" cy="92160"/>
              <a:chOff x="5724360" y="3436560"/>
              <a:chExt cx="90000" cy="92160"/>
            </a:xfrm>
          </p:grpSpPr>
          <p:sp>
            <p:nvSpPr>
              <p:cNvPr id="4382" name=""/>
              <p:cNvSpPr/>
              <p:nvPr/>
            </p:nvSpPr>
            <p:spPr>
              <a:xfrm>
                <a:off x="5724360" y="3436560"/>
                <a:ext cx="90000" cy="9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2" y="1"/>
                      <a:pt x="1" y="2"/>
                    </a:cubicBezTo>
                    <a:cubicBezTo>
                      <a:pt x="0" y="2"/>
                      <a:pt x="1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5" y="3"/>
                      <a:pt x="4" y="2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5724360" y="3436560"/>
                <a:ext cx="53640" cy="55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4" name=""/>
            <p:cNvGrpSpPr/>
            <p:nvPr/>
          </p:nvGrpSpPr>
          <p:grpSpPr>
            <a:xfrm>
              <a:off x="5778360" y="3473280"/>
              <a:ext cx="91440" cy="92160"/>
              <a:chOff x="5778360" y="3473280"/>
              <a:chExt cx="91440" cy="92160"/>
            </a:xfrm>
          </p:grpSpPr>
          <p:sp>
            <p:nvSpPr>
              <p:cNvPr id="4385" name=""/>
              <p:cNvSpPr/>
              <p:nvPr/>
            </p:nvSpPr>
            <p:spPr>
              <a:xfrm>
                <a:off x="5778360" y="3473280"/>
                <a:ext cx="91440" cy="9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1"/>
                    </a:moveTo>
                    <a:cubicBezTo>
                      <a:pt x="3" y="0"/>
                      <a:pt x="1" y="1"/>
                      <a:pt x="1" y="1"/>
                    </a:cubicBezTo>
                    <a:cubicBezTo>
                      <a:pt x="0" y="2"/>
                      <a:pt x="1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5778360" y="347328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7" name=""/>
            <p:cNvGrpSpPr/>
            <p:nvPr/>
          </p:nvGrpSpPr>
          <p:grpSpPr>
            <a:xfrm>
              <a:off x="5833800" y="3509640"/>
              <a:ext cx="72720" cy="92160"/>
              <a:chOff x="5833800" y="3509640"/>
              <a:chExt cx="72720" cy="92160"/>
            </a:xfrm>
          </p:grpSpPr>
          <p:sp>
            <p:nvSpPr>
              <p:cNvPr id="4388" name=""/>
              <p:cNvSpPr/>
              <p:nvPr/>
            </p:nvSpPr>
            <p:spPr>
              <a:xfrm>
                <a:off x="5833800" y="3509640"/>
                <a:ext cx="7272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3" y="0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5833800" y="3509640"/>
                <a:ext cx="36000" cy="55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0" name=""/>
            <p:cNvGrpSpPr/>
            <p:nvPr/>
          </p:nvGrpSpPr>
          <p:grpSpPr>
            <a:xfrm>
              <a:off x="5887800" y="3546360"/>
              <a:ext cx="72720" cy="92160"/>
              <a:chOff x="5887800" y="3546360"/>
              <a:chExt cx="72720" cy="92160"/>
            </a:xfrm>
          </p:grpSpPr>
          <p:sp>
            <p:nvSpPr>
              <p:cNvPr id="4391" name=""/>
              <p:cNvSpPr/>
              <p:nvPr/>
            </p:nvSpPr>
            <p:spPr>
              <a:xfrm>
                <a:off x="5887800" y="3546360"/>
                <a:ext cx="7272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5887800" y="3546360"/>
                <a:ext cx="36000" cy="55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3" name=""/>
            <p:cNvGrpSpPr/>
            <p:nvPr/>
          </p:nvGrpSpPr>
          <p:grpSpPr>
            <a:xfrm>
              <a:off x="5943240" y="3582720"/>
              <a:ext cx="71280" cy="92160"/>
              <a:chOff x="5943240" y="3582720"/>
              <a:chExt cx="71280" cy="92160"/>
            </a:xfrm>
          </p:grpSpPr>
          <p:sp>
            <p:nvSpPr>
              <p:cNvPr id="4394" name=""/>
              <p:cNvSpPr/>
              <p:nvPr/>
            </p:nvSpPr>
            <p:spPr>
              <a:xfrm>
                <a:off x="5943240" y="3582720"/>
                <a:ext cx="7128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5943240" y="3582720"/>
                <a:ext cx="34560" cy="55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6" name=""/>
            <p:cNvGrpSpPr/>
            <p:nvPr/>
          </p:nvGrpSpPr>
          <p:grpSpPr>
            <a:xfrm>
              <a:off x="5997240" y="3619440"/>
              <a:ext cx="72720" cy="91800"/>
              <a:chOff x="5997240" y="3619440"/>
              <a:chExt cx="72720" cy="91800"/>
            </a:xfrm>
          </p:grpSpPr>
          <p:sp>
            <p:nvSpPr>
              <p:cNvPr id="4397" name=""/>
              <p:cNvSpPr/>
              <p:nvPr/>
            </p:nvSpPr>
            <p:spPr>
              <a:xfrm>
                <a:off x="5997240" y="3619440"/>
                <a:ext cx="72720" cy="9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997240" y="3619440"/>
                <a:ext cx="36360" cy="55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9" name=""/>
            <p:cNvGrpSpPr/>
            <p:nvPr/>
          </p:nvGrpSpPr>
          <p:grpSpPr>
            <a:xfrm>
              <a:off x="6051240" y="3655800"/>
              <a:ext cx="72720" cy="92160"/>
              <a:chOff x="6051240" y="3655800"/>
              <a:chExt cx="72720" cy="92160"/>
            </a:xfrm>
          </p:grpSpPr>
          <p:sp>
            <p:nvSpPr>
              <p:cNvPr id="4400" name=""/>
              <p:cNvSpPr/>
              <p:nvPr/>
            </p:nvSpPr>
            <p:spPr>
              <a:xfrm>
                <a:off x="6051240" y="3655800"/>
                <a:ext cx="72720" cy="921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1" y="5"/>
                      <a:pt x="3" y="4"/>
                      <a:pt x="3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051240" y="3655800"/>
                <a:ext cx="36360" cy="55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02" name=""/>
            <p:cNvGrpSpPr/>
            <p:nvPr/>
          </p:nvGrpSpPr>
          <p:grpSpPr>
            <a:xfrm>
              <a:off x="6087960" y="3692160"/>
              <a:ext cx="91440" cy="92160"/>
              <a:chOff x="6087960" y="3692160"/>
              <a:chExt cx="91440" cy="92160"/>
            </a:xfrm>
          </p:grpSpPr>
          <p:sp>
            <p:nvSpPr>
              <p:cNvPr id="4403" name=""/>
              <p:cNvSpPr/>
              <p:nvPr/>
            </p:nvSpPr>
            <p:spPr>
              <a:xfrm>
                <a:off x="6087960" y="3692160"/>
                <a:ext cx="91440" cy="9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5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6087960" y="3692160"/>
                <a:ext cx="55080" cy="55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"/>
            <p:cNvGrpSpPr/>
            <p:nvPr/>
          </p:nvGrpSpPr>
          <p:grpSpPr>
            <a:xfrm>
              <a:off x="6143400" y="3728880"/>
              <a:ext cx="90000" cy="92160"/>
              <a:chOff x="6143400" y="3728880"/>
              <a:chExt cx="90000" cy="92160"/>
            </a:xfrm>
          </p:grpSpPr>
          <p:sp>
            <p:nvSpPr>
              <p:cNvPr id="4406" name=""/>
              <p:cNvSpPr/>
              <p:nvPr/>
            </p:nvSpPr>
            <p:spPr>
              <a:xfrm>
                <a:off x="6143400" y="3728880"/>
                <a:ext cx="90000" cy="921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6143400" y="3728880"/>
                <a:ext cx="53640" cy="55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08" name=""/>
            <p:cNvGrpSpPr/>
            <p:nvPr/>
          </p:nvGrpSpPr>
          <p:grpSpPr>
            <a:xfrm>
              <a:off x="6197400" y="3765240"/>
              <a:ext cx="72720" cy="73080"/>
              <a:chOff x="6197400" y="3765240"/>
              <a:chExt cx="72720" cy="73080"/>
            </a:xfrm>
          </p:grpSpPr>
          <p:sp>
            <p:nvSpPr>
              <p:cNvPr id="4409" name=""/>
              <p:cNvSpPr/>
              <p:nvPr/>
            </p:nvSpPr>
            <p:spPr>
              <a:xfrm>
                <a:off x="6197400" y="3765240"/>
                <a:ext cx="7272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6197400" y="3765240"/>
                <a:ext cx="3600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11" name=""/>
          <p:cNvSpPr/>
          <p:nvPr/>
        </p:nvSpPr>
        <p:spPr>
          <a:xfrm>
            <a:off x="5505480" y="3346560"/>
            <a:ext cx="765000" cy="565200"/>
          </a:xfrm>
          <a:custGeom>
            <a:avLst/>
            <a:gdLst/>
            <a:ahLst/>
            <a:rect l="l" t="t" r="r" b="b"/>
            <a:pathLst>
              <a:path w="482" h="356">
                <a:moveTo>
                  <a:pt x="459" y="356"/>
                </a:moveTo>
                <a:lnTo>
                  <a:pt x="482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2" name=""/>
          <p:cNvGrpSpPr/>
          <p:nvPr/>
        </p:nvGrpSpPr>
        <p:grpSpPr>
          <a:xfrm>
            <a:off x="5359320" y="3529080"/>
            <a:ext cx="749160" cy="546120"/>
            <a:chOff x="5359320" y="3529080"/>
            <a:chExt cx="749160" cy="546120"/>
          </a:xfrm>
        </p:grpSpPr>
        <p:grpSp>
          <p:nvGrpSpPr>
            <p:cNvPr id="4413" name=""/>
            <p:cNvGrpSpPr/>
            <p:nvPr/>
          </p:nvGrpSpPr>
          <p:grpSpPr>
            <a:xfrm>
              <a:off x="5359320" y="3529080"/>
              <a:ext cx="73080" cy="73080"/>
              <a:chOff x="5359320" y="3529080"/>
              <a:chExt cx="73080" cy="73080"/>
            </a:xfrm>
          </p:grpSpPr>
          <p:sp>
            <p:nvSpPr>
              <p:cNvPr id="4414" name=""/>
              <p:cNvSpPr/>
              <p:nvPr/>
            </p:nvSpPr>
            <p:spPr>
              <a:xfrm>
                <a:off x="5359320" y="35290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5359320" y="352908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16" name=""/>
            <p:cNvGrpSpPr/>
            <p:nvPr/>
          </p:nvGrpSpPr>
          <p:grpSpPr>
            <a:xfrm>
              <a:off x="5415120" y="3565800"/>
              <a:ext cx="73080" cy="90360"/>
              <a:chOff x="5415120" y="3565800"/>
              <a:chExt cx="73080" cy="90360"/>
            </a:xfrm>
          </p:grpSpPr>
          <p:sp>
            <p:nvSpPr>
              <p:cNvPr id="4417" name=""/>
              <p:cNvSpPr/>
              <p:nvPr/>
            </p:nvSpPr>
            <p:spPr>
              <a:xfrm>
                <a:off x="5415120" y="3565800"/>
                <a:ext cx="7308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5415120" y="356580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19" name=""/>
            <p:cNvGrpSpPr/>
            <p:nvPr/>
          </p:nvGrpSpPr>
          <p:grpSpPr>
            <a:xfrm>
              <a:off x="5469120" y="3602160"/>
              <a:ext cx="73080" cy="73080"/>
              <a:chOff x="5469120" y="3602160"/>
              <a:chExt cx="73080" cy="73080"/>
            </a:xfrm>
          </p:grpSpPr>
          <p:sp>
            <p:nvSpPr>
              <p:cNvPr id="4420" name=""/>
              <p:cNvSpPr/>
              <p:nvPr/>
            </p:nvSpPr>
            <p:spPr>
              <a:xfrm>
                <a:off x="5469120" y="360216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5469120" y="360216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22" name=""/>
            <p:cNvGrpSpPr/>
            <p:nvPr/>
          </p:nvGrpSpPr>
          <p:grpSpPr>
            <a:xfrm>
              <a:off x="5524920" y="3638880"/>
              <a:ext cx="73080" cy="72720"/>
              <a:chOff x="5524920" y="3638880"/>
              <a:chExt cx="73080" cy="72720"/>
            </a:xfrm>
          </p:grpSpPr>
          <p:sp>
            <p:nvSpPr>
              <p:cNvPr id="4423" name=""/>
              <p:cNvSpPr/>
              <p:nvPr/>
            </p:nvSpPr>
            <p:spPr>
              <a:xfrm>
                <a:off x="5524920" y="363888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5524920" y="363888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25" name=""/>
            <p:cNvGrpSpPr/>
            <p:nvPr/>
          </p:nvGrpSpPr>
          <p:grpSpPr>
            <a:xfrm>
              <a:off x="5561640" y="3675240"/>
              <a:ext cx="90360" cy="73080"/>
              <a:chOff x="5561640" y="3675240"/>
              <a:chExt cx="90360" cy="73080"/>
            </a:xfrm>
          </p:grpSpPr>
          <p:sp>
            <p:nvSpPr>
              <p:cNvPr id="4426" name=""/>
              <p:cNvSpPr/>
              <p:nvPr/>
            </p:nvSpPr>
            <p:spPr>
              <a:xfrm>
                <a:off x="5561640" y="3675240"/>
                <a:ext cx="903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5561640" y="367524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28" name=""/>
            <p:cNvGrpSpPr/>
            <p:nvPr/>
          </p:nvGrpSpPr>
          <p:grpSpPr>
            <a:xfrm>
              <a:off x="5615280" y="3711600"/>
              <a:ext cx="90720" cy="73080"/>
              <a:chOff x="5615280" y="3711600"/>
              <a:chExt cx="90720" cy="73080"/>
            </a:xfrm>
          </p:grpSpPr>
          <p:sp>
            <p:nvSpPr>
              <p:cNvPr id="4429" name=""/>
              <p:cNvSpPr/>
              <p:nvPr/>
            </p:nvSpPr>
            <p:spPr>
              <a:xfrm>
                <a:off x="5615280" y="3711600"/>
                <a:ext cx="9072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5615280" y="371160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31" name=""/>
            <p:cNvGrpSpPr/>
            <p:nvPr/>
          </p:nvGrpSpPr>
          <p:grpSpPr>
            <a:xfrm>
              <a:off x="5669640" y="3748320"/>
              <a:ext cx="73080" cy="73080"/>
              <a:chOff x="5669640" y="3748320"/>
              <a:chExt cx="73080" cy="73080"/>
            </a:xfrm>
          </p:grpSpPr>
          <p:sp>
            <p:nvSpPr>
              <p:cNvPr id="4432" name=""/>
              <p:cNvSpPr/>
              <p:nvPr/>
            </p:nvSpPr>
            <p:spPr>
              <a:xfrm>
                <a:off x="5669640" y="37483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5669640" y="374832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34" name=""/>
            <p:cNvGrpSpPr/>
            <p:nvPr/>
          </p:nvGrpSpPr>
          <p:grpSpPr>
            <a:xfrm>
              <a:off x="5725440" y="3784680"/>
              <a:ext cx="73080" cy="73080"/>
              <a:chOff x="5725440" y="3784680"/>
              <a:chExt cx="73080" cy="73080"/>
            </a:xfrm>
          </p:grpSpPr>
          <p:sp>
            <p:nvSpPr>
              <p:cNvPr id="4435" name=""/>
              <p:cNvSpPr/>
              <p:nvPr/>
            </p:nvSpPr>
            <p:spPr>
              <a:xfrm>
                <a:off x="5725440" y="37846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725440" y="378468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37" name=""/>
            <p:cNvGrpSpPr/>
            <p:nvPr/>
          </p:nvGrpSpPr>
          <p:grpSpPr>
            <a:xfrm>
              <a:off x="5779440" y="3821400"/>
              <a:ext cx="73080" cy="72720"/>
              <a:chOff x="5779440" y="3821400"/>
              <a:chExt cx="73080" cy="72720"/>
            </a:xfrm>
          </p:grpSpPr>
          <p:sp>
            <p:nvSpPr>
              <p:cNvPr id="4438" name=""/>
              <p:cNvSpPr/>
              <p:nvPr/>
            </p:nvSpPr>
            <p:spPr>
              <a:xfrm>
                <a:off x="5779440" y="38214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779440" y="3821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0" name=""/>
            <p:cNvGrpSpPr/>
            <p:nvPr/>
          </p:nvGrpSpPr>
          <p:grpSpPr>
            <a:xfrm>
              <a:off x="5835240" y="3857760"/>
              <a:ext cx="73080" cy="71640"/>
              <a:chOff x="5835240" y="3857760"/>
              <a:chExt cx="73080" cy="71640"/>
            </a:xfrm>
          </p:grpSpPr>
          <p:sp>
            <p:nvSpPr>
              <p:cNvPr id="4441" name=""/>
              <p:cNvSpPr/>
              <p:nvPr/>
            </p:nvSpPr>
            <p:spPr>
              <a:xfrm>
                <a:off x="5835240" y="385776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835240" y="385776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3" name=""/>
            <p:cNvGrpSpPr/>
            <p:nvPr/>
          </p:nvGrpSpPr>
          <p:grpSpPr>
            <a:xfrm>
              <a:off x="5889240" y="3894120"/>
              <a:ext cx="73080" cy="71640"/>
              <a:chOff x="5889240" y="3894120"/>
              <a:chExt cx="73080" cy="71640"/>
            </a:xfrm>
          </p:grpSpPr>
          <p:sp>
            <p:nvSpPr>
              <p:cNvPr id="4444" name=""/>
              <p:cNvSpPr/>
              <p:nvPr/>
            </p:nvSpPr>
            <p:spPr>
              <a:xfrm>
                <a:off x="5889240" y="389412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889240" y="3894120"/>
                <a:ext cx="36360" cy="352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6" name=""/>
            <p:cNvGrpSpPr/>
            <p:nvPr/>
          </p:nvGrpSpPr>
          <p:grpSpPr>
            <a:xfrm>
              <a:off x="5925600" y="3929400"/>
              <a:ext cx="90720" cy="72720"/>
              <a:chOff x="5925600" y="3929400"/>
              <a:chExt cx="90720" cy="72720"/>
            </a:xfrm>
          </p:grpSpPr>
          <p:sp>
            <p:nvSpPr>
              <p:cNvPr id="4447" name=""/>
              <p:cNvSpPr/>
              <p:nvPr/>
            </p:nvSpPr>
            <p:spPr>
              <a:xfrm>
                <a:off x="5925600" y="3929400"/>
                <a:ext cx="90720" cy="72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925600" y="392940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9" name=""/>
            <p:cNvGrpSpPr/>
            <p:nvPr/>
          </p:nvGrpSpPr>
          <p:grpSpPr>
            <a:xfrm>
              <a:off x="5979960" y="3965760"/>
              <a:ext cx="92160" cy="73080"/>
              <a:chOff x="5979960" y="3965760"/>
              <a:chExt cx="92160" cy="73080"/>
            </a:xfrm>
          </p:grpSpPr>
          <p:sp>
            <p:nvSpPr>
              <p:cNvPr id="4450" name=""/>
              <p:cNvSpPr/>
              <p:nvPr/>
            </p:nvSpPr>
            <p:spPr>
              <a:xfrm>
                <a:off x="5979960" y="3965760"/>
                <a:ext cx="921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979960" y="3965760"/>
                <a:ext cx="558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52" name=""/>
            <p:cNvGrpSpPr/>
            <p:nvPr/>
          </p:nvGrpSpPr>
          <p:grpSpPr>
            <a:xfrm>
              <a:off x="6035760" y="4002120"/>
              <a:ext cx="72720" cy="73080"/>
              <a:chOff x="6035760" y="4002120"/>
              <a:chExt cx="72720" cy="73080"/>
            </a:xfrm>
          </p:grpSpPr>
          <p:sp>
            <p:nvSpPr>
              <p:cNvPr id="4453" name=""/>
              <p:cNvSpPr/>
              <p:nvPr/>
            </p:nvSpPr>
            <p:spPr>
              <a:xfrm>
                <a:off x="6035760" y="4002120"/>
                <a:ext cx="7272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6035760" y="400212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5" name=""/>
          <p:cNvSpPr/>
          <p:nvPr/>
        </p:nvSpPr>
        <p:spPr>
          <a:xfrm>
            <a:off x="5342040" y="3583080"/>
            <a:ext cx="766800" cy="565200"/>
          </a:xfrm>
          <a:custGeom>
            <a:avLst/>
            <a:gdLst/>
            <a:ahLst/>
            <a:rect l="l" t="t" r="r" b="b"/>
            <a:pathLst>
              <a:path w="482" h="356">
                <a:moveTo>
                  <a:pt x="459" y="356"/>
                </a:moveTo>
                <a:lnTo>
                  <a:pt x="482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56" name=""/>
          <p:cNvGrpSpPr/>
          <p:nvPr/>
        </p:nvGrpSpPr>
        <p:grpSpPr>
          <a:xfrm>
            <a:off x="6014880" y="2617920"/>
            <a:ext cx="747720" cy="546120"/>
            <a:chOff x="6014880" y="2617920"/>
            <a:chExt cx="747720" cy="546120"/>
          </a:xfrm>
        </p:grpSpPr>
        <p:grpSp>
          <p:nvGrpSpPr>
            <p:cNvPr id="4457" name=""/>
            <p:cNvGrpSpPr/>
            <p:nvPr/>
          </p:nvGrpSpPr>
          <p:grpSpPr>
            <a:xfrm>
              <a:off x="6014880" y="2617920"/>
              <a:ext cx="73080" cy="73080"/>
              <a:chOff x="6014880" y="2617920"/>
              <a:chExt cx="73080" cy="73080"/>
            </a:xfrm>
          </p:grpSpPr>
          <p:sp>
            <p:nvSpPr>
              <p:cNvPr id="4458" name=""/>
              <p:cNvSpPr/>
              <p:nvPr/>
            </p:nvSpPr>
            <p:spPr>
              <a:xfrm>
                <a:off x="6014880" y="26179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014880" y="261792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0" name=""/>
            <p:cNvGrpSpPr/>
            <p:nvPr/>
          </p:nvGrpSpPr>
          <p:grpSpPr>
            <a:xfrm>
              <a:off x="6070320" y="2654640"/>
              <a:ext cx="73080" cy="72720"/>
              <a:chOff x="6070320" y="2654640"/>
              <a:chExt cx="73080" cy="72720"/>
            </a:xfrm>
          </p:grpSpPr>
          <p:sp>
            <p:nvSpPr>
              <p:cNvPr id="4461" name=""/>
              <p:cNvSpPr/>
              <p:nvPr/>
            </p:nvSpPr>
            <p:spPr>
              <a:xfrm>
                <a:off x="6070320" y="265464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070320" y="265464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3" name=""/>
            <p:cNvGrpSpPr/>
            <p:nvPr/>
          </p:nvGrpSpPr>
          <p:grpSpPr>
            <a:xfrm>
              <a:off x="6106680" y="2691000"/>
              <a:ext cx="90720" cy="71280"/>
              <a:chOff x="6106680" y="2691000"/>
              <a:chExt cx="90720" cy="71280"/>
            </a:xfrm>
          </p:grpSpPr>
          <p:sp>
            <p:nvSpPr>
              <p:cNvPr id="4464" name=""/>
              <p:cNvSpPr/>
              <p:nvPr/>
            </p:nvSpPr>
            <p:spPr>
              <a:xfrm>
                <a:off x="6106680" y="2691000"/>
                <a:ext cx="90720" cy="71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6106680" y="269100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6" name=""/>
            <p:cNvGrpSpPr/>
            <p:nvPr/>
          </p:nvGrpSpPr>
          <p:grpSpPr>
            <a:xfrm>
              <a:off x="6160680" y="2708280"/>
              <a:ext cx="92160" cy="90720"/>
              <a:chOff x="6160680" y="2708280"/>
              <a:chExt cx="92160" cy="90720"/>
            </a:xfrm>
          </p:grpSpPr>
          <p:sp>
            <p:nvSpPr>
              <p:cNvPr id="4467" name=""/>
              <p:cNvSpPr/>
              <p:nvPr/>
            </p:nvSpPr>
            <p:spPr>
              <a:xfrm>
                <a:off x="6160680" y="270828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1" y="1"/>
                      <a:pt x="1" y="2"/>
                    </a:cubicBezTo>
                    <a:cubicBezTo>
                      <a:pt x="0" y="2"/>
                      <a:pt x="1" y="4"/>
                      <a:pt x="1" y="4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5" y="3"/>
                      <a:pt x="4" y="2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6160680" y="270828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3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69" name=""/>
            <p:cNvGrpSpPr/>
            <p:nvPr/>
          </p:nvGrpSpPr>
          <p:grpSpPr>
            <a:xfrm>
              <a:off x="6216480" y="2762280"/>
              <a:ext cx="71280" cy="73080"/>
              <a:chOff x="6216480" y="2762280"/>
              <a:chExt cx="71280" cy="73080"/>
            </a:xfrm>
          </p:grpSpPr>
          <p:sp>
            <p:nvSpPr>
              <p:cNvPr id="4470" name=""/>
              <p:cNvSpPr/>
              <p:nvPr/>
            </p:nvSpPr>
            <p:spPr>
              <a:xfrm>
                <a:off x="6216480" y="276228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216480" y="276228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72" name=""/>
            <p:cNvGrpSpPr/>
            <p:nvPr/>
          </p:nvGrpSpPr>
          <p:grpSpPr>
            <a:xfrm>
              <a:off x="6270480" y="2781360"/>
              <a:ext cx="73080" cy="90720"/>
              <a:chOff x="6270480" y="2781360"/>
              <a:chExt cx="73080" cy="90720"/>
            </a:xfrm>
          </p:grpSpPr>
          <p:sp>
            <p:nvSpPr>
              <p:cNvPr id="4473" name=""/>
              <p:cNvSpPr/>
              <p:nvPr/>
            </p:nvSpPr>
            <p:spPr>
              <a:xfrm>
                <a:off x="6270480" y="2781360"/>
                <a:ext cx="73080" cy="90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1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270480" y="278136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75" name=""/>
            <p:cNvGrpSpPr/>
            <p:nvPr/>
          </p:nvGrpSpPr>
          <p:grpSpPr>
            <a:xfrm>
              <a:off x="6324480" y="2818080"/>
              <a:ext cx="72720" cy="90360"/>
              <a:chOff x="6324480" y="2818080"/>
              <a:chExt cx="72720" cy="90360"/>
            </a:xfrm>
          </p:grpSpPr>
          <p:sp>
            <p:nvSpPr>
              <p:cNvPr id="4476" name=""/>
              <p:cNvSpPr/>
              <p:nvPr/>
            </p:nvSpPr>
            <p:spPr>
              <a:xfrm>
                <a:off x="6324480" y="281808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1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6324480" y="281808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78" name=""/>
            <p:cNvGrpSpPr/>
            <p:nvPr/>
          </p:nvGrpSpPr>
          <p:grpSpPr>
            <a:xfrm>
              <a:off x="6379920" y="2854440"/>
              <a:ext cx="73080" cy="90360"/>
              <a:chOff x="6379920" y="2854440"/>
              <a:chExt cx="73080" cy="90360"/>
            </a:xfrm>
          </p:grpSpPr>
          <p:sp>
            <p:nvSpPr>
              <p:cNvPr id="4479" name=""/>
              <p:cNvSpPr/>
              <p:nvPr/>
            </p:nvSpPr>
            <p:spPr>
              <a:xfrm>
                <a:off x="6379920" y="2854440"/>
                <a:ext cx="7308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379920" y="285444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81" name=""/>
            <p:cNvGrpSpPr/>
            <p:nvPr/>
          </p:nvGrpSpPr>
          <p:grpSpPr>
            <a:xfrm>
              <a:off x="6433920" y="2891160"/>
              <a:ext cx="73080" cy="90360"/>
              <a:chOff x="6433920" y="2891160"/>
              <a:chExt cx="73080" cy="90360"/>
            </a:xfrm>
          </p:grpSpPr>
          <p:sp>
            <p:nvSpPr>
              <p:cNvPr id="4482" name=""/>
              <p:cNvSpPr/>
              <p:nvPr/>
            </p:nvSpPr>
            <p:spPr>
              <a:xfrm>
                <a:off x="6433920" y="2891160"/>
                <a:ext cx="7308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1" y="5"/>
                      <a:pt x="3" y="4"/>
                      <a:pt x="3" y="4"/>
                    </a:cubicBezTo>
                    <a:cubicBezTo>
                      <a:pt x="4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433920" y="2891160"/>
                <a:ext cx="36360" cy="536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84" name=""/>
            <p:cNvGrpSpPr/>
            <p:nvPr/>
          </p:nvGrpSpPr>
          <p:grpSpPr>
            <a:xfrm>
              <a:off x="6470280" y="2927520"/>
              <a:ext cx="92160" cy="90360"/>
              <a:chOff x="6470280" y="2927520"/>
              <a:chExt cx="92160" cy="90360"/>
            </a:xfrm>
          </p:grpSpPr>
          <p:sp>
            <p:nvSpPr>
              <p:cNvPr id="4485" name=""/>
              <p:cNvSpPr/>
              <p:nvPr/>
            </p:nvSpPr>
            <p:spPr>
              <a:xfrm>
                <a:off x="6470280" y="29275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2" y="1"/>
                      <a:pt x="1" y="2"/>
                    </a:cubicBezTo>
                    <a:cubicBezTo>
                      <a:pt x="0" y="2"/>
                      <a:pt x="1" y="4"/>
                      <a:pt x="2" y="4"/>
                    </a:cubicBezTo>
                    <a:cubicBezTo>
                      <a:pt x="2" y="5"/>
                      <a:pt x="4" y="4"/>
                      <a:pt x="4" y="4"/>
                    </a:cubicBezTo>
                    <a:cubicBezTo>
                      <a:pt x="5" y="3"/>
                      <a:pt x="4" y="2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470280" y="292752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87" name=""/>
            <p:cNvGrpSpPr/>
            <p:nvPr/>
          </p:nvGrpSpPr>
          <p:grpSpPr>
            <a:xfrm>
              <a:off x="6526080" y="2963880"/>
              <a:ext cx="90360" cy="90720"/>
              <a:chOff x="6526080" y="2963880"/>
              <a:chExt cx="90360" cy="90720"/>
            </a:xfrm>
          </p:grpSpPr>
          <p:sp>
            <p:nvSpPr>
              <p:cNvPr id="4488" name=""/>
              <p:cNvSpPr/>
              <p:nvPr/>
            </p:nvSpPr>
            <p:spPr>
              <a:xfrm>
                <a:off x="6526080" y="296388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1" y="1"/>
                      <a:pt x="1" y="2"/>
                    </a:cubicBezTo>
                    <a:cubicBezTo>
                      <a:pt x="0" y="2"/>
                      <a:pt x="1" y="4"/>
                      <a:pt x="1" y="4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5" y="3"/>
                      <a:pt x="4" y="2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526080" y="296388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3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90" name=""/>
            <p:cNvGrpSpPr/>
            <p:nvPr/>
          </p:nvGrpSpPr>
          <p:grpSpPr>
            <a:xfrm>
              <a:off x="6580080" y="3000600"/>
              <a:ext cx="72720" cy="90360"/>
              <a:chOff x="6580080" y="3000600"/>
              <a:chExt cx="72720" cy="90360"/>
            </a:xfrm>
          </p:grpSpPr>
          <p:sp>
            <p:nvSpPr>
              <p:cNvPr id="4491" name=""/>
              <p:cNvSpPr/>
              <p:nvPr/>
            </p:nvSpPr>
            <p:spPr>
              <a:xfrm>
                <a:off x="6580080" y="300060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580080" y="300060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93" name=""/>
            <p:cNvGrpSpPr/>
            <p:nvPr/>
          </p:nvGrpSpPr>
          <p:grpSpPr>
            <a:xfrm>
              <a:off x="6633720" y="3036960"/>
              <a:ext cx="73080" cy="90720"/>
              <a:chOff x="6633720" y="3036960"/>
              <a:chExt cx="73080" cy="90720"/>
            </a:xfrm>
          </p:grpSpPr>
          <p:sp>
            <p:nvSpPr>
              <p:cNvPr id="4494" name=""/>
              <p:cNvSpPr/>
              <p:nvPr/>
            </p:nvSpPr>
            <p:spPr>
              <a:xfrm>
                <a:off x="6633720" y="3036960"/>
                <a:ext cx="73080" cy="90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6633720" y="3036960"/>
                <a:ext cx="3672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96" name=""/>
            <p:cNvGrpSpPr/>
            <p:nvPr/>
          </p:nvGrpSpPr>
          <p:grpSpPr>
            <a:xfrm>
              <a:off x="6689520" y="3073680"/>
              <a:ext cx="73080" cy="90360"/>
              <a:chOff x="6689520" y="3073680"/>
              <a:chExt cx="73080" cy="90360"/>
            </a:xfrm>
          </p:grpSpPr>
          <p:sp>
            <p:nvSpPr>
              <p:cNvPr id="4497" name=""/>
              <p:cNvSpPr/>
              <p:nvPr/>
            </p:nvSpPr>
            <p:spPr>
              <a:xfrm>
                <a:off x="6689520" y="3073680"/>
                <a:ext cx="73080" cy="903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6689520" y="307368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9" name=""/>
          <p:cNvSpPr/>
          <p:nvPr/>
        </p:nvSpPr>
        <p:spPr>
          <a:xfrm>
            <a:off x="5997600" y="2654280"/>
            <a:ext cx="746280" cy="582480"/>
          </a:xfrm>
          <a:custGeom>
            <a:avLst/>
            <a:gdLst/>
            <a:ahLst/>
            <a:rect l="l" t="t" r="r" b="b"/>
            <a:pathLst>
              <a:path w="470" h="367">
                <a:moveTo>
                  <a:pt x="459" y="367"/>
                </a:moveTo>
                <a:lnTo>
                  <a:pt x="470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0" name=""/>
          <p:cNvGrpSpPr/>
          <p:nvPr/>
        </p:nvGrpSpPr>
        <p:grpSpPr>
          <a:xfrm>
            <a:off x="5853240" y="2835360"/>
            <a:ext cx="745920" cy="547200"/>
            <a:chOff x="5853240" y="2835360"/>
            <a:chExt cx="745920" cy="547200"/>
          </a:xfrm>
        </p:grpSpPr>
        <p:grpSp>
          <p:nvGrpSpPr>
            <p:cNvPr id="4501" name=""/>
            <p:cNvGrpSpPr/>
            <p:nvPr/>
          </p:nvGrpSpPr>
          <p:grpSpPr>
            <a:xfrm>
              <a:off x="5853240" y="2835360"/>
              <a:ext cx="72720" cy="91800"/>
              <a:chOff x="5853240" y="2835360"/>
              <a:chExt cx="72720" cy="91800"/>
            </a:xfrm>
          </p:grpSpPr>
          <p:sp>
            <p:nvSpPr>
              <p:cNvPr id="4502" name=""/>
              <p:cNvSpPr/>
              <p:nvPr/>
            </p:nvSpPr>
            <p:spPr>
              <a:xfrm>
                <a:off x="5853240" y="2835360"/>
                <a:ext cx="72720" cy="9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5853240" y="2835360"/>
                <a:ext cx="36360" cy="55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04" name=""/>
            <p:cNvGrpSpPr/>
            <p:nvPr/>
          </p:nvGrpSpPr>
          <p:grpSpPr>
            <a:xfrm>
              <a:off x="5908680" y="2871720"/>
              <a:ext cx="71280" cy="91440"/>
              <a:chOff x="5908680" y="2871720"/>
              <a:chExt cx="71280" cy="91440"/>
            </a:xfrm>
          </p:grpSpPr>
          <p:sp>
            <p:nvSpPr>
              <p:cNvPr id="4505" name=""/>
              <p:cNvSpPr/>
              <p:nvPr/>
            </p:nvSpPr>
            <p:spPr>
              <a:xfrm>
                <a:off x="5908680" y="2871720"/>
                <a:ext cx="71280" cy="91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908680" y="2871720"/>
                <a:ext cx="36360" cy="55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07" name=""/>
            <p:cNvGrpSpPr/>
            <p:nvPr/>
          </p:nvGrpSpPr>
          <p:grpSpPr>
            <a:xfrm>
              <a:off x="5962680" y="2908080"/>
              <a:ext cx="73080" cy="91800"/>
              <a:chOff x="5962680" y="2908080"/>
              <a:chExt cx="73080" cy="91800"/>
            </a:xfrm>
          </p:grpSpPr>
          <p:sp>
            <p:nvSpPr>
              <p:cNvPr id="4508" name=""/>
              <p:cNvSpPr/>
              <p:nvPr/>
            </p:nvSpPr>
            <p:spPr>
              <a:xfrm>
                <a:off x="5962680" y="2908080"/>
                <a:ext cx="73080" cy="9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3" y="4"/>
                      <a:pt x="3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962680" y="2908080"/>
                <a:ext cx="36360" cy="55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0" name=""/>
            <p:cNvGrpSpPr/>
            <p:nvPr/>
          </p:nvGrpSpPr>
          <p:grpSpPr>
            <a:xfrm>
              <a:off x="5999040" y="2944440"/>
              <a:ext cx="90720" cy="91800"/>
              <a:chOff x="5999040" y="2944440"/>
              <a:chExt cx="90720" cy="91800"/>
            </a:xfrm>
          </p:grpSpPr>
          <p:sp>
            <p:nvSpPr>
              <p:cNvPr id="4511" name=""/>
              <p:cNvSpPr/>
              <p:nvPr/>
            </p:nvSpPr>
            <p:spPr>
              <a:xfrm>
                <a:off x="5999040" y="294444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5"/>
                      <a:pt x="4" y="4"/>
                      <a:pt x="4" y="3"/>
                    </a:cubicBezTo>
                    <a:cubicBezTo>
                      <a:pt x="5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5999040" y="2944440"/>
                <a:ext cx="54000" cy="55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3" name=""/>
            <p:cNvGrpSpPr/>
            <p:nvPr/>
          </p:nvGrpSpPr>
          <p:grpSpPr>
            <a:xfrm>
              <a:off x="6053040" y="2981160"/>
              <a:ext cx="73080" cy="72720"/>
              <a:chOff x="6053040" y="2981160"/>
              <a:chExt cx="73080" cy="72720"/>
            </a:xfrm>
          </p:grpSpPr>
          <p:sp>
            <p:nvSpPr>
              <p:cNvPr id="4514" name=""/>
              <p:cNvSpPr/>
              <p:nvPr/>
            </p:nvSpPr>
            <p:spPr>
              <a:xfrm>
                <a:off x="6053040" y="29811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6053040" y="2981160"/>
                <a:ext cx="3672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6" name=""/>
            <p:cNvGrpSpPr/>
            <p:nvPr/>
          </p:nvGrpSpPr>
          <p:grpSpPr>
            <a:xfrm>
              <a:off x="6108480" y="3017520"/>
              <a:ext cx="73080" cy="72720"/>
              <a:chOff x="6108480" y="3017520"/>
              <a:chExt cx="73080" cy="72720"/>
            </a:xfrm>
          </p:grpSpPr>
          <p:sp>
            <p:nvSpPr>
              <p:cNvPr id="4517" name=""/>
              <p:cNvSpPr/>
              <p:nvPr/>
            </p:nvSpPr>
            <p:spPr>
              <a:xfrm>
                <a:off x="6108480" y="301752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6108480" y="301752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9" name=""/>
            <p:cNvGrpSpPr/>
            <p:nvPr/>
          </p:nvGrpSpPr>
          <p:grpSpPr>
            <a:xfrm>
              <a:off x="6162480" y="3054240"/>
              <a:ext cx="73080" cy="72720"/>
              <a:chOff x="6162480" y="3054240"/>
              <a:chExt cx="73080" cy="72720"/>
            </a:xfrm>
          </p:grpSpPr>
          <p:sp>
            <p:nvSpPr>
              <p:cNvPr id="4520" name=""/>
              <p:cNvSpPr/>
              <p:nvPr/>
            </p:nvSpPr>
            <p:spPr>
              <a:xfrm>
                <a:off x="6162480" y="305424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6162480" y="3054240"/>
                <a:ext cx="3672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2" name=""/>
            <p:cNvGrpSpPr/>
            <p:nvPr/>
          </p:nvGrpSpPr>
          <p:grpSpPr>
            <a:xfrm>
              <a:off x="6218280" y="3090600"/>
              <a:ext cx="71280" cy="72720"/>
              <a:chOff x="6218280" y="3090600"/>
              <a:chExt cx="71280" cy="72720"/>
            </a:xfrm>
          </p:grpSpPr>
          <p:sp>
            <p:nvSpPr>
              <p:cNvPr id="4523" name=""/>
              <p:cNvSpPr/>
              <p:nvPr/>
            </p:nvSpPr>
            <p:spPr>
              <a:xfrm>
                <a:off x="6218280" y="3090600"/>
                <a:ext cx="712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6218280" y="30906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5" name=""/>
            <p:cNvGrpSpPr/>
            <p:nvPr/>
          </p:nvGrpSpPr>
          <p:grpSpPr>
            <a:xfrm>
              <a:off x="6272280" y="3127320"/>
              <a:ext cx="73080" cy="72360"/>
              <a:chOff x="6272280" y="3127320"/>
              <a:chExt cx="73080" cy="72360"/>
            </a:xfrm>
          </p:grpSpPr>
          <p:sp>
            <p:nvSpPr>
              <p:cNvPr id="4526" name=""/>
              <p:cNvSpPr/>
              <p:nvPr/>
            </p:nvSpPr>
            <p:spPr>
              <a:xfrm>
                <a:off x="6272280" y="3127320"/>
                <a:ext cx="73080" cy="723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272280" y="3127320"/>
                <a:ext cx="3636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8" name=""/>
            <p:cNvGrpSpPr/>
            <p:nvPr/>
          </p:nvGrpSpPr>
          <p:grpSpPr>
            <a:xfrm>
              <a:off x="6326280" y="3163680"/>
              <a:ext cx="72720" cy="72720"/>
              <a:chOff x="6326280" y="3163680"/>
              <a:chExt cx="72720" cy="72720"/>
            </a:xfrm>
          </p:grpSpPr>
          <p:sp>
            <p:nvSpPr>
              <p:cNvPr id="4529" name=""/>
              <p:cNvSpPr/>
              <p:nvPr/>
            </p:nvSpPr>
            <p:spPr>
              <a:xfrm>
                <a:off x="6326280" y="316368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6326280" y="3163680"/>
                <a:ext cx="3636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31" name=""/>
            <p:cNvGrpSpPr/>
            <p:nvPr/>
          </p:nvGrpSpPr>
          <p:grpSpPr>
            <a:xfrm>
              <a:off x="6362640" y="3200040"/>
              <a:ext cx="92160" cy="72720"/>
              <a:chOff x="6362640" y="3200040"/>
              <a:chExt cx="92160" cy="72720"/>
            </a:xfrm>
          </p:grpSpPr>
          <p:sp>
            <p:nvSpPr>
              <p:cNvPr id="4532" name=""/>
              <p:cNvSpPr/>
              <p:nvPr/>
            </p:nvSpPr>
            <p:spPr>
              <a:xfrm>
                <a:off x="6362640" y="3200040"/>
                <a:ext cx="92160" cy="727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6362640" y="3200040"/>
                <a:ext cx="5544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34" name=""/>
            <p:cNvGrpSpPr/>
            <p:nvPr/>
          </p:nvGrpSpPr>
          <p:grpSpPr>
            <a:xfrm>
              <a:off x="6418080" y="3236760"/>
              <a:ext cx="73080" cy="72720"/>
              <a:chOff x="6418080" y="3236760"/>
              <a:chExt cx="73080" cy="72720"/>
            </a:xfrm>
          </p:grpSpPr>
          <p:sp>
            <p:nvSpPr>
              <p:cNvPr id="4535" name=""/>
              <p:cNvSpPr/>
              <p:nvPr/>
            </p:nvSpPr>
            <p:spPr>
              <a:xfrm>
                <a:off x="6418080" y="323676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418080" y="3236760"/>
                <a:ext cx="3672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37" name=""/>
            <p:cNvGrpSpPr/>
            <p:nvPr/>
          </p:nvGrpSpPr>
          <p:grpSpPr>
            <a:xfrm>
              <a:off x="6472080" y="3273120"/>
              <a:ext cx="73080" cy="72720"/>
              <a:chOff x="6472080" y="3273120"/>
              <a:chExt cx="73080" cy="72720"/>
            </a:xfrm>
          </p:grpSpPr>
          <p:sp>
            <p:nvSpPr>
              <p:cNvPr id="4538" name=""/>
              <p:cNvSpPr/>
              <p:nvPr/>
            </p:nvSpPr>
            <p:spPr>
              <a:xfrm>
                <a:off x="6472080" y="327312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6472080" y="327312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40" name=""/>
            <p:cNvGrpSpPr/>
            <p:nvPr/>
          </p:nvGrpSpPr>
          <p:grpSpPr>
            <a:xfrm>
              <a:off x="6527880" y="3309840"/>
              <a:ext cx="71280" cy="72720"/>
              <a:chOff x="6527880" y="3309840"/>
              <a:chExt cx="71280" cy="72720"/>
            </a:xfrm>
          </p:grpSpPr>
          <p:sp>
            <p:nvSpPr>
              <p:cNvPr id="4541" name=""/>
              <p:cNvSpPr/>
              <p:nvPr/>
            </p:nvSpPr>
            <p:spPr>
              <a:xfrm>
                <a:off x="6527880" y="3309840"/>
                <a:ext cx="712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527880" y="3309840"/>
                <a:ext cx="3636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3" name=""/>
          <p:cNvSpPr/>
          <p:nvPr/>
        </p:nvSpPr>
        <p:spPr>
          <a:xfrm>
            <a:off x="5834160" y="2890800"/>
            <a:ext cx="765000" cy="565200"/>
          </a:xfrm>
          <a:custGeom>
            <a:avLst/>
            <a:gdLst/>
            <a:ahLst/>
            <a:rect l="l" t="t" r="r" b="b"/>
            <a:pathLst>
              <a:path w="481" h="356">
                <a:moveTo>
                  <a:pt x="459" y="356"/>
                </a:moveTo>
                <a:lnTo>
                  <a:pt x="481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4" name=""/>
          <p:cNvGrpSpPr/>
          <p:nvPr/>
        </p:nvGrpSpPr>
        <p:grpSpPr>
          <a:xfrm>
            <a:off x="5908680" y="2762280"/>
            <a:ext cx="745920" cy="547200"/>
            <a:chOff x="5908680" y="2762280"/>
            <a:chExt cx="745920" cy="547200"/>
          </a:xfrm>
        </p:grpSpPr>
        <p:grpSp>
          <p:nvGrpSpPr>
            <p:cNvPr id="4545" name=""/>
            <p:cNvGrpSpPr/>
            <p:nvPr/>
          </p:nvGrpSpPr>
          <p:grpSpPr>
            <a:xfrm>
              <a:off x="5908680" y="2762280"/>
              <a:ext cx="71280" cy="72720"/>
              <a:chOff x="5908680" y="2762280"/>
              <a:chExt cx="71280" cy="72720"/>
            </a:xfrm>
          </p:grpSpPr>
          <p:sp>
            <p:nvSpPr>
              <p:cNvPr id="4546" name=""/>
              <p:cNvSpPr/>
              <p:nvPr/>
            </p:nvSpPr>
            <p:spPr>
              <a:xfrm>
                <a:off x="5908680" y="2762280"/>
                <a:ext cx="712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5908680" y="27622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48" name=""/>
            <p:cNvGrpSpPr/>
            <p:nvPr/>
          </p:nvGrpSpPr>
          <p:grpSpPr>
            <a:xfrm>
              <a:off x="5962680" y="2798640"/>
              <a:ext cx="73080" cy="72720"/>
              <a:chOff x="5962680" y="2798640"/>
              <a:chExt cx="73080" cy="72720"/>
            </a:xfrm>
          </p:grpSpPr>
          <p:sp>
            <p:nvSpPr>
              <p:cNvPr id="4549" name=""/>
              <p:cNvSpPr/>
              <p:nvPr/>
            </p:nvSpPr>
            <p:spPr>
              <a:xfrm>
                <a:off x="5962680" y="279864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5962680" y="2798640"/>
                <a:ext cx="3636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51" name=""/>
            <p:cNvGrpSpPr/>
            <p:nvPr/>
          </p:nvGrpSpPr>
          <p:grpSpPr>
            <a:xfrm>
              <a:off x="6016680" y="2835000"/>
              <a:ext cx="73080" cy="72720"/>
              <a:chOff x="6016680" y="2835000"/>
              <a:chExt cx="73080" cy="72720"/>
            </a:xfrm>
          </p:grpSpPr>
          <p:sp>
            <p:nvSpPr>
              <p:cNvPr id="4552" name=""/>
              <p:cNvSpPr/>
              <p:nvPr/>
            </p:nvSpPr>
            <p:spPr>
              <a:xfrm>
                <a:off x="6016680" y="28350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016680" y="28350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54" name=""/>
            <p:cNvGrpSpPr/>
            <p:nvPr/>
          </p:nvGrpSpPr>
          <p:grpSpPr>
            <a:xfrm>
              <a:off x="6053040" y="2871720"/>
              <a:ext cx="92160" cy="72360"/>
              <a:chOff x="6053040" y="2871720"/>
              <a:chExt cx="92160" cy="72360"/>
            </a:xfrm>
          </p:grpSpPr>
          <p:sp>
            <p:nvSpPr>
              <p:cNvPr id="4555" name=""/>
              <p:cNvSpPr/>
              <p:nvPr/>
            </p:nvSpPr>
            <p:spPr>
              <a:xfrm>
                <a:off x="6053040" y="2871720"/>
                <a:ext cx="92160" cy="723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6053040" y="287172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57" name=""/>
            <p:cNvGrpSpPr/>
            <p:nvPr/>
          </p:nvGrpSpPr>
          <p:grpSpPr>
            <a:xfrm>
              <a:off x="6108480" y="2908080"/>
              <a:ext cx="73080" cy="72720"/>
              <a:chOff x="6108480" y="2908080"/>
              <a:chExt cx="73080" cy="72720"/>
            </a:xfrm>
          </p:grpSpPr>
          <p:sp>
            <p:nvSpPr>
              <p:cNvPr id="4558" name=""/>
              <p:cNvSpPr/>
              <p:nvPr/>
            </p:nvSpPr>
            <p:spPr>
              <a:xfrm>
                <a:off x="6108480" y="290808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6108480" y="2908080"/>
                <a:ext cx="3672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60" name=""/>
            <p:cNvGrpSpPr/>
            <p:nvPr/>
          </p:nvGrpSpPr>
          <p:grpSpPr>
            <a:xfrm>
              <a:off x="6162480" y="2944440"/>
              <a:ext cx="73080" cy="72720"/>
              <a:chOff x="6162480" y="2944440"/>
              <a:chExt cx="73080" cy="72720"/>
            </a:xfrm>
          </p:grpSpPr>
          <p:sp>
            <p:nvSpPr>
              <p:cNvPr id="4561" name=""/>
              <p:cNvSpPr/>
              <p:nvPr/>
            </p:nvSpPr>
            <p:spPr>
              <a:xfrm>
                <a:off x="6162480" y="294444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6162480" y="294444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63" name=""/>
            <p:cNvGrpSpPr/>
            <p:nvPr/>
          </p:nvGrpSpPr>
          <p:grpSpPr>
            <a:xfrm>
              <a:off x="6218280" y="2981160"/>
              <a:ext cx="71280" cy="72720"/>
              <a:chOff x="6218280" y="2981160"/>
              <a:chExt cx="71280" cy="72720"/>
            </a:xfrm>
          </p:grpSpPr>
          <p:sp>
            <p:nvSpPr>
              <p:cNvPr id="4564" name=""/>
              <p:cNvSpPr/>
              <p:nvPr/>
            </p:nvSpPr>
            <p:spPr>
              <a:xfrm>
                <a:off x="6218280" y="2981160"/>
                <a:ext cx="712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6218280" y="2981160"/>
                <a:ext cx="3636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66" name=""/>
            <p:cNvGrpSpPr/>
            <p:nvPr/>
          </p:nvGrpSpPr>
          <p:grpSpPr>
            <a:xfrm>
              <a:off x="6272280" y="3017520"/>
              <a:ext cx="73080" cy="72720"/>
              <a:chOff x="6272280" y="3017520"/>
              <a:chExt cx="73080" cy="72720"/>
            </a:xfrm>
          </p:grpSpPr>
          <p:sp>
            <p:nvSpPr>
              <p:cNvPr id="4567" name=""/>
              <p:cNvSpPr/>
              <p:nvPr/>
            </p:nvSpPr>
            <p:spPr>
              <a:xfrm>
                <a:off x="6272280" y="301752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6272280" y="30175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69" name=""/>
            <p:cNvGrpSpPr/>
            <p:nvPr/>
          </p:nvGrpSpPr>
          <p:grpSpPr>
            <a:xfrm>
              <a:off x="6326280" y="3054240"/>
              <a:ext cx="72720" cy="72720"/>
              <a:chOff x="6326280" y="3054240"/>
              <a:chExt cx="72720" cy="72720"/>
            </a:xfrm>
          </p:grpSpPr>
          <p:sp>
            <p:nvSpPr>
              <p:cNvPr id="4570" name=""/>
              <p:cNvSpPr/>
              <p:nvPr/>
            </p:nvSpPr>
            <p:spPr>
              <a:xfrm>
                <a:off x="6326280" y="305424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326280" y="3054240"/>
                <a:ext cx="3636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72" name=""/>
            <p:cNvGrpSpPr/>
            <p:nvPr/>
          </p:nvGrpSpPr>
          <p:grpSpPr>
            <a:xfrm>
              <a:off x="6381720" y="3090600"/>
              <a:ext cx="73080" cy="72720"/>
              <a:chOff x="6381720" y="3090600"/>
              <a:chExt cx="73080" cy="72720"/>
            </a:xfrm>
          </p:grpSpPr>
          <p:sp>
            <p:nvSpPr>
              <p:cNvPr id="4573" name=""/>
              <p:cNvSpPr/>
              <p:nvPr/>
            </p:nvSpPr>
            <p:spPr>
              <a:xfrm>
                <a:off x="6381720" y="30906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381720" y="30906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75" name=""/>
            <p:cNvGrpSpPr/>
            <p:nvPr/>
          </p:nvGrpSpPr>
          <p:grpSpPr>
            <a:xfrm>
              <a:off x="6418080" y="3127320"/>
              <a:ext cx="90720" cy="72360"/>
              <a:chOff x="6418080" y="3127320"/>
              <a:chExt cx="90720" cy="72360"/>
            </a:xfrm>
          </p:grpSpPr>
          <p:sp>
            <p:nvSpPr>
              <p:cNvPr id="4576" name=""/>
              <p:cNvSpPr/>
              <p:nvPr/>
            </p:nvSpPr>
            <p:spPr>
              <a:xfrm>
                <a:off x="6418080" y="3127320"/>
                <a:ext cx="90720" cy="723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6418080" y="3127320"/>
                <a:ext cx="54000" cy="360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78" name=""/>
            <p:cNvGrpSpPr/>
            <p:nvPr/>
          </p:nvGrpSpPr>
          <p:grpSpPr>
            <a:xfrm>
              <a:off x="6472080" y="3163680"/>
              <a:ext cx="73080" cy="72720"/>
              <a:chOff x="6472080" y="3163680"/>
              <a:chExt cx="73080" cy="72720"/>
            </a:xfrm>
          </p:grpSpPr>
          <p:sp>
            <p:nvSpPr>
              <p:cNvPr id="4579" name=""/>
              <p:cNvSpPr/>
              <p:nvPr/>
            </p:nvSpPr>
            <p:spPr>
              <a:xfrm>
                <a:off x="6472080" y="316368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472080" y="3163680"/>
                <a:ext cx="3672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81" name=""/>
            <p:cNvGrpSpPr/>
            <p:nvPr/>
          </p:nvGrpSpPr>
          <p:grpSpPr>
            <a:xfrm>
              <a:off x="6527880" y="3200040"/>
              <a:ext cx="71280" cy="72720"/>
              <a:chOff x="6527880" y="3200040"/>
              <a:chExt cx="71280" cy="72720"/>
            </a:xfrm>
          </p:grpSpPr>
          <p:sp>
            <p:nvSpPr>
              <p:cNvPr id="4582" name=""/>
              <p:cNvSpPr/>
              <p:nvPr/>
            </p:nvSpPr>
            <p:spPr>
              <a:xfrm>
                <a:off x="6527880" y="3200040"/>
                <a:ext cx="712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6527880" y="320004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84" name=""/>
            <p:cNvGrpSpPr/>
            <p:nvPr/>
          </p:nvGrpSpPr>
          <p:grpSpPr>
            <a:xfrm>
              <a:off x="6581880" y="3236760"/>
              <a:ext cx="72720" cy="72720"/>
              <a:chOff x="6581880" y="3236760"/>
              <a:chExt cx="72720" cy="72720"/>
            </a:xfrm>
          </p:grpSpPr>
          <p:sp>
            <p:nvSpPr>
              <p:cNvPr id="4585" name=""/>
              <p:cNvSpPr/>
              <p:nvPr/>
            </p:nvSpPr>
            <p:spPr>
              <a:xfrm>
                <a:off x="6581880" y="323676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6581880" y="3236760"/>
                <a:ext cx="36360" cy="360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87" name=""/>
          <p:cNvSpPr/>
          <p:nvPr/>
        </p:nvSpPr>
        <p:spPr>
          <a:xfrm>
            <a:off x="5888160" y="2817720"/>
            <a:ext cx="766800" cy="565200"/>
          </a:xfrm>
          <a:custGeom>
            <a:avLst/>
            <a:gdLst/>
            <a:ahLst/>
            <a:rect l="l" t="t" r="r" b="b"/>
            <a:pathLst>
              <a:path w="482" h="356">
                <a:moveTo>
                  <a:pt x="459" y="356"/>
                </a:moveTo>
                <a:lnTo>
                  <a:pt x="482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8" name=""/>
          <p:cNvGrpSpPr/>
          <p:nvPr/>
        </p:nvGrpSpPr>
        <p:grpSpPr>
          <a:xfrm>
            <a:off x="5468760" y="3382920"/>
            <a:ext cx="747720" cy="546120"/>
            <a:chOff x="5468760" y="3382920"/>
            <a:chExt cx="747720" cy="546120"/>
          </a:xfrm>
        </p:grpSpPr>
        <p:grpSp>
          <p:nvGrpSpPr>
            <p:cNvPr id="4589" name=""/>
            <p:cNvGrpSpPr/>
            <p:nvPr/>
          </p:nvGrpSpPr>
          <p:grpSpPr>
            <a:xfrm>
              <a:off x="5468760" y="3382920"/>
              <a:ext cx="73080" cy="72720"/>
              <a:chOff x="5468760" y="3382920"/>
              <a:chExt cx="73080" cy="72720"/>
            </a:xfrm>
          </p:grpSpPr>
          <p:sp>
            <p:nvSpPr>
              <p:cNvPr id="4590" name=""/>
              <p:cNvSpPr/>
              <p:nvPr/>
            </p:nvSpPr>
            <p:spPr>
              <a:xfrm>
                <a:off x="5468760" y="338292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5468760" y="33829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92" name=""/>
            <p:cNvGrpSpPr/>
            <p:nvPr/>
          </p:nvGrpSpPr>
          <p:grpSpPr>
            <a:xfrm>
              <a:off x="5524200" y="3419280"/>
              <a:ext cx="73080" cy="73080"/>
              <a:chOff x="5524200" y="3419280"/>
              <a:chExt cx="73080" cy="73080"/>
            </a:xfrm>
          </p:grpSpPr>
          <p:sp>
            <p:nvSpPr>
              <p:cNvPr id="4593" name=""/>
              <p:cNvSpPr/>
              <p:nvPr/>
            </p:nvSpPr>
            <p:spPr>
              <a:xfrm>
                <a:off x="5524200" y="34192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5524200" y="341928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95" name=""/>
            <p:cNvGrpSpPr/>
            <p:nvPr/>
          </p:nvGrpSpPr>
          <p:grpSpPr>
            <a:xfrm>
              <a:off x="5578200" y="3455640"/>
              <a:ext cx="73080" cy="73080"/>
              <a:chOff x="5578200" y="3455640"/>
              <a:chExt cx="73080" cy="73080"/>
            </a:xfrm>
          </p:grpSpPr>
          <p:sp>
            <p:nvSpPr>
              <p:cNvPr id="4596" name=""/>
              <p:cNvSpPr/>
              <p:nvPr/>
            </p:nvSpPr>
            <p:spPr>
              <a:xfrm>
                <a:off x="5578200" y="34556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5578200" y="345564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98" name=""/>
            <p:cNvGrpSpPr/>
            <p:nvPr/>
          </p:nvGrpSpPr>
          <p:grpSpPr>
            <a:xfrm>
              <a:off x="5632200" y="3492360"/>
              <a:ext cx="73080" cy="73080"/>
              <a:chOff x="5632200" y="3492360"/>
              <a:chExt cx="73080" cy="73080"/>
            </a:xfrm>
          </p:grpSpPr>
          <p:sp>
            <p:nvSpPr>
              <p:cNvPr id="4599" name=""/>
              <p:cNvSpPr/>
              <p:nvPr/>
            </p:nvSpPr>
            <p:spPr>
              <a:xfrm>
                <a:off x="5632200" y="349236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5632200" y="349236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01" name=""/>
            <p:cNvGrpSpPr/>
            <p:nvPr/>
          </p:nvGrpSpPr>
          <p:grpSpPr>
            <a:xfrm>
              <a:off x="5668560" y="3528720"/>
              <a:ext cx="92160" cy="73080"/>
              <a:chOff x="5668560" y="3528720"/>
              <a:chExt cx="92160" cy="73080"/>
            </a:xfrm>
          </p:grpSpPr>
          <p:sp>
            <p:nvSpPr>
              <p:cNvPr id="4602" name=""/>
              <p:cNvSpPr/>
              <p:nvPr/>
            </p:nvSpPr>
            <p:spPr>
              <a:xfrm>
                <a:off x="5668560" y="3528720"/>
                <a:ext cx="921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5668560" y="3528720"/>
                <a:ext cx="55800" cy="36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04" name=""/>
            <p:cNvGrpSpPr/>
            <p:nvPr/>
          </p:nvGrpSpPr>
          <p:grpSpPr>
            <a:xfrm>
              <a:off x="5724360" y="3565440"/>
              <a:ext cx="90360" cy="73080"/>
              <a:chOff x="5724360" y="3565440"/>
              <a:chExt cx="90360" cy="73080"/>
            </a:xfrm>
          </p:grpSpPr>
          <p:sp>
            <p:nvSpPr>
              <p:cNvPr id="4605" name=""/>
              <p:cNvSpPr/>
              <p:nvPr/>
            </p:nvSpPr>
            <p:spPr>
              <a:xfrm>
                <a:off x="5724360" y="3565440"/>
                <a:ext cx="903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5724360" y="356544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07" name=""/>
            <p:cNvGrpSpPr/>
            <p:nvPr/>
          </p:nvGrpSpPr>
          <p:grpSpPr>
            <a:xfrm>
              <a:off x="5778360" y="3601800"/>
              <a:ext cx="73080" cy="73080"/>
              <a:chOff x="5778360" y="3601800"/>
              <a:chExt cx="73080" cy="73080"/>
            </a:xfrm>
          </p:grpSpPr>
          <p:sp>
            <p:nvSpPr>
              <p:cNvPr id="4608" name=""/>
              <p:cNvSpPr/>
              <p:nvPr/>
            </p:nvSpPr>
            <p:spPr>
              <a:xfrm>
                <a:off x="5778360" y="36018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5778360" y="3601800"/>
                <a:ext cx="3636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10" name=""/>
            <p:cNvGrpSpPr/>
            <p:nvPr/>
          </p:nvGrpSpPr>
          <p:grpSpPr>
            <a:xfrm>
              <a:off x="5833800" y="3638520"/>
              <a:ext cx="73080" cy="72720"/>
              <a:chOff x="5833800" y="3638520"/>
              <a:chExt cx="73080" cy="72720"/>
            </a:xfrm>
          </p:grpSpPr>
          <p:sp>
            <p:nvSpPr>
              <p:cNvPr id="4611" name=""/>
              <p:cNvSpPr/>
              <p:nvPr/>
            </p:nvSpPr>
            <p:spPr>
              <a:xfrm>
                <a:off x="5833800" y="363852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5833800" y="36385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13" name=""/>
            <p:cNvGrpSpPr/>
            <p:nvPr/>
          </p:nvGrpSpPr>
          <p:grpSpPr>
            <a:xfrm>
              <a:off x="5887800" y="3674880"/>
              <a:ext cx="73080" cy="73080"/>
              <a:chOff x="5887800" y="3674880"/>
              <a:chExt cx="73080" cy="73080"/>
            </a:xfrm>
          </p:grpSpPr>
          <p:sp>
            <p:nvSpPr>
              <p:cNvPr id="4614" name=""/>
              <p:cNvSpPr/>
              <p:nvPr/>
            </p:nvSpPr>
            <p:spPr>
              <a:xfrm>
                <a:off x="5887800" y="36748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5887800" y="36748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16" name=""/>
            <p:cNvGrpSpPr/>
            <p:nvPr/>
          </p:nvGrpSpPr>
          <p:grpSpPr>
            <a:xfrm>
              <a:off x="5943240" y="3711240"/>
              <a:ext cx="71640" cy="73080"/>
              <a:chOff x="5943240" y="3711240"/>
              <a:chExt cx="71640" cy="73080"/>
            </a:xfrm>
          </p:grpSpPr>
          <p:sp>
            <p:nvSpPr>
              <p:cNvPr id="4617" name=""/>
              <p:cNvSpPr/>
              <p:nvPr/>
            </p:nvSpPr>
            <p:spPr>
              <a:xfrm>
                <a:off x="5943240" y="37112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5943240" y="371124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19" name=""/>
            <p:cNvGrpSpPr/>
            <p:nvPr/>
          </p:nvGrpSpPr>
          <p:grpSpPr>
            <a:xfrm>
              <a:off x="5997240" y="3747960"/>
              <a:ext cx="73080" cy="73080"/>
              <a:chOff x="5997240" y="3747960"/>
              <a:chExt cx="73080" cy="73080"/>
            </a:xfrm>
          </p:grpSpPr>
          <p:sp>
            <p:nvSpPr>
              <p:cNvPr id="4620" name=""/>
              <p:cNvSpPr/>
              <p:nvPr/>
            </p:nvSpPr>
            <p:spPr>
              <a:xfrm>
                <a:off x="5997240" y="374796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5997240" y="374796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2" name=""/>
            <p:cNvGrpSpPr/>
            <p:nvPr/>
          </p:nvGrpSpPr>
          <p:grpSpPr>
            <a:xfrm>
              <a:off x="6033960" y="3784320"/>
              <a:ext cx="90360" cy="73080"/>
              <a:chOff x="6033960" y="3784320"/>
              <a:chExt cx="90360" cy="73080"/>
            </a:xfrm>
          </p:grpSpPr>
          <p:sp>
            <p:nvSpPr>
              <p:cNvPr id="4623" name=""/>
              <p:cNvSpPr/>
              <p:nvPr/>
            </p:nvSpPr>
            <p:spPr>
              <a:xfrm>
                <a:off x="6033960" y="3784320"/>
                <a:ext cx="903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6033960" y="378432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5" name=""/>
            <p:cNvGrpSpPr/>
            <p:nvPr/>
          </p:nvGrpSpPr>
          <p:grpSpPr>
            <a:xfrm>
              <a:off x="6087960" y="3801960"/>
              <a:ext cx="91800" cy="91800"/>
              <a:chOff x="6087960" y="3801960"/>
              <a:chExt cx="91800" cy="91800"/>
            </a:xfrm>
          </p:grpSpPr>
          <p:sp>
            <p:nvSpPr>
              <p:cNvPr id="4626" name=""/>
              <p:cNvSpPr/>
              <p:nvPr/>
            </p:nvSpPr>
            <p:spPr>
              <a:xfrm>
                <a:off x="6087960" y="380196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1"/>
                    </a:moveTo>
                    <a:cubicBezTo>
                      <a:pt x="3" y="0"/>
                      <a:pt x="1" y="1"/>
                      <a:pt x="1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5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6087960" y="380196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8" name=""/>
            <p:cNvGrpSpPr/>
            <p:nvPr/>
          </p:nvGrpSpPr>
          <p:grpSpPr>
            <a:xfrm>
              <a:off x="6143400" y="3838320"/>
              <a:ext cx="73080" cy="90720"/>
              <a:chOff x="6143400" y="3838320"/>
              <a:chExt cx="73080" cy="90720"/>
            </a:xfrm>
          </p:grpSpPr>
          <p:sp>
            <p:nvSpPr>
              <p:cNvPr id="4629" name=""/>
              <p:cNvSpPr/>
              <p:nvPr/>
            </p:nvSpPr>
            <p:spPr>
              <a:xfrm>
                <a:off x="6143400" y="3838320"/>
                <a:ext cx="73080" cy="90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1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4" y="4"/>
                    </a:cubicBezTo>
                    <a:cubicBezTo>
                      <a:pt x="4" y="3"/>
                      <a:pt x="4" y="2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6143400" y="3838320"/>
                <a:ext cx="36360" cy="55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31" name=""/>
          <p:cNvSpPr/>
          <p:nvPr/>
        </p:nvSpPr>
        <p:spPr>
          <a:xfrm>
            <a:off x="5452920" y="3419640"/>
            <a:ext cx="763560" cy="582480"/>
          </a:xfrm>
          <a:custGeom>
            <a:avLst/>
            <a:gdLst/>
            <a:ahLst/>
            <a:rect l="l" t="t" r="r" b="b"/>
            <a:pathLst>
              <a:path w="482" h="367">
                <a:moveTo>
                  <a:pt x="459" y="367"/>
                </a:moveTo>
                <a:lnTo>
                  <a:pt x="482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32" name=""/>
          <p:cNvGrpSpPr/>
          <p:nvPr/>
        </p:nvGrpSpPr>
        <p:grpSpPr>
          <a:xfrm>
            <a:off x="5632560" y="3146400"/>
            <a:ext cx="748800" cy="545760"/>
            <a:chOff x="5632560" y="3146400"/>
            <a:chExt cx="748800" cy="545760"/>
          </a:xfrm>
        </p:grpSpPr>
        <p:grpSp>
          <p:nvGrpSpPr>
            <p:cNvPr id="4633" name=""/>
            <p:cNvGrpSpPr/>
            <p:nvPr/>
          </p:nvGrpSpPr>
          <p:grpSpPr>
            <a:xfrm>
              <a:off x="5632560" y="3146400"/>
              <a:ext cx="73080" cy="72720"/>
              <a:chOff x="5632560" y="3146400"/>
              <a:chExt cx="73080" cy="72720"/>
            </a:xfrm>
          </p:grpSpPr>
          <p:sp>
            <p:nvSpPr>
              <p:cNvPr id="4634" name=""/>
              <p:cNvSpPr/>
              <p:nvPr/>
            </p:nvSpPr>
            <p:spPr>
              <a:xfrm>
                <a:off x="5632560" y="314640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5632560" y="3146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36" name=""/>
            <p:cNvGrpSpPr/>
            <p:nvPr/>
          </p:nvGrpSpPr>
          <p:grpSpPr>
            <a:xfrm>
              <a:off x="5688000" y="3182760"/>
              <a:ext cx="73080" cy="73080"/>
              <a:chOff x="5688000" y="3182760"/>
              <a:chExt cx="73080" cy="73080"/>
            </a:xfrm>
          </p:grpSpPr>
          <p:sp>
            <p:nvSpPr>
              <p:cNvPr id="4637" name=""/>
              <p:cNvSpPr/>
              <p:nvPr/>
            </p:nvSpPr>
            <p:spPr>
              <a:xfrm>
                <a:off x="5688000" y="318276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5688000" y="318276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39" name=""/>
            <p:cNvGrpSpPr/>
            <p:nvPr/>
          </p:nvGrpSpPr>
          <p:grpSpPr>
            <a:xfrm>
              <a:off x="5742000" y="3219120"/>
              <a:ext cx="73080" cy="73080"/>
              <a:chOff x="5742000" y="3219120"/>
              <a:chExt cx="73080" cy="73080"/>
            </a:xfrm>
          </p:grpSpPr>
          <p:sp>
            <p:nvSpPr>
              <p:cNvPr id="4640" name=""/>
              <p:cNvSpPr/>
              <p:nvPr/>
            </p:nvSpPr>
            <p:spPr>
              <a:xfrm>
                <a:off x="5742000" y="32191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5742000" y="321912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42" name=""/>
            <p:cNvGrpSpPr/>
            <p:nvPr/>
          </p:nvGrpSpPr>
          <p:grpSpPr>
            <a:xfrm>
              <a:off x="5778720" y="3255840"/>
              <a:ext cx="91800" cy="73080"/>
              <a:chOff x="5778720" y="3255840"/>
              <a:chExt cx="91800" cy="73080"/>
            </a:xfrm>
          </p:grpSpPr>
          <p:sp>
            <p:nvSpPr>
              <p:cNvPr id="4643" name=""/>
              <p:cNvSpPr/>
              <p:nvPr/>
            </p:nvSpPr>
            <p:spPr>
              <a:xfrm>
                <a:off x="5778720" y="3255840"/>
                <a:ext cx="9180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2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778720" y="3255840"/>
                <a:ext cx="5544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45" name=""/>
            <p:cNvGrpSpPr/>
            <p:nvPr/>
          </p:nvGrpSpPr>
          <p:grpSpPr>
            <a:xfrm>
              <a:off x="5834520" y="3292200"/>
              <a:ext cx="90360" cy="71640"/>
              <a:chOff x="5834520" y="3292200"/>
              <a:chExt cx="90360" cy="71640"/>
            </a:xfrm>
          </p:grpSpPr>
          <p:sp>
            <p:nvSpPr>
              <p:cNvPr id="4646" name=""/>
              <p:cNvSpPr/>
              <p:nvPr/>
            </p:nvSpPr>
            <p:spPr>
              <a:xfrm>
                <a:off x="5834520" y="3292200"/>
                <a:ext cx="90360" cy="716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1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834520" y="329220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48" name=""/>
            <p:cNvGrpSpPr/>
            <p:nvPr/>
          </p:nvGrpSpPr>
          <p:grpSpPr>
            <a:xfrm>
              <a:off x="5888520" y="3328920"/>
              <a:ext cx="73080" cy="71280"/>
              <a:chOff x="5888520" y="3328920"/>
              <a:chExt cx="73080" cy="71280"/>
            </a:xfrm>
          </p:grpSpPr>
          <p:sp>
            <p:nvSpPr>
              <p:cNvPr id="4649" name=""/>
              <p:cNvSpPr/>
              <p:nvPr/>
            </p:nvSpPr>
            <p:spPr>
              <a:xfrm>
                <a:off x="5888520" y="332892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888520" y="332892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51" name=""/>
            <p:cNvGrpSpPr/>
            <p:nvPr/>
          </p:nvGrpSpPr>
          <p:grpSpPr>
            <a:xfrm>
              <a:off x="5943960" y="3363840"/>
              <a:ext cx="71640" cy="72720"/>
              <a:chOff x="5943960" y="3363840"/>
              <a:chExt cx="71640" cy="72720"/>
            </a:xfrm>
          </p:grpSpPr>
          <p:sp>
            <p:nvSpPr>
              <p:cNvPr id="4652" name=""/>
              <p:cNvSpPr/>
              <p:nvPr/>
            </p:nvSpPr>
            <p:spPr>
              <a:xfrm>
                <a:off x="5943960" y="3363840"/>
                <a:ext cx="7164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5943960" y="33638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54" name=""/>
            <p:cNvGrpSpPr/>
            <p:nvPr/>
          </p:nvGrpSpPr>
          <p:grpSpPr>
            <a:xfrm>
              <a:off x="5997960" y="3400200"/>
              <a:ext cx="73080" cy="73080"/>
              <a:chOff x="5997960" y="3400200"/>
              <a:chExt cx="73080" cy="73080"/>
            </a:xfrm>
          </p:grpSpPr>
          <p:sp>
            <p:nvSpPr>
              <p:cNvPr id="4655" name=""/>
              <p:cNvSpPr/>
              <p:nvPr/>
            </p:nvSpPr>
            <p:spPr>
              <a:xfrm>
                <a:off x="5997960" y="34002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5997960" y="340020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57" name=""/>
            <p:cNvGrpSpPr/>
            <p:nvPr/>
          </p:nvGrpSpPr>
          <p:grpSpPr>
            <a:xfrm>
              <a:off x="6052320" y="3436560"/>
              <a:ext cx="73080" cy="73080"/>
              <a:chOff x="6052320" y="3436560"/>
              <a:chExt cx="73080" cy="73080"/>
            </a:xfrm>
          </p:grpSpPr>
          <p:sp>
            <p:nvSpPr>
              <p:cNvPr id="4658" name=""/>
              <p:cNvSpPr/>
              <p:nvPr/>
            </p:nvSpPr>
            <p:spPr>
              <a:xfrm>
                <a:off x="6052320" y="343656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6052320" y="343656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60" name=""/>
            <p:cNvGrpSpPr/>
            <p:nvPr/>
          </p:nvGrpSpPr>
          <p:grpSpPr>
            <a:xfrm>
              <a:off x="6107760" y="3473280"/>
              <a:ext cx="73080" cy="73080"/>
              <a:chOff x="6107760" y="3473280"/>
              <a:chExt cx="73080" cy="73080"/>
            </a:xfrm>
          </p:grpSpPr>
          <p:sp>
            <p:nvSpPr>
              <p:cNvPr id="4661" name=""/>
              <p:cNvSpPr/>
              <p:nvPr/>
            </p:nvSpPr>
            <p:spPr>
              <a:xfrm>
                <a:off x="6107760" y="34732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6107760" y="347328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63" name=""/>
            <p:cNvGrpSpPr/>
            <p:nvPr/>
          </p:nvGrpSpPr>
          <p:grpSpPr>
            <a:xfrm>
              <a:off x="6144480" y="3509640"/>
              <a:ext cx="90360" cy="73080"/>
              <a:chOff x="6144480" y="3509640"/>
              <a:chExt cx="90360" cy="73080"/>
            </a:xfrm>
          </p:grpSpPr>
          <p:sp>
            <p:nvSpPr>
              <p:cNvPr id="4664" name=""/>
              <p:cNvSpPr/>
              <p:nvPr/>
            </p:nvSpPr>
            <p:spPr>
              <a:xfrm>
                <a:off x="6144480" y="3509640"/>
                <a:ext cx="903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2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6144480" y="35096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66" name=""/>
            <p:cNvGrpSpPr/>
            <p:nvPr/>
          </p:nvGrpSpPr>
          <p:grpSpPr>
            <a:xfrm>
              <a:off x="6198840" y="3546360"/>
              <a:ext cx="90360" cy="73080"/>
              <a:chOff x="6198840" y="3546360"/>
              <a:chExt cx="90360" cy="73080"/>
            </a:xfrm>
          </p:grpSpPr>
          <p:sp>
            <p:nvSpPr>
              <p:cNvPr id="4667" name=""/>
              <p:cNvSpPr/>
              <p:nvPr/>
            </p:nvSpPr>
            <p:spPr>
              <a:xfrm>
                <a:off x="6198840" y="3546360"/>
                <a:ext cx="903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6198840" y="3546360"/>
                <a:ext cx="5544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69" name=""/>
            <p:cNvGrpSpPr/>
            <p:nvPr/>
          </p:nvGrpSpPr>
          <p:grpSpPr>
            <a:xfrm>
              <a:off x="6254280" y="3582720"/>
              <a:ext cx="71640" cy="73080"/>
              <a:chOff x="6254280" y="3582720"/>
              <a:chExt cx="71640" cy="73080"/>
            </a:xfrm>
          </p:grpSpPr>
          <p:sp>
            <p:nvSpPr>
              <p:cNvPr id="4670" name=""/>
              <p:cNvSpPr/>
              <p:nvPr/>
            </p:nvSpPr>
            <p:spPr>
              <a:xfrm>
                <a:off x="6254280" y="358272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6254280" y="3582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72" name=""/>
            <p:cNvGrpSpPr/>
            <p:nvPr/>
          </p:nvGrpSpPr>
          <p:grpSpPr>
            <a:xfrm>
              <a:off x="6308280" y="3619440"/>
              <a:ext cx="73080" cy="72720"/>
              <a:chOff x="6308280" y="3619440"/>
              <a:chExt cx="73080" cy="72720"/>
            </a:xfrm>
          </p:grpSpPr>
          <p:sp>
            <p:nvSpPr>
              <p:cNvPr id="4673" name=""/>
              <p:cNvSpPr/>
              <p:nvPr/>
            </p:nvSpPr>
            <p:spPr>
              <a:xfrm>
                <a:off x="6308280" y="361944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6308280" y="361944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75" name=""/>
          <p:cNvSpPr/>
          <p:nvPr/>
        </p:nvSpPr>
        <p:spPr>
          <a:xfrm>
            <a:off x="5614920" y="3200400"/>
            <a:ext cx="766800" cy="565200"/>
          </a:xfrm>
          <a:custGeom>
            <a:avLst/>
            <a:gdLst/>
            <a:ahLst/>
            <a:rect l="l" t="t" r="r" b="b"/>
            <a:pathLst>
              <a:path w="482" h="356">
                <a:moveTo>
                  <a:pt x="459" y="356"/>
                </a:moveTo>
                <a:lnTo>
                  <a:pt x="482" y="333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6" name=""/>
          <p:cNvGrpSpPr/>
          <p:nvPr/>
        </p:nvGrpSpPr>
        <p:grpSpPr>
          <a:xfrm>
            <a:off x="5688000" y="3073320"/>
            <a:ext cx="746280" cy="546120"/>
            <a:chOff x="5688000" y="3073320"/>
            <a:chExt cx="746280" cy="546120"/>
          </a:xfrm>
        </p:grpSpPr>
        <p:grpSp>
          <p:nvGrpSpPr>
            <p:cNvPr id="4677" name=""/>
            <p:cNvGrpSpPr/>
            <p:nvPr/>
          </p:nvGrpSpPr>
          <p:grpSpPr>
            <a:xfrm>
              <a:off x="5688000" y="3073320"/>
              <a:ext cx="73080" cy="73080"/>
              <a:chOff x="5688000" y="3073320"/>
              <a:chExt cx="73080" cy="73080"/>
            </a:xfrm>
          </p:grpSpPr>
          <p:sp>
            <p:nvSpPr>
              <p:cNvPr id="4678" name=""/>
              <p:cNvSpPr/>
              <p:nvPr/>
            </p:nvSpPr>
            <p:spPr>
              <a:xfrm>
                <a:off x="5688000" y="307332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5688000" y="307332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80" name=""/>
            <p:cNvGrpSpPr/>
            <p:nvPr/>
          </p:nvGrpSpPr>
          <p:grpSpPr>
            <a:xfrm>
              <a:off x="5742000" y="3109680"/>
              <a:ext cx="73080" cy="73080"/>
              <a:chOff x="5742000" y="3109680"/>
              <a:chExt cx="73080" cy="73080"/>
            </a:xfrm>
          </p:grpSpPr>
          <p:sp>
            <p:nvSpPr>
              <p:cNvPr id="4681" name=""/>
              <p:cNvSpPr/>
              <p:nvPr/>
            </p:nvSpPr>
            <p:spPr>
              <a:xfrm>
                <a:off x="5742000" y="310968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742000" y="310968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83" name=""/>
            <p:cNvGrpSpPr/>
            <p:nvPr/>
          </p:nvGrpSpPr>
          <p:grpSpPr>
            <a:xfrm>
              <a:off x="5797800" y="3146400"/>
              <a:ext cx="72720" cy="72720"/>
              <a:chOff x="5797800" y="3146400"/>
              <a:chExt cx="72720" cy="72720"/>
            </a:xfrm>
          </p:grpSpPr>
          <p:sp>
            <p:nvSpPr>
              <p:cNvPr id="4684" name=""/>
              <p:cNvSpPr/>
              <p:nvPr/>
            </p:nvSpPr>
            <p:spPr>
              <a:xfrm>
                <a:off x="5797800" y="314640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5797800" y="3146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86" name=""/>
            <p:cNvGrpSpPr/>
            <p:nvPr/>
          </p:nvGrpSpPr>
          <p:grpSpPr>
            <a:xfrm>
              <a:off x="5834160" y="3182760"/>
              <a:ext cx="90360" cy="73080"/>
              <a:chOff x="5834160" y="3182760"/>
              <a:chExt cx="90360" cy="73080"/>
            </a:xfrm>
          </p:grpSpPr>
          <p:sp>
            <p:nvSpPr>
              <p:cNvPr id="4687" name=""/>
              <p:cNvSpPr/>
              <p:nvPr/>
            </p:nvSpPr>
            <p:spPr>
              <a:xfrm>
                <a:off x="5834160" y="3182760"/>
                <a:ext cx="903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2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834160" y="318276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89" name=""/>
            <p:cNvGrpSpPr/>
            <p:nvPr/>
          </p:nvGrpSpPr>
          <p:grpSpPr>
            <a:xfrm>
              <a:off x="5888160" y="3219120"/>
              <a:ext cx="90360" cy="73080"/>
              <a:chOff x="5888160" y="3219120"/>
              <a:chExt cx="90360" cy="73080"/>
            </a:xfrm>
          </p:grpSpPr>
          <p:sp>
            <p:nvSpPr>
              <p:cNvPr id="4690" name=""/>
              <p:cNvSpPr/>
              <p:nvPr/>
            </p:nvSpPr>
            <p:spPr>
              <a:xfrm>
                <a:off x="5888160" y="3219120"/>
                <a:ext cx="903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5888160" y="3219120"/>
                <a:ext cx="55440" cy="36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92" name=""/>
            <p:cNvGrpSpPr/>
            <p:nvPr/>
          </p:nvGrpSpPr>
          <p:grpSpPr>
            <a:xfrm>
              <a:off x="5943600" y="3255840"/>
              <a:ext cx="71640" cy="73080"/>
              <a:chOff x="5943600" y="3255840"/>
              <a:chExt cx="71640" cy="73080"/>
            </a:xfrm>
          </p:grpSpPr>
          <p:sp>
            <p:nvSpPr>
              <p:cNvPr id="4693" name=""/>
              <p:cNvSpPr/>
              <p:nvPr/>
            </p:nvSpPr>
            <p:spPr>
              <a:xfrm>
                <a:off x="5943600" y="32558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5943600" y="32558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95" name=""/>
            <p:cNvGrpSpPr/>
            <p:nvPr/>
          </p:nvGrpSpPr>
          <p:grpSpPr>
            <a:xfrm>
              <a:off x="5997600" y="3292200"/>
              <a:ext cx="73080" cy="71640"/>
              <a:chOff x="5997600" y="3292200"/>
              <a:chExt cx="73080" cy="71640"/>
            </a:xfrm>
          </p:grpSpPr>
          <p:sp>
            <p:nvSpPr>
              <p:cNvPr id="4696" name=""/>
              <p:cNvSpPr/>
              <p:nvPr/>
            </p:nvSpPr>
            <p:spPr>
              <a:xfrm>
                <a:off x="5997600" y="329220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5997600" y="329220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98" name=""/>
            <p:cNvGrpSpPr/>
            <p:nvPr/>
          </p:nvGrpSpPr>
          <p:grpSpPr>
            <a:xfrm>
              <a:off x="6051600" y="3328920"/>
              <a:ext cx="73080" cy="71280"/>
              <a:chOff x="6051600" y="3328920"/>
              <a:chExt cx="73080" cy="71280"/>
            </a:xfrm>
          </p:grpSpPr>
          <p:sp>
            <p:nvSpPr>
              <p:cNvPr id="4699" name=""/>
              <p:cNvSpPr/>
              <p:nvPr/>
            </p:nvSpPr>
            <p:spPr>
              <a:xfrm>
                <a:off x="6051600" y="332892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6051600" y="332892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01" name=""/>
            <p:cNvGrpSpPr/>
            <p:nvPr/>
          </p:nvGrpSpPr>
          <p:grpSpPr>
            <a:xfrm>
              <a:off x="6107040" y="3363840"/>
              <a:ext cx="73080" cy="72720"/>
              <a:chOff x="6107040" y="3363840"/>
              <a:chExt cx="73080" cy="72720"/>
            </a:xfrm>
          </p:grpSpPr>
          <p:sp>
            <p:nvSpPr>
              <p:cNvPr id="4702" name=""/>
              <p:cNvSpPr/>
              <p:nvPr/>
            </p:nvSpPr>
            <p:spPr>
              <a:xfrm>
                <a:off x="6107040" y="3363840"/>
                <a:ext cx="73080" cy="72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6107040" y="336384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04" name=""/>
            <p:cNvGrpSpPr/>
            <p:nvPr/>
          </p:nvGrpSpPr>
          <p:grpSpPr>
            <a:xfrm>
              <a:off x="6161040" y="3400200"/>
              <a:ext cx="73080" cy="73080"/>
              <a:chOff x="6161040" y="3400200"/>
              <a:chExt cx="73080" cy="73080"/>
            </a:xfrm>
          </p:grpSpPr>
          <p:sp>
            <p:nvSpPr>
              <p:cNvPr id="4705" name=""/>
              <p:cNvSpPr/>
              <p:nvPr/>
            </p:nvSpPr>
            <p:spPr>
              <a:xfrm>
                <a:off x="6161040" y="34002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6161040" y="340020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07" name=""/>
            <p:cNvGrpSpPr/>
            <p:nvPr/>
          </p:nvGrpSpPr>
          <p:grpSpPr>
            <a:xfrm>
              <a:off x="6197760" y="3436560"/>
              <a:ext cx="90360" cy="73080"/>
              <a:chOff x="6197760" y="3436560"/>
              <a:chExt cx="90360" cy="73080"/>
            </a:xfrm>
          </p:grpSpPr>
          <p:sp>
            <p:nvSpPr>
              <p:cNvPr id="4708" name=""/>
              <p:cNvSpPr/>
              <p:nvPr/>
            </p:nvSpPr>
            <p:spPr>
              <a:xfrm>
                <a:off x="6197760" y="3436560"/>
                <a:ext cx="9036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2"/>
                      <a:pt x="1" y="3"/>
                      <a:pt x="2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1"/>
                      <a:pt x="4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6197760" y="3436560"/>
                <a:ext cx="55440" cy="367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10" name=""/>
            <p:cNvGrpSpPr/>
            <p:nvPr/>
          </p:nvGrpSpPr>
          <p:grpSpPr>
            <a:xfrm>
              <a:off x="6253200" y="3473280"/>
              <a:ext cx="90720" cy="73080"/>
              <a:chOff x="6253200" y="3473280"/>
              <a:chExt cx="90720" cy="73080"/>
            </a:xfrm>
          </p:grpSpPr>
          <p:sp>
            <p:nvSpPr>
              <p:cNvPr id="4711" name=""/>
              <p:cNvSpPr/>
              <p:nvPr/>
            </p:nvSpPr>
            <p:spPr>
              <a:xfrm>
                <a:off x="6253200" y="3473280"/>
                <a:ext cx="90720" cy="73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6253200" y="347328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13" name=""/>
            <p:cNvGrpSpPr/>
            <p:nvPr/>
          </p:nvGrpSpPr>
          <p:grpSpPr>
            <a:xfrm>
              <a:off x="6307200" y="3509640"/>
              <a:ext cx="73080" cy="73080"/>
              <a:chOff x="6307200" y="3509640"/>
              <a:chExt cx="73080" cy="73080"/>
            </a:xfrm>
          </p:grpSpPr>
          <p:sp>
            <p:nvSpPr>
              <p:cNvPr id="4714" name=""/>
              <p:cNvSpPr/>
              <p:nvPr/>
            </p:nvSpPr>
            <p:spPr>
              <a:xfrm>
                <a:off x="6307200" y="35096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6307200" y="3509640"/>
                <a:ext cx="36720" cy="36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16" name=""/>
            <p:cNvGrpSpPr/>
            <p:nvPr/>
          </p:nvGrpSpPr>
          <p:grpSpPr>
            <a:xfrm>
              <a:off x="6361200" y="3546360"/>
              <a:ext cx="73080" cy="73080"/>
              <a:chOff x="6361200" y="3546360"/>
              <a:chExt cx="73080" cy="73080"/>
            </a:xfrm>
          </p:grpSpPr>
          <p:sp>
            <p:nvSpPr>
              <p:cNvPr id="4717" name=""/>
              <p:cNvSpPr/>
              <p:nvPr/>
            </p:nvSpPr>
            <p:spPr>
              <a:xfrm>
                <a:off x="6361200" y="354636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ffd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6361200" y="354636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d1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9" name=""/>
          <p:cNvSpPr/>
          <p:nvPr/>
        </p:nvSpPr>
        <p:spPr>
          <a:xfrm>
            <a:off x="5668920" y="3127320"/>
            <a:ext cx="765360" cy="565200"/>
          </a:xfrm>
          <a:custGeom>
            <a:avLst/>
            <a:gdLst/>
            <a:ahLst/>
            <a:rect l="l" t="t" r="r" b="b"/>
            <a:pathLst>
              <a:path w="482" h="356">
                <a:moveTo>
                  <a:pt x="459" y="356"/>
                </a:moveTo>
                <a:lnTo>
                  <a:pt x="482" y="322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0" name=""/>
          <p:cNvGrpSpPr/>
          <p:nvPr/>
        </p:nvGrpSpPr>
        <p:grpSpPr>
          <a:xfrm>
            <a:off x="3524400" y="2637000"/>
            <a:ext cx="1473840" cy="1621800"/>
            <a:chOff x="3524400" y="2637000"/>
            <a:chExt cx="1473840" cy="1621800"/>
          </a:xfrm>
        </p:grpSpPr>
        <p:grpSp>
          <p:nvGrpSpPr>
            <p:cNvPr id="4721" name=""/>
            <p:cNvGrpSpPr/>
            <p:nvPr/>
          </p:nvGrpSpPr>
          <p:grpSpPr>
            <a:xfrm>
              <a:off x="3541320" y="3638520"/>
              <a:ext cx="745560" cy="546840"/>
              <a:chOff x="3541320" y="3638520"/>
              <a:chExt cx="745560" cy="546840"/>
            </a:xfrm>
          </p:grpSpPr>
          <p:grpSp>
            <p:nvGrpSpPr>
              <p:cNvPr id="4722" name=""/>
              <p:cNvGrpSpPr/>
              <p:nvPr/>
            </p:nvGrpSpPr>
            <p:grpSpPr>
              <a:xfrm>
                <a:off x="3541320" y="3638520"/>
                <a:ext cx="72720" cy="72360"/>
                <a:chOff x="3541320" y="3638520"/>
                <a:chExt cx="72720" cy="72360"/>
              </a:xfrm>
            </p:grpSpPr>
            <p:sp>
              <p:nvSpPr>
                <p:cNvPr id="4723" name=""/>
                <p:cNvSpPr/>
                <p:nvPr/>
              </p:nvSpPr>
              <p:spPr>
                <a:xfrm>
                  <a:off x="3541320" y="36385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4" name=""/>
                <p:cNvSpPr/>
                <p:nvPr/>
              </p:nvSpPr>
              <p:spPr>
                <a:xfrm>
                  <a:off x="3541320" y="36385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5" name=""/>
              <p:cNvGrpSpPr/>
              <p:nvPr/>
            </p:nvGrpSpPr>
            <p:grpSpPr>
              <a:xfrm>
                <a:off x="3577680" y="3674520"/>
                <a:ext cx="90000" cy="72720"/>
                <a:chOff x="3577680" y="3674520"/>
                <a:chExt cx="90000" cy="72720"/>
              </a:xfrm>
            </p:grpSpPr>
            <p:sp>
              <p:nvSpPr>
                <p:cNvPr id="4726" name=""/>
                <p:cNvSpPr/>
                <p:nvPr/>
              </p:nvSpPr>
              <p:spPr>
                <a:xfrm>
                  <a:off x="3577680" y="36745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>
                  <a:off x="3577680" y="36745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8" name=""/>
              <p:cNvGrpSpPr/>
              <p:nvPr/>
            </p:nvGrpSpPr>
            <p:grpSpPr>
              <a:xfrm>
                <a:off x="3631680" y="3710880"/>
                <a:ext cx="91800" cy="72720"/>
                <a:chOff x="3631680" y="3710880"/>
                <a:chExt cx="91800" cy="72720"/>
              </a:xfrm>
            </p:grpSpPr>
            <p:sp>
              <p:nvSpPr>
                <p:cNvPr id="4729" name=""/>
                <p:cNvSpPr/>
                <p:nvPr/>
              </p:nvSpPr>
              <p:spPr>
                <a:xfrm>
                  <a:off x="3631680" y="37108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0" name=""/>
                <p:cNvSpPr/>
                <p:nvPr/>
              </p:nvSpPr>
              <p:spPr>
                <a:xfrm>
                  <a:off x="3631680" y="371088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1" name=""/>
              <p:cNvGrpSpPr/>
              <p:nvPr/>
            </p:nvGrpSpPr>
            <p:grpSpPr>
              <a:xfrm>
                <a:off x="3687120" y="3747600"/>
                <a:ext cx="90000" cy="72720"/>
                <a:chOff x="3687120" y="3747600"/>
                <a:chExt cx="90000" cy="72720"/>
              </a:xfrm>
            </p:grpSpPr>
            <p:sp>
              <p:nvSpPr>
                <p:cNvPr id="4732" name=""/>
                <p:cNvSpPr/>
                <p:nvPr/>
              </p:nvSpPr>
              <p:spPr>
                <a:xfrm>
                  <a:off x="3687120" y="37476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3" name=""/>
                <p:cNvSpPr/>
                <p:nvPr/>
              </p:nvSpPr>
              <p:spPr>
                <a:xfrm>
                  <a:off x="3687120" y="3747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4" name=""/>
              <p:cNvGrpSpPr/>
              <p:nvPr/>
            </p:nvGrpSpPr>
            <p:grpSpPr>
              <a:xfrm>
                <a:off x="3741120" y="3783960"/>
                <a:ext cx="72720" cy="72720"/>
                <a:chOff x="3741120" y="3783960"/>
                <a:chExt cx="72720" cy="72720"/>
              </a:xfrm>
            </p:grpSpPr>
            <p:sp>
              <p:nvSpPr>
                <p:cNvPr id="4735" name=""/>
                <p:cNvSpPr/>
                <p:nvPr/>
              </p:nvSpPr>
              <p:spPr>
                <a:xfrm>
                  <a:off x="3741120" y="3783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6" name=""/>
                <p:cNvSpPr/>
                <p:nvPr/>
              </p:nvSpPr>
              <p:spPr>
                <a:xfrm>
                  <a:off x="3741120" y="37839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7" name=""/>
              <p:cNvGrpSpPr/>
              <p:nvPr/>
            </p:nvGrpSpPr>
            <p:grpSpPr>
              <a:xfrm>
                <a:off x="3796560" y="3820680"/>
                <a:ext cx="72720" cy="72720"/>
                <a:chOff x="3796560" y="3820680"/>
                <a:chExt cx="72720" cy="72720"/>
              </a:xfrm>
            </p:grpSpPr>
            <p:sp>
              <p:nvSpPr>
                <p:cNvPr id="4738" name=""/>
                <p:cNvSpPr/>
                <p:nvPr/>
              </p:nvSpPr>
              <p:spPr>
                <a:xfrm>
                  <a:off x="3796560" y="3820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9" name=""/>
                <p:cNvSpPr/>
                <p:nvPr/>
              </p:nvSpPr>
              <p:spPr>
                <a:xfrm>
                  <a:off x="3796560" y="38206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0" name=""/>
              <p:cNvGrpSpPr/>
              <p:nvPr/>
            </p:nvGrpSpPr>
            <p:grpSpPr>
              <a:xfrm>
                <a:off x="3850560" y="3857040"/>
                <a:ext cx="72720" cy="72720"/>
                <a:chOff x="3850560" y="3857040"/>
                <a:chExt cx="72720" cy="72720"/>
              </a:xfrm>
            </p:grpSpPr>
            <p:sp>
              <p:nvSpPr>
                <p:cNvPr id="4741" name=""/>
                <p:cNvSpPr/>
                <p:nvPr/>
              </p:nvSpPr>
              <p:spPr>
                <a:xfrm>
                  <a:off x="3850560" y="3857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2" name=""/>
                <p:cNvSpPr/>
                <p:nvPr/>
              </p:nvSpPr>
              <p:spPr>
                <a:xfrm>
                  <a:off x="3850560" y="38570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3" name=""/>
              <p:cNvGrpSpPr/>
              <p:nvPr/>
            </p:nvGrpSpPr>
            <p:grpSpPr>
              <a:xfrm>
                <a:off x="3906360" y="3893760"/>
                <a:ext cx="70920" cy="72360"/>
                <a:chOff x="3906360" y="3893760"/>
                <a:chExt cx="70920" cy="72360"/>
              </a:xfrm>
            </p:grpSpPr>
            <p:sp>
              <p:nvSpPr>
                <p:cNvPr id="4744" name=""/>
                <p:cNvSpPr/>
                <p:nvPr/>
              </p:nvSpPr>
              <p:spPr>
                <a:xfrm>
                  <a:off x="3906360" y="389376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5" name=""/>
                <p:cNvSpPr/>
                <p:nvPr/>
              </p:nvSpPr>
              <p:spPr>
                <a:xfrm>
                  <a:off x="3906360" y="38937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6" name=""/>
              <p:cNvGrpSpPr/>
              <p:nvPr/>
            </p:nvGrpSpPr>
            <p:grpSpPr>
              <a:xfrm>
                <a:off x="3942720" y="3930120"/>
                <a:ext cx="90000" cy="72720"/>
                <a:chOff x="3942720" y="3930120"/>
                <a:chExt cx="90000" cy="72720"/>
              </a:xfrm>
            </p:grpSpPr>
            <p:sp>
              <p:nvSpPr>
                <p:cNvPr id="4747" name=""/>
                <p:cNvSpPr/>
                <p:nvPr/>
              </p:nvSpPr>
              <p:spPr>
                <a:xfrm>
                  <a:off x="3942720" y="39301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8" name=""/>
                <p:cNvSpPr/>
                <p:nvPr/>
              </p:nvSpPr>
              <p:spPr>
                <a:xfrm>
                  <a:off x="3942720" y="39301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9" name=""/>
              <p:cNvGrpSpPr/>
              <p:nvPr/>
            </p:nvGrpSpPr>
            <p:grpSpPr>
              <a:xfrm>
                <a:off x="3996720" y="3966480"/>
                <a:ext cx="90000" cy="72720"/>
                <a:chOff x="3996720" y="3966480"/>
                <a:chExt cx="90000" cy="72720"/>
              </a:xfrm>
            </p:grpSpPr>
            <p:sp>
              <p:nvSpPr>
                <p:cNvPr id="4750" name=""/>
                <p:cNvSpPr/>
                <p:nvPr/>
              </p:nvSpPr>
              <p:spPr>
                <a:xfrm>
                  <a:off x="3996720" y="39664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>
                  <a:off x="3996720" y="396648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2" name=""/>
              <p:cNvGrpSpPr/>
              <p:nvPr/>
            </p:nvGrpSpPr>
            <p:grpSpPr>
              <a:xfrm>
                <a:off x="4050720" y="3984120"/>
                <a:ext cx="91800" cy="91800"/>
                <a:chOff x="4050720" y="3984120"/>
                <a:chExt cx="91800" cy="91800"/>
              </a:xfrm>
            </p:grpSpPr>
            <p:sp>
              <p:nvSpPr>
                <p:cNvPr id="4753" name=""/>
                <p:cNvSpPr/>
                <p:nvPr/>
              </p:nvSpPr>
              <p:spPr>
                <a:xfrm>
                  <a:off x="4050720" y="398412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4" name=""/>
                <p:cNvSpPr/>
                <p:nvPr/>
              </p:nvSpPr>
              <p:spPr>
                <a:xfrm>
                  <a:off x="4050720" y="3984120"/>
                  <a:ext cx="5508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5" name=""/>
              <p:cNvGrpSpPr/>
              <p:nvPr/>
            </p:nvGrpSpPr>
            <p:grpSpPr>
              <a:xfrm>
                <a:off x="4106160" y="4020480"/>
                <a:ext cx="72720" cy="91800"/>
                <a:chOff x="4106160" y="4020480"/>
                <a:chExt cx="72720" cy="91800"/>
              </a:xfrm>
            </p:grpSpPr>
            <p:sp>
              <p:nvSpPr>
                <p:cNvPr id="4756" name=""/>
                <p:cNvSpPr/>
                <p:nvPr/>
              </p:nvSpPr>
              <p:spPr>
                <a:xfrm>
                  <a:off x="4106160" y="40204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7" name=""/>
                <p:cNvSpPr/>
                <p:nvPr/>
              </p:nvSpPr>
              <p:spPr>
                <a:xfrm>
                  <a:off x="4106160" y="402048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8" name=""/>
              <p:cNvGrpSpPr/>
              <p:nvPr/>
            </p:nvGrpSpPr>
            <p:grpSpPr>
              <a:xfrm>
                <a:off x="4160160" y="4057200"/>
                <a:ext cx="72720" cy="91800"/>
                <a:chOff x="4160160" y="4057200"/>
                <a:chExt cx="72720" cy="91800"/>
              </a:xfrm>
            </p:grpSpPr>
            <p:sp>
              <p:nvSpPr>
                <p:cNvPr id="4759" name=""/>
                <p:cNvSpPr/>
                <p:nvPr/>
              </p:nvSpPr>
              <p:spPr>
                <a:xfrm>
                  <a:off x="4160160" y="40572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0" name=""/>
                <p:cNvSpPr/>
                <p:nvPr/>
              </p:nvSpPr>
              <p:spPr>
                <a:xfrm>
                  <a:off x="4160160" y="40572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1" name=""/>
              <p:cNvGrpSpPr/>
              <p:nvPr/>
            </p:nvGrpSpPr>
            <p:grpSpPr>
              <a:xfrm>
                <a:off x="4215960" y="4093560"/>
                <a:ext cx="70920" cy="91800"/>
                <a:chOff x="4215960" y="4093560"/>
                <a:chExt cx="70920" cy="91800"/>
              </a:xfrm>
            </p:grpSpPr>
            <p:sp>
              <p:nvSpPr>
                <p:cNvPr id="4762" name=""/>
                <p:cNvSpPr/>
                <p:nvPr/>
              </p:nvSpPr>
              <p:spPr>
                <a:xfrm>
                  <a:off x="4215960" y="409356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>
                  <a:off x="4215960" y="40935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64" name=""/>
            <p:cNvSpPr/>
            <p:nvPr/>
          </p:nvSpPr>
          <p:spPr>
            <a:xfrm>
              <a:off x="3524400" y="3674880"/>
              <a:ext cx="74556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65" name=""/>
            <p:cNvGrpSpPr/>
            <p:nvPr/>
          </p:nvGrpSpPr>
          <p:grpSpPr>
            <a:xfrm>
              <a:off x="3978000" y="3019320"/>
              <a:ext cx="747000" cy="545400"/>
              <a:chOff x="3978000" y="3019320"/>
              <a:chExt cx="747000" cy="545400"/>
            </a:xfrm>
          </p:grpSpPr>
          <p:grpSp>
            <p:nvGrpSpPr>
              <p:cNvPr id="4766" name=""/>
              <p:cNvGrpSpPr/>
              <p:nvPr/>
            </p:nvGrpSpPr>
            <p:grpSpPr>
              <a:xfrm>
                <a:off x="3978000" y="3019320"/>
                <a:ext cx="72720" cy="72720"/>
                <a:chOff x="3978000" y="3019320"/>
                <a:chExt cx="72720" cy="72720"/>
              </a:xfrm>
            </p:grpSpPr>
            <p:sp>
              <p:nvSpPr>
                <p:cNvPr id="4767" name=""/>
                <p:cNvSpPr/>
                <p:nvPr/>
              </p:nvSpPr>
              <p:spPr>
                <a:xfrm>
                  <a:off x="3978000" y="3019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8" name=""/>
                <p:cNvSpPr/>
                <p:nvPr/>
              </p:nvSpPr>
              <p:spPr>
                <a:xfrm>
                  <a:off x="3978000" y="30193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9" name=""/>
              <p:cNvGrpSpPr/>
              <p:nvPr/>
            </p:nvGrpSpPr>
            <p:grpSpPr>
              <a:xfrm>
                <a:off x="4014000" y="3055320"/>
                <a:ext cx="91800" cy="72720"/>
                <a:chOff x="4014000" y="3055320"/>
                <a:chExt cx="91800" cy="72720"/>
              </a:xfrm>
            </p:grpSpPr>
            <p:sp>
              <p:nvSpPr>
                <p:cNvPr id="4770" name=""/>
                <p:cNvSpPr/>
                <p:nvPr/>
              </p:nvSpPr>
              <p:spPr>
                <a:xfrm>
                  <a:off x="4014000" y="30553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1" name=""/>
                <p:cNvSpPr/>
                <p:nvPr/>
              </p:nvSpPr>
              <p:spPr>
                <a:xfrm>
                  <a:off x="4014000" y="305532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2" name=""/>
              <p:cNvGrpSpPr/>
              <p:nvPr/>
            </p:nvGrpSpPr>
            <p:grpSpPr>
              <a:xfrm>
                <a:off x="4069800" y="3092040"/>
                <a:ext cx="90000" cy="72720"/>
                <a:chOff x="4069800" y="3092040"/>
                <a:chExt cx="90000" cy="72720"/>
              </a:xfrm>
            </p:grpSpPr>
            <p:sp>
              <p:nvSpPr>
                <p:cNvPr id="4773" name=""/>
                <p:cNvSpPr/>
                <p:nvPr/>
              </p:nvSpPr>
              <p:spPr>
                <a:xfrm>
                  <a:off x="4069800" y="30920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4" name=""/>
                <p:cNvSpPr/>
                <p:nvPr/>
              </p:nvSpPr>
              <p:spPr>
                <a:xfrm>
                  <a:off x="4069800" y="309204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5" name=""/>
              <p:cNvGrpSpPr/>
              <p:nvPr/>
            </p:nvGrpSpPr>
            <p:grpSpPr>
              <a:xfrm>
                <a:off x="4123800" y="3128400"/>
                <a:ext cx="72720" cy="72720"/>
                <a:chOff x="4123800" y="3128400"/>
                <a:chExt cx="72720" cy="72720"/>
              </a:xfrm>
            </p:grpSpPr>
            <p:sp>
              <p:nvSpPr>
                <p:cNvPr id="4776" name=""/>
                <p:cNvSpPr/>
                <p:nvPr/>
              </p:nvSpPr>
              <p:spPr>
                <a:xfrm>
                  <a:off x="4123800" y="3128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7" name=""/>
                <p:cNvSpPr/>
                <p:nvPr/>
              </p:nvSpPr>
              <p:spPr>
                <a:xfrm>
                  <a:off x="4123800" y="31284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8" name=""/>
              <p:cNvGrpSpPr/>
              <p:nvPr/>
            </p:nvGrpSpPr>
            <p:grpSpPr>
              <a:xfrm>
                <a:off x="4179240" y="3165120"/>
                <a:ext cx="72720" cy="72360"/>
                <a:chOff x="4179240" y="3165120"/>
                <a:chExt cx="72720" cy="72360"/>
              </a:xfrm>
            </p:grpSpPr>
            <p:sp>
              <p:nvSpPr>
                <p:cNvPr id="4779" name=""/>
                <p:cNvSpPr/>
                <p:nvPr/>
              </p:nvSpPr>
              <p:spPr>
                <a:xfrm>
                  <a:off x="4179240" y="31651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0" name=""/>
                <p:cNvSpPr/>
                <p:nvPr/>
              </p:nvSpPr>
              <p:spPr>
                <a:xfrm>
                  <a:off x="4179240" y="31651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1" name=""/>
              <p:cNvGrpSpPr/>
              <p:nvPr/>
            </p:nvGrpSpPr>
            <p:grpSpPr>
              <a:xfrm>
                <a:off x="4233240" y="3201480"/>
                <a:ext cx="72720" cy="72720"/>
                <a:chOff x="4233240" y="3201480"/>
                <a:chExt cx="72720" cy="72720"/>
              </a:xfrm>
            </p:grpSpPr>
            <p:sp>
              <p:nvSpPr>
                <p:cNvPr id="4782" name=""/>
                <p:cNvSpPr/>
                <p:nvPr/>
              </p:nvSpPr>
              <p:spPr>
                <a:xfrm>
                  <a:off x="4233240" y="3201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3" name=""/>
                <p:cNvSpPr/>
                <p:nvPr/>
              </p:nvSpPr>
              <p:spPr>
                <a:xfrm>
                  <a:off x="4233240" y="32014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4" name=""/>
              <p:cNvGrpSpPr/>
              <p:nvPr/>
            </p:nvGrpSpPr>
            <p:grpSpPr>
              <a:xfrm>
                <a:off x="4287240" y="3237840"/>
                <a:ext cx="72720" cy="72720"/>
                <a:chOff x="4287240" y="3237840"/>
                <a:chExt cx="72720" cy="72720"/>
              </a:xfrm>
            </p:grpSpPr>
            <p:sp>
              <p:nvSpPr>
                <p:cNvPr id="4785" name=""/>
                <p:cNvSpPr/>
                <p:nvPr/>
              </p:nvSpPr>
              <p:spPr>
                <a:xfrm>
                  <a:off x="4287240" y="3237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6" name=""/>
                <p:cNvSpPr/>
                <p:nvPr/>
              </p:nvSpPr>
              <p:spPr>
                <a:xfrm>
                  <a:off x="4287240" y="32378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7" name=""/>
              <p:cNvGrpSpPr/>
              <p:nvPr/>
            </p:nvGrpSpPr>
            <p:grpSpPr>
              <a:xfrm>
                <a:off x="4342680" y="3274560"/>
                <a:ext cx="72720" cy="72720"/>
                <a:chOff x="4342680" y="3274560"/>
                <a:chExt cx="72720" cy="72720"/>
              </a:xfrm>
            </p:grpSpPr>
            <p:sp>
              <p:nvSpPr>
                <p:cNvPr id="4788" name=""/>
                <p:cNvSpPr/>
                <p:nvPr/>
              </p:nvSpPr>
              <p:spPr>
                <a:xfrm>
                  <a:off x="434268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9" name=""/>
                <p:cNvSpPr/>
                <p:nvPr/>
              </p:nvSpPr>
              <p:spPr>
                <a:xfrm>
                  <a:off x="4342680" y="3274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0" name=""/>
              <p:cNvGrpSpPr/>
              <p:nvPr/>
            </p:nvGrpSpPr>
            <p:grpSpPr>
              <a:xfrm>
                <a:off x="4379400" y="3310920"/>
                <a:ext cx="90000" cy="71280"/>
                <a:chOff x="4379400" y="3310920"/>
                <a:chExt cx="90000" cy="71280"/>
              </a:xfrm>
            </p:grpSpPr>
            <p:sp>
              <p:nvSpPr>
                <p:cNvPr id="4791" name=""/>
                <p:cNvSpPr/>
                <p:nvPr/>
              </p:nvSpPr>
              <p:spPr>
                <a:xfrm>
                  <a:off x="4379400" y="3310920"/>
                  <a:ext cx="90000" cy="712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2" name=""/>
                <p:cNvSpPr/>
                <p:nvPr/>
              </p:nvSpPr>
              <p:spPr>
                <a:xfrm>
                  <a:off x="4379400" y="33109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3" name=""/>
              <p:cNvGrpSpPr/>
              <p:nvPr/>
            </p:nvGrpSpPr>
            <p:grpSpPr>
              <a:xfrm>
                <a:off x="4433400" y="3347640"/>
                <a:ext cx="91440" cy="70920"/>
                <a:chOff x="4433400" y="3347640"/>
                <a:chExt cx="91440" cy="70920"/>
              </a:xfrm>
            </p:grpSpPr>
            <p:sp>
              <p:nvSpPr>
                <p:cNvPr id="4794" name=""/>
                <p:cNvSpPr/>
                <p:nvPr/>
              </p:nvSpPr>
              <p:spPr>
                <a:xfrm>
                  <a:off x="4433400" y="3347640"/>
                  <a:ext cx="9144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>
                  <a:off x="4433400" y="3347640"/>
                  <a:ext cx="55080" cy="34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6" name=""/>
              <p:cNvGrpSpPr/>
              <p:nvPr/>
            </p:nvGrpSpPr>
            <p:grpSpPr>
              <a:xfrm>
                <a:off x="4488840" y="3382560"/>
                <a:ext cx="72720" cy="72360"/>
                <a:chOff x="4488840" y="3382560"/>
                <a:chExt cx="72720" cy="72360"/>
              </a:xfrm>
            </p:grpSpPr>
            <p:sp>
              <p:nvSpPr>
                <p:cNvPr id="4797" name=""/>
                <p:cNvSpPr/>
                <p:nvPr/>
              </p:nvSpPr>
              <p:spPr>
                <a:xfrm>
                  <a:off x="4488840" y="33825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8" name=""/>
                <p:cNvSpPr/>
                <p:nvPr/>
              </p:nvSpPr>
              <p:spPr>
                <a:xfrm>
                  <a:off x="4488840" y="33825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9" name=""/>
              <p:cNvGrpSpPr/>
              <p:nvPr/>
            </p:nvGrpSpPr>
            <p:grpSpPr>
              <a:xfrm>
                <a:off x="4542840" y="3418920"/>
                <a:ext cx="72720" cy="72720"/>
                <a:chOff x="4542840" y="3418920"/>
                <a:chExt cx="72720" cy="72720"/>
              </a:xfrm>
            </p:grpSpPr>
            <p:sp>
              <p:nvSpPr>
                <p:cNvPr id="4800" name=""/>
                <p:cNvSpPr/>
                <p:nvPr/>
              </p:nvSpPr>
              <p:spPr>
                <a:xfrm>
                  <a:off x="4542840" y="341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>
                  <a:off x="4542840" y="3418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2" name=""/>
              <p:cNvGrpSpPr/>
              <p:nvPr/>
            </p:nvGrpSpPr>
            <p:grpSpPr>
              <a:xfrm>
                <a:off x="4596840" y="3455280"/>
                <a:ext cx="72720" cy="72720"/>
                <a:chOff x="4596840" y="3455280"/>
                <a:chExt cx="72720" cy="72720"/>
              </a:xfrm>
            </p:grpSpPr>
            <p:sp>
              <p:nvSpPr>
                <p:cNvPr id="4803" name=""/>
                <p:cNvSpPr/>
                <p:nvPr/>
              </p:nvSpPr>
              <p:spPr>
                <a:xfrm>
                  <a:off x="4596840" y="34552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4" name=""/>
                <p:cNvSpPr/>
                <p:nvPr/>
              </p:nvSpPr>
              <p:spPr>
                <a:xfrm>
                  <a:off x="4596840" y="3455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5" name=""/>
              <p:cNvGrpSpPr/>
              <p:nvPr/>
            </p:nvGrpSpPr>
            <p:grpSpPr>
              <a:xfrm>
                <a:off x="4652280" y="3492000"/>
                <a:ext cx="72720" cy="72720"/>
                <a:chOff x="4652280" y="3492000"/>
                <a:chExt cx="72720" cy="72720"/>
              </a:xfrm>
            </p:grpSpPr>
            <p:sp>
              <p:nvSpPr>
                <p:cNvPr id="4806" name=""/>
                <p:cNvSpPr/>
                <p:nvPr/>
              </p:nvSpPr>
              <p:spPr>
                <a:xfrm>
                  <a:off x="4652280" y="3492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7" name=""/>
                <p:cNvSpPr/>
                <p:nvPr/>
              </p:nvSpPr>
              <p:spPr>
                <a:xfrm>
                  <a:off x="4652280" y="34920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08" name=""/>
            <p:cNvSpPr/>
            <p:nvPr/>
          </p:nvSpPr>
          <p:spPr>
            <a:xfrm>
              <a:off x="3960720" y="307332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09" name=""/>
            <p:cNvGrpSpPr/>
            <p:nvPr/>
          </p:nvGrpSpPr>
          <p:grpSpPr>
            <a:xfrm>
              <a:off x="4014360" y="2946240"/>
              <a:ext cx="764640" cy="545400"/>
              <a:chOff x="4014360" y="2946240"/>
              <a:chExt cx="764640" cy="545400"/>
            </a:xfrm>
          </p:grpSpPr>
          <p:grpSp>
            <p:nvGrpSpPr>
              <p:cNvPr id="4810" name=""/>
              <p:cNvGrpSpPr/>
              <p:nvPr/>
            </p:nvGrpSpPr>
            <p:grpSpPr>
              <a:xfrm>
                <a:off x="4014360" y="2946240"/>
                <a:ext cx="91800" cy="72720"/>
                <a:chOff x="4014360" y="2946240"/>
                <a:chExt cx="91800" cy="72720"/>
              </a:xfrm>
            </p:grpSpPr>
            <p:sp>
              <p:nvSpPr>
                <p:cNvPr id="4811" name=""/>
                <p:cNvSpPr/>
                <p:nvPr/>
              </p:nvSpPr>
              <p:spPr>
                <a:xfrm>
                  <a:off x="4014360" y="294624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>
                  <a:off x="4014360" y="294624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3" name=""/>
              <p:cNvGrpSpPr/>
              <p:nvPr/>
            </p:nvGrpSpPr>
            <p:grpSpPr>
              <a:xfrm>
                <a:off x="4069800" y="2982240"/>
                <a:ext cx="90000" cy="72720"/>
                <a:chOff x="4069800" y="2982240"/>
                <a:chExt cx="90000" cy="72720"/>
              </a:xfrm>
            </p:grpSpPr>
            <p:sp>
              <p:nvSpPr>
                <p:cNvPr id="4814" name=""/>
                <p:cNvSpPr/>
                <p:nvPr/>
              </p:nvSpPr>
              <p:spPr>
                <a:xfrm>
                  <a:off x="4069800" y="29822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>
                  <a:off x="4069800" y="29822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6" name=""/>
              <p:cNvGrpSpPr/>
              <p:nvPr/>
            </p:nvGrpSpPr>
            <p:grpSpPr>
              <a:xfrm>
                <a:off x="4123800" y="3018960"/>
                <a:ext cx="72720" cy="72720"/>
                <a:chOff x="4123800" y="3018960"/>
                <a:chExt cx="72720" cy="72720"/>
              </a:xfrm>
            </p:grpSpPr>
            <p:sp>
              <p:nvSpPr>
                <p:cNvPr id="4817" name=""/>
                <p:cNvSpPr/>
                <p:nvPr/>
              </p:nvSpPr>
              <p:spPr>
                <a:xfrm>
                  <a:off x="4123800" y="3018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>
                  <a:off x="4123800" y="3018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9" name=""/>
              <p:cNvGrpSpPr/>
              <p:nvPr/>
            </p:nvGrpSpPr>
            <p:grpSpPr>
              <a:xfrm>
                <a:off x="4179240" y="3055320"/>
                <a:ext cx="72720" cy="72720"/>
                <a:chOff x="4179240" y="3055320"/>
                <a:chExt cx="72720" cy="72720"/>
              </a:xfrm>
            </p:grpSpPr>
            <p:sp>
              <p:nvSpPr>
                <p:cNvPr id="4820" name=""/>
                <p:cNvSpPr/>
                <p:nvPr/>
              </p:nvSpPr>
              <p:spPr>
                <a:xfrm>
                  <a:off x="4179240" y="3055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>
                  <a:off x="4179240" y="30553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2" name=""/>
              <p:cNvGrpSpPr/>
              <p:nvPr/>
            </p:nvGrpSpPr>
            <p:grpSpPr>
              <a:xfrm>
                <a:off x="4233240" y="3092040"/>
                <a:ext cx="72720" cy="72720"/>
                <a:chOff x="4233240" y="3092040"/>
                <a:chExt cx="72720" cy="72720"/>
              </a:xfrm>
            </p:grpSpPr>
            <p:sp>
              <p:nvSpPr>
                <p:cNvPr id="4823" name=""/>
                <p:cNvSpPr/>
                <p:nvPr/>
              </p:nvSpPr>
              <p:spPr>
                <a:xfrm>
                  <a:off x="4233240" y="3092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>
                  <a:off x="4233240" y="30920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5" name=""/>
              <p:cNvGrpSpPr/>
              <p:nvPr/>
            </p:nvGrpSpPr>
            <p:grpSpPr>
              <a:xfrm>
                <a:off x="4287240" y="3128400"/>
                <a:ext cx="72720" cy="72720"/>
                <a:chOff x="4287240" y="3128400"/>
                <a:chExt cx="72720" cy="72720"/>
              </a:xfrm>
            </p:grpSpPr>
            <p:sp>
              <p:nvSpPr>
                <p:cNvPr id="4826" name=""/>
                <p:cNvSpPr/>
                <p:nvPr/>
              </p:nvSpPr>
              <p:spPr>
                <a:xfrm>
                  <a:off x="4287240" y="3128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>
                  <a:off x="4287240" y="31284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8" name=""/>
              <p:cNvGrpSpPr/>
              <p:nvPr/>
            </p:nvGrpSpPr>
            <p:grpSpPr>
              <a:xfrm>
                <a:off x="4342680" y="3165120"/>
                <a:ext cx="72720" cy="72360"/>
                <a:chOff x="4342680" y="3165120"/>
                <a:chExt cx="72720" cy="72360"/>
              </a:xfrm>
            </p:grpSpPr>
            <p:sp>
              <p:nvSpPr>
                <p:cNvPr id="4829" name=""/>
                <p:cNvSpPr/>
                <p:nvPr/>
              </p:nvSpPr>
              <p:spPr>
                <a:xfrm>
                  <a:off x="4342680" y="316512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>
                  <a:off x="4342680" y="31651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1" name=""/>
              <p:cNvGrpSpPr/>
              <p:nvPr/>
            </p:nvGrpSpPr>
            <p:grpSpPr>
              <a:xfrm>
                <a:off x="4379400" y="3201480"/>
                <a:ext cx="90000" cy="72720"/>
                <a:chOff x="4379400" y="3201480"/>
                <a:chExt cx="90000" cy="72720"/>
              </a:xfrm>
            </p:grpSpPr>
            <p:sp>
              <p:nvSpPr>
                <p:cNvPr id="4832" name=""/>
                <p:cNvSpPr/>
                <p:nvPr/>
              </p:nvSpPr>
              <p:spPr>
                <a:xfrm>
                  <a:off x="4379400" y="32014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3" name=""/>
                <p:cNvSpPr/>
                <p:nvPr/>
              </p:nvSpPr>
              <p:spPr>
                <a:xfrm>
                  <a:off x="4379400" y="320148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4" name=""/>
              <p:cNvGrpSpPr/>
              <p:nvPr/>
            </p:nvGrpSpPr>
            <p:grpSpPr>
              <a:xfrm>
                <a:off x="4433400" y="3237840"/>
                <a:ext cx="91440" cy="72720"/>
                <a:chOff x="4433400" y="3237840"/>
                <a:chExt cx="91440" cy="72720"/>
              </a:xfrm>
            </p:grpSpPr>
            <p:sp>
              <p:nvSpPr>
                <p:cNvPr id="4835" name=""/>
                <p:cNvSpPr/>
                <p:nvPr/>
              </p:nvSpPr>
              <p:spPr>
                <a:xfrm>
                  <a:off x="4433400" y="3237840"/>
                  <a:ext cx="9144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6" name=""/>
                <p:cNvSpPr/>
                <p:nvPr/>
              </p:nvSpPr>
              <p:spPr>
                <a:xfrm>
                  <a:off x="4433400" y="3237840"/>
                  <a:ext cx="550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7" name=""/>
              <p:cNvGrpSpPr/>
              <p:nvPr/>
            </p:nvGrpSpPr>
            <p:grpSpPr>
              <a:xfrm>
                <a:off x="4488840" y="3274560"/>
                <a:ext cx="72720" cy="72720"/>
                <a:chOff x="4488840" y="3274560"/>
                <a:chExt cx="72720" cy="72720"/>
              </a:xfrm>
            </p:grpSpPr>
            <p:sp>
              <p:nvSpPr>
                <p:cNvPr id="4838" name=""/>
                <p:cNvSpPr/>
                <p:nvPr/>
              </p:nvSpPr>
              <p:spPr>
                <a:xfrm>
                  <a:off x="448884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>
                  <a:off x="4488840" y="32745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0" name=""/>
              <p:cNvGrpSpPr/>
              <p:nvPr/>
            </p:nvGrpSpPr>
            <p:grpSpPr>
              <a:xfrm>
                <a:off x="4542840" y="3310920"/>
                <a:ext cx="72720" cy="71280"/>
                <a:chOff x="4542840" y="3310920"/>
                <a:chExt cx="72720" cy="71280"/>
              </a:xfrm>
            </p:grpSpPr>
            <p:sp>
              <p:nvSpPr>
                <p:cNvPr id="4841" name=""/>
                <p:cNvSpPr/>
                <p:nvPr/>
              </p:nvSpPr>
              <p:spPr>
                <a:xfrm>
                  <a:off x="4542840" y="33109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4542840" y="3310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3" name=""/>
              <p:cNvGrpSpPr/>
              <p:nvPr/>
            </p:nvGrpSpPr>
            <p:grpSpPr>
              <a:xfrm>
                <a:off x="4596840" y="3347640"/>
                <a:ext cx="72720" cy="70920"/>
                <a:chOff x="4596840" y="3347640"/>
                <a:chExt cx="72720" cy="70920"/>
              </a:xfrm>
            </p:grpSpPr>
            <p:sp>
              <p:nvSpPr>
                <p:cNvPr id="4844" name=""/>
                <p:cNvSpPr/>
                <p:nvPr/>
              </p:nvSpPr>
              <p:spPr>
                <a:xfrm>
                  <a:off x="4596840" y="334764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5" name=""/>
                <p:cNvSpPr/>
                <p:nvPr/>
              </p:nvSpPr>
              <p:spPr>
                <a:xfrm>
                  <a:off x="4596840" y="334764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6" name=""/>
              <p:cNvGrpSpPr/>
              <p:nvPr/>
            </p:nvGrpSpPr>
            <p:grpSpPr>
              <a:xfrm>
                <a:off x="4652280" y="3382560"/>
                <a:ext cx="72720" cy="72360"/>
                <a:chOff x="4652280" y="3382560"/>
                <a:chExt cx="72720" cy="72360"/>
              </a:xfrm>
            </p:grpSpPr>
            <p:sp>
              <p:nvSpPr>
                <p:cNvPr id="4847" name=""/>
                <p:cNvSpPr/>
                <p:nvPr/>
              </p:nvSpPr>
              <p:spPr>
                <a:xfrm>
                  <a:off x="4652280" y="33825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8" name=""/>
                <p:cNvSpPr/>
                <p:nvPr/>
              </p:nvSpPr>
              <p:spPr>
                <a:xfrm>
                  <a:off x="4652280" y="3382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9" name=""/>
              <p:cNvGrpSpPr/>
              <p:nvPr/>
            </p:nvGrpSpPr>
            <p:grpSpPr>
              <a:xfrm>
                <a:off x="4706280" y="3418920"/>
                <a:ext cx="72720" cy="72720"/>
                <a:chOff x="4706280" y="3418920"/>
                <a:chExt cx="72720" cy="72720"/>
              </a:xfrm>
            </p:grpSpPr>
            <p:sp>
              <p:nvSpPr>
                <p:cNvPr id="4850" name=""/>
                <p:cNvSpPr/>
                <p:nvPr/>
              </p:nvSpPr>
              <p:spPr>
                <a:xfrm>
                  <a:off x="4706280" y="341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1" name=""/>
                <p:cNvSpPr/>
                <p:nvPr/>
              </p:nvSpPr>
              <p:spPr>
                <a:xfrm>
                  <a:off x="4706280" y="34189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52" name=""/>
            <p:cNvSpPr/>
            <p:nvPr/>
          </p:nvSpPr>
          <p:spPr>
            <a:xfrm>
              <a:off x="4014360" y="298260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48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53" name=""/>
            <p:cNvGrpSpPr/>
            <p:nvPr/>
          </p:nvGrpSpPr>
          <p:grpSpPr>
            <a:xfrm>
              <a:off x="4179600" y="2709720"/>
              <a:ext cx="762840" cy="545400"/>
              <a:chOff x="4179600" y="2709720"/>
              <a:chExt cx="762840" cy="545400"/>
            </a:xfrm>
          </p:grpSpPr>
          <p:grpSp>
            <p:nvGrpSpPr>
              <p:cNvPr id="4854" name=""/>
              <p:cNvGrpSpPr/>
              <p:nvPr/>
            </p:nvGrpSpPr>
            <p:grpSpPr>
              <a:xfrm>
                <a:off x="4179600" y="2709720"/>
                <a:ext cx="90000" cy="70920"/>
                <a:chOff x="4179600" y="2709720"/>
                <a:chExt cx="90000" cy="70920"/>
              </a:xfrm>
            </p:grpSpPr>
            <p:sp>
              <p:nvSpPr>
                <p:cNvPr id="4855" name=""/>
                <p:cNvSpPr/>
                <p:nvPr/>
              </p:nvSpPr>
              <p:spPr>
                <a:xfrm>
                  <a:off x="4179600" y="2709720"/>
                  <a:ext cx="90000" cy="70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6" name=""/>
                <p:cNvSpPr/>
                <p:nvPr/>
              </p:nvSpPr>
              <p:spPr>
                <a:xfrm>
                  <a:off x="4179600" y="27097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7" name=""/>
              <p:cNvGrpSpPr/>
              <p:nvPr/>
            </p:nvGrpSpPr>
            <p:grpSpPr>
              <a:xfrm>
                <a:off x="4233240" y="2745720"/>
                <a:ext cx="90000" cy="90360"/>
                <a:chOff x="4233240" y="2745720"/>
                <a:chExt cx="90000" cy="90360"/>
              </a:xfrm>
            </p:grpSpPr>
            <p:sp>
              <p:nvSpPr>
                <p:cNvPr id="4858" name=""/>
                <p:cNvSpPr/>
                <p:nvPr/>
              </p:nvSpPr>
              <p:spPr>
                <a:xfrm>
                  <a:off x="4233240" y="274572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9" name=""/>
                <p:cNvSpPr/>
                <p:nvPr/>
              </p:nvSpPr>
              <p:spPr>
                <a:xfrm>
                  <a:off x="4233240" y="274572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0" name=""/>
              <p:cNvGrpSpPr/>
              <p:nvPr/>
            </p:nvGrpSpPr>
            <p:grpSpPr>
              <a:xfrm>
                <a:off x="4287240" y="2780640"/>
                <a:ext cx="72720" cy="72720"/>
                <a:chOff x="4287240" y="2780640"/>
                <a:chExt cx="72720" cy="72720"/>
              </a:xfrm>
            </p:grpSpPr>
            <p:sp>
              <p:nvSpPr>
                <p:cNvPr id="4861" name=""/>
                <p:cNvSpPr/>
                <p:nvPr/>
              </p:nvSpPr>
              <p:spPr>
                <a:xfrm>
                  <a:off x="4287240" y="27806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>
                  <a:off x="4287240" y="27806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3" name=""/>
              <p:cNvGrpSpPr/>
              <p:nvPr/>
            </p:nvGrpSpPr>
            <p:grpSpPr>
              <a:xfrm>
                <a:off x="4342680" y="2817360"/>
                <a:ext cx="72720" cy="72720"/>
                <a:chOff x="4342680" y="2817360"/>
                <a:chExt cx="72720" cy="72720"/>
              </a:xfrm>
            </p:grpSpPr>
            <p:sp>
              <p:nvSpPr>
                <p:cNvPr id="4864" name=""/>
                <p:cNvSpPr/>
                <p:nvPr/>
              </p:nvSpPr>
              <p:spPr>
                <a:xfrm>
                  <a:off x="4342680" y="2817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5" name=""/>
                <p:cNvSpPr/>
                <p:nvPr/>
              </p:nvSpPr>
              <p:spPr>
                <a:xfrm>
                  <a:off x="4342680" y="28173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6" name=""/>
              <p:cNvGrpSpPr/>
              <p:nvPr/>
            </p:nvGrpSpPr>
            <p:grpSpPr>
              <a:xfrm>
                <a:off x="4396680" y="2853720"/>
                <a:ext cx="72720" cy="72720"/>
                <a:chOff x="4396680" y="2853720"/>
                <a:chExt cx="72720" cy="72720"/>
              </a:xfrm>
            </p:grpSpPr>
            <p:sp>
              <p:nvSpPr>
                <p:cNvPr id="4867" name=""/>
                <p:cNvSpPr/>
                <p:nvPr/>
              </p:nvSpPr>
              <p:spPr>
                <a:xfrm>
                  <a:off x="4396680" y="2853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8" name=""/>
                <p:cNvSpPr/>
                <p:nvPr/>
              </p:nvSpPr>
              <p:spPr>
                <a:xfrm>
                  <a:off x="4396680" y="28537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9" name=""/>
              <p:cNvGrpSpPr/>
              <p:nvPr/>
            </p:nvGrpSpPr>
            <p:grpSpPr>
              <a:xfrm>
                <a:off x="4452480" y="2890440"/>
                <a:ext cx="72360" cy="72360"/>
                <a:chOff x="4452480" y="2890440"/>
                <a:chExt cx="72360" cy="72360"/>
              </a:xfrm>
            </p:grpSpPr>
            <p:sp>
              <p:nvSpPr>
                <p:cNvPr id="4870" name=""/>
                <p:cNvSpPr/>
                <p:nvPr/>
              </p:nvSpPr>
              <p:spPr>
                <a:xfrm>
                  <a:off x="4452480" y="289044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1" name=""/>
                <p:cNvSpPr/>
                <p:nvPr/>
              </p:nvSpPr>
              <p:spPr>
                <a:xfrm>
                  <a:off x="4452480" y="28904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2" name=""/>
              <p:cNvGrpSpPr/>
              <p:nvPr/>
            </p:nvGrpSpPr>
            <p:grpSpPr>
              <a:xfrm>
                <a:off x="4506120" y="2926800"/>
                <a:ext cx="72720" cy="72720"/>
                <a:chOff x="4506120" y="2926800"/>
                <a:chExt cx="72720" cy="72720"/>
              </a:xfrm>
            </p:grpSpPr>
            <p:sp>
              <p:nvSpPr>
                <p:cNvPr id="4873" name=""/>
                <p:cNvSpPr/>
                <p:nvPr/>
              </p:nvSpPr>
              <p:spPr>
                <a:xfrm>
                  <a:off x="4506120" y="29268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4" name=""/>
                <p:cNvSpPr/>
                <p:nvPr/>
              </p:nvSpPr>
              <p:spPr>
                <a:xfrm>
                  <a:off x="4506120" y="29268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5" name=""/>
              <p:cNvGrpSpPr/>
              <p:nvPr/>
            </p:nvGrpSpPr>
            <p:grpSpPr>
              <a:xfrm>
                <a:off x="4542840" y="2963160"/>
                <a:ext cx="90000" cy="72720"/>
                <a:chOff x="4542840" y="2963160"/>
                <a:chExt cx="90000" cy="72720"/>
              </a:xfrm>
            </p:grpSpPr>
            <p:sp>
              <p:nvSpPr>
                <p:cNvPr id="4876" name=""/>
                <p:cNvSpPr/>
                <p:nvPr/>
              </p:nvSpPr>
              <p:spPr>
                <a:xfrm>
                  <a:off x="4542840" y="29631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7" name=""/>
                <p:cNvSpPr/>
                <p:nvPr/>
              </p:nvSpPr>
              <p:spPr>
                <a:xfrm>
                  <a:off x="4542840" y="29631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8" name=""/>
              <p:cNvGrpSpPr/>
              <p:nvPr/>
            </p:nvGrpSpPr>
            <p:grpSpPr>
              <a:xfrm>
                <a:off x="4596840" y="2999880"/>
                <a:ext cx="91800" cy="72720"/>
                <a:chOff x="4596840" y="2999880"/>
                <a:chExt cx="91800" cy="72720"/>
              </a:xfrm>
            </p:grpSpPr>
            <p:sp>
              <p:nvSpPr>
                <p:cNvPr id="4879" name=""/>
                <p:cNvSpPr/>
                <p:nvPr/>
              </p:nvSpPr>
              <p:spPr>
                <a:xfrm>
                  <a:off x="4596840" y="29998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0" name=""/>
                <p:cNvSpPr/>
                <p:nvPr/>
              </p:nvSpPr>
              <p:spPr>
                <a:xfrm>
                  <a:off x="4596840" y="299988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1" name=""/>
              <p:cNvGrpSpPr/>
              <p:nvPr/>
            </p:nvGrpSpPr>
            <p:grpSpPr>
              <a:xfrm>
                <a:off x="4652280" y="3036240"/>
                <a:ext cx="72720" cy="72720"/>
                <a:chOff x="4652280" y="3036240"/>
                <a:chExt cx="72720" cy="72720"/>
              </a:xfrm>
            </p:grpSpPr>
            <p:sp>
              <p:nvSpPr>
                <p:cNvPr id="4882" name=""/>
                <p:cNvSpPr/>
                <p:nvPr/>
              </p:nvSpPr>
              <p:spPr>
                <a:xfrm>
                  <a:off x="4652280" y="3036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3" name=""/>
                <p:cNvSpPr/>
                <p:nvPr/>
              </p:nvSpPr>
              <p:spPr>
                <a:xfrm>
                  <a:off x="4652280" y="30362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4" name=""/>
              <p:cNvGrpSpPr/>
              <p:nvPr/>
            </p:nvGrpSpPr>
            <p:grpSpPr>
              <a:xfrm>
                <a:off x="4706280" y="3072960"/>
                <a:ext cx="72720" cy="72720"/>
                <a:chOff x="4706280" y="3072960"/>
                <a:chExt cx="72720" cy="72720"/>
              </a:xfrm>
            </p:grpSpPr>
            <p:sp>
              <p:nvSpPr>
                <p:cNvPr id="4885" name=""/>
                <p:cNvSpPr/>
                <p:nvPr/>
              </p:nvSpPr>
              <p:spPr>
                <a:xfrm>
                  <a:off x="4706280" y="3072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6" name=""/>
                <p:cNvSpPr/>
                <p:nvPr/>
              </p:nvSpPr>
              <p:spPr>
                <a:xfrm>
                  <a:off x="4706280" y="30729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7" name=""/>
              <p:cNvGrpSpPr/>
              <p:nvPr/>
            </p:nvGrpSpPr>
            <p:grpSpPr>
              <a:xfrm>
                <a:off x="4761720" y="3109320"/>
                <a:ext cx="72720" cy="72720"/>
                <a:chOff x="4761720" y="3109320"/>
                <a:chExt cx="72720" cy="72720"/>
              </a:xfrm>
            </p:grpSpPr>
            <p:sp>
              <p:nvSpPr>
                <p:cNvPr id="4888" name=""/>
                <p:cNvSpPr/>
                <p:nvPr/>
              </p:nvSpPr>
              <p:spPr>
                <a:xfrm>
                  <a:off x="4761720" y="31093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9" name=""/>
                <p:cNvSpPr/>
                <p:nvPr/>
              </p:nvSpPr>
              <p:spPr>
                <a:xfrm>
                  <a:off x="4761720" y="31093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0" name=""/>
              <p:cNvGrpSpPr/>
              <p:nvPr/>
            </p:nvGrpSpPr>
            <p:grpSpPr>
              <a:xfrm>
                <a:off x="4815720" y="3146040"/>
                <a:ext cx="72720" cy="72360"/>
                <a:chOff x="4815720" y="3146040"/>
                <a:chExt cx="72720" cy="72360"/>
              </a:xfrm>
            </p:grpSpPr>
            <p:sp>
              <p:nvSpPr>
                <p:cNvPr id="4891" name=""/>
                <p:cNvSpPr/>
                <p:nvPr/>
              </p:nvSpPr>
              <p:spPr>
                <a:xfrm>
                  <a:off x="4815720" y="31460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2" name=""/>
                <p:cNvSpPr/>
                <p:nvPr/>
              </p:nvSpPr>
              <p:spPr>
                <a:xfrm>
                  <a:off x="4815720" y="31460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3" name=""/>
              <p:cNvGrpSpPr/>
              <p:nvPr/>
            </p:nvGrpSpPr>
            <p:grpSpPr>
              <a:xfrm>
                <a:off x="4871520" y="3182400"/>
                <a:ext cx="70920" cy="72720"/>
                <a:chOff x="4871520" y="3182400"/>
                <a:chExt cx="70920" cy="72720"/>
              </a:xfrm>
            </p:grpSpPr>
            <p:sp>
              <p:nvSpPr>
                <p:cNvPr id="4894" name=""/>
                <p:cNvSpPr/>
                <p:nvPr/>
              </p:nvSpPr>
              <p:spPr>
                <a:xfrm>
                  <a:off x="4871520" y="318240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>
                  <a:off x="4871520" y="31824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96" name=""/>
            <p:cNvSpPr/>
            <p:nvPr/>
          </p:nvSpPr>
          <p:spPr>
            <a:xfrm>
              <a:off x="4179600" y="276372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97" name=""/>
            <p:cNvGrpSpPr/>
            <p:nvPr/>
          </p:nvGrpSpPr>
          <p:grpSpPr>
            <a:xfrm>
              <a:off x="3651120" y="3474720"/>
              <a:ext cx="745200" cy="545400"/>
              <a:chOff x="3651120" y="3474720"/>
              <a:chExt cx="745200" cy="545400"/>
            </a:xfrm>
          </p:grpSpPr>
          <p:grpSp>
            <p:nvGrpSpPr>
              <p:cNvPr id="4898" name=""/>
              <p:cNvGrpSpPr/>
              <p:nvPr/>
            </p:nvGrpSpPr>
            <p:grpSpPr>
              <a:xfrm>
                <a:off x="3651120" y="3474720"/>
                <a:ext cx="72720" cy="90360"/>
                <a:chOff x="3651120" y="3474720"/>
                <a:chExt cx="72720" cy="90360"/>
              </a:xfrm>
            </p:grpSpPr>
            <p:sp>
              <p:nvSpPr>
                <p:cNvPr id="4899" name=""/>
                <p:cNvSpPr/>
                <p:nvPr/>
              </p:nvSpPr>
              <p:spPr>
                <a:xfrm>
                  <a:off x="3651120" y="347472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0" name=""/>
                <p:cNvSpPr/>
                <p:nvPr/>
              </p:nvSpPr>
              <p:spPr>
                <a:xfrm>
                  <a:off x="3651120" y="34747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1" name=""/>
              <p:cNvGrpSpPr/>
              <p:nvPr/>
            </p:nvGrpSpPr>
            <p:grpSpPr>
              <a:xfrm>
                <a:off x="3687120" y="3511080"/>
                <a:ext cx="90000" cy="90000"/>
                <a:chOff x="3687120" y="3511080"/>
                <a:chExt cx="90000" cy="90000"/>
              </a:xfrm>
            </p:grpSpPr>
            <p:sp>
              <p:nvSpPr>
                <p:cNvPr id="4902" name=""/>
                <p:cNvSpPr/>
                <p:nvPr/>
              </p:nvSpPr>
              <p:spPr>
                <a:xfrm>
                  <a:off x="3687120" y="351108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3" name=""/>
                <p:cNvSpPr/>
                <p:nvPr/>
              </p:nvSpPr>
              <p:spPr>
                <a:xfrm>
                  <a:off x="3687120" y="35110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4" name=""/>
              <p:cNvGrpSpPr/>
              <p:nvPr/>
            </p:nvGrpSpPr>
            <p:grpSpPr>
              <a:xfrm>
                <a:off x="3741120" y="3547440"/>
                <a:ext cx="91800" cy="90360"/>
                <a:chOff x="3741120" y="3547440"/>
                <a:chExt cx="91800" cy="90360"/>
              </a:xfrm>
            </p:grpSpPr>
            <p:sp>
              <p:nvSpPr>
                <p:cNvPr id="4905" name=""/>
                <p:cNvSpPr/>
                <p:nvPr/>
              </p:nvSpPr>
              <p:spPr>
                <a:xfrm>
                  <a:off x="3741120" y="3547440"/>
                  <a:ext cx="918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6" name=""/>
                <p:cNvSpPr/>
                <p:nvPr/>
              </p:nvSpPr>
              <p:spPr>
                <a:xfrm>
                  <a:off x="3741120" y="354744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7" name=""/>
              <p:cNvGrpSpPr/>
              <p:nvPr/>
            </p:nvGrpSpPr>
            <p:grpSpPr>
              <a:xfrm>
                <a:off x="3796560" y="3584160"/>
                <a:ext cx="90360" cy="90000"/>
                <a:chOff x="3796560" y="3584160"/>
                <a:chExt cx="90360" cy="90000"/>
              </a:xfrm>
            </p:grpSpPr>
            <p:sp>
              <p:nvSpPr>
                <p:cNvPr id="4908" name=""/>
                <p:cNvSpPr/>
                <p:nvPr/>
              </p:nvSpPr>
              <p:spPr>
                <a:xfrm>
                  <a:off x="3796560" y="3584160"/>
                  <a:ext cx="9036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9" name=""/>
                <p:cNvSpPr/>
                <p:nvPr/>
              </p:nvSpPr>
              <p:spPr>
                <a:xfrm>
                  <a:off x="3796560" y="358416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0" name=""/>
              <p:cNvGrpSpPr/>
              <p:nvPr/>
            </p:nvGrpSpPr>
            <p:grpSpPr>
              <a:xfrm>
                <a:off x="3850560" y="3620520"/>
                <a:ext cx="72720" cy="72720"/>
                <a:chOff x="3850560" y="3620520"/>
                <a:chExt cx="72720" cy="72720"/>
              </a:xfrm>
            </p:grpSpPr>
            <p:sp>
              <p:nvSpPr>
                <p:cNvPr id="4911" name=""/>
                <p:cNvSpPr/>
                <p:nvPr/>
              </p:nvSpPr>
              <p:spPr>
                <a:xfrm>
                  <a:off x="3850560" y="3620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2" name=""/>
                <p:cNvSpPr/>
                <p:nvPr/>
              </p:nvSpPr>
              <p:spPr>
                <a:xfrm>
                  <a:off x="3850560" y="3620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3" name=""/>
              <p:cNvGrpSpPr/>
              <p:nvPr/>
            </p:nvGrpSpPr>
            <p:grpSpPr>
              <a:xfrm>
                <a:off x="3906360" y="3657240"/>
                <a:ext cx="70920" cy="72360"/>
                <a:chOff x="3906360" y="3657240"/>
                <a:chExt cx="70920" cy="72360"/>
              </a:xfrm>
            </p:grpSpPr>
            <p:sp>
              <p:nvSpPr>
                <p:cNvPr id="4914" name=""/>
                <p:cNvSpPr/>
                <p:nvPr/>
              </p:nvSpPr>
              <p:spPr>
                <a:xfrm>
                  <a:off x="3906360" y="3657240"/>
                  <a:ext cx="709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5" name=""/>
                <p:cNvSpPr/>
                <p:nvPr/>
              </p:nvSpPr>
              <p:spPr>
                <a:xfrm>
                  <a:off x="3906360" y="36572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6" name=""/>
              <p:cNvGrpSpPr/>
              <p:nvPr/>
            </p:nvGrpSpPr>
            <p:grpSpPr>
              <a:xfrm>
                <a:off x="3960360" y="3693600"/>
                <a:ext cx="72360" cy="72720"/>
                <a:chOff x="3960360" y="3693600"/>
                <a:chExt cx="72360" cy="72720"/>
              </a:xfrm>
            </p:grpSpPr>
            <p:sp>
              <p:nvSpPr>
                <p:cNvPr id="4917" name=""/>
                <p:cNvSpPr/>
                <p:nvPr/>
              </p:nvSpPr>
              <p:spPr>
                <a:xfrm>
                  <a:off x="3960360" y="36936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8" name=""/>
                <p:cNvSpPr/>
                <p:nvPr/>
              </p:nvSpPr>
              <p:spPr>
                <a:xfrm>
                  <a:off x="3960360" y="36936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9" name=""/>
              <p:cNvGrpSpPr/>
              <p:nvPr/>
            </p:nvGrpSpPr>
            <p:grpSpPr>
              <a:xfrm>
                <a:off x="4014000" y="3729960"/>
                <a:ext cx="72720" cy="72720"/>
                <a:chOff x="4014000" y="3729960"/>
                <a:chExt cx="72720" cy="72720"/>
              </a:xfrm>
            </p:grpSpPr>
            <p:sp>
              <p:nvSpPr>
                <p:cNvPr id="4920" name=""/>
                <p:cNvSpPr/>
                <p:nvPr/>
              </p:nvSpPr>
              <p:spPr>
                <a:xfrm>
                  <a:off x="4014000" y="3729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>
                  <a:off x="4014000" y="37299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2" name=""/>
              <p:cNvGrpSpPr/>
              <p:nvPr/>
            </p:nvGrpSpPr>
            <p:grpSpPr>
              <a:xfrm>
                <a:off x="4050720" y="3766680"/>
                <a:ext cx="91800" cy="72720"/>
                <a:chOff x="4050720" y="3766680"/>
                <a:chExt cx="91800" cy="72720"/>
              </a:xfrm>
            </p:grpSpPr>
            <p:sp>
              <p:nvSpPr>
                <p:cNvPr id="4923" name=""/>
                <p:cNvSpPr/>
                <p:nvPr/>
              </p:nvSpPr>
              <p:spPr>
                <a:xfrm>
                  <a:off x="4050720" y="37666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4" name=""/>
                <p:cNvSpPr/>
                <p:nvPr/>
              </p:nvSpPr>
              <p:spPr>
                <a:xfrm>
                  <a:off x="4050720" y="376668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5" name=""/>
              <p:cNvGrpSpPr/>
              <p:nvPr/>
            </p:nvGrpSpPr>
            <p:grpSpPr>
              <a:xfrm>
                <a:off x="4106160" y="3803040"/>
                <a:ext cx="90360" cy="72720"/>
                <a:chOff x="4106160" y="3803040"/>
                <a:chExt cx="90360" cy="72720"/>
              </a:xfrm>
            </p:grpSpPr>
            <p:sp>
              <p:nvSpPr>
                <p:cNvPr id="4926" name=""/>
                <p:cNvSpPr/>
                <p:nvPr/>
              </p:nvSpPr>
              <p:spPr>
                <a:xfrm>
                  <a:off x="4106160" y="380304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4106160" y="380304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8" name=""/>
              <p:cNvGrpSpPr/>
              <p:nvPr/>
            </p:nvGrpSpPr>
            <p:grpSpPr>
              <a:xfrm>
                <a:off x="4160160" y="3839760"/>
                <a:ext cx="91800" cy="72360"/>
                <a:chOff x="4160160" y="3839760"/>
                <a:chExt cx="91800" cy="72360"/>
              </a:xfrm>
            </p:grpSpPr>
            <p:sp>
              <p:nvSpPr>
                <p:cNvPr id="4929" name=""/>
                <p:cNvSpPr/>
                <p:nvPr/>
              </p:nvSpPr>
              <p:spPr>
                <a:xfrm>
                  <a:off x="4160160" y="38397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0" name=""/>
                <p:cNvSpPr/>
                <p:nvPr/>
              </p:nvSpPr>
              <p:spPr>
                <a:xfrm>
                  <a:off x="4160160" y="383976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1" name=""/>
              <p:cNvGrpSpPr/>
              <p:nvPr/>
            </p:nvGrpSpPr>
            <p:grpSpPr>
              <a:xfrm>
                <a:off x="4215960" y="3876120"/>
                <a:ext cx="70920" cy="71280"/>
                <a:chOff x="4215960" y="3876120"/>
                <a:chExt cx="70920" cy="71280"/>
              </a:xfrm>
            </p:grpSpPr>
            <p:sp>
              <p:nvSpPr>
                <p:cNvPr id="4932" name=""/>
                <p:cNvSpPr/>
                <p:nvPr/>
              </p:nvSpPr>
              <p:spPr>
                <a:xfrm>
                  <a:off x="4215960" y="3876120"/>
                  <a:ext cx="709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>
                  <a:off x="4215960" y="38761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4" name=""/>
              <p:cNvGrpSpPr/>
              <p:nvPr/>
            </p:nvGrpSpPr>
            <p:grpSpPr>
              <a:xfrm>
                <a:off x="4269600" y="3912480"/>
                <a:ext cx="72720" cy="71280"/>
                <a:chOff x="4269600" y="3912480"/>
                <a:chExt cx="72720" cy="71280"/>
              </a:xfrm>
            </p:grpSpPr>
            <p:sp>
              <p:nvSpPr>
                <p:cNvPr id="4935" name=""/>
                <p:cNvSpPr/>
                <p:nvPr/>
              </p:nvSpPr>
              <p:spPr>
                <a:xfrm>
                  <a:off x="4269600" y="391248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6" name=""/>
                <p:cNvSpPr/>
                <p:nvPr/>
              </p:nvSpPr>
              <p:spPr>
                <a:xfrm>
                  <a:off x="4269600" y="3912480"/>
                  <a:ext cx="36360" cy="3492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7" name=""/>
              <p:cNvGrpSpPr/>
              <p:nvPr/>
            </p:nvGrpSpPr>
            <p:grpSpPr>
              <a:xfrm>
                <a:off x="4323600" y="3947760"/>
                <a:ext cx="72720" cy="72360"/>
                <a:chOff x="4323600" y="3947760"/>
                <a:chExt cx="72720" cy="72360"/>
              </a:xfrm>
            </p:grpSpPr>
            <p:sp>
              <p:nvSpPr>
                <p:cNvPr id="4938" name=""/>
                <p:cNvSpPr/>
                <p:nvPr/>
              </p:nvSpPr>
              <p:spPr>
                <a:xfrm>
                  <a:off x="4323600" y="39477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9" name=""/>
                <p:cNvSpPr/>
                <p:nvPr/>
              </p:nvSpPr>
              <p:spPr>
                <a:xfrm>
                  <a:off x="4323600" y="39477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0" name=""/>
            <p:cNvSpPr/>
            <p:nvPr/>
          </p:nvSpPr>
          <p:spPr>
            <a:xfrm>
              <a:off x="3632040" y="352872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59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41" name=""/>
            <p:cNvGrpSpPr/>
            <p:nvPr/>
          </p:nvGrpSpPr>
          <p:grpSpPr>
            <a:xfrm>
              <a:off x="3814560" y="3255840"/>
              <a:ext cx="747000" cy="546840"/>
              <a:chOff x="3814560" y="3255840"/>
              <a:chExt cx="747000" cy="546840"/>
            </a:xfrm>
          </p:grpSpPr>
          <p:grpSp>
            <p:nvGrpSpPr>
              <p:cNvPr id="4942" name=""/>
              <p:cNvGrpSpPr/>
              <p:nvPr/>
            </p:nvGrpSpPr>
            <p:grpSpPr>
              <a:xfrm>
                <a:off x="3814560" y="3255840"/>
                <a:ext cx="72720" cy="72720"/>
                <a:chOff x="3814560" y="3255840"/>
                <a:chExt cx="72720" cy="72720"/>
              </a:xfrm>
            </p:grpSpPr>
            <p:sp>
              <p:nvSpPr>
                <p:cNvPr id="4943" name=""/>
                <p:cNvSpPr/>
                <p:nvPr/>
              </p:nvSpPr>
              <p:spPr>
                <a:xfrm>
                  <a:off x="3814560" y="3255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4" name=""/>
                <p:cNvSpPr/>
                <p:nvPr/>
              </p:nvSpPr>
              <p:spPr>
                <a:xfrm>
                  <a:off x="3814560" y="32558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5" name=""/>
              <p:cNvGrpSpPr/>
              <p:nvPr/>
            </p:nvGrpSpPr>
            <p:grpSpPr>
              <a:xfrm>
                <a:off x="3850560" y="3291840"/>
                <a:ext cx="91800" cy="72720"/>
                <a:chOff x="3850560" y="3291840"/>
                <a:chExt cx="91800" cy="72720"/>
              </a:xfrm>
            </p:grpSpPr>
            <p:sp>
              <p:nvSpPr>
                <p:cNvPr id="4946" name=""/>
                <p:cNvSpPr/>
                <p:nvPr/>
              </p:nvSpPr>
              <p:spPr>
                <a:xfrm>
                  <a:off x="3850560" y="329184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7" name=""/>
                <p:cNvSpPr/>
                <p:nvPr/>
              </p:nvSpPr>
              <p:spPr>
                <a:xfrm>
                  <a:off x="3850560" y="329184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8" name=""/>
              <p:cNvGrpSpPr/>
              <p:nvPr/>
            </p:nvGrpSpPr>
            <p:grpSpPr>
              <a:xfrm>
                <a:off x="3906360" y="3328560"/>
                <a:ext cx="90000" cy="72720"/>
                <a:chOff x="3906360" y="3328560"/>
                <a:chExt cx="90000" cy="72720"/>
              </a:xfrm>
            </p:grpSpPr>
            <p:sp>
              <p:nvSpPr>
                <p:cNvPr id="4949" name=""/>
                <p:cNvSpPr/>
                <p:nvPr/>
              </p:nvSpPr>
              <p:spPr>
                <a:xfrm>
                  <a:off x="3906360" y="33285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0" name=""/>
                <p:cNvSpPr/>
                <p:nvPr/>
              </p:nvSpPr>
              <p:spPr>
                <a:xfrm>
                  <a:off x="3906360" y="33285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1" name=""/>
              <p:cNvGrpSpPr/>
              <p:nvPr/>
            </p:nvGrpSpPr>
            <p:grpSpPr>
              <a:xfrm>
                <a:off x="3960360" y="3364920"/>
                <a:ext cx="72360" cy="72720"/>
                <a:chOff x="3960360" y="3364920"/>
                <a:chExt cx="72360" cy="72720"/>
              </a:xfrm>
            </p:grpSpPr>
            <p:sp>
              <p:nvSpPr>
                <p:cNvPr id="4952" name=""/>
                <p:cNvSpPr/>
                <p:nvPr/>
              </p:nvSpPr>
              <p:spPr>
                <a:xfrm>
                  <a:off x="3960360" y="336492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3" name=""/>
                <p:cNvSpPr/>
                <p:nvPr/>
              </p:nvSpPr>
              <p:spPr>
                <a:xfrm>
                  <a:off x="3960360" y="3364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4" name=""/>
              <p:cNvGrpSpPr/>
              <p:nvPr/>
            </p:nvGrpSpPr>
            <p:grpSpPr>
              <a:xfrm>
                <a:off x="4014000" y="3401640"/>
                <a:ext cx="72720" cy="72360"/>
                <a:chOff x="4014000" y="3401640"/>
                <a:chExt cx="72720" cy="72360"/>
              </a:xfrm>
            </p:grpSpPr>
            <p:sp>
              <p:nvSpPr>
                <p:cNvPr id="4955" name=""/>
                <p:cNvSpPr/>
                <p:nvPr/>
              </p:nvSpPr>
              <p:spPr>
                <a:xfrm>
                  <a:off x="4014000" y="34016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6" name=""/>
                <p:cNvSpPr/>
                <p:nvPr/>
              </p:nvSpPr>
              <p:spPr>
                <a:xfrm>
                  <a:off x="4014000" y="34016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7" name=""/>
              <p:cNvGrpSpPr/>
              <p:nvPr/>
            </p:nvGrpSpPr>
            <p:grpSpPr>
              <a:xfrm>
                <a:off x="4069800" y="3438000"/>
                <a:ext cx="72720" cy="72720"/>
                <a:chOff x="4069800" y="3438000"/>
                <a:chExt cx="72720" cy="72720"/>
              </a:xfrm>
            </p:grpSpPr>
            <p:sp>
              <p:nvSpPr>
                <p:cNvPr id="4958" name=""/>
                <p:cNvSpPr/>
                <p:nvPr/>
              </p:nvSpPr>
              <p:spPr>
                <a:xfrm>
                  <a:off x="4069800" y="3438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9" name=""/>
                <p:cNvSpPr/>
                <p:nvPr/>
              </p:nvSpPr>
              <p:spPr>
                <a:xfrm>
                  <a:off x="4069800" y="3438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0" name=""/>
              <p:cNvGrpSpPr/>
              <p:nvPr/>
            </p:nvGrpSpPr>
            <p:grpSpPr>
              <a:xfrm>
                <a:off x="4123800" y="3474360"/>
                <a:ext cx="72720" cy="72720"/>
                <a:chOff x="4123800" y="3474360"/>
                <a:chExt cx="72720" cy="72720"/>
              </a:xfrm>
            </p:grpSpPr>
            <p:sp>
              <p:nvSpPr>
                <p:cNvPr id="4961" name=""/>
                <p:cNvSpPr/>
                <p:nvPr/>
              </p:nvSpPr>
              <p:spPr>
                <a:xfrm>
                  <a:off x="4123800" y="3474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2" name=""/>
                <p:cNvSpPr/>
                <p:nvPr/>
              </p:nvSpPr>
              <p:spPr>
                <a:xfrm>
                  <a:off x="4123800" y="3474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3" name=""/>
              <p:cNvGrpSpPr/>
              <p:nvPr/>
            </p:nvGrpSpPr>
            <p:grpSpPr>
              <a:xfrm>
                <a:off x="4179240" y="3511080"/>
                <a:ext cx="72720" cy="72720"/>
                <a:chOff x="4179240" y="3511080"/>
                <a:chExt cx="72720" cy="72720"/>
              </a:xfrm>
            </p:grpSpPr>
            <p:sp>
              <p:nvSpPr>
                <p:cNvPr id="4964" name=""/>
                <p:cNvSpPr/>
                <p:nvPr/>
              </p:nvSpPr>
              <p:spPr>
                <a:xfrm>
                  <a:off x="4179240" y="3511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5" name=""/>
                <p:cNvSpPr/>
                <p:nvPr/>
              </p:nvSpPr>
              <p:spPr>
                <a:xfrm>
                  <a:off x="4179240" y="35110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6" name=""/>
              <p:cNvGrpSpPr/>
              <p:nvPr/>
            </p:nvGrpSpPr>
            <p:grpSpPr>
              <a:xfrm>
                <a:off x="4215960" y="3547440"/>
                <a:ext cx="90000" cy="72720"/>
                <a:chOff x="4215960" y="3547440"/>
                <a:chExt cx="90000" cy="72720"/>
              </a:xfrm>
            </p:grpSpPr>
            <p:sp>
              <p:nvSpPr>
                <p:cNvPr id="4967" name=""/>
                <p:cNvSpPr/>
                <p:nvPr/>
              </p:nvSpPr>
              <p:spPr>
                <a:xfrm>
                  <a:off x="4215960" y="354744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8" name=""/>
                <p:cNvSpPr/>
                <p:nvPr/>
              </p:nvSpPr>
              <p:spPr>
                <a:xfrm>
                  <a:off x="4215960" y="3547440"/>
                  <a:ext cx="5328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9" name=""/>
              <p:cNvGrpSpPr/>
              <p:nvPr/>
            </p:nvGrpSpPr>
            <p:grpSpPr>
              <a:xfrm>
                <a:off x="4269600" y="3584160"/>
                <a:ext cx="90360" cy="72720"/>
                <a:chOff x="4269600" y="3584160"/>
                <a:chExt cx="90360" cy="72720"/>
              </a:xfrm>
            </p:grpSpPr>
            <p:sp>
              <p:nvSpPr>
                <p:cNvPr id="4970" name=""/>
                <p:cNvSpPr/>
                <p:nvPr/>
              </p:nvSpPr>
              <p:spPr>
                <a:xfrm>
                  <a:off x="4269600" y="358416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1" name=""/>
                <p:cNvSpPr/>
                <p:nvPr/>
              </p:nvSpPr>
              <p:spPr>
                <a:xfrm>
                  <a:off x="4269600" y="35841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2" name=""/>
              <p:cNvGrpSpPr/>
              <p:nvPr/>
            </p:nvGrpSpPr>
            <p:grpSpPr>
              <a:xfrm>
                <a:off x="4323600" y="3601440"/>
                <a:ext cx="72720" cy="91800"/>
                <a:chOff x="4323600" y="3601440"/>
                <a:chExt cx="72720" cy="91800"/>
              </a:xfrm>
            </p:grpSpPr>
            <p:sp>
              <p:nvSpPr>
                <p:cNvPr id="4973" name=""/>
                <p:cNvSpPr/>
                <p:nvPr/>
              </p:nvSpPr>
              <p:spPr>
                <a:xfrm>
                  <a:off x="4323600" y="36014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4" name=""/>
                <p:cNvSpPr/>
                <p:nvPr/>
              </p:nvSpPr>
              <p:spPr>
                <a:xfrm>
                  <a:off x="4323600" y="36014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5" name=""/>
              <p:cNvGrpSpPr/>
              <p:nvPr/>
            </p:nvGrpSpPr>
            <p:grpSpPr>
              <a:xfrm>
                <a:off x="4379400" y="3638160"/>
                <a:ext cx="72720" cy="91440"/>
                <a:chOff x="4379400" y="3638160"/>
                <a:chExt cx="72720" cy="91440"/>
              </a:xfrm>
            </p:grpSpPr>
            <p:sp>
              <p:nvSpPr>
                <p:cNvPr id="4976" name=""/>
                <p:cNvSpPr/>
                <p:nvPr/>
              </p:nvSpPr>
              <p:spPr>
                <a:xfrm>
                  <a:off x="4379400" y="36381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>
                  <a:off x="4379400" y="363816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8" name=""/>
              <p:cNvGrpSpPr/>
              <p:nvPr/>
            </p:nvGrpSpPr>
            <p:grpSpPr>
              <a:xfrm>
                <a:off x="4433400" y="3674520"/>
                <a:ext cx="72360" cy="91800"/>
                <a:chOff x="4433400" y="3674520"/>
                <a:chExt cx="72360" cy="91800"/>
              </a:xfrm>
            </p:grpSpPr>
            <p:sp>
              <p:nvSpPr>
                <p:cNvPr id="4979" name=""/>
                <p:cNvSpPr/>
                <p:nvPr/>
              </p:nvSpPr>
              <p:spPr>
                <a:xfrm>
                  <a:off x="4433400" y="367452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4433400" y="36745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1" name=""/>
              <p:cNvGrpSpPr/>
              <p:nvPr/>
            </p:nvGrpSpPr>
            <p:grpSpPr>
              <a:xfrm>
                <a:off x="4488840" y="3710880"/>
                <a:ext cx="72720" cy="91800"/>
                <a:chOff x="4488840" y="3710880"/>
                <a:chExt cx="72720" cy="91800"/>
              </a:xfrm>
            </p:grpSpPr>
            <p:sp>
              <p:nvSpPr>
                <p:cNvPr id="4982" name=""/>
                <p:cNvSpPr/>
                <p:nvPr/>
              </p:nvSpPr>
              <p:spPr>
                <a:xfrm>
                  <a:off x="4488840" y="37108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4488840" y="371088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4" name=""/>
            <p:cNvSpPr/>
            <p:nvPr/>
          </p:nvSpPr>
          <p:spPr>
            <a:xfrm>
              <a:off x="3796920" y="3292200"/>
              <a:ext cx="745920" cy="583920"/>
            </a:xfrm>
            <a:custGeom>
              <a:avLst/>
              <a:gdLst/>
              <a:ahLst/>
              <a:rect l="l" t="t" r="r" b="b"/>
              <a:pathLst>
                <a:path w="470" h="368">
                  <a:moveTo>
                    <a:pt x="459" y="368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5" name=""/>
            <p:cNvGrpSpPr/>
            <p:nvPr/>
          </p:nvGrpSpPr>
          <p:grpSpPr>
            <a:xfrm>
              <a:off x="3760560" y="3328920"/>
              <a:ext cx="745200" cy="546840"/>
              <a:chOff x="3760560" y="3328920"/>
              <a:chExt cx="745200" cy="546840"/>
            </a:xfrm>
          </p:grpSpPr>
          <p:grpSp>
            <p:nvGrpSpPr>
              <p:cNvPr id="4986" name=""/>
              <p:cNvGrpSpPr/>
              <p:nvPr/>
            </p:nvGrpSpPr>
            <p:grpSpPr>
              <a:xfrm>
                <a:off x="3760560" y="3328920"/>
                <a:ext cx="72720" cy="72720"/>
                <a:chOff x="3760560" y="3328920"/>
                <a:chExt cx="72720" cy="72720"/>
              </a:xfrm>
            </p:grpSpPr>
            <p:sp>
              <p:nvSpPr>
                <p:cNvPr id="4987" name=""/>
                <p:cNvSpPr/>
                <p:nvPr/>
              </p:nvSpPr>
              <p:spPr>
                <a:xfrm>
                  <a:off x="3760560" y="33289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8" name=""/>
                <p:cNvSpPr/>
                <p:nvPr/>
              </p:nvSpPr>
              <p:spPr>
                <a:xfrm>
                  <a:off x="3760560" y="33289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9" name=""/>
              <p:cNvGrpSpPr/>
              <p:nvPr/>
            </p:nvGrpSpPr>
            <p:grpSpPr>
              <a:xfrm>
                <a:off x="3796560" y="3364920"/>
                <a:ext cx="90360" cy="72720"/>
                <a:chOff x="3796560" y="3364920"/>
                <a:chExt cx="90360" cy="72720"/>
              </a:xfrm>
            </p:grpSpPr>
            <p:sp>
              <p:nvSpPr>
                <p:cNvPr id="4990" name=""/>
                <p:cNvSpPr/>
                <p:nvPr/>
              </p:nvSpPr>
              <p:spPr>
                <a:xfrm>
                  <a:off x="3796560" y="336492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1" name=""/>
                <p:cNvSpPr/>
                <p:nvPr/>
              </p:nvSpPr>
              <p:spPr>
                <a:xfrm>
                  <a:off x="3796560" y="336492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2" name=""/>
              <p:cNvGrpSpPr/>
              <p:nvPr/>
            </p:nvGrpSpPr>
            <p:grpSpPr>
              <a:xfrm>
                <a:off x="3850560" y="3401640"/>
                <a:ext cx="91800" cy="72360"/>
                <a:chOff x="3850560" y="3401640"/>
                <a:chExt cx="91800" cy="72360"/>
              </a:xfrm>
            </p:grpSpPr>
            <p:sp>
              <p:nvSpPr>
                <p:cNvPr id="4993" name=""/>
                <p:cNvSpPr/>
                <p:nvPr/>
              </p:nvSpPr>
              <p:spPr>
                <a:xfrm>
                  <a:off x="3850560" y="340164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4" name=""/>
                <p:cNvSpPr/>
                <p:nvPr/>
              </p:nvSpPr>
              <p:spPr>
                <a:xfrm>
                  <a:off x="3850560" y="340164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5" name=""/>
              <p:cNvGrpSpPr/>
              <p:nvPr/>
            </p:nvGrpSpPr>
            <p:grpSpPr>
              <a:xfrm>
                <a:off x="3906360" y="3438000"/>
                <a:ext cx="90000" cy="72720"/>
                <a:chOff x="3906360" y="3438000"/>
                <a:chExt cx="90000" cy="72720"/>
              </a:xfrm>
            </p:grpSpPr>
            <p:sp>
              <p:nvSpPr>
                <p:cNvPr id="4996" name=""/>
                <p:cNvSpPr/>
                <p:nvPr/>
              </p:nvSpPr>
              <p:spPr>
                <a:xfrm>
                  <a:off x="3906360" y="3438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7" name=""/>
                <p:cNvSpPr/>
                <p:nvPr/>
              </p:nvSpPr>
              <p:spPr>
                <a:xfrm>
                  <a:off x="3906360" y="34380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8" name=""/>
              <p:cNvGrpSpPr/>
              <p:nvPr/>
            </p:nvGrpSpPr>
            <p:grpSpPr>
              <a:xfrm>
                <a:off x="3960360" y="3474360"/>
                <a:ext cx="72360" cy="72720"/>
                <a:chOff x="3960360" y="3474360"/>
                <a:chExt cx="72360" cy="72720"/>
              </a:xfrm>
            </p:grpSpPr>
            <p:sp>
              <p:nvSpPr>
                <p:cNvPr id="4999" name=""/>
                <p:cNvSpPr/>
                <p:nvPr/>
              </p:nvSpPr>
              <p:spPr>
                <a:xfrm>
                  <a:off x="3960360" y="34743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0" name=""/>
                <p:cNvSpPr/>
                <p:nvPr/>
              </p:nvSpPr>
              <p:spPr>
                <a:xfrm>
                  <a:off x="3960360" y="3474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1" name=""/>
              <p:cNvGrpSpPr/>
              <p:nvPr/>
            </p:nvGrpSpPr>
            <p:grpSpPr>
              <a:xfrm>
                <a:off x="4014000" y="3511080"/>
                <a:ext cx="72720" cy="72720"/>
                <a:chOff x="4014000" y="3511080"/>
                <a:chExt cx="72720" cy="72720"/>
              </a:xfrm>
            </p:grpSpPr>
            <p:sp>
              <p:nvSpPr>
                <p:cNvPr id="5002" name=""/>
                <p:cNvSpPr/>
                <p:nvPr/>
              </p:nvSpPr>
              <p:spPr>
                <a:xfrm>
                  <a:off x="4014000" y="3511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3" name=""/>
                <p:cNvSpPr/>
                <p:nvPr/>
              </p:nvSpPr>
              <p:spPr>
                <a:xfrm>
                  <a:off x="4014000" y="35110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4" name=""/>
              <p:cNvGrpSpPr/>
              <p:nvPr/>
            </p:nvGrpSpPr>
            <p:grpSpPr>
              <a:xfrm>
                <a:off x="4069800" y="3547440"/>
                <a:ext cx="72720" cy="72720"/>
                <a:chOff x="4069800" y="3547440"/>
                <a:chExt cx="72720" cy="72720"/>
              </a:xfrm>
            </p:grpSpPr>
            <p:sp>
              <p:nvSpPr>
                <p:cNvPr id="5005" name=""/>
                <p:cNvSpPr/>
                <p:nvPr/>
              </p:nvSpPr>
              <p:spPr>
                <a:xfrm>
                  <a:off x="4069800" y="35474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6" name=""/>
                <p:cNvSpPr/>
                <p:nvPr/>
              </p:nvSpPr>
              <p:spPr>
                <a:xfrm>
                  <a:off x="4069800" y="35474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7" name=""/>
              <p:cNvGrpSpPr/>
              <p:nvPr/>
            </p:nvGrpSpPr>
            <p:grpSpPr>
              <a:xfrm>
                <a:off x="4123800" y="3584160"/>
                <a:ext cx="72720" cy="72720"/>
                <a:chOff x="4123800" y="3584160"/>
                <a:chExt cx="72720" cy="72720"/>
              </a:xfrm>
            </p:grpSpPr>
            <p:sp>
              <p:nvSpPr>
                <p:cNvPr id="5008" name=""/>
                <p:cNvSpPr/>
                <p:nvPr/>
              </p:nvSpPr>
              <p:spPr>
                <a:xfrm>
                  <a:off x="4123800" y="3584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9" name=""/>
                <p:cNvSpPr/>
                <p:nvPr/>
              </p:nvSpPr>
              <p:spPr>
                <a:xfrm>
                  <a:off x="4123800" y="3584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0" name=""/>
              <p:cNvGrpSpPr/>
              <p:nvPr/>
            </p:nvGrpSpPr>
            <p:grpSpPr>
              <a:xfrm>
                <a:off x="4160160" y="3620520"/>
                <a:ext cx="91800" cy="72720"/>
                <a:chOff x="4160160" y="3620520"/>
                <a:chExt cx="91800" cy="72720"/>
              </a:xfrm>
            </p:grpSpPr>
            <p:sp>
              <p:nvSpPr>
                <p:cNvPr id="5011" name=""/>
                <p:cNvSpPr/>
                <p:nvPr/>
              </p:nvSpPr>
              <p:spPr>
                <a:xfrm>
                  <a:off x="4160160" y="362052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2" name=""/>
                <p:cNvSpPr/>
                <p:nvPr/>
              </p:nvSpPr>
              <p:spPr>
                <a:xfrm>
                  <a:off x="4160160" y="362052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3" name=""/>
              <p:cNvGrpSpPr/>
              <p:nvPr/>
            </p:nvGrpSpPr>
            <p:grpSpPr>
              <a:xfrm>
                <a:off x="4215960" y="3657240"/>
                <a:ext cx="90000" cy="72360"/>
                <a:chOff x="4215960" y="3657240"/>
                <a:chExt cx="90000" cy="72360"/>
              </a:xfrm>
            </p:grpSpPr>
            <p:sp>
              <p:nvSpPr>
                <p:cNvPr id="5014" name=""/>
                <p:cNvSpPr/>
                <p:nvPr/>
              </p:nvSpPr>
              <p:spPr>
                <a:xfrm>
                  <a:off x="4215960" y="365724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5" name=""/>
                <p:cNvSpPr/>
                <p:nvPr/>
              </p:nvSpPr>
              <p:spPr>
                <a:xfrm>
                  <a:off x="4215960" y="365724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6" name=""/>
              <p:cNvGrpSpPr/>
              <p:nvPr/>
            </p:nvGrpSpPr>
            <p:grpSpPr>
              <a:xfrm>
                <a:off x="4269600" y="3693600"/>
                <a:ext cx="90360" cy="72720"/>
                <a:chOff x="4269600" y="3693600"/>
                <a:chExt cx="90360" cy="72720"/>
              </a:xfrm>
            </p:grpSpPr>
            <p:sp>
              <p:nvSpPr>
                <p:cNvPr id="5017" name=""/>
                <p:cNvSpPr/>
                <p:nvPr/>
              </p:nvSpPr>
              <p:spPr>
                <a:xfrm>
                  <a:off x="4269600" y="36936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>
                  <a:off x="4269600" y="3693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9" name=""/>
              <p:cNvGrpSpPr/>
              <p:nvPr/>
            </p:nvGrpSpPr>
            <p:grpSpPr>
              <a:xfrm>
                <a:off x="4323600" y="3729960"/>
                <a:ext cx="72720" cy="72720"/>
                <a:chOff x="4323600" y="3729960"/>
                <a:chExt cx="72720" cy="72720"/>
              </a:xfrm>
            </p:grpSpPr>
            <p:sp>
              <p:nvSpPr>
                <p:cNvPr id="5020" name=""/>
                <p:cNvSpPr/>
                <p:nvPr/>
              </p:nvSpPr>
              <p:spPr>
                <a:xfrm>
                  <a:off x="4323600" y="3729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>
                  <a:off x="4323600" y="372996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2" name=""/>
              <p:cNvGrpSpPr/>
              <p:nvPr/>
            </p:nvGrpSpPr>
            <p:grpSpPr>
              <a:xfrm>
                <a:off x="4379400" y="3766680"/>
                <a:ext cx="72720" cy="72720"/>
                <a:chOff x="4379400" y="3766680"/>
                <a:chExt cx="72720" cy="72720"/>
              </a:xfrm>
            </p:grpSpPr>
            <p:sp>
              <p:nvSpPr>
                <p:cNvPr id="5023" name=""/>
                <p:cNvSpPr/>
                <p:nvPr/>
              </p:nvSpPr>
              <p:spPr>
                <a:xfrm>
                  <a:off x="4379400" y="3766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4" name=""/>
                <p:cNvSpPr/>
                <p:nvPr/>
              </p:nvSpPr>
              <p:spPr>
                <a:xfrm>
                  <a:off x="4379400" y="37666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5" name=""/>
              <p:cNvGrpSpPr/>
              <p:nvPr/>
            </p:nvGrpSpPr>
            <p:grpSpPr>
              <a:xfrm>
                <a:off x="4433400" y="3803040"/>
                <a:ext cx="72360" cy="72720"/>
                <a:chOff x="4433400" y="3803040"/>
                <a:chExt cx="72360" cy="72720"/>
              </a:xfrm>
            </p:grpSpPr>
            <p:sp>
              <p:nvSpPr>
                <p:cNvPr id="5026" name=""/>
                <p:cNvSpPr/>
                <p:nvPr/>
              </p:nvSpPr>
              <p:spPr>
                <a:xfrm>
                  <a:off x="4433400" y="380304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7" name=""/>
                <p:cNvSpPr/>
                <p:nvPr/>
              </p:nvSpPr>
              <p:spPr>
                <a:xfrm>
                  <a:off x="4433400" y="38030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28" name=""/>
            <p:cNvSpPr/>
            <p:nvPr/>
          </p:nvSpPr>
          <p:spPr>
            <a:xfrm>
              <a:off x="3741480" y="3365280"/>
              <a:ext cx="747360" cy="582480"/>
            </a:xfrm>
            <a:custGeom>
              <a:avLst/>
              <a:gdLst/>
              <a:ahLst/>
              <a:rect l="l" t="t" r="r" b="b"/>
              <a:pathLst>
                <a:path w="471" h="367">
                  <a:moveTo>
                    <a:pt x="459" y="367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29" name=""/>
            <p:cNvGrpSpPr/>
            <p:nvPr/>
          </p:nvGrpSpPr>
          <p:grpSpPr>
            <a:xfrm>
              <a:off x="3597120" y="3565440"/>
              <a:ext cx="745200" cy="527760"/>
              <a:chOff x="3597120" y="3565440"/>
              <a:chExt cx="745200" cy="527760"/>
            </a:xfrm>
          </p:grpSpPr>
          <p:grpSp>
            <p:nvGrpSpPr>
              <p:cNvPr id="5030" name=""/>
              <p:cNvGrpSpPr/>
              <p:nvPr/>
            </p:nvGrpSpPr>
            <p:grpSpPr>
              <a:xfrm>
                <a:off x="3597120" y="3565440"/>
                <a:ext cx="70920" cy="72720"/>
                <a:chOff x="3597120" y="3565440"/>
                <a:chExt cx="70920" cy="72720"/>
              </a:xfrm>
            </p:grpSpPr>
            <p:sp>
              <p:nvSpPr>
                <p:cNvPr id="5031" name=""/>
                <p:cNvSpPr/>
                <p:nvPr/>
              </p:nvSpPr>
              <p:spPr>
                <a:xfrm>
                  <a:off x="3597120" y="35654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>
                  <a:off x="3597120" y="3565440"/>
                  <a:ext cx="345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3" name=""/>
              <p:cNvGrpSpPr/>
              <p:nvPr/>
            </p:nvGrpSpPr>
            <p:grpSpPr>
              <a:xfrm>
                <a:off x="3631680" y="3584160"/>
                <a:ext cx="91800" cy="90000"/>
                <a:chOff x="3631680" y="3584160"/>
                <a:chExt cx="91800" cy="90000"/>
              </a:xfrm>
            </p:grpSpPr>
            <p:sp>
              <p:nvSpPr>
                <p:cNvPr id="5034" name=""/>
                <p:cNvSpPr/>
                <p:nvPr/>
              </p:nvSpPr>
              <p:spPr>
                <a:xfrm>
                  <a:off x="3631680" y="358416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5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>
                  <a:off x="3631680" y="358416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6" name=""/>
              <p:cNvGrpSpPr/>
              <p:nvPr/>
            </p:nvGrpSpPr>
            <p:grpSpPr>
              <a:xfrm>
                <a:off x="3687120" y="3638160"/>
                <a:ext cx="90000" cy="72360"/>
                <a:chOff x="3687120" y="3638160"/>
                <a:chExt cx="90000" cy="72360"/>
              </a:xfrm>
            </p:grpSpPr>
            <p:sp>
              <p:nvSpPr>
                <p:cNvPr id="5037" name=""/>
                <p:cNvSpPr/>
                <p:nvPr/>
              </p:nvSpPr>
              <p:spPr>
                <a:xfrm>
                  <a:off x="3687120" y="3638160"/>
                  <a:ext cx="900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8" name=""/>
                <p:cNvSpPr/>
                <p:nvPr/>
              </p:nvSpPr>
              <p:spPr>
                <a:xfrm>
                  <a:off x="3687120" y="363816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9" name=""/>
              <p:cNvGrpSpPr/>
              <p:nvPr/>
            </p:nvGrpSpPr>
            <p:grpSpPr>
              <a:xfrm>
                <a:off x="3741120" y="3657240"/>
                <a:ext cx="91800" cy="90000"/>
                <a:chOff x="3741120" y="3657240"/>
                <a:chExt cx="91800" cy="90000"/>
              </a:xfrm>
            </p:grpSpPr>
            <p:sp>
              <p:nvSpPr>
                <p:cNvPr id="5040" name=""/>
                <p:cNvSpPr/>
                <p:nvPr/>
              </p:nvSpPr>
              <p:spPr>
                <a:xfrm>
                  <a:off x="3741120" y="365724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1" name=""/>
                <p:cNvSpPr/>
                <p:nvPr/>
              </p:nvSpPr>
              <p:spPr>
                <a:xfrm>
                  <a:off x="3741120" y="3657240"/>
                  <a:ext cx="5508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2" name=""/>
              <p:cNvGrpSpPr/>
              <p:nvPr/>
            </p:nvGrpSpPr>
            <p:grpSpPr>
              <a:xfrm>
                <a:off x="3796560" y="3693600"/>
                <a:ext cx="72720" cy="90000"/>
                <a:chOff x="3796560" y="3693600"/>
                <a:chExt cx="72720" cy="90000"/>
              </a:xfrm>
            </p:grpSpPr>
            <p:sp>
              <p:nvSpPr>
                <p:cNvPr id="5043" name=""/>
                <p:cNvSpPr/>
                <p:nvPr/>
              </p:nvSpPr>
              <p:spPr>
                <a:xfrm>
                  <a:off x="3796560" y="36936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4" name=""/>
                <p:cNvSpPr/>
                <p:nvPr/>
              </p:nvSpPr>
              <p:spPr>
                <a:xfrm>
                  <a:off x="3796560" y="36936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5" name=""/>
              <p:cNvGrpSpPr/>
              <p:nvPr/>
            </p:nvGrpSpPr>
            <p:grpSpPr>
              <a:xfrm>
                <a:off x="3850560" y="3729960"/>
                <a:ext cx="72720" cy="90360"/>
                <a:chOff x="3850560" y="3729960"/>
                <a:chExt cx="72720" cy="90360"/>
              </a:xfrm>
            </p:grpSpPr>
            <p:sp>
              <p:nvSpPr>
                <p:cNvPr id="5046" name=""/>
                <p:cNvSpPr/>
                <p:nvPr/>
              </p:nvSpPr>
              <p:spPr>
                <a:xfrm>
                  <a:off x="3850560" y="372996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7" name=""/>
                <p:cNvSpPr/>
                <p:nvPr/>
              </p:nvSpPr>
              <p:spPr>
                <a:xfrm>
                  <a:off x="3850560" y="37299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8" name=""/>
              <p:cNvGrpSpPr/>
              <p:nvPr/>
            </p:nvGrpSpPr>
            <p:grpSpPr>
              <a:xfrm>
                <a:off x="3906360" y="3766680"/>
                <a:ext cx="70920" cy="90000"/>
                <a:chOff x="3906360" y="3766680"/>
                <a:chExt cx="70920" cy="90000"/>
              </a:xfrm>
            </p:grpSpPr>
            <p:sp>
              <p:nvSpPr>
                <p:cNvPr id="5049" name=""/>
                <p:cNvSpPr/>
                <p:nvPr/>
              </p:nvSpPr>
              <p:spPr>
                <a:xfrm>
                  <a:off x="3906360" y="3766680"/>
                  <a:ext cx="709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0" name=""/>
                <p:cNvSpPr/>
                <p:nvPr/>
              </p:nvSpPr>
              <p:spPr>
                <a:xfrm>
                  <a:off x="3906360" y="37666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1" name=""/>
              <p:cNvGrpSpPr/>
              <p:nvPr/>
            </p:nvGrpSpPr>
            <p:grpSpPr>
              <a:xfrm>
                <a:off x="3960360" y="3803040"/>
                <a:ext cx="72360" cy="90360"/>
                <a:chOff x="3960360" y="3803040"/>
                <a:chExt cx="72360" cy="90360"/>
              </a:xfrm>
            </p:grpSpPr>
            <p:sp>
              <p:nvSpPr>
                <p:cNvPr id="5052" name=""/>
                <p:cNvSpPr/>
                <p:nvPr/>
              </p:nvSpPr>
              <p:spPr>
                <a:xfrm>
                  <a:off x="3960360" y="3803040"/>
                  <a:ext cx="7236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3" name=""/>
                <p:cNvSpPr/>
                <p:nvPr/>
              </p:nvSpPr>
              <p:spPr>
                <a:xfrm>
                  <a:off x="3960360" y="380304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4" name=""/>
              <p:cNvGrpSpPr/>
              <p:nvPr/>
            </p:nvGrpSpPr>
            <p:grpSpPr>
              <a:xfrm>
                <a:off x="3996720" y="3839760"/>
                <a:ext cx="90000" cy="90000"/>
                <a:chOff x="3996720" y="3839760"/>
                <a:chExt cx="90000" cy="90000"/>
              </a:xfrm>
            </p:grpSpPr>
            <p:sp>
              <p:nvSpPr>
                <p:cNvPr id="5055" name=""/>
                <p:cNvSpPr/>
                <p:nvPr/>
              </p:nvSpPr>
              <p:spPr>
                <a:xfrm>
                  <a:off x="3996720" y="383976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6" name=""/>
                <p:cNvSpPr/>
                <p:nvPr/>
              </p:nvSpPr>
              <p:spPr>
                <a:xfrm>
                  <a:off x="3996720" y="383976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7" name=""/>
              <p:cNvGrpSpPr/>
              <p:nvPr/>
            </p:nvGrpSpPr>
            <p:grpSpPr>
              <a:xfrm>
                <a:off x="4050720" y="3876120"/>
                <a:ext cx="91800" cy="90000"/>
                <a:chOff x="4050720" y="3876120"/>
                <a:chExt cx="91800" cy="90000"/>
              </a:xfrm>
            </p:grpSpPr>
            <p:sp>
              <p:nvSpPr>
                <p:cNvPr id="5058" name=""/>
                <p:cNvSpPr/>
                <p:nvPr/>
              </p:nvSpPr>
              <p:spPr>
                <a:xfrm>
                  <a:off x="4050720" y="387612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9" name=""/>
                <p:cNvSpPr/>
                <p:nvPr/>
              </p:nvSpPr>
              <p:spPr>
                <a:xfrm>
                  <a:off x="4050720" y="3876120"/>
                  <a:ext cx="550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0" name=""/>
              <p:cNvGrpSpPr/>
              <p:nvPr/>
            </p:nvGrpSpPr>
            <p:grpSpPr>
              <a:xfrm>
                <a:off x="4106160" y="3912480"/>
                <a:ext cx="90360" cy="90360"/>
                <a:chOff x="4106160" y="3912480"/>
                <a:chExt cx="90360" cy="90360"/>
              </a:xfrm>
            </p:grpSpPr>
            <p:sp>
              <p:nvSpPr>
                <p:cNvPr id="5061" name=""/>
                <p:cNvSpPr/>
                <p:nvPr/>
              </p:nvSpPr>
              <p:spPr>
                <a:xfrm>
                  <a:off x="4106160" y="3912480"/>
                  <a:ext cx="9036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2" name=""/>
                <p:cNvSpPr/>
                <p:nvPr/>
              </p:nvSpPr>
              <p:spPr>
                <a:xfrm>
                  <a:off x="4106160" y="39124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3" name=""/>
              <p:cNvGrpSpPr/>
              <p:nvPr/>
            </p:nvGrpSpPr>
            <p:grpSpPr>
              <a:xfrm>
                <a:off x="4160160" y="3947760"/>
                <a:ext cx="72720" cy="91440"/>
                <a:chOff x="4160160" y="3947760"/>
                <a:chExt cx="72720" cy="91440"/>
              </a:xfrm>
            </p:grpSpPr>
            <p:sp>
              <p:nvSpPr>
                <p:cNvPr id="5064" name=""/>
                <p:cNvSpPr/>
                <p:nvPr/>
              </p:nvSpPr>
              <p:spPr>
                <a:xfrm>
                  <a:off x="4160160" y="39477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5" name=""/>
                <p:cNvSpPr/>
                <p:nvPr/>
              </p:nvSpPr>
              <p:spPr>
                <a:xfrm>
                  <a:off x="4160160" y="39477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6" name=""/>
              <p:cNvGrpSpPr/>
              <p:nvPr/>
            </p:nvGrpSpPr>
            <p:grpSpPr>
              <a:xfrm>
                <a:off x="4215960" y="3984120"/>
                <a:ext cx="70920" cy="91800"/>
                <a:chOff x="4215960" y="3984120"/>
                <a:chExt cx="70920" cy="91800"/>
              </a:xfrm>
            </p:grpSpPr>
            <p:sp>
              <p:nvSpPr>
                <p:cNvPr id="5067" name=""/>
                <p:cNvSpPr/>
                <p:nvPr/>
              </p:nvSpPr>
              <p:spPr>
                <a:xfrm>
                  <a:off x="4215960" y="3984120"/>
                  <a:ext cx="709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8" name=""/>
                <p:cNvSpPr/>
                <p:nvPr/>
              </p:nvSpPr>
              <p:spPr>
                <a:xfrm>
                  <a:off x="4215960" y="39841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9" name=""/>
              <p:cNvGrpSpPr/>
              <p:nvPr/>
            </p:nvGrpSpPr>
            <p:grpSpPr>
              <a:xfrm>
                <a:off x="4269600" y="4020480"/>
                <a:ext cx="72720" cy="72720"/>
                <a:chOff x="4269600" y="4020480"/>
                <a:chExt cx="72720" cy="72720"/>
              </a:xfrm>
            </p:grpSpPr>
            <p:sp>
              <p:nvSpPr>
                <p:cNvPr id="5070" name=""/>
                <p:cNvSpPr/>
                <p:nvPr/>
              </p:nvSpPr>
              <p:spPr>
                <a:xfrm>
                  <a:off x="4269600" y="4020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1" name=""/>
                <p:cNvSpPr/>
                <p:nvPr/>
              </p:nvSpPr>
              <p:spPr>
                <a:xfrm>
                  <a:off x="4269600" y="402048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2" name=""/>
            <p:cNvSpPr/>
            <p:nvPr/>
          </p:nvSpPr>
          <p:spPr>
            <a:xfrm>
              <a:off x="3578040" y="3601800"/>
              <a:ext cx="74556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73" name=""/>
            <p:cNvGrpSpPr/>
            <p:nvPr/>
          </p:nvGrpSpPr>
          <p:grpSpPr>
            <a:xfrm>
              <a:off x="4233600" y="2637000"/>
              <a:ext cx="764640" cy="545400"/>
              <a:chOff x="4233600" y="2637000"/>
              <a:chExt cx="764640" cy="545400"/>
            </a:xfrm>
          </p:grpSpPr>
          <p:grpSp>
            <p:nvGrpSpPr>
              <p:cNvPr id="5074" name=""/>
              <p:cNvGrpSpPr/>
              <p:nvPr/>
            </p:nvGrpSpPr>
            <p:grpSpPr>
              <a:xfrm>
                <a:off x="4233600" y="2637000"/>
                <a:ext cx="90000" cy="72720"/>
                <a:chOff x="4233600" y="2637000"/>
                <a:chExt cx="90000" cy="72720"/>
              </a:xfrm>
            </p:grpSpPr>
            <p:sp>
              <p:nvSpPr>
                <p:cNvPr id="5075" name=""/>
                <p:cNvSpPr/>
                <p:nvPr/>
              </p:nvSpPr>
              <p:spPr>
                <a:xfrm>
                  <a:off x="4233600" y="263700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>
                  <a:off x="4233600" y="263700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7" name=""/>
              <p:cNvGrpSpPr/>
              <p:nvPr/>
            </p:nvGrpSpPr>
            <p:grpSpPr>
              <a:xfrm>
                <a:off x="4287240" y="2673360"/>
                <a:ext cx="91800" cy="72360"/>
                <a:chOff x="4287240" y="2673360"/>
                <a:chExt cx="91800" cy="72360"/>
              </a:xfrm>
            </p:grpSpPr>
            <p:sp>
              <p:nvSpPr>
                <p:cNvPr id="5078" name=""/>
                <p:cNvSpPr/>
                <p:nvPr/>
              </p:nvSpPr>
              <p:spPr>
                <a:xfrm>
                  <a:off x="4287240" y="26733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>
                  <a:off x="4287240" y="267336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0" name=""/>
              <p:cNvGrpSpPr/>
              <p:nvPr/>
            </p:nvGrpSpPr>
            <p:grpSpPr>
              <a:xfrm>
                <a:off x="4342680" y="2709720"/>
                <a:ext cx="72720" cy="70920"/>
                <a:chOff x="4342680" y="2709720"/>
                <a:chExt cx="72720" cy="70920"/>
              </a:xfrm>
            </p:grpSpPr>
            <p:sp>
              <p:nvSpPr>
                <p:cNvPr id="5081" name=""/>
                <p:cNvSpPr/>
                <p:nvPr/>
              </p:nvSpPr>
              <p:spPr>
                <a:xfrm>
                  <a:off x="4342680" y="270972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>
                  <a:off x="4342680" y="27097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3" name=""/>
              <p:cNvGrpSpPr/>
              <p:nvPr/>
            </p:nvGrpSpPr>
            <p:grpSpPr>
              <a:xfrm>
                <a:off x="4396680" y="2746080"/>
                <a:ext cx="72720" cy="71280"/>
                <a:chOff x="4396680" y="2746080"/>
                <a:chExt cx="72720" cy="71280"/>
              </a:xfrm>
            </p:grpSpPr>
            <p:sp>
              <p:nvSpPr>
                <p:cNvPr id="5084" name=""/>
                <p:cNvSpPr/>
                <p:nvPr/>
              </p:nvSpPr>
              <p:spPr>
                <a:xfrm>
                  <a:off x="4396680" y="274608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5" name=""/>
                <p:cNvSpPr/>
                <p:nvPr/>
              </p:nvSpPr>
              <p:spPr>
                <a:xfrm>
                  <a:off x="4396680" y="2746080"/>
                  <a:ext cx="3636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6" name=""/>
              <p:cNvGrpSpPr/>
              <p:nvPr/>
            </p:nvGrpSpPr>
            <p:grpSpPr>
              <a:xfrm>
                <a:off x="4452480" y="2781000"/>
                <a:ext cx="72360" cy="72720"/>
                <a:chOff x="4452480" y="2781000"/>
                <a:chExt cx="72360" cy="72720"/>
              </a:xfrm>
            </p:grpSpPr>
            <p:sp>
              <p:nvSpPr>
                <p:cNvPr id="5087" name=""/>
                <p:cNvSpPr/>
                <p:nvPr/>
              </p:nvSpPr>
              <p:spPr>
                <a:xfrm>
                  <a:off x="4452480" y="278100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4452480" y="278100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9" name=""/>
              <p:cNvGrpSpPr/>
              <p:nvPr/>
            </p:nvGrpSpPr>
            <p:grpSpPr>
              <a:xfrm>
                <a:off x="4506120" y="2817720"/>
                <a:ext cx="72720" cy="72720"/>
                <a:chOff x="4506120" y="2817720"/>
                <a:chExt cx="72720" cy="72720"/>
              </a:xfrm>
            </p:grpSpPr>
            <p:sp>
              <p:nvSpPr>
                <p:cNvPr id="5090" name=""/>
                <p:cNvSpPr/>
                <p:nvPr/>
              </p:nvSpPr>
              <p:spPr>
                <a:xfrm>
                  <a:off x="4506120" y="28177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1" name=""/>
                <p:cNvSpPr/>
                <p:nvPr/>
              </p:nvSpPr>
              <p:spPr>
                <a:xfrm>
                  <a:off x="4506120" y="281772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2" name=""/>
              <p:cNvGrpSpPr/>
              <p:nvPr/>
            </p:nvGrpSpPr>
            <p:grpSpPr>
              <a:xfrm>
                <a:off x="4561920" y="2854080"/>
                <a:ext cx="70920" cy="72720"/>
                <a:chOff x="4561920" y="2854080"/>
                <a:chExt cx="70920" cy="72720"/>
              </a:xfrm>
            </p:grpSpPr>
            <p:sp>
              <p:nvSpPr>
                <p:cNvPr id="5093" name=""/>
                <p:cNvSpPr/>
                <p:nvPr/>
              </p:nvSpPr>
              <p:spPr>
                <a:xfrm>
                  <a:off x="4561920" y="285408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4561920" y="2854080"/>
                  <a:ext cx="345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5" name=""/>
              <p:cNvGrpSpPr/>
              <p:nvPr/>
            </p:nvGrpSpPr>
            <p:grpSpPr>
              <a:xfrm>
                <a:off x="4596840" y="2890800"/>
                <a:ext cx="91800" cy="72360"/>
                <a:chOff x="4596840" y="2890800"/>
                <a:chExt cx="91800" cy="72360"/>
              </a:xfrm>
            </p:grpSpPr>
            <p:sp>
              <p:nvSpPr>
                <p:cNvPr id="5096" name=""/>
                <p:cNvSpPr/>
                <p:nvPr/>
              </p:nvSpPr>
              <p:spPr>
                <a:xfrm>
                  <a:off x="4596840" y="289080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4596840" y="289080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8" name=""/>
              <p:cNvGrpSpPr/>
              <p:nvPr/>
            </p:nvGrpSpPr>
            <p:grpSpPr>
              <a:xfrm>
                <a:off x="4652280" y="2927160"/>
                <a:ext cx="72720" cy="72720"/>
                <a:chOff x="4652280" y="2927160"/>
                <a:chExt cx="72720" cy="72720"/>
              </a:xfrm>
            </p:grpSpPr>
            <p:sp>
              <p:nvSpPr>
                <p:cNvPr id="5099" name=""/>
                <p:cNvSpPr/>
                <p:nvPr/>
              </p:nvSpPr>
              <p:spPr>
                <a:xfrm>
                  <a:off x="4652280" y="29271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0" name=""/>
                <p:cNvSpPr/>
                <p:nvPr/>
              </p:nvSpPr>
              <p:spPr>
                <a:xfrm>
                  <a:off x="4652280" y="29271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1" name=""/>
              <p:cNvGrpSpPr/>
              <p:nvPr/>
            </p:nvGrpSpPr>
            <p:grpSpPr>
              <a:xfrm>
                <a:off x="4706280" y="2963520"/>
                <a:ext cx="72720" cy="72720"/>
                <a:chOff x="4706280" y="2963520"/>
                <a:chExt cx="72720" cy="72720"/>
              </a:xfrm>
            </p:grpSpPr>
            <p:sp>
              <p:nvSpPr>
                <p:cNvPr id="5102" name=""/>
                <p:cNvSpPr/>
                <p:nvPr/>
              </p:nvSpPr>
              <p:spPr>
                <a:xfrm>
                  <a:off x="4706280" y="2963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3" name=""/>
                <p:cNvSpPr/>
                <p:nvPr/>
              </p:nvSpPr>
              <p:spPr>
                <a:xfrm>
                  <a:off x="4706280" y="2963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4" name=""/>
              <p:cNvGrpSpPr/>
              <p:nvPr/>
            </p:nvGrpSpPr>
            <p:grpSpPr>
              <a:xfrm>
                <a:off x="4761720" y="3000240"/>
                <a:ext cx="72720" cy="72720"/>
                <a:chOff x="4761720" y="3000240"/>
                <a:chExt cx="72720" cy="72720"/>
              </a:xfrm>
            </p:grpSpPr>
            <p:sp>
              <p:nvSpPr>
                <p:cNvPr id="5105" name=""/>
                <p:cNvSpPr/>
                <p:nvPr/>
              </p:nvSpPr>
              <p:spPr>
                <a:xfrm>
                  <a:off x="4761720" y="30002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6" name=""/>
                <p:cNvSpPr/>
                <p:nvPr/>
              </p:nvSpPr>
              <p:spPr>
                <a:xfrm>
                  <a:off x="4761720" y="300024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7" name=""/>
              <p:cNvGrpSpPr/>
              <p:nvPr/>
            </p:nvGrpSpPr>
            <p:grpSpPr>
              <a:xfrm>
                <a:off x="4815720" y="3036600"/>
                <a:ext cx="72720" cy="72720"/>
                <a:chOff x="4815720" y="3036600"/>
                <a:chExt cx="72720" cy="72720"/>
              </a:xfrm>
            </p:grpSpPr>
            <p:sp>
              <p:nvSpPr>
                <p:cNvPr id="5108" name=""/>
                <p:cNvSpPr/>
                <p:nvPr/>
              </p:nvSpPr>
              <p:spPr>
                <a:xfrm>
                  <a:off x="4815720" y="30366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9" name=""/>
                <p:cNvSpPr/>
                <p:nvPr/>
              </p:nvSpPr>
              <p:spPr>
                <a:xfrm>
                  <a:off x="4815720" y="303660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0" name=""/>
              <p:cNvGrpSpPr/>
              <p:nvPr/>
            </p:nvGrpSpPr>
            <p:grpSpPr>
              <a:xfrm>
                <a:off x="4871520" y="3073320"/>
                <a:ext cx="70920" cy="72720"/>
                <a:chOff x="4871520" y="3073320"/>
                <a:chExt cx="70920" cy="72720"/>
              </a:xfrm>
            </p:grpSpPr>
            <p:sp>
              <p:nvSpPr>
                <p:cNvPr id="5111" name=""/>
                <p:cNvSpPr/>
                <p:nvPr/>
              </p:nvSpPr>
              <p:spPr>
                <a:xfrm>
                  <a:off x="4871520" y="307332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>
                  <a:off x="4871520" y="30733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3" name=""/>
              <p:cNvGrpSpPr/>
              <p:nvPr/>
            </p:nvGrpSpPr>
            <p:grpSpPr>
              <a:xfrm>
                <a:off x="4925520" y="3109680"/>
                <a:ext cx="72720" cy="72720"/>
                <a:chOff x="4925520" y="3109680"/>
                <a:chExt cx="72720" cy="72720"/>
              </a:xfrm>
            </p:grpSpPr>
            <p:sp>
              <p:nvSpPr>
                <p:cNvPr id="5114" name=""/>
                <p:cNvSpPr/>
                <p:nvPr/>
              </p:nvSpPr>
              <p:spPr>
                <a:xfrm>
                  <a:off x="4925520" y="31096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5" name=""/>
                <p:cNvSpPr/>
                <p:nvPr/>
              </p:nvSpPr>
              <p:spPr>
                <a:xfrm>
                  <a:off x="4925520" y="31096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16" name=""/>
            <p:cNvSpPr/>
            <p:nvPr/>
          </p:nvSpPr>
          <p:spPr>
            <a:xfrm>
              <a:off x="4233600" y="269064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47" y="356"/>
                  </a:moveTo>
                  <a:lnTo>
                    <a:pt x="470" y="322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17" name=""/>
            <p:cNvGrpSpPr/>
            <p:nvPr/>
          </p:nvGrpSpPr>
          <p:grpSpPr>
            <a:xfrm>
              <a:off x="4070160" y="2873160"/>
              <a:ext cx="764280" cy="545400"/>
              <a:chOff x="4070160" y="2873160"/>
              <a:chExt cx="764280" cy="545400"/>
            </a:xfrm>
          </p:grpSpPr>
          <p:grpSp>
            <p:nvGrpSpPr>
              <p:cNvPr id="5118" name=""/>
              <p:cNvGrpSpPr/>
              <p:nvPr/>
            </p:nvGrpSpPr>
            <p:grpSpPr>
              <a:xfrm>
                <a:off x="4070160" y="2873160"/>
                <a:ext cx="90000" cy="72720"/>
                <a:chOff x="4070160" y="2873160"/>
                <a:chExt cx="90000" cy="72720"/>
              </a:xfrm>
            </p:grpSpPr>
            <p:sp>
              <p:nvSpPr>
                <p:cNvPr id="5119" name=""/>
                <p:cNvSpPr/>
                <p:nvPr/>
              </p:nvSpPr>
              <p:spPr>
                <a:xfrm>
                  <a:off x="4070160" y="287316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0" name=""/>
                <p:cNvSpPr/>
                <p:nvPr/>
              </p:nvSpPr>
              <p:spPr>
                <a:xfrm>
                  <a:off x="4070160" y="28731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1" name=""/>
              <p:cNvGrpSpPr/>
              <p:nvPr/>
            </p:nvGrpSpPr>
            <p:grpSpPr>
              <a:xfrm>
                <a:off x="4123800" y="2909520"/>
                <a:ext cx="91800" cy="72360"/>
                <a:chOff x="4123800" y="2909520"/>
                <a:chExt cx="91800" cy="72360"/>
              </a:xfrm>
            </p:grpSpPr>
            <p:sp>
              <p:nvSpPr>
                <p:cNvPr id="5122" name=""/>
                <p:cNvSpPr/>
                <p:nvPr/>
              </p:nvSpPr>
              <p:spPr>
                <a:xfrm>
                  <a:off x="4123800" y="290952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3" name=""/>
                <p:cNvSpPr/>
                <p:nvPr/>
              </p:nvSpPr>
              <p:spPr>
                <a:xfrm>
                  <a:off x="4123800" y="290952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4" name=""/>
              <p:cNvGrpSpPr/>
              <p:nvPr/>
            </p:nvGrpSpPr>
            <p:grpSpPr>
              <a:xfrm>
                <a:off x="4179240" y="2945880"/>
                <a:ext cx="72720" cy="72720"/>
                <a:chOff x="4179240" y="2945880"/>
                <a:chExt cx="72720" cy="72720"/>
              </a:xfrm>
            </p:grpSpPr>
            <p:sp>
              <p:nvSpPr>
                <p:cNvPr id="5125" name=""/>
                <p:cNvSpPr/>
                <p:nvPr/>
              </p:nvSpPr>
              <p:spPr>
                <a:xfrm>
                  <a:off x="4179240" y="29458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6" name=""/>
                <p:cNvSpPr/>
                <p:nvPr/>
              </p:nvSpPr>
              <p:spPr>
                <a:xfrm>
                  <a:off x="4179240" y="29458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7" name=""/>
              <p:cNvGrpSpPr/>
              <p:nvPr/>
            </p:nvGrpSpPr>
            <p:grpSpPr>
              <a:xfrm>
                <a:off x="4233240" y="2963160"/>
                <a:ext cx="72720" cy="91800"/>
                <a:chOff x="4233240" y="2963160"/>
                <a:chExt cx="72720" cy="91800"/>
              </a:xfrm>
            </p:grpSpPr>
            <p:sp>
              <p:nvSpPr>
                <p:cNvPr id="5128" name=""/>
                <p:cNvSpPr/>
                <p:nvPr/>
              </p:nvSpPr>
              <p:spPr>
                <a:xfrm>
                  <a:off x="4233240" y="29631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9" name=""/>
                <p:cNvSpPr/>
                <p:nvPr/>
              </p:nvSpPr>
              <p:spPr>
                <a:xfrm>
                  <a:off x="4233240" y="29631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0" name=""/>
              <p:cNvGrpSpPr/>
              <p:nvPr/>
            </p:nvGrpSpPr>
            <p:grpSpPr>
              <a:xfrm>
                <a:off x="4287240" y="3018960"/>
                <a:ext cx="72720" cy="72720"/>
                <a:chOff x="4287240" y="3018960"/>
                <a:chExt cx="72720" cy="72720"/>
              </a:xfrm>
            </p:grpSpPr>
            <p:sp>
              <p:nvSpPr>
                <p:cNvPr id="5131" name=""/>
                <p:cNvSpPr/>
                <p:nvPr/>
              </p:nvSpPr>
              <p:spPr>
                <a:xfrm>
                  <a:off x="4287240" y="30189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3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2" name=""/>
                <p:cNvSpPr/>
                <p:nvPr/>
              </p:nvSpPr>
              <p:spPr>
                <a:xfrm>
                  <a:off x="4287240" y="30189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3" name=""/>
              <p:cNvGrpSpPr/>
              <p:nvPr/>
            </p:nvGrpSpPr>
            <p:grpSpPr>
              <a:xfrm>
                <a:off x="4342680" y="3036240"/>
                <a:ext cx="72720" cy="91800"/>
                <a:chOff x="4342680" y="3036240"/>
                <a:chExt cx="72720" cy="91800"/>
              </a:xfrm>
            </p:grpSpPr>
            <p:sp>
              <p:nvSpPr>
                <p:cNvPr id="5134" name=""/>
                <p:cNvSpPr/>
                <p:nvPr/>
              </p:nvSpPr>
              <p:spPr>
                <a:xfrm>
                  <a:off x="4342680" y="30362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>
                  <a:off x="4342680" y="30362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6" name=""/>
              <p:cNvGrpSpPr/>
              <p:nvPr/>
            </p:nvGrpSpPr>
            <p:grpSpPr>
              <a:xfrm>
                <a:off x="4396680" y="3072960"/>
                <a:ext cx="72720" cy="91800"/>
                <a:chOff x="4396680" y="3072960"/>
                <a:chExt cx="72720" cy="91800"/>
              </a:xfrm>
            </p:grpSpPr>
            <p:sp>
              <p:nvSpPr>
                <p:cNvPr id="5137" name=""/>
                <p:cNvSpPr/>
                <p:nvPr/>
              </p:nvSpPr>
              <p:spPr>
                <a:xfrm>
                  <a:off x="4396680" y="30729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8" name=""/>
                <p:cNvSpPr/>
                <p:nvPr/>
              </p:nvSpPr>
              <p:spPr>
                <a:xfrm>
                  <a:off x="4396680" y="30729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9" name=""/>
              <p:cNvGrpSpPr/>
              <p:nvPr/>
            </p:nvGrpSpPr>
            <p:grpSpPr>
              <a:xfrm>
                <a:off x="4433400" y="3109320"/>
                <a:ext cx="91440" cy="91800"/>
                <a:chOff x="4433400" y="3109320"/>
                <a:chExt cx="91440" cy="91800"/>
              </a:xfrm>
            </p:grpSpPr>
            <p:sp>
              <p:nvSpPr>
                <p:cNvPr id="5140" name=""/>
                <p:cNvSpPr/>
                <p:nvPr/>
              </p:nvSpPr>
              <p:spPr>
                <a:xfrm>
                  <a:off x="4433400" y="3109320"/>
                  <a:ext cx="9144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1" name=""/>
                <p:cNvSpPr/>
                <p:nvPr/>
              </p:nvSpPr>
              <p:spPr>
                <a:xfrm>
                  <a:off x="4433400" y="310932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2" name=""/>
              <p:cNvGrpSpPr/>
              <p:nvPr/>
            </p:nvGrpSpPr>
            <p:grpSpPr>
              <a:xfrm>
                <a:off x="4488840" y="3146040"/>
                <a:ext cx="90000" cy="91440"/>
                <a:chOff x="4488840" y="3146040"/>
                <a:chExt cx="90000" cy="91440"/>
              </a:xfrm>
            </p:grpSpPr>
            <p:sp>
              <p:nvSpPr>
                <p:cNvPr id="5143" name=""/>
                <p:cNvSpPr/>
                <p:nvPr/>
              </p:nvSpPr>
              <p:spPr>
                <a:xfrm>
                  <a:off x="4488840" y="3146040"/>
                  <a:ext cx="90000" cy="9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>
                  <a:off x="4488840" y="314604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5" name=""/>
              <p:cNvGrpSpPr/>
              <p:nvPr/>
            </p:nvGrpSpPr>
            <p:grpSpPr>
              <a:xfrm>
                <a:off x="4542840" y="3182400"/>
                <a:ext cx="72720" cy="91800"/>
                <a:chOff x="4542840" y="3182400"/>
                <a:chExt cx="72720" cy="91800"/>
              </a:xfrm>
            </p:grpSpPr>
            <p:sp>
              <p:nvSpPr>
                <p:cNvPr id="5146" name=""/>
                <p:cNvSpPr/>
                <p:nvPr/>
              </p:nvSpPr>
              <p:spPr>
                <a:xfrm>
                  <a:off x="4542840" y="31824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>
                  <a:off x="4542840" y="318240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8" name=""/>
              <p:cNvGrpSpPr/>
              <p:nvPr/>
            </p:nvGrpSpPr>
            <p:grpSpPr>
              <a:xfrm>
                <a:off x="4596840" y="3218760"/>
                <a:ext cx="72720" cy="91800"/>
                <a:chOff x="4596840" y="3218760"/>
                <a:chExt cx="72720" cy="91800"/>
              </a:xfrm>
            </p:grpSpPr>
            <p:sp>
              <p:nvSpPr>
                <p:cNvPr id="5149" name=""/>
                <p:cNvSpPr/>
                <p:nvPr/>
              </p:nvSpPr>
              <p:spPr>
                <a:xfrm>
                  <a:off x="4596840" y="32187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0" name=""/>
                <p:cNvSpPr/>
                <p:nvPr/>
              </p:nvSpPr>
              <p:spPr>
                <a:xfrm>
                  <a:off x="4596840" y="32187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1" name=""/>
              <p:cNvGrpSpPr/>
              <p:nvPr/>
            </p:nvGrpSpPr>
            <p:grpSpPr>
              <a:xfrm>
                <a:off x="4652280" y="3255480"/>
                <a:ext cx="72720" cy="91800"/>
                <a:chOff x="4652280" y="3255480"/>
                <a:chExt cx="72720" cy="91800"/>
              </a:xfrm>
            </p:grpSpPr>
            <p:sp>
              <p:nvSpPr>
                <p:cNvPr id="5152" name=""/>
                <p:cNvSpPr/>
                <p:nvPr/>
              </p:nvSpPr>
              <p:spPr>
                <a:xfrm>
                  <a:off x="4652280" y="325548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>
                  <a:off x="4652280" y="325548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4" name=""/>
              <p:cNvGrpSpPr/>
              <p:nvPr/>
            </p:nvGrpSpPr>
            <p:grpSpPr>
              <a:xfrm>
                <a:off x="4706280" y="3291840"/>
                <a:ext cx="72720" cy="90360"/>
                <a:chOff x="4706280" y="3291840"/>
                <a:chExt cx="72720" cy="90360"/>
              </a:xfrm>
            </p:grpSpPr>
            <p:sp>
              <p:nvSpPr>
                <p:cNvPr id="5155" name=""/>
                <p:cNvSpPr/>
                <p:nvPr/>
              </p:nvSpPr>
              <p:spPr>
                <a:xfrm>
                  <a:off x="4706280" y="329184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4706280" y="329184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7" name=""/>
              <p:cNvGrpSpPr/>
              <p:nvPr/>
            </p:nvGrpSpPr>
            <p:grpSpPr>
              <a:xfrm>
                <a:off x="4761720" y="3328560"/>
                <a:ext cx="72720" cy="90000"/>
                <a:chOff x="4761720" y="3328560"/>
                <a:chExt cx="72720" cy="90000"/>
              </a:xfrm>
            </p:grpSpPr>
            <p:sp>
              <p:nvSpPr>
                <p:cNvPr id="5158" name=""/>
                <p:cNvSpPr/>
                <p:nvPr/>
              </p:nvSpPr>
              <p:spPr>
                <a:xfrm>
                  <a:off x="4761720" y="332856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>
                  <a:off x="4761720" y="33285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60" name=""/>
            <p:cNvSpPr/>
            <p:nvPr/>
          </p:nvSpPr>
          <p:spPr>
            <a:xfrm>
              <a:off x="4070160" y="2909880"/>
              <a:ext cx="745560" cy="582120"/>
            </a:xfrm>
            <a:custGeom>
              <a:avLst/>
              <a:gdLst/>
              <a:ahLst/>
              <a:rect l="l" t="t" r="r" b="b"/>
              <a:pathLst>
                <a:path w="470" h="367">
                  <a:moveTo>
                    <a:pt x="447" y="367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61" name=""/>
            <p:cNvGrpSpPr/>
            <p:nvPr/>
          </p:nvGrpSpPr>
          <p:grpSpPr>
            <a:xfrm>
              <a:off x="4124160" y="2781000"/>
              <a:ext cx="764280" cy="547200"/>
              <a:chOff x="4124160" y="2781000"/>
              <a:chExt cx="764280" cy="547200"/>
            </a:xfrm>
          </p:grpSpPr>
          <p:grpSp>
            <p:nvGrpSpPr>
              <p:cNvPr id="5162" name=""/>
              <p:cNvGrpSpPr/>
              <p:nvPr/>
            </p:nvGrpSpPr>
            <p:grpSpPr>
              <a:xfrm>
                <a:off x="4124160" y="2781000"/>
                <a:ext cx="91800" cy="91800"/>
                <a:chOff x="4124160" y="2781000"/>
                <a:chExt cx="91800" cy="91800"/>
              </a:xfrm>
            </p:grpSpPr>
            <p:sp>
              <p:nvSpPr>
                <p:cNvPr id="5163" name=""/>
                <p:cNvSpPr/>
                <p:nvPr/>
              </p:nvSpPr>
              <p:spPr>
                <a:xfrm>
                  <a:off x="4124160" y="278100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2" y="4"/>
                      </a:cubicBezTo>
                      <a:cubicBezTo>
                        <a:pt x="2" y="5"/>
                        <a:pt x="4" y="4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4" name=""/>
                <p:cNvSpPr/>
                <p:nvPr/>
              </p:nvSpPr>
              <p:spPr>
                <a:xfrm>
                  <a:off x="4124160" y="2781000"/>
                  <a:ext cx="5508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5" name=""/>
              <p:cNvGrpSpPr/>
              <p:nvPr/>
            </p:nvGrpSpPr>
            <p:grpSpPr>
              <a:xfrm>
                <a:off x="4179240" y="2817360"/>
                <a:ext cx="90000" cy="91800"/>
                <a:chOff x="4179240" y="2817360"/>
                <a:chExt cx="90000" cy="91800"/>
              </a:xfrm>
            </p:grpSpPr>
            <p:sp>
              <p:nvSpPr>
                <p:cNvPr id="5166" name=""/>
                <p:cNvSpPr/>
                <p:nvPr/>
              </p:nvSpPr>
              <p:spPr>
                <a:xfrm>
                  <a:off x="4179240" y="281736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7" name=""/>
                <p:cNvSpPr/>
                <p:nvPr/>
              </p:nvSpPr>
              <p:spPr>
                <a:xfrm>
                  <a:off x="4179240" y="281736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8" name=""/>
              <p:cNvGrpSpPr/>
              <p:nvPr/>
            </p:nvGrpSpPr>
            <p:grpSpPr>
              <a:xfrm>
                <a:off x="4233240" y="2853720"/>
                <a:ext cx="72720" cy="91800"/>
                <a:chOff x="4233240" y="2853720"/>
                <a:chExt cx="72720" cy="91800"/>
              </a:xfrm>
            </p:grpSpPr>
            <p:sp>
              <p:nvSpPr>
                <p:cNvPr id="5169" name=""/>
                <p:cNvSpPr/>
                <p:nvPr/>
              </p:nvSpPr>
              <p:spPr>
                <a:xfrm>
                  <a:off x="4233240" y="28537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0" name=""/>
                <p:cNvSpPr/>
                <p:nvPr/>
              </p:nvSpPr>
              <p:spPr>
                <a:xfrm>
                  <a:off x="4233240" y="285372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1" name=""/>
              <p:cNvGrpSpPr/>
              <p:nvPr/>
            </p:nvGrpSpPr>
            <p:grpSpPr>
              <a:xfrm>
                <a:off x="4287240" y="2890440"/>
                <a:ext cx="72720" cy="91440"/>
                <a:chOff x="4287240" y="2890440"/>
                <a:chExt cx="72720" cy="91440"/>
              </a:xfrm>
            </p:grpSpPr>
            <p:sp>
              <p:nvSpPr>
                <p:cNvPr id="5172" name=""/>
                <p:cNvSpPr/>
                <p:nvPr/>
              </p:nvSpPr>
              <p:spPr>
                <a:xfrm>
                  <a:off x="4287240" y="289044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3" name=""/>
                <p:cNvSpPr/>
                <p:nvPr/>
              </p:nvSpPr>
              <p:spPr>
                <a:xfrm>
                  <a:off x="4287240" y="289044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4" name=""/>
              <p:cNvGrpSpPr/>
              <p:nvPr/>
            </p:nvGrpSpPr>
            <p:grpSpPr>
              <a:xfrm>
                <a:off x="4342680" y="2926800"/>
                <a:ext cx="72720" cy="91800"/>
                <a:chOff x="4342680" y="2926800"/>
                <a:chExt cx="72720" cy="91800"/>
              </a:xfrm>
            </p:grpSpPr>
            <p:sp>
              <p:nvSpPr>
                <p:cNvPr id="5175" name=""/>
                <p:cNvSpPr/>
                <p:nvPr/>
              </p:nvSpPr>
              <p:spPr>
                <a:xfrm>
                  <a:off x="4342680" y="292680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6" name=""/>
                <p:cNvSpPr/>
                <p:nvPr/>
              </p:nvSpPr>
              <p:spPr>
                <a:xfrm>
                  <a:off x="4342680" y="292680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7" name=""/>
              <p:cNvGrpSpPr/>
              <p:nvPr/>
            </p:nvGrpSpPr>
            <p:grpSpPr>
              <a:xfrm>
                <a:off x="4396680" y="2963160"/>
                <a:ext cx="72720" cy="91800"/>
                <a:chOff x="4396680" y="2963160"/>
                <a:chExt cx="72720" cy="91800"/>
              </a:xfrm>
            </p:grpSpPr>
            <p:sp>
              <p:nvSpPr>
                <p:cNvPr id="5178" name=""/>
                <p:cNvSpPr/>
                <p:nvPr/>
              </p:nvSpPr>
              <p:spPr>
                <a:xfrm>
                  <a:off x="4396680" y="29631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9" name=""/>
                <p:cNvSpPr/>
                <p:nvPr/>
              </p:nvSpPr>
              <p:spPr>
                <a:xfrm>
                  <a:off x="4396680" y="296316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0" name=""/>
              <p:cNvGrpSpPr/>
              <p:nvPr/>
            </p:nvGrpSpPr>
            <p:grpSpPr>
              <a:xfrm>
                <a:off x="4452480" y="2999880"/>
                <a:ext cx="72360" cy="91800"/>
                <a:chOff x="4452480" y="2999880"/>
                <a:chExt cx="72360" cy="91800"/>
              </a:xfrm>
            </p:grpSpPr>
            <p:sp>
              <p:nvSpPr>
                <p:cNvPr id="5181" name=""/>
                <p:cNvSpPr/>
                <p:nvPr/>
              </p:nvSpPr>
              <p:spPr>
                <a:xfrm>
                  <a:off x="4452480" y="299988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2" name=""/>
                <p:cNvSpPr/>
                <p:nvPr/>
              </p:nvSpPr>
              <p:spPr>
                <a:xfrm>
                  <a:off x="4452480" y="299988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3" name=""/>
              <p:cNvGrpSpPr/>
              <p:nvPr/>
            </p:nvGrpSpPr>
            <p:grpSpPr>
              <a:xfrm>
                <a:off x="4488840" y="3036240"/>
                <a:ext cx="90000" cy="91800"/>
                <a:chOff x="4488840" y="3036240"/>
                <a:chExt cx="90000" cy="91800"/>
              </a:xfrm>
            </p:grpSpPr>
            <p:sp>
              <p:nvSpPr>
                <p:cNvPr id="5184" name=""/>
                <p:cNvSpPr/>
                <p:nvPr/>
              </p:nvSpPr>
              <p:spPr>
                <a:xfrm>
                  <a:off x="4488840" y="303624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5" name=""/>
                <p:cNvSpPr/>
                <p:nvPr/>
              </p:nvSpPr>
              <p:spPr>
                <a:xfrm>
                  <a:off x="4488840" y="303624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6" name=""/>
              <p:cNvGrpSpPr/>
              <p:nvPr/>
            </p:nvGrpSpPr>
            <p:grpSpPr>
              <a:xfrm>
                <a:off x="4542840" y="3072960"/>
                <a:ext cx="90000" cy="91800"/>
                <a:chOff x="4542840" y="3072960"/>
                <a:chExt cx="90000" cy="91800"/>
              </a:xfrm>
            </p:grpSpPr>
            <p:sp>
              <p:nvSpPr>
                <p:cNvPr id="5187" name=""/>
                <p:cNvSpPr/>
                <p:nvPr/>
              </p:nvSpPr>
              <p:spPr>
                <a:xfrm>
                  <a:off x="4542840" y="3072960"/>
                  <a:ext cx="900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8" name=""/>
                <p:cNvSpPr/>
                <p:nvPr/>
              </p:nvSpPr>
              <p:spPr>
                <a:xfrm>
                  <a:off x="4542840" y="3072960"/>
                  <a:ext cx="536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9" name=""/>
              <p:cNvGrpSpPr/>
              <p:nvPr/>
            </p:nvGrpSpPr>
            <p:grpSpPr>
              <a:xfrm>
                <a:off x="4596840" y="3109320"/>
                <a:ext cx="72720" cy="91800"/>
                <a:chOff x="4596840" y="3109320"/>
                <a:chExt cx="72720" cy="91800"/>
              </a:xfrm>
            </p:grpSpPr>
            <p:sp>
              <p:nvSpPr>
                <p:cNvPr id="5190" name=""/>
                <p:cNvSpPr/>
                <p:nvPr/>
              </p:nvSpPr>
              <p:spPr>
                <a:xfrm>
                  <a:off x="4596840" y="31093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1" name=""/>
                <p:cNvSpPr/>
                <p:nvPr/>
              </p:nvSpPr>
              <p:spPr>
                <a:xfrm>
                  <a:off x="4596840" y="310932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2" name=""/>
              <p:cNvGrpSpPr/>
              <p:nvPr/>
            </p:nvGrpSpPr>
            <p:grpSpPr>
              <a:xfrm>
                <a:off x="4652280" y="3146040"/>
                <a:ext cx="72720" cy="91440"/>
                <a:chOff x="4652280" y="3146040"/>
                <a:chExt cx="72720" cy="91440"/>
              </a:xfrm>
            </p:grpSpPr>
            <p:sp>
              <p:nvSpPr>
                <p:cNvPr id="5193" name=""/>
                <p:cNvSpPr/>
                <p:nvPr/>
              </p:nvSpPr>
              <p:spPr>
                <a:xfrm>
                  <a:off x="4652280" y="314604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4" name=""/>
                <p:cNvSpPr/>
                <p:nvPr/>
              </p:nvSpPr>
              <p:spPr>
                <a:xfrm>
                  <a:off x="4652280" y="314604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5" name=""/>
              <p:cNvGrpSpPr/>
              <p:nvPr/>
            </p:nvGrpSpPr>
            <p:grpSpPr>
              <a:xfrm>
                <a:off x="4706280" y="3182400"/>
                <a:ext cx="72720" cy="72720"/>
                <a:chOff x="4706280" y="3182400"/>
                <a:chExt cx="72720" cy="72720"/>
              </a:xfrm>
            </p:grpSpPr>
            <p:sp>
              <p:nvSpPr>
                <p:cNvPr id="5196" name=""/>
                <p:cNvSpPr/>
                <p:nvPr/>
              </p:nvSpPr>
              <p:spPr>
                <a:xfrm>
                  <a:off x="4706280" y="3182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7" name=""/>
                <p:cNvSpPr/>
                <p:nvPr/>
              </p:nvSpPr>
              <p:spPr>
                <a:xfrm>
                  <a:off x="4706280" y="318240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8" name=""/>
              <p:cNvGrpSpPr/>
              <p:nvPr/>
            </p:nvGrpSpPr>
            <p:grpSpPr>
              <a:xfrm>
                <a:off x="4761720" y="3218760"/>
                <a:ext cx="72720" cy="91800"/>
                <a:chOff x="4761720" y="3218760"/>
                <a:chExt cx="72720" cy="91800"/>
              </a:xfrm>
            </p:grpSpPr>
            <p:sp>
              <p:nvSpPr>
                <p:cNvPr id="5199" name=""/>
                <p:cNvSpPr/>
                <p:nvPr/>
              </p:nvSpPr>
              <p:spPr>
                <a:xfrm>
                  <a:off x="4761720" y="32187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0" name=""/>
                <p:cNvSpPr/>
                <p:nvPr/>
              </p:nvSpPr>
              <p:spPr>
                <a:xfrm>
                  <a:off x="4761720" y="3218760"/>
                  <a:ext cx="3636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1" name=""/>
              <p:cNvGrpSpPr/>
              <p:nvPr/>
            </p:nvGrpSpPr>
            <p:grpSpPr>
              <a:xfrm>
                <a:off x="4815720" y="3255480"/>
                <a:ext cx="72720" cy="72720"/>
                <a:chOff x="4815720" y="3255480"/>
                <a:chExt cx="72720" cy="72720"/>
              </a:xfrm>
            </p:grpSpPr>
            <p:sp>
              <p:nvSpPr>
                <p:cNvPr id="5202" name=""/>
                <p:cNvSpPr/>
                <p:nvPr/>
              </p:nvSpPr>
              <p:spPr>
                <a:xfrm>
                  <a:off x="4815720" y="32554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3" name=""/>
                <p:cNvSpPr/>
                <p:nvPr/>
              </p:nvSpPr>
              <p:spPr>
                <a:xfrm>
                  <a:off x="4815720" y="325548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04" name=""/>
            <p:cNvSpPr/>
            <p:nvPr/>
          </p:nvSpPr>
          <p:spPr>
            <a:xfrm>
              <a:off x="4124160" y="2836800"/>
              <a:ext cx="747360" cy="564840"/>
            </a:xfrm>
            <a:custGeom>
              <a:avLst/>
              <a:gdLst/>
              <a:ahLst/>
              <a:rect l="l" t="t" r="r" b="b"/>
              <a:pathLst>
                <a:path w="471" h="356">
                  <a:moveTo>
                    <a:pt x="448" y="356"/>
                  </a:moveTo>
                  <a:lnTo>
                    <a:pt x="471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05" name=""/>
            <p:cNvGrpSpPr/>
            <p:nvPr/>
          </p:nvGrpSpPr>
          <p:grpSpPr>
            <a:xfrm>
              <a:off x="3705120" y="3402000"/>
              <a:ext cx="747000" cy="545400"/>
              <a:chOff x="3705120" y="3402000"/>
              <a:chExt cx="747000" cy="545400"/>
            </a:xfrm>
          </p:grpSpPr>
          <p:grpSp>
            <p:nvGrpSpPr>
              <p:cNvPr id="5206" name=""/>
              <p:cNvGrpSpPr/>
              <p:nvPr/>
            </p:nvGrpSpPr>
            <p:grpSpPr>
              <a:xfrm>
                <a:off x="3705120" y="3402000"/>
                <a:ext cx="72360" cy="72360"/>
                <a:chOff x="3705120" y="3402000"/>
                <a:chExt cx="72360" cy="72360"/>
              </a:xfrm>
            </p:grpSpPr>
            <p:sp>
              <p:nvSpPr>
                <p:cNvPr id="5207" name=""/>
                <p:cNvSpPr/>
                <p:nvPr/>
              </p:nvSpPr>
              <p:spPr>
                <a:xfrm>
                  <a:off x="3705120" y="3402000"/>
                  <a:ext cx="7236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8" name=""/>
                <p:cNvSpPr/>
                <p:nvPr/>
              </p:nvSpPr>
              <p:spPr>
                <a:xfrm>
                  <a:off x="3705120" y="3402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9" name=""/>
              <p:cNvGrpSpPr/>
              <p:nvPr/>
            </p:nvGrpSpPr>
            <p:grpSpPr>
              <a:xfrm>
                <a:off x="3741120" y="3438000"/>
                <a:ext cx="91800" cy="72720"/>
                <a:chOff x="3741120" y="3438000"/>
                <a:chExt cx="91800" cy="72720"/>
              </a:xfrm>
            </p:grpSpPr>
            <p:sp>
              <p:nvSpPr>
                <p:cNvPr id="5210" name=""/>
                <p:cNvSpPr/>
                <p:nvPr/>
              </p:nvSpPr>
              <p:spPr>
                <a:xfrm>
                  <a:off x="3741120" y="343800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5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1" name=""/>
                <p:cNvSpPr/>
                <p:nvPr/>
              </p:nvSpPr>
              <p:spPr>
                <a:xfrm>
                  <a:off x="3741120" y="3438000"/>
                  <a:ext cx="550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2" name=""/>
              <p:cNvGrpSpPr/>
              <p:nvPr/>
            </p:nvGrpSpPr>
            <p:grpSpPr>
              <a:xfrm>
                <a:off x="3796560" y="3474360"/>
                <a:ext cx="90360" cy="72720"/>
                <a:chOff x="3796560" y="3474360"/>
                <a:chExt cx="90360" cy="72720"/>
              </a:xfrm>
            </p:grpSpPr>
            <p:sp>
              <p:nvSpPr>
                <p:cNvPr id="5213" name=""/>
                <p:cNvSpPr/>
                <p:nvPr/>
              </p:nvSpPr>
              <p:spPr>
                <a:xfrm>
                  <a:off x="3796560" y="347436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>
                  <a:off x="3796560" y="3474360"/>
                  <a:ext cx="536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5" name=""/>
              <p:cNvGrpSpPr/>
              <p:nvPr/>
            </p:nvGrpSpPr>
            <p:grpSpPr>
              <a:xfrm>
                <a:off x="3850560" y="3511080"/>
                <a:ext cx="91800" cy="72720"/>
                <a:chOff x="3850560" y="3511080"/>
                <a:chExt cx="91800" cy="72720"/>
              </a:xfrm>
            </p:grpSpPr>
            <p:sp>
              <p:nvSpPr>
                <p:cNvPr id="5216" name=""/>
                <p:cNvSpPr/>
                <p:nvPr/>
              </p:nvSpPr>
              <p:spPr>
                <a:xfrm>
                  <a:off x="3850560" y="351108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7" name=""/>
                <p:cNvSpPr/>
                <p:nvPr/>
              </p:nvSpPr>
              <p:spPr>
                <a:xfrm>
                  <a:off x="3850560" y="351108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8" name=""/>
              <p:cNvGrpSpPr/>
              <p:nvPr/>
            </p:nvGrpSpPr>
            <p:grpSpPr>
              <a:xfrm>
                <a:off x="3906360" y="3547440"/>
                <a:ext cx="70920" cy="72720"/>
                <a:chOff x="3906360" y="3547440"/>
                <a:chExt cx="70920" cy="72720"/>
              </a:xfrm>
            </p:grpSpPr>
            <p:sp>
              <p:nvSpPr>
                <p:cNvPr id="5219" name=""/>
                <p:cNvSpPr/>
                <p:nvPr/>
              </p:nvSpPr>
              <p:spPr>
                <a:xfrm>
                  <a:off x="3906360" y="3547440"/>
                  <a:ext cx="709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0" name=""/>
                <p:cNvSpPr/>
                <p:nvPr/>
              </p:nvSpPr>
              <p:spPr>
                <a:xfrm>
                  <a:off x="3906360" y="35474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1" name=""/>
              <p:cNvGrpSpPr/>
              <p:nvPr/>
            </p:nvGrpSpPr>
            <p:grpSpPr>
              <a:xfrm>
                <a:off x="3960360" y="3584160"/>
                <a:ext cx="72360" cy="72720"/>
                <a:chOff x="3960360" y="3584160"/>
                <a:chExt cx="72360" cy="72720"/>
              </a:xfrm>
            </p:grpSpPr>
            <p:sp>
              <p:nvSpPr>
                <p:cNvPr id="5222" name=""/>
                <p:cNvSpPr/>
                <p:nvPr/>
              </p:nvSpPr>
              <p:spPr>
                <a:xfrm>
                  <a:off x="3960360" y="358416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3" name=""/>
                <p:cNvSpPr/>
                <p:nvPr/>
              </p:nvSpPr>
              <p:spPr>
                <a:xfrm>
                  <a:off x="3960360" y="3584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4" name=""/>
              <p:cNvGrpSpPr/>
              <p:nvPr/>
            </p:nvGrpSpPr>
            <p:grpSpPr>
              <a:xfrm>
                <a:off x="4014000" y="3620520"/>
                <a:ext cx="72720" cy="72720"/>
                <a:chOff x="4014000" y="3620520"/>
                <a:chExt cx="72720" cy="72720"/>
              </a:xfrm>
            </p:grpSpPr>
            <p:sp>
              <p:nvSpPr>
                <p:cNvPr id="5225" name=""/>
                <p:cNvSpPr/>
                <p:nvPr/>
              </p:nvSpPr>
              <p:spPr>
                <a:xfrm>
                  <a:off x="4014000" y="362052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6" name=""/>
                <p:cNvSpPr/>
                <p:nvPr/>
              </p:nvSpPr>
              <p:spPr>
                <a:xfrm>
                  <a:off x="4014000" y="362052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7" name=""/>
              <p:cNvGrpSpPr/>
              <p:nvPr/>
            </p:nvGrpSpPr>
            <p:grpSpPr>
              <a:xfrm>
                <a:off x="4069800" y="3657240"/>
                <a:ext cx="72720" cy="72360"/>
                <a:chOff x="4069800" y="3657240"/>
                <a:chExt cx="72720" cy="72360"/>
              </a:xfrm>
            </p:grpSpPr>
            <p:sp>
              <p:nvSpPr>
                <p:cNvPr id="5228" name=""/>
                <p:cNvSpPr/>
                <p:nvPr/>
              </p:nvSpPr>
              <p:spPr>
                <a:xfrm>
                  <a:off x="4069800" y="365724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9" name=""/>
                <p:cNvSpPr/>
                <p:nvPr/>
              </p:nvSpPr>
              <p:spPr>
                <a:xfrm>
                  <a:off x="4069800" y="365724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0" name=""/>
              <p:cNvGrpSpPr/>
              <p:nvPr/>
            </p:nvGrpSpPr>
            <p:grpSpPr>
              <a:xfrm>
                <a:off x="4106160" y="3693600"/>
                <a:ext cx="90360" cy="72720"/>
                <a:chOff x="4106160" y="3693600"/>
                <a:chExt cx="90360" cy="72720"/>
              </a:xfrm>
            </p:grpSpPr>
            <p:sp>
              <p:nvSpPr>
                <p:cNvPr id="5231" name=""/>
                <p:cNvSpPr/>
                <p:nvPr/>
              </p:nvSpPr>
              <p:spPr>
                <a:xfrm>
                  <a:off x="4106160" y="3693600"/>
                  <a:ext cx="9036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2" y="4"/>
                      </a:cubicBezTo>
                      <a:cubicBezTo>
                        <a:pt x="2" y="4"/>
                        <a:pt x="4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2" name=""/>
                <p:cNvSpPr/>
                <p:nvPr/>
              </p:nvSpPr>
              <p:spPr>
                <a:xfrm>
                  <a:off x="4106160" y="369360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3" name=""/>
              <p:cNvGrpSpPr/>
              <p:nvPr/>
            </p:nvGrpSpPr>
            <p:grpSpPr>
              <a:xfrm>
                <a:off x="4160160" y="3729960"/>
                <a:ext cx="91800" cy="72720"/>
                <a:chOff x="4160160" y="3729960"/>
                <a:chExt cx="91800" cy="72720"/>
              </a:xfrm>
            </p:grpSpPr>
            <p:sp>
              <p:nvSpPr>
                <p:cNvPr id="5234" name=""/>
                <p:cNvSpPr/>
                <p:nvPr/>
              </p:nvSpPr>
              <p:spPr>
                <a:xfrm>
                  <a:off x="4160160" y="3729960"/>
                  <a:ext cx="918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4160160" y="3729960"/>
                  <a:ext cx="55440" cy="363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6" name=""/>
              <p:cNvGrpSpPr/>
              <p:nvPr/>
            </p:nvGrpSpPr>
            <p:grpSpPr>
              <a:xfrm>
                <a:off x="4215960" y="3766680"/>
                <a:ext cx="90000" cy="72720"/>
                <a:chOff x="4215960" y="3766680"/>
                <a:chExt cx="90000" cy="72720"/>
              </a:xfrm>
            </p:grpSpPr>
            <p:sp>
              <p:nvSpPr>
                <p:cNvPr id="5237" name=""/>
                <p:cNvSpPr/>
                <p:nvPr/>
              </p:nvSpPr>
              <p:spPr>
                <a:xfrm>
                  <a:off x="4215960" y="376668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>
                  <a:off x="4215960" y="3766680"/>
                  <a:ext cx="5328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9" name=""/>
              <p:cNvGrpSpPr/>
              <p:nvPr/>
            </p:nvGrpSpPr>
            <p:grpSpPr>
              <a:xfrm>
                <a:off x="4269600" y="3803040"/>
                <a:ext cx="72720" cy="72720"/>
                <a:chOff x="4269600" y="3803040"/>
                <a:chExt cx="72720" cy="72720"/>
              </a:xfrm>
            </p:grpSpPr>
            <p:sp>
              <p:nvSpPr>
                <p:cNvPr id="5240" name=""/>
                <p:cNvSpPr/>
                <p:nvPr/>
              </p:nvSpPr>
              <p:spPr>
                <a:xfrm>
                  <a:off x="4269600" y="38030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4269600" y="3803040"/>
                  <a:ext cx="3636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2" name=""/>
              <p:cNvGrpSpPr/>
              <p:nvPr/>
            </p:nvGrpSpPr>
            <p:grpSpPr>
              <a:xfrm>
                <a:off x="4323600" y="3839760"/>
                <a:ext cx="72720" cy="72360"/>
                <a:chOff x="4323600" y="3839760"/>
                <a:chExt cx="72720" cy="72360"/>
              </a:xfrm>
            </p:grpSpPr>
            <p:sp>
              <p:nvSpPr>
                <p:cNvPr id="5243" name=""/>
                <p:cNvSpPr/>
                <p:nvPr/>
              </p:nvSpPr>
              <p:spPr>
                <a:xfrm>
                  <a:off x="4323600" y="38397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4323600" y="38397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5" name=""/>
              <p:cNvGrpSpPr/>
              <p:nvPr/>
            </p:nvGrpSpPr>
            <p:grpSpPr>
              <a:xfrm>
                <a:off x="4379400" y="3876120"/>
                <a:ext cx="72720" cy="71280"/>
                <a:chOff x="4379400" y="3876120"/>
                <a:chExt cx="72720" cy="71280"/>
              </a:xfrm>
            </p:grpSpPr>
            <p:sp>
              <p:nvSpPr>
                <p:cNvPr id="5246" name=""/>
                <p:cNvSpPr/>
                <p:nvPr/>
              </p:nvSpPr>
              <p:spPr>
                <a:xfrm>
                  <a:off x="4379400" y="38761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4379400" y="387612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48" name=""/>
            <p:cNvSpPr/>
            <p:nvPr/>
          </p:nvSpPr>
          <p:spPr>
            <a:xfrm>
              <a:off x="3687480" y="345564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49" name=""/>
            <p:cNvGrpSpPr/>
            <p:nvPr/>
          </p:nvGrpSpPr>
          <p:grpSpPr>
            <a:xfrm>
              <a:off x="3870000" y="3165480"/>
              <a:ext cx="745560" cy="545040"/>
              <a:chOff x="3870000" y="3165480"/>
              <a:chExt cx="745560" cy="545040"/>
            </a:xfrm>
          </p:grpSpPr>
          <p:grpSp>
            <p:nvGrpSpPr>
              <p:cNvPr id="5250" name=""/>
              <p:cNvGrpSpPr/>
              <p:nvPr/>
            </p:nvGrpSpPr>
            <p:grpSpPr>
              <a:xfrm>
                <a:off x="3870000" y="3165480"/>
                <a:ext cx="72720" cy="90000"/>
                <a:chOff x="3870000" y="3165480"/>
                <a:chExt cx="72720" cy="90000"/>
              </a:xfrm>
            </p:grpSpPr>
            <p:sp>
              <p:nvSpPr>
                <p:cNvPr id="5251" name=""/>
                <p:cNvSpPr/>
                <p:nvPr/>
              </p:nvSpPr>
              <p:spPr>
                <a:xfrm>
                  <a:off x="3870000" y="3165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1" y="5"/>
                        <a:pt x="3" y="4"/>
                        <a:pt x="3" y="4"/>
                      </a:cubicBezTo>
                      <a:cubicBezTo>
                        <a:pt x="4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>
                  <a:off x="3870000" y="3165480"/>
                  <a:ext cx="36360" cy="532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3" name=""/>
              <p:cNvGrpSpPr/>
              <p:nvPr/>
            </p:nvGrpSpPr>
            <p:grpSpPr>
              <a:xfrm>
                <a:off x="3906360" y="3201480"/>
                <a:ext cx="90000" cy="90000"/>
                <a:chOff x="3906360" y="3201480"/>
                <a:chExt cx="90000" cy="90000"/>
              </a:xfrm>
            </p:grpSpPr>
            <p:sp>
              <p:nvSpPr>
                <p:cNvPr id="5254" name=""/>
                <p:cNvSpPr/>
                <p:nvPr/>
              </p:nvSpPr>
              <p:spPr>
                <a:xfrm>
                  <a:off x="3906360" y="320148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4" y="5"/>
                        <a:pt x="4" y="4"/>
                      </a:cubicBezTo>
                      <a:cubicBezTo>
                        <a:pt x="5" y="3"/>
                        <a:pt x="4" y="2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5" name=""/>
                <p:cNvSpPr/>
                <p:nvPr/>
              </p:nvSpPr>
              <p:spPr>
                <a:xfrm>
                  <a:off x="3906360" y="3201480"/>
                  <a:ext cx="5364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6" name=""/>
              <p:cNvGrpSpPr/>
              <p:nvPr/>
            </p:nvGrpSpPr>
            <p:grpSpPr>
              <a:xfrm>
                <a:off x="3960360" y="3237840"/>
                <a:ext cx="90000" cy="90360"/>
                <a:chOff x="3960360" y="3237840"/>
                <a:chExt cx="90000" cy="90360"/>
              </a:xfrm>
            </p:grpSpPr>
            <p:sp>
              <p:nvSpPr>
                <p:cNvPr id="5257" name=""/>
                <p:cNvSpPr/>
                <p:nvPr/>
              </p:nvSpPr>
              <p:spPr>
                <a:xfrm>
                  <a:off x="3960360" y="3237840"/>
                  <a:ext cx="90000" cy="90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2"/>
                      </a:cubicBezTo>
                      <a:cubicBezTo>
                        <a:pt x="0" y="2"/>
                        <a:pt x="1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5" y="3"/>
                        <a:pt x="4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8" name=""/>
                <p:cNvSpPr/>
                <p:nvPr/>
              </p:nvSpPr>
              <p:spPr>
                <a:xfrm>
                  <a:off x="3960360" y="323784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9" name=""/>
              <p:cNvGrpSpPr/>
              <p:nvPr/>
            </p:nvGrpSpPr>
            <p:grpSpPr>
              <a:xfrm>
                <a:off x="4014000" y="3274560"/>
                <a:ext cx="72720" cy="90000"/>
                <a:chOff x="4014000" y="3274560"/>
                <a:chExt cx="72720" cy="90000"/>
              </a:xfrm>
            </p:grpSpPr>
            <p:sp>
              <p:nvSpPr>
                <p:cNvPr id="5260" name=""/>
                <p:cNvSpPr/>
                <p:nvPr/>
              </p:nvSpPr>
              <p:spPr>
                <a:xfrm>
                  <a:off x="4014000" y="327456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>
                  <a:off x="4014000" y="327456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2" name=""/>
              <p:cNvGrpSpPr/>
              <p:nvPr/>
            </p:nvGrpSpPr>
            <p:grpSpPr>
              <a:xfrm>
                <a:off x="4069800" y="3310920"/>
                <a:ext cx="72720" cy="90360"/>
                <a:chOff x="4069800" y="3310920"/>
                <a:chExt cx="72720" cy="90360"/>
              </a:xfrm>
            </p:grpSpPr>
            <p:sp>
              <p:nvSpPr>
                <p:cNvPr id="5263" name=""/>
                <p:cNvSpPr/>
                <p:nvPr/>
              </p:nvSpPr>
              <p:spPr>
                <a:xfrm>
                  <a:off x="4069800" y="3310920"/>
                  <a:ext cx="72720" cy="903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2"/>
                        <a:pt x="0" y="4"/>
                        <a:pt x="1" y="4"/>
                      </a:cubicBezTo>
                      <a:cubicBezTo>
                        <a:pt x="2" y="5"/>
                        <a:pt x="3" y="4"/>
                        <a:pt x="4" y="4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4" name=""/>
                <p:cNvSpPr/>
                <p:nvPr/>
              </p:nvSpPr>
              <p:spPr>
                <a:xfrm>
                  <a:off x="4069800" y="331092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5" name=""/>
              <p:cNvGrpSpPr/>
              <p:nvPr/>
            </p:nvGrpSpPr>
            <p:grpSpPr>
              <a:xfrm>
                <a:off x="4123800" y="3347640"/>
                <a:ext cx="72720" cy="90000"/>
                <a:chOff x="4123800" y="3347640"/>
                <a:chExt cx="72720" cy="90000"/>
              </a:xfrm>
            </p:grpSpPr>
            <p:sp>
              <p:nvSpPr>
                <p:cNvPr id="5266" name=""/>
                <p:cNvSpPr/>
                <p:nvPr/>
              </p:nvSpPr>
              <p:spPr>
                <a:xfrm>
                  <a:off x="4123800" y="334764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7" name=""/>
                <p:cNvSpPr/>
                <p:nvPr/>
              </p:nvSpPr>
              <p:spPr>
                <a:xfrm>
                  <a:off x="4123800" y="334764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8" name=""/>
              <p:cNvGrpSpPr/>
              <p:nvPr/>
            </p:nvGrpSpPr>
            <p:grpSpPr>
              <a:xfrm>
                <a:off x="4179240" y="3382560"/>
                <a:ext cx="72720" cy="91440"/>
                <a:chOff x="4179240" y="3382560"/>
                <a:chExt cx="72720" cy="91440"/>
              </a:xfrm>
            </p:grpSpPr>
            <p:sp>
              <p:nvSpPr>
                <p:cNvPr id="5269" name=""/>
                <p:cNvSpPr/>
                <p:nvPr/>
              </p:nvSpPr>
              <p:spPr>
                <a:xfrm>
                  <a:off x="4179240" y="3382560"/>
                  <a:ext cx="72720" cy="9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0" name=""/>
                <p:cNvSpPr/>
                <p:nvPr/>
              </p:nvSpPr>
              <p:spPr>
                <a:xfrm>
                  <a:off x="4179240" y="3382560"/>
                  <a:ext cx="3636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1" name=""/>
              <p:cNvGrpSpPr/>
              <p:nvPr/>
            </p:nvGrpSpPr>
            <p:grpSpPr>
              <a:xfrm>
                <a:off x="4233240" y="3418920"/>
                <a:ext cx="72720" cy="91800"/>
                <a:chOff x="4233240" y="3418920"/>
                <a:chExt cx="72720" cy="91800"/>
              </a:xfrm>
            </p:grpSpPr>
            <p:sp>
              <p:nvSpPr>
                <p:cNvPr id="5272" name=""/>
                <p:cNvSpPr/>
                <p:nvPr/>
              </p:nvSpPr>
              <p:spPr>
                <a:xfrm>
                  <a:off x="4233240" y="341892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3" name=""/>
                <p:cNvSpPr/>
                <p:nvPr/>
              </p:nvSpPr>
              <p:spPr>
                <a:xfrm>
                  <a:off x="4233240" y="3418920"/>
                  <a:ext cx="36000" cy="550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4" name=""/>
              <p:cNvGrpSpPr/>
              <p:nvPr/>
            </p:nvGrpSpPr>
            <p:grpSpPr>
              <a:xfrm>
                <a:off x="4269600" y="3455280"/>
                <a:ext cx="90360" cy="91800"/>
                <a:chOff x="4269600" y="3455280"/>
                <a:chExt cx="90360" cy="91800"/>
              </a:xfrm>
            </p:grpSpPr>
            <p:sp>
              <p:nvSpPr>
                <p:cNvPr id="5275" name=""/>
                <p:cNvSpPr/>
                <p:nvPr/>
              </p:nvSpPr>
              <p:spPr>
                <a:xfrm>
                  <a:off x="4269600" y="3455280"/>
                  <a:ext cx="9036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6" name=""/>
                <p:cNvSpPr/>
                <p:nvPr/>
              </p:nvSpPr>
              <p:spPr>
                <a:xfrm>
                  <a:off x="4269600" y="3455280"/>
                  <a:ext cx="53640" cy="55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7" name=""/>
              <p:cNvGrpSpPr/>
              <p:nvPr/>
            </p:nvGrpSpPr>
            <p:grpSpPr>
              <a:xfrm>
                <a:off x="4323600" y="3492000"/>
                <a:ext cx="91800" cy="91800"/>
                <a:chOff x="4323600" y="3492000"/>
                <a:chExt cx="91800" cy="91800"/>
              </a:xfrm>
            </p:grpSpPr>
            <p:sp>
              <p:nvSpPr>
                <p:cNvPr id="5278" name=""/>
                <p:cNvSpPr/>
                <p:nvPr/>
              </p:nvSpPr>
              <p:spPr>
                <a:xfrm>
                  <a:off x="4323600" y="3492000"/>
                  <a:ext cx="91800" cy="9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>
                  <a:off x="4323600" y="3492000"/>
                  <a:ext cx="55440" cy="55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0" name=""/>
              <p:cNvGrpSpPr/>
              <p:nvPr/>
            </p:nvGrpSpPr>
            <p:grpSpPr>
              <a:xfrm>
                <a:off x="4379400" y="3528360"/>
                <a:ext cx="72720" cy="91800"/>
                <a:chOff x="4379400" y="3528360"/>
                <a:chExt cx="72720" cy="91800"/>
              </a:xfrm>
            </p:grpSpPr>
            <p:sp>
              <p:nvSpPr>
                <p:cNvPr id="5281" name=""/>
                <p:cNvSpPr/>
                <p:nvPr/>
              </p:nvSpPr>
              <p:spPr>
                <a:xfrm>
                  <a:off x="4379400" y="352836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2" name=""/>
                <p:cNvSpPr/>
                <p:nvPr/>
              </p:nvSpPr>
              <p:spPr>
                <a:xfrm>
                  <a:off x="4379400" y="352836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3" name=""/>
              <p:cNvGrpSpPr/>
              <p:nvPr/>
            </p:nvGrpSpPr>
            <p:grpSpPr>
              <a:xfrm>
                <a:off x="4433400" y="3565080"/>
                <a:ext cx="72360" cy="72720"/>
                <a:chOff x="4433400" y="3565080"/>
                <a:chExt cx="72360" cy="72720"/>
              </a:xfrm>
            </p:grpSpPr>
            <p:sp>
              <p:nvSpPr>
                <p:cNvPr id="5284" name=""/>
                <p:cNvSpPr/>
                <p:nvPr/>
              </p:nvSpPr>
              <p:spPr>
                <a:xfrm>
                  <a:off x="4433400" y="35650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>
                  <a:off x="4433400" y="3565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6" name=""/>
              <p:cNvGrpSpPr/>
              <p:nvPr/>
            </p:nvGrpSpPr>
            <p:grpSpPr>
              <a:xfrm>
                <a:off x="4488840" y="3601440"/>
                <a:ext cx="72720" cy="91800"/>
                <a:chOff x="4488840" y="3601440"/>
                <a:chExt cx="72720" cy="91800"/>
              </a:xfrm>
            </p:grpSpPr>
            <p:sp>
              <p:nvSpPr>
                <p:cNvPr id="5287" name=""/>
                <p:cNvSpPr/>
                <p:nvPr/>
              </p:nvSpPr>
              <p:spPr>
                <a:xfrm>
                  <a:off x="4488840" y="3601440"/>
                  <a:ext cx="72720" cy="9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>
                  <a:off x="4488840" y="3601440"/>
                  <a:ext cx="36000" cy="55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9" name=""/>
              <p:cNvGrpSpPr/>
              <p:nvPr/>
            </p:nvGrpSpPr>
            <p:grpSpPr>
              <a:xfrm>
                <a:off x="4542840" y="3638160"/>
                <a:ext cx="72720" cy="72360"/>
                <a:chOff x="4542840" y="3638160"/>
                <a:chExt cx="72720" cy="72360"/>
              </a:xfrm>
            </p:grpSpPr>
            <p:sp>
              <p:nvSpPr>
                <p:cNvPr id="5290" name=""/>
                <p:cNvSpPr/>
                <p:nvPr/>
              </p:nvSpPr>
              <p:spPr>
                <a:xfrm>
                  <a:off x="4542840" y="3638160"/>
                  <a:ext cx="72720" cy="723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>
                  <a:off x="4542840" y="363816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92" name=""/>
            <p:cNvSpPr/>
            <p:nvPr/>
          </p:nvSpPr>
          <p:spPr>
            <a:xfrm>
              <a:off x="3850920" y="3219120"/>
              <a:ext cx="745920" cy="56484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9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93" name=""/>
            <p:cNvGrpSpPr/>
            <p:nvPr/>
          </p:nvGrpSpPr>
          <p:grpSpPr>
            <a:xfrm>
              <a:off x="3924000" y="3092400"/>
              <a:ext cx="745560" cy="545400"/>
              <a:chOff x="3924000" y="3092400"/>
              <a:chExt cx="745560" cy="545400"/>
            </a:xfrm>
          </p:grpSpPr>
          <p:grpSp>
            <p:nvGrpSpPr>
              <p:cNvPr id="5294" name=""/>
              <p:cNvGrpSpPr/>
              <p:nvPr/>
            </p:nvGrpSpPr>
            <p:grpSpPr>
              <a:xfrm>
                <a:off x="3924000" y="3092400"/>
                <a:ext cx="72720" cy="90000"/>
                <a:chOff x="3924000" y="3092400"/>
                <a:chExt cx="72720" cy="90000"/>
              </a:xfrm>
            </p:grpSpPr>
            <p:sp>
              <p:nvSpPr>
                <p:cNvPr id="5295" name=""/>
                <p:cNvSpPr/>
                <p:nvPr/>
              </p:nvSpPr>
              <p:spPr>
                <a:xfrm>
                  <a:off x="3924000" y="309240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3" y="4"/>
                        <a:pt x="3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>
                  <a:off x="3924000" y="3092400"/>
                  <a:ext cx="3636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7" name=""/>
              <p:cNvGrpSpPr/>
              <p:nvPr/>
            </p:nvGrpSpPr>
            <p:grpSpPr>
              <a:xfrm>
                <a:off x="3960360" y="3128400"/>
                <a:ext cx="90000" cy="90000"/>
                <a:chOff x="3960360" y="3128400"/>
                <a:chExt cx="90000" cy="90000"/>
              </a:xfrm>
            </p:grpSpPr>
            <p:sp>
              <p:nvSpPr>
                <p:cNvPr id="5298" name=""/>
                <p:cNvSpPr/>
                <p:nvPr/>
              </p:nvSpPr>
              <p:spPr>
                <a:xfrm>
                  <a:off x="3960360" y="3128400"/>
                  <a:ext cx="900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4" y="4"/>
                        <a:pt x="4" y="3"/>
                      </a:cubicBezTo>
                      <a:cubicBezTo>
                        <a:pt x="5" y="3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9" name=""/>
                <p:cNvSpPr/>
                <p:nvPr/>
              </p:nvSpPr>
              <p:spPr>
                <a:xfrm>
                  <a:off x="3960360" y="312840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0" name=""/>
              <p:cNvGrpSpPr/>
              <p:nvPr/>
            </p:nvGrpSpPr>
            <p:grpSpPr>
              <a:xfrm>
                <a:off x="4014000" y="3165120"/>
                <a:ext cx="91800" cy="90000"/>
                <a:chOff x="4014000" y="3165120"/>
                <a:chExt cx="91800" cy="90000"/>
              </a:xfrm>
            </p:grpSpPr>
            <p:sp>
              <p:nvSpPr>
                <p:cNvPr id="5301" name=""/>
                <p:cNvSpPr/>
                <p:nvPr/>
              </p:nvSpPr>
              <p:spPr>
                <a:xfrm>
                  <a:off x="4014000" y="3165120"/>
                  <a:ext cx="91800" cy="900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3" y="1"/>
                      </a:moveTo>
                      <a:cubicBezTo>
                        <a:pt x="3" y="0"/>
                        <a:pt x="1" y="1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2" name=""/>
                <p:cNvSpPr/>
                <p:nvPr/>
              </p:nvSpPr>
              <p:spPr>
                <a:xfrm>
                  <a:off x="4014000" y="3165120"/>
                  <a:ext cx="55440" cy="532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1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3" name=""/>
              <p:cNvGrpSpPr/>
              <p:nvPr/>
            </p:nvGrpSpPr>
            <p:grpSpPr>
              <a:xfrm>
                <a:off x="4069800" y="3201480"/>
                <a:ext cx="72720" cy="90000"/>
                <a:chOff x="4069800" y="3201480"/>
                <a:chExt cx="72720" cy="90000"/>
              </a:xfrm>
            </p:grpSpPr>
            <p:sp>
              <p:nvSpPr>
                <p:cNvPr id="5304" name=""/>
                <p:cNvSpPr/>
                <p:nvPr/>
              </p:nvSpPr>
              <p:spPr>
                <a:xfrm>
                  <a:off x="4069800" y="320148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4" y="3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4069800" y="3201480"/>
                  <a:ext cx="36000" cy="536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6" name=""/>
              <p:cNvGrpSpPr/>
              <p:nvPr/>
            </p:nvGrpSpPr>
            <p:grpSpPr>
              <a:xfrm>
                <a:off x="4123800" y="3237840"/>
                <a:ext cx="72720" cy="72720"/>
                <a:chOff x="4123800" y="3237840"/>
                <a:chExt cx="72720" cy="72720"/>
              </a:xfrm>
            </p:grpSpPr>
            <p:sp>
              <p:nvSpPr>
                <p:cNvPr id="5307" name=""/>
                <p:cNvSpPr/>
                <p:nvPr/>
              </p:nvSpPr>
              <p:spPr>
                <a:xfrm>
                  <a:off x="4123800" y="323784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8" name=""/>
                <p:cNvSpPr/>
                <p:nvPr/>
              </p:nvSpPr>
              <p:spPr>
                <a:xfrm>
                  <a:off x="4123800" y="323784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9" name=""/>
              <p:cNvGrpSpPr/>
              <p:nvPr/>
            </p:nvGrpSpPr>
            <p:grpSpPr>
              <a:xfrm>
                <a:off x="4179240" y="3274560"/>
                <a:ext cx="72720" cy="72720"/>
                <a:chOff x="4179240" y="3274560"/>
                <a:chExt cx="72720" cy="72720"/>
              </a:xfrm>
            </p:grpSpPr>
            <p:sp>
              <p:nvSpPr>
                <p:cNvPr id="5310" name=""/>
                <p:cNvSpPr/>
                <p:nvPr/>
              </p:nvSpPr>
              <p:spPr>
                <a:xfrm>
                  <a:off x="4179240" y="32745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>
                  <a:off x="4179240" y="3274560"/>
                  <a:ext cx="3636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2" name=""/>
              <p:cNvGrpSpPr/>
              <p:nvPr/>
            </p:nvGrpSpPr>
            <p:grpSpPr>
              <a:xfrm>
                <a:off x="4233240" y="3310920"/>
                <a:ext cx="72720" cy="71280"/>
                <a:chOff x="4233240" y="3310920"/>
                <a:chExt cx="72720" cy="71280"/>
              </a:xfrm>
            </p:grpSpPr>
            <p:sp>
              <p:nvSpPr>
                <p:cNvPr id="5313" name=""/>
                <p:cNvSpPr/>
                <p:nvPr/>
              </p:nvSpPr>
              <p:spPr>
                <a:xfrm>
                  <a:off x="4233240" y="3310920"/>
                  <a:ext cx="72720" cy="712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>
                  <a:off x="4233240" y="331092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5" name=""/>
              <p:cNvGrpSpPr/>
              <p:nvPr/>
            </p:nvGrpSpPr>
            <p:grpSpPr>
              <a:xfrm>
                <a:off x="4287240" y="3347640"/>
                <a:ext cx="72720" cy="70920"/>
                <a:chOff x="4287240" y="3347640"/>
                <a:chExt cx="72720" cy="70920"/>
              </a:xfrm>
            </p:grpSpPr>
            <p:sp>
              <p:nvSpPr>
                <p:cNvPr id="5316" name=""/>
                <p:cNvSpPr/>
                <p:nvPr/>
              </p:nvSpPr>
              <p:spPr>
                <a:xfrm>
                  <a:off x="4287240" y="3347640"/>
                  <a:ext cx="72720" cy="709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7" name=""/>
                <p:cNvSpPr/>
                <p:nvPr/>
              </p:nvSpPr>
              <p:spPr>
                <a:xfrm>
                  <a:off x="4287240" y="3347640"/>
                  <a:ext cx="36000" cy="34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8" name=""/>
              <p:cNvGrpSpPr/>
              <p:nvPr/>
            </p:nvGrpSpPr>
            <p:grpSpPr>
              <a:xfrm>
                <a:off x="4323600" y="3382560"/>
                <a:ext cx="91800" cy="72360"/>
                <a:chOff x="4323600" y="3382560"/>
                <a:chExt cx="91800" cy="72360"/>
              </a:xfrm>
            </p:grpSpPr>
            <p:sp>
              <p:nvSpPr>
                <p:cNvPr id="5319" name=""/>
                <p:cNvSpPr/>
                <p:nvPr/>
              </p:nvSpPr>
              <p:spPr>
                <a:xfrm>
                  <a:off x="4323600" y="338256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1"/>
                      </a:moveTo>
                      <a:cubicBezTo>
                        <a:pt x="3" y="0"/>
                        <a:pt x="2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0" name=""/>
                <p:cNvSpPr/>
                <p:nvPr/>
              </p:nvSpPr>
              <p:spPr>
                <a:xfrm>
                  <a:off x="4323600" y="338256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1" name=""/>
              <p:cNvGrpSpPr/>
              <p:nvPr/>
            </p:nvGrpSpPr>
            <p:grpSpPr>
              <a:xfrm>
                <a:off x="4379400" y="3418920"/>
                <a:ext cx="90000" cy="72720"/>
                <a:chOff x="4379400" y="3418920"/>
                <a:chExt cx="90000" cy="72720"/>
              </a:xfrm>
            </p:grpSpPr>
            <p:sp>
              <p:nvSpPr>
                <p:cNvPr id="5322" name=""/>
                <p:cNvSpPr/>
                <p:nvPr/>
              </p:nvSpPr>
              <p:spPr>
                <a:xfrm>
                  <a:off x="4379400" y="3418920"/>
                  <a:ext cx="90000" cy="727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5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>
                  <a:off x="4379400" y="3418920"/>
                  <a:ext cx="53640" cy="360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4" name=""/>
              <p:cNvGrpSpPr/>
              <p:nvPr/>
            </p:nvGrpSpPr>
            <p:grpSpPr>
              <a:xfrm>
                <a:off x="4433400" y="3455280"/>
                <a:ext cx="72360" cy="72720"/>
                <a:chOff x="4433400" y="3455280"/>
                <a:chExt cx="72360" cy="72720"/>
              </a:xfrm>
            </p:grpSpPr>
            <p:sp>
              <p:nvSpPr>
                <p:cNvPr id="5325" name=""/>
                <p:cNvSpPr/>
                <p:nvPr/>
              </p:nvSpPr>
              <p:spPr>
                <a:xfrm>
                  <a:off x="4433400" y="3455280"/>
                  <a:ext cx="7236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3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6" name=""/>
                <p:cNvSpPr/>
                <p:nvPr/>
              </p:nvSpPr>
              <p:spPr>
                <a:xfrm>
                  <a:off x="4433400" y="345528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7" name=""/>
              <p:cNvGrpSpPr/>
              <p:nvPr/>
            </p:nvGrpSpPr>
            <p:grpSpPr>
              <a:xfrm>
                <a:off x="4488840" y="3492000"/>
                <a:ext cx="72720" cy="72720"/>
                <a:chOff x="4488840" y="3492000"/>
                <a:chExt cx="72720" cy="72720"/>
              </a:xfrm>
            </p:grpSpPr>
            <p:sp>
              <p:nvSpPr>
                <p:cNvPr id="5328" name=""/>
                <p:cNvSpPr/>
                <p:nvPr/>
              </p:nvSpPr>
              <p:spPr>
                <a:xfrm>
                  <a:off x="4488840" y="34920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>
                  <a:off x="4488840" y="349200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0" name=""/>
              <p:cNvGrpSpPr/>
              <p:nvPr/>
            </p:nvGrpSpPr>
            <p:grpSpPr>
              <a:xfrm>
                <a:off x="4542840" y="3528360"/>
                <a:ext cx="72720" cy="72720"/>
                <a:chOff x="4542840" y="3528360"/>
                <a:chExt cx="72720" cy="72720"/>
              </a:xfrm>
            </p:grpSpPr>
            <p:sp>
              <p:nvSpPr>
                <p:cNvPr id="5331" name=""/>
                <p:cNvSpPr/>
                <p:nvPr/>
              </p:nvSpPr>
              <p:spPr>
                <a:xfrm>
                  <a:off x="4542840" y="352836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2" name=""/>
                <p:cNvSpPr/>
                <p:nvPr/>
              </p:nvSpPr>
              <p:spPr>
                <a:xfrm>
                  <a:off x="4542840" y="3528360"/>
                  <a:ext cx="36000" cy="363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3" name=""/>
              <p:cNvGrpSpPr/>
              <p:nvPr/>
            </p:nvGrpSpPr>
            <p:grpSpPr>
              <a:xfrm>
                <a:off x="4596840" y="3565080"/>
                <a:ext cx="72720" cy="72720"/>
                <a:chOff x="4596840" y="3565080"/>
                <a:chExt cx="72720" cy="72720"/>
              </a:xfrm>
            </p:grpSpPr>
            <p:sp>
              <p:nvSpPr>
                <p:cNvPr id="5334" name=""/>
                <p:cNvSpPr/>
                <p:nvPr/>
              </p:nvSpPr>
              <p:spPr>
                <a:xfrm>
                  <a:off x="4596840" y="356508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2" y="4"/>
                        <a:pt x="3" y="4"/>
                        <a:pt x="3" y="3"/>
                      </a:cubicBezTo>
                      <a:cubicBezTo>
                        <a:pt x="4" y="2"/>
                        <a:pt x="4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ffd7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5" name=""/>
                <p:cNvSpPr/>
                <p:nvPr/>
              </p:nvSpPr>
              <p:spPr>
                <a:xfrm>
                  <a:off x="4596840" y="3565080"/>
                  <a:ext cx="36000" cy="360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d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36" name=""/>
            <p:cNvSpPr/>
            <p:nvPr/>
          </p:nvSpPr>
          <p:spPr>
            <a:xfrm>
              <a:off x="3906720" y="3146400"/>
              <a:ext cx="745560" cy="564480"/>
            </a:xfrm>
            <a:custGeom>
              <a:avLst/>
              <a:gdLst/>
              <a:ahLst/>
              <a:rect l="l" t="t" r="r" b="b"/>
              <a:pathLst>
                <a:path w="470" h="356">
                  <a:moveTo>
                    <a:pt x="458" y="356"/>
                  </a:moveTo>
                  <a:lnTo>
                    <a:pt x="470" y="333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7" name=""/>
          <p:cNvSpPr/>
          <p:nvPr/>
        </p:nvSpPr>
        <p:spPr>
          <a:xfrm>
            <a:off x="7848720" y="5562720"/>
            <a:ext cx="990360" cy="7617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 flipV="1">
            <a:off x="7924680" y="5562720"/>
            <a:ext cx="757440" cy="7617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"/>
          <p:cNvSpPr/>
          <p:nvPr/>
        </p:nvSpPr>
        <p:spPr>
          <a:xfrm>
            <a:off x="1981080" y="1143000"/>
            <a:ext cx="6126120" cy="5369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0" name=""/>
          <p:cNvGrpSpPr/>
          <p:nvPr/>
        </p:nvGrpSpPr>
        <p:grpSpPr>
          <a:xfrm>
            <a:off x="7000560" y="4606920"/>
            <a:ext cx="669960" cy="337320"/>
            <a:chOff x="7000560" y="4606920"/>
            <a:chExt cx="669960" cy="337320"/>
          </a:xfrm>
        </p:grpSpPr>
        <p:sp>
          <p:nvSpPr>
            <p:cNvPr id="5341" name=""/>
            <p:cNvSpPr/>
            <p:nvPr/>
          </p:nvSpPr>
          <p:spPr>
            <a:xfrm flipH="1" flipV="1">
              <a:off x="7000560" y="4632480"/>
              <a:ext cx="385560" cy="139680"/>
            </a:xfrm>
            <a:prstGeom prst="line">
              <a:avLst/>
            </a:prstGeom>
            <a:ln w="63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7354080" y="46069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3" name=""/>
          <p:cNvGrpSpPr/>
          <p:nvPr/>
        </p:nvGrpSpPr>
        <p:grpSpPr>
          <a:xfrm>
            <a:off x="4834800" y="5648040"/>
            <a:ext cx="316440" cy="680760"/>
            <a:chOff x="4834800" y="5648040"/>
            <a:chExt cx="316440" cy="680760"/>
          </a:xfrm>
        </p:grpSpPr>
        <p:sp>
          <p:nvSpPr>
            <p:cNvPr id="5344" name=""/>
            <p:cNvSpPr/>
            <p:nvPr/>
          </p:nvSpPr>
          <p:spPr>
            <a:xfrm flipH="1" flipV="1">
              <a:off x="4985640" y="5648040"/>
              <a:ext cx="14040" cy="368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4834800" y="5991480"/>
              <a:ext cx="3164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6" name=""/>
          <p:cNvGrpSpPr/>
          <p:nvPr/>
        </p:nvGrpSpPr>
        <p:grpSpPr>
          <a:xfrm>
            <a:off x="3875400" y="5718240"/>
            <a:ext cx="654840" cy="702360"/>
            <a:chOff x="3875400" y="5718240"/>
            <a:chExt cx="654840" cy="702360"/>
          </a:xfrm>
        </p:grpSpPr>
        <p:sp>
          <p:nvSpPr>
            <p:cNvPr id="5347" name=""/>
            <p:cNvSpPr/>
            <p:nvPr/>
          </p:nvSpPr>
          <p:spPr>
            <a:xfrm flipV="1">
              <a:off x="4257360" y="5718240"/>
              <a:ext cx="114120" cy="342720"/>
            </a:xfrm>
            <a:prstGeom prst="line">
              <a:avLst/>
            </a:prstGeom>
            <a:ln w="63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3875400" y="60832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ccff"/>
                  </a:solidFill>
                  <a:latin typeface="Arial"/>
                </a:rPr>
                <a:t>Pr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9" name=""/>
          <p:cNvGrpSpPr/>
          <p:nvPr/>
        </p:nvGrpSpPr>
        <p:grpSpPr>
          <a:xfrm>
            <a:off x="2544840" y="4937040"/>
            <a:ext cx="669600" cy="375480"/>
            <a:chOff x="2544840" y="4937040"/>
            <a:chExt cx="669600" cy="375480"/>
          </a:xfrm>
        </p:grpSpPr>
        <p:sp>
          <p:nvSpPr>
            <p:cNvPr id="5350" name=""/>
            <p:cNvSpPr/>
            <p:nvPr/>
          </p:nvSpPr>
          <p:spPr>
            <a:xfrm flipV="1">
              <a:off x="2857320" y="4937040"/>
              <a:ext cx="357120" cy="21600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544840" y="4975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52" name=""/>
          <p:cNvGrpSpPr/>
          <p:nvPr/>
        </p:nvGrpSpPr>
        <p:grpSpPr>
          <a:xfrm>
            <a:off x="5638680" y="5791320"/>
            <a:ext cx="2408040" cy="368280"/>
            <a:chOff x="5638680" y="5791320"/>
            <a:chExt cx="2408040" cy="368280"/>
          </a:xfrm>
        </p:grpSpPr>
        <p:sp>
          <p:nvSpPr>
            <p:cNvPr id="5353" name=""/>
            <p:cNvSpPr/>
            <p:nvPr/>
          </p:nvSpPr>
          <p:spPr>
            <a:xfrm>
              <a:off x="5638680" y="5867640"/>
              <a:ext cx="299520" cy="196560"/>
            </a:xfrm>
            <a:prstGeom prst="rect">
              <a:avLst/>
            </a:prstGeom>
            <a:solidFill>
              <a:srgbClr val="cc3399"/>
            </a:solidFill>
            <a:ln w="255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717160" y="5791320"/>
              <a:ext cx="23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abel Extend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55" name=""/>
          <p:cNvGrpSpPr/>
          <p:nvPr/>
        </p:nvGrpSpPr>
        <p:grpSpPr>
          <a:xfrm>
            <a:off x="5638680" y="6172200"/>
            <a:ext cx="2563200" cy="368280"/>
            <a:chOff x="5638680" y="6172200"/>
            <a:chExt cx="2563200" cy="368280"/>
          </a:xfrm>
        </p:grpSpPr>
        <p:sp>
          <p:nvSpPr>
            <p:cNvPr id="5356" name=""/>
            <p:cNvSpPr/>
            <p:nvPr/>
          </p:nvSpPr>
          <p:spPr>
            <a:xfrm>
              <a:off x="5638680" y="6260760"/>
              <a:ext cx="29952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799240" y="617220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Extend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8" name=""/>
          <p:cNvSpPr/>
          <p:nvPr/>
        </p:nvSpPr>
        <p:spPr>
          <a:xfrm>
            <a:off x="894960" y="255600"/>
            <a:ext cx="85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Position des sondes bDNA v3.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9" name=""/>
          <p:cNvGrpSpPr/>
          <p:nvPr/>
        </p:nvGrpSpPr>
        <p:grpSpPr>
          <a:xfrm>
            <a:off x="2851920" y="2019960"/>
            <a:ext cx="4519440" cy="3726360"/>
            <a:chOff x="2851920" y="2019960"/>
            <a:chExt cx="4519440" cy="3726360"/>
          </a:xfrm>
        </p:grpSpPr>
        <p:sp>
          <p:nvSpPr>
            <p:cNvPr id="5360" name=""/>
            <p:cNvSpPr/>
            <p:nvPr/>
          </p:nvSpPr>
          <p:spPr>
            <a:xfrm>
              <a:off x="2911320" y="2019960"/>
              <a:ext cx="4460040" cy="372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91" y="20420"/>
                  </a:moveTo>
                  <a:arcTo wR="10800" hR="10800" stAng="7022219" swAng="4127351"/>
                  <a:lnTo>
                    <a:pt x="10800" y="10800"/>
                  </a:lnTo>
                  <a:close/>
                </a:path>
                <a:path fill="none" w="21600" h="21600">
                  <a:moveTo>
                    <a:pt x="5891" y="20420"/>
                  </a:moveTo>
                  <a:arcTo wR="10800" hR="10800" stAng="7022219" swAng="4127351"/>
                </a:path>
              </a:pathLst>
            </a:custGeom>
            <a:noFill/>
            <a:ln w="127080">
              <a:solidFill>
                <a:srgbClr val="3399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851920" y="2096640"/>
              <a:ext cx="4464000" cy="361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07" y="21433"/>
                  </a:moveTo>
                  <a:arcTo wR="10800" hR="10800" stAng="6005850" swAng="920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07" y="21433"/>
                  </a:moveTo>
                  <a:arcTo wR="10800" hR="10800" stAng="6005850" swAng="920154"/>
                </a:path>
              </a:pathLst>
            </a:custGeom>
            <a:noFill/>
            <a:ln w="12708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2" name=""/>
          <p:cNvSpPr/>
          <p:nvPr/>
        </p:nvSpPr>
        <p:spPr>
          <a:xfrm>
            <a:off x="2819160" y="1481040"/>
            <a:ext cx="42886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60" y="20924"/>
                </a:moveTo>
                <a:arcTo wR="10800" hR="10800" stAng="4177456" swAng="2033287"/>
                <a:lnTo>
                  <a:pt x="10800" y="10800"/>
                </a:lnTo>
                <a:close/>
              </a:path>
              <a:path fill="none" w="21600" h="21600">
                <a:moveTo>
                  <a:pt x="14560" y="20924"/>
                </a:moveTo>
                <a:arcTo wR="10800" hR="10800" stAng="4177456" swAng="2033287"/>
              </a:path>
            </a:pathLst>
          </a:custGeom>
          <a:noFill/>
          <a:ln w="1270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3" name=""/>
          <p:cNvSpPr/>
          <p:nvPr/>
        </p:nvSpPr>
        <p:spPr>
          <a:xfrm>
            <a:off x="2774880" y="1940040"/>
            <a:ext cx="4350960" cy="37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" y="11259"/>
                </a:moveTo>
                <a:arcTo wR="10800" hR="10800" stAng="10653737" swAng="16042384"/>
                <a:lnTo>
                  <a:pt x="10800" y="10800"/>
                </a:lnTo>
                <a:close/>
              </a:path>
              <a:path fill="none" w="21600" h="21600">
                <a:moveTo>
                  <a:pt x="10" y="11259"/>
                </a:moveTo>
                <a:arcTo wR="10800" hR="10800" stAng="10653737" swAng="16042384"/>
              </a:path>
            </a:pathLst>
          </a:custGeom>
          <a:noFill/>
          <a:ln w="12708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4" name=""/>
          <p:cNvGrpSpPr/>
          <p:nvPr/>
        </p:nvGrpSpPr>
        <p:grpSpPr>
          <a:xfrm>
            <a:off x="2706120" y="2101680"/>
            <a:ext cx="4497480" cy="3873240"/>
            <a:chOff x="2706120" y="2101680"/>
            <a:chExt cx="4497480" cy="3873240"/>
          </a:xfrm>
        </p:grpSpPr>
        <p:sp>
          <p:nvSpPr>
            <p:cNvPr id="5365" name=""/>
            <p:cNvSpPr/>
            <p:nvPr/>
          </p:nvSpPr>
          <p:spPr>
            <a:xfrm>
              <a:off x="3017880" y="2102040"/>
              <a:ext cx="3977640" cy="387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66" y="387"/>
                  </a:moveTo>
                  <a:arcTo wR="10800" hR="10800" stAng="-4476817" swAng="42309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66" y="387"/>
                  </a:moveTo>
                  <a:arcTo wR="10800" hR="10800" stAng="-4476817" swAng="4230902"/>
                </a:path>
              </a:pathLst>
            </a:custGeom>
            <a:noFill/>
            <a:ln w="127080">
              <a:solidFill>
                <a:srgbClr val="ff99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855520" y="2101680"/>
              <a:ext cx="4154400" cy="38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41" y="4482"/>
                  </a:moveTo>
                  <a:arcTo wR="10800" hR="10800" stAng="-8651760" swAng="325756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41" y="4482"/>
                  </a:moveTo>
                  <a:arcTo wR="10800" hR="10800" stAng="-8651760" swAng="3257562"/>
                </a:path>
              </a:pathLst>
            </a:custGeom>
            <a:noFill/>
            <a:ln w="127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706120" y="2101680"/>
              <a:ext cx="4497480" cy="38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5" y="1"/>
                  </a:moveTo>
                  <a:arcTo wR="10800" hR="10800" stAng="-5449377" swAng="984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5" y="1"/>
                  </a:moveTo>
                  <a:arcTo wR="10800" hR="10800" stAng="-5449377" swAng="984960"/>
                </a:path>
              </a:pathLst>
            </a:custGeom>
            <a:noFill/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68" name=""/>
          <p:cNvGrpSpPr/>
          <p:nvPr/>
        </p:nvGrpSpPr>
        <p:grpSpPr>
          <a:xfrm>
            <a:off x="3138480" y="1631880"/>
            <a:ext cx="756720" cy="717480"/>
            <a:chOff x="3138480" y="1631880"/>
            <a:chExt cx="756720" cy="717480"/>
          </a:xfrm>
        </p:grpSpPr>
        <p:sp>
          <p:nvSpPr>
            <p:cNvPr id="5369" name=""/>
            <p:cNvSpPr/>
            <p:nvPr/>
          </p:nvSpPr>
          <p:spPr>
            <a:xfrm>
              <a:off x="3549960" y="1977840"/>
              <a:ext cx="246600" cy="371520"/>
            </a:xfrm>
            <a:prstGeom prst="line">
              <a:avLst/>
            </a:prstGeom>
            <a:ln w="63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3138480" y="163188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reS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4910040" y="1380960"/>
            <a:ext cx="756720" cy="689040"/>
            <a:chOff x="4910040" y="1380960"/>
            <a:chExt cx="756720" cy="689040"/>
          </a:xfrm>
        </p:grpSpPr>
        <p:sp>
          <p:nvSpPr>
            <p:cNvPr id="5372" name=""/>
            <p:cNvSpPr/>
            <p:nvPr/>
          </p:nvSpPr>
          <p:spPr>
            <a:xfrm flipH="1">
              <a:off x="5207040" y="1698480"/>
              <a:ext cx="64440" cy="3715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910040" y="138096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cc00"/>
                  </a:solidFill>
                  <a:latin typeface="Arial"/>
                </a:rPr>
                <a:t>PreS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4" name=""/>
          <p:cNvGrpSpPr/>
          <p:nvPr/>
        </p:nvGrpSpPr>
        <p:grpSpPr>
          <a:xfrm>
            <a:off x="6554520" y="2333520"/>
            <a:ext cx="708840" cy="393480"/>
            <a:chOff x="6554520" y="2333520"/>
            <a:chExt cx="708840" cy="393480"/>
          </a:xfrm>
        </p:grpSpPr>
        <p:sp>
          <p:nvSpPr>
            <p:cNvPr id="5375" name=""/>
            <p:cNvSpPr/>
            <p:nvPr/>
          </p:nvSpPr>
          <p:spPr>
            <a:xfrm flipH="1">
              <a:off x="6554520" y="2517480"/>
              <a:ext cx="385560" cy="20952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946920" y="2333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33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7" name=""/>
          <p:cNvGrpSpPr/>
          <p:nvPr/>
        </p:nvGrpSpPr>
        <p:grpSpPr>
          <a:xfrm>
            <a:off x="3249720" y="2380680"/>
            <a:ext cx="3385440" cy="2900880"/>
            <a:chOff x="3249720" y="2380680"/>
            <a:chExt cx="3385440" cy="2900880"/>
          </a:xfrm>
        </p:grpSpPr>
        <p:sp>
          <p:nvSpPr>
            <p:cNvPr id="5378" name=""/>
            <p:cNvSpPr/>
            <p:nvPr/>
          </p:nvSpPr>
          <p:spPr>
            <a:xfrm>
              <a:off x="3270240" y="2406600"/>
              <a:ext cx="3352680" cy="28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1346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1346308"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79" name=""/>
            <p:cNvGrpSpPr/>
            <p:nvPr/>
          </p:nvGrpSpPr>
          <p:grpSpPr>
            <a:xfrm>
              <a:off x="3249720" y="2380680"/>
              <a:ext cx="3385440" cy="2900880"/>
              <a:chOff x="3249720" y="2380680"/>
              <a:chExt cx="3385440" cy="2900880"/>
            </a:xfrm>
          </p:grpSpPr>
          <p:sp>
            <p:nvSpPr>
              <p:cNvPr id="5380" name=""/>
              <p:cNvSpPr/>
              <p:nvPr/>
            </p:nvSpPr>
            <p:spPr>
              <a:xfrm>
                <a:off x="3252960" y="2401920"/>
                <a:ext cx="3376800" cy="287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012" y="2761"/>
                    </a:moveTo>
                    <a:arcTo wR="10800" hR="10800" stAng="-2886416" swAng="4295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012" y="2761"/>
                    </a:moveTo>
                    <a:arcTo wR="10800" hR="10800" stAng="-2886416" swAng="429545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3254400" y="2400480"/>
                <a:ext cx="3373920" cy="287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73" y="6204"/>
                    </a:moveTo>
                    <a:arcTo wR="10800" hR="10800" stAng="-1511244" swAng="3773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73" y="6204"/>
                    </a:moveTo>
                    <a:arcTo wR="10800" hR="10800" stAng="-1511244" swAng="377343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3256200" y="2398320"/>
                <a:ext cx="3374280" cy="2875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49" y="8483"/>
                    </a:moveTo>
                    <a:arcTo wR="10800" hR="10800" stAng="-743322" swAng="513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49" y="8483"/>
                    </a:moveTo>
                    <a:arcTo wR="10800" hR="10800" stAng="-743322" swAng="513586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3250800" y="2406240"/>
                <a:ext cx="3375720" cy="285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9" y="10119"/>
                    </a:moveTo>
                    <a:arcTo wR="10800" hR="10800" stAng="-216922" swAng="4856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9" y="10119"/>
                    </a:moveTo>
                    <a:arcTo wR="10800" hR="10800" stAng="-216922" swAng="485650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3253680" y="2400120"/>
                <a:ext cx="3378600" cy="28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637" y="21537"/>
                    </a:moveTo>
                    <a:arcTo wR="10800" hR="10800" stAng="5770768" swAng="3082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637" y="21537"/>
                    </a:moveTo>
                    <a:arcTo wR="10800" hR="10800" stAng="5770768" swAng="308283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3257640" y="2398320"/>
                <a:ext cx="3376080" cy="28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78" y="20253"/>
                    </a:moveTo>
                    <a:arcTo wR="10800" hR="10800" stAng="7135004" swAng="2142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78" y="20253"/>
                    </a:moveTo>
                    <a:arcTo wR="10800" hR="10800" stAng="7135004" swAng="214251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3255480" y="2398680"/>
                <a:ext cx="3376080" cy="28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790" y="422"/>
                    </a:moveTo>
                    <a:arcTo wR="10800" hR="10800" stAng="-4435586" swAng="1107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790" y="422"/>
                    </a:moveTo>
                    <a:arcTo wR="10800" hR="10800" stAng="-4435586" swAng="1107860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3252600" y="2399040"/>
                <a:ext cx="3372120" cy="287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227" y="4046"/>
                    </a:moveTo>
                    <a:arcTo wR="10800" hR="10800" stAng="-2322697" swAng="5303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227" y="4046"/>
                    </a:moveTo>
                    <a:arcTo wR="10800" hR="10800" stAng="-2322697" swAng="530310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3259800" y="2397960"/>
                <a:ext cx="3371760" cy="287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98" y="21306"/>
                    </a:moveTo>
                    <a:arcTo wR="10800" hR="10800" stAng="6203693" swAng="5372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98" y="21306"/>
                    </a:moveTo>
                    <a:arcTo wR="10800" hR="10800" stAng="6203693" swAng="537241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3255480" y="2403360"/>
                <a:ext cx="3375360" cy="286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7" y="18793"/>
                    </a:moveTo>
                    <a:arcTo wR="10800" hR="10800" stAng="7935632" swAng="7580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7" y="18793"/>
                    </a:moveTo>
                    <a:arcTo wR="10800" hR="10800" stAng="7935632" swAng="758047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3256920" y="2400480"/>
                <a:ext cx="3377520" cy="28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7" y="13005"/>
                    </a:moveTo>
                    <a:arcTo wR="10800" hR="10800" stAng="10093275" swAng="4412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7" y="13005"/>
                    </a:moveTo>
                    <a:arcTo wR="10800" hR="10800" stAng="10093275" swAng="441252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3265200" y="2410560"/>
                <a:ext cx="3368520" cy="286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88" y="4153"/>
                    </a:moveTo>
                    <a:arcTo wR="10800" hR="10800" stAng="-8520808" swAng="40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88" y="4153"/>
                    </a:moveTo>
                    <a:arcTo wR="10800" hR="10800" stAng="-8520808" swAng="408844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3261240" y="2405160"/>
                <a:ext cx="3373200" cy="287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941" y="2458"/>
                    </a:moveTo>
                    <a:arcTo wR="10800" hR="10800" stAng="-7765767" swAng="3016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941" y="2458"/>
                    </a:moveTo>
                    <a:arcTo wR="10800" hR="10800" stAng="-7765767" swAng="301684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93" name=""/>
              <p:cNvGrpSpPr/>
              <p:nvPr/>
            </p:nvGrpSpPr>
            <p:grpSpPr>
              <a:xfrm>
                <a:off x="3251880" y="2397960"/>
                <a:ext cx="3375000" cy="2872800"/>
                <a:chOff x="3251880" y="2397960"/>
                <a:chExt cx="3375000" cy="2872800"/>
              </a:xfrm>
            </p:grpSpPr>
            <p:sp>
              <p:nvSpPr>
                <p:cNvPr id="5394" name=""/>
                <p:cNvSpPr/>
                <p:nvPr/>
              </p:nvSpPr>
              <p:spPr>
                <a:xfrm>
                  <a:off x="3255480" y="2399400"/>
                  <a:ext cx="3370680" cy="2869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38" y="14784"/>
                      </a:moveTo>
                      <a:arcTo wR="10800" hR="10800" stAng="1298866" swAng="5206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38" y="14784"/>
                      </a:moveTo>
                      <a:arcTo wR="10800" hR="10800" stAng="1298866" swAng="520682"/>
                    </a:path>
                  </a:pathLst>
                </a:custGeom>
                <a:noFill/>
                <a:ln w="12708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5" name=""/>
                <p:cNvSpPr/>
                <p:nvPr/>
              </p:nvSpPr>
              <p:spPr>
                <a:xfrm>
                  <a:off x="3255120" y="2397960"/>
                  <a:ext cx="3371760" cy="2872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25" y="16732"/>
                      </a:moveTo>
                      <a:arcTo wR="10800" hR="10800" stAng="1999030" swAng="5650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25" y="16732"/>
                      </a:moveTo>
                      <a:arcTo wR="10800" hR="10800" stAng="1999030" swAng="565008"/>
                    </a:path>
                  </a:pathLst>
                </a:custGeom>
                <a:noFill/>
                <a:ln w="12708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6" name=""/>
                <p:cNvSpPr/>
                <p:nvPr/>
              </p:nvSpPr>
              <p:spPr>
                <a:xfrm>
                  <a:off x="3251880" y="2399400"/>
                  <a:ext cx="3373920" cy="2869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414" y="18460"/>
                      </a:moveTo>
                      <a:arcTo wR="10800" hR="10800" stAng="2710323" swAng="6654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414" y="18460"/>
                      </a:moveTo>
                      <a:arcTo wR="10800" hR="10800" stAng="2710323" swAng="665472"/>
                    </a:path>
                  </a:pathLst>
                </a:custGeom>
                <a:noFill/>
                <a:ln w="12708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7" name=""/>
              <p:cNvGrpSpPr/>
              <p:nvPr/>
            </p:nvGrpSpPr>
            <p:grpSpPr>
              <a:xfrm>
                <a:off x="3255840" y="2398680"/>
                <a:ext cx="3371040" cy="2871000"/>
                <a:chOff x="3255840" y="2398680"/>
                <a:chExt cx="3371040" cy="2871000"/>
              </a:xfrm>
            </p:grpSpPr>
            <p:sp>
              <p:nvSpPr>
                <p:cNvPr id="5398" name=""/>
                <p:cNvSpPr/>
                <p:nvPr/>
              </p:nvSpPr>
              <p:spPr>
                <a:xfrm>
                  <a:off x="3255840" y="2398680"/>
                  <a:ext cx="3371040" cy="287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272" y="21313"/>
                      </a:moveTo>
                      <a:arcTo wR="10800" hR="10800" stAng="4605999" swAng="1709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272" y="21313"/>
                      </a:moveTo>
                      <a:arcTo wR="10800" hR="10800" stAng="4605999" swAng="170966"/>
                    </a:path>
                  </a:pathLst>
                </a:custGeom>
                <a:noFill/>
                <a:ln w="12708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9" name=""/>
                <p:cNvSpPr/>
                <p:nvPr/>
              </p:nvSpPr>
              <p:spPr>
                <a:xfrm>
                  <a:off x="3264120" y="2399760"/>
                  <a:ext cx="3354480" cy="2868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422" y="21477"/>
                      </a:moveTo>
                      <a:arcTo wR="10800" hR="10800" stAng="4881618" swAng="4824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422" y="21477"/>
                      </a:moveTo>
                      <a:arcTo wR="10800" hR="10800" stAng="4881618" swAng="482408"/>
                    </a:path>
                  </a:pathLst>
                </a:custGeom>
                <a:noFill/>
                <a:ln w="12708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0" name=""/>
              <p:cNvSpPr/>
              <p:nvPr/>
            </p:nvSpPr>
            <p:spPr>
              <a:xfrm>
                <a:off x="3259440" y="2415240"/>
                <a:ext cx="3375720" cy="2856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" y="11265"/>
                    </a:moveTo>
                    <a:arcTo wR="10800" hR="10800" stAng="10652044" swAng="246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" y="11265"/>
                    </a:moveTo>
                    <a:arcTo wR="10800" hR="10800" stAng="10652044" swAng="246127"/>
                  </a:path>
                </a:pathLst>
              </a:custGeom>
              <a:noFill/>
              <a:ln w="12708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3255480" y="2398680"/>
                <a:ext cx="3375720" cy="28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" y="11695"/>
                    </a:moveTo>
                    <a:arcTo wR="10800" hR="10800" stAng="10514712" swAng="109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" y="11695"/>
                    </a:moveTo>
                    <a:arcTo wR="10800" hR="10800" stAng="10514712" swAng="109234"/>
                  </a:path>
                </a:pathLst>
              </a:custGeom>
              <a:noFill/>
              <a:ln w="12708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02" name=""/>
              <p:cNvGrpSpPr/>
              <p:nvPr/>
            </p:nvGrpSpPr>
            <p:grpSpPr>
              <a:xfrm>
                <a:off x="3249720" y="2380680"/>
                <a:ext cx="3381480" cy="2896560"/>
                <a:chOff x="3249720" y="2380680"/>
                <a:chExt cx="3381480" cy="2896560"/>
              </a:xfrm>
            </p:grpSpPr>
            <p:sp>
              <p:nvSpPr>
                <p:cNvPr id="5403" name=""/>
                <p:cNvSpPr/>
                <p:nvPr/>
              </p:nvSpPr>
              <p:spPr>
                <a:xfrm>
                  <a:off x="3251160" y="2401920"/>
                  <a:ext cx="3375360" cy="2874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988" y="3758"/>
                      </a:moveTo>
                      <a:arcTo wR="10800" hR="10800" stAng="-2441764" swAng="982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988" y="3758"/>
                      </a:moveTo>
                      <a:arcTo wR="10800" hR="10800" stAng="-2441764" swAng="98232"/>
                    </a:path>
                  </a:pathLst>
                </a:custGeom>
                <a:noFill/>
                <a:ln w="12708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04" name=""/>
                <p:cNvGrpSpPr/>
                <p:nvPr/>
              </p:nvGrpSpPr>
              <p:grpSpPr>
                <a:xfrm>
                  <a:off x="3249720" y="2380680"/>
                  <a:ext cx="3381480" cy="2896560"/>
                  <a:chOff x="3249720" y="2380680"/>
                  <a:chExt cx="3381480" cy="2896560"/>
                </a:xfrm>
              </p:grpSpPr>
              <p:sp>
                <p:nvSpPr>
                  <p:cNvPr id="5405" name=""/>
                  <p:cNvSpPr/>
                  <p:nvPr/>
                </p:nvSpPr>
                <p:spPr>
                  <a:xfrm>
                    <a:off x="3249720" y="2396880"/>
                    <a:ext cx="3373920" cy="287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782" y="21417"/>
                        </a:moveTo>
                        <a:arcTo wR="10800" hR="10800" stAng="4765582" swAng="1280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782" y="21417"/>
                        </a:moveTo>
                        <a:arcTo wR="10800" hR="10800" stAng="4765582" swAng="128001"/>
                      </a:path>
                    </a:pathLst>
                  </a:custGeom>
                  <a:noFill/>
                  <a:ln w="12708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06" name=""/>
                  <p:cNvGrpSpPr/>
                  <p:nvPr/>
                </p:nvGrpSpPr>
                <p:grpSpPr>
                  <a:xfrm>
                    <a:off x="3251880" y="2380680"/>
                    <a:ext cx="3379320" cy="2896560"/>
                    <a:chOff x="3251880" y="2380680"/>
                    <a:chExt cx="3379320" cy="2896560"/>
                  </a:xfrm>
                </p:grpSpPr>
                <p:sp>
                  <p:nvSpPr>
                    <p:cNvPr id="5407" name=""/>
                    <p:cNvSpPr/>
                    <p:nvPr/>
                  </p:nvSpPr>
                  <p:spPr>
                    <a:xfrm>
                      <a:off x="3252960" y="2400120"/>
                      <a:ext cx="3371040" cy="28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9984" y="16483"/>
                          </a:moveTo>
                          <a:arcTo wR="10800" hR="10800" stAng="1904986" swAng="11214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9984" y="16483"/>
                          </a:moveTo>
                          <a:arcTo wR="10800" hR="10800" stAng="1904986" swAng="112146"/>
                        </a:path>
                      </a:pathLst>
                    </a:custGeom>
                    <a:noFill/>
                    <a:ln w="127080">
                      <a:solidFill>
                        <a:srgbClr val="ff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8" name=""/>
                    <p:cNvSpPr/>
                    <p:nvPr/>
                  </p:nvSpPr>
                  <p:spPr>
                    <a:xfrm>
                      <a:off x="3252960" y="2396520"/>
                      <a:ext cx="3371040" cy="287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8690" y="18175"/>
                          </a:moveTo>
                          <a:arcTo wR="10800" hR="10800" stAng="2584197" swAng="14782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8690" y="18175"/>
                          </a:moveTo>
                          <a:arcTo wR="10800" hR="10800" stAng="2584197" swAng="147821"/>
                        </a:path>
                      </a:pathLst>
                    </a:custGeom>
                    <a:noFill/>
                    <a:ln w="127080">
                      <a:solidFill>
                        <a:srgbClr val="ffff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409" name=""/>
                    <p:cNvGrpSpPr/>
                    <p:nvPr/>
                  </p:nvGrpSpPr>
                  <p:grpSpPr>
                    <a:xfrm>
                      <a:off x="3251880" y="2380680"/>
                      <a:ext cx="3379320" cy="2896560"/>
                      <a:chOff x="3251880" y="2380680"/>
                      <a:chExt cx="3379320" cy="2896560"/>
                    </a:xfrm>
                  </p:grpSpPr>
                  <p:sp>
                    <p:nvSpPr>
                      <p:cNvPr id="5410" name=""/>
                      <p:cNvSpPr/>
                      <p:nvPr/>
                    </p:nvSpPr>
                    <p:spPr>
                      <a:xfrm>
                        <a:off x="3255840" y="2404440"/>
                        <a:ext cx="3373920" cy="286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6124" y="20535"/>
                            </a:moveTo>
                            <a:arcTo wR="10800" hR="10800" stAng="6939353" swAng="17131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6124" y="20535"/>
                            </a:moveTo>
                            <a:arcTo wR="10800" hR="10800" stAng="6939353" swAng="171310"/>
                          </a:path>
                        </a:pathLst>
                      </a:custGeom>
                      <a:noFill/>
                      <a:ln w="127080">
                        <a:solidFill>
                          <a:srgbClr val="ffff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1" name=""/>
                      <p:cNvSpPr/>
                      <p:nvPr/>
                    </p:nvSpPr>
                    <p:spPr>
                      <a:xfrm>
                        <a:off x="3251880" y="2404080"/>
                        <a:ext cx="3372120" cy="286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7350" y="2213"/>
                            </a:moveTo>
                            <a:arcTo wR="10800" hR="10800" stAng="-3159835" swAng="31034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7350" y="2213"/>
                            </a:moveTo>
                            <a:arcTo wR="10800" hR="10800" stAng="-3159835" swAng="310343"/>
                          </a:path>
                        </a:pathLst>
                      </a:custGeom>
                      <a:noFill/>
                      <a:ln w="127080">
                        <a:solidFill>
                          <a:srgbClr val="ffff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2" name=""/>
                      <p:cNvSpPr/>
                      <p:nvPr/>
                    </p:nvSpPr>
                    <p:spPr>
                      <a:xfrm>
                        <a:off x="3251880" y="2401920"/>
                        <a:ext cx="3372120" cy="287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229" y="7994"/>
                            </a:moveTo>
                            <a:arcTo wR="10800" hR="10800" stAng="-903487" swAng="14891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229" y="7994"/>
                            </a:moveTo>
                            <a:arcTo wR="10800" hR="10800" stAng="-903487" swAng="148916"/>
                          </a:path>
                        </a:pathLst>
                      </a:custGeom>
                      <a:noFill/>
                      <a:ln w="127080">
                        <a:solidFill>
                          <a:srgbClr val="ffff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3" name=""/>
                      <p:cNvSpPr/>
                      <p:nvPr/>
                    </p:nvSpPr>
                    <p:spPr>
                      <a:xfrm>
                        <a:off x="3255840" y="2398680"/>
                        <a:ext cx="3369600" cy="286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5173" y="20675"/>
                            </a:moveTo>
                            <a:arcTo wR="10800" hR="10800" stAng="3967050" swAng="12022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5173" y="20675"/>
                            </a:moveTo>
                            <a:arcTo wR="10800" hR="10800" stAng="3967050" swAng="120226"/>
                          </a:path>
                        </a:pathLst>
                      </a:custGeom>
                      <a:noFill/>
                      <a:ln w="127080">
                        <a:solidFill>
                          <a:srgbClr val="ffff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4" name=""/>
                      <p:cNvSpPr/>
                      <p:nvPr/>
                    </p:nvSpPr>
                    <p:spPr>
                      <a:xfrm>
                        <a:off x="3256200" y="2397240"/>
                        <a:ext cx="3372480" cy="287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4854" y="19816"/>
                            </a:moveTo>
                            <a:arcTo wR="10800" hR="10800" stAng="7404350" swAng="17317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4854" y="19816"/>
                            </a:moveTo>
                            <a:arcTo wR="10800" hR="10800" stAng="7404350" swAng="173177"/>
                          </a:path>
                        </a:pathLst>
                      </a:custGeom>
                      <a:noFill/>
                      <a:ln w="127080">
                        <a:solidFill>
                          <a:srgbClr val="ffff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5" name=""/>
                      <p:cNvSpPr/>
                      <p:nvPr/>
                    </p:nvSpPr>
                    <p:spPr>
                      <a:xfrm>
                        <a:off x="3252600" y="2380680"/>
                        <a:ext cx="3371040" cy="2846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46" y="9805"/>
                            </a:moveTo>
                            <a:arcTo wR="10800" hR="10800" stAng="-10482678" swAng="39112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46" y="9805"/>
                            </a:moveTo>
                            <a:arcTo wR="10800" hR="10800" stAng="-10482678" swAng="391124"/>
                          </a:path>
                        </a:pathLst>
                      </a:custGeom>
                      <a:noFill/>
                      <a:ln w="127080">
                        <a:solidFill>
                          <a:srgbClr val="ffff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416" name=""/>
                      <p:cNvGrpSpPr/>
                      <p:nvPr/>
                    </p:nvGrpSpPr>
                    <p:grpSpPr>
                      <a:xfrm>
                        <a:off x="3252600" y="2400120"/>
                        <a:ext cx="3378600" cy="2877120"/>
                        <a:chOff x="3252600" y="2400120"/>
                        <a:chExt cx="3378600" cy="2877120"/>
                      </a:xfrm>
                    </p:grpSpPr>
                    <p:sp>
                      <p:nvSpPr>
                        <p:cNvPr id="5417" name=""/>
                        <p:cNvSpPr/>
                        <p:nvPr/>
                      </p:nvSpPr>
                      <p:spPr>
                        <a:xfrm>
                          <a:off x="3252600" y="2400120"/>
                          <a:ext cx="3375360" cy="286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2079" y="76"/>
                              </a:moveTo>
                              <a:arcTo wR="10800" hR="10800" stAng="-4991786" swAng="143294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2079" y="76"/>
                              </a:moveTo>
                              <a:arcTo wR="10800" hR="10800" stAng="-4991786" swAng="143294"/>
                            </a:path>
                          </a:pathLst>
                        </a:custGeom>
                        <a:noFill/>
                        <a:ln w="127080">
                          <a:solidFill>
                            <a:srgbClr val="ffff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18" name=""/>
                        <p:cNvSpPr/>
                        <p:nvPr/>
                      </p:nvSpPr>
                      <p:spPr>
                        <a:xfrm>
                          <a:off x="3256920" y="2404440"/>
                          <a:ext cx="3374280" cy="2872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6632" y="837"/>
                              </a:moveTo>
                              <a:arcTo wR="10800" hR="10800" stAng="-6762112" swAng="20492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6632" y="837"/>
                              </a:moveTo>
                              <a:arcTo wR="10800" hR="10800" stAng="-6762112" swAng="204928"/>
                            </a:path>
                          </a:pathLst>
                        </a:custGeom>
                        <a:noFill/>
                        <a:ln w="127080">
                          <a:solidFill>
                            <a:srgbClr val="ffff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19" name=""/>
                        <p:cNvSpPr/>
                        <p:nvPr/>
                      </p:nvSpPr>
                      <p:spPr>
                        <a:xfrm>
                          <a:off x="3270600" y="2408400"/>
                          <a:ext cx="3351240" cy="286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9598" y="67"/>
                              </a:moveTo>
                              <a:arcTo wR="10800" hR="10800" stAng="-5783307" swAng="347335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9598" y="67"/>
                              </a:moveTo>
                              <a:arcTo wR="10800" hR="10800" stAng="-5783307" swAng="347335"/>
                            </a:path>
                          </a:pathLst>
                        </a:custGeom>
                        <a:noFill/>
                        <a:ln w="127080">
                          <a:solidFill>
                            <a:srgbClr val="ffff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sp>
        <p:nvSpPr>
          <p:cNvPr id="5420" name=""/>
          <p:cNvSpPr/>
          <p:nvPr/>
        </p:nvSpPr>
        <p:spPr>
          <a:xfrm rot="20130000">
            <a:off x="3246120" y="3390120"/>
            <a:ext cx="2747160" cy="243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7" y="18793"/>
                </a:moveTo>
                <a:arcTo wR="10800" hR="10800" stAng="7935632" swAng="758047"/>
                <a:lnTo>
                  <a:pt x="10800" y="10800"/>
                </a:lnTo>
                <a:close/>
              </a:path>
              <a:path fill="none" w="21600" h="21600">
                <a:moveTo>
                  <a:pt x="3537" y="18793"/>
                </a:moveTo>
                <a:arcTo wR="10800" hR="10800" stAng="7935632" swAng="758047"/>
              </a:path>
            </a:pathLst>
          </a:custGeom>
          <a:noFill/>
          <a:ln w="127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533520" y="560880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PCR COB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3260880" y="53546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 flipV="1">
            <a:off x="3200400" y="5790960"/>
            <a:ext cx="45720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2:14:09Z</dcterms:created>
  <dc:creator>Packard Bell NEC, Inc.</dc:creator>
  <dc:description/>
  <dc:language>en-US</dc:language>
  <cp:lastModifiedBy>INSERM</cp:lastModifiedBy>
  <cp:lastPrinted>2004-05-13T15:34:58Z</cp:lastPrinted>
  <dcterms:modified xsi:type="dcterms:W3CDTF">2004-05-25T10:32:12Z</dcterms:modified>
  <cp:revision>151</cp:revision>
  <dc:subject/>
  <dc:title>PRECORE AND CORE PROMOTER MUTATIONS OF SERUM HBV DNA LEVELS DO NOT ALLOW TO DISTINGUISH TRUE INACTIVE HBsAg CARRIERS FROM HBeAg NEGATIVE CHRONIC HEPATITIS B WITH FLUCTUATING ALT  Martinot-Peignoux M, Boyer N, Pham BN, Kumas C, Esnault V, Degott C, Marcellin P. Hôpital Beaujon, Clichy</dc:title>
</cp:coreProperties>
</file>