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B65-DE7F-4C27-BF53-D1FD7F5D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EFA-5537-4677-86A0-39ED122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D6F-8FCF-4B5B-8FE1-B60712BB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F57-4F98-47EA-BBB1-55547A7D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395-048C-474D-9E95-DDB67D58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E30-6E4E-45B1-901A-FAB07EDC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069-2CB5-4A1D-8B6A-BECD2F0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6A0-DBD0-4FF0-A921-8A1FA27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461-4B8B-4325-BBDE-399B471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83F-275D-4A2E-A24E-C90A8961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5BA-704D-4EEC-9C85-741740C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EED-73A8-4FF9-85C6-FA8018C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40040" y="6494040"/>
            <a:ext cx="3713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F.S. Nord de France – CVV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E341-EBD6-4E4F-B37F-FB095983F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nel n° 11000 (BioClinical Partners In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143000"/>
            <a:ext cx="0" cy="4876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1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5867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38280" y="2666880"/>
            <a:ext cx="0" cy="3353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743200" y="2666880"/>
            <a:ext cx="0" cy="3353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143000"/>
            <a:ext cx="8839080" cy="76212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2193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GV AmpliScreen HBV (1/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1905120"/>
            <a:ext cx="6858000" cy="76176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117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HBs Abbott 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905120"/>
            <a:ext cx="1981080" cy="76176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657600"/>
            <a:ext cx="16761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260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2666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 = 0,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666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 = 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540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1141560"/>
            <a:ext cx="1524240" cy="363240"/>
          </a:xfrm>
          <a:custGeom>
            <a:avLst/>
            <a:gdLst/>
            <a:ahLst/>
            <a:rect l="l" t="t" r="r" b="b"/>
            <a:pathLst>
              <a:path w="2236" h="612">
                <a:moveTo>
                  <a:pt x="326" y="612"/>
                </a:moveTo>
                <a:lnTo>
                  <a:pt x="1910" y="612"/>
                </a:lnTo>
                <a:cubicBezTo>
                  <a:pt x="2090" y="612"/>
                  <a:pt x="2236" y="475"/>
                  <a:pt x="2236" y="306"/>
                </a:cubicBezTo>
                <a:cubicBezTo>
                  <a:pt x="2236" y="137"/>
                  <a:pt x="2090" y="0"/>
                  <a:pt x="1910" y="0"/>
                </a:cubicBezTo>
                <a:cubicBezTo>
                  <a:pt x="1910" y="0"/>
                  <a:pt x="1910" y="0"/>
                  <a:pt x="1910" y="0"/>
                </a:cubicBezTo>
                <a:lnTo>
                  <a:pt x="1910" y="0"/>
                </a:lnTo>
                <a:lnTo>
                  <a:pt x="326" y="0"/>
                </a:lnTo>
                <a:cubicBezTo>
                  <a:pt x="146" y="0"/>
                  <a:pt x="0" y="137"/>
                  <a:pt x="0" y="306"/>
                </a:cubicBezTo>
                <a:cubicBezTo>
                  <a:pt x="0" y="475"/>
                  <a:pt x="146" y="612"/>
                  <a:pt x="326" y="612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99880" y="1257480"/>
            <a:ext cx="135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épistage des Ac  (T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5400" y="1582560"/>
            <a:ext cx="1330560" cy="398520"/>
          </a:xfrm>
          <a:custGeom>
            <a:avLst/>
            <a:gdLst/>
            <a:ahLst/>
            <a:rect l="l" t="t" r="r" b="b"/>
            <a:pathLst>
              <a:path w="838" h="251">
                <a:moveTo>
                  <a:pt x="0" y="125"/>
                </a:moveTo>
                <a:lnTo>
                  <a:pt x="419" y="0"/>
                </a:lnTo>
                <a:lnTo>
                  <a:pt x="838" y="125"/>
                </a:lnTo>
                <a:lnTo>
                  <a:pt x="419" y="251"/>
                </a:lnTo>
                <a:lnTo>
                  <a:pt x="0" y="125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2680" y="165744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st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0" y="178128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acti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7080" y="1752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1909800"/>
            <a:ext cx="133200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52400" y="1905120"/>
            <a:ext cx="1226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épétabilité en dou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5600" y="20480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T1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83840" y="201132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4640" y="2270160"/>
            <a:ext cx="1432080" cy="287280"/>
          </a:xfrm>
          <a:custGeom>
            <a:avLst/>
            <a:gdLst/>
            <a:ahLst/>
            <a:rect l="l" t="t" r="r" b="b"/>
            <a:pathLst>
              <a:path w="902" h="181">
                <a:moveTo>
                  <a:pt x="0" y="90"/>
                </a:moveTo>
                <a:lnTo>
                  <a:pt x="451" y="0"/>
                </a:lnTo>
                <a:lnTo>
                  <a:pt x="902" y="90"/>
                </a:lnTo>
                <a:lnTo>
                  <a:pt x="451" y="181"/>
                </a:lnTo>
                <a:lnTo>
                  <a:pt x="0" y="9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6720" y="2352600"/>
            <a:ext cx="61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actif(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19680" y="228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76760" y="2233440"/>
            <a:ext cx="1204920" cy="360360"/>
          </a:xfrm>
          <a:custGeom>
            <a:avLst/>
            <a:gdLst/>
            <a:ahLst/>
            <a:rect l="l" t="t" r="r" b="b"/>
            <a:pathLst>
              <a:path w="1864" h="605">
                <a:moveTo>
                  <a:pt x="323" y="605"/>
                </a:moveTo>
                <a:lnTo>
                  <a:pt x="1542" y="605"/>
                </a:lnTo>
                <a:cubicBezTo>
                  <a:pt x="1720" y="605"/>
                  <a:pt x="1864" y="469"/>
                  <a:pt x="1864" y="302"/>
                </a:cubicBezTo>
                <a:cubicBezTo>
                  <a:pt x="1864" y="135"/>
                  <a:pt x="1720" y="0"/>
                  <a:pt x="1542" y="0"/>
                </a:cubicBezTo>
                <a:cubicBezTo>
                  <a:pt x="1542" y="0"/>
                  <a:pt x="1542" y="0"/>
                  <a:pt x="1542" y="0"/>
                </a:cubicBezTo>
                <a:lnTo>
                  <a:pt x="323" y="0"/>
                </a:lnTo>
                <a:cubicBezTo>
                  <a:pt x="144" y="0"/>
                  <a:pt x="0" y="135"/>
                  <a:pt x="0" y="302"/>
                </a:cubicBezTo>
                <a:cubicBezTo>
                  <a:pt x="0" y="469"/>
                  <a:pt x="144" y="605"/>
                  <a:pt x="323" y="605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1480" y="2352600"/>
            <a:ext cx="107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ultat = Négat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5960" y="1781280"/>
            <a:ext cx="836640" cy="390600"/>
          </a:xfrm>
          <a:custGeom>
            <a:avLst/>
            <a:gdLst/>
            <a:ahLst/>
            <a:rect l="l" t="t" r="r" b="b"/>
            <a:pathLst>
              <a:path w="527" h="246">
                <a:moveTo>
                  <a:pt x="0" y="0"/>
                </a:moveTo>
                <a:lnTo>
                  <a:pt x="527" y="0"/>
                </a:lnTo>
                <a:lnTo>
                  <a:pt x="527" y="24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440" y="2163600"/>
            <a:ext cx="74520" cy="69840"/>
          </a:xfrm>
          <a:custGeom>
            <a:avLst/>
            <a:gdLst/>
            <a:ahLst/>
            <a:rect l="l" t="t" r="r" b="b"/>
            <a:pathLst>
              <a:path w="47" h="44">
                <a:moveTo>
                  <a:pt x="47" y="0"/>
                </a:moveTo>
                <a:lnTo>
                  <a:pt x="24" y="44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78720" y="1600200"/>
            <a:ext cx="52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30680" y="1504800"/>
            <a:ext cx="1800" cy="162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92520" y="151272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0"/>
                </a:moveTo>
                <a:lnTo>
                  <a:pt x="24" y="44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781280"/>
            <a:ext cx="917280" cy="123840"/>
          </a:xfrm>
          <a:custGeom>
            <a:avLst/>
            <a:gdLst/>
            <a:ahLst/>
            <a:rect l="l" t="t" r="r" b="b"/>
            <a:pathLst>
              <a:path w="494" h="42">
                <a:moveTo>
                  <a:pt x="494" y="0"/>
                </a:moveTo>
                <a:lnTo>
                  <a:pt x="0" y="0"/>
                </a:lnTo>
                <a:lnTo>
                  <a:pt x="0" y="4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4320" y="160020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46600" y="2055960"/>
            <a:ext cx="784080" cy="152280"/>
          </a:xfrm>
          <a:custGeom>
            <a:avLst/>
            <a:gdLst/>
            <a:ahLst/>
            <a:rect l="l" t="t" r="r" b="b"/>
            <a:pathLst>
              <a:path w="494" h="96">
                <a:moveTo>
                  <a:pt x="0" y="0"/>
                </a:moveTo>
                <a:lnTo>
                  <a:pt x="494" y="0"/>
                </a:lnTo>
                <a:lnTo>
                  <a:pt x="494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92520" y="21985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48" y="0"/>
                </a:moveTo>
                <a:lnTo>
                  <a:pt x="24" y="4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6720" y="2413080"/>
            <a:ext cx="16524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02240" y="23781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0" y="0"/>
                </a:moveTo>
                <a:lnTo>
                  <a:pt x="47" y="22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59680" y="205740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7120" y="21812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12840" y="914400"/>
            <a:ext cx="30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n Homologue : Algorithme pour Ac H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3760" y="1270080"/>
            <a:ext cx="9720" cy="3941640"/>
          </a:xfrm>
          <a:custGeom>
            <a:avLst/>
            <a:gdLst/>
            <a:ahLst/>
            <a:rect l="l" t="t" r="r" b="b"/>
            <a:pathLst>
              <a:path w="17" h="6619">
                <a:moveTo>
                  <a:pt x="17" y="8"/>
                </a:moveTo>
                <a:lnTo>
                  <a:pt x="17" y="123"/>
                </a:lnTo>
                <a:cubicBezTo>
                  <a:pt x="17" y="127"/>
                  <a:pt x="13" y="131"/>
                  <a:pt x="8" y="131"/>
                </a:cubicBezTo>
                <a:cubicBezTo>
                  <a:pt x="4" y="131"/>
                  <a:pt x="0" y="127"/>
                  <a:pt x="0" y="123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cubicBezTo>
                  <a:pt x="13" y="0"/>
                  <a:pt x="17" y="4"/>
                  <a:pt x="17" y="8"/>
                </a:cubicBezTo>
                <a:close/>
                <a:moveTo>
                  <a:pt x="17" y="205"/>
                </a:moveTo>
                <a:lnTo>
                  <a:pt x="17" y="319"/>
                </a:lnTo>
                <a:cubicBezTo>
                  <a:pt x="17" y="324"/>
                  <a:pt x="13" y="328"/>
                  <a:pt x="8" y="328"/>
                </a:cubicBezTo>
                <a:cubicBezTo>
                  <a:pt x="4" y="328"/>
                  <a:pt x="0" y="324"/>
                  <a:pt x="0" y="319"/>
                </a:cubicBezTo>
                <a:lnTo>
                  <a:pt x="0" y="205"/>
                </a:lnTo>
                <a:cubicBezTo>
                  <a:pt x="0" y="200"/>
                  <a:pt x="4" y="196"/>
                  <a:pt x="8" y="196"/>
                </a:cubicBezTo>
                <a:cubicBezTo>
                  <a:pt x="13" y="196"/>
                  <a:pt x="17" y="200"/>
                  <a:pt x="17" y="205"/>
                </a:cubicBezTo>
                <a:close/>
                <a:moveTo>
                  <a:pt x="17" y="401"/>
                </a:moveTo>
                <a:lnTo>
                  <a:pt x="17" y="516"/>
                </a:lnTo>
                <a:cubicBezTo>
                  <a:pt x="17" y="520"/>
                  <a:pt x="13" y="524"/>
                  <a:pt x="8" y="524"/>
                </a:cubicBezTo>
                <a:cubicBezTo>
                  <a:pt x="4" y="524"/>
                  <a:pt x="0" y="520"/>
                  <a:pt x="0" y="516"/>
                </a:cubicBezTo>
                <a:lnTo>
                  <a:pt x="0" y="401"/>
                </a:lnTo>
                <a:cubicBezTo>
                  <a:pt x="0" y="397"/>
                  <a:pt x="4" y="393"/>
                  <a:pt x="8" y="393"/>
                </a:cubicBezTo>
                <a:cubicBezTo>
                  <a:pt x="13" y="393"/>
                  <a:pt x="17" y="397"/>
                  <a:pt x="17" y="401"/>
                </a:cubicBezTo>
                <a:close/>
                <a:moveTo>
                  <a:pt x="17" y="598"/>
                </a:moveTo>
                <a:lnTo>
                  <a:pt x="17" y="713"/>
                </a:lnTo>
                <a:cubicBezTo>
                  <a:pt x="17" y="717"/>
                  <a:pt x="13" y="721"/>
                  <a:pt x="8" y="721"/>
                </a:cubicBezTo>
                <a:cubicBezTo>
                  <a:pt x="4" y="721"/>
                  <a:pt x="0" y="717"/>
                  <a:pt x="0" y="713"/>
                </a:cubicBezTo>
                <a:lnTo>
                  <a:pt x="0" y="598"/>
                </a:lnTo>
                <a:cubicBezTo>
                  <a:pt x="0" y="593"/>
                  <a:pt x="4" y="590"/>
                  <a:pt x="8" y="590"/>
                </a:cubicBezTo>
                <a:cubicBezTo>
                  <a:pt x="13" y="590"/>
                  <a:pt x="17" y="593"/>
                  <a:pt x="17" y="598"/>
                </a:cubicBezTo>
                <a:close/>
                <a:moveTo>
                  <a:pt x="17" y="794"/>
                </a:moveTo>
                <a:lnTo>
                  <a:pt x="17" y="909"/>
                </a:lnTo>
                <a:cubicBezTo>
                  <a:pt x="17" y="914"/>
                  <a:pt x="13" y="917"/>
                  <a:pt x="8" y="917"/>
                </a:cubicBezTo>
                <a:cubicBezTo>
                  <a:pt x="4" y="917"/>
                  <a:pt x="0" y="914"/>
                  <a:pt x="0" y="909"/>
                </a:cubicBezTo>
                <a:lnTo>
                  <a:pt x="0" y="794"/>
                </a:lnTo>
                <a:cubicBezTo>
                  <a:pt x="0" y="790"/>
                  <a:pt x="4" y="786"/>
                  <a:pt x="8" y="786"/>
                </a:cubicBezTo>
                <a:cubicBezTo>
                  <a:pt x="13" y="786"/>
                  <a:pt x="17" y="790"/>
                  <a:pt x="17" y="794"/>
                </a:cubicBezTo>
                <a:close/>
                <a:moveTo>
                  <a:pt x="17" y="991"/>
                </a:moveTo>
                <a:lnTo>
                  <a:pt x="17" y="1106"/>
                </a:lnTo>
                <a:cubicBezTo>
                  <a:pt x="17" y="1110"/>
                  <a:pt x="13" y="1114"/>
                  <a:pt x="8" y="1114"/>
                </a:cubicBezTo>
                <a:cubicBezTo>
                  <a:pt x="4" y="1114"/>
                  <a:pt x="0" y="1110"/>
                  <a:pt x="0" y="1106"/>
                </a:cubicBezTo>
                <a:lnTo>
                  <a:pt x="0" y="991"/>
                </a:lnTo>
                <a:cubicBezTo>
                  <a:pt x="0" y="987"/>
                  <a:pt x="4" y="983"/>
                  <a:pt x="8" y="983"/>
                </a:cubicBezTo>
                <a:cubicBezTo>
                  <a:pt x="13" y="983"/>
                  <a:pt x="17" y="987"/>
                  <a:pt x="17" y="991"/>
                </a:cubicBezTo>
                <a:close/>
                <a:moveTo>
                  <a:pt x="17" y="1188"/>
                </a:moveTo>
                <a:lnTo>
                  <a:pt x="17" y="1302"/>
                </a:lnTo>
                <a:cubicBezTo>
                  <a:pt x="17" y="1307"/>
                  <a:pt x="13" y="1311"/>
                  <a:pt x="8" y="1311"/>
                </a:cubicBezTo>
                <a:cubicBezTo>
                  <a:pt x="4" y="1311"/>
                  <a:pt x="0" y="1307"/>
                  <a:pt x="0" y="1302"/>
                </a:cubicBezTo>
                <a:lnTo>
                  <a:pt x="0" y="1188"/>
                </a:lnTo>
                <a:cubicBezTo>
                  <a:pt x="0" y="1183"/>
                  <a:pt x="4" y="1180"/>
                  <a:pt x="8" y="1180"/>
                </a:cubicBezTo>
                <a:cubicBezTo>
                  <a:pt x="13" y="1180"/>
                  <a:pt x="17" y="1183"/>
                  <a:pt x="17" y="1188"/>
                </a:cubicBezTo>
                <a:close/>
                <a:moveTo>
                  <a:pt x="17" y="1384"/>
                </a:moveTo>
                <a:lnTo>
                  <a:pt x="17" y="1499"/>
                </a:lnTo>
                <a:cubicBezTo>
                  <a:pt x="17" y="1504"/>
                  <a:pt x="13" y="1507"/>
                  <a:pt x="8" y="1507"/>
                </a:cubicBezTo>
                <a:cubicBezTo>
                  <a:pt x="4" y="1507"/>
                  <a:pt x="0" y="1504"/>
                  <a:pt x="0" y="1499"/>
                </a:cubicBezTo>
                <a:lnTo>
                  <a:pt x="0" y="1384"/>
                </a:lnTo>
                <a:cubicBezTo>
                  <a:pt x="0" y="1380"/>
                  <a:pt x="4" y="1376"/>
                  <a:pt x="8" y="1376"/>
                </a:cubicBezTo>
                <a:cubicBezTo>
                  <a:pt x="13" y="1376"/>
                  <a:pt x="17" y="1380"/>
                  <a:pt x="17" y="1384"/>
                </a:cubicBezTo>
                <a:close/>
                <a:moveTo>
                  <a:pt x="17" y="1581"/>
                </a:moveTo>
                <a:lnTo>
                  <a:pt x="17" y="1696"/>
                </a:lnTo>
                <a:cubicBezTo>
                  <a:pt x="17" y="1700"/>
                  <a:pt x="13" y="1704"/>
                  <a:pt x="8" y="1704"/>
                </a:cubicBezTo>
                <a:cubicBezTo>
                  <a:pt x="4" y="1704"/>
                  <a:pt x="0" y="1700"/>
                  <a:pt x="0" y="1696"/>
                </a:cubicBezTo>
                <a:lnTo>
                  <a:pt x="0" y="1581"/>
                </a:lnTo>
                <a:cubicBezTo>
                  <a:pt x="0" y="1576"/>
                  <a:pt x="4" y="1573"/>
                  <a:pt x="8" y="1573"/>
                </a:cubicBezTo>
                <a:cubicBezTo>
                  <a:pt x="13" y="1573"/>
                  <a:pt x="17" y="1576"/>
                  <a:pt x="17" y="1581"/>
                </a:cubicBezTo>
                <a:close/>
                <a:moveTo>
                  <a:pt x="17" y="1778"/>
                </a:moveTo>
                <a:lnTo>
                  <a:pt x="17" y="1892"/>
                </a:lnTo>
                <a:cubicBezTo>
                  <a:pt x="17" y="1897"/>
                  <a:pt x="13" y="1900"/>
                  <a:pt x="8" y="1900"/>
                </a:cubicBezTo>
                <a:cubicBezTo>
                  <a:pt x="4" y="1900"/>
                  <a:pt x="0" y="1897"/>
                  <a:pt x="0" y="1892"/>
                </a:cubicBezTo>
                <a:lnTo>
                  <a:pt x="0" y="1778"/>
                </a:lnTo>
                <a:cubicBezTo>
                  <a:pt x="0" y="1773"/>
                  <a:pt x="4" y="1769"/>
                  <a:pt x="8" y="1769"/>
                </a:cubicBezTo>
                <a:cubicBezTo>
                  <a:pt x="13" y="1769"/>
                  <a:pt x="17" y="1773"/>
                  <a:pt x="17" y="1778"/>
                </a:cubicBezTo>
                <a:close/>
                <a:moveTo>
                  <a:pt x="17" y="1974"/>
                </a:moveTo>
                <a:lnTo>
                  <a:pt x="17" y="2089"/>
                </a:lnTo>
                <a:cubicBezTo>
                  <a:pt x="17" y="2093"/>
                  <a:pt x="13" y="2097"/>
                  <a:pt x="8" y="2097"/>
                </a:cubicBezTo>
                <a:cubicBezTo>
                  <a:pt x="4" y="2097"/>
                  <a:pt x="0" y="2093"/>
                  <a:pt x="0" y="2089"/>
                </a:cubicBezTo>
                <a:lnTo>
                  <a:pt x="0" y="1974"/>
                </a:lnTo>
                <a:cubicBezTo>
                  <a:pt x="0" y="1970"/>
                  <a:pt x="4" y="1966"/>
                  <a:pt x="8" y="1966"/>
                </a:cubicBezTo>
                <a:cubicBezTo>
                  <a:pt x="13" y="1966"/>
                  <a:pt x="17" y="1970"/>
                  <a:pt x="17" y="1974"/>
                </a:cubicBezTo>
                <a:close/>
                <a:moveTo>
                  <a:pt x="17" y="2171"/>
                </a:moveTo>
                <a:lnTo>
                  <a:pt x="17" y="2285"/>
                </a:lnTo>
                <a:cubicBezTo>
                  <a:pt x="17" y="2290"/>
                  <a:pt x="13" y="2294"/>
                  <a:pt x="8" y="2294"/>
                </a:cubicBezTo>
                <a:cubicBezTo>
                  <a:pt x="4" y="2294"/>
                  <a:pt x="0" y="2290"/>
                  <a:pt x="0" y="2285"/>
                </a:cubicBezTo>
                <a:lnTo>
                  <a:pt x="0" y="2171"/>
                </a:lnTo>
                <a:cubicBezTo>
                  <a:pt x="0" y="2166"/>
                  <a:pt x="4" y="2163"/>
                  <a:pt x="8" y="2163"/>
                </a:cubicBezTo>
                <a:cubicBezTo>
                  <a:pt x="13" y="2163"/>
                  <a:pt x="17" y="2166"/>
                  <a:pt x="17" y="2171"/>
                </a:cubicBezTo>
                <a:close/>
                <a:moveTo>
                  <a:pt x="17" y="2367"/>
                </a:moveTo>
                <a:lnTo>
                  <a:pt x="17" y="2482"/>
                </a:lnTo>
                <a:cubicBezTo>
                  <a:pt x="17" y="2487"/>
                  <a:pt x="13" y="2490"/>
                  <a:pt x="8" y="2490"/>
                </a:cubicBezTo>
                <a:cubicBezTo>
                  <a:pt x="4" y="2490"/>
                  <a:pt x="0" y="2487"/>
                  <a:pt x="0" y="2482"/>
                </a:cubicBezTo>
                <a:lnTo>
                  <a:pt x="0" y="2367"/>
                </a:lnTo>
                <a:cubicBezTo>
                  <a:pt x="0" y="2363"/>
                  <a:pt x="4" y="2359"/>
                  <a:pt x="8" y="2359"/>
                </a:cubicBezTo>
                <a:cubicBezTo>
                  <a:pt x="13" y="2359"/>
                  <a:pt x="17" y="2363"/>
                  <a:pt x="17" y="2367"/>
                </a:cubicBezTo>
                <a:close/>
                <a:moveTo>
                  <a:pt x="17" y="2564"/>
                </a:moveTo>
                <a:lnTo>
                  <a:pt x="17" y="2679"/>
                </a:lnTo>
                <a:cubicBezTo>
                  <a:pt x="17" y="2683"/>
                  <a:pt x="13" y="2687"/>
                  <a:pt x="8" y="2687"/>
                </a:cubicBezTo>
                <a:cubicBezTo>
                  <a:pt x="4" y="2687"/>
                  <a:pt x="0" y="2683"/>
                  <a:pt x="0" y="2679"/>
                </a:cubicBezTo>
                <a:lnTo>
                  <a:pt x="0" y="2564"/>
                </a:lnTo>
                <a:cubicBezTo>
                  <a:pt x="0" y="2559"/>
                  <a:pt x="4" y="2556"/>
                  <a:pt x="8" y="2556"/>
                </a:cubicBezTo>
                <a:cubicBezTo>
                  <a:pt x="13" y="2556"/>
                  <a:pt x="17" y="2559"/>
                  <a:pt x="17" y="2564"/>
                </a:cubicBezTo>
                <a:close/>
                <a:moveTo>
                  <a:pt x="17" y="2761"/>
                </a:moveTo>
                <a:lnTo>
                  <a:pt x="17" y="2875"/>
                </a:lnTo>
                <a:cubicBezTo>
                  <a:pt x="17" y="2880"/>
                  <a:pt x="13" y="2883"/>
                  <a:pt x="8" y="2883"/>
                </a:cubicBezTo>
                <a:cubicBezTo>
                  <a:pt x="4" y="2883"/>
                  <a:pt x="0" y="2880"/>
                  <a:pt x="0" y="2875"/>
                </a:cubicBezTo>
                <a:lnTo>
                  <a:pt x="0" y="2761"/>
                </a:lnTo>
                <a:cubicBezTo>
                  <a:pt x="0" y="2756"/>
                  <a:pt x="4" y="2752"/>
                  <a:pt x="8" y="2752"/>
                </a:cubicBezTo>
                <a:cubicBezTo>
                  <a:pt x="13" y="2752"/>
                  <a:pt x="17" y="2756"/>
                  <a:pt x="17" y="2761"/>
                </a:cubicBezTo>
                <a:close/>
                <a:moveTo>
                  <a:pt x="17" y="2957"/>
                </a:moveTo>
                <a:lnTo>
                  <a:pt x="17" y="3072"/>
                </a:lnTo>
                <a:cubicBezTo>
                  <a:pt x="17" y="3076"/>
                  <a:pt x="13" y="3080"/>
                  <a:pt x="8" y="3080"/>
                </a:cubicBezTo>
                <a:cubicBezTo>
                  <a:pt x="4" y="3080"/>
                  <a:pt x="0" y="3076"/>
                  <a:pt x="0" y="3072"/>
                </a:cubicBezTo>
                <a:lnTo>
                  <a:pt x="0" y="2957"/>
                </a:lnTo>
                <a:cubicBezTo>
                  <a:pt x="0" y="2953"/>
                  <a:pt x="4" y="2949"/>
                  <a:pt x="8" y="2949"/>
                </a:cubicBezTo>
                <a:cubicBezTo>
                  <a:pt x="13" y="2949"/>
                  <a:pt x="17" y="2953"/>
                  <a:pt x="17" y="2957"/>
                </a:cubicBezTo>
                <a:close/>
                <a:moveTo>
                  <a:pt x="17" y="3154"/>
                </a:moveTo>
                <a:lnTo>
                  <a:pt x="17" y="3268"/>
                </a:lnTo>
                <a:cubicBezTo>
                  <a:pt x="17" y="3273"/>
                  <a:pt x="13" y="3277"/>
                  <a:pt x="8" y="3277"/>
                </a:cubicBezTo>
                <a:cubicBezTo>
                  <a:pt x="4" y="3277"/>
                  <a:pt x="0" y="3273"/>
                  <a:pt x="0" y="3268"/>
                </a:cubicBezTo>
                <a:lnTo>
                  <a:pt x="0" y="3154"/>
                </a:lnTo>
                <a:cubicBezTo>
                  <a:pt x="0" y="3149"/>
                  <a:pt x="4" y="3146"/>
                  <a:pt x="8" y="3146"/>
                </a:cubicBezTo>
                <a:cubicBezTo>
                  <a:pt x="13" y="3146"/>
                  <a:pt x="17" y="3149"/>
                  <a:pt x="17" y="3154"/>
                </a:cubicBezTo>
                <a:close/>
                <a:moveTo>
                  <a:pt x="17" y="3350"/>
                </a:moveTo>
                <a:lnTo>
                  <a:pt x="17" y="3465"/>
                </a:lnTo>
                <a:cubicBezTo>
                  <a:pt x="17" y="3470"/>
                  <a:pt x="13" y="3473"/>
                  <a:pt x="8" y="3473"/>
                </a:cubicBezTo>
                <a:cubicBezTo>
                  <a:pt x="4" y="3473"/>
                  <a:pt x="0" y="3470"/>
                  <a:pt x="0" y="3465"/>
                </a:cubicBezTo>
                <a:lnTo>
                  <a:pt x="0" y="3350"/>
                </a:lnTo>
                <a:cubicBezTo>
                  <a:pt x="0" y="3346"/>
                  <a:pt x="4" y="3342"/>
                  <a:pt x="8" y="3342"/>
                </a:cubicBezTo>
                <a:cubicBezTo>
                  <a:pt x="13" y="3342"/>
                  <a:pt x="17" y="3346"/>
                  <a:pt x="17" y="3350"/>
                </a:cubicBezTo>
                <a:close/>
                <a:moveTo>
                  <a:pt x="17" y="3547"/>
                </a:moveTo>
                <a:lnTo>
                  <a:pt x="17" y="3662"/>
                </a:lnTo>
                <a:cubicBezTo>
                  <a:pt x="17" y="3666"/>
                  <a:pt x="13" y="3670"/>
                  <a:pt x="8" y="3670"/>
                </a:cubicBezTo>
                <a:cubicBezTo>
                  <a:pt x="4" y="3670"/>
                  <a:pt x="0" y="3666"/>
                  <a:pt x="0" y="3662"/>
                </a:cubicBezTo>
                <a:lnTo>
                  <a:pt x="0" y="3547"/>
                </a:lnTo>
                <a:cubicBezTo>
                  <a:pt x="0" y="3542"/>
                  <a:pt x="4" y="3539"/>
                  <a:pt x="8" y="3539"/>
                </a:cubicBezTo>
                <a:cubicBezTo>
                  <a:pt x="13" y="3539"/>
                  <a:pt x="17" y="3542"/>
                  <a:pt x="17" y="3547"/>
                </a:cubicBezTo>
                <a:close/>
                <a:moveTo>
                  <a:pt x="17" y="3744"/>
                </a:moveTo>
                <a:lnTo>
                  <a:pt x="17" y="3858"/>
                </a:lnTo>
                <a:cubicBezTo>
                  <a:pt x="17" y="3863"/>
                  <a:pt x="13" y="3866"/>
                  <a:pt x="8" y="3866"/>
                </a:cubicBezTo>
                <a:cubicBezTo>
                  <a:pt x="4" y="3866"/>
                  <a:pt x="0" y="3863"/>
                  <a:pt x="0" y="3858"/>
                </a:cubicBezTo>
                <a:lnTo>
                  <a:pt x="0" y="3744"/>
                </a:lnTo>
                <a:cubicBezTo>
                  <a:pt x="0" y="3739"/>
                  <a:pt x="4" y="3735"/>
                  <a:pt x="8" y="3735"/>
                </a:cubicBezTo>
                <a:cubicBezTo>
                  <a:pt x="13" y="3735"/>
                  <a:pt x="17" y="3739"/>
                  <a:pt x="17" y="3744"/>
                </a:cubicBezTo>
                <a:close/>
                <a:moveTo>
                  <a:pt x="17" y="3940"/>
                </a:moveTo>
                <a:lnTo>
                  <a:pt x="17" y="4055"/>
                </a:lnTo>
                <a:cubicBezTo>
                  <a:pt x="17" y="4059"/>
                  <a:pt x="13" y="4063"/>
                  <a:pt x="8" y="4063"/>
                </a:cubicBezTo>
                <a:cubicBezTo>
                  <a:pt x="4" y="4063"/>
                  <a:pt x="0" y="4059"/>
                  <a:pt x="0" y="4055"/>
                </a:cubicBezTo>
                <a:lnTo>
                  <a:pt x="0" y="3940"/>
                </a:lnTo>
                <a:cubicBezTo>
                  <a:pt x="0" y="3936"/>
                  <a:pt x="4" y="3932"/>
                  <a:pt x="8" y="3932"/>
                </a:cubicBezTo>
                <a:cubicBezTo>
                  <a:pt x="13" y="3932"/>
                  <a:pt x="17" y="3936"/>
                  <a:pt x="17" y="3940"/>
                </a:cubicBezTo>
                <a:close/>
                <a:moveTo>
                  <a:pt x="17" y="4137"/>
                </a:moveTo>
                <a:lnTo>
                  <a:pt x="17" y="4252"/>
                </a:lnTo>
                <a:cubicBezTo>
                  <a:pt x="17" y="4256"/>
                  <a:pt x="13" y="4260"/>
                  <a:pt x="8" y="4260"/>
                </a:cubicBezTo>
                <a:cubicBezTo>
                  <a:pt x="4" y="4260"/>
                  <a:pt x="0" y="4256"/>
                  <a:pt x="0" y="4252"/>
                </a:cubicBezTo>
                <a:lnTo>
                  <a:pt x="0" y="4137"/>
                </a:lnTo>
                <a:cubicBezTo>
                  <a:pt x="0" y="4132"/>
                  <a:pt x="4" y="4129"/>
                  <a:pt x="8" y="4129"/>
                </a:cubicBezTo>
                <a:cubicBezTo>
                  <a:pt x="13" y="4129"/>
                  <a:pt x="17" y="4132"/>
                  <a:pt x="17" y="4137"/>
                </a:cubicBezTo>
                <a:close/>
                <a:moveTo>
                  <a:pt x="17" y="4333"/>
                </a:moveTo>
                <a:lnTo>
                  <a:pt x="17" y="4448"/>
                </a:lnTo>
                <a:cubicBezTo>
                  <a:pt x="17" y="4453"/>
                  <a:pt x="13" y="4456"/>
                  <a:pt x="8" y="4456"/>
                </a:cubicBezTo>
                <a:cubicBezTo>
                  <a:pt x="4" y="4456"/>
                  <a:pt x="0" y="4453"/>
                  <a:pt x="0" y="4448"/>
                </a:cubicBezTo>
                <a:lnTo>
                  <a:pt x="0" y="4333"/>
                </a:lnTo>
                <a:cubicBezTo>
                  <a:pt x="0" y="4329"/>
                  <a:pt x="4" y="4325"/>
                  <a:pt x="8" y="4325"/>
                </a:cubicBezTo>
                <a:cubicBezTo>
                  <a:pt x="13" y="4325"/>
                  <a:pt x="17" y="4329"/>
                  <a:pt x="17" y="4333"/>
                </a:cubicBezTo>
                <a:close/>
                <a:moveTo>
                  <a:pt x="17" y="4530"/>
                </a:moveTo>
                <a:lnTo>
                  <a:pt x="17" y="4645"/>
                </a:lnTo>
                <a:cubicBezTo>
                  <a:pt x="17" y="4649"/>
                  <a:pt x="13" y="4653"/>
                  <a:pt x="8" y="4653"/>
                </a:cubicBezTo>
                <a:cubicBezTo>
                  <a:pt x="4" y="4653"/>
                  <a:pt x="0" y="4649"/>
                  <a:pt x="0" y="4645"/>
                </a:cubicBezTo>
                <a:lnTo>
                  <a:pt x="0" y="4530"/>
                </a:lnTo>
                <a:cubicBezTo>
                  <a:pt x="0" y="4526"/>
                  <a:pt x="4" y="4522"/>
                  <a:pt x="8" y="4522"/>
                </a:cubicBezTo>
                <a:cubicBezTo>
                  <a:pt x="13" y="4522"/>
                  <a:pt x="17" y="4526"/>
                  <a:pt x="17" y="4530"/>
                </a:cubicBezTo>
                <a:close/>
                <a:moveTo>
                  <a:pt x="17" y="4727"/>
                </a:moveTo>
                <a:lnTo>
                  <a:pt x="17" y="4841"/>
                </a:lnTo>
                <a:cubicBezTo>
                  <a:pt x="17" y="4846"/>
                  <a:pt x="13" y="4850"/>
                  <a:pt x="8" y="4850"/>
                </a:cubicBezTo>
                <a:cubicBezTo>
                  <a:pt x="4" y="4850"/>
                  <a:pt x="0" y="4846"/>
                  <a:pt x="0" y="4841"/>
                </a:cubicBezTo>
                <a:lnTo>
                  <a:pt x="0" y="4727"/>
                </a:lnTo>
                <a:cubicBezTo>
                  <a:pt x="0" y="4722"/>
                  <a:pt x="4" y="4718"/>
                  <a:pt x="8" y="4718"/>
                </a:cubicBezTo>
                <a:cubicBezTo>
                  <a:pt x="13" y="4718"/>
                  <a:pt x="17" y="4722"/>
                  <a:pt x="17" y="4727"/>
                </a:cubicBezTo>
                <a:close/>
                <a:moveTo>
                  <a:pt x="17" y="4923"/>
                </a:moveTo>
                <a:lnTo>
                  <a:pt x="17" y="5038"/>
                </a:lnTo>
                <a:cubicBezTo>
                  <a:pt x="17" y="5042"/>
                  <a:pt x="13" y="5046"/>
                  <a:pt x="8" y="5046"/>
                </a:cubicBezTo>
                <a:cubicBezTo>
                  <a:pt x="4" y="5046"/>
                  <a:pt x="0" y="5042"/>
                  <a:pt x="0" y="5038"/>
                </a:cubicBezTo>
                <a:lnTo>
                  <a:pt x="0" y="4923"/>
                </a:lnTo>
                <a:cubicBezTo>
                  <a:pt x="0" y="4919"/>
                  <a:pt x="4" y="4915"/>
                  <a:pt x="8" y="4915"/>
                </a:cubicBezTo>
                <a:cubicBezTo>
                  <a:pt x="13" y="4915"/>
                  <a:pt x="17" y="4919"/>
                  <a:pt x="17" y="4923"/>
                </a:cubicBezTo>
                <a:close/>
                <a:moveTo>
                  <a:pt x="17" y="5120"/>
                </a:moveTo>
                <a:lnTo>
                  <a:pt x="17" y="5235"/>
                </a:lnTo>
                <a:cubicBezTo>
                  <a:pt x="17" y="5239"/>
                  <a:pt x="13" y="5243"/>
                  <a:pt x="8" y="5243"/>
                </a:cubicBezTo>
                <a:cubicBezTo>
                  <a:pt x="4" y="5243"/>
                  <a:pt x="0" y="5239"/>
                  <a:pt x="0" y="5235"/>
                </a:cubicBezTo>
                <a:lnTo>
                  <a:pt x="0" y="5120"/>
                </a:lnTo>
                <a:cubicBezTo>
                  <a:pt x="0" y="5115"/>
                  <a:pt x="4" y="5112"/>
                  <a:pt x="8" y="5112"/>
                </a:cubicBezTo>
                <a:cubicBezTo>
                  <a:pt x="13" y="5112"/>
                  <a:pt x="17" y="5115"/>
                  <a:pt x="17" y="5120"/>
                </a:cubicBezTo>
                <a:close/>
                <a:moveTo>
                  <a:pt x="17" y="5316"/>
                </a:moveTo>
                <a:lnTo>
                  <a:pt x="17" y="5431"/>
                </a:lnTo>
                <a:cubicBezTo>
                  <a:pt x="17" y="5436"/>
                  <a:pt x="13" y="5439"/>
                  <a:pt x="8" y="5439"/>
                </a:cubicBezTo>
                <a:cubicBezTo>
                  <a:pt x="4" y="5439"/>
                  <a:pt x="0" y="5436"/>
                  <a:pt x="0" y="5431"/>
                </a:cubicBezTo>
                <a:lnTo>
                  <a:pt x="0" y="5316"/>
                </a:lnTo>
                <a:cubicBezTo>
                  <a:pt x="0" y="5312"/>
                  <a:pt x="4" y="5308"/>
                  <a:pt x="8" y="5308"/>
                </a:cubicBezTo>
                <a:cubicBezTo>
                  <a:pt x="13" y="5308"/>
                  <a:pt x="17" y="5312"/>
                  <a:pt x="17" y="5316"/>
                </a:cubicBezTo>
                <a:close/>
                <a:moveTo>
                  <a:pt x="17" y="5513"/>
                </a:moveTo>
                <a:lnTo>
                  <a:pt x="17" y="5628"/>
                </a:lnTo>
                <a:cubicBezTo>
                  <a:pt x="17" y="5632"/>
                  <a:pt x="13" y="5636"/>
                  <a:pt x="8" y="5636"/>
                </a:cubicBezTo>
                <a:cubicBezTo>
                  <a:pt x="4" y="5636"/>
                  <a:pt x="0" y="5632"/>
                  <a:pt x="0" y="5628"/>
                </a:cubicBezTo>
                <a:lnTo>
                  <a:pt x="0" y="5513"/>
                </a:lnTo>
                <a:cubicBezTo>
                  <a:pt x="0" y="5509"/>
                  <a:pt x="4" y="5505"/>
                  <a:pt x="8" y="5505"/>
                </a:cubicBezTo>
                <a:cubicBezTo>
                  <a:pt x="13" y="5505"/>
                  <a:pt x="17" y="5509"/>
                  <a:pt x="17" y="5513"/>
                </a:cubicBezTo>
                <a:close/>
                <a:moveTo>
                  <a:pt x="17" y="5710"/>
                </a:moveTo>
                <a:lnTo>
                  <a:pt x="17" y="5824"/>
                </a:lnTo>
                <a:cubicBezTo>
                  <a:pt x="17" y="5829"/>
                  <a:pt x="13" y="5833"/>
                  <a:pt x="8" y="5833"/>
                </a:cubicBezTo>
                <a:cubicBezTo>
                  <a:pt x="4" y="5833"/>
                  <a:pt x="0" y="5829"/>
                  <a:pt x="0" y="5824"/>
                </a:cubicBezTo>
                <a:lnTo>
                  <a:pt x="0" y="5710"/>
                </a:lnTo>
                <a:cubicBezTo>
                  <a:pt x="0" y="5705"/>
                  <a:pt x="4" y="5701"/>
                  <a:pt x="8" y="5701"/>
                </a:cubicBezTo>
                <a:cubicBezTo>
                  <a:pt x="13" y="5701"/>
                  <a:pt x="17" y="5705"/>
                  <a:pt x="17" y="5710"/>
                </a:cubicBezTo>
                <a:close/>
                <a:moveTo>
                  <a:pt x="17" y="5906"/>
                </a:moveTo>
                <a:lnTo>
                  <a:pt x="17" y="6021"/>
                </a:lnTo>
                <a:cubicBezTo>
                  <a:pt x="17" y="6026"/>
                  <a:pt x="13" y="6029"/>
                  <a:pt x="8" y="6029"/>
                </a:cubicBezTo>
                <a:cubicBezTo>
                  <a:pt x="4" y="6029"/>
                  <a:pt x="0" y="6026"/>
                  <a:pt x="0" y="6021"/>
                </a:cubicBezTo>
                <a:lnTo>
                  <a:pt x="0" y="5906"/>
                </a:lnTo>
                <a:cubicBezTo>
                  <a:pt x="0" y="5902"/>
                  <a:pt x="4" y="5898"/>
                  <a:pt x="8" y="5898"/>
                </a:cubicBezTo>
                <a:cubicBezTo>
                  <a:pt x="13" y="5898"/>
                  <a:pt x="17" y="5902"/>
                  <a:pt x="17" y="5906"/>
                </a:cubicBezTo>
                <a:close/>
                <a:moveTo>
                  <a:pt x="17" y="6103"/>
                </a:moveTo>
                <a:lnTo>
                  <a:pt x="17" y="6218"/>
                </a:lnTo>
                <a:cubicBezTo>
                  <a:pt x="17" y="6222"/>
                  <a:pt x="13" y="6226"/>
                  <a:pt x="8" y="6226"/>
                </a:cubicBezTo>
                <a:cubicBezTo>
                  <a:pt x="4" y="6226"/>
                  <a:pt x="0" y="6222"/>
                  <a:pt x="0" y="6218"/>
                </a:cubicBezTo>
                <a:lnTo>
                  <a:pt x="0" y="6103"/>
                </a:lnTo>
                <a:cubicBezTo>
                  <a:pt x="0" y="6098"/>
                  <a:pt x="4" y="6095"/>
                  <a:pt x="8" y="6095"/>
                </a:cubicBezTo>
                <a:cubicBezTo>
                  <a:pt x="13" y="6095"/>
                  <a:pt x="17" y="6098"/>
                  <a:pt x="17" y="6103"/>
                </a:cubicBezTo>
                <a:close/>
                <a:moveTo>
                  <a:pt x="17" y="6300"/>
                </a:moveTo>
                <a:lnTo>
                  <a:pt x="17" y="6414"/>
                </a:lnTo>
                <a:cubicBezTo>
                  <a:pt x="17" y="6419"/>
                  <a:pt x="13" y="6422"/>
                  <a:pt x="8" y="6422"/>
                </a:cubicBezTo>
                <a:cubicBezTo>
                  <a:pt x="4" y="6422"/>
                  <a:pt x="0" y="6419"/>
                  <a:pt x="0" y="6414"/>
                </a:cubicBezTo>
                <a:lnTo>
                  <a:pt x="0" y="6300"/>
                </a:lnTo>
                <a:cubicBezTo>
                  <a:pt x="0" y="6295"/>
                  <a:pt x="4" y="6291"/>
                  <a:pt x="8" y="6291"/>
                </a:cubicBezTo>
                <a:cubicBezTo>
                  <a:pt x="13" y="6291"/>
                  <a:pt x="17" y="6295"/>
                  <a:pt x="17" y="6300"/>
                </a:cubicBezTo>
                <a:close/>
                <a:moveTo>
                  <a:pt x="17" y="6496"/>
                </a:moveTo>
                <a:lnTo>
                  <a:pt x="17" y="6611"/>
                </a:lnTo>
                <a:cubicBezTo>
                  <a:pt x="17" y="6615"/>
                  <a:pt x="13" y="6619"/>
                  <a:pt x="8" y="6619"/>
                </a:cubicBezTo>
                <a:cubicBezTo>
                  <a:pt x="4" y="6619"/>
                  <a:pt x="0" y="6615"/>
                  <a:pt x="0" y="6611"/>
                </a:cubicBezTo>
                <a:lnTo>
                  <a:pt x="0" y="6496"/>
                </a:lnTo>
                <a:cubicBezTo>
                  <a:pt x="0" y="6492"/>
                  <a:pt x="4" y="6488"/>
                  <a:pt x="8" y="6488"/>
                </a:cubicBezTo>
                <a:cubicBezTo>
                  <a:pt x="13" y="6488"/>
                  <a:pt x="17" y="6492"/>
                  <a:pt x="17" y="6496"/>
                </a:cubicBezTo>
                <a:close/>
              </a:path>
            </a:pathLst>
          </a:custGeom>
          <a:solidFill>
            <a:srgbClr val="cdcdcd"/>
          </a:solidFill>
          <a:ln w="12600">
            <a:solidFill>
              <a:srgbClr val="cdcd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23840" y="1274760"/>
            <a:ext cx="1800" cy="394956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76440" y="130500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346040"/>
            <a:ext cx="9360" cy="3883320"/>
          </a:xfrm>
          <a:custGeom>
            <a:avLst/>
            <a:gdLst/>
            <a:ahLst/>
            <a:rect l="l" t="t" r="r" b="b"/>
            <a:pathLst>
              <a:path w="17" h="6524">
                <a:moveTo>
                  <a:pt x="17" y="8"/>
                </a:moveTo>
                <a:lnTo>
                  <a:pt x="17" y="123"/>
                </a:lnTo>
                <a:cubicBezTo>
                  <a:pt x="17" y="127"/>
                  <a:pt x="13" y="131"/>
                  <a:pt x="8" y="131"/>
                </a:cubicBezTo>
                <a:cubicBezTo>
                  <a:pt x="4" y="131"/>
                  <a:pt x="0" y="127"/>
                  <a:pt x="0" y="123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cubicBezTo>
                  <a:pt x="13" y="0"/>
                  <a:pt x="17" y="4"/>
                  <a:pt x="17" y="8"/>
                </a:cubicBezTo>
                <a:close/>
                <a:moveTo>
                  <a:pt x="17" y="205"/>
                </a:moveTo>
                <a:lnTo>
                  <a:pt x="17" y="320"/>
                </a:lnTo>
                <a:cubicBezTo>
                  <a:pt x="17" y="324"/>
                  <a:pt x="13" y="328"/>
                  <a:pt x="8" y="328"/>
                </a:cubicBezTo>
                <a:cubicBezTo>
                  <a:pt x="4" y="328"/>
                  <a:pt x="0" y="324"/>
                  <a:pt x="0" y="320"/>
                </a:cubicBezTo>
                <a:lnTo>
                  <a:pt x="0" y="205"/>
                </a:lnTo>
                <a:cubicBezTo>
                  <a:pt x="0" y="200"/>
                  <a:pt x="4" y="197"/>
                  <a:pt x="8" y="197"/>
                </a:cubicBezTo>
                <a:cubicBezTo>
                  <a:pt x="13" y="197"/>
                  <a:pt x="17" y="200"/>
                  <a:pt x="17" y="205"/>
                </a:cubicBezTo>
                <a:close/>
                <a:moveTo>
                  <a:pt x="17" y="401"/>
                </a:moveTo>
                <a:lnTo>
                  <a:pt x="17" y="516"/>
                </a:lnTo>
                <a:cubicBezTo>
                  <a:pt x="17" y="521"/>
                  <a:pt x="13" y="524"/>
                  <a:pt x="8" y="524"/>
                </a:cubicBezTo>
                <a:cubicBezTo>
                  <a:pt x="4" y="524"/>
                  <a:pt x="0" y="521"/>
                  <a:pt x="0" y="516"/>
                </a:cubicBezTo>
                <a:lnTo>
                  <a:pt x="0" y="401"/>
                </a:lnTo>
                <a:cubicBezTo>
                  <a:pt x="0" y="397"/>
                  <a:pt x="4" y="393"/>
                  <a:pt x="8" y="393"/>
                </a:cubicBezTo>
                <a:cubicBezTo>
                  <a:pt x="13" y="393"/>
                  <a:pt x="17" y="397"/>
                  <a:pt x="17" y="401"/>
                </a:cubicBezTo>
                <a:close/>
                <a:moveTo>
                  <a:pt x="17" y="598"/>
                </a:moveTo>
                <a:lnTo>
                  <a:pt x="17" y="713"/>
                </a:lnTo>
                <a:cubicBezTo>
                  <a:pt x="17" y="717"/>
                  <a:pt x="13" y="721"/>
                  <a:pt x="8" y="721"/>
                </a:cubicBezTo>
                <a:cubicBezTo>
                  <a:pt x="4" y="721"/>
                  <a:pt x="0" y="717"/>
                  <a:pt x="0" y="713"/>
                </a:cubicBezTo>
                <a:lnTo>
                  <a:pt x="0" y="598"/>
                </a:lnTo>
                <a:cubicBezTo>
                  <a:pt x="0" y="594"/>
                  <a:pt x="4" y="590"/>
                  <a:pt x="8" y="590"/>
                </a:cubicBezTo>
                <a:cubicBezTo>
                  <a:pt x="13" y="590"/>
                  <a:pt x="17" y="594"/>
                  <a:pt x="17" y="598"/>
                </a:cubicBezTo>
                <a:close/>
                <a:moveTo>
                  <a:pt x="17" y="795"/>
                </a:moveTo>
                <a:lnTo>
                  <a:pt x="17" y="909"/>
                </a:lnTo>
                <a:cubicBezTo>
                  <a:pt x="17" y="914"/>
                  <a:pt x="13" y="918"/>
                  <a:pt x="8" y="918"/>
                </a:cubicBezTo>
                <a:cubicBezTo>
                  <a:pt x="4" y="918"/>
                  <a:pt x="0" y="914"/>
                  <a:pt x="0" y="909"/>
                </a:cubicBezTo>
                <a:lnTo>
                  <a:pt x="0" y="795"/>
                </a:lnTo>
                <a:cubicBezTo>
                  <a:pt x="0" y="790"/>
                  <a:pt x="4" y="786"/>
                  <a:pt x="8" y="786"/>
                </a:cubicBezTo>
                <a:cubicBezTo>
                  <a:pt x="13" y="786"/>
                  <a:pt x="17" y="790"/>
                  <a:pt x="17" y="795"/>
                </a:cubicBezTo>
                <a:close/>
                <a:moveTo>
                  <a:pt x="17" y="991"/>
                </a:moveTo>
                <a:lnTo>
                  <a:pt x="17" y="1106"/>
                </a:lnTo>
                <a:cubicBezTo>
                  <a:pt x="17" y="1110"/>
                  <a:pt x="13" y="1114"/>
                  <a:pt x="8" y="1114"/>
                </a:cubicBezTo>
                <a:cubicBezTo>
                  <a:pt x="4" y="1114"/>
                  <a:pt x="0" y="1110"/>
                  <a:pt x="0" y="1106"/>
                </a:cubicBezTo>
                <a:lnTo>
                  <a:pt x="0" y="991"/>
                </a:lnTo>
                <a:cubicBezTo>
                  <a:pt x="0" y="987"/>
                  <a:pt x="4" y="983"/>
                  <a:pt x="8" y="983"/>
                </a:cubicBezTo>
                <a:cubicBezTo>
                  <a:pt x="13" y="983"/>
                  <a:pt x="17" y="987"/>
                  <a:pt x="17" y="991"/>
                </a:cubicBezTo>
                <a:close/>
                <a:moveTo>
                  <a:pt x="17" y="1188"/>
                </a:moveTo>
                <a:lnTo>
                  <a:pt x="17" y="1303"/>
                </a:lnTo>
                <a:cubicBezTo>
                  <a:pt x="17" y="1307"/>
                  <a:pt x="13" y="1311"/>
                  <a:pt x="8" y="1311"/>
                </a:cubicBezTo>
                <a:cubicBezTo>
                  <a:pt x="4" y="1311"/>
                  <a:pt x="0" y="1307"/>
                  <a:pt x="0" y="1303"/>
                </a:cubicBezTo>
                <a:lnTo>
                  <a:pt x="0" y="1188"/>
                </a:lnTo>
                <a:cubicBezTo>
                  <a:pt x="0" y="1183"/>
                  <a:pt x="4" y="1180"/>
                  <a:pt x="8" y="1180"/>
                </a:cubicBezTo>
                <a:cubicBezTo>
                  <a:pt x="13" y="1180"/>
                  <a:pt x="17" y="1183"/>
                  <a:pt x="17" y="1188"/>
                </a:cubicBezTo>
                <a:close/>
                <a:moveTo>
                  <a:pt x="17" y="1384"/>
                </a:moveTo>
                <a:lnTo>
                  <a:pt x="17" y="1499"/>
                </a:lnTo>
                <a:cubicBezTo>
                  <a:pt x="17" y="1504"/>
                  <a:pt x="13" y="1507"/>
                  <a:pt x="8" y="1507"/>
                </a:cubicBezTo>
                <a:cubicBezTo>
                  <a:pt x="4" y="1507"/>
                  <a:pt x="0" y="1504"/>
                  <a:pt x="0" y="1499"/>
                </a:cubicBezTo>
                <a:lnTo>
                  <a:pt x="0" y="1384"/>
                </a:lnTo>
                <a:cubicBezTo>
                  <a:pt x="0" y="1380"/>
                  <a:pt x="4" y="1376"/>
                  <a:pt x="8" y="1376"/>
                </a:cubicBezTo>
                <a:cubicBezTo>
                  <a:pt x="13" y="1376"/>
                  <a:pt x="17" y="1380"/>
                  <a:pt x="17" y="1384"/>
                </a:cubicBezTo>
                <a:close/>
                <a:moveTo>
                  <a:pt x="17" y="1581"/>
                </a:moveTo>
                <a:lnTo>
                  <a:pt x="17" y="1696"/>
                </a:lnTo>
                <a:cubicBezTo>
                  <a:pt x="17" y="1700"/>
                  <a:pt x="13" y="1704"/>
                  <a:pt x="8" y="1704"/>
                </a:cubicBezTo>
                <a:cubicBezTo>
                  <a:pt x="4" y="1704"/>
                  <a:pt x="0" y="1700"/>
                  <a:pt x="0" y="1696"/>
                </a:cubicBezTo>
                <a:lnTo>
                  <a:pt x="0" y="1581"/>
                </a:lnTo>
                <a:cubicBezTo>
                  <a:pt x="0" y="1577"/>
                  <a:pt x="4" y="1573"/>
                  <a:pt x="8" y="1573"/>
                </a:cubicBezTo>
                <a:cubicBezTo>
                  <a:pt x="13" y="1573"/>
                  <a:pt x="17" y="1577"/>
                  <a:pt x="17" y="1581"/>
                </a:cubicBezTo>
                <a:close/>
                <a:moveTo>
                  <a:pt x="17" y="1778"/>
                </a:moveTo>
                <a:lnTo>
                  <a:pt x="17" y="1892"/>
                </a:lnTo>
                <a:cubicBezTo>
                  <a:pt x="17" y="1897"/>
                  <a:pt x="13" y="1901"/>
                  <a:pt x="8" y="1901"/>
                </a:cubicBezTo>
                <a:cubicBezTo>
                  <a:pt x="4" y="1901"/>
                  <a:pt x="0" y="1897"/>
                  <a:pt x="0" y="1892"/>
                </a:cubicBezTo>
                <a:lnTo>
                  <a:pt x="0" y="1778"/>
                </a:lnTo>
                <a:cubicBezTo>
                  <a:pt x="0" y="1773"/>
                  <a:pt x="4" y="1770"/>
                  <a:pt x="8" y="1770"/>
                </a:cubicBezTo>
                <a:cubicBezTo>
                  <a:pt x="13" y="1770"/>
                  <a:pt x="17" y="1773"/>
                  <a:pt x="17" y="1778"/>
                </a:cubicBezTo>
                <a:close/>
                <a:moveTo>
                  <a:pt x="17" y="1974"/>
                </a:moveTo>
                <a:lnTo>
                  <a:pt x="17" y="2089"/>
                </a:lnTo>
                <a:cubicBezTo>
                  <a:pt x="17" y="2094"/>
                  <a:pt x="13" y="2097"/>
                  <a:pt x="8" y="2097"/>
                </a:cubicBezTo>
                <a:cubicBezTo>
                  <a:pt x="4" y="2097"/>
                  <a:pt x="0" y="2094"/>
                  <a:pt x="0" y="2089"/>
                </a:cubicBezTo>
                <a:lnTo>
                  <a:pt x="0" y="1974"/>
                </a:lnTo>
                <a:cubicBezTo>
                  <a:pt x="0" y="1970"/>
                  <a:pt x="4" y="1966"/>
                  <a:pt x="8" y="1966"/>
                </a:cubicBezTo>
                <a:cubicBezTo>
                  <a:pt x="13" y="1966"/>
                  <a:pt x="17" y="1970"/>
                  <a:pt x="17" y="1974"/>
                </a:cubicBezTo>
                <a:close/>
                <a:moveTo>
                  <a:pt x="17" y="2171"/>
                </a:moveTo>
                <a:lnTo>
                  <a:pt x="17" y="2286"/>
                </a:lnTo>
                <a:cubicBezTo>
                  <a:pt x="17" y="2290"/>
                  <a:pt x="13" y="2294"/>
                  <a:pt x="8" y="2294"/>
                </a:cubicBezTo>
                <a:cubicBezTo>
                  <a:pt x="4" y="2294"/>
                  <a:pt x="0" y="2290"/>
                  <a:pt x="0" y="2286"/>
                </a:cubicBezTo>
                <a:lnTo>
                  <a:pt x="0" y="2171"/>
                </a:lnTo>
                <a:cubicBezTo>
                  <a:pt x="0" y="2166"/>
                  <a:pt x="4" y="2163"/>
                  <a:pt x="8" y="2163"/>
                </a:cubicBezTo>
                <a:cubicBezTo>
                  <a:pt x="13" y="2163"/>
                  <a:pt x="17" y="2166"/>
                  <a:pt x="17" y="2171"/>
                </a:cubicBezTo>
                <a:close/>
                <a:moveTo>
                  <a:pt x="17" y="2368"/>
                </a:moveTo>
                <a:lnTo>
                  <a:pt x="17" y="2482"/>
                </a:lnTo>
                <a:cubicBezTo>
                  <a:pt x="17" y="2487"/>
                  <a:pt x="13" y="2490"/>
                  <a:pt x="8" y="2490"/>
                </a:cubicBezTo>
                <a:cubicBezTo>
                  <a:pt x="4" y="2490"/>
                  <a:pt x="0" y="2487"/>
                  <a:pt x="0" y="2482"/>
                </a:cubicBezTo>
                <a:lnTo>
                  <a:pt x="0" y="2368"/>
                </a:lnTo>
                <a:cubicBezTo>
                  <a:pt x="0" y="2363"/>
                  <a:pt x="4" y="2359"/>
                  <a:pt x="8" y="2359"/>
                </a:cubicBezTo>
                <a:cubicBezTo>
                  <a:pt x="13" y="2359"/>
                  <a:pt x="17" y="2363"/>
                  <a:pt x="17" y="2368"/>
                </a:cubicBezTo>
                <a:close/>
                <a:moveTo>
                  <a:pt x="17" y="2564"/>
                </a:moveTo>
                <a:lnTo>
                  <a:pt x="17" y="2679"/>
                </a:lnTo>
                <a:cubicBezTo>
                  <a:pt x="17" y="2683"/>
                  <a:pt x="13" y="2687"/>
                  <a:pt x="8" y="2687"/>
                </a:cubicBezTo>
                <a:cubicBezTo>
                  <a:pt x="4" y="2687"/>
                  <a:pt x="0" y="2683"/>
                  <a:pt x="0" y="2679"/>
                </a:cubicBezTo>
                <a:lnTo>
                  <a:pt x="0" y="2564"/>
                </a:lnTo>
                <a:cubicBezTo>
                  <a:pt x="0" y="2560"/>
                  <a:pt x="4" y="2556"/>
                  <a:pt x="8" y="2556"/>
                </a:cubicBezTo>
                <a:cubicBezTo>
                  <a:pt x="13" y="2556"/>
                  <a:pt x="17" y="2560"/>
                  <a:pt x="17" y="2564"/>
                </a:cubicBezTo>
                <a:close/>
                <a:moveTo>
                  <a:pt x="17" y="2761"/>
                </a:moveTo>
                <a:lnTo>
                  <a:pt x="17" y="2875"/>
                </a:lnTo>
                <a:cubicBezTo>
                  <a:pt x="17" y="2880"/>
                  <a:pt x="13" y="2884"/>
                  <a:pt x="8" y="2884"/>
                </a:cubicBezTo>
                <a:cubicBezTo>
                  <a:pt x="4" y="2884"/>
                  <a:pt x="0" y="2880"/>
                  <a:pt x="0" y="2875"/>
                </a:cubicBezTo>
                <a:lnTo>
                  <a:pt x="0" y="2761"/>
                </a:lnTo>
                <a:cubicBezTo>
                  <a:pt x="0" y="2756"/>
                  <a:pt x="4" y="2753"/>
                  <a:pt x="8" y="2753"/>
                </a:cubicBezTo>
                <a:cubicBezTo>
                  <a:pt x="13" y="2753"/>
                  <a:pt x="17" y="2756"/>
                  <a:pt x="17" y="2761"/>
                </a:cubicBezTo>
                <a:close/>
                <a:moveTo>
                  <a:pt x="17" y="2957"/>
                </a:moveTo>
                <a:lnTo>
                  <a:pt x="17" y="3072"/>
                </a:lnTo>
                <a:cubicBezTo>
                  <a:pt x="17" y="3077"/>
                  <a:pt x="13" y="3080"/>
                  <a:pt x="8" y="3080"/>
                </a:cubicBezTo>
                <a:cubicBezTo>
                  <a:pt x="4" y="3080"/>
                  <a:pt x="0" y="3077"/>
                  <a:pt x="0" y="3072"/>
                </a:cubicBezTo>
                <a:lnTo>
                  <a:pt x="0" y="2957"/>
                </a:lnTo>
                <a:cubicBezTo>
                  <a:pt x="0" y="2953"/>
                  <a:pt x="4" y="2949"/>
                  <a:pt x="8" y="2949"/>
                </a:cubicBezTo>
                <a:cubicBezTo>
                  <a:pt x="13" y="2949"/>
                  <a:pt x="17" y="2953"/>
                  <a:pt x="17" y="2957"/>
                </a:cubicBezTo>
                <a:close/>
                <a:moveTo>
                  <a:pt x="17" y="3154"/>
                </a:moveTo>
                <a:lnTo>
                  <a:pt x="17" y="3269"/>
                </a:lnTo>
                <a:cubicBezTo>
                  <a:pt x="17" y="3273"/>
                  <a:pt x="13" y="3277"/>
                  <a:pt x="8" y="3277"/>
                </a:cubicBezTo>
                <a:cubicBezTo>
                  <a:pt x="4" y="3277"/>
                  <a:pt x="0" y="3273"/>
                  <a:pt x="0" y="3269"/>
                </a:cubicBezTo>
                <a:lnTo>
                  <a:pt x="0" y="3154"/>
                </a:lnTo>
                <a:cubicBezTo>
                  <a:pt x="0" y="3149"/>
                  <a:pt x="4" y="3146"/>
                  <a:pt x="8" y="3146"/>
                </a:cubicBezTo>
                <a:cubicBezTo>
                  <a:pt x="13" y="3146"/>
                  <a:pt x="17" y="3149"/>
                  <a:pt x="17" y="3154"/>
                </a:cubicBezTo>
                <a:close/>
                <a:moveTo>
                  <a:pt x="17" y="3351"/>
                </a:moveTo>
                <a:lnTo>
                  <a:pt x="17" y="3465"/>
                </a:lnTo>
                <a:cubicBezTo>
                  <a:pt x="17" y="3470"/>
                  <a:pt x="13" y="3473"/>
                  <a:pt x="8" y="3473"/>
                </a:cubicBezTo>
                <a:cubicBezTo>
                  <a:pt x="4" y="3473"/>
                  <a:pt x="0" y="3470"/>
                  <a:pt x="0" y="3465"/>
                </a:cubicBezTo>
                <a:lnTo>
                  <a:pt x="0" y="3351"/>
                </a:lnTo>
                <a:cubicBezTo>
                  <a:pt x="0" y="3346"/>
                  <a:pt x="4" y="3342"/>
                  <a:pt x="8" y="3342"/>
                </a:cubicBezTo>
                <a:cubicBezTo>
                  <a:pt x="13" y="3342"/>
                  <a:pt x="17" y="3346"/>
                  <a:pt x="17" y="3351"/>
                </a:cubicBezTo>
                <a:close/>
                <a:moveTo>
                  <a:pt x="17" y="3547"/>
                </a:moveTo>
                <a:lnTo>
                  <a:pt x="17" y="3662"/>
                </a:lnTo>
                <a:cubicBezTo>
                  <a:pt x="17" y="3666"/>
                  <a:pt x="13" y="3670"/>
                  <a:pt x="8" y="3670"/>
                </a:cubicBezTo>
                <a:cubicBezTo>
                  <a:pt x="4" y="3670"/>
                  <a:pt x="0" y="3666"/>
                  <a:pt x="0" y="3662"/>
                </a:cubicBezTo>
                <a:lnTo>
                  <a:pt x="0" y="3547"/>
                </a:lnTo>
                <a:cubicBezTo>
                  <a:pt x="0" y="3543"/>
                  <a:pt x="4" y="3539"/>
                  <a:pt x="8" y="3539"/>
                </a:cubicBezTo>
                <a:cubicBezTo>
                  <a:pt x="13" y="3539"/>
                  <a:pt x="17" y="3543"/>
                  <a:pt x="17" y="3547"/>
                </a:cubicBezTo>
                <a:close/>
                <a:moveTo>
                  <a:pt x="17" y="3744"/>
                </a:moveTo>
                <a:lnTo>
                  <a:pt x="17" y="3858"/>
                </a:lnTo>
                <a:cubicBezTo>
                  <a:pt x="17" y="3863"/>
                  <a:pt x="13" y="3867"/>
                  <a:pt x="8" y="3867"/>
                </a:cubicBezTo>
                <a:cubicBezTo>
                  <a:pt x="4" y="3867"/>
                  <a:pt x="0" y="3863"/>
                  <a:pt x="0" y="3858"/>
                </a:cubicBezTo>
                <a:lnTo>
                  <a:pt x="0" y="3744"/>
                </a:lnTo>
                <a:cubicBezTo>
                  <a:pt x="0" y="3739"/>
                  <a:pt x="4" y="3736"/>
                  <a:pt x="8" y="3736"/>
                </a:cubicBezTo>
                <a:cubicBezTo>
                  <a:pt x="13" y="3736"/>
                  <a:pt x="17" y="3739"/>
                  <a:pt x="17" y="3744"/>
                </a:cubicBezTo>
                <a:close/>
                <a:moveTo>
                  <a:pt x="17" y="3940"/>
                </a:moveTo>
                <a:lnTo>
                  <a:pt x="17" y="4055"/>
                </a:lnTo>
                <a:cubicBezTo>
                  <a:pt x="17" y="4060"/>
                  <a:pt x="13" y="4063"/>
                  <a:pt x="8" y="4063"/>
                </a:cubicBezTo>
                <a:cubicBezTo>
                  <a:pt x="4" y="4063"/>
                  <a:pt x="0" y="4060"/>
                  <a:pt x="0" y="4055"/>
                </a:cubicBezTo>
                <a:lnTo>
                  <a:pt x="0" y="3940"/>
                </a:lnTo>
                <a:cubicBezTo>
                  <a:pt x="0" y="3936"/>
                  <a:pt x="4" y="3932"/>
                  <a:pt x="8" y="3932"/>
                </a:cubicBezTo>
                <a:cubicBezTo>
                  <a:pt x="13" y="3932"/>
                  <a:pt x="17" y="3936"/>
                  <a:pt x="17" y="3940"/>
                </a:cubicBezTo>
                <a:close/>
                <a:moveTo>
                  <a:pt x="17" y="4137"/>
                </a:moveTo>
                <a:lnTo>
                  <a:pt x="17" y="4252"/>
                </a:lnTo>
                <a:cubicBezTo>
                  <a:pt x="17" y="4256"/>
                  <a:pt x="13" y="4260"/>
                  <a:pt x="8" y="4260"/>
                </a:cubicBezTo>
                <a:cubicBezTo>
                  <a:pt x="4" y="4260"/>
                  <a:pt x="0" y="4256"/>
                  <a:pt x="0" y="4252"/>
                </a:cubicBezTo>
                <a:lnTo>
                  <a:pt x="0" y="4137"/>
                </a:lnTo>
                <a:cubicBezTo>
                  <a:pt x="0" y="4132"/>
                  <a:pt x="4" y="4129"/>
                  <a:pt x="8" y="4129"/>
                </a:cubicBezTo>
                <a:cubicBezTo>
                  <a:pt x="13" y="4129"/>
                  <a:pt x="17" y="4132"/>
                  <a:pt x="17" y="4137"/>
                </a:cubicBezTo>
                <a:close/>
                <a:moveTo>
                  <a:pt x="17" y="4334"/>
                </a:moveTo>
                <a:lnTo>
                  <a:pt x="17" y="4448"/>
                </a:lnTo>
                <a:cubicBezTo>
                  <a:pt x="17" y="4453"/>
                  <a:pt x="13" y="4456"/>
                  <a:pt x="8" y="4456"/>
                </a:cubicBezTo>
                <a:cubicBezTo>
                  <a:pt x="4" y="4456"/>
                  <a:pt x="0" y="4453"/>
                  <a:pt x="0" y="4448"/>
                </a:cubicBezTo>
                <a:lnTo>
                  <a:pt x="0" y="4334"/>
                </a:lnTo>
                <a:cubicBezTo>
                  <a:pt x="0" y="4329"/>
                  <a:pt x="4" y="4325"/>
                  <a:pt x="8" y="4325"/>
                </a:cubicBezTo>
                <a:cubicBezTo>
                  <a:pt x="13" y="4325"/>
                  <a:pt x="17" y="4329"/>
                  <a:pt x="17" y="4334"/>
                </a:cubicBezTo>
                <a:close/>
                <a:moveTo>
                  <a:pt x="17" y="4530"/>
                </a:moveTo>
                <a:lnTo>
                  <a:pt x="17" y="4645"/>
                </a:lnTo>
                <a:cubicBezTo>
                  <a:pt x="17" y="4649"/>
                  <a:pt x="13" y="4653"/>
                  <a:pt x="8" y="4653"/>
                </a:cubicBezTo>
                <a:cubicBezTo>
                  <a:pt x="4" y="4653"/>
                  <a:pt x="0" y="4649"/>
                  <a:pt x="0" y="4645"/>
                </a:cubicBezTo>
                <a:lnTo>
                  <a:pt x="0" y="4530"/>
                </a:lnTo>
                <a:cubicBezTo>
                  <a:pt x="0" y="4526"/>
                  <a:pt x="4" y="4522"/>
                  <a:pt x="8" y="4522"/>
                </a:cubicBezTo>
                <a:cubicBezTo>
                  <a:pt x="13" y="4522"/>
                  <a:pt x="17" y="4526"/>
                  <a:pt x="17" y="4530"/>
                </a:cubicBezTo>
                <a:close/>
                <a:moveTo>
                  <a:pt x="17" y="4727"/>
                </a:moveTo>
                <a:lnTo>
                  <a:pt x="17" y="4842"/>
                </a:lnTo>
                <a:cubicBezTo>
                  <a:pt x="17" y="4846"/>
                  <a:pt x="13" y="4850"/>
                  <a:pt x="8" y="4850"/>
                </a:cubicBezTo>
                <a:cubicBezTo>
                  <a:pt x="4" y="4850"/>
                  <a:pt x="0" y="4846"/>
                  <a:pt x="0" y="4842"/>
                </a:cubicBezTo>
                <a:lnTo>
                  <a:pt x="0" y="4727"/>
                </a:lnTo>
                <a:cubicBezTo>
                  <a:pt x="0" y="4722"/>
                  <a:pt x="4" y="4719"/>
                  <a:pt x="8" y="4719"/>
                </a:cubicBezTo>
                <a:cubicBezTo>
                  <a:pt x="13" y="4719"/>
                  <a:pt x="17" y="4722"/>
                  <a:pt x="17" y="4727"/>
                </a:cubicBezTo>
                <a:close/>
                <a:moveTo>
                  <a:pt x="17" y="4923"/>
                </a:moveTo>
                <a:lnTo>
                  <a:pt x="17" y="5038"/>
                </a:lnTo>
                <a:cubicBezTo>
                  <a:pt x="17" y="5043"/>
                  <a:pt x="13" y="5046"/>
                  <a:pt x="8" y="5046"/>
                </a:cubicBezTo>
                <a:cubicBezTo>
                  <a:pt x="4" y="5046"/>
                  <a:pt x="0" y="5043"/>
                  <a:pt x="0" y="5038"/>
                </a:cubicBezTo>
                <a:lnTo>
                  <a:pt x="0" y="4923"/>
                </a:lnTo>
                <a:cubicBezTo>
                  <a:pt x="0" y="4919"/>
                  <a:pt x="4" y="4915"/>
                  <a:pt x="8" y="4915"/>
                </a:cubicBezTo>
                <a:cubicBezTo>
                  <a:pt x="13" y="4915"/>
                  <a:pt x="17" y="4919"/>
                  <a:pt x="17" y="4923"/>
                </a:cubicBezTo>
                <a:close/>
                <a:moveTo>
                  <a:pt x="17" y="5120"/>
                </a:moveTo>
                <a:lnTo>
                  <a:pt x="17" y="5235"/>
                </a:lnTo>
                <a:cubicBezTo>
                  <a:pt x="17" y="5239"/>
                  <a:pt x="13" y="5243"/>
                  <a:pt x="8" y="5243"/>
                </a:cubicBezTo>
                <a:cubicBezTo>
                  <a:pt x="4" y="5243"/>
                  <a:pt x="0" y="5239"/>
                  <a:pt x="0" y="5235"/>
                </a:cubicBezTo>
                <a:lnTo>
                  <a:pt x="0" y="5120"/>
                </a:lnTo>
                <a:cubicBezTo>
                  <a:pt x="0" y="5116"/>
                  <a:pt x="4" y="5112"/>
                  <a:pt x="8" y="5112"/>
                </a:cubicBezTo>
                <a:cubicBezTo>
                  <a:pt x="13" y="5112"/>
                  <a:pt x="17" y="5116"/>
                  <a:pt x="17" y="5120"/>
                </a:cubicBezTo>
                <a:close/>
                <a:moveTo>
                  <a:pt x="17" y="5317"/>
                </a:moveTo>
                <a:lnTo>
                  <a:pt x="17" y="5431"/>
                </a:lnTo>
                <a:cubicBezTo>
                  <a:pt x="17" y="5436"/>
                  <a:pt x="13" y="5440"/>
                  <a:pt x="8" y="5440"/>
                </a:cubicBezTo>
                <a:cubicBezTo>
                  <a:pt x="4" y="5440"/>
                  <a:pt x="0" y="5436"/>
                  <a:pt x="0" y="5431"/>
                </a:cubicBezTo>
                <a:lnTo>
                  <a:pt x="0" y="5317"/>
                </a:lnTo>
                <a:cubicBezTo>
                  <a:pt x="0" y="5312"/>
                  <a:pt x="4" y="5308"/>
                  <a:pt x="8" y="5308"/>
                </a:cubicBezTo>
                <a:cubicBezTo>
                  <a:pt x="13" y="5308"/>
                  <a:pt x="17" y="5312"/>
                  <a:pt x="17" y="5317"/>
                </a:cubicBezTo>
                <a:close/>
                <a:moveTo>
                  <a:pt x="17" y="5513"/>
                </a:moveTo>
                <a:lnTo>
                  <a:pt x="17" y="5628"/>
                </a:lnTo>
                <a:cubicBezTo>
                  <a:pt x="17" y="5632"/>
                  <a:pt x="13" y="5636"/>
                  <a:pt x="8" y="5636"/>
                </a:cubicBezTo>
                <a:cubicBezTo>
                  <a:pt x="4" y="5636"/>
                  <a:pt x="0" y="5632"/>
                  <a:pt x="0" y="5628"/>
                </a:cubicBezTo>
                <a:lnTo>
                  <a:pt x="0" y="5513"/>
                </a:lnTo>
                <a:cubicBezTo>
                  <a:pt x="0" y="5509"/>
                  <a:pt x="4" y="5505"/>
                  <a:pt x="8" y="5505"/>
                </a:cubicBezTo>
                <a:cubicBezTo>
                  <a:pt x="13" y="5505"/>
                  <a:pt x="17" y="5509"/>
                  <a:pt x="17" y="5513"/>
                </a:cubicBezTo>
                <a:close/>
                <a:moveTo>
                  <a:pt x="17" y="5710"/>
                </a:moveTo>
                <a:lnTo>
                  <a:pt x="17" y="5825"/>
                </a:lnTo>
                <a:cubicBezTo>
                  <a:pt x="17" y="5829"/>
                  <a:pt x="13" y="5833"/>
                  <a:pt x="8" y="5833"/>
                </a:cubicBezTo>
                <a:cubicBezTo>
                  <a:pt x="4" y="5833"/>
                  <a:pt x="0" y="5829"/>
                  <a:pt x="0" y="5825"/>
                </a:cubicBezTo>
                <a:lnTo>
                  <a:pt x="0" y="5710"/>
                </a:lnTo>
                <a:cubicBezTo>
                  <a:pt x="0" y="5705"/>
                  <a:pt x="4" y="5702"/>
                  <a:pt x="8" y="5702"/>
                </a:cubicBezTo>
                <a:cubicBezTo>
                  <a:pt x="13" y="5702"/>
                  <a:pt x="17" y="5705"/>
                  <a:pt x="17" y="5710"/>
                </a:cubicBezTo>
                <a:close/>
                <a:moveTo>
                  <a:pt x="17" y="5906"/>
                </a:moveTo>
                <a:lnTo>
                  <a:pt x="17" y="6021"/>
                </a:lnTo>
                <a:cubicBezTo>
                  <a:pt x="17" y="6026"/>
                  <a:pt x="13" y="6029"/>
                  <a:pt x="8" y="6029"/>
                </a:cubicBezTo>
                <a:cubicBezTo>
                  <a:pt x="4" y="6029"/>
                  <a:pt x="0" y="6026"/>
                  <a:pt x="0" y="6021"/>
                </a:cubicBezTo>
                <a:lnTo>
                  <a:pt x="0" y="5906"/>
                </a:lnTo>
                <a:cubicBezTo>
                  <a:pt x="0" y="5902"/>
                  <a:pt x="4" y="5898"/>
                  <a:pt x="8" y="5898"/>
                </a:cubicBezTo>
                <a:cubicBezTo>
                  <a:pt x="13" y="5898"/>
                  <a:pt x="17" y="5902"/>
                  <a:pt x="17" y="5906"/>
                </a:cubicBezTo>
                <a:close/>
                <a:moveTo>
                  <a:pt x="17" y="6103"/>
                </a:moveTo>
                <a:lnTo>
                  <a:pt x="17" y="6218"/>
                </a:lnTo>
                <a:cubicBezTo>
                  <a:pt x="17" y="6222"/>
                  <a:pt x="13" y="6226"/>
                  <a:pt x="8" y="6226"/>
                </a:cubicBezTo>
                <a:cubicBezTo>
                  <a:pt x="4" y="6226"/>
                  <a:pt x="0" y="6222"/>
                  <a:pt x="0" y="6218"/>
                </a:cubicBezTo>
                <a:lnTo>
                  <a:pt x="0" y="6103"/>
                </a:lnTo>
                <a:cubicBezTo>
                  <a:pt x="0" y="6099"/>
                  <a:pt x="4" y="6095"/>
                  <a:pt x="8" y="6095"/>
                </a:cubicBezTo>
                <a:cubicBezTo>
                  <a:pt x="13" y="6095"/>
                  <a:pt x="17" y="6099"/>
                  <a:pt x="17" y="6103"/>
                </a:cubicBezTo>
                <a:close/>
                <a:moveTo>
                  <a:pt x="17" y="6300"/>
                </a:moveTo>
                <a:lnTo>
                  <a:pt x="17" y="6414"/>
                </a:lnTo>
                <a:cubicBezTo>
                  <a:pt x="17" y="6419"/>
                  <a:pt x="13" y="6423"/>
                  <a:pt x="8" y="6423"/>
                </a:cubicBezTo>
                <a:cubicBezTo>
                  <a:pt x="4" y="6423"/>
                  <a:pt x="0" y="6419"/>
                  <a:pt x="0" y="6414"/>
                </a:cubicBezTo>
                <a:lnTo>
                  <a:pt x="0" y="6300"/>
                </a:lnTo>
                <a:cubicBezTo>
                  <a:pt x="0" y="6295"/>
                  <a:pt x="4" y="6292"/>
                  <a:pt x="8" y="6292"/>
                </a:cubicBezTo>
                <a:cubicBezTo>
                  <a:pt x="13" y="6292"/>
                  <a:pt x="17" y="6295"/>
                  <a:pt x="17" y="6300"/>
                </a:cubicBezTo>
                <a:close/>
                <a:moveTo>
                  <a:pt x="17" y="6496"/>
                </a:moveTo>
                <a:lnTo>
                  <a:pt x="17" y="6516"/>
                </a:lnTo>
                <a:cubicBezTo>
                  <a:pt x="17" y="6520"/>
                  <a:pt x="13" y="6524"/>
                  <a:pt x="8" y="6524"/>
                </a:cubicBezTo>
                <a:cubicBezTo>
                  <a:pt x="4" y="6524"/>
                  <a:pt x="0" y="6520"/>
                  <a:pt x="0" y="6516"/>
                </a:cubicBezTo>
                <a:lnTo>
                  <a:pt x="0" y="6496"/>
                </a:lnTo>
                <a:cubicBezTo>
                  <a:pt x="0" y="6492"/>
                  <a:pt x="4" y="6488"/>
                  <a:pt x="8" y="6488"/>
                </a:cubicBezTo>
                <a:cubicBezTo>
                  <a:pt x="13" y="6488"/>
                  <a:pt x="17" y="6492"/>
                  <a:pt x="17" y="6496"/>
                </a:cubicBezTo>
                <a:close/>
              </a:path>
            </a:pathLst>
          </a:custGeom>
          <a:solidFill>
            <a:srgbClr val="cdcdcd"/>
          </a:solidFill>
          <a:ln w="12600">
            <a:solidFill>
              <a:srgbClr val="cdcd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31320" y="1351080"/>
            <a:ext cx="1440" cy="38732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40760" y="12859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5640" y="2371680"/>
            <a:ext cx="72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4440" y="5303880"/>
            <a:ext cx="427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T1 : trousse n° 1 (HBc total) ; T2 : trousse n° 2 (HBc to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61360" y="5456160"/>
            <a:ext cx="542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a : signal de la réaction supérieur au seuil du fabricant pour cette trou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59920" y="5608800"/>
            <a:ext cx="356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b : répétition de l’analyse avec la même trou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8040" y="5761080"/>
            <a:ext cx="700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c :  Procédure des analyse(s) complémentaire(s) de manière à caractériser l’anomalie observ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4240" y="5913360"/>
            <a:ext cx="674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d : Pas d’information systématique et réhabilitation en l’absence d’évolution au don sui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64960" y="6066000"/>
            <a:ext cx="296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e : Plasma conforme selon CDC du LF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1320" y="2413080"/>
            <a:ext cx="733320" cy="47520"/>
          </a:xfrm>
          <a:custGeom>
            <a:avLst/>
            <a:gdLst/>
            <a:ahLst/>
            <a:rect l="l" t="t" r="r" b="b"/>
            <a:pathLst>
              <a:path w="462" h="30">
                <a:moveTo>
                  <a:pt x="462" y="0"/>
                </a:moveTo>
                <a:lnTo>
                  <a:pt x="0" y="0"/>
                </a:lnTo>
                <a:lnTo>
                  <a:pt x="0" y="3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43160" y="24512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24" y="45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5240" y="220968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40080" y="4095720"/>
            <a:ext cx="409680" cy="130320"/>
          </a:xfrm>
          <a:custGeom>
            <a:avLst/>
            <a:gdLst/>
            <a:ahLst/>
            <a:rect l="l" t="t" r="r" b="b"/>
            <a:pathLst>
              <a:path w="258" h="82">
                <a:moveTo>
                  <a:pt x="258" y="0"/>
                </a:moveTo>
                <a:lnTo>
                  <a:pt x="258" y="82"/>
                </a:lnTo>
                <a:lnTo>
                  <a:pt x="0" y="8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73480" y="419112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48" y="45"/>
                </a:moveTo>
                <a:lnTo>
                  <a:pt x="0" y="22"/>
                </a:lnTo>
                <a:lnTo>
                  <a:pt x="48" y="0"/>
                </a:lnTo>
                <a:lnTo>
                  <a:pt x="48" y="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90800" y="41623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60680" y="4508640"/>
            <a:ext cx="1612800" cy="360360"/>
          </a:xfrm>
          <a:custGeom>
            <a:avLst/>
            <a:gdLst/>
            <a:ahLst/>
            <a:rect l="l" t="t" r="r" b="b"/>
            <a:pathLst>
              <a:path w="2709" h="605">
                <a:moveTo>
                  <a:pt x="323" y="605"/>
                </a:moveTo>
                <a:lnTo>
                  <a:pt x="2387" y="605"/>
                </a:lnTo>
                <a:cubicBezTo>
                  <a:pt x="2565" y="605"/>
                  <a:pt x="2709" y="469"/>
                  <a:pt x="2709" y="302"/>
                </a:cubicBezTo>
                <a:cubicBezTo>
                  <a:pt x="2709" y="135"/>
                  <a:pt x="2565" y="0"/>
                  <a:pt x="2387" y="0"/>
                </a:cubicBezTo>
                <a:cubicBezTo>
                  <a:pt x="2387" y="0"/>
                  <a:pt x="2387" y="0"/>
                  <a:pt x="2387" y="0"/>
                </a:cubicBezTo>
                <a:lnTo>
                  <a:pt x="2387" y="0"/>
                </a:lnTo>
                <a:lnTo>
                  <a:pt x="323" y="0"/>
                </a:lnTo>
                <a:cubicBezTo>
                  <a:pt x="144" y="0"/>
                  <a:pt x="0" y="135"/>
                  <a:pt x="0" y="302"/>
                </a:cubicBezTo>
                <a:cubicBezTo>
                  <a:pt x="0" y="469"/>
                  <a:pt x="144" y="605"/>
                  <a:pt x="323" y="605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88040" y="4562640"/>
            <a:ext cx="147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ositif : À confirmer sur 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59400" y="4686480"/>
            <a:ext cx="109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échantillon ultéri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40080" y="3733920"/>
            <a:ext cx="1028880" cy="954000"/>
          </a:xfrm>
          <a:custGeom>
            <a:avLst/>
            <a:gdLst/>
            <a:ahLst/>
            <a:rect l="l" t="t" r="r" b="b"/>
            <a:pathLst>
              <a:path w="648" h="568">
                <a:moveTo>
                  <a:pt x="467" y="0"/>
                </a:moveTo>
                <a:lnTo>
                  <a:pt x="648" y="0"/>
                </a:lnTo>
                <a:lnTo>
                  <a:pt x="648" y="568"/>
                </a:lnTo>
                <a:lnTo>
                  <a:pt x="0" y="56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73480" y="465300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44"/>
                </a:moveTo>
                <a:lnTo>
                  <a:pt x="0" y="22"/>
                </a:lnTo>
                <a:lnTo>
                  <a:pt x="48" y="0"/>
                </a:lnTo>
                <a:lnTo>
                  <a:pt x="48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25120" y="44956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7,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60680" y="4075200"/>
            <a:ext cx="1612800" cy="303120"/>
          </a:xfrm>
          <a:custGeom>
            <a:avLst/>
            <a:gdLst/>
            <a:ahLst/>
            <a:rect l="l" t="t" r="r" b="b"/>
            <a:pathLst>
              <a:path w="2709" h="508">
                <a:moveTo>
                  <a:pt x="271" y="508"/>
                </a:moveTo>
                <a:lnTo>
                  <a:pt x="2439" y="508"/>
                </a:lnTo>
                <a:cubicBezTo>
                  <a:pt x="2588" y="508"/>
                  <a:pt x="2709" y="394"/>
                  <a:pt x="2709" y="254"/>
                </a:cubicBezTo>
                <a:cubicBezTo>
                  <a:pt x="2709" y="114"/>
                  <a:pt x="2588" y="0"/>
                  <a:pt x="2439" y="0"/>
                </a:cubicBezTo>
                <a:cubicBezTo>
                  <a:pt x="2439" y="0"/>
                  <a:pt x="2439" y="0"/>
                  <a:pt x="2439" y="0"/>
                </a:cubicBezTo>
                <a:lnTo>
                  <a:pt x="2439" y="0"/>
                </a:lnTo>
                <a:lnTo>
                  <a:pt x="271" y="0"/>
                </a:lnTo>
                <a:cubicBezTo>
                  <a:pt x="121" y="0"/>
                  <a:pt x="0" y="114"/>
                  <a:pt x="0" y="254"/>
                </a:cubicBezTo>
                <a:cubicBezTo>
                  <a:pt x="0" y="394"/>
                  <a:pt x="121" y="508"/>
                  <a:pt x="271" y="508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0680" y="4075200"/>
            <a:ext cx="1612800" cy="303120"/>
          </a:xfrm>
          <a:custGeom>
            <a:avLst/>
            <a:gdLst/>
            <a:ahLst/>
            <a:rect l="l" t="t" r="r" b="b"/>
            <a:pathLst>
              <a:path w="2709" h="508">
                <a:moveTo>
                  <a:pt x="271" y="508"/>
                </a:moveTo>
                <a:lnTo>
                  <a:pt x="2439" y="508"/>
                </a:lnTo>
                <a:cubicBezTo>
                  <a:pt x="2588" y="508"/>
                  <a:pt x="2709" y="394"/>
                  <a:pt x="2709" y="254"/>
                </a:cubicBezTo>
                <a:cubicBezTo>
                  <a:pt x="2709" y="114"/>
                  <a:pt x="2588" y="0"/>
                  <a:pt x="2439" y="0"/>
                </a:cubicBezTo>
                <a:cubicBezTo>
                  <a:pt x="2439" y="0"/>
                  <a:pt x="2439" y="0"/>
                  <a:pt x="2439" y="0"/>
                </a:cubicBezTo>
                <a:lnTo>
                  <a:pt x="2439" y="0"/>
                </a:lnTo>
                <a:lnTo>
                  <a:pt x="271" y="0"/>
                </a:lnTo>
                <a:cubicBezTo>
                  <a:pt x="121" y="0"/>
                  <a:pt x="0" y="114"/>
                  <a:pt x="0" y="254"/>
                </a:cubicBezTo>
                <a:cubicBezTo>
                  <a:pt x="0" y="394"/>
                  <a:pt x="121" y="508"/>
                  <a:pt x="271" y="508"/>
                </a:cubicBez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80880" y="41623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détermi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71440" y="4143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-co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78640" y="426708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uf plas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4267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71440" y="46195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-co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78640" y="474336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uf plas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76480" y="4753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2522520"/>
            <a:ext cx="1332000" cy="289080"/>
          </a:xfrm>
          <a:prstGeom prst="rect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120" y="2600280"/>
            <a:ext cx="52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st (T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14640" y="2889360"/>
            <a:ext cx="1432080" cy="360360"/>
          </a:xfrm>
          <a:custGeom>
            <a:avLst/>
            <a:gdLst/>
            <a:ahLst/>
            <a:rect l="l" t="t" r="r" b="b"/>
            <a:pathLst>
              <a:path w="902" h="227">
                <a:moveTo>
                  <a:pt x="0" y="114"/>
                </a:moveTo>
                <a:lnTo>
                  <a:pt x="451" y="0"/>
                </a:lnTo>
                <a:lnTo>
                  <a:pt x="902" y="114"/>
                </a:lnTo>
                <a:lnTo>
                  <a:pt x="451" y="227"/>
                </a:lnTo>
                <a:lnTo>
                  <a:pt x="0" y="114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58880" y="3000240"/>
            <a:ext cx="61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actif(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71960" y="2971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46600" y="2666880"/>
            <a:ext cx="784080" cy="160560"/>
          </a:xfrm>
          <a:custGeom>
            <a:avLst/>
            <a:gdLst/>
            <a:ahLst/>
            <a:rect l="l" t="t" r="r" b="b"/>
            <a:pathLst>
              <a:path w="494" h="101">
                <a:moveTo>
                  <a:pt x="0" y="0"/>
                </a:moveTo>
                <a:lnTo>
                  <a:pt x="494" y="0"/>
                </a:lnTo>
                <a:lnTo>
                  <a:pt x="494" y="10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92520" y="281952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0"/>
                </a:moveTo>
                <a:lnTo>
                  <a:pt x="24" y="44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13400" y="3405240"/>
            <a:ext cx="74520" cy="69840"/>
          </a:xfrm>
          <a:custGeom>
            <a:avLst/>
            <a:gdLst/>
            <a:ahLst/>
            <a:rect l="l" t="t" r="r" b="b"/>
            <a:pathLst>
              <a:path w="47" h="44">
                <a:moveTo>
                  <a:pt x="47" y="0"/>
                </a:moveTo>
                <a:lnTo>
                  <a:pt x="23" y="44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97280" y="329580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3605040"/>
            <a:ext cx="1828800" cy="360360"/>
          </a:xfrm>
          <a:custGeom>
            <a:avLst/>
            <a:gdLst/>
            <a:ahLst/>
            <a:rect l="l" t="t" r="r" b="b"/>
            <a:pathLst>
              <a:path w="2672" h="605">
                <a:moveTo>
                  <a:pt x="323" y="605"/>
                </a:moveTo>
                <a:lnTo>
                  <a:pt x="2349" y="605"/>
                </a:lnTo>
                <a:cubicBezTo>
                  <a:pt x="2528" y="605"/>
                  <a:pt x="2672" y="469"/>
                  <a:pt x="2672" y="302"/>
                </a:cubicBezTo>
                <a:cubicBezTo>
                  <a:pt x="2672" y="135"/>
                  <a:pt x="2528" y="0"/>
                  <a:pt x="2349" y="0"/>
                </a:cubicBezTo>
                <a:cubicBezTo>
                  <a:pt x="2349" y="0"/>
                  <a:pt x="2349" y="0"/>
                  <a:pt x="2349" y="0"/>
                </a:cubicBezTo>
                <a:lnTo>
                  <a:pt x="2349" y="0"/>
                </a:lnTo>
                <a:lnTo>
                  <a:pt x="323" y="0"/>
                </a:lnTo>
                <a:cubicBezTo>
                  <a:pt x="144" y="0"/>
                  <a:pt x="0" y="135"/>
                  <a:pt x="0" y="302"/>
                </a:cubicBezTo>
                <a:cubicBezTo>
                  <a:pt x="0" y="469"/>
                  <a:pt x="144" y="605"/>
                  <a:pt x="323" y="605"/>
                </a:cubicBez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30480" y="3610080"/>
            <a:ext cx="65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détermi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9200" y="3733920"/>
            <a:ext cx="1596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éhabilitation au don suiva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0400" y="368784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5920" y="3070080"/>
            <a:ext cx="558720" cy="473400"/>
          </a:xfrm>
          <a:custGeom>
            <a:avLst/>
            <a:gdLst/>
            <a:ahLst/>
            <a:rect l="l" t="t" r="r" b="b"/>
            <a:pathLst>
              <a:path w="352" h="298">
                <a:moveTo>
                  <a:pt x="352" y="0"/>
                </a:moveTo>
                <a:lnTo>
                  <a:pt x="0" y="0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19560" y="3535200"/>
            <a:ext cx="74520" cy="69840"/>
          </a:xfrm>
          <a:custGeom>
            <a:avLst/>
            <a:gdLst/>
            <a:ahLst/>
            <a:rect l="l" t="t" r="r" b="b"/>
            <a:pathLst>
              <a:path w="47" h="44">
                <a:moveTo>
                  <a:pt x="47" y="0"/>
                </a:moveTo>
                <a:lnTo>
                  <a:pt x="23" y="44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76640" y="2895480"/>
            <a:ext cx="52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71440" y="35622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-confo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78640" y="367668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uf plas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3686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19640" y="3475080"/>
            <a:ext cx="662040" cy="620640"/>
          </a:xfrm>
          <a:custGeom>
            <a:avLst/>
            <a:gdLst/>
            <a:ahLst/>
            <a:rect l="l" t="t" r="r" b="b"/>
            <a:pathLst>
              <a:path w="1111" h="1042">
                <a:moveTo>
                  <a:pt x="0" y="521"/>
                </a:moveTo>
                <a:cubicBezTo>
                  <a:pt x="0" y="234"/>
                  <a:pt x="249" y="0"/>
                  <a:pt x="556" y="0"/>
                </a:cubicBezTo>
                <a:cubicBezTo>
                  <a:pt x="862" y="0"/>
                  <a:pt x="1111" y="234"/>
                  <a:pt x="1111" y="521"/>
                </a:cubicBezTo>
                <a:cubicBezTo>
                  <a:pt x="1111" y="521"/>
                  <a:pt x="1111" y="521"/>
                  <a:pt x="1111" y="521"/>
                </a:cubicBezTo>
                <a:cubicBezTo>
                  <a:pt x="1111" y="809"/>
                  <a:pt x="862" y="1042"/>
                  <a:pt x="556" y="1042"/>
                </a:cubicBez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19640" y="3475080"/>
            <a:ext cx="709560" cy="620640"/>
          </a:xfrm>
          <a:custGeom>
            <a:avLst/>
            <a:gdLst/>
            <a:ahLst/>
            <a:rect l="l" t="t" r="r" b="b"/>
            <a:pathLst>
              <a:path w="417" h="391">
                <a:moveTo>
                  <a:pt x="0" y="196"/>
                </a:moveTo>
                <a:cubicBezTo>
                  <a:pt x="0" y="88"/>
                  <a:pt x="93" y="0"/>
                  <a:pt x="208" y="0"/>
                </a:cubicBezTo>
                <a:cubicBezTo>
                  <a:pt x="323" y="0"/>
                  <a:pt x="417" y="88"/>
                  <a:pt x="417" y="196"/>
                </a:cubicBezTo>
                <a:cubicBezTo>
                  <a:pt x="417" y="196"/>
                  <a:pt x="417" y="196"/>
                  <a:pt x="417" y="196"/>
                </a:cubicBezTo>
                <a:cubicBezTo>
                  <a:pt x="417" y="304"/>
                  <a:pt x="323" y="391"/>
                  <a:pt x="208" y="391"/>
                </a:cubicBezTo>
                <a:cubicBezTo>
                  <a:pt x="93" y="391"/>
                  <a:pt x="0" y="304"/>
                  <a:pt x="0" y="196"/>
                </a:cubicBez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51320" y="3638520"/>
            <a:ext cx="63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xpl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1600" y="380988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iologiqu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48320" y="327636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631880" y="90360"/>
            <a:ext cx="57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olisa Ag HBs Ultra 1 h 30 à 37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 agité / ag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21360" y="5105520"/>
            <a:ext cx="173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entration ng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2320" y="1243080"/>
            <a:ext cx="5514840" cy="3554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8560" y="4797360"/>
            <a:ext cx="936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68560" y="4452840"/>
            <a:ext cx="936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8560" y="4081320"/>
            <a:ext cx="936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68560" y="3735360"/>
            <a:ext cx="936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8560" y="3365640"/>
            <a:ext cx="936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68560" y="3019320"/>
            <a:ext cx="9360" cy="5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68560" y="2674800"/>
            <a:ext cx="9360" cy="5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68560" y="2303640"/>
            <a:ext cx="936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73240" y="1959120"/>
            <a:ext cx="972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73240" y="1587600"/>
            <a:ext cx="972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73240" y="1243080"/>
            <a:ext cx="972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8840" y="4797360"/>
            <a:ext cx="1908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8840" y="4081320"/>
            <a:ext cx="1908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8840" y="3365640"/>
            <a:ext cx="1908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8840" y="2674800"/>
            <a:ext cx="19080" cy="5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3880" y="1959120"/>
            <a:ext cx="1908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63880" y="1243080"/>
            <a:ext cx="19080" cy="4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092320" y="4797360"/>
            <a:ext cx="144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016080" y="4797360"/>
            <a:ext cx="180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930480" y="4797360"/>
            <a:ext cx="180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854600" y="4797360"/>
            <a:ext cx="144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69000" y="4797360"/>
            <a:ext cx="144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692760" y="4797360"/>
            <a:ext cx="180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607160" y="4797360"/>
            <a:ext cx="1800" cy="52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3880" y="172080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59480" y="240984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78160" y="3390840"/>
            <a:ext cx="9396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68720" y="397512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16120" y="429264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3880" y="140184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59480" y="211788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78160" y="2914560"/>
            <a:ext cx="9396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68720" y="368316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16120" y="413388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40000" y="431964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7080" y="442584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25520" y="3895560"/>
            <a:ext cx="1143000" cy="79560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368520" y="3125880"/>
            <a:ext cx="1143000" cy="76968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511520" y="2330280"/>
            <a:ext cx="1133640" cy="79560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645160" y="1534680"/>
            <a:ext cx="1143000" cy="79524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788160" y="1242720"/>
            <a:ext cx="428760" cy="2919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225520" y="3655800"/>
            <a:ext cx="1143000" cy="85860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368520" y="2833200"/>
            <a:ext cx="1143000" cy="82260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511520" y="2012760"/>
            <a:ext cx="1133640" cy="82044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645160" y="1242720"/>
            <a:ext cx="1068480" cy="77004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58040" y="4718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58040" y="4002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58040" y="3284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58040" y="2595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72360" y="1879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43200" y="1163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4724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7136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8576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0952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2392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4804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2440" y="4854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5540400"/>
            <a:ext cx="5918040" cy="685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71720" y="5645160"/>
            <a:ext cx="93600" cy="9360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42360" y="5607000"/>
            <a:ext cx="530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tocole standard non agité : seuil de détection = 0,045 ng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71720" y="6006960"/>
            <a:ext cx="93600" cy="939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45600" y="5969160"/>
            <a:ext cx="413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tocole agité : seuil de détection = 0,028 ng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1266480" y="28926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85840" y="4457880"/>
            <a:ext cx="55245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591640" y="76320"/>
            <a:ext cx="394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NOLISA Ag HBs UL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000" y="468360"/>
            <a:ext cx="254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ocoles ag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6320" y="849240"/>
            <a:ext cx="327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h 30 et 2 h 30  à 37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17720" y="1477800"/>
            <a:ext cx="5191200" cy="3038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17720" y="1477800"/>
            <a:ext cx="1440" cy="3038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81360" y="4516560"/>
            <a:ext cx="36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81360" y="4241880"/>
            <a:ext cx="3636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81360" y="3968640"/>
            <a:ext cx="36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81360" y="3678120"/>
            <a:ext cx="3636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3408480"/>
            <a:ext cx="36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81360" y="3133800"/>
            <a:ext cx="3636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81360" y="2860560"/>
            <a:ext cx="36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81360" y="2589120"/>
            <a:ext cx="36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81360" y="2314440"/>
            <a:ext cx="3636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81360" y="2025720"/>
            <a:ext cx="36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81360" y="1751040"/>
            <a:ext cx="3636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81360" y="1477800"/>
            <a:ext cx="36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17720" y="4516560"/>
            <a:ext cx="5191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917720" y="4516200"/>
            <a:ext cx="1440" cy="5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070080" y="4516200"/>
            <a:ext cx="180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222800" y="451620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375160" y="4516200"/>
            <a:ext cx="180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527880" y="451620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97680" y="207648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3720" y="286056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32480" y="3168720"/>
            <a:ext cx="11880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62240" y="344016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93920" y="374796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62120" y="405432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16160" y="4226040"/>
            <a:ext cx="119160" cy="11880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41560" y="429264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57320" y="432756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97680" y="144612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03720" y="2451240"/>
            <a:ext cx="119160" cy="11880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32480" y="2793960"/>
            <a:ext cx="11880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62240" y="318456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93920" y="3578400"/>
            <a:ext cx="119160" cy="11880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62120" y="395280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16160" y="417348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41560" y="427680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57320" y="434664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004840" y="4020840"/>
            <a:ext cx="632160" cy="376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637000" y="3661920"/>
            <a:ext cx="631800" cy="358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268800" y="3303720"/>
            <a:ext cx="631800" cy="3585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900600" y="2944440"/>
            <a:ext cx="631800" cy="3589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532400" y="2589120"/>
            <a:ext cx="631800" cy="355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164200" y="2211120"/>
            <a:ext cx="631800" cy="377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796000" y="1855800"/>
            <a:ext cx="619200" cy="3556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415200" y="1495080"/>
            <a:ext cx="631800" cy="360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004840" y="4106520"/>
            <a:ext cx="632160" cy="2905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637000" y="3833280"/>
            <a:ext cx="631800" cy="27324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268800" y="3543480"/>
            <a:ext cx="631800" cy="2901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900600" y="3269880"/>
            <a:ext cx="631800" cy="27324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532400" y="2979360"/>
            <a:ext cx="631800" cy="2905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164200" y="2688840"/>
            <a:ext cx="631800" cy="2905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796000" y="2416320"/>
            <a:ext cx="619200" cy="2728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415200" y="2125440"/>
            <a:ext cx="631800" cy="2905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44200" y="4397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44200" y="4122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44200" y="384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4420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44200" y="3287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1120" y="3014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1120" y="2739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71120" y="2468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71120" y="2195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1120" y="1905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71120" y="1631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1120" y="1360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1320" y="4670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83680" y="4670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34600" y="4670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87320" y="4670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,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39680" y="46702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,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61040" y="5027760"/>
            <a:ext cx="24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entration  Ag HBs ng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16200000">
            <a:off x="1179000" y="2912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35280" y="5418000"/>
            <a:ext cx="5027400" cy="1049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97160" y="5646600"/>
            <a:ext cx="119160" cy="119160"/>
          </a:xfrm>
          <a:prstGeom prst="ellipse">
            <a:avLst/>
          </a:prstGeom>
          <a:solidFill>
            <a:srgbClr val="66ff33"/>
          </a:solidFill>
          <a:ln w="11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00920" y="5594400"/>
            <a:ext cx="332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e agité 1h30 : 0,028 ng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06520" y="6053040"/>
            <a:ext cx="119160" cy="119160"/>
          </a:xfrm>
          <a:prstGeom prst="ellipse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00920" y="6012000"/>
            <a:ext cx="332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e agité 2h30 : 0,020 ng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5240" y="1762200"/>
            <a:ext cx="4041720" cy="4056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05240" y="1762200"/>
            <a:ext cx="1440" cy="4056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62040" y="5818320"/>
            <a:ext cx="43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5141880"/>
            <a:ext cx="43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62040" y="4465800"/>
            <a:ext cx="43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62040" y="3790800"/>
            <a:ext cx="43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62040" y="3114720"/>
            <a:ext cx="43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62040" y="2438280"/>
            <a:ext cx="43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62040" y="1762200"/>
            <a:ext cx="43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5818320"/>
            <a:ext cx="40417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50524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08304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659040" y="5818320"/>
            <a:ext cx="180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3720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81500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39280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96916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546960" y="5818320"/>
            <a:ext cx="1440" cy="41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2400" y="5597640"/>
            <a:ext cx="93960" cy="93600"/>
          </a:xfrm>
          <a:custGeom>
            <a:avLst/>
            <a:gdLst/>
            <a:ahLst/>
            <a:rect l="l" t="t" r="r" b="b"/>
            <a:pathLst>
              <a:path w="72" h="72">
                <a:moveTo>
                  <a:pt x="36" y="0"/>
                </a:moveTo>
                <a:lnTo>
                  <a:pt x="72" y="36"/>
                </a:lnTo>
                <a:lnTo>
                  <a:pt x="36" y="72"/>
                </a:lnTo>
                <a:lnTo>
                  <a:pt x="0" y="36"/>
                </a:lnTo>
                <a:lnTo>
                  <a:pt x="36" y="0"/>
                </a:lnTo>
                <a:close/>
              </a:path>
            </a:pathLst>
          </a:custGeom>
          <a:solidFill>
            <a:srgbClr val="00ffff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84640" y="5078520"/>
            <a:ext cx="93600" cy="93600"/>
          </a:xfrm>
          <a:custGeom>
            <a:avLst/>
            <a:gdLst/>
            <a:ahLst/>
            <a:rect l="l" t="t" r="r" b="b"/>
            <a:pathLst>
              <a:path w="72" h="72">
                <a:moveTo>
                  <a:pt x="36" y="0"/>
                </a:moveTo>
                <a:lnTo>
                  <a:pt x="72" y="36"/>
                </a:lnTo>
                <a:lnTo>
                  <a:pt x="36" y="72"/>
                </a:lnTo>
                <a:lnTo>
                  <a:pt x="0" y="36"/>
                </a:lnTo>
                <a:lnTo>
                  <a:pt x="36" y="0"/>
                </a:lnTo>
                <a:close/>
              </a:path>
            </a:pathLst>
          </a:custGeom>
          <a:solidFill>
            <a:srgbClr val="00ffff"/>
          </a:solidFill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35600" y="4064040"/>
            <a:ext cx="93600" cy="93600"/>
          </a:xfrm>
          <a:custGeom>
            <a:avLst/>
            <a:gdLst/>
            <a:ahLst/>
            <a:rect l="l" t="t" r="r" b="b"/>
            <a:pathLst>
              <a:path w="72" h="72">
                <a:moveTo>
                  <a:pt x="36" y="0"/>
                </a:moveTo>
                <a:lnTo>
                  <a:pt x="72" y="36"/>
                </a:lnTo>
                <a:lnTo>
                  <a:pt x="36" y="72"/>
                </a:lnTo>
                <a:lnTo>
                  <a:pt x="0" y="36"/>
                </a:lnTo>
                <a:lnTo>
                  <a:pt x="36" y="0"/>
                </a:lnTo>
                <a:close/>
              </a:path>
            </a:pathLst>
          </a:custGeom>
          <a:solidFill>
            <a:srgbClr val="00ffff"/>
          </a:solidFill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89400" y="3286080"/>
            <a:ext cx="93960" cy="93600"/>
          </a:xfrm>
          <a:custGeom>
            <a:avLst/>
            <a:gdLst/>
            <a:ahLst/>
            <a:rect l="l" t="t" r="r" b="b"/>
            <a:pathLst>
              <a:path w="72" h="73">
                <a:moveTo>
                  <a:pt x="36" y="0"/>
                </a:moveTo>
                <a:lnTo>
                  <a:pt x="72" y="37"/>
                </a:lnTo>
                <a:lnTo>
                  <a:pt x="36" y="73"/>
                </a:lnTo>
                <a:lnTo>
                  <a:pt x="0" y="37"/>
                </a:lnTo>
                <a:lnTo>
                  <a:pt x="36" y="0"/>
                </a:lnTo>
                <a:close/>
              </a:path>
            </a:pathLst>
          </a:custGeom>
          <a:solidFill>
            <a:srgbClr val="00ffff"/>
          </a:solidFill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5880" y="2286000"/>
            <a:ext cx="93960" cy="93600"/>
          </a:xfrm>
          <a:custGeom>
            <a:avLst/>
            <a:gdLst/>
            <a:ahLst/>
            <a:rect l="l" t="t" r="r" b="b"/>
            <a:pathLst>
              <a:path w="72" h="72">
                <a:moveTo>
                  <a:pt x="36" y="0"/>
                </a:moveTo>
                <a:lnTo>
                  <a:pt x="72" y="36"/>
                </a:lnTo>
                <a:lnTo>
                  <a:pt x="36" y="72"/>
                </a:lnTo>
                <a:lnTo>
                  <a:pt x="0" y="36"/>
                </a:lnTo>
                <a:lnTo>
                  <a:pt x="36" y="0"/>
                </a:lnTo>
                <a:close/>
              </a:path>
            </a:pathLst>
          </a:custGeom>
          <a:solidFill>
            <a:srgbClr val="00ffff"/>
          </a:solidFill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549520" y="2312640"/>
            <a:ext cx="3592440" cy="35053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19560" y="457200"/>
            <a:ext cx="601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élation entre le nombre de copies/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14880" y="838080"/>
            <a:ext cx="433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t la concentration en Ag H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4880" y="5738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94480" y="50626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94480" y="43862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94480" y="37116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94480" y="30351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16000" y="235908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6000" y="16826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6952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4732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2368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0148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7928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44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3344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411240" y="593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88760" y="6272280"/>
            <a:ext cx="242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oncentration ng/ml Ag H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00000">
            <a:off x="1318680" y="360720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pies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444600" y="312840"/>
            <a:ext cx="8315280" cy="5901480"/>
            <a:chOff x="444600" y="312840"/>
            <a:chExt cx="8315280" cy="5901480"/>
          </a:xfrm>
        </p:grpSpPr>
        <p:sp>
          <p:nvSpPr>
            <p:cNvPr id="523" name=""/>
            <p:cNvSpPr/>
            <p:nvPr/>
          </p:nvSpPr>
          <p:spPr>
            <a:xfrm>
              <a:off x="444600" y="312840"/>
              <a:ext cx="831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Nombre de copies VHB/ml détecté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à 0,02 ng/ml (2 h 30 agité) et 0,03 ng/ml (1 h 30 agité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67680" y="264312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 0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93920" y="1287360"/>
              <a:ext cx="5581800" cy="43466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93920" y="1287360"/>
              <a:ext cx="1440" cy="4346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62240" y="5634000"/>
              <a:ext cx="1908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62240" y="4902120"/>
              <a:ext cx="19080" cy="6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62240" y="4173480"/>
              <a:ext cx="1908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62240" y="3476520"/>
              <a:ext cx="19080" cy="6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62240" y="2746440"/>
              <a:ext cx="1908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74840" y="2016000"/>
              <a:ext cx="19080" cy="6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2240" y="1287360"/>
              <a:ext cx="19080" cy="5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93920" y="5634000"/>
              <a:ext cx="558180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93920" y="5633640"/>
              <a:ext cx="144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132000" y="5633640"/>
              <a:ext cx="180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970440" y="5633640"/>
              <a:ext cx="144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4808520" y="5633640"/>
              <a:ext cx="144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646600" y="5633640"/>
              <a:ext cx="180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475320" y="5633640"/>
              <a:ext cx="180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313760" y="5633640"/>
              <a:ext cx="1440" cy="65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32000" y="5400720"/>
              <a:ext cx="9720" cy="23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32000" y="5035680"/>
              <a:ext cx="9720" cy="23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000" y="4670280"/>
              <a:ext cx="9720" cy="2318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32000" y="4307040"/>
              <a:ext cx="9720" cy="2314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32000" y="3940200"/>
              <a:ext cx="9720" cy="23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32000" y="3576600"/>
              <a:ext cx="9720" cy="2304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32000" y="3211560"/>
              <a:ext cx="9720" cy="2318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2000" y="2844720"/>
              <a:ext cx="9720" cy="23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32000" y="2481120"/>
              <a:ext cx="9720" cy="2336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32000" y="2116080"/>
              <a:ext cx="9720" cy="23184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32000" y="1749600"/>
              <a:ext cx="9720" cy="23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32000" y="1386000"/>
              <a:ext cx="9720" cy="2332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41640" y="4703760"/>
              <a:ext cx="93960" cy="936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0760" y="2481120"/>
              <a:ext cx="93600" cy="939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522520" y="1287360"/>
              <a:ext cx="5018040" cy="4346640"/>
            </a:xfrm>
            <a:prstGeom prst="line">
              <a:avLst/>
            </a:prstGeom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37600" y="553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22040" y="4803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29520" y="4073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 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48600" y="33764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48600" y="19177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48600" y="1187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4884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2544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ff33"/>
                  </a:solidFill>
                  <a:latin typeface="Arial"/>
                </a:rPr>
                <a:t>0,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2536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6344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0188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060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6868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49800" y="6000840"/>
              <a:ext cx="173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centration ng/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13040" y="5035680"/>
              <a:ext cx="3715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54240" y="4979880"/>
              <a:ext cx="104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ff33"/>
                  </a:solidFill>
                  <a:latin typeface="Arial"/>
                </a:rPr>
                <a:t>366 copies/m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000">
              <a:off x="1147320" y="3299400"/>
              <a:ext cx="85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pies/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4840" y="5102280"/>
              <a:ext cx="5610240" cy="0"/>
            </a:xfrm>
            <a:prstGeom prst="line">
              <a:avLst/>
            </a:prstGeom>
            <a:ln w="19080">
              <a:solidFill>
                <a:srgbClr val="66ff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876400" y="1294920"/>
              <a:ext cx="0" cy="433404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86000" y="5334120"/>
              <a:ext cx="55720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63960" y="5237280"/>
              <a:ext cx="104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 copies/m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82360" y="5751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,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95288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1562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9320" y="48420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19320" y="545148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6688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286000" y="3013200"/>
            <a:ext cx="3048120" cy="3047400"/>
            <a:chOff x="2286000" y="3013200"/>
            <a:chExt cx="3048120" cy="3047400"/>
          </a:xfrm>
        </p:grpSpPr>
        <p:sp>
          <p:nvSpPr>
            <p:cNvPr id="585" name=""/>
            <p:cNvSpPr/>
            <p:nvPr/>
          </p:nvSpPr>
          <p:spPr>
            <a:xfrm>
              <a:off x="2362320" y="3013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48320" y="3013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0" y="3470040"/>
              <a:ext cx="762120" cy="2590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72000" y="3470040"/>
              <a:ext cx="762120" cy="25905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219320" y="803160"/>
            <a:ext cx="0" cy="5257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19320" y="6060960"/>
            <a:ext cx="6705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74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62320" y="613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137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613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613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69840"/>
            <a:ext cx="1218960" cy="60948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bd06982_" descr=""/>
          <p:cNvPicPr/>
          <p:nvPr/>
        </p:nvPicPr>
        <p:blipFill>
          <a:blip r:embed="rId1"/>
          <a:stretch/>
        </p:blipFill>
        <p:spPr>
          <a:xfrm>
            <a:off x="7701120" y="142920"/>
            <a:ext cx="909360" cy="4381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2743200" y="613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Sorts"/>
                <a:ea typeface="Monotype Sorts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05320" y="613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Sorts"/>
                <a:ea typeface="Monotype Sorts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67080" y="6137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Monotype Sorts"/>
                <a:ea typeface="Monotype Sorts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8108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7712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38880" y="87948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924680" y="879480"/>
            <a:ext cx="0" cy="5181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19320" y="34704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19320" y="278460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9320" y="217476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1488960"/>
            <a:ext cx="670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9320" y="879480"/>
            <a:ext cx="6705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5680" y="146160"/>
            <a:ext cx="1219320" cy="60948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22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46160"/>
            <a:ext cx="10666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572000" y="145800"/>
            <a:ext cx="10666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-98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19920" y="69840"/>
            <a:ext cx="1218960" cy="68580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127920" y="154080"/>
            <a:ext cx="10666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127920" y="153720"/>
            <a:ext cx="1066680" cy="609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nel n° 6278 (BioClinical Partners In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143000"/>
            <a:ext cx="0" cy="4876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5867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590560"/>
            <a:ext cx="0" cy="34290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90920" y="2666880"/>
            <a:ext cx="0" cy="3353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143000"/>
            <a:ext cx="8229600" cy="76212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2193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GV AmpliScreen HBV (1/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905120"/>
            <a:ext cx="7010280" cy="76176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117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HBs Abbott 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143000"/>
            <a:ext cx="609480" cy="76212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905120"/>
            <a:ext cx="1828800" cy="76176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038480"/>
            <a:ext cx="12193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58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nel n° 6283 (BioClinical Partners In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143000"/>
            <a:ext cx="0" cy="4876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5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5867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24280" y="2666880"/>
            <a:ext cx="0" cy="3353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143000"/>
            <a:ext cx="4876920" cy="76212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2193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GV AmpliScreen HBV (1/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905120"/>
            <a:ext cx="4876920" cy="76176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117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HBs Abbott 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 = 0,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05120"/>
            <a:ext cx="3962160" cy="76176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143000"/>
            <a:ext cx="3962160" cy="76212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nel n° 6287 (BioClinical Partners In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143000"/>
            <a:ext cx="0" cy="4876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6019920"/>
            <a:ext cx="7772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60199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6172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5867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724280" y="2666880"/>
            <a:ext cx="0" cy="3353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143000"/>
            <a:ext cx="4876920" cy="76212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2193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GV AmpliScreen HBV (1/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905120"/>
            <a:ext cx="4876920" cy="761760"/>
          </a:xfrm>
          <a:prstGeom prst="rect">
            <a:avLst/>
          </a:prstGeom>
          <a:solidFill>
            <a:srgbClr val="66ff3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117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 HBs Abbott P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3962160" cy="76176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1143000"/>
            <a:ext cx="3962160" cy="762120"/>
          </a:xfrm>
          <a:prstGeom prst="rect">
            <a:avLst/>
          </a:prstGeom>
          <a:solidFill>
            <a:srgbClr val="ff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07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g HBs, anti-HBc, ADN VHB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17600" y="4257720"/>
            <a:ext cx="83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M. MANIEZ-MONTREU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Laboratoire CQFD en Virologie - E.F.S. Nord de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Site de L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2263680"/>
            <a:ext cx="3504960" cy="914400"/>
          </a:xfrm>
          <a:prstGeom prst="hexagon">
            <a:avLst>
              <a:gd name="adj" fmla="val 95827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25336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g HBs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9576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4240" y="39466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B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ADN VHB + Ag H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/8 ou 1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22552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49876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N VHB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8 ou 1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69576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398160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N VHB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304920"/>
            <a:ext cx="8001000" cy="1447560"/>
          </a:xfrm>
          <a:prstGeom prst="hexagon">
            <a:avLst>
              <a:gd name="adj" fmla="val 138181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mi ces couples, lequel vous semble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perform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2733840"/>
            <a:ext cx="5335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4191120"/>
            <a:ext cx="6094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0" y="2733840"/>
            <a:ext cx="9907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0" y="4191120"/>
            <a:ext cx="9907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2733840"/>
            <a:ext cx="6858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58200" y="4191120"/>
            <a:ext cx="6858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-360" y="1028880"/>
            <a:ext cx="6094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0480" y="1038240"/>
            <a:ext cx="5335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90720" y="2263680"/>
            <a:ext cx="3504960" cy="914400"/>
          </a:xfrm>
          <a:prstGeom prst="hexagon">
            <a:avLst>
              <a:gd name="adj" fmla="val 95827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74760" y="2533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g HBs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69576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222552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369576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398160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N VHB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04920"/>
            <a:ext cx="8001000" cy="1447560"/>
          </a:xfrm>
          <a:prstGeom prst="hexagon">
            <a:avLst>
              <a:gd name="adj" fmla="val 138181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mi ces couples, lequel vous semble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perform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733840"/>
            <a:ext cx="5335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4191120"/>
            <a:ext cx="6094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2724120"/>
            <a:ext cx="9907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0" y="4191120"/>
            <a:ext cx="9907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58200" y="2733840"/>
            <a:ext cx="6858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8200" y="4191120"/>
            <a:ext cx="6858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028880"/>
            <a:ext cx="6094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1028880"/>
            <a:ext cx="5335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5757840"/>
            <a:ext cx="1219320" cy="60948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834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2263680"/>
            <a:ext cx="3504960" cy="914400"/>
          </a:xfrm>
          <a:prstGeom prst="hexagon">
            <a:avLst>
              <a:gd name="adj" fmla="val 95827"/>
              <a:gd name="vf" fmla="val 115470"/>
            </a:avLst>
          </a:prstGeom>
          <a:solidFill>
            <a:srgbClr val="ff66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6200" y="25081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: Ag HBs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369576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22552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695760"/>
            <a:ext cx="3429000" cy="990720"/>
          </a:xfrm>
          <a:prstGeom prst="hexagon">
            <a:avLst>
              <a:gd name="adj" fmla="val 86528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62400" y="399420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N VHB + anti-H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8001000" cy="1447560"/>
          </a:xfrm>
          <a:prstGeom prst="hexagon">
            <a:avLst>
              <a:gd name="adj" fmla="val 138181"/>
              <a:gd name="vf" fmla="val 115470"/>
            </a:avLst>
          </a:prstGeom>
          <a:solidFill>
            <a:srgbClr val="000000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mi ces couples, lequel vous semble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perform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2733840"/>
            <a:ext cx="5335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4191120"/>
            <a:ext cx="6094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0" y="2724120"/>
            <a:ext cx="9907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0" y="4191120"/>
            <a:ext cx="9907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2733840"/>
            <a:ext cx="6858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4191120"/>
            <a:ext cx="68580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038240"/>
            <a:ext cx="60948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10480" y="1038240"/>
            <a:ext cx="533520" cy="0"/>
          </a:xfrm>
          <a:prstGeom prst="line">
            <a:avLst/>
          </a:prstGeom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848200"/>
            <a:ext cx="1218960" cy="60984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5924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5848200"/>
            <a:ext cx="106704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67080" y="5848200"/>
            <a:ext cx="106704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56037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5772240"/>
            <a:ext cx="1219320" cy="685800"/>
          </a:xfrm>
          <a:prstGeom prst="ellipse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97160" y="496800"/>
            <a:ext cx="62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t si le meilleur couple était le co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05080" y="938160"/>
            <a:ext cx="62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dèle depuis 1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400" y="3672000"/>
            <a:ext cx="40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06840" y="36590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us spécif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05080" y="2300400"/>
            <a:ext cx="6281640" cy="1336680"/>
            <a:chOff x="1405080" y="2300400"/>
            <a:chExt cx="6281640" cy="1336680"/>
          </a:xfrm>
        </p:grpSpPr>
        <p:sp>
          <p:nvSpPr>
            <p:cNvPr id="238" name=""/>
            <p:cNvSpPr/>
            <p:nvPr/>
          </p:nvSpPr>
          <p:spPr>
            <a:xfrm>
              <a:off x="1405080" y="2300400"/>
              <a:ext cx="62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g HB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en-US" sz="2400" spc="-1" strike="noStrike">
                  <a:solidFill>
                    <a:srgbClr val="cc66ff"/>
                  </a:solidFill>
                  <a:latin typeface="Arial"/>
                </a:rPr>
                <a:t>Anti-H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782800" y="2843280"/>
              <a:ext cx="143208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1680" y="2882880"/>
              <a:ext cx="1451160" cy="714240"/>
            </a:xfrm>
            <a:prstGeom prst="line">
              <a:avLst/>
            </a:prstGeom>
            <a:ln w="1908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6:40:04Z</dcterms:created>
  <dc:creator>ICOVIN</dc:creator>
  <dc:description/>
  <dc:language>en-US</dc:language>
  <cp:lastModifiedBy>ICOVIN</cp:lastModifiedBy>
  <dcterms:modified xsi:type="dcterms:W3CDTF">2004-05-26T14:24:12Z</dcterms:modified>
  <cp:revision>16</cp:revision>
  <dc:subject/>
  <dc:title>Présentation PowerPoint</dc:title>
</cp:coreProperties>
</file>