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F3E-E279-4795-B44F-A25EEBC0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7E6-49F9-4EC6-8100-40C5FBB3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048-BFC8-4026-AA09-E6559EF2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05B-12CE-4735-8DA8-1F5F23A4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123-FD3D-400B-818C-BCCAB8DA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BCC-6ADB-4E85-BC22-FF4A90EF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5F2-531E-4C27-9CAA-AF4DA7B7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69D-5AF0-4F70-B6BD-D87A1C0A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FFB-E3C1-432E-BC16-2F8CDAC1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BAE-ED69-4F7F-B661-1BE61EA7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6F1-33F9-4861-B15F-01373C13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5E04-5A22-4362-8BF0-340B0FFB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E51E-B2FD-4EDF-A41F-93F5A77DF51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rêt de l’immunoblot dans le diagnostic de l’infection VHC – Critères de bon u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9000" y="6541920"/>
            <a:ext cx="33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oque de virologie de Versailles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371600" cy="620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4529160"/>
            <a:ext cx="518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cal MOR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, Michèle MANIEZ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ablissement Français du s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Bourgogne Franche Comté – Dij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 Nord de France - L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9528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pprécier le stade de l’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ébut d’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pport de l’immunob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4537080" cy="4653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3478320" cy="709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348000" y="2997360"/>
            <a:ext cx="0" cy="3024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2997360"/>
            <a:ext cx="0" cy="3024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43280" y="3068640"/>
            <a:ext cx="0" cy="302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9640" y="3573360"/>
            <a:ext cx="0" cy="2519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0A4-3217-4D64-9A39-8BDD1B7378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9528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Apprécier le stade de l’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Guérison (sérorév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pport de l’immunob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410080" cy="41878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2975040" cy="709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154200" y="623736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99"/>
                </a:solidFill>
                <a:latin typeface="Arial"/>
              </a:rPr>
              <a:t>F.Dubois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56360" y="3429000"/>
            <a:ext cx="79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198-803B-401E-842E-1C058349A9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9528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pprécier le stade de l’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é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pport de l’immunob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2212920"/>
            <a:ext cx="5335560" cy="12668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808360" cy="709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17840" y="65833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99"/>
                </a:solidFill>
                <a:latin typeface="Arial"/>
              </a:rPr>
              <a:t>F.Dubois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3228840" cy="243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395280" y="3716280"/>
            <a:ext cx="5616720" cy="228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324000" y="4005360"/>
            <a:ext cx="5545080" cy="1944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468360" y="6381720"/>
            <a:ext cx="5472000" cy="203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rot="5400000">
            <a:off x="4787640" y="1412640"/>
            <a:ext cx="144360" cy="1871640"/>
          </a:xfrm>
          <a:custGeom>
            <a:avLst/>
            <a:gdLst>
              <a:gd name="textAreaLeft" fmla="*/ 92160 w 144360"/>
              <a:gd name="textAreaRight" fmla="*/ 144360 w 1443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35280" y="2133720"/>
            <a:ext cx="1944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68360" y="6021360"/>
            <a:ext cx="5400720" cy="287280"/>
            <a:chOff x="468360" y="6021360"/>
            <a:chExt cx="5400720" cy="287280"/>
          </a:xfrm>
        </p:grpSpPr>
        <p:pic>
          <p:nvPicPr>
            <p:cNvPr id="268" name="" descr=""/>
            <p:cNvPicPr/>
            <p:nvPr/>
          </p:nvPicPr>
          <p:blipFill>
            <a:blip r:embed="rId7"/>
            <a:stretch/>
          </p:blipFill>
          <p:spPr>
            <a:xfrm>
              <a:off x="468360" y="6021360"/>
              <a:ext cx="5400720" cy="2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835280" y="6021360"/>
              <a:ext cx="208908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D31F-3476-47B8-966F-CC240F85EF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9528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specter une infection chro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pport de l’immunob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72000" y="6381720"/>
            <a:ext cx="205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99"/>
                </a:solidFill>
                <a:latin typeface="Arial"/>
              </a:rPr>
              <a:t>M.Maniez, F.Dubois, SF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052720" y="5013360"/>
          <a:ext cx="3743280" cy="11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5013360"/>
                    <a:ext cx="374328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547640" y="2060640"/>
          <a:ext cx="4256280" cy="1251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060640"/>
                    <a:ext cx="425628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796000" y="2131920"/>
            <a:ext cx="87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 Antiqua"/>
              </a:rPr>
              <a:t>+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72240" y="2276640"/>
            <a:ext cx="81252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Book Antiqua"/>
              </a:rPr>
              <a:t>anti-NS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 u="sng">
                <a:solidFill>
                  <a:srgbClr val="333399"/>
                </a:solidFill>
                <a:uFillTx/>
                <a:latin typeface="Book Antiqua"/>
              </a:rPr>
              <a:t>anti-NS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 u="sng">
                <a:solidFill>
                  <a:srgbClr val="333399"/>
                </a:solidFill>
                <a:uFillTx/>
                <a:latin typeface="Book Antiqua"/>
              </a:rPr>
              <a:t>anti-Capsi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Book Antiqua"/>
              </a:rPr>
              <a:t>anti-NS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Book Antiqua"/>
              </a:rPr>
              <a:t>anti-S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69080" y="3068640"/>
            <a:ext cx="27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 Antiqu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052720" y="3500280"/>
          <a:ext cx="3751200" cy="1227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2720" y="3500280"/>
                    <a:ext cx="375120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5796000" y="3571920"/>
            <a:ext cx="87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 Antiqua"/>
              </a:rPr>
              <a:t>+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72240" y="3716280"/>
            <a:ext cx="81252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Book Antiqua"/>
              </a:rPr>
              <a:t>anti-NS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 u="sng">
                <a:solidFill>
                  <a:srgbClr val="333399"/>
                </a:solidFill>
                <a:uFillTx/>
                <a:latin typeface="Book Antiqua"/>
              </a:rPr>
              <a:t>anti-NS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 u="sng">
                <a:solidFill>
                  <a:srgbClr val="333399"/>
                </a:solidFill>
                <a:uFillTx/>
                <a:latin typeface="Book Antiqua"/>
              </a:rPr>
              <a:t>anti-Capsi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Book Antiqua"/>
              </a:rPr>
              <a:t>anti-NS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Book Antiqua"/>
              </a:rPr>
              <a:t>anti-S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69080" y="4437000"/>
            <a:ext cx="27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 Antiqu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5084640"/>
            <a:ext cx="87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 Antiqua"/>
              </a:rPr>
              <a:t>+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72240" y="5229360"/>
            <a:ext cx="81252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Book Antiqua"/>
              </a:rPr>
              <a:t>anti-NS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 u="sng">
                <a:solidFill>
                  <a:srgbClr val="333399"/>
                </a:solidFill>
                <a:uFillTx/>
                <a:latin typeface="Book Antiqua"/>
              </a:rPr>
              <a:t>anti-NS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 u="sng">
                <a:solidFill>
                  <a:srgbClr val="333399"/>
                </a:solidFill>
                <a:uFillTx/>
                <a:latin typeface="Book Antiqua"/>
              </a:rPr>
              <a:t>anti-Capsi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Book Antiqua"/>
              </a:rPr>
              <a:t>anti-NS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Book Antiqua"/>
              </a:rPr>
              <a:t>anti-S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869080" y="5950080"/>
            <a:ext cx="27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 Antiqu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8920" y="2008080"/>
            <a:ext cx="2756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s associés à 90% à une virémi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faveur d’une Infection Chro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88000" y="3357720"/>
            <a:ext cx="27561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s associés à 10% à une virémi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éroconversion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érison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ection Chroniqu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427280" y="3357720"/>
            <a:ext cx="482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356000" y="4869000"/>
            <a:ext cx="48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88000" y="4869000"/>
            <a:ext cx="2756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éroconversion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érison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ection Chron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88000" y="5589720"/>
            <a:ext cx="19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588000" y="551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8360" y="17208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8000" y="23684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7080" y="3933720"/>
            <a:ext cx="9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7080" y="5229360"/>
            <a:ext cx="9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5AC-BE77-4373-94B8-714EB2B523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itères d’interprétation rév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3080" y="2781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ég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1440" y="335772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étermi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0000" y="393372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f prob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0720" y="44370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8200" y="270972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3213000"/>
            <a:ext cx="77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4365720"/>
            <a:ext cx="77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8200" y="48704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82920" y="249408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56000" y="285444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b &gt;1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35120" y="3233880"/>
            <a:ext cx="18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seul b &gt; 1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28000" y="443556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 moins 2 b &gt;1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249408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43640" y="2708280"/>
            <a:ext cx="179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b visualisée ou 1                          (sauf NS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98920" y="285444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b visualis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72360" y="249408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15280" y="249408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56000" y="321300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seul b visualisée ou 2 b visualisées sur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98920" y="386244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 b (2 gènes dif)  = 0.5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8920" y="436572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 b (2 gènes dif)  &gt; 0.5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1280" y="3789360"/>
            <a:ext cx="77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8200" y="270972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54200" y="2349360"/>
            <a:ext cx="17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A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7640" y="234936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CAN HCV PLUS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70560" y="2349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NO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72360" y="443700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b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525800" y="4365720"/>
            <a:ext cx="315000" cy="368280"/>
            <a:chOff x="7525800" y="4365720"/>
            <a:chExt cx="315000" cy="368280"/>
          </a:xfrm>
        </p:grpSpPr>
        <p:sp>
          <p:nvSpPr>
            <p:cNvPr id="330" name=""/>
            <p:cNvSpPr/>
            <p:nvPr/>
          </p:nvSpPr>
          <p:spPr>
            <a:xfrm>
              <a:off x="7525800" y="4365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16880" y="46335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8029080" y="2637000"/>
            <a:ext cx="315000" cy="368280"/>
            <a:chOff x="8029080" y="2637000"/>
            <a:chExt cx="315000" cy="368280"/>
          </a:xfrm>
        </p:grpSpPr>
        <p:sp>
          <p:nvSpPr>
            <p:cNvPr id="333" name=""/>
            <p:cNvSpPr/>
            <p:nvPr/>
          </p:nvSpPr>
          <p:spPr>
            <a:xfrm>
              <a:off x="8029080" y="2637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20160" y="29048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6300720" y="3213000"/>
            <a:ext cx="215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seul 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≥1+ 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S3       isol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165440" y="3357720"/>
            <a:ext cx="315000" cy="368280"/>
            <a:chOff x="7165440" y="3357720"/>
            <a:chExt cx="315000" cy="368280"/>
          </a:xfrm>
        </p:grpSpPr>
        <p:sp>
          <p:nvSpPr>
            <p:cNvPr id="337" name=""/>
            <p:cNvSpPr/>
            <p:nvPr/>
          </p:nvSpPr>
          <p:spPr>
            <a:xfrm>
              <a:off x="7165440" y="3357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56520" y="36255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826920" y="501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0000" y="4869000"/>
            <a:ext cx="462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Plus de prise en compte de la spécificité des 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4A4-0464-4EB0-86E3-B903F9AE7E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ratégie propos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1440" y="2205000"/>
            <a:ext cx="19429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antillon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sa (T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00360" y="2708280"/>
            <a:ext cx="2087640" cy="576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 répé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"/>
          <p:cNvCxnSpPr>
            <a:stCxn id="344" idx="3"/>
            <a:endCxn id="345" idx="0"/>
          </p:cNvCxnSpPr>
          <p:nvPr/>
        </p:nvCxnSpPr>
        <p:spPr>
          <a:xfrm>
            <a:off x="2484360" y="2493720"/>
            <a:ext cx="1261440" cy="214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45" idx="3"/>
            <a:endCxn id="348" idx="0"/>
          </p:cNvCxnSpPr>
          <p:nvPr/>
        </p:nvCxnSpPr>
        <p:spPr>
          <a:xfrm>
            <a:off x="4788000" y="2997000"/>
            <a:ext cx="82944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"/>
          <p:cNvSpPr/>
          <p:nvPr/>
        </p:nvSpPr>
        <p:spPr>
          <a:xfrm>
            <a:off x="5003640" y="335772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égatif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89800" y="2852640"/>
            <a:ext cx="461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00360" y="3500280"/>
            <a:ext cx="208764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vel 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"/>
          <p:cNvCxnSpPr>
            <a:stCxn id="345" idx="2"/>
            <a:endCxn id="350" idx="0"/>
          </p:cNvCxnSpPr>
          <p:nvPr/>
        </p:nvCxnSpPr>
        <p:spPr>
          <a:xfrm flipV="1" rot="10800000">
            <a:off x="3744360" y="3284280"/>
            <a:ext cx="1080" cy="21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2700360" y="4076640"/>
            <a:ext cx="208764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munob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50" idx="2"/>
            <a:endCxn id="352" idx="0"/>
          </p:cNvCxnSpPr>
          <p:nvPr/>
        </p:nvCxnSpPr>
        <p:spPr>
          <a:xfrm flipV="1" rot="10800000">
            <a:off x="3744360" y="3858840"/>
            <a:ext cx="1080" cy="218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2269440" y="3355920"/>
            <a:ext cx="418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700360" y="5661000"/>
            <a:ext cx="2087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éterminé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9640" y="4581360"/>
            <a:ext cx="194328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f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73440" y="4581360"/>
            <a:ext cx="1944720" cy="64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lot N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"/>
          <p:cNvCxnSpPr>
            <a:stCxn id="352" idx="2"/>
            <a:endCxn id="357" idx="0"/>
          </p:cNvCxnSpPr>
          <p:nvPr/>
        </p:nvCxnSpPr>
        <p:spPr>
          <a:xfrm flipH="1" rot="16200000">
            <a:off x="3672720" y="4507200"/>
            <a:ext cx="1465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57" idx="2"/>
            <a:endCxn id="355" idx="0"/>
          </p:cNvCxnSpPr>
          <p:nvPr/>
        </p:nvCxnSpPr>
        <p:spPr>
          <a:xfrm rot="5400000">
            <a:off x="3529440" y="5444280"/>
            <a:ext cx="432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57" idx="1"/>
            <a:endCxn id="356" idx="3"/>
          </p:cNvCxnSpPr>
          <p:nvPr/>
        </p:nvCxnSpPr>
        <p:spPr>
          <a:xfrm rot="10800000">
            <a:off x="2482200" y="4904640"/>
            <a:ext cx="291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"/>
          <p:cNvSpPr/>
          <p:nvPr/>
        </p:nvSpPr>
        <p:spPr>
          <a:xfrm>
            <a:off x="3708360" y="386064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éla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84720" y="5013360"/>
            <a:ext cx="461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"/>
          <p:cNvCxnSpPr>
            <a:stCxn id="357" idx="3"/>
            <a:endCxn id="348" idx="2"/>
          </p:cNvCxnSpPr>
          <p:nvPr/>
        </p:nvCxnSpPr>
        <p:spPr>
          <a:xfrm flipV="1">
            <a:off x="4718160" y="3933000"/>
            <a:ext cx="899280" cy="97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5004720" y="4724280"/>
            <a:ext cx="418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2492280"/>
            <a:ext cx="2520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: Résultat définitif dépendant du contex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et 3 : Reprise de E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: Poursuite de l’exploration par DGV en fonction des éléments cliniques et du prof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42E-29B4-4481-8F8F-89624F1FFF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333399"/>
                </a:solidFill>
                <a:latin typeface="Arial"/>
              </a:rPr>
              <a:t>L’immunoblot est plus informatif que les tests ELI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333399"/>
                </a:solidFill>
                <a:latin typeface="Arial"/>
              </a:rPr>
              <a:t>Il peut permettre de conclure à une fausse positivité des tests de dépist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333399"/>
                </a:solidFill>
                <a:latin typeface="Arial"/>
              </a:rPr>
              <a:t>Il peut orienter la mise en œuvre du DG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333399"/>
                </a:solidFill>
                <a:latin typeface="Arial"/>
              </a:rPr>
              <a:t>Il contribue à la cohérence de l’ensemble des analyses réalisé au diagnos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333399"/>
                </a:solidFill>
                <a:latin typeface="Arial"/>
              </a:rPr>
              <a:t>Son intérêt dans le diagnostic d’infection chronique peut être minimisé, désormais, par le recours plus facile au DGV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333399"/>
                </a:solidFill>
                <a:latin typeface="Arial"/>
              </a:rPr>
              <a:t>Pour les donneurs de sang, il reste en bonne place dans l’arsenal diagnost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C44-474B-4F2E-9276-8C4BDB9D8E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rou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nc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084400"/>
            <a:ext cx="820728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Révélation de la présence des anticorps spécifiques d’Ag du VHC par technique immunoenzymatique.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Valeur d'un test analytique qualitatif (4 à 6 types d'anticorps détectables) 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Semi-quantitatif (interprétation du signal en nombre de croix à l'aide de témoins d’intensité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B5B-0453-4D34-8152-70DE36D137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rou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é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8360" y="2421000"/>
            <a:ext cx="5256000" cy="431640"/>
            <a:chOff x="468360" y="2421000"/>
            <a:chExt cx="5256000" cy="431640"/>
          </a:xfrm>
        </p:grpSpPr>
        <p:sp>
          <p:nvSpPr>
            <p:cNvPr id="54" name=""/>
            <p:cNvSpPr/>
            <p:nvPr/>
          </p:nvSpPr>
          <p:spPr>
            <a:xfrm>
              <a:off x="468360" y="2421000"/>
              <a:ext cx="5256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682200" y="2314800"/>
              <a:ext cx="21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16000" y="242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47640" y="2421000"/>
              <a:ext cx="144720" cy="43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4000" y="2421000"/>
              <a:ext cx="144360" cy="431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00360" y="2421000"/>
              <a:ext cx="144360" cy="431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76720" y="2421000"/>
              <a:ext cx="144360" cy="431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27640" y="2421000"/>
              <a:ext cx="144360" cy="431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51280" y="2421000"/>
              <a:ext cx="144360" cy="431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03640" y="2421000"/>
              <a:ext cx="144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059280" y="2924280"/>
            <a:ext cx="52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2924280"/>
            <a:ext cx="5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292428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émoin spécific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2924280"/>
            <a:ext cx="530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2920" y="2924280"/>
            <a:ext cx="5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1640" y="1987560"/>
            <a:ext cx="10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ôle d’intens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9" idx="1"/>
            <a:endCxn id="57" idx="0"/>
          </p:cNvCxnSpPr>
          <p:nvPr/>
        </p:nvCxnSpPr>
        <p:spPr>
          <a:xfrm flipV="1" rot="10800000">
            <a:off x="1620000" y="2215080"/>
            <a:ext cx="1151640" cy="2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9" idx="3"/>
            <a:endCxn id="63" idx="0"/>
          </p:cNvCxnSpPr>
          <p:nvPr/>
        </p:nvCxnSpPr>
        <p:spPr>
          <a:xfrm>
            <a:off x="3780000" y="2215800"/>
            <a:ext cx="1297440" cy="2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411640" y="306864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g r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2560" y="306864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g r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1440" y="4221000"/>
            <a:ext cx="5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422100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émoin spécific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65440" y="4221000"/>
            <a:ext cx="5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6360" y="4221000"/>
            <a:ext cx="5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29080" y="33559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ôle d’intens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8" idx="1"/>
            <a:endCxn id="80" idx="0"/>
          </p:cNvCxnSpPr>
          <p:nvPr/>
        </p:nvCxnSpPr>
        <p:spPr>
          <a:xfrm flipV="1" rot="10800000">
            <a:off x="901080" y="3583440"/>
            <a:ext cx="1728000" cy="2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2916720" y="443700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g r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443700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g rec + P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65440" y="4221000"/>
            <a:ext cx="52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68360" y="3789360"/>
            <a:ext cx="5256000" cy="431640"/>
            <a:chOff x="468360" y="3789360"/>
            <a:chExt cx="5256000" cy="431640"/>
          </a:xfrm>
        </p:grpSpPr>
        <p:sp>
          <p:nvSpPr>
            <p:cNvPr id="85" name=""/>
            <p:cNvSpPr/>
            <p:nvPr/>
          </p:nvSpPr>
          <p:spPr>
            <a:xfrm>
              <a:off x="468360" y="3789360"/>
              <a:ext cx="5256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05080" y="3789360"/>
              <a:ext cx="144360" cy="431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1080" y="3789360"/>
              <a:ext cx="144720" cy="431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57440" y="3789360"/>
              <a:ext cx="144360" cy="431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33800" y="3789360"/>
              <a:ext cx="144360" cy="431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08360" y="3789360"/>
              <a:ext cx="144360" cy="431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8720" y="3789360"/>
              <a:ext cx="144360" cy="431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84720" y="3789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132000" y="5734080"/>
            <a:ext cx="5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580716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émoin spécific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5734080"/>
            <a:ext cx="38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5734080"/>
            <a:ext cx="52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9080" y="486720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ôle d’intens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6" idx="1"/>
            <a:endCxn id="98" idx="0"/>
          </p:cNvCxnSpPr>
          <p:nvPr/>
        </p:nvCxnSpPr>
        <p:spPr>
          <a:xfrm flipV="1" rot="10800000">
            <a:off x="1404360" y="5094720"/>
            <a:ext cx="1224720" cy="2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2627280" y="5734080"/>
            <a:ext cx="5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300640"/>
            <a:ext cx="547200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5300640"/>
            <a:ext cx="144360" cy="43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5300640"/>
            <a:ext cx="14436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5300640"/>
            <a:ext cx="144360" cy="433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5300640"/>
            <a:ext cx="14436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5300640"/>
            <a:ext cx="14436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8720" y="5300640"/>
            <a:ext cx="14436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5300640"/>
            <a:ext cx="14472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5300640"/>
            <a:ext cx="14436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5300640"/>
            <a:ext cx="14472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5300640"/>
            <a:ext cx="14436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6" idx="1"/>
            <a:endCxn id="101" idx="0"/>
          </p:cNvCxnSpPr>
          <p:nvPr/>
        </p:nvCxnSpPr>
        <p:spPr>
          <a:xfrm flipV="1" rot="10800000">
            <a:off x="1907280" y="5094720"/>
            <a:ext cx="721800" cy="2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6" idx="1"/>
            <a:endCxn id="102" idx="0"/>
          </p:cNvCxnSpPr>
          <p:nvPr/>
        </p:nvCxnSpPr>
        <p:spPr>
          <a:xfrm flipV="1" rot="10800000">
            <a:off x="2412360" y="5094720"/>
            <a:ext cx="216720" cy="2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5219640" y="5734080"/>
            <a:ext cx="5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5734080"/>
            <a:ext cx="5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63560" y="5373720"/>
            <a:ext cx="280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NO-LIA HCV ab III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NOGEN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56360" y="3860640"/>
            <a:ext cx="232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CAN HCV P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30160" y="249228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BA HCV 3.0 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RON (O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F249-0785-4A04-90AB-D403E2FC3E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« … est un test de type immunoblot qualitatif…détection des Ac dirigés contre les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protéines individuell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codées par le VHC…peut être utilisé comme test diagnostic de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seconde intention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… 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« …. est un test unitaire sur mbne utilisant une technique immuno-enzymatique permettant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’individualisation d’Ac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… 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« …test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complémentair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plus spécifiqu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érêt clinique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mites du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5672160"/>
            <a:ext cx="8064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 constitue pas un test de confirmation... test supplémentaire… caractéris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1520" y="6308640"/>
            <a:ext cx="27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Fiches techniques des trousses 2004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ABC-5EE1-409D-8772-D70D3B0D2F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9528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ologie Médicale : nomenclature des actes :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tic 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6438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érodiagnostic de dépistage des Ac anti VHC par une technique EIA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B 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rôle sérologique par une technique EIA ou non, utilisant un réactif différent de celui utilisé pour le dépistage.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B 100)</a:t>
            </a:r>
            <a:br>
              <a:rPr sz="18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 contrôle s’impose au biologiste quand le test de dépistage est positif ou douteux. Il doit être réalisé sur un deuxième prélèvement, différent de celui qui a servi au dépist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tection qualitative de l’ARN du VH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érologi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érologie discordant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Hépatopathie, maladie systémique possiblement liée au VHC, AES, procréation 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773360"/>
            <a:ext cx="1511280" cy="30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78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78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12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01520" y="6093000"/>
            <a:ext cx="28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menclature des actes Janvier 2004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4D2-7D74-48EE-B3A5-9871422DE0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ratégie simpl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440" y="1989000"/>
            <a:ext cx="19429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antillon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sa (T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2492280"/>
            <a:ext cx="2087640" cy="576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 répé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8" idx="3"/>
            <a:endCxn id="129" idx="0"/>
          </p:cNvCxnSpPr>
          <p:nvPr/>
        </p:nvCxnSpPr>
        <p:spPr>
          <a:xfrm>
            <a:off x="2484360" y="2277720"/>
            <a:ext cx="1261440" cy="214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9" idx="3"/>
            <a:endCxn id="132" idx="0"/>
          </p:cNvCxnSpPr>
          <p:nvPr/>
        </p:nvCxnSpPr>
        <p:spPr>
          <a:xfrm>
            <a:off x="4788000" y="2781000"/>
            <a:ext cx="82944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003640" y="314172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égatif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9800" y="2637000"/>
            <a:ext cx="461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3284640"/>
            <a:ext cx="208764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vel 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2"/>
            <a:endCxn id="134" idx="0"/>
          </p:cNvCxnSpPr>
          <p:nvPr/>
        </p:nvCxnSpPr>
        <p:spPr>
          <a:xfrm flipV="1" rot="10800000">
            <a:off x="3744360" y="3068280"/>
            <a:ext cx="108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2700360" y="3860640"/>
            <a:ext cx="208764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sa (T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4" idx="2"/>
            <a:endCxn id="136" idx="0"/>
          </p:cNvCxnSpPr>
          <p:nvPr/>
        </p:nvCxnSpPr>
        <p:spPr>
          <a:xfrm flipV="1" rot="10800000">
            <a:off x="3744360" y="3642840"/>
            <a:ext cx="1080" cy="218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2269440" y="3139920"/>
            <a:ext cx="418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5445000"/>
            <a:ext cx="2087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éterminé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4365720"/>
            <a:ext cx="194328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f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2492280"/>
            <a:ext cx="25207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: Résultat définitif dépendant du contex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: Besoin de cohérence pour éliminer  u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eur de prélèvem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prise E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aux posit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 technique prob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ursuite de l’exploration par DGV en fonction des éléments cliniq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: Poursuite de l’exploration par DG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tic 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3440" y="4365720"/>
            <a:ext cx="1944720" cy="647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2 N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6" idx="2"/>
            <a:endCxn id="143" idx="0"/>
          </p:cNvCxnSpPr>
          <p:nvPr/>
        </p:nvCxnSpPr>
        <p:spPr>
          <a:xfrm flipH="1" rot="16200000">
            <a:off x="3672720" y="4291560"/>
            <a:ext cx="146880" cy="2160"/>
          </a:xfrm>
          <a:prstGeom prst="bentConnector3">
            <a:avLst>
              <a:gd name="adj1" fmla="val 498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3" idx="2"/>
            <a:endCxn id="139" idx="0"/>
          </p:cNvCxnSpPr>
          <p:nvPr/>
        </p:nvCxnSpPr>
        <p:spPr>
          <a:xfrm rot="5400000">
            <a:off x="3529440" y="5228280"/>
            <a:ext cx="432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1"/>
            <a:endCxn id="140" idx="3"/>
          </p:cNvCxnSpPr>
          <p:nvPr/>
        </p:nvCxnSpPr>
        <p:spPr>
          <a:xfrm rot="10800000">
            <a:off x="2482200" y="4688640"/>
            <a:ext cx="291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4790520" y="4581360"/>
            <a:ext cx="418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364500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éla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720" y="4797360"/>
            <a:ext cx="461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92A-4141-4D12-941D-A57DEA1B6A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528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pplication à deux cas réc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240" y="2013120"/>
            <a:ext cx="9579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r.H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0160" y="4173480"/>
            <a:ext cx="1075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m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FA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64000" y="1700280"/>
            <a:ext cx="1079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/03/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9800" y="230364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CV ABBOTT PR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9440" y="259236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CV O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720" y="2879640"/>
            <a:ext cx="160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xsym ABBOT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1484280"/>
            <a:ext cx="36036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789360"/>
            <a:ext cx="1387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8/02/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040" y="6114960"/>
            <a:ext cx="250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sultats exprimés en Ratio DO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1700280"/>
            <a:ext cx="1071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9/04/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98900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68360" y="1989000"/>
            <a:ext cx="144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191772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3272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540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256536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.0 / 4.8 / 4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22780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.0 / 2.5 / 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61080" y="256536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.7 / 5 / 4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61080" y="285444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43640" y="1700280"/>
            <a:ext cx="151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45086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.6 / 7.1 / 7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3789360"/>
            <a:ext cx="1820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5/03/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4869000"/>
            <a:ext cx="174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7.5 / 7.8 / 7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7120" y="4459320"/>
            <a:ext cx="17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.0 / 5.1 / 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3680" y="3168720"/>
            <a:ext cx="20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mmunoblot (Inno-li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6560" y="345600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GV  (Unitai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9800" y="453564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CV ABBOTT PR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9440" y="482436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CV O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720" y="5111640"/>
            <a:ext cx="160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xsym ABBOT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400" y="5400720"/>
            <a:ext cx="20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mmunoblot (Inno-l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4149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602136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378936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141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/-/-/-/-/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/-/-/-/-/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6560" y="568800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GV  (Unitai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3429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88000" y="342900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5373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+/-+/-+/ 3+/2+/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66244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88000" y="56624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40000" y="1700280"/>
            <a:ext cx="1079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9/01/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8000" y="53737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+/-+/1+/3+/1+/1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249228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x 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77080" y="4869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tic 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6093000"/>
            <a:ext cx="51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munoblot : enchaînement des réactivités : C,  C,  E2,  NS3, NS4, NS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268360" y="2276640"/>
            <a:ext cx="1144800" cy="1459440"/>
            <a:chOff x="2268360" y="2276640"/>
            <a:chExt cx="1144800" cy="1459440"/>
          </a:xfrm>
        </p:grpSpPr>
        <p:sp>
          <p:nvSpPr>
            <p:cNvPr id="203" name=""/>
            <p:cNvSpPr/>
            <p:nvPr/>
          </p:nvSpPr>
          <p:spPr>
            <a:xfrm>
              <a:off x="2411280" y="342900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Ne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268360" y="2276640"/>
              <a:ext cx="1144800" cy="595800"/>
              <a:chOff x="2268360" y="2276640"/>
              <a:chExt cx="1144800" cy="595800"/>
            </a:xfrm>
          </p:grpSpPr>
          <p:sp>
            <p:nvSpPr>
              <p:cNvPr id="205" name=""/>
              <p:cNvSpPr/>
              <p:nvPr/>
            </p:nvSpPr>
            <p:spPr>
              <a:xfrm>
                <a:off x="2268360" y="2276640"/>
                <a:ext cx="1144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Ne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68360" y="2565360"/>
                <a:ext cx="1144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Ne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"/>
          <p:cNvSpPr/>
          <p:nvPr/>
        </p:nvSpPr>
        <p:spPr>
          <a:xfrm>
            <a:off x="6878880" y="278136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éga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229-51CD-4B06-B5EA-4D3D3F74EF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528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pplication à deux cas réc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0160" y="2205000"/>
            <a:ext cx="1056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r.H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4365720"/>
            <a:ext cx="1201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FA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1484280"/>
            <a:ext cx="36036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68360" y="2205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2205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20500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68360" y="2205000"/>
            <a:ext cx="144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532720" y="2205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407664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623736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400536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278136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x 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ég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8000" y="508464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si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2349360"/>
            <a:ext cx="153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neur de sang régu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7240" y="2276640"/>
            <a:ext cx="449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 de blocage des MDS (LF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 de recherche de facteur de ris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 de prise en compte pour le risque résid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5640" y="4149720"/>
            <a:ext cx="1728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quête épidémiolog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uveau Donn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ilan Pré-transf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68360" y="3141720"/>
            <a:ext cx="619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3141720"/>
            <a:ext cx="160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an post-transfusi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4160" y="18446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è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24360" y="1844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é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6520" y="3141720"/>
            <a:ext cx="442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’information de l’hémovigil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’enquête transfusionnelle (donneur P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déclaration d’aléa thérapeu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tic 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9600" y="4365720"/>
            <a:ext cx="4359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d’infection ancie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de la guérison prob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herche de facteur de risque (nosocomi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quête famil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6DC-CA21-4AD2-8AD6-848398ECDE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9528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Etayer la spécificité du résultat ELISA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Apprécier le stade de l’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ébut d’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Pas de retard de l’immunoblot sur les tests ELISA (+ préco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Apparition précoce des Ac anti NS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Evolution du profil (intensité, autres réactivit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Gué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Décroissance des Ac (plus de stim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Profil de séroré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pport de l’immunob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1840" y="3284640"/>
            <a:ext cx="23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.Maniez, F. Dubois TCB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417080" cy="1380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227640" y="2924280"/>
            <a:ext cx="865440" cy="43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C3F-3944-4053-ADF2-1CE4A15C6E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7:01:18Z</dcterms:created>
  <dc:creator>Pascal Morel</dc:creator>
  <dc:description/>
  <dc:language>en-US</dc:language>
  <cp:lastModifiedBy>efs_BFC</cp:lastModifiedBy>
  <dcterms:modified xsi:type="dcterms:W3CDTF">2004-05-27T07:09:58Z</dcterms:modified>
  <cp:revision>87</cp:revision>
  <dc:subject/>
  <dc:title>Diapositive 1</dc:title>
</cp:coreProperties>
</file>