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D8F-FE7B-4E7C-9B4A-2CC79EA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537-7CD6-4CC4-B6CD-2CC1D615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F9A-0B18-4813-B736-E0150EBE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252-3199-4517-84A5-96B42E88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73C-563C-49BF-A658-937A3637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B282-CD5E-42BC-87E4-CEA9DBD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CB9F-C135-4BF7-95E6-072349C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B41A-AE76-4D5B-B866-E0B5A56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5DF2-815D-40BC-BD8A-7744C56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222-97B4-460C-8F9C-6C31091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D279-CAA1-4350-9C39-E7F1CDA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47D-1BA0-446D-8C71-7E15179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BCE-11DA-45DE-9C7F-603352C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61FA-C895-4A7B-B694-3E72879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AAE-3019-4335-B39C-4BAD21C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8215-F4F7-419A-A967-AFB76D9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5753-2A02-4520-BA08-21863583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828-2EF9-4765-893C-0F549706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0B3-937D-41EC-8667-6BD3445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945-80EA-4711-A4BA-66FBFA3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417-630C-406D-9F2B-1003800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2A7-A530-402C-AB7E-4D3A28C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126-15A1-4EC6-9B7A-754F1B6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949-1A99-411D-AD08-419D6FAA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029-6E93-40C7-9445-5D9F139804F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8230-E53B-4C7C-8C2B-C75C09D22E5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Contrôle de qualité des techniques de génotypage du VHC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yria LAPERC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le groupe VHC de l’AC11 / AN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593640"/>
            <a:ext cx="8001000" cy="48848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943600" y="5425920"/>
            <a:ext cx="1371600" cy="304920"/>
            <a:chOff x="5943600" y="5425920"/>
            <a:chExt cx="1371600" cy="304920"/>
          </a:xfrm>
        </p:grpSpPr>
        <p:sp>
          <p:nvSpPr>
            <p:cNvPr id="220" name=""/>
            <p:cNvSpPr/>
            <p:nvPr/>
          </p:nvSpPr>
          <p:spPr>
            <a:xfrm>
              <a:off x="5943600" y="5425920"/>
              <a:ext cx="0" cy="3049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3600" y="5730840"/>
              <a:ext cx="137160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5425920"/>
              <a:ext cx="0" cy="3049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17400" y="54100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100 / -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1120" y="6195960"/>
            <a:ext cx="28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c19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fffc19"/>
                </a:solidFill>
                <a:latin typeface="Times New Roman"/>
              </a:rPr>
              <a:t>Chen  et al. JCM 2002;40:31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5372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44440" y="1676520"/>
            <a:ext cx="8839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ffff"/>
                </a:solidFill>
                <a:latin typeface="Times New Roman"/>
              </a:rPr>
              <a:t>Résultats (3)</a:t>
            </a:r>
            <a:br>
              <a:rPr sz="4000"/>
            </a:b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Co-infections artificiell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20760" y="1871640"/>
          <a:ext cx="9432720" cy="32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871640"/>
                    <a:ext cx="943272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895480" y="3505320"/>
            <a:ext cx="762120" cy="761760"/>
          </a:xfrm>
          <a:prstGeom prst="ellipse">
            <a:avLst/>
          </a:prstGeom>
          <a:noFill/>
          <a:ln w="19080">
            <a:solidFill>
              <a:srgbClr val="ff0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14600" y="2971800"/>
            <a:ext cx="4648320" cy="1523880"/>
            <a:chOff x="2514600" y="2971800"/>
            <a:chExt cx="4648320" cy="1523880"/>
          </a:xfrm>
        </p:grpSpPr>
        <p:sp>
          <p:nvSpPr>
            <p:cNvPr id="232" name=""/>
            <p:cNvSpPr/>
            <p:nvPr/>
          </p:nvSpPr>
          <p:spPr>
            <a:xfrm>
              <a:off x="6781680" y="3657600"/>
              <a:ext cx="381240" cy="228600"/>
            </a:xfrm>
            <a:prstGeom prst="rect">
              <a:avLst/>
            </a:prstGeom>
            <a:noFill/>
            <a:ln w="2844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3920" y="4267080"/>
              <a:ext cx="380880" cy="228600"/>
            </a:xfrm>
            <a:prstGeom prst="rect">
              <a:avLst/>
            </a:prstGeom>
            <a:noFill/>
            <a:ln w="2844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3657600"/>
              <a:ext cx="380880" cy="228600"/>
            </a:xfrm>
            <a:prstGeom prst="rect">
              <a:avLst/>
            </a:prstGeom>
            <a:noFill/>
            <a:ln w="2844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1120" y="2971800"/>
              <a:ext cx="380880" cy="228600"/>
            </a:xfrm>
            <a:prstGeom prst="rect">
              <a:avLst/>
            </a:prstGeom>
            <a:noFill/>
            <a:ln w="2844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14600" y="3657600"/>
              <a:ext cx="380880" cy="228600"/>
            </a:xfrm>
            <a:prstGeom prst="rect">
              <a:avLst/>
            </a:prstGeom>
            <a:noFill/>
            <a:ln w="2844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066680" y="5486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H : PCR « in-house »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ru : Technique Trugene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no : Dot Blot InnoLi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ésum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295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NS5b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5’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ensibilité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64.3% - 100%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42.7% - 85.7%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Génotype correct/ ss-type correct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80 %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8.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Génotype incomplet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9.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Génotype correct / ss-type erroné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1.7%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8.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Faux négatif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18.3%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Mélange identifié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/30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0/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82296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6248520"/>
            <a:ext cx="82296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linique : génotypage 5’N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pidémiologie : génotypage NS5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spicion de co-infections : clon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ersp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255564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cond panel distribu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otypage dans la région NS5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éthode consensus propos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anque de séquence comm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lle Merc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rançoise Boucharde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adine Le Marr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ëlle L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hristine Por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nie Ra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Membres du groupe VHC AC11/ANR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ophie Alain, CHU Limoges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 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gali Bouvier-Alias, AP-HP Mondor, Créteil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rancis Barin, CHU Bretonneau Tours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Thomas Bourlet, CHU St Etienne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rie-Laure Chaix,  AP-HP Necker, Pari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aul Deny, AP-HP Avicenne, Bobigny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lisabeth Dussaix, CHU Paul Brousse, Villejui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illes.Duverlie, CHU Amiens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atherine Gaudy, CHU Bretonneau Tours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Elyane Gault, AP-HP Avicenne, Bobign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écile Henquell, ,CHU Clermont Ferr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acques Izopet, CHU Purpan, Toulouse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rie-Edith Lafon, CHU Borde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yria Laperche, INTS, Par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ean Jacques Lefrère, INTS, Par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ariane Leruez-Ville, AP-HP Necker, Pari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rançoise Lunel, CHU Angers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ean Michel Pawlotsky, AP-HP Mondor Créteil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hristopher Payan, CHU Angers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ean-Christophe Plantier, CHU Rouen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Bruno Pozzetto, CHU St Etienne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nne-Marie Roque, CHU Paul Brousse, Villeju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K Saune, CHU Purpan Toulouse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rancoise Stoll, CHU Strasbour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Vincent Thibault, AP-HP Pitié-Salpétrière, Paris </a:t>
            </a:r>
            <a:r>
              <a:rPr b="0" i="1" lang="fr-FR" sz="1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atherine Tamalet, Hop Timone, Marsei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ascale Trimoulet, CHU Borde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ophie Vallet, CHU B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Objecti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valuer les performances des méthodes de génotypage du VHC par séquençage (NS5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tude multicentr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armonisation des résultats pour les études cliniques menées dans le cadre de l’AN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Panel 15 échantill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Génotype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Charge Vira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NS5b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*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(log UI/ml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**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7915-83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3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4.01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2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a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4.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.3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4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neg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4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.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6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4a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3.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3.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8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a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6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3a/1b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.86/4.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0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 2b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5.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1a/1b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4.93/4.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2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b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5.6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3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.8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4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1b/3a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5.68/4.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52560"/>
                <a:tab algn="ctr" pos="2666880"/>
                <a:tab algn="ct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a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6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981080"/>
            <a:ext cx="541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6019920"/>
            <a:ext cx="5410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9400" y="6019920"/>
            <a:ext cx="395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c19"/>
                </a:solidFill>
                <a:latin typeface="Times New Roman"/>
              </a:rPr>
              <a:t>* Morice et al. J Gen Virol 2001; 82: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c19"/>
                </a:solidFill>
                <a:latin typeface="Times New Roman"/>
              </a:rPr>
              <a:t>** Amplicor</a:t>
            </a:r>
            <a:r>
              <a:rPr b="1" lang="fr-FR" sz="2000" spc="-1" strike="noStrike">
                <a:solidFill>
                  <a:srgbClr val="fffc19"/>
                </a:solidFill>
                <a:latin typeface="Times New Roman"/>
              </a:rPr>
              <a:t> </a:t>
            </a:r>
            <a:r>
              <a:rPr b="0" i="1" lang="fr-FR" sz="1800" spc="-1" strike="noStrike">
                <a:solidFill>
                  <a:srgbClr val="fffc19"/>
                </a:solidFill>
                <a:latin typeface="Times New Roman"/>
              </a:rPr>
              <a:t>Monitor HCV Ro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Méthodologi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2479680"/>
            <a:ext cx="77724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chantillons codés, cong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vec la technique du laborato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eadline pour rendu des résult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ésultats centralisés pour analy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1 laboratoires ont participé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26840" y="1371600"/>
            <a:ext cx="40114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: 1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: 2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: 3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 méthodes ont été  utilisé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3962520"/>
            <a:ext cx="807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NS5b: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8 « home-made » (4 re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kits de recherche (Truge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7 5’NC :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« home-made » (2 re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 commerciales (InnoLI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57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commerciales (Truge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415880"/>
            <a:ext cx="87631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68280" y="1542960"/>
          <a:ext cx="8623440" cy="50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542960"/>
                    <a:ext cx="862344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Résultats (1)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ariabilité entre les</a:t>
            </a: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méthod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997520"/>
            <a:ext cx="304560" cy="13716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711520"/>
            <a:ext cx="304920" cy="198108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77760" y="66294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320" y="1828800"/>
            <a:ext cx="89913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Résultats (2)</a:t>
            </a: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Variabilité inter- échantillons 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mélanges exclus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1828800"/>
          <a:ext cx="87519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51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828800" y="3809880"/>
            <a:ext cx="380880" cy="0"/>
          </a:xfrm>
          <a:prstGeom prst="line">
            <a:avLst/>
          </a:prstGeom>
          <a:ln w="19080">
            <a:solidFill>
              <a:srgbClr val="ff0f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962520"/>
            <a:ext cx="380880" cy="0"/>
          </a:xfrm>
          <a:prstGeom prst="line">
            <a:avLst/>
          </a:prstGeom>
          <a:ln w="28440">
            <a:solidFill>
              <a:srgbClr val="0ccc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105520"/>
            <a:ext cx="609480" cy="533160"/>
          </a:xfrm>
          <a:prstGeom prst="ellipse">
            <a:avLst/>
          </a:prstGeom>
          <a:noFill/>
          <a:ln w="19080">
            <a:solidFill>
              <a:srgbClr val="ff0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105520" y="5105520"/>
            <a:ext cx="3886200" cy="1066680"/>
            <a:chOff x="5105520" y="5105520"/>
            <a:chExt cx="3886200" cy="1066680"/>
          </a:xfrm>
        </p:grpSpPr>
        <p:grpSp>
          <p:nvGrpSpPr>
            <p:cNvPr id="184" name=""/>
            <p:cNvGrpSpPr/>
            <p:nvPr/>
          </p:nvGrpSpPr>
          <p:grpSpPr>
            <a:xfrm>
              <a:off x="5105520" y="5105520"/>
              <a:ext cx="3886200" cy="1066680"/>
              <a:chOff x="5105520" y="5105520"/>
              <a:chExt cx="3886200" cy="1066680"/>
            </a:xfrm>
          </p:grpSpPr>
          <p:sp>
            <p:nvSpPr>
              <p:cNvPr id="185" name=""/>
              <p:cNvSpPr/>
              <p:nvPr/>
            </p:nvSpPr>
            <p:spPr>
              <a:xfrm>
                <a:off x="8381880" y="5105520"/>
                <a:ext cx="609840" cy="533160"/>
              </a:xfrm>
              <a:prstGeom prst="ellipse">
                <a:avLst/>
              </a:prstGeom>
              <a:noFill/>
              <a:ln w="19080">
                <a:solidFill>
                  <a:srgbClr val="ff0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05520" y="5638680"/>
                <a:ext cx="0" cy="533520"/>
              </a:xfrm>
              <a:prstGeom prst="line">
                <a:avLst/>
              </a:prstGeom>
              <a:ln w="19080">
                <a:solidFill>
                  <a:srgbClr val="ff0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05520" y="6172200"/>
                <a:ext cx="3581280" cy="0"/>
              </a:xfrm>
              <a:prstGeom prst="line">
                <a:avLst/>
              </a:prstGeom>
              <a:ln w="19080">
                <a:solidFill>
                  <a:srgbClr val="ff0f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8686800" y="5638680"/>
              <a:ext cx="0" cy="533520"/>
            </a:xfrm>
            <a:prstGeom prst="line">
              <a:avLst/>
            </a:prstGeom>
            <a:ln w="19080">
              <a:solidFill>
                <a:srgbClr val="ff0f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9680" y="5105520"/>
            <a:ext cx="609840" cy="5331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14600" y="5105520"/>
            <a:ext cx="3886200" cy="1218960"/>
            <a:chOff x="2514600" y="5105520"/>
            <a:chExt cx="3886200" cy="1218960"/>
          </a:xfrm>
        </p:grpSpPr>
        <p:grpSp>
          <p:nvGrpSpPr>
            <p:cNvPr id="191" name=""/>
            <p:cNvGrpSpPr/>
            <p:nvPr/>
          </p:nvGrpSpPr>
          <p:grpSpPr>
            <a:xfrm>
              <a:off x="2514600" y="5105520"/>
              <a:ext cx="3886200" cy="1218960"/>
              <a:chOff x="2514600" y="5105520"/>
              <a:chExt cx="3886200" cy="1218960"/>
            </a:xfrm>
          </p:grpSpPr>
          <p:sp>
            <p:nvSpPr>
              <p:cNvPr id="192" name=""/>
              <p:cNvSpPr/>
              <p:nvPr/>
            </p:nvSpPr>
            <p:spPr>
              <a:xfrm>
                <a:off x="5791320" y="5105520"/>
                <a:ext cx="609480" cy="53316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14600" y="5638680"/>
                <a:ext cx="0" cy="68580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14600" y="6324480"/>
                <a:ext cx="358128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V="1">
              <a:off x="6095880" y="5638320"/>
              <a:ext cx="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33004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77120" y="5105520"/>
            <a:ext cx="1295280" cy="533160"/>
            <a:chOff x="6477120" y="5105520"/>
            <a:chExt cx="1295280" cy="533160"/>
          </a:xfrm>
        </p:grpSpPr>
        <p:sp>
          <p:nvSpPr>
            <p:cNvPr id="198" name=""/>
            <p:cNvSpPr/>
            <p:nvPr/>
          </p:nvSpPr>
          <p:spPr>
            <a:xfrm>
              <a:off x="7162920" y="5105520"/>
              <a:ext cx="609480" cy="533160"/>
            </a:xfrm>
            <a:prstGeom prst="ellipse">
              <a:avLst/>
            </a:prstGeom>
            <a:noFill/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5105520"/>
              <a:ext cx="609480" cy="533160"/>
            </a:xfrm>
            <a:prstGeom prst="ellipse">
              <a:avLst/>
            </a:prstGeom>
            <a:noFill/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57600" y="5105520"/>
            <a:ext cx="3809880" cy="838080"/>
            <a:chOff x="3657600" y="5105520"/>
            <a:chExt cx="3809880" cy="838080"/>
          </a:xfrm>
        </p:grpSpPr>
        <p:sp>
          <p:nvSpPr>
            <p:cNvPr id="201" name=""/>
            <p:cNvSpPr/>
            <p:nvPr/>
          </p:nvSpPr>
          <p:spPr>
            <a:xfrm>
              <a:off x="3657600" y="5105520"/>
              <a:ext cx="609480" cy="533160"/>
            </a:xfrm>
            <a:prstGeom prst="ellipse">
              <a:avLst/>
            </a:prstGeom>
            <a:noFill/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1680" y="5638680"/>
              <a:ext cx="0" cy="304920"/>
            </a:xfrm>
            <a:prstGeom prst="line">
              <a:avLst/>
            </a:prstGeom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5943600"/>
              <a:ext cx="3504960" cy="0"/>
            </a:xfrm>
            <a:prstGeom prst="line">
              <a:avLst/>
            </a:prstGeom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962520" y="5638320"/>
              <a:ext cx="0" cy="304920"/>
            </a:xfrm>
            <a:prstGeom prst="line">
              <a:avLst/>
            </a:prstGeom>
            <a:ln w="19080">
              <a:solidFill>
                <a:srgbClr val="0ccc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5638680"/>
              <a:ext cx="0" cy="304920"/>
            </a:xfrm>
            <a:prstGeom prst="line">
              <a:avLst/>
            </a:prstGeom>
            <a:ln w="19080">
              <a:solidFill>
                <a:srgbClr val="0ccc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5’NC et difficultés du sous-typage 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295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4762440"/>
                <a:tab algn="ctr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295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5’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S5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0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ndonov JCM 1995;33:254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(7.7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Lipa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Zeuzem J Hep 1995;23:654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 (10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Lipa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ermer JCM 1999;37:2625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96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80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2 (12.5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séquençage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hen JCM 2002;40:312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8 (21.6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Lipa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amalet JMVirol 2002;71:39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6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9 (28.3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séquençage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45000"/>
              <a:buFont typeface="Wingdings" charset="2"/>
              <a:buChar char=""/>
              <a:tabLst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aperche, Cantaloube (2004 en cours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a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12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5 (31.2%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20960"/>
                <a:tab algn="l" pos="4483080"/>
                <a:tab algn="l" pos="5715000"/>
                <a:tab algn="l" pos="657864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5’NC Lipa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b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61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26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5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1295280"/>
            <a:ext cx="50292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434340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95288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5341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53720" y="652320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VV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9:19:05Z</dcterms:created>
  <dc:creator>INFO</dc:creator>
  <dc:description/>
  <dc:language>en-US</dc:language>
  <cp:lastModifiedBy>INFO</cp:lastModifiedBy>
  <dcterms:modified xsi:type="dcterms:W3CDTF">2004-05-26T16:33:19Z</dcterms:modified>
  <cp:revision>63</cp:revision>
  <dc:subject/>
  <dc:title>Contrôle de qualité des techniques de génotypage du VHC</dc:title>
</cp:coreProperties>
</file>