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8C28-E7BF-4112-9162-60A24600B0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4B44-9555-4A49-86CC-8E631077870A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5666-CB0B-426B-83DC-7615E526C59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D9A-639C-4E52-9070-696EF9F69EB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30D-5FDD-4814-9914-8CF52B2D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22C-B5A6-4B5A-9857-FB7CDF03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A84-B867-461F-8F16-AB0257AE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972-671A-492B-B95F-E9509DA0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4471-7CB5-4391-B6CC-803688CE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8329-8F2B-4AFA-8B00-40967A46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6D9E-69EA-4A25-8458-18F9C9B6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3072-2F77-4208-B321-E68376B7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1E80-6813-4A68-875A-726EF79B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657F-7524-4FF4-AEDB-3426DC66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5445-B4A0-4732-A794-45F4387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70E-D6F1-4990-A20C-39DC6110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DD7E-0FAB-4D73-B46F-36A2B0DE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F06B-B2CF-4B7E-8E67-564D4C23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49CF-F3BE-41B9-9D6C-CB99E3D5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71C5-5F85-4616-BE01-069C7F62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9669-91A8-459A-8C38-6B24850E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7D1-5C2D-4AB8-B40E-FCEBE394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F11-BBEE-430B-ADC4-166A8B4A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0EE-E0C1-4086-BB0D-B7DFBBBC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275-4D15-4A79-A695-34245D76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073-4C90-4C84-8483-3657BDDA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513-0D53-43A4-80C4-4327A9A3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6B7-C8F2-4AA3-A7D5-9EAD49DE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C408-19BD-4BE0-9188-48E520A47A1C}" type="slidenum">
              <a:rPr b="0" lang="fr-F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F3F1-1F88-4303-8EFA-421926EEDAED}" type="slidenum">
              <a:rPr b="0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ilan de l’utilisation des tests rapides à l’hôpital Saint-Antoin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1000 demandes du 1/6/2002 au 29/2/2008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réalisées avec le test Determ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66ccff"/>
                </a:solidFill>
                <a:latin typeface="Arial"/>
              </a:rPr>
              <a:t>971 tests rapides négatif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68 ont été confirmés négatifs par les deux tests de dépist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 ont été retrouvés positifs par un des deux tests Elisa mais WB négatif ou indéterminé (pas d’évolution: faux positif de l’Elis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29  tests rapides positifs ou douteu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26 positifs et 3 douteux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3 tests douteux ont été retrouvés négatifs par les deux tests de dépistage (faux positifs du test rapid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rmi les 26 tests positifs, 3 ont été retrouvés négatifs par les deux tests de dépistage et 23 ont été confirmés positifs par l’Elisa et le Western blot (faux positifs du test rapid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ilan de l’utilisation des tests rapid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20312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Sur 1000 demandes du 1/6/2002 au 29/2/20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Sensibilité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e 100% du test rapide Determine (référence: Elisa et WB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3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Spécificit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 99,3% du test rapide (99, 6% du dépistage par Elis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nalyse avec le test rapide INSTI de 20 demandes positives ou douteuses avec le test Determ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11280" y="4365720"/>
          <a:ext cx="8353440" cy="2254320"/>
        </p:xfrm>
        <a:graphic>
          <a:graphicData uri="http://schemas.openxmlformats.org/drawingml/2006/table">
            <a:tbl>
              <a:tblPr/>
              <a:tblGrid>
                <a:gridCol w="2184480"/>
                <a:gridCol w="2568240"/>
                <a:gridCol w="360072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LI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ermine 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Invernes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 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ephrotek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égatifs n=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uteux n=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2, Négatif n=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égatifs n=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itifs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 faux positi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s de faux négati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faux positi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s de faux négati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Bilan de l’utilisation des tests rapid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907920"/>
            <a:ext cx="8075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aticabilit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55640" y="1486080"/>
          <a:ext cx="7704000" cy="4967280"/>
        </p:xfrm>
        <a:graphic>
          <a:graphicData uri="http://schemas.openxmlformats.org/drawingml/2006/table">
            <a:tbl>
              <a:tblPr/>
              <a:tblGrid>
                <a:gridCol w="1871280"/>
                <a:gridCol w="3168720"/>
                <a:gridCol w="266400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ermine 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Inverness)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« Bandelette 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 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</a:t>
                      </a: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Nephrotek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« Savonnette 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ériel pour prélèvement sur sang 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éactifs prêts à l’emplo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s de réacti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émoin de ré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mps de réalis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m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5 m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ct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çabilit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 (en collant la bandelette sur une feuill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ui (si réalisation d’une phot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éremp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 mois-1 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 mo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ix par te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75 euros TTC (prix AP-HP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0:50:35Z</dcterms:created>
  <dc:creator>MORAND</dc:creator>
  <dc:description/>
  <dc:language>en-US</dc:language>
  <cp:lastModifiedBy>stagiaire</cp:lastModifiedBy>
  <dcterms:modified xsi:type="dcterms:W3CDTF">2008-11-25T10:39:28Z</dcterms:modified>
  <cp:revision>55</cp:revision>
  <dc:subject/>
  <dc:title>Diagnostic sérologique du VIH</dc:title>
</cp:coreProperties>
</file>