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421-39FC-4F21-9A64-8E6B01A7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38B-934C-4643-971F-1E94F881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83D-EA24-47E2-BDB8-BC719BFD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511-7B1A-40DB-AC8D-0DD7F2E2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719-1AEA-43B6-A97A-D318C387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CC4-2FF2-4058-AF24-8B6F66FB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497-6356-46B9-AEA1-F862C5A2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A01-FC17-4D97-88A2-B9B83177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7CA-C06F-4BAE-8862-DE904C6C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ECE-ECCE-4AB9-A3FF-2441356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9FD-0E30-4C06-A44D-88848A2B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E45-F20E-4ED3-A610-6B3067E4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0C2D-E192-47BB-866A-A8E0827F4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3068640"/>
            <a:ext cx="6576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419720" y="685800"/>
            <a:ext cx="4343400" cy="1189080"/>
            <a:chOff x="4419720" y="685800"/>
            <a:chExt cx="4343400" cy="1189080"/>
          </a:xfrm>
        </p:grpSpPr>
        <p:sp>
          <p:nvSpPr>
            <p:cNvPr id="43" name=""/>
            <p:cNvSpPr/>
            <p:nvPr/>
          </p:nvSpPr>
          <p:spPr>
            <a:xfrm>
              <a:off x="4419720" y="762120"/>
              <a:ext cx="32004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Équipe d’accueil EA26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aculté de Médecine-Pharmac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Université de Rou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7431120" y="685800"/>
              <a:ext cx="1332000" cy="828720"/>
              <a:chOff x="7431120" y="685800"/>
              <a:chExt cx="1332000" cy="828720"/>
            </a:xfrm>
          </p:grpSpPr>
          <p:pic>
            <p:nvPicPr>
              <p:cNvPr id="45" name="" descr=""/>
              <p:cNvPicPr/>
              <p:nvPr/>
            </p:nvPicPr>
            <p:blipFill>
              <a:blip r:embed="rId1"/>
              <a:srcRect l="22478" t="21694" r="25143" b="62589"/>
              <a:stretch/>
            </p:blipFill>
            <p:spPr>
              <a:xfrm>
                <a:off x="7431120" y="685800"/>
                <a:ext cx="1332000" cy="46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2"/>
              <a:srcRect l="22478" t="53443" r="25143" b="27515"/>
              <a:stretch/>
            </p:blipFill>
            <p:spPr>
              <a:xfrm>
                <a:off x="7431120" y="1190160"/>
                <a:ext cx="1292760" cy="32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7" name=""/>
          <p:cNvGrpSpPr/>
          <p:nvPr/>
        </p:nvGrpSpPr>
        <p:grpSpPr>
          <a:xfrm>
            <a:off x="533520" y="685800"/>
            <a:ext cx="3523680" cy="1195560"/>
            <a:chOff x="533520" y="685800"/>
            <a:chExt cx="3523680" cy="1195560"/>
          </a:xfrm>
        </p:grpSpPr>
        <p:sp>
          <p:nvSpPr>
            <p:cNvPr id="48" name=""/>
            <p:cNvSpPr/>
            <p:nvPr/>
          </p:nvSpPr>
          <p:spPr>
            <a:xfrm>
              <a:off x="1164960" y="790560"/>
              <a:ext cx="2892240" cy="10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ôle Biolog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boratoire de Virolog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ôpital C. Nico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HU Rou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533520" y="685800"/>
            <a:ext cx="1294920" cy="77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685800"/>
                      <a:ext cx="1294920" cy="77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" name=""/>
          <p:cNvSpPr/>
          <p:nvPr/>
        </p:nvSpPr>
        <p:spPr>
          <a:xfrm>
            <a:off x="1392840" y="2873520"/>
            <a:ext cx="667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ux négatifs VIH-1 groupe O au dépi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lan 2001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jean-christophe.plantier@univ-rouen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26760" y="5300640"/>
            <a:ext cx="3067200" cy="988200"/>
            <a:chOff x="626760" y="5300640"/>
            <a:chExt cx="3067200" cy="988200"/>
          </a:xfrm>
        </p:grpSpPr>
        <p:pic>
          <p:nvPicPr>
            <p:cNvPr id="53" name="" descr="Institut de Veille Sanitaire"/>
            <p:cNvPicPr/>
            <p:nvPr/>
          </p:nvPicPr>
          <p:blipFill>
            <a:blip r:embed="rId5"/>
            <a:stretch/>
          </p:blipFill>
          <p:spPr>
            <a:xfrm>
              <a:off x="803160" y="5300640"/>
              <a:ext cx="868680" cy="6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26760" y="5829840"/>
              <a:ext cx="306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boratoire associ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u Centre National de Référence du VI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900000" y="3357720"/>
            <a:ext cx="7369200" cy="2414160"/>
            <a:chOff x="900000" y="3357720"/>
            <a:chExt cx="7369200" cy="2414160"/>
          </a:xfrm>
        </p:grpSpPr>
        <p:grpSp>
          <p:nvGrpSpPr>
            <p:cNvPr id="56" name=""/>
            <p:cNvGrpSpPr/>
            <p:nvPr/>
          </p:nvGrpSpPr>
          <p:grpSpPr>
            <a:xfrm>
              <a:off x="900000" y="3357720"/>
              <a:ext cx="3824280" cy="2414160"/>
              <a:chOff x="900000" y="3357720"/>
              <a:chExt cx="3824280" cy="2414160"/>
            </a:xfrm>
          </p:grpSpPr>
          <p:pic>
            <p:nvPicPr>
              <p:cNvPr id="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8800" y="3606480"/>
                <a:ext cx="3435480" cy="19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1068480" y="3357720"/>
                <a:ext cx="88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VIH-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64440" y="3606480"/>
                <a:ext cx="134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Verdana"/>
                  </a:rPr>
                  <a:t>Leoz et coll., AIDS, 20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00000" y="5403600"/>
                <a:ext cx="142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000000"/>
                    </a:solidFill>
                    <a:latin typeface="Verdana"/>
                  </a:rPr>
                  <a:t>Rouen, CPC &amp; databa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248440" y="3400560"/>
              <a:ext cx="3020760" cy="2199600"/>
              <a:chOff x="5248440" y="3400560"/>
              <a:chExt cx="3020760" cy="2199600"/>
            </a:xfrm>
          </p:grpSpPr>
          <p:pic>
            <p:nvPicPr>
              <p:cNvPr id="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48440" y="3448440"/>
                <a:ext cx="207036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6779160" y="5384520"/>
                <a:ext cx="1490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Verdana"/>
                  </a:rPr>
                  <a:t>Archer et coll., AIDS, 200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06840" y="3400560"/>
                <a:ext cx="104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Verdana"/>
                  </a:rPr>
                  <a:t>VIH-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6075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Verdana"/>
              </a:rPr>
              <a:t>VIH-1 groupe O (outli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29400" y="1341360"/>
            <a:ext cx="1759320" cy="1688760"/>
            <a:chOff x="329400" y="1341360"/>
            <a:chExt cx="1759320" cy="1688760"/>
          </a:xfrm>
        </p:grpSpPr>
        <p:grpSp>
          <p:nvGrpSpPr>
            <p:cNvPr id="67" name=""/>
            <p:cNvGrpSpPr/>
            <p:nvPr/>
          </p:nvGrpSpPr>
          <p:grpSpPr>
            <a:xfrm>
              <a:off x="329400" y="1341360"/>
              <a:ext cx="1576800" cy="1615680"/>
              <a:chOff x="329400" y="1341360"/>
              <a:chExt cx="1576800" cy="1615680"/>
            </a:xfrm>
          </p:grpSpPr>
          <p:pic>
            <p:nvPicPr>
              <p:cNvPr id="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9400" y="1341360"/>
                <a:ext cx="1576800" cy="161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9400" y="1341360"/>
                <a:ext cx="1576800" cy="161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" name=""/>
            <p:cNvSpPr/>
            <p:nvPr/>
          </p:nvSpPr>
          <p:spPr>
            <a:xfrm>
              <a:off x="554400" y="1406160"/>
              <a:ext cx="453600" cy="457200"/>
            </a:xfrm>
            <a:prstGeom prst="rect">
              <a:avLst/>
            </a:prstGeom>
            <a:solidFill>
              <a:srgbClr val="ffffff"/>
            </a:solidFill>
            <a:ln w="5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0800" y="1927800"/>
              <a:ext cx="280440" cy="7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9200" y="1944000"/>
              <a:ext cx="3740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NIGER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6320" y="1941120"/>
              <a:ext cx="3740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NIGER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11000" y="2319120"/>
              <a:ext cx="245160" cy="8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68960" y="2344320"/>
              <a:ext cx="299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R. C. 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68960" y="2341440"/>
              <a:ext cx="299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R. C. A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18720" y="2335680"/>
              <a:ext cx="2664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15480" y="2331720"/>
              <a:ext cx="2664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4600" y="2819160"/>
              <a:ext cx="52488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6640" y="2820960"/>
              <a:ext cx="890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GUINEE Equatoriale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58400" y="2863080"/>
              <a:ext cx="24408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05200" y="2881440"/>
              <a:ext cx="32688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GAB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03400" y="2878200"/>
              <a:ext cx="32688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GAB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60680" y="2906640"/>
              <a:ext cx="24948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07840" y="2923200"/>
              <a:ext cx="3330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CONG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07840" y="2920320"/>
              <a:ext cx="3330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CONG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36280" y="1602360"/>
              <a:ext cx="241200" cy="7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84880" y="1617840"/>
              <a:ext cx="3024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TCHA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86320" y="1617840"/>
              <a:ext cx="3024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Verdana"/>
                </a:rPr>
                <a:t>TCHA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07280" y="2536560"/>
              <a:ext cx="3164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2040" y="2355120"/>
              <a:ext cx="8200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Camero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24000" y="549360"/>
            <a:ext cx="1679400" cy="506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 algn="ctr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cc3300"/>
                </a:solidFill>
                <a:latin typeface="Verdana"/>
                <a:ea typeface="Times New Roman"/>
              </a:rPr>
              <a:t>1% PvVI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 algn="ctr">
              <a:lnSpc>
                <a:spcPct val="100000"/>
              </a:lnSpc>
              <a:spcBef>
                <a:spcPts val="300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cc3300"/>
                </a:solidFill>
                <a:latin typeface="Verdana"/>
                <a:ea typeface="Times New Roman"/>
              </a:rPr>
              <a:t>(10 000 c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47640" y="3641760"/>
            <a:ext cx="1360800" cy="15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38320" y="3848040"/>
            <a:ext cx="1836720" cy="944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6021360"/>
            <a:ext cx="7101000" cy="28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10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bre en « 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comè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» :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75% des virus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B, C 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varia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diverge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12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1052640"/>
            <a:ext cx="5761080" cy="2260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H-1 groupe O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en Fr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0.1%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2 cas de double infection O/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1 cas de surinfection VIH-1 M sur VIH-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1 recombinant M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RES-O 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11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Verdana"/>
              </a:rPr>
              <a:t>pati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puis 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méth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1197000"/>
            <a:ext cx="7632720" cy="252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) déclarations de réacto-vigilances à l‘Afss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i) investigations publiées par le CNR du VIH (Tours) (Henquell, 2008, Zouhair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ii) collaboration entre le laboratoire associé au CNR (Rouen) et le Centre Pasteur du Cameroun (Yaoundé, Camerou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iv) évaluation de la sensibilité de tests rapides vis a vis des VIH-O (La Pitié et Rouen) (Gautheret-Dejean, 200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4292640"/>
            <a:ext cx="7612200" cy="168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4120" indent="-38412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ueil des tests utilisés : ELISA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è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è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générations et tests ra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actérisation de la région immunodominante gp41 TM par séquençage nucléotid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raison / séquences consensus VIH-M et VIH-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157320"/>
            <a:ext cx="6964560" cy="670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189000"/>
            <a:ext cx="1042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 =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7336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51280" y="260280"/>
            <a:ext cx="57636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263700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285264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32360" y="285264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285264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314172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335772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4581360"/>
            <a:ext cx="43164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4581360"/>
            <a:ext cx="43200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566100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43640" y="5661000"/>
            <a:ext cx="432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04000" y="4581360"/>
            <a:ext cx="43200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4149720"/>
            <a:ext cx="432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04000" y="2852640"/>
            <a:ext cx="432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2852640"/>
            <a:ext cx="432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3645000"/>
            <a:ext cx="432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3645000"/>
            <a:ext cx="43200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364500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260280"/>
            <a:ext cx="367344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2205000"/>
            <a:ext cx="43164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0" y="2997360"/>
          <a:ext cx="4238640" cy="329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7360"/>
                    <a:ext cx="4238640" cy="32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84360" y="692280"/>
            <a:ext cx="7657920" cy="173664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447480" y="3046680"/>
            <a:ext cx="3992400" cy="3190680"/>
            <a:chOff x="447480" y="3046680"/>
            <a:chExt cx="3992400" cy="3190680"/>
          </a:xfrm>
        </p:grpSpPr>
        <p:sp>
          <p:nvSpPr>
            <p:cNvPr id="127" name=""/>
            <p:cNvSpPr/>
            <p:nvPr/>
          </p:nvSpPr>
          <p:spPr>
            <a:xfrm>
              <a:off x="447480" y="3046680"/>
              <a:ext cx="3992400" cy="319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07720" y="3589560"/>
              <a:ext cx="3245400" cy="2098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07720" y="5272200"/>
              <a:ext cx="3245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07720" y="4846680"/>
              <a:ext cx="3245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7720" y="4430880"/>
              <a:ext cx="324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07720" y="4005360"/>
              <a:ext cx="3245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7720" y="3589560"/>
              <a:ext cx="324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07720" y="3589560"/>
              <a:ext cx="3245400" cy="2098440"/>
            </a:xfrm>
            <a:prstGeom prst="rect">
              <a:avLst/>
            </a:prstGeom>
            <a:noFill/>
            <a:ln w="79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2280" y="4738680"/>
              <a:ext cx="60480" cy="9493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80880" y="3605400"/>
              <a:ext cx="51840" cy="2082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10480" y="3646800"/>
              <a:ext cx="60840" cy="20412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49440" y="3605400"/>
              <a:ext cx="51840" cy="2082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9400" y="3646800"/>
              <a:ext cx="60480" cy="20412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18000" y="4905360"/>
              <a:ext cx="60480" cy="7826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58400" y="4638960"/>
              <a:ext cx="51840" cy="10490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88360" y="3689640"/>
              <a:ext cx="60480" cy="199836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26600" y="3713400"/>
              <a:ext cx="52200" cy="1974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6920" y="3589560"/>
              <a:ext cx="60480" cy="2098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95520" y="3605400"/>
              <a:ext cx="51840" cy="2082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25480" y="4013280"/>
              <a:ext cx="60480" cy="16747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64080" y="3605400"/>
              <a:ext cx="60840" cy="2082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02680" y="4272120"/>
              <a:ext cx="51840" cy="14158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34440" y="4380120"/>
              <a:ext cx="60840" cy="13078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73040" y="3589560"/>
              <a:ext cx="51840" cy="2098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03000" y="3589560"/>
              <a:ext cx="60480" cy="2098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41960" y="3605400"/>
              <a:ext cx="60480" cy="20826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80200" y="4354560"/>
              <a:ext cx="52200" cy="1333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10160" y="3746520"/>
              <a:ext cx="60480" cy="194148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49120" y="5205600"/>
              <a:ext cx="51840" cy="4824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9080" y="4680000"/>
              <a:ext cx="61920" cy="100800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19480" y="5305680"/>
              <a:ext cx="51840" cy="3823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49440" y="3589560"/>
              <a:ext cx="60480" cy="209844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07720" y="3589560"/>
              <a:ext cx="1440" cy="209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73160" y="5688000"/>
              <a:ext cx="3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73160" y="5272200"/>
              <a:ext cx="3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73160" y="4846680"/>
              <a:ext cx="3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73160" y="443088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73160" y="4005360"/>
              <a:ext cx="3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73160" y="3589560"/>
              <a:ext cx="3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07720" y="5688000"/>
              <a:ext cx="3245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10772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24596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37592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51452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484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78308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192168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05344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19204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32236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46096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59056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72952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86812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99988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13848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26844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40668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4564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67560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1420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4416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084560" y="568764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452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53120" y="5687640"/>
              <a:ext cx="180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1200" y="3156120"/>
              <a:ext cx="256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onservation de l'EID parmi 208 seq VIH-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1720" y="56214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1720" y="5205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1720" y="47800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7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1720" y="43642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1720" y="393876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9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1720" y="352296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,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5128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71880" y="5780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1912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49800" y="5780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87320" y="578016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2700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75680" y="5780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79000" y="5780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17240" y="5780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47920" y="5780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87960" y="5780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3268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7308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4040" y="5780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4344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63680" y="578016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94000" y="5780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41960" y="5780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71920" y="578016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01520" y="57801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40480" y="5780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89520" y="5780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5400" y="5780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50160" y="5780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42080" y="5972400"/>
              <a:ext cx="963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ésidu majoritai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286560" y="4479120"/>
              <a:ext cx="71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serv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7480" y="3046680"/>
              <a:ext cx="3992400" cy="3190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203640" y="3860640"/>
            <a:ext cx="1152360" cy="187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3860640"/>
            <a:ext cx="1152360" cy="187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1268280"/>
            <a:ext cx="6697800" cy="974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érences de sensibilité clinique en fonction du stade primo-infection ou chron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ication des différents formats (3è, 4è, rapi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2781360"/>
            <a:ext cx="7632720" cy="180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erformances inégales des tests (Genscreen v2, Genie II…); vigilance sur tests rap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fficulté du design de antigène des trou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iversité particulière propre aux VIH-1 groupe O (test + ou – en fonction de sou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4941720"/>
            <a:ext cx="7612200" cy="11408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84120" indent="-38412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illeure évaluation des VIH-O : antigène et anticorp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nel représentatif de la diversité génétique des VIH-O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act du changement de modalités de dépi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merci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fssaps : A Reggiani, L Bu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PC : A Vessière, D Rou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teur-Cerba : JD Pov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itié : A Gautheret-Dejean, JM Hur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U de Tours : F Ba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U de Rouen : V Lemée, M Djemai, M Lé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V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6:49:24Z</dcterms:created>
  <dc:creator>CHU de Rouen</dc:creator>
  <dc:description/>
  <dc:language>en-US</dc:language>
  <cp:lastModifiedBy>JCP</cp:lastModifiedBy>
  <dcterms:modified xsi:type="dcterms:W3CDTF">2008-11-25T07:29:27Z</dcterms:modified>
  <cp:revision>1357</cp:revision>
  <dc:subject/>
  <dc:title>Présentation PowerPoint</dc:title>
</cp:coreProperties>
</file>