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2476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064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4888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2476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064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7720" y="168120"/>
            <a:ext cx="6248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2476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0064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4888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2476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0064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68120"/>
            <a:ext cx="6248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8458200" cy="1143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75520" y="250920"/>
            <a:ext cx="1674720" cy="8762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920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60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1" marL="860400" indent="-29376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2" marL="1251000" indent="-20016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3" marL="1617840" indent="-17640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4" marL="1996920" indent="-18396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5" marL="1996920" indent="-18396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6" marL="1996920" indent="-18396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1142640" y="6224760"/>
            <a:ext cx="7628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1585-0BCC-4715-BF38-91F4E2664C46}" type="datetime">
              <a:rPr b="0" lang="fr-FR" sz="1100" spc="-1" strike="noStrike">
                <a:solidFill>
                  <a:srgbClr val="ffffff"/>
                </a:solidFill>
                <a:latin typeface="Verdana"/>
              </a:rPr>
              <a:t>28/07/26</a:t>
            </a:fld>
            <a:r>
              <a:rPr b="0" lang="fr-FR" sz="1100" spc="-1" strike="noStrike">
                <a:solidFill>
                  <a:srgbClr val="ffffff"/>
                </a:solidFill>
                <a:latin typeface="Verdana"/>
              </a:rPr>
              <a:t> – Titre de la présent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6840" y="6421320"/>
            <a:ext cx="533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5D1B-B51E-42C7-B5D6-5FA905FC19CB}" type="slidenum">
              <a:rPr b="0" lang="fr-FR" sz="1100" spc="-1" strike="noStrike">
                <a:solidFill>
                  <a:srgbClr val="73bd1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355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355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4095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0960" y="866520"/>
            <a:ext cx="567864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2446200" y="826920"/>
            <a:ext cx="0" cy="248292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3657600"/>
            <a:ext cx="9144000" cy="1447920"/>
            <a:chOff x="0" y="3657600"/>
            <a:chExt cx="9144000" cy="1447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rcRect l="0" t="8034" r="0" b="15648"/>
            <a:stretch/>
          </p:blipFill>
          <p:spPr>
            <a:xfrm>
              <a:off x="2286000" y="3657600"/>
              <a:ext cx="68580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rcRect l="0" t="8034" r="0" b="15648"/>
            <a:stretch/>
          </p:blipFill>
          <p:spPr>
            <a:xfrm>
              <a:off x="0" y="3657600"/>
              <a:ext cx="2438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rcRect l="0" t="0" r="0" b="9554"/>
            <a:stretch/>
          </p:blipFill>
          <p:spPr>
            <a:xfrm>
              <a:off x="5819760" y="3843360"/>
              <a:ext cx="26640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rcRect l="0" t="15432" r="0" b="0"/>
            <a:stretch/>
          </p:blipFill>
          <p:spPr>
            <a:xfrm>
              <a:off x="2459160" y="3657600"/>
              <a:ext cx="1582560" cy="7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3657600"/>
            <a:ext cx="9144000" cy="1447920"/>
            <a:chOff x="0" y="3657600"/>
            <a:chExt cx="9144000" cy="1447920"/>
          </a:xfrm>
        </p:grpSpPr>
        <p:pic>
          <p:nvPicPr>
            <p:cNvPr id="53" name="" descr=""/>
            <p:cNvPicPr/>
            <p:nvPr/>
          </p:nvPicPr>
          <p:blipFill>
            <a:blip r:embed="rId6"/>
            <a:srcRect l="0" t="8034" r="0" b="15648"/>
            <a:stretch/>
          </p:blipFill>
          <p:spPr>
            <a:xfrm>
              <a:off x="2286000" y="3657600"/>
              <a:ext cx="68580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7"/>
            <a:srcRect l="0" t="8034" r="0" b="15648"/>
            <a:stretch/>
          </p:blipFill>
          <p:spPr>
            <a:xfrm>
              <a:off x="0" y="3657600"/>
              <a:ext cx="2438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8"/>
            <a:srcRect l="0" t="0" r="0" b="9554"/>
            <a:stretch/>
          </p:blipFill>
          <p:spPr>
            <a:xfrm>
              <a:off x="5819760" y="3843360"/>
              <a:ext cx="26640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9"/>
            <a:srcRect l="0" t="15432" r="0" b="0"/>
            <a:stretch/>
          </p:blipFill>
          <p:spPr>
            <a:xfrm>
              <a:off x="2459160" y="3657600"/>
              <a:ext cx="15825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bd1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  <a:p>
            <a:pPr lvl="1" marL="382680" indent="0" algn="ctr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765000" indent="285840" algn="ctr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147680" indent="293760" algn="ctr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521000" indent="291960" algn="ctr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521000" indent="29196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521000" indent="29196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6000" y="866880"/>
            <a:ext cx="64087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Verdana"/>
              </a:rPr>
              <a:t>EVALUATION DES PERFORMANCES ET DE LA PRATICABILITE DES TESTS RAPIDES POUR LE DEPISTAGE DES ANTICORPS ANTI-VIH </a:t>
            </a:r>
            <a:br>
              <a:rPr sz="2200"/>
            </a:br>
            <a:br>
              <a:rPr sz="3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61760" y="5181480"/>
            <a:ext cx="6402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ric LAFORGERIE</a:t>
            </a:r>
            <a:endParaRPr b="1" lang="en-US" sz="1800" spc="-1" strike="noStrike">
              <a:solidFill>
                <a:srgbClr val="73bd1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3bd1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fr-FR" sz="1700" spc="-1" strike="noStrike" baseline="30000">
                <a:solidFill>
                  <a:srgbClr val="ffffff"/>
                </a:solidFill>
                <a:latin typeface="Arial"/>
              </a:rPr>
              <a:t>ème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Colloque de Virologie de Versailles, 25 novembre 2008</a:t>
            </a:r>
            <a:endParaRPr b="1" lang="en-US" sz="17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542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b4095"/>
                </a:solidFill>
                <a:latin typeface="Verdana"/>
              </a:rPr>
              <a:t>Echantillons de séroconversion</a:t>
            </a: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700280"/>
            <a:ext cx="8367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Echantillons de séroconversion du panel s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Reconnaissance des 6 échantillons (minimum gag +/- p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Taux global de reconnaissance de 53 à 76% pour les échantillons commerciaux (per-séro + sé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Résultats obtenus lors des contrôles réalisés par l’Afssaps (2005-2007) : 30-68% (per-séro + sé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   </a:t>
            </a: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(Tests ELISA et ELISA combinés : 70-9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sultats étude de praticabilité dans le cadre d’une utilisation hors laboratoire  (1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Utilisation des tests par des professionnels de san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Utilisation hors labo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10 TDR, mais seulement 4 pouvant être utilisés hors laboratoire (à partir d’échantillons de sang total capillaire ou « salivaire »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Verdana"/>
              </a:rPr>
              <a:t>Determine HIV 1-2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: pour l’instant système de prélèvement et tampon pour sang total « en option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Verdana"/>
              </a:rPr>
              <a:t>INSTI HIV-1 HIV-2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: kits individuels avec système de prélèvement de sang capilla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Verdana"/>
              </a:rPr>
              <a:t>Oraquick Advance rapid HIV ½ antibody test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: kit individuel avec système de prélèvement « salivaire » et sang total capilla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Verdana"/>
              </a:rPr>
              <a:t>Vikia HIV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 : 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kits individuels avec système de prélèvement de sang capillaire en prépa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sultats étude de praticabilité dans le cadre d’une utilisation hors laboratoire  (2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484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Présentation général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Conditionnement : unitaire possible pour les 4 produits, sauf Determine (x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Conservation à température ambi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Péremption : généralement à 12 mois, sauf Oraquick : 6 mo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Notices d’utilisa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Adaptées à un usage par des biologi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Limites des tests clairement exprimé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Schéma concernant le prélèvement pour 3 des 4 réact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Schéma d’interprétation des résultats pour les 4 réactifs disponibles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542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sultats étude de praticabilité dans le cadre d’une utilisation hors laboratoire  (3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9700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42920" y="1989000"/>
          <a:ext cx="7129440" cy="3003840"/>
        </p:xfrm>
        <a:graphic>
          <a:graphicData uri="http://schemas.openxmlformats.org/drawingml/2006/table">
            <a:tbl>
              <a:tblPr/>
              <a:tblGrid>
                <a:gridCol w="1512720"/>
                <a:gridCol w="1295640"/>
                <a:gridCol w="2160360"/>
                <a:gridCol w="216072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éalis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u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mbre d’opérations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term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lt;1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’ - 60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édiat - 5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aqu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lt;1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(sal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(sang capillai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’ – 40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lt;1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033560" y="508464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1 – hors prélèvement / l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00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3bd1f"/>
                </a:solidFill>
                <a:latin typeface="Verdana"/>
              </a:rPr>
              <a:t>Etudes réalisées dans le cadre du travail de la HAS sur l’évolution du dépistage VI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00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3bd1f"/>
                </a:solidFill>
                <a:latin typeface="Verdana"/>
              </a:rPr>
              <a:t>Recommandations CNS : « Elargir, après évaluation de leurs performances par les autorités compétentes, l’utilisation des tests rapides sanguins ….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Bonne performance générale en ce qui concerne les échantillons positifs sér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Différences importantes de sensibilité sur les échantillons de séroconversion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entre les T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Praticabilité dans le cadre d’une utilisation par des professionnels de santé, hors LABM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Seuls 3 tests (+ Oraquick)  utilisables hors laborat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Différences dans la mise en œuvre des tests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Perspectives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Nécessité de poursuivre l’évaluation sur des échantillons de sang total capillaire + sal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	</a:t>
            </a: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= seconde phase de l’étude Afssaps (en 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4 tests inclus dans l’é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200 patients séropositifs V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rofessionnels de santé hors L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Place des TDR combinés Ag / Ac arrivant sur le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Evaluation des nouveaux tests sang total arrivant sur le marché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Le dépistage du VIH par les LABM : Place des TDR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34136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2008 : environ 2850 LABM ayant déclaré à l’Afssaps pratiquer le dépistage des Ac anti-VI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% de résultats rendus dans les LABM par catégorie de tests (source DEEQ, opérations 08VIR1/ 06VIR1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26920" y="3213000"/>
          <a:ext cx="7632720" cy="2160720"/>
        </p:xfrm>
        <a:graphic>
          <a:graphicData uri="http://schemas.openxmlformats.org/drawingml/2006/table">
            <a:tbl>
              <a:tblPr/>
              <a:tblGrid>
                <a:gridCol w="2544840"/>
                <a:gridCol w="2543400"/>
                <a:gridCol w="254448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ril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olution /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st d’agglut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1,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 0,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st ELISA 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,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0,8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st combiné Ag-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8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 1,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Le dépistage du VIH par les LABM : Place des TDR dans le double test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Répartition des techniques dans le double dépistage (source 08VIR1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34136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63640" y="2492280"/>
          <a:ext cx="5832720" cy="21607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224000"/>
                <a:gridCol w="1152720"/>
                <a:gridCol w="11509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g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g-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g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rrêté du 28/04/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,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,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. Ag-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,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686280" y="50846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86,5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472428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Le marché des TDR en France (novembre 2008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268280"/>
            <a:ext cx="83674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197000"/>
          <a:ext cx="7632720" cy="4748040"/>
        </p:xfrm>
        <a:graphic>
          <a:graphicData uri="http://schemas.openxmlformats.org/drawingml/2006/table">
            <a:tbl>
              <a:tblPr/>
              <a:tblGrid>
                <a:gridCol w="2808360"/>
                <a:gridCol w="2212920"/>
                <a:gridCol w="1459080"/>
                <a:gridCol w="115236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bric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rib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r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HIV 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Diagn. (U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termine HIV 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path Ltd (U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, P,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ublecheck II HIV 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enics Ltd (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,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unoComb II HIV1+2 Bisp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genics Ltd (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,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munoflow HIV1-HIV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re Diagn. (U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I HIV-1 HIV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olytical (C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, P,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aquick Advance rapid HIV 1/2 antibody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asure (U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, ST, 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ocheck H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lpro Diagn. (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troscreen H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Qualpro Diagn. (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KIA H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iomerieux (F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, P,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684360" y="587700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 : sérum / P : plasma / ST : sang total capillaire ou veineux / Sal : prélèvement gingival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Etudes Afssaps de performances des TDR VIH : Déroulement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34136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1</a:t>
            </a:r>
            <a:r>
              <a:rPr b="1" lang="fr-FR" sz="1800" spc="-1" strike="noStrike" baseline="30000">
                <a:solidFill>
                  <a:srgbClr val="73bd1f"/>
                </a:solidFill>
                <a:latin typeface="Verdana"/>
              </a:rPr>
              <a:t>ère</a:t>
            </a: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 phase : Performances en laboratoire et praticabilité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Objectifs : Etudier les performances des TDR VIH sur des échantillons sériques. Evaluer la praticabilité des 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Experts : F. Barin, J. Izopet, TD. Ly, F. Si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éroulement : déc. 2007 – jan.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2</a:t>
            </a:r>
            <a:r>
              <a:rPr b="1" lang="fr-FR" sz="1800" spc="-1" strike="noStrike" baseline="30000">
                <a:solidFill>
                  <a:srgbClr val="73bd1f"/>
                </a:solidFill>
                <a:latin typeface="Verdana"/>
              </a:rPr>
              <a:t>eme</a:t>
            </a: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 phase : Corrélation entre les matrices de prélèveme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Objectifs : Etude de la corrélation entre salive / sang total capillaire / sérum ou pl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Lieu : SMIT Pr JM Molina, Hôpital St Louis / Pr F. Si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Déroulement : nov. 2008- fév.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68120"/>
            <a:ext cx="639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actifs inclus dans première phase 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268280"/>
            <a:ext cx="83674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34136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Tous les tests rapides marqués CE et présents sur le marché français fin 2007 : 8 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Core HIV 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Determine HIV 1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Doublecheck II HIV 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ImmunoComb II HIV1+2 Bisp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Immunoflow HIV1-H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INSTI HIV-1 HIV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Retroscreen H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ctr">
              <a:lnSpc>
                <a:spcPts val="22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VIKIA H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Protocole d’étude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Etude des performanc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anel d’échantillons sériques (TD Ly, L. Maisonneuv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F. Simon / P. Pal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94 positifs (tests de dépistage et de confirmation positifs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7840" indent="-17640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46 B, 41 non-B et CRF,  2 VIH-1 O, 5 VIH-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6 primo-infections : tests de dépistage positifs, profil WB avec réactivité probable (ANAES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50 négat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Panels commerciaux de séroconversion : Zeptometrix 12007, HIV9032, HIV9079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Evaluation de la praticabilité en conditions « hors laboratoire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sultats panel d’échantillons sériques (1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Taux d’échec des essai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Contrôle intern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7 réactifs sur 8 : aucun éc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Doublecheck II : 10 tests invalides (spot contrôle  -) sur des échantillons positifs forts (phénomène connu et précisé dans la notice du réactif) </a:t>
            </a: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 dilution de l’échanti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Migration de l’échantillon : problèmes pour 3/1200 essa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ts val="2200"/>
              </a:lnSpc>
              <a:spcBef>
                <a:spcPts val="45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3bd1f"/>
                </a:solidFill>
                <a:latin typeface="Verdana"/>
              </a:rPr>
              <a:t>Spécificité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7/8 réactifs : aucun faux posi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1 échantillon faussement positif avec Determine HIV 1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ésultats panel d’échantillons sériques (2)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268280"/>
            <a:ext cx="8367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499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3bd1f"/>
                </a:solidFill>
                <a:latin typeface="Verdana"/>
              </a:rPr>
              <a:t>Sensibilité diagnost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VIH-1 sous types B : Aucun résultat faussement négatif sur 46 échantill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VIH-1 sous-types non B (n=41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1 échantillon sous-type A : négatif pour 3/8 réactifs (Core, Immunoflow, Retroscre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VIH-1 groupe O (n=2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1 faux négatif avec 1 réactif :C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VIH-2 : Aucun faux négatif parmi les 5 échantillons / réaction croisée HIV-1/HIV-2 pour les 3 réactifs permettant de différentier les vir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09:58:58Z</dcterms:created>
  <dc:creator>cleroy</dc:creator>
  <dc:description/>
  <dc:language>en-US</dc:language>
  <cp:lastModifiedBy>Elaforge</cp:lastModifiedBy>
  <dcterms:modified xsi:type="dcterms:W3CDTF">2008-11-17T14:42:13Z</dcterms:modified>
  <cp:revision>173</cp:revision>
  <dc:subject/>
  <dc:title>Présentation Afssaps  2004</dc:title>
</cp:coreProperties>
</file>