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8.png" ContentType="image/png"/>
  <Override PartName="/ppt/media/image17.png" ContentType="image/png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4.png" ContentType="image/png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B1A8-2C23-4264-BF98-956E43CA7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F0EC-75B9-448B-9527-6250224F8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E528-30A7-4D63-A0F3-25520F76A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8D7C-5EB9-4E9B-BC06-5DA2FB1C2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CE14-AB24-4F4F-99F4-AD8664DF6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E74C-7309-411C-B68F-91B033E86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64DB-A9FA-47DB-A2E0-4EB91F2ED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5131-D552-43AE-B277-E9E1E6C69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4F6B-2DF4-47E5-BFC0-D7070D0CD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A95A-93D5-49AA-87B3-3F79BDCEF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8517-C7F4-4F7B-A8DD-F5548C5B8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D756-7599-4D35-8115-00B8FA0B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45C36-E8B9-427A-9A3C-37377956B6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457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pidémiologie de l’hépatite E</a:t>
            </a:r>
            <a:br>
              <a:rPr sz="4400"/>
            </a:br>
            <a:br>
              <a:rPr sz="4400"/>
            </a:b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http://www.cnr.vha-vhe.aph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3597120" cy="26938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124080" y="838080"/>
            <a:ext cx="3581640" cy="2362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Jaundice"/>
          <p:cNvPicPr/>
          <p:nvPr/>
        </p:nvPicPr>
        <p:blipFill>
          <a:blip r:embed="rId3"/>
          <a:stretch/>
        </p:blipFill>
        <p:spPr>
          <a:xfrm>
            <a:off x="6095880" y="1981080"/>
            <a:ext cx="2722680" cy="18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447920" y="762120"/>
          <a:ext cx="6460920" cy="609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762120"/>
                    <a:ext cx="646092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236160" y="379440"/>
            <a:ext cx="854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ion géographique des cas d’hépatites E autochton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0 cas (200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-162000" y="-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Untitled" descr=""/>
          <p:cNvPicPr/>
          <p:nvPr/>
        </p:nvPicPr>
        <p:blipFill>
          <a:blip r:embed="rId1"/>
          <a:stretch/>
        </p:blipFill>
        <p:spPr>
          <a:xfrm>
            <a:off x="1143000" y="-1143000"/>
            <a:ext cx="9468000" cy="114584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400" y="228600"/>
            <a:ext cx="409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ersité génétique des vi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05240" y="3851280"/>
            <a:ext cx="333000" cy="45972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24560" y="4537080"/>
            <a:ext cx="33300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714920" y="4689360"/>
            <a:ext cx="333000" cy="4597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67560" y="3165480"/>
            <a:ext cx="33300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épatites E et Évolution  clin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838080" y="593640"/>
          <a:ext cx="6477120" cy="6264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593640"/>
                    <a:ext cx="6477120" cy="62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7025400" y="6172200"/>
            <a:ext cx="21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ou et al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Hépatites E et Immunodé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9360" y="1523880"/>
            <a:ext cx="9134640" cy="413568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312920" y="3054240"/>
            <a:ext cx="1440" cy="18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246320" y="491328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46320" y="464508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46320" y="438480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46320" y="411804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46320" y="384984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46320" y="358128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46320" y="332100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46320" y="305424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12920" y="4876560"/>
            <a:ext cx="7526160" cy="36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312920" y="491292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20960" y="491292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558880" y="491292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3186000" y="491292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803760" y="491292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432320" y="491292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040360" y="491292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676840" y="491292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6305400" y="4912920"/>
            <a:ext cx="18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904080" y="4912920"/>
            <a:ext cx="144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47960" y="3497400"/>
            <a:ext cx="4065480" cy="1317600"/>
          </a:xfrm>
          <a:custGeom>
            <a:avLst/>
            <a:gdLst/>
            <a:ahLst/>
            <a:rect l="l" t="t" r="r" b="b"/>
            <a:pathLst>
              <a:path w="421" h="187">
                <a:moveTo>
                  <a:pt x="0" y="0"/>
                </a:moveTo>
                <a:lnTo>
                  <a:pt x="7" y="30"/>
                </a:lnTo>
                <a:lnTo>
                  <a:pt x="11" y="54"/>
                </a:lnTo>
                <a:lnTo>
                  <a:pt x="15" y="80"/>
                </a:lnTo>
                <a:lnTo>
                  <a:pt x="22" y="114"/>
                </a:lnTo>
                <a:lnTo>
                  <a:pt x="26" y="123"/>
                </a:lnTo>
                <a:lnTo>
                  <a:pt x="30" y="131"/>
                </a:lnTo>
                <a:lnTo>
                  <a:pt x="36" y="152"/>
                </a:lnTo>
                <a:lnTo>
                  <a:pt x="57" y="165"/>
                </a:lnTo>
                <a:lnTo>
                  <a:pt x="89" y="163"/>
                </a:lnTo>
                <a:lnTo>
                  <a:pt x="281" y="174"/>
                </a:lnTo>
                <a:lnTo>
                  <a:pt x="340" y="180"/>
                </a:lnTo>
                <a:lnTo>
                  <a:pt x="421" y="187"/>
                </a:lnTo>
              </a:path>
            </a:pathLst>
          </a:cu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47960" y="4343400"/>
            <a:ext cx="4065480" cy="534960"/>
          </a:xfrm>
          <a:custGeom>
            <a:avLst/>
            <a:gdLst/>
            <a:ahLst/>
            <a:rect l="l" t="t" r="r" b="b"/>
            <a:pathLst>
              <a:path w="421" h="76">
                <a:moveTo>
                  <a:pt x="0" y="39"/>
                </a:moveTo>
                <a:lnTo>
                  <a:pt x="7" y="22"/>
                </a:lnTo>
                <a:lnTo>
                  <a:pt x="11" y="16"/>
                </a:lnTo>
                <a:lnTo>
                  <a:pt x="15" y="3"/>
                </a:lnTo>
                <a:lnTo>
                  <a:pt x="22" y="1"/>
                </a:lnTo>
                <a:lnTo>
                  <a:pt x="26" y="0"/>
                </a:lnTo>
                <a:lnTo>
                  <a:pt x="30" y="8"/>
                </a:lnTo>
                <a:lnTo>
                  <a:pt x="36" y="6"/>
                </a:lnTo>
                <a:lnTo>
                  <a:pt x="57" y="39"/>
                </a:lnTo>
                <a:lnTo>
                  <a:pt x="89" y="65"/>
                </a:lnTo>
                <a:lnTo>
                  <a:pt x="281" y="76"/>
                </a:lnTo>
                <a:lnTo>
                  <a:pt x="340" y="75"/>
                </a:lnTo>
                <a:lnTo>
                  <a:pt x="421" y="71"/>
                </a:lnTo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00440" y="3462480"/>
            <a:ext cx="96840" cy="69840"/>
          </a:xfrm>
          <a:custGeom>
            <a:avLst/>
            <a:gdLst/>
            <a:ahLst/>
            <a:rect l="l" t="t" r="r" b="b"/>
            <a:pathLst>
              <a:path w="61" h="44">
                <a:moveTo>
                  <a:pt x="30" y="0"/>
                </a:moveTo>
                <a:lnTo>
                  <a:pt x="61" y="22"/>
                </a:lnTo>
                <a:lnTo>
                  <a:pt x="30" y="44"/>
                </a:lnTo>
                <a:lnTo>
                  <a:pt x="0" y="22"/>
                </a:lnTo>
                <a:lnTo>
                  <a:pt x="30" y="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67040" y="3673440"/>
            <a:ext cx="96840" cy="71640"/>
          </a:xfrm>
          <a:custGeom>
            <a:avLst/>
            <a:gdLst/>
            <a:ahLst/>
            <a:rect l="l" t="t" r="r" b="b"/>
            <a:pathLst>
              <a:path w="61" h="45">
                <a:moveTo>
                  <a:pt x="31" y="0"/>
                </a:moveTo>
                <a:lnTo>
                  <a:pt x="61" y="22"/>
                </a:lnTo>
                <a:lnTo>
                  <a:pt x="31" y="45"/>
                </a:lnTo>
                <a:lnTo>
                  <a:pt x="0" y="22"/>
                </a:lnTo>
                <a:lnTo>
                  <a:pt x="31" y="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906640" y="3843360"/>
            <a:ext cx="96840" cy="69840"/>
          </a:xfrm>
          <a:custGeom>
            <a:avLst/>
            <a:gdLst/>
            <a:ahLst/>
            <a:rect l="l" t="t" r="r" b="b"/>
            <a:pathLst>
              <a:path w="61" h="44">
                <a:moveTo>
                  <a:pt x="30" y="0"/>
                </a:moveTo>
                <a:lnTo>
                  <a:pt x="61" y="22"/>
                </a:lnTo>
                <a:lnTo>
                  <a:pt x="30" y="44"/>
                </a:lnTo>
                <a:lnTo>
                  <a:pt x="0" y="22"/>
                </a:lnTo>
                <a:lnTo>
                  <a:pt x="30" y="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944800" y="4025880"/>
            <a:ext cx="96840" cy="69840"/>
          </a:xfrm>
          <a:custGeom>
            <a:avLst/>
            <a:gdLst/>
            <a:ahLst/>
            <a:rect l="l" t="t" r="r" b="b"/>
            <a:pathLst>
              <a:path w="61" h="44">
                <a:moveTo>
                  <a:pt x="31" y="0"/>
                </a:moveTo>
                <a:lnTo>
                  <a:pt x="61" y="22"/>
                </a:lnTo>
                <a:lnTo>
                  <a:pt x="31" y="44"/>
                </a:lnTo>
                <a:lnTo>
                  <a:pt x="0" y="22"/>
                </a:lnTo>
                <a:lnTo>
                  <a:pt x="31" y="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13200" y="4265640"/>
            <a:ext cx="96840" cy="69840"/>
          </a:xfrm>
          <a:custGeom>
            <a:avLst/>
            <a:gdLst/>
            <a:ahLst/>
            <a:rect l="l" t="t" r="r" b="b"/>
            <a:pathLst>
              <a:path w="61" h="44">
                <a:moveTo>
                  <a:pt x="30" y="0"/>
                </a:moveTo>
                <a:lnTo>
                  <a:pt x="61" y="22"/>
                </a:lnTo>
                <a:lnTo>
                  <a:pt x="30" y="44"/>
                </a:lnTo>
                <a:lnTo>
                  <a:pt x="0" y="22"/>
                </a:lnTo>
                <a:lnTo>
                  <a:pt x="30" y="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51000" y="4329000"/>
            <a:ext cx="96840" cy="69840"/>
          </a:xfrm>
          <a:custGeom>
            <a:avLst/>
            <a:gdLst/>
            <a:ahLst/>
            <a:rect l="l" t="t" r="r" b="b"/>
            <a:pathLst>
              <a:path w="61" h="44">
                <a:moveTo>
                  <a:pt x="30" y="0"/>
                </a:moveTo>
                <a:lnTo>
                  <a:pt x="61" y="22"/>
                </a:lnTo>
                <a:lnTo>
                  <a:pt x="30" y="44"/>
                </a:lnTo>
                <a:lnTo>
                  <a:pt x="0" y="22"/>
                </a:lnTo>
                <a:lnTo>
                  <a:pt x="30" y="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89160" y="4384800"/>
            <a:ext cx="96840" cy="71280"/>
          </a:xfrm>
          <a:custGeom>
            <a:avLst/>
            <a:gdLst/>
            <a:ahLst/>
            <a:rect l="l" t="t" r="r" b="b"/>
            <a:pathLst>
              <a:path w="61" h="45">
                <a:moveTo>
                  <a:pt x="31" y="0"/>
                </a:moveTo>
                <a:lnTo>
                  <a:pt x="61" y="22"/>
                </a:lnTo>
                <a:lnTo>
                  <a:pt x="31" y="45"/>
                </a:lnTo>
                <a:lnTo>
                  <a:pt x="0" y="22"/>
                </a:lnTo>
                <a:lnTo>
                  <a:pt x="31" y="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47840" y="4532400"/>
            <a:ext cx="96840" cy="71280"/>
          </a:xfrm>
          <a:custGeom>
            <a:avLst/>
            <a:gdLst/>
            <a:ahLst/>
            <a:rect l="l" t="t" r="r" b="b"/>
            <a:pathLst>
              <a:path w="61" h="45">
                <a:moveTo>
                  <a:pt x="30" y="0"/>
                </a:moveTo>
                <a:lnTo>
                  <a:pt x="61" y="23"/>
                </a:lnTo>
                <a:lnTo>
                  <a:pt x="30" y="45"/>
                </a:lnTo>
                <a:lnTo>
                  <a:pt x="0" y="23"/>
                </a:lnTo>
                <a:lnTo>
                  <a:pt x="30" y="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351240" y="4624560"/>
            <a:ext cx="95400" cy="71280"/>
          </a:xfrm>
          <a:custGeom>
            <a:avLst/>
            <a:gdLst/>
            <a:ahLst/>
            <a:rect l="l" t="t" r="r" b="b"/>
            <a:pathLst>
              <a:path w="60" h="45">
                <a:moveTo>
                  <a:pt x="30" y="0"/>
                </a:moveTo>
                <a:lnTo>
                  <a:pt x="60" y="22"/>
                </a:lnTo>
                <a:lnTo>
                  <a:pt x="30" y="45"/>
                </a:lnTo>
                <a:lnTo>
                  <a:pt x="0" y="22"/>
                </a:lnTo>
                <a:lnTo>
                  <a:pt x="30" y="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59040" y="4610160"/>
            <a:ext cx="96840" cy="71280"/>
          </a:xfrm>
          <a:custGeom>
            <a:avLst/>
            <a:gdLst/>
            <a:ahLst/>
            <a:rect l="l" t="t" r="r" b="b"/>
            <a:pathLst>
              <a:path w="61" h="45">
                <a:moveTo>
                  <a:pt x="31" y="0"/>
                </a:moveTo>
                <a:lnTo>
                  <a:pt x="61" y="22"/>
                </a:lnTo>
                <a:lnTo>
                  <a:pt x="31" y="45"/>
                </a:lnTo>
                <a:lnTo>
                  <a:pt x="0" y="22"/>
                </a:lnTo>
                <a:lnTo>
                  <a:pt x="31" y="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513400" y="4687920"/>
            <a:ext cx="96840" cy="69840"/>
          </a:xfrm>
          <a:custGeom>
            <a:avLst/>
            <a:gdLst/>
            <a:ahLst/>
            <a:rect l="l" t="t" r="r" b="b"/>
            <a:pathLst>
              <a:path w="61" h="44">
                <a:moveTo>
                  <a:pt x="30" y="0"/>
                </a:moveTo>
                <a:lnTo>
                  <a:pt x="61" y="22"/>
                </a:lnTo>
                <a:lnTo>
                  <a:pt x="30" y="44"/>
                </a:lnTo>
                <a:lnTo>
                  <a:pt x="0" y="22"/>
                </a:lnTo>
                <a:lnTo>
                  <a:pt x="30" y="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83280" y="4730760"/>
            <a:ext cx="96840" cy="69840"/>
          </a:xfrm>
          <a:custGeom>
            <a:avLst/>
            <a:gdLst/>
            <a:ahLst/>
            <a:rect l="l" t="t" r="r" b="b"/>
            <a:pathLst>
              <a:path w="61" h="44">
                <a:moveTo>
                  <a:pt x="30" y="0"/>
                </a:moveTo>
                <a:lnTo>
                  <a:pt x="61" y="22"/>
                </a:lnTo>
                <a:lnTo>
                  <a:pt x="30" y="44"/>
                </a:lnTo>
                <a:lnTo>
                  <a:pt x="0" y="22"/>
                </a:lnTo>
                <a:lnTo>
                  <a:pt x="30" y="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65920" y="4780080"/>
            <a:ext cx="95400" cy="69840"/>
          </a:xfrm>
          <a:custGeom>
            <a:avLst/>
            <a:gdLst/>
            <a:ahLst/>
            <a:rect l="l" t="t" r="r" b="b"/>
            <a:pathLst>
              <a:path w="60" h="44">
                <a:moveTo>
                  <a:pt x="30" y="0"/>
                </a:moveTo>
                <a:lnTo>
                  <a:pt x="60" y="22"/>
                </a:lnTo>
                <a:lnTo>
                  <a:pt x="30" y="44"/>
                </a:lnTo>
                <a:lnTo>
                  <a:pt x="0" y="22"/>
                </a:lnTo>
                <a:lnTo>
                  <a:pt x="30" y="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800440" y="4583160"/>
            <a:ext cx="87120" cy="619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67040" y="4462560"/>
            <a:ext cx="87120" cy="63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906640" y="4419720"/>
            <a:ext cx="87480" cy="63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44800" y="4329000"/>
            <a:ext cx="87480" cy="63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13200" y="4314960"/>
            <a:ext cx="85680" cy="63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51000" y="4307040"/>
            <a:ext cx="87480" cy="63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89160" y="4363920"/>
            <a:ext cx="87480" cy="63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47840" y="4349880"/>
            <a:ext cx="87480" cy="63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351240" y="4583160"/>
            <a:ext cx="85680" cy="619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659040" y="4765680"/>
            <a:ext cx="87480" cy="63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13400" y="4843440"/>
            <a:ext cx="87480" cy="63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83280" y="4835520"/>
            <a:ext cx="87480" cy="63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65920" y="4808520"/>
            <a:ext cx="85680" cy="619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08800" y="480060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26280" y="453240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mic Sans MS"/>
              </a:rPr>
              <a:t>25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26280" y="427212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mic Sans MS"/>
              </a:rPr>
              <a:t>5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26280" y="400536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mic Sans MS"/>
              </a:rPr>
              <a:t>75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7360" y="373680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mic Sans MS"/>
              </a:rPr>
              <a:t>1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37360" y="346860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mic Sans MS"/>
              </a:rPr>
              <a:t>125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37360" y="320832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mic Sans MS"/>
              </a:rPr>
              <a:t>15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37360" y="294156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mic Sans MS"/>
              </a:rPr>
              <a:t>175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18000000">
            <a:off x="915480" y="5062680"/>
            <a:ext cx="415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mic Sans MS"/>
              </a:rPr>
              <a:t>10-juin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18000000">
            <a:off x="1457640" y="518508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Comic Sans MS"/>
              </a:rPr>
              <a:t>10-juil.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8000000">
            <a:off x="2145600" y="5054040"/>
            <a:ext cx="450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mic Sans MS"/>
              </a:rPr>
              <a:t>10-août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18000000">
            <a:off x="2762640" y="5056200"/>
            <a:ext cx="4640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mic Sans MS"/>
              </a:rPr>
              <a:t>10-sept.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18000000">
            <a:off x="3418920" y="5051520"/>
            <a:ext cx="412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mic Sans MS"/>
              </a:rPr>
              <a:t>10-oct.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18000000">
            <a:off x="4024080" y="5057640"/>
            <a:ext cx="436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mic Sans MS"/>
              </a:rPr>
              <a:t>10-nov.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18000000">
            <a:off x="4638960" y="5058360"/>
            <a:ext cx="432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mic Sans MS"/>
              </a:rPr>
              <a:t>10-déc.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18000000">
            <a:off x="5253840" y="5063760"/>
            <a:ext cx="456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mic Sans MS"/>
              </a:rPr>
              <a:t>10-janv.-0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18000000">
            <a:off x="5881680" y="5061960"/>
            <a:ext cx="445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mic Sans MS"/>
              </a:rPr>
              <a:t>10-févr.-0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18000000">
            <a:off x="6476760" y="5056200"/>
            <a:ext cx="471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mic Sans MS"/>
              </a:rPr>
              <a:t>10-mars-0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238880" y="5562720"/>
            <a:ext cx="1575000" cy="54288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391520" y="5638680"/>
            <a:ext cx="280800" cy="18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543800" y="5638680"/>
            <a:ext cx="96840" cy="71640"/>
          </a:xfrm>
          <a:custGeom>
            <a:avLst/>
            <a:gdLst/>
            <a:ahLst/>
            <a:rect l="l" t="t" r="r" b="b"/>
            <a:pathLst>
              <a:path w="61" h="45">
                <a:moveTo>
                  <a:pt x="30" y="0"/>
                </a:moveTo>
                <a:lnTo>
                  <a:pt x="61" y="23"/>
                </a:lnTo>
                <a:lnTo>
                  <a:pt x="30" y="45"/>
                </a:lnTo>
                <a:lnTo>
                  <a:pt x="0" y="23"/>
                </a:lnTo>
                <a:lnTo>
                  <a:pt x="30" y="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83920" y="5562720"/>
            <a:ext cx="352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8000"/>
                </a:solidFill>
                <a:latin typeface="Comic Sans MS"/>
              </a:rPr>
              <a:t>ALA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391520" y="5867280"/>
            <a:ext cx="280800" cy="180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467480" y="5867280"/>
            <a:ext cx="87480" cy="63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815600" y="5791320"/>
            <a:ext cx="68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9cc00"/>
                </a:solidFill>
                <a:latin typeface="Comic Sans MS"/>
              </a:rPr>
              <a:t>Bilirubi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1447920"/>
            <a:ext cx="9134640" cy="41353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66880" y="4343400"/>
            <a:ext cx="71640" cy="43164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487080" y="2254320"/>
            <a:ext cx="171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487080" y="1878120"/>
            <a:ext cx="1760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487080" y="2614680"/>
            <a:ext cx="2106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438280" y="2057400"/>
            <a:ext cx="339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Comic Sans M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438280" y="1828800"/>
            <a:ext cx="339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438280" y="2362320"/>
            <a:ext cx="339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743200" y="2057400"/>
            <a:ext cx="339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Comic Sans M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743200" y="1828800"/>
            <a:ext cx="339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2362320"/>
            <a:ext cx="339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124080" y="5410080"/>
            <a:ext cx="118908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Comic Sans MS"/>
              </a:rPr>
              <a:t>Débu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Comic Sans MS"/>
              </a:rPr>
              <a:t>sig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Comic Sans MS"/>
              </a:rPr>
              <a:t>clin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410080" y="2057400"/>
            <a:ext cx="339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Comic Sans M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648320" y="1828800"/>
            <a:ext cx="339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0" y="2362320"/>
            <a:ext cx="339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2057400"/>
            <a:ext cx="339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Comic Sans M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48120" y="1828800"/>
            <a:ext cx="339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124080" y="2362320"/>
            <a:ext cx="339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2133720"/>
            <a:ext cx="442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Comic Sans MS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429000" y="1905120"/>
            <a:ext cx="442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mic Sans MS"/>
              </a:rPr>
              <a:t>N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749920" y="2727360"/>
            <a:ext cx="442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0" y="2057400"/>
            <a:ext cx="339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Comic Sans M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1828800"/>
            <a:ext cx="339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86200" y="2362320"/>
            <a:ext cx="339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487080" y="2979720"/>
            <a:ext cx="2063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438280" y="2666880"/>
            <a:ext cx="44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Comic Sans MS"/>
              </a:rPr>
              <a:t>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442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Comic Sans MS"/>
              </a:rPr>
              <a:t>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2590920"/>
            <a:ext cx="339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Comic Sans MS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24080" y="2590920"/>
            <a:ext cx="339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Comic Sans MS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0" y="3048120"/>
            <a:ext cx="339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Comic Sans M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86200" y="2590920"/>
            <a:ext cx="339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Comic Sans MS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867280" y="2057400"/>
            <a:ext cx="339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Comic Sans M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943600" y="1828800"/>
            <a:ext cx="33984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238880" y="2286000"/>
            <a:ext cx="339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34120" y="2590920"/>
            <a:ext cx="339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Comic Sans MS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547200" y="6202440"/>
            <a:ext cx="175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438280" y="1828800"/>
            <a:ext cx="6705720" cy="10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590920" y="2971800"/>
            <a:ext cx="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895480" y="2971800"/>
            <a:ext cx="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76720" y="2971800"/>
            <a:ext cx="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19920" y="2971800"/>
            <a:ext cx="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24280" y="2971800"/>
            <a:ext cx="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10080" y="2971800"/>
            <a:ext cx="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53080" y="2971800"/>
            <a:ext cx="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2971800"/>
            <a:ext cx="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3920" y="1752480"/>
            <a:ext cx="167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Comic Sans MS"/>
              </a:rPr>
              <a:t>IgM anti-V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360" y="205740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ff"/>
                </a:solidFill>
                <a:latin typeface="Comic Sans MS"/>
              </a:rPr>
              <a:t>IgG anti-V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240" y="2438280"/>
            <a:ext cx="20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PCR VHE : sé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2920" y="266688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Comic Sans MS"/>
              </a:rPr>
              <a:t>PCR VHE : sel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35400" y="6172200"/>
            <a:ext cx="172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NR = non renseign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873760" y="25909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Comic Sans MS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934320" y="4800600"/>
            <a:ext cx="1981080" cy="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411520" y="17524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34120" y="2286000"/>
            <a:ext cx="54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73760" y="23623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83240" y="18288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438960" y="2057400"/>
            <a:ext cx="26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Comic Sans M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407280" y="2286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07280" y="25909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Comic Sans MS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64480" y="18288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64480" y="2286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64480" y="25909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Comic Sans MS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238880" y="1828800"/>
            <a:ext cx="51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8625200">
            <a:off x="6815520" y="5148000"/>
            <a:ext cx="63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04/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254000" y="2664000"/>
            <a:ext cx="41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Comic Sans MS"/>
              </a:rPr>
              <a:t>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19042800">
            <a:off x="7772760" y="5105160"/>
            <a:ext cx="63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07/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49600" y="330660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931160" y="18288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007480" y="2286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21480600">
            <a:off x="8007120" y="25905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Comic Sans MS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18060000">
            <a:off x="8339760" y="5147640"/>
            <a:ext cx="63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09/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763120" y="2057400"/>
            <a:ext cx="4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Comic Sans M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810640" y="18288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842320" y="2286000"/>
            <a:ext cx="26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810640" y="25909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Comic Sans MS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Hépatite E persistante (ARN &gt; 6 mois (10-24 mois)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(Kamar et al. 200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14 transplantés d’org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étavir 1.3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±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épatite E sur hépatopathie chron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ggravation- décès 6/9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Ramachandran et al. 200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épatite E et femmes encei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ugmentation taux létalité (20-54%)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(Bahtia et al. 2008, Bernuau et al. 200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"/>
          <p:cNvGraphicFramePr/>
          <p:nvPr/>
        </p:nvGraphicFramePr>
        <p:xfrm>
          <a:off x="457200" y="0"/>
          <a:ext cx="777240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0"/>
                    <a:ext cx="77724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épatite E et origine de contamination</a:t>
            </a:r>
            <a:br>
              <a:rPr sz="4400"/>
            </a:br>
            <a:br>
              <a:rPr sz="4400"/>
            </a:br>
            <a:r>
              <a:rPr b="0" lang="en-US" sz="60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1" name=""/>
          <p:cNvGraphicFramePr/>
          <p:nvPr/>
        </p:nvGraphicFramePr>
        <p:xfrm>
          <a:off x="1219320" y="1066680"/>
          <a:ext cx="7427880" cy="49532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066680"/>
                    <a:ext cx="7427880" cy="495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épatite E et maladie émerg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épatite E et évolution cli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épatite E et origine de contam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épatite E et Maladie à 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3" name=""/>
          <p:cNvGraphicFramePr/>
          <p:nvPr/>
        </p:nvGraphicFramePr>
        <p:xfrm>
          <a:off x="838080" y="1600200"/>
          <a:ext cx="7086600" cy="421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00200"/>
                    <a:ext cx="7086600" cy="421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>
            <a:off x="1282320" y="522360"/>
            <a:ext cx="74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eurs d’exposition: 53/90 cas (CNR-2007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981080" y="1066680"/>
            <a:ext cx="4681800" cy="45547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6537960" y="575640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lton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épatite et maladie à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619360" y="195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629480" cy="57499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1905840" y="685800"/>
            <a:ext cx="531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stigation des cas en Fra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épatite E et DO en 2009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e de travail : INVS- cliniciens-Vétérinaires- Microbiologistes- CN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CS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657600" y="3505320"/>
            <a:ext cx="1066680" cy="10666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ercie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nici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ticiens biologis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étérinaires (EN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S-Section maladies infectie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Équipe du CNR V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74560" y="595440"/>
            <a:ext cx="8569440" cy="49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023920" y="15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89104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82440" y="1346040"/>
          <a:ext cx="8979120" cy="4165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440" y="1346040"/>
                    <a:ext cx="8979120" cy="416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536400" y="457200"/>
            <a:ext cx="823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Cas d’hépatites E autochtones- en zone d’endém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380880" y="228600"/>
          <a:ext cx="8610840" cy="5446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8600"/>
                    <a:ext cx="8610840" cy="544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2408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52280" y="152280"/>
          <a:ext cx="8407440" cy="589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407440" cy="589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405080" y="187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0" y="1143000"/>
          <a:ext cx="9629640" cy="472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9629640" cy="472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533520" y="1905120"/>
          <a:ext cx="7238880" cy="37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905120"/>
                    <a:ext cx="7238880" cy="37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2806200" y="979560"/>
            <a:ext cx="372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épatites E en F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14:27:15Z</dcterms:created>
  <dc:creator>MC Nicand</dc:creator>
  <dc:description/>
  <dc:language>en-US</dc:language>
  <cp:lastModifiedBy>MC Nicand</cp:lastModifiedBy>
  <dcterms:modified xsi:type="dcterms:W3CDTF">2008-11-19T11:48:40Z</dcterms:modified>
  <cp:revision>17</cp:revision>
  <dc:subject/>
  <dc:title>Epidémiologie de l’hépatite E</dc:title>
</cp:coreProperties>
</file>