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E9B-3A50-46EE-90E1-F3E21A85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671-930D-4D59-8287-A2B52E43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F2E-5415-47B5-ABC2-5BD0CCB7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AC3-9944-4E27-AF08-08546273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C5F-FF6C-45E5-B54B-CFCC8F8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C6F-9697-4E8A-8888-46669981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432-EECE-41BD-8CC0-FED5ECB5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04F-BDF2-4540-885F-5C0BE2E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6A21-F039-4046-899D-E5F9CBA0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14C-8EE7-40FB-9E65-B9F4CF10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7AF-DE0F-40D4-B01E-D7D2DEAA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AC5-9BFA-4E48-9915-3DF3CCC6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8EF-929C-4BCC-AB7A-5BB1C3369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valuation des performances de la stratégie de dépistage de l’infection par le VIH basée sur l’utilisation de 2 tests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571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r Florence Dam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boratoire de Vir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Hôpital Bichat Claude Bern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ésulta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chantillons de séroconversion VIH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11520" y="2533680"/>
            <a:ext cx="52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= 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2640" y="253368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c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27600" y="253368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c nég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58360" y="3116160"/>
            <a:ext cx="1248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g/Ac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84160" y="31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48080" y="311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34240" y="3736800"/>
            <a:ext cx="130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g/Ac nég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36720" y="3736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736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68840" y="2500200"/>
            <a:ext cx="1440" cy="154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68840" y="2500200"/>
            <a:ext cx="19080" cy="15447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43080" y="2789280"/>
            <a:ext cx="4862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43080" y="2800440"/>
            <a:ext cx="4862520" cy="19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4724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ensibilité du test rapide VIH Determin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Abbot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6/35 sérums ont été tes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8/26: posi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8/26 : nég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ensibilité d’un test Ag/Ac seul identique à celle de 2 tests (Ag/Ac +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pécificité d’un test Ag/Ac seul supérieure à celle de 2 tests (Ag/Ac + 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ratégie basée sur l’utilisation d’1 test unique Ag/Ac : bonne sensibilité dans la phase de séro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aute sensibilité des tests combinés Ag/Ac (10 pg –20 pg/ml) identique à celle des tests de détection de l’ Agp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clusio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’utilisation d’un seul et unique test combiné devra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duire le coût du dépistage 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iminuer le nombre de tests additionnels effectués en cas de résultats discordants entre les 2 ELISA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iter l’anxiété des patients en attente des résultats complémentai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93360" y="5540400"/>
            <a:ext cx="734508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tilisation d’un seul et unique test combiné avec une 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ensibilité pour le diagnostic initial de l’infection 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5562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clusion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Haute Autorité de Santé : rapport octob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Stratégie en 2 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alyse de dépi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alyse de confi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Maintien de la réalisation de 2 techniques de dépis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9900"/>
                </a:solidFill>
                <a:latin typeface="Arial"/>
              </a:rPr>
              <a:t>sur le même prélèvement n’est plus justifié e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Test à utilis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1 test ELISA combiné marqué CE avec seuil détection Ag p24 au moins équivalent au seuil minimal requis par la réglementation européenne en vigueur pour test Ag p24 seul (50 pg/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volution du cadre réglemen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Modification de la nomenclature en terme de libellé et de c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571500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36640" y="-380880"/>
            <a:ext cx="348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152280"/>
            <a:ext cx="655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gorithme sérologique de dépi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200" y="38160"/>
            <a:ext cx="1589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59320" y="630360"/>
            <a:ext cx="28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 Ac anti VIH-1 et VIH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t Ag p24 par un test combi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980720" y="1316160"/>
            <a:ext cx="121932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77600" y="1157760"/>
            <a:ext cx="1149840" cy="732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12398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316160"/>
            <a:ext cx="4572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20019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sence d’infection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2001960"/>
            <a:ext cx="198108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1284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1239840"/>
            <a:ext cx="45720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8840" y="2013120"/>
            <a:ext cx="221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B ou 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fférenciation VIH1/VI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505320" y="2590920"/>
            <a:ext cx="1218960" cy="6094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427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2382840"/>
            <a:ext cx="45720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2001960"/>
            <a:ext cx="26668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3220920"/>
            <a:ext cx="312444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81720" y="3308400"/>
            <a:ext cx="285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 Ac anti VIH-1 et VIH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et Ag p24 par un test combi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(2eme prélèvement)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05120" y="4211640"/>
            <a:ext cx="91440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33224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287960"/>
            <a:ext cx="457200" cy="457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4897440"/>
            <a:ext cx="237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 VIH confirm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4897440"/>
            <a:ext cx="236196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230360"/>
            <a:ext cx="890640" cy="572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4211640"/>
            <a:ext cx="45720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0800" y="42577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4821120"/>
            <a:ext cx="1218960" cy="533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48499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reur iden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535464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5600880"/>
            <a:ext cx="1234800" cy="571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0880" y="5611680"/>
            <a:ext cx="11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ô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érologi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49200" y="2702520"/>
            <a:ext cx="1149480" cy="731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284004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ou indétermi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2840040"/>
            <a:ext cx="1676520" cy="380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3449520"/>
            <a:ext cx="3124080" cy="66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74800" y="3537000"/>
            <a:ext cx="28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cherche ARN VIH plasmati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ou Ag p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38680" y="4191120"/>
            <a:ext cx="99072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44845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4440240"/>
            <a:ext cx="457200" cy="36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72200" y="4170240"/>
            <a:ext cx="1027800" cy="7239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924680" y="4419720"/>
            <a:ext cx="381240" cy="304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02440" y="44197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26960" y="500076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mo inf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973760"/>
            <a:ext cx="167652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5791320"/>
            <a:ext cx="1143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62880" y="5840280"/>
            <a:ext cx="118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ô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érologiqu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56008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5018040"/>
            <a:ext cx="2438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bsence d’inf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le réaction non spéc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4915080"/>
            <a:ext cx="259092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29320" y="5943600"/>
            <a:ext cx="257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rôle Sérolog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plorations complémen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ant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560088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410080"/>
            <a:ext cx="306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* Sauf exposition supposée au VI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ans les 6 semaines précé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Si PPE : délai reste 3 m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 le test combiné peut être identique 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érent du 1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§ 1 à 2 semaines  plus t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410080"/>
            <a:ext cx="29718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867280"/>
            <a:ext cx="266688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merci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Laboratoires de Virologi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ôpital Bichat Claude Bern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 F. Brun-Vézi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ôpital Saint Lo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 P. Pal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Hôpital N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r C. Rouzio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Méthodologie, INSERM U720, 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. D. Costagli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gnostic infection VIH en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rrêté du 4 février 1994 modifiant l’arrêté du 3 avril 1985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2 tests ELISA mixtes ou 1 ELISA mixte + 1 test rap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ests: Ac seul ou test de 4 ème génération combiné Ag/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onfirmation sur un 2ème prélèvement : 2 tests ELISA supplément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36640" y="114480"/>
            <a:ext cx="348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212760"/>
            <a:ext cx="434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gorithme sér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82680" y="855720"/>
            <a:ext cx="1589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08960" y="89388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Comic Sans MS"/>
              </a:rPr>
              <a:t>Prélèvement n°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76680" y="1236600"/>
            <a:ext cx="1103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03680" y="123516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épi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61360" y="1432080"/>
            <a:ext cx="80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2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8400" y="1711440"/>
            <a:ext cx="407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7080" y="1749600"/>
            <a:ext cx="28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–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/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2243160"/>
            <a:ext cx="26179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9600" y="2262240"/>
            <a:ext cx="203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bsence d’inf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88360" y="2484360"/>
            <a:ext cx="252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en l’absence d’ex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0" y="2705040"/>
            <a:ext cx="193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e moins de 3 m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7200" y="1711440"/>
            <a:ext cx="10731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749600"/>
            <a:ext cx="98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+/+ ou +/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17600" y="3214800"/>
            <a:ext cx="15890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84400" y="880920"/>
            <a:ext cx="158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Comic Sans MS"/>
              </a:rPr>
              <a:t>Prélèvement n°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440" y="3363840"/>
            <a:ext cx="1090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16800" y="3363840"/>
            <a:ext cx="96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WB ou 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8280" y="3559320"/>
            <a:ext cx="48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03480" y="4133880"/>
            <a:ext cx="161424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960" y="413244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mic Sans MS"/>
              </a:rPr>
              <a:t>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39200" y="4722840"/>
            <a:ext cx="151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nfection à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0560" y="5311800"/>
            <a:ext cx="158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ifférenci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34800" y="5530680"/>
            <a:ext cx="126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H-1 - VIH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81320" y="4108320"/>
            <a:ext cx="23446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2840" y="4106880"/>
            <a:ext cx="238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omic Sans MS"/>
              </a:rPr>
              <a:t>Négatif ou indétermin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6640" y="4535640"/>
            <a:ext cx="305604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000" y="483408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4320" y="4827600"/>
            <a:ext cx="190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nfection récent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000" y="518148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99560" y="5181480"/>
            <a:ext cx="75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H-2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560" y="5181480"/>
            <a:ext cx="97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WB VIH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000" y="549900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47000" y="5499000"/>
            <a:ext cx="16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Faux positif ?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2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1080" y="5499000"/>
            <a:ext cx="43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99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ffff99"/>
                </a:solidFill>
                <a:latin typeface="Comic Sans MS"/>
              </a:rPr>
              <a:t>pv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000" y="5877000"/>
            <a:ext cx="77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63920" y="5883120"/>
            <a:ext cx="27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ariant ?  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Tests spécialis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36880" y="1730520"/>
            <a:ext cx="70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2200" y="1730520"/>
            <a:ext cx="1419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19240" y="3610080"/>
            <a:ext cx="1812960" cy="17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340000" y="1371600"/>
            <a:ext cx="92160" cy="290520"/>
            <a:chOff x="2340000" y="1371600"/>
            <a:chExt cx="92160" cy="290520"/>
          </a:xfrm>
        </p:grpSpPr>
        <p:sp>
          <p:nvSpPr>
            <p:cNvPr id="87" name=""/>
            <p:cNvSpPr/>
            <p:nvPr/>
          </p:nvSpPr>
          <p:spPr>
            <a:xfrm>
              <a:off x="2378160" y="1371600"/>
              <a:ext cx="17640" cy="19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0000" y="1569960"/>
              <a:ext cx="92160" cy="9216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0"/>
                  </a:moveTo>
                  <a:lnTo>
                    <a:pt x="59" y="11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882960" y="1353960"/>
            <a:ext cx="393840" cy="1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237200" y="1371600"/>
            <a:ext cx="93600" cy="290520"/>
            <a:chOff x="4237200" y="1371600"/>
            <a:chExt cx="93600" cy="290520"/>
          </a:xfrm>
        </p:grpSpPr>
        <p:sp>
          <p:nvSpPr>
            <p:cNvPr id="91" name=""/>
            <p:cNvSpPr/>
            <p:nvPr/>
          </p:nvSpPr>
          <p:spPr>
            <a:xfrm>
              <a:off x="4276800" y="1371600"/>
              <a:ext cx="15840" cy="19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7200" y="1569960"/>
              <a:ext cx="93600" cy="9216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0" y="0"/>
                  </a:moveTo>
                  <a:lnTo>
                    <a:pt x="59" y="118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348080" y="2106720"/>
            <a:ext cx="179280" cy="1179000"/>
            <a:chOff x="4348080" y="2106720"/>
            <a:chExt cx="179280" cy="1179000"/>
          </a:xfrm>
        </p:grpSpPr>
        <p:sp>
          <p:nvSpPr>
            <p:cNvPr id="94" name=""/>
            <p:cNvSpPr/>
            <p:nvPr/>
          </p:nvSpPr>
          <p:spPr>
            <a:xfrm>
              <a:off x="4412880" y="2106720"/>
              <a:ext cx="50760" cy="10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8080" y="3106440"/>
              <a:ext cx="179280" cy="1792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0" y="0"/>
                  </a:moveTo>
                  <a:lnTo>
                    <a:pt x="113" y="224"/>
                  </a:lnTo>
                  <a:lnTo>
                    <a:pt x="2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289240" y="2038320"/>
            <a:ext cx="92160" cy="239400"/>
            <a:chOff x="2289240" y="2038320"/>
            <a:chExt cx="92160" cy="239400"/>
          </a:xfrm>
        </p:grpSpPr>
        <p:sp>
          <p:nvSpPr>
            <p:cNvPr id="97" name=""/>
            <p:cNvSpPr/>
            <p:nvPr/>
          </p:nvSpPr>
          <p:spPr>
            <a:xfrm>
              <a:off x="2327400" y="2038320"/>
              <a:ext cx="17280" cy="149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9240" y="2184120"/>
              <a:ext cx="92160" cy="936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981080" y="3627360"/>
            <a:ext cx="91800" cy="393480"/>
            <a:chOff x="1981080" y="3627360"/>
            <a:chExt cx="91800" cy="393480"/>
          </a:xfrm>
        </p:grpSpPr>
        <p:sp>
          <p:nvSpPr>
            <p:cNvPr id="100" name=""/>
            <p:cNvSpPr/>
            <p:nvPr/>
          </p:nvSpPr>
          <p:spPr>
            <a:xfrm>
              <a:off x="2018880" y="3627360"/>
              <a:ext cx="17640" cy="30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3929040"/>
              <a:ext cx="91800" cy="918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135320" y="3781440"/>
            <a:ext cx="91800" cy="291600"/>
            <a:chOff x="4135320" y="3781440"/>
            <a:chExt cx="91800" cy="291600"/>
          </a:xfrm>
        </p:grpSpPr>
        <p:sp>
          <p:nvSpPr>
            <p:cNvPr id="103" name=""/>
            <p:cNvSpPr/>
            <p:nvPr/>
          </p:nvSpPr>
          <p:spPr>
            <a:xfrm>
              <a:off x="4173120" y="3781440"/>
              <a:ext cx="17640" cy="20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35320" y="3979800"/>
              <a:ext cx="91800" cy="9324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0" y="0"/>
                  </a:moveTo>
                  <a:lnTo>
                    <a:pt x="60" y="117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81080" y="4397400"/>
            <a:ext cx="91800" cy="290520"/>
            <a:chOff x="1981080" y="4397400"/>
            <a:chExt cx="91800" cy="290520"/>
          </a:xfrm>
        </p:grpSpPr>
        <p:sp>
          <p:nvSpPr>
            <p:cNvPr id="106" name=""/>
            <p:cNvSpPr/>
            <p:nvPr/>
          </p:nvSpPr>
          <p:spPr>
            <a:xfrm>
              <a:off x="2018880" y="4397400"/>
              <a:ext cx="17640" cy="200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4596120"/>
              <a:ext cx="91800" cy="918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81080" y="5011560"/>
            <a:ext cx="91800" cy="291960"/>
            <a:chOff x="1981080" y="5011560"/>
            <a:chExt cx="91800" cy="291960"/>
          </a:xfrm>
        </p:grpSpPr>
        <p:sp>
          <p:nvSpPr>
            <p:cNvPr id="109" name=""/>
            <p:cNvSpPr/>
            <p:nvPr/>
          </p:nvSpPr>
          <p:spPr>
            <a:xfrm>
              <a:off x="2018880" y="5011560"/>
              <a:ext cx="17640" cy="20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81080" y="5211720"/>
              <a:ext cx="91800" cy="918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0"/>
                  </a:moveTo>
                  <a:lnTo>
                    <a:pt x="59" y="117"/>
                  </a:lnTo>
                  <a:lnTo>
                    <a:pt x="1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35320" y="4344840"/>
            <a:ext cx="91800" cy="395280"/>
            <a:chOff x="4135320" y="4344840"/>
            <a:chExt cx="91800" cy="395280"/>
          </a:xfrm>
        </p:grpSpPr>
        <p:sp>
          <p:nvSpPr>
            <p:cNvPr id="112" name=""/>
            <p:cNvSpPr/>
            <p:nvPr/>
          </p:nvSpPr>
          <p:spPr>
            <a:xfrm>
              <a:off x="4173120" y="4344840"/>
              <a:ext cx="17640" cy="303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5320" y="4646520"/>
              <a:ext cx="91800" cy="93600"/>
            </a:xfrm>
            <a:custGeom>
              <a:avLst/>
              <a:gdLst/>
              <a:ahLst/>
              <a:rect l="l" t="t" r="r" b="b"/>
              <a:pathLst>
                <a:path w="118" h="117">
                  <a:moveTo>
                    <a:pt x="0" y="0"/>
                  </a:moveTo>
                  <a:lnTo>
                    <a:pt x="60" y="117"/>
                  </a:lnTo>
                  <a:lnTo>
                    <a:pt x="1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395440" y="1353960"/>
            <a:ext cx="393840" cy="1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9800" y="1254240"/>
            <a:ext cx="102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Dépi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7120" y="1450800"/>
            <a:ext cx="80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(2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25360" y="2255760"/>
            <a:ext cx="3484800" cy="14655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2003: Déclaration oblig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-Auprès de la DD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envoi buvard CNR T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Séroty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est avidité A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6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10880" y="4876920"/>
            <a:ext cx="26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77000" y="4876920"/>
            <a:ext cx="168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omic Sans MS"/>
              </a:rPr>
              <a:t>p24 ou ARN VI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agnostic infection VIH en F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rance: un des seuls pays qui requiert l’utilisation de 2 tests EL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06: Dépistage infection VIH en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aux : 80/1000 habita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millions de t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ugmentation de 4% depuis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 eme rang europé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3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006 : Conseil National du SIDA a recommandé que la stratégie de dépistage basée sur l’utilisation de 2 tests ELISA soit revue comme initialement suggéré par l’ANAES e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volution de la performance des tests de dépistage de l’infection par le VIH pose la question du maintien de la pertinence de l’obligation du recours à 2 réactifs de dépi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r les performances de l’utilisation de 1 test ELISA versus 2 tests ELISA pour le dépistage initial de l’infection VI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tients et Méthode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Bilan des tests de dépistage VIH effectués dans plusieurs laboratoires de virologie de l’AP-HP sur une durée de 1 an (sept 2005- sept 2006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Laboratoires choisis en fonction des tests de dépistage utilisés en routin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Au moins un test de 4 ème génération Ag/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Informations à collecter dans chaque servic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est ELISA de 4 ème génération utilis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est ELISA de 3 ème génération utilis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Procédure en cas de résultat discorda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Dans le cas test Ag/Ac  positif et test Ac néga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Dans le cas test Ag/Ac négatif et test Ac positi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tients et Méthod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différentes conclusions à recueillir étaient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 cas de 2 tests ELISA positif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 cas de tests ELISA discord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éroconversion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Fausse réactivité probable , VIH néga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-1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-2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VIH-1 groupe O posi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Nouveau né de mère séro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Analyse statis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n se basant sur la conclusion finale du diagnostic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Etude de la sensibilité et de la spécificité de plusieurs straté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e 2 tests : 1 test Ag/Ac + 1 test 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’un test: Ag/Ac se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Utilisation d’un test: Ac se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Test Mc Nemar  (Strata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ésultat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3 Laboratoires retenus avec tests diffé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Bichat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g/Ac: Vidas HIV Duo Ultra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Biomérieux  (Agp24:11.5 pg/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c: Genscreen HIV1/2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, 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Bior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Saint Loui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g/Ac: Genscreen Plus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Biorad (Agp24:13 pg/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c: Biotest Tetra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DiaSor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Necker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g/Ac: Ag/Ac HIV Comb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, Abbott (Agp24:29 pg/m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Ac: Genscreen HIV1/2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  <a:ea typeface="Arial"/>
              </a:rPr>
              <a:t>®,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Bior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37568 échantillons testés pour diagnostic VIH entre 2005 et 20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VIH-1 positifs: n= 1107  (0.03%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Séroconversions : n= 3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VIH-2 positifs: n=41 (dont VIH-1/VIH-2 positif, n=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88520" y="1128600"/>
            <a:ext cx="86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sibilité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4960" y="112860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C 95%  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76320" y="1128600"/>
            <a:ext cx="90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écificité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97240" y="112860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C 95%   (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9840" y="135108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entre 1 (n=64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7360" y="1676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50720" y="164952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7360" y="202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50720" y="20001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93000" y="2365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50720" y="2338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79840" y="273996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entre 2 (n=37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7360" y="3049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50720" y="30225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7360" y="3387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0720" y="33606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93000" y="3724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0720" y="36972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80200" y="4100400"/>
            <a:ext cx="91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Centre 3 (n=9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47360" y="4413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15800" y="43862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47360" y="4751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0720" y="4724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3000" y="50896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0720" y="50626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9560" y="5715000"/>
            <a:ext cx="85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Total (n=1107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7720" y="58672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50720" y="5867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8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47720" y="6205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50720" y="62056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93000" y="654372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3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50720" y="65199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99.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50520" y="23194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62 - 0.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50520" y="50436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2 - 0.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13760" y="4976640"/>
            <a:ext cx="14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15200" y="5127480"/>
            <a:ext cx="154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enscreen HIV1/2, Bio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88040" y="504360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4.15 - 99.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4840" y="436572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0600" y="436572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6.11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50520" y="43657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.17 - 1.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14120" y="4638600"/>
            <a:ext cx="178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b seul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17000" y="4789440"/>
            <a:ext cx="1550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/Ab HIV combo, Abbot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40600" y="470520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6.11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50520" y="47052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68 - 1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50520" y="36781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04 - 0.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50520" y="30020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6 - 0.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14120" y="327492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 seul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15920" y="3425760"/>
            <a:ext cx="20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enscreen plus HIV Ag-Ab, Bio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2960" y="333864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02 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50520" y="33386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39 - 0.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13400" y="3613320"/>
            <a:ext cx="174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15920" y="3763800"/>
            <a:ext cx="21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iotest anti-HIV Tetra Elisa, Diasor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88040" y="367812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7.70 - 99.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13760" y="2252520"/>
            <a:ext cx="153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15200" y="2403360"/>
            <a:ext cx="154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Genscreen HIV1/2, Bior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8040" y="23194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8.64 - 99.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14840" y="300204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22960" y="300204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02 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14840" y="163044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40600" y="163044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43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50520" y="16304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93 - 1.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13760" y="1914480"/>
            <a:ext cx="188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 seul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16280" y="2065320"/>
            <a:ext cx="194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Vidas HIV Duo Ultra, Biomerieu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0600" y="198108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43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50520" y="19810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27 - 0.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15560" y="655812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c se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88040" y="655812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8.70 - 99.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50520" y="655812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8 - 0.6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14840" y="588024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Ac+Ac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40600" y="588024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67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50520" y="588024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92 - 1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15920" y="6218280"/>
            <a:ext cx="662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Ag-Ac se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0600" y="6218280"/>
            <a:ext cx="63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99.67 -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50520" y="621828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.42 - 0.5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1066680"/>
            <a:ext cx="6933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1066680"/>
            <a:ext cx="6933960" cy="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311120"/>
            <a:ext cx="6933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311120"/>
            <a:ext cx="6933960" cy="11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575320"/>
            <a:ext cx="6933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575320"/>
            <a:ext cx="693396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791400"/>
            <a:ext cx="6933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040" y="3024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ésultat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400" y="609480"/>
            <a:ext cx="76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nsibilité et spécificité des différentes stratégies pour le diagnostic VIH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6095880"/>
            <a:ext cx="762120" cy="3812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5715000"/>
            <a:ext cx="914400" cy="7621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8:36:41Z</dcterms:created>
  <dc:creator>VIRO7</dc:creator>
  <dc:description/>
  <dc:language>en-US</dc:language>
  <cp:lastModifiedBy>VIRO7</cp:lastModifiedBy>
  <dcterms:modified xsi:type="dcterms:W3CDTF">2008-11-24T09:46:59Z</dcterms:modified>
  <cp:revision>60</cp:revision>
  <dc:subject/>
  <dc:title>Evaluation des performances de la stratégie de dépistage de l’infection par le VIH basée sur l’utilisation de 2 tests </dc:title>
</cp:coreProperties>
</file>