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4008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82292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36560"/>
            <a:ext cx="82292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9760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9760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3656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3656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3656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F4F-4360-47F4-8ADD-E3B195A9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97600"/>
            <a:ext cx="82292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F78-F0DE-40AE-B013-DB6DE075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82292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FC8-01CA-4AC3-8580-D3607AE2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E27-D659-48C8-9A02-34836AC2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611-40B6-49A7-BCA1-FF0AA49C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5240"/>
            <a:ext cx="822924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677-CA7C-462F-A4A7-C1B9066E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EEF-F472-4595-BB3F-BB419674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97600"/>
            <a:ext cx="82292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74A-AADE-4809-A0AE-093CE7A5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436560"/>
            <a:ext cx="82292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FD7E-7A47-4BAE-92B2-F4EA816D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82292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436560"/>
            <a:ext cx="82292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FBE-7177-42B7-B690-6D4FC01C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F3B-9C43-4A29-87C9-535CA5AB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9760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9760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43656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43656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436560"/>
            <a:ext cx="26496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4DD-7376-4B9E-8B26-3107865C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82292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55240"/>
            <a:ext cx="822924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3656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97600"/>
            <a:ext cx="401580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36560"/>
            <a:ext cx="82292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99160" y="11160"/>
            <a:ext cx="17543160" cy="12778920"/>
            <a:chOff x="-8399160" y="11160"/>
            <a:chExt cx="17543160" cy="12778920"/>
          </a:xfrm>
        </p:grpSpPr>
        <p:sp>
          <p:nvSpPr>
            <p:cNvPr id="1" name=""/>
            <p:cNvSpPr/>
            <p:nvPr/>
          </p:nvSpPr>
          <p:spPr>
            <a:xfrm>
              <a:off x="5399280" y="1490040"/>
              <a:ext cx="3744720" cy="491076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99160" y="11160"/>
              <a:ext cx="16820640" cy="1277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Base" hidden="1"/>
          <p:cNvSpPr/>
          <p:nvPr/>
        </p:nvSpPr>
        <p:spPr>
          <a:xfrm>
            <a:off x="1523880" y="11685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24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97600"/>
            <a:ext cx="82292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6120"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9520" indent="-222120">
              <a:spcBef>
                <a:spcPts val="575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4120" indent="-222120"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8720" indent="-222480">
              <a:spcBef>
                <a:spcPts val="476"/>
              </a:spcBef>
              <a:buClr>
                <a:srgbClr val="00ffff"/>
              </a:buClr>
              <a:buFont typeface="Times New Roman"/>
              <a:buChar char="•"/>
              <a:tabLst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5" marL="1998720" indent="-2224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6" marL="1998720" indent="-2224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7761240" y="1363320"/>
            <a:ext cx="16905240" cy="10074600"/>
            <a:chOff x="-7761240" y="1363320"/>
            <a:chExt cx="16905240" cy="10074600"/>
          </a:xfrm>
        </p:grpSpPr>
        <p:sp>
          <p:nvSpPr>
            <p:cNvPr id="43" name=""/>
            <p:cNvSpPr/>
            <p:nvPr/>
          </p:nvSpPr>
          <p:spPr>
            <a:xfrm>
              <a:off x="3271680" y="2528640"/>
              <a:ext cx="5872320" cy="387180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7761240" y="1363320"/>
              <a:ext cx="13452120" cy="100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3840" y="711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685800" y="5830560"/>
            <a:ext cx="1905120" cy="428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lstStyle>
            <a:lvl1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5830560"/>
            <a:ext cx="2895840" cy="428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lstStyle>
            <a:lvl1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553080" y="5830560"/>
            <a:ext cx="1905120" cy="428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lstStyle>
            <a:lvl1pPr indent="0" algn="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70B55A31-DCF3-4414-A783-33DDF81DAA9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1143000" cy="54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8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733920"/>
            <a:ext cx="350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Sensitivité analytique:  Limite de détection d’Ag VIH-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0" y="990720"/>
          <a:ext cx="91440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7391520" y="3657600"/>
            <a:ext cx="838080" cy="12193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51640" y="2479680"/>
            <a:ext cx="649440" cy="9367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72360" y="356076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6080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33"/>
                </a:solidFill>
                <a:latin typeface="Times New Roman"/>
              </a:rPr>
              <a:t>(panel d’Ag VIH SFTS : LAI sous-type 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16720" y="3129120"/>
            <a:ext cx="287280" cy="576000"/>
          </a:xfrm>
          <a:custGeom>
            <a:avLst/>
            <a:gdLst>
              <a:gd name="textAreaLeft" fmla="*/ 38520 w 287280"/>
              <a:gd name="textAreaRight" fmla="*/ 248760 w 28728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2048040"/>
            <a:ext cx="289080" cy="3313080"/>
          </a:xfrm>
          <a:custGeom>
            <a:avLst/>
            <a:gdLst>
              <a:gd name="textAreaLeft" fmla="*/ 38520 w 289080"/>
              <a:gd name="textAreaRight" fmla="*/ 250560 w 289080"/>
              <a:gd name="textAreaTop" fmla="*/ 579600 h 3313080"/>
              <a:gd name="textAreaBottom" fmla="*/ 240192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nel BBI PRA 8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g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VIH/ml</a:t>
            </a:r>
            <a:r>
              <a:rPr b="1" lang="fr-FR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nel de référence française SFTS ou Afssap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g 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24/ml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uPo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ml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.H.O: Worth Health Organiz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286000" y="5410080"/>
            <a:ext cx="6019920" cy="825480"/>
            <a:chOff x="2286000" y="5410080"/>
            <a:chExt cx="6019920" cy="825480"/>
          </a:xfrm>
        </p:grpSpPr>
        <p:sp>
          <p:nvSpPr>
            <p:cNvPr id="197" name=""/>
            <p:cNvSpPr/>
            <p:nvPr/>
          </p:nvSpPr>
          <p:spPr>
            <a:xfrm>
              <a:off x="3276720" y="5410080"/>
              <a:ext cx="4267080" cy="304920"/>
            </a:xfrm>
            <a:custGeom>
              <a:avLst/>
              <a:gdLst>
                <a:gd name="textAreaLeft" fmla="*/ 746640 w 4267080"/>
                <a:gd name="textAreaRight" fmla="*/ 3093840 w 426708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0" y="5715000"/>
              <a:ext cx="601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33"/>
                  </a:solidFill>
                  <a:latin typeface="Times New Roman"/>
                </a:rPr>
                <a:t>x 3,6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0" y="2362320"/>
          <a:ext cx="9144000" cy="227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914400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304920" y="838080"/>
            <a:ext cx="228600" cy="838440"/>
          </a:xfrm>
          <a:custGeom>
            <a:avLst/>
            <a:gdLst>
              <a:gd name="textAreaLeft" fmla="*/ 30600 w 228600"/>
              <a:gd name="textAreaRight" fmla="*/ 198000 w 2286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3726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</a:rPr>
              <a:t>Sensitivité clinique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23 VIH-1 Seroconversion Pan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183204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74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31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ff00"/>
                </a:solidFill>
                <a:latin typeface="Times New Roman"/>
              </a:rPr>
              <a:t>9 panels BBI 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6120">
              <a:spcBef>
                <a:spcPts val="675"/>
              </a:spcBef>
              <a:buClr>
                <a:srgbClr val="ffff00"/>
              </a:buClr>
              <a:buFont typeface="Times New Roman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en-US" sz="2700" spc="-1" strike="noStrike">
                <a:solidFill>
                  <a:srgbClr val="ffff00"/>
                </a:solidFill>
                <a:latin typeface="Times New Roman"/>
              </a:rPr>
              <a:t>923, 932, 941, 944, 952, 953, 954, 957, 958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3129120"/>
            <a:ext cx="87631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11 panels de NABI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V-0251, 261, 281, 321, 331, 371, 401, 404, 4888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37748, 122399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4856040"/>
            <a:ext cx="76964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3 panels de BCP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9013, 9016, 624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733920"/>
            <a:ext cx="350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2560" y="836640"/>
            <a:ext cx="0" cy="474660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981080"/>
            <a:ext cx="3632040" cy="3565800"/>
          </a:xfrm>
          <a:custGeom>
            <a:avLst/>
            <a:gdLst/>
            <a:ahLst/>
            <a:rect l="l" t="t" r="r" b="b"/>
            <a:pathLst>
              <a:path w="2288" h="2246">
                <a:moveTo>
                  <a:pt x="0" y="2246"/>
                </a:moveTo>
                <a:lnTo>
                  <a:pt x="41" y="2237"/>
                </a:lnTo>
                <a:lnTo>
                  <a:pt x="81" y="2229"/>
                </a:lnTo>
                <a:lnTo>
                  <a:pt x="171" y="2203"/>
                </a:lnTo>
                <a:lnTo>
                  <a:pt x="227" y="2168"/>
                </a:lnTo>
                <a:lnTo>
                  <a:pt x="276" y="2125"/>
                </a:lnTo>
                <a:lnTo>
                  <a:pt x="308" y="2080"/>
                </a:lnTo>
                <a:lnTo>
                  <a:pt x="341" y="2028"/>
                </a:lnTo>
                <a:lnTo>
                  <a:pt x="364" y="1985"/>
                </a:lnTo>
                <a:lnTo>
                  <a:pt x="389" y="1942"/>
                </a:lnTo>
                <a:lnTo>
                  <a:pt x="405" y="1873"/>
                </a:lnTo>
                <a:lnTo>
                  <a:pt x="421" y="1811"/>
                </a:lnTo>
                <a:lnTo>
                  <a:pt x="446" y="1716"/>
                </a:lnTo>
                <a:lnTo>
                  <a:pt x="454" y="1664"/>
                </a:lnTo>
                <a:lnTo>
                  <a:pt x="454" y="1611"/>
                </a:lnTo>
                <a:lnTo>
                  <a:pt x="462" y="1541"/>
                </a:lnTo>
                <a:lnTo>
                  <a:pt x="462" y="1481"/>
                </a:lnTo>
                <a:lnTo>
                  <a:pt x="470" y="1412"/>
                </a:lnTo>
                <a:lnTo>
                  <a:pt x="479" y="1341"/>
                </a:lnTo>
                <a:lnTo>
                  <a:pt x="479" y="1272"/>
                </a:lnTo>
                <a:lnTo>
                  <a:pt x="487" y="1211"/>
                </a:lnTo>
                <a:lnTo>
                  <a:pt x="487" y="1168"/>
                </a:lnTo>
                <a:lnTo>
                  <a:pt x="494" y="1132"/>
                </a:lnTo>
                <a:lnTo>
                  <a:pt x="502" y="1063"/>
                </a:lnTo>
                <a:lnTo>
                  <a:pt x="502" y="1011"/>
                </a:lnTo>
                <a:lnTo>
                  <a:pt x="510" y="959"/>
                </a:lnTo>
                <a:lnTo>
                  <a:pt x="510" y="863"/>
                </a:lnTo>
                <a:lnTo>
                  <a:pt x="510" y="811"/>
                </a:lnTo>
                <a:lnTo>
                  <a:pt x="518" y="759"/>
                </a:lnTo>
                <a:lnTo>
                  <a:pt x="518" y="654"/>
                </a:lnTo>
                <a:lnTo>
                  <a:pt x="526" y="559"/>
                </a:lnTo>
                <a:lnTo>
                  <a:pt x="526" y="515"/>
                </a:lnTo>
                <a:lnTo>
                  <a:pt x="526" y="481"/>
                </a:lnTo>
                <a:lnTo>
                  <a:pt x="535" y="437"/>
                </a:lnTo>
                <a:lnTo>
                  <a:pt x="551" y="237"/>
                </a:lnTo>
                <a:lnTo>
                  <a:pt x="561" y="118"/>
                </a:lnTo>
                <a:lnTo>
                  <a:pt x="542" y="155"/>
                </a:lnTo>
                <a:lnTo>
                  <a:pt x="624" y="0"/>
                </a:lnTo>
                <a:lnTo>
                  <a:pt x="733" y="28"/>
                </a:lnTo>
                <a:lnTo>
                  <a:pt x="788" y="146"/>
                </a:lnTo>
                <a:lnTo>
                  <a:pt x="806" y="255"/>
                </a:lnTo>
                <a:lnTo>
                  <a:pt x="851" y="373"/>
                </a:lnTo>
                <a:lnTo>
                  <a:pt x="870" y="437"/>
                </a:lnTo>
                <a:lnTo>
                  <a:pt x="879" y="519"/>
                </a:lnTo>
                <a:lnTo>
                  <a:pt x="915" y="646"/>
                </a:lnTo>
                <a:lnTo>
                  <a:pt x="942" y="737"/>
                </a:lnTo>
                <a:lnTo>
                  <a:pt x="942" y="800"/>
                </a:lnTo>
                <a:lnTo>
                  <a:pt x="970" y="873"/>
                </a:lnTo>
                <a:lnTo>
                  <a:pt x="1006" y="982"/>
                </a:lnTo>
                <a:lnTo>
                  <a:pt x="1042" y="1064"/>
                </a:lnTo>
                <a:lnTo>
                  <a:pt x="1088" y="1182"/>
                </a:lnTo>
                <a:lnTo>
                  <a:pt x="1097" y="1246"/>
                </a:lnTo>
                <a:lnTo>
                  <a:pt x="1142" y="1309"/>
                </a:lnTo>
                <a:lnTo>
                  <a:pt x="1179" y="1428"/>
                </a:lnTo>
                <a:lnTo>
                  <a:pt x="1206" y="1500"/>
                </a:lnTo>
                <a:lnTo>
                  <a:pt x="1206" y="1537"/>
                </a:lnTo>
                <a:lnTo>
                  <a:pt x="1251" y="1573"/>
                </a:lnTo>
                <a:lnTo>
                  <a:pt x="1260" y="1637"/>
                </a:lnTo>
                <a:lnTo>
                  <a:pt x="1297" y="1700"/>
                </a:lnTo>
                <a:lnTo>
                  <a:pt x="1324" y="1746"/>
                </a:lnTo>
                <a:lnTo>
                  <a:pt x="1360" y="1809"/>
                </a:lnTo>
                <a:lnTo>
                  <a:pt x="1451" y="1919"/>
                </a:lnTo>
                <a:lnTo>
                  <a:pt x="1388" y="1846"/>
                </a:lnTo>
                <a:lnTo>
                  <a:pt x="1397" y="1873"/>
                </a:lnTo>
                <a:lnTo>
                  <a:pt x="1433" y="1937"/>
                </a:lnTo>
                <a:lnTo>
                  <a:pt x="1406" y="1928"/>
                </a:lnTo>
                <a:lnTo>
                  <a:pt x="1442" y="1955"/>
                </a:lnTo>
                <a:lnTo>
                  <a:pt x="1515" y="1982"/>
                </a:lnTo>
                <a:lnTo>
                  <a:pt x="1579" y="2009"/>
                </a:lnTo>
                <a:lnTo>
                  <a:pt x="1706" y="2091"/>
                </a:lnTo>
                <a:lnTo>
                  <a:pt x="1651" y="2055"/>
                </a:lnTo>
                <a:lnTo>
                  <a:pt x="1788" y="2128"/>
                </a:lnTo>
                <a:lnTo>
                  <a:pt x="1851" y="2164"/>
                </a:lnTo>
                <a:lnTo>
                  <a:pt x="2006" y="2191"/>
                </a:lnTo>
                <a:lnTo>
                  <a:pt x="2088" y="2219"/>
                </a:lnTo>
                <a:lnTo>
                  <a:pt x="2288" y="2246"/>
                </a:lnTo>
                <a:lnTo>
                  <a:pt x="0" y="2246"/>
                </a:lnTo>
                <a:close/>
              </a:path>
            </a:pathLst>
          </a:custGeom>
          <a:solidFill>
            <a:srgbClr val="ffcc99"/>
          </a:solidFill>
          <a:ln w="38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3632040"/>
            <a:ext cx="8380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g  p24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16360" y="2768760"/>
            <a:ext cx="3103560" cy="2776320"/>
          </a:xfrm>
          <a:custGeom>
            <a:avLst/>
            <a:gdLst/>
            <a:ahLst/>
            <a:rect l="l" t="t" r="r" b="b"/>
            <a:pathLst>
              <a:path w="1974" h="1069">
                <a:moveTo>
                  <a:pt x="0" y="1069"/>
                </a:moveTo>
                <a:lnTo>
                  <a:pt x="41" y="1069"/>
                </a:lnTo>
                <a:lnTo>
                  <a:pt x="81" y="1062"/>
                </a:lnTo>
                <a:lnTo>
                  <a:pt x="171" y="1048"/>
                </a:lnTo>
                <a:lnTo>
                  <a:pt x="220" y="1034"/>
                </a:lnTo>
                <a:lnTo>
                  <a:pt x="277" y="1013"/>
                </a:lnTo>
                <a:lnTo>
                  <a:pt x="310" y="985"/>
                </a:lnTo>
                <a:lnTo>
                  <a:pt x="342" y="956"/>
                </a:lnTo>
                <a:lnTo>
                  <a:pt x="383" y="900"/>
                </a:lnTo>
                <a:lnTo>
                  <a:pt x="424" y="844"/>
                </a:lnTo>
                <a:lnTo>
                  <a:pt x="440" y="795"/>
                </a:lnTo>
                <a:lnTo>
                  <a:pt x="457" y="738"/>
                </a:lnTo>
                <a:lnTo>
                  <a:pt x="473" y="668"/>
                </a:lnTo>
                <a:lnTo>
                  <a:pt x="481" y="598"/>
                </a:lnTo>
                <a:lnTo>
                  <a:pt x="489" y="520"/>
                </a:lnTo>
                <a:lnTo>
                  <a:pt x="506" y="450"/>
                </a:lnTo>
                <a:lnTo>
                  <a:pt x="506" y="394"/>
                </a:lnTo>
                <a:lnTo>
                  <a:pt x="514" y="344"/>
                </a:lnTo>
                <a:lnTo>
                  <a:pt x="514" y="288"/>
                </a:lnTo>
                <a:lnTo>
                  <a:pt x="530" y="239"/>
                </a:lnTo>
                <a:lnTo>
                  <a:pt x="538" y="168"/>
                </a:lnTo>
                <a:lnTo>
                  <a:pt x="571" y="105"/>
                </a:lnTo>
                <a:lnTo>
                  <a:pt x="587" y="35"/>
                </a:lnTo>
                <a:lnTo>
                  <a:pt x="603" y="7"/>
                </a:lnTo>
                <a:lnTo>
                  <a:pt x="636" y="0"/>
                </a:lnTo>
                <a:lnTo>
                  <a:pt x="661" y="7"/>
                </a:lnTo>
                <a:lnTo>
                  <a:pt x="677" y="28"/>
                </a:lnTo>
                <a:lnTo>
                  <a:pt x="685" y="56"/>
                </a:lnTo>
                <a:lnTo>
                  <a:pt x="701" y="91"/>
                </a:lnTo>
                <a:lnTo>
                  <a:pt x="709" y="126"/>
                </a:lnTo>
                <a:lnTo>
                  <a:pt x="726" y="161"/>
                </a:lnTo>
                <a:lnTo>
                  <a:pt x="734" y="204"/>
                </a:lnTo>
                <a:lnTo>
                  <a:pt x="758" y="253"/>
                </a:lnTo>
                <a:lnTo>
                  <a:pt x="775" y="295"/>
                </a:lnTo>
                <a:lnTo>
                  <a:pt x="791" y="344"/>
                </a:lnTo>
                <a:lnTo>
                  <a:pt x="816" y="422"/>
                </a:lnTo>
                <a:lnTo>
                  <a:pt x="824" y="457"/>
                </a:lnTo>
                <a:lnTo>
                  <a:pt x="840" y="506"/>
                </a:lnTo>
                <a:lnTo>
                  <a:pt x="881" y="584"/>
                </a:lnTo>
                <a:lnTo>
                  <a:pt x="922" y="661"/>
                </a:lnTo>
                <a:lnTo>
                  <a:pt x="962" y="724"/>
                </a:lnTo>
                <a:lnTo>
                  <a:pt x="1011" y="781"/>
                </a:lnTo>
                <a:lnTo>
                  <a:pt x="1044" y="809"/>
                </a:lnTo>
                <a:lnTo>
                  <a:pt x="1077" y="844"/>
                </a:lnTo>
                <a:lnTo>
                  <a:pt x="1126" y="872"/>
                </a:lnTo>
                <a:lnTo>
                  <a:pt x="1174" y="900"/>
                </a:lnTo>
                <a:lnTo>
                  <a:pt x="1223" y="914"/>
                </a:lnTo>
                <a:lnTo>
                  <a:pt x="1272" y="935"/>
                </a:lnTo>
                <a:lnTo>
                  <a:pt x="1338" y="956"/>
                </a:lnTo>
                <a:lnTo>
                  <a:pt x="1403" y="971"/>
                </a:lnTo>
                <a:lnTo>
                  <a:pt x="1476" y="985"/>
                </a:lnTo>
                <a:lnTo>
                  <a:pt x="1509" y="992"/>
                </a:lnTo>
                <a:lnTo>
                  <a:pt x="1550" y="999"/>
                </a:lnTo>
                <a:lnTo>
                  <a:pt x="1631" y="1013"/>
                </a:lnTo>
                <a:lnTo>
                  <a:pt x="1721" y="1034"/>
                </a:lnTo>
                <a:lnTo>
                  <a:pt x="1843" y="1048"/>
                </a:lnTo>
                <a:lnTo>
                  <a:pt x="1974" y="1069"/>
                </a:lnTo>
                <a:lnTo>
                  <a:pt x="0" y="106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0" y="4568760"/>
            <a:ext cx="52704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g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914400"/>
            <a:ext cx="5181480" cy="4724280"/>
          </a:xfrm>
          <a:custGeom>
            <a:avLst/>
            <a:gdLst/>
            <a:ahLst/>
            <a:rect l="l" t="t" r="r" b="b"/>
            <a:pathLst>
              <a:path w="2630" h="2732">
                <a:moveTo>
                  <a:pt x="0" y="2732"/>
                </a:moveTo>
                <a:lnTo>
                  <a:pt x="179" y="2641"/>
                </a:lnTo>
                <a:lnTo>
                  <a:pt x="301" y="2577"/>
                </a:lnTo>
                <a:lnTo>
                  <a:pt x="383" y="2521"/>
                </a:lnTo>
                <a:lnTo>
                  <a:pt x="440" y="2486"/>
                </a:lnTo>
                <a:lnTo>
                  <a:pt x="481" y="2437"/>
                </a:lnTo>
                <a:lnTo>
                  <a:pt x="505" y="2415"/>
                </a:lnTo>
                <a:lnTo>
                  <a:pt x="522" y="2401"/>
                </a:lnTo>
                <a:lnTo>
                  <a:pt x="538" y="2387"/>
                </a:lnTo>
                <a:lnTo>
                  <a:pt x="546" y="2373"/>
                </a:lnTo>
                <a:lnTo>
                  <a:pt x="554" y="2366"/>
                </a:lnTo>
                <a:lnTo>
                  <a:pt x="562" y="2352"/>
                </a:lnTo>
                <a:lnTo>
                  <a:pt x="579" y="2331"/>
                </a:lnTo>
                <a:lnTo>
                  <a:pt x="611" y="2289"/>
                </a:lnTo>
                <a:lnTo>
                  <a:pt x="677" y="2162"/>
                </a:lnTo>
                <a:lnTo>
                  <a:pt x="709" y="2106"/>
                </a:lnTo>
                <a:lnTo>
                  <a:pt x="750" y="2050"/>
                </a:lnTo>
                <a:lnTo>
                  <a:pt x="807" y="1958"/>
                </a:lnTo>
                <a:lnTo>
                  <a:pt x="864" y="1874"/>
                </a:lnTo>
                <a:lnTo>
                  <a:pt x="995" y="1705"/>
                </a:lnTo>
                <a:lnTo>
                  <a:pt x="1044" y="1627"/>
                </a:lnTo>
                <a:lnTo>
                  <a:pt x="1085" y="1564"/>
                </a:lnTo>
                <a:lnTo>
                  <a:pt x="1174" y="1430"/>
                </a:lnTo>
                <a:lnTo>
                  <a:pt x="1207" y="1374"/>
                </a:lnTo>
                <a:lnTo>
                  <a:pt x="1248" y="1325"/>
                </a:lnTo>
                <a:lnTo>
                  <a:pt x="1313" y="1240"/>
                </a:lnTo>
                <a:lnTo>
                  <a:pt x="1386" y="1163"/>
                </a:lnTo>
                <a:lnTo>
                  <a:pt x="1461" y="1075"/>
                </a:lnTo>
                <a:lnTo>
                  <a:pt x="1509" y="1015"/>
                </a:lnTo>
                <a:lnTo>
                  <a:pt x="1550" y="966"/>
                </a:lnTo>
                <a:lnTo>
                  <a:pt x="1623" y="881"/>
                </a:lnTo>
                <a:lnTo>
                  <a:pt x="1697" y="803"/>
                </a:lnTo>
                <a:lnTo>
                  <a:pt x="1794" y="720"/>
                </a:lnTo>
                <a:lnTo>
                  <a:pt x="1908" y="607"/>
                </a:lnTo>
                <a:lnTo>
                  <a:pt x="2006" y="509"/>
                </a:lnTo>
                <a:lnTo>
                  <a:pt x="2104" y="417"/>
                </a:lnTo>
                <a:lnTo>
                  <a:pt x="2161" y="368"/>
                </a:lnTo>
                <a:lnTo>
                  <a:pt x="2227" y="319"/>
                </a:lnTo>
                <a:lnTo>
                  <a:pt x="2406" y="157"/>
                </a:lnTo>
                <a:lnTo>
                  <a:pt x="2496" y="86"/>
                </a:lnTo>
                <a:lnTo>
                  <a:pt x="2545" y="51"/>
                </a:lnTo>
                <a:lnTo>
                  <a:pt x="2593" y="19"/>
                </a:lnTo>
                <a:lnTo>
                  <a:pt x="2618" y="2"/>
                </a:lnTo>
                <a:lnTo>
                  <a:pt x="2625" y="0"/>
                </a:lnTo>
                <a:lnTo>
                  <a:pt x="2630" y="19"/>
                </a:lnTo>
                <a:lnTo>
                  <a:pt x="2628" y="62"/>
                </a:lnTo>
                <a:lnTo>
                  <a:pt x="2628" y="126"/>
                </a:lnTo>
                <a:lnTo>
                  <a:pt x="2628" y="198"/>
                </a:lnTo>
                <a:lnTo>
                  <a:pt x="2628" y="304"/>
                </a:lnTo>
                <a:lnTo>
                  <a:pt x="2625" y="374"/>
                </a:lnTo>
                <a:lnTo>
                  <a:pt x="2625" y="406"/>
                </a:lnTo>
                <a:lnTo>
                  <a:pt x="2628" y="443"/>
                </a:lnTo>
                <a:lnTo>
                  <a:pt x="2628" y="502"/>
                </a:lnTo>
                <a:lnTo>
                  <a:pt x="2625" y="544"/>
                </a:lnTo>
                <a:lnTo>
                  <a:pt x="2625" y="590"/>
                </a:lnTo>
                <a:lnTo>
                  <a:pt x="2625" y="627"/>
                </a:lnTo>
                <a:lnTo>
                  <a:pt x="2625" y="664"/>
                </a:lnTo>
                <a:lnTo>
                  <a:pt x="2625" y="712"/>
                </a:lnTo>
                <a:lnTo>
                  <a:pt x="2625" y="752"/>
                </a:lnTo>
                <a:lnTo>
                  <a:pt x="2625" y="798"/>
                </a:lnTo>
                <a:lnTo>
                  <a:pt x="2625" y="846"/>
                </a:lnTo>
                <a:lnTo>
                  <a:pt x="2625" y="896"/>
                </a:lnTo>
                <a:lnTo>
                  <a:pt x="2625" y="1022"/>
                </a:lnTo>
                <a:lnTo>
                  <a:pt x="2625" y="960"/>
                </a:lnTo>
                <a:lnTo>
                  <a:pt x="2625" y="1062"/>
                </a:lnTo>
                <a:lnTo>
                  <a:pt x="2625" y="1120"/>
                </a:lnTo>
                <a:lnTo>
                  <a:pt x="2625" y="1171"/>
                </a:lnTo>
                <a:lnTo>
                  <a:pt x="2625" y="1219"/>
                </a:lnTo>
                <a:lnTo>
                  <a:pt x="2625" y="1280"/>
                </a:lnTo>
                <a:lnTo>
                  <a:pt x="2625" y="1395"/>
                </a:lnTo>
                <a:lnTo>
                  <a:pt x="2625" y="1504"/>
                </a:lnTo>
                <a:lnTo>
                  <a:pt x="2625" y="1619"/>
                </a:lnTo>
                <a:lnTo>
                  <a:pt x="2625" y="1744"/>
                </a:lnTo>
                <a:lnTo>
                  <a:pt x="2625" y="1846"/>
                </a:lnTo>
                <a:lnTo>
                  <a:pt x="2626" y="1958"/>
                </a:lnTo>
                <a:lnTo>
                  <a:pt x="2626" y="2078"/>
                </a:lnTo>
                <a:lnTo>
                  <a:pt x="2626" y="2352"/>
                </a:lnTo>
                <a:lnTo>
                  <a:pt x="2626" y="2514"/>
                </a:lnTo>
                <a:lnTo>
                  <a:pt x="2626" y="2697"/>
                </a:lnTo>
                <a:lnTo>
                  <a:pt x="2626" y="2711"/>
                </a:lnTo>
                <a:lnTo>
                  <a:pt x="2626" y="2732"/>
                </a:lnTo>
                <a:lnTo>
                  <a:pt x="0" y="2732"/>
                </a:lnTo>
                <a:close/>
              </a:path>
            </a:pathLst>
          </a:custGeom>
          <a:solidFill>
            <a:srgbClr val="ff9999"/>
          </a:solidFill>
          <a:ln w="381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20000" y="2984400"/>
            <a:ext cx="64908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imes New Roman"/>
              </a:rPr>
              <a:t>Ig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3632040"/>
            <a:ext cx="2917800" cy="2556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35280" y="3705120"/>
            <a:ext cx="0" cy="15242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3581280"/>
            <a:ext cx="2330280" cy="703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st d’anticor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ou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GB" sz="2000" spc="-1" strike="noStrike" baseline="30000">
                <a:solidFill>
                  <a:srgbClr val="ff0000"/>
                </a:solidFill>
                <a:latin typeface="Times New Roman"/>
              </a:rPr>
              <a:t>è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géné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2057400"/>
            <a:ext cx="4267080" cy="0"/>
          </a:xfrm>
          <a:prstGeom prst="line">
            <a:avLst/>
          </a:prstGeom>
          <a:ln w="57240">
            <a:solidFill>
              <a:srgbClr val="99ff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-57240" bIns="-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1981080"/>
            <a:ext cx="0" cy="2743200"/>
          </a:xfrm>
          <a:prstGeom prst="line">
            <a:avLst/>
          </a:prstGeom>
          <a:ln w="5724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13720" y="1905120"/>
            <a:ext cx="2330280" cy="7038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st combi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ou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2000" spc="-1" strike="noStrike" baseline="30000">
                <a:solidFill>
                  <a:srgbClr val="ff0000"/>
                </a:solidFill>
                <a:latin typeface="Times New Roman"/>
              </a:rPr>
              <a:t>ème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828800"/>
            <a:ext cx="0" cy="3657600"/>
          </a:xfrm>
          <a:prstGeom prst="line">
            <a:avLst/>
          </a:prstGeom>
          <a:ln w="57240">
            <a:solidFill>
              <a:srgbClr val="ff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828800"/>
            <a:ext cx="0" cy="3581280"/>
          </a:xfrm>
          <a:prstGeom prst="line">
            <a:avLst/>
          </a:prstGeom>
          <a:ln w="57240">
            <a:solidFill>
              <a:srgbClr val="ff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7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9064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00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1828800"/>
            <a:ext cx="0" cy="3581280"/>
          </a:xfrm>
          <a:prstGeom prst="line">
            <a:avLst/>
          </a:prstGeom>
          <a:ln w="57240">
            <a:solidFill>
              <a:srgbClr val="ff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-360" y="5710320"/>
            <a:ext cx="8739720" cy="691200"/>
            <a:chOff x="-360" y="5710320"/>
            <a:chExt cx="8739720" cy="691200"/>
          </a:xfrm>
        </p:grpSpPr>
        <p:sp>
          <p:nvSpPr>
            <p:cNvPr id="229" name=""/>
            <p:cNvSpPr/>
            <p:nvPr/>
          </p:nvSpPr>
          <p:spPr>
            <a:xfrm>
              <a:off x="-36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7640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4128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1480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9732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580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2852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1644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86360" y="57103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2400" spc="-1" strike="noStrike">
                  <a:solidFill>
                    <a:srgbClr val="ffff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27080" y="6020280"/>
              <a:ext cx="12686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fr-CA" sz="2500" spc="-1" strike="noStrike">
                  <a:solidFill>
                    <a:srgbClr val="ffff00"/>
                  </a:solidFill>
                  <a:latin typeface="Times New Roman"/>
                </a:rPr>
                <a:t>Semaines</a:t>
              </a:r>
              <a:endParaRPr b="0" lang="en-US" sz="2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 flipH="1" flipV="1">
            <a:off x="28440" y="5584680"/>
            <a:ext cx="9066240" cy="792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320760"/>
            <a:ext cx="93726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ance du choix des panels de sérocon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ns l’évaluation des tests Combin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1760400"/>
            <a:ext cx="0" cy="2718000"/>
          </a:xfrm>
          <a:prstGeom prst="line">
            <a:avLst/>
          </a:prstGeom>
          <a:ln w="57240">
            <a:solidFill>
              <a:srgbClr val="ff00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1687680"/>
            <a:ext cx="0" cy="1225440"/>
          </a:xfrm>
          <a:prstGeom prst="line">
            <a:avLst/>
          </a:prstGeom>
          <a:ln w="57240">
            <a:solidFill>
              <a:srgbClr val="ff00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4360" y="0"/>
            <a:ext cx="8313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tard par jou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 moyenne vis à vis de P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13320" y="1039680"/>
            <a:ext cx="5530680" cy="467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27280" y="5513400"/>
            <a:ext cx="4730760" cy="13824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5197320"/>
            <a:ext cx="4618080" cy="13824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27280" y="4902120"/>
            <a:ext cx="4319640" cy="11916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27280" y="4586400"/>
            <a:ext cx="4040280" cy="137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27280" y="4272120"/>
            <a:ext cx="3818160" cy="137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27280" y="3956040"/>
            <a:ext cx="3724560" cy="13824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27280" y="3639960"/>
            <a:ext cx="3575160" cy="13824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27280" y="3344760"/>
            <a:ext cx="3129120" cy="11916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27280" y="3029040"/>
            <a:ext cx="2849760" cy="137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27280" y="2714760"/>
            <a:ext cx="2662560" cy="137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27280" y="2398680"/>
            <a:ext cx="2532240" cy="138240"/>
          </a:xfrm>
          <a:prstGeom prst="rect">
            <a:avLst/>
          </a:prstGeom>
          <a:solidFill>
            <a:srgbClr val="6699ff"/>
          </a:solidFill>
          <a:ln w="190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27280" y="2082960"/>
            <a:ext cx="2382840" cy="137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27280" y="1787400"/>
            <a:ext cx="2365560" cy="11772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7280" y="1471680"/>
            <a:ext cx="2308320" cy="13788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27280" y="1155600"/>
            <a:ext cx="1862280" cy="138240"/>
          </a:xfrm>
          <a:prstGeom prst="rect">
            <a:avLst/>
          </a:prstGeom>
          <a:solidFill>
            <a:srgbClr val="99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27280" y="5730840"/>
            <a:ext cx="553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457880" y="57308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370480" y="57308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302520" y="57308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15120" y="57308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145360" y="57308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9058320" y="573084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44800" y="5494320"/>
            <a:ext cx="36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10.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40760" y="51786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38360" y="488304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9.3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59000" y="456732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8.7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36880" y="425124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8.2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43280" y="393696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8.0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93880" y="362124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7.7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7840" y="332568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6.7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68480" y="300996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6.1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81280" y="269388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5.7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53840" y="2378160"/>
            <a:ext cx="201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5.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01560" y="206388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5.1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84280" y="176688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5.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35320" y="1452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81000" y="1136520"/>
            <a:ext cx="28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Small Fonts"/>
              </a:rPr>
              <a:t>4.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280" y="58690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40240" y="58690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71920" y="58690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83080" y="58690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72280" y="58690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985240" y="58690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29160" y="1143000"/>
            <a:ext cx="0" cy="13716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48680" y="1219320"/>
            <a:ext cx="0" cy="44956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86400" y="838080"/>
            <a:ext cx="2895480" cy="505080"/>
            <a:chOff x="5486400" y="838080"/>
            <a:chExt cx="2895480" cy="505080"/>
          </a:xfrm>
        </p:grpSpPr>
        <p:sp>
          <p:nvSpPr>
            <p:cNvPr id="293" name=""/>
            <p:cNvSpPr/>
            <p:nvPr/>
          </p:nvSpPr>
          <p:spPr>
            <a:xfrm>
              <a:off x="5486400" y="838080"/>
              <a:ext cx="2895480" cy="228600"/>
            </a:xfrm>
            <a:custGeom>
              <a:avLst/>
              <a:gdLst>
                <a:gd name="textAreaLeft" fmla="*/ 506520 w 2895480"/>
                <a:gd name="textAreaRight" fmla="*/ 2099160 w 289548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86600" y="1066680"/>
              <a:ext cx="1143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 – 6  jou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V="1">
            <a:off x="3527280" y="573084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27280" y="1057320"/>
            <a:ext cx="1800" cy="4673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97040" y="58690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3160" y="838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</a:rPr>
              <a:t>PC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33480" y="396252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1360" y="4668840"/>
            <a:ext cx="685800" cy="276480"/>
          </a:xfrm>
          <a:prstGeom prst="rect">
            <a:avLst/>
          </a:prstGeom>
          <a:noFill/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Times New Roman"/>
              </a:rPr>
              <a:t>&lt;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90680" y="3581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86280" y="5494320"/>
            <a:ext cx="2161800" cy="16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Small Fonts"/>
              </a:rPr>
              <a:t>Ortho HIV-1/HIV-2 Ab Capture 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13480" y="5178600"/>
            <a:ext cx="2365920" cy="16776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Small Fonts"/>
              </a:rPr>
              <a:t>Vironostika HIV Uniform II Ag/Ab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13680" y="4862520"/>
            <a:ext cx="1649520" cy="16776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Small Fonts"/>
              </a:rPr>
              <a:t>Enzygnost HIV Integral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22760" y="4567320"/>
            <a:ext cx="1517040" cy="16776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Small Fonts"/>
              </a:rPr>
              <a:t>Genscreen HIV 1/2 v2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91520" y="4267080"/>
            <a:ext cx="2382840" cy="16776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Small Fonts"/>
              </a:rPr>
              <a:t>Genscreen Plus HIV Ag/Ab Combo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34800" y="3936960"/>
            <a:ext cx="1218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VIDAS HIV DU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9000" y="3629160"/>
            <a:ext cx="1509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Modular HIV Com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77960" y="3336840"/>
            <a:ext cx="1676520" cy="335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Small Fonts"/>
              </a:rPr>
              <a:t>Murex HIV Ag/Ab Comb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16120" y="3009960"/>
            <a:ext cx="169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Cobas Core HIV Com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97600" y="2693880"/>
            <a:ext cx="189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AxSYM HIV Ag/Ab Comb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9360" y="2362320"/>
            <a:ext cx="1905120" cy="456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ffff"/>
                </a:solidFill>
                <a:latin typeface="Small Fonts"/>
              </a:rPr>
              <a:t>Genscreen HIV Ult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08840" y="2063880"/>
            <a:ext cx="173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ARCHITECT HIV Comb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53520" y="1747800"/>
            <a:ext cx="1229040" cy="167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Small Fonts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Small Fonts"/>
              </a:rPr>
              <a:t>Coulter HIV-1 Ag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86480" y="1452600"/>
            <a:ext cx="140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Small Fonts"/>
              </a:rPr>
              <a:t>VIDAS Ultro Quick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4880" y="1136520"/>
            <a:ext cx="1324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Small Fonts"/>
              </a:rPr>
              <a:t>VIDAS DUO Ultr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76360" y="6232680"/>
            <a:ext cx="1895400" cy="182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ormat </a:t>
            </a:r>
            <a:r>
              <a:rPr b="1" lang="en-US" sz="1100" spc="-1" strike="noStrike">
                <a:solidFill>
                  <a:srgbClr val="ffffff"/>
                </a:solidFill>
                <a:latin typeface="Small Fonts"/>
              </a:rPr>
              <a:t>Microplaqu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39000" y="6095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6156360"/>
            <a:ext cx="3809880" cy="246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lassic Method: Maximum delay method</a:t>
            </a:r>
            <a:r>
              <a:rPr b="1" lang="fr-FR" sz="1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1" lang="fr-FR" sz="10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6804000" y="2336760"/>
            <a:ext cx="1225080" cy="437760"/>
            <a:chOff x="6804000" y="2336760"/>
            <a:chExt cx="1225080" cy="437760"/>
          </a:xfrm>
        </p:grpSpPr>
        <p:sp>
          <p:nvSpPr>
            <p:cNvPr id="322" name=""/>
            <p:cNvSpPr/>
            <p:nvPr/>
          </p:nvSpPr>
          <p:spPr>
            <a:xfrm>
              <a:off x="6843960" y="2336760"/>
              <a:ext cx="1185120" cy="27648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Detect HIV v.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04000" y="2399760"/>
              <a:ext cx="39240" cy="374760"/>
            </a:xfrm>
            <a:custGeom>
              <a:avLst/>
              <a:gdLst>
                <a:gd name="textAreaLeft" fmla="*/ 25200 w 39240"/>
                <a:gd name="textAreaRight" fmla="*/ 39600 w 39240"/>
                <a:gd name="textAreaTop" fmla="*/ 9720 h 374760"/>
                <a:gd name="textAreaBottom" fmla="*/ 365040 h 3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0" y="1066680"/>
            <a:ext cx="1371600" cy="1524240"/>
            <a:chOff x="0" y="1066680"/>
            <a:chExt cx="1371600" cy="1524240"/>
          </a:xfrm>
        </p:grpSpPr>
        <p:sp>
          <p:nvSpPr>
            <p:cNvPr id="325" name=""/>
            <p:cNvSpPr/>
            <p:nvPr/>
          </p:nvSpPr>
          <p:spPr>
            <a:xfrm>
              <a:off x="1219320" y="1143000"/>
              <a:ext cx="152280" cy="1447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1600200"/>
              <a:ext cx="533520" cy="6415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2004-200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10666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&lt; 20 pg/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0" y="2514600"/>
            <a:ext cx="1371600" cy="1066680"/>
            <a:chOff x="0" y="2514600"/>
            <a:chExt cx="1371600" cy="1066680"/>
          </a:xfrm>
        </p:grpSpPr>
        <p:sp>
          <p:nvSpPr>
            <p:cNvPr id="329" name=""/>
            <p:cNvSpPr/>
            <p:nvPr/>
          </p:nvSpPr>
          <p:spPr>
            <a:xfrm>
              <a:off x="1295280" y="2819520"/>
              <a:ext cx="76320" cy="76176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800" y="2895480"/>
              <a:ext cx="533520" cy="641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Times New Roman"/>
                </a:rPr>
                <a:t>2001-20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251460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&lt; 30 pg/m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914400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804960"/>
            <a:ext cx="8962560" cy="5596560"/>
            <a:chOff x="0" y="804960"/>
            <a:chExt cx="8962560" cy="5596560"/>
          </a:xfrm>
        </p:grpSpPr>
        <p:sp>
          <p:nvSpPr>
            <p:cNvPr id="334" name=""/>
            <p:cNvSpPr/>
            <p:nvPr/>
          </p:nvSpPr>
          <p:spPr>
            <a:xfrm>
              <a:off x="3431880" y="1033560"/>
              <a:ext cx="5530680" cy="478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31880" y="5592600"/>
              <a:ext cx="3760560" cy="14292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31880" y="5270400"/>
              <a:ext cx="3649320" cy="1414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31880" y="4967280"/>
              <a:ext cx="3463560" cy="12240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31880" y="4645080"/>
              <a:ext cx="3408120" cy="14112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31880" y="4321080"/>
              <a:ext cx="2866680" cy="14292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31880" y="4000320"/>
              <a:ext cx="2606400" cy="1396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31880" y="3676680"/>
              <a:ext cx="2234880" cy="14112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31880" y="3373560"/>
              <a:ext cx="2252520" cy="12204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31880" y="3051000"/>
              <a:ext cx="2141280" cy="1414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31880" y="2728800"/>
              <a:ext cx="1917360" cy="1414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31880" y="2406600"/>
              <a:ext cx="1842840" cy="139680"/>
            </a:xfrm>
            <a:prstGeom prst="rect">
              <a:avLst/>
            </a:prstGeom>
            <a:solidFill>
              <a:srgbClr val="66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31880" y="2082600"/>
              <a:ext cx="1676160" cy="1414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31880" y="1781280"/>
              <a:ext cx="1563480" cy="11880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31880" y="1457280"/>
              <a:ext cx="1507680" cy="1414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31880" y="1135080"/>
              <a:ext cx="1303200" cy="139680"/>
            </a:xfrm>
            <a:prstGeom prst="rect">
              <a:avLst/>
            </a:prstGeom>
            <a:solidFill>
              <a:srgbClr val="99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431880" y="581508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990600" y="581508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530600" y="5815080"/>
              <a:ext cx="10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089320" y="5815080"/>
              <a:ext cx="10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648040" y="581508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06760" y="581508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746760" y="5815080"/>
              <a:ext cx="10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305480" y="5815080"/>
              <a:ext cx="10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7848360" y="5815080"/>
              <a:ext cx="10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1880" y="1033560"/>
              <a:ext cx="1440" cy="478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95400" y="55735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6.8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63720" y="5249880"/>
              <a:ext cx="21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6.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14520" y="49482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6.2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38200" y="46260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6.1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77760" y="43020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5.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17480" y="39798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4.7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44520" y="365616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4.0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63240" y="33544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4.0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52360" y="30304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3.8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28440" y="27082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3.4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53920" y="23860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3.3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87240" y="206208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3.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74560" y="176040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2.8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18760" y="143676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2.7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13920" y="111456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mall Fonts"/>
                </a:rPr>
                <a:t>2.3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9840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7476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9676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5584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1456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328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1292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7200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30720" y="59562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mall Fonts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24280" y="1174680"/>
              <a:ext cx="0" cy="133200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38880" y="1100160"/>
              <a:ext cx="0" cy="4365720"/>
            </a:xfrm>
            <a:prstGeom prst="line">
              <a:avLst/>
            </a:prstGeom>
            <a:ln w="255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4280" y="804960"/>
              <a:ext cx="2895120" cy="222120"/>
            </a:xfrm>
            <a:custGeom>
              <a:avLst/>
              <a:gdLst>
                <a:gd name="textAreaLeft" fmla="*/ 506520 w 2895120"/>
                <a:gd name="textAreaRight" fmla="*/ 2099160 w 2895120"/>
                <a:gd name="textAreaTop" fmla="*/ 29520 h 222120"/>
                <a:gd name="textAreaBottom" fmla="*/ 192600 h 2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24080" y="804960"/>
              <a:ext cx="68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33"/>
                  </a:solidFill>
                  <a:latin typeface="Times New Roman"/>
                </a:rPr>
                <a:t>P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48360" y="568152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Jou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86040" y="1027080"/>
              <a:ext cx="11426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.5 – 4.5 jour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04960" y="6138720"/>
              <a:ext cx="449532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Paul Erhlich Institut (PEI) calculation method (negative + 1 day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28640" y="583416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1109520"/>
              <a:ext cx="151920" cy="153036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39600 h 1530360"/>
                <a:gd name="textAreaBottom" fmla="*/ 1490760 h 153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960" y="1550880"/>
              <a:ext cx="533160" cy="6415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2004-200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14040" y="2779560"/>
              <a:ext cx="75960" cy="7686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9800 h 768600"/>
                <a:gd name="textAreaBottom" fmla="*/ 748800 h 76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960" y="2840040"/>
              <a:ext cx="533160" cy="6415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Times New Roman"/>
                </a:rPr>
                <a:t>2001-20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8080" y="3624120"/>
              <a:ext cx="151920" cy="213372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4549680"/>
              <a:ext cx="685440" cy="276480"/>
            </a:xfrm>
            <a:prstGeom prst="rect">
              <a:avLst/>
            </a:prstGeom>
            <a:noFill/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33"/>
                  </a:solidFill>
                  <a:latin typeface="Times New Roman"/>
                </a:rPr>
                <a:t>&lt; 2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18960" y="392904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20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0520" y="5589720"/>
              <a:ext cx="2161800" cy="16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mall Fonts"/>
                </a:rPr>
                <a:t>Ortho HIV-1/HIV-2 Ab Capture 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17720" y="5275080"/>
              <a:ext cx="2365920" cy="16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ffff"/>
                  </a:solidFill>
                  <a:latin typeface="Small Fonts"/>
                </a:rPr>
                <a:t>Vironostika HIV Uniform II Ag/Ab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18280" y="4960800"/>
              <a:ext cx="1649520" cy="16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ffff"/>
                  </a:solidFill>
                  <a:latin typeface="Small Fonts"/>
                </a:rPr>
                <a:t>Enzygnost HIV Integral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7360" y="4646520"/>
              <a:ext cx="1517040" cy="16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ffff"/>
                  </a:solidFill>
                  <a:latin typeface="Small Fonts"/>
                </a:rPr>
                <a:t>Genscreen HIV 1/2 v2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95760" y="3624120"/>
              <a:ext cx="2382840" cy="16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ffff"/>
                  </a:solidFill>
                  <a:latin typeface="Small Fonts"/>
                </a:rPr>
                <a:t>Genscreen Plus HIV Ag/Ab Combo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39400" y="4309920"/>
              <a:ext cx="1218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en-US" sz="1100" spc="-1" strike="noStrike">
                  <a:solidFill>
                    <a:srgbClr val="ff0000"/>
                  </a:solidFill>
                  <a:latin typeface="Small Fonts"/>
                </a:rPr>
                <a:t>VIDAS HIV DU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03240" y="3989520"/>
              <a:ext cx="1509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Modular HIV Combi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82560" y="3014640"/>
              <a:ext cx="1675800" cy="335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mall Fonts"/>
                </a:rPr>
                <a:t>Murex HIV Ag/Ab Comb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20720" y="3319560"/>
              <a:ext cx="169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Cobas Core HIV Combi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01840" y="2709720"/>
              <a:ext cx="189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AxSYM HIV Ag/Ab Comb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53960" y="2405160"/>
              <a:ext cx="1904400" cy="45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ffffff"/>
                  </a:solidFill>
                  <a:latin typeface="Small Fonts"/>
                </a:rPr>
                <a:t>Genscreen HIV Ultr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13080" y="1422360"/>
              <a:ext cx="173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en-US" sz="1100" spc="-1" strike="noStrike">
                  <a:solidFill>
                    <a:srgbClr val="ff0000"/>
                  </a:solidFill>
                  <a:latin typeface="Small Fonts"/>
                </a:rPr>
                <a:t>ARCHITECT HIV Comb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57760" y="2050920"/>
              <a:ext cx="1229040" cy="1677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Small Fonts"/>
                </a:rPr>
                <a:t> </a:t>
              </a:r>
              <a:r>
                <a:rPr b="1" lang="en-US" sz="1100" spc="-1" strike="noStrike">
                  <a:solidFill>
                    <a:srgbClr val="ffffff"/>
                  </a:solidFill>
                  <a:latin typeface="Small Fonts"/>
                </a:rPr>
                <a:t>Coulter HIV-1 Ag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91800" y="1736640"/>
              <a:ext cx="140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fr-FR" sz="1100" spc="-1" strike="noStrike">
                  <a:solidFill>
                    <a:srgbClr val="ff0000"/>
                  </a:solidFill>
                  <a:latin typeface="Small Fonts"/>
                </a:rPr>
                <a:t>VIDAS Ultro Quick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59840" y="1109520"/>
              <a:ext cx="132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Small Fonts"/>
                </a:rPr>
                <a:t>    </a:t>
              </a:r>
              <a:r>
                <a:rPr b="1" lang="en-US" sz="1100" spc="-1" strike="noStrike">
                  <a:solidFill>
                    <a:srgbClr val="ff0000"/>
                  </a:solidFill>
                  <a:latin typeface="Small Fonts"/>
                </a:rPr>
                <a:t>VIDAS DUO Ultr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63480" y="6122880"/>
              <a:ext cx="1712520" cy="167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ffff"/>
                  </a:solidFill>
                  <a:latin typeface="Small Fonts"/>
                </a:rPr>
                <a:t>Microplate forma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14360" y="0"/>
            <a:ext cx="8313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tard par jou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 moyenne vis à vis de P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0" y="685800"/>
          <a:ext cx="853452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85345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7848720" y="685800"/>
          <a:ext cx="1295280" cy="5029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85800"/>
                    <a:ext cx="12952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752040" y="0"/>
            <a:ext cx="76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sibilité de la détection des anticorps:  Panel BCP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0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6360" y="603396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33"/>
                </a:solidFill>
                <a:latin typeface="Times New Roman"/>
              </a:rPr>
              <a:t>Ratio  (s/co)</a:t>
            </a:r>
            <a:r>
              <a:rPr b="1" i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fr-FR" sz="1800" spc="-1" strike="noStrike">
                <a:solidFill>
                  <a:srgbClr val="ff0033"/>
                </a:solidFill>
                <a:latin typeface="Times New Roman"/>
              </a:rPr>
              <a:t>=</a:t>
            </a:r>
            <a:r>
              <a:rPr b="1" i="1" lang="fr-FR" sz="1800" spc="-1" strike="noStrike">
                <a:solidFill>
                  <a:srgbClr val="ffff00"/>
                </a:solidFill>
                <a:latin typeface="Times New Roman"/>
              </a:rPr>
              <a:t>  &gt; 1  : Positif  -  </a:t>
            </a: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&lt; 0,9 : Négat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28600"/>
            <a:ext cx="914400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ce de la qualité des anticorps monoclonaux utilisés dans les trousses pour la détection d’Ag p24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ersmette et al., </a:t>
            </a:r>
            <a:r>
              <a:rPr b="1" lang="nl-NL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rology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1989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Detection and subtyping of HIV-1 isolates with a panel of characterized monoclonal antibodies to HIV p24 gag”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: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ème de détection d’Ag p24 avec les anticorps monoclonaux sur certaines souches vi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00"/>
                </a:solidFill>
                <a:latin typeface="Times New Roman"/>
              </a:rPr>
              <a:t>Maniez et al, Spectra biologie, 1997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« Évaluation des trousses de dépistage de l’Ag p24 du VIH »: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7 trousses d’Ag p24 avec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ème de sensibilité vis-à-vis de certaines souches VIH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50920" y="1273320"/>
            <a:ext cx="8686800" cy="46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31 surnageants de culture de sous-types VIH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A; 8 CRF01_AE (circulating recombinant ); 7 B;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5 C;3 D; 3 F; 1 G; 1 O;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 2 CRF02_A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que surnagent ayant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concentrations différentes titrées avec la trousse Innotest HIV Antigen (Innogenetic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4 - 24  pg VIH /m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33"/>
                </a:solidFill>
                <a:latin typeface="Times New Roman"/>
                <a:ea typeface="Arial"/>
              </a:rPr>
              <a:t>                             </a:t>
            </a:r>
            <a:r>
              <a:rPr b="1" lang="fr-FR" sz="2800" spc="-1" strike="noStrike">
                <a:solidFill>
                  <a:srgbClr val="ff0033"/>
                </a:solidFill>
                <a:latin typeface="Times New Roman"/>
                <a:ea typeface="Arial"/>
              </a:rPr>
              <a:t>10 - 7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22 - 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61 - 3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ersité du VIH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équences pour la détection d’Ag p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-380880" y="-609480"/>
          <a:ext cx="10058400" cy="754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609480"/>
                    <a:ext cx="1005840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33520" y="4343400"/>
            <a:ext cx="838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rcit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4343400"/>
            <a:ext cx="838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xSy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62320" y="4343400"/>
            <a:ext cx="838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r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4343400"/>
            <a:ext cx="1066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idas Ul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57800" y="4343400"/>
            <a:ext cx="838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5880" y="4343400"/>
            <a:ext cx="838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34320" y="4343400"/>
            <a:ext cx="9903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enscreen Ul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67080" y="434340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idas Du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24680" y="4343400"/>
            <a:ext cx="9907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enscreen 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46483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,6-41,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5,2-1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38280" y="464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12-72,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464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6,3-83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43400" y="464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9,2-4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86,9-280,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5880" y="4724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9,7-234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848720" y="4876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42,3-&gt; 5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7,3-180,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38862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76520" y="380988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373392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38862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19720" y="327672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4120" y="25146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41008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248520" y="373392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22860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62920" y="38862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685800" y="5181480"/>
          <a:ext cx="8458200" cy="304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181480"/>
                    <a:ext cx="84582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1981080" y="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Limite de détection de l’Ag VIH avec 31 panels d’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0" y="5029200"/>
          <a:ext cx="666720" cy="228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029200"/>
                    <a:ext cx="6667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7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733920"/>
            <a:ext cx="350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48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848040"/>
            <a:ext cx="9144000" cy="180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050920" y="5937120"/>
            <a:ext cx="3527640" cy="28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95640" y="4784760"/>
            <a:ext cx="514836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6153120"/>
            <a:ext cx="100944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216400"/>
            <a:ext cx="2195640" cy="0"/>
          </a:xfrm>
          <a:prstGeom prst="line">
            <a:avLst/>
          </a:prstGeom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Sensibilité de détection des anticorps anti-VIH-1/2 chez les patients infectés dans différentes régions du monde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(n=66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1219320"/>
            <a:ext cx="937260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09880" indent="-209880"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fr-FR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fr-FR" sz="2700" spc="-1" strike="noStrike">
                <a:solidFill>
                  <a:srgbClr val="ffff00"/>
                </a:solidFill>
                <a:latin typeface="Times New Roman"/>
              </a:rPr>
              <a:t>553 échantillons VIH-1-M 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13</a:t>
            </a:r>
            <a:r>
              <a:rPr b="1" i="1" lang="fr-FR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sous-type A:  Cameroun, Ghana, Uganda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75 sous-type B:  Brésil, Cameroun,Thaïlande, Afrique du Sud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71 sous-type C:  Afrique du Sud, Uganda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40 sous-type D:  Cameroun, Afrique du Sud, Uganda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1 sous-type F:  Argentine, Brésil, Cameroun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9 sous-type G:   Cameroun, Ghana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83 CRF01-AE:  Thaïla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CRF01-AG: Cameroun, Grande Bretag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59 Mosaïques : Argentine, Brésil ,Cameroun, Ghana, Uganda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fr-FR" sz="2700" spc="-1" strike="noStrike">
                <a:solidFill>
                  <a:srgbClr val="66ff66"/>
                </a:solidFill>
                <a:latin typeface="Times New Roman"/>
              </a:rPr>
              <a:t>6 échantillons VIH-1-O </a:t>
            </a:r>
            <a:r>
              <a:rPr b="1" lang="fr-FR" sz="1800" spc="-1" strike="noStrike">
                <a:solidFill>
                  <a:srgbClr val="66ff66"/>
                </a:solidFill>
                <a:latin typeface="Times New Roman"/>
              </a:rPr>
              <a:t>(France, USA, Espagne, Cameroun: ESP2, 08692A, ABB009/96, ABB141/98, Ess, Ru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fr-FR" sz="2700" spc="-1" strike="noStrike">
                <a:solidFill>
                  <a:srgbClr val="ffffff"/>
                </a:solidFill>
                <a:latin typeface="Times New Roman"/>
              </a:rPr>
              <a:t>110 échantillons VIH-2 </a:t>
            </a:r>
            <a:r>
              <a:rPr b="1" lang="fr-FR" sz="2700" spc="-1" strike="noStrike">
                <a:solidFill>
                  <a:srgbClr val="ffffff"/>
                </a:solidFill>
                <a:latin typeface="Times New Roman"/>
              </a:rPr>
              <a:t>(Afrique de l’Ouest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479840"/>
            <a:ext cx="556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0" y="0"/>
          <a:ext cx="91440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471960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DAS DUO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 VIH-1 sous-type F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enscreen v.2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 VIH-1 groupe 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nzygnost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 VIH-1 sous-type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enscreen Plus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 VIH-1 sous-type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5562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Échantillons pré-séroconver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29000" y="54864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3733920"/>
            <a:ext cx="3505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uveaux tests Combinés apparus après 20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114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écificité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nette amélioration trouvée dans certains tes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212076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Sensibilité de détection d’Ag: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nette amélior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resque tous ont un  seuil de détection inférieur à 50 pg VIH/m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Problème de détection d’Ag des différents sous types VIH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" y="42670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Sensibilité de détection d’Ac: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eut être moins bonne dans la détection des taux très fai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0" y="1400040"/>
          <a:ext cx="914400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0040"/>
                    <a:ext cx="91440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468360" y="2476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 algn="ctr">
              <a:spcBef>
                <a:spcPts val="774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Biomnis: Paris et Lyon</a:t>
            </a:r>
            <a:r>
              <a:rPr b="1" lang="fr-FR" sz="31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33360" indent="-333360" algn="ctr">
              <a:spcBef>
                <a:spcPts val="499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oût 2007-juillet 2008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533520" y="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séquence de Recommandation HAS sur 20 tests de dépistage EL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0" y="896760"/>
          <a:ext cx="9144000" cy="55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96760"/>
                    <a:ext cx="91440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176040"/>
            <a:ext cx="914400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Seuil de détection de l’Ag VIH-1</a:t>
            </a:r>
            <a:br>
              <a:rPr sz="3400"/>
            </a:br>
            <a:r>
              <a:rPr b="1" lang="en-US" sz="1800" spc="-1" strike="noStrike">
                <a:solidFill>
                  <a:srgbClr val="ff0033"/>
                </a:solidFill>
                <a:latin typeface="Times New Roman"/>
              </a:rPr>
              <a:t>SFTS 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ouche LAI sous-type B</a:t>
            </a:r>
            <a:r>
              <a:rPr b="1" lang="en-US" sz="1800" spc="-1" strike="noStrike">
                <a:solidFill>
                  <a:srgbClr val="ff0033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824040"/>
            <a:ext cx="93726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s Duo Ultra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11,5 pg VIH/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s Duo Quick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Genscreen Ultra HIV Ag/Ab                     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chitect HIV ½ Combo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                        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xsym HIV Combo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                                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Murex HIV Ag/Ab Combo                        2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24000" y="56484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etect HIV (v.4)                                        </a:t>
            </a: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 31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     19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28600" y="3776760"/>
            <a:ext cx="89154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odular HIV Combi                               126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4000" y="50007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Enzygnost HIV Integral II                  </a:t>
            </a: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   &lt; 50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?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      23 vers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4000" y="44244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Vironostika  Uniform II Ag/Ab              150       50 ?   versio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Existence d’une variabilité du seuil de détection d’Ag p24 d’un lot à lot des tests combinés 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52280" y="1600200"/>
            <a:ext cx="3733920" cy="4648320"/>
            <a:chOff x="152280" y="1600200"/>
            <a:chExt cx="3733920" cy="4648320"/>
          </a:xfrm>
        </p:grpSpPr>
        <p:pic>
          <p:nvPicPr>
            <p:cNvPr id="496" name="" descr=""/>
            <p:cNvPicPr/>
            <p:nvPr/>
          </p:nvPicPr>
          <p:blipFill>
            <a:blip r:embed="rId1"/>
            <a:stretch/>
          </p:blipFill>
          <p:spPr>
            <a:xfrm>
              <a:off x="152280" y="1600200"/>
              <a:ext cx="373392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2004840" y="4764960"/>
              <a:ext cx="388080" cy="0"/>
            </a:xfrm>
            <a:prstGeom prst="line">
              <a:avLst/>
            </a:prstGeom>
            <a:ln w="572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4267080" y="16765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rchitect Combo :  &lt; 50 pg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2743200"/>
            <a:ext cx="50292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Rôle de l’Afssaps dans l’application de la recommandation HAS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fr-FR" sz="20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iste officielle des tests combin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Contrôle des lots : fabricants ou Afssaps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28600" y="0"/>
            <a:ext cx="8915400" cy="61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33"/>
                </a:solidFill>
                <a:latin typeface="Times New Roman"/>
              </a:rPr>
              <a:t>Remerci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S. Laperche, 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S. Gonzalo, Biomnis Ly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Bianchi, Laboratoire Départemental de Bon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B. Lécolier (CE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J. Lupu (Centre Suchet, Par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J.Y. Mascart, AJ Morvan (Laboratoire Morvan Mascart, Paimpo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J.P. Tréguier, JJ Lemoine (Laboratoire Tréguier Lemoine, Lann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. Devare, P. Leroux,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. Brennan,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bbott Laborato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L. Santucci, J.M. Jego, S. Gadelle, (Bio-Rad Laborato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. Paour, (BioMérieu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T. Vidalenc, B. Studer  (Dade Beh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. Eberle, (Roche Diagnostics Laborato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4440" y="1371600"/>
            <a:ext cx="8629560" cy="4195800"/>
          </a:xfrm>
          <a:custGeom>
            <a:avLst/>
            <a:gdLst/>
            <a:ahLst/>
            <a:rect l="l" t="t" r="r" b="b"/>
            <a:pathLst>
              <a:path w="5436" h="2643">
                <a:moveTo>
                  <a:pt x="0" y="2640"/>
                </a:moveTo>
                <a:lnTo>
                  <a:pt x="93" y="2626"/>
                </a:lnTo>
                <a:lnTo>
                  <a:pt x="175" y="2618"/>
                </a:lnTo>
                <a:lnTo>
                  <a:pt x="279" y="2604"/>
                </a:lnTo>
                <a:lnTo>
                  <a:pt x="391" y="2582"/>
                </a:lnTo>
                <a:lnTo>
                  <a:pt x="515" y="2539"/>
                </a:lnTo>
                <a:lnTo>
                  <a:pt x="628" y="2481"/>
                </a:lnTo>
                <a:lnTo>
                  <a:pt x="700" y="2416"/>
                </a:lnTo>
                <a:lnTo>
                  <a:pt x="772" y="2351"/>
                </a:lnTo>
                <a:lnTo>
                  <a:pt x="804" y="2314"/>
                </a:lnTo>
                <a:lnTo>
                  <a:pt x="834" y="2285"/>
                </a:lnTo>
                <a:lnTo>
                  <a:pt x="886" y="2228"/>
                </a:lnTo>
                <a:lnTo>
                  <a:pt x="927" y="2141"/>
                </a:lnTo>
                <a:lnTo>
                  <a:pt x="968" y="2061"/>
                </a:lnTo>
                <a:lnTo>
                  <a:pt x="988" y="1989"/>
                </a:lnTo>
                <a:lnTo>
                  <a:pt x="1009" y="1923"/>
                </a:lnTo>
                <a:lnTo>
                  <a:pt x="1030" y="1851"/>
                </a:lnTo>
                <a:lnTo>
                  <a:pt x="1040" y="1787"/>
                </a:lnTo>
                <a:lnTo>
                  <a:pt x="1050" y="1692"/>
                </a:lnTo>
                <a:lnTo>
                  <a:pt x="1061" y="1613"/>
                </a:lnTo>
                <a:lnTo>
                  <a:pt x="1061" y="1555"/>
                </a:lnTo>
                <a:lnTo>
                  <a:pt x="1071" y="1511"/>
                </a:lnTo>
                <a:lnTo>
                  <a:pt x="1091" y="1418"/>
                </a:lnTo>
                <a:lnTo>
                  <a:pt x="1101" y="1330"/>
                </a:lnTo>
                <a:lnTo>
                  <a:pt x="1112" y="1237"/>
                </a:lnTo>
                <a:lnTo>
                  <a:pt x="1123" y="1143"/>
                </a:lnTo>
                <a:lnTo>
                  <a:pt x="1143" y="1041"/>
                </a:lnTo>
                <a:lnTo>
                  <a:pt x="1153" y="911"/>
                </a:lnTo>
                <a:lnTo>
                  <a:pt x="1163" y="774"/>
                </a:lnTo>
                <a:lnTo>
                  <a:pt x="1163" y="701"/>
                </a:lnTo>
                <a:lnTo>
                  <a:pt x="1173" y="636"/>
                </a:lnTo>
                <a:lnTo>
                  <a:pt x="1195" y="499"/>
                </a:lnTo>
                <a:lnTo>
                  <a:pt x="1205" y="369"/>
                </a:lnTo>
                <a:lnTo>
                  <a:pt x="1225" y="239"/>
                </a:lnTo>
                <a:lnTo>
                  <a:pt x="1235" y="181"/>
                </a:lnTo>
                <a:lnTo>
                  <a:pt x="1257" y="130"/>
                </a:lnTo>
                <a:lnTo>
                  <a:pt x="1287" y="72"/>
                </a:lnTo>
                <a:lnTo>
                  <a:pt x="1329" y="29"/>
                </a:lnTo>
                <a:lnTo>
                  <a:pt x="1379" y="0"/>
                </a:lnTo>
                <a:lnTo>
                  <a:pt x="1452" y="0"/>
                </a:lnTo>
                <a:lnTo>
                  <a:pt x="1555" y="15"/>
                </a:lnTo>
                <a:lnTo>
                  <a:pt x="1637" y="88"/>
                </a:lnTo>
                <a:lnTo>
                  <a:pt x="1673" y="161"/>
                </a:lnTo>
                <a:lnTo>
                  <a:pt x="1718" y="288"/>
                </a:lnTo>
                <a:lnTo>
                  <a:pt x="1746" y="379"/>
                </a:lnTo>
                <a:lnTo>
                  <a:pt x="1782" y="461"/>
                </a:lnTo>
                <a:lnTo>
                  <a:pt x="1809" y="534"/>
                </a:lnTo>
                <a:lnTo>
                  <a:pt x="1836" y="634"/>
                </a:lnTo>
                <a:lnTo>
                  <a:pt x="1891" y="752"/>
                </a:lnTo>
                <a:lnTo>
                  <a:pt x="1927" y="834"/>
                </a:lnTo>
                <a:lnTo>
                  <a:pt x="1964" y="952"/>
                </a:lnTo>
                <a:lnTo>
                  <a:pt x="2018" y="1079"/>
                </a:lnTo>
                <a:lnTo>
                  <a:pt x="2027" y="1097"/>
                </a:lnTo>
                <a:lnTo>
                  <a:pt x="2046" y="1152"/>
                </a:lnTo>
                <a:lnTo>
                  <a:pt x="2100" y="1252"/>
                </a:lnTo>
                <a:lnTo>
                  <a:pt x="2155" y="1370"/>
                </a:lnTo>
                <a:lnTo>
                  <a:pt x="2227" y="1470"/>
                </a:lnTo>
                <a:lnTo>
                  <a:pt x="2282" y="1543"/>
                </a:lnTo>
                <a:lnTo>
                  <a:pt x="2318" y="1606"/>
                </a:lnTo>
                <a:lnTo>
                  <a:pt x="2373" y="1670"/>
                </a:lnTo>
                <a:lnTo>
                  <a:pt x="2418" y="1761"/>
                </a:lnTo>
                <a:lnTo>
                  <a:pt x="2482" y="1843"/>
                </a:lnTo>
                <a:lnTo>
                  <a:pt x="2509" y="1897"/>
                </a:lnTo>
                <a:lnTo>
                  <a:pt x="2546" y="1952"/>
                </a:lnTo>
                <a:lnTo>
                  <a:pt x="2582" y="1970"/>
                </a:lnTo>
                <a:lnTo>
                  <a:pt x="2636" y="2034"/>
                </a:lnTo>
                <a:lnTo>
                  <a:pt x="2691" y="2079"/>
                </a:lnTo>
                <a:lnTo>
                  <a:pt x="2718" y="2115"/>
                </a:lnTo>
                <a:lnTo>
                  <a:pt x="2773" y="2143"/>
                </a:lnTo>
                <a:lnTo>
                  <a:pt x="2864" y="2188"/>
                </a:lnTo>
                <a:lnTo>
                  <a:pt x="2936" y="2225"/>
                </a:lnTo>
                <a:lnTo>
                  <a:pt x="3055" y="2270"/>
                </a:lnTo>
                <a:lnTo>
                  <a:pt x="3255" y="2352"/>
                </a:lnTo>
                <a:lnTo>
                  <a:pt x="3500" y="2379"/>
                </a:lnTo>
                <a:lnTo>
                  <a:pt x="3609" y="2379"/>
                </a:lnTo>
                <a:lnTo>
                  <a:pt x="3827" y="2397"/>
                </a:lnTo>
                <a:lnTo>
                  <a:pt x="4027" y="2406"/>
                </a:lnTo>
                <a:lnTo>
                  <a:pt x="4136" y="2406"/>
                </a:lnTo>
                <a:lnTo>
                  <a:pt x="4291" y="2415"/>
                </a:lnTo>
                <a:lnTo>
                  <a:pt x="4536" y="2415"/>
                </a:lnTo>
                <a:lnTo>
                  <a:pt x="4745" y="2406"/>
                </a:lnTo>
                <a:lnTo>
                  <a:pt x="4873" y="2397"/>
                </a:lnTo>
                <a:lnTo>
                  <a:pt x="5018" y="2415"/>
                </a:lnTo>
                <a:lnTo>
                  <a:pt x="4991" y="2434"/>
                </a:lnTo>
                <a:lnTo>
                  <a:pt x="5218" y="2425"/>
                </a:lnTo>
                <a:lnTo>
                  <a:pt x="5409" y="2452"/>
                </a:lnTo>
                <a:lnTo>
                  <a:pt x="5363" y="2443"/>
                </a:lnTo>
                <a:lnTo>
                  <a:pt x="5409" y="2461"/>
                </a:lnTo>
                <a:lnTo>
                  <a:pt x="5436" y="2643"/>
                </a:lnTo>
                <a:lnTo>
                  <a:pt x="0" y="264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1143000"/>
            <a:ext cx="1143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Times New Roman"/>
              </a:rPr>
              <a:t>ARN VI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26960"/>
            <a:ext cx="56390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-360" y="836640"/>
            <a:ext cx="9142920" cy="5562720"/>
            <a:chOff x="-360" y="836640"/>
            <a:chExt cx="9142920" cy="5562720"/>
          </a:xfrm>
        </p:grpSpPr>
        <p:grpSp>
          <p:nvGrpSpPr>
            <p:cNvPr id="100" name=""/>
            <p:cNvGrpSpPr/>
            <p:nvPr/>
          </p:nvGrpSpPr>
          <p:grpSpPr>
            <a:xfrm>
              <a:off x="-360" y="5582880"/>
              <a:ext cx="9094680" cy="816480"/>
              <a:chOff x="-360" y="5582880"/>
              <a:chExt cx="9094680" cy="8164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-360" y="5708160"/>
                <a:ext cx="8739360" cy="691200"/>
                <a:chOff x="-360" y="5708160"/>
                <a:chExt cx="8739360" cy="6912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-36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07712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14128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21408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29732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36544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42816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51608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586000" y="570816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en-GB" sz="2400" spc="-1" strike="noStrike">
                      <a:solidFill>
                        <a:srgbClr val="ffff33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727440" y="6018120"/>
                  <a:ext cx="126864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887400"/>
                      <a:tab algn="l" pos="1774800"/>
                      <a:tab algn="l" pos="2662200"/>
                      <a:tab algn="l" pos="3549600"/>
                      <a:tab algn="l" pos="4437000"/>
                      <a:tab algn="l" pos="5324400"/>
                      <a:tab algn="l" pos="6211800"/>
                      <a:tab algn="l" pos="7099200"/>
                      <a:tab algn="l" pos="7986600"/>
                      <a:tab algn="l" pos="8874000"/>
                      <a:tab algn="l" pos="9761400"/>
                      <a:tab algn="l" pos="10648800"/>
                    </a:tabLst>
                  </a:pPr>
                  <a:r>
                    <a:rPr b="1" lang="fr-CA" sz="2500" spc="-1" strike="noStrike">
                      <a:solidFill>
                        <a:srgbClr val="ffff00"/>
                      </a:solidFill>
                      <a:latin typeface="Times New Roman"/>
                    </a:rPr>
                    <a:t>Semaines</a:t>
                  </a:r>
                  <a:endParaRPr b="0" lang="en-US" sz="2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" name=""/>
              <p:cNvSpPr/>
              <p:nvPr/>
            </p:nvSpPr>
            <p:spPr>
              <a:xfrm flipH="1" flipV="1">
                <a:off x="28080" y="5582880"/>
                <a:ext cx="9066240" cy="8280"/>
              </a:xfrm>
              <a:prstGeom prst="line">
                <a:avLst/>
              </a:prstGeom>
              <a:ln w="1015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9142560" y="836640"/>
              <a:ext cx="0" cy="4746600"/>
            </a:xfrm>
            <a:prstGeom prst="line">
              <a:avLst/>
            </a:prstGeom>
            <a:ln w="101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81080" y="3048120"/>
            <a:ext cx="3124440" cy="2573280"/>
            <a:chOff x="1981080" y="3048120"/>
            <a:chExt cx="3124440" cy="2573280"/>
          </a:xfrm>
        </p:grpSpPr>
        <p:sp>
          <p:nvSpPr>
            <p:cNvPr id="115" name=""/>
            <p:cNvSpPr/>
            <p:nvPr/>
          </p:nvSpPr>
          <p:spPr>
            <a:xfrm>
              <a:off x="1981080" y="3048120"/>
              <a:ext cx="3124440" cy="2573280"/>
            </a:xfrm>
            <a:custGeom>
              <a:avLst/>
              <a:gdLst/>
              <a:ahLst/>
              <a:rect l="l" t="t" r="r" b="b"/>
              <a:pathLst>
                <a:path w="1982" h="1583">
                  <a:moveTo>
                    <a:pt x="0" y="1583"/>
                  </a:moveTo>
                  <a:lnTo>
                    <a:pt x="41" y="1576"/>
                  </a:lnTo>
                  <a:lnTo>
                    <a:pt x="82" y="1569"/>
                  </a:lnTo>
                  <a:lnTo>
                    <a:pt x="172" y="1548"/>
                  </a:lnTo>
                  <a:lnTo>
                    <a:pt x="229" y="1520"/>
                  </a:lnTo>
                  <a:lnTo>
                    <a:pt x="278" y="1485"/>
                  </a:lnTo>
                  <a:lnTo>
                    <a:pt x="310" y="1449"/>
                  </a:lnTo>
                  <a:lnTo>
                    <a:pt x="343" y="1407"/>
                  </a:lnTo>
                  <a:lnTo>
                    <a:pt x="367" y="1372"/>
                  </a:lnTo>
                  <a:lnTo>
                    <a:pt x="392" y="1337"/>
                  </a:lnTo>
                  <a:lnTo>
                    <a:pt x="408" y="1281"/>
                  </a:lnTo>
                  <a:lnTo>
                    <a:pt x="424" y="1231"/>
                  </a:lnTo>
                  <a:lnTo>
                    <a:pt x="449" y="1154"/>
                  </a:lnTo>
                  <a:lnTo>
                    <a:pt x="457" y="1112"/>
                  </a:lnTo>
                  <a:lnTo>
                    <a:pt x="457" y="1069"/>
                  </a:lnTo>
                  <a:lnTo>
                    <a:pt x="465" y="1013"/>
                  </a:lnTo>
                  <a:lnTo>
                    <a:pt x="465" y="964"/>
                  </a:lnTo>
                  <a:lnTo>
                    <a:pt x="473" y="908"/>
                  </a:lnTo>
                  <a:lnTo>
                    <a:pt x="482" y="851"/>
                  </a:lnTo>
                  <a:lnTo>
                    <a:pt x="482" y="795"/>
                  </a:lnTo>
                  <a:lnTo>
                    <a:pt x="490" y="746"/>
                  </a:lnTo>
                  <a:lnTo>
                    <a:pt x="490" y="711"/>
                  </a:lnTo>
                  <a:lnTo>
                    <a:pt x="498" y="682"/>
                  </a:lnTo>
                  <a:lnTo>
                    <a:pt x="506" y="626"/>
                  </a:lnTo>
                  <a:lnTo>
                    <a:pt x="506" y="584"/>
                  </a:lnTo>
                  <a:lnTo>
                    <a:pt x="514" y="542"/>
                  </a:lnTo>
                  <a:lnTo>
                    <a:pt x="514" y="464"/>
                  </a:lnTo>
                  <a:lnTo>
                    <a:pt x="514" y="422"/>
                  </a:lnTo>
                  <a:lnTo>
                    <a:pt x="522" y="380"/>
                  </a:lnTo>
                  <a:lnTo>
                    <a:pt x="522" y="295"/>
                  </a:lnTo>
                  <a:lnTo>
                    <a:pt x="530" y="218"/>
                  </a:lnTo>
                  <a:lnTo>
                    <a:pt x="530" y="183"/>
                  </a:lnTo>
                  <a:lnTo>
                    <a:pt x="530" y="155"/>
                  </a:lnTo>
                  <a:lnTo>
                    <a:pt x="539" y="120"/>
                  </a:lnTo>
                  <a:lnTo>
                    <a:pt x="555" y="91"/>
                  </a:lnTo>
                  <a:lnTo>
                    <a:pt x="579" y="28"/>
                  </a:lnTo>
                  <a:lnTo>
                    <a:pt x="596" y="0"/>
                  </a:lnTo>
                  <a:lnTo>
                    <a:pt x="637" y="0"/>
                  </a:lnTo>
                  <a:lnTo>
                    <a:pt x="661" y="7"/>
                  </a:lnTo>
                  <a:lnTo>
                    <a:pt x="677" y="28"/>
                  </a:lnTo>
                  <a:lnTo>
                    <a:pt x="702" y="77"/>
                  </a:lnTo>
                  <a:lnTo>
                    <a:pt x="710" y="127"/>
                  </a:lnTo>
                  <a:lnTo>
                    <a:pt x="726" y="183"/>
                  </a:lnTo>
                  <a:lnTo>
                    <a:pt x="734" y="246"/>
                  </a:lnTo>
                  <a:lnTo>
                    <a:pt x="759" y="324"/>
                  </a:lnTo>
                  <a:lnTo>
                    <a:pt x="775" y="387"/>
                  </a:lnTo>
                  <a:lnTo>
                    <a:pt x="792" y="464"/>
                  </a:lnTo>
                  <a:lnTo>
                    <a:pt x="800" y="549"/>
                  </a:lnTo>
                  <a:lnTo>
                    <a:pt x="816" y="633"/>
                  </a:lnTo>
                  <a:lnTo>
                    <a:pt x="849" y="732"/>
                  </a:lnTo>
                  <a:lnTo>
                    <a:pt x="857" y="774"/>
                  </a:lnTo>
                  <a:lnTo>
                    <a:pt x="881" y="830"/>
                  </a:lnTo>
                  <a:lnTo>
                    <a:pt x="914" y="936"/>
                  </a:lnTo>
                  <a:lnTo>
                    <a:pt x="930" y="985"/>
                  </a:lnTo>
                  <a:lnTo>
                    <a:pt x="963" y="1041"/>
                  </a:lnTo>
                  <a:lnTo>
                    <a:pt x="987" y="1084"/>
                  </a:lnTo>
                  <a:lnTo>
                    <a:pt x="1012" y="1133"/>
                  </a:lnTo>
                  <a:lnTo>
                    <a:pt x="1077" y="1231"/>
                  </a:lnTo>
                  <a:lnTo>
                    <a:pt x="1118" y="1274"/>
                  </a:lnTo>
                  <a:lnTo>
                    <a:pt x="1175" y="1316"/>
                  </a:lnTo>
                  <a:lnTo>
                    <a:pt x="1273" y="1372"/>
                  </a:lnTo>
                  <a:lnTo>
                    <a:pt x="1338" y="1400"/>
                  </a:lnTo>
                  <a:lnTo>
                    <a:pt x="1403" y="1428"/>
                  </a:lnTo>
                  <a:lnTo>
                    <a:pt x="1477" y="1449"/>
                  </a:lnTo>
                  <a:lnTo>
                    <a:pt x="1509" y="1456"/>
                  </a:lnTo>
                  <a:lnTo>
                    <a:pt x="1550" y="1471"/>
                  </a:lnTo>
                  <a:lnTo>
                    <a:pt x="1632" y="1499"/>
                  </a:lnTo>
                  <a:lnTo>
                    <a:pt x="1721" y="1520"/>
                  </a:lnTo>
                  <a:lnTo>
                    <a:pt x="1844" y="1548"/>
                  </a:lnTo>
                  <a:lnTo>
                    <a:pt x="1901" y="1555"/>
                  </a:lnTo>
                  <a:lnTo>
                    <a:pt x="1982" y="1569"/>
                  </a:lnTo>
                  <a:lnTo>
                    <a:pt x="0" y="158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4114800"/>
              <a:ext cx="586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p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666880" y="2819520"/>
            <a:ext cx="3103560" cy="2776320"/>
            <a:chOff x="2666880" y="2819520"/>
            <a:chExt cx="3103560" cy="2776320"/>
          </a:xfrm>
        </p:grpSpPr>
        <p:sp>
          <p:nvSpPr>
            <p:cNvPr id="118" name=""/>
            <p:cNvSpPr/>
            <p:nvPr/>
          </p:nvSpPr>
          <p:spPr>
            <a:xfrm>
              <a:off x="2666880" y="2819520"/>
              <a:ext cx="3103560" cy="2776320"/>
            </a:xfrm>
            <a:custGeom>
              <a:avLst/>
              <a:gdLst/>
              <a:ahLst/>
              <a:rect l="l" t="t" r="r" b="b"/>
              <a:pathLst>
                <a:path w="1974" h="1069">
                  <a:moveTo>
                    <a:pt x="0" y="1069"/>
                  </a:moveTo>
                  <a:lnTo>
                    <a:pt x="41" y="1069"/>
                  </a:lnTo>
                  <a:lnTo>
                    <a:pt x="81" y="1062"/>
                  </a:lnTo>
                  <a:lnTo>
                    <a:pt x="171" y="1048"/>
                  </a:lnTo>
                  <a:lnTo>
                    <a:pt x="220" y="1034"/>
                  </a:lnTo>
                  <a:lnTo>
                    <a:pt x="277" y="1013"/>
                  </a:lnTo>
                  <a:lnTo>
                    <a:pt x="310" y="985"/>
                  </a:lnTo>
                  <a:lnTo>
                    <a:pt x="342" y="956"/>
                  </a:lnTo>
                  <a:lnTo>
                    <a:pt x="383" y="900"/>
                  </a:lnTo>
                  <a:lnTo>
                    <a:pt x="424" y="844"/>
                  </a:lnTo>
                  <a:lnTo>
                    <a:pt x="440" y="795"/>
                  </a:lnTo>
                  <a:lnTo>
                    <a:pt x="457" y="738"/>
                  </a:lnTo>
                  <a:lnTo>
                    <a:pt x="473" y="668"/>
                  </a:lnTo>
                  <a:lnTo>
                    <a:pt x="481" y="598"/>
                  </a:lnTo>
                  <a:lnTo>
                    <a:pt x="489" y="520"/>
                  </a:lnTo>
                  <a:lnTo>
                    <a:pt x="506" y="450"/>
                  </a:lnTo>
                  <a:lnTo>
                    <a:pt x="506" y="394"/>
                  </a:lnTo>
                  <a:lnTo>
                    <a:pt x="514" y="344"/>
                  </a:lnTo>
                  <a:lnTo>
                    <a:pt x="514" y="288"/>
                  </a:lnTo>
                  <a:lnTo>
                    <a:pt x="530" y="239"/>
                  </a:lnTo>
                  <a:lnTo>
                    <a:pt x="538" y="168"/>
                  </a:lnTo>
                  <a:lnTo>
                    <a:pt x="571" y="105"/>
                  </a:lnTo>
                  <a:lnTo>
                    <a:pt x="587" y="35"/>
                  </a:lnTo>
                  <a:lnTo>
                    <a:pt x="603" y="7"/>
                  </a:lnTo>
                  <a:lnTo>
                    <a:pt x="636" y="0"/>
                  </a:lnTo>
                  <a:lnTo>
                    <a:pt x="661" y="7"/>
                  </a:lnTo>
                  <a:lnTo>
                    <a:pt x="677" y="28"/>
                  </a:lnTo>
                  <a:lnTo>
                    <a:pt x="685" y="56"/>
                  </a:lnTo>
                  <a:lnTo>
                    <a:pt x="701" y="91"/>
                  </a:lnTo>
                  <a:lnTo>
                    <a:pt x="709" y="126"/>
                  </a:lnTo>
                  <a:lnTo>
                    <a:pt x="726" y="161"/>
                  </a:lnTo>
                  <a:lnTo>
                    <a:pt x="734" y="204"/>
                  </a:lnTo>
                  <a:lnTo>
                    <a:pt x="758" y="253"/>
                  </a:lnTo>
                  <a:lnTo>
                    <a:pt x="775" y="295"/>
                  </a:lnTo>
                  <a:lnTo>
                    <a:pt x="791" y="344"/>
                  </a:lnTo>
                  <a:lnTo>
                    <a:pt x="816" y="422"/>
                  </a:lnTo>
                  <a:lnTo>
                    <a:pt x="824" y="457"/>
                  </a:lnTo>
                  <a:lnTo>
                    <a:pt x="840" y="506"/>
                  </a:lnTo>
                  <a:lnTo>
                    <a:pt x="881" y="584"/>
                  </a:lnTo>
                  <a:lnTo>
                    <a:pt x="922" y="661"/>
                  </a:lnTo>
                  <a:lnTo>
                    <a:pt x="962" y="724"/>
                  </a:lnTo>
                  <a:lnTo>
                    <a:pt x="1011" y="781"/>
                  </a:lnTo>
                  <a:lnTo>
                    <a:pt x="1044" y="809"/>
                  </a:lnTo>
                  <a:lnTo>
                    <a:pt x="1077" y="844"/>
                  </a:lnTo>
                  <a:lnTo>
                    <a:pt x="1126" y="872"/>
                  </a:lnTo>
                  <a:lnTo>
                    <a:pt x="1174" y="900"/>
                  </a:lnTo>
                  <a:lnTo>
                    <a:pt x="1223" y="914"/>
                  </a:lnTo>
                  <a:lnTo>
                    <a:pt x="1272" y="935"/>
                  </a:lnTo>
                  <a:lnTo>
                    <a:pt x="1338" y="956"/>
                  </a:lnTo>
                  <a:lnTo>
                    <a:pt x="1403" y="971"/>
                  </a:lnTo>
                  <a:lnTo>
                    <a:pt x="1476" y="985"/>
                  </a:lnTo>
                  <a:lnTo>
                    <a:pt x="1509" y="992"/>
                  </a:lnTo>
                  <a:lnTo>
                    <a:pt x="1550" y="999"/>
                  </a:lnTo>
                  <a:lnTo>
                    <a:pt x="1631" y="1013"/>
                  </a:lnTo>
                  <a:lnTo>
                    <a:pt x="1721" y="1034"/>
                  </a:lnTo>
                  <a:lnTo>
                    <a:pt x="1843" y="1048"/>
                  </a:lnTo>
                  <a:lnTo>
                    <a:pt x="1974" y="1069"/>
                  </a:lnTo>
                  <a:lnTo>
                    <a:pt x="0" y="1069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5320" y="4343040"/>
              <a:ext cx="527040" cy="3020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Ig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971800" y="914400"/>
            <a:ext cx="6172200" cy="4724280"/>
            <a:chOff x="2971800" y="914400"/>
            <a:chExt cx="6172200" cy="4724280"/>
          </a:xfrm>
        </p:grpSpPr>
        <p:sp>
          <p:nvSpPr>
            <p:cNvPr id="121" name=""/>
            <p:cNvSpPr/>
            <p:nvPr/>
          </p:nvSpPr>
          <p:spPr>
            <a:xfrm>
              <a:off x="2971800" y="914400"/>
              <a:ext cx="6172200" cy="4724280"/>
            </a:xfrm>
            <a:custGeom>
              <a:avLst/>
              <a:gdLst/>
              <a:ahLst/>
              <a:rect l="l" t="t" r="r" b="b"/>
              <a:pathLst>
                <a:path w="2630" h="2732">
                  <a:moveTo>
                    <a:pt x="0" y="2732"/>
                  </a:moveTo>
                  <a:lnTo>
                    <a:pt x="179" y="2641"/>
                  </a:lnTo>
                  <a:lnTo>
                    <a:pt x="301" y="2577"/>
                  </a:lnTo>
                  <a:lnTo>
                    <a:pt x="383" y="2521"/>
                  </a:lnTo>
                  <a:lnTo>
                    <a:pt x="440" y="2486"/>
                  </a:lnTo>
                  <a:lnTo>
                    <a:pt x="481" y="2437"/>
                  </a:lnTo>
                  <a:lnTo>
                    <a:pt x="505" y="2415"/>
                  </a:lnTo>
                  <a:lnTo>
                    <a:pt x="522" y="2401"/>
                  </a:lnTo>
                  <a:lnTo>
                    <a:pt x="538" y="2387"/>
                  </a:lnTo>
                  <a:lnTo>
                    <a:pt x="546" y="2373"/>
                  </a:lnTo>
                  <a:lnTo>
                    <a:pt x="554" y="2366"/>
                  </a:lnTo>
                  <a:lnTo>
                    <a:pt x="562" y="2352"/>
                  </a:lnTo>
                  <a:lnTo>
                    <a:pt x="579" y="2331"/>
                  </a:lnTo>
                  <a:lnTo>
                    <a:pt x="611" y="2289"/>
                  </a:lnTo>
                  <a:lnTo>
                    <a:pt x="677" y="2162"/>
                  </a:lnTo>
                  <a:lnTo>
                    <a:pt x="709" y="2106"/>
                  </a:lnTo>
                  <a:lnTo>
                    <a:pt x="750" y="2050"/>
                  </a:lnTo>
                  <a:lnTo>
                    <a:pt x="807" y="1958"/>
                  </a:lnTo>
                  <a:lnTo>
                    <a:pt x="864" y="1874"/>
                  </a:lnTo>
                  <a:lnTo>
                    <a:pt x="995" y="1705"/>
                  </a:lnTo>
                  <a:lnTo>
                    <a:pt x="1044" y="1627"/>
                  </a:lnTo>
                  <a:lnTo>
                    <a:pt x="1085" y="1564"/>
                  </a:lnTo>
                  <a:lnTo>
                    <a:pt x="1174" y="1430"/>
                  </a:lnTo>
                  <a:lnTo>
                    <a:pt x="1207" y="1374"/>
                  </a:lnTo>
                  <a:lnTo>
                    <a:pt x="1248" y="1325"/>
                  </a:lnTo>
                  <a:lnTo>
                    <a:pt x="1313" y="1240"/>
                  </a:lnTo>
                  <a:lnTo>
                    <a:pt x="1386" y="1163"/>
                  </a:lnTo>
                  <a:lnTo>
                    <a:pt x="1461" y="1075"/>
                  </a:lnTo>
                  <a:lnTo>
                    <a:pt x="1509" y="1015"/>
                  </a:lnTo>
                  <a:lnTo>
                    <a:pt x="1550" y="966"/>
                  </a:lnTo>
                  <a:lnTo>
                    <a:pt x="1623" y="881"/>
                  </a:lnTo>
                  <a:lnTo>
                    <a:pt x="1697" y="803"/>
                  </a:lnTo>
                  <a:lnTo>
                    <a:pt x="1794" y="720"/>
                  </a:lnTo>
                  <a:lnTo>
                    <a:pt x="1908" y="607"/>
                  </a:lnTo>
                  <a:lnTo>
                    <a:pt x="2006" y="509"/>
                  </a:lnTo>
                  <a:lnTo>
                    <a:pt x="2104" y="417"/>
                  </a:lnTo>
                  <a:lnTo>
                    <a:pt x="2161" y="368"/>
                  </a:lnTo>
                  <a:lnTo>
                    <a:pt x="2227" y="319"/>
                  </a:lnTo>
                  <a:lnTo>
                    <a:pt x="2406" y="157"/>
                  </a:lnTo>
                  <a:lnTo>
                    <a:pt x="2496" y="86"/>
                  </a:lnTo>
                  <a:lnTo>
                    <a:pt x="2545" y="51"/>
                  </a:lnTo>
                  <a:lnTo>
                    <a:pt x="2593" y="19"/>
                  </a:lnTo>
                  <a:lnTo>
                    <a:pt x="2618" y="2"/>
                  </a:lnTo>
                  <a:lnTo>
                    <a:pt x="2625" y="0"/>
                  </a:lnTo>
                  <a:lnTo>
                    <a:pt x="2630" y="19"/>
                  </a:lnTo>
                  <a:lnTo>
                    <a:pt x="2628" y="62"/>
                  </a:lnTo>
                  <a:lnTo>
                    <a:pt x="2628" y="126"/>
                  </a:lnTo>
                  <a:lnTo>
                    <a:pt x="2628" y="198"/>
                  </a:lnTo>
                  <a:lnTo>
                    <a:pt x="2628" y="304"/>
                  </a:lnTo>
                  <a:lnTo>
                    <a:pt x="2625" y="374"/>
                  </a:lnTo>
                  <a:lnTo>
                    <a:pt x="2625" y="406"/>
                  </a:lnTo>
                  <a:lnTo>
                    <a:pt x="2628" y="443"/>
                  </a:lnTo>
                  <a:lnTo>
                    <a:pt x="2628" y="502"/>
                  </a:lnTo>
                  <a:lnTo>
                    <a:pt x="2625" y="544"/>
                  </a:lnTo>
                  <a:lnTo>
                    <a:pt x="2625" y="590"/>
                  </a:lnTo>
                  <a:lnTo>
                    <a:pt x="2625" y="627"/>
                  </a:lnTo>
                  <a:lnTo>
                    <a:pt x="2625" y="664"/>
                  </a:lnTo>
                  <a:lnTo>
                    <a:pt x="2625" y="712"/>
                  </a:lnTo>
                  <a:lnTo>
                    <a:pt x="2625" y="752"/>
                  </a:lnTo>
                  <a:lnTo>
                    <a:pt x="2625" y="798"/>
                  </a:lnTo>
                  <a:lnTo>
                    <a:pt x="2625" y="846"/>
                  </a:lnTo>
                  <a:lnTo>
                    <a:pt x="2625" y="896"/>
                  </a:lnTo>
                  <a:lnTo>
                    <a:pt x="2625" y="1022"/>
                  </a:lnTo>
                  <a:lnTo>
                    <a:pt x="2625" y="960"/>
                  </a:lnTo>
                  <a:lnTo>
                    <a:pt x="2625" y="1062"/>
                  </a:lnTo>
                  <a:lnTo>
                    <a:pt x="2625" y="1120"/>
                  </a:lnTo>
                  <a:lnTo>
                    <a:pt x="2625" y="1171"/>
                  </a:lnTo>
                  <a:lnTo>
                    <a:pt x="2625" y="1219"/>
                  </a:lnTo>
                  <a:lnTo>
                    <a:pt x="2625" y="1280"/>
                  </a:lnTo>
                  <a:lnTo>
                    <a:pt x="2625" y="1395"/>
                  </a:lnTo>
                  <a:lnTo>
                    <a:pt x="2625" y="1504"/>
                  </a:lnTo>
                  <a:lnTo>
                    <a:pt x="2625" y="1619"/>
                  </a:lnTo>
                  <a:lnTo>
                    <a:pt x="2625" y="1744"/>
                  </a:lnTo>
                  <a:lnTo>
                    <a:pt x="2625" y="1846"/>
                  </a:lnTo>
                  <a:lnTo>
                    <a:pt x="2626" y="1958"/>
                  </a:lnTo>
                  <a:lnTo>
                    <a:pt x="2626" y="2078"/>
                  </a:lnTo>
                  <a:lnTo>
                    <a:pt x="2626" y="2352"/>
                  </a:lnTo>
                  <a:lnTo>
                    <a:pt x="2626" y="2514"/>
                  </a:lnTo>
                  <a:lnTo>
                    <a:pt x="2626" y="2697"/>
                  </a:lnTo>
                  <a:lnTo>
                    <a:pt x="2626" y="2711"/>
                  </a:lnTo>
                  <a:lnTo>
                    <a:pt x="2626" y="2732"/>
                  </a:lnTo>
                  <a:lnTo>
                    <a:pt x="0" y="2732"/>
                  </a:lnTo>
                  <a:close/>
                </a:path>
              </a:pathLst>
            </a:custGeom>
            <a:solidFill>
              <a:srgbClr val="ff9999"/>
            </a:solidFill>
            <a:ln w="38160">
              <a:solidFill>
                <a:srgbClr val="dd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62920" y="2895480"/>
              <a:ext cx="64440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fr-FR" sz="1900" spc="-1" strike="noStrike">
                  <a:solidFill>
                    <a:srgbClr val="ff0000"/>
                  </a:solidFill>
                  <a:latin typeface="Times New Roman"/>
                </a:rPr>
                <a:t>IgG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495680" y="4343400"/>
            <a:ext cx="990720" cy="0"/>
          </a:xfrm>
          <a:prstGeom prst="line">
            <a:avLst/>
          </a:prstGeom>
          <a:ln w="572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14840" rIns="114840" tIns="-57240" bIns="-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3320" y="4313160"/>
            <a:ext cx="0" cy="1243080"/>
          </a:xfrm>
          <a:prstGeom prst="line">
            <a:avLst/>
          </a:prstGeom>
          <a:ln w="57240">
            <a:solidFill>
              <a:srgbClr val="ff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3886200"/>
            <a:ext cx="3352680" cy="332280"/>
          </a:xfrm>
          <a:prstGeom prst="rect">
            <a:avLst/>
          </a:prstGeom>
          <a:solidFill>
            <a:srgbClr val="cc66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GB" sz="1600" spc="-1" strike="noStrike" baseline="30000">
                <a:solidFill>
                  <a:srgbClr val="0000ff"/>
                </a:solidFill>
                <a:latin typeface="Times New Roman"/>
              </a:rPr>
              <a:t>ème</a:t>
            </a:r>
            <a:r>
              <a:rPr b="1" lang="en-GB" sz="1600" spc="-1" strike="noStrike">
                <a:solidFill>
                  <a:srgbClr val="0000ff"/>
                </a:solidFill>
                <a:latin typeface="Times New Roman"/>
              </a:rPr>
              <a:t> Géné 1988  (P. recombinantes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3429000"/>
            <a:ext cx="3124440" cy="0"/>
          </a:xfrm>
          <a:prstGeom prst="line">
            <a:avLst/>
          </a:prstGeom>
          <a:ln w="57240">
            <a:solidFill>
              <a:srgbClr val="99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14840" rIns="114840" tIns="-57240" bIns="-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048120"/>
            <a:ext cx="1812960" cy="363240"/>
          </a:xfrm>
          <a:prstGeom prst="rect">
            <a:avLst/>
          </a:prstGeom>
          <a:solidFill>
            <a:srgbClr val="99ff9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GB" sz="1800" spc="-1" strike="noStrike" baseline="30000">
                <a:solidFill>
                  <a:srgbClr val="0000ff"/>
                </a:solidFill>
                <a:latin typeface="Times New Roman"/>
              </a:rPr>
              <a:t>ème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 Géné 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429000"/>
            <a:ext cx="0" cy="2057400"/>
          </a:xfrm>
          <a:prstGeom prst="line">
            <a:avLst/>
          </a:prstGeom>
          <a:ln w="5724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833560"/>
            <a:ext cx="3200400" cy="290520"/>
          </a:xfrm>
          <a:prstGeom prst="leftRightArrow">
            <a:avLst>
              <a:gd name="adj1" fmla="val 32000"/>
              <a:gd name="adj2" fmla="val 222821"/>
            </a:avLst>
          </a:prstGeom>
          <a:gradFill rotWithShape="0">
            <a:gsLst>
              <a:gs pos="0">
                <a:srgbClr val="0000cc"/>
              </a:gs>
              <a:gs pos="100000">
                <a:srgbClr val="ff0000"/>
              </a:gs>
            </a:gsLst>
            <a:lin ang="10800000"/>
          </a:gradFill>
          <a:ln w="28440">
            <a:solidFill>
              <a:srgbClr val="00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529000"/>
            <a:ext cx="2525760" cy="240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0000"/>
              </a:gs>
            </a:gsLst>
            <a:lin ang="10800000"/>
          </a:gradFill>
          <a:ln w="19080">
            <a:solidFill>
              <a:srgbClr val="00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Fenêtre sérologi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304920"/>
            <a:ext cx="944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762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533412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14840" rIns="114840" tIns="-57240" bIns="-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5160" y="5348160"/>
            <a:ext cx="0" cy="493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5029200"/>
            <a:ext cx="2666880" cy="33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GB" sz="1600" spc="-1" strike="noStrike" baseline="30000">
                <a:solidFill>
                  <a:srgbClr val="0000ff"/>
                </a:solidFill>
                <a:latin typeface="Times New Roman"/>
              </a:rPr>
              <a:t>ère</a:t>
            </a:r>
            <a:r>
              <a:rPr b="1" lang="en-GB" sz="1600" spc="-1" strike="noStrike">
                <a:solidFill>
                  <a:srgbClr val="0000ff"/>
                </a:solidFill>
                <a:latin typeface="Times New Roman"/>
              </a:rPr>
              <a:t> Géné 1985 (viral lysa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1828800"/>
            <a:ext cx="2133720" cy="637560"/>
          </a:xfrm>
          <a:prstGeom prst="rect">
            <a:avLst/>
          </a:prstGeom>
          <a:solidFill>
            <a:srgbClr val="ff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GB" sz="1800" spc="-1" strike="noStrike" baseline="30000">
                <a:solidFill>
                  <a:srgbClr val="0000ff"/>
                </a:solidFill>
                <a:latin typeface="Times New Roman"/>
              </a:rPr>
              <a:t>ème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 Géné  o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T. combiné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819520" y="2133720"/>
            <a:ext cx="3047760" cy="25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114840" rIns="114840" tIns="-32040" bIns="-32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2133720"/>
            <a:ext cx="0" cy="34290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1447920"/>
            <a:ext cx="18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Sensitivité des différentes générations tests de dépist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001000" y="6045120"/>
            <a:ext cx="83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0040" y="70470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11127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99,5  à 99,6 % moins bonne que les tests de détection d’anticor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976400"/>
            <a:ext cx="4648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ürtler et al.,  J. Virol. Methods. 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er et al., J. Clin. Microbiol. 19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y et al., J. Clin. Microbiol.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76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ème de  Spécificité des premiers tests combin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0" y="3200400"/>
            <a:ext cx="9144000" cy="2921400"/>
            <a:chOff x="0" y="3200400"/>
            <a:chExt cx="9144000" cy="2921400"/>
          </a:xfrm>
        </p:grpSpPr>
        <p:sp>
          <p:nvSpPr>
            <p:cNvPr id="148" name=""/>
            <p:cNvSpPr/>
            <p:nvPr/>
          </p:nvSpPr>
          <p:spPr>
            <a:xfrm>
              <a:off x="228600" y="392112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Times New Roman"/>
                  <a:ea typeface="Times New Roman"/>
                </a:rPr>
                <a:t>Les tests combinés apparus entre 1997 et  2000 présentent un seuil de détection élevé par rapport au test d’antigène p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47640" y="5043600"/>
              <a:ext cx="4953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001"/>
                </a:spcBef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perche et al., Transfus Clin Biol. 2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1001"/>
                </a:spcBef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y et al., </a:t>
              </a: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ur. J. Clin. Microbiol. Infect. Dis.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spcBef>
                  <a:spcPts val="1001"/>
                </a:spcBef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de-DE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ber, B. 2003. AI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320040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blème de  Sensitivité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des premiers tests combiné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918560" y="6051600"/>
            <a:ext cx="122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é de la détection d’Ag p2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977760"/>
          <a:ext cx="9144000" cy="54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7760"/>
                    <a:ext cx="914400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116000" y="6080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33"/>
                </a:solidFill>
                <a:latin typeface="Times New Roman"/>
              </a:rPr>
              <a:t>(panel d’Ag VIH SFTS : LAI sous-type 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09680" y="1565280"/>
            <a:ext cx="290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2080" y="2514600"/>
            <a:ext cx="764532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ffff"/>
                </a:solidFill>
                <a:latin typeface="Times New Roman"/>
              </a:rPr>
              <a:t>VIDAS HIV DUO  / 3</a:t>
            </a:r>
            <a:r>
              <a:rPr b="1" i="1" lang="fr-FR" sz="2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1" i="1" lang="fr-FR" sz="2200" spc="-1" strike="noStrike">
                <a:solidFill>
                  <a:srgbClr val="ffffff"/>
                </a:solidFill>
                <a:latin typeface="Times New Roman"/>
              </a:rPr>
              <a:t> Gen EIA</a:t>
            </a:r>
            <a:r>
              <a:rPr b="1" lang="fr-FR" sz="2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pos/pos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pos/neg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    neg/p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                                       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453             160             4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0000"/>
                </a:solidFill>
                <a:latin typeface="Times New Roman"/>
              </a:rPr>
              <a:t>Western blot positif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             449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0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0000"/>
                </a:solidFill>
                <a:latin typeface="Times New Roman"/>
              </a:rPr>
              <a:t>p24Ag positif 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                                                17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0000"/>
                </a:solidFill>
                <a:latin typeface="Times New Roman"/>
              </a:rPr>
              <a:t>Suivi Western blot positif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4/4              17/17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          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29 002 négati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17/470 (3.6%) VIH infection détectée  par VIDAS HIV DU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5689440"/>
            <a:ext cx="5334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546880"/>
            <a:ext cx="4191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pécificité VIDAS Duo :  99.51% ;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Spécificité 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fr-FR" sz="2000" spc="-1" strike="noStrike" baseline="30000">
                <a:solidFill>
                  <a:srgbClr val="ffff00"/>
                </a:solidFill>
                <a:latin typeface="Times New Roman"/>
              </a:rPr>
              <a:t>ème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Gen EIA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: 99.8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6116760"/>
            <a:ext cx="129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Ly et al, Journal of Clinical Microbiology, 2000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“ Contribution of combined detection assays of p24 antigen and anti-human immunodeficiency virus (HIV) antibodies in diagnosis of primary HIV infection by routine testing. 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95280"/>
            <a:ext cx="9144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5 laborato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29 657 échantillons 3</a:t>
            </a:r>
            <a:r>
              <a:rPr b="1" lang="fr-FR" sz="2000" spc="-1" strike="noStrike" baseline="30000">
                <a:solidFill>
                  <a:srgbClr val="ffffff"/>
                </a:solidFill>
                <a:latin typeface="Times New Roman"/>
              </a:rPr>
              <a:t>ème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génération et VIDAS HIV DU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10666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éroprévalence élevée Population : 1.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3776760"/>
            <a:ext cx="762120" cy="380880"/>
          </a:xfrm>
          <a:prstGeom prst="ellipse">
            <a:avLst/>
          </a:prstGeom>
          <a:noFill/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3200400"/>
            <a:ext cx="609480" cy="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608040"/>
          <a:ext cx="9144000" cy="57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8040"/>
                    <a:ext cx="9144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539640" y="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0 tests de dépistage ELISA disponibles en Europe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247968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87280" y="896760"/>
            <a:ext cx="67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y et al.</a:t>
            </a:r>
            <a:r>
              <a:rPr b="1" i="1" lang="en-GB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J. Virol. Methods 2007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ould the new HIV combined p24 antigen and antibody (Ag/Ab) assays  replace p24 antigen specific assays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1450800"/>
            <a:ext cx="9144000" cy="4950000"/>
            <a:chOff x="0" y="1450800"/>
            <a:chExt cx="9144000" cy="4950000"/>
          </a:xfrm>
        </p:grpSpPr>
        <p:graphicFrame>
          <p:nvGraphicFramePr>
            <p:cNvPr id="173" name=""/>
            <p:cNvGraphicFramePr/>
            <p:nvPr/>
          </p:nvGraphicFramePr>
          <p:xfrm>
            <a:off x="0" y="1450800"/>
            <a:ext cx="9144000" cy="4248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450800"/>
                      <a:ext cx="9144000" cy="424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42840" y="5702400"/>
            <a:ext cx="9096480" cy="698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840" y="5702400"/>
                      <a:ext cx="9096480" cy="6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7" name=""/>
          <p:cNvGrpSpPr/>
          <p:nvPr/>
        </p:nvGrpSpPr>
        <p:grpSpPr>
          <a:xfrm>
            <a:off x="250920" y="1687320"/>
            <a:ext cx="936360" cy="4249440"/>
            <a:chOff x="250920" y="1687320"/>
            <a:chExt cx="936360" cy="4249440"/>
          </a:xfrm>
        </p:grpSpPr>
        <p:sp>
          <p:nvSpPr>
            <p:cNvPr id="178" name=""/>
            <p:cNvSpPr/>
            <p:nvPr/>
          </p:nvSpPr>
          <p:spPr>
            <a:xfrm flipV="1">
              <a:off x="250920" y="1687320"/>
              <a:ext cx="936360" cy="1443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50920" y="2479320"/>
              <a:ext cx="936360" cy="1443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50920" y="3560400"/>
              <a:ext cx="936360" cy="1443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50920" y="5792400"/>
              <a:ext cx="936360" cy="144360"/>
            </a:xfrm>
            <a:prstGeom prst="line">
              <a:avLst/>
            </a:prstGeom>
            <a:ln w="2844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1112760"/>
          <a:ext cx="9158400" cy="528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2760"/>
                    <a:ext cx="9158400" cy="52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95280" y="0"/>
            <a:ext cx="8153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pécif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608040"/>
            <a:ext cx="860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>
              <a:spcBef>
                <a:spcPts val="400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005 échantillons négatives en VIH provenant de 4 laboratoires privés franç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L. C. L.</dc:creator>
  <dc:description/>
  <dc:language>en-US</dc:language>
  <cp:lastModifiedBy>LY</cp:lastModifiedBy>
  <cp:lastPrinted>2000-02-07T14:07:12Z</cp:lastPrinted>
  <dcterms:modified xsi:type="dcterms:W3CDTF">2008-11-25T06:38:49Z</dcterms:modified>
  <cp:revision>1290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4030873</vt:r8>
  </property>
  <property fmtid="{D5CDD505-2E9C-101B-9397-08002B2CF9AE}" pid="3" name="_AuthorEmail">
    <vt:lpwstr>gaugis@lab-merieux.net</vt:lpwstr>
  </property>
  <property fmtid="{D5CDD505-2E9C-101B-9397-08002B2CF9AE}" pid="4" name="_AuthorEmailDisplayName">
    <vt:lpwstr>AUGIS Graziella</vt:lpwstr>
  </property>
  <property fmtid="{D5CDD505-2E9C-101B-9397-08002B2CF9AE}" pid="5" name="_EmailSubject">
    <vt:lpwstr>Diaporama avec logo LCL en blanc</vt:lpwstr>
  </property>
  <property fmtid="{D5CDD505-2E9C-101B-9397-08002B2CF9AE}" pid="6" name="_ReviewingToolsShownOnce">
    <vt:lpwstr/>
  </property>
</Properties>
</file>